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5.wmf" ContentType="image/x-wmf"/>
  <Override PartName="/ppt/media/image58.png" ContentType="image/png"/>
  <Override PartName="/ppt/media/image124.wmf" ContentType="image/x-wmf"/>
  <Override PartName="/ppt/media/image57.png" ContentType="image/png"/>
  <Override PartName="/ppt/media/image122.wmf" ContentType="image/x-wmf"/>
  <Override PartName="/ppt/media/image55.png" ContentType="image/png"/>
  <Override PartName="/ppt/media/image121.wmf" ContentType="image/x-wmf"/>
  <Override PartName="/ppt/media/image54.png" ContentType="image/png"/>
  <Override PartName="/ppt/media/image120.wmf" ContentType="image/x-wmf"/>
  <Override PartName="/ppt/media/image70.jpeg" ContentType="image/jpeg"/>
  <Override PartName="/ppt/media/image53.png" ContentType="image/png"/>
  <Override PartName="/ppt/media/image119.png" ContentType="image/png"/>
  <Override PartName="/ppt/media/image117.png" ContentType="image/png"/>
  <Override PartName="/ppt/media/image112.wmf" ContentType="image/x-wmf"/>
  <Override PartName="/ppt/media/image45.png" ContentType="image/png"/>
  <Override PartName="/ppt/media/image111.wmf" ContentType="image/x-wmf"/>
  <Override PartName="/ppt/media/image44.png" ContentType="image/png"/>
  <Override PartName="/ppt/media/image109.png" ContentType="image/png"/>
  <Override PartName="/ppt/media/image108.png" ContentType="image/png"/>
  <Override PartName="/ppt/media/image107.png" ContentType="image/png"/>
  <Override PartName="/ppt/media/image105.png" ContentType="image/png"/>
  <Override PartName="/ppt/media/image103.wmf" ContentType="image/x-wmf"/>
  <Override PartName="/ppt/media/image138.jpeg" ContentType="image/jpeg"/>
  <Override PartName="/ppt/media/image102.png" ContentType="image/png"/>
  <Override PartName="/ppt/media/image101.png" ContentType="image/png"/>
  <Override PartName="/ppt/media/image34.wmf" ContentType="image/x-wmf"/>
  <Override PartName="/ppt/media/image6.wmf" ContentType="image/x-wmf"/>
  <Override PartName="/ppt/media/image18.wmf" ContentType="image/x-wmf"/>
  <Override PartName="/ppt/media/image36.wmf" ContentType="image/x-wmf"/>
  <Override PartName="/ppt/media/image68.jpeg" ContentType="image/jpeg"/>
  <Override PartName="/ppt/media/image22.jpeg" ContentType="image/jpeg"/>
  <Override PartName="/ppt/media/image129.wmf" ContentType="image/x-wmf"/>
  <Override PartName="/ppt/media/image75.png" ContentType="image/png"/>
  <Override PartName="/ppt/media/image79.jpeg" ContentType="image/jpeg"/>
  <Override PartName="/ppt/media/image84.png" ContentType="image/png"/>
  <Override PartName="/ppt/media/image7.png" ContentType="image/png"/>
  <Override PartName="/ppt/media/image39.png" ContentType="image/png"/>
  <Override PartName="/ppt/media/image139.wmf" ContentType="image/x-wmf"/>
  <Override PartName="/ppt/media/image38.png" ContentType="image/png"/>
  <Override PartName="/ppt/media/image87.jpeg" ContentType="image/jpeg"/>
  <Override PartName="/ppt/media/image11.jpeg" ContentType="image/jpeg"/>
  <Override PartName="/ppt/media/image27.wmf" ContentType="image/x-wmf"/>
  <Override PartName="/ppt/media/image17.wmf" ContentType="image/x-wmf"/>
  <Override PartName="/ppt/media/image5.wmf" ContentType="image/x-wmf"/>
  <Override PartName="/ppt/media/image10.jpeg" ContentType="image/jpeg"/>
  <Override PartName="/ppt/media/image99.wmf" ContentType="image/x-wmf"/>
  <Override PartName="/ppt/media/image13.wmf" ContentType="image/x-wmf"/>
  <Override PartName="/ppt/media/image52.png" ContentType="image/png"/>
  <Override PartName="/ppt/media/image136.wmf" ContentType="image/x-wmf"/>
  <Override PartName="/ppt/media/image82.png" ContentType="image/png"/>
  <Override PartName="/ppt/media/image141.jpeg" ContentType="image/jpeg"/>
  <Override PartName="/ppt/media/image42.png" ContentType="image/png"/>
  <Override PartName="/ppt/media/image142.jpeg" ContentType="image/jpeg"/>
  <Override PartName="/ppt/media/image29.jpeg" ContentType="image/jpeg"/>
  <Override PartName="/ppt/media/image143.jpeg" ContentType="image/jpeg"/>
  <Override PartName="/ppt/media/image144.jpeg" ContentType="image/jpeg"/>
  <Override PartName="/ppt/media/image37.png" ContentType="image/png"/>
  <Override PartName="/ppt/media/image104.wmf" ContentType="image/x-wmf"/>
  <Override PartName="/ppt/media/image50.png" ContentType="image/png"/>
  <Override PartName="/ppt/media/image31.png" ContentType="image/png"/>
  <Override PartName="/ppt/media/image150.jpeg" ContentType="image/jpeg"/>
  <Override PartName="/ppt/media/image56.png" ContentType="image/png"/>
  <Override PartName="/ppt/media/image123.wmf" ContentType="image/x-wmf"/>
  <Override PartName="/ppt/media/image145.jpeg" ContentType="image/jpeg"/>
  <Override PartName="/ppt/media/image8.png" ContentType="image/png"/>
  <Override PartName="/ppt/media/image30.png" ContentType="image/png"/>
  <Override PartName="/ppt/media/image133.wmf" ContentType="image/x-wmf"/>
  <Override PartName="/ppt/media/image146.jpeg" ContentType="image/jpeg"/>
  <Override PartName="/ppt/media/image147.jpeg" ContentType="image/jpeg"/>
  <Override PartName="/ppt/media/image137.wmf" ContentType="image/x-wmf"/>
  <Override PartName="/ppt/media/image83.png" ContentType="image/png"/>
  <Override PartName="/ppt/media/image149.jpeg" ContentType="image/jpeg"/>
  <Override PartName="/ppt/media/image40.png" ContentType="image/png"/>
  <Override PartName="/ppt/media/image152.png" ContentType="image/png"/>
  <Override PartName="/ppt/media/image12.wmf" ContentType="image/x-wmf"/>
  <Override PartName="/ppt/media/image51.png" ContentType="image/png"/>
  <Override PartName="/ppt/media/image135.wmf" ContentType="image/x-wmf"/>
  <Override PartName="/ppt/media/image81.png" ContentType="image/png"/>
  <Override PartName="/ppt/media/image134.wmf" ContentType="image/x-wmf"/>
  <Override PartName="/ppt/media/image80.png" ContentType="image/png"/>
  <Override PartName="/ppt/media/image128.wmf" ContentType="image/x-wmf"/>
  <Override PartName="/ppt/media/image16.wmf" ContentType="image/x-wmf"/>
  <Override PartName="/ppt/media/image66.jpeg" ContentType="image/jpeg"/>
  <Override PartName="/ppt/media/image9.jpeg" ContentType="image/jpeg"/>
  <Override PartName="/ppt/media/image78.png" ContentType="image/png"/>
  <Override PartName="/ppt/media/image151.jpeg" ContentType="image/jpeg"/>
  <Override PartName="/ppt/media/image41.png" ContentType="image/png"/>
  <Override PartName="/ppt/media/image148.jpeg" ContentType="image/jpeg"/>
  <Override PartName="/ppt/media/image43.png" ContentType="image/png"/>
  <Override PartName="/ppt/media/image32.png" ContentType="image/png"/>
  <Override PartName="/ppt/media/image92.wmf" ContentType="image/x-wmf"/>
  <Override PartName="/ppt/media/image24.wmf" ContentType="image/x-wmf"/>
  <Override PartName="/ppt/media/image14.wmf" ContentType="image/x-wmf"/>
  <Override PartName="/ppt/media/image19.png" ContentType="image/png"/>
  <Override PartName="/ppt/media/image2.wmf" ContentType="image/x-wmf"/>
  <Override PartName="/ppt/media/image20.wmf" ContentType="image/x-wmf"/>
  <Override PartName="/ppt/media/image132.wmf" ContentType="image/x-wmf"/>
  <Override PartName="/ppt/media/image65.png" ContentType="image/png"/>
  <Override PartName="/ppt/media/image93.jpeg" ContentType="image/jpeg"/>
  <Override PartName="/ppt/media/image90.png" ContentType="image/png"/>
  <Override PartName="/ppt/media/image26.png" ContentType="image/png"/>
  <Override PartName="/ppt/media/image60.png" ContentType="image/png"/>
  <Override PartName="/ppt/media/image85.png" ContentType="image/png"/>
  <Override PartName="/ppt/media/image110.jpeg" ContentType="image/jpeg"/>
  <Override PartName="/ppt/media/image114.wmf" ContentType="image/x-wmf"/>
  <Override PartName="/ppt/media/image47.png" ContentType="image/png"/>
  <Override PartName="/ppt/media/image61.png" ContentType="image/png"/>
  <Override PartName="/ppt/media/image115.wmf" ContentType="image/x-wmf"/>
  <Override PartName="/ppt/media/image48.png" ContentType="image/png"/>
  <Override PartName="/ppt/media/image62.png" ContentType="image/png"/>
  <Override PartName="/ppt/media/image116.wmf" ContentType="image/x-wmf"/>
  <Override PartName="/ppt/media/image49.png" ContentType="image/png"/>
  <Override PartName="/ppt/media/image131.wmf" ContentType="image/x-wmf"/>
  <Override PartName="/ppt/media/image64.png" ContentType="image/png"/>
  <Override PartName="/ppt/media/image118.wmf" ContentType="image/x-wmf"/>
  <Override PartName="/ppt/media/image15.wmf" ContentType="image/x-wmf"/>
  <Override PartName="/ppt/media/image67.jpeg" ContentType="image/jpeg"/>
  <Override PartName="/ppt/media/image91.wmf" ContentType="image/x-wmf"/>
  <Override PartName="/ppt/media/image23.wmf" ContentType="image/x-wmf"/>
  <Override PartName="/ppt/media/image35.wmf" ContentType="image/x-wmf"/>
  <Override PartName="/ppt/media/image69.jpeg" ContentType="image/jpeg"/>
  <Override PartName="/ppt/media/image4.wmf" ContentType="image/x-wmf"/>
  <Override PartName="/ppt/media/image89.png" ContentType="image/png"/>
  <Override PartName="/ppt/media/image46.png" ContentType="image/png"/>
  <Override PartName="/ppt/media/image113.wmf" ContentType="image/x-wmf"/>
  <Override PartName="/ppt/media/image71.jpeg" ContentType="image/jpeg"/>
  <Override PartName="/ppt/media/image63.png" ContentType="image/png"/>
  <Override PartName="/ppt/media/image130.wmf" ContentType="image/x-wmf"/>
  <Override PartName="/ppt/media/image59.png" ContentType="image/png"/>
  <Override PartName="/ppt/media/image126.wmf" ContentType="image/x-wmf"/>
  <Override PartName="/ppt/media/image98.jpeg" ContentType="image/jpeg"/>
  <Override PartName="/ppt/media/image72.png" ContentType="image/png"/>
  <Override PartName="/ppt/media/image140.wmf" ContentType="image/x-wmf"/>
  <Override PartName="/ppt/media/image73.png" ContentType="image/png"/>
  <Override PartName="/ppt/media/image127.wmf" ContentType="image/x-wmf"/>
  <Override PartName="/ppt/media/image25.png" ContentType="image/png"/>
  <Override PartName="/ppt/media/image74.jpeg" ContentType="image/jpeg"/>
  <Override PartName="/ppt/media/image76.png" ContentType="image/png"/>
  <Override PartName="/ppt/media/image21.jpeg" ContentType="image/jpeg"/>
  <Override PartName="/ppt/media/image77.wmf" ContentType="image/x-wmf"/>
  <Override PartName="/ppt/media/image106.png" ContentType="image/png"/>
  <Override PartName="/ppt/media/image1.wmf" ContentType="image/x-wmf"/>
  <Override PartName="/ppt/media/image86.png" ContentType="image/png"/>
  <Override PartName="/ppt/media/image3.wmf" ContentType="image/x-wmf"/>
  <Override PartName="/ppt/media/image88.png" ContentType="image/png"/>
  <Override PartName="/ppt/media/image94.wmf" ContentType="image/x-wmf"/>
  <Override PartName="/ppt/media/image95.png" ContentType="image/png"/>
  <Override PartName="/ppt/media/image28.png" ContentType="image/png"/>
  <Override PartName="/ppt/media/image96.png" ContentType="image/png"/>
  <Override PartName="/ppt/media/image97.png" ContentType="image/png"/>
  <Override PartName="/ppt/media/image33.png" ContentType="image/png"/>
  <Override PartName="/ppt/media/image100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839C-93AD-465B-8AAC-E494F907EB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55CE-7196-4A65-A0F6-4875F3A075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6C54-ED0B-4F4B-A6F6-B3E0F7100D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775B-EA40-424F-BFF8-5679F1C861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F6E2-47DA-48A7-91D0-958FDABB09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203E-CA1D-4B0A-82AA-BBBEC527CF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6B95-B29D-492B-8AD7-2A821110C1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02C0-0824-40E0-8122-7EA1410B17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01CD-052C-48AF-902E-65D46CA7B8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31B6-2874-41B7-9FF1-B0CACBE87C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0759-5B0B-4C3A-A61F-401E45A255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6DBA-6172-4897-8ED4-A0913F910C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758000" y="157320"/>
            <a:ext cx="16772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453A-97CC-4708-8BCC-72DD1461F6D4}" type="slidenum">
              <a:rPr b="0" lang="fr-FR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5398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Ecole Porquerolles 2006__basics pour HRA    Y Rabbia  OCA Gemi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689400"/>
            <a:ext cx="1528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4088-C787-47EB-B89A-4C933CA7B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6.png"/><Relationship Id="rId4" Type="http://schemas.openxmlformats.org/officeDocument/2006/relationships/image" Target="../media/image96.png"/><Relationship Id="rId5" Type="http://schemas.openxmlformats.org/officeDocument/2006/relationships/image" Target="../media/image96.png"/><Relationship Id="rId6" Type="http://schemas.openxmlformats.org/officeDocument/2006/relationships/image" Target="../media/image96.png"/><Relationship Id="rId7" Type="http://schemas.openxmlformats.org/officeDocument/2006/relationships/image" Target="../media/image1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96.png"/><Relationship Id="rId15" Type="http://schemas.openxmlformats.org/officeDocument/2006/relationships/image" Target="../media/image96.png"/><Relationship Id="rId16" Type="http://schemas.openxmlformats.org/officeDocument/2006/relationships/image" Target="../media/image96.png"/><Relationship Id="rId17" Type="http://schemas.openxmlformats.org/officeDocument/2006/relationships/image" Target="../media/image96.png"/><Relationship Id="rId18" Type="http://schemas.openxmlformats.org/officeDocument/2006/relationships/image" Target="../media/image96.png"/><Relationship Id="rId19" Type="http://schemas.openxmlformats.org/officeDocument/2006/relationships/image" Target="../media/image96.png"/><Relationship Id="rId20" Type="http://schemas.openxmlformats.org/officeDocument/2006/relationships/image" Target="../media/image96.png"/><Relationship Id="rId21" Type="http://schemas.openxmlformats.org/officeDocument/2006/relationships/image" Target="../media/image7.png"/><Relationship Id="rId22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9.wmf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00.wmf"/><Relationship Id="rId2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96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96.png"/><Relationship Id="rId18" Type="http://schemas.openxmlformats.org/officeDocument/2006/relationships/image" Target="../media/image101.png"/><Relationship Id="rId19" Type="http://schemas.openxmlformats.org/officeDocument/2006/relationships/image" Target="../media/image101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101.png"/><Relationship Id="rId28" Type="http://schemas.openxmlformats.org/officeDocument/2006/relationships/image" Target="../media/image101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8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3.wmf"/><Relationship Id="rId4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5.png"/><Relationship Id="rId3" Type="http://schemas.openxmlformats.org/officeDocument/2006/relationships/image" Target="../media/image105.png"/><Relationship Id="rId4" Type="http://schemas.openxmlformats.org/officeDocument/2006/relationships/image" Target="../media/image106.png"/><Relationship Id="rId5" Type="http://schemas.openxmlformats.org/officeDocument/2006/relationships/image" Target="../media/image96.png"/><Relationship Id="rId6" Type="http://schemas.openxmlformats.org/officeDocument/2006/relationships/image" Target="../media/image96.png"/><Relationship Id="rId7" Type="http://schemas.openxmlformats.org/officeDocument/2006/relationships/image" Target="../media/image96.png"/><Relationship Id="rId8" Type="http://schemas.openxmlformats.org/officeDocument/2006/relationships/image" Target="../media/image96.png"/><Relationship Id="rId9" Type="http://schemas.openxmlformats.org/officeDocument/2006/relationships/image" Target="../media/image107.png"/><Relationship Id="rId10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png"/><Relationship Id="rId3" Type="http://schemas.openxmlformats.org/officeDocument/2006/relationships/image" Target="../media/image109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11.wmf"/><Relationship Id="rId7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12.wmf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png"/><Relationship Id="rId4" Type="http://schemas.openxmlformats.org/officeDocument/2006/relationships/image" Target="../media/image117.png"/><Relationship Id="rId5" Type="http://schemas.openxmlformats.org/officeDocument/2006/relationships/image" Target="../media/image117.png"/><Relationship Id="rId6" Type="http://schemas.openxmlformats.org/officeDocument/2006/relationships/image" Target="../media/image117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18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20.wmf"/><Relationship Id="rId2" Type="http://schemas.openxmlformats.org/officeDocument/2006/relationships/image" Target="../media/image121.wmf"/><Relationship Id="rId3" Type="http://schemas.openxmlformats.org/officeDocument/2006/relationships/image" Target="../media/image122.wmf"/><Relationship Id="rId4" Type="http://schemas.openxmlformats.org/officeDocument/2006/relationships/image" Target="../media/image123.wmf"/><Relationship Id="rId5" Type="http://schemas.openxmlformats.org/officeDocument/2006/relationships/image" Target="../media/image124.wmf"/><Relationship Id="rId6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wmf"/><Relationship Id="rId6" Type="http://schemas.openxmlformats.org/officeDocument/2006/relationships/image" Target="../media/image130.wmf"/><Relationship Id="rId7" Type="http://schemas.openxmlformats.org/officeDocument/2006/relationships/image" Target="../media/image131.wmf"/><Relationship Id="rId8" Type="http://schemas.openxmlformats.org/officeDocument/2006/relationships/image" Target="../media/image132.wmf"/><Relationship Id="rId9" Type="http://schemas.openxmlformats.org/officeDocument/2006/relationships/image" Target="../media/image133.wmf"/><Relationship Id="rId10" Type="http://schemas.openxmlformats.org/officeDocument/2006/relationships/image" Target="../media/image134.wmf"/><Relationship Id="rId11" Type="http://schemas.openxmlformats.org/officeDocument/2006/relationships/image" Target="../media/image135.wmf"/><Relationship Id="rId12" Type="http://schemas.openxmlformats.org/officeDocument/2006/relationships/image" Target="../media/image136.wmf"/><Relationship Id="rId13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jpeg"/><Relationship Id="rId3" Type="http://schemas.openxmlformats.org/officeDocument/2006/relationships/image" Target="../media/image138.jpeg"/><Relationship Id="rId4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39.wmf"/><Relationship Id="rId2" Type="http://schemas.openxmlformats.org/officeDocument/2006/relationships/image" Target="../media/image140.wmf"/><Relationship Id="rId3" Type="http://schemas.openxmlformats.org/officeDocument/2006/relationships/slideLayout" Target="../slideLayouts/slideLayout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141.jpeg"/><Relationship Id="rId3" Type="http://schemas.openxmlformats.org/officeDocument/2006/relationships/image" Target="../media/image142.jpeg"/><Relationship Id="rId4" Type="http://schemas.openxmlformats.org/officeDocument/2006/relationships/slideLayout" Target="../slideLayouts/slideLayout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71.jpeg"/><Relationship Id="rId3" Type="http://schemas.openxmlformats.org/officeDocument/2006/relationships/image" Target="../media/image142.jpeg"/><Relationship Id="rId4" Type="http://schemas.openxmlformats.org/officeDocument/2006/relationships/image" Target="../media/image143.jpeg"/><Relationship Id="rId5" Type="http://schemas.openxmlformats.org/officeDocument/2006/relationships/image" Target="../media/image144.jpeg"/><Relationship Id="rId6" Type="http://schemas.openxmlformats.org/officeDocument/2006/relationships/image" Target="../media/image145.jpeg"/><Relationship Id="rId7" Type="http://schemas.openxmlformats.org/officeDocument/2006/relationships/image" Target="../media/image146.jpeg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71.jpeg"/><Relationship Id="rId3" Type="http://schemas.openxmlformats.org/officeDocument/2006/relationships/image" Target="../media/image142.jpeg"/><Relationship Id="rId4" Type="http://schemas.openxmlformats.org/officeDocument/2006/relationships/image" Target="../media/image143.jpeg"/><Relationship Id="rId5" Type="http://schemas.openxmlformats.org/officeDocument/2006/relationships/image" Target="../media/image144.jpeg"/><Relationship Id="rId6" Type="http://schemas.openxmlformats.org/officeDocument/2006/relationships/image" Target="../media/image147.jpeg"/><Relationship Id="rId7" Type="http://schemas.openxmlformats.org/officeDocument/2006/relationships/image" Target="../media/image148.jpeg"/><Relationship Id="rId8" Type="http://schemas.openxmlformats.org/officeDocument/2006/relationships/image" Target="../media/image145.jpeg"/><Relationship Id="rId9" Type="http://schemas.openxmlformats.org/officeDocument/2006/relationships/image" Target="../media/image146.jpeg"/><Relationship Id="rId10" Type="http://schemas.openxmlformats.org/officeDocument/2006/relationships/slideLayout" Target="../slideLayouts/slideLayout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49.jpeg"/><Relationship Id="rId2" Type="http://schemas.openxmlformats.org/officeDocument/2006/relationships/image" Target="../media/image150.jpeg"/><Relationship Id="rId3" Type="http://schemas.openxmlformats.org/officeDocument/2006/relationships/image" Target="../media/image150.jpeg"/><Relationship Id="rId4" Type="http://schemas.openxmlformats.org/officeDocument/2006/relationships/image" Target="../media/image150.jpeg"/><Relationship Id="rId5" Type="http://schemas.openxmlformats.org/officeDocument/2006/relationships/image" Target="../media/image150.jpeg"/><Relationship Id="rId6" Type="http://schemas.openxmlformats.org/officeDocument/2006/relationships/image" Target="../media/image150.jpeg"/><Relationship Id="rId7" Type="http://schemas.openxmlformats.org/officeDocument/2006/relationships/image" Target="../media/image150.jpeg"/><Relationship Id="rId8" Type="http://schemas.openxmlformats.org/officeDocument/2006/relationships/image" Target="../media/image150.jpeg"/><Relationship Id="rId9" Type="http://schemas.openxmlformats.org/officeDocument/2006/relationships/image" Target="../media/image150.jpeg"/><Relationship Id="rId10" Type="http://schemas.openxmlformats.org/officeDocument/2006/relationships/image" Target="../media/image150.jpeg"/><Relationship Id="rId11" Type="http://schemas.openxmlformats.org/officeDocument/2006/relationships/image" Target="../media/image151.jpeg"/><Relationship Id="rId12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5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33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33.png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35.wmf"/><Relationship Id="rId31" Type="http://schemas.openxmlformats.org/officeDocument/2006/relationships/image" Target="../media/image36.wmf"/><Relationship Id="rId3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62.png"/><Relationship Id="rId10" Type="http://schemas.openxmlformats.org/officeDocument/2006/relationships/image" Target="../media/image63.png"/><Relationship Id="rId11" Type="http://schemas.openxmlformats.org/officeDocument/2006/relationships/image" Target="../media/image64.png"/><Relationship Id="rId12" Type="http://schemas.openxmlformats.org/officeDocument/2006/relationships/image" Target="../media/image65.png"/><Relationship Id="rId1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jpeg"/><Relationship Id="rId3" Type="http://schemas.openxmlformats.org/officeDocument/2006/relationships/image" Target="../media/image75.png"/><Relationship Id="rId4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11.jpeg"/><Relationship Id="rId3" Type="http://schemas.openxmlformats.org/officeDocument/2006/relationships/image" Target="../media/image77.wmf"/><Relationship Id="rId4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image" Target="../media/image85.png"/><Relationship Id="rId8" Type="http://schemas.openxmlformats.org/officeDocument/2006/relationships/image" Target="../media/image86.png"/><Relationship Id="rId9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28.png"/><Relationship Id="rId3" Type="http://schemas.openxmlformats.org/officeDocument/2006/relationships/image" Target="../media/image92.wmf"/><Relationship Id="rId4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88.png"/><Relationship Id="rId3" Type="http://schemas.openxmlformats.org/officeDocument/2006/relationships/image" Target="../media/image88.png"/><Relationship Id="rId4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6.png"/><Relationship Id="rId3" Type="http://schemas.openxmlformats.org/officeDocument/2006/relationships/image" Target="../media/image1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2080" y="838080"/>
            <a:ext cx="7870680" cy="2237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notions générales  et préliminaires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pour la HRA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Yves Rabbia, 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O.C.A.- Gemini   UMR CNRS 62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3962520"/>
            <a:ext cx="8153280" cy="178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but de l'expos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donner  (ou rappeler)  quelques notions de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tenter d'éviter le terrorisme du vocabulaire ( jarg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tenter de rendre visuelles et quasi palpables les no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3708360" cy="406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situation sans et avec HR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79440" y="766800"/>
            <a:ext cx="8237520" cy="2432160"/>
            <a:chOff x="379440" y="766800"/>
            <a:chExt cx="8237520" cy="243216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5977080" y="766800"/>
              <a:ext cx="2639880" cy="24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79440" y="1374840"/>
              <a:ext cx="54417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grandes avancées astrophys.  la "spectro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mais l'axe "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" est inexploit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distribution spatiale reste cach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lobe d'analyse lisse les détai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20040" y="3233880"/>
            <a:ext cx="77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rpétations possibles (modèles) d'accord ,  mais que choisi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303880" y="3767040"/>
            <a:ext cx="2862360" cy="2371680"/>
            <a:chOff x="5303880" y="3767040"/>
            <a:chExt cx="2862360" cy="2371680"/>
          </a:xfrm>
        </p:grpSpPr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5303880" y="4202280"/>
              <a:ext cx="2862360" cy="19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5860800" y="3767040"/>
              <a:ext cx="182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ù même ça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878200" y="3822840"/>
            <a:ext cx="2373120" cy="2125440"/>
            <a:chOff x="2878200" y="3822840"/>
            <a:chExt cx="2373120" cy="2125440"/>
          </a:xfrm>
        </p:grpSpPr>
        <p:sp>
          <p:nvSpPr>
            <p:cNvPr id="252" name=""/>
            <p:cNvSpPr/>
            <p:nvPr/>
          </p:nvSpPr>
          <p:spPr>
            <a:xfrm>
              <a:off x="3628080" y="382284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ù ça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2878200" y="4356000"/>
              <a:ext cx="2373120" cy="15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/>
          <p:cNvSpPr/>
          <p:nvPr/>
        </p:nvSpPr>
        <p:spPr>
          <a:xfrm>
            <a:off x="401760" y="6064200"/>
            <a:ext cx="7380000" cy="52056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HRA  ouvre l'axe "</a:t>
            </a: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   et aide à choisir le modèle perti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237960" y="3848040"/>
            <a:ext cx="274644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5" name="PlaceHolder 1"/>
          <p:cNvSpPr>
            <a:spLocks noGrp="1"/>
          </p:cNvSpPr>
          <p:nvPr>
            <p:ph type="title"/>
          </p:nvPr>
        </p:nvSpPr>
        <p:spPr>
          <a:xfrm>
            <a:off x="431640" y="779040"/>
            <a:ext cx="3679920" cy="82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gression le long du 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6" name=""/>
          <p:cNvSpPr/>
          <p:nvPr/>
        </p:nvSpPr>
        <p:spPr>
          <a:xfrm>
            <a:off x="1563840" y="23796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7" name=""/>
          <p:cNvSpPr/>
          <p:nvPr/>
        </p:nvSpPr>
        <p:spPr>
          <a:xfrm>
            <a:off x="430560" y="1960560"/>
            <a:ext cx="738612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contexte science, motivation, but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boite à outils conceptuelle (formalis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fondements  théo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interférométrie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, principes : monde idéa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icultés : monde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8" name=""/>
          <p:cNvSpPr/>
          <p:nvPr/>
        </p:nvSpPr>
        <p:spPr>
          <a:xfrm>
            <a:off x="2706480" y="128412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lef de voute : H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9" name=""/>
          <p:cNvSpPr/>
          <p:nvPr/>
        </p:nvSpPr>
        <p:spPr>
          <a:xfrm>
            <a:off x="465120" y="3948120"/>
            <a:ext cx="7024680" cy="46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005600" cy="5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up d'envoi de l'interférométrie : Fizeau, 186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1" name=""/>
          <p:cNvSpPr/>
          <p:nvPr/>
        </p:nvSpPr>
        <p:spPr>
          <a:xfrm>
            <a:off x="369720" y="1766880"/>
            <a:ext cx="8309160" cy="47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"il existe en effet pour la plupart des phénomènes d'interférences,...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une </a:t>
            </a:r>
            <a:r>
              <a:rPr b="1" lang="fr-FR" sz="2400" spc="-1" strike="noStrike">
                <a:solidFill>
                  <a:srgbClr val="ff0066"/>
                </a:solidFill>
                <a:latin typeface="Times New Roman"/>
              </a:rPr>
              <a:t>relation remarquable et nécéssa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ntre la dimension des fr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t celle de la source lumineuse,.... d'où, pour le dire en passa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l est peut-être permis d'espérer qu'...... il deviendra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'obtenir quelques données nouvel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ur les diamètres angulaires de ces astres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.H.Fizeau,1868, CRAS, rapport sur le prix Bord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2" name=""/>
          <p:cNvSpPr/>
          <p:nvPr/>
        </p:nvSpPr>
        <p:spPr>
          <a:xfrm>
            <a:off x="1446120" y="5232240"/>
            <a:ext cx="2197080" cy="486000"/>
          </a:xfrm>
          <a:prstGeom prst="rightArrow">
            <a:avLst>
              <a:gd name="adj1" fmla="val 49676"/>
              <a:gd name="adj2" fmla="val 64965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3" name=""/>
          <p:cNvGrpSpPr/>
          <p:nvPr/>
        </p:nvGrpSpPr>
        <p:grpSpPr>
          <a:xfrm>
            <a:off x="3778200" y="4800600"/>
            <a:ext cx="3333600" cy="1270080"/>
            <a:chOff x="3778200" y="4800600"/>
            <a:chExt cx="3333600" cy="1270080"/>
          </a:xfrm>
        </p:grpSpPr>
        <p:sp>
          <p:nvSpPr>
            <p:cNvPr id="5194" name=""/>
            <p:cNvSpPr/>
            <p:nvPr/>
          </p:nvSpPr>
          <p:spPr>
            <a:xfrm>
              <a:off x="6825960" y="5283360"/>
              <a:ext cx="88920" cy="374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  <a:effectLst>
              <a:outerShdw dist="12600" dir="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5" name=""/>
            <p:cNvGrpSpPr/>
            <p:nvPr/>
          </p:nvGrpSpPr>
          <p:grpSpPr>
            <a:xfrm>
              <a:off x="3778200" y="4800600"/>
              <a:ext cx="3333600" cy="1270080"/>
              <a:chOff x="3778200" y="4800600"/>
              <a:chExt cx="3333600" cy="1270080"/>
            </a:xfrm>
          </p:grpSpPr>
          <p:sp>
            <p:nvSpPr>
              <p:cNvPr id="5196" name=""/>
              <p:cNvSpPr/>
              <p:nvPr/>
            </p:nvSpPr>
            <p:spPr>
              <a:xfrm>
                <a:off x="3809880" y="4826160"/>
                <a:ext cx="1422360" cy="124452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3778200" y="5468760"/>
                <a:ext cx="333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5397480" y="5003640"/>
                <a:ext cx="1447560" cy="457200"/>
              </a:xfrm>
              <a:custGeom>
                <a:avLst/>
                <a:gdLst/>
                <a:ahLst/>
                <a:rect l="l" t="t" r="r" b="b"/>
                <a:pathLst>
                  <a:path w="912" h="288">
                    <a:moveTo>
                      <a:pt x="0" y="0"/>
                    </a:moveTo>
                    <a:lnTo>
                      <a:pt x="912" y="288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 flipV="1">
                <a:off x="6858000" y="4978440"/>
                <a:ext cx="0" cy="9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3886200" y="5003640"/>
                <a:ext cx="1498320" cy="203400"/>
              </a:xfrm>
              <a:custGeom>
                <a:avLst/>
                <a:gdLst/>
                <a:ahLst/>
                <a:rect l="l" t="t" r="r" b="b"/>
                <a:pathLst>
                  <a:path w="944" h="192">
                    <a:moveTo>
                      <a:pt x="0" y="0"/>
                    </a:moveTo>
                    <a:lnTo>
                      <a:pt x="944" y="0"/>
                    </a:lnTo>
                    <a:lnTo>
                      <a:pt x="944" y="192"/>
                    </a:lnTo>
                    <a:lnTo>
                      <a:pt x="0" y="192"/>
                    </a:lnTo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5410080" y="5473800"/>
                <a:ext cx="1447920" cy="419040"/>
              </a:xfrm>
              <a:custGeom>
                <a:avLst/>
                <a:gdLst/>
                <a:ahLst/>
                <a:rect l="l" t="t" r="r" b="b"/>
                <a:pathLst>
                  <a:path w="912" h="264">
                    <a:moveTo>
                      <a:pt x="0" y="136"/>
                    </a:moveTo>
                    <a:lnTo>
                      <a:pt x="912" y="0"/>
                    </a:lnTo>
                    <a:lnTo>
                      <a:pt x="0" y="264"/>
                    </a:lnTo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3898800" y="5689440"/>
                <a:ext cx="1498680" cy="203400"/>
              </a:xfrm>
              <a:custGeom>
                <a:avLst/>
                <a:gdLst/>
                <a:ahLst/>
                <a:rect l="l" t="t" r="r" b="b"/>
                <a:pathLst>
                  <a:path w="944" h="192">
                    <a:moveTo>
                      <a:pt x="0" y="0"/>
                    </a:moveTo>
                    <a:lnTo>
                      <a:pt x="944" y="0"/>
                    </a:lnTo>
                    <a:lnTo>
                      <a:pt x="944" y="192"/>
                    </a:lnTo>
                    <a:lnTo>
                      <a:pt x="0" y="192"/>
                    </a:lnTo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5306760" y="4906800"/>
                <a:ext cx="174600" cy="11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4" name=""/>
              <p:cNvGrpSpPr/>
              <p:nvPr/>
            </p:nvGrpSpPr>
            <p:grpSpPr>
              <a:xfrm>
                <a:off x="5270400" y="4800600"/>
                <a:ext cx="0" cy="1257480"/>
                <a:chOff x="5270400" y="4800600"/>
                <a:chExt cx="0" cy="1257480"/>
              </a:xfrm>
            </p:grpSpPr>
            <p:sp>
              <p:nvSpPr>
                <p:cNvPr id="5205" name=""/>
                <p:cNvSpPr/>
                <p:nvPr/>
              </p:nvSpPr>
              <p:spPr>
                <a:xfrm flipV="1">
                  <a:off x="5270400" y="5194440"/>
                  <a:ext cx="0" cy="495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6" name=""/>
                <p:cNvSpPr/>
                <p:nvPr/>
              </p:nvSpPr>
              <p:spPr>
                <a:xfrm flipV="1">
                  <a:off x="5270400" y="5880240"/>
                  <a:ext cx="0" cy="1778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7" name=""/>
                <p:cNvSpPr/>
                <p:nvPr/>
              </p:nvSpPr>
              <p:spPr>
                <a:xfrm flipV="1">
                  <a:off x="5270400" y="4800600"/>
                  <a:ext cx="0" cy="190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6946920" cy="528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nterféromètre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(mesureur  d'interféren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9" name=""/>
          <p:cNvSpPr/>
          <p:nvPr/>
        </p:nvSpPr>
        <p:spPr>
          <a:xfrm>
            <a:off x="366120" y="1998720"/>
            <a:ext cx="650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rferometre = instrument à pupille d'entrée dilu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0" name=""/>
          <p:cNvSpPr/>
          <p:nvPr/>
        </p:nvSpPr>
        <p:spPr>
          <a:xfrm>
            <a:off x="317520" y="1290600"/>
            <a:ext cx="59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lusieurs visions à gérer simultané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1" name=""/>
          <p:cNvSpPr/>
          <p:nvPr/>
        </p:nvSpPr>
        <p:spPr>
          <a:xfrm>
            <a:off x="329400" y="2519280"/>
            <a:ext cx="87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rferometre = instrument qui rend observable le degré de cohé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2" name=""/>
          <p:cNvSpPr/>
          <p:nvPr/>
        </p:nvSpPr>
        <p:spPr>
          <a:xfrm>
            <a:off x="434520" y="3081240"/>
            <a:ext cx="567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rferometre = filtre de frequences spat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3" name=""/>
          <p:cNvSpPr/>
          <p:nvPr/>
        </p:nvSpPr>
        <p:spPr>
          <a:xfrm>
            <a:off x="282600" y="3665520"/>
            <a:ext cx="8280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rferometre = instrument dont la resolution maxim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rrespond à la frequence  Bmax /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'où de l'info à Haute Résolution Angulaire, mais pas forcément une im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4" name=""/>
          <p:cNvSpPr/>
          <p:nvPr/>
        </p:nvSpPr>
        <p:spPr>
          <a:xfrm>
            <a:off x="430920" y="4970520"/>
            <a:ext cx="314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va illustrer ces v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ans le  cas acadé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ssi appel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figuration Fiz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5" name=""/>
          <p:cNvGrpSpPr/>
          <p:nvPr/>
        </p:nvGrpSpPr>
        <p:grpSpPr>
          <a:xfrm>
            <a:off x="7380360" y="4691160"/>
            <a:ext cx="1744200" cy="2095560"/>
            <a:chOff x="7380360" y="4691160"/>
            <a:chExt cx="1744200" cy="2095560"/>
          </a:xfrm>
        </p:grpSpPr>
        <p:grpSp>
          <p:nvGrpSpPr>
            <p:cNvPr id="5216" name=""/>
            <p:cNvGrpSpPr/>
            <p:nvPr/>
          </p:nvGrpSpPr>
          <p:grpSpPr>
            <a:xfrm>
              <a:off x="7380360" y="4691160"/>
              <a:ext cx="1609560" cy="2095560"/>
              <a:chOff x="7380360" y="4691160"/>
              <a:chExt cx="1609560" cy="2095560"/>
            </a:xfrm>
          </p:grpSpPr>
          <p:sp>
            <p:nvSpPr>
              <p:cNvPr id="5217" name=""/>
              <p:cNvSpPr/>
              <p:nvPr/>
            </p:nvSpPr>
            <p:spPr>
              <a:xfrm>
                <a:off x="7380360" y="4691160"/>
                <a:ext cx="1609560" cy="209556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939080" y="6461280"/>
                <a:ext cx="596880" cy="1476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939080" y="6461280"/>
                <a:ext cx="596880" cy="147600"/>
              </a:xfrm>
              <a:prstGeom prst="ellipse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7932960" y="6419880"/>
                <a:ext cx="596880" cy="146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7932960" y="6419880"/>
                <a:ext cx="596880" cy="146160"/>
              </a:xfrm>
              <a:prstGeom prst="ellipse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8059680" y="5815080"/>
                <a:ext cx="166680" cy="652680"/>
              </a:xfrm>
              <a:custGeom>
                <a:avLst/>
                <a:gdLst/>
                <a:ahLst/>
                <a:rect l="l" t="t" r="r" b="b"/>
                <a:pathLst>
                  <a:path w="161" h="629">
                    <a:moveTo>
                      <a:pt x="15" y="30"/>
                    </a:moveTo>
                    <a:lnTo>
                      <a:pt x="76" y="0"/>
                    </a:lnTo>
                    <a:lnTo>
                      <a:pt x="121" y="25"/>
                    </a:lnTo>
                    <a:lnTo>
                      <a:pt x="151" y="91"/>
                    </a:lnTo>
                    <a:lnTo>
                      <a:pt x="111" y="152"/>
                    </a:lnTo>
                    <a:lnTo>
                      <a:pt x="161" y="629"/>
                    </a:lnTo>
                    <a:lnTo>
                      <a:pt x="20" y="629"/>
                    </a:lnTo>
                    <a:lnTo>
                      <a:pt x="61" y="147"/>
                    </a:lnTo>
                    <a:lnTo>
                      <a:pt x="5" y="101"/>
                    </a:lnTo>
                    <a:lnTo>
                      <a:pt x="0" y="50"/>
                    </a:lnTo>
                    <a:lnTo>
                      <a:pt x="20" y="20"/>
                    </a:lnTo>
                    <a:lnTo>
                      <a:pt x="15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8069400" y="5824800"/>
                <a:ext cx="168120" cy="652320"/>
              </a:xfrm>
              <a:custGeom>
                <a:avLst/>
                <a:gdLst/>
                <a:ahLst/>
                <a:rect l="l" t="t" r="r" b="b"/>
                <a:pathLst>
                  <a:path w="162" h="629">
                    <a:moveTo>
                      <a:pt x="15" y="30"/>
                    </a:moveTo>
                    <a:lnTo>
                      <a:pt x="76" y="0"/>
                    </a:lnTo>
                    <a:lnTo>
                      <a:pt x="121" y="25"/>
                    </a:lnTo>
                    <a:lnTo>
                      <a:pt x="151" y="91"/>
                    </a:lnTo>
                    <a:lnTo>
                      <a:pt x="111" y="152"/>
                    </a:lnTo>
                    <a:lnTo>
                      <a:pt x="162" y="629"/>
                    </a:lnTo>
                    <a:lnTo>
                      <a:pt x="20" y="629"/>
                    </a:lnTo>
                    <a:lnTo>
                      <a:pt x="61" y="147"/>
                    </a:lnTo>
                    <a:lnTo>
                      <a:pt x="5" y="101"/>
                    </a:lnTo>
                    <a:lnTo>
                      <a:pt x="0" y="50"/>
                    </a:lnTo>
                    <a:lnTo>
                      <a:pt x="20" y="2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8431200" y="5961240"/>
                <a:ext cx="230400" cy="236520"/>
              </a:xfrm>
              <a:custGeom>
                <a:avLst/>
                <a:gdLst/>
                <a:ahLst/>
                <a:rect l="l" t="t" r="r" b="b"/>
                <a:pathLst>
                  <a:path w="222" h="228">
                    <a:moveTo>
                      <a:pt x="76" y="0"/>
                    </a:moveTo>
                    <a:lnTo>
                      <a:pt x="222" y="81"/>
                    </a:lnTo>
                    <a:lnTo>
                      <a:pt x="222" y="127"/>
                    </a:lnTo>
                    <a:lnTo>
                      <a:pt x="202" y="167"/>
                    </a:lnTo>
                    <a:lnTo>
                      <a:pt x="177" y="213"/>
                    </a:lnTo>
                    <a:lnTo>
                      <a:pt x="147" y="228"/>
                    </a:lnTo>
                    <a:lnTo>
                      <a:pt x="96" y="208"/>
                    </a:lnTo>
                    <a:lnTo>
                      <a:pt x="0" y="152"/>
                    </a:lnTo>
                    <a:lnTo>
                      <a:pt x="76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8440920" y="5972400"/>
                <a:ext cx="230040" cy="236520"/>
              </a:xfrm>
              <a:custGeom>
                <a:avLst/>
                <a:gdLst/>
                <a:ahLst/>
                <a:rect l="l" t="t" r="r" b="b"/>
                <a:pathLst>
                  <a:path w="222" h="228">
                    <a:moveTo>
                      <a:pt x="76" y="0"/>
                    </a:moveTo>
                    <a:lnTo>
                      <a:pt x="222" y="81"/>
                    </a:lnTo>
                    <a:lnTo>
                      <a:pt x="222" y="127"/>
                    </a:lnTo>
                    <a:lnTo>
                      <a:pt x="202" y="167"/>
                    </a:lnTo>
                    <a:lnTo>
                      <a:pt x="177" y="213"/>
                    </a:lnTo>
                    <a:lnTo>
                      <a:pt x="147" y="228"/>
                    </a:lnTo>
                    <a:lnTo>
                      <a:pt x="96" y="208"/>
                    </a:lnTo>
                    <a:lnTo>
                      <a:pt x="0" y="152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8686800" y="5683320"/>
                <a:ext cx="42840" cy="367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8682120" y="5677200"/>
                <a:ext cx="57240" cy="52200"/>
              </a:xfrm>
              <a:custGeom>
                <a:avLst/>
                <a:gdLst/>
                <a:ahLst/>
                <a:rect l="l" t="t" r="r" b="b"/>
                <a:pathLst>
                  <a:path w="56" h="50">
                    <a:moveTo>
                      <a:pt x="21" y="0"/>
                    </a:moveTo>
                    <a:lnTo>
                      <a:pt x="56" y="20"/>
                    </a:lnTo>
                    <a:lnTo>
                      <a:pt x="36" y="50"/>
                    </a:lnTo>
                    <a:lnTo>
                      <a:pt x="0" y="30"/>
                    </a:lnTo>
                    <a:lnTo>
                      <a:pt x="21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8682120" y="5677200"/>
                <a:ext cx="57240" cy="52200"/>
              </a:xfrm>
              <a:custGeom>
                <a:avLst/>
                <a:gdLst/>
                <a:ahLst/>
                <a:rect l="l" t="t" r="r" b="b"/>
                <a:pathLst>
                  <a:path w="56" h="50">
                    <a:moveTo>
                      <a:pt x="21" y="0"/>
                    </a:moveTo>
                    <a:lnTo>
                      <a:pt x="56" y="20"/>
                    </a:lnTo>
                    <a:lnTo>
                      <a:pt x="36" y="50"/>
                    </a:lnTo>
                    <a:lnTo>
                      <a:pt x="0" y="30"/>
                    </a:lnTo>
                    <a:lnTo>
                      <a:pt x="21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8358120" y="5688000"/>
                <a:ext cx="141480" cy="70488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8248680" y="5729400"/>
                <a:ext cx="360360" cy="622440"/>
              </a:xfrm>
              <a:custGeom>
                <a:avLst/>
                <a:gdLst/>
                <a:ahLst/>
                <a:rect l="l" t="t" r="r" b="b"/>
                <a:pathLst>
                  <a:path w="348" h="599">
                    <a:moveTo>
                      <a:pt x="111" y="264"/>
                    </a:moveTo>
                    <a:lnTo>
                      <a:pt x="121" y="249"/>
                    </a:lnTo>
                    <a:lnTo>
                      <a:pt x="136" y="224"/>
                    </a:lnTo>
                    <a:lnTo>
                      <a:pt x="156" y="188"/>
                    </a:lnTo>
                    <a:lnTo>
                      <a:pt x="171" y="168"/>
                    </a:lnTo>
                    <a:lnTo>
                      <a:pt x="186" y="142"/>
                    </a:lnTo>
                    <a:lnTo>
                      <a:pt x="206" y="117"/>
                    </a:lnTo>
                    <a:lnTo>
                      <a:pt x="222" y="97"/>
                    </a:lnTo>
                    <a:lnTo>
                      <a:pt x="237" y="76"/>
                    </a:lnTo>
                    <a:lnTo>
                      <a:pt x="247" y="66"/>
                    </a:lnTo>
                    <a:lnTo>
                      <a:pt x="257" y="56"/>
                    </a:lnTo>
                    <a:lnTo>
                      <a:pt x="272" y="36"/>
                    </a:lnTo>
                    <a:lnTo>
                      <a:pt x="287" y="26"/>
                    </a:lnTo>
                    <a:lnTo>
                      <a:pt x="297" y="16"/>
                    </a:lnTo>
                    <a:lnTo>
                      <a:pt x="312" y="5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333" y="0"/>
                    </a:lnTo>
                    <a:lnTo>
                      <a:pt x="338" y="0"/>
                    </a:lnTo>
                    <a:lnTo>
                      <a:pt x="338" y="0"/>
                    </a:lnTo>
                    <a:lnTo>
                      <a:pt x="343" y="5"/>
                    </a:lnTo>
                    <a:lnTo>
                      <a:pt x="348" y="21"/>
                    </a:lnTo>
                    <a:lnTo>
                      <a:pt x="348" y="31"/>
                    </a:lnTo>
                    <a:lnTo>
                      <a:pt x="343" y="46"/>
                    </a:lnTo>
                    <a:lnTo>
                      <a:pt x="343" y="56"/>
                    </a:lnTo>
                    <a:lnTo>
                      <a:pt x="338" y="76"/>
                    </a:lnTo>
                    <a:lnTo>
                      <a:pt x="333" y="97"/>
                    </a:lnTo>
                    <a:lnTo>
                      <a:pt x="328" y="112"/>
                    </a:lnTo>
                    <a:lnTo>
                      <a:pt x="323" y="132"/>
                    </a:lnTo>
                    <a:lnTo>
                      <a:pt x="302" y="183"/>
                    </a:lnTo>
                    <a:lnTo>
                      <a:pt x="277" y="239"/>
                    </a:lnTo>
                    <a:lnTo>
                      <a:pt x="247" y="300"/>
                    </a:lnTo>
                    <a:lnTo>
                      <a:pt x="232" y="330"/>
                    </a:lnTo>
                    <a:lnTo>
                      <a:pt x="222" y="351"/>
                    </a:lnTo>
                    <a:lnTo>
                      <a:pt x="206" y="376"/>
                    </a:lnTo>
                    <a:lnTo>
                      <a:pt x="186" y="406"/>
                    </a:lnTo>
                    <a:lnTo>
                      <a:pt x="171" y="432"/>
                    </a:lnTo>
                    <a:lnTo>
                      <a:pt x="156" y="457"/>
                    </a:lnTo>
                    <a:lnTo>
                      <a:pt x="136" y="482"/>
                    </a:lnTo>
                    <a:lnTo>
                      <a:pt x="121" y="503"/>
                    </a:lnTo>
                    <a:lnTo>
                      <a:pt x="106" y="523"/>
                    </a:lnTo>
                    <a:lnTo>
                      <a:pt x="96" y="533"/>
                    </a:lnTo>
                    <a:lnTo>
                      <a:pt x="85" y="543"/>
                    </a:lnTo>
                    <a:lnTo>
                      <a:pt x="70" y="564"/>
                    </a:lnTo>
                    <a:lnTo>
                      <a:pt x="55" y="574"/>
                    </a:lnTo>
                    <a:lnTo>
                      <a:pt x="45" y="584"/>
                    </a:lnTo>
                    <a:lnTo>
                      <a:pt x="35" y="594"/>
                    </a:lnTo>
                    <a:lnTo>
                      <a:pt x="25" y="599"/>
                    </a:lnTo>
                    <a:lnTo>
                      <a:pt x="20" y="599"/>
                    </a:lnTo>
                    <a:lnTo>
                      <a:pt x="15" y="599"/>
                    </a:lnTo>
                    <a:lnTo>
                      <a:pt x="10" y="599"/>
                    </a:lnTo>
                    <a:lnTo>
                      <a:pt x="10" y="599"/>
                    </a:lnTo>
                    <a:lnTo>
                      <a:pt x="0" y="589"/>
                    </a:lnTo>
                    <a:lnTo>
                      <a:pt x="0" y="584"/>
                    </a:lnTo>
                    <a:lnTo>
                      <a:pt x="0" y="574"/>
                    </a:lnTo>
                    <a:lnTo>
                      <a:pt x="0" y="553"/>
                    </a:lnTo>
                    <a:lnTo>
                      <a:pt x="0" y="543"/>
                    </a:lnTo>
                    <a:lnTo>
                      <a:pt x="5" y="523"/>
                    </a:lnTo>
                    <a:lnTo>
                      <a:pt x="10" y="503"/>
                    </a:lnTo>
                    <a:lnTo>
                      <a:pt x="15" y="488"/>
                    </a:lnTo>
                    <a:lnTo>
                      <a:pt x="25" y="462"/>
                    </a:lnTo>
                    <a:lnTo>
                      <a:pt x="40" y="411"/>
                    </a:lnTo>
                    <a:lnTo>
                      <a:pt x="65" y="356"/>
                    </a:lnTo>
                    <a:lnTo>
                      <a:pt x="96" y="295"/>
                    </a:lnTo>
                    <a:lnTo>
                      <a:pt x="111" y="264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7593120" y="5361120"/>
                <a:ext cx="968400" cy="954000"/>
              </a:xfrm>
              <a:custGeom>
                <a:avLst/>
                <a:gdLst/>
                <a:ahLst/>
                <a:rect l="l" t="t" r="r" b="b"/>
                <a:pathLst>
                  <a:path w="933" h="919">
                    <a:moveTo>
                      <a:pt x="293" y="0"/>
                    </a:moveTo>
                    <a:lnTo>
                      <a:pt x="923" y="350"/>
                    </a:lnTo>
                    <a:lnTo>
                      <a:pt x="933" y="386"/>
                    </a:lnTo>
                    <a:lnTo>
                      <a:pt x="893" y="538"/>
                    </a:lnTo>
                    <a:lnTo>
                      <a:pt x="797" y="726"/>
                    </a:lnTo>
                    <a:lnTo>
                      <a:pt x="686" y="868"/>
                    </a:lnTo>
                    <a:lnTo>
                      <a:pt x="626" y="919"/>
                    </a:lnTo>
                    <a:lnTo>
                      <a:pt x="616" y="914"/>
                    </a:lnTo>
                    <a:lnTo>
                      <a:pt x="0" y="569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604280" y="5372280"/>
                <a:ext cx="968400" cy="952560"/>
              </a:xfrm>
              <a:custGeom>
                <a:avLst/>
                <a:gdLst/>
                <a:ahLst/>
                <a:rect l="l" t="t" r="r" b="b"/>
                <a:pathLst>
                  <a:path w="933" h="919">
                    <a:moveTo>
                      <a:pt x="293" y="0"/>
                    </a:moveTo>
                    <a:lnTo>
                      <a:pt x="923" y="350"/>
                    </a:lnTo>
                    <a:lnTo>
                      <a:pt x="933" y="386"/>
                    </a:lnTo>
                    <a:lnTo>
                      <a:pt x="893" y="538"/>
                    </a:lnTo>
                    <a:lnTo>
                      <a:pt x="797" y="726"/>
                    </a:lnTo>
                    <a:lnTo>
                      <a:pt x="686" y="868"/>
                    </a:lnTo>
                    <a:lnTo>
                      <a:pt x="626" y="919"/>
                    </a:lnTo>
                    <a:lnTo>
                      <a:pt x="616" y="914"/>
                    </a:lnTo>
                    <a:lnTo>
                      <a:pt x="0" y="569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7551720" y="5335920"/>
                <a:ext cx="397080" cy="661680"/>
              </a:xfrm>
              <a:custGeom>
                <a:avLst/>
                <a:gdLst/>
                <a:ahLst/>
                <a:rect l="l" t="t" r="r" b="b"/>
                <a:pathLst>
                  <a:path w="383" h="639">
                    <a:moveTo>
                      <a:pt x="106" y="274"/>
                    </a:moveTo>
                    <a:lnTo>
                      <a:pt x="116" y="254"/>
                    </a:lnTo>
                    <a:lnTo>
                      <a:pt x="131" y="228"/>
                    </a:lnTo>
                    <a:lnTo>
                      <a:pt x="151" y="193"/>
                    </a:lnTo>
                    <a:lnTo>
                      <a:pt x="166" y="172"/>
                    </a:lnTo>
                    <a:lnTo>
                      <a:pt x="186" y="147"/>
                    </a:lnTo>
                    <a:lnTo>
                      <a:pt x="207" y="117"/>
                    </a:lnTo>
                    <a:lnTo>
                      <a:pt x="222" y="96"/>
                    </a:lnTo>
                    <a:lnTo>
                      <a:pt x="242" y="76"/>
                    </a:lnTo>
                    <a:lnTo>
                      <a:pt x="252" y="66"/>
                    </a:lnTo>
                    <a:lnTo>
                      <a:pt x="262" y="56"/>
                    </a:lnTo>
                    <a:lnTo>
                      <a:pt x="277" y="40"/>
                    </a:lnTo>
                    <a:lnTo>
                      <a:pt x="297" y="25"/>
                    </a:lnTo>
                    <a:lnTo>
                      <a:pt x="312" y="15"/>
                    </a:lnTo>
                    <a:lnTo>
                      <a:pt x="323" y="10"/>
                    </a:lnTo>
                    <a:lnTo>
                      <a:pt x="333" y="5"/>
                    </a:lnTo>
                    <a:lnTo>
                      <a:pt x="353" y="0"/>
                    </a:lnTo>
                    <a:lnTo>
                      <a:pt x="363" y="5"/>
                    </a:lnTo>
                    <a:lnTo>
                      <a:pt x="363" y="5"/>
                    </a:lnTo>
                    <a:lnTo>
                      <a:pt x="368" y="10"/>
                    </a:lnTo>
                    <a:lnTo>
                      <a:pt x="373" y="15"/>
                    </a:lnTo>
                    <a:lnTo>
                      <a:pt x="378" y="25"/>
                    </a:lnTo>
                    <a:lnTo>
                      <a:pt x="383" y="40"/>
                    </a:lnTo>
                    <a:lnTo>
                      <a:pt x="383" y="51"/>
                    </a:lnTo>
                    <a:lnTo>
                      <a:pt x="383" y="71"/>
                    </a:lnTo>
                    <a:lnTo>
                      <a:pt x="383" y="91"/>
                    </a:lnTo>
                    <a:lnTo>
                      <a:pt x="378" y="117"/>
                    </a:lnTo>
                    <a:lnTo>
                      <a:pt x="373" y="132"/>
                    </a:lnTo>
                    <a:lnTo>
                      <a:pt x="368" y="147"/>
                    </a:lnTo>
                    <a:lnTo>
                      <a:pt x="363" y="172"/>
                    </a:lnTo>
                    <a:lnTo>
                      <a:pt x="353" y="203"/>
                    </a:lnTo>
                    <a:lnTo>
                      <a:pt x="343" y="228"/>
                    </a:lnTo>
                    <a:lnTo>
                      <a:pt x="333" y="259"/>
                    </a:lnTo>
                    <a:lnTo>
                      <a:pt x="318" y="289"/>
                    </a:lnTo>
                    <a:lnTo>
                      <a:pt x="302" y="319"/>
                    </a:lnTo>
                    <a:lnTo>
                      <a:pt x="287" y="350"/>
                    </a:lnTo>
                    <a:lnTo>
                      <a:pt x="277" y="370"/>
                    </a:lnTo>
                    <a:lnTo>
                      <a:pt x="267" y="391"/>
                    </a:lnTo>
                    <a:lnTo>
                      <a:pt x="252" y="416"/>
                    </a:lnTo>
                    <a:lnTo>
                      <a:pt x="232" y="446"/>
                    </a:lnTo>
                    <a:lnTo>
                      <a:pt x="217" y="472"/>
                    </a:lnTo>
                    <a:lnTo>
                      <a:pt x="196" y="497"/>
                    </a:lnTo>
                    <a:lnTo>
                      <a:pt x="176" y="522"/>
                    </a:lnTo>
                    <a:lnTo>
                      <a:pt x="161" y="543"/>
                    </a:lnTo>
                    <a:lnTo>
                      <a:pt x="141" y="563"/>
                    </a:lnTo>
                    <a:lnTo>
                      <a:pt x="131" y="573"/>
                    </a:lnTo>
                    <a:lnTo>
                      <a:pt x="121" y="583"/>
                    </a:lnTo>
                    <a:lnTo>
                      <a:pt x="106" y="599"/>
                    </a:lnTo>
                    <a:lnTo>
                      <a:pt x="91" y="614"/>
                    </a:lnTo>
                    <a:lnTo>
                      <a:pt x="75" y="624"/>
                    </a:lnTo>
                    <a:lnTo>
                      <a:pt x="55" y="634"/>
                    </a:lnTo>
                    <a:lnTo>
                      <a:pt x="45" y="639"/>
                    </a:lnTo>
                    <a:lnTo>
                      <a:pt x="30" y="639"/>
                    </a:lnTo>
                    <a:lnTo>
                      <a:pt x="25" y="639"/>
                    </a:lnTo>
                    <a:lnTo>
                      <a:pt x="20" y="634"/>
                    </a:lnTo>
                    <a:lnTo>
                      <a:pt x="20" y="634"/>
                    </a:lnTo>
                    <a:lnTo>
                      <a:pt x="10" y="624"/>
                    </a:lnTo>
                    <a:lnTo>
                      <a:pt x="5" y="614"/>
                    </a:lnTo>
                    <a:lnTo>
                      <a:pt x="0" y="599"/>
                    </a:lnTo>
                    <a:lnTo>
                      <a:pt x="0" y="588"/>
                    </a:lnTo>
                    <a:lnTo>
                      <a:pt x="0" y="568"/>
                    </a:lnTo>
                    <a:lnTo>
                      <a:pt x="5" y="543"/>
                    </a:lnTo>
                    <a:lnTo>
                      <a:pt x="5" y="522"/>
                    </a:lnTo>
                    <a:lnTo>
                      <a:pt x="10" y="507"/>
                    </a:lnTo>
                    <a:lnTo>
                      <a:pt x="15" y="492"/>
                    </a:lnTo>
                    <a:lnTo>
                      <a:pt x="20" y="467"/>
                    </a:lnTo>
                    <a:lnTo>
                      <a:pt x="30" y="436"/>
                    </a:lnTo>
                    <a:lnTo>
                      <a:pt x="40" y="411"/>
                    </a:lnTo>
                    <a:lnTo>
                      <a:pt x="50" y="385"/>
                    </a:lnTo>
                    <a:lnTo>
                      <a:pt x="65" y="355"/>
                    </a:lnTo>
                    <a:lnTo>
                      <a:pt x="80" y="325"/>
                    </a:lnTo>
                    <a:lnTo>
                      <a:pt x="96" y="294"/>
                    </a:lnTo>
                    <a:lnTo>
                      <a:pt x="106" y="274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7551720" y="5335920"/>
                <a:ext cx="397080" cy="661680"/>
              </a:xfrm>
              <a:custGeom>
                <a:avLst/>
                <a:gdLst/>
                <a:ahLst/>
                <a:rect l="l" t="t" r="r" b="b"/>
                <a:pathLst>
                  <a:path w="383" h="639">
                    <a:moveTo>
                      <a:pt x="106" y="274"/>
                    </a:moveTo>
                    <a:lnTo>
                      <a:pt x="116" y="254"/>
                    </a:lnTo>
                    <a:lnTo>
                      <a:pt x="131" y="228"/>
                    </a:lnTo>
                    <a:lnTo>
                      <a:pt x="151" y="193"/>
                    </a:lnTo>
                    <a:lnTo>
                      <a:pt x="166" y="172"/>
                    </a:lnTo>
                    <a:lnTo>
                      <a:pt x="186" y="147"/>
                    </a:lnTo>
                    <a:lnTo>
                      <a:pt x="207" y="117"/>
                    </a:lnTo>
                    <a:lnTo>
                      <a:pt x="222" y="96"/>
                    </a:lnTo>
                    <a:lnTo>
                      <a:pt x="242" y="76"/>
                    </a:lnTo>
                    <a:lnTo>
                      <a:pt x="252" y="66"/>
                    </a:lnTo>
                    <a:lnTo>
                      <a:pt x="262" y="56"/>
                    </a:lnTo>
                    <a:lnTo>
                      <a:pt x="277" y="40"/>
                    </a:lnTo>
                    <a:lnTo>
                      <a:pt x="297" y="25"/>
                    </a:lnTo>
                    <a:lnTo>
                      <a:pt x="312" y="15"/>
                    </a:lnTo>
                    <a:lnTo>
                      <a:pt x="323" y="10"/>
                    </a:lnTo>
                    <a:lnTo>
                      <a:pt x="333" y="5"/>
                    </a:lnTo>
                    <a:lnTo>
                      <a:pt x="353" y="0"/>
                    </a:lnTo>
                    <a:lnTo>
                      <a:pt x="363" y="5"/>
                    </a:lnTo>
                    <a:lnTo>
                      <a:pt x="363" y="5"/>
                    </a:lnTo>
                    <a:lnTo>
                      <a:pt x="368" y="10"/>
                    </a:lnTo>
                    <a:lnTo>
                      <a:pt x="373" y="15"/>
                    </a:lnTo>
                    <a:lnTo>
                      <a:pt x="378" y="25"/>
                    </a:lnTo>
                    <a:lnTo>
                      <a:pt x="383" y="40"/>
                    </a:lnTo>
                    <a:lnTo>
                      <a:pt x="383" y="51"/>
                    </a:lnTo>
                    <a:lnTo>
                      <a:pt x="383" y="71"/>
                    </a:lnTo>
                    <a:lnTo>
                      <a:pt x="383" y="91"/>
                    </a:lnTo>
                    <a:lnTo>
                      <a:pt x="378" y="117"/>
                    </a:lnTo>
                    <a:lnTo>
                      <a:pt x="373" y="132"/>
                    </a:lnTo>
                    <a:lnTo>
                      <a:pt x="368" y="147"/>
                    </a:lnTo>
                    <a:lnTo>
                      <a:pt x="363" y="172"/>
                    </a:lnTo>
                    <a:lnTo>
                      <a:pt x="353" y="203"/>
                    </a:lnTo>
                    <a:lnTo>
                      <a:pt x="343" y="228"/>
                    </a:lnTo>
                    <a:lnTo>
                      <a:pt x="333" y="259"/>
                    </a:lnTo>
                    <a:lnTo>
                      <a:pt x="318" y="289"/>
                    </a:lnTo>
                    <a:lnTo>
                      <a:pt x="302" y="319"/>
                    </a:lnTo>
                    <a:lnTo>
                      <a:pt x="287" y="350"/>
                    </a:lnTo>
                    <a:lnTo>
                      <a:pt x="277" y="370"/>
                    </a:lnTo>
                    <a:lnTo>
                      <a:pt x="267" y="391"/>
                    </a:lnTo>
                    <a:lnTo>
                      <a:pt x="252" y="416"/>
                    </a:lnTo>
                    <a:lnTo>
                      <a:pt x="232" y="446"/>
                    </a:lnTo>
                    <a:lnTo>
                      <a:pt x="217" y="472"/>
                    </a:lnTo>
                    <a:lnTo>
                      <a:pt x="196" y="497"/>
                    </a:lnTo>
                    <a:lnTo>
                      <a:pt x="176" y="522"/>
                    </a:lnTo>
                    <a:lnTo>
                      <a:pt x="161" y="543"/>
                    </a:lnTo>
                    <a:lnTo>
                      <a:pt x="141" y="563"/>
                    </a:lnTo>
                    <a:lnTo>
                      <a:pt x="131" y="573"/>
                    </a:lnTo>
                    <a:lnTo>
                      <a:pt x="121" y="583"/>
                    </a:lnTo>
                    <a:lnTo>
                      <a:pt x="106" y="599"/>
                    </a:lnTo>
                    <a:lnTo>
                      <a:pt x="91" y="614"/>
                    </a:lnTo>
                    <a:lnTo>
                      <a:pt x="75" y="624"/>
                    </a:lnTo>
                    <a:lnTo>
                      <a:pt x="55" y="634"/>
                    </a:lnTo>
                    <a:lnTo>
                      <a:pt x="45" y="639"/>
                    </a:lnTo>
                    <a:lnTo>
                      <a:pt x="30" y="639"/>
                    </a:lnTo>
                    <a:lnTo>
                      <a:pt x="25" y="639"/>
                    </a:lnTo>
                    <a:lnTo>
                      <a:pt x="20" y="634"/>
                    </a:lnTo>
                    <a:lnTo>
                      <a:pt x="20" y="634"/>
                    </a:lnTo>
                    <a:lnTo>
                      <a:pt x="10" y="624"/>
                    </a:lnTo>
                    <a:lnTo>
                      <a:pt x="5" y="614"/>
                    </a:lnTo>
                    <a:lnTo>
                      <a:pt x="0" y="599"/>
                    </a:lnTo>
                    <a:lnTo>
                      <a:pt x="0" y="588"/>
                    </a:lnTo>
                    <a:lnTo>
                      <a:pt x="0" y="568"/>
                    </a:lnTo>
                    <a:lnTo>
                      <a:pt x="5" y="543"/>
                    </a:lnTo>
                    <a:lnTo>
                      <a:pt x="5" y="522"/>
                    </a:lnTo>
                    <a:lnTo>
                      <a:pt x="10" y="507"/>
                    </a:lnTo>
                    <a:lnTo>
                      <a:pt x="15" y="492"/>
                    </a:lnTo>
                    <a:lnTo>
                      <a:pt x="20" y="467"/>
                    </a:lnTo>
                    <a:lnTo>
                      <a:pt x="30" y="436"/>
                    </a:lnTo>
                    <a:lnTo>
                      <a:pt x="40" y="411"/>
                    </a:lnTo>
                    <a:lnTo>
                      <a:pt x="50" y="385"/>
                    </a:lnTo>
                    <a:lnTo>
                      <a:pt x="65" y="355"/>
                    </a:lnTo>
                    <a:lnTo>
                      <a:pt x="80" y="325"/>
                    </a:lnTo>
                    <a:lnTo>
                      <a:pt x="96" y="294"/>
                    </a:lnTo>
                    <a:lnTo>
                      <a:pt x="106" y="274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7828200" y="5403960"/>
                <a:ext cx="54000" cy="114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818480" y="5413680"/>
                <a:ext cx="73080" cy="997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15" y="35"/>
                    </a:moveTo>
                    <a:lnTo>
                      <a:pt x="20" y="25"/>
                    </a:lnTo>
                    <a:lnTo>
                      <a:pt x="35" y="10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71" y="5"/>
                    </a:lnTo>
                    <a:lnTo>
                      <a:pt x="71" y="15"/>
                    </a:lnTo>
                    <a:lnTo>
                      <a:pt x="71" y="20"/>
                    </a:lnTo>
                    <a:lnTo>
                      <a:pt x="71" y="25"/>
                    </a:lnTo>
                    <a:lnTo>
                      <a:pt x="71" y="35"/>
                    </a:lnTo>
                    <a:lnTo>
                      <a:pt x="66" y="46"/>
                    </a:lnTo>
                    <a:lnTo>
                      <a:pt x="61" y="56"/>
                    </a:lnTo>
                    <a:lnTo>
                      <a:pt x="55" y="61"/>
                    </a:lnTo>
                    <a:lnTo>
                      <a:pt x="50" y="71"/>
                    </a:lnTo>
                    <a:lnTo>
                      <a:pt x="40" y="86"/>
                    </a:lnTo>
                    <a:lnTo>
                      <a:pt x="30" y="91"/>
                    </a:lnTo>
                    <a:lnTo>
                      <a:pt x="25" y="96"/>
                    </a:lnTo>
                    <a:lnTo>
                      <a:pt x="25" y="96"/>
                    </a:lnTo>
                    <a:lnTo>
                      <a:pt x="20" y="96"/>
                    </a:lnTo>
                    <a:lnTo>
                      <a:pt x="10" y="96"/>
                    </a:lnTo>
                    <a:lnTo>
                      <a:pt x="10" y="96"/>
                    </a:lnTo>
                    <a:lnTo>
                      <a:pt x="5" y="96"/>
                    </a:lnTo>
                    <a:lnTo>
                      <a:pt x="0" y="86"/>
                    </a:lnTo>
                    <a:lnTo>
                      <a:pt x="0" y="76"/>
                    </a:lnTo>
                    <a:lnTo>
                      <a:pt x="5" y="66"/>
                    </a:lnTo>
                    <a:lnTo>
                      <a:pt x="10" y="46"/>
                    </a:lnTo>
                    <a:lnTo>
                      <a:pt x="15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7818480" y="5413680"/>
                <a:ext cx="73080" cy="99720"/>
              </a:xfrm>
              <a:custGeom>
                <a:avLst/>
                <a:gdLst/>
                <a:ahLst/>
                <a:rect l="l" t="t" r="r" b="b"/>
                <a:pathLst>
                  <a:path w="71" h="96">
                    <a:moveTo>
                      <a:pt x="15" y="35"/>
                    </a:moveTo>
                    <a:lnTo>
                      <a:pt x="20" y="25"/>
                    </a:lnTo>
                    <a:lnTo>
                      <a:pt x="35" y="10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71" y="5"/>
                    </a:lnTo>
                    <a:lnTo>
                      <a:pt x="71" y="15"/>
                    </a:lnTo>
                    <a:lnTo>
                      <a:pt x="71" y="20"/>
                    </a:lnTo>
                    <a:lnTo>
                      <a:pt x="71" y="25"/>
                    </a:lnTo>
                    <a:lnTo>
                      <a:pt x="71" y="35"/>
                    </a:lnTo>
                    <a:lnTo>
                      <a:pt x="66" y="46"/>
                    </a:lnTo>
                    <a:lnTo>
                      <a:pt x="61" y="56"/>
                    </a:lnTo>
                    <a:lnTo>
                      <a:pt x="55" y="61"/>
                    </a:lnTo>
                    <a:lnTo>
                      <a:pt x="50" y="71"/>
                    </a:lnTo>
                    <a:lnTo>
                      <a:pt x="40" y="86"/>
                    </a:lnTo>
                    <a:lnTo>
                      <a:pt x="30" y="91"/>
                    </a:lnTo>
                    <a:lnTo>
                      <a:pt x="25" y="96"/>
                    </a:lnTo>
                    <a:lnTo>
                      <a:pt x="25" y="96"/>
                    </a:lnTo>
                    <a:lnTo>
                      <a:pt x="20" y="96"/>
                    </a:lnTo>
                    <a:lnTo>
                      <a:pt x="10" y="96"/>
                    </a:lnTo>
                    <a:lnTo>
                      <a:pt x="10" y="96"/>
                    </a:lnTo>
                    <a:lnTo>
                      <a:pt x="5" y="96"/>
                    </a:lnTo>
                    <a:lnTo>
                      <a:pt x="0" y="86"/>
                    </a:lnTo>
                    <a:lnTo>
                      <a:pt x="0" y="76"/>
                    </a:lnTo>
                    <a:lnTo>
                      <a:pt x="5" y="66"/>
                    </a:lnTo>
                    <a:lnTo>
                      <a:pt x="10" y="46"/>
                    </a:lnTo>
                    <a:lnTo>
                      <a:pt x="15" y="35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7613640" y="5772240"/>
                <a:ext cx="52560" cy="115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7604280" y="5776920"/>
                <a:ext cx="73080" cy="10656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15" y="41"/>
                    </a:moveTo>
                    <a:lnTo>
                      <a:pt x="20" y="30"/>
                    </a:lnTo>
                    <a:lnTo>
                      <a:pt x="35" y="15"/>
                    </a:lnTo>
                    <a:lnTo>
                      <a:pt x="41" y="10"/>
                    </a:lnTo>
                    <a:lnTo>
                      <a:pt x="51" y="5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6" y="5"/>
                    </a:lnTo>
                    <a:lnTo>
                      <a:pt x="71" y="15"/>
                    </a:lnTo>
                    <a:lnTo>
                      <a:pt x="71" y="20"/>
                    </a:lnTo>
                    <a:lnTo>
                      <a:pt x="71" y="25"/>
                    </a:lnTo>
                    <a:lnTo>
                      <a:pt x="71" y="30"/>
                    </a:lnTo>
                    <a:lnTo>
                      <a:pt x="71" y="36"/>
                    </a:lnTo>
                    <a:lnTo>
                      <a:pt x="66" y="46"/>
                    </a:lnTo>
                    <a:lnTo>
                      <a:pt x="61" y="56"/>
                    </a:lnTo>
                    <a:lnTo>
                      <a:pt x="56" y="61"/>
                    </a:lnTo>
                    <a:lnTo>
                      <a:pt x="51" y="71"/>
                    </a:lnTo>
                    <a:lnTo>
                      <a:pt x="41" y="86"/>
                    </a:lnTo>
                    <a:lnTo>
                      <a:pt x="30" y="96"/>
                    </a:lnTo>
                    <a:lnTo>
                      <a:pt x="25" y="102"/>
                    </a:lnTo>
                    <a:lnTo>
                      <a:pt x="25" y="102"/>
                    </a:lnTo>
                    <a:lnTo>
                      <a:pt x="20" y="102"/>
                    </a:lnTo>
                    <a:lnTo>
                      <a:pt x="10" y="102"/>
                    </a:lnTo>
                    <a:lnTo>
                      <a:pt x="10" y="102"/>
                    </a:lnTo>
                    <a:lnTo>
                      <a:pt x="10" y="102"/>
                    </a:lnTo>
                    <a:lnTo>
                      <a:pt x="5" y="96"/>
                    </a:lnTo>
                    <a:lnTo>
                      <a:pt x="0" y="86"/>
                    </a:lnTo>
                    <a:lnTo>
                      <a:pt x="0" y="81"/>
                    </a:lnTo>
                    <a:lnTo>
                      <a:pt x="0" y="76"/>
                    </a:lnTo>
                    <a:lnTo>
                      <a:pt x="5" y="66"/>
                    </a:lnTo>
                    <a:lnTo>
                      <a:pt x="10" y="51"/>
                    </a:lnTo>
                    <a:lnTo>
                      <a:pt x="15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7604280" y="5776920"/>
                <a:ext cx="73080" cy="106560"/>
              </a:xfrm>
              <a:custGeom>
                <a:avLst/>
                <a:gdLst/>
                <a:ahLst/>
                <a:rect l="l" t="t" r="r" b="b"/>
                <a:pathLst>
                  <a:path w="71" h="102">
                    <a:moveTo>
                      <a:pt x="15" y="41"/>
                    </a:moveTo>
                    <a:lnTo>
                      <a:pt x="20" y="30"/>
                    </a:lnTo>
                    <a:lnTo>
                      <a:pt x="35" y="15"/>
                    </a:lnTo>
                    <a:lnTo>
                      <a:pt x="41" y="10"/>
                    </a:lnTo>
                    <a:lnTo>
                      <a:pt x="51" y="5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6" y="5"/>
                    </a:lnTo>
                    <a:lnTo>
                      <a:pt x="71" y="15"/>
                    </a:lnTo>
                    <a:lnTo>
                      <a:pt x="71" y="20"/>
                    </a:lnTo>
                    <a:lnTo>
                      <a:pt x="71" y="25"/>
                    </a:lnTo>
                    <a:lnTo>
                      <a:pt x="71" y="30"/>
                    </a:lnTo>
                    <a:lnTo>
                      <a:pt x="71" y="36"/>
                    </a:lnTo>
                    <a:lnTo>
                      <a:pt x="66" y="46"/>
                    </a:lnTo>
                    <a:lnTo>
                      <a:pt x="61" y="56"/>
                    </a:lnTo>
                    <a:lnTo>
                      <a:pt x="56" y="61"/>
                    </a:lnTo>
                    <a:lnTo>
                      <a:pt x="51" y="71"/>
                    </a:lnTo>
                    <a:lnTo>
                      <a:pt x="41" y="86"/>
                    </a:lnTo>
                    <a:lnTo>
                      <a:pt x="30" y="96"/>
                    </a:lnTo>
                    <a:lnTo>
                      <a:pt x="25" y="102"/>
                    </a:lnTo>
                    <a:lnTo>
                      <a:pt x="25" y="102"/>
                    </a:lnTo>
                    <a:lnTo>
                      <a:pt x="20" y="102"/>
                    </a:lnTo>
                    <a:lnTo>
                      <a:pt x="10" y="102"/>
                    </a:lnTo>
                    <a:lnTo>
                      <a:pt x="10" y="102"/>
                    </a:lnTo>
                    <a:lnTo>
                      <a:pt x="10" y="102"/>
                    </a:lnTo>
                    <a:lnTo>
                      <a:pt x="5" y="96"/>
                    </a:lnTo>
                    <a:lnTo>
                      <a:pt x="0" y="86"/>
                    </a:lnTo>
                    <a:lnTo>
                      <a:pt x="0" y="81"/>
                    </a:lnTo>
                    <a:lnTo>
                      <a:pt x="0" y="76"/>
                    </a:lnTo>
                    <a:lnTo>
                      <a:pt x="5" y="66"/>
                    </a:lnTo>
                    <a:lnTo>
                      <a:pt x="10" y="51"/>
                    </a:lnTo>
                    <a:lnTo>
                      <a:pt x="15" y="41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7839000" y="5497560"/>
                <a:ext cx="184320" cy="163800"/>
              </a:xfrm>
              <a:custGeom>
                <a:avLst/>
                <a:gdLst/>
                <a:ahLst/>
                <a:rect l="l" t="t" r="r" b="b"/>
                <a:pathLst>
                  <a:path w="177" h="157">
                    <a:moveTo>
                      <a:pt x="0" y="91"/>
                    </a:moveTo>
                    <a:lnTo>
                      <a:pt x="51" y="91"/>
                    </a:lnTo>
                    <a:lnTo>
                      <a:pt x="121" y="157"/>
                    </a:lnTo>
                    <a:lnTo>
                      <a:pt x="177" y="61"/>
                    </a:lnTo>
                    <a:lnTo>
                      <a:pt x="96" y="0"/>
                    </a:lnTo>
                    <a:lnTo>
                      <a:pt x="41" y="15"/>
                    </a:lnTo>
                    <a:lnTo>
                      <a:pt x="0" y="91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666200" y="5551560"/>
                <a:ext cx="77760" cy="986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30" y="0"/>
                    </a:moveTo>
                    <a:lnTo>
                      <a:pt x="75" y="25"/>
                    </a:lnTo>
                    <a:lnTo>
                      <a:pt x="30" y="96"/>
                    </a:lnTo>
                    <a:lnTo>
                      <a:pt x="0" y="66"/>
                    </a:lnTo>
                    <a:lnTo>
                      <a:pt x="30" y="0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677360" y="5561280"/>
                <a:ext cx="77760" cy="10008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30" y="0"/>
                    </a:moveTo>
                    <a:lnTo>
                      <a:pt x="75" y="25"/>
                    </a:lnTo>
                    <a:lnTo>
                      <a:pt x="30" y="96"/>
                    </a:lnTo>
                    <a:lnTo>
                      <a:pt x="0" y="66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7677360" y="5740560"/>
                <a:ext cx="747720" cy="547560"/>
              </a:xfrm>
              <a:custGeom>
                <a:avLst/>
                <a:gdLst/>
                <a:ahLst/>
                <a:rect l="l" t="t" r="r" b="b"/>
                <a:pathLst>
                  <a:path w="721" h="527">
                    <a:moveTo>
                      <a:pt x="171" y="0"/>
                    </a:moveTo>
                    <a:lnTo>
                      <a:pt x="721" y="304"/>
                    </a:lnTo>
                    <a:lnTo>
                      <a:pt x="681" y="375"/>
                    </a:lnTo>
                    <a:lnTo>
                      <a:pt x="585" y="487"/>
                    </a:lnTo>
                    <a:lnTo>
                      <a:pt x="524" y="527"/>
                    </a:lnTo>
                    <a:lnTo>
                      <a:pt x="0" y="218"/>
                    </a:lnTo>
                    <a:lnTo>
                      <a:pt x="171" y="0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7693200" y="5761080"/>
                <a:ext cx="141120" cy="195480"/>
              </a:xfrm>
              <a:custGeom>
                <a:avLst/>
                <a:gdLst/>
                <a:ahLst/>
                <a:rect l="l" t="t" r="r" b="b"/>
                <a:pathLst>
                  <a:path w="136" h="188">
                    <a:moveTo>
                      <a:pt x="45" y="15"/>
                    </a:moveTo>
                    <a:lnTo>
                      <a:pt x="71" y="71"/>
                    </a:lnTo>
                    <a:lnTo>
                      <a:pt x="136" y="117"/>
                    </a:lnTo>
                    <a:lnTo>
                      <a:pt x="71" y="188"/>
                    </a:lnTo>
                    <a:lnTo>
                      <a:pt x="5" y="142"/>
                    </a:lnTo>
                    <a:lnTo>
                      <a:pt x="0" y="76"/>
                    </a:lnTo>
                    <a:lnTo>
                      <a:pt x="55" y="0"/>
                    </a:lnTo>
                    <a:lnTo>
                      <a:pt x="45" y="15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7702560" y="5772240"/>
                <a:ext cx="141480" cy="195480"/>
              </a:xfrm>
              <a:custGeom>
                <a:avLst/>
                <a:gdLst/>
                <a:ahLst/>
                <a:rect l="l" t="t" r="r" b="b"/>
                <a:pathLst>
                  <a:path w="136" h="188">
                    <a:moveTo>
                      <a:pt x="45" y="15"/>
                    </a:moveTo>
                    <a:lnTo>
                      <a:pt x="71" y="71"/>
                    </a:lnTo>
                    <a:lnTo>
                      <a:pt x="136" y="117"/>
                    </a:lnTo>
                    <a:lnTo>
                      <a:pt x="71" y="188"/>
                    </a:lnTo>
                    <a:lnTo>
                      <a:pt x="5" y="142"/>
                    </a:lnTo>
                    <a:lnTo>
                      <a:pt x="0" y="76"/>
                    </a:lnTo>
                    <a:lnTo>
                      <a:pt x="56" y="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7823160" y="5776920"/>
                <a:ext cx="576360" cy="343080"/>
              </a:xfrm>
              <a:custGeom>
                <a:avLst/>
                <a:gdLst/>
                <a:ahLst/>
                <a:rect l="l" t="t" r="r" b="b"/>
                <a:pathLst>
                  <a:path w="555" h="330">
                    <a:moveTo>
                      <a:pt x="25" y="0"/>
                    </a:moveTo>
                    <a:lnTo>
                      <a:pt x="555" y="294"/>
                    </a:lnTo>
                    <a:lnTo>
                      <a:pt x="535" y="330"/>
                    </a:lnTo>
                    <a:lnTo>
                      <a:pt x="0" y="36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8347320" y="5572440"/>
                <a:ext cx="382320" cy="727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8353440" y="5483520"/>
                <a:ext cx="371520" cy="250560"/>
              </a:xfrm>
              <a:custGeom>
                <a:avLst/>
                <a:gdLst/>
                <a:ahLst/>
                <a:rect l="l" t="t" r="r" b="b"/>
                <a:pathLst>
                  <a:path w="358" h="243">
                    <a:moveTo>
                      <a:pt x="35" y="0"/>
                    </a:moveTo>
                    <a:lnTo>
                      <a:pt x="358" y="183"/>
                    </a:lnTo>
                    <a:lnTo>
                      <a:pt x="322" y="243"/>
                    </a:lnTo>
                    <a:lnTo>
                      <a:pt x="0" y="61"/>
                    </a:lnTo>
                    <a:lnTo>
                      <a:pt x="35" y="0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8353440" y="5483520"/>
                <a:ext cx="371520" cy="250560"/>
              </a:xfrm>
              <a:custGeom>
                <a:avLst/>
                <a:gdLst/>
                <a:ahLst/>
                <a:rect l="l" t="t" r="r" b="b"/>
                <a:pathLst>
                  <a:path w="358" h="243">
                    <a:moveTo>
                      <a:pt x="35" y="0"/>
                    </a:moveTo>
                    <a:lnTo>
                      <a:pt x="358" y="183"/>
                    </a:lnTo>
                    <a:lnTo>
                      <a:pt x="322" y="243"/>
                    </a:lnTo>
                    <a:lnTo>
                      <a:pt x="0" y="61"/>
                    </a:lnTo>
                    <a:lnTo>
                      <a:pt x="35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8310600" y="5467680"/>
                <a:ext cx="141480" cy="9972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8294760" y="5440680"/>
                <a:ext cx="166680" cy="152280"/>
              </a:xfrm>
              <a:custGeom>
                <a:avLst/>
                <a:gdLst/>
                <a:ahLst/>
                <a:rect l="l" t="t" r="r" b="b"/>
                <a:pathLst>
                  <a:path w="161" h="147">
                    <a:moveTo>
                      <a:pt x="45" y="0"/>
                    </a:moveTo>
                    <a:lnTo>
                      <a:pt x="161" y="66"/>
                    </a:lnTo>
                    <a:lnTo>
                      <a:pt x="116" y="147"/>
                    </a:lnTo>
                    <a:lnTo>
                      <a:pt x="0" y="81"/>
                    </a:lnTo>
                    <a:lnTo>
                      <a:pt x="45" y="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8294760" y="5440680"/>
                <a:ext cx="166680" cy="152280"/>
              </a:xfrm>
              <a:custGeom>
                <a:avLst/>
                <a:gdLst/>
                <a:ahLst/>
                <a:rect l="l" t="t" r="r" b="b"/>
                <a:pathLst>
                  <a:path w="161" h="147">
                    <a:moveTo>
                      <a:pt x="45" y="0"/>
                    </a:moveTo>
                    <a:lnTo>
                      <a:pt x="161" y="66"/>
                    </a:lnTo>
                    <a:lnTo>
                      <a:pt x="116" y="147"/>
                    </a:lnTo>
                    <a:lnTo>
                      <a:pt x="0" y="81"/>
                    </a:lnTo>
                    <a:lnTo>
                      <a:pt x="45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8461440" y="5508720"/>
                <a:ext cx="17640" cy="16344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8425080" y="5518440"/>
                <a:ext cx="90360" cy="147600"/>
              </a:xfrm>
              <a:custGeom>
                <a:avLst/>
                <a:gdLst/>
                <a:ahLst/>
                <a:rect l="l" t="t" r="r" b="b"/>
                <a:pathLst>
                  <a:path w="86" h="142">
                    <a:moveTo>
                      <a:pt x="76" y="0"/>
                    </a:moveTo>
                    <a:lnTo>
                      <a:pt x="86" y="5"/>
                    </a:lnTo>
                    <a:lnTo>
                      <a:pt x="10" y="142"/>
                    </a:lnTo>
                    <a:lnTo>
                      <a:pt x="0" y="137"/>
                    </a:lnTo>
                    <a:lnTo>
                      <a:pt x="76" y="0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8425080" y="5518440"/>
                <a:ext cx="90360" cy="147600"/>
              </a:xfrm>
              <a:custGeom>
                <a:avLst/>
                <a:gdLst/>
                <a:ahLst/>
                <a:rect l="l" t="t" r="r" b="b"/>
                <a:pathLst>
                  <a:path w="86" h="142">
                    <a:moveTo>
                      <a:pt x="76" y="0"/>
                    </a:moveTo>
                    <a:lnTo>
                      <a:pt x="86" y="5"/>
                    </a:lnTo>
                    <a:lnTo>
                      <a:pt x="10" y="142"/>
                    </a:lnTo>
                    <a:lnTo>
                      <a:pt x="0" y="137"/>
                    </a:lnTo>
                    <a:lnTo>
                      <a:pt x="76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8566200" y="5577120"/>
                <a:ext cx="17640" cy="16344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8529840" y="5581800"/>
                <a:ext cx="95040" cy="147600"/>
              </a:xfrm>
              <a:custGeom>
                <a:avLst/>
                <a:gdLst/>
                <a:ahLst/>
                <a:rect l="l" t="t" r="r" b="b"/>
                <a:pathLst>
                  <a:path w="91" h="142">
                    <a:moveTo>
                      <a:pt x="76" y="0"/>
                    </a:moveTo>
                    <a:lnTo>
                      <a:pt x="91" y="5"/>
                    </a:lnTo>
                    <a:lnTo>
                      <a:pt x="15" y="142"/>
                    </a:lnTo>
                    <a:lnTo>
                      <a:pt x="0" y="137"/>
                    </a:lnTo>
                    <a:lnTo>
                      <a:pt x="76" y="0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8529840" y="5581800"/>
                <a:ext cx="95040" cy="147600"/>
              </a:xfrm>
              <a:custGeom>
                <a:avLst/>
                <a:gdLst/>
                <a:ahLst/>
                <a:rect l="l" t="t" r="r" b="b"/>
                <a:pathLst>
                  <a:path w="91" h="142">
                    <a:moveTo>
                      <a:pt x="76" y="0"/>
                    </a:moveTo>
                    <a:lnTo>
                      <a:pt x="91" y="5"/>
                    </a:lnTo>
                    <a:lnTo>
                      <a:pt x="15" y="142"/>
                    </a:lnTo>
                    <a:lnTo>
                      <a:pt x="0" y="137"/>
                    </a:lnTo>
                    <a:lnTo>
                      <a:pt x="76" y="0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8456760" y="6066000"/>
                <a:ext cx="152280" cy="95400"/>
              </a:xfrm>
              <a:custGeom>
                <a:avLst/>
                <a:gdLst/>
                <a:ahLst/>
                <a:rect l="l" t="t" r="r" b="b"/>
                <a:pathLst>
                  <a:path w="147" h="91">
                    <a:moveTo>
                      <a:pt x="26" y="0"/>
                    </a:moveTo>
                    <a:lnTo>
                      <a:pt x="147" y="76"/>
                    </a:lnTo>
                    <a:lnTo>
                      <a:pt x="132" y="91"/>
                    </a:lnTo>
                    <a:lnTo>
                      <a:pt x="96" y="91"/>
                    </a:lnTo>
                    <a:lnTo>
                      <a:pt x="0" y="41"/>
                    </a:lnTo>
                    <a:lnTo>
                      <a:pt x="26" y="0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8274240" y="5924880"/>
                <a:ext cx="6192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8274240" y="5924880"/>
                <a:ext cx="61920" cy="6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8274240" y="5924880"/>
                <a:ext cx="63360" cy="63360"/>
              </a:xfrm>
              <a:prstGeom prst="ellipse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8305920" y="5429520"/>
                <a:ext cx="30240" cy="101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8294760" y="5435640"/>
                <a:ext cx="52560" cy="88920"/>
              </a:xfrm>
              <a:custGeom>
                <a:avLst/>
                <a:gdLst/>
                <a:ahLst/>
                <a:rect l="l" t="t" r="r" b="b"/>
                <a:pathLst>
                  <a:path w="51" h="86">
                    <a:moveTo>
                      <a:pt x="10" y="36"/>
                    </a:moveTo>
                    <a:lnTo>
                      <a:pt x="15" y="26"/>
                    </a:lnTo>
                    <a:lnTo>
                      <a:pt x="25" y="10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1" y="5"/>
                    </a:lnTo>
                    <a:lnTo>
                      <a:pt x="51" y="10"/>
                    </a:lnTo>
                    <a:lnTo>
                      <a:pt x="51" y="15"/>
                    </a:lnTo>
                    <a:lnTo>
                      <a:pt x="51" y="21"/>
                    </a:lnTo>
                    <a:lnTo>
                      <a:pt x="40" y="41"/>
                    </a:lnTo>
                    <a:lnTo>
                      <a:pt x="35" y="51"/>
                    </a:lnTo>
                    <a:lnTo>
                      <a:pt x="30" y="61"/>
                    </a:lnTo>
                    <a:lnTo>
                      <a:pt x="20" y="71"/>
                    </a:lnTo>
                    <a:lnTo>
                      <a:pt x="15" y="76"/>
                    </a:lnTo>
                    <a:lnTo>
                      <a:pt x="10" y="81"/>
                    </a:lnTo>
                    <a:lnTo>
                      <a:pt x="5" y="86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76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5" y="46"/>
                    </a:lnTo>
                    <a:lnTo>
                      <a:pt x="10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8294760" y="5435640"/>
                <a:ext cx="52560" cy="88920"/>
              </a:xfrm>
              <a:custGeom>
                <a:avLst/>
                <a:gdLst/>
                <a:ahLst/>
                <a:rect l="l" t="t" r="r" b="b"/>
                <a:pathLst>
                  <a:path w="51" h="86">
                    <a:moveTo>
                      <a:pt x="10" y="36"/>
                    </a:moveTo>
                    <a:lnTo>
                      <a:pt x="15" y="26"/>
                    </a:lnTo>
                    <a:lnTo>
                      <a:pt x="25" y="10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51" y="5"/>
                    </a:lnTo>
                    <a:lnTo>
                      <a:pt x="51" y="10"/>
                    </a:lnTo>
                    <a:lnTo>
                      <a:pt x="51" y="15"/>
                    </a:lnTo>
                    <a:lnTo>
                      <a:pt x="51" y="21"/>
                    </a:lnTo>
                    <a:lnTo>
                      <a:pt x="40" y="41"/>
                    </a:lnTo>
                    <a:lnTo>
                      <a:pt x="35" y="51"/>
                    </a:lnTo>
                    <a:lnTo>
                      <a:pt x="30" y="61"/>
                    </a:lnTo>
                    <a:lnTo>
                      <a:pt x="20" y="71"/>
                    </a:lnTo>
                    <a:lnTo>
                      <a:pt x="15" y="76"/>
                    </a:lnTo>
                    <a:lnTo>
                      <a:pt x="10" y="81"/>
                    </a:lnTo>
                    <a:lnTo>
                      <a:pt x="5" y="86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76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5" y="46"/>
                    </a:lnTo>
                    <a:lnTo>
                      <a:pt x="10" y="36"/>
                    </a:lnTo>
                    <a:close/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8232840" y="5872320"/>
                <a:ext cx="166680" cy="652320"/>
              </a:xfrm>
              <a:custGeom>
                <a:avLst/>
                <a:gdLst/>
                <a:ahLst/>
                <a:rect l="l" t="t" r="r" b="b"/>
                <a:pathLst>
                  <a:path w="161" h="630">
                    <a:moveTo>
                      <a:pt x="15" y="31"/>
                    </a:moveTo>
                    <a:lnTo>
                      <a:pt x="75" y="0"/>
                    </a:lnTo>
                    <a:lnTo>
                      <a:pt x="121" y="26"/>
                    </a:lnTo>
                    <a:lnTo>
                      <a:pt x="151" y="92"/>
                    </a:lnTo>
                    <a:lnTo>
                      <a:pt x="111" y="153"/>
                    </a:lnTo>
                    <a:lnTo>
                      <a:pt x="161" y="630"/>
                    </a:lnTo>
                    <a:lnTo>
                      <a:pt x="20" y="630"/>
                    </a:lnTo>
                    <a:lnTo>
                      <a:pt x="60" y="148"/>
                    </a:lnTo>
                    <a:lnTo>
                      <a:pt x="5" y="102"/>
                    </a:lnTo>
                    <a:lnTo>
                      <a:pt x="0" y="51"/>
                    </a:lnTo>
                    <a:lnTo>
                      <a:pt x="20" y="21"/>
                    </a:lnTo>
                    <a:lnTo>
                      <a:pt x="15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8242560" y="5883480"/>
                <a:ext cx="168120" cy="652320"/>
              </a:xfrm>
              <a:custGeom>
                <a:avLst/>
                <a:gdLst/>
                <a:ahLst/>
                <a:rect l="l" t="t" r="r" b="b"/>
                <a:pathLst>
                  <a:path w="161" h="629">
                    <a:moveTo>
                      <a:pt x="15" y="30"/>
                    </a:moveTo>
                    <a:lnTo>
                      <a:pt x="75" y="0"/>
                    </a:lnTo>
                    <a:lnTo>
                      <a:pt x="121" y="25"/>
                    </a:lnTo>
                    <a:lnTo>
                      <a:pt x="151" y="91"/>
                    </a:lnTo>
                    <a:lnTo>
                      <a:pt x="111" y="152"/>
                    </a:lnTo>
                    <a:lnTo>
                      <a:pt x="161" y="629"/>
                    </a:lnTo>
                    <a:lnTo>
                      <a:pt x="20" y="629"/>
                    </a:lnTo>
                    <a:lnTo>
                      <a:pt x="60" y="147"/>
                    </a:lnTo>
                    <a:lnTo>
                      <a:pt x="5" y="101"/>
                    </a:lnTo>
                    <a:lnTo>
                      <a:pt x="0" y="50"/>
                    </a:lnTo>
                    <a:lnTo>
                      <a:pt x="20" y="2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8283600" y="5929560"/>
                <a:ext cx="47520" cy="42840"/>
              </a:xfrm>
              <a:prstGeom prst="ellipse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8283600" y="5929560"/>
                <a:ext cx="47520" cy="42840"/>
              </a:xfrm>
              <a:prstGeom prst="ellipse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1" name=""/>
            <p:cNvSpPr/>
            <p:nvPr/>
          </p:nvSpPr>
          <p:spPr>
            <a:xfrm>
              <a:off x="7413840" y="4876920"/>
              <a:ext cx="17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o it yourself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2" name="PlaceHolder 1"/>
          <p:cNvSpPr>
            <a:spLocks noGrp="1"/>
          </p:cNvSpPr>
          <p:nvPr>
            <p:ph type="title"/>
          </p:nvPr>
        </p:nvSpPr>
        <p:spPr>
          <a:xfrm>
            <a:off x="231840" y="590040"/>
            <a:ext cx="61927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erféromètre instrument à pupille dilu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3" name=""/>
          <p:cNvGrpSpPr/>
          <p:nvPr/>
        </p:nvGrpSpPr>
        <p:grpSpPr>
          <a:xfrm>
            <a:off x="344520" y="710640"/>
            <a:ext cx="9190800" cy="2293560"/>
            <a:chOff x="344520" y="710640"/>
            <a:chExt cx="9190800" cy="2293560"/>
          </a:xfrm>
        </p:grpSpPr>
        <p:sp>
          <p:nvSpPr>
            <p:cNvPr id="5274" name=""/>
            <p:cNvSpPr/>
            <p:nvPr/>
          </p:nvSpPr>
          <p:spPr>
            <a:xfrm>
              <a:off x="344520" y="1252440"/>
              <a:ext cx="3741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chema récapitulatif géné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ptique de Four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4716360" y="1859040"/>
              <a:ext cx="364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5718240" y="1278000"/>
              <a:ext cx="115920" cy="11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4965840" y="1379520"/>
              <a:ext cx="0" cy="928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4965840" y="1392120"/>
              <a:ext cx="642960" cy="920880"/>
            </a:xfrm>
            <a:prstGeom prst="rightArrow">
              <a:avLst>
                <a:gd name="adj1" fmla="val 62759"/>
                <a:gd name="adj2" fmla="val 45431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3987360" y="2244600"/>
              <a:ext cx="12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amplit. </a:t>
              </a:r>
              <a:r>
                <a:rPr b="1" lang="fr-FR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5363280" y="2349360"/>
              <a:ext cx="114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Comic Sans MS"/>
                </a:rPr>
                <a:t>transm 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 flipV="1">
              <a:off x="7765920" y="1334880"/>
              <a:ext cx="0" cy="10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5805360" y="1509840"/>
              <a:ext cx="1990800" cy="711000"/>
            </a:xfrm>
            <a:custGeom>
              <a:avLst/>
              <a:gdLst/>
              <a:ahLst/>
              <a:rect l="l" t="t" r="r" b="b"/>
              <a:pathLst>
                <a:path w="988" h="448">
                  <a:moveTo>
                    <a:pt x="9" y="0"/>
                  </a:moveTo>
                  <a:lnTo>
                    <a:pt x="988" y="220"/>
                  </a:lnTo>
                  <a:lnTo>
                    <a:pt x="0" y="4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 flipH="1">
              <a:off x="5992200" y="710640"/>
              <a:ext cx="3542760" cy="229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22" y="5521"/>
                  </a:moveTo>
                  <a:arcTo wR="10800" hR="10800" stAng="-1755560" swAng="344976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22" y="5521"/>
                  </a:moveTo>
                  <a:arcTo wR="10800" hR="10800" stAng="-1755560" swAng="3449767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6194160" y="1101600"/>
              <a:ext cx="110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cc"/>
                  </a:solidFill>
                  <a:latin typeface="Comic Sans MS"/>
                </a:rPr>
                <a:t>amplit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5" name=""/>
            <p:cNvGrpSpPr/>
            <p:nvPr/>
          </p:nvGrpSpPr>
          <p:grpSpPr>
            <a:xfrm>
              <a:off x="7245000" y="2093760"/>
              <a:ext cx="1270440" cy="514800"/>
              <a:chOff x="7245000" y="2093760"/>
              <a:chExt cx="1270440" cy="514800"/>
            </a:xfrm>
          </p:grpSpPr>
          <p:sp>
            <p:nvSpPr>
              <p:cNvPr id="5286" name=""/>
              <p:cNvSpPr/>
              <p:nvPr/>
            </p:nvSpPr>
            <p:spPr>
              <a:xfrm>
                <a:off x="7245000" y="2209680"/>
                <a:ext cx="127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amplit  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8144640" y="20937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^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8" name=""/>
            <p:cNvSpPr/>
            <p:nvPr/>
          </p:nvSpPr>
          <p:spPr>
            <a:xfrm>
              <a:off x="7764480" y="1554120"/>
              <a:ext cx="304920" cy="579600"/>
            </a:xfrm>
            <a:custGeom>
              <a:avLst/>
              <a:gdLst/>
              <a:ahLst/>
              <a:rect l="l" t="t" r="r" b="b"/>
              <a:pathLst>
                <a:path w="192" h="365">
                  <a:moveTo>
                    <a:pt x="0" y="0"/>
                  </a:moveTo>
                  <a:cubicBezTo>
                    <a:pt x="17" y="11"/>
                    <a:pt x="71" y="37"/>
                    <a:pt x="101" y="64"/>
                  </a:cubicBezTo>
                  <a:cubicBezTo>
                    <a:pt x="131" y="91"/>
                    <a:pt x="192" y="134"/>
                    <a:pt x="183" y="164"/>
                  </a:cubicBezTo>
                  <a:cubicBezTo>
                    <a:pt x="174" y="194"/>
                    <a:pt x="70" y="224"/>
                    <a:pt x="46" y="247"/>
                  </a:cubicBezTo>
                  <a:cubicBezTo>
                    <a:pt x="22" y="270"/>
                    <a:pt x="45" y="281"/>
                    <a:pt x="37" y="301"/>
                  </a:cubicBezTo>
                  <a:cubicBezTo>
                    <a:pt x="29" y="321"/>
                    <a:pt x="14" y="343"/>
                    <a:pt x="0" y="36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9" name=""/>
          <p:cNvGrpSpPr/>
          <p:nvPr/>
        </p:nvGrpSpPr>
        <p:grpSpPr>
          <a:xfrm>
            <a:off x="2620800" y="4535640"/>
            <a:ext cx="4677480" cy="1853640"/>
            <a:chOff x="2620800" y="4535640"/>
            <a:chExt cx="4677480" cy="1853640"/>
          </a:xfrm>
        </p:grpSpPr>
        <p:sp>
          <p:nvSpPr>
            <p:cNvPr id="5290" name=""/>
            <p:cNvSpPr/>
            <p:nvPr/>
          </p:nvSpPr>
          <p:spPr>
            <a:xfrm>
              <a:off x="2620800" y="4543560"/>
              <a:ext cx="1292400" cy="5792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5632560" y="4535640"/>
              <a:ext cx="1292040" cy="5792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3462480" y="5108400"/>
              <a:ext cx="2830320" cy="696960"/>
            </a:xfrm>
            <a:custGeom>
              <a:avLst/>
              <a:gdLst/>
              <a:ahLst/>
              <a:rect l="l" t="t" r="r" b="b"/>
              <a:pathLst>
                <a:path w="1783" h="439">
                  <a:moveTo>
                    <a:pt x="0" y="0"/>
                  </a:moveTo>
                  <a:lnTo>
                    <a:pt x="0" y="439"/>
                  </a:lnTo>
                  <a:lnTo>
                    <a:pt x="1783" y="439"/>
                  </a:lnTo>
                  <a:lnTo>
                    <a:pt x="1783" y="1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3941280" y="5746680"/>
              <a:ext cx="3357000" cy="64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hases liées aux traj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upille d'entrée</a:t>
              </a:r>
              <a:r>
                <a:rPr b="0" lang="fr-F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plan im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4" name=""/>
          <p:cNvGrpSpPr/>
          <p:nvPr/>
        </p:nvGrpSpPr>
        <p:grpSpPr>
          <a:xfrm>
            <a:off x="552600" y="4784760"/>
            <a:ext cx="4063680" cy="1658520"/>
            <a:chOff x="552600" y="4784760"/>
            <a:chExt cx="4063680" cy="1658520"/>
          </a:xfrm>
        </p:grpSpPr>
        <p:sp>
          <p:nvSpPr>
            <p:cNvPr id="5295" name=""/>
            <p:cNvSpPr/>
            <p:nvPr/>
          </p:nvSpPr>
          <p:spPr>
            <a:xfrm>
              <a:off x="1403280" y="5326200"/>
              <a:ext cx="2959200" cy="218880"/>
            </a:xfrm>
            <a:custGeom>
              <a:avLst/>
              <a:gdLst/>
              <a:ahLst/>
              <a:rect l="l" t="t" r="r" b="b"/>
              <a:pathLst>
                <a:path w="1261" h="366">
                  <a:moveTo>
                    <a:pt x="0" y="0"/>
                  </a:moveTo>
                  <a:lnTo>
                    <a:pt x="0" y="366"/>
                  </a:lnTo>
                  <a:lnTo>
                    <a:pt x="1261" y="366"/>
                  </a:lnTo>
                  <a:lnTo>
                    <a:pt x="1261" y="37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2376360" y="5545080"/>
              <a:ext cx="0" cy="376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552600" y="5800680"/>
              <a:ext cx="2504880" cy="64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valeur moyen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sur chaque ouver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1157400" y="4789440"/>
              <a:ext cx="449280" cy="5526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4167360" y="4784760"/>
              <a:ext cx="448920" cy="552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0" name=""/>
          <p:cNvGrpSpPr/>
          <p:nvPr/>
        </p:nvGrpSpPr>
        <p:grpSpPr>
          <a:xfrm>
            <a:off x="272520" y="2670120"/>
            <a:ext cx="8534520" cy="1687320"/>
            <a:chOff x="272520" y="2670120"/>
            <a:chExt cx="8534520" cy="1687320"/>
          </a:xfrm>
        </p:grpSpPr>
        <p:grpSp>
          <p:nvGrpSpPr>
            <p:cNvPr id="5301" name=""/>
            <p:cNvGrpSpPr/>
            <p:nvPr/>
          </p:nvGrpSpPr>
          <p:grpSpPr>
            <a:xfrm>
              <a:off x="650880" y="3234960"/>
              <a:ext cx="4922640" cy="480600"/>
              <a:chOff x="650880" y="3234960"/>
              <a:chExt cx="4922640" cy="480600"/>
            </a:xfrm>
          </p:grpSpPr>
          <p:grpSp>
            <p:nvGrpSpPr>
              <p:cNvPr id="5302" name=""/>
              <p:cNvGrpSpPr/>
              <p:nvPr/>
            </p:nvGrpSpPr>
            <p:grpSpPr>
              <a:xfrm>
                <a:off x="650880" y="3234960"/>
                <a:ext cx="1278720" cy="444960"/>
                <a:chOff x="650880" y="3234960"/>
                <a:chExt cx="1278720" cy="444960"/>
              </a:xfrm>
            </p:grpSpPr>
            <p:sp>
              <p:nvSpPr>
                <p:cNvPr id="5303" name=""/>
                <p:cNvSpPr/>
                <p:nvPr/>
              </p:nvSpPr>
              <p:spPr>
                <a:xfrm>
                  <a:off x="650880" y="3671280"/>
                  <a:ext cx="127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4" name=""/>
                <p:cNvSpPr/>
                <p:nvPr/>
              </p:nvSpPr>
              <p:spPr>
                <a:xfrm>
                  <a:off x="894960" y="3398760"/>
                  <a:ext cx="270360" cy="272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5" name=""/>
                <p:cNvSpPr/>
                <p:nvPr/>
              </p:nvSpPr>
              <p:spPr>
                <a:xfrm>
                  <a:off x="1398960" y="3407760"/>
                  <a:ext cx="270360" cy="272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6" name=""/>
                <p:cNvSpPr/>
                <p:nvPr/>
              </p:nvSpPr>
              <p:spPr>
                <a:xfrm flipV="1">
                  <a:off x="1273680" y="3234960"/>
                  <a:ext cx="0" cy="43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07" name=""/>
              <p:cNvSpPr/>
              <p:nvPr/>
            </p:nvSpPr>
            <p:spPr>
              <a:xfrm>
                <a:off x="2640240" y="3680280"/>
                <a:ext cx="127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3133800" y="3403440"/>
                <a:ext cx="270360" cy="272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 flipV="1">
                <a:off x="3263040" y="3243600"/>
                <a:ext cx="0" cy="43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4295160" y="3675600"/>
                <a:ext cx="127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 flipV="1">
                <a:off x="4917960" y="3239280"/>
                <a:ext cx="0" cy="43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12" name=""/>
              <p:cNvGrpSpPr/>
              <p:nvPr/>
            </p:nvGrpSpPr>
            <p:grpSpPr>
              <a:xfrm>
                <a:off x="4683240" y="3328200"/>
                <a:ext cx="490320" cy="331560"/>
                <a:chOff x="4683240" y="3328200"/>
                <a:chExt cx="490320" cy="331560"/>
              </a:xfrm>
            </p:grpSpPr>
            <p:sp>
              <p:nvSpPr>
                <p:cNvPr id="5313" name=""/>
                <p:cNvSpPr/>
                <p:nvPr/>
              </p:nvSpPr>
              <p:spPr>
                <a:xfrm flipV="1">
                  <a:off x="4683240" y="3332520"/>
                  <a:ext cx="0" cy="32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4" name=""/>
                <p:cNvSpPr/>
                <p:nvPr/>
              </p:nvSpPr>
              <p:spPr>
                <a:xfrm flipV="1">
                  <a:off x="5173560" y="3328200"/>
                  <a:ext cx="0" cy="32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15" name=""/>
              <p:cNvSpPr/>
              <p:nvPr/>
            </p:nvSpPr>
            <p:spPr>
              <a:xfrm>
                <a:off x="1763640" y="3255840"/>
                <a:ext cx="33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16" name=""/>
              <p:cNvGrpSpPr/>
              <p:nvPr/>
            </p:nvGrpSpPr>
            <p:grpSpPr>
              <a:xfrm>
                <a:off x="4003560" y="3363120"/>
                <a:ext cx="350640" cy="298800"/>
                <a:chOff x="4003560" y="3363120"/>
                <a:chExt cx="350640" cy="298800"/>
              </a:xfrm>
            </p:grpSpPr>
            <p:sp>
              <p:nvSpPr>
                <p:cNvPr id="5317" name=""/>
                <p:cNvSpPr/>
                <p:nvPr/>
              </p:nvSpPr>
              <p:spPr>
                <a:xfrm>
                  <a:off x="4024800" y="3382200"/>
                  <a:ext cx="256680" cy="256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8" name=""/>
                <p:cNvSpPr/>
                <p:nvPr/>
              </p:nvSpPr>
              <p:spPr>
                <a:xfrm flipH="1">
                  <a:off x="4011480" y="3399120"/>
                  <a:ext cx="257040" cy="257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9" name=""/>
                <p:cNvSpPr/>
                <p:nvPr/>
              </p:nvSpPr>
              <p:spPr>
                <a:xfrm>
                  <a:off x="4003560" y="3506040"/>
                  <a:ext cx="350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0" name=""/>
                <p:cNvSpPr/>
                <p:nvPr/>
              </p:nvSpPr>
              <p:spPr>
                <a:xfrm>
                  <a:off x="4157640" y="3363120"/>
                  <a:ext cx="0" cy="298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1" name=""/>
              <p:cNvGrpSpPr/>
              <p:nvPr/>
            </p:nvGrpSpPr>
            <p:grpSpPr>
              <a:xfrm>
                <a:off x="2237400" y="3457080"/>
                <a:ext cx="221040" cy="102600"/>
                <a:chOff x="2237400" y="3457080"/>
                <a:chExt cx="221040" cy="102600"/>
              </a:xfrm>
            </p:grpSpPr>
            <p:sp>
              <p:nvSpPr>
                <p:cNvPr id="5322" name=""/>
                <p:cNvSpPr/>
                <p:nvPr/>
              </p:nvSpPr>
              <p:spPr>
                <a:xfrm>
                  <a:off x="2241720" y="3457080"/>
                  <a:ext cx="216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3" name=""/>
                <p:cNvSpPr/>
                <p:nvPr/>
              </p:nvSpPr>
              <p:spPr>
                <a:xfrm>
                  <a:off x="2237400" y="3559680"/>
                  <a:ext cx="216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24" name=""/>
            <p:cNvSpPr/>
            <p:nvPr/>
          </p:nvSpPr>
          <p:spPr>
            <a:xfrm>
              <a:off x="272520" y="2724120"/>
              <a:ext cx="6632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onsidérons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P =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 + 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=  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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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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5" name=""/>
            <p:cNvGrpSpPr/>
            <p:nvPr/>
          </p:nvGrpSpPr>
          <p:grpSpPr>
            <a:xfrm>
              <a:off x="6549120" y="2670120"/>
              <a:ext cx="2257920" cy="1687320"/>
              <a:chOff x="6549120" y="2670120"/>
              <a:chExt cx="2257920" cy="1687320"/>
            </a:xfrm>
          </p:grpSpPr>
          <p:grpSp>
            <p:nvGrpSpPr>
              <p:cNvPr id="5326" name=""/>
              <p:cNvGrpSpPr/>
              <p:nvPr/>
            </p:nvGrpSpPr>
            <p:grpSpPr>
              <a:xfrm>
                <a:off x="6627600" y="2890800"/>
                <a:ext cx="2171520" cy="1225080"/>
                <a:chOff x="6627600" y="2890800"/>
                <a:chExt cx="2171520" cy="1225080"/>
              </a:xfrm>
            </p:grpSpPr>
            <p:sp>
              <p:nvSpPr>
                <p:cNvPr id="5327" name=""/>
                <p:cNvSpPr/>
                <p:nvPr/>
              </p:nvSpPr>
              <p:spPr>
                <a:xfrm>
                  <a:off x="8613000" y="3356280"/>
                  <a:ext cx="57600" cy="3610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260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8" name=""/>
                <p:cNvSpPr/>
                <p:nvPr/>
              </p:nvSpPr>
              <p:spPr>
                <a:xfrm>
                  <a:off x="6648120" y="2915280"/>
                  <a:ext cx="926280" cy="120060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9" name=""/>
                <p:cNvSpPr/>
                <p:nvPr/>
              </p:nvSpPr>
              <p:spPr>
                <a:xfrm>
                  <a:off x="6627600" y="3535200"/>
                  <a:ext cx="21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0" name=""/>
                <p:cNvSpPr/>
                <p:nvPr/>
              </p:nvSpPr>
              <p:spPr>
                <a:xfrm>
                  <a:off x="7682400" y="3086640"/>
                  <a:ext cx="942840" cy="441000"/>
                </a:xfrm>
                <a:custGeom>
                  <a:avLst/>
                  <a:gdLst/>
                  <a:ahLst/>
                  <a:rect l="l" t="t" r="r" b="b"/>
                  <a:pathLst>
                    <a:path w="912" h="288">
                      <a:moveTo>
                        <a:pt x="0" y="0"/>
                      </a:moveTo>
                      <a:lnTo>
                        <a:pt x="912" y="288"/>
                      </a:lnTo>
                      <a:lnTo>
                        <a:pt x="0" y="128"/>
                      </a:ln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1" name=""/>
                <p:cNvSpPr/>
                <p:nvPr/>
              </p:nvSpPr>
              <p:spPr>
                <a:xfrm flipV="1">
                  <a:off x="8633880" y="3062160"/>
                  <a:ext cx="0" cy="94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2" name=""/>
                <p:cNvSpPr/>
                <p:nvPr/>
              </p:nvSpPr>
              <p:spPr>
                <a:xfrm>
                  <a:off x="6697800" y="3086640"/>
                  <a:ext cx="975960" cy="196200"/>
                </a:xfrm>
                <a:custGeom>
                  <a:avLst/>
                  <a:gdLst/>
                  <a:ahLst/>
                  <a:rect l="l" t="t" r="r" b="b"/>
                  <a:pathLst>
                    <a:path w="944" h="192">
                      <a:moveTo>
                        <a:pt x="0" y="0"/>
                      </a:moveTo>
                      <a:lnTo>
                        <a:pt x="944" y="0"/>
                      </a:lnTo>
                      <a:lnTo>
                        <a:pt x="944" y="192"/>
                      </a:lnTo>
                      <a:lnTo>
                        <a:pt x="0" y="192"/>
                      </a:ln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3" name=""/>
                <p:cNvSpPr/>
                <p:nvPr/>
              </p:nvSpPr>
              <p:spPr>
                <a:xfrm>
                  <a:off x="7690320" y="3540240"/>
                  <a:ext cx="943200" cy="404280"/>
                </a:xfrm>
                <a:custGeom>
                  <a:avLst/>
                  <a:gdLst/>
                  <a:ahLst/>
                  <a:rect l="l" t="t" r="r" b="b"/>
                  <a:pathLst>
                    <a:path w="912" h="264">
                      <a:moveTo>
                        <a:pt x="0" y="136"/>
                      </a:moveTo>
                      <a:lnTo>
                        <a:pt x="912" y="0"/>
                      </a:lnTo>
                      <a:lnTo>
                        <a:pt x="0" y="264"/>
                      </a:ln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4" name=""/>
                <p:cNvSpPr/>
                <p:nvPr/>
              </p:nvSpPr>
              <p:spPr>
                <a:xfrm>
                  <a:off x="6706080" y="3748320"/>
                  <a:ext cx="975960" cy="196200"/>
                </a:xfrm>
                <a:custGeom>
                  <a:avLst/>
                  <a:gdLst/>
                  <a:ahLst/>
                  <a:rect l="l" t="t" r="r" b="b"/>
                  <a:pathLst>
                    <a:path w="944" h="192">
                      <a:moveTo>
                        <a:pt x="0" y="0"/>
                      </a:moveTo>
                      <a:lnTo>
                        <a:pt x="944" y="0"/>
                      </a:lnTo>
                      <a:lnTo>
                        <a:pt x="944" y="192"/>
                      </a:lnTo>
                      <a:lnTo>
                        <a:pt x="0" y="192"/>
                      </a:ln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ffff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5" name=""/>
                <p:cNvSpPr/>
                <p:nvPr/>
              </p:nvSpPr>
              <p:spPr>
                <a:xfrm>
                  <a:off x="7623360" y="2993040"/>
                  <a:ext cx="113400" cy="107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6" name=""/>
                <p:cNvSpPr/>
                <p:nvPr/>
              </p:nvSpPr>
              <p:spPr>
                <a:xfrm flipV="1">
                  <a:off x="7599600" y="3270600"/>
                  <a:ext cx="0" cy="477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7" name=""/>
                <p:cNvSpPr/>
                <p:nvPr/>
              </p:nvSpPr>
              <p:spPr>
                <a:xfrm flipV="1">
                  <a:off x="7599600" y="3932280"/>
                  <a:ext cx="0" cy="171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8" name=""/>
                <p:cNvSpPr/>
                <p:nvPr/>
              </p:nvSpPr>
              <p:spPr>
                <a:xfrm flipV="1">
                  <a:off x="7599600" y="2890800"/>
                  <a:ext cx="0" cy="1836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39" name=""/>
              <p:cNvSpPr/>
              <p:nvPr/>
            </p:nvSpPr>
            <p:spPr>
              <a:xfrm>
                <a:off x="8626320" y="2852640"/>
                <a:ext cx="18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7648200" y="2670120"/>
                <a:ext cx="1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 flipV="1">
                <a:off x="7653240" y="2692440"/>
                <a:ext cx="0" cy="154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 flipV="1">
                <a:off x="7153200" y="2860200"/>
                <a:ext cx="0" cy="149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6549120" y="3083040"/>
                <a:ext cx="627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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44" name=""/>
          <p:cNvGrpSpPr/>
          <p:nvPr/>
        </p:nvGrpSpPr>
        <p:grpSpPr>
          <a:xfrm>
            <a:off x="45360" y="3830760"/>
            <a:ext cx="6811200" cy="1438200"/>
            <a:chOff x="45360" y="3830760"/>
            <a:chExt cx="6811200" cy="1438200"/>
          </a:xfrm>
        </p:grpSpPr>
        <mc:AlternateContent>
          <mc:Choice xmlns:a14="http://schemas.microsoft.com/office/drawing/2010/main" Requires="a14">
            <p:sp>
              <p:nvSpPr>
                <p:cNvPr id="5345" name=""/>
                <p:cNvSpPr txBox="1"/>
                <p:nvPr/>
              </p:nvSpPr>
              <p:spPr>
                <a:xfrm>
                  <a:off x="293760" y="4516560"/>
                  <a:ext cx="656280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Q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Π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u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Π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u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346" name=""/>
            <p:cNvSpPr/>
            <p:nvPr/>
          </p:nvSpPr>
          <p:spPr>
            <a:xfrm>
              <a:off x="45360" y="3830760"/>
              <a:ext cx="68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aura  Q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=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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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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B/2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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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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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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B/2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t par TF 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7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804708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ndre observable (mesurable) le degré de cohérence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'interféromètre comme additionneur cohé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8" name=""/>
          <p:cNvGrpSpPr/>
          <p:nvPr/>
        </p:nvGrpSpPr>
        <p:grpSpPr>
          <a:xfrm>
            <a:off x="501480" y="1581120"/>
            <a:ext cx="7561440" cy="995400"/>
            <a:chOff x="501480" y="1581120"/>
            <a:chExt cx="7561440" cy="995400"/>
          </a:xfrm>
        </p:grpSpPr>
        <p:sp>
          <p:nvSpPr>
            <p:cNvPr id="5349" name=""/>
            <p:cNvSpPr/>
            <p:nvPr/>
          </p:nvSpPr>
          <p:spPr>
            <a:xfrm>
              <a:off x="501480" y="1581120"/>
              <a:ext cx="529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intensité dans le plan focal = l amplitude l</a:t>
              </a:r>
              <a:r>
                <a:rPr b="1" lang="fr-FR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lang="fr-FR" sz="2400" spc="-1" strike="noStrike" baseline="30000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50" name=""/>
                <p:cNvSpPr txBox="1"/>
                <p:nvPr/>
              </p:nvSpPr>
              <p:spPr>
                <a:xfrm>
                  <a:off x="609480" y="2075040"/>
                  <a:ext cx="745344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Q</m:t>
                                  </m:r>
                                </m:e>
                              </m:acc>
                              <m:r>
                                <m:t xml:space="preserve"> 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Π</m:t>
                                  </m:r>
                                </m:e>
                              </m:acc>
                              <m:r>
                                <m:t xml:space="preserve"> 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&lt;</m:t>
                          </m:r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ψ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&gt;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&lt;</m:t>
                          </m:r>
                          <m:s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ψ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&gt;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Re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 </m:t>
                          </m:r>
                          <m:r>
                            <m:t xml:space="preserve">&lt;</m:t>
                          </m:r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ψ</m:t>
                          </m:r>
                          <m:sSub>
                            <m:e>
                              <m:r>
                                <m:t xml:space="preserve">∗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&gt;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B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u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]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51" name=""/>
          <p:cNvGrpSpPr/>
          <p:nvPr/>
        </p:nvGrpSpPr>
        <p:grpSpPr>
          <a:xfrm>
            <a:off x="142920" y="4140360"/>
            <a:ext cx="8827920" cy="2539440"/>
            <a:chOff x="142920" y="4140360"/>
            <a:chExt cx="8827920" cy="2539440"/>
          </a:xfrm>
        </p:grpSpPr>
        <p:grpSp>
          <p:nvGrpSpPr>
            <p:cNvPr id="5352" name=""/>
            <p:cNvGrpSpPr/>
            <p:nvPr/>
          </p:nvGrpSpPr>
          <p:grpSpPr>
            <a:xfrm>
              <a:off x="142920" y="4140360"/>
              <a:ext cx="8827920" cy="1911240"/>
              <a:chOff x="142920" y="4140360"/>
              <a:chExt cx="8827920" cy="1911240"/>
            </a:xfrm>
          </p:grpSpPr>
          <p:sp>
            <p:nvSpPr>
              <p:cNvPr id="5353" name=""/>
              <p:cNvSpPr/>
              <p:nvPr/>
            </p:nvSpPr>
            <p:spPr>
              <a:xfrm>
                <a:off x="142920" y="4140360"/>
                <a:ext cx="85856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3333cc"/>
                    </a:solidFill>
                    <a:latin typeface="Comic Sans MS"/>
                  </a:rPr>
                  <a:t>l'interféromètre a rendu observable le degré de cohéren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est présent dans l'intensité observée,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ar l'amplitude de la modulation sinusoidal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54" name=""/>
              <p:cNvGrpSpPr/>
              <p:nvPr/>
            </p:nvGrpSpPr>
            <p:grpSpPr>
              <a:xfrm>
                <a:off x="5689800" y="4516200"/>
                <a:ext cx="3281040" cy="1535400"/>
                <a:chOff x="5689800" y="4516200"/>
                <a:chExt cx="3281040" cy="1535400"/>
              </a:xfrm>
            </p:grpSpPr>
            <p:sp>
              <p:nvSpPr>
                <p:cNvPr id="5355" name=""/>
                <p:cNvSpPr/>
                <p:nvPr/>
              </p:nvSpPr>
              <p:spPr>
                <a:xfrm>
                  <a:off x="5689800" y="5908680"/>
                  <a:ext cx="3281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6" name=""/>
                <p:cNvSpPr/>
                <p:nvPr/>
              </p:nvSpPr>
              <p:spPr>
                <a:xfrm flipV="1">
                  <a:off x="7421400" y="4516200"/>
                  <a:ext cx="0" cy="140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7" name=""/>
                <p:cNvSpPr/>
                <p:nvPr/>
              </p:nvSpPr>
              <p:spPr>
                <a:xfrm>
                  <a:off x="5935320" y="5167440"/>
                  <a:ext cx="2641320" cy="831960"/>
                </a:xfrm>
                <a:custGeom>
                  <a:avLst/>
                  <a:gdLst/>
                  <a:ahLst/>
                  <a:rect l="l" t="t" r="r" b="b"/>
                  <a:pathLst>
                    <a:path w="1042" h="524">
                      <a:moveTo>
                        <a:pt x="0" y="467"/>
                      </a:moveTo>
                      <a:cubicBezTo>
                        <a:pt x="59" y="432"/>
                        <a:pt x="118" y="397"/>
                        <a:pt x="174" y="394"/>
                      </a:cubicBezTo>
                      <a:cubicBezTo>
                        <a:pt x="230" y="391"/>
                        <a:pt x="270" y="514"/>
                        <a:pt x="338" y="449"/>
                      </a:cubicBezTo>
                      <a:cubicBezTo>
                        <a:pt x="406" y="384"/>
                        <a:pt x="509" y="0"/>
                        <a:pt x="585" y="1"/>
                      </a:cubicBezTo>
                      <a:cubicBezTo>
                        <a:pt x="661" y="2"/>
                        <a:pt x="738" y="392"/>
                        <a:pt x="796" y="458"/>
                      </a:cubicBezTo>
                      <a:cubicBezTo>
                        <a:pt x="854" y="524"/>
                        <a:pt x="892" y="394"/>
                        <a:pt x="933" y="394"/>
                      </a:cubicBezTo>
                      <a:cubicBezTo>
                        <a:pt x="974" y="394"/>
                        <a:pt x="1008" y="426"/>
                        <a:pt x="1042" y="458"/>
                      </a:cubicBezTo>
                    </a:path>
                  </a:pathLst>
                </a:custGeom>
                <a:noFill/>
                <a:ln w="3816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8" name=""/>
                <p:cNvSpPr/>
                <p:nvPr/>
              </p:nvSpPr>
              <p:spPr>
                <a:xfrm>
                  <a:off x="7421400" y="4926240"/>
                  <a:ext cx="435960" cy="968400"/>
                </a:xfrm>
                <a:custGeom>
                  <a:avLst/>
                  <a:gdLst/>
                  <a:ahLst/>
                  <a:rect l="l" t="t" r="r" b="b"/>
                  <a:pathLst>
                    <a:path w="275" h="610">
                      <a:moveTo>
                        <a:pt x="0" y="0"/>
                      </a:moveTo>
                      <a:cubicBezTo>
                        <a:pt x="30" y="178"/>
                        <a:pt x="59" y="344"/>
                        <a:pt x="83" y="369"/>
                      </a:cubicBezTo>
                      <a:cubicBezTo>
                        <a:pt x="107" y="394"/>
                        <a:pt x="129" y="131"/>
                        <a:pt x="147" y="153"/>
                      </a:cubicBezTo>
                      <a:cubicBezTo>
                        <a:pt x="165" y="175"/>
                        <a:pt x="175" y="470"/>
                        <a:pt x="192" y="501"/>
                      </a:cubicBezTo>
                      <a:cubicBezTo>
                        <a:pt x="209" y="532"/>
                        <a:pt x="233" y="318"/>
                        <a:pt x="247" y="336"/>
                      </a:cubicBezTo>
                      <a:cubicBezTo>
                        <a:pt x="261" y="354"/>
                        <a:pt x="269" y="553"/>
                        <a:pt x="275" y="610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9" name=""/>
                <p:cNvSpPr/>
                <p:nvPr/>
              </p:nvSpPr>
              <p:spPr>
                <a:xfrm>
                  <a:off x="5959080" y="4915080"/>
                  <a:ext cx="2641320" cy="1136520"/>
                </a:xfrm>
                <a:custGeom>
                  <a:avLst/>
                  <a:gdLst/>
                  <a:ahLst/>
                  <a:rect l="l" t="t" r="r" b="b"/>
                  <a:pathLst>
                    <a:path w="1042" h="524">
                      <a:moveTo>
                        <a:pt x="0" y="467"/>
                      </a:moveTo>
                      <a:cubicBezTo>
                        <a:pt x="59" y="432"/>
                        <a:pt x="118" y="397"/>
                        <a:pt x="174" y="394"/>
                      </a:cubicBezTo>
                      <a:cubicBezTo>
                        <a:pt x="230" y="391"/>
                        <a:pt x="270" y="514"/>
                        <a:pt x="338" y="449"/>
                      </a:cubicBezTo>
                      <a:cubicBezTo>
                        <a:pt x="406" y="384"/>
                        <a:pt x="509" y="0"/>
                        <a:pt x="585" y="1"/>
                      </a:cubicBezTo>
                      <a:cubicBezTo>
                        <a:pt x="661" y="2"/>
                        <a:pt x="738" y="392"/>
                        <a:pt x="796" y="458"/>
                      </a:cubicBezTo>
                      <a:cubicBezTo>
                        <a:pt x="854" y="524"/>
                        <a:pt x="892" y="394"/>
                        <a:pt x="933" y="394"/>
                      </a:cubicBezTo>
                      <a:cubicBezTo>
                        <a:pt x="974" y="394"/>
                        <a:pt x="1008" y="426"/>
                        <a:pt x="1042" y="45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0" name=""/>
                <p:cNvSpPr/>
                <p:nvPr/>
              </p:nvSpPr>
              <p:spPr>
                <a:xfrm>
                  <a:off x="5940000" y="5491440"/>
                  <a:ext cx="2641320" cy="483840"/>
                </a:xfrm>
                <a:custGeom>
                  <a:avLst/>
                  <a:gdLst/>
                  <a:ahLst/>
                  <a:rect l="l" t="t" r="r" b="b"/>
                  <a:pathLst>
                    <a:path w="1042" h="524">
                      <a:moveTo>
                        <a:pt x="0" y="467"/>
                      </a:moveTo>
                      <a:cubicBezTo>
                        <a:pt x="59" y="432"/>
                        <a:pt x="118" y="397"/>
                        <a:pt x="174" y="394"/>
                      </a:cubicBezTo>
                      <a:cubicBezTo>
                        <a:pt x="230" y="391"/>
                        <a:pt x="270" y="514"/>
                        <a:pt x="338" y="449"/>
                      </a:cubicBezTo>
                      <a:cubicBezTo>
                        <a:pt x="406" y="384"/>
                        <a:pt x="509" y="0"/>
                        <a:pt x="585" y="1"/>
                      </a:cubicBezTo>
                      <a:cubicBezTo>
                        <a:pt x="661" y="2"/>
                        <a:pt x="738" y="392"/>
                        <a:pt x="796" y="458"/>
                      </a:cubicBezTo>
                      <a:cubicBezTo>
                        <a:pt x="854" y="524"/>
                        <a:pt x="892" y="394"/>
                        <a:pt x="933" y="394"/>
                      </a:cubicBezTo>
                      <a:cubicBezTo>
                        <a:pt x="974" y="394"/>
                        <a:pt x="1008" y="426"/>
                        <a:pt x="1042" y="45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1" name=""/>
                <p:cNvSpPr/>
                <p:nvPr/>
              </p:nvSpPr>
              <p:spPr>
                <a:xfrm flipH="1">
                  <a:off x="6973560" y="4935600"/>
                  <a:ext cx="436320" cy="968400"/>
                </a:xfrm>
                <a:custGeom>
                  <a:avLst/>
                  <a:gdLst/>
                  <a:ahLst/>
                  <a:rect l="l" t="t" r="r" b="b"/>
                  <a:pathLst>
                    <a:path w="275" h="610">
                      <a:moveTo>
                        <a:pt x="0" y="0"/>
                      </a:moveTo>
                      <a:cubicBezTo>
                        <a:pt x="30" y="178"/>
                        <a:pt x="59" y="344"/>
                        <a:pt x="83" y="369"/>
                      </a:cubicBezTo>
                      <a:cubicBezTo>
                        <a:pt x="107" y="394"/>
                        <a:pt x="129" y="131"/>
                        <a:pt x="147" y="153"/>
                      </a:cubicBezTo>
                      <a:cubicBezTo>
                        <a:pt x="165" y="175"/>
                        <a:pt x="175" y="470"/>
                        <a:pt x="192" y="501"/>
                      </a:cubicBezTo>
                      <a:cubicBezTo>
                        <a:pt x="209" y="532"/>
                        <a:pt x="233" y="318"/>
                        <a:pt x="247" y="336"/>
                      </a:cubicBezTo>
                      <a:cubicBezTo>
                        <a:pt x="261" y="354"/>
                        <a:pt x="269" y="553"/>
                        <a:pt x="275" y="610"/>
                      </a:cubicBezTo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62" name=""/>
            <p:cNvSpPr/>
            <p:nvPr/>
          </p:nvSpPr>
          <p:spPr>
            <a:xfrm>
              <a:off x="827640" y="5702400"/>
              <a:ext cx="766188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plus facile à reten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Intensité =  2. Airy.(  1 +  </a:t>
              </a: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. cos )   ou   (1+V.cos), V : Visibilit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3" name=""/>
          <p:cNvGrpSpPr/>
          <p:nvPr/>
        </p:nvGrpSpPr>
        <p:grpSpPr>
          <a:xfrm>
            <a:off x="509400" y="2600280"/>
            <a:ext cx="8128080" cy="1537200"/>
            <a:chOff x="509400" y="2600280"/>
            <a:chExt cx="8128080" cy="1537200"/>
          </a:xfrm>
        </p:grpSpPr>
        <p:sp>
          <p:nvSpPr>
            <p:cNvPr id="5364" name=""/>
            <p:cNvSpPr/>
            <p:nvPr/>
          </p:nvSpPr>
          <p:spPr>
            <a:xfrm>
              <a:off x="552600" y="2741760"/>
              <a:ext cx="211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ce qui don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65" name=""/>
                <p:cNvSpPr txBox="1"/>
                <p:nvPr/>
              </p:nvSpPr>
              <p:spPr>
                <a:xfrm>
                  <a:off x="2727360" y="2739960"/>
                  <a:ext cx="591012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Airy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66" name=""/>
            <p:cNvSpPr/>
            <p:nvPr/>
          </p:nvSpPr>
          <p:spPr>
            <a:xfrm>
              <a:off x="5402160" y="2600280"/>
              <a:ext cx="1451160" cy="10303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5450040" y="3556080"/>
              <a:ext cx="265860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3300"/>
                  </a:solidFill>
                  <a:latin typeface="Comic Sans MS"/>
                </a:rPr>
                <a:t>et voilà   </a:t>
              </a:r>
              <a:r>
                <a:rPr b="1" lang="fr-FR" sz="32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</a:t>
              </a:r>
              <a:r>
                <a:rPr b="0" lang="fr-FR" sz="2800" spc="-1" strike="noStrike">
                  <a:solidFill>
                    <a:srgbClr val="ff3300"/>
                  </a:solidFill>
                  <a:latin typeface="Comic Sans MS"/>
                </a:rPr>
                <a:t>(B/</a:t>
              </a:r>
              <a:r>
                <a:rPr b="0" lang="fr-FR" sz="28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</a:t>
              </a:r>
              <a:r>
                <a:rPr b="0" lang="fr-FR" sz="2800" spc="-1" strike="noStrike">
                  <a:solidFill>
                    <a:srgbClr val="ff3300"/>
                  </a:solidFill>
                  <a:latin typeface="Comic Sans MS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509400" y="3433680"/>
              <a:ext cx="3388680" cy="5806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Comic Sans MS"/>
                </a:rPr>
                <a:t>petite arnaque math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Comic Sans MS"/>
                </a:rPr>
                <a:t>au passage, on peut en disc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9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67644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out ça c'est des maths,   où est la physiqu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0" name=""/>
          <p:cNvGrpSpPr/>
          <p:nvPr/>
        </p:nvGrpSpPr>
        <p:grpSpPr>
          <a:xfrm>
            <a:off x="5659560" y="2911320"/>
            <a:ext cx="2858760" cy="934920"/>
            <a:chOff x="5659560" y="2911320"/>
            <a:chExt cx="2858760" cy="934920"/>
          </a:xfrm>
        </p:grpSpPr>
        <p:sp>
          <p:nvSpPr>
            <p:cNvPr id="5371" name=""/>
            <p:cNvSpPr/>
            <p:nvPr/>
          </p:nvSpPr>
          <p:spPr>
            <a:xfrm>
              <a:off x="5931000" y="3317400"/>
              <a:ext cx="2113200" cy="509760"/>
            </a:xfrm>
            <a:custGeom>
              <a:avLst/>
              <a:gdLst/>
              <a:ahLst/>
              <a:rect l="l" t="t" r="r" b="b"/>
              <a:pathLst>
                <a:path w="1649" h="398">
                  <a:moveTo>
                    <a:pt x="0" y="398"/>
                  </a:moveTo>
                  <a:lnTo>
                    <a:pt x="23" y="398"/>
                  </a:lnTo>
                  <a:lnTo>
                    <a:pt x="68" y="398"/>
                  </a:lnTo>
                  <a:lnTo>
                    <a:pt x="121" y="391"/>
                  </a:lnTo>
                  <a:lnTo>
                    <a:pt x="151" y="391"/>
                  </a:lnTo>
                  <a:lnTo>
                    <a:pt x="189" y="383"/>
                  </a:lnTo>
                  <a:lnTo>
                    <a:pt x="234" y="368"/>
                  </a:lnTo>
                  <a:lnTo>
                    <a:pt x="257" y="361"/>
                  </a:lnTo>
                  <a:lnTo>
                    <a:pt x="287" y="346"/>
                  </a:lnTo>
                  <a:lnTo>
                    <a:pt x="302" y="338"/>
                  </a:lnTo>
                  <a:lnTo>
                    <a:pt x="333" y="323"/>
                  </a:lnTo>
                  <a:lnTo>
                    <a:pt x="393" y="286"/>
                  </a:lnTo>
                  <a:lnTo>
                    <a:pt x="446" y="240"/>
                  </a:lnTo>
                  <a:lnTo>
                    <a:pt x="492" y="195"/>
                  </a:lnTo>
                  <a:lnTo>
                    <a:pt x="522" y="165"/>
                  </a:lnTo>
                  <a:lnTo>
                    <a:pt x="537" y="150"/>
                  </a:lnTo>
                  <a:lnTo>
                    <a:pt x="560" y="128"/>
                  </a:lnTo>
                  <a:lnTo>
                    <a:pt x="582" y="105"/>
                  </a:lnTo>
                  <a:lnTo>
                    <a:pt x="613" y="82"/>
                  </a:lnTo>
                  <a:lnTo>
                    <a:pt x="643" y="60"/>
                  </a:lnTo>
                  <a:lnTo>
                    <a:pt x="673" y="45"/>
                  </a:lnTo>
                  <a:lnTo>
                    <a:pt x="696" y="30"/>
                  </a:lnTo>
                  <a:lnTo>
                    <a:pt x="718" y="22"/>
                  </a:lnTo>
                  <a:lnTo>
                    <a:pt x="734" y="15"/>
                  </a:lnTo>
                  <a:lnTo>
                    <a:pt x="749" y="7"/>
                  </a:lnTo>
                  <a:lnTo>
                    <a:pt x="779" y="0"/>
                  </a:lnTo>
                  <a:lnTo>
                    <a:pt x="802" y="0"/>
                  </a:lnTo>
                  <a:lnTo>
                    <a:pt x="824" y="0"/>
                  </a:lnTo>
                  <a:lnTo>
                    <a:pt x="855" y="0"/>
                  </a:lnTo>
                  <a:lnTo>
                    <a:pt x="892" y="0"/>
                  </a:lnTo>
                  <a:lnTo>
                    <a:pt x="908" y="0"/>
                  </a:lnTo>
                  <a:lnTo>
                    <a:pt x="938" y="7"/>
                  </a:lnTo>
                  <a:lnTo>
                    <a:pt x="953" y="15"/>
                  </a:lnTo>
                  <a:lnTo>
                    <a:pt x="968" y="22"/>
                  </a:lnTo>
                  <a:lnTo>
                    <a:pt x="991" y="30"/>
                  </a:lnTo>
                  <a:lnTo>
                    <a:pt x="1021" y="45"/>
                  </a:lnTo>
                  <a:lnTo>
                    <a:pt x="1044" y="60"/>
                  </a:lnTo>
                  <a:lnTo>
                    <a:pt x="1066" y="82"/>
                  </a:lnTo>
                  <a:lnTo>
                    <a:pt x="1097" y="105"/>
                  </a:lnTo>
                  <a:lnTo>
                    <a:pt x="1119" y="128"/>
                  </a:lnTo>
                  <a:lnTo>
                    <a:pt x="1150" y="158"/>
                  </a:lnTo>
                  <a:lnTo>
                    <a:pt x="1157" y="173"/>
                  </a:lnTo>
                  <a:lnTo>
                    <a:pt x="1172" y="195"/>
                  </a:lnTo>
                  <a:lnTo>
                    <a:pt x="1195" y="225"/>
                  </a:lnTo>
                  <a:lnTo>
                    <a:pt x="1218" y="248"/>
                  </a:lnTo>
                  <a:lnTo>
                    <a:pt x="1248" y="270"/>
                  </a:lnTo>
                  <a:lnTo>
                    <a:pt x="1271" y="293"/>
                  </a:lnTo>
                  <a:lnTo>
                    <a:pt x="1286" y="308"/>
                  </a:lnTo>
                  <a:lnTo>
                    <a:pt x="1316" y="323"/>
                  </a:lnTo>
                  <a:lnTo>
                    <a:pt x="1346" y="338"/>
                  </a:lnTo>
                  <a:lnTo>
                    <a:pt x="1361" y="346"/>
                  </a:lnTo>
                  <a:lnTo>
                    <a:pt x="1392" y="361"/>
                  </a:lnTo>
                  <a:lnTo>
                    <a:pt x="1452" y="376"/>
                  </a:lnTo>
                  <a:lnTo>
                    <a:pt x="1528" y="391"/>
                  </a:lnTo>
                  <a:lnTo>
                    <a:pt x="1611" y="398"/>
                  </a:lnTo>
                  <a:lnTo>
                    <a:pt x="1649" y="39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6163200" y="3076560"/>
              <a:ext cx="1745280" cy="731520"/>
            </a:xfrm>
            <a:custGeom>
              <a:avLst/>
              <a:gdLst/>
              <a:ahLst/>
              <a:rect l="l" t="t" r="r" b="b"/>
              <a:pathLst>
                <a:path w="1362" h="571">
                  <a:moveTo>
                    <a:pt x="0" y="571"/>
                  </a:moveTo>
                  <a:lnTo>
                    <a:pt x="16" y="571"/>
                  </a:lnTo>
                  <a:lnTo>
                    <a:pt x="46" y="564"/>
                  </a:lnTo>
                  <a:lnTo>
                    <a:pt x="69" y="549"/>
                  </a:lnTo>
                  <a:lnTo>
                    <a:pt x="91" y="534"/>
                  </a:lnTo>
                  <a:lnTo>
                    <a:pt x="99" y="519"/>
                  </a:lnTo>
                  <a:lnTo>
                    <a:pt x="106" y="504"/>
                  </a:lnTo>
                  <a:lnTo>
                    <a:pt x="114" y="496"/>
                  </a:lnTo>
                  <a:lnTo>
                    <a:pt x="121" y="496"/>
                  </a:lnTo>
                  <a:lnTo>
                    <a:pt x="137" y="504"/>
                  </a:lnTo>
                  <a:lnTo>
                    <a:pt x="137" y="519"/>
                  </a:lnTo>
                  <a:lnTo>
                    <a:pt x="144" y="526"/>
                  </a:lnTo>
                  <a:lnTo>
                    <a:pt x="144" y="534"/>
                  </a:lnTo>
                  <a:lnTo>
                    <a:pt x="152" y="549"/>
                  </a:lnTo>
                  <a:lnTo>
                    <a:pt x="159" y="556"/>
                  </a:lnTo>
                  <a:lnTo>
                    <a:pt x="167" y="556"/>
                  </a:lnTo>
                  <a:lnTo>
                    <a:pt x="174" y="549"/>
                  </a:lnTo>
                  <a:lnTo>
                    <a:pt x="182" y="549"/>
                  </a:lnTo>
                  <a:lnTo>
                    <a:pt x="190" y="526"/>
                  </a:lnTo>
                  <a:lnTo>
                    <a:pt x="205" y="496"/>
                  </a:lnTo>
                  <a:lnTo>
                    <a:pt x="212" y="474"/>
                  </a:lnTo>
                  <a:lnTo>
                    <a:pt x="220" y="451"/>
                  </a:lnTo>
                  <a:lnTo>
                    <a:pt x="220" y="443"/>
                  </a:lnTo>
                  <a:lnTo>
                    <a:pt x="227" y="428"/>
                  </a:lnTo>
                  <a:lnTo>
                    <a:pt x="235" y="406"/>
                  </a:lnTo>
                  <a:lnTo>
                    <a:pt x="242" y="391"/>
                  </a:lnTo>
                  <a:lnTo>
                    <a:pt x="250" y="376"/>
                  </a:lnTo>
                  <a:lnTo>
                    <a:pt x="258" y="368"/>
                  </a:lnTo>
                  <a:lnTo>
                    <a:pt x="265" y="368"/>
                  </a:lnTo>
                  <a:lnTo>
                    <a:pt x="258" y="368"/>
                  </a:lnTo>
                  <a:lnTo>
                    <a:pt x="273" y="368"/>
                  </a:lnTo>
                  <a:lnTo>
                    <a:pt x="280" y="376"/>
                  </a:lnTo>
                  <a:lnTo>
                    <a:pt x="288" y="391"/>
                  </a:lnTo>
                  <a:lnTo>
                    <a:pt x="288" y="398"/>
                  </a:lnTo>
                  <a:lnTo>
                    <a:pt x="295" y="413"/>
                  </a:lnTo>
                  <a:lnTo>
                    <a:pt x="295" y="421"/>
                  </a:lnTo>
                  <a:lnTo>
                    <a:pt x="303" y="443"/>
                  </a:lnTo>
                  <a:lnTo>
                    <a:pt x="311" y="458"/>
                  </a:lnTo>
                  <a:lnTo>
                    <a:pt x="318" y="458"/>
                  </a:lnTo>
                  <a:lnTo>
                    <a:pt x="333" y="451"/>
                  </a:lnTo>
                  <a:lnTo>
                    <a:pt x="333" y="443"/>
                  </a:lnTo>
                  <a:lnTo>
                    <a:pt x="341" y="428"/>
                  </a:lnTo>
                  <a:lnTo>
                    <a:pt x="348" y="406"/>
                  </a:lnTo>
                  <a:lnTo>
                    <a:pt x="348" y="398"/>
                  </a:lnTo>
                  <a:lnTo>
                    <a:pt x="356" y="383"/>
                  </a:lnTo>
                  <a:lnTo>
                    <a:pt x="364" y="353"/>
                  </a:lnTo>
                  <a:lnTo>
                    <a:pt x="371" y="323"/>
                  </a:lnTo>
                  <a:lnTo>
                    <a:pt x="371" y="316"/>
                  </a:lnTo>
                  <a:lnTo>
                    <a:pt x="371" y="308"/>
                  </a:lnTo>
                  <a:lnTo>
                    <a:pt x="379" y="278"/>
                  </a:lnTo>
                  <a:lnTo>
                    <a:pt x="386" y="255"/>
                  </a:lnTo>
                  <a:lnTo>
                    <a:pt x="394" y="233"/>
                  </a:lnTo>
                  <a:lnTo>
                    <a:pt x="394" y="225"/>
                  </a:lnTo>
                  <a:lnTo>
                    <a:pt x="401" y="218"/>
                  </a:lnTo>
                  <a:lnTo>
                    <a:pt x="409" y="195"/>
                  </a:lnTo>
                  <a:lnTo>
                    <a:pt x="416" y="188"/>
                  </a:lnTo>
                  <a:lnTo>
                    <a:pt x="416" y="195"/>
                  </a:lnTo>
                  <a:lnTo>
                    <a:pt x="432" y="188"/>
                  </a:lnTo>
                  <a:lnTo>
                    <a:pt x="432" y="195"/>
                  </a:lnTo>
                  <a:lnTo>
                    <a:pt x="439" y="203"/>
                  </a:lnTo>
                  <a:lnTo>
                    <a:pt x="447" y="218"/>
                  </a:lnTo>
                  <a:lnTo>
                    <a:pt x="454" y="240"/>
                  </a:lnTo>
                  <a:lnTo>
                    <a:pt x="462" y="255"/>
                  </a:lnTo>
                  <a:lnTo>
                    <a:pt x="462" y="263"/>
                  </a:lnTo>
                  <a:lnTo>
                    <a:pt x="462" y="270"/>
                  </a:lnTo>
                  <a:lnTo>
                    <a:pt x="469" y="285"/>
                  </a:lnTo>
                  <a:lnTo>
                    <a:pt x="477" y="308"/>
                  </a:lnTo>
                  <a:lnTo>
                    <a:pt x="485" y="316"/>
                  </a:lnTo>
                  <a:lnTo>
                    <a:pt x="492" y="323"/>
                  </a:lnTo>
                  <a:lnTo>
                    <a:pt x="507" y="323"/>
                  </a:lnTo>
                  <a:lnTo>
                    <a:pt x="515" y="316"/>
                  </a:lnTo>
                  <a:lnTo>
                    <a:pt x="522" y="308"/>
                  </a:lnTo>
                  <a:lnTo>
                    <a:pt x="530" y="293"/>
                  </a:lnTo>
                  <a:lnTo>
                    <a:pt x="537" y="278"/>
                  </a:lnTo>
                  <a:lnTo>
                    <a:pt x="545" y="255"/>
                  </a:lnTo>
                  <a:lnTo>
                    <a:pt x="553" y="233"/>
                  </a:lnTo>
                  <a:lnTo>
                    <a:pt x="560" y="203"/>
                  </a:lnTo>
                  <a:lnTo>
                    <a:pt x="568" y="173"/>
                  </a:lnTo>
                  <a:lnTo>
                    <a:pt x="575" y="150"/>
                  </a:lnTo>
                  <a:lnTo>
                    <a:pt x="583" y="127"/>
                  </a:lnTo>
                  <a:lnTo>
                    <a:pt x="590" y="97"/>
                  </a:lnTo>
                  <a:lnTo>
                    <a:pt x="598" y="75"/>
                  </a:lnTo>
                  <a:lnTo>
                    <a:pt x="606" y="52"/>
                  </a:lnTo>
                  <a:lnTo>
                    <a:pt x="613" y="37"/>
                  </a:lnTo>
                  <a:lnTo>
                    <a:pt x="628" y="15"/>
                  </a:lnTo>
                  <a:lnTo>
                    <a:pt x="636" y="7"/>
                  </a:lnTo>
                  <a:lnTo>
                    <a:pt x="658" y="0"/>
                  </a:lnTo>
                  <a:lnTo>
                    <a:pt x="666" y="7"/>
                  </a:lnTo>
                  <a:lnTo>
                    <a:pt x="674" y="15"/>
                  </a:lnTo>
                  <a:lnTo>
                    <a:pt x="674" y="22"/>
                  </a:lnTo>
                  <a:lnTo>
                    <a:pt x="681" y="37"/>
                  </a:lnTo>
                  <a:lnTo>
                    <a:pt x="689" y="60"/>
                  </a:lnTo>
                  <a:lnTo>
                    <a:pt x="696" y="82"/>
                  </a:lnTo>
                  <a:lnTo>
                    <a:pt x="711" y="120"/>
                  </a:lnTo>
                  <a:lnTo>
                    <a:pt x="711" y="135"/>
                  </a:lnTo>
                  <a:lnTo>
                    <a:pt x="711" y="150"/>
                  </a:lnTo>
                  <a:lnTo>
                    <a:pt x="719" y="180"/>
                  </a:lnTo>
                  <a:lnTo>
                    <a:pt x="727" y="203"/>
                  </a:lnTo>
                  <a:lnTo>
                    <a:pt x="734" y="225"/>
                  </a:lnTo>
                  <a:lnTo>
                    <a:pt x="742" y="255"/>
                  </a:lnTo>
                  <a:lnTo>
                    <a:pt x="749" y="270"/>
                  </a:lnTo>
                  <a:lnTo>
                    <a:pt x="757" y="285"/>
                  </a:lnTo>
                  <a:lnTo>
                    <a:pt x="764" y="293"/>
                  </a:lnTo>
                  <a:lnTo>
                    <a:pt x="780" y="301"/>
                  </a:lnTo>
                  <a:lnTo>
                    <a:pt x="795" y="293"/>
                  </a:lnTo>
                  <a:lnTo>
                    <a:pt x="787" y="293"/>
                  </a:lnTo>
                  <a:lnTo>
                    <a:pt x="802" y="278"/>
                  </a:lnTo>
                  <a:lnTo>
                    <a:pt x="810" y="263"/>
                  </a:lnTo>
                  <a:lnTo>
                    <a:pt x="817" y="248"/>
                  </a:lnTo>
                  <a:lnTo>
                    <a:pt x="817" y="240"/>
                  </a:lnTo>
                  <a:lnTo>
                    <a:pt x="825" y="225"/>
                  </a:lnTo>
                  <a:lnTo>
                    <a:pt x="825" y="218"/>
                  </a:lnTo>
                  <a:lnTo>
                    <a:pt x="832" y="203"/>
                  </a:lnTo>
                  <a:lnTo>
                    <a:pt x="840" y="195"/>
                  </a:lnTo>
                  <a:lnTo>
                    <a:pt x="848" y="188"/>
                  </a:lnTo>
                  <a:lnTo>
                    <a:pt x="863" y="180"/>
                  </a:lnTo>
                  <a:lnTo>
                    <a:pt x="870" y="180"/>
                  </a:lnTo>
                  <a:lnTo>
                    <a:pt x="885" y="188"/>
                  </a:lnTo>
                  <a:lnTo>
                    <a:pt x="893" y="203"/>
                  </a:lnTo>
                  <a:lnTo>
                    <a:pt x="901" y="225"/>
                  </a:lnTo>
                  <a:lnTo>
                    <a:pt x="908" y="240"/>
                  </a:lnTo>
                  <a:lnTo>
                    <a:pt x="916" y="255"/>
                  </a:lnTo>
                  <a:lnTo>
                    <a:pt x="923" y="278"/>
                  </a:lnTo>
                  <a:lnTo>
                    <a:pt x="931" y="308"/>
                  </a:lnTo>
                  <a:lnTo>
                    <a:pt x="931" y="316"/>
                  </a:lnTo>
                  <a:lnTo>
                    <a:pt x="938" y="331"/>
                  </a:lnTo>
                  <a:lnTo>
                    <a:pt x="938" y="353"/>
                  </a:lnTo>
                  <a:lnTo>
                    <a:pt x="946" y="376"/>
                  </a:lnTo>
                  <a:lnTo>
                    <a:pt x="953" y="398"/>
                  </a:lnTo>
                  <a:lnTo>
                    <a:pt x="961" y="421"/>
                  </a:lnTo>
                  <a:lnTo>
                    <a:pt x="969" y="436"/>
                  </a:lnTo>
                  <a:lnTo>
                    <a:pt x="976" y="443"/>
                  </a:lnTo>
                  <a:lnTo>
                    <a:pt x="984" y="458"/>
                  </a:lnTo>
                  <a:lnTo>
                    <a:pt x="991" y="466"/>
                  </a:lnTo>
                  <a:lnTo>
                    <a:pt x="999" y="474"/>
                  </a:lnTo>
                  <a:lnTo>
                    <a:pt x="1014" y="481"/>
                  </a:lnTo>
                  <a:lnTo>
                    <a:pt x="1029" y="474"/>
                  </a:lnTo>
                  <a:lnTo>
                    <a:pt x="1037" y="466"/>
                  </a:lnTo>
                  <a:lnTo>
                    <a:pt x="1044" y="451"/>
                  </a:lnTo>
                  <a:lnTo>
                    <a:pt x="1052" y="436"/>
                  </a:lnTo>
                  <a:lnTo>
                    <a:pt x="1067" y="413"/>
                  </a:lnTo>
                  <a:lnTo>
                    <a:pt x="1074" y="413"/>
                  </a:lnTo>
                  <a:lnTo>
                    <a:pt x="1090" y="398"/>
                  </a:lnTo>
                  <a:lnTo>
                    <a:pt x="1097" y="406"/>
                  </a:lnTo>
                  <a:lnTo>
                    <a:pt x="1112" y="413"/>
                  </a:lnTo>
                  <a:lnTo>
                    <a:pt x="1112" y="421"/>
                  </a:lnTo>
                  <a:lnTo>
                    <a:pt x="1127" y="451"/>
                  </a:lnTo>
                  <a:lnTo>
                    <a:pt x="1127" y="466"/>
                  </a:lnTo>
                  <a:lnTo>
                    <a:pt x="1127" y="481"/>
                  </a:lnTo>
                  <a:lnTo>
                    <a:pt x="1135" y="504"/>
                  </a:lnTo>
                  <a:lnTo>
                    <a:pt x="1143" y="526"/>
                  </a:lnTo>
                  <a:lnTo>
                    <a:pt x="1150" y="541"/>
                  </a:lnTo>
                  <a:lnTo>
                    <a:pt x="1165" y="556"/>
                  </a:lnTo>
                  <a:lnTo>
                    <a:pt x="1173" y="556"/>
                  </a:lnTo>
                  <a:lnTo>
                    <a:pt x="1180" y="556"/>
                  </a:lnTo>
                  <a:lnTo>
                    <a:pt x="1196" y="556"/>
                  </a:lnTo>
                  <a:lnTo>
                    <a:pt x="1203" y="549"/>
                  </a:lnTo>
                  <a:lnTo>
                    <a:pt x="1211" y="541"/>
                  </a:lnTo>
                  <a:lnTo>
                    <a:pt x="1226" y="534"/>
                  </a:lnTo>
                  <a:lnTo>
                    <a:pt x="1241" y="526"/>
                  </a:lnTo>
                  <a:lnTo>
                    <a:pt x="1248" y="526"/>
                  </a:lnTo>
                  <a:lnTo>
                    <a:pt x="1264" y="534"/>
                  </a:lnTo>
                  <a:lnTo>
                    <a:pt x="1271" y="541"/>
                  </a:lnTo>
                  <a:lnTo>
                    <a:pt x="1279" y="549"/>
                  </a:lnTo>
                  <a:lnTo>
                    <a:pt x="1294" y="564"/>
                  </a:lnTo>
                  <a:lnTo>
                    <a:pt x="1317" y="571"/>
                  </a:lnTo>
                  <a:lnTo>
                    <a:pt x="1347" y="571"/>
                  </a:lnTo>
                  <a:lnTo>
                    <a:pt x="1362" y="571"/>
                  </a:lnTo>
                </a:path>
              </a:pathLst>
            </a:custGeom>
            <a:noFill/>
            <a:ln w="47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3" name=""/>
            <p:cNvGrpSpPr/>
            <p:nvPr/>
          </p:nvGrpSpPr>
          <p:grpSpPr>
            <a:xfrm>
              <a:off x="5659560" y="3789000"/>
              <a:ext cx="2858760" cy="57240"/>
              <a:chOff x="5659560" y="3789000"/>
              <a:chExt cx="2858760" cy="57240"/>
            </a:xfrm>
          </p:grpSpPr>
          <p:sp>
            <p:nvSpPr>
              <p:cNvPr id="5374" name=""/>
              <p:cNvSpPr/>
              <p:nvPr/>
            </p:nvSpPr>
            <p:spPr>
              <a:xfrm>
                <a:off x="8403120" y="3789000"/>
                <a:ext cx="115200" cy="57240"/>
              </a:xfrm>
              <a:custGeom>
                <a:avLst/>
                <a:gdLst/>
                <a:ahLst/>
                <a:rect l="l" t="t" r="r" b="b"/>
                <a:pathLst>
                  <a:path w="90" h="45">
                    <a:moveTo>
                      <a:pt x="90" y="23"/>
                    </a:moveTo>
                    <a:lnTo>
                      <a:pt x="0" y="4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5659560" y="3818160"/>
                <a:ext cx="27435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6" name=""/>
            <p:cNvSpPr/>
            <p:nvPr/>
          </p:nvSpPr>
          <p:spPr>
            <a:xfrm>
              <a:off x="7372800" y="2911320"/>
              <a:ext cx="1014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Intensité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observé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8219880" y="356832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8" name=""/>
          <p:cNvGrpSpPr/>
          <p:nvPr/>
        </p:nvGrpSpPr>
        <p:grpSpPr>
          <a:xfrm>
            <a:off x="3483000" y="2530440"/>
            <a:ext cx="2220480" cy="1314360"/>
            <a:chOff x="3483000" y="2530440"/>
            <a:chExt cx="2220480" cy="1314360"/>
          </a:xfrm>
        </p:grpSpPr>
        <p:sp>
          <p:nvSpPr>
            <p:cNvPr id="5379" name=""/>
            <p:cNvSpPr/>
            <p:nvPr/>
          </p:nvSpPr>
          <p:spPr>
            <a:xfrm>
              <a:off x="3873600" y="3009600"/>
              <a:ext cx="1355760" cy="819360"/>
            </a:xfrm>
            <a:custGeom>
              <a:avLst/>
              <a:gdLst/>
              <a:ahLst/>
              <a:rect l="l" t="t" r="r" b="b"/>
              <a:pathLst>
                <a:path w="1362" h="824">
                  <a:moveTo>
                    <a:pt x="0" y="809"/>
                  </a:moveTo>
                  <a:lnTo>
                    <a:pt x="16" y="809"/>
                  </a:lnTo>
                  <a:lnTo>
                    <a:pt x="53" y="793"/>
                  </a:lnTo>
                  <a:lnTo>
                    <a:pt x="76" y="778"/>
                  </a:lnTo>
                  <a:lnTo>
                    <a:pt x="91" y="756"/>
                  </a:lnTo>
                  <a:lnTo>
                    <a:pt x="99" y="741"/>
                  </a:lnTo>
                  <a:lnTo>
                    <a:pt x="106" y="733"/>
                  </a:lnTo>
                  <a:lnTo>
                    <a:pt x="106" y="725"/>
                  </a:lnTo>
                  <a:lnTo>
                    <a:pt x="121" y="718"/>
                  </a:lnTo>
                  <a:lnTo>
                    <a:pt x="137" y="725"/>
                  </a:lnTo>
                  <a:lnTo>
                    <a:pt x="137" y="733"/>
                  </a:lnTo>
                  <a:lnTo>
                    <a:pt x="144" y="756"/>
                  </a:lnTo>
                  <a:lnTo>
                    <a:pt x="152" y="778"/>
                  </a:lnTo>
                  <a:lnTo>
                    <a:pt x="152" y="786"/>
                  </a:lnTo>
                  <a:lnTo>
                    <a:pt x="159" y="809"/>
                  </a:lnTo>
                  <a:lnTo>
                    <a:pt x="167" y="816"/>
                  </a:lnTo>
                  <a:lnTo>
                    <a:pt x="174" y="816"/>
                  </a:lnTo>
                  <a:lnTo>
                    <a:pt x="182" y="809"/>
                  </a:lnTo>
                  <a:lnTo>
                    <a:pt x="190" y="801"/>
                  </a:lnTo>
                  <a:lnTo>
                    <a:pt x="197" y="778"/>
                  </a:lnTo>
                  <a:lnTo>
                    <a:pt x="205" y="763"/>
                  </a:lnTo>
                  <a:lnTo>
                    <a:pt x="205" y="756"/>
                  </a:lnTo>
                  <a:lnTo>
                    <a:pt x="212" y="733"/>
                  </a:lnTo>
                  <a:lnTo>
                    <a:pt x="220" y="703"/>
                  </a:lnTo>
                  <a:lnTo>
                    <a:pt x="227" y="680"/>
                  </a:lnTo>
                  <a:lnTo>
                    <a:pt x="235" y="650"/>
                  </a:lnTo>
                  <a:lnTo>
                    <a:pt x="235" y="635"/>
                  </a:lnTo>
                  <a:lnTo>
                    <a:pt x="235" y="620"/>
                  </a:lnTo>
                  <a:lnTo>
                    <a:pt x="242" y="597"/>
                  </a:lnTo>
                  <a:lnTo>
                    <a:pt x="250" y="559"/>
                  </a:lnTo>
                  <a:lnTo>
                    <a:pt x="258" y="544"/>
                  </a:lnTo>
                  <a:lnTo>
                    <a:pt x="258" y="537"/>
                  </a:lnTo>
                  <a:lnTo>
                    <a:pt x="265" y="514"/>
                  </a:lnTo>
                  <a:lnTo>
                    <a:pt x="273" y="514"/>
                  </a:lnTo>
                  <a:lnTo>
                    <a:pt x="280" y="514"/>
                  </a:lnTo>
                  <a:lnTo>
                    <a:pt x="273" y="514"/>
                  </a:lnTo>
                  <a:lnTo>
                    <a:pt x="280" y="522"/>
                  </a:lnTo>
                  <a:lnTo>
                    <a:pt x="288" y="537"/>
                  </a:lnTo>
                  <a:lnTo>
                    <a:pt x="295" y="559"/>
                  </a:lnTo>
                  <a:lnTo>
                    <a:pt x="295" y="574"/>
                  </a:lnTo>
                  <a:lnTo>
                    <a:pt x="303" y="605"/>
                  </a:lnTo>
                  <a:lnTo>
                    <a:pt x="303" y="627"/>
                  </a:lnTo>
                  <a:lnTo>
                    <a:pt x="311" y="673"/>
                  </a:lnTo>
                  <a:lnTo>
                    <a:pt x="311" y="688"/>
                  </a:lnTo>
                  <a:lnTo>
                    <a:pt x="311" y="703"/>
                  </a:lnTo>
                  <a:lnTo>
                    <a:pt x="318" y="741"/>
                  </a:lnTo>
                  <a:lnTo>
                    <a:pt x="318" y="763"/>
                  </a:lnTo>
                  <a:lnTo>
                    <a:pt x="326" y="786"/>
                  </a:lnTo>
                  <a:lnTo>
                    <a:pt x="326" y="801"/>
                  </a:lnTo>
                  <a:lnTo>
                    <a:pt x="333" y="809"/>
                  </a:lnTo>
                  <a:lnTo>
                    <a:pt x="341" y="809"/>
                  </a:lnTo>
                  <a:lnTo>
                    <a:pt x="341" y="801"/>
                  </a:lnTo>
                  <a:lnTo>
                    <a:pt x="341" y="793"/>
                  </a:lnTo>
                  <a:lnTo>
                    <a:pt x="348" y="771"/>
                  </a:lnTo>
                  <a:lnTo>
                    <a:pt x="356" y="748"/>
                  </a:lnTo>
                  <a:lnTo>
                    <a:pt x="356" y="725"/>
                  </a:lnTo>
                  <a:lnTo>
                    <a:pt x="364" y="688"/>
                  </a:lnTo>
                  <a:lnTo>
                    <a:pt x="371" y="635"/>
                  </a:lnTo>
                  <a:lnTo>
                    <a:pt x="379" y="589"/>
                  </a:lnTo>
                  <a:lnTo>
                    <a:pt x="386" y="537"/>
                  </a:lnTo>
                  <a:lnTo>
                    <a:pt x="386" y="506"/>
                  </a:lnTo>
                  <a:lnTo>
                    <a:pt x="386" y="491"/>
                  </a:lnTo>
                  <a:lnTo>
                    <a:pt x="394" y="461"/>
                  </a:lnTo>
                  <a:lnTo>
                    <a:pt x="394" y="438"/>
                  </a:lnTo>
                  <a:lnTo>
                    <a:pt x="401" y="408"/>
                  </a:lnTo>
                  <a:lnTo>
                    <a:pt x="401" y="386"/>
                  </a:lnTo>
                  <a:lnTo>
                    <a:pt x="401" y="370"/>
                  </a:lnTo>
                  <a:lnTo>
                    <a:pt x="409" y="348"/>
                  </a:lnTo>
                  <a:lnTo>
                    <a:pt x="409" y="340"/>
                  </a:lnTo>
                  <a:lnTo>
                    <a:pt x="416" y="318"/>
                  </a:lnTo>
                  <a:lnTo>
                    <a:pt x="416" y="310"/>
                  </a:lnTo>
                  <a:lnTo>
                    <a:pt x="424" y="295"/>
                  </a:lnTo>
                  <a:lnTo>
                    <a:pt x="424" y="287"/>
                  </a:lnTo>
                  <a:lnTo>
                    <a:pt x="432" y="272"/>
                  </a:lnTo>
                  <a:lnTo>
                    <a:pt x="432" y="280"/>
                  </a:lnTo>
                  <a:lnTo>
                    <a:pt x="439" y="280"/>
                  </a:lnTo>
                  <a:lnTo>
                    <a:pt x="447" y="280"/>
                  </a:lnTo>
                  <a:lnTo>
                    <a:pt x="447" y="287"/>
                  </a:lnTo>
                  <a:lnTo>
                    <a:pt x="454" y="302"/>
                  </a:lnTo>
                  <a:lnTo>
                    <a:pt x="454" y="310"/>
                  </a:lnTo>
                  <a:lnTo>
                    <a:pt x="454" y="318"/>
                  </a:lnTo>
                  <a:lnTo>
                    <a:pt x="462" y="340"/>
                  </a:lnTo>
                  <a:lnTo>
                    <a:pt x="462" y="348"/>
                  </a:lnTo>
                  <a:lnTo>
                    <a:pt x="469" y="370"/>
                  </a:lnTo>
                  <a:lnTo>
                    <a:pt x="469" y="386"/>
                  </a:lnTo>
                  <a:lnTo>
                    <a:pt x="477" y="416"/>
                  </a:lnTo>
                  <a:lnTo>
                    <a:pt x="477" y="431"/>
                  </a:lnTo>
                  <a:lnTo>
                    <a:pt x="477" y="461"/>
                  </a:lnTo>
                  <a:lnTo>
                    <a:pt x="485" y="499"/>
                  </a:lnTo>
                  <a:lnTo>
                    <a:pt x="485" y="522"/>
                  </a:lnTo>
                  <a:lnTo>
                    <a:pt x="492" y="559"/>
                  </a:lnTo>
                  <a:lnTo>
                    <a:pt x="492" y="574"/>
                  </a:lnTo>
                  <a:lnTo>
                    <a:pt x="492" y="589"/>
                  </a:lnTo>
                  <a:lnTo>
                    <a:pt x="500" y="627"/>
                  </a:lnTo>
                  <a:lnTo>
                    <a:pt x="500" y="657"/>
                  </a:lnTo>
                  <a:lnTo>
                    <a:pt x="500" y="680"/>
                  </a:lnTo>
                  <a:lnTo>
                    <a:pt x="507" y="710"/>
                  </a:lnTo>
                  <a:lnTo>
                    <a:pt x="507" y="725"/>
                  </a:lnTo>
                  <a:lnTo>
                    <a:pt x="515" y="748"/>
                  </a:lnTo>
                  <a:lnTo>
                    <a:pt x="515" y="771"/>
                  </a:lnTo>
                  <a:lnTo>
                    <a:pt x="515" y="778"/>
                  </a:lnTo>
                  <a:lnTo>
                    <a:pt x="522" y="793"/>
                  </a:lnTo>
                  <a:lnTo>
                    <a:pt x="530" y="809"/>
                  </a:lnTo>
                  <a:lnTo>
                    <a:pt x="537" y="816"/>
                  </a:lnTo>
                  <a:lnTo>
                    <a:pt x="545" y="809"/>
                  </a:lnTo>
                  <a:lnTo>
                    <a:pt x="545" y="801"/>
                  </a:lnTo>
                  <a:lnTo>
                    <a:pt x="545" y="793"/>
                  </a:lnTo>
                  <a:lnTo>
                    <a:pt x="553" y="778"/>
                  </a:lnTo>
                  <a:lnTo>
                    <a:pt x="553" y="771"/>
                  </a:lnTo>
                  <a:lnTo>
                    <a:pt x="560" y="748"/>
                  </a:lnTo>
                  <a:lnTo>
                    <a:pt x="560" y="733"/>
                  </a:lnTo>
                  <a:lnTo>
                    <a:pt x="568" y="710"/>
                  </a:lnTo>
                  <a:lnTo>
                    <a:pt x="568" y="688"/>
                  </a:lnTo>
                  <a:lnTo>
                    <a:pt x="575" y="657"/>
                  </a:lnTo>
                  <a:lnTo>
                    <a:pt x="575" y="635"/>
                  </a:lnTo>
                  <a:lnTo>
                    <a:pt x="583" y="597"/>
                  </a:lnTo>
                  <a:lnTo>
                    <a:pt x="590" y="559"/>
                  </a:lnTo>
                  <a:lnTo>
                    <a:pt x="590" y="529"/>
                  </a:lnTo>
                  <a:lnTo>
                    <a:pt x="598" y="484"/>
                  </a:lnTo>
                  <a:lnTo>
                    <a:pt x="598" y="454"/>
                  </a:lnTo>
                  <a:lnTo>
                    <a:pt x="606" y="401"/>
                  </a:lnTo>
                  <a:lnTo>
                    <a:pt x="606" y="378"/>
                  </a:lnTo>
                  <a:lnTo>
                    <a:pt x="606" y="355"/>
                  </a:lnTo>
                  <a:lnTo>
                    <a:pt x="613" y="310"/>
                  </a:lnTo>
                  <a:lnTo>
                    <a:pt x="613" y="272"/>
                  </a:lnTo>
                  <a:lnTo>
                    <a:pt x="621" y="227"/>
                  </a:lnTo>
                  <a:lnTo>
                    <a:pt x="628" y="189"/>
                  </a:lnTo>
                  <a:lnTo>
                    <a:pt x="628" y="167"/>
                  </a:lnTo>
                  <a:lnTo>
                    <a:pt x="636" y="129"/>
                  </a:lnTo>
                  <a:lnTo>
                    <a:pt x="636" y="114"/>
                  </a:lnTo>
                  <a:lnTo>
                    <a:pt x="643" y="76"/>
                  </a:lnTo>
                  <a:lnTo>
                    <a:pt x="643" y="68"/>
                  </a:lnTo>
                  <a:lnTo>
                    <a:pt x="651" y="38"/>
                  </a:lnTo>
                  <a:lnTo>
                    <a:pt x="651" y="31"/>
                  </a:lnTo>
                  <a:lnTo>
                    <a:pt x="658" y="23"/>
                  </a:lnTo>
                  <a:lnTo>
                    <a:pt x="666" y="8"/>
                  </a:lnTo>
                  <a:lnTo>
                    <a:pt x="674" y="0"/>
                  </a:lnTo>
                  <a:lnTo>
                    <a:pt x="681" y="8"/>
                  </a:lnTo>
                  <a:lnTo>
                    <a:pt x="689" y="23"/>
                  </a:lnTo>
                  <a:lnTo>
                    <a:pt x="696" y="31"/>
                  </a:lnTo>
                  <a:lnTo>
                    <a:pt x="696" y="38"/>
                  </a:lnTo>
                  <a:lnTo>
                    <a:pt x="704" y="68"/>
                  </a:lnTo>
                  <a:lnTo>
                    <a:pt x="704" y="76"/>
                  </a:lnTo>
                  <a:lnTo>
                    <a:pt x="711" y="114"/>
                  </a:lnTo>
                  <a:lnTo>
                    <a:pt x="711" y="129"/>
                  </a:lnTo>
                  <a:lnTo>
                    <a:pt x="719" y="167"/>
                  </a:lnTo>
                  <a:lnTo>
                    <a:pt x="719" y="189"/>
                  </a:lnTo>
                  <a:lnTo>
                    <a:pt x="727" y="227"/>
                  </a:lnTo>
                  <a:lnTo>
                    <a:pt x="734" y="272"/>
                  </a:lnTo>
                  <a:lnTo>
                    <a:pt x="734" y="310"/>
                  </a:lnTo>
                  <a:lnTo>
                    <a:pt x="742" y="355"/>
                  </a:lnTo>
                  <a:lnTo>
                    <a:pt x="742" y="378"/>
                  </a:lnTo>
                  <a:lnTo>
                    <a:pt x="742" y="401"/>
                  </a:lnTo>
                  <a:lnTo>
                    <a:pt x="749" y="454"/>
                  </a:lnTo>
                  <a:lnTo>
                    <a:pt x="749" y="484"/>
                  </a:lnTo>
                  <a:lnTo>
                    <a:pt x="757" y="529"/>
                  </a:lnTo>
                  <a:lnTo>
                    <a:pt x="757" y="559"/>
                  </a:lnTo>
                  <a:lnTo>
                    <a:pt x="764" y="605"/>
                  </a:lnTo>
                  <a:lnTo>
                    <a:pt x="764" y="627"/>
                  </a:lnTo>
                  <a:lnTo>
                    <a:pt x="772" y="665"/>
                  </a:lnTo>
                  <a:lnTo>
                    <a:pt x="772" y="680"/>
                  </a:lnTo>
                  <a:lnTo>
                    <a:pt x="780" y="718"/>
                  </a:lnTo>
                  <a:lnTo>
                    <a:pt x="780" y="725"/>
                  </a:lnTo>
                  <a:lnTo>
                    <a:pt x="787" y="756"/>
                  </a:lnTo>
                  <a:lnTo>
                    <a:pt x="787" y="763"/>
                  </a:lnTo>
                  <a:lnTo>
                    <a:pt x="795" y="786"/>
                  </a:lnTo>
                  <a:lnTo>
                    <a:pt x="802" y="809"/>
                  </a:lnTo>
                  <a:lnTo>
                    <a:pt x="802" y="801"/>
                  </a:lnTo>
                  <a:lnTo>
                    <a:pt x="802" y="809"/>
                  </a:lnTo>
                  <a:lnTo>
                    <a:pt x="817" y="816"/>
                  </a:lnTo>
                  <a:lnTo>
                    <a:pt x="817" y="809"/>
                  </a:lnTo>
                  <a:lnTo>
                    <a:pt x="825" y="793"/>
                  </a:lnTo>
                  <a:lnTo>
                    <a:pt x="832" y="778"/>
                  </a:lnTo>
                  <a:lnTo>
                    <a:pt x="832" y="771"/>
                  </a:lnTo>
                  <a:lnTo>
                    <a:pt x="840" y="741"/>
                  </a:lnTo>
                  <a:lnTo>
                    <a:pt x="840" y="733"/>
                  </a:lnTo>
                  <a:lnTo>
                    <a:pt x="848" y="703"/>
                  </a:lnTo>
                  <a:lnTo>
                    <a:pt x="848" y="688"/>
                  </a:lnTo>
                  <a:lnTo>
                    <a:pt x="855" y="650"/>
                  </a:lnTo>
                  <a:lnTo>
                    <a:pt x="855" y="627"/>
                  </a:lnTo>
                  <a:lnTo>
                    <a:pt x="863" y="589"/>
                  </a:lnTo>
                  <a:lnTo>
                    <a:pt x="863" y="574"/>
                  </a:lnTo>
                  <a:lnTo>
                    <a:pt x="863" y="559"/>
                  </a:lnTo>
                  <a:lnTo>
                    <a:pt x="870" y="522"/>
                  </a:lnTo>
                  <a:lnTo>
                    <a:pt x="870" y="499"/>
                  </a:lnTo>
                  <a:lnTo>
                    <a:pt x="878" y="461"/>
                  </a:lnTo>
                  <a:lnTo>
                    <a:pt x="878" y="438"/>
                  </a:lnTo>
                  <a:lnTo>
                    <a:pt x="885" y="408"/>
                  </a:lnTo>
                  <a:lnTo>
                    <a:pt x="885" y="393"/>
                  </a:lnTo>
                  <a:lnTo>
                    <a:pt x="893" y="363"/>
                  </a:lnTo>
                  <a:lnTo>
                    <a:pt x="893" y="348"/>
                  </a:lnTo>
                  <a:lnTo>
                    <a:pt x="901" y="325"/>
                  </a:lnTo>
                  <a:lnTo>
                    <a:pt x="901" y="318"/>
                  </a:lnTo>
                  <a:lnTo>
                    <a:pt x="908" y="302"/>
                  </a:lnTo>
                  <a:lnTo>
                    <a:pt x="908" y="295"/>
                  </a:lnTo>
                  <a:lnTo>
                    <a:pt x="916" y="280"/>
                  </a:lnTo>
                  <a:lnTo>
                    <a:pt x="923" y="265"/>
                  </a:lnTo>
                  <a:lnTo>
                    <a:pt x="916" y="272"/>
                  </a:lnTo>
                  <a:lnTo>
                    <a:pt x="923" y="272"/>
                  </a:lnTo>
                  <a:lnTo>
                    <a:pt x="931" y="272"/>
                  </a:lnTo>
                  <a:lnTo>
                    <a:pt x="938" y="280"/>
                  </a:lnTo>
                  <a:lnTo>
                    <a:pt x="946" y="302"/>
                  </a:lnTo>
                  <a:lnTo>
                    <a:pt x="953" y="325"/>
                  </a:lnTo>
                  <a:lnTo>
                    <a:pt x="953" y="333"/>
                  </a:lnTo>
                  <a:lnTo>
                    <a:pt x="961" y="363"/>
                  </a:lnTo>
                  <a:lnTo>
                    <a:pt x="961" y="370"/>
                  </a:lnTo>
                  <a:lnTo>
                    <a:pt x="961" y="393"/>
                  </a:lnTo>
                  <a:lnTo>
                    <a:pt x="969" y="423"/>
                  </a:lnTo>
                  <a:lnTo>
                    <a:pt x="969" y="446"/>
                  </a:lnTo>
                  <a:lnTo>
                    <a:pt x="976" y="476"/>
                  </a:lnTo>
                  <a:lnTo>
                    <a:pt x="976" y="491"/>
                  </a:lnTo>
                  <a:lnTo>
                    <a:pt x="976" y="522"/>
                  </a:lnTo>
                  <a:lnTo>
                    <a:pt x="984" y="574"/>
                  </a:lnTo>
                  <a:lnTo>
                    <a:pt x="991" y="620"/>
                  </a:lnTo>
                  <a:lnTo>
                    <a:pt x="999" y="673"/>
                  </a:lnTo>
                  <a:lnTo>
                    <a:pt x="1006" y="710"/>
                  </a:lnTo>
                  <a:lnTo>
                    <a:pt x="1014" y="741"/>
                  </a:lnTo>
                  <a:lnTo>
                    <a:pt x="1014" y="763"/>
                  </a:lnTo>
                  <a:lnTo>
                    <a:pt x="1022" y="786"/>
                  </a:lnTo>
                  <a:lnTo>
                    <a:pt x="1029" y="801"/>
                  </a:lnTo>
                  <a:lnTo>
                    <a:pt x="1037" y="816"/>
                  </a:lnTo>
                  <a:lnTo>
                    <a:pt x="1044" y="816"/>
                  </a:lnTo>
                  <a:lnTo>
                    <a:pt x="1052" y="801"/>
                  </a:lnTo>
                  <a:lnTo>
                    <a:pt x="1052" y="793"/>
                  </a:lnTo>
                  <a:lnTo>
                    <a:pt x="1059" y="778"/>
                  </a:lnTo>
                  <a:lnTo>
                    <a:pt x="1067" y="748"/>
                  </a:lnTo>
                  <a:lnTo>
                    <a:pt x="1067" y="733"/>
                  </a:lnTo>
                  <a:lnTo>
                    <a:pt x="1067" y="718"/>
                  </a:lnTo>
                  <a:lnTo>
                    <a:pt x="1074" y="695"/>
                  </a:lnTo>
                  <a:lnTo>
                    <a:pt x="1082" y="665"/>
                  </a:lnTo>
                  <a:lnTo>
                    <a:pt x="1090" y="642"/>
                  </a:lnTo>
                  <a:lnTo>
                    <a:pt x="1090" y="635"/>
                  </a:lnTo>
                  <a:lnTo>
                    <a:pt x="1097" y="620"/>
                  </a:lnTo>
                  <a:lnTo>
                    <a:pt x="1105" y="605"/>
                  </a:lnTo>
                  <a:lnTo>
                    <a:pt x="1112" y="597"/>
                  </a:lnTo>
                  <a:lnTo>
                    <a:pt x="1120" y="597"/>
                  </a:lnTo>
                  <a:lnTo>
                    <a:pt x="1127" y="605"/>
                  </a:lnTo>
                  <a:lnTo>
                    <a:pt x="1135" y="620"/>
                  </a:lnTo>
                  <a:lnTo>
                    <a:pt x="1135" y="627"/>
                  </a:lnTo>
                  <a:lnTo>
                    <a:pt x="1143" y="650"/>
                  </a:lnTo>
                  <a:lnTo>
                    <a:pt x="1150" y="680"/>
                  </a:lnTo>
                  <a:lnTo>
                    <a:pt x="1150" y="688"/>
                  </a:lnTo>
                  <a:lnTo>
                    <a:pt x="1150" y="695"/>
                  </a:lnTo>
                  <a:lnTo>
                    <a:pt x="1158" y="725"/>
                  </a:lnTo>
                  <a:lnTo>
                    <a:pt x="1158" y="741"/>
                  </a:lnTo>
                  <a:lnTo>
                    <a:pt x="1165" y="763"/>
                  </a:lnTo>
                  <a:lnTo>
                    <a:pt x="1165" y="771"/>
                  </a:lnTo>
                  <a:lnTo>
                    <a:pt x="1173" y="793"/>
                  </a:lnTo>
                  <a:lnTo>
                    <a:pt x="1173" y="801"/>
                  </a:lnTo>
                  <a:lnTo>
                    <a:pt x="1180" y="816"/>
                  </a:lnTo>
                  <a:lnTo>
                    <a:pt x="1188" y="824"/>
                  </a:lnTo>
                  <a:lnTo>
                    <a:pt x="1188" y="816"/>
                  </a:lnTo>
                  <a:lnTo>
                    <a:pt x="1188" y="824"/>
                  </a:lnTo>
                  <a:lnTo>
                    <a:pt x="1196" y="824"/>
                  </a:lnTo>
                  <a:lnTo>
                    <a:pt x="1203" y="824"/>
                  </a:lnTo>
                  <a:lnTo>
                    <a:pt x="1211" y="816"/>
                  </a:lnTo>
                  <a:lnTo>
                    <a:pt x="1218" y="801"/>
                  </a:lnTo>
                  <a:lnTo>
                    <a:pt x="1226" y="786"/>
                  </a:lnTo>
                  <a:lnTo>
                    <a:pt x="1226" y="778"/>
                  </a:lnTo>
                  <a:lnTo>
                    <a:pt x="1233" y="763"/>
                  </a:lnTo>
                  <a:lnTo>
                    <a:pt x="1241" y="756"/>
                  </a:lnTo>
                  <a:lnTo>
                    <a:pt x="1248" y="748"/>
                  </a:lnTo>
                  <a:lnTo>
                    <a:pt x="1256" y="748"/>
                  </a:lnTo>
                  <a:lnTo>
                    <a:pt x="1271" y="763"/>
                  </a:lnTo>
                  <a:lnTo>
                    <a:pt x="1279" y="778"/>
                  </a:lnTo>
                  <a:lnTo>
                    <a:pt x="1294" y="793"/>
                  </a:lnTo>
                  <a:lnTo>
                    <a:pt x="1317" y="801"/>
                  </a:lnTo>
                  <a:lnTo>
                    <a:pt x="1347" y="809"/>
                  </a:lnTo>
                  <a:lnTo>
                    <a:pt x="1362" y="809"/>
                  </a:lnTo>
                </a:path>
              </a:pathLst>
            </a:custGeom>
            <a:noFill/>
            <a:ln w="2844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0" name=""/>
            <p:cNvGrpSpPr/>
            <p:nvPr/>
          </p:nvGrpSpPr>
          <p:grpSpPr>
            <a:xfrm>
              <a:off x="3483000" y="3430440"/>
              <a:ext cx="2220480" cy="414360"/>
              <a:chOff x="3483000" y="3430440"/>
              <a:chExt cx="2220480" cy="414360"/>
            </a:xfrm>
          </p:grpSpPr>
          <p:sp>
            <p:nvSpPr>
              <p:cNvPr id="5381" name=""/>
              <p:cNvSpPr/>
              <p:nvPr/>
            </p:nvSpPr>
            <p:spPr>
              <a:xfrm>
                <a:off x="3693600" y="3430440"/>
                <a:ext cx="1641600" cy="399240"/>
              </a:xfrm>
              <a:custGeom>
                <a:avLst/>
                <a:gdLst/>
                <a:ahLst/>
                <a:rect l="l" t="t" r="r" b="b"/>
                <a:pathLst>
                  <a:path w="1649" h="401">
                    <a:moveTo>
                      <a:pt x="0" y="401"/>
                    </a:moveTo>
                    <a:lnTo>
                      <a:pt x="23" y="401"/>
                    </a:lnTo>
                    <a:lnTo>
                      <a:pt x="68" y="401"/>
                    </a:lnTo>
                    <a:lnTo>
                      <a:pt x="121" y="393"/>
                    </a:lnTo>
                    <a:lnTo>
                      <a:pt x="151" y="393"/>
                    </a:lnTo>
                    <a:lnTo>
                      <a:pt x="189" y="386"/>
                    </a:lnTo>
                    <a:lnTo>
                      <a:pt x="234" y="370"/>
                    </a:lnTo>
                    <a:lnTo>
                      <a:pt x="257" y="363"/>
                    </a:lnTo>
                    <a:lnTo>
                      <a:pt x="287" y="348"/>
                    </a:lnTo>
                    <a:lnTo>
                      <a:pt x="302" y="340"/>
                    </a:lnTo>
                    <a:lnTo>
                      <a:pt x="333" y="325"/>
                    </a:lnTo>
                    <a:lnTo>
                      <a:pt x="393" y="287"/>
                    </a:lnTo>
                    <a:lnTo>
                      <a:pt x="446" y="242"/>
                    </a:lnTo>
                    <a:lnTo>
                      <a:pt x="492" y="197"/>
                    </a:lnTo>
                    <a:lnTo>
                      <a:pt x="522" y="166"/>
                    </a:lnTo>
                    <a:lnTo>
                      <a:pt x="537" y="151"/>
                    </a:lnTo>
                    <a:lnTo>
                      <a:pt x="560" y="129"/>
                    </a:lnTo>
                    <a:lnTo>
                      <a:pt x="582" y="106"/>
                    </a:lnTo>
                    <a:lnTo>
                      <a:pt x="613" y="83"/>
                    </a:lnTo>
                    <a:lnTo>
                      <a:pt x="643" y="61"/>
                    </a:lnTo>
                    <a:lnTo>
                      <a:pt x="673" y="46"/>
                    </a:lnTo>
                    <a:lnTo>
                      <a:pt x="696" y="31"/>
                    </a:lnTo>
                    <a:lnTo>
                      <a:pt x="718" y="23"/>
                    </a:lnTo>
                    <a:lnTo>
                      <a:pt x="734" y="15"/>
                    </a:lnTo>
                    <a:lnTo>
                      <a:pt x="749" y="8"/>
                    </a:lnTo>
                    <a:lnTo>
                      <a:pt x="779" y="0"/>
                    </a:lnTo>
                    <a:lnTo>
                      <a:pt x="802" y="0"/>
                    </a:lnTo>
                    <a:lnTo>
                      <a:pt x="824" y="0"/>
                    </a:lnTo>
                    <a:lnTo>
                      <a:pt x="855" y="0"/>
                    </a:lnTo>
                    <a:lnTo>
                      <a:pt x="892" y="0"/>
                    </a:lnTo>
                    <a:lnTo>
                      <a:pt x="908" y="0"/>
                    </a:lnTo>
                    <a:lnTo>
                      <a:pt x="938" y="8"/>
                    </a:lnTo>
                    <a:lnTo>
                      <a:pt x="953" y="15"/>
                    </a:lnTo>
                    <a:lnTo>
                      <a:pt x="968" y="23"/>
                    </a:lnTo>
                    <a:lnTo>
                      <a:pt x="991" y="31"/>
                    </a:lnTo>
                    <a:lnTo>
                      <a:pt x="1021" y="46"/>
                    </a:lnTo>
                    <a:lnTo>
                      <a:pt x="1044" y="61"/>
                    </a:lnTo>
                    <a:lnTo>
                      <a:pt x="1066" y="83"/>
                    </a:lnTo>
                    <a:lnTo>
                      <a:pt x="1097" y="106"/>
                    </a:lnTo>
                    <a:lnTo>
                      <a:pt x="1119" y="129"/>
                    </a:lnTo>
                    <a:lnTo>
                      <a:pt x="1150" y="159"/>
                    </a:lnTo>
                    <a:lnTo>
                      <a:pt x="1157" y="174"/>
                    </a:lnTo>
                    <a:lnTo>
                      <a:pt x="1172" y="197"/>
                    </a:lnTo>
                    <a:lnTo>
                      <a:pt x="1195" y="227"/>
                    </a:lnTo>
                    <a:lnTo>
                      <a:pt x="1218" y="250"/>
                    </a:lnTo>
                    <a:lnTo>
                      <a:pt x="1248" y="272"/>
                    </a:lnTo>
                    <a:lnTo>
                      <a:pt x="1271" y="295"/>
                    </a:lnTo>
                    <a:lnTo>
                      <a:pt x="1286" y="310"/>
                    </a:lnTo>
                    <a:lnTo>
                      <a:pt x="1316" y="325"/>
                    </a:lnTo>
                    <a:lnTo>
                      <a:pt x="1346" y="340"/>
                    </a:lnTo>
                    <a:lnTo>
                      <a:pt x="1361" y="348"/>
                    </a:lnTo>
                    <a:lnTo>
                      <a:pt x="1392" y="363"/>
                    </a:lnTo>
                    <a:lnTo>
                      <a:pt x="1452" y="378"/>
                    </a:lnTo>
                    <a:lnTo>
                      <a:pt x="1535" y="393"/>
                    </a:lnTo>
                    <a:lnTo>
                      <a:pt x="1603" y="393"/>
                    </a:lnTo>
                    <a:lnTo>
                      <a:pt x="1649" y="3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82" name=""/>
              <p:cNvGrpSpPr/>
              <p:nvPr/>
            </p:nvGrpSpPr>
            <p:grpSpPr>
              <a:xfrm>
                <a:off x="3483000" y="3799080"/>
                <a:ext cx="2220480" cy="45720"/>
                <a:chOff x="3483000" y="3799080"/>
                <a:chExt cx="2220480" cy="45720"/>
              </a:xfrm>
            </p:grpSpPr>
            <p:sp>
              <p:nvSpPr>
                <p:cNvPr id="5383" name=""/>
                <p:cNvSpPr/>
                <p:nvPr/>
              </p:nvSpPr>
              <p:spPr>
                <a:xfrm>
                  <a:off x="5614200" y="3799080"/>
                  <a:ext cx="89280" cy="45720"/>
                </a:xfrm>
                <a:custGeom>
                  <a:avLst/>
                  <a:gdLst/>
                  <a:ahLst/>
                  <a:rect l="l" t="t" r="r" b="b"/>
                  <a:pathLst>
                    <a:path w="90" h="46">
                      <a:moveTo>
                        <a:pt x="90" y="23"/>
                      </a:moveTo>
                      <a:lnTo>
                        <a:pt x="0" y="46"/>
                      </a:lnTo>
                      <a:lnTo>
                        <a:pt x="0" y="23"/>
                      </a:lnTo>
                      <a:lnTo>
                        <a:pt x="0" y="0"/>
                      </a:lnTo>
                      <a:lnTo>
                        <a:pt x="9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4" name=""/>
                <p:cNvSpPr/>
                <p:nvPr/>
              </p:nvSpPr>
              <p:spPr>
                <a:xfrm>
                  <a:off x="3483000" y="3821760"/>
                  <a:ext cx="213120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85" name=""/>
            <p:cNvSpPr/>
            <p:nvPr/>
          </p:nvSpPr>
          <p:spPr>
            <a:xfrm>
              <a:off x="3942720" y="3009600"/>
              <a:ext cx="1354320" cy="819360"/>
            </a:xfrm>
            <a:custGeom>
              <a:avLst/>
              <a:gdLst/>
              <a:ahLst/>
              <a:rect l="l" t="t" r="r" b="b"/>
              <a:pathLst>
                <a:path w="1361" h="824">
                  <a:moveTo>
                    <a:pt x="0" y="809"/>
                  </a:moveTo>
                  <a:lnTo>
                    <a:pt x="15" y="809"/>
                  </a:lnTo>
                  <a:lnTo>
                    <a:pt x="52" y="793"/>
                  </a:lnTo>
                  <a:lnTo>
                    <a:pt x="75" y="778"/>
                  </a:lnTo>
                  <a:lnTo>
                    <a:pt x="98" y="756"/>
                  </a:lnTo>
                  <a:lnTo>
                    <a:pt x="105" y="741"/>
                  </a:lnTo>
                  <a:lnTo>
                    <a:pt x="113" y="733"/>
                  </a:lnTo>
                  <a:lnTo>
                    <a:pt x="113" y="725"/>
                  </a:lnTo>
                  <a:lnTo>
                    <a:pt x="128" y="718"/>
                  </a:lnTo>
                  <a:lnTo>
                    <a:pt x="143" y="725"/>
                  </a:lnTo>
                  <a:lnTo>
                    <a:pt x="143" y="733"/>
                  </a:lnTo>
                  <a:lnTo>
                    <a:pt x="151" y="756"/>
                  </a:lnTo>
                  <a:lnTo>
                    <a:pt x="158" y="778"/>
                  </a:lnTo>
                  <a:lnTo>
                    <a:pt x="158" y="786"/>
                  </a:lnTo>
                  <a:lnTo>
                    <a:pt x="166" y="809"/>
                  </a:lnTo>
                  <a:lnTo>
                    <a:pt x="173" y="816"/>
                  </a:lnTo>
                  <a:lnTo>
                    <a:pt x="189" y="809"/>
                  </a:lnTo>
                  <a:lnTo>
                    <a:pt x="196" y="793"/>
                  </a:lnTo>
                  <a:lnTo>
                    <a:pt x="196" y="786"/>
                  </a:lnTo>
                  <a:lnTo>
                    <a:pt x="204" y="771"/>
                  </a:lnTo>
                  <a:lnTo>
                    <a:pt x="211" y="741"/>
                  </a:lnTo>
                  <a:lnTo>
                    <a:pt x="211" y="733"/>
                  </a:lnTo>
                  <a:lnTo>
                    <a:pt x="219" y="703"/>
                  </a:lnTo>
                  <a:lnTo>
                    <a:pt x="226" y="673"/>
                  </a:lnTo>
                  <a:lnTo>
                    <a:pt x="234" y="642"/>
                  </a:lnTo>
                  <a:lnTo>
                    <a:pt x="234" y="627"/>
                  </a:lnTo>
                  <a:lnTo>
                    <a:pt x="234" y="612"/>
                  </a:lnTo>
                  <a:lnTo>
                    <a:pt x="242" y="589"/>
                  </a:lnTo>
                  <a:lnTo>
                    <a:pt x="249" y="567"/>
                  </a:lnTo>
                  <a:lnTo>
                    <a:pt x="257" y="537"/>
                  </a:lnTo>
                  <a:lnTo>
                    <a:pt x="264" y="522"/>
                  </a:lnTo>
                  <a:lnTo>
                    <a:pt x="272" y="514"/>
                  </a:lnTo>
                  <a:lnTo>
                    <a:pt x="287" y="514"/>
                  </a:lnTo>
                  <a:lnTo>
                    <a:pt x="295" y="537"/>
                  </a:lnTo>
                  <a:lnTo>
                    <a:pt x="302" y="552"/>
                  </a:lnTo>
                  <a:lnTo>
                    <a:pt x="302" y="567"/>
                  </a:lnTo>
                  <a:lnTo>
                    <a:pt x="310" y="597"/>
                  </a:lnTo>
                  <a:lnTo>
                    <a:pt x="310" y="620"/>
                  </a:lnTo>
                  <a:lnTo>
                    <a:pt x="317" y="665"/>
                  </a:lnTo>
                  <a:lnTo>
                    <a:pt x="317" y="680"/>
                  </a:lnTo>
                  <a:lnTo>
                    <a:pt x="317" y="695"/>
                  </a:lnTo>
                  <a:lnTo>
                    <a:pt x="325" y="741"/>
                  </a:lnTo>
                  <a:lnTo>
                    <a:pt x="325" y="756"/>
                  </a:lnTo>
                  <a:lnTo>
                    <a:pt x="332" y="786"/>
                  </a:lnTo>
                  <a:lnTo>
                    <a:pt x="332" y="793"/>
                  </a:lnTo>
                  <a:lnTo>
                    <a:pt x="340" y="809"/>
                  </a:lnTo>
                  <a:lnTo>
                    <a:pt x="347" y="809"/>
                  </a:lnTo>
                  <a:lnTo>
                    <a:pt x="347" y="793"/>
                  </a:lnTo>
                  <a:lnTo>
                    <a:pt x="355" y="771"/>
                  </a:lnTo>
                  <a:lnTo>
                    <a:pt x="363" y="748"/>
                  </a:lnTo>
                  <a:lnTo>
                    <a:pt x="363" y="725"/>
                  </a:lnTo>
                  <a:lnTo>
                    <a:pt x="370" y="688"/>
                  </a:lnTo>
                  <a:lnTo>
                    <a:pt x="378" y="635"/>
                  </a:lnTo>
                  <a:lnTo>
                    <a:pt x="385" y="589"/>
                  </a:lnTo>
                  <a:lnTo>
                    <a:pt x="393" y="537"/>
                  </a:lnTo>
                  <a:lnTo>
                    <a:pt x="393" y="506"/>
                  </a:lnTo>
                  <a:lnTo>
                    <a:pt x="393" y="491"/>
                  </a:lnTo>
                  <a:lnTo>
                    <a:pt x="400" y="461"/>
                  </a:lnTo>
                  <a:lnTo>
                    <a:pt x="400" y="438"/>
                  </a:lnTo>
                  <a:lnTo>
                    <a:pt x="408" y="408"/>
                  </a:lnTo>
                  <a:lnTo>
                    <a:pt x="408" y="386"/>
                  </a:lnTo>
                  <a:lnTo>
                    <a:pt x="408" y="370"/>
                  </a:lnTo>
                  <a:lnTo>
                    <a:pt x="416" y="348"/>
                  </a:lnTo>
                  <a:lnTo>
                    <a:pt x="416" y="340"/>
                  </a:lnTo>
                  <a:lnTo>
                    <a:pt x="423" y="318"/>
                  </a:lnTo>
                  <a:lnTo>
                    <a:pt x="423" y="310"/>
                  </a:lnTo>
                  <a:lnTo>
                    <a:pt x="423" y="302"/>
                  </a:lnTo>
                  <a:lnTo>
                    <a:pt x="431" y="287"/>
                  </a:lnTo>
                  <a:lnTo>
                    <a:pt x="438" y="272"/>
                  </a:lnTo>
                  <a:lnTo>
                    <a:pt x="438" y="280"/>
                  </a:lnTo>
                  <a:lnTo>
                    <a:pt x="446" y="280"/>
                  </a:lnTo>
                  <a:lnTo>
                    <a:pt x="453" y="295"/>
                  </a:lnTo>
                  <a:lnTo>
                    <a:pt x="461" y="310"/>
                  </a:lnTo>
                  <a:lnTo>
                    <a:pt x="461" y="325"/>
                  </a:lnTo>
                  <a:lnTo>
                    <a:pt x="461" y="333"/>
                  </a:lnTo>
                  <a:lnTo>
                    <a:pt x="468" y="355"/>
                  </a:lnTo>
                  <a:lnTo>
                    <a:pt x="468" y="363"/>
                  </a:lnTo>
                  <a:lnTo>
                    <a:pt x="476" y="393"/>
                  </a:lnTo>
                  <a:lnTo>
                    <a:pt x="476" y="416"/>
                  </a:lnTo>
                  <a:lnTo>
                    <a:pt x="476" y="431"/>
                  </a:lnTo>
                  <a:lnTo>
                    <a:pt x="484" y="469"/>
                  </a:lnTo>
                  <a:lnTo>
                    <a:pt x="484" y="491"/>
                  </a:lnTo>
                  <a:lnTo>
                    <a:pt x="484" y="522"/>
                  </a:lnTo>
                  <a:lnTo>
                    <a:pt x="491" y="559"/>
                  </a:lnTo>
                  <a:lnTo>
                    <a:pt x="491" y="574"/>
                  </a:lnTo>
                  <a:lnTo>
                    <a:pt x="491" y="589"/>
                  </a:lnTo>
                  <a:lnTo>
                    <a:pt x="499" y="627"/>
                  </a:lnTo>
                  <a:lnTo>
                    <a:pt x="499" y="650"/>
                  </a:lnTo>
                  <a:lnTo>
                    <a:pt x="506" y="688"/>
                  </a:lnTo>
                  <a:lnTo>
                    <a:pt x="506" y="703"/>
                  </a:lnTo>
                  <a:lnTo>
                    <a:pt x="506" y="725"/>
                  </a:lnTo>
                  <a:lnTo>
                    <a:pt x="514" y="748"/>
                  </a:lnTo>
                  <a:lnTo>
                    <a:pt x="514" y="763"/>
                  </a:lnTo>
                  <a:lnTo>
                    <a:pt x="521" y="786"/>
                  </a:lnTo>
                  <a:lnTo>
                    <a:pt x="529" y="801"/>
                  </a:lnTo>
                  <a:lnTo>
                    <a:pt x="537" y="816"/>
                  </a:lnTo>
                  <a:lnTo>
                    <a:pt x="544" y="816"/>
                  </a:lnTo>
                  <a:lnTo>
                    <a:pt x="544" y="809"/>
                  </a:lnTo>
                  <a:lnTo>
                    <a:pt x="552" y="801"/>
                  </a:lnTo>
                  <a:lnTo>
                    <a:pt x="552" y="793"/>
                  </a:lnTo>
                  <a:lnTo>
                    <a:pt x="559" y="778"/>
                  </a:lnTo>
                  <a:lnTo>
                    <a:pt x="559" y="771"/>
                  </a:lnTo>
                  <a:lnTo>
                    <a:pt x="567" y="748"/>
                  </a:lnTo>
                  <a:lnTo>
                    <a:pt x="567" y="733"/>
                  </a:lnTo>
                  <a:lnTo>
                    <a:pt x="574" y="710"/>
                  </a:lnTo>
                  <a:lnTo>
                    <a:pt x="574" y="688"/>
                  </a:lnTo>
                  <a:lnTo>
                    <a:pt x="582" y="657"/>
                  </a:lnTo>
                  <a:lnTo>
                    <a:pt x="582" y="635"/>
                  </a:lnTo>
                  <a:lnTo>
                    <a:pt x="589" y="597"/>
                  </a:lnTo>
                  <a:lnTo>
                    <a:pt x="597" y="559"/>
                  </a:lnTo>
                  <a:lnTo>
                    <a:pt x="597" y="529"/>
                  </a:lnTo>
                  <a:lnTo>
                    <a:pt x="605" y="484"/>
                  </a:lnTo>
                  <a:lnTo>
                    <a:pt x="605" y="454"/>
                  </a:lnTo>
                  <a:lnTo>
                    <a:pt x="612" y="401"/>
                  </a:lnTo>
                  <a:lnTo>
                    <a:pt x="612" y="378"/>
                  </a:lnTo>
                  <a:lnTo>
                    <a:pt x="612" y="355"/>
                  </a:lnTo>
                  <a:lnTo>
                    <a:pt x="620" y="310"/>
                  </a:lnTo>
                  <a:lnTo>
                    <a:pt x="620" y="272"/>
                  </a:lnTo>
                  <a:lnTo>
                    <a:pt x="627" y="227"/>
                  </a:lnTo>
                  <a:lnTo>
                    <a:pt x="635" y="189"/>
                  </a:lnTo>
                  <a:lnTo>
                    <a:pt x="635" y="167"/>
                  </a:lnTo>
                  <a:lnTo>
                    <a:pt x="642" y="129"/>
                  </a:lnTo>
                  <a:lnTo>
                    <a:pt x="642" y="114"/>
                  </a:lnTo>
                  <a:lnTo>
                    <a:pt x="650" y="76"/>
                  </a:lnTo>
                  <a:lnTo>
                    <a:pt x="650" y="68"/>
                  </a:lnTo>
                  <a:lnTo>
                    <a:pt x="658" y="38"/>
                  </a:lnTo>
                  <a:lnTo>
                    <a:pt x="658" y="31"/>
                  </a:lnTo>
                  <a:lnTo>
                    <a:pt x="665" y="15"/>
                  </a:lnTo>
                  <a:lnTo>
                    <a:pt x="673" y="0"/>
                  </a:lnTo>
                  <a:lnTo>
                    <a:pt x="680" y="0"/>
                  </a:lnTo>
                  <a:lnTo>
                    <a:pt x="688" y="8"/>
                  </a:lnTo>
                  <a:lnTo>
                    <a:pt x="695" y="23"/>
                  </a:lnTo>
                  <a:lnTo>
                    <a:pt x="703" y="46"/>
                  </a:lnTo>
                  <a:lnTo>
                    <a:pt x="703" y="61"/>
                  </a:lnTo>
                  <a:lnTo>
                    <a:pt x="711" y="83"/>
                  </a:lnTo>
                  <a:lnTo>
                    <a:pt x="711" y="106"/>
                  </a:lnTo>
                  <a:lnTo>
                    <a:pt x="718" y="136"/>
                  </a:lnTo>
                  <a:lnTo>
                    <a:pt x="718" y="159"/>
                  </a:lnTo>
                  <a:lnTo>
                    <a:pt x="726" y="197"/>
                  </a:lnTo>
                  <a:lnTo>
                    <a:pt x="726" y="227"/>
                  </a:lnTo>
                  <a:lnTo>
                    <a:pt x="733" y="272"/>
                  </a:lnTo>
                  <a:lnTo>
                    <a:pt x="733" y="310"/>
                  </a:lnTo>
                  <a:lnTo>
                    <a:pt x="741" y="355"/>
                  </a:lnTo>
                  <a:lnTo>
                    <a:pt x="741" y="378"/>
                  </a:lnTo>
                  <a:lnTo>
                    <a:pt x="741" y="401"/>
                  </a:lnTo>
                  <a:lnTo>
                    <a:pt x="748" y="454"/>
                  </a:lnTo>
                  <a:lnTo>
                    <a:pt x="748" y="484"/>
                  </a:lnTo>
                  <a:lnTo>
                    <a:pt x="756" y="529"/>
                  </a:lnTo>
                  <a:lnTo>
                    <a:pt x="763" y="567"/>
                  </a:lnTo>
                  <a:lnTo>
                    <a:pt x="763" y="597"/>
                  </a:lnTo>
                  <a:lnTo>
                    <a:pt x="771" y="635"/>
                  </a:lnTo>
                  <a:lnTo>
                    <a:pt x="771" y="657"/>
                  </a:lnTo>
                  <a:lnTo>
                    <a:pt x="779" y="688"/>
                  </a:lnTo>
                  <a:lnTo>
                    <a:pt x="779" y="703"/>
                  </a:lnTo>
                  <a:lnTo>
                    <a:pt x="786" y="733"/>
                  </a:lnTo>
                  <a:lnTo>
                    <a:pt x="786" y="748"/>
                  </a:lnTo>
                  <a:lnTo>
                    <a:pt x="794" y="771"/>
                  </a:lnTo>
                  <a:lnTo>
                    <a:pt x="794" y="778"/>
                  </a:lnTo>
                  <a:lnTo>
                    <a:pt x="801" y="793"/>
                  </a:lnTo>
                  <a:lnTo>
                    <a:pt x="809" y="801"/>
                  </a:lnTo>
                  <a:lnTo>
                    <a:pt x="809" y="809"/>
                  </a:lnTo>
                  <a:lnTo>
                    <a:pt x="816" y="809"/>
                  </a:lnTo>
                  <a:lnTo>
                    <a:pt x="824" y="809"/>
                  </a:lnTo>
                  <a:lnTo>
                    <a:pt x="832" y="793"/>
                  </a:lnTo>
                  <a:lnTo>
                    <a:pt x="839" y="771"/>
                  </a:lnTo>
                  <a:lnTo>
                    <a:pt x="839" y="763"/>
                  </a:lnTo>
                  <a:lnTo>
                    <a:pt x="847" y="741"/>
                  </a:lnTo>
                  <a:lnTo>
                    <a:pt x="847" y="725"/>
                  </a:lnTo>
                  <a:lnTo>
                    <a:pt x="854" y="695"/>
                  </a:lnTo>
                  <a:lnTo>
                    <a:pt x="854" y="680"/>
                  </a:lnTo>
                  <a:lnTo>
                    <a:pt x="862" y="642"/>
                  </a:lnTo>
                  <a:lnTo>
                    <a:pt x="862" y="620"/>
                  </a:lnTo>
                  <a:lnTo>
                    <a:pt x="869" y="582"/>
                  </a:lnTo>
                  <a:lnTo>
                    <a:pt x="869" y="567"/>
                  </a:lnTo>
                  <a:lnTo>
                    <a:pt x="869" y="552"/>
                  </a:lnTo>
                  <a:lnTo>
                    <a:pt x="877" y="514"/>
                  </a:lnTo>
                  <a:lnTo>
                    <a:pt x="877" y="491"/>
                  </a:lnTo>
                  <a:lnTo>
                    <a:pt x="884" y="454"/>
                  </a:lnTo>
                  <a:lnTo>
                    <a:pt x="884" y="423"/>
                  </a:lnTo>
                  <a:lnTo>
                    <a:pt x="884" y="408"/>
                  </a:lnTo>
                  <a:lnTo>
                    <a:pt x="892" y="378"/>
                  </a:lnTo>
                  <a:lnTo>
                    <a:pt x="892" y="363"/>
                  </a:lnTo>
                  <a:lnTo>
                    <a:pt x="900" y="340"/>
                  </a:lnTo>
                  <a:lnTo>
                    <a:pt x="900" y="333"/>
                  </a:lnTo>
                  <a:lnTo>
                    <a:pt x="907" y="310"/>
                  </a:lnTo>
                  <a:lnTo>
                    <a:pt x="907" y="302"/>
                  </a:lnTo>
                  <a:lnTo>
                    <a:pt x="907" y="295"/>
                  </a:lnTo>
                  <a:lnTo>
                    <a:pt x="915" y="280"/>
                  </a:lnTo>
                  <a:lnTo>
                    <a:pt x="922" y="265"/>
                  </a:lnTo>
                  <a:lnTo>
                    <a:pt x="930" y="265"/>
                  </a:lnTo>
                  <a:lnTo>
                    <a:pt x="937" y="272"/>
                  </a:lnTo>
                  <a:lnTo>
                    <a:pt x="937" y="280"/>
                  </a:lnTo>
                  <a:lnTo>
                    <a:pt x="945" y="302"/>
                  </a:lnTo>
                  <a:lnTo>
                    <a:pt x="953" y="325"/>
                  </a:lnTo>
                  <a:lnTo>
                    <a:pt x="953" y="333"/>
                  </a:lnTo>
                  <a:lnTo>
                    <a:pt x="960" y="363"/>
                  </a:lnTo>
                  <a:lnTo>
                    <a:pt x="960" y="370"/>
                  </a:lnTo>
                  <a:lnTo>
                    <a:pt x="960" y="393"/>
                  </a:lnTo>
                  <a:lnTo>
                    <a:pt x="968" y="423"/>
                  </a:lnTo>
                  <a:lnTo>
                    <a:pt x="968" y="446"/>
                  </a:lnTo>
                  <a:lnTo>
                    <a:pt x="975" y="476"/>
                  </a:lnTo>
                  <a:lnTo>
                    <a:pt x="975" y="491"/>
                  </a:lnTo>
                  <a:lnTo>
                    <a:pt x="983" y="522"/>
                  </a:lnTo>
                  <a:lnTo>
                    <a:pt x="983" y="574"/>
                  </a:lnTo>
                  <a:lnTo>
                    <a:pt x="990" y="620"/>
                  </a:lnTo>
                  <a:lnTo>
                    <a:pt x="998" y="665"/>
                  </a:lnTo>
                  <a:lnTo>
                    <a:pt x="1005" y="703"/>
                  </a:lnTo>
                  <a:lnTo>
                    <a:pt x="1013" y="733"/>
                  </a:lnTo>
                  <a:lnTo>
                    <a:pt x="1021" y="763"/>
                  </a:lnTo>
                  <a:lnTo>
                    <a:pt x="1028" y="786"/>
                  </a:lnTo>
                  <a:lnTo>
                    <a:pt x="1036" y="801"/>
                  </a:lnTo>
                  <a:lnTo>
                    <a:pt x="1043" y="809"/>
                  </a:lnTo>
                  <a:lnTo>
                    <a:pt x="1058" y="793"/>
                  </a:lnTo>
                  <a:lnTo>
                    <a:pt x="1066" y="771"/>
                  </a:lnTo>
                  <a:lnTo>
                    <a:pt x="1074" y="741"/>
                  </a:lnTo>
                  <a:lnTo>
                    <a:pt x="1074" y="725"/>
                  </a:lnTo>
                  <a:lnTo>
                    <a:pt x="1074" y="710"/>
                  </a:lnTo>
                  <a:lnTo>
                    <a:pt x="1081" y="688"/>
                  </a:lnTo>
                  <a:lnTo>
                    <a:pt x="1089" y="657"/>
                  </a:lnTo>
                  <a:lnTo>
                    <a:pt x="1096" y="635"/>
                  </a:lnTo>
                  <a:lnTo>
                    <a:pt x="1096" y="627"/>
                  </a:lnTo>
                  <a:lnTo>
                    <a:pt x="1104" y="605"/>
                  </a:lnTo>
                  <a:lnTo>
                    <a:pt x="1111" y="597"/>
                  </a:lnTo>
                  <a:lnTo>
                    <a:pt x="1127" y="597"/>
                  </a:lnTo>
                  <a:lnTo>
                    <a:pt x="1134" y="612"/>
                  </a:lnTo>
                  <a:lnTo>
                    <a:pt x="1142" y="635"/>
                  </a:lnTo>
                  <a:lnTo>
                    <a:pt x="1142" y="650"/>
                  </a:lnTo>
                  <a:lnTo>
                    <a:pt x="1149" y="680"/>
                  </a:lnTo>
                  <a:lnTo>
                    <a:pt x="1149" y="688"/>
                  </a:lnTo>
                  <a:lnTo>
                    <a:pt x="1149" y="695"/>
                  </a:lnTo>
                  <a:lnTo>
                    <a:pt x="1157" y="725"/>
                  </a:lnTo>
                  <a:lnTo>
                    <a:pt x="1164" y="748"/>
                  </a:lnTo>
                  <a:lnTo>
                    <a:pt x="1164" y="756"/>
                  </a:lnTo>
                  <a:lnTo>
                    <a:pt x="1172" y="778"/>
                  </a:lnTo>
                  <a:lnTo>
                    <a:pt x="1172" y="786"/>
                  </a:lnTo>
                  <a:lnTo>
                    <a:pt x="1179" y="801"/>
                  </a:lnTo>
                  <a:lnTo>
                    <a:pt x="1187" y="816"/>
                  </a:lnTo>
                  <a:lnTo>
                    <a:pt x="1195" y="824"/>
                  </a:lnTo>
                  <a:lnTo>
                    <a:pt x="1202" y="824"/>
                  </a:lnTo>
                  <a:lnTo>
                    <a:pt x="1210" y="824"/>
                  </a:lnTo>
                  <a:lnTo>
                    <a:pt x="1217" y="816"/>
                  </a:lnTo>
                  <a:lnTo>
                    <a:pt x="1225" y="801"/>
                  </a:lnTo>
                  <a:lnTo>
                    <a:pt x="1232" y="786"/>
                  </a:lnTo>
                  <a:lnTo>
                    <a:pt x="1232" y="778"/>
                  </a:lnTo>
                  <a:lnTo>
                    <a:pt x="1240" y="763"/>
                  </a:lnTo>
                  <a:lnTo>
                    <a:pt x="1248" y="756"/>
                  </a:lnTo>
                  <a:lnTo>
                    <a:pt x="1255" y="748"/>
                  </a:lnTo>
                  <a:lnTo>
                    <a:pt x="1263" y="748"/>
                  </a:lnTo>
                  <a:lnTo>
                    <a:pt x="1278" y="763"/>
                  </a:lnTo>
                  <a:lnTo>
                    <a:pt x="1285" y="778"/>
                  </a:lnTo>
                  <a:lnTo>
                    <a:pt x="1300" y="793"/>
                  </a:lnTo>
                  <a:lnTo>
                    <a:pt x="1316" y="801"/>
                  </a:lnTo>
                  <a:lnTo>
                    <a:pt x="1346" y="809"/>
                  </a:lnTo>
                  <a:lnTo>
                    <a:pt x="1361" y="809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4140000" y="2945880"/>
              <a:ext cx="801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4204800" y="2945880"/>
              <a:ext cx="34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 flipH="1">
              <a:off x="4606200" y="2945880"/>
              <a:ext cx="37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4420440" y="2530440"/>
              <a:ext cx="31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4120" bIns="24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0" name=""/>
          <p:cNvGrpSpPr/>
          <p:nvPr/>
        </p:nvGrpSpPr>
        <p:grpSpPr>
          <a:xfrm>
            <a:off x="504720" y="2808360"/>
            <a:ext cx="2649240" cy="1330200"/>
            <a:chOff x="504720" y="2808360"/>
            <a:chExt cx="2649240" cy="1330200"/>
          </a:xfrm>
        </p:grpSpPr>
        <p:sp>
          <p:nvSpPr>
            <p:cNvPr id="5391" name=""/>
            <p:cNvSpPr/>
            <p:nvPr/>
          </p:nvSpPr>
          <p:spPr>
            <a:xfrm>
              <a:off x="2167560" y="3103560"/>
              <a:ext cx="765000" cy="699480"/>
            </a:xfrm>
            <a:custGeom>
              <a:avLst/>
              <a:gdLst/>
              <a:ahLst/>
              <a:rect l="l" t="t" r="r" b="b"/>
              <a:pathLst>
                <a:path w="783" h="715">
                  <a:moveTo>
                    <a:pt x="105" y="0"/>
                  </a:moveTo>
                  <a:lnTo>
                    <a:pt x="783" y="407"/>
                  </a:lnTo>
                  <a:lnTo>
                    <a:pt x="18" y="715"/>
                  </a:lnTo>
                  <a:lnTo>
                    <a:pt x="26" y="516"/>
                  </a:lnTo>
                  <a:lnTo>
                    <a:pt x="774" y="417"/>
                  </a:lnTo>
                  <a:lnTo>
                    <a:pt x="0" y="179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698400" y="2940480"/>
              <a:ext cx="1420560" cy="1172160"/>
            </a:xfrm>
            <a:custGeom>
              <a:avLst/>
              <a:gdLst/>
              <a:ahLst/>
              <a:rect l="l" t="t" r="r" b="b"/>
              <a:pathLst>
                <a:path w="1453" h="1200">
                  <a:moveTo>
                    <a:pt x="1453" y="0"/>
                  </a:moveTo>
                  <a:lnTo>
                    <a:pt x="0" y="337"/>
                  </a:lnTo>
                  <a:lnTo>
                    <a:pt x="1444" y="1200"/>
                  </a:lnTo>
                  <a:lnTo>
                    <a:pt x="1453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2218320" y="3793680"/>
              <a:ext cx="10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1095480" y="3444840"/>
              <a:ext cx="18878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2095920" y="2808360"/>
              <a:ext cx="153360" cy="1330200"/>
            </a:xfrm>
            <a:prstGeom prst="ellipse">
              <a:avLst/>
            </a:prstGeom>
            <a:solidFill>
              <a:srgbClr val="3399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6" name=""/>
            <p:cNvGrpSpPr/>
            <p:nvPr/>
          </p:nvGrpSpPr>
          <p:grpSpPr>
            <a:xfrm>
              <a:off x="721800" y="3300120"/>
              <a:ext cx="2168640" cy="230760"/>
              <a:chOff x="721800" y="3300120"/>
              <a:chExt cx="2168640" cy="230760"/>
            </a:xfrm>
          </p:grpSpPr>
          <p:sp>
            <p:nvSpPr>
              <p:cNvPr id="5397" name=""/>
              <p:cNvSpPr/>
              <p:nvPr/>
            </p:nvSpPr>
            <p:spPr>
              <a:xfrm>
                <a:off x="2787840" y="3472560"/>
                <a:ext cx="102600" cy="58320"/>
              </a:xfrm>
              <a:custGeom>
                <a:avLst/>
                <a:gdLst/>
                <a:ahLst/>
                <a:rect l="l" t="t" r="r" b="b"/>
                <a:pathLst>
                  <a:path w="105" h="60">
                    <a:moveTo>
                      <a:pt x="105" y="40"/>
                    </a:moveTo>
                    <a:lnTo>
                      <a:pt x="0" y="6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0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 flipH="1" flipV="1">
                <a:off x="721800" y="3300120"/>
                <a:ext cx="2055960" cy="2016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9" name=""/>
            <p:cNvGrpSpPr/>
            <p:nvPr/>
          </p:nvGrpSpPr>
          <p:grpSpPr>
            <a:xfrm>
              <a:off x="747720" y="3347280"/>
              <a:ext cx="2151360" cy="192240"/>
              <a:chOff x="747720" y="3347280"/>
              <a:chExt cx="2151360" cy="192240"/>
            </a:xfrm>
          </p:grpSpPr>
          <p:sp>
            <p:nvSpPr>
              <p:cNvPr id="5400" name=""/>
              <p:cNvSpPr/>
              <p:nvPr/>
            </p:nvSpPr>
            <p:spPr>
              <a:xfrm>
                <a:off x="2788920" y="3347280"/>
                <a:ext cx="110160" cy="58320"/>
              </a:xfrm>
              <a:custGeom>
                <a:avLst/>
                <a:gdLst/>
                <a:ahLst/>
                <a:rect l="l" t="t" r="r" b="b"/>
                <a:pathLst>
                  <a:path w="113" h="60">
                    <a:moveTo>
                      <a:pt x="113" y="20"/>
                    </a:moveTo>
                    <a:lnTo>
                      <a:pt x="9" y="60"/>
                    </a:lnTo>
                    <a:lnTo>
                      <a:pt x="9" y="30"/>
                    </a:lnTo>
                    <a:lnTo>
                      <a:pt x="0" y="0"/>
                    </a:lnTo>
                    <a:lnTo>
                      <a:pt x="1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 flipH="1">
                <a:off x="747720" y="3376440"/>
                <a:ext cx="2049480" cy="1630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2" name=""/>
            <p:cNvSpPr/>
            <p:nvPr/>
          </p:nvSpPr>
          <p:spPr>
            <a:xfrm>
              <a:off x="504720" y="3156840"/>
              <a:ext cx="170280" cy="49680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567000" y="31903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3399ff"/>
                  </a:solidFill>
                  <a:latin typeface="Times New Roman"/>
                </a:rPr>
                <a:t>*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551880" y="345492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3333cc"/>
                  </a:solidFill>
                  <a:latin typeface="Times New Roman"/>
                </a:rPr>
                <a:t>*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132640" y="3085200"/>
              <a:ext cx="69120" cy="19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2132640" y="3084120"/>
              <a:ext cx="70560" cy="197640"/>
            </a:xfrm>
            <a:prstGeom prst="ellipse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2132640" y="3618000"/>
              <a:ext cx="69120" cy="195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2132640" y="3616560"/>
              <a:ext cx="70560" cy="197640"/>
            </a:xfrm>
            <a:prstGeom prst="ellipse">
              <a:avLst/>
            </a:prstGeom>
            <a:noFill/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2865960" y="2949120"/>
              <a:ext cx="288000" cy="1008360"/>
            </a:xfrm>
            <a:custGeom>
              <a:avLst/>
              <a:gdLst/>
              <a:ahLst/>
              <a:rect l="l" t="t" r="r" b="b"/>
              <a:pathLst>
                <a:path w="295" h="1031">
                  <a:moveTo>
                    <a:pt x="87" y="69"/>
                  </a:moveTo>
                  <a:lnTo>
                    <a:pt x="295" y="228"/>
                  </a:lnTo>
                  <a:lnTo>
                    <a:pt x="295" y="1031"/>
                  </a:lnTo>
                  <a:lnTo>
                    <a:pt x="0" y="754"/>
                  </a:lnTo>
                  <a:lnTo>
                    <a:pt x="0" y="0"/>
                  </a:lnTo>
                  <a:lnTo>
                    <a:pt x="87" y="69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0" name=""/>
            <p:cNvGrpSpPr/>
            <p:nvPr/>
          </p:nvGrpSpPr>
          <p:grpSpPr>
            <a:xfrm>
              <a:off x="2916720" y="3286800"/>
              <a:ext cx="111240" cy="207720"/>
              <a:chOff x="2916720" y="3286800"/>
              <a:chExt cx="111240" cy="207720"/>
            </a:xfrm>
          </p:grpSpPr>
          <p:sp>
            <p:nvSpPr>
              <p:cNvPr id="5411" name=""/>
              <p:cNvSpPr/>
              <p:nvPr/>
            </p:nvSpPr>
            <p:spPr>
              <a:xfrm>
                <a:off x="2933280" y="3290760"/>
                <a:ext cx="93600" cy="712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2924640" y="3329640"/>
                <a:ext cx="93600" cy="712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2924640" y="3368160"/>
                <a:ext cx="84600" cy="723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2916720" y="3409200"/>
                <a:ext cx="92520" cy="58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2924640" y="3286800"/>
                <a:ext cx="103320" cy="207720"/>
              </a:xfrm>
              <a:prstGeom prst="ellipse">
                <a:avLst/>
              </a:prstGeom>
              <a:noFill/>
              <a:ln w="270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6" name=""/>
            <p:cNvGrpSpPr/>
            <p:nvPr/>
          </p:nvGrpSpPr>
          <p:grpSpPr>
            <a:xfrm>
              <a:off x="2916720" y="3432600"/>
              <a:ext cx="111240" cy="207720"/>
              <a:chOff x="2916720" y="3432600"/>
              <a:chExt cx="111240" cy="207720"/>
            </a:xfrm>
          </p:grpSpPr>
          <p:sp>
            <p:nvSpPr>
              <p:cNvPr id="5417" name=""/>
              <p:cNvSpPr/>
              <p:nvPr/>
            </p:nvSpPr>
            <p:spPr>
              <a:xfrm>
                <a:off x="2933280" y="3436560"/>
                <a:ext cx="93600" cy="712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2933280" y="3474720"/>
                <a:ext cx="84960" cy="7236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2924640" y="3515040"/>
                <a:ext cx="93600" cy="58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2916720" y="3555000"/>
                <a:ext cx="92520" cy="5868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2924640" y="3432600"/>
                <a:ext cx="103320" cy="207720"/>
              </a:xfrm>
              <a:prstGeom prst="ellipse">
                <a:avLst/>
              </a:prstGeom>
              <a:noFill/>
              <a:ln w="270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2" name=""/>
            <p:cNvSpPr/>
            <p:nvPr/>
          </p:nvSpPr>
          <p:spPr>
            <a:xfrm>
              <a:off x="942480" y="2892240"/>
              <a:ext cx="34488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4120" bIns="24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986400" y="3328920"/>
              <a:ext cx="17280" cy="186480"/>
            </a:xfrm>
            <a:custGeom>
              <a:avLst/>
              <a:gdLst/>
              <a:ahLst/>
              <a:rect l="l" t="t" r="r" b="b"/>
              <a:pathLst>
                <a:path w="18" h="191">
                  <a:moveTo>
                    <a:pt x="18" y="0"/>
                  </a:moveTo>
                  <a:lnTo>
                    <a:pt x="0" y="127"/>
                  </a:lnTo>
                  <a:lnTo>
                    <a:pt x="18" y="19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4" name=""/>
          <p:cNvSpPr/>
          <p:nvPr/>
        </p:nvSpPr>
        <p:spPr>
          <a:xfrm>
            <a:off x="328680" y="1208160"/>
            <a:ext cx="85280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haque point source donne sa propre  figure de frange, toutes les  figures s'ajoutent en intensité et reduis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taux de modulation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ource plus large 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taux plus faible = </a:t>
            </a: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lus pet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5" name=""/>
          <p:cNvSpPr/>
          <p:nvPr/>
        </p:nvSpPr>
        <p:spPr>
          <a:xfrm>
            <a:off x="453960" y="421164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mais alors…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"/>
          <p:cNvSpPr/>
          <p:nvPr/>
        </p:nvSpPr>
        <p:spPr>
          <a:xfrm>
            <a:off x="3220920" y="4322880"/>
            <a:ext cx="509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sonde la source avec un lobe d'analy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à la fois  large et étroit !!,  angoisse 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7" name=""/>
          <p:cNvGrpSpPr/>
          <p:nvPr/>
        </p:nvGrpSpPr>
        <p:grpSpPr>
          <a:xfrm>
            <a:off x="1671480" y="5159520"/>
            <a:ext cx="5946480" cy="1698480"/>
            <a:chOff x="1671480" y="5159520"/>
            <a:chExt cx="5946480" cy="1698480"/>
          </a:xfrm>
        </p:grpSpPr>
        <p:sp>
          <p:nvSpPr>
            <p:cNvPr id="5428" name=""/>
            <p:cNvSpPr/>
            <p:nvPr/>
          </p:nvSpPr>
          <p:spPr>
            <a:xfrm>
              <a:off x="1974240" y="5159520"/>
              <a:ext cx="5387760" cy="16984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5415120" y="5338080"/>
              <a:ext cx="2202840" cy="1423440"/>
            </a:xfrm>
            <a:prstGeom prst="rect">
              <a:avLst/>
            </a:prstGeom>
            <a:noFill/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5270040" y="5649120"/>
              <a:ext cx="54360" cy="822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5268960" y="5888880"/>
              <a:ext cx="87840" cy="108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267880" y="6094440"/>
              <a:ext cx="74160" cy="107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3" name=""/>
            <p:cNvGrpSpPr/>
            <p:nvPr/>
          </p:nvGrpSpPr>
          <p:grpSpPr>
            <a:xfrm>
              <a:off x="6552000" y="5712120"/>
              <a:ext cx="485640" cy="758520"/>
              <a:chOff x="6552000" y="5712120"/>
              <a:chExt cx="485640" cy="758520"/>
            </a:xfrm>
          </p:grpSpPr>
          <p:sp>
            <p:nvSpPr>
              <p:cNvPr id="5434" name=""/>
              <p:cNvSpPr/>
              <p:nvPr/>
            </p:nvSpPr>
            <p:spPr>
              <a:xfrm flipH="1" flipV="1">
                <a:off x="6562440" y="5712120"/>
                <a:ext cx="108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 flipH="1" rot="5400000">
                <a:off x="6536160" y="5843520"/>
                <a:ext cx="516240" cy="485640"/>
              </a:xfrm>
              <a:custGeom>
                <a:avLst/>
                <a:gdLst/>
                <a:ahLst/>
                <a:rect l="l" t="t" r="r" b="b"/>
                <a:pathLst>
                  <a:path w="445" h="419">
                    <a:moveTo>
                      <a:pt x="0" y="410"/>
                    </a:moveTo>
                    <a:lnTo>
                      <a:pt x="55" y="328"/>
                    </a:lnTo>
                    <a:lnTo>
                      <a:pt x="100" y="410"/>
                    </a:lnTo>
                    <a:lnTo>
                      <a:pt x="145" y="210"/>
                    </a:lnTo>
                    <a:lnTo>
                      <a:pt x="191" y="410"/>
                    </a:lnTo>
                    <a:lnTo>
                      <a:pt x="227" y="0"/>
                    </a:lnTo>
                    <a:lnTo>
                      <a:pt x="282" y="419"/>
                    </a:lnTo>
                    <a:lnTo>
                      <a:pt x="318" y="219"/>
                    </a:lnTo>
                    <a:lnTo>
                      <a:pt x="364" y="419"/>
                    </a:lnTo>
                    <a:lnTo>
                      <a:pt x="400" y="328"/>
                    </a:lnTo>
                    <a:lnTo>
                      <a:pt x="445" y="419"/>
                    </a:lnTo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6" name=""/>
            <p:cNvSpPr/>
            <p:nvPr/>
          </p:nvSpPr>
          <p:spPr>
            <a:xfrm>
              <a:off x="5353560" y="5507280"/>
              <a:ext cx="9810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telesco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5340960" y="5768280"/>
              <a:ext cx="136800" cy="55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8" name=""/>
            <p:cNvGrpSpPr/>
            <p:nvPr/>
          </p:nvGrpSpPr>
          <p:grpSpPr>
            <a:xfrm>
              <a:off x="1671480" y="5364720"/>
              <a:ext cx="4908240" cy="1252440"/>
              <a:chOff x="1671480" y="5364720"/>
              <a:chExt cx="4908240" cy="1252440"/>
            </a:xfrm>
          </p:grpSpPr>
          <p:sp>
            <p:nvSpPr>
              <p:cNvPr id="5439" name=""/>
              <p:cNvSpPr/>
              <p:nvPr/>
            </p:nvSpPr>
            <p:spPr>
              <a:xfrm>
                <a:off x="1748160" y="5935320"/>
                <a:ext cx="4831560" cy="403560"/>
              </a:xfrm>
              <a:custGeom>
                <a:avLst/>
                <a:gdLst/>
                <a:ahLst/>
                <a:rect l="l" t="t" r="r" b="b"/>
                <a:pathLst>
                  <a:path w="4165" h="348">
                    <a:moveTo>
                      <a:pt x="4146" y="0"/>
                    </a:moveTo>
                    <a:lnTo>
                      <a:pt x="0" y="348"/>
                    </a:lnTo>
                    <a:lnTo>
                      <a:pt x="0" y="246"/>
                    </a:lnTo>
                    <a:lnTo>
                      <a:pt x="4165" y="31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1765440" y="5928480"/>
                <a:ext cx="4746960" cy="167040"/>
              </a:xfrm>
              <a:custGeom>
                <a:avLst/>
                <a:gdLst/>
                <a:ahLst/>
                <a:rect l="l" t="t" r="r" b="b"/>
                <a:pathLst>
                  <a:path w="4092" h="144">
                    <a:moveTo>
                      <a:pt x="4092" y="90"/>
                    </a:moveTo>
                    <a:lnTo>
                      <a:pt x="0" y="144"/>
                    </a:lnTo>
                    <a:lnTo>
                      <a:pt x="24" y="0"/>
                    </a:lnTo>
                    <a:lnTo>
                      <a:pt x="4092" y="126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1671480" y="5851800"/>
                <a:ext cx="4851720" cy="765360"/>
              </a:xfrm>
              <a:custGeom>
                <a:avLst/>
                <a:gdLst/>
                <a:ahLst/>
                <a:rect l="l" t="t" r="r" b="b"/>
                <a:pathLst>
                  <a:path w="4182" h="660">
                    <a:moveTo>
                      <a:pt x="4176" y="0"/>
                    </a:moveTo>
                    <a:lnTo>
                      <a:pt x="18" y="660"/>
                    </a:lnTo>
                    <a:lnTo>
                      <a:pt x="0" y="570"/>
                    </a:lnTo>
                    <a:lnTo>
                      <a:pt x="4182" y="36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1803600" y="5643000"/>
                <a:ext cx="4747320" cy="542880"/>
              </a:xfrm>
              <a:custGeom>
                <a:avLst/>
                <a:gdLst/>
                <a:ahLst/>
                <a:rect l="l" t="t" r="r" b="b"/>
                <a:pathLst>
                  <a:path w="4092" h="468">
                    <a:moveTo>
                      <a:pt x="4092" y="468"/>
                    </a:moveTo>
                    <a:lnTo>
                      <a:pt x="12" y="0"/>
                    </a:lnTo>
                    <a:lnTo>
                      <a:pt x="0" y="138"/>
                    </a:lnTo>
                    <a:lnTo>
                      <a:pt x="4062" y="42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1880280" y="5364720"/>
                <a:ext cx="4684680" cy="939600"/>
              </a:xfrm>
              <a:custGeom>
                <a:avLst/>
                <a:gdLst/>
                <a:ahLst/>
                <a:rect l="l" t="t" r="r" b="b"/>
                <a:pathLst>
                  <a:path w="4038" h="810">
                    <a:moveTo>
                      <a:pt x="4038" y="810"/>
                    </a:moveTo>
                    <a:lnTo>
                      <a:pt x="0" y="0"/>
                    </a:lnTo>
                    <a:lnTo>
                      <a:pt x="0" y="144"/>
                    </a:lnTo>
                    <a:lnTo>
                      <a:pt x="4024" y="769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44" name=""/>
            <p:cNvSpPr/>
            <p:nvPr/>
          </p:nvSpPr>
          <p:spPr>
            <a:xfrm>
              <a:off x="2075040" y="5972760"/>
              <a:ext cx="130680" cy="1112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5" name="PlaceHolder 1"/>
          <p:cNvSpPr>
            <a:spLocks noGrp="1"/>
          </p:cNvSpPr>
          <p:nvPr>
            <p:ph type="title"/>
          </p:nvPr>
        </p:nvSpPr>
        <p:spPr>
          <a:xfrm>
            <a:off x="366480" y="608040"/>
            <a:ext cx="6514920" cy="58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lors que fait notre lobe frang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1251000" y="124452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1568520" y="149868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665280" y="1619280"/>
            <a:ext cx="836928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80880" indent="-380880">
              <a:lnSpc>
                <a:spcPct val="88000"/>
              </a:lnSpc>
              <a:spcBef>
                <a:spcPts val="1074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 sonde, il ausculte, il interroge   la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8000"/>
              </a:lnSpc>
              <a:spcBef>
                <a:spcPts val="1074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mesure  la "présence" de  chaque fr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8000"/>
              </a:lnSpc>
              <a:spcBef>
                <a:spcPts val="638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8000"/>
              </a:lnSpc>
              <a:spcBef>
                <a:spcPts val="638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8000"/>
              </a:lnSpc>
              <a:spcBef>
                <a:spcPts val="638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8000"/>
              </a:lnSpc>
              <a:spcBef>
                <a:spcPts val="638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8000"/>
              </a:lnSpc>
              <a:spcBef>
                <a:spcPts val="638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>
            <a:off x="574200" y="2687760"/>
            <a:ext cx="822744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déalement la source répo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ar la "visibilité" des franges obten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taux de modulation de leur amplitu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'est le degré de cohé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lors grâce à VanCittert et Zern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a un point du spectre spatial de la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à chaque base , une fréquence  et une répon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aque fois une petite information ( fréquence, visibilit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0" name="" descr=""/>
          <p:cNvPicPr/>
          <p:nvPr/>
        </p:nvPicPr>
        <p:blipFill>
          <a:blip r:embed="rId1"/>
          <a:stretch/>
        </p:blipFill>
        <p:spPr>
          <a:xfrm>
            <a:off x="4879800" y="2722680"/>
            <a:ext cx="41101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438012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tendre les réponses de la sou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2" name=""/>
          <p:cNvSpPr/>
          <p:nvPr/>
        </p:nvSpPr>
        <p:spPr>
          <a:xfrm>
            <a:off x="1251000" y="124452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3" name=""/>
          <p:cNvSpPr/>
          <p:nvPr/>
        </p:nvSpPr>
        <p:spPr>
          <a:xfrm>
            <a:off x="1568520" y="149868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4" name=""/>
          <p:cNvSpPr/>
          <p:nvPr/>
        </p:nvSpPr>
        <p:spPr>
          <a:xfrm>
            <a:off x="4106880" y="132732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5" name=""/>
          <p:cNvSpPr/>
          <p:nvPr/>
        </p:nvSpPr>
        <p:spPr>
          <a:xfrm>
            <a:off x="465840" y="3144960"/>
            <a:ext cx="184032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comp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répon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ar un grap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6" name=""/>
          <p:cNvSpPr/>
          <p:nvPr/>
        </p:nvSpPr>
        <p:spPr>
          <a:xfrm>
            <a:off x="322920" y="1373040"/>
            <a:ext cx="4923360" cy="13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39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as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req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é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9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9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1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1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lein beauc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9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2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2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ssez beauc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9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3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3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quasi 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9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4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4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quelques choui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7" name=""/>
          <p:cNvSpPr/>
          <p:nvPr/>
        </p:nvSpPr>
        <p:spPr>
          <a:xfrm>
            <a:off x="397800" y="4451400"/>
            <a:ext cx="51274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insi  base après b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construit peu à p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</a:t>
            </a:r>
            <a:r>
              <a:rPr b="1" lang="fr-FR" sz="2800" spc="-1" strike="noStrike">
                <a:solidFill>
                  <a:srgbClr val="3333cc"/>
                </a:solidFill>
                <a:latin typeface="Comic Sans MS"/>
              </a:rPr>
              <a:t>courbe de visibil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i est supposée reprodu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coupe du spectre spatial de la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8" name=""/>
          <p:cNvGrpSpPr/>
          <p:nvPr/>
        </p:nvGrpSpPr>
        <p:grpSpPr>
          <a:xfrm>
            <a:off x="5313960" y="2968560"/>
            <a:ext cx="3252600" cy="2496960"/>
            <a:chOff x="5313960" y="2968560"/>
            <a:chExt cx="3252600" cy="2496960"/>
          </a:xfrm>
        </p:grpSpPr>
        <p:grpSp>
          <p:nvGrpSpPr>
            <p:cNvPr id="5459" name=""/>
            <p:cNvGrpSpPr/>
            <p:nvPr/>
          </p:nvGrpSpPr>
          <p:grpSpPr>
            <a:xfrm>
              <a:off x="5313960" y="2968560"/>
              <a:ext cx="3252600" cy="2096280"/>
              <a:chOff x="5313960" y="2968560"/>
              <a:chExt cx="3252600" cy="2096280"/>
            </a:xfrm>
          </p:grpSpPr>
          <p:grpSp>
            <p:nvGrpSpPr>
              <p:cNvPr id="5460" name=""/>
              <p:cNvGrpSpPr/>
              <p:nvPr/>
            </p:nvGrpSpPr>
            <p:grpSpPr>
              <a:xfrm>
                <a:off x="5847480" y="4962600"/>
                <a:ext cx="2377800" cy="71640"/>
                <a:chOff x="5847480" y="4962600"/>
                <a:chExt cx="2377800" cy="71640"/>
              </a:xfrm>
            </p:grpSpPr>
            <p:sp>
              <p:nvSpPr>
                <p:cNvPr id="5461" name=""/>
                <p:cNvSpPr/>
                <p:nvPr/>
              </p:nvSpPr>
              <p:spPr>
                <a:xfrm>
                  <a:off x="8084520" y="4962600"/>
                  <a:ext cx="140760" cy="71640"/>
                </a:xfrm>
                <a:custGeom>
                  <a:avLst/>
                  <a:gdLst/>
                  <a:ahLst/>
                  <a:rect l="l" t="t" r="r" b="b"/>
                  <a:pathLst>
                    <a:path w="110" h="56">
                      <a:moveTo>
                        <a:pt x="110" y="28"/>
                      </a:moveTo>
                      <a:lnTo>
                        <a:pt x="0" y="56"/>
                      </a:lnTo>
                      <a:lnTo>
                        <a:pt x="0" y="28"/>
                      </a:lnTo>
                      <a:lnTo>
                        <a:pt x="0" y="0"/>
                      </a:lnTo>
                      <a:lnTo>
                        <a:pt x="11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2" name=""/>
                <p:cNvSpPr/>
                <p:nvPr/>
              </p:nvSpPr>
              <p:spPr>
                <a:xfrm>
                  <a:off x="5847480" y="4998240"/>
                  <a:ext cx="224856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3" name=""/>
              <p:cNvGrpSpPr/>
              <p:nvPr/>
            </p:nvGrpSpPr>
            <p:grpSpPr>
              <a:xfrm>
                <a:off x="5824800" y="3149280"/>
                <a:ext cx="70200" cy="1860120"/>
                <a:chOff x="5824800" y="3149280"/>
                <a:chExt cx="70200" cy="1860120"/>
              </a:xfrm>
            </p:grpSpPr>
            <p:sp>
              <p:nvSpPr>
                <p:cNvPr id="5464" name=""/>
                <p:cNvSpPr/>
                <p:nvPr/>
              </p:nvSpPr>
              <p:spPr>
                <a:xfrm>
                  <a:off x="5824800" y="3149280"/>
                  <a:ext cx="70200" cy="144720"/>
                </a:xfrm>
                <a:custGeom>
                  <a:avLst/>
                  <a:gdLst/>
                  <a:ahLst/>
                  <a:rect l="l" t="t" r="r" b="b"/>
                  <a:pathLst>
                    <a:path w="55" h="113">
                      <a:moveTo>
                        <a:pt x="27" y="0"/>
                      </a:moveTo>
                      <a:lnTo>
                        <a:pt x="55" y="113"/>
                      </a:lnTo>
                      <a:lnTo>
                        <a:pt x="27" y="113"/>
                      </a:lnTo>
                      <a:lnTo>
                        <a:pt x="0" y="11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5" name=""/>
                <p:cNvSpPr/>
                <p:nvPr/>
              </p:nvSpPr>
              <p:spPr>
                <a:xfrm flipV="1">
                  <a:off x="5859000" y="3282120"/>
                  <a:ext cx="1080" cy="172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6" name=""/>
              <p:cNvSpPr/>
              <p:nvPr/>
            </p:nvSpPr>
            <p:spPr>
              <a:xfrm>
                <a:off x="5396400" y="3476160"/>
                <a:ext cx="28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p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5423040" y="3874680"/>
                <a:ext cx="268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a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5453280" y="4708440"/>
                <a:ext cx="235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q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5313960" y="4428720"/>
                <a:ext cx="392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qc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5824800" y="3656880"/>
                <a:ext cx="81720" cy="72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5824800" y="3656880"/>
                <a:ext cx="81720" cy="72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5818320" y="4049280"/>
                <a:ext cx="81720" cy="73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5818320" y="4049280"/>
                <a:ext cx="81720" cy="730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5824800" y="4841640"/>
                <a:ext cx="81720" cy="71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5824800" y="4840560"/>
                <a:ext cx="81720" cy="74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5824800" y="4587840"/>
                <a:ext cx="81720" cy="71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5824800" y="4586760"/>
                <a:ext cx="81720" cy="74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5992920" y="2968560"/>
                <a:ext cx="884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répon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7622640" y="4587840"/>
                <a:ext cx="943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ques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6141240" y="4938120"/>
                <a:ext cx="105120" cy="10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6139800" y="4938120"/>
                <a:ext cx="106200" cy="108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6485760" y="4944240"/>
                <a:ext cx="106200" cy="107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6485760" y="4943160"/>
                <a:ext cx="106200" cy="110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6972840" y="4949640"/>
                <a:ext cx="105120" cy="10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6972840" y="4949640"/>
                <a:ext cx="105120" cy="110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7341840" y="4956120"/>
                <a:ext cx="105120" cy="108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7341840" y="4956120"/>
                <a:ext cx="105120" cy="1087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5906520" y="3692880"/>
                <a:ext cx="257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 flipV="1">
                <a:off x="6187320" y="3692880"/>
                <a:ext cx="1080" cy="1293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5895000" y="4080240"/>
                <a:ext cx="6202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 flipV="1">
                <a:off x="6526800" y="4080240"/>
                <a:ext cx="1440" cy="906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5895000" y="4865040"/>
                <a:ext cx="11120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 flipV="1">
                <a:off x="7018920" y="4865040"/>
                <a:ext cx="1080" cy="121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5895000" y="4612320"/>
                <a:ext cx="14760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 flipV="1">
                <a:off x="7382880" y="4611960"/>
                <a:ext cx="1080" cy="385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6119280" y="3623400"/>
                <a:ext cx="142200" cy="14616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6453720" y="4004640"/>
                <a:ext cx="140760" cy="1447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6939360" y="4771440"/>
                <a:ext cx="142200" cy="14616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7308360" y="4548240"/>
                <a:ext cx="142200" cy="14472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0" name=""/>
            <p:cNvSpPr/>
            <p:nvPr/>
          </p:nvSpPr>
          <p:spPr>
            <a:xfrm>
              <a:off x="5983920" y="512172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u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7197120" y="5128200"/>
              <a:ext cx="42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u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2" name=""/>
          <p:cNvSpPr/>
          <p:nvPr/>
        </p:nvSpPr>
        <p:spPr>
          <a:xfrm>
            <a:off x="524160" y="6405480"/>
            <a:ext cx="8186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ous sommes allés chercher de l'info dans l'espace des fré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3" name=""/>
          <p:cNvSpPr/>
          <p:nvPr/>
        </p:nvSpPr>
        <p:spPr>
          <a:xfrm>
            <a:off x="2859120" y="3598920"/>
            <a:ext cx="2311200" cy="485640"/>
          </a:xfrm>
          <a:prstGeom prst="rightArrow">
            <a:avLst>
              <a:gd name="adj1" fmla="val 50000"/>
              <a:gd name="adj2" fmla="val 118977"/>
            </a:avLst>
          </a:prstGeom>
          <a:gradFill rotWithShape="0">
            <a:gsLst>
              <a:gs pos="0">
                <a:srgbClr val="3333cc"/>
              </a:gs>
              <a:gs pos="100000">
                <a:srgbClr val="66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4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807732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erferomètre comme filtre de frequences spatiales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5" name=""/>
          <p:cNvSpPr/>
          <p:nvPr/>
        </p:nvSpPr>
        <p:spPr>
          <a:xfrm>
            <a:off x="21477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6" name=""/>
          <p:cNvSpPr/>
          <p:nvPr/>
        </p:nvSpPr>
        <p:spPr>
          <a:xfrm>
            <a:off x="27003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7" name=""/>
          <p:cNvSpPr/>
          <p:nvPr/>
        </p:nvSpPr>
        <p:spPr>
          <a:xfrm>
            <a:off x="26431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8" name=""/>
          <p:cNvSpPr/>
          <p:nvPr/>
        </p:nvSpPr>
        <p:spPr>
          <a:xfrm>
            <a:off x="29383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9" name=""/>
          <p:cNvSpPr/>
          <p:nvPr/>
        </p:nvSpPr>
        <p:spPr>
          <a:xfrm>
            <a:off x="25527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0" name=""/>
          <p:cNvGrpSpPr/>
          <p:nvPr/>
        </p:nvGrpSpPr>
        <p:grpSpPr>
          <a:xfrm>
            <a:off x="411120" y="1149120"/>
            <a:ext cx="8747280" cy="1011600"/>
            <a:chOff x="411120" y="1149120"/>
            <a:chExt cx="8747280" cy="1011600"/>
          </a:xfrm>
        </p:grpSpPr>
        <mc:AlternateContent>
          <mc:Choice xmlns:a14="http://schemas.microsoft.com/office/drawing/2010/main" Requires="a14">
            <p:sp>
              <p:nvSpPr>
                <p:cNvPr id="5511" name=""/>
                <p:cNvSpPr txBox="1"/>
                <p:nvPr/>
              </p:nvSpPr>
              <p:spPr>
                <a:xfrm>
                  <a:off x="411120" y="1387440"/>
                  <a:ext cx="62467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Airy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f>
                                <m:num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O</m:t>
                                      </m:r>
                                    </m:e>
                                  </m:acc>
                                  <m:r>
                                    <m:t xml:space="preserve">(</m:t>
                                  </m:r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B</m:t>
                                      </m:r>
                                    </m:num>
                                    <m:den>
                                      <m:r>
                                        <m:t xml:space="preserve">λ</m:t>
                                      </m:r>
                                    </m:den>
                                  </m:f>
                                  <m:r>
                                    <m:t xml:space="preserve">)</m:t>
                                  </m:r>
                                </m:num>
                                <m:den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O</m:t>
                                      </m:r>
                                    </m:e>
                                  </m:acc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B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F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φ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5512" name=""/>
            <p:cNvGrpSpPr/>
            <p:nvPr/>
          </p:nvGrpSpPr>
          <p:grpSpPr>
            <a:xfrm>
              <a:off x="7051680" y="1149120"/>
              <a:ext cx="2106720" cy="985680"/>
              <a:chOff x="7051680" y="1149120"/>
              <a:chExt cx="2106720" cy="985680"/>
            </a:xfrm>
          </p:grpSpPr>
          <p:sp>
            <p:nvSpPr>
              <p:cNvPr id="5513" name=""/>
              <p:cNvSpPr/>
              <p:nvPr/>
            </p:nvSpPr>
            <p:spPr>
              <a:xfrm>
                <a:off x="7051680" y="2043360"/>
                <a:ext cx="210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 flipV="1">
                <a:off x="8163360" y="1149120"/>
                <a:ext cx="0" cy="903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7209360" y="1567440"/>
                <a:ext cx="1695960" cy="534240"/>
              </a:xfrm>
              <a:custGeom>
                <a:avLst/>
                <a:gdLst/>
                <a:ahLst/>
                <a:rect l="l" t="t" r="r" b="b"/>
                <a:pathLst>
                  <a:path w="1042" h="524">
                    <a:moveTo>
                      <a:pt x="0" y="467"/>
                    </a:moveTo>
                    <a:cubicBezTo>
                      <a:pt x="59" y="432"/>
                      <a:pt x="118" y="397"/>
                      <a:pt x="174" y="394"/>
                    </a:cubicBezTo>
                    <a:cubicBezTo>
                      <a:pt x="230" y="391"/>
                      <a:pt x="270" y="514"/>
                      <a:pt x="338" y="449"/>
                    </a:cubicBezTo>
                    <a:cubicBezTo>
                      <a:pt x="406" y="384"/>
                      <a:pt x="509" y="0"/>
                      <a:pt x="585" y="1"/>
                    </a:cubicBezTo>
                    <a:cubicBezTo>
                      <a:pt x="661" y="2"/>
                      <a:pt x="738" y="392"/>
                      <a:pt x="796" y="458"/>
                    </a:cubicBezTo>
                    <a:cubicBezTo>
                      <a:pt x="854" y="524"/>
                      <a:pt x="892" y="394"/>
                      <a:pt x="933" y="394"/>
                    </a:cubicBezTo>
                    <a:cubicBezTo>
                      <a:pt x="974" y="394"/>
                      <a:pt x="1008" y="426"/>
                      <a:pt x="1042" y="458"/>
                    </a:cubicBezTo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8163360" y="1412280"/>
                <a:ext cx="280080" cy="621720"/>
              </a:xfrm>
              <a:custGeom>
                <a:avLst/>
                <a:gdLst/>
                <a:ahLst/>
                <a:rect l="l" t="t" r="r" b="b"/>
                <a:pathLst>
                  <a:path w="275" h="610">
                    <a:moveTo>
                      <a:pt x="0" y="0"/>
                    </a:moveTo>
                    <a:cubicBezTo>
                      <a:pt x="30" y="178"/>
                      <a:pt x="59" y="344"/>
                      <a:pt x="83" y="369"/>
                    </a:cubicBezTo>
                    <a:cubicBezTo>
                      <a:pt x="107" y="394"/>
                      <a:pt x="129" y="131"/>
                      <a:pt x="147" y="153"/>
                    </a:cubicBezTo>
                    <a:cubicBezTo>
                      <a:pt x="165" y="175"/>
                      <a:pt x="175" y="470"/>
                      <a:pt x="192" y="501"/>
                    </a:cubicBezTo>
                    <a:cubicBezTo>
                      <a:pt x="209" y="532"/>
                      <a:pt x="233" y="318"/>
                      <a:pt x="247" y="336"/>
                    </a:cubicBezTo>
                    <a:cubicBezTo>
                      <a:pt x="261" y="354"/>
                      <a:pt x="269" y="553"/>
                      <a:pt x="275" y="61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7224480" y="1405080"/>
                <a:ext cx="1695960" cy="729720"/>
              </a:xfrm>
              <a:custGeom>
                <a:avLst/>
                <a:gdLst/>
                <a:ahLst/>
                <a:rect l="l" t="t" r="r" b="b"/>
                <a:pathLst>
                  <a:path w="1042" h="524">
                    <a:moveTo>
                      <a:pt x="0" y="467"/>
                    </a:moveTo>
                    <a:cubicBezTo>
                      <a:pt x="59" y="432"/>
                      <a:pt x="118" y="397"/>
                      <a:pt x="174" y="394"/>
                    </a:cubicBezTo>
                    <a:cubicBezTo>
                      <a:pt x="230" y="391"/>
                      <a:pt x="270" y="514"/>
                      <a:pt x="338" y="449"/>
                    </a:cubicBezTo>
                    <a:cubicBezTo>
                      <a:pt x="406" y="384"/>
                      <a:pt x="509" y="0"/>
                      <a:pt x="585" y="1"/>
                    </a:cubicBezTo>
                    <a:cubicBezTo>
                      <a:pt x="661" y="2"/>
                      <a:pt x="738" y="392"/>
                      <a:pt x="796" y="458"/>
                    </a:cubicBezTo>
                    <a:cubicBezTo>
                      <a:pt x="854" y="524"/>
                      <a:pt x="892" y="394"/>
                      <a:pt x="933" y="394"/>
                    </a:cubicBezTo>
                    <a:cubicBezTo>
                      <a:pt x="974" y="394"/>
                      <a:pt x="1008" y="426"/>
                      <a:pt x="1042" y="45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7212240" y="1775520"/>
                <a:ext cx="1695960" cy="310680"/>
              </a:xfrm>
              <a:custGeom>
                <a:avLst/>
                <a:gdLst/>
                <a:ahLst/>
                <a:rect l="l" t="t" r="r" b="b"/>
                <a:pathLst>
                  <a:path w="1042" h="524">
                    <a:moveTo>
                      <a:pt x="0" y="467"/>
                    </a:moveTo>
                    <a:cubicBezTo>
                      <a:pt x="59" y="432"/>
                      <a:pt x="118" y="397"/>
                      <a:pt x="174" y="394"/>
                    </a:cubicBezTo>
                    <a:cubicBezTo>
                      <a:pt x="230" y="391"/>
                      <a:pt x="270" y="514"/>
                      <a:pt x="338" y="449"/>
                    </a:cubicBezTo>
                    <a:cubicBezTo>
                      <a:pt x="406" y="384"/>
                      <a:pt x="509" y="0"/>
                      <a:pt x="585" y="1"/>
                    </a:cubicBezTo>
                    <a:cubicBezTo>
                      <a:pt x="661" y="2"/>
                      <a:pt x="738" y="392"/>
                      <a:pt x="796" y="458"/>
                    </a:cubicBezTo>
                    <a:cubicBezTo>
                      <a:pt x="854" y="524"/>
                      <a:pt x="892" y="394"/>
                      <a:pt x="933" y="394"/>
                    </a:cubicBezTo>
                    <a:cubicBezTo>
                      <a:pt x="974" y="394"/>
                      <a:pt x="1008" y="426"/>
                      <a:pt x="1042" y="45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 flipH="1">
                <a:off x="7876080" y="1418400"/>
                <a:ext cx="280080" cy="621720"/>
              </a:xfrm>
              <a:custGeom>
                <a:avLst/>
                <a:gdLst/>
                <a:ahLst/>
                <a:rect l="l" t="t" r="r" b="b"/>
                <a:pathLst>
                  <a:path w="275" h="610">
                    <a:moveTo>
                      <a:pt x="0" y="0"/>
                    </a:moveTo>
                    <a:cubicBezTo>
                      <a:pt x="30" y="178"/>
                      <a:pt x="59" y="344"/>
                      <a:pt x="83" y="369"/>
                    </a:cubicBezTo>
                    <a:cubicBezTo>
                      <a:pt x="107" y="394"/>
                      <a:pt x="129" y="131"/>
                      <a:pt x="147" y="153"/>
                    </a:cubicBezTo>
                    <a:cubicBezTo>
                      <a:pt x="165" y="175"/>
                      <a:pt x="175" y="470"/>
                      <a:pt x="192" y="501"/>
                    </a:cubicBezTo>
                    <a:cubicBezTo>
                      <a:pt x="209" y="532"/>
                      <a:pt x="233" y="318"/>
                      <a:pt x="247" y="336"/>
                    </a:cubicBezTo>
                    <a:cubicBezTo>
                      <a:pt x="261" y="354"/>
                      <a:pt x="269" y="553"/>
                      <a:pt x="275" y="61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0" name=""/>
          <p:cNvGrpSpPr/>
          <p:nvPr/>
        </p:nvGrpSpPr>
        <p:grpSpPr>
          <a:xfrm>
            <a:off x="521280" y="2349360"/>
            <a:ext cx="8670240" cy="912960"/>
            <a:chOff x="521280" y="2349360"/>
            <a:chExt cx="8670240" cy="912960"/>
          </a:xfrm>
        </p:grpSpPr>
        <p:sp>
          <p:nvSpPr>
            <p:cNvPr id="5521" name=""/>
            <p:cNvSpPr/>
            <p:nvPr/>
          </p:nvSpPr>
          <p:spPr>
            <a:xfrm>
              <a:off x="521280" y="2349360"/>
              <a:ext cx="754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cc"/>
                  </a:solidFill>
                  <a:latin typeface="Comic Sans MS"/>
                </a:rPr>
                <a:t>reponse impulsionnelle h(x)  = intensité observée avec dirac sur l'ax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22" name=""/>
                <p:cNvSpPr txBox="1"/>
                <p:nvPr/>
              </p:nvSpPr>
              <p:spPr>
                <a:xfrm>
                  <a:off x="636480" y="2755800"/>
                  <a:ext cx="610560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Airy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B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F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φ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5523" name=""/>
            <p:cNvGrpSpPr/>
            <p:nvPr/>
          </p:nvGrpSpPr>
          <p:grpSpPr>
            <a:xfrm>
              <a:off x="7377120" y="2360520"/>
              <a:ext cx="1814400" cy="901800"/>
              <a:chOff x="7377120" y="2360520"/>
              <a:chExt cx="1814400" cy="901800"/>
            </a:xfrm>
          </p:grpSpPr>
          <p:sp>
            <p:nvSpPr>
              <p:cNvPr id="5524" name=""/>
              <p:cNvSpPr/>
              <p:nvPr/>
            </p:nvSpPr>
            <p:spPr>
              <a:xfrm>
                <a:off x="7377120" y="3175560"/>
                <a:ext cx="18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 flipV="1">
                <a:off x="8334720" y="2402280"/>
                <a:ext cx="0" cy="77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7513200" y="2765160"/>
                <a:ext cx="1460520" cy="460080"/>
              </a:xfrm>
              <a:custGeom>
                <a:avLst/>
                <a:gdLst/>
                <a:ahLst/>
                <a:rect l="l" t="t" r="r" b="b"/>
                <a:pathLst>
                  <a:path w="1042" h="524">
                    <a:moveTo>
                      <a:pt x="0" y="467"/>
                    </a:moveTo>
                    <a:cubicBezTo>
                      <a:pt x="59" y="432"/>
                      <a:pt x="118" y="397"/>
                      <a:pt x="174" y="394"/>
                    </a:cubicBezTo>
                    <a:cubicBezTo>
                      <a:pt x="230" y="391"/>
                      <a:pt x="270" y="514"/>
                      <a:pt x="338" y="449"/>
                    </a:cubicBezTo>
                    <a:cubicBezTo>
                      <a:pt x="406" y="384"/>
                      <a:pt x="509" y="0"/>
                      <a:pt x="585" y="1"/>
                    </a:cubicBezTo>
                    <a:cubicBezTo>
                      <a:pt x="661" y="2"/>
                      <a:pt x="738" y="392"/>
                      <a:pt x="796" y="458"/>
                    </a:cubicBezTo>
                    <a:cubicBezTo>
                      <a:pt x="854" y="524"/>
                      <a:pt x="892" y="394"/>
                      <a:pt x="933" y="394"/>
                    </a:cubicBezTo>
                    <a:cubicBezTo>
                      <a:pt x="974" y="394"/>
                      <a:pt x="1008" y="426"/>
                      <a:pt x="1042" y="458"/>
                    </a:cubicBezTo>
                  </a:path>
                </a:pathLst>
              </a:custGeom>
              <a:noFill/>
              <a:ln w="284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8345880" y="2378520"/>
                <a:ext cx="230040" cy="849240"/>
              </a:xfrm>
              <a:custGeom>
                <a:avLst/>
                <a:gdLst/>
                <a:ahLst/>
                <a:rect l="l" t="t" r="r" b="b"/>
                <a:pathLst>
                  <a:path w="262" h="967">
                    <a:moveTo>
                      <a:pt x="0" y="0"/>
                    </a:moveTo>
                    <a:cubicBezTo>
                      <a:pt x="12" y="149"/>
                      <a:pt x="52" y="854"/>
                      <a:pt x="73" y="906"/>
                    </a:cubicBezTo>
                    <a:cubicBezTo>
                      <a:pt x="94" y="958"/>
                      <a:pt x="113" y="310"/>
                      <a:pt x="128" y="311"/>
                    </a:cubicBezTo>
                    <a:cubicBezTo>
                      <a:pt x="143" y="312"/>
                      <a:pt x="146" y="863"/>
                      <a:pt x="164" y="915"/>
                    </a:cubicBezTo>
                    <a:cubicBezTo>
                      <a:pt x="182" y="967"/>
                      <a:pt x="218" y="627"/>
                      <a:pt x="234" y="624"/>
                    </a:cubicBezTo>
                    <a:cubicBezTo>
                      <a:pt x="250" y="621"/>
                      <a:pt x="256" y="841"/>
                      <a:pt x="262" y="898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7534080" y="2360520"/>
                <a:ext cx="1460520" cy="901800"/>
              </a:xfrm>
              <a:custGeom>
                <a:avLst/>
                <a:gdLst/>
                <a:ahLst/>
                <a:rect l="l" t="t" r="r" b="b"/>
                <a:pathLst>
                  <a:path w="1042" h="524">
                    <a:moveTo>
                      <a:pt x="0" y="467"/>
                    </a:moveTo>
                    <a:cubicBezTo>
                      <a:pt x="59" y="432"/>
                      <a:pt x="118" y="397"/>
                      <a:pt x="174" y="394"/>
                    </a:cubicBezTo>
                    <a:cubicBezTo>
                      <a:pt x="230" y="391"/>
                      <a:pt x="270" y="514"/>
                      <a:pt x="338" y="449"/>
                    </a:cubicBezTo>
                    <a:cubicBezTo>
                      <a:pt x="406" y="384"/>
                      <a:pt x="509" y="0"/>
                      <a:pt x="585" y="1"/>
                    </a:cubicBezTo>
                    <a:cubicBezTo>
                      <a:pt x="661" y="2"/>
                      <a:pt x="738" y="392"/>
                      <a:pt x="796" y="458"/>
                    </a:cubicBezTo>
                    <a:cubicBezTo>
                      <a:pt x="854" y="524"/>
                      <a:pt x="892" y="394"/>
                      <a:pt x="933" y="394"/>
                    </a:cubicBezTo>
                    <a:cubicBezTo>
                      <a:pt x="974" y="394"/>
                      <a:pt x="1008" y="426"/>
                      <a:pt x="1042" y="45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 flipH="1">
                <a:off x="8098560" y="2376000"/>
                <a:ext cx="229680" cy="849240"/>
              </a:xfrm>
              <a:custGeom>
                <a:avLst/>
                <a:gdLst/>
                <a:ahLst/>
                <a:rect l="l" t="t" r="r" b="b"/>
                <a:pathLst>
                  <a:path w="262" h="967">
                    <a:moveTo>
                      <a:pt x="0" y="0"/>
                    </a:moveTo>
                    <a:cubicBezTo>
                      <a:pt x="12" y="149"/>
                      <a:pt x="52" y="854"/>
                      <a:pt x="73" y="906"/>
                    </a:cubicBezTo>
                    <a:cubicBezTo>
                      <a:pt x="94" y="958"/>
                      <a:pt x="113" y="310"/>
                      <a:pt x="128" y="311"/>
                    </a:cubicBezTo>
                    <a:cubicBezTo>
                      <a:pt x="143" y="312"/>
                      <a:pt x="146" y="863"/>
                      <a:pt x="164" y="915"/>
                    </a:cubicBezTo>
                    <a:cubicBezTo>
                      <a:pt x="182" y="967"/>
                      <a:pt x="218" y="627"/>
                      <a:pt x="234" y="624"/>
                    </a:cubicBezTo>
                    <a:cubicBezTo>
                      <a:pt x="250" y="621"/>
                      <a:pt x="256" y="841"/>
                      <a:pt x="262" y="898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30" name=""/>
          <p:cNvGrpSpPr/>
          <p:nvPr/>
        </p:nvGrpSpPr>
        <p:grpSpPr>
          <a:xfrm>
            <a:off x="558720" y="3292560"/>
            <a:ext cx="8499240" cy="3507840"/>
            <a:chOff x="558720" y="3292560"/>
            <a:chExt cx="8499240" cy="3507840"/>
          </a:xfrm>
        </p:grpSpPr>
        <p:sp>
          <p:nvSpPr>
            <p:cNvPr id="5531" name=""/>
            <p:cNvSpPr/>
            <p:nvPr/>
          </p:nvSpPr>
          <p:spPr>
            <a:xfrm>
              <a:off x="620640" y="5905440"/>
              <a:ext cx="1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568800" y="3292560"/>
              <a:ext cx="710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ans un domaine angulaire limité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elle est invariante par translation (réponse à un dirac hors d'ax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558720" y="3772080"/>
              <a:ext cx="21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(déjà vu pourquo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34" name=""/>
                <p:cNvSpPr txBox="1"/>
                <p:nvPr/>
              </p:nvSpPr>
              <p:spPr>
                <a:xfrm>
                  <a:off x="754200" y="4471920"/>
                  <a:ext cx="412092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ξ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r>
                        <m:t xml:space="preserve">∗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λ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θ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535" name=""/>
            <p:cNvGrpSpPr/>
            <p:nvPr/>
          </p:nvGrpSpPr>
          <p:grpSpPr>
            <a:xfrm>
              <a:off x="6386400" y="4205160"/>
              <a:ext cx="2517840" cy="1045800"/>
              <a:chOff x="6386400" y="4205160"/>
              <a:chExt cx="2517840" cy="1045800"/>
            </a:xfrm>
          </p:grpSpPr>
          <p:sp>
            <p:nvSpPr>
              <p:cNvPr id="5536" name=""/>
              <p:cNvSpPr/>
              <p:nvPr/>
            </p:nvSpPr>
            <p:spPr>
              <a:xfrm>
                <a:off x="8476200" y="4309920"/>
                <a:ext cx="105120" cy="447120"/>
              </a:xfrm>
              <a:custGeom>
                <a:avLst/>
                <a:gdLst/>
                <a:ahLst/>
                <a:rect l="l" t="t" r="r" b="b"/>
                <a:pathLst>
                  <a:path w="64" h="649">
                    <a:moveTo>
                      <a:pt x="0" y="18"/>
                    </a:moveTo>
                    <a:lnTo>
                      <a:pt x="9" y="649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6386400" y="4767840"/>
                <a:ext cx="251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 flipV="1">
                <a:off x="8485560" y="4282920"/>
                <a:ext cx="0" cy="83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8202600" y="4235760"/>
                <a:ext cx="28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6431760" y="4539600"/>
                <a:ext cx="2388600" cy="26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6527520" y="4560480"/>
                <a:ext cx="1959120" cy="207000"/>
              </a:xfrm>
              <a:custGeom>
                <a:avLst/>
                <a:gdLst/>
                <a:ahLst/>
                <a:rect l="l" t="t" r="r" b="b"/>
                <a:pathLst>
                  <a:path w="2331" h="247">
                    <a:moveTo>
                      <a:pt x="55" y="0"/>
                    </a:moveTo>
                    <a:lnTo>
                      <a:pt x="2331" y="247"/>
                    </a:lnTo>
                    <a:lnTo>
                      <a:pt x="36" y="238"/>
                    </a:lnTo>
                    <a:lnTo>
                      <a:pt x="0" y="174"/>
                    </a:lnTo>
                    <a:lnTo>
                      <a:pt x="9" y="64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6606720" y="462708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8485560" y="4433760"/>
                <a:ext cx="612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 flipV="1">
                <a:off x="7214400" y="4205160"/>
                <a:ext cx="155880" cy="9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 flipV="1">
                <a:off x="7794360" y="4261680"/>
                <a:ext cx="157320" cy="9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 flipV="1">
                <a:off x="8406720" y="4318920"/>
                <a:ext cx="156960" cy="9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7" name=""/>
            <p:cNvGrpSpPr/>
            <p:nvPr/>
          </p:nvGrpSpPr>
          <p:grpSpPr>
            <a:xfrm>
              <a:off x="4869000" y="4871880"/>
              <a:ext cx="4188960" cy="1928520"/>
              <a:chOff x="4869000" y="4871880"/>
              <a:chExt cx="4188960" cy="1928520"/>
            </a:xfrm>
          </p:grpSpPr>
          <p:grpSp>
            <p:nvGrpSpPr>
              <p:cNvPr id="5548" name=""/>
              <p:cNvGrpSpPr/>
              <p:nvPr/>
            </p:nvGrpSpPr>
            <p:grpSpPr>
              <a:xfrm>
                <a:off x="8558280" y="4960080"/>
                <a:ext cx="499680" cy="1185840"/>
                <a:chOff x="8558280" y="4960080"/>
                <a:chExt cx="499680" cy="1185840"/>
              </a:xfrm>
            </p:grpSpPr>
            <p:sp>
              <p:nvSpPr>
                <p:cNvPr id="5549" name=""/>
                <p:cNvSpPr/>
                <p:nvPr/>
              </p:nvSpPr>
              <p:spPr>
                <a:xfrm>
                  <a:off x="8606520" y="4960080"/>
                  <a:ext cx="0" cy="118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0" name=""/>
                <p:cNvSpPr/>
                <p:nvPr/>
              </p:nvSpPr>
              <p:spPr>
                <a:xfrm>
                  <a:off x="8603280" y="558576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1" name=""/>
                <p:cNvSpPr/>
                <p:nvPr/>
              </p:nvSpPr>
              <p:spPr>
                <a:xfrm rot="5400000">
                  <a:off x="8330760" y="5290200"/>
                  <a:ext cx="954720" cy="499680"/>
                </a:xfrm>
                <a:custGeom>
                  <a:avLst/>
                  <a:gdLst/>
                  <a:ahLst/>
                  <a:rect l="l" t="t" r="r" b="b"/>
                  <a:pathLst>
                    <a:path w="1042" h="524">
                      <a:moveTo>
                        <a:pt x="0" y="467"/>
                      </a:moveTo>
                      <a:cubicBezTo>
                        <a:pt x="59" y="432"/>
                        <a:pt x="118" y="397"/>
                        <a:pt x="174" y="394"/>
                      </a:cubicBezTo>
                      <a:cubicBezTo>
                        <a:pt x="230" y="391"/>
                        <a:pt x="270" y="514"/>
                        <a:pt x="338" y="449"/>
                      </a:cubicBezTo>
                      <a:cubicBezTo>
                        <a:pt x="406" y="384"/>
                        <a:pt x="509" y="0"/>
                        <a:pt x="585" y="1"/>
                      </a:cubicBezTo>
                      <a:cubicBezTo>
                        <a:pt x="661" y="2"/>
                        <a:pt x="738" y="392"/>
                        <a:pt x="796" y="458"/>
                      </a:cubicBezTo>
                      <a:cubicBezTo>
                        <a:pt x="854" y="524"/>
                        <a:pt x="892" y="394"/>
                        <a:pt x="933" y="394"/>
                      </a:cubicBezTo>
                      <a:cubicBezTo>
                        <a:pt x="974" y="394"/>
                        <a:pt x="1008" y="426"/>
                        <a:pt x="1042" y="458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52" name=""/>
                <p:cNvGrpSpPr/>
                <p:nvPr/>
              </p:nvGrpSpPr>
              <p:grpSpPr>
                <a:xfrm>
                  <a:off x="8577720" y="5431320"/>
                  <a:ext cx="471600" cy="312480"/>
                  <a:chOff x="8577720" y="5431320"/>
                  <a:chExt cx="471600" cy="312480"/>
                </a:xfrm>
              </p:grpSpPr>
              <p:sp>
                <p:nvSpPr>
                  <p:cNvPr id="5553" name=""/>
                  <p:cNvSpPr/>
                  <p:nvPr/>
                </p:nvSpPr>
                <p:spPr>
                  <a:xfrm rot="5400000">
                    <a:off x="8737560" y="5433120"/>
                    <a:ext cx="150480" cy="47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4" name=""/>
                  <p:cNvSpPr/>
                  <p:nvPr/>
                </p:nvSpPr>
                <p:spPr>
                  <a:xfrm flipH="1" rot="5400000">
                    <a:off x="8738640" y="5271120"/>
                    <a:ext cx="150120" cy="47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55" name=""/>
              <p:cNvGrpSpPr/>
              <p:nvPr/>
            </p:nvGrpSpPr>
            <p:grpSpPr>
              <a:xfrm>
                <a:off x="8553600" y="5614560"/>
                <a:ext cx="499680" cy="1185840"/>
                <a:chOff x="8553600" y="5614560"/>
                <a:chExt cx="499680" cy="1185840"/>
              </a:xfrm>
            </p:grpSpPr>
            <p:sp>
              <p:nvSpPr>
                <p:cNvPr id="5556" name=""/>
                <p:cNvSpPr/>
                <p:nvPr/>
              </p:nvSpPr>
              <p:spPr>
                <a:xfrm>
                  <a:off x="8601840" y="5614560"/>
                  <a:ext cx="0" cy="118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7" name=""/>
                <p:cNvSpPr/>
                <p:nvPr/>
              </p:nvSpPr>
              <p:spPr>
                <a:xfrm>
                  <a:off x="8598600" y="6240240"/>
                  <a:ext cx="431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8" name=""/>
                <p:cNvSpPr/>
                <p:nvPr/>
              </p:nvSpPr>
              <p:spPr>
                <a:xfrm rot="5400000">
                  <a:off x="8326080" y="5944680"/>
                  <a:ext cx="954720" cy="499680"/>
                </a:xfrm>
                <a:custGeom>
                  <a:avLst/>
                  <a:gdLst/>
                  <a:ahLst/>
                  <a:rect l="l" t="t" r="r" b="b"/>
                  <a:pathLst>
                    <a:path w="1042" h="524">
                      <a:moveTo>
                        <a:pt x="0" y="467"/>
                      </a:moveTo>
                      <a:cubicBezTo>
                        <a:pt x="59" y="432"/>
                        <a:pt x="118" y="397"/>
                        <a:pt x="174" y="394"/>
                      </a:cubicBezTo>
                      <a:cubicBezTo>
                        <a:pt x="230" y="391"/>
                        <a:pt x="270" y="514"/>
                        <a:pt x="338" y="449"/>
                      </a:cubicBezTo>
                      <a:cubicBezTo>
                        <a:pt x="406" y="384"/>
                        <a:pt x="509" y="0"/>
                        <a:pt x="585" y="1"/>
                      </a:cubicBezTo>
                      <a:cubicBezTo>
                        <a:pt x="661" y="2"/>
                        <a:pt x="738" y="392"/>
                        <a:pt x="796" y="458"/>
                      </a:cubicBezTo>
                      <a:cubicBezTo>
                        <a:pt x="854" y="524"/>
                        <a:pt x="892" y="394"/>
                        <a:pt x="933" y="394"/>
                      </a:cubicBezTo>
                      <a:cubicBezTo>
                        <a:pt x="974" y="394"/>
                        <a:pt x="1008" y="426"/>
                        <a:pt x="1042" y="458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59" name=""/>
                <p:cNvGrpSpPr/>
                <p:nvPr/>
              </p:nvGrpSpPr>
              <p:grpSpPr>
                <a:xfrm>
                  <a:off x="8573040" y="6085800"/>
                  <a:ext cx="471600" cy="312480"/>
                  <a:chOff x="8573040" y="6085800"/>
                  <a:chExt cx="471600" cy="312480"/>
                </a:xfrm>
              </p:grpSpPr>
              <p:sp>
                <p:nvSpPr>
                  <p:cNvPr id="5560" name=""/>
                  <p:cNvSpPr/>
                  <p:nvPr/>
                </p:nvSpPr>
                <p:spPr>
                  <a:xfrm rot="5400000">
                    <a:off x="8732880" y="6087600"/>
                    <a:ext cx="150480" cy="47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1" name=""/>
                  <p:cNvSpPr/>
                  <p:nvPr/>
                </p:nvSpPr>
                <p:spPr>
                  <a:xfrm flipH="1" rot="5400000">
                    <a:off x="8733960" y="5925600"/>
                    <a:ext cx="150120" cy="47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62" name=""/>
              <p:cNvSpPr/>
              <p:nvPr/>
            </p:nvSpPr>
            <p:spPr>
              <a:xfrm>
                <a:off x="6708600" y="4948200"/>
                <a:ext cx="320040" cy="1232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5282640" y="5571360"/>
                <a:ext cx="330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6768000" y="5008320"/>
                <a:ext cx="189000" cy="24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6762960" y="5872680"/>
                <a:ext cx="189360" cy="24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5282640" y="5038200"/>
                <a:ext cx="3274200" cy="11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4888080" y="4871880"/>
                <a:ext cx="265320" cy="244440"/>
              </a:xfrm>
              <a:prstGeom prst="star5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4869000" y="5466240"/>
                <a:ext cx="265320" cy="244800"/>
              </a:xfrm>
              <a:prstGeom prst="star5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9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812664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erferomètre comme filtre de frequences spatiales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0" name=""/>
          <p:cNvGrpSpPr/>
          <p:nvPr/>
        </p:nvGrpSpPr>
        <p:grpSpPr>
          <a:xfrm>
            <a:off x="511200" y="1306440"/>
            <a:ext cx="8130600" cy="1838520"/>
            <a:chOff x="511200" y="1306440"/>
            <a:chExt cx="8130600" cy="1838520"/>
          </a:xfrm>
        </p:grpSpPr>
        <p:grpSp>
          <p:nvGrpSpPr>
            <p:cNvPr id="5571" name=""/>
            <p:cNvGrpSpPr/>
            <p:nvPr/>
          </p:nvGrpSpPr>
          <p:grpSpPr>
            <a:xfrm>
              <a:off x="4464000" y="1306440"/>
              <a:ext cx="4177800" cy="1838520"/>
              <a:chOff x="4464000" y="1306440"/>
              <a:chExt cx="4177800" cy="1838520"/>
            </a:xfrm>
          </p:grpSpPr>
          <p:grpSp>
            <p:nvGrpSpPr>
              <p:cNvPr id="5572" name=""/>
              <p:cNvGrpSpPr/>
              <p:nvPr/>
            </p:nvGrpSpPr>
            <p:grpSpPr>
              <a:xfrm>
                <a:off x="8143200" y="1390680"/>
                <a:ext cx="498600" cy="1130400"/>
                <a:chOff x="8143200" y="1390680"/>
                <a:chExt cx="498600" cy="1130400"/>
              </a:xfrm>
            </p:grpSpPr>
            <p:sp>
              <p:nvSpPr>
                <p:cNvPr id="5573" name=""/>
                <p:cNvSpPr/>
                <p:nvPr/>
              </p:nvSpPr>
              <p:spPr>
                <a:xfrm>
                  <a:off x="8191440" y="1390680"/>
                  <a:ext cx="0" cy="11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4" name=""/>
                <p:cNvSpPr/>
                <p:nvPr/>
              </p:nvSpPr>
              <p:spPr>
                <a:xfrm>
                  <a:off x="8188200" y="1987200"/>
                  <a:ext cx="43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5" name=""/>
                <p:cNvSpPr/>
                <p:nvPr/>
              </p:nvSpPr>
              <p:spPr>
                <a:xfrm rot="5400000">
                  <a:off x="7937280" y="1693800"/>
                  <a:ext cx="910080" cy="498600"/>
                </a:xfrm>
                <a:custGeom>
                  <a:avLst/>
                  <a:gdLst/>
                  <a:ahLst/>
                  <a:rect l="l" t="t" r="r" b="b"/>
                  <a:pathLst>
                    <a:path w="1042" h="524">
                      <a:moveTo>
                        <a:pt x="0" y="467"/>
                      </a:moveTo>
                      <a:cubicBezTo>
                        <a:pt x="59" y="432"/>
                        <a:pt x="118" y="397"/>
                        <a:pt x="174" y="394"/>
                      </a:cubicBezTo>
                      <a:cubicBezTo>
                        <a:pt x="230" y="391"/>
                        <a:pt x="270" y="514"/>
                        <a:pt x="338" y="449"/>
                      </a:cubicBezTo>
                      <a:cubicBezTo>
                        <a:pt x="406" y="384"/>
                        <a:pt x="509" y="0"/>
                        <a:pt x="585" y="1"/>
                      </a:cubicBezTo>
                      <a:cubicBezTo>
                        <a:pt x="661" y="2"/>
                        <a:pt x="738" y="392"/>
                        <a:pt x="796" y="458"/>
                      </a:cubicBezTo>
                      <a:cubicBezTo>
                        <a:pt x="854" y="524"/>
                        <a:pt x="892" y="394"/>
                        <a:pt x="933" y="394"/>
                      </a:cubicBezTo>
                      <a:cubicBezTo>
                        <a:pt x="974" y="394"/>
                        <a:pt x="1008" y="426"/>
                        <a:pt x="1042" y="458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76" name=""/>
                <p:cNvGrpSpPr/>
                <p:nvPr/>
              </p:nvGrpSpPr>
              <p:grpSpPr>
                <a:xfrm>
                  <a:off x="8162640" y="1839960"/>
                  <a:ext cx="470520" cy="297720"/>
                  <a:chOff x="8162640" y="1839960"/>
                  <a:chExt cx="470520" cy="297720"/>
                </a:xfrm>
              </p:grpSpPr>
              <p:sp>
                <p:nvSpPr>
                  <p:cNvPr id="5577" name=""/>
                  <p:cNvSpPr/>
                  <p:nvPr/>
                </p:nvSpPr>
                <p:spPr>
                  <a:xfrm rot="5400000">
                    <a:off x="8325720" y="1831320"/>
                    <a:ext cx="143280" cy="46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8" name=""/>
                  <p:cNvSpPr/>
                  <p:nvPr/>
                </p:nvSpPr>
                <p:spPr>
                  <a:xfrm flipH="1" rot="5400000">
                    <a:off x="8326800" y="1676520"/>
                    <a:ext cx="142920" cy="46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79" name=""/>
              <p:cNvGrpSpPr/>
              <p:nvPr/>
            </p:nvGrpSpPr>
            <p:grpSpPr>
              <a:xfrm>
                <a:off x="8138520" y="2014560"/>
                <a:ext cx="498600" cy="1130400"/>
                <a:chOff x="8138520" y="2014560"/>
                <a:chExt cx="498600" cy="1130400"/>
              </a:xfrm>
            </p:grpSpPr>
            <p:sp>
              <p:nvSpPr>
                <p:cNvPr id="5580" name=""/>
                <p:cNvSpPr/>
                <p:nvPr/>
              </p:nvSpPr>
              <p:spPr>
                <a:xfrm>
                  <a:off x="8186760" y="2014560"/>
                  <a:ext cx="0" cy="113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1" name=""/>
                <p:cNvSpPr/>
                <p:nvPr/>
              </p:nvSpPr>
              <p:spPr>
                <a:xfrm>
                  <a:off x="8183520" y="2611080"/>
                  <a:ext cx="430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2" name=""/>
                <p:cNvSpPr/>
                <p:nvPr/>
              </p:nvSpPr>
              <p:spPr>
                <a:xfrm rot="5400000">
                  <a:off x="7932600" y="2317680"/>
                  <a:ext cx="910080" cy="498600"/>
                </a:xfrm>
                <a:custGeom>
                  <a:avLst/>
                  <a:gdLst/>
                  <a:ahLst/>
                  <a:rect l="l" t="t" r="r" b="b"/>
                  <a:pathLst>
                    <a:path w="1042" h="524">
                      <a:moveTo>
                        <a:pt x="0" y="467"/>
                      </a:moveTo>
                      <a:cubicBezTo>
                        <a:pt x="59" y="432"/>
                        <a:pt x="118" y="397"/>
                        <a:pt x="174" y="394"/>
                      </a:cubicBezTo>
                      <a:cubicBezTo>
                        <a:pt x="230" y="391"/>
                        <a:pt x="270" y="514"/>
                        <a:pt x="338" y="449"/>
                      </a:cubicBezTo>
                      <a:cubicBezTo>
                        <a:pt x="406" y="384"/>
                        <a:pt x="509" y="0"/>
                        <a:pt x="585" y="1"/>
                      </a:cubicBezTo>
                      <a:cubicBezTo>
                        <a:pt x="661" y="2"/>
                        <a:pt x="738" y="392"/>
                        <a:pt x="796" y="458"/>
                      </a:cubicBezTo>
                      <a:cubicBezTo>
                        <a:pt x="854" y="524"/>
                        <a:pt x="892" y="394"/>
                        <a:pt x="933" y="394"/>
                      </a:cubicBezTo>
                      <a:cubicBezTo>
                        <a:pt x="974" y="394"/>
                        <a:pt x="1008" y="426"/>
                        <a:pt x="1042" y="458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83" name=""/>
                <p:cNvGrpSpPr/>
                <p:nvPr/>
              </p:nvGrpSpPr>
              <p:grpSpPr>
                <a:xfrm>
                  <a:off x="8157960" y="2463840"/>
                  <a:ext cx="470520" cy="297720"/>
                  <a:chOff x="8157960" y="2463840"/>
                  <a:chExt cx="470520" cy="297720"/>
                </a:xfrm>
              </p:grpSpPr>
              <p:sp>
                <p:nvSpPr>
                  <p:cNvPr id="5584" name=""/>
                  <p:cNvSpPr/>
                  <p:nvPr/>
                </p:nvSpPr>
                <p:spPr>
                  <a:xfrm rot="5400000">
                    <a:off x="8321040" y="2455200"/>
                    <a:ext cx="143280" cy="46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5" name=""/>
                  <p:cNvSpPr/>
                  <p:nvPr/>
                </p:nvSpPr>
                <p:spPr>
                  <a:xfrm flipH="1" rot="5400000">
                    <a:off x="8322120" y="2300400"/>
                    <a:ext cx="142920" cy="46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967">
                        <a:moveTo>
                          <a:pt x="0" y="0"/>
                        </a:moveTo>
                        <a:cubicBezTo>
                          <a:pt x="12" y="149"/>
                          <a:pt x="52" y="854"/>
                          <a:pt x="73" y="906"/>
                        </a:cubicBezTo>
                        <a:cubicBezTo>
                          <a:pt x="94" y="958"/>
                          <a:pt x="113" y="310"/>
                          <a:pt x="128" y="311"/>
                        </a:cubicBezTo>
                        <a:cubicBezTo>
                          <a:pt x="143" y="312"/>
                          <a:pt x="146" y="863"/>
                          <a:pt x="164" y="915"/>
                        </a:cubicBezTo>
                        <a:cubicBezTo>
                          <a:pt x="182" y="967"/>
                          <a:pt x="218" y="627"/>
                          <a:pt x="234" y="624"/>
                        </a:cubicBezTo>
                        <a:cubicBezTo>
                          <a:pt x="250" y="621"/>
                          <a:pt x="256" y="841"/>
                          <a:pt x="262" y="8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86" name=""/>
              <p:cNvSpPr/>
              <p:nvPr/>
            </p:nvSpPr>
            <p:spPr>
              <a:xfrm>
                <a:off x="6298920" y="1379520"/>
                <a:ext cx="319320" cy="11746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4876560" y="1973160"/>
                <a:ext cx="329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6357960" y="1436760"/>
                <a:ext cx="188640" cy="231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6352920" y="2260440"/>
                <a:ext cx="189000" cy="231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4876560" y="1465200"/>
                <a:ext cx="3265560" cy="106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4483080" y="1306440"/>
                <a:ext cx="264960" cy="233280"/>
              </a:xfrm>
              <a:prstGeom prst="star5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4464000" y="1873080"/>
                <a:ext cx="264960" cy="233640"/>
              </a:xfrm>
              <a:prstGeom prst="star5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3" name=""/>
            <p:cNvSpPr/>
            <p:nvPr/>
          </p:nvSpPr>
          <p:spPr>
            <a:xfrm>
              <a:off x="511200" y="1440000"/>
              <a:ext cx="3713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h(x) invariant par translation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a donc la convolu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ans la relation objet-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4" name=""/>
          <p:cNvGrpSpPr/>
          <p:nvPr/>
        </p:nvGrpSpPr>
        <p:grpSpPr>
          <a:xfrm>
            <a:off x="611280" y="2585880"/>
            <a:ext cx="6843600" cy="2135520"/>
            <a:chOff x="611280" y="2585880"/>
            <a:chExt cx="6843600" cy="2135520"/>
          </a:xfrm>
        </p:grpSpPr>
        <mc:AlternateContent>
          <mc:Choice xmlns:a14="http://schemas.microsoft.com/office/drawing/2010/main" Requires="a14">
            <p:sp>
              <p:nvSpPr>
                <p:cNvPr id="5595" name=""/>
                <p:cNvSpPr txBox="1"/>
                <p:nvPr/>
              </p:nvSpPr>
              <p:spPr>
                <a:xfrm>
                  <a:off x="1109520" y="3200400"/>
                  <a:ext cx="474516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Airy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F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596" name=""/>
            <p:cNvSpPr/>
            <p:nvPr/>
          </p:nvSpPr>
          <p:spPr>
            <a:xfrm>
              <a:off x="611280" y="2585880"/>
              <a:ext cx="6843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a T(u) fonction de transfert = TF de 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on simplifie l'expression de h(x) pour garder l'essentie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97" name=""/>
                <p:cNvSpPr txBox="1"/>
                <p:nvPr/>
              </p:nvSpPr>
              <p:spPr>
                <a:xfrm>
                  <a:off x="1085760" y="4052880"/>
                  <a:ext cx="5389560" cy="66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iry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 </m:t>
                          </m:r>
                        </m:e>
                        <m:sub/>
                      </m:sSub>
                      <m:r>
                        <m:t xml:space="preserve"> 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δ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u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r>
                                <m:t xml:space="preserve">δ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u</m:t>
                              </m:r>
                              <m:r>
                                <m:t xml:space="preserve"> </m:t>
                              </m:r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 </m:t>
                          </m:r>
                        </m:e>
                      </m: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98" name=""/>
          <p:cNvGrpSpPr/>
          <p:nvPr/>
        </p:nvGrpSpPr>
        <p:grpSpPr>
          <a:xfrm>
            <a:off x="1021680" y="4734000"/>
            <a:ext cx="8027640" cy="2176920"/>
            <a:chOff x="1021680" y="4734000"/>
            <a:chExt cx="8027640" cy="2176920"/>
          </a:xfrm>
        </p:grpSpPr>
        <p:grpSp>
          <p:nvGrpSpPr>
            <p:cNvPr id="5599" name=""/>
            <p:cNvGrpSpPr/>
            <p:nvPr/>
          </p:nvGrpSpPr>
          <p:grpSpPr>
            <a:xfrm>
              <a:off x="1247760" y="5452920"/>
              <a:ext cx="7457400" cy="1458000"/>
              <a:chOff x="1247760" y="5452920"/>
              <a:chExt cx="7457400" cy="1458000"/>
            </a:xfrm>
          </p:grpSpPr>
          <p:sp>
            <p:nvSpPr>
              <p:cNvPr id="5600" name=""/>
              <p:cNvSpPr/>
              <p:nvPr/>
            </p:nvSpPr>
            <p:spPr>
              <a:xfrm>
                <a:off x="2455200" y="6451200"/>
                <a:ext cx="68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D/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01" name=""/>
              <p:cNvGrpSpPr/>
              <p:nvPr/>
            </p:nvGrpSpPr>
            <p:grpSpPr>
              <a:xfrm>
                <a:off x="1247760" y="5452920"/>
                <a:ext cx="7457400" cy="1419840"/>
                <a:chOff x="1247760" y="5452920"/>
                <a:chExt cx="7457400" cy="1419840"/>
              </a:xfrm>
            </p:grpSpPr>
            <p:grpSp>
              <p:nvGrpSpPr>
                <p:cNvPr id="5602" name=""/>
                <p:cNvGrpSpPr/>
                <p:nvPr/>
              </p:nvGrpSpPr>
              <p:grpSpPr>
                <a:xfrm>
                  <a:off x="1273320" y="5798520"/>
                  <a:ext cx="2162160" cy="696600"/>
                  <a:chOff x="1273320" y="5798520"/>
                  <a:chExt cx="2162160" cy="696600"/>
                </a:xfrm>
              </p:grpSpPr>
              <p:sp>
                <p:nvSpPr>
                  <p:cNvPr id="5603" name=""/>
                  <p:cNvSpPr/>
                  <p:nvPr/>
                </p:nvSpPr>
                <p:spPr>
                  <a:xfrm>
                    <a:off x="1273320" y="6481080"/>
                    <a:ext cx="216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4" name=""/>
                  <p:cNvSpPr/>
                  <p:nvPr/>
                </p:nvSpPr>
                <p:spPr>
                  <a:xfrm flipV="1">
                    <a:off x="2284920" y="5798520"/>
                    <a:ext cx="0" cy="696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5605" name=""/>
                    <p:cNvSpPr txBox="1"/>
                    <p:nvPr/>
                  </p:nvSpPr>
                  <p:spPr>
                    <a:xfrm>
                      <a:off x="2079720" y="5506560"/>
                      <a:ext cx="81288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rPr>
                              <m:lit/>
                              <m:nor/>
                            </m:rPr>
                            <m:t xml:space="preserve">iry</m:t>
                          </m:r>
                          <m:r>
                            <m:t xml:space="preserve">(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grpSp>
              <p:nvGrpSpPr>
                <p:cNvPr id="5606" name=""/>
                <p:cNvGrpSpPr/>
                <p:nvPr/>
              </p:nvGrpSpPr>
              <p:grpSpPr>
                <a:xfrm>
                  <a:off x="4454640" y="5765040"/>
                  <a:ext cx="4034880" cy="696600"/>
                  <a:chOff x="4454640" y="5765040"/>
                  <a:chExt cx="4034880" cy="696600"/>
                </a:xfrm>
              </p:grpSpPr>
              <p:sp>
                <p:nvSpPr>
                  <p:cNvPr id="5607" name=""/>
                  <p:cNvSpPr/>
                  <p:nvPr/>
                </p:nvSpPr>
                <p:spPr>
                  <a:xfrm>
                    <a:off x="4454640" y="6447600"/>
                    <a:ext cx="403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8" name=""/>
                  <p:cNvSpPr/>
                  <p:nvPr/>
                </p:nvSpPr>
                <p:spPr>
                  <a:xfrm flipV="1">
                    <a:off x="6342480" y="5765040"/>
                    <a:ext cx="0" cy="696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09" name=""/>
                <p:cNvSpPr/>
                <p:nvPr/>
              </p:nvSpPr>
              <p:spPr>
                <a:xfrm>
                  <a:off x="1247760" y="6089400"/>
                  <a:ext cx="1916280" cy="391680"/>
                </a:xfrm>
                <a:custGeom>
                  <a:avLst/>
                  <a:gdLst/>
                  <a:ahLst/>
                  <a:rect l="l" t="t" r="r" b="b"/>
                  <a:pathLst>
                    <a:path w="1207" h="247">
                      <a:moveTo>
                        <a:pt x="0" y="247"/>
                      </a:moveTo>
                      <a:lnTo>
                        <a:pt x="348" y="247"/>
                      </a:lnTo>
                      <a:lnTo>
                        <a:pt x="659" y="0"/>
                      </a:lnTo>
                      <a:lnTo>
                        <a:pt x="924" y="247"/>
                      </a:lnTo>
                      <a:lnTo>
                        <a:pt x="1207" y="247"/>
                      </a:lnTo>
                    </a:path>
                  </a:pathLst>
                </a:custGeom>
                <a:noFill/>
                <a:ln w="3816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0" name=""/>
                <p:cNvSpPr/>
                <p:nvPr/>
              </p:nvSpPr>
              <p:spPr>
                <a:xfrm>
                  <a:off x="3233160" y="6001920"/>
                  <a:ext cx="369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1" name=""/>
                <p:cNvSpPr/>
                <p:nvPr/>
              </p:nvSpPr>
              <p:spPr>
                <a:xfrm>
                  <a:off x="7683840" y="6413040"/>
                  <a:ext cx="65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B/</a:t>
                  </a:r>
                  <a:r>
                    <a:rPr b="0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2" name=""/>
                <p:cNvSpPr/>
                <p:nvPr/>
              </p:nvSpPr>
              <p:spPr>
                <a:xfrm>
                  <a:off x="8335440" y="6035400"/>
                  <a:ext cx="369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3" name=""/>
                <p:cNvSpPr/>
                <p:nvPr/>
              </p:nvSpPr>
              <p:spPr>
                <a:xfrm>
                  <a:off x="5872320" y="5924160"/>
                  <a:ext cx="885600" cy="523440"/>
                </a:xfrm>
                <a:custGeom>
                  <a:avLst/>
                  <a:gdLst/>
                  <a:ahLst/>
                  <a:rect l="l" t="t" r="r" b="b"/>
                  <a:pathLst>
                    <a:path w="1207" h="247">
                      <a:moveTo>
                        <a:pt x="0" y="247"/>
                      </a:moveTo>
                      <a:lnTo>
                        <a:pt x="348" y="247"/>
                      </a:lnTo>
                      <a:lnTo>
                        <a:pt x="659" y="0"/>
                      </a:lnTo>
                      <a:lnTo>
                        <a:pt x="924" y="247"/>
                      </a:lnTo>
                      <a:lnTo>
                        <a:pt x="1207" y="247"/>
                      </a:lnTo>
                    </a:path>
                  </a:pathLst>
                </a:custGeom>
                <a:noFill/>
                <a:ln w="3816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4" name=""/>
                <p:cNvSpPr/>
                <p:nvPr/>
              </p:nvSpPr>
              <p:spPr>
                <a:xfrm>
                  <a:off x="7396200" y="6163920"/>
                  <a:ext cx="885960" cy="290160"/>
                </a:xfrm>
                <a:custGeom>
                  <a:avLst/>
                  <a:gdLst/>
                  <a:ahLst/>
                  <a:rect l="l" t="t" r="r" b="b"/>
                  <a:pathLst>
                    <a:path w="1207" h="247">
                      <a:moveTo>
                        <a:pt x="0" y="247"/>
                      </a:moveTo>
                      <a:lnTo>
                        <a:pt x="348" y="247"/>
                      </a:lnTo>
                      <a:lnTo>
                        <a:pt x="659" y="0"/>
                      </a:lnTo>
                      <a:lnTo>
                        <a:pt x="924" y="247"/>
                      </a:lnTo>
                      <a:lnTo>
                        <a:pt x="1207" y="247"/>
                      </a:lnTo>
                    </a:path>
                  </a:pathLst>
                </a:custGeom>
                <a:noFill/>
                <a:ln w="3816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5" name=""/>
                <p:cNvSpPr/>
                <p:nvPr/>
              </p:nvSpPr>
              <p:spPr>
                <a:xfrm>
                  <a:off x="4433760" y="6160680"/>
                  <a:ext cx="885960" cy="290160"/>
                </a:xfrm>
                <a:custGeom>
                  <a:avLst/>
                  <a:gdLst/>
                  <a:ahLst/>
                  <a:rect l="l" t="t" r="r" b="b"/>
                  <a:pathLst>
                    <a:path w="1207" h="247">
                      <a:moveTo>
                        <a:pt x="0" y="247"/>
                      </a:moveTo>
                      <a:lnTo>
                        <a:pt x="348" y="247"/>
                      </a:lnTo>
                      <a:lnTo>
                        <a:pt x="659" y="0"/>
                      </a:lnTo>
                      <a:lnTo>
                        <a:pt x="924" y="247"/>
                      </a:lnTo>
                      <a:lnTo>
                        <a:pt x="1207" y="247"/>
                      </a:lnTo>
                    </a:path>
                  </a:pathLst>
                </a:custGeom>
                <a:noFill/>
                <a:ln w="3816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6" name=""/>
                <p:cNvSpPr/>
                <p:nvPr/>
              </p:nvSpPr>
              <p:spPr>
                <a:xfrm>
                  <a:off x="2681280" y="6430680"/>
                  <a:ext cx="88920" cy="885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7" name=""/>
                <p:cNvSpPr/>
                <p:nvPr/>
              </p:nvSpPr>
              <p:spPr>
                <a:xfrm>
                  <a:off x="7823160" y="6389280"/>
                  <a:ext cx="88920" cy="885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618" name=""/>
                    <p:cNvSpPr txBox="1"/>
                    <p:nvPr/>
                  </p:nvSpPr>
                  <p:spPr>
                    <a:xfrm>
                      <a:off x="6031080" y="5452920"/>
                      <a:ext cx="482400" cy="266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5619" name=""/>
                <p:cNvSpPr/>
                <p:nvPr/>
              </p:nvSpPr>
              <p:spPr>
                <a:xfrm>
                  <a:off x="4905360" y="5930640"/>
                  <a:ext cx="2976480" cy="522000"/>
                </a:xfrm>
                <a:custGeom>
                  <a:avLst/>
                  <a:gdLst/>
                  <a:ahLst/>
                  <a:rect l="l" t="t" r="r" b="b"/>
                  <a:pathLst>
                    <a:path w="1875" h="329">
                      <a:moveTo>
                        <a:pt x="0" y="301"/>
                      </a:moveTo>
                      <a:lnTo>
                        <a:pt x="924" y="0"/>
                      </a:lnTo>
                      <a:lnTo>
                        <a:pt x="1875" y="3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0" name=""/>
                <p:cNvSpPr/>
                <p:nvPr/>
              </p:nvSpPr>
              <p:spPr>
                <a:xfrm>
                  <a:off x="2001960" y="590040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1" name=""/>
                <p:cNvSpPr/>
                <p:nvPr/>
              </p:nvSpPr>
              <p:spPr>
                <a:xfrm>
                  <a:off x="6365880" y="5935320"/>
                  <a:ext cx="452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1/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2" name=""/>
                <p:cNvSpPr/>
                <p:nvPr/>
              </p:nvSpPr>
              <p:spPr>
                <a:xfrm>
                  <a:off x="6049800" y="5727240"/>
                  <a:ext cx="282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3" name=""/>
                <p:cNvSpPr/>
                <p:nvPr/>
              </p:nvSpPr>
              <p:spPr>
                <a:xfrm flipH="1">
                  <a:off x="4397400" y="6157440"/>
                  <a:ext cx="3687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24" name=""/>
            <p:cNvSpPr/>
            <p:nvPr/>
          </p:nvSpPr>
          <p:spPr>
            <a:xfrm>
              <a:off x="1021680" y="4734000"/>
              <a:ext cx="802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peut ( par exemple) sonder la freq spat. B/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vec un gain   1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n telescope de diamètre B sonderait cette freq avec un gain ze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31560" y="649440"/>
            <a:ext cx="59641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resolution ....haute,  c'est quoi  ?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11320" y="1281240"/>
            <a:ext cx="5583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deux points de vue à syntheti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3040" y="1979640"/>
            <a:ext cx="8593200" cy="2381040"/>
            <a:chOff x="203040" y="1979640"/>
            <a:chExt cx="8593200" cy="2381040"/>
          </a:xfrm>
        </p:grpSpPr>
        <p:sp>
          <p:nvSpPr>
            <p:cNvPr id="259" name=""/>
            <p:cNvSpPr/>
            <p:nvPr/>
          </p:nvSpPr>
          <p:spPr>
            <a:xfrm>
              <a:off x="993600" y="2117520"/>
              <a:ext cx="7802640" cy="2216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380880" indent="-380880">
                <a:lnSpc>
                  <a:spcPct val="87000"/>
                </a:lnSpc>
                <a:spcBef>
                  <a:spcPts val="1225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omic Sans MS"/>
                </a:rPr>
                <a:t>astronome ( cahier des charges  scientifiq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87000"/>
                </a:lnSpc>
                <a:spcBef>
                  <a:spcPts val="1225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2400" spc="-1" strike="noStrike">
                  <a:solidFill>
                    <a:srgbClr val="ffffff"/>
                  </a:solidFill>
                  <a:latin typeface="Comic Sans MS"/>
                </a:rPr>
                <a:t>atteindre une échelle  de détail suffisamment fine  pour permettre une exploitation scientif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87000"/>
                </a:lnSpc>
                <a:spcBef>
                  <a:spcPts val="1026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on doit aller chercher la milliarcseconde : 5 10 </a:t>
              </a:r>
              <a:r>
                <a:rPr b="0" lang="fr-FR" sz="2000" spc="-1" strike="noStrike" baseline="30000">
                  <a:solidFill>
                    <a:srgbClr val="ffffff"/>
                  </a:solidFill>
                  <a:latin typeface="Comic Sans MS"/>
                </a:rPr>
                <a:t>- 9  radi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87000"/>
                </a:lnSpc>
                <a:spcBef>
                  <a:spcPts val="1026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ffffff"/>
                  </a:solidFill>
                  <a:latin typeface="Comic Sans MS"/>
                </a:rPr>
                <a:t>distinguer un basketteur sur le limbe lunaire     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ffffff"/>
                  </a:solidFill>
                  <a:latin typeface="Comic Sans MS"/>
                </a:rPr>
                <a:t>ou un petit pois vu à 1000 km</a:t>
              </a: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326880" y="2394000"/>
              <a:ext cx="4734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203040" y="1979640"/>
              <a:ext cx="8520120" cy="23810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03040" y="4498920"/>
            <a:ext cx="8593200" cy="2017800"/>
            <a:chOff x="203040" y="4498920"/>
            <a:chExt cx="8593200" cy="201780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426960" y="5240160"/>
              <a:ext cx="42084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993600" y="4789440"/>
              <a:ext cx="7802640" cy="1555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380880" indent="-380880">
                <a:lnSpc>
                  <a:spcPct val="87000"/>
                </a:lnSpc>
                <a:spcBef>
                  <a:spcPts val="1225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omic Sans MS"/>
                </a:rPr>
                <a:t>ingenieur ( cahier des charges techniq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87000"/>
                </a:lnSpc>
                <a:spcBef>
                  <a:spcPts val="1225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fr-FR" sz="2400" spc="-1" strike="noStrike">
                  <a:solidFill>
                    <a:srgbClr val="ffffff"/>
                  </a:solidFill>
                  <a:latin typeface="Comic Sans MS"/>
                </a:rPr>
                <a:t>fabriquer l'instrument qui va bien :               augmenter la finesse  du lobe d'analy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87000"/>
                </a:lnSpc>
                <a:spcBef>
                  <a:spcPts val="1026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pb : limite imposée par la diffra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3040" y="4498920"/>
              <a:ext cx="8534520" cy="2017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5" name="PlaceHolder 1"/>
          <p:cNvSpPr>
            <a:spLocks noGrp="1"/>
          </p:cNvSpPr>
          <p:nvPr>
            <p:ph type="title"/>
          </p:nvPr>
        </p:nvSpPr>
        <p:spPr>
          <a:xfrm>
            <a:off x="364680" y="549360"/>
            <a:ext cx="5659560" cy="528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fonctions d'un interféromètr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6" name=""/>
          <p:cNvSpPr/>
          <p:nvPr/>
        </p:nvSpPr>
        <p:spPr>
          <a:xfrm>
            <a:off x="485640" y="1265400"/>
            <a:ext cx="599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00ff"/>
                </a:solidFill>
                <a:latin typeface="Comic Sans MS"/>
              </a:rPr>
              <a:t>comme instrument scientif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interféromètre a pour fon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'echantillonner la surface d'onde incid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r en tirer  ( grace à Mrs Van Cittert &amp; Zerni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6600ff"/>
                </a:solidFill>
                <a:latin typeface="Comic Sans MS"/>
              </a:rPr>
              <a:t>un echantillonnage du spectre spatial de l'ob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7" name=""/>
          <p:cNvGrpSpPr/>
          <p:nvPr/>
        </p:nvGrpSpPr>
        <p:grpSpPr>
          <a:xfrm>
            <a:off x="174600" y="5245200"/>
            <a:ext cx="8839080" cy="1357560"/>
            <a:chOff x="174600" y="5245200"/>
            <a:chExt cx="8839080" cy="1357560"/>
          </a:xfrm>
        </p:grpSpPr>
        <p:sp>
          <p:nvSpPr>
            <p:cNvPr id="5628" name=""/>
            <p:cNvSpPr/>
            <p:nvPr/>
          </p:nvSpPr>
          <p:spPr>
            <a:xfrm>
              <a:off x="312480" y="5383080"/>
              <a:ext cx="1697040" cy="459720"/>
            </a:xfrm>
            <a:prstGeom prst="rect">
              <a:avLst/>
            </a:pr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telesco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2223720" y="5383080"/>
              <a:ext cx="2774520" cy="459720"/>
            </a:xfrm>
            <a:prstGeom prst="rect">
              <a:avLst/>
            </a:pr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guidage faiscea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4992840" y="5383080"/>
              <a:ext cx="2320560" cy="459720"/>
            </a:xfrm>
            <a:prstGeom prst="rect">
              <a:avLst/>
            </a:pr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ecombinai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7378200" y="5383080"/>
              <a:ext cx="1531080" cy="459720"/>
            </a:xfrm>
            <a:prstGeom prst="rect">
              <a:avLst/>
            </a:pr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det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2" name=""/>
            <p:cNvGrpSpPr/>
            <p:nvPr/>
          </p:nvGrpSpPr>
          <p:grpSpPr>
            <a:xfrm>
              <a:off x="231840" y="5283360"/>
              <a:ext cx="1844640" cy="981360"/>
              <a:chOff x="231840" y="5283360"/>
              <a:chExt cx="1844640" cy="981360"/>
            </a:xfrm>
          </p:grpSpPr>
          <p:sp>
            <p:nvSpPr>
              <p:cNvPr id="5633" name=""/>
              <p:cNvSpPr/>
              <p:nvPr/>
            </p:nvSpPr>
            <p:spPr>
              <a:xfrm>
                <a:off x="231840" y="5283360"/>
                <a:ext cx="1844640" cy="944280"/>
              </a:xfrm>
              <a:prstGeom prst="rect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601920" y="5865840"/>
                <a:ext cx="132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ff3300"/>
                    </a:solidFill>
                    <a:latin typeface="Comic Sans MS"/>
                  </a:rPr>
                  <a:t>colle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5" name=""/>
            <p:cNvGrpSpPr/>
            <p:nvPr/>
          </p:nvGrpSpPr>
          <p:grpSpPr>
            <a:xfrm>
              <a:off x="2254320" y="5245200"/>
              <a:ext cx="6759360" cy="1028880"/>
              <a:chOff x="2254320" y="5245200"/>
              <a:chExt cx="6759360" cy="1028880"/>
            </a:xfrm>
          </p:grpSpPr>
          <p:sp>
            <p:nvSpPr>
              <p:cNvPr id="5636" name=""/>
              <p:cNvSpPr/>
              <p:nvPr/>
            </p:nvSpPr>
            <p:spPr>
              <a:xfrm>
                <a:off x="5382720" y="5875200"/>
                <a:ext cx="148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ff3300"/>
                    </a:solidFill>
                    <a:latin typeface="Comic Sans MS"/>
                  </a:rPr>
                  <a:t>correl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2254320" y="5245200"/>
                <a:ext cx="6759360" cy="1003320"/>
              </a:xfrm>
              <a:prstGeom prst="rect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8" name=""/>
            <p:cNvGrpSpPr/>
            <p:nvPr/>
          </p:nvGrpSpPr>
          <p:grpSpPr>
            <a:xfrm>
              <a:off x="174600" y="5254560"/>
              <a:ext cx="1959120" cy="1348200"/>
              <a:chOff x="174600" y="5254560"/>
              <a:chExt cx="1959120" cy="1348200"/>
            </a:xfrm>
          </p:grpSpPr>
          <p:sp>
            <p:nvSpPr>
              <p:cNvPr id="5639" name=""/>
              <p:cNvSpPr/>
              <p:nvPr/>
            </p:nvSpPr>
            <p:spPr>
              <a:xfrm>
                <a:off x="174600" y="5254560"/>
                <a:ext cx="1959120" cy="1290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763920" y="6203880"/>
                <a:ext cx="96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entré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1" name=""/>
            <p:cNvGrpSpPr/>
            <p:nvPr/>
          </p:nvGrpSpPr>
          <p:grpSpPr>
            <a:xfrm>
              <a:off x="4454640" y="5297400"/>
              <a:ext cx="903240" cy="1269000"/>
              <a:chOff x="4454640" y="5297400"/>
              <a:chExt cx="903240" cy="1269000"/>
            </a:xfrm>
          </p:grpSpPr>
          <p:sp>
            <p:nvSpPr>
              <p:cNvPr id="5642" name=""/>
              <p:cNvSpPr/>
              <p:nvPr/>
            </p:nvSpPr>
            <p:spPr>
              <a:xfrm>
                <a:off x="4496040" y="6167520"/>
                <a:ext cx="861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sorti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4454640" y="5297400"/>
                <a:ext cx="825480" cy="1262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44" name=""/>
          <p:cNvSpPr/>
          <p:nvPr/>
        </p:nvSpPr>
        <p:spPr>
          <a:xfrm>
            <a:off x="289080" y="3081240"/>
            <a:ext cx="86385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00ff"/>
                </a:solidFill>
                <a:latin typeface="Comic Sans MS"/>
              </a:rPr>
              <a:t>comme montage optiqu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interferometre  a  ( au moins) </a:t>
            </a:r>
            <a:r>
              <a:rPr b="0" lang="fr-FR" sz="2000" spc="-1" strike="noStrike">
                <a:solidFill>
                  <a:srgbClr val="6600ff"/>
                </a:solidFill>
                <a:latin typeface="Comic Sans MS"/>
              </a:rPr>
              <a:t>2 fonctions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6600ff"/>
                </a:solidFill>
                <a:latin typeface="Comic Sans MS"/>
              </a:rPr>
              <a:t>collection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amasser les champs en P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et P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6600ff"/>
                </a:solidFill>
                <a:latin typeface="Comic Sans MS"/>
              </a:rPr>
              <a:t>corrélatio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abrique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*&gt;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 covariance des ch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ttention il faut aussi garantir que la différence des traj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"source-détecteur"  reste bien inférieure à c.t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fr-FR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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(longueur de cohér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5" name="PlaceHolder 1"/>
          <p:cNvSpPr>
            <a:spLocks noGrp="1"/>
          </p:cNvSpPr>
          <p:nvPr>
            <p:ph type="title"/>
          </p:nvPr>
        </p:nvSpPr>
        <p:spPr>
          <a:xfrm>
            <a:off x="309240" y="608040"/>
            <a:ext cx="30877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figuration Fiz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>
            <a:off x="1251000" y="124452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1568520" y="149868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309600" y="1271520"/>
            <a:ext cx="6525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izeau , (c'est le cas académique déjà v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télescope réalise par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llection </a:t>
            </a:r>
            <a:r>
              <a:rPr b="0" lang="fr-FR" sz="2000" spc="-1" strike="noStrike">
                <a:solidFill>
                  <a:srgbClr val="ff0066"/>
                </a:solidFill>
                <a:latin typeface="Comic Sans MS"/>
              </a:rPr>
              <a:t>ET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corré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base est limitée par le diamètre du téle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00ff"/>
                </a:solidFill>
                <a:latin typeface="Comic Sans MS"/>
              </a:rPr>
              <a:t>La pupille de sortie est homothétique de la pupille d'entr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9" name="" descr=""/>
          <p:cNvPicPr/>
          <p:nvPr/>
        </p:nvPicPr>
        <p:blipFill>
          <a:blip r:embed="rId1"/>
          <a:stretch/>
        </p:blipFill>
        <p:spPr>
          <a:xfrm>
            <a:off x="1020600" y="4660920"/>
            <a:ext cx="7923240" cy="2087640"/>
          </a:xfrm>
          <a:prstGeom prst="rect">
            <a:avLst/>
          </a:prstGeom>
          <a:ln w="0">
            <a:noFill/>
          </a:ln>
        </p:spPr>
      </p:pic>
      <p:sp>
        <p:nvSpPr>
          <p:cNvPr id="5650" name=""/>
          <p:cNvSpPr/>
          <p:nvPr/>
        </p:nvSpPr>
        <p:spPr>
          <a:xfrm>
            <a:off x="249840" y="3740040"/>
            <a:ext cx="790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marque : si on écarte les trous du masque (augmenter la 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franges se resserrent, mauvais pour les mesures  (bia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1" name=""/>
          <p:cNvGrpSpPr/>
          <p:nvPr/>
        </p:nvGrpSpPr>
        <p:grpSpPr>
          <a:xfrm>
            <a:off x="5454720" y="1011240"/>
            <a:ext cx="3403080" cy="1699920"/>
            <a:chOff x="5454720" y="1011240"/>
            <a:chExt cx="3403080" cy="1699920"/>
          </a:xfrm>
        </p:grpSpPr>
        <p:grpSp>
          <p:nvGrpSpPr>
            <p:cNvPr id="5652" name=""/>
            <p:cNvGrpSpPr/>
            <p:nvPr/>
          </p:nvGrpSpPr>
          <p:grpSpPr>
            <a:xfrm>
              <a:off x="5454720" y="1011240"/>
              <a:ext cx="3403080" cy="1699920"/>
              <a:chOff x="5454720" y="1011240"/>
              <a:chExt cx="3403080" cy="1699920"/>
            </a:xfrm>
          </p:grpSpPr>
          <p:sp>
            <p:nvSpPr>
              <p:cNvPr id="5653" name=""/>
              <p:cNvSpPr/>
              <p:nvPr/>
            </p:nvSpPr>
            <p:spPr>
              <a:xfrm>
                <a:off x="7715880" y="1694880"/>
                <a:ext cx="744840" cy="345240"/>
              </a:xfrm>
              <a:custGeom>
                <a:avLst/>
                <a:gdLst/>
                <a:ahLst/>
                <a:rect l="l" t="t" r="r" b="b"/>
                <a:pathLst>
                  <a:path w="462" h="214">
                    <a:moveTo>
                      <a:pt x="0" y="0"/>
                    </a:moveTo>
                    <a:lnTo>
                      <a:pt x="462" y="119"/>
                    </a:lnTo>
                    <a:lnTo>
                      <a:pt x="0" y="21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6488640" y="1138320"/>
                <a:ext cx="167760" cy="1419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55" name=""/>
              <p:cNvGrpSpPr/>
              <p:nvPr/>
            </p:nvGrpSpPr>
            <p:grpSpPr>
              <a:xfrm>
                <a:off x="6377400" y="1125720"/>
                <a:ext cx="62280" cy="1432440"/>
                <a:chOff x="6377400" y="1125720"/>
                <a:chExt cx="62280" cy="1432440"/>
              </a:xfrm>
            </p:grpSpPr>
            <p:sp>
              <p:nvSpPr>
                <p:cNvPr id="5656" name=""/>
                <p:cNvSpPr/>
                <p:nvPr/>
              </p:nvSpPr>
              <p:spPr>
                <a:xfrm>
                  <a:off x="6380640" y="1125720"/>
                  <a:ext cx="25200" cy="14324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7" name=""/>
                <p:cNvSpPr/>
                <p:nvPr/>
              </p:nvSpPr>
              <p:spPr>
                <a:xfrm>
                  <a:off x="6377400" y="1285200"/>
                  <a:ext cx="62280" cy="140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8" name=""/>
                <p:cNvSpPr/>
                <p:nvPr/>
              </p:nvSpPr>
              <p:spPr>
                <a:xfrm>
                  <a:off x="6377400" y="2257920"/>
                  <a:ext cx="49320" cy="140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9" name=""/>
              <p:cNvSpPr/>
              <p:nvPr/>
            </p:nvSpPr>
            <p:spPr>
              <a:xfrm>
                <a:off x="5454720" y="1350000"/>
                <a:ext cx="2261160" cy="970920"/>
              </a:xfrm>
              <a:custGeom>
                <a:avLst/>
                <a:gdLst/>
                <a:ahLst/>
                <a:rect l="l" t="t" r="r" b="b"/>
                <a:pathLst>
                  <a:path w="1402" h="602">
                    <a:moveTo>
                      <a:pt x="8" y="0"/>
                    </a:moveTo>
                    <a:lnTo>
                      <a:pt x="685" y="0"/>
                    </a:lnTo>
                    <a:lnTo>
                      <a:pt x="1402" y="436"/>
                    </a:lnTo>
                    <a:lnTo>
                      <a:pt x="1394" y="198"/>
                    </a:lnTo>
                    <a:lnTo>
                      <a:pt x="685" y="602"/>
                    </a:lnTo>
                    <a:lnTo>
                      <a:pt x="0" y="60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7670880" y="1636920"/>
                <a:ext cx="90000" cy="4726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7754760" y="1694880"/>
                <a:ext cx="64080" cy="127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6121080" y="1669320"/>
                <a:ext cx="9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7803720" y="213084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4" name=""/>
              <p:cNvGrpSpPr/>
              <p:nvPr/>
            </p:nvGrpSpPr>
            <p:grpSpPr>
              <a:xfrm>
                <a:off x="8435520" y="1591560"/>
                <a:ext cx="76680" cy="613800"/>
                <a:chOff x="8435520" y="1591560"/>
                <a:chExt cx="76680" cy="613800"/>
              </a:xfrm>
            </p:grpSpPr>
            <p:sp>
              <p:nvSpPr>
                <p:cNvPr id="5665" name=""/>
                <p:cNvSpPr/>
                <p:nvPr/>
              </p:nvSpPr>
              <p:spPr>
                <a:xfrm>
                  <a:off x="8435520" y="1591560"/>
                  <a:ext cx="76680" cy="153000"/>
                </a:xfrm>
                <a:custGeom>
                  <a:avLst/>
                  <a:gdLst/>
                  <a:ahLst/>
                  <a:rect l="l" t="t" r="r" b="b"/>
                  <a:pathLst>
                    <a:path w="48" h="95">
                      <a:moveTo>
                        <a:pt x="24" y="0"/>
                      </a:moveTo>
                      <a:lnTo>
                        <a:pt x="48" y="95"/>
                      </a:lnTo>
                      <a:lnTo>
                        <a:pt x="24" y="95"/>
                      </a:lnTo>
                      <a:lnTo>
                        <a:pt x="0" y="9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6" name=""/>
                <p:cNvSpPr/>
                <p:nvPr/>
              </p:nvSpPr>
              <p:spPr>
                <a:xfrm flipV="1">
                  <a:off x="8473680" y="1744200"/>
                  <a:ext cx="1800" cy="46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67" name=""/>
              <p:cNvSpPr/>
              <p:nvPr/>
            </p:nvSpPr>
            <p:spPr>
              <a:xfrm>
                <a:off x="7767720" y="1949760"/>
                <a:ext cx="64080" cy="116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8" name=""/>
              <p:cNvGrpSpPr/>
              <p:nvPr/>
            </p:nvGrpSpPr>
            <p:grpSpPr>
              <a:xfrm>
                <a:off x="7754760" y="1694880"/>
                <a:ext cx="76680" cy="370800"/>
                <a:chOff x="7754760" y="1694880"/>
                <a:chExt cx="76680" cy="370800"/>
              </a:xfrm>
            </p:grpSpPr>
            <p:sp>
              <p:nvSpPr>
                <p:cNvPr id="5669" name=""/>
                <p:cNvSpPr/>
                <p:nvPr/>
              </p:nvSpPr>
              <p:spPr>
                <a:xfrm>
                  <a:off x="7754760" y="1694880"/>
                  <a:ext cx="64080" cy="127440"/>
                </a:xfrm>
                <a:prstGeom prst="ellipse">
                  <a:avLst/>
                </a:prstGeom>
                <a:noFill/>
                <a:ln w="255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0" name=""/>
                <p:cNvSpPr/>
                <p:nvPr/>
              </p:nvSpPr>
              <p:spPr>
                <a:xfrm>
                  <a:off x="7767360" y="1949400"/>
                  <a:ext cx="64080" cy="116280"/>
                </a:xfrm>
                <a:prstGeom prst="ellipse">
                  <a:avLst/>
                </a:prstGeom>
                <a:noFill/>
                <a:ln w="255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71" name=""/>
              <p:cNvSpPr/>
              <p:nvPr/>
            </p:nvSpPr>
            <p:spPr>
              <a:xfrm>
                <a:off x="6511320" y="1023840"/>
                <a:ext cx="2346480" cy="168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5573880" y="1011240"/>
                <a:ext cx="88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entré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7663680" y="1172520"/>
                <a:ext cx="79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sorti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4" name=""/>
            <p:cNvSpPr/>
            <p:nvPr/>
          </p:nvSpPr>
          <p:spPr>
            <a:xfrm>
              <a:off x="7315200" y="1654200"/>
              <a:ext cx="115920" cy="363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5" name="PlaceHolder 1"/>
          <p:cNvSpPr>
            <a:spLocks noGrp="1"/>
          </p:cNvSpPr>
          <p:nvPr>
            <p:ph type="title"/>
          </p:nvPr>
        </p:nvSpPr>
        <p:spPr>
          <a:xfrm>
            <a:off x="248760" y="604440"/>
            <a:ext cx="414180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nfiguration Michel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"/>
          <p:cNvSpPr/>
          <p:nvPr/>
        </p:nvSpPr>
        <p:spPr>
          <a:xfrm>
            <a:off x="424800" y="3936960"/>
            <a:ext cx="8366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gros avantag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and on fait varier la base, l'interfrange ne change 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échantillonne de façon identique les figures de fr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convenient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: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reduction du champ de vue, metrologie exigeant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erd la convolution pour la relation objet-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"/>
          <p:cNvSpPr/>
          <p:nvPr/>
        </p:nvSpPr>
        <p:spPr>
          <a:xfrm>
            <a:off x="437040" y="2712960"/>
            <a:ext cx="84315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base n'est pas limit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ar le diamètre du téle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e sont les miroirs collecteurs qui fixent la frequence spatiale sond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8" name=""/>
          <p:cNvGrpSpPr/>
          <p:nvPr/>
        </p:nvGrpSpPr>
        <p:grpSpPr>
          <a:xfrm>
            <a:off x="208080" y="608040"/>
            <a:ext cx="8551440" cy="2779200"/>
            <a:chOff x="208080" y="608040"/>
            <a:chExt cx="8551440" cy="2779200"/>
          </a:xfrm>
        </p:grpSpPr>
        <p:sp>
          <p:nvSpPr>
            <p:cNvPr id="5679" name=""/>
            <p:cNvSpPr/>
            <p:nvPr/>
          </p:nvSpPr>
          <p:spPr>
            <a:xfrm>
              <a:off x="208080" y="1371600"/>
              <a:ext cx="5482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Michelson :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les étapes collection et corréla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sont bien séparées et indépenda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0" name=""/>
            <p:cNvGrpSpPr/>
            <p:nvPr/>
          </p:nvGrpSpPr>
          <p:grpSpPr>
            <a:xfrm>
              <a:off x="5556240" y="608040"/>
              <a:ext cx="3203280" cy="2779200"/>
              <a:chOff x="5556240" y="608040"/>
              <a:chExt cx="3203280" cy="2779200"/>
            </a:xfrm>
          </p:grpSpPr>
          <p:grpSp>
            <p:nvGrpSpPr>
              <p:cNvPr id="5681" name=""/>
              <p:cNvGrpSpPr/>
              <p:nvPr/>
            </p:nvGrpSpPr>
            <p:grpSpPr>
              <a:xfrm>
                <a:off x="5556240" y="608040"/>
                <a:ext cx="3203280" cy="2779200"/>
                <a:chOff x="5556240" y="608040"/>
                <a:chExt cx="3203280" cy="2779200"/>
              </a:xfrm>
            </p:grpSpPr>
            <p:sp>
              <p:nvSpPr>
                <p:cNvPr id="5682" name=""/>
                <p:cNvSpPr/>
                <p:nvPr/>
              </p:nvSpPr>
              <p:spPr>
                <a:xfrm>
                  <a:off x="7818480" y="1878840"/>
                  <a:ext cx="736920" cy="330120"/>
                </a:xfrm>
                <a:custGeom>
                  <a:avLst/>
                  <a:gdLst/>
                  <a:ahLst/>
                  <a:rect l="l" t="t" r="r" b="b"/>
                  <a:pathLst>
                    <a:path w="462" h="207">
                      <a:moveTo>
                        <a:pt x="0" y="0"/>
                      </a:moveTo>
                      <a:lnTo>
                        <a:pt x="462" y="120"/>
                      </a:lnTo>
                      <a:lnTo>
                        <a:pt x="0" y="20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3" name=""/>
                <p:cNvSpPr/>
                <p:nvPr/>
              </p:nvSpPr>
              <p:spPr>
                <a:xfrm>
                  <a:off x="6604200" y="1314360"/>
                  <a:ext cx="165960" cy="14094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4" name=""/>
                <p:cNvSpPr/>
                <p:nvPr/>
              </p:nvSpPr>
              <p:spPr>
                <a:xfrm>
                  <a:off x="5556240" y="761040"/>
                  <a:ext cx="2262240" cy="2451960"/>
                </a:xfrm>
                <a:custGeom>
                  <a:avLst/>
                  <a:gdLst/>
                  <a:ahLst/>
                  <a:rect l="l" t="t" r="r" b="b"/>
                  <a:pathLst>
                    <a:path w="1418" h="1538">
                      <a:moveTo>
                        <a:pt x="24" y="0"/>
                      </a:moveTo>
                      <a:lnTo>
                        <a:pt x="502" y="0"/>
                      </a:lnTo>
                      <a:lnTo>
                        <a:pt x="502" y="478"/>
                      </a:lnTo>
                      <a:lnTo>
                        <a:pt x="701" y="478"/>
                      </a:lnTo>
                      <a:lnTo>
                        <a:pt x="1418" y="916"/>
                      </a:lnTo>
                      <a:lnTo>
                        <a:pt x="1410" y="685"/>
                      </a:lnTo>
                      <a:lnTo>
                        <a:pt x="701" y="1092"/>
                      </a:lnTo>
                      <a:lnTo>
                        <a:pt x="494" y="1092"/>
                      </a:lnTo>
                      <a:lnTo>
                        <a:pt x="494" y="1538"/>
                      </a:lnTo>
                      <a:lnTo>
                        <a:pt x="0" y="1538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5" name=""/>
                <p:cNvSpPr/>
                <p:nvPr/>
              </p:nvSpPr>
              <p:spPr>
                <a:xfrm>
                  <a:off x="7773480" y="1821240"/>
                  <a:ext cx="89280" cy="457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6" name=""/>
                <p:cNvSpPr/>
                <p:nvPr/>
              </p:nvSpPr>
              <p:spPr>
                <a:xfrm>
                  <a:off x="7856640" y="1878840"/>
                  <a:ext cx="63360" cy="1018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7" name=""/>
                <p:cNvSpPr/>
                <p:nvPr/>
              </p:nvSpPr>
              <p:spPr>
                <a:xfrm>
                  <a:off x="7856640" y="1878840"/>
                  <a:ext cx="63360" cy="101880"/>
                </a:xfrm>
                <a:prstGeom prst="ellipse">
                  <a:avLst/>
                </a:prstGeom>
                <a:noFill/>
                <a:ln w="255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8" name=""/>
                <p:cNvSpPr/>
                <p:nvPr/>
              </p:nvSpPr>
              <p:spPr>
                <a:xfrm>
                  <a:off x="5681160" y="1738440"/>
                  <a:ext cx="116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9" name=""/>
                <p:cNvSpPr/>
                <p:nvPr/>
              </p:nvSpPr>
              <p:spPr>
                <a:xfrm>
                  <a:off x="7904160" y="2298240"/>
                  <a:ext cx="1105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90" name=""/>
                <p:cNvGrpSpPr/>
                <p:nvPr/>
              </p:nvGrpSpPr>
              <p:grpSpPr>
                <a:xfrm>
                  <a:off x="8529840" y="1765800"/>
                  <a:ext cx="75960" cy="608400"/>
                  <a:chOff x="8529840" y="1765800"/>
                  <a:chExt cx="75960" cy="608400"/>
                </a:xfrm>
              </p:grpSpPr>
              <p:sp>
                <p:nvSpPr>
                  <p:cNvPr id="5691" name=""/>
                  <p:cNvSpPr/>
                  <p:nvPr/>
                </p:nvSpPr>
                <p:spPr>
                  <a:xfrm>
                    <a:off x="8529840" y="1765800"/>
                    <a:ext cx="759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5">
                        <a:moveTo>
                          <a:pt x="24" y="0"/>
                        </a:moveTo>
                        <a:lnTo>
                          <a:pt x="48" y="95"/>
                        </a:lnTo>
                        <a:lnTo>
                          <a:pt x="24" y="95"/>
                        </a:lnTo>
                        <a:lnTo>
                          <a:pt x="0" y="95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2" name=""/>
                  <p:cNvSpPr/>
                  <p:nvPr/>
                </p:nvSpPr>
                <p:spPr>
                  <a:xfrm flipV="1">
                    <a:off x="8567640" y="1917000"/>
                    <a:ext cx="1800" cy="457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93" name=""/>
                <p:cNvSpPr/>
                <p:nvPr/>
              </p:nvSpPr>
              <p:spPr>
                <a:xfrm>
                  <a:off x="7869240" y="2121120"/>
                  <a:ext cx="63360" cy="113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4" name=""/>
                <p:cNvSpPr/>
                <p:nvPr/>
              </p:nvSpPr>
              <p:spPr>
                <a:xfrm>
                  <a:off x="7869240" y="2121120"/>
                  <a:ext cx="63360" cy="113040"/>
                </a:xfrm>
                <a:prstGeom prst="ellipse">
                  <a:avLst/>
                </a:prstGeom>
                <a:noFill/>
                <a:ln w="2556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95" name=""/>
                <p:cNvGrpSpPr/>
                <p:nvPr/>
              </p:nvGrpSpPr>
              <p:grpSpPr>
                <a:xfrm>
                  <a:off x="5771160" y="761040"/>
                  <a:ext cx="101520" cy="2439000"/>
                  <a:chOff x="5771160" y="761040"/>
                  <a:chExt cx="101520" cy="2439000"/>
                </a:xfrm>
              </p:grpSpPr>
              <p:sp>
                <p:nvSpPr>
                  <p:cNvPr id="5696" name=""/>
                  <p:cNvSpPr/>
                  <p:nvPr/>
                </p:nvSpPr>
                <p:spPr>
                  <a:xfrm>
                    <a:off x="5771160" y="2983320"/>
                    <a:ext cx="10152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6">
                        <a:moveTo>
                          <a:pt x="32" y="136"/>
                        </a:moveTo>
                        <a:lnTo>
                          <a:pt x="0" y="0"/>
                        </a:lnTo>
                        <a:lnTo>
                          <a:pt x="32" y="0"/>
                        </a:lnTo>
                        <a:lnTo>
                          <a:pt x="64" y="0"/>
                        </a:lnTo>
                        <a:lnTo>
                          <a:pt x="32" y="136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7" name=""/>
                  <p:cNvSpPr/>
                  <p:nvPr/>
                </p:nvSpPr>
                <p:spPr>
                  <a:xfrm>
                    <a:off x="5771160" y="761040"/>
                    <a:ext cx="10152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36">
                        <a:moveTo>
                          <a:pt x="32" y="0"/>
                        </a:moveTo>
                        <a:lnTo>
                          <a:pt x="64" y="136"/>
                        </a:lnTo>
                        <a:lnTo>
                          <a:pt x="32" y="136"/>
                        </a:lnTo>
                        <a:lnTo>
                          <a:pt x="0" y="136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8" name=""/>
                  <p:cNvSpPr/>
                  <p:nvPr/>
                </p:nvSpPr>
                <p:spPr>
                  <a:xfrm>
                    <a:off x="5809320" y="964800"/>
                    <a:ext cx="25560" cy="203112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99" name=""/>
                <p:cNvGrpSpPr/>
                <p:nvPr/>
              </p:nvGrpSpPr>
              <p:grpSpPr>
                <a:xfrm>
                  <a:off x="6532560" y="1323720"/>
                  <a:ext cx="61920" cy="1415520"/>
                  <a:chOff x="6532560" y="1323720"/>
                  <a:chExt cx="61920" cy="1415520"/>
                </a:xfrm>
              </p:grpSpPr>
              <p:sp>
                <p:nvSpPr>
                  <p:cNvPr id="5700" name=""/>
                  <p:cNvSpPr/>
                  <p:nvPr/>
                </p:nvSpPr>
                <p:spPr>
                  <a:xfrm>
                    <a:off x="6550200" y="1323720"/>
                    <a:ext cx="25200" cy="14155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1" name=""/>
                  <p:cNvSpPr/>
                  <p:nvPr/>
                </p:nvSpPr>
                <p:spPr>
                  <a:xfrm>
                    <a:off x="6532560" y="1481040"/>
                    <a:ext cx="61920" cy="13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2" name=""/>
                  <p:cNvSpPr/>
                  <p:nvPr/>
                </p:nvSpPr>
                <p:spPr>
                  <a:xfrm>
                    <a:off x="6532560" y="2442600"/>
                    <a:ext cx="49320" cy="13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03" name=""/>
                <p:cNvSpPr/>
                <p:nvPr/>
              </p:nvSpPr>
              <p:spPr>
                <a:xfrm>
                  <a:off x="6249960" y="608040"/>
                  <a:ext cx="231120" cy="27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4" name=""/>
                <p:cNvSpPr/>
                <p:nvPr/>
              </p:nvSpPr>
              <p:spPr>
                <a:xfrm>
                  <a:off x="6402960" y="761040"/>
                  <a:ext cx="231480" cy="27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5" name=""/>
                <p:cNvSpPr/>
                <p:nvPr/>
              </p:nvSpPr>
              <p:spPr>
                <a:xfrm flipH="1">
                  <a:off x="6251040" y="2365200"/>
                  <a:ext cx="231480" cy="27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6" name=""/>
                <p:cNvSpPr/>
                <p:nvPr/>
              </p:nvSpPr>
              <p:spPr>
                <a:xfrm flipH="1">
                  <a:off x="6230520" y="3111480"/>
                  <a:ext cx="231480" cy="27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7" name=""/>
                <p:cNvSpPr/>
                <p:nvPr/>
              </p:nvSpPr>
              <p:spPr>
                <a:xfrm>
                  <a:off x="6224400" y="1408320"/>
                  <a:ext cx="231480" cy="27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8" name=""/>
                <p:cNvSpPr/>
                <p:nvPr/>
              </p:nvSpPr>
              <p:spPr>
                <a:xfrm>
                  <a:off x="6104880" y="608040"/>
                  <a:ext cx="164160" cy="323640"/>
                </a:xfrm>
                <a:prstGeom prst="ellipse">
                  <a:avLst/>
                </a:pr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9" name=""/>
                <p:cNvSpPr/>
                <p:nvPr/>
              </p:nvSpPr>
              <p:spPr>
                <a:xfrm>
                  <a:off x="6100200" y="3042720"/>
                  <a:ext cx="164160" cy="323280"/>
                </a:xfrm>
                <a:prstGeom prst="ellipse">
                  <a:avLst/>
                </a:prstGeom>
                <a:noFill/>
                <a:ln w="381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0" name=""/>
                <p:cNvSpPr/>
                <p:nvPr/>
              </p:nvSpPr>
              <p:spPr>
                <a:xfrm>
                  <a:off x="6452640" y="1288800"/>
                  <a:ext cx="2306880" cy="1506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11" name=""/>
              <p:cNvSpPr/>
              <p:nvPr/>
            </p:nvSpPr>
            <p:spPr>
              <a:xfrm>
                <a:off x="7445520" y="1871640"/>
                <a:ext cx="101520" cy="304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12" name=""/>
          <p:cNvSpPr/>
          <p:nvPr/>
        </p:nvSpPr>
        <p:spPr>
          <a:xfrm>
            <a:off x="574920" y="5940360"/>
            <a:ext cx="7925760" cy="703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La pupille de sortie n'est pas homothétique de la pupille d'ent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la disposition est quasiment ce qu'on ve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3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3100680" cy="825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questions de pup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925560" y="155736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>
            <a:off x="592200" y="1247760"/>
            <a:ext cx="855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ff"/>
                </a:solidFill>
                <a:latin typeface="Comic Sans MS"/>
              </a:rPr>
              <a:t>pupille d'entre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nsemble des ouvertures collectrices  (étape "coll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ff"/>
                </a:solidFill>
                <a:latin typeface="Comic Sans MS"/>
              </a:rPr>
              <a:t>pupille de sorti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nsemble des images des ouvertures collec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etape recombinai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>
            <a:off x="731880" y="3776760"/>
            <a:ext cx="672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ttention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"pupille de sortie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ne signifie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"image de la pupille d'entrée",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is ça peut ar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7" name="PlaceHolder 1"/>
          <p:cNvSpPr>
            <a:spLocks noGrp="1"/>
          </p:cNvSpPr>
          <p:nvPr>
            <p:ph type="title"/>
          </p:nvPr>
        </p:nvSpPr>
        <p:spPr>
          <a:xfrm>
            <a:off x="380520" y="709200"/>
            <a:ext cx="58071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xtension de la configuration Michel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1233360" y="930240"/>
            <a:ext cx="428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519840" y="1415880"/>
            <a:ext cx="714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eut aller plus loin dans la séparation des collecteur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élescopes indépendants !              </a:t>
            </a:r>
            <a:r>
              <a:rPr b="0" lang="fr-FR" sz="1800" spc="-1" strike="noStrike">
                <a:solidFill>
                  <a:srgbClr val="6600ff"/>
                </a:solidFill>
                <a:latin typeface="Comic Sans MS"/>
              </a:rPr>
              <a:t>Radioastronomes, Labey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239040" y="4230720"/>
            <a:ext cx="4642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deux configurations F et 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éalisent en principe  l'équilib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s trajets optiques par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e n'est plus le cas 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 y a des contraintes métrolog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 termes de lignes de ret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équilibrage des chemins optiqu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1" name=""/>
          <p:cNvGrpSpPr/>
          <p:nvPr/>
        </p:nvGrpSpPr>
        <p:grpSpPr>
          <a:xfrm>
            <a:off x="-195120" y="1623960"/>
            <a:ext cx="5544360" cy="2115720"/>
            <a:chOff x="-195120" y="1623960"/>
            <a:chExt cx="5544360" cy="2115720"/>
          </a:xfrm>
        </p:grpSpPr>
        <p:sp>
          <p:nvSpPr>
            <p:cNvPr id="5722" name=""/>
            <p:cNvSpPr/>
            <p:nvPr/>
          </p:nvSpPr>
          <p:spPr>
            <a:xfrm>
              <a:off x="359640" y="1623960"/>
              <a:ext cx="291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2089800" y="3558240"/>
              <a:ext cx="1178280" cy="181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366840" y="1893960"/>
              <a:ext cx="355320" cy="1020600"/>
            </a:xfrm>
            <a:prstGeom prst="line">
              <a:avLst/>
            </a:prstGeom>
            <a:ln w="73080">
              <a:solidFill>
                <a:srgbClr val="dfdf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3629160" y="1893960"/>
              <a:ext cx="353160" cy="1020600"/>
            </a:xfrm>
            <a:prstGeom prst="line">
              <a:avLst/>
            </a:prstGeom>
            <a:ln w="73080">
              <a:solidFill>
                <a:srgbClr val="dfdf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818280" y="2302560"/>
              <a:ext cx="3282120" cy="1033560"/>
            </a:xfrm>
            <a:custGeom>
              <a:avLst/>
              <a:gdLst/>
              <a:ahLst/>
              <a:rect l="l" t="t" r="r" b="b"/>
              <a:pathLst>
                <a:path w="1774" h="559">
                  <a:moveTo>
                    <a:pt x="6" y="559"/>
                  </a:moveTo>
                  <a:lnTo>
                    <a:pt x="1571" y="0"/>
                  </a:lnTo>
                  <a:lnTo>
                    <a:pt x="1774" y="559"/>
                  </a:lnTo>
                  <a:lnTo>
                    <a:pt x="0" y="55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-195120" y="3678480"/>
              <a:ext cx="2005200" cy="61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3344040" y="3665520"/>
              <a:ext cx="2005200" cy="61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29" name=""/>
            <p:cNvGrpSpPr/>
            <p:nvPr/>
          </p:nvGrpSpPr>
          <p:grpSpPr>
            <a:xfrm>
              <a:off x="2115720" y="3240360"/>
              <a:ext cx="761040" cy="306000"/>
              <a:chOff x="2115720" y="3240360"/>
              <a:chExt cx="761040" cy="306000"/>
            </a:xfrm>
          </p:grpSpPr>
          <p:grpSp>
            <p:nvGrpSpPr>
              <p:cNvPr id="5730" name=""/>
              <p:cNvGrpSpPr/>
              <p:nvPr/>
            </p:nvGrpSpPr>
            <p:grpSpPr>
              <a:xfrm>
                <a:off x="2115720" y="3240360"/>
                <a:ext cx="761040" cy="306000"/>
                <a:chOff x="2115720" y="3240360"/>
                <a:chExt cx="761040" cy="306000"/>
              </a:xfrm>
            </p:grpSpPr>
            <p:sp>
              <p:nvSpPr>
                <p:cNvPr id="5731" name=""/>
                <p:cNvSpPr/>
                <p:nvPr/>
              </p:nvSpPr>
              <p:spPr>
                <a:xfrm>
                  <a:off x="2115720" y="3240360"/>
                  <a:ext cx="761040" cy="239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2" name=""/>
                <p:cNvSpPr/>
                <p:nvPr/>
              </p:nvSpPr>
              <p:spPr>
                <a:xfrm>
                  <a:off x="2115720" y="3240360"/>
                  <a:ext cx="761040" cy="239760"/>
                </a:xfrm>
                <a:custGeom>
                  <a:avLst/>
                  <a:gdLst/>
                  <a:ahLst/>
                  <a:rect l="l" t="t" r="r" b="b"/>
                  <a:pathLst>
                    <a:path w="412" h="130">
                      <a:moveTo>
                        <a:pt x="0" y="0"/>
                      </a:moveTo>
                      <a:lnTo>
                        <a:pt x="412" y="0"/>
                      </a:lnTo>
                      <a:lnTo>
                        <a:pt x="412" y="130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  <a:moveTo>
                        <a:pt x="6" y="6"/>
                      </a:moveTo>
                      <a:lnTo>
                        <a:pt x="406" y="6"/>
                      </a:lnTo>
                      <a:lnTo>
                        <a:pt x="406" y="123"/>
                      </a:lnTo>
                      <a:lnTo>
                        <a:pt x="6" y="123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3" name=""/>
                <p:cNvSpPr/>
                <p:nvPr/>
              </p:nvSpPr>
              <p:spPr>
                <a:xfrm>
                  <a:off x="2464920" y="3293640"/>
                  <a:ext cx="138600" cy="1436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4" name=""/>
                <p:cNvSpPr/>
                <p:nvPr/>
              </p:nvSpPr>
              <p:spPr>
                <a:xfrm>
                  <a:off x="2163240" y="3437640"/>
                  <a:ext cx="96120" cy="108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5" name=""/>
                <p:cNvSpPr/>
                <p:nvPr/>
              </p:nvSpPr>
              <p:spPr>
                <a:xfrm>
                  <a:off x="2721600" y="3437640"/>
                  <a:ext cx="95760" cy="108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36" name=""/>
              <p:cNvSpPr/>
              <p:nvPr/>
            </p:nvSpPr>
            <p:spPr>
              <a:xfrm>
                <a:off x="2143080" y="3280680"/>
                <a:ext cx="42120" cy="73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2795760" y="3280680"/>
                <a:ext cx="42480" cy="73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8" name=""/>
            <p:cNvSpPr/>
            <p:nvPr/>
          </p:nvSpPr>
          <p:spPr>
            <a:xfrm>
              <a:off x="2319120" y="3047760"/>
              <a:ext cx="708480" cy="168480"/>
            </a:xfrm>
            <a:custGeom>
              <a:avLst/>
              <a:gdLst/>
              <a:ahLst/>
              <a:rect l="l" t="t" r="r" b="b"/>
              <a:pathLst>
                <a:path w="383" h="91">
                  <a:moveTo>
                    <a:pt x="0" y="58"/>
                  </a:moveTo>
                  <a:lnTo>
                    <a:pt x="296" y="58"/>
                  </a:lnTo>
                  <a:lnTo>
                    <a:pt x="296" y="91"/>
                  </a:lnTo>
                  <a:lnTo>
                    <a:pt x="383" y="39"/>
                  </a:lnTo>
                  <a:lnTo>
                    <a:pt x="296" y="0"/>
                  </a:lnTo>
                  <a:lnTo>
                    <a:pt x="296" y="32"/>
                  </a:lnTo>
                  <a:lnTo>
                    <a:pt x="0" y="32"/>
                  </a:lnTo>
                  <a:lnTo>
                    <a:pt x="0" y="5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1107000" y="3347640"/>
              <a:ext cx="2790000" cy="1440"/>
            </a:xfrm>
            <a:custGeom>
              <a:avLst/>
              <a:gdLst/>
              <a:ahLst/>
              <a:rect l="l" t="t" r="r" b="b"/>
              <a:pathLst>
                <a:path w="1508" h="0">
                  <a:moveTo>
                    <a:pt x="0" y="0"/>
                  </a:moveTo>
                  <a:lnTo>
                    <a:pt x="568" y="0"/>
                  </a:lnTo>
                  <a:lnTo>
                    <a:pt x="1508" y="0"/>
                  </a:lnTo>
                </a:path>
              </a:pathLst>
            </a:custGeom>
            <a:noFill/>
            <a:ln w="36360">
              <a:solidFill>
                <a:srgbClr val="dfd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2518920" y="3245760"/>
              <a:ext cx="74916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2861280" y="3294000"/>
              <a:ext cx="138240" cy="14400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2561400" y="3438360"/>
              <a:ext cx="96480" cy="10872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3118320" y="3438360"/>
              <a:ext cx="95760" cy="10872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2539080" y="3281040"/>
              <a:ext cx="42480" cy="738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3194280" y="3281040"/>
              <a:ext cx="42120" cy="738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6" name=""/>
            <p:cNvGrpSpPr/>
            <p:nvPr/>
          </p:nvGrpSpPr>
          <p:grpSpPr>
            <a:xfrm>
              <a:off x="3692160" y="2842560"/>
              <a:ext cx="718920" cy="818640"/>
              <a:chOff x="3692160" y="2842560"/>
              <a:chExt cx="718920" cy="818640"/>
            </a:xfrm>
          </p:grpSpPr>
          <p:sp>
            <p:nvSpPr>
              <p:cNvPr id="5747" name=""/>
              <p:cNvSpPr/>
              <p:nvPr/>
            </p:nvSpPr>
            <p:spPr>
              <a:xfrm>
                <a:off x="3789720" y="3010680"/>
                <a:ext cx="621360" cy="649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3789720" y="3010680"/>
                <a:ext cx="610560" cy="649080"/>
              </a:xfrm>
              <a:custGeom>
                <a:avLst/>
                <a:gdLst/>
                <a:ahLst/>
                <a:rect l="l" t="t" r="r" b="b"/>
                <a:pathLst>
                  <a:path w="330" h="351">
                    <a:moveTo>
                      <a:pt x="318" y="104"/>
                    </a:moveTo>
                    <a:lnTo>
                      <a:pt x="313" y="91"/>
                    </a:lnTo>
                    <a:lnTo>
                      <a:pt x="295" y="59"/>
                    </a:lnTo>
                    <a:lnTo>
                      <a:pt x="278" y="39"/>
                    </a:lnTo>
                    <a:lnTo>
                      <a:pt x="249" y="20"/>
                    </a:lnTo>
                    <a:lnTo>
                      <a:pt x="231" y="13"/>
                    </a:lnTo>
                    <a:lnTo>
                      <a:pt x="214" y="7"/>
                    </a:lnTo>
                    <a:lnTo>
                      <a:pt x="185" y="0"/>
                    </a:lnTo>
                    <a:lnTo>
                      <a:pt x="156" y="0"/>
                    </a:lnTo>
                    <a:lnTo>
                      <a:pt x="127" y="7"/>
                    </a:lnTo>
                    <a:lnTo>
                      <a:pt x="110" y="13"/>
                    </a:lnTo>
                    <a:lnTo>
                      <a:pt x="98" y="20"/>
                    </a:lnTo>
                    <a:lnTo>
                      <a:pt x="69" y="39"/>
                    </a:lnTo>
                    <a:lnTo>
                      <a:pt x="46" y="65"/>
                    </a:lnTo>
                    <a:lnTo>
                      <a:pt x="23" y="98"/>
                    </a:lnTo>
                    <a:lnTo>
                      <a:pt x="17" y="111"/>
                    </a:lnTo>
                    <a:lnTo>
                      <a:pt x="11" y="124"/>
                    </a:lnTo>
                    <a:lnTo>
                      <a:pt x="5" y="137"/>
                    </a:lnTo>
                    <a:lnTo>
                      <a:pt x="5" y="150"/>
                    </a:lnTo>
                    <a:lnTo>
                      <a:pt x="0" y="169"/>
                    </a:lnTo>
                    <a:lnTo>
                      <a:pt x="0" y="189"/>
                    </a:lnTo>
                    <a:lnTo>
                      <a:pt x="0" y="195"/>
                    </a:lnTo>
                    <a:lnTo>
                      <a:pt x="5" y="221"/>
                    </a:lnTo>
                    <a:lnTo>
                      <a:pt x="11" y="234"/>
                    </a:lnTo>
                    <a:lnTo>
                      <a:pt x="11" y="241"/>
                    </a:lnTo>
                    <a:lnTo>
                      <a:pt x="17" y="260"/>
                    </a:lnTo>
                    <a:lnTo>
                      <a:pt x="34" y="293"/>
                    </a:lnTo>
                    <a:lnTo>
                      <a:pt x="52" y="312"/>
                    </a:lnTo>
                    <a:lnTo>
                      <a:pt x="81" y="332"/>
                    </a:lnTo>
                    <a:lnTo>
                      <a:pt x="98" y="338"/>
                    </a:lnTo>
                    <a:lnTo>
                      <a:pt x="110" y="345"/>
                    </a:lnTo>
                    <a:lnTo>
                      <a:pt x="116" y="345"/>
                    </a:lnTo>
                    <a:lnTo>
                      <a:pt x="139" y="351"/>
                    </a:lnTo>
                    <a:lnTo>
                      <a:pt x="150" y="351"/>
                    </a:lnTo>
                    <a:lnTo>
                      <a:pt x="162" y="351"/>
                    </a:lnTo>
                    <a:lnTo>
                      <a:pt x="185" y="345"/>
                    </a:lnTo>
                    <a:lnTo>
                      <a:pt x="191" y="345"/>
                    </a:lnTo>
                    <a:lnTo>
                      <a:pt x="208" y="338"/>
                    </a:lnTo>
                    <a:lnTo>
                      <a:pt x="220" y="332"/>
                    </a:lnTo>
                    <a:lnTo>
                      <a:pt x="237" y="325"/>
                    </a:lnTo>
                    <a:lnTo>
                      <a:pt x="266" y="306"/>
                    </a:lnTo>
                    <a:lnTo>
                      <a:pt x="284" y="286"/>
                    </a:lnTo>
                    <a:lnTo>
                      <a:pt x="307" y="254"/>
                    </a:lnTo>
                    <a:lnTo>
                      <a:pt x="313" y="241"/>
                    </a:lnTo>
                    <a:lnTo>
                      <a:pt x="318" y="228"/>
                    </a:lnTo>
                    <a:lnTo>
                      <a:pt x="324" y="208"/>
                    </a:lnTo>
                    <a:lnTo>
                      <a:pt x="324" y="202"/>
                    </a:lnTo>
                    <a:lnTo>
                      <a:pt x="330" y="176"/>
                    </a:lnTo>
                    <a:lnTo>
                      <a:pt x="330" y="156"/>
                    </a:lnTo>
                    <a:lnTo>
                      <a:pt x="330" y="150"/>
                    </a:lnTo>
                    <a:lnTo>
                      <a:pt x="324" y="124"/>
                    </a:lnTo>
                    <a:lnTo>
                      <a:pt x="324" y="117"/>
                    </a:lnTo>
                    <a:lnTo>
                      <a:pt x="318" y="10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3852720" y="2879280"/>
                <a:ext cx="225360" cy="21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3832560" y="2842560"/>
                <a:ext cx="257040" cy="276840"/>
              </a:xfrm>
              <a:custGeom>
                <a:avLst/>
                <a:gdLst/>
                <a:ahLst/>
                <a:rect l="l" t="t" r="r" b="b"/>
                <a:pathLst>
                  <a:path w="139" h="150">
                    <a:moveTo>
                      <a:pt x="104" y="0"/>
                    </a:moveTo>
                    <a:lnTo>
                      <a:pt x="139" y="98"/>
                    </a:lnTo>
                    <a:lnTo>
                      <a:pt x="35" y="150"/>
                    </a:lnTo>
                    <a:lnTo>
                      <a:pt x="0" y="46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3832560" y="3143880"/>
                <a:ext cx="203040" cy="480240"/>
              </a:xfrm>
              <a:custGeom>
                <a:avLst/>
                <a:gdLst/>
                <a:ahLst/>
                <a:rect l="l" t="t" r="r" b="b"/>
                <a:pathLst>
                  <a:path w="110" h="260">
                    <a:moveTo>
                      <a:pt x="58" y="0"/>
                    </a:moveTo>
                    <a:lnTo>
                      <a:pt x="40" y="97"/>
                    </a:lnTo>
                    <a:lnTo>
                      <a:pt x="69" y="208"/>
                    </a:lnTo>
                    <a:lnTo>
                      <a:pt x="110" y="260"/>
                    </a:lnTo>
                    <a:lnTo>
                      <a:pt x="93" y="260"/>
                    </a:lnTo>
                    <a:lnTo>
                      <a:pt x="46" y="221"/>
                    </a:lnTo>
                    <a:lnTo>
                      <a:pt x="6" y="136"/>
                    </a:lnTo>
                    <a:lnTo>
                      <a:pt x="0" y="71"/>
                    </a:lnTo>
                    <a:lnTo>
                      <a:pt x="29" y="6"/>
                    </a:lnTo>
                    <a:lnTo>
                      <a:pt x="58" y="0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3832560" y="3143880"/>
                <a:ext cx="203040" cy="480240"/>
              </a:xfrm>
              <a:custGeom>
                <a:avLst/>
                <a:gdLst/>
                <a:ahLst/>
                <a:rect l="l" t="t" r="r" b="b"/>
                <a:pathLst>
                  <a:path w="110" h="260">
                    <a:moveTo>
                      <a:pt x="58" y="0"/>
                    </a:moveTo>
                    <a:lnTo>
                      <a:pt x="40" y="97"/>
                    </a:lnTo>
                    <a:lnTo>
                      <a:pt x="69" y="208"/>
                    </a:lnTo>
                    <a:lnTo>
                      <a:pt x="110" y="260"/>
                    </a:lnTo>
                    <a:lnTo>
                      <a:pt x="93" y="260"/>
                    </a:lnTo>
                    <a:lnTo>
                      <a:pt x="46" y="221"/>
                    </a:lnTo>
                    <a:lnTo>
                      <a:pt x="6" y="136"/>
                    </a:lnTo>
                    <a:lnTo>
                      <a:pt x="0" y="71"/>
                    </a:lnTo>
                    <a:lnTo>
                      <a:pt x="29" y="6"/>
                    </a:lnTo>
                    <a:lnTo>
                      <a:pt x="52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3832560" y="2855520"/>
                <a:ext cx="214200" cy="82800"/>
              </a:xfrm>
              <a:prstGeom prst="ellips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3843360" y="2842560"/>
                <a:ext cx="181080" cy="108720"/>
              </a:xfrm>
              <a:custGeom>
                <a:avLst/>
                <a:gdLst/>
                <a:ahLst/>
                <a:rect l="l" t="t" r="r" b="b"/>
                <a:pathLst>
                  <a:path w="98" h="59">
                    <a:moveTo>
                      <a:pt x="98" y="7"/>
                    </a:moveTo>
                    <a:lnTo>
                      <a:pt x="98" y="7"/>
                    </a:lnTo>
                    <a:lnTo>
                      <a:pt x="98" y="0"/>
                    </a:lnTo>
                    <a:lnTo>
                      <a:pt x="92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52" y="7"/>
                    </a:lnTo>
                    <a:lnTo>
                      <a:pt x="46" y="7"/>
                    </a:lnTo>
                    <a:lnTo>
                      <a:pt x="34" y="13"/>
                    </a:lnTo>
                    <a:lnTo>
                      <a:pt x="17" y="26"/>
                    </a:lnTo>
                    <a:lnTo>
                      <a:pt x="11" y="33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5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7" y="59"/>
                    </a:lnTo>
                    <a:lnTo>
                      <a:pt x="23" y="59"/>
                    </a:lnTo>
                    <a:lnTo>
                      <a:pt x="46" y="52"/>
                    </a:lnTo>
                    <a:lnTo>
                      <a:pt x="58" y="46"/>
                    </a:lnTo>
                    <a:lnTo>
                      <a:pt x="69" y="39"/>
                    </a:lnTo>
                    <a:lnTo>
                      <a:pt x="81" y="33"/>
                    </a:lnTo>
                    <a:lnTo>
                      <a:pt x="92" y="26"/>
                    </a:lnTo>
                    <a:lnTo>
                      <a:pt x="92" y="26"/>
                    </a:lnTo>
                    <a:lnTo>
                      <a:pt x="98" y="20"/>
                    </a:lnTo>
                    <a:lnTo>
                      <a:pt x="98" y="13"/>
                    </a:lnTo>
                    <a:lnTo>
                      <a:pt x="98" y="7"/>
                    </a:lnTo>
                    <a:lnTo>
                      <a:pt x="98" y="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3897000" y="3010680"/>
                <a:ext cx="192240" cy="108720"/>
              </a:xfrm>
              <a:custGeom>
                <a:avLst/>
                <a:gdLst/>
                <a:ahLst/>
                <a:rect l="l" t="t" r="r" b="b"/>
                <a:pathLst>
                  <a:path w="104" h="59">
                    <a:moveTo>
                      <a:pt x="104" y="0"/>
                    </a:moveTo>
                    <a:lnTo>
                      <a:pt x="87" y="33"/>
                    </a:lnTo>
                    <a:lnTo>
                      <a:pt x="34" y="52"/>
                    </a:lnTo>
                    <a:lnTo>
                      <a:pt x="0" y="59"/>
                    </a:lnTo>
                    <a:lnTo>
                      <a:pt x="0" y="52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3692160" y="3552120"/>
                <a:ext cx="696960" cy="5904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3693600" y="3550680"/>
                <a:ext cx="695160" cy="62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4281480" y="3587400"/>
                <a:ext cx="75600" cy="7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4281480" y="3587400"/>
                <a:ext cx="75600" cy="738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3725280" y="3576240"/>
                <a:ext cx="73800" cy="7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3725280" y="3574440"/>
                <a:ext cx="73800" cy="738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2" name=""/>
            <p:cNvGrpSpPr/>
            <p:nvPr/>
          </p:nvGrpSpPr>
          <p:grpSpPr>
            <a:xfrm>
              <a:off x="474480" y="2831400"/>
              <a:ext cx="697320" cy="829440"/>
              <a:chOff x="474480" y="2831400"/>
              <a:chExt cx="697320" cy="829440"/>
            </a:xfrm>
          </p:grpSpPr>
          <p:sp>
            <p:nvSpPr>
              <p:cNvPr id="5763" name=""/>
              <p:cNvSpPr/>
              <p:nvPr/>
            </p:nvSpPr>
            <p:spPr>
              <a:xfrm>
                <a:off x="528120" y="2999880"/>
                <a:ext cx="621360" cy="648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528120" y="2999880"/>
                <a:ext cx="612360" cy="648360"/>
              </a:xfrm>
              <a:custGeom>
                <a:avLst/>
                <a:gdLst/>
                <a:ahLst/>
                <a:rect l="l" t="t" r="r" b="b"/>
                <a:pathLst>
                  <a:path w="331" h="351">
                    <a:moveTo>
                      <a:pt x="12" y="247"/>
                    </a:moveTo>
                    <a:lnTo>
                      <a:pt x="12" y="240"/>
                    </a:lnTo>
                    <a:lnTo>
                      <a:pt x="6" y="227"/>
                    </a:lnTo>
                    <a:lnTo>
                      <a:pt x="0" y="201"/>
                    </a:lnTo>
                    <a:lnTo>
                      <a:pt x="0" y="188"/>
                    </a:lnTo>
                    <a:lnTo>
                      <a:pt x="0" y="175"/>
                    </a:lnTo>
                    <a:lnTo>
                      <a:pt x="6" y="156"/>
                    </a:lnTo>
                    <a:lnTo>
                      <a:pt x="6" y="143"/>
                    </a:lnTo>
                    <a:lnTo>
                      <a:pt x="12" y="130"/>
                    </a:lnTo>
                    <a:lnTo>
                      <a:pt x="18" y="117"/>
                    </a:lnTo>
                    <a:lnTo>
                      <a:pt x="23" y="97"/>
                    </a:lnTo>
                    <a:lnTo>
                      <a:pt x="41" y="65"/>
                    </a:lnTo>
                    <a:lnTo>
                      <a:pt x="58" y="45"/>
                    </a:lnTo>
                    <a:lnTo>
                      <a:pt x="87" y="26"/>
                    </a:lnTo>
                    <a:lnTo>
                      <a:pt x="105" y="19"/>
                    </a:lnTo>
                    <a:lnTo>
                      <a:pt x="116" y="13"/>
                    </a:lnTo>
                    <a:lnTo>
                      <a:pt x="134" y="6"/>
                    </a:lnTo>
                    <a:lnTo>
                      <a:pt x="139" y="6"/>
                    </a:lnTo>
                    <a:lnTo>
                      <a:pt x="163" y="0"/>
                    </a:lnTo>
                    <a:lnTo>
                      <a:pt x="180" y="0"/>
                    </a:lnTo>
                    <a:lnTo>
                      <a:pt x="192" y="0"/>
                    </a:lnTo>
                    <a:lnTo>
                      <a:pt x="209" y="6"/>
                    </a:lnTo>
                    <a:lnTo>
                      <a:pt x="226" y="13"/>
                    </a:lnTo>
                    <a:lnTo>
                      <a:pt x="232" y="13"/>
                    </a:lnTo>
                    <a:lnTo>
                      <a:pt x="249" y="19"/>
                    </a:lnTo>
                    <a:lnTo>
                      <a:pt x="273" y="39"/>
                    </a:lnTo>
                    <a:lnTo>
                      <a:pt x="290" y="58"/>
                    </a:lnTo>
                    <a:lnTo>
                      <a:pt x="313" y="91"/>
                    </a:lnTo>
                    <a:lnTo>
                      <a:pt x="319" y="104"/>
                    </a:lnTo>
                    <a:lnTo>
                      <a:pt x="325" y="117"/>
                    </a:lnTo>
                    <a:lnTo>
                      <a:pt x="325" y="123"/>
                    </a:lnTo>
                    <a:lnTo>
                      <a:pt x="331" y="149"/>
                    </a:lnTo>
                    <a:lnTo>
                      <a:pt x="331" y="162"/>
                    </a:lnTo>
                    <a:lnTo>
                      <a:pt x="331" y="175"/>
                    </a:lnTo>
                    <a:lnTo>
                      <a:pt x="325" y="195"/>
                    </a:lnTo>
                    <a:lnTo>
                      <a:pt x="325" y="208"/>
                    </a:lnTo>
                    <a:lnTo>
                      <a:pt x="319" y="221"/>
                    </a:lnTo>
                    <a:lnTo>
                      <a:pt x="313" y="234"/>
                    </a:lnTo>
                    <a:lnTo>
                      <a:pt x="307" y="253"/>
                    </a:lnTo>
                    <a:lnTo>
                      <a:pt x="290" y="286"/>
                    </a:lnTo>
                    <a:lnTo>
                      <a:pt x="273" y="305"/>
                    </a:lnTo>
                    <a:lnTo>
                      <a:pt x="244" y="325"/>
                    </a:lnTo>
                    <a:lnTo>
                      <a:pt x="226" y="331"/>
                    </a:lnTo>
                    <a:lnTo>
                      <a:pt x="215" y="338"/>
                    </a:lnTo>
                    <a:lnTo>
                      <a:pt x="197" y="344"/>
                    </a:lnTo>
                    <a:lnTo>
                      <a:pt x="192" y="344"/>
                    </a:lnTo>
                    <a:lnTo>
                      <a:pt x="168" y="351"/>
                    </a:lnTo>
                    <a:lnTo>
                      <a:pt x="151" y="351"/>
                    </a:lnTo>
                    <a:lnTo>
                      <a:pt x="139" y="351"/>
                    </a:lnTo>
                    <a:lnTo>
                      <a:pt x="122" y="344"/>
                    </a:lnTo>
                    <a:lnTo>
                      <a:pt x="110" y="344"/>
                    </a:lnTo>
                    <a:lnTo>
                      <a:pt x="99" y="338"/>
                    </a:lnTo>
                    <a:lnTo>
                      <a:pt x="81" y="331"/>
                    </a:lnTo>
                    <a:lnTo>
                      <a:pt x="52" y="312"/>
                    </a:lnTo>
                    <a:lnTo>
                      <a:pt x="35" y="292"/>
                    </a:lnTo>
                    <a:lnTo>
                      <a:pt x="18" y="266"/>
                    </a:lnTo>
                    <a:lnTo>
                      <a:pt x="12" y="24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592560" y="2866320"/>
                <a:ext cx="225360" cy="21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570960" y="2831400"/>
                <a:ext cx="267840" cy="275400"/>
              </a:xfrm>
              <a:custGeom>
                <a:avLst/>
                <a:gdLst/>
                <a:ahLst/>
                <a:rect l="l" t="t" r="r" b="b"/>
                <a:pathLst>
                  <a:path w="145" h="149">
                    <a:moveTo>
                      <a:pt x="105" y="0"/>
                    </a:moveTo>
                    <a:lnTo>
                      <a:pt x="145" y="97"/>
                    </a:lnTo>
                    <a:lnTo>
                      <a:pt x="35" y="149"/>
                    </a:lnTo>
                    <a:lnTo>
                      <a:pt x="0" y="45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818280" y="3034440"/>
                <a:ext cx="277560" cy="445320"/>
              </a:xfrm>
              <a:custGeom>
                <a:avLst/>
                <a:gdLst/>
                <a:ahLst/>
                <a:rect l="l" t="t" r="r" b="b"/>
                <a:pathLst>
                  <a:path w="150" h="241">
                    <a:moveTo>
                      <a:pt x="0" y="13"/>
                    </a:moveTo>
                    <a:lnTo>
                      <a:pt x="75" y="72"/>
                    </a:lnTo>
                    <a:lnTo>
                      <a:pt x="127" y="176"/>
                    </a:lnTo>
                    <a:lnTo>
                      <a:pt x="133" y="241"/>
                    </a:lnTo>
                    <a:lnTo>
                      <a:pt x="145" y="228"/>
                    </a:lnTo>
                    <a:lnTo>
                      <a:pt x="150" y="163"/>
                    </a:lnTo>
                    <a:lnTo>
                      <a:pt x="127" y="78"/>
                    </a:lnTo>
                    <a:lnTo>
                      <a:pt x="87" y="20"/>
                    </a:lnTo>
                    <a:lnTo>
                      <a:pt x="29" y="0"/>
                    </a:lnTo>
                    <a:lnTo>
                      <a:pt x="11" y="20"/>
                    </a:lnTo>
                    <a:lnTo>
                      <a:pt x="0" y="13"/>
                    </a:lnTo>
                    <a:close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818280" y="3034440"/>
                <a:ext cx="277560" cy="445320"/>
              </a:xfrm>
              <a:custGeom>
                <a:avLst/>
                <a:gdLst/>
                <a:ahLst/>
                <a:rect l="l" t="t" r="r" b="b"/>
                <a:pathLst>
                  <a:path w="150" h="241">
                    <a:moveTo>
                      <a:pt x="0" y="13"/>
                    </a:moveTo>
                    <a:lnTo>
                      <a:pt x="75" y="72"/>
                    </a:lnTo>
                    <a:lnTo>
                      <a:pt x="127" y="176"/>
                    </a:lnTo>
                    <a:lnTo>
                      <a:pt x="133" y="241"/>
                    </a:lnTo>
                    <a:lnTo>
                      <a:pt x="145" y="228"/>
                    </a:lnTo>
                    <a:lnTo>
                      <a:pt x="150" y="163"/>
                    </a:lnTo>
                    <a:lnTo>
                      <a:pt x="127" y="78"/>
                    </a:lnTo>
                    <a:lnTo>
                      <a:pt x="87" y="20"/>
                    </a:lnTo>
                    <a:lnTo>
                      <a:pt x="29" y="0"/>
                    </a:lnTo>
                    <a:lnTo>
                      <a:pt x="11" y="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561240" y="2855520"/>
                <a:ext cx="214560" cy="82800"/>
              </a:xfrm>
              <a:prstGeom prst="ellipse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570960" y="2831400"/>
                <a:ext cx="194040" cy="107280"/>
              </a:xfrm>
              <a:custGeom>
                <a:avLst/>
                <a:gdLst/>
                <a:ahLst/>
                <a:rect l="l" t="t" r="r" b="b"/>
                <a:pathLst>
                  <a:path w="105" h="58">
                    <a:moveTo>
                      <a:pt x="0" y="52"/>
                    </a:moveTo>
                    <a:lnTo>
                      <a:pt x="0" y="52"/>
                    </a:lnTo>
                    <a:lnTo>
                      <a:pt x="6" y="39"/>
                    </a:lnTo>
                    <a:lnTo>
                      <a:pt x="12" y="32"/>
                    </a:lnTo>
                    <a:lnTo>
                      <a:pt x="18" y="26"/>
                    </a:lnTo>
                    <a:lnTo>
                      <a:pt x="35" y="19"/>
                    </a:lnTo>
                    <a:lnTo>
                      <a:pt x="47" y="13"/>
                    </a:lnTo>
                    <a:lnTo>
                      <a:pt x="58" y="6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93" y="0"/>
                    </a:lnTo>
                    <a:lnTo>
                      <a:pt x="105" y="6"/>
                    </a:lnTo>
                    <a:lnTo>
                      <a:pt x="105" y="6"/>
                    </a:lnTo>
                    <a:lnTo>
                      <a:pt x="105" y="13"/>
                    </a:lnTo>
                    <a:lnTo>
                      <a:pt x="99" y="19"/>
                    </a:lnTo>
                    <a:lnTo>
                      <a:pt x="93" y="26"/>
                    </a:lnTo>
                    <a:lnTo>
                      <a:pt x="87" y="32"/>
                    </a:lnTo>
                    <a:lnTo>
                      <a:pt x="70" y="45"/>
                    </a:lnTo>
                    <a:lnTo>
                      <a:pt x="58" y="45"/>
                    </a:lnTo>
                    <a:lnTo>
                      <a:pt x="53" y="52"/>
                    </a:lnTo>
                    <a:lnTo>
                      <a:pt x="35" y="58"/>
                    </a:lnTo>
                    <a:lnTo>
                      <a:pt x="24" y="58"/>
                    </a:lnTo>
                    <a:lnTo>
                      <a:pt x="18" y="58"/>
                    </a:lnTo>
                    <a:lnTo>
                      <a:pt x="6" y="58"/>
                    </a:lnTo>
                    <a:lnTo>
                      <a:pt x="0" y="52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635400" y="3010680"/>
                <a:ext cx="203400" cy="95760"/>
              </a:xfrm>
              <a:custGeom>
                <a:avLst/>
                <a:gdLst/>
                <a:ahLst/>
                <a:rect l="l" t="t" r="r" b="b"/>
                <a:pathLst>
                  <a:path w="110" h="52">
                    <a:moveTo>
                      <a:pt x="0" y="46"/>
                    </a:moveTo>
                    <a:lnTo>
                      <a:pt x="29" y="52"/>
                    </a:lnTo>
                    <a:lnTo>
                      <a:pt x="81" y="26"/>
                    </a:lnTo>
                    <a:lnTo>
                      <a:pt x="110" y="0"/>
                    </a:lnTo>
                    <a:lnTo>
                      <a:pt x="105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474480" y="3539160"/>
                <a:ext cx="697320" cy="6120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474480" y="3539160"/>
                <a:ext cx="697320" cy="612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1053360" y="3587400"/>
                <a:ext cx="75600" cy="7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1053360" y="3587400"/>
                <a:ext cx="75600" cy="73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516960" y="3587400"/>
                <a:ext cx="75240" cy="7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518760" y="3587400"/>
                <a:ext cx="73800" cy="73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78" name=""/>
            <p:cNvSpPr/>
            <p:nvPr/>
          </p:nvSpPr>
          <p:spPr>
            <a:xfrm>
              <a:off x="2818440" y="3269520"/>
              <a:ext cx="214560" cy="19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9" name=""/>
          <p:cNvGrpSpPr/>
          <p:nvPr/>
        </p:nvGrpSpPr>
        <p:grpSpPr>
          <a:xfrm>
            <a:off x="5038920" y="4111560"/>
            <a:ext cx="3880800" cy="447120"/>
            <a:chOff x="5038920" y="4111560"/>
            <a:chExt cx="3880800" cy="447120"/>
          </a:xfrm>
        </p:grpSpPr>
        <p:sp>
          <p:nvSpPr>
            <p:cNvPr id="5780" name=""/>
            <p:cNvSpPr/>
            <p:nvPr/>
          </p:nvSpPr>
          <p:spPr>
            <a:xfrm>
              <a:off x="5109120" y="4111560"/>
              <a:ext cx="3810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trajets optiques égaux par construc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5038920" y="4314960"/>
              <a:ext cx="302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inchangés pendant la poursu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2" name=""/>
          <p:cNvGrpSpPr/>
          <p:nvPr/>
        </p:nvGrpSpPr>
        <p:grpSpPr>
          <a:xfrm>
            <a:off x="5708520" y="4735440"/>
            <a:ext cx="3043080" cy="1787040"/>
            <a:chOff x="5708520" y="4735440"/>
            <a:chExt cx="3043080" cy="1787040"/>
          </a:xfrm>
        </p:grpSpPr>
        <p:sp>
          <p:nvSpPr>
            <p:cNvPr id="5783" name=""/>
            <p:cNvSpPr/>
            <p:nvPr/>
          </p:nvSpPr>
          <p:spPr>
            <a:xfrm>
              <a:off x="7012080" y="6020280"/>
              <a:ext cx="92160" cy="14364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6999840" y="6025320"/>
              <a:ext cx="110520" cy="127800"/>
            </a:xfrm>
            <a:custGeom>
              <a:avLst/>
              <a:gdLst/>
              <a:ahLst/>
              <a:rect l="l" t="t" r="r" b="b"/>
              <a:pathLst>
                <a:path w="71" h="82">
                  <a:moveTo>
                    <a:pt x="12" y="25"/>
                  </a:moveTo>
                  <a:lnTo>
                    <a:pt x="19" y="18"/>
                  </a:lnTo>
                  <a:lnTo>
                    <a:pt x="30" y="7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4" y="7"/>
                  </a:lnTo>
                  <a:lnTo>
                    <a:pt x="71" y="14"/>
                  </a:lnTo>
                  <a:lnTo>
                    <a:pt x="71" y="22"/>
                  </a:lnTo>
                  <a:lnTo>
                    <a:pt x="71" y="25"/>
                  </a:lnTo>
                  <a:lnTo>
                    <a:pt x="71" y="29"/>
                  </a:lnTo>
                  <a:lnTo>
                    <a:pt x="71" y="36"/>
                  </a:lnTo>
                  <a:lnTo>
                    <a:pt x="67" y="43"/>
                  </a:lnTo>
                  <a:lnTo>
                    <a:pt x="64" y="50"/>
                  </a:lnTo>
                  <a:lnTo>
                    <a:pt x="60" y="53"/>
                  </a:lnTo>
                  <a:lnTo>
                    <a:pt x="56" y="61"/>
                  </a:lnTo>
                  <a:lnTo>
                    <a:pt x="53" y="64"/>
                  </a:lnTo>
                  <a:lnTo>
                    <a:pt x="45" y="71"/>
                  </a:lnTo>
                  <a:lnTo>
                    <a:pt x="38" y="78"/>
                  </a:lnTo>
                  <a:lnTo>
                    <a:pt x="34" y="78"/>
                  </a:lnTo>
                  <a:lnTo>
                    <a:pt x="30" y="82"/>
                  </a:lnTo>
                  <a:lnTo>
                    <a:pt x="26" y="82"/>
                  </a:lnTo>
                  <a:lnTo>
                    <a:pt x="19" y="82"/>
                  </a:lnTo>
                  <a:lnTo>
                    <a:pt x="15" y="8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4" y="71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4" y="39"/>
                  </a:lnTo>
                  <a:lnTo>
                    <a:pt x="8" y="32"/>
                  </a:lnTo>
                  <a:lnTo>
                    <a:pt x="12" y="25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5708520" y="5139720"/>
              <a:ext cx="1361520" cy="946440"/>
            </a:xfrm>
            <a:custGeom>
              <a:avLst/>
              <a:gdLst/>
              <a:ahLst/>
              <a:rect l="l" t="t" r="r" b="b"/>
              <a:pathLst>
                <a:path w="872" h="606">
                  <a:moveTo>
                    <a:pt x="153" y="0"/>
                  </a:moveTo>
                  <a:lnTo>
                    <a:pt x="421" y="156"/>
                  </a:lnTo>
                  <a:lnTo>
                    <a:pt x="872" y="606"/>
                  </a:lnTo>
                  <a:lnTo>
                    <a:pt x="254" y="418"/>
                  </a:lnTo>
                  <a:lnTo>
                    <a:pt x="0" y="273"/>
                  </a:lnTo>
                  <a:lnTo>
                    <a:pt x="153" y="0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5708520" y="5139720"/>
              <a:ext cx="1361520" cy="946440"/>
            </a:xfrm>
            <a:custGeom>
              <a:avLst/>
              <a:gdLst/>
              <a:ahLst/>
              <a:rect l="l" t="t" r="r" b="b"/>
              <a:pathLst>
                <a:path w="872" h="606">
                  <a:moveTo>
                    <a:pt x="153" y="0"/>
                  </a:moveTo>
                  <a:lnTo>
                    <a:pt x="421" y="156"/>
                  </a:lnTo>
                  <a:lnTo>
                    <a:pt x="872" y="606"/>
                  </a:lnTo>
                  <a:lnTo>
                    <a:pt x="254" y="418"/>
                  </a:lnTo>
                  <a:lnTo>
                    <a:pt x="0" y="27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5714640" y="5183640"/>
              <a:ext cx="1355400" cy="902520"/>
            </a:xfrm>
            <a:custGeom>
              <a:avLst/>
              <a:gdLst/>
              <a:ahLst/>
              <a:rect l="l" t="t" r="r" b="b"/>
              <a:pathLst>
                <a:path w="868" h="578">
                  <a:moveTo>
                    <a:pt x="127" y="0"/>
                  </a:moveTo>
                  <a:lnTo>
                    <a:pt x="399" y="160"/>
                  </a:lnTo>
                  <a:lnTo>
                    <a:pt x="868" y="578"/>
                  </a:lnTo>
                  <a:lnTo>
                    <a:pt x="268" y="358"/>
                  </a:lnTo>
                  <a:lnTo>
                    <a:pt x="0" y="202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5714640" y="5183640"/>
              <a:ext cx="1355400" cy="902520"/>
            </a:xfrm>
            <a:custGeom>
              <a:avLst/>
              <a:gdLst/>
              <a:ahLst/>
              <a:rect l="l" t="t" r="r" b="b"/>
              <a:pathLst>
                <a:path w="868" h="578">
                  <a:moveTo>
                    <a:pt x="127" y="0"/>
                  </a:moveTo>
                  <a:lnTo>
                    <a:pt x="399" y="160"/>
                  </a:lnTo>
                  <a:lnTo>
                    <a:pt x="868" y="578"/>
                  </a:lnTo>
                  <a:lnTo>
                    <a:pt x="268" y="358"/>
                  </a:lnTo>
                  <a:lnTo>
                    <a:pt x="0" y="20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6192360" y="5289840"/>
              <a:ext cx="81360" cy="63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6058080" y="5333400"/>
              <a:ext cx="348120" cy="541440"/>
            </a:xfrm>
            <a:custGeom>
              <a:avLst/>
              <a:gdLst/>
              <a:ahLst/>
              <a:rect l="l" t="t" r="r" b="b"/>
              <a:pathLst>
                <a:path w="223" h="347">
                  <a:moveTo>
                    <a:pt x="89" y="159"/>
                  </a:moveTo>
                  <a:lnTo>
                    <a:pt x="100" y="142"/>
                  </a:lnTo>
                  <a:lnTo>
                    <a:pt x="123" y="106"/>
                  </a:lnTo>
                  <a:lnTo>
                    <a:pt x="145" y="78"/>
                  </a:lnTo>
                  <a:lnTo>
                    <a:pt x="164" y="57"/>
                  </a:lnTo>
                  <a:lnTo>
                    <a:pt x="175" y="42"/>
                  </a:lnTo>
                  <a:lnTo>
                    <a:pt x="179" y="39"/>
                  </a:lnTo>
                  <a:lnTo>
                    <a:pt x="190" y="25"/>
                  </a:lnTo>
                  <a:lnTo>
                    <a:pt x="197" y="18"/>
                  </a:lnTo>
                  <a:lnTo>
                    <a:pt x="201" y="14"/>
                  </a:lnTo>
                  <a:lnTo>
                    <a:pt x="208" y="7"/>
                  </a:lnTo>
                  <a:lnTo>
                    <a:pt x="212" y="3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3"/>
                  </a:lnTo>
                  <a:lnTo>
                    <a:pt x="223" y="11"/>
                  </a:lnTo>
                  <a:lnTo>
                    <a:pt x="223" y="18"/>
                  </a:lnTo>
                  <a:lnTo>
                    <a:pt x="220" y="25"/>
                  </a:lnTo>
                  <a:lnTo>
                    <a:pt x="220" y="28"/>
                  </a:lnTo>
                  <a:lnTo>
                    <a:pt x="212" y="42"/>
                  </a:lnTo>
                  <a:lnTo>
                    <a:pt x="208" y="53"/>
                  </a:lnTo>
                  <a:lnTo>
                    <a:pt x="205" y="60"/>
                  </a:lnTo>
                  <a:lnTo>
                    <a:pt x="197" y="74"/>
                  </a:lnTo>
                  <a:lnTo>
                    <a:pt x="182" y="106"/>
                  </a:lnTo>
                  <a:lnTo>
                    <a:pt x="164" y="138"/>
                  </a:lnTo>
                  <a:lnTo>
                    <a:pt x="145" y="170"/>
                  </a:lnTo>
                  <a:lnTo>
                    <a:pt x="134" y="188"/>
                  </a:lnTo>
                  <a:lnTo>
                    <a:pt x="123" y="206"/>
                  </a:lnTo>
                  <a:lnTo>
                    <a:pt x="100" y="241"/>
                  </a:lnTo>
                  <a:lnTo>
                    <a:pt x="78" y="269"/>
                  </a:lnTo>
                  <a:lnTo>
                    <a:pt x="59" y="291"/>
                  </a:lnTo>
                  <a:lnTo>
                    <a:pt x="48" y="305"/>
                  </a:lnTo>
                  <a:lnTo>
                    <a:pt x="45" y="308"/>
                  </a:lnTo>
                  <a:lnTo>
                    <a:pt x="33" y="323"/>
                  </a:lnTo>
                  <a:lnTo>
                    <a:pt x="26" y="330"/>
                  </a:lnTo>
                  <a:lnTo>
                    <a:pt x="22" y="333"/>
                  </a:lnTo>
                  <a:lnTo>
                    <a:pt x="15" y="340"/>
                  </a:lnTo>
                  <a:lnTo>
                    <a:pt x="11" y="344"/>
                  </a:lnTo>
                  <a:lnTo>
                    <a:pt x="4" y="347"/>
                  </a:lnTo>
                  <a:lnTo>
                    <a:pt x="4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0" y="337"/>
                  </a:lnTo>
                  <a:lnTo>
                    <a:pt x="0" y="330"/>
                  </a:lnTo>
                  <a:lnTo>
                    <a:pt x="4" y="323"/>
                  </a:lnTo>
                  <a:lnTo>
                    <a:pt x="4" y="319"/>
                  </a:lnTo>
                  <a:lnTo>
                    <a:pt x="11" y="305"/>
                  </a:lnTo>
                  <a:lnTo>
                    <a:pt x="15" y="294"/>
                  </a:lnTo>
                  <a:lnTo>
                    <a:pt x="18" y="287"/>
                  </a:lnTo>
                  <a:lnTo>
                    <a:pt x="26" y="273"/>
                  </a:lnTo>
                  <a:lnTo>
                    <a:pt x="41" y="241"/>
                  </a:lnTo>
                  <a:lnTo>
                    <a:pt x="59" y="209"/>
                  </a:lnTo>
                  <a:lnTo>
                    <a:pt x="78" y="177"/>
                  </a:lnTo>
                  <a:lnTo>
                    <a:pt x="89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6058080" y="5333400"/>
              <a:ext cx="348120" cy="541440"/>
            </a:xfrm>
            <a:custGeom>
              <a:avLst/>
              <a:gdLst/>
              <a:ahLst/>
              <a:rect l="l" t="t" r="r" b="b"/>
              <a:pathLst>
                <a:path w="223" h="347">
                  <a:moveTo>
                    <a:pt x="89" y="159"/>
                  </a:moveTo>
                  <a:lnTo>
                    <a:pt x="100" y="142"/>
                  </a:lnTo>
                  <a:lnTo>
                    <a:pt x="123" y="106"/>
                  </a:lnTo>
                  <a:lnTo>
                    <a:pt x="145" y="78"/>
                  </a:lnTo>
                  <a:lnTo>
                    <a:pt x="164" y="57"/>
                  </a:lnTo>
                  <a:lnTo>
                    <a:pt x="175" y="42"/>
                  </a:lnTo>
                  <a:lnTo>
                    <a:pt x="179" y="39"/>
                  </a:lnTo>
                  <a:lnTo>
                    <a:pt x="190" y="25"/>
                  </a:lnTo>
                  <a:lnTo>
                    <a:pt x="197" y="18"/>
                  </a:lnTo>
                  <a:lnTo>
                    <a:pt x="201" y="14"/>
                  </a:lnTo>
                  <a:lnTo>
                    <a:pt x="208" y="7"/>
                  </a:lnTo>
                  <a:lnTo>
                    <a:pt x="212" y="3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3" y="3"/>
                  </a:lnTo>
                  <a:lnTo>
                    <a:pt x="223" y="11"/>
                  </a:lnTo>
                  <a:lnTo>
                    <a:pt x="223" y="18"/>
                  </a:lnTo>
                  <a:lnTo>
                    <a:pt x="220" y="25"/>
                  </a:lnTo>
                  <a:lnTo>
                    <a:pt x="220" y="28"/>
                  </a:lnTo>
                  <a:lnTo>
                    <a:pt x="212" y="42"/>
                  </a:lnTo>
                  <a:lnTo>
                    <a:pt x="208" y="53"/>
                  </a:lnTo>
                  <a:lnTo>
                    <a:pt x="205" y="60"/>
                  </a:lnTo>
                  <a:lnTo>
                    <a:pt x="197" y="74"/>
                  </a:lnTo>
                  <a:lnTo>
                    <a:pt x="182" y="106"/>
                  </a:lnTo>
                  <a:lnTo>
                    <a:pt x="164" y="138"/>
                  </a:lnTo>
                  <a:lnTo>
                    <a:pt x="145" y="170"/>
                  </a:lnTo>
                  <a:lnTo>
                    <a:pt x="134" y="188"/>
                  </a:lnTo>
                  <a:lnTo>
                    <a:pt x="123" y="206"/>
                  </a:lnTo>
                  <a:lnTo>
                    <a:pt x="100" y="241"/>
                  </a:lnTo>
                  <a:lnTo>
                    <a:pt x="78" y="269"/>
                  </a:lnTo>
                  <a:lnTo>
                    <a:pt x="59" y="291"/>
                  </a:lnTo>
                  <a:lnTo>
                    <a:pt x="48" y="305"/>
                  </a:lnTo>
                  <a:lnTo>
                    <a:pt x="45" y="308"/>
                  </a:lnTo>
                  <a:lnTo>
                    <a:pt x="33" y="323"/>
                  </a:lnTo>
                  <a:lnTo>
                    <a:pt x="26" y="330"/>
                  </a:lnTo>
                  <a:lnTo>
                    <a:pt x="22" y="333"/>
                  </a:lnTo>
                  <a:lnTo>
                    <a:pt x="15" y="340"/>
                  </a:lnTo>
                  <a:lnTo>
                    <a:pt x="11" y="344"/>
                  </a:lnTo>
                  <a:lnTo>
                    <a:pt x="4" y="347"/>
                  </a:lnTo>
                  <a:lnTo>
                    <a:pt x="4" y="347"/>
                  </a:lnTo>
                  <a:lnTo>
                    <a:pt x="0" y="347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0" y="337"/>
                  </a:lnTo>
                  <a:lnTo>
                    <a:pt x="0" y="330"/>
                  </a:lnTo>
                  <a:lnTo>
                    <a:pt x="4" y="323"/>
                  </a:lnTo>
                  <a:lnTo>
                    <a:pt x="4" y="319"/>
                  </a:lnTo>
                  <a:lnTo>
                    <a:pt x="11" y="305"/>
                  </a:lnTo>
                  <a:lnTo>
                    <a:pt x="15" y="294"/>
                  </a:lnTo>
                  <a:lnTo>
                    <a:pt x="18" y="287"/>
                  </a:lnTo>
                  <a:lnTo>
                    <a:pt x="26" y="273"/>
                  </a:lnTo>
                  <a:lnTo>
                    <a:pt x="41" y="241"/>
                  </a:lnTo>
                  <a:lnTo>
                    <a:pt x="59" y="209"/>
                  </a:lnTo>
                  <a:lnTo>
                    <a:pt x="78" y="177"/>
                  </a:lnTo>
                  <a:lnTo>
                    <a:pt x="89" y="159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6419160" y="5598720"/>
              <a:ext cx="232560" cy="365400"/>
            </a:xfrm>
            <a:custGeom>
              <a:avLst/>
              <a:gdLst/>
              <a:ahLst/>
              <a:rect l="l" t="t" r="r" b="b"/>
              <a:pathLst>
                <a:path w="149" h="234">
                  <a:moveTo>
                    <a:pt x="0" y="234"/>
                  </a:moveTo>
                  <a:lnTo>
                    <a:pt x="4" y="216"/>
                  </a:lnTo>
                  <a:lnTo>
                    <a:pt x="11" y="185"/>
                  </a:lnTo>
                  <a:lnTo>
                    <a:pt x="26" y="149"/>
                  </a:lnTo>
                  <a:lnTo>
                    <a:pt x="41" y="121"/>
                  </a:lnTo>
                  <a:lnTo>
                    <a:pt x="52" y="103"/>
                  </a:lnTo>
                  <a:lnTo>
                    <a:pt x="63" y="85"/>
                  </a:lnTo>
                  <a:lnTo>
                    <a:pt x="86" y="57"/>
                  </a:lnTo>
                  <a:lnTo>
                    <a:pt x="108" y="36"/>
                  </a:lnTo>
                  <a:lnTo>
                    <a:pt x="134" y="11"/>
                  </a:lnTo>
                  <a:lnTo>
                    <a:pt x="149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6337440" y="5377320"/>
              <a:ext cx="34560" cy="7776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6331680" y="5383080"/>
              <a:ext cx="46440" cy="6084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4" y="14"/>
                  </a:moveTo>
                  <a:lnTo>
                    <a:pt x="7" y="10"/>
                  </a:lnTo>
                  <a:lnTo>
                    <a:pt x="15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0" y="3"/>
                  </a:lnTo>
                  <a:lnTo>
                    <a:pt x="30" y="7"/>
                  </a:lnTo>
                  <a:lnTo>
                    <a:pt x="30" y="10"/>
                  </a:lnTo>
                  <a:lnTo>
                    <a:pt x="26" y="18"/>
                  </a:lnTo>
                  <a:lnTo>
                    <a:pt x="22" y="25"/>
                  </a:lnTo>
                  <a:lnTo>
                    <a:pt x="19" y="28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7" y="39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4" y="18"/>
                  </a:lnTo>
                  <a:lnTo>
                    <a:pt x="4" y="14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6104880" y="5737680"/>
              <a:ext cx="34200" cy="7632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6092640" y="5742360"/>
              <a:ext cx="52920" cy="669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8" y="15"/>
                  </a:moveTo>
                  <a:lnTo>
                    <a:pt x="11" y="11"/>
                  </a:lnTo>
                  <a:lnTo>
                    <a:pt x="15" y="7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4"/>
                  </a:lnTo>
                  <a:lnTo>
                    <a:pt x="34" y="7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26" y="22"/>
                  </a:lnTo>
                  <a:lnTo>
                    <a:pt x="23" y="25"/>
                  </a:lnTo>
                  <a:lnTo>
                    <a:pt x="23" y="29"/>
                  </a:lnTo>
                  <a:lnTo>
                    <a:pt x="15" y="3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8" y="43"/>
                  </a:lnTo>
                  <a:lnTo>
                    <a:pt x="8" y="39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4" y="29"/>
                  </a:lnTo>
                  <a:lnTo>
                    <a:pt x="8" y="18"/>
                  </a:lnTo>
                  <a:lnTo>
                    <a:pt x="8" y="15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6017760" y="5311440"/>
              <a:ext cx="1308240" cy="1102320"/>
            </a:xfrm>
            <a:custGeom>
              <a:avLst/>
              <a:gdLst/>
              <a:ahLst/>
              <a:rect l="l" t="t" r="r" b="b"/>
              <a:pathLst>
                <a:path w="838" h="706">
                  <a:moveTo>
                    <a:pt x="223" y="10"/>
                  </a:moveTo>
                  <a:lnTo>
                    <a:pt x="231" y="0"/>
                  </a:lnTo>
                  <a:lnTo>
                    <a:pt x="834" y="351"/>
                  </a:lnTo>
                  <a:lnTo>
                    <a:pt x="749" y="479"/>
                  </a:lnTo>
                  <a:lnTo>
                    <a:pt x="838" y="532"/>
                  </a:lnTo>
                  <a:lnTo>
                    <a:pt x="786" y="613"/>
                  </a:lnTo>
                  <a:lnTo>
                    <a:pt x="696" y="564"/>
                  </a:lnTo>
                  <a:lnTo>
                    <a:pt x="603" y="706"/>
                  </a:lnTo>
                  <a:lnTo>
                    <a:pt x="0" y="354"/>
                  </a:lnTo>
                  <a:lnTo>
                    <a:pt x="11" y="33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7215480" y="6131160"/>
              <a:ext cx="35640" cy="98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7204320" y="6135840"/>
              <a:ext cx="57600" cy="8856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7" y="25"/>
                  </a:moveTo>
                  <a:lnTo>
                    <a:pt x="11" y="21"/>
                  </a:lnTo>
                  <a:lnTo>
                    <a:pt x="15" y="14"/>
                  </a:lnTo>
                  <a:lnTo>
                    <a:pt x="18" y="11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7" y="4"/>
                  </a:lnTo>
                  <a:lnTo>
                    <a:pt x="37" y="7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8"/>
                  </a:lnTo>
                  <a:lnTo>
                    <a:pt x="30" y="32"/>
                  </a:lnTo>
                  <a:lnTo>
                    <a:pt x="26" y="36"/>
                  </a:lnTo>
                  <a:lnTo>
                    <a:pt x="22" y="43"/>
                  </a:lnTo>
                  <a:lnTo>
                    <a:pt x="15" y="50"/>
                  </a:lnTo>
                  <a:lnTo>
                    <a:pt x="11" y="53"/>
                  </a:lnTo>
                  <a:lnTo>
                    <a:pt x="7" y="57"/>
                  </a:lnTo>
                  <a:lnTo>
                    <a:pt x="3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7204320" y="6135840"/>
              <a:ext cx="57600" cy="88560"/>
            </a:xfrm>
            <a:custGeom>
              <a:avLst/>
              <a:gdLst/>
              <a:ahLst/>
              <a:rect l="l" t="t" r="r" b="b"/>
              <a:pathLst>
                <a:path w="37" h="57">
                  <a:moveTo>
                    <a:pt x="7" y="25"/>
                  </a:moveTo>
                  <a:lnTo>
                    <a:pt x="11" y="21"/>
                  </a:lnTo>
                  <a:lnTo>
                    <a:pt x="15" y="14"/>
                  </a:lnTo>
                  <a:lnTo>
                    <a:pt x="18" y="11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6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7" y="4"/>
                  </a:lnTo>
                  <a:lnTo>
                    <a:pt x="37" y="7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8"/>
                  </a:lnTo>
                  <a:lnTo>
                    <a:pt x="30" y="32"/>
                  </a:lnTo>
                  <a:lnTo>
                    <a:pt x="26" y="36"/>
                  </a:lnTo>
                  <a:lnTo>
                    <a:pt x="22" y="43"/>
                  </a:lnTo>
                  <a:lnTo>
                    <a:pt x="15" y="50"/>
                  </a:lnTo>
                  <a:lnTo>
                    <a:pt x="11" y="53"/>
                  </a:lnTo>
                  <a:lnTo>
                    <a:pt x="7" y="57"/>
                  </a:lnTo>
                  <a:lnTo>
                    <a:pt x="3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7" y="25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1" name=""/>
            <p:cNvGrpSpPr/>
            <p:nvPr/>
          </p:nvGrpSpPr>
          <p:grpSpPr>
            <a:xfrm>
              <a:off x="7279560" y="6103080"/>
              <a:ext cx="249120" cy="254160"/>
              <a:chOff x="7279560" y="6103080"/>
              <a:chExt cx="249120" cy="254160"/>
            </a:xfrm>
          </p:grpSpPr>
          <p:sp>
            <p:nvSpPr>
              <p:cNvPr id="5802" name=""/>
              <p:cNvSpPr/>
              <p:nvPr/>
            </p:nvSpPr>
            <p:spPr>
              <a:xfrm>
                <a:off x="7279560" y="6146640"/>
                <a:ext cx="244800" cy="210600"/>
              </a:xfrm>
              <a:custGeom>
                <a:avLst/>
                <a:gdLst/>
                <a:ahLst/>
                <a:rect l="l" t="t" r="r" b="b"/>
                <a:pathLst>
                  <a:path w="157" h="135">
                    <a:moveTo>
                      <a:pt x="82" y="0"/>
                    </a:moveTo>
                    <a:lnTo>
                      <a:pt x="49" y="7"/>
                    </a:lnTo>
                    <a:lnTo>
                      <a:pt x="45" y="29"/>
                    </a:lnTo>
                    <a:lnTo>
                      <a:pt x="71" y="64"/>
                    </a:lnTo>
                    <a:lnTo>
                      <a:pt x="112" y="107"/>
                    </a:lnTo>
                    <a:lnTo>
                      <a:pt x="157" y="135"/>
                    </a:lnTo>
                    <a:lnTo>
                      <a:pt x="67" y="114"/>
                    </a:lnTo>
                    <a:lnTo>
                      <a:pt x="11" y="89"/>
                    </a:lnTo>
                    <a:lnTo>
                      <a:pt x="4" y="103"/>
                    </a:lnTo>
                    <a:lnTo>
                      <a:pt x="11" y="114"/>
                    </a:lnTo>
                    <a:lnTo>
                      <a:pt x="0" y="13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7379280" y="6103080"/>
                <a:ext cx="149400" cy="248040"/>
              </a:xfrm>
              <a:custGeom>
                <a:avLst/>
                <a:gdLst/>
                <a:ahLst/>
                <a:rect l="l" t="t" r="r" b="b"/>
                <a:pathLst>
                  <a:path w="96" h="159">
                    <a:moveTo>
                      <a:pt x="96" y="159"/>
                    </a:moveTo>
                    <a:lnTo>
                      <a:pt x="29" y="96"/>
                    </a:lnTo>
                    <a:lnTo>
                      <a:pt x="11" y="46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7308720" y="6196680"/>
                <a:ext cx="51480" cy="99720"/>
              </a:xfrm>
              <a:custGeom>
                <a:avLst/>
                <a:gdLst/>
                <a:ahLst/>
                <a:rect l="l" t="t" r="r" b="b"/>
                <a:pathLst>
                  <a:path w="33" h="64">
                    <a:moveTo>
                      <a:pt x="33" y="0"/>
                    </a:moveTo>
                    <a:lnTo>
                      <a:pt x="0" y="32"/>
                    </a:lnTo>
                    <a:lnTo>
                      <a:pt x="0" y="6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7315200" y="6207840"/>
                <a:ext cx="40680" cy="71280"/>
              </a:xfrm>
              <a:prstGeom prst="ellipse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7308720" y="6213600"/>
                <a:ext cx="51480" cy="6516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7" y="14"/>
                    </a:moveTo>
                    <a:lnTo>
                      <a:pt x="11" y="10"/>
                    </a:lnTo>
                    <a:lnTo>
                      <a:pt x="15" y="7"/>
                    </a:lnTo>
                    <a:lnTo>
                      <a:pt x="18" y="3"/>
                    </a:lnTo>
                    <a:lnTo>
                      <a:pt x="22" y="3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3" y="3"/>
                    </a:lnTo>
                    <a:lnTo>
                      <a:pt x="33" y="7"/>
                    </a:lnTo>
                    <a:lnTo>
                      <a:pt x="33" y="10"/>
                    </a:lnTo>
                    <a:lnTo>
                      <a:pt x="33" y="14"/>
                    </a:lnTo>
                    <a:lnTo>
                      <a:pt x="33" y="21"/>
                    </a:lnTo>
                    <a:lnTo>
                      <a:pt x="30" y="28"/>
                    </a:lnTo>
                    <a:lnTo>
                      <a:pt x="26" y="32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5" y="42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4" y="18"/>
                    </a:lnTo>
                    <a:lnTo>
                      <a:pt x="7" y="14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7308720" y="6213600"/>
                <a:ext cx="51480" cy="6516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7" y="14"/>
                    </a:moveTo>
                    <a:lnTo>
                      <a:pt x="11" y="10"/>
                    </a:lnTo>
                    <a:lnTo>
                      <a:pt x="15" y="7"/>
                    </a:lnTo>
                    <a:lnTo>
                      <a:pt x="18" y="3"/>
                    </a:lnTo>
                    <a:lnTo>
                      <a:pt x="22" y="3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3" y="3"/>
                    </a:lnTo>
                    <a:lnTo>
                      <a:pt x="33" y="7"/>
                    </a:lnTo>
                    <a:lnTo>
                      <a:pt x="33" y="10"/>
                    </a:lnTo>
                    <a:lnTo>
                      <a:pt x="33" y="14"/>
                    </a:lnTo>
                    <a:lnTo>
                      <a:pt x="33" y="21"/>
                    </a:lnTo>
                    <a:lnTo>
                      <a:pt x="30" y="28"/>
                    </a:lnTo>
                    <a:lnTo>
                      <a:pt x="26" y="32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5" y="42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4" y="18"/>
                    </a:lnTo>
                    <a:lnTo>
                      <a:pt x="7" y="14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7315200" y="6224760"/>
                <a:ext cx="10800" cy="32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7315200" y="6224760"/>
                <a:ext cx="16920" cy="3276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3" y="7"/>
                    </a:moveTo>
                    <a:lnTo>
                      <a:pt x="3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11" y="0"/>
                    </a:lnTo>
                    <a:lnTo>
                      <a:pt x="11" y="3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7" y="11"/>
                    </a:lnTo>
                    <a:lnTo>
                      <a:pt x="7" y="14"/>
                    </a:lnTo>
                    <a:lnTo>
                      <a:pt x="7" y="18"/>
                    </a:lnTo>
                    <a:lnTo>
                      <a:pt x="3" y="18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7315200" y="6224760"/>
                <a:ext cx="16920" cy="3276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3" y="7"/>
                    </a:moveTo>
                    <a:lnTo>
                      <a:pt x="3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11" y="0"/>
                    </a:lnTo>
                    <a:lnTo>
                      <a:pt x="11" y="3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7" y="11"/>
                    </a:lnTo>
                    <a:lnTo>
                      <a:pt x="7" y="14"/>
                    </a:lnTo>
                    <a:lnTo>
                      <a:pt x="7" y="18"/>
                    </a:lnTo>
                    <a:lnTo>
                      <a:pt x="3" y="18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1" name=""/>
            <p:cNvSpPr/>
            <p:nvPr/>
          </p:nvSpPr>
          <p:spPr>
            <a:xfrm>
              <a:off x="8355240" y="6003360"/>
              <a:ext cx="93240" cy="143640"/>
            </a:xfrm>
            <a:prstGeom prst="ellipse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8331840" y="6025320"/>
              <a:ext cx="133920" cy="9972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30" y="7"/>
                  </a:moveTo>
                  <a:lnTo>
                    <a:pt x="38" y="4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9" y="4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86" y="11"/>
                  </a:lnTo>
                  <a:lnTo>
                    <a:pt x="86" y="14"/>
                  </a:lnTo>
                  <a:lnTo>
                    <a:pt x="86" y="22"/>
                  </a:lnTo>
                  <a:lnTo>
                    <a:pt x="86" y="29"/>
                  </a:lnTo>
                  <a:lnTo>
                    <a:pt x="82" y="32"/>
                  </a:lnTo>
                  <a:lnTo>
                    <a:pt x="82" y="36"/>
                  </a:lnTo>
                  <a:lnTo>
                    <a:pt x="75" y="43"/>
                  </a:lnTo>
                  <a:lnTo>
                    <a:pt x="71" y="46"/>
                  </a:lnTo>
                  <a:lnTo>
                    <a:pt x="60" y="53"/>
                  </a:lnTo>
                  <a:lnTo>
                    <a:pt x="56" y="53"/>
                  </a:lnTo>
                  <a:lnTo>
                    <a:pt x="53" y="57"/>
                  </a:lnTo>
                  <a:lnTo>
                    <a:pt x="41" y="61"/>
                  </a:lnTo>
                  <a:lnTo>
                    <a:pt x="34" y="64"/>
                  </a:lnTo>
                  <a:lnTo>
                    <a:pt x="27" y="64"/>
                  </a:lnTo>
                  <a:lnTo>
                    <a:pt x="23" y="64"/>
                  </a:lnTo>
                  <a:lnTo>
                    <a:pt x="19" y="64"/>
                  </a:lnTo>
                  <a:lnTo>
                    <a:pt x="15" y="64"/>
                  </a:lnTo>
                  <a:lnTo>
                    <a:pt x="12" y="61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8" y="29"/>
                  </a:lnTo>
                  <a:lnTo>
                    <a:pt x="12" y="22"/>
                  </a:lnTo>
                  <a:lnTo>
                    <a:pt x="19" y="14"/>
                  </a:lnTo>
                  <a:lnTo>
                    <a:pt x="23" y="11"/>
                  </a:lnTo>
                  <a:lnTo>
                    <a:pt x="30" y="7"/>
                  </a:lnTo>
                  <a:close/>
                </a:path>
              </a:pathLst>
            </a:custGeom>
            <a:blipFill rotWithShape="0">
              <a:blip r:embed="rId28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7477920" y="4735440"/>
              <a:ext cx="936360" cy="1345680"/>
            </a:xfrm>
            <a:custGeom>
              <a:avLst/>
              <a:gdLst/>
              <a:ahLst/>
              <a:rect l="l" t="t" r="r" b="b"/>
              <a:pathLst>
                <a:path w="600" h="862">
                  <a:moveTo>
                    <a:pt x="268" y="0"/>
                  </a:moveTo>
                  <a:lnTo>
                    <a:pt x="428" y="259"/>
                  </a:lnTo>
                  <a:lnTo>
                    <a:pt x="600" y="862"/>
                  </a:lnTo>
                  <a:lnTo>
                    <a:pt x="149" y="415"/>
                  </a:lnTo>
                  <a:lnTo>
                    <a:pt x="0" y="174"/>
                  </a:lnTo>
                  <a:lnTo>
                    <a:pt x="268" y="0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7477920" y="4735440"/>
              <a:ext cx="936360" cy="1345680"/>
            </a:xfrm>
            <a:custGeom>
              <a:avLst/>
              <a:gdLst/>
              <a:ahLst/>
              <a:rect l="l" t="t" r="r" b="b"/>
              <a:pathLst>
                <a:path w="600" h="862">
                  <a:moveTo>
                    <a:pt x="268" y="0"/>
                  </a:moveTo>
                  <a:lnTo>
                    <a:pt x="428" y="259"/>
                  </a:lnTo>
                  <a:lnTo>
                    <a:pt x="600" y="862"/>
                  </a:lnTo>
                  <a:lnTo>
                    <a:pt x="149" y="415"/>
                  </a:lnTo>
                  <a:lnTo>
                    <a:pt x="0" y="17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7518240" y="4763520"/>
              <a:ext cx="896040" cy="1317240"/>
            </a:xfrm>
            <a:custGeom>
              <a:avLst/>
              <a:gdLst/>
              <a:ahLst/>
              <a:rect l="l" t="t" r="r" b="b"/>
              <a:pathLst>
                <a:path w="574" h="844">
                  <a:moveTo>
                    <a:pt x="212" y="0"/>
                  </a:moveTo>
                  <a:lnTo>
                    <a:pt x="369" y="258"/>
                  </a:lnTo>
                  <a:lnTo>
                    <a:pt x="574" y="844"/>
                  </a:lnTo>
                  <a:lnTo>
                    <a:pt x="156" y="376"/>
                  </a:lnTo>
                  <a:lnTo>
                    <a:pt x="0" y="117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7518240" y="4763520"/>
              <a:ext cx="896040" cy="1317240"/>
            </a:xfrm>
            <a:custGeom>
              <a:avLst/>
              <a:gdLst/>
              <a:ahLst/>
              <a:rect l="l" t="t" r="r" b="b"/>
              <a:pathLst>
                <a:path w="574" h="844">
                  <a:moveTo>
                    <a:pt x="212" y="0"/>
                  </a:moveTo>
                  <a:lnTo>
                    <a:pt x="369" y="258"/>
                  </a:lnTo>
                  <a:lnTo>
                    <a:pt x="574" y="844"/>
                  </a:lnTo>
                  <a:lnTo>
                    <a:pt x="156" y="376"/>
                  </a:lnTo>
                  <a:lnTo>
                    <a:pt x="0" y="1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7878960" y="4956840"/>
              <a:ext cx="81000" cy="63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7629120" y="5111640"/>
              <a:ext cx="576360" cy="326160"/>
            </a:xfrm>
            <a:custGeom>
              <a:avLst/>
              <a:gdLst/>
              <a:ahLst/>
              <a:rect l="l" t="t" r="r" b="b"/>
              <a:pathLst>
                <a:path w="369" h="209">
                  <a:moveTo>
                    <a:pt x="171" y="82"/>
                  </a:moveTo>
                  <a:lnTo>
                    <a:pt x="190" y="71"/>
                  </a:lnTo>
                  <a:lnTo>
                    <a:pt x="227" y="53"/>
                  </a:lnTo>
                  <a:lnTo>
                    <a:pt x="260" y="35"/>
                  </a:lnTo>
                  <a:lnTo>
                    <a:pt x="290" y="25"/>
                  </a:lnTo>
                  <a:lnTo>
                    <a:pt x="305" y="18"/>
                  </a:lnTo>
                  <a:lnTo>
                    <a:pt x="313" y="14"/>
                  </a:lnTo>
                  <a:lnTo>
                    <a:pt x="324" y="11"/>
                  </a:lnTo>
                  <a:lnTo>
                    <a:pt x="335" y="7"/>
                  </a:lnTo>
                  <a:lnTo>
                    <a:pt x="346" y="4"/>
                  </a:lnTo>
                  <a:lnTo>
                    <a:pt x="357" y="0"/>
                  </a:lnTo>
                  <a:lnTo>
                    <a:pt x="361" y="0"/>
                  </a:lnTo>
                  <a:lnTo>
                    <a:pt x="365" y="0"/>
                  </a:lnTo>
                  <a:lnTo>
                    <a:pt x="369" y="4"/>
                  </a:lnTo>
                  <a:lnTo>
                    <a:pt x="369" y="4"/>
                  </a:lnTo>
                  <a:lnTo>
                    <a:pt x="369" y="4"/>
                  </a:lnTo>
                  <a:lnTo>
                    <a:pt x="369" y="7"/>
                  </a:lnTo>
                  <a:lnTo>
                    <a:pt x="365" y="11"/>
                  </a:lnTo>
                  <a:lnTo>
                    <a:pt x="361" y="18"/>
                  </a:lnTo>
                  <a:lnTo>
                    <a:pt x="354" y="21"/>
                  </a:lnTo>
                  <a:lnTo>
                    <a:pt x="346" y="28"/>
                  </a:lnTo>
                  <a:lnTo>
                    <a:pt x="339" y="35"/>
                  </a:lnTo>
                  <a:lnTo>
                    <a:pt x="328" y="43"/>
                  </a:lnTo>
                  <a:lnTo>
                    <a:pt x="324" y="46"/>
                  </a:lnTo>
                  <a:lnTo>
                    <a:pt x="309" y="57"/>
                  </a:lnTo>
                  <a:lnTo>
                    <a:pt x="287" y="74"/>
                  </a:lnTo>
                  <a:lnTo>
                    <a:pt x="249" y="96"/>
                  </a:lnTo>
                  <a:lnTo>
                    <a:pt x="219" y="114"/>
                  </a:lnTo>
                  <a:lnTo>
                    <a:pt x="197" y="124"/>
                  </a:lnTo>
                  <a:lnTo>
                    <a:pt x="179" y="135"/>
                  </a:lnTo>
                  <a:lnTo>
                    <a:pt x="145" y="153"/>
                  </a:lnTo>
                  <a:lnTo>
                    <a:pt x="111" y="170"/>
                  </a:lnTo>
                  <a:lnTo>
                    <a:pt x="78" y="184"/>
                  </a:lnTo>
                  <a:lnTo>
                    <a:pt x="63" y="192"/>
                  </a:lnTo>
                  <a:lnTo>
                    <a:pt x="56" y="195"/>
                  </a:lnTo>
                  <a:lnTo>
                    <a:pt x="44" y="199"/>
                  </a:lnTo>
                  <a:lnTo>
                    <a:pt x="33" y="202"/>
                  </a:lnTo>
                  <a:lnTo>
                    <a:pt x="22" y="206"/>
                  </a:lnTo>
                  <a:lnTo>
                    <a:pt x="18" y="206"/>
                  </a:lnTo>
                  <a:lnTo>
                    <a:pt x="7" y="209"/>
                  </a:lnTo>
                  <a:lnTo>
                    <a:pt x="7" y="209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3" y="195"/>
                  </a:lnTo>
                  <a:lnTo>
                    <a:pt x="7" y="192"/>
                  </a:lnTo>
                  <a:lnTo>
                    <a:pt x="11" y="188"/>
                  </a:lnTo>
                  <a:lnTo>
                    <a:pt x="18" y="181"/>
                  </a:lnTo>
                  <a:lnTo>
                    <a:pt x="26" y="174"/>
                  </a:lnTo>
                  <a:lnTo>
                    <a:pt x="41" y="163"/>
                  </a:lnTo>
                  <a:lnTo>
                    <a:pt x="44" y="160"/>
                  </a:lnTo>
                  <a:lnTo>
                    <a:pt x="56" y="153"/>
                  </a:lnTo>
                  <a:lnTo>
                    <a:pt x="89" y="131"/>
                  </a:lnTo>
                  <a:lnTo>
                    <a:pt x="115" y="114"/>
                  </a:lnTo>
                  <a:lnTo>
                    <a:pt x="152" y="92"/>
                  </a:lnTo>
                  <a:lnTo>
                    <a:pt x="171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7629120" y="5111640"/>
              <a:ext cx="576360" cy="326160"/>
            </a:xfrm>
            <a:custGeom>
              <a:avLst/>
              <a:gdLst/>
              <a:ahLst/>
              <a:rect l="l" t="t" r="r" b="b"/>
              <a:pathLst>
                <a:path w="369" h="209">
                  <a:moveTo>
                    <a:pt x="171" y="82"/>
                  </a:moveTo>
                  <a:lnTo>
                    <a:pt x="190" y="71"/>
                  </a:lnTo>
                  <a:lnTo>
                    <a:pt x="227" y="53"/>
                  </a:lnTo>
                  <a:lnTo>
                    <a:pt x="260" y="35"/>
                  </a:lnTo>
                  <a:lnTo>
                    <a:pt x="290" y="25"/>
                  </a:lnTo>
                  <a:lnTo>
                    <a:pt x="305" y="18"/>
                  </a:lnTo>
                  <a:lnTo>
                    <a:pt x="313" y="14"/>
                  </a:lnTo>
                  <a:lnTo>
                    <a:pt x="324" y="11"/>
                  </a:lnTo>
                  <a:lnTo>
                    <a:pt x="335" y="7"/>
                  </a:lnTo>
                  <a:lnTo>
                    <a:pt x="346" y="4"/>
                  </a:lnTo>
                  <a:lnTo>
                    <a:pt x="357" y="0"/>
                  </a:lnTo>
                  <a:lnTo>
                    <a:pt x="361" y="0"/>
                  </a:lnTo>
                  <a:lnTo>
                    <a:pt x="365" y="0"/>
                  </a:lnTo>
                  <a:lnTo>
                    <a:pt x="369" y="4"/>
                  </a:lnTo>
                  <a:lnTo>
                    <a:pt x="369" y="4"/>
                  </a:lnTo>
                  <a:lnTo>
                    <a:pt x="369" y="4"/>
                  </a:lnTo>
                  <a:lnTo>
                    <a:pt x="369" y="7"/>
                  </a:lnTo>
                  <a:lnTo>
                    <a:pt x="365" y="11"/>
                  </a:lnTo>
                  <a:lnTo>
                    <a:pt x="361" y="18"/>
                  </a:lnTo>
                  <a:lnTo>
                    <a:pt x="354" y="21"/>
                  </a:lnTo>
                  <a:lnTo>
                    <a:pt x="346" y="28"/>
                  </a:lnTo>
                  <a:lnTo>
                    <a:pt x="339" y="35"/>
                  </a:lnTo>
                  <a:lnTo>
                    <a:pt x="328" y="43"/>
                  </a:lnTo>
                  <a:lnTo>
                    <a:pt x="324" y="46"/>
                  </a:lnTo>
                  <a:lnTo>
                    <a:pt x="309" y="57"/>
                  </a:lnTo>
                  <a:lnTo>
                    <a:pt x="287" y="74"/>
                  </a:lnTo>
                  <a:lnTo>
                    <a:pt x="249" y="96"/>
                  </a:lnTo>
                  <a:lnTo>
                    <a:pt x="219" y="114"/>
                  </a:lnTo>
                  <a:lnTo>
                    <a:pt x="197" y="124"/>
                  </a:lnTo>
                  <a:lnTo>
                    <a:pt x="179" y="135"/>
                  </a:lnTo>
                  <a:lnTo>
                    <a:pt x="145" y="153"/>
                  </a:lnTo>
                  <a:lnTo>
                    <a:pt x="111" y="170"/>
                  </a:lnTo>
                  <a:lnTo>
                    <a:pt x="78" y="184"/>
                  </a:lnTo>
                  <a:lnTo>
                    <a:pt x="63" y="192"/>
                  </a:lnTo>
                  <a:lnTo>
                    <a:pt x="56" y="195"/>
                  </a:lnTo>
                  <a:lnTo>
                    <a:pt x="44" y="199"/>
                  </a:lnTo>
                  <a:lnTo>
                    <a:pt x="33" y="202"/>
                  </a:lnTo>
                  <a:lnTo>
                    <a:pt x="22" y="206"/>
                  </a:lnTo>
                  <a:lnTo>
                    <a:pt x="18" y="206"/>
                  </a:lnTo>
                  <a:lnTo>
                    <a:pt x="7" y="209"/>
                  </a:lnTo>
                  <a:lnTo>
                    <a:pt x="7" y="209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3" y="195"/>
                  </a:lnTo>
                  <a:lnTo>
                    <a:pt x="7" y="192"/>
                  </a:lnTo>
                  <a:lnTo>
                    <a:pt x="11" y="188"/>
                  </a:lnTo>
                  <a:lnTo>
                    <a:pt x="18" y="181"/>
                  </a:lnTo>
                  <a:lnTo>
                    <a:pt x="26" y="174"/>
                  </a:lnTo>
                  <a:lnTo>
                    <a:pt x="41" y="163"/>
                  </a:lnTo>
                  <a:lnTo>
                    <a:pt x="44" y="160"/>
                  </a:lnTo>
                  <a:lnTo>
                    <a:pt x="56" y="153"/>
                  </a:lnTo>
                  <a:lnTo>
                    <a:pt x="89" y="131"/>
                  </a:lnTo>
                  <a:lnTo>
                    <a:pt x="115" y="114"/>
                  </a:lnTo>
                  <a:lnTo>
                    <a:pt x="152" y="92"/>
                  </a:lnTo>
                  <a:lnTo>
                    <a:pt x="171" y="82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7902360" y="5459760"/>
              <a:ext cx="384120" cy="210960"/>
            </a:xfrm>
            <a:custGeom>
              <a:avLst/>
              <a:gdLst/>
              <a:ahLst/>
              <a:rect l="l" t="t" r="r" b="b"/>
              <a:pathLst>
                <a:path w="246" h="135">
                  <a:moveTo>
                    <a:pt x="0" y="135"/>
                  </a:moveTo>
                  <a:lnTo>
                    <a:pt x="11" y="121"/>
                  </a:lnTo>
                  <a:lnTo>
                    <a:pt x="37" y="96"/>
                  </a:lnTo>
                  <a:lnTo>
                    <a:pt x="67" y="75"/>
                  </a:lnTo>
                  <a:lnTo>
                    <a:pt x="93" y="57"/>
                  </a:lnTo>
                  <a:lnTo>
                    <a:pt x="112" y="47"/>
                  </a:lnTo>
                  <a:lnTo>
                    <a:pt x="126" y="39"/>
                  </a:lnTo>
                  <a:lnTo>
                    <a:pt x="164" y="22"/>
                  </a:lnTo>
                  <a:lnTo>
                    <a:pt x="197" y="11"/>
                  </a:lnTo>
                  <a:lnTo>
                    <a:pt x="227" y="4"/>
                  </a:lnTo>
                  <a:lnTo>
                    <a:pt x="24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8105040" y="5122800"/>
              <a:ext cx="36000" cy="77760"/>
            </a:xfrm>
            <a:prstGeom prst="ellips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8088120" y="5139720"/>
              <a:ext cx="64080" cy="4356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15" y="3"/>
                  </a:moveTo>
                  <a:lnTo>
                    <a:pt x="19" y="3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37" y="10"/>
                  </a:lnTo>
                  <a:lnTo>
                    <a:pt x="34" y="14"/>
                  </a:lnTo>
                  <a:lnTo>
                    <a:pt x="30" y="17"/>
                  </a:lnTo>
                  <a:lnTo>
                    <a:pt x="26" y="21"/>
                  </a:lnTo>
                  <a:lnTo>
                    <a:pt x="19" y="25"/>
                  </a:lnTo>
                  <a:lnTo>
                    <a:pt x="11" y="25"/>
                  </a:lnTo>
                  <a:lnTo>
                    <a:pt x="7" y="25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1" y="7"/>
                  </a:lnTo>
                  <a:lnTo>
                    <a:pt x="15" y="3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7716240" y="5333400"/>
              <a:ext cx="34200" cy="78120"/>
            </a:xfrm>
            <a:prstGeom prst="ellipse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7697520" y="5350680"/>
              <a:ext cx="70200" cy="4320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19" y="7"/>
                  </a:moveTo>
                  <a:lnTo>
                    <a:pt x="23" y="3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8" y="14"/>
                  </a:lnTo>
                  <a:lnTo>
                    <a:pt x="30" y="21"/>
                  </a:lnTo>
                  <a:lnTo>
                    <a:pt x="26" y="21"/>
                  </a:lnTo>
                  <a:lnTo>
                    <a:pt x="23" y="24"/>
                  </a:lnTo>
                  <a:lnTo>
                    <a:pt x="15" y="28"/>
                  </a:lnTo>
                  <a:lnTo>
                    <a:pt x="12" y="28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8" y="14"/>
                  </a:lnTo>
                  <a:lnTo>
                    <a:pt x="12" y="10"/>
                  </a:lnTo>
                  <a:lnTo>
                    <a:pt x="19" y="7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7605720" y="5078880"/>
              <a:ext cx="1145880" cy="1239840"/>
            </a:xfrm>
            <a:custGeom>
              <a:avLst/>
              <a:gdLst/>
              <a:ahLst/>
              <a:rect l="l" t="t" r="r" b="b"/>
              <a:pathLst>
                <a:path w="734" h="794">
                  <a:moveTo>
                    <a:pt x="365" y="7"/>
                  </a:moveTo>
                  <a:lnTo>
                    <a:pt x="380" y="0"/>
                  </a:lnTo>
                  <a:lnTo>
                    <a:pt x="734" y="581"/>
                  </a:lnTo>
                  <a:lnTo>
                    <a:pt x="592" y="659"/>
                  </a:lnTo>
                  <a:lnTo>
                    <a:pt x="644" y="745"/>
                  </a:lnTo>
                  <a:lnTo>
                    <a:pt x="559" y="794"/>
                  </a:lnTo>
                  <a:lnTo>
                    <a:pt x="506" y="706"/>
                  </a:lnTo>
                  <a:lnTo>
                    <a:pt x="350" y="791"/>
                  </a:lnTo>
                  <a:lnTo>
                    <a:pt x="0" y="209"/>
                  </a:lnTo>
                  <a:lnTo>
                    <a:pt x="18" y="19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8489520" y="6185880"/>
              <a:ext cx="34200" cy="9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8459640" y="6207840"/>
              <a:ext cx="93600" cy="558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23" y="7"/>
                  </a:moveTo>
                  <a:lnTo>
                    <a:pt x="30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0" y="4"/>
                  </a:lnTo>
                  <a:lnTo>
                    <a:pt x="60" y="7"/>
                  </a:lnTo>
                  <a:lnTo>
                    <a:pt x="56" y="14"/>
                  </a:lnTo>
                  <a:lnTo>
                    <a:pt x="53" y="18"/>
                  </a:lnTo>
                  <a:lnTo>
                    <a:pt x="41" y="25"/>
                  </a:lnTo>
                  <a:lnTo>
                    <a:pt x="34" y="25"/>
                  </a:lnTo>
                  <a:lnTo>
                    <a:pt x="30" y="29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12" y="36"/>
                  </a:lnTo>
                  <a:lnTo>
                    <a:pt x="4" y="3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8" y="18"/>
                  </a:lnTo>
                  <a:lnTo>
                    <a:pt x="19" y="11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8459640" y="6207840"/>
              <a:ext cx="93600" cy="558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23" y="7"/>
                  </a:moveTo>
                  <a:lnTo>
                    <a:pt x="30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0" y="4"/>
                  </a:lnTo>
                  <a:lnTo>
                    <a:pt x="60" y="7"/>
                  </a:lnTo>
                  <a:lnTo>
                    <a:pt x="56" y="14"/>
                  </a:lnTo>
                  <a:lnTo>
                    <a:pt x="53" y="18"/>
                  </a:lnTo>
                  <a:lnTo>
                    <a:pt x="41" y="25"/>
                  </a:lnTo>
                  <a:lnTo>
                    <a:pt x="34" y="25"/>
                  </a:lnTo>
                  <a:lnTo>
                    <a:pt x="30" y="29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12" y="36"/>
                  </a:lnTo>
                  <a:lnTo>
                    <a:pt x="4" y="3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25"/>
                  </a:lnTo>
                  <a:lnTo>
                    <a:pt x="4" y="22"/>
                  </a:lnTo>
                  <a:lnTo>
                    <a:pt x="8" y="18"/>
                  </a:lnTo>
                  <a:lnTo>
                    <a:pt x="19" y="11"/>
                  </a:lnTo>
                  <a:lnTo>
                    <a:pt x="23" y="7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9" name=""/>
            <p:cNvGrpSpPr/>
            <p:nvPr/>
          </p:nvGrpSpPr>
          <p:grpSpPr>
            <a:xfrm>
              <a:off x="8459640" y="6229440"/>
              <a:ext cx="227520" cy="293040"/>
              <a:chOff x="8459640" y="6229440"/>
              <a:chExt cx="227520" cy="293040"/>
            </a:xfrm>
          </p:grpSpPr>
          <p:sp>
            <p:nvSpPr>
              <p:cNvPr id="5830" name=""/>
              <p:cNvSpPr/>
              <p:nvPr/>
            </p:nvSpPr>
            <p:spPr>
              <a:xfrm>
                <a:off x="8459640" y="6268320"/>
                <a:ext cx="221400" cy="254160"/>
              </a:xfrm>
              <a:custGeom>
                <a:avLst/>
                <a:gdLst/>
                <a:ahLst/>
                <a:rect l="l" t="t" r="r" b="b"/>
                <a:pathLst>
                  <a:path w="142" h="163">
                    <a:moveTo>
                      <a:pt x="142" y="11"/>
                    </a:moveTo>
                    <a:lnTo>
                      <a:pt x="108" y="0"/>
                    </a:lnTo>
                    <a:lnTo>
                      <a:pt x="97" y="18"/>
                    </a:lnTo>
                    <a:lnTo>
                      <a:pt x="97" y="61"/>
                    </a:lnTo>
                    <a:lnTo>
                      <a:pt x="116" y="117"/>
                    </a:lnTo>
                    <a:lnTo>
                      <a:pt x="138" y="163"/>
                    </a:lnTo>
                    <a:lnTo>
                      <a:pt x="71" y="100"/>
                    </a:lnTo>
                    <a:lnTo>
                      <a:pt x="34" y="53"/>
                    </a:lnTo>
                    <a:lnTo>
                      <a:pt x="23" y="61"/>
                    </a:lnTo>
                    <a:lnTo>
                      <a:pt x="23" y="78"/>
                    </a:lnTo>
                    <a:lnTo>
                      <a:pt x="0" y="8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8646480" y="6229440"/>
                <a:ext cx="40680" cy="288720"/>
              </a:xfrm>
              <a:custGeom>
                <a:avLst/>
                <a:gdLst/>
                <a:ahLst/>
                <a:rect l="l" t="t" r="r" b="b"/>
                <a:pathLst>
                  <a:path w="26" h="185">
                    <a:moveTo>
                      <a:pt x="26" y="185"/>
                    </a:moveTo>
                    <a:lnTo>
                      <a:pt x="0" y="100"/>
                    </a:lnTo>
                    <a:lnTo>
                      <a:pt x="7" y="47"/>
                    </a:lnTo>
                    <a:lnTo>
                      <a:pt x="2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8523360" y="6307560"/>
                <a:ext cx="87120" cy="6084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56" y="0"/>
                    </a:moveTo>
                    <a:lnTo>
                      <a:pt x="12" y="11"/>
                    </a:lnTo>
                    <a:lnTo>
                      <a:pt x="0" y="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8546760" y="6302880"/>
                <a:ext cx="40680" cy="71280"/>
              </a:xfrm>
              <a:prstGeom prst="ellipse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8535960" y="6313320"/>
                <a:ext cx="70200" cy="4968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15" y="7"/>
                    </a:moveTo>
                    <a:lnTo>
                      <a:pt x="18" y="3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5" y="7"/>
                    </a:lnTo>
                    <a:lnTo>
                      <a:pt x="45" y="14"/>
                    </a:lnTo>
                    <a:lnTo>
                      <a:pt x="41" y="17"/>
                    </a:lnTo>
                    <a:lnTo>
                      <a:pt x="37" y="21"/>
                    </a:lnTo>
                    <a:lnTo>
                      <a:pt x="30" y="24"/>
                    </a:lnTo>
                    <a:lnTo>
                      <a:pt x="26" y="28"/>
                    </a:lnTo>
                    <a:lnTo>
                      <a:pt x="22" y="32"/>
                    </a:lnTo>
                    <a:lnTo>
                      <a:pt x="15" y="32"/>
                    </a:lnTo>
                    <a:lnTo>
                      <a:pt x="11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4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4"/>
                    </a:lnTo>
                    <a:lnTo>
                      <a:pt x="7" y="10"/>
                    </a:lnTo>
                    <a:lnTo>
                      <a:pt x="15" y="7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8535960" y="6313320"/>
                <a:ext cx="70200" cy="4968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15" y="7"/>
                    </a:moveTo>
                    <a:lnTo>
                      <a:pt x="18" y="3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5" y="7"/>
                    </a:lnTo>
                    <a:lnTo>
                      <a:pt x="45" y="14"/>
                    </a:lnTo>
                    <a:lnTo>
                      <a:pt x="41" y="17"/>
                    </a:lnTo>
                    <a:lnTo>
                      <a:pt x="37" y="21"/>
                    </a:lnTo>
                    <a:lnTo>
                      <a:pt x="30" y="24"/>
                    </a:lnTo>
                    <a:lnTo>
                      <a:pt x="26" y="28"/>
                    </a:lnTo>
                    <a:lnTo>
                      <a:pt x="22" y="32"/>
                    </a:lnTo>
                    <a:lnTo>
                      <a:pt x="15" y="32"/>
                    </a:lnTo>
                    <a:lnTo>
                      <a:pt x="11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4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4"/>
                    </a:lnTo>
                    <a:lnTo>
                      <a:pt x="7" y="10"/>
                    </a:lnTo>
                    <a:lnTo>
                      <a:pt x="15" y="7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8553240" y="6313320"/>
                <a:ext cx="10800" cy="32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8542440" y="6318360"/>
                <a:ext cx="27720" cy="2124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7" y="4"/>
                    </a:moveTo>
                    <a:lnTo>
                      <a:pt x="7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4"/>
                    </a:lnTo>
                    <a:lnTo>
                      <a:pt x="14" y="7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8542440" y="6318360"/>
                <a:ext cx="27720" cy="2124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7" y="4"/>
                    </a:moveTo>
                    <a:lnTo>
                      <a:pt x="7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18" y="4"/>
                    </a:lnTo>
                    <a:lnTo>
                      <a:pt x="14" y="7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7" y="4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39" name=""/>
          <p:cNvSpPr/>
          <p:nvPr/>
        </p:nvSpPr>
        <p:spPr>
          <a:xfrm>
            <a:off x="4906800" y="3933720"/>
            <a:ext cx="4179960" cy="2881440"/>
          </a:xfrm>
          <a:prstGeom prst="rect">
            <a:avLst/>
          </a:prstGeom>
          <a:noFill/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PlaceHolder 1"/>
          <p:cNvSpPr>
            <a:spLocks noGrp="1"/>
          </p:cNvSpPr>
          <p:nvPr>
            <p:ph type="title"/>
          </p:nvPr>
        </p:nvSpPr>
        <p:spPr>
          <a:xfrm>
            <a:off x="380880" y="666720"/>
            <a:ext cx="467208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dage de l'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1" name=""/>
          <p:cNvSpPr/>
          <p:nvPr/>
        </p:nvSpPr>
        <p:spPr>
          <a:xfrm>
            <a:off x="401760" y="1414440"/>
            <a:ext cx="860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'est l'affaire de l'étape "recombinaiso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jusqu'ici on a illustré un seul type de codage "champs de franges dans le plan image, en lumière filtrée (quasi-monochromatique)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2" name=""/>
          <p:cNvSpPr/>
          <p:nvPr/>
        </p:nvSpPr>
        <p:spPr>
          <a:xfrm>
            <a:off x="384120" y="3419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3" name=""/>
          <p:cNvSpPr/>
          <p:nvPr/>
        </p:nvSpPr>
        <p:spPr>
          <a:xfrm>
            <a:off x="242640" y="5923080"/>
            <a:ext cx="86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 y a aussi :   double fourier spatio-spectral, mode Courtès, heterody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4" name=""/>
          <p:cNvSpPr/>
          <p:nvPr/>
        </p:nvSpPr>
        <p:spPr>
          <a:xfrm>
            <a:off x="293040" y="3222720"/>
            <a:ext cx="1579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o d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lan pup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5" name=""/>
          <p:cNvSpPr/>
          <p:nvPr/>
        </p:nvSpPr>
        <p:spPr>
          <a:xfrm>
            <a:off x="283680" y="4148280"/>
            <a:ext cx="15156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o d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lan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2686680" y="3308400"/>
            <a:ext cx="1095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r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2705400" y="4179960"/>
            <a:ext cx="1538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einte 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>
            <a:off x="5036760" y="3284640"/>
            <a:ext cx="1866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umière filt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>
            <a:off x="5015160" y="4132440"/>
            <a:ext cx="2322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umière dispers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>
            <a:off x="1814400" y="3462480"/>
            <a:ext cx="885960" cy="914400"/>
          </a:xfrm>
          <a:custGeom>
            <a:avLst/>
            <a:gdLst/>
            <a:ahLst/>
            <a:rect l="l" t="t" r="r" b="b"/>
            <a:pathLst>
              <a:path w="558" h="576">
                <a:moveTo>
                  <a:pt x="558" y="0"/>
                </a:moveTo>
                <a:lnTo>
                  <a:pt x="0" y="82"/>
                </a:lnTo>
                <a:lnTo>
                  <a:pt x="558" y="5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 flipV="1">
            <a:off x="1781280" y="3557520"/>
            <a:ext cx="885600" cy="914400"/>
          </a:xfrm>
          <a:custGeom>
            <a:avLst/>
            <a:gdLst/>
            <a:ahLst/>
            <a:rect l="l" t="t" r="r" b="b"/>
            <a:pathLst>
              <a:path w="558" h="576">
                <a:moveTo>
                  <a:pt x="558" y="0"/>
                </a:moveTo>
                <a:lnTo>
                  <a:pt x="0" y="82"/>
                </a:lnTo>
                <a:lnTo>
                  <a:pt x="558" y="5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>
            <a:off x="3838680" y="3414600"/>
            <a:ext cx="1176120" cy="914400"/>
          </a:xfrm>
          <a:custGeom>
            <a:avLst/>
            <a:gdLst/>
            <a:ahLst/>
            <a:rect l="l" t="t" r="r" b="b"/>
            <a:pathLst>
              <a:path w="558" h="576">
                <a:moveTo>
                  <a:pt x="558" y="0"/>
                </a:moveTo>
                <a:lnTo>
                  <a:pt x="0" y="82"/>
                </a:lnTo>
                <a:lnTo>
                  <a:pt x="558" y="57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>
            <a:off x="4265640" y="3567240"/>
            <a:ext cx="755640" cy="880920"/>
          </a:xfrm>
          <a:custGeom>
            <a:avLst/>
            <a:gdLst/>
            <a:ahLst/>
            <a:rect l="l" t="t" r="r" b="b"/>
            <a:pathLst>
              <a:path w="476" h="555">
                <a:moveTo>
                  <a:pt x="476" y="555"/>
                </a:moveTo>
                <a:lnTo>
                  <a:pt x="0" y="494"/>
                </a:lnTo>
                <a:lnTo>
                  <a:pt x="43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>
            <a:off x="226800" y="5030640"/>
            <a:ext cx="841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arle aussi (abusivement ?) de codage temporel et codage spat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de recombinaison mono-axiale et multi-ax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5" name=""/>
          <p:cNvSpPr/>
          <p:nvPr/>
        </p:nvSpPr>
        <p:spPr>
          <a:xfrm>
            <a:off x="242640" y="2630520"/>
            <a:ext cx="805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fférentes combinaisons (et appelations) apparaissent ci-dess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6" name="PlaceHolder 1"/>
          <p:cNvSpPr>
            <a:spLocks noGrp="1"/>
          </p:cNvSpPr>
          <p:nvPr>
            <p:ph type="title"/>
          </p:nvPr>
        </p:nvSpPr>
        <p:spPr>
          <a:xfrm>
            <a:off x="262080" y="612720"/>
            <a:ext cx="8035920" cy="403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60120" rIns="60120" tIns="24120" bIns="24120" anchor="t">
            <a:noAutofit/>
          </a:bodyPr>
          <a:p>
            <a:pPr marL="380880" indent="0">
              <a:lnSpc>
                <a:spcPct val="97000"/>
              </a:lnSpc>
              <a:spcBef>
                <a:spcPts val="1463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amp de franges, lumière dispersé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6031440" y="1150920"/>
            <a:ext cx="2596320" cy="1557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jarg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pa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ulti-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ode : x-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>
            <a:off x="6163560" y="358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9" name=""/>
          <p:cNvGrpSpPr/>
          <p:nvPr/>
        </p:nvGrpSpPr>
        <p:grpSpPr>
          <a:xfrm>
            <a:off x="1043640" y="1165320"/>
            <a:ext cx="5203080" cy="3786840"/>
            <a:chOff x="1043640" y="1165320"/>
            <a:chExt cx="5203080" cy="3786840"/>
          </a:xfrm>
        </p:grpSpPr>
        <p:sp>
          <p:nvSpPr>
            <p:cNvPr id="5860" name=""/>
            <p:cNvSpPr/>
            <p:nvPr/>
          </p:nvSpPr>
          <p:spPr>
            <a:xfrm>
              <a:off x="2155680" y="1660680"/>
              <a:ext cx="476280" cy="1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4579920" y="1671480"/>
              <a:ext cx="476280" cy="1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2" name=""/>
            <p:cNvGrpSpPr/>
            <p:nvPr/>
          </p:nvGrpSpPr>
          <p:grpSpPr>
            <a:xfrm>
              <a:off x="3392640" y="3268800"/>
              <a:ext cx="455040" cy="882360"/>
              <a:chOff x="3392640" y="3268800"/>
              <a:chExt cx="455040" cy="882360"/>
            </a:xfrm>
          </p:grpSpPr>
          <p:sp>
            <p:nvSpPr>
              <p:cNvPr id="5863" name=""/>
              <p:cNvSpPr/>
              <p:nvPr/>
            </p:nvSpPr>
            <p:spPr>
              <a:xfrm flipH="1">
                <a:off x="3620880" y="3268800"/>
                <a:ext cx="226800" cy="88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3392640" y="3292920"/>
                <a:ext cx="228240" cy="82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5" name=""/>
            <p:cNvSpPr/>
            <p:nvPr/>
          </p:nvSpPr>
          <p:spPr>
            <a:xfrm>
              <a:off x="2416320" y="2333520"/>
              <a:ext cx="31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4471920" y="22986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4313880" y="3943440"/>
              <a:ext cx="190728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mage fran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'Yo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ispersé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1043640" y="3898800"/>
              <a:ext cx="214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lan image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ur cible camé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1952640" y="18320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4902120" y="1851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 rot="5400000">
              <a:off x="3498840" y="9360"/>
              <a:ext cx="225360" cy="292392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75960 h 2923920"/>
                <a:gd name="textAreaBottom" fmla="*/ 2847960 h 29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3529080" y="1165320"/>
              <a:ext cx="177840" cy="150840"/>
            </a:xfrm>
            <a:prstGeom prst="star5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3849840" y="1755720"/>
              <a:ext cx="960120" cy="1455840"/>
            </a:xfrm>
            <a:custGeom>
              <a:avLst/>
              <a:gdLst/>
              <a:ahLst/>
              <a:rect l="l" t="t" r="r" b="b"/>
              <a:pathLst>
                <a:path w="812" h="1202">
                  <a:moveTo>
                    <a:pt x="0" y="1202"/>
                  </a:moveTo>
                  <a:lnTo>
                    <a:pt x="0" y="799"/>
                  </a:lnTo>
                  <a:lnTo>
                    <a:pt x="812" y="797"/>
                  </a:lnTo>
                  <a:lnTo>
                    <a:pt x="8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 rot="117000">
              <a:off x="2995560" y="4665240"/>
              <a:ext cx="885960" cy="101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4021200" y="448956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 flipV="1">
              <a:off x="3222720" y="2522520"/>
              <a:ext cx="768240" cy="458640"/>
            </a:xfrm>
            <a:prstGeom prst="triangle">
              <a:avLst>
                <a:gd name="adj" fmla="val 5269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3236760" y="3114720"/>
              <a:ext cx="760680" cy="14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 flipH="1">
              <a:off x="2393280" y="1741320"/>
              <a:ext cx="1003320" cy="1455840"/>
            </a:xfrm>
            <a:custGeom>
              <a:avLst/>
              <a:gdLst/>
              <a:ahLst/>
              <a:rect l="l" t="t" r="r" b="b"/>
              <a:pathLst>
                <a:path w="812" h="1202">
                  <a:moveTo>
                    <a:pt x="0" y="1202"/>
                  </a:moveTo>
                  <a:lnTo>
                    <a:pt x="0" y="799"/>
                  </a:lnTo>
                  <a:lnTo>
                    <a:pt x="812" y="797"/>
                  </a:lnTo>
                  <a:lnTo>
                    <a:pt x="8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9" name=""/>
            <p:cNvGrpSpPr/>
            <p:nvPr/>
          </p:nvGrpSpPr>
          <p:grpSpPr>
            <a:xfrm>
              <a:off x="3095640" y="3970440"/>
              <a:ext cx="1012320" cy="583560"/>
              <a:chOff x="3095640" y="3970440"/>
              <a:chExt cx="1012320" cy="583560"/>
            </a:xfrm>
          </p:grpSpPr>
          <p:grpSp>
            <p:nvGrpSpPr>
              <p:cNvPr id="5880" name=""/>
              <p:cNvGrpSpPr/>
              <p:nvPr/>
            </p:nvGrpSpPr>
            <p:grpSpPr>
              <a:xfrm>
                <a:off x="3225240" y="3970440"/>
                <a:ext cx="882720" cy="338400"/>
                <a:chOff x="3225240" y="3970440"/>
                <a:chExt cx="882720" cy="338400"/>
              </a:xfrm>
            </p:grpSpPr>
            <p:sp>
              <p:nvSpPr>
                <p:cNvPr id="5881" name=""/>
                <p:cNvSpPr/>
                <p:nvPr/>
              </p:nvSpPr>
              <p:spPr>
                <a:xfrm>
                  <a:off x="3225240" y="397152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2" name=""/>
                <p:cNvSpPr/>
                <p:nvPr/>
              </p:nvSpPr>
              <p:spPr>
                <a:xfrm flipH="1">
                  <a:off x="3656520" y="397044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3" name=""/>
              <p:cNvGrpSpPr/>
              <p:nvPr/>
            </p:nvGrpSpPr>
            <p:grpSpPr>
              <a:xfrm>
                <a:off x="3192840" y="4031640"/>
                <a:ext cx="882720" cy="338400"/>
                <a:chOff x="3192840" y="4031640"/>
                <a:chExt cx="882720" cy="338400"/>
              </a:xfrm>
            </p:grpSpPr>
            <p:sp>
              <p:nvSpPr>
                <p:cNvPr id="5884" name=""/>
                <p:cNvSpPr/>
                <p:nvPr/>
              </p:nvSpPr>
              <p:spPr>
                <a:xfrm>
                  <a:off x="3192840" y="403272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5" name=""/>
                <p:cNvSpPr/>
                <p:nvPr/>
              </p:nvSpPr>
              <p:spPr>
                <a:xfrm flipH="1">
                  <a:off x="3624120" y="403164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6" name=""/>
              <p:cNvGrpSpPr/>
              <p:nvPr/>
            </p:nvGrpSpPr>
            <p:grpSpPr>
              <a:xfrm>
                <a:off x="3160080" y="4092840"/>
                <a:ext cx="882720" cy="338400"/>
                <a:chOff x="3160080" y="4092840"/>
                <a:chExt cx="882720" cy="338400"/>
              </a:xfrm>
            </p:grpSpPr>
            <p:sp>
              <p:nvSpPr>
                <p:cNvPr id="5887" name=""/>
                <p:cNvSpPr/>
                <p:nvPr/>
              </p:nvSpPr>
              <p:spPr>
                <a:xfrm>
                  <a:off x="3160080" y="409392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8" name=""/>
                <p:cNvSpPr/>
                <p:nvPr/>
              </p:nvSpPr>
              <p:spPr>
                <a:xfrm flipH="1">
                  <a:off x="3591360" y="409284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9" name=""/>
              <p:cNvGrpSpPr/>
              <p:nvPr/>
            </p:nvGrpSpPr>
            <p:grpSpPr>
              <a:xfrm>
                <a:off x="3127680" y="4154400"/>
                <a:ext cx="882720" cy="338400"/>
                <a:chOff x="3127680" y="4154400"/>
                <a:chExt cx="882720" cy="338400"/>
              </a:xfrm>
            </p:grpSpPr>
            <p:sp>
              <p:nvSpPr>
                <p:cNvPr id="5890" name=""/>
                <p:cNvSpPr/>
                <p:nvPr/>
              </p:nvSpPr>
              <p:spPr>
                <a:xfrm>
                  <a:off x="3127680" y="415548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1" name=""/>
                <p:cNvSpPr/>
                <p:nvPr/>
              </p:nvSpPr>
              <p:spPr>
                <a:xfrm flipH="1">
                  <a:off x="3558960" y="415440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2" name=""/>
              <p:cNvGrpSpPr/>
              <p:nvPr/>
            </p:nvGrpSpPr>
            <p:grpSpPr>
              <a:xfrm>
                <a:off x="3095640" y="4215600"/>
                <a:ext cx="882720" cy="338400"/>
                <a:chOff x="3095640" y="4215600"/>
                <a:chExt cx="882720" cy="338400"/>
              </a:xfrm>
            </p:grpSpPr>
            <p:sp>
              <p:nvSpPr>
                <p:cNvPr id="5893" name=""/>
                <p:cNvSpPr/>
                <p:nvPr/>
              </p:nvSpPr>
              <p:spPr>
                <a:xfrm>
                  <a:off x="3095640" y="421668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4" name=""/>
                <p:cNvSpPr/>
                <p:nvPr/>
              </p:nvSpPr>
              <p:spPr>
                <a:xfrm flipH="1">
                  <a:off x="3526920" y="4215600"/>
                  <a:ext cx="451440" cy="3373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95" name=""/>
            <p:cNvGrpSpPr/>
            <p:nvPr/>
          </p:nvGrpSpPr>
          <p:grpSpPr>
            <a:xfrm>
              <a:off x="4662360" y="2840040"/>
              <a:ext cx="1344240" cy="929880"/>
              <a:chOff x="4662360" y="2840040"/>
              <a:chExt cx="1344240" cy="929880"/>
            </a:xfrm>
          </p:grpSpPr>
          <p:grpSp>
            <p:nvGrpSpPr>
              <p:cNvPr id="5896" name=""/>
              <p:cNvGrpSpPr/>
              <p:nvPr/>
            </p:nvGrpSpPr>
            <p:grpSpPr>
              <a:xfrm>
                <a:off x="4834800" y="2840040"/>
                <a:ext cx="1171800" cy="539640"/>
                <a:chOff x="4834800" y="2840040"/>
                <a:chExt cx="1171800" cy="539640"/>
              </a:xfrm>
            </p:grpSpPr>
            <p:sp>
              <p:nvSpPr>
                <p:cNvPr id="5897" name=""/>
                <p:cNvSpPr/>
                <p:nvPr/>
              </p:nvSpPr>
              <p:spPr>
                <a:xfrm>
                  <a:off x="4834800" y="2842200"/>
                  <a:ext cx="599040" cy="53748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 flipH="1">
                  <a:off x="5407560" y="2840040"/>
                  <a:ext cx="599040" cy="53748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9" name=""/>
              <p:cNvGrpSpPr/>
              <p:nvPr/>
            </p:nvGrpSpPr>
            <p:grpSpPr>
              <a:xfrm>
                <a:off x="4791240" y="2937600"/>
                <a:ext cx="1171800" cy="539280"/>
                <a:chOff x="4791240" y="2937600"/>
                <a:chExt cx="1171800" cy="539280"/>
              </a:xfrm>
            </p:grpSpPr>
            <p:sp>
              <p:nvSpPr>
                <p:cNvPr id="5900" name=""/>
                <p:cNvSpPr/>
                <p:nvPr/>
              </p:nvSpPr>
              <p:spPr>
                <a:xfrm>
                  <a:off x="4791240" y="293976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1" name=""/>
                <p:cNvSpPr/>
                <p:nvPr/>
              </p:nvSpPr>
              <p:spPr>
                <a:xfrm flipH="1">
                  <a:off x="5364000" y="293760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2" name=""/>
              <p:cNvGrpSpPr/>
              <p:nvPr/>
            </p:nvGrpSpPr>
            <p:grpSpPr>
              <a:xfrm>
                <a:off x="4748040" y="3035520"/>
                <a:ext cx="1171800" cy="539280"/>
                <a:chOff x="4748040" y="3035520"/>
                <a:chExt cx="1171800" cy="539280"/>
              </a:xfrm>
            </p:grpSpPr>
            <p:sp>
              <p:nvSpPr>
                <p:cNvPr id="5903" name=""/>
                <p:cNvSpPr/>
                <p:nvPr/>
              </p:nvSpPr>
              <p:spPr>
                <a:xfrm>
                  <a:off x="4748040" y="303768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4" name=""/>
                <p:cNvSpPr/>
                <p:nvPr/>
              </p:nvSpPr>
              <p:spPr>
                <a:xfrm flipH="1">
                  <a:off x="5320800" y="303552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5" name=""/>
              <p:cNvGrpSpPr/>
              <p:nvPr/>
            </p:nvGrpSpPr>
            <p:grpSpPr>
              <a:xfrm>
                <a:off x="4704840" y="3133080"/>
                <a:ext cx="1171800" cy="539280"/>
                <a:chOff x="4704840" y="3133080"/>
                <a:chExt cx="1171800" cy="539280"/>
              </a:xfrm>
            </p:grpSpPr>
            <p:sp>
              <p:nvSpPr>
                <p:cNvPr id="5906" name=""/>
                <p:cNvSpPr/>
                <p:nvPr/>
              </p:nvSpPr>
              <p:spPr>
                <a:xfrm>
                  <a:off x="4704840" y="313524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 flipH="1">
                  <a:off x="5277600" y="313308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8" name=""/>
              <p:cNvGrpSpPr/>
              <p:nvPr/>
            </p:nvGrpSpPr>
            <p:grpSpPr>
              <a:xfrm>
                <a:off x="4662360" y="3230640"/>
                <a:ext cx="1171800" cy="539280"/>
                <a:chOff x="4662360" y="3230640"/>
                <a:chExt cx="1171800" cy="539280"/>
              </a:xfrm>
            </p:grpSpPr>
            <p:sp>
              <p:nvSpPr>
                <p:cNvPr id="5909" name=""/>
                <p:cNvSpPr/>
                <p:nvPr/>
              </p:nvSpPr>
              <p:spPr>
                <a:xfrm>
                  <a:off x="4662360" y="323280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0" name=""/>
                <p:cNvSpPr/>
                <p:nvPr/>
              </p:nvSpPr>
              <p:spPr>
                <a:xfrm flipH="1">
                  <a:off x="5235120" y="3230640"/>
                  <a:ext cx="599040" cy="537120"/>
                </a:xfrm>
                <a:custGeom>
                  <a:avLst/>
                  <a:gdLst/>
                  <a:ahLst/>
                  <a:rect l="l" t="t" r="r" b="b"/>
                  <a:pathLst>
                    <a:path w="791" h="937">
                      <a:moveTo>
                        <a:pt x="787" y="73"/>
                      </a:moveTo>
                      <a:cubicBezTo>
                        <a:pt x="779" y="83"/>
                        <a:pt x="766" y="0"/>
                        <a:pt x="742" y="136"/>
                      </a:cubicBezTo>
                      <a:cubicBezTo>
                        <a:pt x="718" y="272"/>
                        <a:pt x="676" y="869"/>
                        <a:pt x="643" y="889"/>
                      </a:cubicBezTo>
                      <a:cubicBezTo>
                        <a:pt x="610" y="909"/>
                        <a:pt x="578" y="254"/>
                        <a:pt x="546" y="254"/>
                      </a:cubicBezTo>
                      <a:cubicBezTo>
                        <a:pt x="514" y="254"/>
                        <a:pt x="477" y="841"/>
                        <a:pt x="451" y="889"/>
                      </a:cubicBezTo>
                      <a:cubicBezTo>
                        <a:pt x="425" y="937"/>
                        <a:pt x="412" y="539"/>
                        <a:pt x="388" y="539"/>
                      </a:cubicBezTo>
                      <a:cubicBezTo>
                        <a:pt x="364" y="539"/>
                        <a:pt x="330" y="846"/>
                        <a:pt x="307" y="889"/>
                      </a:cubicBezTo>
                      <a:cubicBezTo>
                        <a:pt x="284" y="932"/>
                        <a:pt x="272" y="802"/>
                        <a:pt x="251" y="795"/>
                      </a:cubicBezTo>
                      <a:cubicBezTo>
                        <a:pt x="230" y="788"/>
                        <a:pt x="193" y="841"/>
                        <a:pt x="181" y="850"/>
                      </a:cubicBezTo>
                      <a:cubicBezTo>
                        <a:pt x="169" y="859"/>
                        <a:pt x="194" y="844"/>
                        <a:pt x="181" y="850"/>
                      </a:cubicBezTo>
                      <a:cubicBezTo>
                        <a:pt x="168" y="856"/>
                        <a:pt x="0" y="883"/>
                        <a:pt x="102" y="889"/>
                      </a:cubicBezTo>
                      <a:lnTo>
                        <a:pt x="791" y="889"/>
                      </a:lnTo>
                    </a:path>
                  </a:pathLst>
                </a:custGeom>
                <a:solidFill>
                  <a:srgbClr val="dddddd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11" name=""/>
            <p:cNvSpPr/>
            <p:nvPr/>
          </p:nvSpPr>
          <p:spPr>
            <a:xfrm>
              <a:off x="4621320" y="378468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 flipV="1">
              <a:off x="5478480" y="3133440"/>
              <a:ext cx="682560" cy="10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5797800" y="28083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2277720" y="3171960"/>
              <a:ext cx="99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résea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3189240" y="3305160"/>
              <a:ext cx="884160" cy="233280"/>
            </a:xfrm>
            <a:prstGeom prst="parallelogram">
              <a:avLst>
                <a:gd name="adj" fmla="val 40621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16" name=""/>
          <p:cNvGraphicFramePr/>
          <p:nvPr/>
        </p:nvGraphicFramePr>
        <p:xfrm>
          <a:off x="282600" y="5138640"/>
          <a:ext cx="2035080" cy="1149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9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2600" y="5138640"/>
                    <a:ext cx="203508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18" name=""/>
          <p:cNvGrpSpPr/>
          <p:nvPr/>
        </p:nvGrpSpPr>
        <p:grpSpPr>
          <a:xfrm>
            <a:off x="6512040" y="3857760"/>
            <a:ext cx="2598840" cy="1872360"/>
            <a:chOff x="6512040" y="3857760"/>
            <a:chExt cx="2598840" cy="1872360"/>
          </a:xfrm>
        </p:grpSpPr>
        <p:sp>
          <p:nvSpPr>
            <p:cNvPr id="5919" name=""/>
            <p:cNvSpPr/>
            <p:nvPr/>
          </p:nvSpPr>
          <p:spPr>
            <a:xfrm>
              <a:off x="7211880" y="4195800"/>
              <a:ext cx="126360" cy="1128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0" name=""/>
            <p:cNvGrpSpPr/>
            <p:nvPr/>
          </p:nvGrpSpPr>
          <p:grpSpPr>
            <a:xfrm>
              <a:off x="6837120" y="4282920"/>
              <a:ext cx="1885680" cy="942120"/>
              <a:chOff x="6837120" y="4282920"/>
              <a:chExt cx="1885680" cy="942120"/>
            </a:xfrm>
          </p:grpSpPr>
          <p:sp>
            <p:nvSpPr>
              <p:cNvPr id="5921" name=""/>
              <p:cNvSpPr/>
              <p:nvPr/>
            </p:nvSpPr>
            <p:spPr>
              <a:xfrm>
                <a:off x="6839280" y="4282920"/>
                <a:ext cx="1881000" cy="940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2" name=""/>
              <p:cNvGrpSpPr/>
              <p:nvPr/>
            </p:nvGrpSpPr>
            <p:grpSpPr>
              <a:xfrm>
                <a:off x="6837120" y="4313520"/>
                <a:ext cx="1885680" cy="911520"/>
                <a:chOff x="6837120" y="4313520"/>
                <a:chExt cx="1885680" cy="911520"/>
              </a:xfrm>
            </p:grpSpPr>
            <p:sp>
              <p:nvSpPr>
                <p:cNvPr id="5923" name=""/>
                <p:cNvSpPr/>
                <p:nvPr/>
              </p:nvSpPr>
              <p:spPr>
                <a:xfrm>
                  <a:off x="6851160" y="4765320"/>
                  <a:ext cx="1869120" cy="0"/>
                </a:xfrm>
                <a:prstGeom prst="line">
                  <a:avLst/>
                </a:prstGeom>
                <a:ln w="7632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4" name=""/>
                <p:cNvSpPr/>
                <p:nvPr/>
              </p:nvSpPr>
              <p:spPr>
                <a:xfrm>
                  <a:off x="6846480" y="4880160"/>
                  <a:ext cx="1856880" cy="34560"/>
                </a:xfrm>
                <a:prstGeom prst="line">
                  <a:avLst/>
                </a:prstGeom>
                <a:ln w="7632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5" name=""/>
                <p:cNvSpPr/>
                <p:nvPr/>
              </p:nvSpPr>
              <p:spPr>
                <a:xfrm>
                  <a:off x="6841440" y="4994640"/>
                  <a:ext cx="1856880" cy="81000"/>
                </a:xfrm>
                <a:prstGeom prst="line">
                  <a:avLst/>
                </a:prstGeom>
                <a:ln w="7632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6" name=""/>
                <p:cNvSpPr/>
                <p:nvPr/>
              </p:nvSpPr>
              <p:spPr>
                <a:xfrm>
                  <a:off x="6837120" y="5109480"/>
                  <a:ext cx="1856880" cy="115560"/>
                </a:xfrm>
                <a:prstGeom prst="line">
                  <a:avLst/>
                </a:prstGeom>
                <a:ln w="7632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7" name=""/>
                <p:cNvSpPr/>
                <p:nvPr/>
              </p:nvSpPr>
              <p:spPr>
                <a:xfrm flipV="1">
                  <a:off x="6865560" y="4624200"/>
                  <a:ext cx="1857240" cy="34560"/>
                </a:xfrm>
                <a:prstGeom prst="line">
                  <a:avLst/>
                </a:prstGeom>
                <a:ln w="7632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8" name=""/>
                <p:cNvSpPr/>
                <p:nvPr/>
              </p:nvSpPr>
              <p:spPr>
                <a:xfrm flipV="1">
                  <a:off x="6860880" y="4462560"/>
                  <a:ext cx="1856880" cy="81000"/>
                </a:xfrm>
                <a:prstGeom prst="line">
                  <a:avLst/>
                </a:prstGeom>
                <a:ln w="7632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9" name=""/>
                <p:cNvSpPr/>
                <p:nvPr/>
              </p:nvSpPr>
              <p:spPr>
                <a:xfrm flipV="1">
                  <a:off x="6855840" y="4313520"/>
                  <a:ext cx="1856880" cy="115560"/>
                </a:xfrm>
                <a:prstGeom prst="line">
                  <a:avLst/>
                </a:prstGeom>
                <a:ln w="7632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0" name=""/>
            <p:cNvSpPr/>
            <p:nvPr/>
          </p:nvSpPr>
          <p:spPr>
            <a:xfrm>
              <a:off x="7216560" y="4200480"/>
              <a:ext cx="126720" cy="11282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7133400" y="527040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7531920" y="3857760"/>
              <a:ext cx="53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6838560" y="4165560"/>
              <a:ext cx="18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6616440" y="5330880"/>
              <a:ext cx="239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 flipV="1">
              <a:off x="6710040" y="3952800"/>
              <a:ext cx="0" cy="14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6512040" y="3908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8762400" y="49482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8" name=""/>
          <p:cNvSpPr/>
          <p:nvPr/>
        </p:nvSpPr>
        <p:spPr>
          <a:xfrm>
            <a:off x="286200" y="63421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umière filtrée, mode 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5967000" y="5851440"/>
            <a:ext cx="2695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ci l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coh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se rappor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à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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 et non plus à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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coh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plus 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>
            <a:off x="2707560" y="5295960"/>
            <a:ext cx="197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ci l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omic Sans MS"/>
              </a:rPr>
              <a:t>coh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fr-FR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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1" name="PlaceHolder 1"/>
          <p:cNvSpPr>
            <a:spLocks noGrp="1"/>
          </p:cNvSpPr>
          <p:nvPr>
            <p:ph type="title"/>
          </p:nvPr>
        </p:nvSpPr>
        <p:spPr>
          <a:xfrm>
            <a:off x="262080" y="698400"/>
            <a:ext cx="8035920" cy="403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60120" rIns="60120" tIns="24120" bIns="24120" anchor="t">
            <a:noAutofit/>
          </a:bodyPr>
          <a:p>
            <a:pPr marL="380880" indent="0">
              <a:lnSpc>
                <a:spcPct val="97000"/>
              </a:lnSpc>
              <a:spcBef>
                <a:spcPts val="1463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amps de franges, lumière dispersée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>
            <a:off x="1246320" y="1224000"/>
            <a:ext cx="252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>
            <a:off x="1392120" y="1368360"/>
            <a:ext cx="237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4" name="" descr=""/>
          <p:cNvPicPr/>
          <p:nvPr/>
        </p:nvPicPr>
        <p:blipFill>
          <a:blip r:embed="rId1"/>
          <a:stretch/>
        </p:blipFill>
        <p:spPr>
          <a:xfrm>
            <a:off x="1136520" y="1609560"/>
            <a:ext cx="5910480" cy="3837240"/>
          </a:xfrm>
          <a:prstGeom prst="rect">
            <a:avLst/>
          </a:prstGeom>
          <a:ln w="0">
            <a:noFill/>
          </a:ln>
        </p:spPr>
      </p:pic>
      <p:sp>
        <p:nvSpPr>
          <p:cNvPr id="5945" name=""/>
          <p:cNvSpPr/>
          <p:nvPr/>
        </p:nvSpPr>
        <p:spPr>
          <a:xfrm>
            <a:off x="741600" y="4121280"/>
            <a:ext cx="168192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pa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ulti-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ode : x-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6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0118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einte plate , plan pupill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"/>
          <p:cNvSpPr/>
          <p:nvPr/>
        </p:nvSpPr>
        <p:spPr>
          <a:xfrm>
            <a:off x="338040" y="1353960"/>
            <a:ext cx="33638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80880" indent="-380880">
              <a:lnSpc>
                <a:spcPct val="86000"/>
              </a:lnSpc>
              <a:spcBef>
                <a:spcPts val="1001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pupilles de sor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6000"/>
              </a:lnSpc>
              <a:spcBef>
                <a:spcPts val="1001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t une séparation nu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8" name=""/>
          <p:cNvGrpSpPr/>
          <p:nvPr/>
        </p:nvGrpSpPr>
        <p:grpSpPr>
          <a:xfrm>
            <a:off x="-57600" y="3656160"/>
            <a:ext cx="7429320" cy="2936880"/>
            <a:chOff x="-57600" y="3656160"/>
            <a:chExt cx="7429320" cy="2936880"/>
          </a:xfrm>
        </p:grpSpPr>
        <p:grpSp>
          <p:nvGrpSpPr>
            <p:cNvPr id="5949" name=""/>
            <p:cNvGrpSpPr/>
            <p:nvPr/>
          </p:nvGrpSpPr>
          <p:grpSpPr>
            <a:xfrm>
              <a:off x="871200" y="4005360"/>
              <a:ext cx="2836080" cy="2587680"/>
              <a:chOff x="871200" y="4005360"/>
              <a:chExt cx="2836080" cy="2587680"/>
            </a:xfrm>
          </p:grpSpPr>
          <p:sp>
            <p:nvSpPr>
              <p:cNvPr id="5950" name=""/>
              <p:cNvSpPr/>
              <p:nvPr/>
            </p:nvSpPr>
            <p:spPr>
              <a:xfrm>
                <a:off x="2075760" y="4079880"/>
                <a:ext cx="6296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3080520" y="4405320"/>
                <a:ext cx="1080" cy="690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52" name=""/>
              <p:cNvGrpSpPr/>
              <p:nvPr/>
            </p:nvGrpSpPr>
            <p:grpSpPr>
              <a:xfrm>
                <a:off x="871200" y="4641840"/>
                <a:ext cx="231480" cy="414360"/>
                <a:chOff x="871200" y="4641840"/>
                <a:chExt cx="231480" cy="414360"/>
              </a:xfrm>
            </p:grpSpPr>
            <p:sp>
              <p:nvSpPr>
                <p:cNvPr id="5953" name=""/>
                <p:cNvSpPr/>
                <p:nvPr/>
              </p:nvSpPr>
              <p:spPr>
                <a:xfrm>
                  <a:off x="871200" y="4641840"/>
                  <a:ext cx="231480" cy="255600"/>
                </a:xfrm>
                <a:prstGeom prst="ellipse">
                  <a:avLst/>
                </a:prstGeom>
                <a:solidFill>
                  <a:srgbClr val="fffff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4" name=""/>
                <p:cNvSpPr/>
                <p:nvPr/>
              </p:nvSpPr>
              <p:spPr>
                <a:xfrm>
                  <a:off x="913680" y="4884840"/>
                  <a:ext cx="145440" cy="1713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5" name=""/>
              <p:cNvSpPr/>
              <p:nvPr/>
            </p:nvSpPr>
            <p:spPr>
              <a:xfrm>
                <a:off x="2100960" y="4015080"/>
                <a:ext cx="657000" cy="55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3080520" y="4388040"/>
                <a:ext cx="52200" cy="7272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1216800" y="4761000"/>
                <a:ext cx="18475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2409120" y="4089600"/>
                <a:ext cx="1080" cy="1258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2953440" y="4397400"/>
                <a:ext cx="17280" cy="6811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60" name=""/>
              <p:cNvGrpSpPr/>
              <p:nvPr/>
            </p:nvGrpSpPr>
            <p:grpSpPr>
              <a:xfrm>
                <a:off x="1797840" y="5461200"/>
                <a:ext cx="1410120" cy="876240"/>
                <a:chOff x="1797840" y="5461200"/>
                <a:chExt cx="1410120" cy="876240"/>
              </a:xfrm>
            </p:grpSpPr>
            <p:grpSp>
              <p:nvGrpSpPr>
                <p:cNvPr id="5961" name=""/>
                <p:cNvGrpSpPr/>
                <p:nvPr/>
              </p:nvGrpSpPr>
              <p:grpSpPr>
                <a:xfrm>
                  <a:off x="2383200" y="5461200"/>
                  <a:ext cx="824760" cy="876240"/>
                  <a:chOff x="2383200" y="5461200"/>
                  <a:chExt cx="824760" cy="876240"/>
                </a:xfrm>
              </p:grpSpPr>
              <p:grpSp>
                <p:nvGrpSpPr>
                  <p:cNvPr id="5962" name=""/>
                  <p:cNvGrpSpPr/>
                  <p:nvPr/>
                </p:nvGrpSpPr>
                <p:grpSpPr>
                  <a:xfrm>
                    <a:off x="2441520" y="5461200"/>
                    <a:ext cx="741240" cy="798480"/>
                    <a:chOff x="2441520" y="5461200"/>
                    <a:chExt cx="741240" cy="798480"/>
                  </a:xfrm>
                </p:grpSpPr>
                <p:sp>
                  <p:nvSpPr>
                    <p:cNvPr id="5963" name=""/>
                    <p:cNvSpPr/>
                    <p:nvPr/>
                  </p:nvSpPr>
                  <p:spPr>
                    <a:xfrm>
                      <a:off x="2444400" y="5500800"/>
                      <a:ext cx="725040" cy="758880"/>
                    </a:xfrm>
                    <a:prstGeom prst="ellipse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964" name=""/>
                    <p:cNvGrpSpPr/>
                    <p:nvPr/>
                  </p:nvGrpSpPr>
                  <p:grpSpPr>
                    <a:xfrm>
                      <a:off x="2601720" y="5626080"/>
                      <a:ext cx="435960" cy="490680"/>
                      <a:chOff x="2601720" y="5626080"/>
                      <a:chExt cx="435960" cy="490680"/>
                    </a:xfrm>
                  </p:grpSpPr>
                  <p:sp>
                    <p:nvSpPr>
                      <p:cNvPr id="5965" name=""/>
                      <p:cNvSpPr/>
                      <p:nvPr/>
                    </p:nvSpPr>
                    <p:spPr>
                      <a:xfrm>
                        <a:off x="2602800" y="5627880"/>
                        <a:ext cx="434520" cy="485640"/>
                      </a:xfrm>
                      <a:prstGeom prst="ellipse">
                        <a:avLst/>
                      </a:prstGeom>
                      <a:blipFill rotWithShape="0">
                        <a:blip r:embed="rId6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66" name=""/>
                      <p:cNvSpPr/>
                      <p:nvPr/>
                    </p:nvSpPr>
                    <p:spPr>
                      <a:xfrm>
                        <a:off x="2601720" y="5626080"/>
                        <a:ext cx="435960" cy="490680"/>
                      </a:xfrm>
                      <a:prstGeom prst="ellipse">
                        <a:avLst/>
                      </a:prstGeom>
                      <a:noFill/>
                      <a:ln w="33480">
                        <a:solidFill>
                          <a:srgbClr val="f7f7f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967" name=""/>
                      <p:cNvGrpSpPr/>
                      <p:nvPr/>
                    </p:nvGrpSpPr>
                    <p:grpSpPr>
                      <a:xfrm>
                        <a:off x="2644200" y="5681880"/>
                        <a:ext cx="350280" cy="387360"/>
                        <a:chOff x="2644200" y="5681880"/>
                        <a:chExt cx="350280" cy="387360"/>
                      </a:xfrm>
                    </p:grpSpPr>
                    <p:sp>
                      <p:nvSpPr>
                        <p:cNvPr id="5968" name=""/>
                        <p:cNvSpPr/>
                        <p:nvPr/>
                      </p:nvSpPr>
                      <p:spPr>
                        <a:xfrm>
                          <a:off x="2645280" y="5685120"/>
                          <a:ext cx="348840" cy="382320"/>
                        </a:xfrm>
                        <a:prstGeom prst="ellipse">
                          <a:avLst/>
                        </a:prstGeom>
                        <a:blipFill rotWithShape="0">
                          <a:blip r:embed="rId7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69" name=""/>
                        <p:cNvSpPr/>
                        <p:nvPr/>
                      </p:nvSpPr>
                      <p:spPr>
                        <a:xfrm>
                          <a:off x="2644200" y="5681880"/>
                          <a:ext cx="350280" cy="387360"/>
                        </a:xfrm>
                        <a:prstGeom prst="ellipse">
                          <a:avLst/>
                        </a:prstGeom>
                        <a:noFill/>
                        <a:ln w="33480">
                          <a:solidFill>
                            <a:srgbClr val="f7f7f7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70" name=""/>
                        <p:cNvSpPr/>
                        <p:nvPr/>
                      </p:nvSpPr>
                      <p:spPr>
                        <a:xfrm>
                          <a:off x="2721600" y="5769000"/>
                          <a:ext cx="194760" cy="214560"/>
                        </a:xfrm>
                        <a:prstGeom prst="ellipse">
                          <a:avLst/>
                        </a:prstGeom>
                        <a:blipFill rotWithShape="0">
                          <a:blip r:embed="rId8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71" name=""/>
                        <p:cNvSpPr/>
                        <p:nvPr/>
                      </p:nvSpPr>
                      <p:spPr>
                        <a:xfrm>
                          <a:off x="2719800" y="5766120"/>
                          <a:ext cx="198360" cy="220320"/>
                        </a:xfrm>
                        <a:prstGeom prst="ellipse">
                          <a:avLst/>
                        </a:prstGeom>
                        <a:noFill/>
                        <a:ln w="33480">
                          <a:solidFill>
                            <a:srgbClr val="f7f7f7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972" name=""/>
                    <p:cNvSpPr/>
                    <p:nvPr/>
                  </p:nvSpPr>
                  <p:spPr>
                    <a:xfrm>
                      <a:off x="2441520" y="5461200"/>
                      <a:ext cx="741240" cy="149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73" name=""/>
                  <p:cNvSpPr/>
                  <p:nvPr/>
                </p:nvSpPr>
                <p:spPr>
                  <a:xfrm>
                    <a:off x="3046320" y="5591160"/>
                    <a:ext cx="161640" cy="69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4" name=""/>
                  <p:cNvSpPr/>
                  <p:nvPr/>
                </p:nvSpPr>
                <p:spPr>
                  <a:xfrm>
                    <a:off x="2433600" y="6123240"/>
                    <a:ext cx="680760" cy="21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5" name=""/>
                  <p:cNvSpPr/>
                  <p:nvPr/>
                </p:nvSpPr>
                <p:spPr>
                  <a:xfrm>
                    <a:off x="2383200" y="5545440"/>
                    <a:ext cx="195120" cy="6141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76" name=""/>
                <p:cNvGrpSpPr/>
                <p:nvPr/>
              </p:nvGrpSpPr>
              <p:grpSpPr>
                <a:xfrm>
                  <a:off x="1797840" y="5548320"/>
                  <a:ext cx="1313640" cy="636840"/>
                  <a:chOff x="1797840" y="5548320"/>
                  <a:chExt cx="1313640" cy="636840"/>
                </a:xfrm>
              </p:grpSpPr>
              <p:sp>
                <p:nvSpPr>
                  <p:cNvPr id="5977" name=""/>
                  <p:cNvSpPr/>
                  <p:nvPr/>
                </p:nvSpPr>
                <p:spPr>
                  <a:xfrm>
                    <a:off x="1797840" y="5585040"/>
                    <a:ext cx="547200" cy="58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78" name=""/>
                  <p:cNvGrpSpPr/>
                  <p:nvPr/>
                </p:nvGrpSpPr>
                <p:grpSpPr>
                  <a:xfrm>
                    <a:off x="1810080" y="5588280"/>
                    <a:ext cx="514080" cy="565200"/>
                    <a:chOff x="1810080" y="5588280"/>
                    <a:chExt cx="514080" cy="565200"/>
                  </a:xfrm>
                </p:grpSpPr>
                <p:sp>
                  <p:nvSpPr>
                    <p:cNvPr id="5979" name=""/>
                    <p:cNvSpPr/>
                    <p:nvPr/>
                  </p:nvSpPr>
                  <p:spPr>
                    <a:xfrm>
                      <a:off x="1981440" y="5749920"/>
                      <a:ext cx="196200" cy="214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0" name=""/>
                    <p:cNvSpPr/>
                    <p:nvPr/>
                  </p:nvSpPr>
                  <p:spPr>
                    <a:xfrm>
                      <a:off x="1981440" y="5747040"/>
                      <a:ext cx="196200" cy="220680"/>
                    </a:xfrm>
                    <a:prstGeom prst="ellipse">
                      <a:avLst/>
                    </a:prstGeom>
                    <a:noFill/>
                    <a:ln w="3348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1" name=""/>
                    <p:cNvSpPr/>
                    <p:nvPr/>
                  </p:nvSpPr>
                  <p:spPr>
                    <a:xfrm>
                      <a:off x="1903320" y="5672160"/>
                      <a:ext cx="352080" cy="389160"/>
                    </a:xfrm>
                    <a:prstGeom prst="ellipse">
                      <a:avLst/>
                    </a:prstGeom>
                    <a:noFill/>
                    <a:ln w="3348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2" name=""/>
                    <p:cNvSpPr/>
                    <p:nvPr/>
                  </p:nvSpPr>
                  <p:spPr>
                    <a:xfrm>
                      <a:off x="1852560" y="5626080"/>
                      <a:ext cx="436320" cy="490680"/>
                    </a:xfrm>
                    <a:prstGeom prst="ellipse">
                      <a:avLst/>
                    </a:prstGeom>
                    <a:noFill/>
                    <a:ln w="3348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3" name=""/>
                    <p:cNvSpPr/>
                    <p:nvPr/>
                  </p:nvSpPr>
                  <p:spPr>
                    <a:xfrm>
                      <a:off x="1810080" y="5588280"/>
                      <a:ext cx="514080" cy="565200"/>
                    </a:xfrm>
                    <a:prstGeom prst="ellipse">
                      <a:avLst/>
                    </a:prstGeom>
                    <a:noFill/>
                    <a:ln w="3348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84" name=""/>
                  <p:cNvSpPr/>
                  <p:nvPr/>
                </p:nvSpPr>
                <p:spPr>
                  <a:xfrm>
                    <a:off x="2513520" y="5548320"/>
                    <a:ext cx="597960" cy="636840"/>
                  </a:xfrm>
                  <a:prstGeom prst="rect">
                    <a:avLst/>
                  </a:prstGeom>
                  <a:noFill/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985" name=""/>
              <p:cNvSpPr/>
              <p:nvPr/>
            </p:nvSpPr>
            <p:spPr>
              <a:xfrm>
                <a:off x="2842560" y="4275360"/>
                <a:ext cx="543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86" name=""/>
              <p:cNvGrpSpPr/>
              <p:nvPr/>
            </p:nvGrpSpPr>
            <p:grpSpPr>
              <a:xfrm>
                <a:off x="2799720" y="4246560"/>
                <a:ext cx="160920" cy="57240"/>
                <a:chOff x="2799720" y="4246560"/>
                <a:chExt cx="160920" cy="57240"/>
              </a:xfrm>
            </p:grpSpPr>
            <p:sp>
              <p:nvSpPr>
                <p:cNvPr id="5987" name=""/>
                <p:cNvSpPr/>
                <p:nvPr/>
              </p:nvSpPr>
              <p:spPr>
                <a:xfrm>
                  <a:off x="2859480" y="4246560"/>
                  <a:ext cx="101160" cy="5724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64" y="18"/>
                      </a:moveTo>
                      <a:lnTo>
                        <a:pt x="0" y="36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64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8" name=""/>
                <p:cNvSpPr/>
                <p:nvPr/>
              </p:nvSpPr>
              <p:spPr>
                <a:xfrm>
                  <a:off x="2799720" y="4275360"/>
                  <a:ext cx="5976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9" name=""/>
              <p:cNvGrpSpPr/>
              <p:nvPr/>
            </p:nvGrpSpPr>
            <p:grpSpPr>
              <a:xfrm>
                <a:off x="3072600" y="4246560"/>
                <a:ext cx="288360" cy="57240"/>
                <a:chOff x="3072600" y="4246560"/>
                <a:chExt cx="288360" cy="57240"/>
              </a:xfrm>
            </p:grpSpPr>
            <p:sp>
              <p:nvSpPr>
                <p:cNvPr id="5990" name=""/>
                <p:cNvSpPr/>
                <p:nvPr/>
              </p:nvSpPr>
              <p:spPr>
                <a:xfrm>
                  <a:off x="3072600" y="4246560"/>
                  <a:ext cx="101160" cy="57240"/>
                </a:xfrm>
                <a:custGeom>
                  <a:avLst/>
                  <a:gdLst/>
                  <a:ahLst/>
                  <a:rect l="l" t="t" r="r" b="b"/>
                  <a:pathLst>
                    <a:path w="64" h="36">
                      <a:moveTo>
                        <a:pt x="0" y="18"/>
                      </a:moveTo>
                      <a:lnTo>
                        <a:pt x="64" y="0"/>
                      </a:lnTo>
                      <a:lnTo>
                        <a:pt x="64" y="18"/>
                      </a:lnTo>
                      <a:lnTo>
                        <a:pt x="64" y="36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1" name=""/>
                <p:cNvSpPr/>
                <p:nvPr/>
              </p:nvSpPr>
              <p:spPr>
                <a:xfrm>
                  <a:off x="3173760" y="4275360"/>
                  <a:ext cx="187200" cy="14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2" name=""/>
              <p:cNvSpPr/>
              <p:nvPr/>
            </p:nvSpPr>
            <p:spPr>
              <a:xfrm>
                <a:off x="3151800" y="4540320"/>
                <a:ext cx="555480" cy="4129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3067920" y="4391280"/>
                <a:ext cx="77400" cy="73008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94" name=""/>
              <p:cNvGrpSpPr/>
              <p:nvPr/>
            </p:nvGrpSpPr>
            <p:grpSpPr>
              <a:xfrm>
                <a:off x="2896200" y="4005360"/>
                <a:ext cx="289080" cy="292320"/>
                <a:chOff x="2896200" y="4005360"/>
                <a:chExt cx="289080" cy="292320"/>
              </a:xfrm>
            </p:grpSpPr>
            <p:sp>
              <p:nvSpPr>
                <p:cNvPr id="5995" name=""/>
                <p:cNvSpPr/>
                <p:nvPr/>
              </p:nvSpPr>
              <p:spPr>
                <a:xfrm>
                  <a:off x="2896200" y="4005360"/>
                  <a:ext cx="1256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6" name=""/>
                <p:cNvSpPr/>
                <p:nvPr/>
              </p:nvSpPr>
              <p:spPr>
                <a:xfrm>
                  <a:off x="3006360" y="4023000"/>
                  <a:ext cx="1789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Times New Roman"/>
                    </a:rPr>
                    <a:t>/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7" name=""/>
              <p:cNvGrpSpPr/>
              <p:nvPr/>
            </p:nvGrpSpPr>
            <p:grpSpPr>
              <a:xfrm>
                <a:off x="1463040" y="4732560"/>
                <a:ext cx="262800" cy="55440"/>
                <a:chOff x="1463040" y="4732560"/>
                <a:chExt cx="262800" cy="55440"/>
              </a:xfrm>
            </p:grpSpPr>
            <p:sp>
              <p:nvSpPr>
                <p:cNvPr id="5998" name=""/>
                <p:cNvSpPr/>
                <p:nvPr/>
              </p:nvSpPr>
              <p:spPr>
                <a:xfrm>
                  <a:off x="1624320" y="4732560"/>
                  <a:ext cx="101520" cy="5544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64" y="18"/>
                      </a:moveTo>
                      <a:lnTo>
                        <a:pt x="0" y="35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64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9" name=""/>
                <p:cNvSpPr/>
                <p:nvPr/>
              </p:nvSpPr>
              <p:spPr>
                <a:xfrm>
                  <a:off x="1463040" y="4761000"/>
                  <a:ext cx="161280" cy="1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0" name=""/>
              <p:cNvGrpSpPr/>
              <p:nvPr/>
            </p:nvGrpSpPr>
            <p:grpSpPr>
              <a:xfrm>
                <a:off x="2374200" y="4937400"/>
                <a:ext cx="50400" cy="252360"/>
                <a:chOff x="2374200" y="4937400"/>
                <a:chExt cx="50400" cy="252360"/>
              </a:xfrm>
            </p:grpSpPr>
            <p:sp>
              <p:nvSpPr>
                <p:cNvPr id="6001" name=""/>
                <p:cNvSpPr/>
                <p:nvPr/>
              </p:nvSpPr>
              <p:spPr>
                <a:xfrm>
                  <a:off x="2374200" y="5078520"/>
                  <a:ext cx="50400" cy="111240"/>
                </a:xfrm>
                <a:custGeom>
                  <a:avLst/>
                  <a:gdLst/>
                  <a:ahLst/>
                  <a:rect l="l" t="t" r="r" b="b"/>
                  <a:pathLst>
                    <a:path w="32" h="70">
                      <a:moveTo>
                        <a:pt x="16" y="70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16" y="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2" name=""/>
                <p:cNvSpPr/>
                <p:nvPr/>
              </p:nvSpPr>
              <p:spPr>
                <a:xfrm>
                  <a:off x="2399040" y="4937400"/>
                  <a:ext cx="1440" cy="141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03" name=""/>
              <p:cNvSpPr/>
              <p:nvPr/>
            </p:nvSpPr>
            <p:spPr>
              <a:xfrm flipH="1">
                <a:off x="2255040" y="5386680"/>
                <a:ext cx="144000" cy="1951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2409120" y="5386680"/>
                <a:ext cx="134640" cy="155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05" name=""/>
              <p:cNvGrpSpPr/>
              <p:nvPr/>
            </p:nvGrpSpPr>
            <p:grpSpPr>
              <a:xfrm>
                <a:off x="2034360" y="4361040"/>
                <a:ext cx="696240" cy="744480"/>
                <a:chOff x="2034360" y="4361040"/>
                <a:chExt cx="696240" cy="744480"/>
              </a:xfrm>
            </p:grpSpPr>
            <p:sp>
              <p:nvSpPr>
                <p:cNvPr id="6006" name=""/>
                <p:cNvSpPr/>
                <p:nvPr/>
              </p:nvSpPr>
              <p:spPr>
                <a:xfrm flipH="1">
                  <a:off x="2034360" y="4368960"/>
                  <a:ext cx="630000" cy="69048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7" name=""/>
                <p:cNvSpPr/>
                <p:nvPr/>
              </p:nvSpPr>
              <p:spPr>
                <a:xfrm flipH="1">
                  <a:off x="2092680" y="4415040"/>
                  <a:ext cx="630000" cy="69048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8" name=""/>
                <p:cNvSpPr/>
                <p:nvPr/>
              </p:nvSpPr>
              <p:spPr>
                <a:xfrm>
                  <a:off x="2664360" y="4361040"/>
                  <a:ext cx="66240" cy="4932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9" name=""/>
                <p:cNvSpPr/>
                <p:nvPr/>
              </p:nvSpPr>
              <p:spPr>
                <a:xfrm>
                  <a:off x="2041920" y="5034240"/>
                  <a:ext cx="75960" cy="5868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10" name=""/>
              <p:cNvSpPr/>
              <p:nvPr/>
            </p:nvSpPr>
            <p:spPr>
              <a:xfrm>
                <a:off x="2359800" y="5342040"/>
                <a:ext cx="79200" cy="874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2070720" y="4008600"/>
                <a:ext cx="684000" cy="6840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12" name=""/>
              <p:cNvGrpSpPr/>
              <p:nvPr/>
            </p:nvGrpSpPr>
            <p:grpSpPr>
              <a:xfrm>
                <a:off x="2093040" y="4408560"/>
                <a:ext cx="697680" cy="743040"/>
                <a:chOff x="2093040" y="4408560"/>
                <a:chExt cx="697680" cy="743040"/>
              </a:xfrm>
            </p:grpSpPr>
            <p:sp>
              <p:nvSpPr>
                <p:cNvPr id="6013" name=""/>
                <p:cNvSpPr/>
                <p:nvPr/>
              </p:nvSpPr>
              <p:spPr>
                <a:xfrm flipH="1">
                  <a:off x="2093040" y="4415040"/>
                  <a:ext cx="630000" cy="69048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4" name=""/>
                <p:cNvSpPr/>
                <p:nvPr/>
              </p:nvSpPr>
              <p:spPr>
                <a:xfrm flipH="1">
                  <a:off x="2152800" y="4462560"/>
                  <a:ext cx="628200" cy="6890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5" name=""/>
                <p:cNvSpPr/>
                <p:nvPr/>
              </p:nvSpPr>
              <p:spPr>
                <a:xfrm>
                  <a:off x="2723040" y="4408560"/>
                  <a:ext cx="67680" cy="4932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6" name=""/>
                <p:cNvSpPr/>
                <p:nvPr/>
              </p:nvSpPr>
              <p:spPr>
                <a:xfrm>
                  <a:off x="2100600" y="5078520"/>
                  <a:ext cx="77400" cy="6048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7" name=""/>
              <p:cNvGrpSpPr/>
              <p:nvPr/>
            </p:nvGrpSpPr>
            <p:grpSpPr>
              <a:xfrm>
                <a:off x="2590560" y="6301080"/>
                <a:ext cx="953640" cy="291960"/>
                <a:chOff x="2590560" y="6301080"/>
                <a:chExt cx="953640" cy="291960"/>
              </a:xfrm>
            </p:grpSpPr>
            <p:sp>
              <p:nvSpPr>
                <p:cNvPr id="6018" name=""/>
                <p:cNvSpPr/>
                <p:nvPr/>
              </p:nvSpPr>
              <p:spPr>
                <a:xfrm>
                  <a:off x="2590560" y="6318360"/>
                  <a:ext cx="7016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Times New Roman"/>
                    </a:rPr>
                    <a:t>OPD =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9" name=""/>
                <p:cNvSpPr/>
                <p:nvPr/>
              </p:nvSpPr>
              <p:spPr>
                <a:xfrm>
                  <a:off x="3256200" y="6301080"/>
                  <a:ext cx="1256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0" name=""/>
                <p:cNvSpPr/>
                <p:nvPr/>
              </p:nvSpPr>
              <p:spPr>
                <a:xfrm>
                  <a:off x="3365280" y="6318360"/>
                  <a:ext cx="1789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Times New Roman"/>
                    </a:rPr>
                    <a:t>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21" name=""/>
            <p:cNvSpPr/>
            <p:nvPr/>
          </p:nvSpPr>
          <p:spPr>
            <a:xfrm>
              <a:off x="-57600" y="3656160"/>
              <a:ext cx="259776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rapp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6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anneaux de Michel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3209760" y="4878360"/>
              <a:ext cx="1860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modu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de diff de mar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3530520" y="5705640"/>
              <a:ext cx="384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le détecteur ne voit que le centr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brillant/sombre altern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1995120" y="5781600"/>
              <a:ext cx="144000" cy="144360"/>
            </a:xfrm>
            <a:prstGeom prst="rect">
              <a:avLst/>
            </a:prstGeom>
            <a:noFill/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2773080" y="5789520"/>
              <a:ext cx="144000" cy="144720"/>
            </a:xfrm>
            <a:prstGeom prst="rect">
              <a:avLst/>
            </a:prstGeom>
            <a:noFill/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6" name=""/>
          <p:cNvSpPr/>
          <p:nvPr/>
        </p:nvSpPr>
        <p:spPr>
          <a:xfrm>
            <a:off x="332640" y="2232000"/>
            <a:ext cx="196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combina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no-ax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7" name=""/>
          <p:cNvGrpSpPr/>
          <p:nvPr/>
        </p:nvGrpSpPr>
        <p:grpSpPr>
          <a:xfrm>
            <a:off x="4039200" y="1127160"/>
            <a:ext cx="5054040" cy="3573720"/>
            <a:chOff x="4039200" y="1127160"/>
            <a:chExt cx="5054040" cy="3573720"/>
          </a:xfrm>
        </p:grpSpPr>
        <p:sp>
          <p:nvSpPr>
            <p:cNvPr id="6028" name=""/>
            <p:cNvSpPr/>
            <p:nvPr/>
          </p:nvSpPr>
          <p:spPr>
            <a:xfrm>
              <a:off x="5124600" y="1268280"/>
              <a:ext cx="1482480" cy="1265400"/>
            </a:xfrm>
            <a:custGeom>
              <a:avLst/>
              <a:gdLst/>
              <a:ahLst/>
              <a:rect l="l" t="t" r="r" b="b"/>
              <a:pathLst>
                <a:path w="934" h="797">
                  <a:moveTo>
                    <a:pt x="934" y="797"/>
                  </a:moveTo>
                  <a:lnTo>
                    <a:pt x="0" y="797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 flipH="1">
              <a:off x="6603840" y="1265040"/>
              <a:ext cx="1841760" cy="719280"/>
            </a:xfrm>
            <a:custGeom>
              <a:avLst/>
              <a:gdLst/>
              <a:ahLst/>
              <a:rect l="l" t="t" r="r" b="b"/>
              <a:pathLst>
                <a:path w="934" h="797">
                  <a:moveTo>
                    <a:pt x="934" y="797"/>
                  </a:moveTo>
                  <a:lnTo>
                    <a:pt x="0" y="797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4797360" y="1127160"/>
              <a:ext cx="655560" cy="21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8129520" y="1139760"/>
              <a:ext cx="655560" cy="21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 rot="2700000">
              <a:off x="6319440" y="2422440"/>
              <a:ext cx="689040" cy="15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 flipV="1" rot="18900000">
              <a:off x="6202440" y="1860480"/>
              <a:ext cx="688680" cy="155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 rot="2652000">
              <a:off x="6202440" y="2527200"/>
              <a:ext cx="689040" cy="15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6605640" y="200160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6526080" y="254772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7462800" y="3071880"/>
              <a:ext cx="128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 = d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- d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5265720" y="1900080"/>
              <a:ext cx="43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7867800" y="1442880"/>
              <a:ext cx="43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6389640" y="3821040"/>
              <a:ext cx="420840" cy="13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6383160" y="3862440"/>
              <a:ext cx="420840" cy="13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7525080" y="430200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ignal  s(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4039200" y="2698560"/>
              <a:ext cx="225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upilles imagé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ur detect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4518000" y="1349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8574120" y="1376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6955560" y="228744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5934240" y="2423880"/>
              <a:ext cx="115560" cy="246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7085160" y="1854000"/>
              <a:ext cx="115920" cy="246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6222960" y="3801960"/>
              <a:ext cx="851040" cy="264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7088040" y="3987720"/>
              <a:ext cx="49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7626240" y="3619440"/>
              <a:ext cx="1111320" cy="64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7626240" y="371448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me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5036760" y="380988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étec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6418440" y="3840120"/>
              <a:ext cx="434880" cy="17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6423120" y="3801960"/>
              <a:ext cx="434880" cy="179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6" name="PlaceHolder 1"/>
          <p:cNvSpPr>
            <a:spLocks noGrp="1"/>
          </p:cNvSpPr>
          <p:nvPr>
            <p:ph type="title"/>
          </p:nvPr>
        </p:nvSpPr>
        <p:spPr>
          <a:xfrm>
            <a:off x="409680" y="623880"/>
            <a:ext cx="3970080" cy="466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einte plate, plan pupille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7" name=""/>
          <p:cNvGrpSpPr/>
          <p:nvPr/>
        </p:nvGrpSpPr>
        <p:grpSpPr>
          <a:xfrm>
            <a:off x="509760" y="1914480"/>
            <a:ext cx="4970160" cy="3034080"/>
            <a:chOff x="509760" y="1914480"/>
            <a:chExt cx="4970160" cy="3034080"/>
          </a:xfrm>
        </p:grpSpPr>
        <p:sp>
          <p:nvSpPr>
            <p:cNvPr id="6058" name=""/>
            <p:cNvSpPr/>
            <p:nvPr/>
          </p:nvSpPr>
          <p:spPr>
            <a:xfrm>
              <a:off x="1590480" y="4184280"/>
              <a:ext cx="14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mod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3174120" y="4242960"/>
              <a:ext cx="177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démodu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 flipH="1" flipV="1">
              <a:off x="879120" y="2966040"/>
              <a:ext cx="791280" cy="1437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 flipV="1">
              <a:off x="3919320" y="396000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2862360" y="4549680"/>
              <a:ext cx="261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étection synchr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3" name=""/>
            <p:cNvGrpSpPr/>
            <p:nvPr/>
          </p:nvGrpSpPr>
          <p:grpSpPr>
            <a:xfrm>
              <a:off x="509760" y="1914480"/>
              <a:ext cx="4257720" cy="2162880"/>
              <a:chOff x="509760" y="1914480"/>
              <a:chExt cx="4257720" cy="2162880"/>
            </a:xfrm>
          </p:grpSpPr>
          <p:sp>
            <p:nvSpPr>
              <p:cNvPr id="6064" name=""/>
              <p:cNvSpPr/>
              <p:nvPr/>
            </p:nvSpPr>
            <p:spPr>
              <a:xfrm>
                <a:off x="4046040" y="3710880"/>
                <a:ext cx="227880" cy="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65" name=""/>
              <p:cNvGrpSpPr/>
              <p:nvPr/>
            </p:nvGrpSpPr>
            <p:grpSpPr>
              <a:xfrm>
                <a:off x="694440" y="2073960"/>
                <a:ext cx="2873520" cy="137880"/>
                <a:chOff x="694440" y="2073960"/>
                <a:chExt cx="2873520" cy="137880"/>
              </a:xfrm>
            </p:grpSpPr>
            <p:sp>
              <p:nvSpPr>
                <p:cNvPr id="6066" name=""/>
                <p:cNvSpPr/>
                <p:nvPr/>
              </p:nvSpPr>
              <p:spPr>
                <a:xfrm>
                  <a:off x="694440" y="2085480"/>
                  <a:ext cx="313560" cy="126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7" name=""/>
                <p:cNvSpPr/>
                <p:nvPr/>
              </p:nvSpPr>
              <p:spPr>
                <a:xfrm>
                  <a:off x="694440" y="2085480"/>
                  <a:ext cx="313560" cy="1263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8" name=""/>
                <p:cNvSpPr/>
                <p:nvPr/>
              </p:nvSpPr>
              <p:spPr>
                <a:xfrm>
                  <a:off x="3254040" y="2073960"/>
                  <a:ext cx="313920" cy="126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9" name=""/>
                <p:cNvSpPr/>
                <p:nvPr/>
              </p:nvSpPr>
              <p:spPr>
                <a:xfrm>
                  <a:off x="3254040" y="2073960"/>
                  <a:ext cx="313920" cy="1267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70" name=""/>
              <p:cNvSpPr/>
              <p:nvPr/>
            </p:nvSpPr>
            <p:spPr>
              <a:xfrm>
                <a:off x="2103120" y="2143080"/>
                <a:ext cx="1314360" cy="1202400"/>
              </a:xfrm>
              <a:custGeom>
                <a:avLst/>
                <a:gdLst/>
                <a:ahLst/>
                <a:rect l="l" t="t" r="r" b="b"/>
                <a:pathLst>
                  <a:path w="967" h="836">
                    <a:moveTo>
                      <a:pt x="967" y="0"/>
                    </a:moveTo>
                    <a:lnTo>
                      <a:pt x="963" y="263"/>
                    </a:lnTo>
                    <a:lnTo>
                      <a:pt x="0" y="263"/>
                    </a:lnTo>
                    <a:lnTo>
                      <a:pt x="0" y="836"/>
                    </a:lnTo>
                  </a:path>
                </a:pathLst>
              </a:custGeom>
              <a:noFill/>
              <a:ln w="28440">
                <a:solidFill>
                  <a:srgbClr val="ff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509760" y="1937520"/>
                <a:ext cx="3450600" cy="457200"/>
              </a:xfrm>
              <a:custGeom>
                <a:avLst/>
                <a:gdLst/>
                <a:ahLst/>
                <a:rect l="l" t="t" r="r" b="b"/>
                <a:pathLst>
                  <a:path w="2538" h="318">
                    <a:moveTo>
                      <a:pt x="0" y="0"/>
                    </a:moveTo>
                    <a:lnTo>
                      <a:pt x="2538" y="0"/>
                    </a:lnTo>
                    <a:lnTo>
                      <a:pt x="2538" y="318"/>
                    </a:lnTo>
                    <a:lnTo>
                      <a:pt x="0" y="318"/>
                    </a:lnTo>
                    <a:lnTo>
                      <a:pt x="0" y="0"/>
                    </a:lnTo>
                    <a:close/>
                    <a:moveTo>
                      <a:pt x="8" y="8"/>
                    </a:moveTo>
                    <a:lnTo>
                      <a:pt x="2530" y="8"/>
                    </a:lnTo>
                    <a:lnTo>
                      <a:pt x="2530" y="310"/>
                    </a:lnTo>
                    <a:lnTo>
                      <a:pt x="8" y="310"/>
                    </a:lnTo>
                    <a:lnTo>
                      <a:pt x="8" y="8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1836000" y="1914480"/>
                <a:ext cx="701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collecte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2659680" y="2742840"/>
                <a:ext cx="799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correlate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2017080" y="2475360"/>
                <a:ext cx="119520" cy="274320"/>
              </a:xfrm>
              <a:custGeom>
                <a:avLst/>
                <a:gdLst/>
                <a:ahLst/>
                <a:rect l="l" t="t" r="r" b="b"/>
                <a:pathLst>
                  <a:path w="88" h="191">
                    <a:moveTo>
                      <a:pt x="80" y="0"/>
                    </a:moveTo>
                    <a:lnTo>
                      <a:pt x="0" y="87"/>
                    </a:lnTo>
                    <a:lnTo>
                      <a:pt x="88" y="191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833040" y="2154240"/>
                <a:ext cx="1220760" cy="1229760"/>
              </a:xfrm>
              <a:custGeom>
                <a:avLst/>
                <a:gdLst/>
                <a:ahLst/>
                <a:rect l="l" t="t" r="r" b="b"/>
                <a:pathLst>
                  <a:path w="898" h="855">
                    <a:moveTo>
                      <a:pt x="0" y="0"/>
                    </a:moveTo>
                    <a:lnTo>
                      <a:pt x="0" y="366"/>
                    </a:lnTo>
                    <a:lnTo>
                      <a:pt x="898" y="364"/>
                    </a:lnTo>
                    <a:lnTo>
                      <a:pt x="898" y="855"/>
                    </a:lnTo>
                  </a:path>
                </a:pathLst>
              </a:custGeom>
              <a:noFill/>
              <a:ln w="28440">
                <a:solidFill>
                  <a:srgbClr val="3399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2012040" y="2995920"/>
                <a:ext cx="119520" cy="57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2028240" y="3403080"/>
                <a:ext cx="86760" cy="44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2028240" y="3403080"/>
                <a:ext cx="86760" cy="446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2006280" y="3368520"/>
                <a:ext cx="141480" cy="12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2238480" y="3150000"/>
                <a:ext cx="828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Detecteu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2082600" y="3504960"/>
                <a:ext cx="1453320" cy="240120"/>
              </a:xfrm>
              <a:custGeom>
                <a:avLst/>
                <a:gdLst/>
                <a:ahLst/>
                <a:rect l="l" t="t" r="r" b="b"/>
                <a:pathLst>
                  <a:path w="1069" h="167">
                    <a:moveTo>
                      <a:pt x="0" y="0"/>
                    </a:moveTo>
                    <a:lnTo>
                      <a:pt x="0" y="167"/>
                    </a:lnTo>
                    <a:lnTo>
                      <a:pt x="1069" y="167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2619720" y="3533760"/>
                <a:ext cx="683640" cy="355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672840" y="2703960"/>
                <a:ext cx="150840" cy="1148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662040" y="2669400"/>
                <a:ext cx="183240" cy="195480"/>
              </a:xfrm>
              <a:custGeom>
                <a:avLst/>
                <a:gdLst/>
                <a:ahLst/>
                <a:rect l="l" t="t" r="r" b="b"/>
                <a:pathLst>
                  <a:path w="135" h="136">
                    <a:moveTo>
                      <a:pt x="79" y="0"/>
                    </a:moveTo>
                    <a:lnTo>
                      <a:pt x="135" y="56"/>
                    </a:lnTo>
                    <a:lnTo>
                      <a:pt x="56" y="136"/>
                    </a:lnTo>
                    <a:lnTo>
                      <a:pt x="0" y="80"/>
                    </a:lnTo>
                    <a:lnTo>
                      <a:pt x="79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662040" y="2669400"/>
                <a:ext cx="183240" cy="195480"/>
              </a:xfrm>
              <a:custGeom>
                <a:avLst/>
                <a:gdLst/>
                <a:ahLst/>
                <a:rect l="l" t="t" r="r" b="b"/>
                <a:pathLst>
                  <a:path w="135" h="136">
                    <a:moveTo>
                      <a:pt x="79" y="0"/>
                    </a:moveTo>
                    <a:lnTo>
                      <a:pt x="135" y="56"/>
                    </a:lnTo>
                    <a:lnTo>
                      <a:pt x="56" y="136"/>
                    </a:lnTo>
                    <a:lnTo>
                      <a:pt x="0" y="80"/>
                    </a:lnTo>
                    <a:lnTo>
                      <a:pt x="79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2723040" y="3654720"/>
                <a:ext cx="346320" cy="124920"/>
              </a:xfrm>
              <a:custGeom>
                <a:avLst/>
                <a:gdLst/>
                <a:ahLst/>
                <a:rect l="l" t="t" r="r" b="b"/>
                <a:pathLst>
                  <a:path w="255" h="87">
                    <a:moveTo>
                      <a:pt x="0" y="47"/>
                    </a:moveTo>
                    <a:lnTo>
                      <a:pt x="8" y="63"/>
                    </a:lnTo>
                    <a:lnTo>
                      <a:pt x="16" y="71"/>
                    </a:lnTo>
                    <a:lnTo>
                      <a:pt x="24" y="79"/>
                    </a:lnTo>
                    <a:lnTo>
                      <a:pt x="32" y="87"/>
                    </a:lnTo>
                    <a:lnTo>
                      <a:pt x="40" y="79"/>
                    </a:lnTo>
                    <a:lnTo>
                      <a:pt x="48" y="71"/>
                    </a:lnTo>
                    <a:lnTo>
                      <a:pt x="56" y="55"/>
                    </a:lnTo>
                    <a:lnTo>
                      <a:pt x="56" y="47"/>
                    </a:lnTo>
                    <a:lnTo>
                      <a:pt x="56" y="39"/>
                    </a:lnTo>
                    <a:lnTo>
                      <a:pt x="64" y="31"/>
                    </a:lnTo>
                    <a:lnTo>
                      <a:pt x="72" y="8"/>
                    </a:lnTo>
                    <a:lnTo>
                      <a:pt x="80" y="8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96" y="23"/>
                    </a:lnTo>
                    <a:lnTo>
                      <a:pt x="104" y="31"/>
                    </a:lnTo>
                    <a:lnTo>
                      <a:pt x="104" y="39"/>
                    </a:lnTo>
                    <a:lnTo>
                      <a:pt x="104" y="47"/>
                    </a:lnTo>
                    <a:lnTo>
                      <a:pt x="112" y="55"/>
                    </a:lnTo>
                    <a:lnTo>
                      <a:pt x="120" y="71"/>
                    </a:lnTo>
                    <a:lnTo>
                      <a:pt x="128" y="79"/>
                    </a:lnTo>
                    <a:lnTo>
                      <a:pt x="128" y="71"/>
                    </a:lnTo>
                    <a:lnTo>
                      <a:pt x="135" y="63"/>
                    </a:lnTo>
                    <a:lnTo>
                      <a:pt x="143" y="47"/>
                    </a:lnTo>
                    <a:lnTo>
                      <a:pt x="143" y="39"/>
                    </a:lnTo>
                    <a:lnTo>
                      <a:pt x="143" y="31"/>
                    </a:lnTo>
                    <a:lnTo>
                      <a:pt x="151" y="16"/>
                    </a:lnTo>
                    <a:lnTo>
                      <a:pt x="159" y="8"/>
                    </a:lnTo>
                    <a:lnTo>
                      <a:pt x="167" y="16"/>
                    </a:lnTo>
                    <a:lnTo>
                      <a:pt x="175" y="31"/>
                    </a:lnTo>
                    <a:lnTo>
                      <a:pt x="175" y="39"/>
                    </a:lnTo>
                    <a:lnTo>
                      <a:pt x="175" y="47"/>
                    </a:lnTo>
                    <a:lnTo>
                      <a:pt x="183" y="55"/>
                    </a:lnTo>
                    <a:lnTo>
                      <a:pt x="191" y="71"/>
                    </a:lnTo>
                    <a:lnTo>
                      <a:pt x="199" y="71"/>
                    </a:lnTo>
                    <a:lnTo>
                      <a:pt x="207" y="63"/>
                    </a:lnTo>
                    <a:lnTo>
                      <a:pt x="207" y="55"/>
                    </a:lnTo>
                    <a:lnTo>
                      <a:pt x="215" y="39"/>
                    </a:lnTo>
                    <a:lnTo>
                      <a:pt x="215" y="31"/>
                    </a:lnTo>
                    <a:lnTo>
                      <a:pt x="215" y="23"/>
                    </a:lnTo>
                    <a:lnTo>
                      <a:pt x="223" y="8"/>
                    </a:lnTo>
                    <a:lnTo>
                      <a:pt x="231" y="0"/>
                    </a:lnTo>
                    <a:lnTo>
                      <a:pt x="231" y="8"/>
                    </a:lnTo>
                    <a:lnTo>
                      <a:pt x="239" y="16"/>
                    </a:lnTo>
                    <a:lnTo>
                      <a:pt x="247" y="39"/>
                    </a:lnTo>
                    <a:lnTo>
                      <a:pt x="255" y="63"/>
                    </a:lnTo>
                    <a:lnTo>
                      <a:pt x="255" y="7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748800" y="2590560"/>
                <a:ext cx="194400" cy="216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 flipH="1">
                <a:off x="3341520" y="2440800"/>
                <a:ext cx="194400" cy="217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3546720" y="3528360"/>
                <a:ext cx="586080" cy="38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3546720" y="3528360"/>
                <a:ext cx="586080" cy="389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618480" y="2841840"/>
                <a:ext cx="3047760" cy="1235520"/>
              </a:xfrm>
              <a:custGeom>
                <a:avLst/>
                <a:gdLst/>
                <a:ahLst/>
                <a:rect l="l" t="t" r="r" b="b"/>
                <a:pathLst>
                  <a:path w="2242" h="859">
                    <a:moveTo>
                      <a:pt x="2242" y="748"/>
                    </a:moveTo>
                    <a:lnTo>
                      <a:pt x="2242" y="859"/>
                    </a:lnTo>
                    <a:lnTo>
                      <a:pt x="0" y="859"/>
                    </a:lnTo>
                    <a:lnTo>
                      <a:pt x="0" y="55"/>
                    </a:lnTo>
                    <a:lnTo>
                      <a:pt x="64" y="0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4257720" y="3487680"/>
                <a:ext cx="509760" cy="40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93" name=""/>
              <p:cNvGrpSpPr/>
              <p:nvPr/>
            </p:nvGrpSpPr>
            <p:grpSpPr>
              <a:xfrm>
                <a:off x="4339440" y="3768480"/>
                <a:ext cx="378720" cy="34560"/>
                <a:chOff x="4339440" y="3768480"/>
                <a:chExt cx="378720" cy="34560"/>
              </a:xfrm>
            </p:grpSpPr>
            <p:sp>
              <p:nvSpPr>
                <p:cNvPr id="6094" name=""/>
                <p:cNvSpPr/>
                <p:nvPr/>
              </p:nvSpPr>
              <p:spPr>
                <a:xfrm>
                  <a:off x="4653360" y="3768480"/>
                  <a:ext cx="64800" cy="34560"/>
                </a:xfrm>
                <a:custGeom>
                  <a:avLst/>
                  <a:gdLst/>
                  <a:ahLst/>
                  <a:rect l="l" t="t" r="r" b="b"/>
                  <a:pathLst>
                    <a:path w="48" h="24">
                      <a:moveTo>
                        <a:pt x="48" y="16"/>
                      </a:move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48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5" name=""/>
                <p:cNvSpPr/>
                <p:nvPr/>
              </p:nvSpPr>
              <p:spPr>
                <a:xfrm>
                  <a:off x="4339440" y="3791520"/>
                  <a:ext cx="3139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6" name=""/>
              <p:cNvGrpSpPr/>
              <p:nvPr/>
            </p:nvGrpSpPr>
            <p:grpSpPr>
              <a:xfrm>
                <a:off x="4339440" y="3539520"/>
                <a:ext cx="32400" cy="297360"/>
                <a:chOff x="4339440" y="3539520"/>
                <a:chExt cx="32400" cy="297360"/>
              </a:xfrm>
            </p:grpSpPr>
            <p:sp>
              <p:nvSpPr>
                <p:cNvPr id="6097" name=""/>
                <p:cNvSpPr/>
                <p:nvPr/>
              </p:nvSpPr>
              <p:spPr>
                <a:xfrm>
                  <a:off x="4339440" y="3539520"/>
                  <a:ext cx="32400" cy="69120"/>
                </a:xfrm>
                <a:custGeom>
                  <a:avLst/>
                  <a:gdLst/>
                  <a:ahLst/>
                  <a:rect l="l" t="t" r="r" b="b"/>
                  <a:pathLst>
                    <a:path w="24" h="48">
                      <a:moveTo>
                        <a:pt x="16" y="0"/>
                      </a:moveTo>
                      <a:lnTo>
                        <a:pt x="24" y="48"/>
                      </a:lnTo>
                      <a:lnTo>
                        <a:pt x="16" y="48"/>
                      </a:lnTo>
                      <a:lnTo>
                        <a:pt x="0" y="48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8" name=""/>
                <p:cNvSpPr/>
                <p:nvPr/>
              </p:nvSpPr>
              <p:spPr>
                <a:xfrm flipV="1">
                  <a:off x="4361040" y="3608280"/>
                  <a:ext cx="108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99" name=""/>
              <p:cNvSpPr/>
              <p:nvPr/>
            </p:nvSpPr>
            <p:spPr>
              <a:xfrm>
                <a:off x="4383000" y="3677760"/>
                <a:ext cx="259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3607200" y="3584520"/>
                <a:ext cx="614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Dem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1485720" y="2430720"/>
                <a:ext cx="1371600" cy="1137600"/>
              </a:xfrm>
              <a:prstGeom prst="rect">
                <a:avLst/>
              </a:prstGeom>
              <a:noFill/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 flipH="1">
                <a:off x="1978920" y="2456280"/>
                <a:ext cx="135720" cy="14364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03" name=""/>
          <p:cNvSpPr/>
          <p:nvPr/>
        </p:nvSpPr>
        <p:spPr>
          <a:xfrm>
            <a:off x="303480" y="1220760"/>
            <a:ext cx="794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mment sortir un contraste ?    codage temporel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dulation de chemin optique, modulation de signal teinte 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4" name=""/>
          <p:cNvGrpSpPr/>
          <p:nvPr/>
        </p:nvGrpSpPr>
        <p:grpSpPr>
          <a:xfrm>
            <a:off x="5270400" y="2079720"/>
            <a:ext cx="3730320" cy="2045880"/>
            <a:chOff x="5270400" y="2079720"/>
            <a:chExt cx="3730320" cy="2045880"/>
          </a:xfrm>
        </p:grpSpPr>
        <p:sp>
          <p:nvSpPr>
            <p:cNvPr id="6105" name=""/>
            <p:cNvSpPr/>
            <p:nvPr/>
          </p:nvSpPr>
          <p:spPr>
            <a:xfrm>
              <a:off x="6972120" y="2415600"/>
              <a:ext cx="298080" cy="1618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6" name=""/>
            <p:cNvGrpSpPr/>
            <p:nvPr/>
          </p:nvGrpSpPr>
          <p:grpSpPr>
            <a:xfrm>
              <a:off x="5270400" y="2079720"/>
              <a:ext cx="3730320" cy="1894320"/>
              <a:chOff x="5270400" y="2079720"/>
              <a:chExt cx="3730320" cy="1894320"/>
            </a:xfrm>
          </p:grpSpPr>
          <p:sp>
            <p:nvSpPr>
              <p:cNvPr id="6107" name=""/>
              <p:cNvSpPr/>
              <p:nvPr/>
            </p:nvSpPr>
            <p:spPr>
              <a:xfrm>
                <a:off x="5286960" y="3545640"/>
                <a:ext cx="37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 flipV="1">
                <a:off x="6963120" y="2187360"/>
                <a:ext cx="0" cy="153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5337720" y="2985840"/>
                <a:ext cx="366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10" name=""/>
              <p:cNvGrpSpPr/>
              <p:nvPr/>
            </p:nvGrpSpPr>
            <p:grpSpPr>
              <a:xfrm>
                <a:off x="5270400" y="2567880"/>
                <a:ext cx="3385080" cy="525600"/>
                <a:chOff x="5270400" y="2567880"/>
                <a:chExt cx="3385080" cy="525600"/>
              </a:xfrm>
            </p:grpSpPr>
            <p:sp>
              <p:nvSpPr>
                <p:cNvPr id="6111" name=""/>
                <p:cNvSpPr/>
                <p:nvPr/>
              </p:nvSpPr>
              <p:spPr>
                <a:xfrm>
                  <a:off x="6964200" y="2570400"/>
                  <a:ext cx="1691280" cy="523080"/>
                </a:xfrm>
                <a:custGeom>
                  <a:avLst/>
                  <a:gdLst/>
                  <a:ahLst/>
                  <a:rect l="l" t="t" r="r" b="b"/>
                  <a:pathLst>
                    <a:path w="1653" h="591">
                      <a:moveTo>
                        <a:pt x="0" y="10"/>
                      </a:moveTo>
                      <a:cubicBezTo>
                        <a:pt x="3" y="1"/>
                        <a:pt x="10" y="0"/>
                        <a:pt x="59" y="10"/>
                      </a:cubicBezTo>
                      <a:cubicBezTo>
                        <a:pt x="108" y="20"/>
                        <a:pt x="208" y="33"/>
                        <a:pt x="295" y="69"/>
                      </a:cubicBezTo>
                      <a:cubicBezTo>
                        <a:pt x="382" y="105"/>
                        <a:pt x="479" y="161"/>
                        <a:pt x="581" y="227"/>
                      </a:cubicBezTo>
                      <a:cubicBezTo>
                        <a:pt x="683" y="293"/>
                        <a:pt x="790" y="404"/>
                        <a:pt x="905" y="463"/>
                      </a:cubicBezTo>
                      <a:cubicBezTo>
                        <a:pt x="1020" y="522"/>
                        <a:pt x="1144" y="591"/>
                        <a:pt x="1269" y="581"/>
                      </a:cubicBezTo>
                      <a:cubicBezTo>
                        <a:pt x="1394" y="571"/>
                        <a:pt x="1523" y="487"/>
                        <a:pt x="1653" y="404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2" name=""/>
                <p:cNvSpPr/>
                <p:nvPr/>
              </p:nvSpPr>
              <p:spPr>
                <a:xfrm flipH="1">
                  <a:off x="5270400" y="2567880"/>
                  <a:ext cx="1691280" cy="523440"/>
                </a:xfrm>
                <a:custGeom>
                  <a:avLst/>
                  <a:gdLst/>
                  <a:ahLst/>
                  <a:rect l="l" t="t" r="r" b="b"/>
                  <a:pathLst>
                    <a:path w="1653" h="591">
                      <a:moveTo>
                        <a:pt x="0" y="10"/>
                      </a:moveTo>
                      <a:cubicBezTo>
                        <a:pt x="3" y="1"/>
                        <a:pt x="10" y="0"/>
                        <a:pt x="59" y="10"/>
                      </a:cubicBezTo>
                      <a:cubicBezTo>
                        <a:pt x="108" y="20"/>
                        <a:pt x="208" y="33"/>
                        <a:pt x="295" y="69"/>
                      </a:cubicBezTo>
                      <a:cubicBezTo>
                        <a:pt x="382" y="105"/>
                        <a:pt x="479" y="161"/>
                        <a:pt x="581" y="227"/>
                      </a:cubicBezTo>
                      <a:cubicBezTo>
                        <a:pt x="683" y="293"/>
                        <a:pt x="790" y="404"/>
                        <a:pt x="905" y="463"/>
                      </a:cubicBezTo>
                      <a:cubicBezTo>
                        <a:pt x="1020" y="522"/>
                        <a:pt x="1144" y="591"/>
                        <a:pt x="1269" y="581"/>
                      </a:cubicBezTo>
                      <a:cubicBezTo>
                        <a:pt x="1394" y="571"/>
                        <a:pt x="1523" y="487"/>
                        <a:pt x="1653" y="404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3" name=""/>
              <p:cNvGrpSpPr/>
              <p:nvPr/>
            </p:nvGrpSpPr>
            <p:grpSpPr>
              <a:xfrm>
                <a:off x="5277960" y="2856960"/>
                <a:ext cx="3385440" cy="525600"/>
                <a:chOff x="5277960" y="2856960"/>
                <a:chExt cx="3385440" cy="525600"/>
              </a:xfrm>
            </p:grpSpPr>
            <p:sp>
              <p:nvSpPr>
                <p:cNvPr id="6114" name=""/>
                <p:cNvSpPr/>
                <p:nvPr/>
              </p:nvSpPr>
              <p:spPr>
                <a:xfrm flipV="1">
                  <a:off x="6972120" y="2856600"/>
                  <a:ext cx="1691280" cy="523080"/>
                </a:xfrm>
                <a:custGeom>
                  <a:avLst/>
                  <a:gdLst/>
                  <a:ahLst/>
                  <a:rect l="l" t="t" r="r" b="b"/>
                  <a:pathLst>
                    <a:path w="1653" h="591">
                      <a:moveTo>
                        <a:pt x="0" y="10"/>
                      </a:moveTo>
                      <a:cubicBezTo>
                        <a:pt x="3" y="1"/>
                        <a:pt x="10" y="0"/>
                        <a:pt x="59" y="10"/>
                      </a:cubicBezTo>
                      <a:cubicBezTo>
                        <a:pt x="108" y="20"/>
                        <a:pt x="208" y="33"/>
                        <a:pt x="295" y="69"/>
                      </a:cubicBezTo>
                      <a:cubicBezTo>
                        <a:pt x="382" y="105"/>
                        <a:pt x="479" y="161"/>
                        <a:pt x="581" y="227"/>
                      </a:cubicBezTo>
                      <a:cubicBezTo>
                        <a:pt x="683" y="293"/>
                        <a:pt x="790" y="404"/>
                        <a:pt x="905" y="463"/>
                      </a:cubicBezTo>
                      <a:cubicBezTo>
                        <a:pt x="1020" y="522"/>
                        <a:pt x="1144" y="591"/>
                        <a:pt x="1269" y="581"/>
                      </a:cubicBezTo>
                      <a:cubicBezTo>
                        <a:pt x="1394" y="571"/>
                        <a:pt x="1523" y="487"/>
                        <a:pt x="1653" y="404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5" name=""/>
                <p:cNvSpPr/>
                <p:nvPr/>
              </p:nvSpPr>
              <p:spPr>
                <a:xfrm flipH="1" flipV="1">
                  <a:off x="5277960" y="2859120"/>
                  <a:ext cx="1691280" cy="523440"/>
                </a:xfrm>
                <a:custGeom>
                  <a:avLst/>
                  <a:gdLst/>
                  <a:ahLst/>
                  <a:rect l="l" t="t" r="r" b="b"/>
                  <a:pathLst>
                    <a:path w="1653" h="591">
                      <a:moveTo>
                        <a:pt x="0" y="10"/>
                      </a:moveTo>
                      <a:cubicBezTo>
                        <a:pt x="3" y="1"/>
                        <a:pt x="10" y="0"/>
                        <a:pt x="59" y="10"/>
                      </a:cubicBezTo>
                      <a:cubicBezTo>
                        <a:pt x="108" y="20"/>
                        <a:pt x="208" y="33"/>
                        <a:pt x="295" y="69"/>
                      </a:cubicBezTo>
                      <a:cubicBezTo>
                        <a:pt x="382" y="105"/>
                        <a:pt x="479" y="161"/>
                        <a:pt x="581" y="227"/>
                      </a:cubicBezTo>
                      <a:cubicBezTo>
                        <a:pt x="683" y="293"/>
                        <a:pt x="790" y="404"/>
                        <a:pt x="905" y="463"/>
                      </a:cubicBezTo>
                      <a:cubicBezTo>
                        <a:pt x="1020" y="522"/>
                        <a:pt x="1144" y="591"/>
                        <a:pt x="1269" y="581"/>
                      </a:cubicBezTo>
                      <a:cubicBezTo>
                        <a:pt x="1394" y="571"/>
                        <a:pt x="1523" y="487"/>
                        <a:pt x="1653" y="404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6" name=""/>
              <p:cNvGrpSpPr/>
              <p:nvPr/>
            </p:nvGrpSpPr>
            <p:grpSpPr>
              <a:xfrm>
                <a:off x="5397840" y="2510640"/>
                <a:ext cx="3141720" cy="807120"/>
                <a:chOff x="5397840" y="2510640"/>
                <a:chExt cx="3141720" cy="807120"/>
              </a:xfrm>
            </p:grpSpPr>
            <p:sp>
              <p:nvSpPr>
                <p:cNvPr id="6117" name=""/>
                <p:cNvSpPr/>
                <p:nvPr/>
              </p:nvSpPr>
              <p:spPr>
                <a:xfrm>
                  <a:off x="6964200" y="2528280"/>
                  <a:ext cx="1575360" cy="785160"/>
                </a:xfrm>
                <a:custGeom>
                  <a:avLst/>
                  <a:gdLst/>
                  <a:ahLst/>
                  <a:rect l="l" t="t" r="r" b="b"/>
                  <a:pathLst>
                    <a:path w="1210" h="886">
                      <a:moveTo>
                        <a:pt x="0" y="57"/>
                      </a:moveTo>
                      <a:cubicBezTo>
                        <a:pt x="7" y="60"/>
                        <a:pt x="19" y="0"/>
                        <a:pt x="40" y="77"/>
                      </a:cubicBezTo>
                      <a:cubicBezTo>
                        <a:pt x="61" y="154"/>
                        <a:pt x="94" y="386"/>
                        <a:pt x="128" y="520"/>
                      </a:cubicBezTo>
                      <a:cubicBezTo>
                        <a:pt x="162" y="654"/>
                        <a:pt x="210" y="886"/>
                        <a:pt x="246" y="884"/>
                      </a:cubicBezTo>
                      <a:cubicBezTo>
                        <a:pt x="282" y="882"/>
                        <a:pt x="316" y="610"/>
                        <a:pt x="345" y="510"/>
                      </a:cubicBezTo>
                      <a:cubicBezTo>
                        <a:pt x="374" y="410"/>
                        <a:pt x="394" y="258"/>
                        <a:pt x="423" y="284"/>
                      </a:cubicBezTo>
                      <a:cubicBezTo>
                        <a:pt x="452" y="310"/>
                        <a:pt x="489" y="636"/>
                        <a:pt x="522" y="667"/>
                      </a:cubicBezTo>
                      <a:cubicBezTo>
                        <a:pt x="555" y="698"/>
                        <a:pt x="569" y="483"/>
                        <a:pt x="620" y="470"/>
                      </a:cubicBezTo>
                      <a:cubicBezTo>
                        <a:pt x="671" y="457"/>
                        <a:pt x="774" y="603"/>
                        <a:pt x="826" y="588"/>
                      </a:cubicBezTo>
                      <a:cubicBezTo>
                        <a:pt x="878" y="573"/>
                        <a:pt x="899" y="377"/>
                        <a:pt x="935" y="382"/>
                      </a:cubicBezTo>
                      <a:cubicBezTo>
                        <a:pt x="971" y="387"/>
                        <a:pt x="1009" y="612"/>
                        <a:pt x="1043" y="618"/>
                      </a:cubicBezTo>
                      <a:cubicBezTo>
                        <a:pt x="1077" y="624"/>
                        <a:pt x="1113" y="441"/>
                        <a:pt x="1141" y="421"/>
                      </a:cubicBezTo>
                      <a:cubicBezTo>
                        <a:pt x="1169" y="401"/>
                        <a:pt x="1189" y="450"/>
                        <a:pt x="1210" y="50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8" name=""/>
                <p:cNvSpPr/>
                <p:nvPr/>
              </p:nvSpPr>
              <p:spPr>
                <a:xfrm>
                  <a:off x="5397840" y="2510640"/>
                  <a:ext cx="1605600" cy="807120"/>
                </a:xfrm>
                <a:custGeom>
                  <a:avLst/>
                  <a:gdLst/>
                  <a:ahLst/>
                  <a:rect l="l" t="t" r="r" b="b"/>
                  <a:pathLst>
                    <a:path w="1233" h="911">
                      <a:moveTo>
                        <a:pt x="1233" y="77"/>
                      </a:moveTo>
                      <a:cubicBezTo>
                        <a:pt x="1225" y="77"/>
                        <a:pt x="1202" y="0"/>
                        <a:pt x="1174" y="77"/>
                      </a:cubicBezTo>
                      <a:cubicBezTo>
                        <a:pt x="1146" y="154"/>
                        <a:pt x="1097" y="398"/>
                        <a:pt x="1062" y="537"/>
                      </a:cubicBezTo>
                      <a:cubicBezTo>
                        <a:pt x="1027" y="676"/>
                        <a:pt x="997" y="911"/>
                        <a:pt x="964" y="911"/>
                      </a:cubicBezTo>
                      <a:cubicBezTo>
                        <a:pt x="931" y="911"/>
                        <a:pt x="894" y="646"/>
                        <a:pt x="865" y="537"/>
                      </a:cubicBezTo>
                      <a:cubicBezTo>
                        <a:pt x="836" y="428"/>
                        <a:pt x="819" y="228"/>
                        <a:pt x="790" y="254"/>
                      </a:cubicBezTo>
                      <a:cubicBezTo>
                        <a:pt x="761" y="280"/>
                        <a:pt x="721" y="654"/>
                        <a:pt x="688" y="694"/>
                      </a:cubicBezTo>
                      <a:cubicBezTo>
                        <a:pt x="655" y="734"/>
                        <a:pt x="641" y="510"/>
                        <a:pt x="590" y="497"/>
                      </a:cubicBezTo>
                      <a:cubicBezTo>
                        <a:pt x="539" y="484"/>
                        <a:pt x="436" y="630"/>
                        <a:pt x="384" y="615"/>
                      </a:cubicBezTo>
                      <a:cubicBezTo>
                        <a:pt x="332" y="600"/>
                        <a:pt x="311" y="404"/>
                        <a:pt x="275" y="409"/>
                      </a:cubicBezTo>
                      <a:cubicBezTo>
                        <a:pt x="239" y="414"/>
                        <a:pt x="201" y="639"/>
                        <a:pt x="167" y="645"/>
                      </a:cubicBezTo>
                      <a:cubicBezTo>
                        <a:pt x="133" y="651"/>
                        <a:pt x="97" y="468"/>
                        <a:pt x="69" y="448"/>
                      </a:cubicBezTo>
                      <a:cubicBezTo>
                        <a:pt x="41" y="428"/>
                        <a:pt x="21" y="477"/>
                        <a:pt x="0" y="52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9" name=""/>
              <p:cNvSpPr/>
              <p:nvPr/>
            </p:nvSpPr>
            <p:spPr>
              <a:xfrm>
                <a:off x="8608680" y="3514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 flipH="1">
                <a:off x="5943240" y="2538000"/>
                <a:ext cx="110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 flipH="1">
                <a:off x="6023880" y="3320280"/>
                <a:ext cx="79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7006680" y="20797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S(d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 flipV="1">
                <a:off x="6652080" y="3071880"/>
                <a:ext cx="0" cy="53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4" name=""/>
            <p:cNvSpPr/>
            <p:nvPr/>
          </p:nvSpPr>
          <p:spPr>
            <a:xfrm>
              <a:off x="6960600" y="386784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7383600" y="3726720"/>
              <a:ext cx="56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6" name=""/>
          <p:cNvGrpSpPr/>
          <p:nvPr/>
        </p:nvGrpSpPr>
        <p:grpSpPr>
          <a:xfrm>
            <a:off x="3086280" y="4890960"/>
            <a:ext cx="5980320" cy="1865880"/>
            <a:chOff x="3086280" y="4890960"/>
            <a:chExt cx="5980320" cy="1865880"/>
          </a:xfrm>
        </p:grpSpPr>
        <p:sp>
          <p:nvSpPr>
            <p:cNvPr id="6127" name=""/>
            <p:cNvSpPr/>
            <p:nvPr/>
          </p:nvSpPr>
          <p:spPr>
            <a:xfrm flipV="1">
              <a:off x="3086280" y="6372000"/>
              <a:ext cx="41940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 flipV="1">
              <a:off x="3303720" y="4890960"/>
              <a:ext cx="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3173400" y="5457960"/>
              <a:ext cx="261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3537000" y="5937120"/>
              <a:ext cx="2568600" cy="463680"/>
            </a:xfrm>
            <a:custGeom>
              <a:avLst/>
              <a:gdLst/>
              <a:ahLst/>
              <a:rect l="l" t="t" r="r" b="b"/>
              <a:pathLst>
                <a:path w="1618" h="292">
                  <a:moveTo>
                    <a:pt x="0" y="292"/>
                  </a:moveTo>
                  <a:lnTo>
                    <a:pt x="265" y="0"/>
                  </a:lnTo>
                  <a:lnTo>
                    <a:pt x="530" y="283"/>
                  </a:lnTo>
                  <a:lnTo>
                    <a:pt x="795" y="18"/>
                  </a:lnTo>
                  <a:lnTo>
                    <a:pt x="1069" y="265"/>
                  </a:lnTo>
                  <a:lnTo>
                    <a:pt x="1325" y="9"/>
                  </a:lnTo>
                  <a:lnTo>
                    <a:pt x="1618" y="292"/>
                  </a:lnTo>
                </a:path>
              </a:pathLst>
            </a:custGeom>
            <a:noFill/>
            <a:ln w="284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3537000" y="5249880"/>
              <a:ext cx="2408400" cy="469800"/>
            </a:xfrm>
            <a:custGeom>
              <a:avLst/>
              <a:gdLst/>
              <a:ahLst/>
              <a:rect l="l" t="t" r="r" b="b"/>
              <a:pathLst>
                <a:path w="1517" h="296">
                  <a:moveTo>
                    <a:pt x="0" y="13"/>
                  </a:moveTo>
                  <a:cubicBezTo>
                    <a:pt x="87" y="151"/>
                    <a:pt x="175" y="289"/>
                    <a:pt x="265" y="287"/>
                  </a:cubicBezTo>
                  <a:cubicBezTo>
                    <a:pt x="355" y="285"/>
                    <a:pt x="445" y="2"/>
                    <a:pt x="539" y="3"/>
                  </a:cubicBezTo>
                  <a:cubicBezTo>
                    <a:pt x="633" y="4"/>
                    <a:pt x="747" y="296"/>
                    <a:pt x="832" y="296"/>
                  </a:cubicBezTo>
                  <a:cubicBezTo>
                    <a:pt x="917" y="296"/>
                    <a:pt x="972" y="6"/>
                    <a:pt x="1051" y="3"/>
                  </a:cubicBezTo>
                  <a:cubicBezTo>
                    <a:pt x="1130" y="0"/>
                    <a:pt x="1229" y="276"/>
                    <a:pt x="1307" y="278"/>
                  </a:cubicBezTo>
                  <a:cubicBezTo>
                    <a:pt x="1385" y="280"/>
                    <a:pt x="1451" y="146"/>
                    <a:pt x="1517" y="13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5899320" y="5823000"/>
              <a:ext cx="185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dm modul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5938560" y="5278320"/>
              <a:ext cx="312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ignal : energie modul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6621480" y="6357960"/>
              <a:ext cx="93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em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8640" y="592200"/>
            <a:ext cx="2624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ffiner le lob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422360" y="2116080"/>
            <a:ext cx="3050280" cy="1079640"/>
            <a:chOff x="1422360" y="2116080"/>
            <a:chExt cx="3050280" cy="107964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1422360" y="2116080"/>
              <a:ext cx="4730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977120" y="2154240"/>
              <a:ext cx="249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je veux la milliarcsec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68280" y="3908520"/>
            <a:ext cx="7927200" cy="2809440"/>
            <a:chOff x="368280" y="3908520"/>
            <a:chExt cx="7927200" cy="2809440"/>
          </a:xfrm>
        </p:grpSpPr>
        <p:sp>
          <p:nvSpPr>
            <p:cNvPr id="271" name=""/>
            <p:cNvSpPr/>
            <p:nvPr/>
          </p:nvSpPr>
          <p:spPr>
            <a:xfrm>
              <a:off x="4389120" y="3908520"/>
              <a:ext cx="2756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il y a l'atmosphère  !!!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61640" y="6261120"/>
              <a:ext cx="3633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D petit ou D grand , pareil  lobe pour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pas tout à fait pareil tout de mê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8280" y="4573440"/>
              <a:ext cx="1623600" cy="17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4120" bIns="2412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celestron 8 :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1 Arcs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Palomar :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1 Arcs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au lieu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0.02 Arcs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1771560" y="4344840"/>
              <a:ext cx="4267080" cy="1983600"/>
              <a:chOff x="1771560" y="4344840"/>
              <a:chExt cx="4267080" cy="198360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1771560" y="4535280"/>
                <a:ext cx="4092480" cy="674640"/>
                <a:chOff x="1771560" y="4535280"/>
                <a:chExt cx="4092480" cy="674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3728520" y="4814640"/>
                  <a:ext cx="464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898800" y="4674960"/>
                  <a:ext cx="220680" cy="430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898800" y="4674960"/>
                  <a:ext cx="220680" cy="430200"/>
                </a:xfrm>
                <a:prstGeom prst="ellipse">
                  <a:avLst/>
                </a:prstGeom>
                <a:noFill/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771560" y="4628880"/>
                  <a:ext cx="3835440" cy="581040"/>
                </a:xfrm>
                <a:custGeom>
                  <a:avLst/>
                  <a:gdLst/>
                  <a:ahLst/>
                  <a:rect l="l" t="t" r="r" b="b"/>
                  <a:pathLst>
                    <a:path w="2498" h="378">
                      <a:moveTo>
                        <a:pt x="2475" y="38"/>
                      </a:moveTo>
                      <a:lnTo>
                        <a:pt x="30" y="378"/>
                      </a:lnTo>
                      <a:lnTo>
                        <a:pt x="0" y="234"/>
                      </a:lnTo>
                      <a:lnTo>
                        <a:pt x="7" y="106"/>
                      </a:lnTo>
                      <a:lnTo>
                        <a:pt x="53" y="0"/>
                      </a:lnTo>
                      <a:lnTo>
                        <a:pt x="2475" y="302"/>
                      </a:lnTo>
                      <a:lnTo>
                        <a:pt x="2498" y="143"/>
                      </a:lnTo>
                      <a:lnTo>
                        <a:pt x="2475" y="3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68520" y="4884480"/>
                  <a:ext cx="31845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" name=""/>
                <p:cNvGrpSpPr/>
                <p:nvPr/>
              </p:nvGrpSpPr>
              <p:grpSpPr>
                <a:xfrm>
                  <a:off x="2560680" y="4662360"/>
                  <a:ext cx="1291680" cy="47520"/>
                  <a:chOff x="2560680" y="4662360"/>
                  <a:chExt cx="1291680" cy="4752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3723480" y="4662360"/>
                    <a:ext cx="128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31">
                        <a:moveTo>
                          <a:pt x="84" y="16"/>
                        </a:moveTo>
                        <a:lnTo>
                          <a:pt x="0" y="31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84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2560680" y="4686480"/>
                    <a:ext cx="116280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2560680" y="5033880"/>
                  <a:ext cx="1291680" cy="47520"/>
                  <a:chOff x="2560680" y="5033880"/>
                  <a:chExt cx="1291680" cy="4752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3723480" y="5033880"/>
                    <a:ext cx="1288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31">
                        <a:moveTo>
                          <a:pt x="84" y="16"/>
                        </a:moveTo>
                        <a:lnTo>
                          <a:pt x="0" y="31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84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2560680" y="5058000"/>
                    <a:ext cx="116280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" name=""/>
                <p:cNvSpPr/>
                <p:nvPr/>
              </p:nvSpPr>
              <p:spPr>
                <a:xfrm>
                  <a:off x="4084560" y="4674960"/>
                  <a:ext cx="1557360" cy="417600"/>
                </a:xfrm>
                <a:custGeom>
                  <a:avLst/>
                  <a:gdLst/>
                  <a:ahLst/>
                  <a:rect l="l" t="t" r="r" b="b"/>
                  <a:pathLst>
                    <a:path w="1015" h="272">
                      <a:moveTo>
                        <a:pt x="0" y="0"/>
                      </a:moveTo>
                      <a:lnTo>
                        <a:pt x="1015" y="136"/>
                      </a:lnTo>
                      <a:lnTo>
                        <a:pt x="0" y="272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8" name=""/>
                <p:cNvGrpSpPr/>
                <p:nvPr/>
              </p:nvGrpSpPr>
              <p:grpSpPr>
                <a:xfrm>
                  <a:off x="5513400" y="4535280"/>
                  <a:ext cx="350640" cy="639360"/>
                  <a:chOff x="5513400" y="4535280"/>
                  <a:chExt cx="350640" cy="639360"/>
                </a:xfrm>
              </p:grpSpPr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5605560" y="4754160"/>
                    <a:ext cx="141480" cy="234720"/>
                    <a:chOff x="5605560" y="4754160"/>
                    <a:chExt cx="141480" cy="23472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5642280" y="4801680"/>
                      <a:ext cx="68760" cy="1501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5640480" y="4801680"/>
                      <a:ext cx="72360" cy="1519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5605560" y="4754160"/>
                      <a:ext cx="141480" cy="2347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5513400" y="4639320"/>
                    <a:ext cx="141480" cy="245160"/>
                    <a:chOff x="5513400" y="4639320"/>
                    <a:chExt cx="141480" cy="24516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5536440" y="4697280"/>
                      <a:ext cx="93600" cy="139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5536440" y="4697280"/>
                      <a:ext cx="95040" cy="1393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5513400" y="4639320"/>
                      <a:ext cx="141480" cy="2451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5734800" y="4883400"/>
                    <a:ext cx="129240" cy="232920"/>
                    <a:chOff x="5734800" y="4883400"/>
                    <a:chExt cx="129240" cy="23292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5757840" y="4929120"/>
                      <a:ext cx="70200" cy="139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5757840" y="4929120"/>
                      <a:ext cx="70200" cy="1411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5734800" y="4883400"/>
                      <a:ext cx="129240" cy="2329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5710320" y="4535280"/>
                    <a:ext cx="141480" cy="232920"/>
                    <a:chOff x="5710320" y="4535280"/>
                    <a:chExt cx="141480" cy="23292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5734440" y="4570200"/>
                      <a:ext cx="81360" cy="162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5734440" y="4568760"/>
                      <a:ext cx="83160" cy="1638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5710320" y="4535280"/>
                      <a:ext cx="141480" cy="2329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5571720" y="4929120"/>
                    <a:ext cx="141480" cy="245520"/>
                    <a:chOff x="5571720" y="4929120"/>
                    <a:chExt cx="141480" cy="245520"/>
                  </a:xfrm>
                </p:grpSpPr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5594400" y="4976640"/>
                      <a:ext cx="81360" cy="1501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5594400" y="4974840"/>
                      <a:ext cx="82800" cy="1519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5571720" y="4929120"/>
                      <a:ext cx="141480" cy="2455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09" name=""/>
                <p:cNvSpPr/>
                <p:nvPr/>
              </p:nvSpPr>
              <p:spPr>
                <a:xfrm>
                  <a:off x="2133720" y="4827240"/>
                  <a:ext cx="3244680" cy="154080"/>
                </a:xfrm>
                <a:custGeom>
                  <a:avLst/>
                  <a:gdLst/>
                  <a:ahLst/>
                  <a:rect l="l" t="t" r="r" b="b"/>
                  <a:pathLst>
                    <a:path w="2804" h="118">
                      <a:moveTo>
                        <a:pt x="2792" y="7"/>
                      </a:moveTo>
                      <a:lnTo>
                        <a:pt x="36" y="118"/>
                      </a:lnTo>
                      <a:lnTo>
                        <a:pt x="0" y="71"/>
                      </a:lnTo>
                      <a:lnTo>
                        <a:pt x="0" y="34"/>
                      </a:lnTo>
                      <a:lnTo>
                        <a:pt x="60" y="0"/>
                      </a:lnTo>
                      <a:lnTo>
                        <a:pt x="2792" y="91"/>
                      </a:lnTo>
                      <a:lnTo>
                        <a:pt x="2804" y="47"/>
                      </a:lnTo>
                      <a:lnTo>
                        <a:pt x="2792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1805040" y="5454360"/>
                <a:ext cx="4233600" cy="857160"/>
                <a:chOff x="1805040" y="5454360"/>
                <a:chExt cx="4233600" cy="8571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1805040" y="5603760"/>
                  <a:ext cx="3836880" cy="568080"/>
                </a:xfrm>
                <a:custGeom>
                  <a:avLst/>
                  <a:gdLst/>
                  <a:ahLst/>
                  <a:rect l="l" t="t" r="r" b="b"/>
                  <a:pathLst>
                    <a:path w="2499" h="370">
                      <a:moveTo>
                        <a:pt x="2483" y="38"/>
                      </a:moveTo>
                      <a:lnTo>
                        <a:pt x="38" y="370"/>
                      </a:lnTo>
                      <a:lnTo>
                        <a:pt x="0" y="227"/>
                      </a:lnTo>
                      <a:lnTo>
                        <a:pt x="8" y="106"/>
                      </a:lnTo>
                      <a:lnTo>
                        <a:pt x="61" y="0"/>
                      </a:lnTo>
                      <a:lnTo>
                        <a:pt x="2483" y="302"/>
                      </a:lnTo>
                      <a:lnTo>
                        <a:pt x="2499" y="136"/>
                      </a:lnTo>
                      <a:lnTo>
                        <a:pt x="2483" y="3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002120" y="6103800"/>
                  <a:ext cx="144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886200" y="5464080"/>
                  <a:ext cx="220680" cy="847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886200" y="5464080"/>
                  <a:ext cx="220680" cy="847440"/>
                </a:xfrm>
                <a:prstGeom prst="ellipse">
                  <a:avLst/>
                </a:prstGeom>
                <a:noFill/>
                <a:ln w="475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455920" y="5871960"/>
                  <a:ext cx="32097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2538360" y="5454360"/>
                  <a:ext cx="1301400" cy="33480"/>
                  <a:chOff x="2538360" y="5454360"/>
                  <a:chExt cx="1301400" cy="3348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3712680" y="5454360"/>
                    <a:ext cx="127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2">
                        <a:moveTo>
                          <a:pt x="83" y="7"/>
                        </a:moveTo>
                        <a:lnTo>
                          <a:pt x="0" y="22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83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538360" y="5464800"/>
                    <a:ext cx="117432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2538360" y="6208560"/>
                  <a:ext cx="1301400" cy="34920"/>
                  <a:chOff x="2538360" y="6208560"/>
                  <a:chExt cx="1301400" cy="3492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3712680" y="6208560"/>
                    <a:ext cx="1270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3">
                        <a:moveTo>
                          <a:pt x="83" y="15"/>
                        </a:moveTo>
                        <a:lnTo>
                          <a:pt x="0" y="23"/>
                        </a:lnTo>
                        <a:lnTo>
                          <a:pt x="0" y="15"/>
                        </a:lnTo>
                        <a:lnTo>
                          <a:pt x="0" y="0"/>
                        </a:lnTo>
                        <a:lnTo>
                          <a:pt x="83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538360" y="6231240"/>
                    <a:ext cx="117432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2" name=""/>
                <p:cNvSpPr/>
                <p:nvPr/>
              </p:nvSpPr>
              <p:spPr>
                <a:xfrm>
                  <a:off x="4073400" y="5454360"/>
                  <a:ext cx="1568520" cy="835200"/>
                </a:xfrm>
                <a:custGeom>
                  <a:avLst/>
                  <a:gdLst/>
                  <a:ahLst/>
                  <a:rect l="l" t="t" r="r" b="b"/>
                  <a:pathLst>
                    <a:path w="1022" h="544">
                      <a:moveTo>
                        <a:pt x="0" y="0"/>
                      </a:moveTo>
                      <a:lnTo>
                        <a:pt x="1022" y="272"/>
                      </a:lnTo>
                      <a:lnTo>
                        <a:pt x="0" y="5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" name=""/>
                <p:cNvGrpSpPr/>
                <p:nvPr/>
              </p:nvGrpSpPr>
              <p:grpSpPr>
                <a:xfrm>
                  <a:off x="5583240" y="5673600"/>
                  <a:ext cx="315720" cy="348840"/>
                  <a:chOff x="5583240" y="5673600"/>
                  <a:chExt cx="315720" cy="348840"/>
                </a:xfrm>
              </p:grpSpPr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664600" y="5823360"/>
                    <a:ext cx="72000" cy="82800"/>
                    <a:chOff x="5664600" y="5823360"/>
                    <a:chExt cx="72000" cy="8280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5676480" y="5847840"/>
                      <a:ext cx="349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5676480" y="5846400"/>
                      <a:ext cx="36720" cy="486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5664600" y="5823360"/>
                      <a:ext cx="72000" cy="828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240" bIns="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5758200" y="5892480"/>
                    <a:ext cx="47160" cy="71640"/>
                    <a:chOff x="5758200" y="5892480"/>
                    <a:chExt cx="47160" cy="7164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5770080" y="5906160"/>
                      <a:ext cx="226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5768280" y="5904360"/>
                      <a:ext cx="25920" cy="471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5758200" y="5892480"/>
                      <a:ext cx="47160" cy="7164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5839200" y="5777640"/>
                    <a:ext cx="59760" cy="82440"/>
                    <a:chOff x="5839200" y="5777640"/>
                    <a:chExt cx="59760" cy="8244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5851440" y="5789520"/>
                      <a:ext cx="34920" cy="579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5849640" y="5788080"/>
                      <a:ext cx="36720" cy="594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5839200" y="5777640"/>
                      <a:ext cx="59760" cy="8244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5664600" y="5673600"/>
                    <a:ext cx="59760" cy="59400"/>
                    <a:chOff x="5664600" y="5673600"/>
                    <a:chExt cx="59760" cy="5940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5676480" y="5685840"/>
                      <a:ext cx="34920" cy="34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5676480" y="5684040"/>
                      <a:ext cx="36720" cy="363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5664600" y="5673600"/>
                      <a:ext cx="59760" cy="594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5583240" y="5742360"/>
                    <a:ext cx="48960" cy="71640"/>
                    <a:chOff x="5583240" y="5742360"/>
                    <a:chExt cx="48960" cy="7164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5584320" y="5754240"/>
                      <a:ext cx="334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5583240" y="5754240"/>
                      <a:ext cx="36720" cy="471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5583240" y="5742360"/>
                      <a:ext cx="48960" cy="7164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5628960" y="5950440"/>
                    <a:ext cx="59760" cy="72000"/>
                    <a:chOff x="5628960" y="5950440"/>
                    <a:chExt cx="59760" cy="7200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5642640" y="5962680"/>
                      <a:ext cx="22680" cy="468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>
                      <a:off x="5640840" y="5962680"/>
                      <a:ext cx="24480" cy="468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5628960" y="5950440"/>
                      <a:ext cx="59760" cy="720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5546880" y="5592600"/>
                  <a:ext cx="327960" cy="348840"/>
                  <a:chOff x="5546880" y="5592600"/>
                  <a:chExt cx="327960" cy="348840"/>
                </a:xfrm>
              </p:grpSpPr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5721480" y="5742360"/>
                    <a:ext cx="59760" cy="82440"/>
                    <a:chOff x="5721480" y="5742360"/>
                    <a:chExt cx="59760" cy="8244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5745960" y="5754240"/>
                      <a:ext cx="33480" cy="579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5744160" y="5754240"/>
                      <a:ext cx="36720" cy="594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5721480" y="5742360"/>
                      <a:ext cx="59760" cy="8244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5640120" y="5811480"/>
                    <a:ext cx="59760" cy="84240"/>
                    <a:chOff x="5640120" y="5811480"/>
                    <a:chExt cx="59760" cy="8424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5652360" y="5825160"/>
                      <a:ext cx="34920" cy="56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5652360" y="5823360"/>
                      <a:ext cx="34920" cy="594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5640120" y="5811480"/>
                      <a:ext cx="59760" cy="8424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5546880" y="5707080"/>
                    <a:ext cx="72000" cy="59760"/>
                    <a:chOff x="5546880" y="5707080"/>
                    <a:chExt cx="72000" cy="5976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5571360" y="5708520"/>
                      <a:ext cx="349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5571360" y="5707080"/>
                      <a:ext cx="34920" cy="489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5546880" y="5707080"/>
                      <a:ext cx="72000" cy="597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5733720" y="5592600"/>
                    <a:ext cx="59760" cy="69840"/>
                    <a:chOff x="5733720" y="5592600"/>
                    <a:chExt cx="59760" cy="6984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5745960" y="5604480"/>
                      <a:ext cx="334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5744160" y="5602680"/>
                      <a:ext cx="36720" cy="489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5733720" y="5592600"/>
                      <a:ext cx="59760" cy="6984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815080" y="5673240"/>
                    <a:ext cx="59760" cy="59760"/>
                    <a:chOff x="5815080" y="5673240"/>
                    <a:chExt cx="59760" cy="5976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5826960" y="5685480"/>
                      <a:ext cx="33480" cy="34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5825520" y="5683680"/>
                      <a:ext cx="36720" cy="367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>
                      <a:off x="5815080" y="5673240"/>
                      <a:ext cx="59760" cy="597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5767560" y="5869800"/>
                    <a:ext cx="49320" cy="71640"/>
                    <a:chOff x="5767560" y="5869800"/>
                    <a:chExt cx="49320" cy="7164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5779800" y="5893920"/>
                      <a:ext cx="24120" cy="35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5779800" y="5892480"/>
                      <a:ext cx="24120" cy="363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5767560" y="5869800"/>
                      <a:ext cx="49320" cy="7164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5710320" y="5741640"/>
                  <a:ext cx="328320" cy="363240"/>
                  <a:chOff x="5710320" y="5741640"/>
                  <a:chExt cx="328320" cy="363240"/>
                </a:xfrm>
              </p:grpSpPr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816160" y="5904720"/>
                    <a:ext cx="47520" cy="70920"/>
                    <a:chOff x="5816160" y="5904720"/>
                    <a:chExt cx="47520" cy="7092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5816160" y="5916600"/>
                      <a:ext cx="35280" cy="464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5816160" y="5916600"/>
                      <a:ext cx="35280" cy="475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5816160" y="5904720"/>
                      <a:ext cx="47520" cy="709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897520" y="5963400"/>
                    <a:ext cx="59760" cy="70920"/>
                    <a:chOff x="5897520" y="5963400"/>
                    <a:chExt cx="59760" cy="7092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5909400" y="5975280"/>
                      <a:ext cx="33480" cy="46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5907960" y="5974200"/>
                      <a:ext cx="36720" cy="489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5897520" y="5963400"/>
                      <a:ext cx="59760" cy="709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5989320" y="5858640"/>
                    <a:ext cx="49320" cy="60120"/>
                    <a:chOff x="5989320" y="5858640"/>
                    <a:chExt cx="49320" cy="6012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5990760" y="5870520"/>
                      <a:ext cx="22680" cy="46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5989320" y="5869440"/>
                      <a:ext cx="24480" cy="489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5989320" y="5858640"/>
                      <a:ext cx="49320" cy="6012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5803920" y="5741640"/>
                    <a:ext cx="59760" cy="72360"/>
                    <a:chOff x="5803920" y="5741640"/>
                    <a:chExt cx="59760" cy="7236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5815800" y="5753520"/>
                      <a:ext cx="22680" cy="46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5815800" y="5753520"/>
                      <a:ext cx="24480" cy="4788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5803920" y="5741640"/>
                      <a:ext cx="59760" cy="723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5710320" y="5810760"/>
                    <a:ext cx="72000" cy="84600"/>
                    <a:chOff x="5710320" y="5810760"/>
                    <a:chExt cx="72000" cy="8460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5724000" y="5835240"/>
                      <a:ext cx="3348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5722200" y="5835240"/>
                      <a:ext cx="36720" cy="471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5710320" y="5810760"/>
                      <a:ext cx="72000" cy="8460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5768280" y="6021720"/>
                    <a:ext cx="49320" cy="83160"/>
                    <a:chOff x="5768280" y="6021720"/>
                    <a:chExt cx="49320" cy="8316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5780520" y="6033960"/>
                      <a:ext cx="24120" cy="58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5780520" y="6032520"/>
                      <a:ext cx="24120" cy="597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5768280" y="6021720"/>
                      <a:ext cx="49320" cy="83160"/>
                    </a:xfrm>
                    <a:prstGeom prst="ellipse">
                      <a:avLst/>
                    </a:prstGeom>
                    <a:noFill/>
                    <a:ln w="23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2220840" y="5849640"/>
                  <a:ext cx="3328560" cy="74880"/>
                  <a:chOff x="2220840" y="5849640"/>
                  <a:chExt cx="3328560" cy="7488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2220840" y="5849640"/>
                    <a:ext cx="31316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16" h="51">
                        <a:moveTo>
                          <a:pt x="2798" y="7"/>
                        </a:moveTo>
                        <a:lnTo>
                          <a:pt x="42" y="51"/>
                        </a:lnTo>
                        <a:lnTo>
                          <a:pt x="0" y="31"/>
                        </a:lnTo>
                        <a:lnTo>
                          <a:pt x="12" y="14"/>
                        </a:lnTo>
                        <a:lnTo>
                          <a:pt x="72" y="0"/>
                        </a:lnTo>
                        <a:lnTo>
                          <a:pt x="2798" y="37"/>
                        </a:lnTo>
                        <a:lnTo>
                          <a:pt x="2816" y="21"/>
                        </a:lnTo>
                        <a:lnTo>
                          <a:pt x="2798" y="7"/>
                        </a:lnTo>
                        <a:close/>
                      </a:path>
                    </a:pathLst>
                  </a:custGeom>
                  <a:solidFill>
                    <a:srgbClr val="ff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483880" y="5860800"/>
                    <a:ext cx="65520" cy="49320"/>
                    <a:chOff x="5483880" y="5860800"/>
                    <a:chExt cx="65520" cy="4932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5500080" y="5866560"/>
                      <a:ext cx="24480" cy="37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5500080" y="5871600"/>
                      <a:ext cx="24480" cy="2736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5483880" y="5860800"/>
                      <a:ext cx="65520" cy="4932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04" name=""/>
              <p:cNvGrpSpPr/>
              <p:nvPr/>
            </p:nvGrpSpPr>
            <p:grpSpPr>
              <a:xfrm>
                <a:off x="3416400" y="4344840"/>
                <a:ext cx="381600" cy="1983600"/>
                <a:chOff x="3416400" y="4344840"/>
                <a:chExt cx="381600" cy="198360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3462120" y="5493240"/>
                  <a:ext cx="325080" cy="835200"/>
                  <a:chOff x="3462120" y="5493240"/>
                  <a:chExt cx="325080" cy="8352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3497040" y="5493240"/>
                    <a:ext cx="81360" cy="1274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3601440" y="5679000"/>
                    <a:ext cx="69120" cy="1393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3695040" y="5726880"/>
                    <a:ext cx="79920" cy="1256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3520440" y="6225840"/>
                    <a:ext cx="45720" cy="795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3695040" y="6167520"/>
                    <a:ext cx="92160" cy="1609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3705840" y="5551560"/>
                    <a:ext cx="46080" cy="918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3660120" y="5923080"/>
                    <a:ext cx="56520" cy="921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3601440" y="6027840"/>
                    <a:ext cx="58320" cy="1854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3520440" y="5760720"/>
                    <a:ext cx="57960" cy="810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3462120" y="5935320"/>
                    <a:ext cx="69120" cy="1260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3462120" y="4622760"/>
                  <a:ext cx="335880" cy="824400"/>
                  <a:chOff x="3462120" y="4622760"/>
                  <a:chExt cx="335880" cy="82440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3660120" y="4622760"/>
                    <a:ext cx="81360" cy="1274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578400" y="4797720"/>
                    <a:ext cx="69120" cy="14868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3474000" y="4843800"/>
                    <a:ext cx="69120" cy="1274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3672360" y="5342760"/>
                    <a:ext cx="56520" cy="813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3462120" y="5284800"/>
                    <a:ext cx="92160" cy="1623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484800" y="4681080"/>
                    <a:ext cx="46080" cy="687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520440" y="5040360"/>
                    <a:ext cx="57960" cy="921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3578400" y="5157360"/>
                    <a:ext cx="56520" cy="1854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672360" y="4879080"/>
                    <a:ext cx="56520" cy="921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718080" y="5064840"/>
                    <a:ext cx="79920" cy="1260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3416400" y="4344840"/>
                  <a:ext cx="325080" cy="835200"/>
                  <a:chOff x="3416400" y="4344840"/>
                  <a:chExt cx="325080" cy="83520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3614400" y="4344840"/>
                    <a:ext cx="68760" cy="1256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3520800" y="4530240"/>
                    <a:ext cx="81000" cy="1382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428280" y="4564080"/>
                    <a:ext cx="56520" cy="1274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637080" y="5075640"/>
                    <a:ext cx="33480" cy="813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416400" y="5006520"/>
                    <a:ext cx="81000" cy="1735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3439080" y="4401360"/>
                    <a:ext cx="33480" cy="813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3474360" y="4762440"/>
                    <a:ext cx="46080" cy="1044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3532680" y="4879080"/>
                    <a:ext cx="56520" cy="1843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3625200" y="4611960"/>
                    <a:ext cx="45720" cy="795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3660120" y="4785120"/>
                    <a:ext cx="81360" cy="12744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3416400" y="5424480"/>
                  <a:ext cx="325080" cy="822600"/>
                  <a:chOff x="3416400" y="5424480"/>
                  <a:chExt cx="325080" cy="82260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3614400" y="5424480"/>
                    <a:ext cx="68760" cy="1152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3520800" y="5597640"/>
                    <a:ext cx="81000" cy="1393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3416400" y="5645520"/>
                    <a:ext cx="68760" cy="1152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3625200" y="6155280"/>
                    <a:ext cx="45720" cy="687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416400" y="6086160"/>
                    <a:ext cx="81000" cy="1609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439080" y="5470200"/>
                    <a:ext cx="33480" cy="813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3474360" y="5841720"/>
                    <a:ext cx="46080" cy="921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3532680" y="5946480"/>
                    <a:ext cx="56520" cy="19656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3625200" y="5691600"/>
                    <a:ext cx="45720" cy="6912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3660120" y="5864760"/>
                    <a:ext cx="81360" cy="115200"/>
                  </a:xfrm>
                  <a:prstGeom prst="ellipse">
                    <a:avLst/>
                  </a:prstGeom>
                  <a:solidFill>
                    <a:srgbClr val="cc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449" name=""/>
          <p:cNvGrpSpPr/>
          <p:nvPr/>
        </p:nvGrpSpPr>
        <p:grpSpPr>
          <a:xfrm>
            <a:off x="408240" y="2556000"/>
            <a:ext cx="8385120" cy="1732320"/>
            <a:chOff x="408240" y="2556000"/>
            <a:chExt cx="8385120" cy="1732320"/>
          </a:xfrm>
        </p:grpSpPr>
        <p:sp>
          <p:nvSpPr>
            <p:cNvPr id="450" name=""/>
            <p:cNvSpPr/>
            <p:nvPr/>
          </p:nvSpPr>
          <p:spPr>
            <a:xfrm>
              <a:off x="408240" y="3889440"/>
              <a:ext cx="262980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t ce n'est pas tout !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945360" y="2556000"/>
              <a:ext cx="7848000" cy="1400040"/>
              <a:chOff x="945360" y="2556000"/>
              <a:chExt cx="7848000" cy="140004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2930400" y="2556000"/>
                <a:ext cx="5862960" cy="1400040"/>
                <a:chOff x="2930400" y="2556000"/>
                <a:chExt cx="5862960" cy="1400040"/>
              </a:xfrm>
            </p:grpSpPr>
            <p:pic>
              <p:nvPicPr>
                <p:cNvPr id="4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30400" y="2556000"/>
                  <a:ext cx="1130400" cy="1400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"/>
                <p:cNvSpPr/>
                <p:nvPr/>
              </p:nvSpPr>
              <p:spPr>
                <a:xfrm>
                  <a:off x="4170240" y="3079800"/>
                  <a:ext cx="4623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en visible il faut compter en km pour 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5" name=""/>
              <p:cNvSpPr/>
              <p:nvPr/>
            </p:nvSpPr>
            <p:spPr>
              <a:xfrm>
                <a:off x="945360" y="3276720"/>
                <a:ext cx="1651320" cy="4597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du calme !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6" name=""/>
          <p:cNvGrpSpPr/>
          <p:nvPr/>
        </p:nvGrpSpPr>
        <p:grpSpPr>
          <a:xfrm>
            <a:off x="483480" y="896760"/>
            <a:ext cx="8231760" cy="1361520"/>
            <a:chOff x="483480" y="896760"/>
            <a:chExt cx="8231760" cy="1361520"/>
          </a:xfrm>
        </p:grpSpPr>
        <p:grpSp>
          <p:nvGrpSpPr>
            <p:cNvPr id="457" name=""/>
            <p:cNvGrpSpPr/>
            <p:nvPr/>
          </p:nvGrpSpPr>
          <p:grpSpPr>
            <a:xfrm>
              <a:off x="2104920" y="1407960"/>
              <a:ext cx="6610320" cy="743040"/>
              <a:chOff x="2104920" y="1407960"/>
              <a:chExt cx="6610320" cy="743040"/>
            </a:xfrm>
          </p:grpSpPr>
          <p:sp>
            <p:nvSpPr>
              <p:cNvPr id="458" name=""/>
              <p:cNvSpPr/>
              <p:nvPr/>
            </p:nvSpPr>
            <p:spPr>
              <a:xfrm>
                <a:off x="5678280" y="1773360"/>
                <a:ext cx="29768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2104920" y="1476360"/>
                <a:ext cx="2842920" cy="356760"/>
                <a:chOff x="2104920" y="1476360"/>
                <a:chExt cx="2842920" cy="35676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2104920" y="1587600"/>
                  <a:ext cx="2719800" cy="158760"/>
                </a:xfrm>
                <a:custGeom>
                  <a:avLst/>
                  <a:gdLst/>
                  <a:ahLst/>
                  <a:rect l="l" t="t" r="r" b="b"/>
                  <a:pathLst>
                    <a:path w="2804" h="118">
                      <a:moveTo>
                        <a:pt x="2792" y="7"/>
                      </a:moveTo>
                      <a:lnTo>
                        <a:pt x="36" y="118"/>
                      </a:lnTo>
                      <a:lnTo>
                        <a:pt x="0" y="71"/>
                      </a:lnTo>
                      <a:lnTo>
                        <a:pt x="0" y="34"/>
                      </a:lnTo>
                      <a:lnTo>
                        <a:pt x="60" y="0"/>
                      </a:lnTo>
                      <a:lnTo>
                        <a:pt x="2792" y="91"/>
                      </a:lnTo>
                      <a:lnTo>
                        <a:pt x="2804" y="47"/>
                      </a:lnTo>
                      <a:lnTo>
                        <a:pt x="2792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1" name=""/>
                <p:cNvGrpSpPr/>
                <p:nvPr/>
              </p:nvGrpSpPr>
              <p:grpSpPr>
                <a:xfrm>
                  <a:off x="2318400" y="1476360"/>
                  <a:ext cx="2629440" cy="356760"/>
                  <a:chOff x="2318400" y="1476360"/>
                  <a:chExt cx="2629440" cy="356760"/>
                </a:xfrm>
              </p:grpSpPr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4835880" y="1558800"/>
                    <a:ext cx="111960" cy="181440"/>
                    <a:chOff x="4835880" y="1558800"/>
                    <a:chExt cx="111960" cy="18144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4861440" y="1584720"/>
                      <a:ext cx="59760" cy="129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4862160" y="1589040"/>
                      <a:ext cx="58680" cy="12024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160" bIns="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4835880" y="1558800"/>
                      <a:ext cx="111960" cy="18144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6" name=""/>
                  <p:cNvSpPr/>
                  <p:nvPr/>
                </p:nvSpPr>
                <p:spPr>
                  <a:xfrm>
                    <a:off x="3455280" y="1486440"/>
                    <a:ext cx="171360" cy="346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3455280" y="1494360"/>
                    <a:ext cx="171360" cy="32976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2318400" y="1651680"/>
                    <a:ext cx="25628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69" name=""/>
                  <p:cNvGrpSpPr/>
                  <p:nvPr/>
                </p:nvGrpSpPr>
                <p:grpSpPr>
                  <a:xfrm>
                    <a:off x="2377800" y="1476360"/>
                    <a:ext cx="1043280" cy="31680"/>
                    <a:chOff x="2377800" y="1476360"/>
                    <a:chExt cx="1043280" cy="31680"/>
                  </a:xfrm>
                </p:grpSpPr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3315240" y="1476360"/>
                      <a:ext cx="10584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21">
                          <a:moveTo>
                            <a:pt x="96" y="7"/>
                          </a:moveTo>
                          <a:lnTo>
                            <a:pt x="0" y="21"/>
                          </a:lnTo>
                          <a:lnTo>
                            <a:pt x="0" y="7"/>
                          </a:lnTo>
                          <a:lnTo>
                            <a:pt x="0" y="0"/>
                          </a:lnTo>
                          <a:lnTo>
                            <a:pt x="96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2377800" y="1486440"/>
                      <a:ext cx="937440" cy="1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2" name=""/>
                  <p:cNvGrpSpPr/>
                  <p:nvPr/>
                </p:nvGrpSpPr>
                <p:grpSpPr>
                  <a:xfrm>
                    <a:off x="2377800" y="1792080"/>
                    <a:ext cx="1043280" cy="30600"/>
                    <a:chOff x="2377800" y="1792080"/>
                    <a:chExt cx="1043280" cy="30600"/>
                  </a:xfrm>
                </p:grpSpPr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3315240" y="1792080"/>
                      <a:ext cx="105840" cy="3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20">
                          <a:moveTo>
                            <a:pt x="96" y="6"/>
                          </a:moveTo>
                          <a:lnTo>
                            <a:pt x="0" y="20"/>
                          </a:lnTo>
                          <a:lnTo>
                            <a:pt x="0" y="6"/>
                          </a:lnTo>
                          <a:lnTo>
                            <a:pt x="0" y="0"/>
                          </a:lnTo>
                          <a:lnTo>
                            <a:pt x="96" y="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2377800" y="1801080"/>
                      <a:ext cx="937440" cy="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5" name=""/>
                  <p:cNvSpPr/>
                  <p:nvPr/>
                </p:nvSpPr>
                <p:spPr>
                  <a:xfrm>
                    <a:off x="3600360" y="1486440"/>
                    <a:ext cx="1261080" cy="34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9" h="227">
                        <a:moveTo>
                          <a:pt x="0" y="0"/>
                        </a:moveTo>
                        <a:lnTo>
                          <a:pt x="1139" y="108"/>
                        </a:lnTo>
                        <a:lnTo>
                          <a:pt x="0" y="227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5661000" y="1733400"/>
                <a:ext cx="3054240" cy="74880"/>
                <a:chOff x="5661000" y="1733400"/>
                <a:chExt cx="3054240" cy="748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5661000" y="1733400"/>
                  <a:ext cx="2873520" cy="74880"/>
                </a:xfrm>
                <a:custGeom>
                  <a:avLst/>
                  <a:gdLst/>
                  <a:ahLst/>
                  <a:rect l="l" t="t" r="r" b="b"/>
                  <a:pathLst>
                    <a:path w="2816" h="51">
                      <a:moveTo>
                        <a:pt x="2798" y="7"/>
                      </a:moveTo>
                      <a:lnTo>
                        <a:pt x="42" y="51"/>
                      </a:lnTo>
                      <a:lnTo>
                        <a:pt x="0" y="31"/>
                      </a:lnTo>
                      <a:lnTo>
                        <a:pt x="12" y="14"/>
                      </a:lnTo>
                      <a:lnTo>
                        <a:pt x="72" y="0"/>
                      </a:lnTo>
                      <a:lnTo>
                        <a:pt x="2798" y="37"/>
                      </a:lnTo>
                      <a:lnTo>
                        <a:pt x="2816" y="21"/>
                      </a:lnTo>
                      <a:lnTo>
                        <a:pt x="2798" y="7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8655120" y="1744560"/>
                  <a:ext cx="60120" cy="49320"/>
                  <a:chOff x="8655120" y="1744560"/>
                  <a:chExt cx="60120" cy="4932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8670240" y="1750320"/>
                    <a:ext cx="22320" cy="37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8670240" y="1755360"/>
                    <a:ext cx="22320" cy="2736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8655120" y="1744560"/>
                    <a:ext cx="60120" cy="4932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2" name=""/>
              <p:cNvSpPr/>
              <p:nvPr/>
            </p:nvSpPr>
            <p:spPr>
              <a:xfrm>
                <a:off x="7004160" y="1430280"/>
                <a:ext cx="196560" cy="720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004160" y="1438200"/>
                <a:ext cx="196560" cy="704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5754600" y="1407960"/>
                <a:ext cx="1204920" cy="41400"/>
                <a:chOff x="5754600" y="1407960"/>
                <a:chExt cx="1204920" cy="4140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6852960" y="1407960"/>
                  <a:ext cx="106560" cy="41400"/>
                </a:xfrm>
                <a:custGeom>
                  <a:avLst/>
                  <a:gdLst/>
                  <a:ahLst/>
                  <a:rect l="l" t="t" r="r" b="b"/>
                  <a:pathLst>
                    <a:path w="84" h="27">
                      <a:moveTo>
                        <a:pt x="84" y="14"/>
                      </a:move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8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754600" y="1429200"/>
                  <a:ext cx="109836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5754600" y="2060640"/>
                <a:ext cx="1204920" cy="42840"/>
                <a:chOff x="5754600" y="2060640"/>
                <a:chExt cx="1204920" cy="4284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6852960" y="2060640"/>
                  <a:ext cx="106560" cy="42840"/>
                </a:xfrm>
                <a:custGeom>
                  <a:avLst/>
                  <a:gdLst/>
                  <a:ahLst/>
                  <a:rect l="l" t="t" r="r" b="b"/>
                  <a:pathLst>
                    <a:path w="84" h="27">
                      <a:moveTo>
                        <a:pt x="84" y="14"/>
                      </a:moveTo>
                      <a:lnTo>
                        <a:pt x="0" y="27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84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754600" y="2082960"/>
                  <a:ext cx="109836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0" name=""/>
              <p:cNvSpPr/>
              <p:nvPr/>
            </p:nvSpPr>
            <p:spPr>
              <a:xfrm>
                <a:off x="7178760" y="1419120"/>
                <a:ext cx="1460520" cy="700200"/>
              </a:xfrm>
              <a:custGeom>
                <a:avLst/>
                <a:gdLst/>
                <a:ahLst/>
                <a:rect l="l" t="t" r="r" b="b"/>
                <a:pathLst>
                  <a:path w="1151" h="450">
                    <a:moveTo>
                      <a:pt x="0" y="0"/>
                    </a:moveTo>
                    <a:lnTo>
                      <a:pt x="1151" y="227"/>
                    </a:lnTo>
                    <a:lnTo>
                      <a:pt x="0" y="45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483480" y="1798560"/>
              <a:ext cx="116964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MAIS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937960" y="896760"/>
              <a:ext cx="57114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en théorie : augmenter le diamètre =&gt; lobe plus fin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5" name="PlaceHolder 1"/>
          <p:cNvSpPr>
            <a:spLocks noGrp="1"/>
          </p:cNvSpPr>
          <p:nvPr>
            <p:ph type="title"/>
          </p:nvPr>
        </p:nvSpPr>
        <p:spPr>
          <a:xfrm>
            <a:off x="380520" y="638280"/>
            <a:ext cx="35845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einte plate,  plan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6" name=""/>
          <p:cNvGrpSpPr/>
          <p:nvPr/>
        </p:nvGrpSpPr>
        <p:grpSpPr>
          <a:xfrm>
            <a:off x="2235240" y="1612800"/>
            <a:ext cx="5893920" cy="4265640"/>
            <a:chOff x="2235240" y="1612800"/>
            <a:chExt cx="5893920" cy="4265640"/>
          </a:xfrm>
        </p:grpSpPr>
        <p:sp>
          <p:nvSpPr>
            <p:cNvPr id="6137" name=""/>
            <p:cNvSpPr/>
            <p:nvPr/>
          </p:nvSpPr>
          <p:spPr>
            <a:xfrm>
              <a:off x="3906720" y="2405160"/>
              <a:ext cx="1482480" cy="1265040"/>
            </a:xfrm>
            <a:custGeom>
              <a:avLst/>
              <a:gdLst/>
              <a:ahLst/>
              <a:rect l="l" t="t" r="r" b="b"/>
              <a:pathLst>
                <a:path w="934" h="797">
                  <a:moveTo>
                    <a:pt x="934" y="797"/>
                  </a:moveTo>
                  <a:lnTo>
                    <a:pt x="0" y="797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 flipH="1">
              <a:off x="5386320" y="2401920"/>
              <a:ext cx="1841040" cy="719280"/>
            </a:xfrm>
            <a:custGeom>
              <a:avLst/>
              <a:gdLst/>
              <a:ahLst/>
              <a:rect l="l" t="t" r="r" b="b"/>
              <a:pathLst>
                <a:path w="934" h="797">
                  <a:moveTo>
                    <a:pt x="934" y="797"/>
                  </a:moveTo>
                  <a:lnTo>
                    <a:pt x="0" y="797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3579480" y="2263680"/>
              <a:ext cx="655560" cy="21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6911640" y="2276640"/>
              <a:ext cx="655560" cy="218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 rot="2700000">
              <a:off x="5101200" y="3559320"/>
              <a:ext cx="689040" cy="15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 flipV="1" rot="18900000">
              <a:off x="4983840" y="2997360"/>
              <a:ext cx="688680" cy="155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 rot="2652000">
              <a:off x="4984200" y="3664080"/>
              <a:ext cx="688680" cy="15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5387760" y="3138480"/>
              <a:ext cx="0" cy="18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5308560" y="368460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6549480" y="4179960"/>
              <a:ext cx="1283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 = d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- d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4236840" y="3022560"/>
              <a:ext cx="434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6649920" y="2579760"/>
              <a:ext cx="434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5078160" y="4232160"/>
              <a:ext cx="545760" cy="139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5227560" y="5084640"/>
              <a:ext cx="302760" cy="1191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5452920" y="5183280"/>
              <a:ext cx="87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5580000" y="532620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ignal  s(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3688560" y="4498920"/>
              <a:ext cx="138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etec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monopix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an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lan im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3299760" y="253836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7376400" y="256536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5752080" y="3476520"/>
              <a:ext cx="48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 rot="5400000">
              <a:off x="5433120" y="4680"/>
              <a:ext cx="293760" cy="4020840"/>
            </a:xfrm>
            <a:custGeom>
              <a:avLst/>
              <a:gdLst>
                <a:gd name="textAreaLeft" fmla="*/ 187560 w 293760"/>
                <a:gd name="textAreaRight" fmla="*/ 294120 w 293760"/>
                <a:gd name="textAreaTop" fmla="*/ 104760 h 4020840"/>
                <a:gd name="textAreaBottom" fmla="*/ 3916080 h 402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5467320" y="1612800"/>
              <a:ext cx="244080" cy="196920"/>
            </a:xfrm>
            <a:prstGeom prst="star5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9" name=""/>
            <p:cNvGrpSpPr/>
            <p:nvPr/>
          </p:nvGrpSpPr>
          <p:grpSpPr>
            <a:xfrm>
              <a:off x="7478640" y="4846680"/>
              <a:ext cx="650520" cy="338040"/>
              <a:chOff x="7478640" y="4846680"/>
              <a:chExt cx="650520" cy="338040"/>
            </a:xfrm>
          </p:grpSpPr>
          <p:sp>
            <p:nvSpPr>
              <p:cNvPr id="6160" name=""/>
              <p:cNvSpPr/>
              <p:nvPr/>
            </p:nvSpPr>
            <p:spPr>
              <a:xfrm>
                <a:off x="7803720" y="4847040"/>
                <a:ext cx="325440" cy="337680"/>
              </a:xfrm>
              <a:custGeom>
                <a:avLst/>
                <a:gdLst/>
                <a:ahLst/>
                <a:rect l="l" t="t" r="r" b="b"/>
                <a:pathLst>
                  <a:path w="659" h="1347">
                    <a:moveTo>
                      <a:pt x="20" y="1318"/>
                    </a:moveTo>
                    <a:cubicBezTo>
                      <a:pt x="113" y="1320"/>
                      <a:pt x="501" y="1323"/>
                      <a:pt x="580" y="1318"/>
                    </a:cubicBezTo>
                    <a:cubicBezTo>
                      <a:pt x="659" y="1313"/>
                      <a:pt x="528" y="1312"/>
                      <a:pt x="494" y="1289"/>
                    </a:cubicBezTo>
                    <a:cubicBezTo>
                      <a:pt x="460" y="1266"/>
                      <a:pt x="412" y="1181"/>
                      <a:pt x="373" y="1181"/>
                    </a:cubicBezTo>
                    <a:cubicBezTo>
                      <a:pt x="335" y="1181"/>
                      <a:pt x="292" y="1292"/>
                      <a:pt x="263" y="1289"/>
                    </a:cubicBezTo>
                    <a:cubicBezTo>
                      <a:pt x="234" y="1286"/>
                      <a:pt x="231" y="1347"/>
                      <a:pt x="197" y="1163"/>
                    </a:cubicBezTo>
                    <a:cubicBezTo>
                      <a:pt x="164" y="979"/>
                      <a:pt x="93" y="364"/>
                      <a:pt x="60" y="182"/>
                    </a:cubicBezTo>
                    <a:cubicBezTo>
                      <a:pt x="27" y="0"/>
                      <a:pt x="12" y="93"/>
                      <a:pt x="0" y="69"/>
                    </a:cubicBezTo>
                  </a:path>
                </a:pathLst>
              </a:custGeom>
              <a:solidFill>
                <a:srgbClr val="dddddd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7478640" y="4846680"/>
                <a:ext cx="339840" cy="337680"/>
              </a:xfrm>
              <a:custGeom>
                <a:avLst/>
                <a:gdLst/>
                <a:ahLst/>
                <a:rect l="l" t="t" r="r" b="b"/>
                <a:pathLst>
                  <a:path w="688" h="1347">
                    <a:moveTo>
                      <a:pt x="688" y="1320"/>
                    </a:moveTo>
                    <a:cubicBezTo>
                      <a:pt x="588" y="1321"/>
                      <a:pt x="172" y="1323"/>
                      <a:pt x="86" y="1318"/>
                    </a:cubicBezTo>
                    <a:cubicBezTo>
                      <a:pt x="0" y="1313"/>
                      <a:pt x="138" y="1312"/>
                      <a:pt x="172" y="1289"/>
                    </a:cubicBezTo>
                    <a:cubicBezTo>
                      <a:pt x="206" y="1266"/>
                      <a:pt x="254" y="1181"/>
                      <a:pt x="293" y="1181"/>
                    </a:cubicBezTo>
                    <a:cubicBezTo>
                      <a:pt x="331" y="1181"/>
                      <a:pt x="374" y="1292"/>
                      <a:pt x="403" y="1289"/>
                    </a:cubicBezTo>
                    <a:cubicBezTo>
                      <a:pt x="432" y="1286"/>
                      <a:pt x="435" y="1347"/>
                      <a:pt x="469" y="1163"/>
                    </a:cubicBezTo>
                    <a:cubicBezTo>
                      <a:pt x="502" y="979"/>
                      <a:pt x="573" y="364"/>
                      <a:pt x="606" y="182"/>
                    </a:cubicBezTo>
                    <a:cubicBezTo>
                      <a:pt x="639" y="0"/>
                      <a:pt x="654" y="93"/>
                      <a:pt x="666" y="69"/>
                    </a:cubicBezTo>
                  </a:path>
                </a:pathLst>
              </a:custGeom>
              <a:solidFill>
                <a:srgbClr val="dddddd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2" name=""/>
            <p:cNvGrpSpPr/>
            <p:nvPr/>
          </p:nvGrpSpPr>
          <p:grpSpPr>
            <a:xfrm>
              <a:off x="7445160" y="5540400"/>
              <a:ext cx="650520" cy="338040"/>
              <a:chOff x="7445160" y="5540400"/>
              <a:chExt cx="650520" cy="338040"/>
            </a:xfrm>
          </p:grpSpPr>
          <p:sp>
            <p:nvSpPr>
              <p:cNvPr id="6163" name=""/>
              <p:cNvSpPr/>
              <p:nvPr/>
            </p:nvSpPr>
            <p:spPr>
              <a:xfrm>
                <a:off x="7770240" y="5540760"/>
                <a:ext cx="325440" cy="337680"/>
              </a:xfrm>
              <a:custGeom>
                <a:avLst/>
                <a:gdLst/>
                <a:ahLst/>
                <a:rect l="l" t="t" r="r" b="b"/>
                <a:pathLst>
                  <a:path w="659" h="1347">
                    <a:moveTo>
                      <a:pt x="20" y="1318"/>
                    </a:moveTo>
                    <a:cubicBezTo>
                      <a:pt x="113" y="1320"/>
                      <a:pt x="501" y="1323"/>
                      <a:pt x="580" y="1318"/>
                    </a:cubicBezTo>
                    <a:cubicBezTo>
                      <a:pt x="659" y="1313"/>
                      <a:pt x="528" y="1312"/>
                      <a:pt x="494" y="1289"/>
                    </a:cubicBezTo>
                    <a:cubicBezTo>
                      <a:pt x="460" y="1266"/>
                      <a:pt x="412" y="1181"/>
                      <a:pt x="373" y="1181"/>
                    </a:cubicBezTo>
                    <a:cubicBezTo>
                      <a:pt x="335" y="1181"/>
                      <a:pt x="292" y="1292"/>
                      <a:pt x="263" y="1289"/>
                    </a:cubicBezTo>
                    <a:cubicBezTo>
                      <a:pt x="234" y="1286"/>
                      <a:pt x="231" y="1347"/>
                      <a:pt x="197" y="1163"/>
                    </a:cubicBezTo>
                    <a:cubicBezTo>
                      <a:pt x="164" y="979"/>
                      <a:pt x="93" y="364"/>
                      <a:pt x="60" y="182"/>
                    </a:cubicBezTo>
                    <a:cubicBezTo>
                      <a:pt x="27" y="0"/>
                      <a:pt x="12" y="93"/>
                      <a:pt x="0" y="69"/>
                    </a:cubicBezTo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7445160" y="5540400"/>
                <a:ext cx="339840" cy="337680"/>
              </a:xfrm>
              <a:custGeom>
                <a:avLst/>
                <a:gdLst/>
                <a:ahLst/>
                <a:rect l="l" t="t" r="r" b="b"/>
                <a:pathLst>
                  <a:path w="688" h="1347">
                    <a:moveTo>
                      <a:pt x="688" y="1320"/>
                    </a:moveTo>
                    <a:cubicBezTo>
                      <a:pt x="588" y="1321"/>
                      <a:pt x="172" y="1323"/>
                      <a:pt x="86" y="1318"/>
                    </a:cubicBezTo>
                    <a:cubicBezTo>
                      <a:pt x="0" y="1313"/>
                      <a:pt x="138" y="1312"/>
                      <a:pt x="172" y="1289"/>
                    </a:cubicBezTo>
                    <a:cubicBezTo>
                      <a:pt x="206" y="1266"/>
                      <a:pt x="254" y="1181"/>
                      <a:pt x="293" y="1181"/>
                    </a:cubicBezTo>
                    <a:cubicBezTo>
                      <a:pt x="331" y="1181"/>
                      <a:pt x="374" y="1292"/>
                      <a:pt x="403" y="1289"/>
                    </a:cubicBezTo>
                    <a:cubicBezTo>
                      <a:pt x="432" y="1286"/>
                      <a:pt x="435" y="1347"/>
                      <a:pt x="469" y="1163"/>
                    </a:cubicBezTo>
                    <a:cubicBezTo>
                      <a:pt x="502" y="979"/>
                      <a:pt x="573" y="364"/>
                      <a:pt x="606" y="182"/>
                    </a:cubicBezTo>
                    <a:cubicBezTo>
                      <a:pt x="639" y="0"/>
                      <a:pt x="654" y="93"/>
                      <a:pt x="666" y="69"/>
                    </a:cubicBezTo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5" name=""/>
            <p:cNvSpPr/>
            <p:nvPr/>
          </p:nvSpPr>
          <p:spPr>
            <a:xfrm>
              <a:off x="7503120" y="5160960"/>
              <a:ext cx="49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7243560" y="4957920"/>
              <a:ext cx="151920" cy="914400"/>
            </a:xfrm>
            <a:custGeom>
              <a:avLst/>
              <a:gdLst>
                <a:gd name="textAreaLeft" fmla="*/ 97200 w 151920"/>
                <a:gd name="textAreaRight" fmla="*/ 152280 w 151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7" name=""/>
            <p:cNvGrpSpPr/>
            <p:nvPr/>
          </p:nvGrpSpPr>
          <p:grpSpPr>
            <a:xfrm>
              <a:off x="3575880" y="3584880"/>
              <a:ext cx="412920" cy="419760"/>
              <a:chOff x="3575880" y="3584880"/>
              <a:chExt cx="412920" cy="419760"/>
            </a:xfrm>
          </p:grpSpPr>
          <p:sp>
            <p:nvSpPr>
              <p:cNvPr id="6168" name=""/>
              <p:cNvSpPr/>
              <p:nvPr/>
            </p:nvSpPr>
            <p:spPr>
              <a:xfrm rot="2519400">
                <a:off x="3746880" y="3658320"/>
                <a:ext cx="248760" cy="745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 rot="2519400">
                <a:off x="3702240" y="3707640"/>
                <a:ext cx="248760" cy="74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 rot="2519400">
                <a:off x="3657600" y="3757320"/>
                <a:ext cx="248760" cy="74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 rot="2519400">
                <a:off x="3612960" y="3806640"/>
                <a:ext cx="248760" cy="74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 rot="2519400">
                <a:off x="3568680" y="3856320"/>
                <a:ext cx="248760" cy="745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3" name=""/>
            <p:cNvSpPr/>
            <p:nvPr/>
          </p:nvSpPr>
          <p:spPr>
            <a:xfrm>
              <a:off x="2235240" y="3479760"/>
              <a:ext cx="129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miroir s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iez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5095800" y="4340160"/>
              <a:ext cx="507600" cy="739800"/>
            </a:xfrm>
            <a:custGeom>
              <a:avLst/>
              <a:gdLst/>
              <a:ahLst/>
              <a:rect l="l" t="t" r="r" b="b"/>
              <a:pathLst>
                <a:path w="320" h="466">
                  <a:moveTo>
                    <a:pt x="0" y="0"/>
                  </a:moveTo>
                  <a:lnTo>
                    <a:pt x="165" y="466"/>
                  </a:lnTo>
                  <a:lnTo>
                    <a:pt x="3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 rot="2700000">
              <a:off x="3726000" y="3588480"/>
              <a:ext cx="433440" cy="9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 flipH="1" rot="18900000">
              <a:off x="7058880" y="3121560"/>
              <a:ext cx="433080" cy="9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7" name=""/>
          <p:cNvSpPr/>
          <p:nvPr/>
        </p:nvSpPr>
        <p:spPr>
          <a:xfrm>
            <a:off x="281880" y="1450800"/>
            <a:ext cx="185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lan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ono-ax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t tempo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8" name="vinciCene" descr=""/>
          <p:cNvPicPr/>
          <p:nvPr/>
        </p:nvPicPr>
        <p:blipFill>
          <a:blip r:embed="rId1"/>
          <a:stretch/>
        </p:blipFill>
        <p:spPr>
          <a:xfrm>
            <a:off x="0" y="-642960"/>
            <a:ext cx="12566520" cy="7388280"/>
          </a:xfrm>
          <a:prstGeom prst="rect">
            <a:avLst/>
          </a:prstGeom>
          <a:ln w="0">
            <a:noFill/>
          </a:ln>
        </p:spPr>
      </p:pic>
      <p:sp>
        <p:nvSpPr>
          <p:cNvPr id="6179" name="PlaceHolder 1"/>
          <p:cNvSpPr>
            <a:spLocks noGrp="1"/>
          </p:cNvSpPr>
          <p:nvPr>
            <p:ph type="title"/>
          </p:nvPr>
        </p:nvSpPr>
        <p:spPr>
          <a:xfrm>
            <a:off x="1671480" y="739440"/>
            <a:ext cx="8629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encore une ou deux longueurs</a:t>
            </a:r>
            <a:br>
              <a:rPr sz="3200"/>
            </a:b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heureusement , bientôt la bouff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0" name="PlaceHolder 1"/>
          <p:cNvSpPr>
            <a:spLocks noGrp="1"/>
          </p:cNvSpPr>
          <p:nvPr>
            <p:ph type="title"/>
          </p:nvPr>
        </p:nvSpPr>
        <p:spPr>
          <a:xfrm>
            <a:off x="2909880" y="-4822200"/>
            <a:ext cx="23760" cy="120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PlaceHolder 2"/>
          <p:cNvSpPr>
            <a:spLocks noGrp="1"/>
          </p:cNvSpPr>
          <p:nvPr>
            <p:ph/>
          </p:nvPr>
        </p:nvSpPr>
        <p:spPr>
          <a:xfrm>
            <a:off x="215640" y="2550600"/>
            <a:ext cx="8420040" cy="409140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4120" bIns="24120" anchor="t">
            <a:normAutofit fontScale="99000"/>
          </a:bodyPr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 mesure le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modul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u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egré complexe de cohé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'on appelle aussi 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visibilit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prés toute une procédure d'observation et de traitement des données 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on obtient  une  </a:t>
            </a:r>
            <a:r>
              <a:rPr b="1" lang="fr-FR" sz="20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Comic Sans MS"/>
              </a:rPr>
              <a:t>estimation</a:t>
            </a: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  de cette  visibil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Cette visibilité  est supposée ê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une mesure du  module du  spectre spatial de la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à la fréquence spatiale B/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 algn="ctr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Le boulot de l'interféromètre, c'est d'abord (mais pas seul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0" algn="ctr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" construire des courbes de visibilité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>
            <a:off x="288000" y="1314360"/>
            <a:ext cx="7998480" cy="34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120" rIns="60120" tIns="24120" bIns="2412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un interféromètre ne mesure pas des diamètres angulai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"/>
          <p:cNvSpPr/>
          <p:nvPr/>
        </p:nvSpPr>
        <p:spPr>
          <a:xfrm>
            <a:off x="241560" y="708120"/>
            <a:ext cx="8865720" cy="342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120" rIns="60120" tIns="24120" bIns="2412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Comic Sans MS"/>
              </a:rPr>
              <a:t>la  production de l'instrument "interféromètre" à deux télescop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4" name=""/>
          <p:cNvGrpSpPr/>
          <p:nvPr/>
        </p:nvGrpSpPr>
        <p:grpSpPr>
          <a:xfrm>
            <a:off x="6675480" y="1871640"/>
            <a:ext cx="2127960" cy="1883880"/>
            <a:chOff x="6675480" y="1871640"/>
            <a:chExt cx="2127960" cy="1883880"/>
          </a:xfrm>
        </p:grpSpPr>
        <p:sp>
          <p:nvSpPr>
            <p:cNvPr id="6185" name=""/>
            <p:cNvSpPr/>
            <p:nvPr/>
          </p:nvSpPr>
          <p:spPr>
            <a:xfrm>
              <a:off x="6675480" y="3193920"/>
              <a:ext cx="21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 flipV="1">
              <a:off x="6675480" y="2047680"/>
              <a:ext cx="0" cy="11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6849360" y="1871640"/>
              <a:ext cx="102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V(B/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7702200" y="3295800"/>
              <a:ext cx="110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u= B/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7081920" y="2395440"/>
              <a:ext cx="88920" cy="276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7234200" y="2576520"/>
              <a:ext cx="88920" cy="276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7515000" y="2571840"/>
              <a:ext cx="88920" cy="276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7824600" y="2752560"/>
              <a:ext cx="88920" cy="276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PlaceHolder 2"/>
          <p:cNvSpPr>
            <a:spLocks noGrp="1"/>
          </p:cNvSpPr>
          <p:nvPr>
            <p:ph/>
          </p:nvPr>
        </p:nvSpPr>
        <p:spPr>
          <a:xfrm>
            <a:off x="302760" y="1644480"/>
            <a:ext cx="7216920" cy="361584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4120" bIns="24120" anchor="t">
            <a:normAutofit/>
          </a:bodyPr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camembert 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boite de pil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 brillance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sque unifor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1012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assemblage de boites de pilule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9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étoile et enveloppe)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1000"/>
              </a:lnSpc>
              <a:spcBef>
                <a:spcPts val="901"/>
              </a:spcBef>
              <a:buNone/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linéarité de la T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5" name=""/>
          <p:cNvGrpSpPr/>
          <p:nvPr/>
        </p:nvGrpSpPr>
        <p:grpSpPr>
          <a:xfrm>
            <a:off x="2941560" y="1419120"/>
            <a:ext cx="3600360" cy="2243160"/>
            <a:chOff x="2941560" y="1419120"/>
            <a:chExt cx="3600360" cy="2243160"/>
          </a:xfrm>
        </p:grpSpPr>
        <p:sp>
          <p:nvSpPr>
            <p:cNvPr id="6196" name=""/>
            <p:cNvSpPr/>
            <p:nvPr/>
          </p:nvSpPr>
          <p:spPr>
            <a:xfrm>
              <a:off x="3078720" y="1590840"/>
              <a:ext cx="27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O(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3282480" y="1590840"/>
              <a:ext cx="369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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3559320" y="1590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9" name=""/>
            <p:cNvGrpSpPr/>
            <p:nvPr/>
          </p:nvGrpSpPr>
          <p:grpSpPr>
            <a:xfrm>
              <a:off x="2941560" y="2081160"/>
              <a:ext cx="1184400" cy="1481040"/>
              <a:chOff x="2941560" y="2081160"/>
              <a:chExt cx="1184400" cy="1481040"/>
            </a:xfrm>
          </p:grpSpPr>
          <p:grpSp>
            <p:nvGrpSpPr>
              <p:cNvPr id="6200" name=""/>
              <p:cNvGrpSpPr/>
              <p:nvPr/>
            </p:nvGrpSpPr>
            <p:grpSpPr>
              <a:xfrm>
                <a:off x="2941560" y="2886120"/>
                <a:ext cx="1184400" cy="431280"/>
                <a:chOff x="2941560" y="2886120"/>
                <a:chExt cx="1184400" cy="431280"/>
              </a:xfrm>
            </p:grpSpPr>
            <p:sp>
              <p:nvSpPr>
                <p:cNvPr id="6201" name=""/>
                <p:cNvSpPr/>
                <p:nvPr/>
              </p:nvSpPr>
              <p:spPr>
                <a:xfrm>
                  <a:off x="4052880" y="2886120"/>
                  <a:ext cx="73080" cy="57240"/>
                </a:xfrm>
                <a:custGeom>
                  <a:avLst/>
                  <a:gdLst/>
                  <a:ahLst/>
                  <a:rect l="l" t="t" r="r" b="b"/>
                  <a:pathLst>
                    <a:path w="46" h="36">
                      <a:moveTo>
                        <a:pt x="46" y="0"/>
                      </a:moveTo>
                      <a:lnTo>
                        <a:pt x="0" y="36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2" name=""/>
                <p:cNvSpPr/>
                <p:nvPr/>
              </p:nvSpPr>
              <p:spPr>
                <a:xfrm flipV="1">
                  <a:off x="2941560" y="2916000"/>
                  <a:ext cx="1111320" cy="401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3" name=""/>
              <p:cNvGrpSpPr/>
              <p:nvPr/>
            </p:nvGrpSpPr>
            <p:grpSpPr>
              <a:xfrm>
                <a:off x="3002040" y="2886120"/>
                <a:ext cx="823680" cy="676080"/>
                <a:chOff x="3002040" y="2886120"/>
                <a:chExt cx="823680" cy="676080"/>
              </a:xfrm>
            </p:grpSpPr>
            <p:sp>
              <p:nvSpPr>
                <p:cNvPr id="6204" name=""/>
                <p:cNvSpPr/>
                <p:nvPr/>
              </p:nvSpPr>
              <p:spPr>
                <a:xfrm>
                  <a:off x="3754440" y="3489480"/>
                  <a:ext cx="71280" cy="72720"/>
                </a:xfrm>
                <a:custGeom>
                  <a:avLst/>
                  <a:gdLst/>
                  <a:ahLst/>
                  <a:rect l="l" t="t" r="r" b="b"/>
                  <a:pathLst>
                    <a:path w="45" h="46">
                      <a:moveTo>
                        <a:pt x="45" y="46"/>
                      </a:moveTo>
                      <a:lnTo>
                        <a:pt x="0" y="27"/>
                      </a:lnTo>
                      <a:lnTo>
                        <a:pt x="8" y="18"/>
                      </a:lnTo>
                      <a:lnTo>
                        <a:pt x="15" y="0"/>
                      </a:lnTo>
                      <a:lnTo>
                        <a:pt x="45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5" name=""/>
                <p:cNvSpPr/>
                <p:nvPr/>
              </p:nvSpPr>
              <p:spPr>
                <a:xfrm>
                  <a:off x="3002040" y="2886120"/>
                  <a:ext cx="765000" cy="63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6" name=""/>
              <p:cNvGrpSpPr/>
              <p:nvPr/>
            </p:nvGrpSpPr>
            <p:grpSpPr>
              <a:xfrm>
                <a:off x="3078000" y="2374920"/>
                <a:ext cx="551160" cy="922320"/>
                <a:chOff x="3078000" y="2374920"/>
                <a:chExt cx="551160" cy="922320"/>
              </a:xfrm>
            </p:grpSpPr>
            <p:sp>
              <p:nvSpPr>
                <p:cNvPr id="6207" name=""/>
                <p:cNvSpPr/>
                <p:nvPr/>
              </p:nvSpPr>
              <p:spPr>
                <a:xfrm>
                  <a:off x="3090960" y="2460600"/>
                  <a:ext cx="525240" cy="749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8" name=""/>
                <p:cNvSpPr/>
                <p:nvPr/>
              </p:nvSpPr>
              <p:spPr>
                <a:xfrm>
                  <a:off x="3090960" y="2374920"/>
                  <a:ext cx="538200" cy="189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9" name=""/>
                <p:cNvSpPr/>
                <p:nvPr/>
              </p:nvSpPr>
              <p:spPr>
                <a:xfrm>
                  <a:off x="3078000" y="3108240"/>
                  <a:ext cx="538200" cy="189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0" name=""/>
              <p:cNvGrpSpPr/>
              <p:nvPr/>
            </p:nvGrpSpPr>
            <p:grpSpPr>
              <a:xfrm>
                <a:off x="3311640" y="2081160"/>
                <a:ext cx="36360" cy="1106640"/>
                <a:chOff x="3311640" y="2081160"/>
                <a:chExt cx="36360" cy="1106640"/>
              </a:xfrm>
            </p:grpSpPr>
            <p:sp>
              <p:nvSpPr>
                <p:cNvPr id="6211" name=""/>
                <p:cNvSpPr/>
                <p:nvPr/>
              </p:nvSpPr>
              <p:spPr>
                <a:xfrm>
                  <a:off x="3311640" y="2081160"/>
                  <a:ext cx="36360" cy="85680"/>
                </a:xfrm>
                <a:custGeom>
                  <a:avLst/>
                  <a:gdLst/>
                  <a:ahLst/>
                  <a:rect l="l" t="t" r="r" b="b"/>
                  <a:pathLst>
                    <a:path w="23" h="54">
                      <a:moveTo>
                        <a:pt x="8" y="0"/>
                      </a:moveTo>
                      <a:lnTo>
                        <a:pt x="23" y="54"/>
                      </a:lnTo>
                      <a:lnTo>
                        <a:pt x="8" y="54"/>
                      </a:lnTo>
                      <a:lnTo>
                        <a:pt x="0" y="54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2" name=""/>
                <p:cNvSpPr/>
                <p:nvPr/>
              </p:nvSpPr>
              <p:spPr>
                <a:xfrm flipV="1">
                  <a:off x="3324240" y="2166840"/>
                  <a:ext cx="1440" cy="102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13" name=""/>
            <p:cNvSpPr/>
            <p:nvPr/>
          </p:nvSpPr>
          <p:spPr>
            <a:xfrm>
              <a:off x="4890960" y="2238480"/>
              <a:ext cx="849600" cy="1065240"/>
            </a:xfrm>
            <a:custGeom>
              <a:avLst/>
              <a:gdLst/>
              <a:ahLst/>
              <a:rect l="l" t="t" r="r" b="b"/>
              <a:pathLst>
                <a:path w="535" h="671">
                  <a:moveTo>
                    <a:pt x="520" y="453"/>
                  </a:moveTo>
                  <a:lnTo>
                    <a:pt x="467" y="281"/>
                  </a:lnTo>
                  <a:lnTo>
                    <a:pt x="422" y="118"/>
                  </a:lnTo>
                  <a:lnTo>
                    <a:pt x="392" y="55"/>
                  </a:lnTo>
                  <a:lnTo>
                    <a:pt x="316" y="0"/>
                  </a:lnTo>
                  <a:lnTo>
                    <a:pt x="286" y="0"/>
                  </a:lnTo>
                  <a:lnTo>
                    <a:pt x="143" y="100"/>
                  </a:lnTo>
                  <a:lnTo>
                    <a:pt x="98" y="290"/>
                  </a:lnTo>
                  <a:lnTo>
                    <a:pt x="75" y="426"/>
                  </a:lnTo>
                  <a:lnTo>
                    <a:pt x="15" y="517"/>
                  </a:lnTo>
                  <a:lnTo>
                    <a:pt x="0" y="562"/>
                  </a:lnTo>
                  <a:lnTo>
                    <a:pt x="196" y="661"/>
                  </a:lnTo>
                  <a:lnTo>
                    <a:pt x="316" y="671"/>
                  </a:lnTo>
                  <a:lnTo>
                    <a:pt x="422" y="634"/>
                  </a:lnTo>
                  <a:lnTo>
                    <a:pt x="490" y="616"/>
                  </a:lnTo>
                  <a:lnTo>
                    <a:pt x="535" y="562"/>
                  </a:lnTo>
                  <a:lnTo>
                    <a:pt x="520" y="453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4" name=""/>
            <p:cNvGrpSpPr/>
            <p:nvPr/>
          </p:nvGrpSpPr>
          <p:grpSpPr>
            <a:xfrm>
              <a:off x="4557600" y="2411280"/>
              <a:ext cx="1960560" cy="1135080"/>
              <a:chOff x="4557600" y="2411280"/>
              <a:chExt cx="1960560" cy="1135080"/>
            </a:xfrm>
          </p:grpSpPr>
          <p:sp>
            <p:nvSpPr>
              <p:cNvPr id="6215" name=""/>
              <p:cNvSpPr/>
              <p:nvPr/>
            </p:nvSpPr>
            <p:spPr>
              <a:xfrm>
                <a:off x="6373800" y="2411280"/>
                <a:ext cx="144360" cy="114480"/>
              </a:xfrm>
              <a:custGeom>
                <a:avLst/>
                <a:gdLst/>
                <a:ahLst/>
                <a:rect l="l" t="t" r="r" b="b"/>
                <a:pathLst>
                  <a:path w="91" h="72">
                    <a:moveTo>
                      <a:pt x="91" y="0"/>
                    </a:moveTo>
                    <a:lnTo>
                      <a:pt x="15" y="72"/>
                    </a:lnTo>
                    <a:lnTo>
                      <a:pt x="8" y="45"/>
                    </a:lnTo>
                    <a:lnTo>
                      <a:pt x="0" y="27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 flipV="1">
                <a:off x="4557600" y="2484360"/>
                <a:ext cx="1828800" cy="106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7" name=""/>
            <p:cNvGrpSpPr/>
            <p:nvPr/>
          </p:nvGrpSpPr>
          <p:grpSpPr>
            <a:xfrm>
              <a:off x="4619520" y="2857680"/>
              <a:ext cx="1922400" cy="674640"/>
              <a:chOff x="4619520" y="2857680"/>
              <a:chExt cx="1922400" cy="674640"/>
            </a:xfrm>
          </p:grpSpPr>
          <p:sp>
            <p:nvSpPr>
              <p:cNvPr id="6218" name=""/>
              <p:cNvSpPr/>
              <p:nvPr/>
            </p:nvSpPr>
            <p:spPr>
              <a:xfrm>
                <a:off x="6386400" y="3446640"/>
                <a:ext cx="155520" cy="85680"/>
              </a:xfrm>
              <a:custGeom>
                <a:avLst/>
                <a:gdLst/>
                <a:ahLst/>
                <a:rect l="l" t="t" r="r" b="b"/>
                <a:pathLst>
                  <a:path w="98" h="54">
                    <a:moveTo>
                      <a:pt x="98" y="54"/>
                    </a:moveTo>
                    <a:lnTo>
                      <a:pt x="0" y="54"/>
                    </a:lnTo>
                    <a:lnTo>
                      <a:pt x="7" y="27"/>
                    </a:lnTo>
                    <a:lnTo>
                      <a:pt x="15" y="0"/>
                    </a:lnTo>
                    <a:lnTo>
                      <a:pt x="9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4619520" y="2857680"/>
                <a:ext cx="1778040" cy="63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0" name=""/>
            <p:cNvGrpSpPr/>
            <p:nvPr/>
          </p:nvGrpSpPr>
          <p:grpSpPr>
            <a:xfrm>
              <a:off x="5297400" y="1893960"/>
              <a:ext cx="71640" cy="1466640"/>
              <a:chOff x="5297400" y="1893960"/>
              <a:chExt cx="71640" cy="1466640"/>
            </a:xfrm>
          </p:grpSpPr>
          <p:sp>
            <p:nvSpPr>
              <p:cNvPr id="6221" name=""/>
              <p:cNvSpPr/>
              <p:nvPr/>
            </p:nvSpPr>
            <p:spPr>
              <a:xfrm>
                <a:off x="5297400" y="1893960"/>
                <a:ext cx="71640" cy="172800"/>
              </a:xfrm>
              <a:custGeom>
                <a:avLst/>
                <a:gdLst/>
                <a:ahLst/>
                <a:rect l="l" t="t" r="r" b="b"/>
                <a:pathLst>
                  <a:path w="45" h="109">
                    <a:moveTo>
                      <a:pt x="23" y="0"/>
                    </a:moveTo>
                    <a:lnTo>
                      <a:pt x="45" y="109"/>
                    </a:lnTo>
                    <a:lnTo>
                      <a:pt x="23" y="109"/>
                    </a:lnTo>
                    <a:lnTo>
                      <a:pt x="0" y="10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 flipV="1">
                <a:off x="5334120" y="2066760"/>
                <a:ext cx="1440" cy="12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3" name=""/>
            <p:cNvGrpSpPr/>
            <p:nvPr/>
          </p:nvGrpSpPr>
          <p:grpSpPr>
            <a:xfrm>
              <a:off x="4780440" y="1419120"/>
              <a:ext cx="796320" cy="401040"/>
              <a:chOff x="4780440" y="1419120"/>
              <a:chExt cx="796320" cy="401040"/>
            </a:xfrm>
          </p:grpSpPr>
          <p:sp>
            <p:nvSpPr>
              <p:cNvPr id="6224" name=""/>
              <p:cNvSpPr/>
              <p:nvPr/>
            </p:nvSpPr>
            <p:spPr>
              <a:xfrm>
                <a:off x="4780440" y="1576440"/>
                <a:ext cx="796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| O( u,v) 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4915800" y="1419120"/>
                <a:ext cx="21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^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6" name=""/>
            <p:cNvSpPr/>
            <p:nvPr/>
          </p:nvSpPr>
          <p:spPr>
            <a:xfrm>
              <a:off x="5328720" y="1562040"/>
              <a:ext cx="71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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7" name=""/>
            <p:cNvGrpSpPr/>
            <p:nvPr/>
          </p:nvGrpSpPr>
          <p:grpSpPr>
            <a:xfrm>
              <a:off x="5706000" y="1419120"/>
              <a:ext cx="680040" cy="401040"/>
              <a:chOff x="5706000" y="1419120"/>
              <a:chExt cx="680040" cy="401040"/>
            </a:xfrm>
          </p:grpSpPr>
          <p:sp>
            <p:nvSpPr>
              <p:cNvPr id="6228" name=""/>
              <p:cNvSpPr/>
              <p:nvPr/>
            </p:nvSpPr>
            <p:spPr>
              <a:xfrm>
                <a:off x="5706000" y="1576440"/>
                <a:ext cx="419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| O(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5988960" y="1576440"/>
                <a:ext cx="214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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6123240" y="1576440"/>
                <a:ext cx="262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) 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5825520" y="1419120"/>
                <a:ext cx="21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^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2" name=""/>
            <p:cNvSpPr/>
            <p:nvPr/>
          </p:nvSpPr>
          <p:spPr>
            <a:xfrm>
              <a:off x="4437000" y="2627280"/>
              <a:ext cx="1817640" cy="10350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5334120" y="2224080"/>
              <a:ext cx="825480" cy="1179360"/>
            </a:xfrm>
            <a:custGeom>
              <a:avLst/>
              <a:gdLst/>
              <a:ahLst/>
              <a:rect l="l" t="t" r="r" b="b"/>
              <a:pathLst>
                <a:path w="520" h="743">
                  <a:moveTo>
                    <a:pt x="15" y="0"/>
                  </a:moveTo>
                  <a:lnTo>
                    <a:pt x="90" y="45"/>
                  </a:lnTo>
                  <a:lnTo>
                    <a:pt x="120" y="127"/>
                  </a:lnTo>
                  <a:lnTo>
                    <a:pt x="150" y="218"/>
                  </a:lnTo>
                  <a:lnTo>
                    <a:pt x="173" y="308"/>
                  </a:lnTo>
                  <a:lnTo>
                    <a:pt x="218" y="453"/>
                  </a:lnTo>
                  <a:lnTo>
                    <a:pt x="256" y="634"/>
                  </a:lnTo>
                  <a:lnTo>
                    <a:pt x="309" y="598"/>
                  </a:lnTo>
                  <a:lnTo>
                    <a:pt x="361" y="598"/>
                  </a:lnTo>
                  <a:lnTo>
                    <a:pt x="399" y="661"/>
                  </a:lnTo>
                  <a:lnTo>
                    <a:pt x="429" y="716"/>
                  </a:lnTo>
                  <a:lnTo>
                    <a:pt x="474" y="689"/>
                  </a:lnTo>
                  <a:lnTo>
                    <a:pt x="520" y="743"/>
                  </a:lnTo>
                  <a:lnTo>
                    <a:pt x="7" y="526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5334120" y="2224080"/>
              <a:ext cx="825480" cy="1179360"/>
            </a:xfrm>
            <a:custGeom>
              <a:avLst/>
              <a:gdLst/>
              <a:ahLst/>
              <a:rect l="l" t="t" r="r" b="b"/>
              <a:pathLst>
                <a:path w="520" h="743">
                  <a:moveTo>
                    <a:pt x="15" y="0"/>
                  </a:moveTo>
                  <a:lnTo>
                    <a:pt x="90" y="45"/>
                  </a:lnTo>
                  <a:lnTo>
                    <a:pt x="120" y="127"/>
                  </a:lnTo>
                  <a:lnTo>
                    <a:pt x="150" y="218"/>
                  </a:lnTo>
                  <a:lnTo>
                    <a:pt x="173" y="308"/>
                  </a:lnTo>
                  <a:lnTo>
                    <a:pt x="218" y="453"/>
                  </a:lnTo>
                  <a:lnTo>
                    <a:pt x="256" y="634"/>
                  </a:lnTo>
                  <a:lnTo>
                    <a:pt x="309" y="598"/>
                  </a:lnTo>
                  <a:lnTo>
                    <a:pt x="361" y="598"/>
                  </a:lnTo>
                  <a:lnTo>
                    <a:pt x="399" y="661"/>
                  </a:lnTo>
                  <a:lnTo>
                    <a:pt x="429" y="716"/>
                  </a:lnTo>
                  <a:lnTo>
                    <a:pt x="474" y="689"/>
                  </a:lnTo>
                  <a:lnTo>
                    <a:pt x="520" y="743"/>
                  </a:lnTo>
                  <a:lnTo>
                    <a:pt x="7" y="52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4640400" y="2828880"/>
              <a:ext cx="1063440" cy="733320"/>
            </a:xfrm>
            <a:custGeom>
              <a:avLst/>
              <a:gdLst/>
              <a:ahLst/>
              <a:rect l="l" t="t" r="r" b="b"/>
              <a:pathLst>
                <a:path w="670" h="462">
                  <a:moveTo>
                    <a:pt x="180" y="0"/>
                  </a:moveTo>
                  <a:lnTo>
                    <a:pt x="113" y="36"/>
                  </a:lnTo>
                  <a:lnTo>
                    <a:pt x="30" y="135"/>
                  </a:lnTo>
                  <a:lnTo>
                    <a:pt x="83" y="244"/>
                  </a:lnTo>
                  <a:lnTo>
                    <a:pt x="226" y="326"/>
                  </a:lnTo>
                  <a:lnTo>
                    <a:pt x="505" y="389"/>
                  </a:lnTo>
                  <a:lnTo>
                    <a:pt x="595" y="362"/>
                  </a:lnTo>
                  <a:lnTo>
                    <a:pt x="670" y="425"/>
                  </a:lnTo>
                  <a:lnTo>
                    <a:pt x="512" y="462"/>
                  </a:lnTo>
                  <a:lnTo>
                    <a:pt x="309" y="416"/>
                  </a:lnTo>
                  <a:lnTo>
                    <a:pt x="67" y="299"/>
                  </a:lnTo>
                  <a:lnTo>
                    <a:pt x="7" y="208"/>
                  </a:lnTo>
                  <a:lnTo>
                    <a:pt x="0" y="135"/>
                  </a:lnTo>
                  <a:lnTo>
                    <a:pt x="105" y="63"/>
                  </a:lnTo>
                  <a:lnTo>
                    <a:pt x="18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5632560" y="2843280"/>
              <a:ext cx="239760" cy="344520"/>
            </a:xfrm>
            <a:custGeom>
              <a:avLst/>
              <a:gdLst/>
              <a:ahLst/>
              <a:rect l="l" t="t" r="r" b="b"/>
              <a:pathLst>
                <a:path w="151" h="217">
                  <a:moveTo>
                    <a:pt x="0" y="0"/>
                  </a:moveTo>
                  <a:lnTo>
                    <a:pt x="98" y="18"/>
                  </a:lnTo>
                  <a:lnTo>
                    <a:pt x="143" y="90"/>
                  </a:lnTo>
                  <a:lnTo>
                    <a:pt x="151" y="172"/>
                  </a:lnTo>
                  <a:lnTo>
                    <a:pt x="106" y="217"/>
                  </a:lnTo>
                  <a:lnTo>
                    <a:pt x="106" y="145"/>
                  </a:lnTo>
                  <a:lnTo>
                    <a:pt x="83" y="90"/>
                  </a:lnTo>
                  <a:lnTo>
                    <a:pt x="30" y="6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4938840" y="2252520"/>
              <a:ext cx="371520" cy="949320"/>
            </a:xfrm>
            <a:custGeom>
              <a:avLst/>
              <a:gdLst/>
              <a:ahLst/>
              <a:rect l="l" t="t" r="r" b="b"/>
              <a:pathLst>
                <a:path w="234" h="598">
                  <a:moveTo>
                    <a:pt x="234" y="0"/>
                  </a:moveTo>
                  <a:lnTo>
                    <a:pt x="158" y="64"/>
                  </a:lnTo>
                  <a:lnTo>
                    <a:pt x="98" y="218"/>
                  </a:lnTo>
                  <a:lnTo>
                    <a:pt x="75" y="354"/>
                  </a:lnTo>
                  <a:lnTo>
                    <a:pt x="30" y="498"/>
                  </a:lnTo>
                  <a:lnTo>
                    <a:pt x="0" y="517"/>
                  </a:lnTo>
                  <a:lnTo>
                    <a:pt x="83" y="580"/>
                  </a:lnTo>
                  <a:lnTo>
                    <a:pt x="188" y="598"/>
                  </a:lnTo>
                  <a:lnTo>
                    <a:pt x="173" y="435"/>
                  </a:lnTo>
                  <a:lnTo>
                    <a:pt x="166" y="290"/>
                  </a:lnTo>
                  <a:lnTo>
                    <a:pt x="234" y="46"/>
                  </a:lnTo>
                  <a:lnTo>
                    <a:pt x="234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8" name=""/>
          <p:cNvGrpSpPr/>
          <p:nvPr/>
        </p:nvGrpSpPr>
        <p:grpSpPr>
          <a:xfrm>
            <a:off x="7151760" y="1763640"/>
            <a:ext cx="1255680" cy="1798200"/>
            <a:chOff x="7151760" y="1763640"/>
            <a:chExt cx="1255680" cy="1798200"/>
          </a:xfrm>
        </p:grpSpPr>
        <p:grpSp>
          <p:nvGrpSpPr>
            <p:cNvPr id="6239" name=""/>
            <p:cNvGrpSpPr/>
            <p:nvPr/>
          </p:nvGrpSpPr>
          <p:grpSpPr>
            <a:xfrm>
              <a:off x="7151760" y="3259080"/>
              <a:ext cx="1255680" cy="44640"/>
              <a:chOff x="7151760" y="3259080"/>
              <a:chExt cx="1255680" cy="44640"/>
            </a:xfrm>
          </p:grpSpPr>
          <p:sp>
            <p:nvSpPr>
              <p:cNvPr id="6240" name=""/>
              <p:cNvSpPr/>
              <p:nvPr/>
            </p:nvSpPr>
            <p:spPr>
              <a:xfrm>
                <a:off x="8335800" y="3259080"/>
                <a:ext cx="71640" cy="4464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45" y="9"/>
                    </a:moveTo>
                    <a:lnTo>
                      <a:pt x="0" y="28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4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7151760" y="3273480"/>
                <a:ext cx="1184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2" name=""/>
            <p:cNvGrpSpPr/>
            <p:nvPr/>
          </p:nvGrpSpPr>
          <p:grpSpPr>
            <a:xfrm>
              <a:off x="7319880" y="1936800"/>
              <a:ext cx="34920" cy="1625040"/>
              <a:chOff x="7319880" y="1936800"/>
              <a:chExt cx="34920" cy="1625040"/>
            </a:xfrm>
          </p:grpSpPr>
          <p:sp>
            <p:nvSpPr>
              <p:cNvPr id="6243" name=""/>
              <p:cNvSpPr/>
              <p:nvPr/>
            </p:nvSpPr>
            <p:spPr>
              <a:xfrm>
                <a:off x="7319880" y="1936800"/>
                <a:ext cx="34920" cy="85680"/>
              </a:xfrm>
              <a:custGeom>
                <a:avLst/>
                <a:gdLst/>
                <a:ahLst/>
                <a:rect l="l" t="t" r="r" b="b"/>
                <a:pathLst>
                  <a:path w="22" h="54">
                    <a:moveTo>
                      <a:pt x="7" y="0"/>
                    </a:moveTo>
                    <a:lnTo>
                      <a:pt x="22" y="54"/>
                    </a:lnTo>
                    <a:lnTo>
                      <a:pt x="7" y="54"/>
                    </a:lnTo>
                    <a:lnTo>
                      <a:pt x="0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 flipV="1">
                <a:off x="7331040" y="2022120"/>
                <a:ext cx="1800" cy="153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5" name=""/>
            <p:cNvSpPr/>
            <p:nvPr/>
          </p:nvSpPr>
          <p:spPr>
            <a:xfrm>
              <a:off x="7319880" y="2311560"/>
              <a:ext cx="920880" cy="992160"/>
            </a:xfrm>
            <a:custGeom>
              <a:avLst/>
              <a:gdLst/>
              <a:ahLst/>
              <a:rect l="l" t="t" r="r" b="b"/>
              <a:pathLst>
                <a:path w="580" h="625">
                  <a:moveTo>
                    <a:pt x="0" y="0"/>
                  </a:moveTo>
                  <a:lnTo>
                    <a:pt x="83" y="36"/>
                  </a:lnTo>
                  <a:lnTo>
                    <a:pt x="150" y="126"/>
                  </a:lnTo>
                  <a:lnTo>
                    <a:pt x="218" y="317"/>
                  </a:lnTo>
                  <a:lnTo>
                    <a:pt x="301" y="561"/>
                  </a:lnTo>
                  <a:lnTo>
                    <a:pt x="331" y="606"/>
                  </a:lnTo>
                  <a:lnTo>
                    <a:pt x="384" y="516"/>
                  </a:lnTo>
                  <a:lnTo>
                    <a:pt x="437" y="498"/>
                  </a:lnTo>
                  <a:lnTo>
                    <a:pt x="505" y="552"/>
                  </a:lnTo>
                  <a:lnTo>
                    <a:pt x="535" y="625"/>
                  </a:lnTo>
                  <a:lnTo>
                    <a:pt x="565" y="570"/>
                  </a:lnTo>
                  <a:lnTo>
                    <a:pt x="580" y="57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6" name=""/>
            <p:cNvGrpSpPr/>
            <p:nvPr/>
          </p:nvGrpSpPr>
          <p:grpSpPr>
            <a:xfrm>
              <a:off x="7404480" y="1763640"/>
              <a:ext cx="669240" cy="402480"/>
              <a:chOff x="7404480" y="1763640"/>
              <a:chExt cx="669240" cy="402480"/>
            </a:xfrm>
          </p:grpSpPr>
          <p:sp>
            <p:nvSpPr>
              <p:cNvPr id="6247" name=""/>
              <p:cNvSpPr/>
              <p:nvPr/>
            </p:nvSpPr>
            <p:spPr>
              <a:xfrm>
                <a:off x="7404480" y="1922400"/>
                <a:ext cx="369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| O(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7754400" y="1922400"/>
                <a:ext cx="111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7810920" y="1922400"/>
                <a:ext cx="262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) |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7524000" y="1763640"/>
                <a:ext cx="21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^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51" name=""/>
          <p:cNvSpPr/>
          <p:nvPr/>
        </p:nvSpPr>
        <p:spPr>
          <a:xfrm>
            <a:off x="8185320" y="2928960"/>
            <a:ext cx="639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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2" name=""/>
          <p:cNvGrpSpPr/>
          <p:nvPr/>
        </p:nvGrpSpPr>
        <p:grpSpPr>
          <a:xfrm>
            <a:off x="571680" y="5110200"/>
            <a:ext cx="3488040" cy="1164960"/>
            <a:chOff x="571680" y="5110200"/>
            <a:chExt cx="3488040" cy="1164960"/>
          </a:xfrm>
        </p:grpSpPr>
        <p:sp>
          <p:nvSpPr>
            <p:cNvPr id="6253" name=""/>
            <p:cNvSpPr/>
            <p:nvPr/>
          </p:nvSpPr>
          <p:spPr>
            <a:xfrm>
              <a:off x="571680" y="5573520"/>
              <a:ext cx="14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715680" y="56102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763920" y="5586480"/>
              <a:ext cx="288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1014840" y="5538600"/>
              <a:ext cx="354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|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1364040" y="55386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1387440" y="5443560"/>
              <a:ext cx="140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Times New Roman"/>
                </a:rPr>
                <a:t>^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1520640" y="5538600"/>
              <a:ext cx="142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1652760" y="540684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1663200" y="568152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1652760" y="5645160"/>
              <a:ext cx="144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1796400" y="5538600"/>
              <a:ext cx="570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) |  =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2337120" y="584820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337120" y="563400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337120" y="537048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2337120" y="515628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3813480" y="584820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3813480" y="563400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3813480" y="537048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3813480" y="5156280"/>
              <a:ext cx="176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2481120" y="5538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2589480" y="52401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2.J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2852280" y="52988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2936160" y="5240160"/>
              <a:ext cx="335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( </a:t>
              </a:r>
              <a:r>
                <a:rPr b="0" lang="fr-FR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3297240" y="5110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3309480" y="538308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3297600" y="534816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3441600" y="52401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3513240" y="5240160"/>
              <a:ext cx="125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3634200" y="52401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2888640" y="5765760"/>
              <a:ext cx="194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3068640" y="56340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3080880" y="5908680"/>
              <a:ext cx="13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3069000" y="587196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3213000" y="57657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3286440" y="5765760"/>
              <a:ext cx="125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2589480" y="5645160"/>
              <a:ext cx="1116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3705120" y="5538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3957480" y="5538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4017960" y="5586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92" name="" descr=""/>
          <p:cNvPicPr/>
          <p:nvPr/>
        </p:nvPicPr>
        <p:blipFill>
          <a:blip r:embed="rId6"/>
          <a:stretch/>
        </p:blipFill>
        <p:spPr>
          <a:xfrm>
            <a:off x="4210200" y="4086360"/>
            <a:ext cx="4392360" cy="2206440"/>
          </a:xfrm>
          <a:prstGeom prst="rect">
            <a:avLst/>
          </a:prstGeom>
          <a:ln w="0">
            <a:noFill/>
          </a:ln>
        </p:spPr>
      </p:pic>
      <p:sp>
        <p:nvSpPr>
          <p:cNvPr id="6293" name=""/>
          <p:cNvSpPr/>
          <p:nvPr/>
        </p:nvSpPr>
        <p:spPr>
          <a:xfrm>
            <a:off x="7189920" y="3363840"/>
            <a:ext cx="308592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1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premier zéro p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 = 1. 22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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"/>
          <p:cNvSpPr/>
          <p:nvPr/>
        </p:nvSpPr>
        <p:spPr>
          <a:xfrm>
            <a:off x="685800" y="609480"/>
            <a:ext cx="7772400" cy="50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ction de visibilité en module : nappes de visi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5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477200" cy="608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omic Sans MS"/>
              </a:rPr>
              <a:t>un exemple non réaliste mais uti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6" name=""/>
          <p:cNvGrpSpPr/>
          <p:nvPr/>
        </p:nvGrpSpPr>
        <p:grpSpPr>
          <a:xfrm>
            <a:off x="-15840" y="1324080"/>
            <a:ext cx="8076960" cy="2132280"/>
            <a:chOff x="-15840" y="1324080"/>
            <a:chExt cx="8076960" cy="2132280"/>
          </a:xfrm>
        </p:grpSpPr>
        <p:sp>
          <p:nvSpPr>
            <p:cNvPr id="6297" name=""/>
            <p:cNvSpPr/>
            <p:nvPr/>
          </p:nvSpPr>
          <p:spPr>
            <a:xfrm>
              <a:off x="5332320" y="1324080"/>
              <a:ext cx="2728800" cy="21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uissances collecté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* =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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.  F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env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=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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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. F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e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total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= P* + P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e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1558080" y="1338120"/>
              <a:ext cx="2590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= O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+ O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env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99" name="" descr=""/>
            <p:cNvPicPr/>
            <p:nvPr/>
          </p:nvPicPr>
          <p:blipFill>
            <a:blip r:embed="rId1"/>
            <a:stretch/>
          </p:blipFill>
          <p:spPr>
            <a:xfrm>
              <a:off x="-15840" y="1336680"/>
              <a:ext cx="2266920" cy="141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00" name=""/>
          <p:cNvGrpSpPr/>
          <p:nvPr/>
        </p:nvGrpSpPr>
        <p:grpSpPr>
          <a:xfrm>
            <a:off x="372960" y="2567160"/>
            <a:ext cx="5311800" cy="1637280"/>
            <a:chOff x="372960" y="2567160"/>
            <a:chExt cx="5311800" cy="1637280"/>
          </a:xfrm>
        </p:grpSpPr>
        <p:sp>
          <p:nvSpPr>
            <p:cNvPr id="6301" name=""/>
            <p:cNvSpPr/>
            <p:nvPr/>
          </p:nvSpPr>
          <p:spPr>
            <a:xfrm>
              <a:off x="372960" y="2987280"/>
              <a:ext cx="507960" cy="1886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2" name=""/>
            <p:cNvGrpSpPr/>
            <p:nvPr/>
          </p:nvGrpSpPr>
          <p:grpSpPr>
            <a:xfrm>
              <a:off x="1743120" y="2567160"/>
              <a:ext cx="3941640" cy="1637280"/>
              <a:chOff x="1743120" y="2567160"/>
              <a:chExt cx="3941640" cy="1637280"/>
            </a:xfrm>
          </p:grpSpPr>
          <p:sp>
            <p:nvSpPr>
              <p:cNvPr id="6303" name=""/>
              <p:cNvSpPr/>
              <p:nvPr/>
            </p:nvSpPr>
            <p:spPr>
              <a:xfrm>
                <a:off x="1817640" y="4032000"/>
                <a:ext cx="368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 flipV="1">
                <a:off x="3710160" y="3072960"/>
                <a:ext cx="0" cy="11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05" name=""/>
              <p:cNvGrpSpPr/>
              <p:nvPr/>
            </p:nvGrpSpPr>
            <p:grpSpPr>
              <a:xfrm>
                <a:off x="1743120" y="3436920"/>
                <a:ext cx="3941640" cy="726120"/>
                <a:chOff x="1743120" y="3436920"/>
                <a:chExt cx="3941640" cy="726120"/>
              </a:xfrm>
            </p:grpSpPr>
            <p:sp>
              <p:nvSpPr>
                <p:cNvPr id="6306" name=""/>
                <p:cNvSpPr/>
                <p:nvPr/>
              </p:nvSpPr>
              <p:spPr>
                <a:xfrm>
                  <a:off x="3710160" y="3442680"/>
                  <a:ext cx="1974600" cy="720360"/>
                </a:xfrm>
                <a:custGeom>
                  <a:avLst/>
                  <a:gdLst/>
                  <a:ahLst/>
                  <a:rect l="l" t="t" r="r" b="b"/>
                  <a:pathLst>
                    <a:path w="1244" h="454">
                      <a:moveTo>
                        <a:pt x="0" y="4"/>
                      </a:moveTo>
                      <a:cubicBezTo>
                        <a:pt x="30" y="2"/>
                        <a:pt x="61" y="0"/>
                        <a:pt x="128" y="32"/>
                      </a:cubicBezTo>
                      <a:cubicBezTo>
                        <a:pt x="195" y="64"/>
                        <a:pt x="302" y="129"/>
                        <a:pt x="403" y="196"/>
                      </a:cubicBezTo>
                      <a:cubicBezTo>
                        <a:pt x="504" y="263"/>
                        <a:pt x="633" y="414"/>
                        <a:pt x="732" y="434"/>
                      </a:cubicBezTo>
                      <a:cubicBezTo>
                        <a:pt x="831" y="454"/>
                        <a:pt x="912" y="313"/>
                        <a:pt x="997" y="315"/>
                      </a:cubicBezTo>
                      <a:cubicBezTo>
                        <a:pt x="1082" y="317"/>
                        <a:pt x="1193" y="416"/>
                        <a:pt x="1244" y="443"/>
                      </a:cubicBezTo>
                    </a:path>
                  </a:pathLst>
                </a:custGeom>
                <a:noFill/>
                <a:ln w="38160">
                  <a:solidFill>
                    <a:srgbClr val="33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7" name=""/>
                <p:cNvSpPr/>
                <p:nvPr/>
              </p:nvSpPr>
              <p:spPr>
                <a:xfrm flipH="1">
                  <a:off x="1743120" y="3436920"/>
                  <a:ext cx="1974960" cy="720360"/>
                </a:xfrm>
                <a:custGeom>
                  <a:avLst/>
                  <a:gdLst/>
                  <a:ahLst/>
                  <a:rect l="l" t="t" r="r" b="b"/>
                  <a:pathLst>
                    <a:path w="1244" h="454">
                      <a:moveTo>
                        <a:pt x="0" y="4"/>
                      </a:moveTo>
                      <a:cubicBezTo>
                        <a:pt x="30" y="2"/>
                        <a:pt x="61" y="0"/>
                        <a:pt x="128" y="32"/>
                      </a:cubicBezTo>
                      <a:cubicBezTo>
                        <a:pt x="195" y="64"/>
                        <a:pt x="302" y="129"/>
                        <a:pt x="403" y="196"/>
                      </a:cubicBezTo>
                      <a:cubicBezTo>
                        <a:pt x="504" y="263"/>
                        <a:pt x="633" y="414"/>
                        <a:pt x="732" y="434"/>
                      </a:cubicBezTo>
                      <a:cubicBezTo>
                        <a:pt x="831" y="454"/>
                        <a:pt x="912" y="313"/>
                        <a:pt x="997" y="315"/>
                      </a:cubicBezTo>
                      <a:cubicBezTo>
                        <a:pt x="1082" y="317"/>
                        <a:pt x="1193" y="416"/>
                        <a:pt x="1244" y="443"/>
                      </a:cubicBezTo>
                    </a:path>
                  </a:pathLst>
                </a:custGeom>
                <a:noFill/>
                <a:ln w="38160">
                  <a:solidFill>
                    <a:srgbClr val="33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08" name=""/>
              <p:cNvSpPr/>
              <p:nvPr/>
            </p:nvSpPr>
            <p:spPr>
              <a:xfrm>
                <a:off x="3926880" y="3236760"/>
                <a:ext cx="474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*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3391920" y="2567160"/>
                <a:ext cx="831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F(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*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3681360" y="3392280"/>
                <a:ext cx="88920" cy="88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5150520" y="3587760"/>
                <a:ext cx="5115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Comic Sans MS"/>
                  </a:rPr>
                  <a:t>B/</a:t>
                </a:r>
                <a:r>
                  <a:rPr b="1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2" name=""/>
            <p:cNvSpPr/>
            <p:nvPr/>
          </p:nvSpPr>
          <p:spPr>
            <a:xfrm>
              <a:off x="1311120" y="3317760"/>
              <a:ext cx="1214640" cy="485280"/>
            </a:xfrm>
            <a:prstGeom prst="leftRightArrow">
              <a:avLst>
                <a:gd name="adj1" fmla="val 50000"/>
                <a:gd name="adj2" fmla="val 4982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3" name=""/>
          <p:cNvGrpSpPr/>
          <p:nvPr/>
        </p:nvGrpSpPr>
        <p:grpSpPr>
          <a:xfrm>
            <a:off x="-577800" y="4226040"/>
            <a:ext cx="6299280" cy="1556640"/>
            <a:chOff x="-577800" y="4226040"/>
            <a:chExt cx="6299280" cy="1556640"/>
          </a:xfrm>
        </p:grpSpPr>
        <p:sp>
          <p:nvSpPr>
            <p:cNvPr id="6314" name=""/>
            <p:cNvSpPr/>
            <p:nvPr/>
          </p:nvSpPr>
          <p:spPr>
            <a:xfrm>
              <a:off x="-577800" y="4226040"/>
              <a:ext cx="3119400" cy="914400"/>
            </a:xfrm>
            <a:prstGeom prst="donut">
              <a:avLst>
                <a:gd name="adj" fmla="val 1893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2949480" y="5194440"/>
              <a:ext cx="27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 flipV="1">
              <a:off x="4284720" y="4535640"/>
              <a:ext cx="0" cy="11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4117680" y="4238640"/>
              <a:ext cx="1000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F(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env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8" name=""/>
            <p:cNvGrpSpPr/>
            <p:nvPr/>
          </p:nvGrpSpPr>
          <p:grpSpPr>
            <a:xfrm>
              <a:off x="3814920" y="4691160"/>
              <a:ext cx="966240" cy="642600"/>
              <a:chOff x="3814920" y="4691160"/>
              <a:chExt cx="966240" cy="642600"/>
            </a:xfrm>
          </p:grpSpPr>
          <p:sp>
            <p:nvSpPr>
              <p:cNvPr id="6319" name=""/>
              <p:cNvSpPr/>
              <p:nvPr/>
            </p:nvSpPr>
            <p:spPr>
              <a:xfrm flipH="1">
                <a:off x="3814920" y="4699080"/>
                <a:ext cx="482400" cy="634680"/>
              </a:xfrm>
              <a:custGeom>
                <a:avLst/>
                <a:gdLst/>
                <a:ahLst/>
                <a:rect l="l" t="t" r="r" b="b"/>
                <a:pathLst>
                  <a:path w="1244" h="454">
                    <a:moveTo>
                      <a:pt x="0" y="4"/>
                    </a:moveTo>
                    <a:cubicBezTo>
                      <a:pt x="30" y="2"/>
                      <a:pt x="61" y="0"/>
                      <a:pt x="128" y="32"/>
                    </a:cubicBezTo>
                    <a:cubicBezTo>
                      <a:pt x="195" y="64"/>
                      <a:pt x="302" y="129"/>
                      <a:pt x="403" y="196"/>
                    </a:cubicBezTo>
                    <a:cubicBezTo>
                      <a:pt x="504" y="263"/>
                      <a:pt x="633" y="414"/>
                      <a:pt x="732" y="434"/>
                    </a:cubicBezTo>
                    <a:cubicBezTo>
                      <a:pt x="831" y="454"/>
                      <a:pt x="912" y="313"/>
                      <a:pt x="997" y="315"/>
                    </a:cubicBezTo>
                    <a:cubicBezTo>
                      <a:pt x="1082" y="317"/>
                      <a:pt x="1193" y="416"/>
                      <a:pt x="1244" y="44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298760" y="4691160"/>
                <a:ext cx="482400" cy="634680"/>
              </a:xfrm>
              <a:custGeom>
                <a:avLst/>
                <a:gdLst/>
                <a:ahLst/>
                <a:rect l="l" t="t" r="r" b="b"/>
                <a:pathLst>
                  <a:path w="1244" h="454">
                    <a:moveTo>
                      <a:pt x="0" y="4"/>
                    </a:moveTo>
                    <a:cubicBezTo>
                      <a:pt x="30" y="2"/>
                      <a:pt x="61" y="0"/>
                      <a:pt x="128" y="32"/>
                    </a:cubicBezTo>
                    <a:cubicBezTo>
                      <a:pt x="195" y="64"/>
                      <a:pt x="302" y="129"/>
                      <a:pt x="403" y="196"/>
                    </a:cubicBezTo>
                    <a:cubicBezTo>
                      <a:pt x="504" y="263"/>
                      <a:pt x="633" y="414"/>
                      <a:pt x="732" y="434"/>
                    </a:cubicBezTo>
                    <a:cubicBezTo>
                      <a:pt x="831" y="454"/>
                      <a:pt x="912" y="313"/>
                      <a:pt x="997" y="315"/>
                    </a:cubicBezTo>
                    <a:cubicBezTo>
                      <a:pt x="1082" y="317"/>
                      <a:pt x="1193" y="416"/>
                      <a:pt x="1244" y="44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1" name=""/>
            <p:cNvGrpSpPr/>
            <p:nvPr/>
          </p:nvGrpSpPr>
          <p:grpSpPr>
            <a:xfrm>
              <a:off x="3710160" y="5029560"/>
              <a:ext cx="1140840" cy="526680"/>
              <a:chOff x="3710160" y="5029560"/>
              <a:chExt cx="1140840" cy="526680"/>
            </a:xfrm>
          </p:grpSpPr>
          <p:sp>
            <p:nvSpPr>
              <p:cNvPr id="6322" name=""/>
              <p:cNvSpPr/>
              <p:nvPr/>
            </p:nvSpPr>
            <p:spPr>
              <a:xfrm flipH="1" flipV="1">
                <a:off x="3710160" y="5029200"/>
                <a:ext cx="569520" cy="520200"/>
              </a:xfrm>
              <a:custGeom>
                <a:avLst/>
                <a:gdLst/>
                <a:ahLst/>
                <a:rect l="l" t="t" r="r" b="b"/>
                <a:pathLst>
                  <a:path w="1244" h="454">
                    <a:moveTo>
                      <a:pt x="0" y="4"/>
                    </a:moveTo>
                    <a:cubicBezTo>
                      <a:pt x="30" y="2"/>
                      <a:pt x="61" y="0"/>
                      <a:pt x="128" y="32"/>
                    </a:cubicBezTo>
                    <a:cubicBezTo>
                      <a:pt x="195" y="64"/>
                      <a:pt x="302" y="129"/>
                      <a:pt x="403" y="196"/>
                    </a:cubicBezTo>
                    <a:cubicBezTo>
                      <a:pt x="504" y="263"/>
                      <a:pt x="633" y="414"/>
                      <a:pt x="732" y="434"/>
                    </a:cubicBezTo>
                    <a:cubicBezTo>
                      <a:pt x="831" y="454"/>
                      <a:pt x="912" y="313"/>
                      <a:pt x="997" y="315"/>
                    </a:cubicBezTo>
                    <a:cubicBezTo>
                      <a:pt x="1082" y="317"/>
                      <a:pt x="1193" y="416"/>
                      <a:pt x="1244" y="44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 flipV="1">
                <a:off x="4281480" y="5035680"/>
                <a:ext cx="569520" cy="520200"/>
              </a:xfrm>
              <a:custGeom>
                <a:avLst/>
                <a:gdLst/>
                <a:ahLst/>
                <a:rect l="l" t="t" r="r" b="b"/>
                <a:pathLst>
                  <a:path w="1244" h="454">
                    <a:moveTo>
                      <a:pt x="0" y="4"/>
                    </a:moveTo>
                    <a:cubicBezTo>
                      <a:pt x="30" y="2"/>
                      <a:pt x="61" y="0"/>
                      <a:pt x="128" y="32"/>
                    </a:cubicBezTo>
                    <a:cubicBezTo>
                      <a:pt x="195" y="64"/>
                      <a:pt x="302" y="129"/>
                      <a:pt x="403" y="196"/>
                    </a:cubicBezTo>
                    <a:cubicBezTo>
                      <a:pt x="504" y="263"/>
                      <a:pt x="633" y="414"/>
                      <a:pt x="732" y="434"/>
                    </a:cubicBezTo>
                    <a:cubicBezTo>
                      <a:pt x="831" y="454"/>
                      <a:pt x="912" y="313"/>
                      <a:pt x="997" y="315"/>
                    </a:cubicBezTo>
                    <a:cubicBezTo>
                      <a:pt x="1082" y="317"/>
                      <a:pt x="1193" y="416"/>
                      <a:pt x="1244" y="44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4" name=""/>
            <p:cNvGrpSpPr/>
            <p:nvPr/>
          </p:nvGrpSpPr>
          <p:grpSpPr>
            <a:xfrm>
              <a:off x="3809520" y="5035680"/>
              <a:ext cx="967320" cy="208080"/>
              <a:chOff x="3809520" y="5035680"/>
              <a:chExt cx="967320" cy="208080"/>
            </a:xfrm>
          </p:grpSpPr>
          <p:sp>
            <p:nvSpPr>
              <p:cNvPr id="6325" name=""/>
              <p:cNvSpPr/>
              <p:nvPr/>
            </p:nvSpPr>
            <p:spPr>
              <a:xfrm flipH="1">
                <a:off x="3809160" y="5038200"/>
                <a:ext cx="482760" cy="205560"/>
              </a:xfrm>
              <a:custGeom>
                <a:avLst/>
                <a:gdLst/>
                <a:ahLst/>
                <a:rect l="l" t="t" r="r" b="b"/>
                <a:pathLst>
                  <a:path w="1244" h="454">
                    <a:moveTo>
                      <a:pt x="0" y="4"/>
                    </a:moveTo>
                    <a:cubicBezTo>
                      <a:pt x="30" y="2"/>
                      <a:pt x="61" y="0"/>
                      <a:pt x="128" y="32"/>
                    </a:cubicBezTo>
                    <a:cubicBezTo>
                      <a:pt x="195" y="64"/>
                      <a:pt x="302" y="129"/>
                      <a:pt x="403" y="196"/>
                    </a:cubicBezTo>
                    <a:cubicBezTo>
                      <a:pt x="504" y="263"/>
                      <a:pt x="633" y="414"/>
                      <a:pt x="732" y="434"/>
                    </a:cubicBezTo>
                    <a:cubicBezTo>
                      <a:pt x="831" y="454"/>
                      <a:pt x="912" y="313"/>
                      <a:pt x="997" y="315"/>
                    </a:cubicBezTo>
                    <a:cubicBezTo>
                      <a:pt x="1082" y="317"/>
                      <a:pt x="1193" y="416"/>
                      <a:pt x="1244" y="44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4294080" y="5035680"/>
                <a:ext cx="482760" cy="205560"/>
              </a:xfrm>
              <a:custGeom>
                <a:avLst/>
                <a:gdLst/>
                <a:ahLst/>
                <a:rect l="l" t="t" r="r" b="b"/>
                <a:pathLst>
                  <a:path w="1244" h="454">
                    <a:moveTo>
                      <a:pt x="0" y="4"/>
                    </a:moveTo>
                    <a:cubicBezTo>
                      <a:pt x="30" y="2"/>
                      <a:pt x="61" y="0"/>
                      <a:pt x="128" y="32"/>
                    </a:cubicBezTo>
                    <a:cubicBezTo>
                      <a:pt x="195" y="64"/>
                      <a:pt x="302" y="129"/>
                      <a:pt x="403" y="196"/>
                    </a:cubicBezTo>
                    <a:cubicBezTo>
                      <a:pt x="504" y="263"/>
                      <a:pt x="633" y="414"/>
                      <a:pt x="732" y="434"/>
                    </a:cubicBezTo>
                    <a:cubicBezTo>
                      <a:pt x="831" y="454"/>
                      <a:pt x="912" y="313"/>
                      <a:pt x="997" y="315"/>
                    </a:cubicBezTo>
                    <a:cubicBezTo>
                      <a:pt x="1082" y="317"/>
                      <a:pt x="1193" y="416"/>
                      <a:pt x="1244" y="44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7" name=""/>
            <p:cNvSpPr/>
            <p:nvPr/>
          </p:nvSpPr>
          <p:spPr>
            <a:xfrm>
              <a:off x="4413240" y="534204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4362120" y="462456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28800" y="5295960"/>
              <a:ext cx="29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camembert 3 – camember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2363760" y="4562640"/>
              <a:ext cx="1214640" cy="485640"/>
            </a:xfrm>
            <a:prstGeom prst="leftRightArrow">
              <a:avLst>
                <a:gd name="adj1" fmla="val 50000"/>
                <a:gd name="adj2" fmla="val 49790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1" name=""/>
          <p:cNvGrpSpPr/>
          <p:nvPr/>
        </p:nvGrpSpPr>
        <p:grpSpPr>
          <a:xfrm>
            <a:off x="1265400" y="3251160"/>
            <a:ext cx="7900920" cy="3597120"/>
            <a:chOff x="1265400" y="3251160"/>
            <a:chExt cx="7900920" cy="3597120"/>
          </a:xfrm>
        </p:grpSpPr>
        <p:grpSp>
          <p:nvGrpSpPr>
            <p:cNvPr id="6332" name=""/>
            <p:cNvGrpSpPr/>
            <p:nvPr/>
          </p:nvGrpSpPr>
          <p:grpSpPr>
            <a:xfrm>
              <a:off x="5732640" y="3251160"/>
              <a:ext cx="3433680" cy="3135240"/>
              <a:chOff x="5732640" y="3251160"/>
              <a:chExt cx="3433680" cy="3135240"/>
            </a:xfrm>
          </p:grpSpPr>
          <p:grpSp>
            <p:nvGrpSpPr>
              <p:cNvPr id="6333" name=""/>
              <p:cNvGrpSpPr/>
              <p:nvPr/>
            </p:nvGrpSpPr>
            <p:grpSpPr>
              <a:xfrm>
                <a:off x="6070680" y="3786120"/>
                <a:ext cx="2741400" cy="1836720"/>
                <a:chOff x="6070680" y="3786120"/>
                <a:chExt cx="2741400" cy="1836720"/>
              </a:xfrm>
            </p:grpSpPr>
            <p:sp>
              <p:nvSpPr>
                <p:cNvPr id="6334" name=""/>
                <p:cNvSpPr/>
                <p:nvPr/>
              </p:nvSpPr>
              <p:spPr>
                <a:xfrm>
                  <a:off x="7358040" y="3786120"/>
                  <a:ext cx="1454040" cy="1836720"/>
                </a:xfrm>
                <a:custGeom>
                  <a:avLst/>
                  <a:gdLst/>
                  <a:ahLst/>
                  <a:rect l="l" t="t" r="r" b="b"/>
                  <a:pathLst>
                    <a:path w="916" h="1157">
                      <a:moveTo>
                        <a:pt x="9" y="1064"/>
                      </a:moveTo>
                      <a:cubicBezTo>
                        <a:pt x="9" y="913"/>
                        <a:pt x="11" y="314"/>
                        <a:pt x="11" y="157"/>
                      </a:cubicBezTo>
                      <a:cubicBezTo>
                        <a:pt x="11" y="0"/>
                        <a:pt x="0" y="115"/>
                        <a:pt x="11" y="121"/>
                      </a:cubicBezTo>
                      <a:cubicBezTo>
                        <a:pt x="22" y="127"/>
                        <a:pt x="47" y="122"/>
                        <a:pt x="75" y="194"/>
                      </a:cubicBezTo>
                      <a:cubicBezTo>
                        <a:pt x="103" y="266"/>
                        <a:pt x="145" y="512"/>
                        <a:pt x="177" y="552"/>
                      </a:cubicBezTo>
                      <a:cubicBezTo>
                        <a:pt x="209" y="592"/>
                        <a:pt x="237" y="416"/>
                        <a:pt x="265" y="432"/>
                      </a:cubicBezTo>
                      <a:cubicBezTo>
                        <a:pt x="293" y="448"/>
                        <a:pt x="311" y="586"/>
                        <a:pt x="345" y="648"/>
                      </a:cubicBezTo>
                      <a:cubicBezTo>
                        <a:pt x="379" y="710"/>
                        <a:pt x="422" y="734"/>
                        <a:pt x="468" y="806"/>
                      </a:cubicBezTo>
                      <a:cubicBezTo>
                        <a:pt x="514" y="878"/>
                        <a:pt x="578" y="1071"/>
                        <a:pt x="623" y="1081"/>
                      </a:cubicBezTo>
                      <a:cubicBezTo>
                        <a:pt x="668" y="1091"/>
                        <a:pt x="696" y="857"/>
                        <a:pt x="737" y="864"/>
                      </a:cubicBezTo>
                      <a:cubicBezTo>
                        <a:pt x="778" y="871"/>
                        <a:pt x="840" y="1095"/>
                        <a:pt x="870" y="1126"/>
                      </a:cubicBezTo>
                      <a:cubicBezTo>
                        <a:pt x="900" y="1157"/>
                        <a:pt x="906" y="1068"/>
                        <a:pt x="916" y="1053"/>
                      </a:cubicBezTo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5" name=""/>
                <p:cNvSpPr/>
                <p:nvPr/>
              </p:nvSpPr>
              <p:spPr>
                <a:xfrm>
                  <a:off x="6070680" y="3828960"/>
                  <a:ext cx="1323720" cy="1658880"/>
                </a:xfrm>
                <a:custGeom>
                  <a:avLst/>
                  <a:gdLst/>
                  <a:ahLst/>
                  <a:rect l="l" t="t" r="r" b="b"/>
                  <a:pathLst>
                    <a:path w="834" h="1045">
                      <a:moveTo>
                        <a:pt x="820" y="1033"/>
                      </a:moveTo>
                      <a:cubicBezTo>
                        <a:pt x="821" y="886"/>
                        <a:pt x="822" y="306"/>
                        <a:pt x="823" y="153"/>
                      </a:cubicBezTo>
                      <a:cubicBezTo>
                        <a:pt x="824" y="0"/>
                        <a:pt x="834" y="111"/>
                        <a:pt x="823" y="117"/>
                      </a:cubicBezTo>
                      <a:cubicBezTo>
                        <a:pt x="812" y="123"/>
                        <a:pt x="789" y="120"/>
                        <a:pt x="759" y="190"/>
                      </a:cubicBezTo>
                      <a:cubicBezTo>
                        <a:pt x="729" y="260"/>
                        <a:pt x="673" y="498"/>
                        <a:pt x="644" y="537"/>
                      </a:cubicBezTo>
                      <a:cubicBezTo>
                        <a:pt x="615" y="576"/>
                        <a:pt x="600" y="446"/>
                        <a:pt x="586" y="427"/>
                      </a:cubicBezTo>
                      <a:cubicBezTo>
                        <a:pt x="572" y="408"/>
                        <a:pt x="578" y="387"/>
                        <a:pt x="560" y="425"/>
                      </a:cubicBezTo>
                      <a:cubicBezTo>
                        <a:pt x="542" y="463"/>
                        <a:pt x="508" y="590"/>
                        <a:pt x="476" y="653"/>
                      </a:cubicBezTo>
                      <a:cubicBezTo>
                        <a:pt x="444" y="716"/>
                        <a:pt x="409" y="738"/>
                        <a:pt x="366" y="802"/>
                      </a:cubicBezTo>
                      <a:cubicBezTo>
                        <a:pt x="323" y="866"/>
                        <a:pt x="262" y="1029"/>
                        <a:pt x="220" y="1037"/>
                      </a:cubicBezTo>
                      <a:cubicBezTo>
                        <a:pt x="178" y="1045"/>
                        <a:pt x="149" y="848"/>
                        <a:pt x="112" y="849"/>
                      </a:cubicBezTo>
                      <a:cubicBezTo>
                        <a:pt x="75" y="850"/>
                        <a:pt x="23" y="1001"/>
                        <a:pt x="0" y="1041"/>
                      </a:cubicBezTo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36" name=""/>
              <p:cNvSpPr/>
              <p:nvPr/>
            </p:nvSpPr>
            <p:spPr>
              <a:xfrm>
                <a:off x="6000840" y="3324240"/>
                <a:ext cx="0" cy="299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8083080" y="4622760"/>
                <a:ext cx="10404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*/P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tot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6060960" y="5475240"/>
                <a:ext cx="310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 flipV="1">
                <a:off x="7372440" y="3489480"/>
                <a:ext cx="0" cy="20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7372440" y="4311720"/>
                <a:ext cx="1582560" cy="1209600"/>
              </a:xfrm>
              <a:custGeom>
                <a:avLst/>
                <a:gdLst/>
                <a:ahLst/>
                <a:rect l="l" t="t" r="r" b="b"/>
                <a:pathLst>
                  <a:path w="997" h="386">
                    <a:moveTo>
                      <a:pt x="0" y="4"/>
                    </a:moveTo>
                    <a:cubicBezTo>
                      <a:pt x="30" y="2"/>
                      <a:pt x="61" y="0"/>
                      <a:pt x="128" y="32"/>
                    </a:cubicBezTo>
                    <a:cubicBezTo>
                      <a:pt x="195" y="64"/>
                      <a:pt x="322" y="140"/>
                      <a:pt x="403" y="196"/>
                    </a:cubicBezTo>
                    <a:cubicBezTo>
                      <a:pt x="484" y="252"/>
                      <a:pt x="559" y="357"/>
                      <a:pt x="612" y="369"/>
                    </a:cubicBezTo>
                    <a:cubicBezTo>
                      <a:pt x="665" y="381"/>
                      <a:pt x="681" y="267"/>
                      <a:pt x="722" y="268"/>
                    </a:cubicBezTo>
                    <a:cubicBezTo>
                      <a:pt x="763" y="269"/>
                      <a:pt x="813" y="370"/>
                      <a:pt x="859" y="378"/>
                    </a:cubicBezTo>
                    <a:cubicBezTo>
                      <a:pt x="905" y="386"/>
                      <a:pt x="974" y="325"/>
                      <a:pt x="997" y="315"/>
                    </a:cubicBezTo>
                  </a:path>
                </a:pathLst>
              </a:custGeom>
              <a:noFill/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8625240" y="5524560"/>
                <a:ext cx="5115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Comic Sans MS"/>
                  </a:rPr>
                  <a:t>B/</a:t>
                </a:r>
                <a:r>
                  <a:rPr b="1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6032520" y="4327560"/>
                <a:ext cx="1363680" cy="1193760"/>
              </a:xfrm>
              <a:custGeom>
                <a:avLst/>
                <a:gdLst/>
                <a:ahLst/>
                <a:rect l="l" t="t" r="r" b="b"/>
                <a:pathLst>
                  <a:path w="859" h="752">
                    <a:moveTo>
                      <a:pt x="859" y="8"/>
                    </a:moveTo>
                    <a:cubicBezTo>
                      <a:pt x="829" y="4"/>
                      <a:pt x="798" y="0"/>
                      <a:pt x="731" y="63"/>
                    </a:cubicBezTo>
                    <a:cubicBezTo>
                      <a:pt x="664" y="126"/>
                      <a:pt x="537" y="276"/>
                      <a:pt x="456" y="387"/>
                    </a:cubicBezTo>
                    <a:cubicBezTo>
                      <a:pt x="375" y="497"/>
                      <a:pt x="300" y="705"/>
                      <a:pt x="247" y="728"/>
                    </a:cubicBezTo>
                    <a:cubicBezTo>
                      <a:pt x="194" y="752"/>
                      <a:pt x="178" y="527"/>
                      <a:pt x="137" y="529"/>
                    </a:cubicBezTo>
                    <a:cubicBezTo>
                      <a:pt x="96" y="531"/>
                      <a:pt x="23" y="710"/>
                      <a:pt x="0" y="746"/>
                    </a:cubicBezTo>
                  </a:path>
                </a:pathLst>
              </a:custGeom>
              <a:noFill/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7482600" y="3251160"/>
                <a:ext cx="790200" cy="337320"/>
              </a:xfrm>
              <a:prstGeom prst="rect">
                <a:avLst/>
              </a:prstGeom>
              <a:noFill/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Comic Sans MS"/>
                  </a:rPr>
                  <a:t>V(B/</a:t>
                </a:r>
                <a:r>
                  <a:rPr b="1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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7327800" y="427500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45" name=""/>
              <p:cNvGrpSpPr/>
              <p:nvPr/>
            </p:nvGrpSpPr>
            <p:grpSpPr>
              <a:xfrm>
                <a:off x="6876720" y="3948120"/>
                <a:ext cx="989280" cy="778680"/>
                <a:chOff x="6876720" y="3948120"/>
                <a:chExt cx="989280" cy="778680"/>
              </a:xfrm>
            </p:grpSpPr>
            <p:sp>
              <p:nvSpPr>
                <p:cNvPr id="6346" name=""/>
                <p:cNvSpPr/>
                <p:nvPr/>
              </p:nvSpPr>
              <p:spPr>
                <a:xfrm>
                  <a:off x="7381800" y="3948120"/>
                  <a:ext cx="484200" cy="749160"/>
                </a:xfrm>
                <a:custGeom>
                  <a:avLst/>
                  <a:gdLst/>
                  <a:ahLst/>
                  <a:rect l="l" t="t" r="r" b="b"/>
                  <a:pathLst>
                    <a:path w="305" h="376">
                      <a:moveTo>
                        <a:pt x="0" y="11"/>
                      </a:moveTo>
                      <a:cubicBezTo>
                        <a:pt x="7" y="10"/>
                        <a:pt x="14" y="0"/>
                        <a:pt x="31" y="27"/>
                      </a:cubicBezTo>
                      <a:cubicBezTo>
                        <a:pt x="48" y="54"/>
                        <a:pt x="80" y="122"/>
                        <a:pt x="104" y="175"/>
                      </a:cubicBezTo>
                      <a:cubicBezTo>
                        <a:pt x="128" y="228"/>
                        <a:pt x="152" y="336"/>
                        <a:pt x="177" y="348"/>
                      </a:cubicBezTo>
                      <a:cubicBezTo>
                        <a:pt x="202" y="360"/>
                        <a:pt x="230" y="243"/>
                        <a:pt x="251" y="248"/>
                      </a:cubicBezTo>
                      <a:cubicBezTo>
                        <a:pt x="272" y="253"/>
                        <a:pt x="294" y="349"/>
                        <a:pt x="305" y="376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7" name=""/>
                <p:cNvSpPr/>
                <p:nvPr/>
              </p:nvSpPr>
              <p:spPr>
                <a:xfrm flipH="1">
                  <a:off x="6876360" y="3977640"/>
                  <a:ext cx="484200" cy="749160"/>
                </a:xfrm>
                <a:custGeom>
                  <a:avLst/>
                  <a:gdLst/>
                  <a:ahLst/>
                  <a:rect l="l" t="t" r="r" b="b"/>
                  <a:pathLst>
                    <a:path w="305" h="376">
                      <a:moveTo>
                        <a:pt x="0" y="11"/>
                      </a:moveTo>
                      <a:cubicBezTo>
                        <a:pt x="7" y="10"/>
                        <a:pt x="14" y="0"/>
                        <a:pt x="31" y="27"/>
                      </a:cubicBezTo>
                      <a:cubicBezTo>
                        <a:pt x="48" y="54"/>
                        <a:pt x="80" y="122"/>
                        <a:pt x="104" y="175"/>
                      </a:cubicBezTo>
                      <a:cubicBezTo>
                        <a:pt x="128" y="228"/>
                        <a:pt x="152" y="336"/>
                        <a:pt x="177" y="348"/>
                      </a:cubicBezTo>
                      <a:cubicBezTo>
                        <a:pt x="202" y="360"/>
                        <a:pt x="230" y="243"/>
                        <a:pt x="251" y="248"/>
                      </a:cubicBezTo>
                      <a:cubicBezTo>
                        <a:pt x="272" y="253"/>
                        <a:pt x="294" y="349"/>
                        <a:pt x="305" y="376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8" name=""/>
              <p:cNvSpPr/>
              <p:nvPr/>
            </p:nvSpPr>
            <p:spPr>
              <a:xfrm>
                <a:off x="7025400" y="358776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1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 flipV="1">
                <a:off x="8055000" y="4339800"/>
                <a:ext cx="0" cy="110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6988320" y="4354560"/>
                <a:ext cx="1290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7335720" y="393372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 flipH="1">
                <a:off x="6936840" y="3962520"/>
                <a:ext cx="126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>
                <a:off x="7853040" y="3935520"/>
                <a:ext cx="1150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env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/P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tot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 flipV="1">
                <a:off x="7823160" y="3947760"/>
                <a:ext cx="0" cy="39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>
                <a:off x="5732640" y="3397320"/>
                <a:ext cx="260280" cy="298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6" name=""/>
            <p:cNvSpPr/>
            <p:nvPr/>
          </p:nvSpPr>
          <p:spPr>
            <a:xfrm>
              <a:off x="1265400" y="6022800"/>
              <a:ext cx="7005240" cy="82548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la courbe de visibilité permet d'estimer P*/Pen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très utile aux modélisateu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732120" cy="6080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imes New Roman"/>
              </a:rPr>
              <a:t>petit résumé graphiq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8" name=""/>
          <p:cNvSpPr/>
          <p:nvPr/>
        </p:nvSpPr>
        <p:spPr>
          <a:xfrm>
            <a:off x="827280" y="1211400"/>
            <a:ext cx="983520" cy="47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120" rIns="60120" tIns="24120" bIns="2412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obj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visibilité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obj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visibilité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9" name="" descr=""/>
          <p:cNvPicPr/>
          <p:nvPr/>
        </p:nvPicPr>
        <p:blipFill>
          <a:blip r:embed="rId1"/>
          <a:stretch/>
        </p:blipFill>
        <p:spPr>
          <a:xfrm>
            <a:off x="2595600" y="3851280"/>
            <a:ext cx="5614920" cy="2468520"/>
          </a:xfrm>
          <a:prstGeom prst="rect">
            <a:avLst/>
          </a:prstGeom>
          <a:ln w="0">
            <a:noFill/>
          </a:ln>
        </p:spPr>
      </p:pic>
      <p:pic>
        <p:nvPicPr>
          <p:cNvPr id="6360" name="" descr=""/>
          <p:cNvPicPr/>
          <p:nvPr/>
        </p:nvPicPr>
        <p:blipFill>
          <a:blip r:embed="rId2"/>
          <a:stretch/>
        </p:blipFill>
        <p:spPr>
          <a:xfrm>
            <a:off x="2666880" y="1415880"/>
            <a:ext cx="5543640" cy="2157480"/>
          </a:xfrm>
          <a:prstGeom prst="rect">
            <a:avLst/>
          </a:prstGeom>
          <a:ln w="0">
            <a:noFill/>
          </a:ln>
        </p:spPr>
      </p:pic>
      <p:sp>
        <p:nvSpPr>
          <p:cNvPr id="6361" name=""/>
          <p:cNvSpPr/>
          <p:nvPr/>
        </p:nvSpPr>
        <p:spPr>
          <a:xfrm>
            <a:off x="490680" y="3738600"/>
            <a:ext cx="825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2" name=""/>
          <p:cNvSpPr/>
          <p:nvPr/>
        </p:nvSpPr>
        <p:spPr>
          <a:xfrm>
            <a:off x="285840" y="4343400"/>
            <a:ext cx="8324640" cy="146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PlaceHolder 1"/>
          <p:cNvSpPr>
            <a:spLocks noGrp="1"/>
          </p:cNvSpPr>
          <p:nvPr>
            <p:ph type="title"/>
          </p:nvPr>
        </p:nvSpPr>
        <p:spPr>
          <a:xfrm>
            <a:off x="309240" y="550800"/>
            <a:ext cx="3684600" cy="58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2 ou N  telesco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4" name=""/>
          <p:cNvSpPr/>
          <p:nvPr/>
        </p:nvSpPr>
        <p:spPr>
          <a:xfrm>
            <a:off x="314280" y="1373040"/>
            <a:ext cx="8829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UX TELESCOPES  (une base) : c'est plutôt limit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 point du spectre  à chaque base, c'est pas beauc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c'est long pour avoir un échantillonnage du spectre spatial bien four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 plus on perd l'information sur la phase (spectre = complex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 gros la philosophie de base c'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 se contenter de peu de visibi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faire des hypothèses sur la sou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 controler ces hypothèses par les visibilités obten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le controle par l'observaton fournit les paramètres du MOD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hoisi pour décrire la sou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 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 PAS CEUX DE LA SOURCE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5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980240" cy="893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ynthèse d'ouverture</a:t>
            </a:r>
            <a:br>
              <a:rPr sz="28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ers l'imagerie interféromé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6" name=""/>
          <p:cNvGrpSpPr/>
          <p:nvPr/>
        </p:nvGrpSpPr>
        <p:grpSpPr>
          <a:xfrm>
            <a:off x="1697040" y="2508120"/>
            <a:ext cx="5822640" cy="2132280"/>
            <a:chOff x="1697040" y="2508120"/>
            <a:chExt cx="5822640" cy="2132280"/>
          </a:xfrm>
        </p:grpSpPr>
        <p:grpSp>
          <p:nvGrpSpPr>
            <p:cNvPr id="6367" name=""/>
            <p:cNvGrpSpPr/>
            <p:nvPr/>
          </p:nvGrpSpPr>
          <p:grpSpPr>
            <a:xfrm>
              <a:off x="1697040" y="2641320"/>
              <a:ext cx="2151000" cy="1184400"/>
              <a:chOff x="1697040" y="2641320"/>
              <a:chExt cx="2151000" cy="1184400"/>
            </a:xfrm>
          </p:grpSpPr>
          <p:sp>
            <p:nvSpPr>
              <p:cNvPr id="6368" name=""/>
              <p:cNvSpPr/>
              <p:nvPr/>
            </p:nvSpPr>
            <p:spPr>
              <a:xfrm flipV="1">
                <a:off x="1952640" y="2860200"/>
                <a:ext cx="1546200" cy="85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>
                <a:off x="1697040" y="3060360"/>
                <a:ext cx="1968480" cy="76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3449520" y="3292200"/>
                <a:ext cx="33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>
                <a:off x="3483000" y="269676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2717640" y="3125520"/>
                <a:ext cx="328680" cy="1555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1979640" y="3512880"/>
                <a:ext cx="328680" cy="1555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2335320" y="2987280"/>
                <a:ext cx="328320" cy="1555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>
                <a:off x="2462760" y="330012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2529000" y="2641320"/>
                <a:ext cx="485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1919160" y="3011040"/>
                <a:ext cx="4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8" name=""/>
            <p:cNvGrpSpPr/>
            <p:nvPr/>
          </p:nvGrpSpPr>
          <p:grpSpPr>
            <a:xfrm>
              <a:off x="4801680" y="2508120"/>
              <a:ext cx="2718000" cy="2132280"/>
              <a:chOff x="4801680" y="2508120"/>
              <a:chExt cx="2718000" cy="2132280"/>
            </a:xfrm>
          </p:grpSpPr>
          <p:sp>
            <p:nvSpPr>
              <p:cNvPr id="6379" name=""/>
              <p:cNvSpPr/>
              <p:nvPr/>
            </p:nvSpPr>
            <p:spPr>
              <a:xfrm flipV="1">
                <a:off x="5656320" y="2687040"/>
                <a:ext cx="1717560" cy="96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>
                <a:off x="5400720" y="2995200"/>
                <a:ext cx="1968480" cy="76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7153200" y="3233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>
                <a:off x="7186680" y="2638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>
                <a:off x="6816600" y="2900160"/>
                <a:ext cx="32868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5710320" y="3098520"/>
                <a:ext cx="32832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5371920" y="3655800"/>
                <a:ext cx="32868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>
                <a:off x="6100560" y="3222360"/>
                <a:ext cx="32868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6468840" y="3365280"/>
                <a:ext cx="32868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5968800" y="3963600"/>
                <a:ext cx="328680" cy="155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6297480" y="2508120"/>
                <a:ext cx="328680" cy="155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4801680" y="3587400"/>
                <a:ext cx="725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5016600" y="2685960"/>
                <a:ext cx="1280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5838840" y="4130280"/>
                <a:ext cx="73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93" name=""/>
          <p:cNvSpPr/>
          <p:nvPr/>
        </p:nvSpPr>
        <p:spPr>
          <a:xfrm>
            <a:off x="473400" y="1703520"/>
            <a:ext cx="75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peut gagner beaucoup en combinant </a:t>
            </a: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PLUS DE DEUX TELESCO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 telescopes =&gt; N.(N-1)/2 visibilités simultané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>
            <a:off x="464760" y="4775040"/>
            <a:ext cx="846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En plus on a de l'information sur les phase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, ce qui contraint efficac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s modèles à tester (cloture de ph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ne travaille plus seulement sur une courbe de visibilité (coupe du spect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travaille sur des nappes de visibilité (spectres spatiaux déjà v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t avec de l'info sur les phases du spectre spa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est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sur la voi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de la reconstruction d'image sans hypothèse a prio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5" name=""/>
          <p:cNvGrpSpPr/>
          <p:nvPr/>
        </p:nvGrpSpPr>
        <p:grpSpPr>
          <a:xfrm>
            <a:off x="385920" y="1116000"/>
            <a:ext cx="5236560" cy="185400"/>
            <a:chOff x="385920" y="1116000"/>
            <a:chExt cx="5236560" cy="185400"/>
          </a:xfrm>
        </p:grpSpPr>
        <p:sp>
          <p:nvSpPr>
            <p:cNvPr id="6396" name=""/>
            <p:cNvSpPr/>
            <p:nvPr/>
          </p:nvSpPr>
          <p:spPr>
            <a:xfrm>
              <a:off x="385920" y="1123200"/>
              <a:ext cx="1101240" cy="435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385920" y="1167120"/>
              <a:ext cx="1092600" cy="446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393840" y="1211040"/>
              <a:ext cx="1092960" cy="446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400320" y="1256040"/>
              <a:ext cx="1092960" cy="435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1449000" y="1123200"/>
              <a:ext cx="1094760" cy="4356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1449000" y="1167120"/>
              <a:ext cx="1086120" cy="4464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1457280" y="1211040"/>
              <a:ext cx="1086840" cy="4464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1463400" y="1256040"/>
              <a:ext cx="1086840" cy="4356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2520360" y="1120680"/>
              <a:ext cx="1094760" cy="43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2520360" y="1166760"/>
              <a:ext cx="1086840" cy="450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2529000" y="1253520"/>
              <a:ext cx="1086120" cy="45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2535120" y="1210680"/>
              <a:ext cx="1086840" cy="43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3592080" y="1127880"/>
              <a:ext cx="1086840" cy="435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3592080" y="1171800"/>
              <a:ext cx="1077840" cy="446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3598560" y="1215720"/>
              <a:ext cx="1080360" cy="446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3607200" y="1257840"/>
              <a:ext cx="1077840" cy="435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4461120" y="1116000"/>
              <a:ext cx="1152360" cy="460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4455000" y="1159560"/>
              <a:ext cx="1158840" cy="4716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4461120" y="1207080"/>
              <a:ext cx="1152360" cy="4752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4461120" y="1254960"/>
              <a:ext cx="1161360" cy="4644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3547080" y="1121760"/>
              <a:ext cx="1086840" cy="435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7" name=""/>
          <p:cNvSpPr/>
          <p:nvPr/>
        </p:nvSpPr>
        <p:spPr>
          <a:xfrm>
            <a:off x="564480" y="1501920"/>
            <a:ext cx="8129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signaux interférométriques évoqués jusqu'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cernent une longueur d'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eut obtenir les visibilités à plusieurs longueurs d'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imultanément (voir plus haut : codage de l'inform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lusieurs intérê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tude de la source à plusieurs longueurs d'onde simultan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eut déceler si la structure de la source est chrom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gros gain d'information et gain en fiabilité (voir plus lo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eut aussi mettre en évidence des asymétries dans l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ans avoir recours à plus de 2  télesco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8" name="PlaceHolder 1"/>
          <p:cNvSpPr>
            <a:spLocks noGrp="1"/>
          </p:cNvSpPr>
          <p:nvPr>
            <p:ph type="title"/>
          </p:nvPr>
        </p:nvSpPr>
        <p:spPr>
          <a:xfrm>
            <a:off x="368280" y="664920"/>
            <a:ext cx="5216400" cy="617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pectro interféromèt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9" name=""/>
          <p:cNvGrpSpPr/>
          <p:nvPr/>
        </p:nvGrpSpPr>
        <p:grpSpPr>
          <a:xfrm>
            <a:off x="336600" y="692280"/>
            <a:ext cx="5236920" cy="155520"/>
            <a:chOff x="336600" y="692280"/>
            <a:chExt cx="5236920" cy="155520"/>
          </a:xfrm>
        </p:grpSpPr>
        <p:sp>
          <p:nvSpPr>
            <p:cNvPr id="6420" name=""/>
            <p:cNvSpPr/>
            <p:nvPr/>
          </p:nvSpPr>
          <p:spPr>
            <a:xfrm>
              <a:off x="336600" y="698400"/>
              <a:ext cx="1101240" cy="3672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336600" y="735120"/>
              <a:ext cx="1092600" cy="374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344520" y="771840"/>
              <a:ext cx="1092960" cy="3744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351000" y="809280"/>
              <a:ext cx="1092960" cy="3672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99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1399680" y="698400"/>
              <a:ext cx="1095120" cy="3672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1399680" y="735120"/>
              <a:ext cx="1086120" cy="3744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1407960" y="771840"/>
              <a:ext cx="1086840" cy="3744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1414080" y="809280"/>
              <a:ext cx="1086840" cy="3672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33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2471040" y="696240"/>
              <a:ext cx="1095120" cy="367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2471040" y="734760"/>
              <a:ext cx="1086840" cy="37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2479680" y="807480"/>
              <a:ext cx="1086120" cy="37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2486160" y="771480"/>
              <a:ext cx="1086840" cy="367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3543120" y="702000"/>
              <a:ext cx="1086840" cy="367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3543120" y="738720"/>
              <a:ext cx="1078200" cy="374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3549240" y="775800"/>
              <a:ext cx="1080360" cy="374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3557880" y="811080"/>
              <a:ext cx="1078200" cy="367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4412160" y="692280"/>
              <a:ext cx="1152720" cy="3852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4405680" y="729000"/>
              <a:ext cx="1158840" cy="3960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4412160" y="768600"/>
              <a:ext cx="1152720" cy="3996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4412160" y="808560"/>
              <a:ext cx="1161360" cy="388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3498120" y="696960"/>
              <a:ext cx="1086840" cy="3672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1" name="PlaceHolder 1"/>
          <p:cNvSpPr>
            <a:spLocks noGrp="1"/>
          </p:cNvSpPr>
          <p:nvPr>
            <p:ph type="title"/>
          </p:nvPr>
        </p:nvSpPr>
        <p:spPr>
          <a:xfrm>
            <a:off x="337680" y="593280"/>
            <a:ext cx="431964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orphologie chroma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2" name=""/>
          <p:cNvSpPr/>
          <p:nvPr/>
        </p:nvSpPr>
        <p:spPr>
          <a:xfrm>
            <a:off x="1251000" y="124452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3" name=""/>
          <p:cNvGrpSpPr/>
          <p:nvPr/>
        </p:nvGrpSpPr>
        <p:grpSpPr>
          <a:xfrm>
            <a:off x="4633920" y="711360"/>
            <a:ext cx="4511520" cy="4739040"/>
            <a:chOff x="4633920" y="711360"/>
            <a:chExt cx="4511520" cy="4739040"/>
          </a:xfrm>
        </p:grpSpPr>
        <p:pic>
          <p:nvPicPr>
            <p:cNvPr id="6444" name="" descr=""/>
            <p:cNvPicPr/>
            <p:nvPr/>
          </p:nvPicPr>
          <p:blipFill>
            <a:blip r:embed="rId1"/>
            <a:stretch/>
          </p:blipFill>
          <p:spPr>
            <a:xfrm>
              <a:off x="5183280" y="1035360"/>
              <a:ext cx="396216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5" name=""/>
            <p:cNvSpPr/>
            <p:nvPr/>
          </p:nvSpPr>
          <p:spPr>
            <a:xfrm>
              <a:off x="5319720" y="3276720"/>
              <a:ext cx="2031840" cy="21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 flipH="1">
              <a:off x="4836960" y="3581640"/>
              <a:ext cx="124488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 flipH="1" flipV="1">
              <a:off x="5446440" y="1269720"/>
              <a:ext cx="330120" cy="269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4633920" y="3632400"/>
              <a:ext cx="29520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7567200" y="4978440"/>
              <a:ext cx="83772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B /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4777920" y="711360"/>
              <a:ext cx="312984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Visibilité (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,  B /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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7786800" y="4237200"/>
              <a:ext cx="520560" cy="345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8217000" y="4251600"/>
              <a:ext cx="695160" cy="51012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</a:t>
              </a:r>
              <a:r>
                <a:rPr b="0" lang="fr-FR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6546960" y="1754280"/>
              <a:ext cx="1110960" cy="2324160"/>
            </a:xfrm>
            <a:custGeom>
              <a:avLst/>
              <a:gdLst/>
              <a:ahLst/>
              <a:rect l="l" t="t" r="r" b="b"/>
              <a:pathLst>
                <a:path w="700" h="1464">
                  <a:moveTo>
                    <a:pt x="0" y="0"/>
                  </a:moveTo>
                  <a:lnTo>
                    <a:pt x="54" y="127"/>
                  </a:lnTo>
                  <a:lnTo>
                    <a:pt x="127" y="355"/>
                  </a:lnTo>
                  <a:lnTo>
                    <a:pt x="136" y="546"/>
                  </a:lnTo>
                  <a:lnTo>
                    <a:pt x="172" y="764"/>
                  </a:lnTo>
                  <a:lnTo>
                    <a:pt x="218" y="946"/>
                  </a:lnTo>
                  <a:lnTo>
                    <a:pt x="236" y="1064"/>
                  </a:lnTo>
                  <a:lnTo>
                    <a:pt x="263" y="1155"/>
                  </a:lnTo>
                  <a:lnTo>
                    <a:pt x="336" y="1209"/>
                  </a:lnTo>
                  <a:lnTo>
                    <a:pt x="445" y="1228"/>
                  </a:lnTo>
                  <a:lnTo>
                    <a:pt x="572" y="1328"/>
                  </a:lnTo>
                  <a:lnTo>
                    <a:pt x="654" y="1400"/>
                  </a:lnTo>
                  <a:lnTo>
                    <a:pt x="700" y="1464"/>
                  </a:lnTo>
                </a:path>
              </a:pathLst>
            </a:custGeom>
            <a:noFill/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6300720" y="1827360"/>
              <a:ext cx="1152720" cy="2260800"/>
            </a:xfrm>
            <a:custGeom>
              <a:avLst/>
              <a:gdLst/>
              <a:ahLst/>
              <a:rect l="l" t="t" r="r" b="b"/>
              <a:pathLst>
                <a:path w="726" h="1424">
                  <a:moveTo>
                    <a:pt x="0" y="0"/>
                  </a:moveTo>
                  <a:lnTo>
                    <a:pt x="80" y="87"/>
                  </a:lnTo>
                  <a:lnTo>
                    <a:pt x="153" y="315"/>
                  </a:lnTo>
                  <a:lnTo>
                    <a:pt x="218" y="527"/>
                  </a:lnTo>
                  <a:lnTo>
                    <a:pt x="282" y="718"/>
                  </a:lnTo>
                  <a:lnTo>
                    <a:pt x="336" y="909"/>
                  </a:lnTo>
                  <a:lnTo>
                    <a:pt x="364" y="1027"/>
                  </a:lnTo>
                  <a:lnTo>
                    <a:pt x="400" y="1100"/>
                  </a:lnTo>
                  <a:lnTo>
                    <a:pt x="436" y="1172"/>
                  </a:lnTo>
                  <a:lnTo>
                    <a:pt x="464" y="1272"/>
                  </a:lnTo>
                  <a:lnTo>
                    <a:pt x="536" y="1327"/>
                  </a:lnTo>
                  <a:lnTo>
                    <a:pt x="636" y="1354"/>
                  </a:lnTo>
                  <a:lnTo>
                    <a:pt x="726" y="1424"/>
                  </a:lnTo>
                </a:path>
              </a:pathLst>
            </a:custGeom>
            <a:noFill/>
            <a:ln w="381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6667560" y="1765440"/>
              <a:ext cx="1152360" cy="2260800"/>
            </a:xfrm>
            <a:custGeom>
              <a:avLst/>
              <a:gdLst/>
              <a:ahLst/>
              <a:rect l="l" t="t" r="r" b="b"/>
              <a:pathLst>
                <a:path w="726" h="1424">
                  <a:moveTo>
                    <a:pt x="0" y="0"/>
                  </a:moveTo>
                  <a:lnTo>
                    <a:pt x="80" y="87"/>
                  </a:lnTo>
                  <a:lnTo>
                    <a:pt x="153" y="315"/>
                  </a:lnTo>
                  <a:lnTo>
                    <a:pt x="218" y="527"/>
                  </a:lnTo>
                  <a:lnTo>
                    <a:pt x="282" y="718"/>
                  </a:lnTo>
                  <a:lnTo>
                    <a:pt x="336" y="909"/>
                  </a:lnTo>
                  <a:lnTo>
                    <a:pt x="364" y="1027"/>
                  </a:lnTo>
                  <a:lnTo>
                    <a:pt x="400" y="1100"/>
                  </a:lnTo>
                  <a:lnTo>
                    <a:pt x="436" y="1172"/>
                  </a:lnTo>
                  <a:lnTo>
                    <a:pt x="464" y="1272"/>
                  </a:lnTo>
                  <a:lnTo>
                    <a:pt x="536" y="1327"/>
                  </a:lnTo>
                  <a:lnTo>
                    <a:pt x="636" y="1354"/>
                  </a:lnTo>
                  <a:lnTo>
                    <a:pt x="726" y="14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6" name=""/>
          <p:cNvSpPr/>
          <p:nvPr/>
        </p:nvSpPr>
        <p:spPr>
          <a:xfrm>
            <a:off x="4566960" y="4724280"/>
            <a:ext cx="293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chromatis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e répercute s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courbes de visi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nochromat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7" name=""/>
          <p:cNvGrpSpPr/>
          <p:nvPr/>
        </p:nvGrpSpPr>
        <p:grpSpPr>
          <a:xfrm>
            <a:off x="257040" y="969840"/>
            <a:ext cx="3178440" cy="5041080"/>
            <a:chOff x="257040" y="969840"/>
            <a:chExt cx="3178440" cy="5041080"/>
          </a:xfrm>
        </p:grpSpPr>
        <p:sp>
          <p:nvSpPr>
            <p:cNvPr id="6458" name=""/>
            <p:cNvSpPr/>
            <p:nvPr/>
          </p:nvSpPr>
          <p:spPr>
            <a:xfrm>
              <a:off x="1568520" y="969840"/>
              <a:ext cx="25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59" name="" descr=""/>
            <p:cNvPicPr/>
            <p:nvPr/>
          </p:nvPicPr>
          <p:blipFill>
            <a:blip r:embed="rId2"/>
            <a:stretch/>
          </p:blipFill>
          <p:spPr>
            <a:xfrm>
              <a:off x="603360" y="1782720"/>
              <a:ext cx="283212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0" name=""/>
            <p:cNvSpPr/>
            <p:nvPr/>
          </p:nvSpPr>
          <p:spPr>
            <a:xfrm>
              <a:off x="401040" y="1198440"/>
              <a:ext cx="19411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source observé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469800" y="1636560"/>
              <a:ext cx="2730600" cy="2730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2" name=""/>
            <p:cNvGrpSpPr/>
            <p:nvPr/>
          </p:nvGrpSpPr>
          <p:grpSpPr>
            <a:xfrm>
              <a:off x="957240" y="4238280"/>
              <a:ext cx="2077920" cy="1244520"/>
              <a:chOff x="957240" y="4238280"/>
              <a:chExt cx="2077920" cy="1244520"/>
            </a:xfrm>
          </p:grpSpPr>
          <p:grpSp>
            <p:nvGrpSpPr>
              <p:cNvPr id="6463" name=""/>
              <p:cNvGrpSpPr/>
              <p:nvPr/>
            </p:nvGrpSpPr>
            <p:grpSpPr>
              <a:xfrm>
                <a:off x="965160" y="4733640"/>
                <a:ext cx="2060280" cy="745560"/>
                <a:chOff x="965160" y="4733640"/>
                <a:chExt cx="2060280" cy="745560"/>
              </a:xfrm>
            </p:grpSpPr>
            <p:sp>
              <p:nvSpPr>
                <p:cNvPr id="6464" name=""/>
                <p:cNvSpPr/>
                <p:nvPr/>
              </p:nvSpPr>
              <p:spPr>
                <a:xfrm>
                  <a:off x="965160" y="4763520"/>
                  <a:ext cx="43308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9900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5" name=""/>
                <p:cNvSpPr/>
                <p:nvPr/>
              </p:nvSpPr>
              <p:spPr>
                <a:xfrm>
                  <a:off x="965160" y="4939560"/>
                  <a:ext cx="429840" cy="18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9900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6" name=""/>
                <p:cNvSpPr/>
                <p:nvPr/>
              </p:nvSpPr>
              <p:spPr>
                <a:xfrm>
                  <a:off x="968040" y="5115240"/>
                  <a:ext cx="429840" cy="18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9900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7" name=""/>
                <p:cNvSpPr/>
                <p:nvPr/>
              </p:nvSpPr>
              <p:spPr>
                <a:xfrm>
                  <a:off x="970560" y="5295600"/>
                  <a:ext cx="42984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9900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8" name=""/>
                <p:cNvSpPr/>
                <p:nvPr/>
              </p:nvSpPr>
              <p:spPr>
                <a:xfrm>
                  <a:off x="1383480" y="4763520"/>
                  <a:ext cx="43092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33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9" name=""/>
                <p:cNvSpPr/>
                <p:nvPr/>
              </p:nvSpPr>
              <p:spPr>
                <a:xfrm>
                  <a:off x="1383480" y="4939560"/>
                  <a:ext cx="427320" cy="18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33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0" name=""/>
                <p:cNvSpPr/>
                <p:nvPr/>
              </p:nvSpPr>
              <p:spPr>
                <a:xfrm>
                  <a:off x="1386720" y="5115240"/>
                  <a:ext cx="427680" cy="18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33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1" name=""/>
                <p:cNvSpPr/>
                <p:nvPr/>
              </p:nvSpPr>
              <p:spPr>
                <a:xfrm>
                  <a:off x="1389240" y="5295600"/>
                  <a:ext cx="42768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33"/>
                    </a:gs>
                    <a:gs pos="100000">
                      <a:srgbClr val="33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2" name=""/>
                <p:cNvSpPr/>
                <p:nvPr/>
              </p:nvSpPr>
              <p:spPr>
                <a:xfrm>
                  <a:off x="1805040" y="4753440"/>
                  <a:ext cx="43092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ff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3" name=""/>
                <p:cNvSpPr/>
                <p:nvPr/>
              </p:nvSpPr>
              <p:spPr>
                <a:xfrm>
                  <a:off x="1805040" y="4937760"/>
                  <a:ext cx="427680" cy="181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ff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4" name=""/>
                <p:cNvSpPr/>
                <p:nvPr/>
              </p:nvSpPr>
              <p:spPr>
                <a:xfrm>
                  <a:off x="1808280" y="5285520"/>
                  <a:ext cx="427320" cy="18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ff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5" name=""/>
                <p:cNvSpPr/>
                <p:nvPr/>
              </p:nvSpPr>
              <p:spPr>
                <a:xfrm>
                  <a:off x="1810800" y="5113440"/>
                  <a:ext cx="42768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ff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6" name=""/>
                <p:cNvSpPr/>
                <p:nvPr/>
              </p:nvSpPr>
              <p:spPr>
                <a:xfrm>
                  <a:off x="2226600" y="4781520"/>
                  <a:ext cx="42768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7" name=""/>
                <p:cNvSpPr/>
                <p:nvPr/>
              </p:nvSpPr>
              <p:spPr>
                <a:xfrm>
                  <a:off x="2226600" y="4957560"/>
                  <a:ext cx="424080" cy="18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8" name=""/>
                <p:cNvSpPr/>
                <p:nvPr/>
              </p:nvSpPr>
              <p:spPr>
                <a:xfrm>
                  <a:off x="2229120" y="5133600"/>
                  <a:ext cx="425160" cy="180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9" name=""/>
                <p:cNvSpPr/>
                <p:nvPr/>
              </p:nvSpPr>
              <p:spPr>
                <a:xfrm>
                  <a:off x="2232720" y="5303520"/>
                  <a:ext cx="42408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0" name=""/>
                <p:cNvSpPr/>
                <p:nvPr/>
              </p:nvSpPr>
              <p:spPr>
                <a:xfrm>
                  <a:off x="2568600" y="4733640"/>
                  <a:ext cx="453600" cy="185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ff99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1" name=""/>
                <p:cNvSpPr/>
                <p:nvPr/>
              </p:nvSpPr>
              <p:spPr>
                <a:xfrm>
                  <a:off x="2566440" y="4909320"/>
                  <a:ext cx="455760" cy="189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ff99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2" name=""/>
                <p:cNvSpPr/>
                <p:nvPr/>
              </p:nvSpPr>
              <p:spPr>
                <a:xfrm>
                  <a:off x="2568600" y="5099400"/>
                  <a:ext cx="453600" cy="191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ff99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3" name=""/>
                <p:cNvSpPr/>
                <p:nvPr/>
              </p:nvSpPr>
              <p:spPr>
                <a:xfrm>
                  <a:off x="2568600" y="5291280"/>
                  <a:ext cx="456840" cy="186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ff993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4" name=""/>
                <p:cNvSpPr/>
                <p:nvPr/>
              </p:nvSpPr>
              <p:spPr>
                <a:xfrm>
                  <a:off x="2208960" y="4757400"/>
                  <a:ext cx="427680" cy="175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85" name=""/>
              <p:cNvSpPr/>
              <p:nvPr/>
            </p:nvSpPr>
            <p:spPr>
              <a:xfrm>
                <a:off x="957240" y="4733640"/>
                <a:ext cx="2077920" cy="725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957240" y="4749480"/>
                <a:ext cx="2077920" cy="85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957240" y="4830480"/>
                <a:ext cx="2077920" cy="85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957240" y="4911480"/>
                <a:ext cx="2077920" cy="85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957240" y="4992480"/>
                <a:ext cx="2077920" cy="85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957240" y="5073480"/>
                <a:ext cx="2077920" cy="85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957240" y="5154480"/>
                <a:ext cx="2077920" cy="85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957240" y="5235480"/>
                <a:ext cx="2077920" cy="85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957240" y="5316120"/>
                <a:ext cx="2077920" cy="86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957240" y="5397120"/>
                <a:ext cx="2077920" cy="85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95" name=""/>
              <p:cNvGrpSpPr/>
              <p:nvPr/>
            </p:nvGrpSpPr>
            <p:grpSpPr>
              <a:xfrm>
                <a:off x="2489040" y="4733640"/>
                <a:ext cx="142920" cy="749160"/>
                <a:chOff x="2489040" y="4733640"/>
                <a:chExt cx="142920" cy="749160"/>
              </a:xfrm>
            </p:grpSpPr>
            <p:sp>
              <p:nvSpPr>
                <p:cNvPr id="6496" name=""/>
                <p:cNvSpPr/>
                <p:nvPr/>
              </p:nvSpPr>
              <p:spPr>
                <a:xfrm>
                  <a:off x="2489040" y="4733640"/>
                  <a:ext cx="142920" cy="725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7" name=""/>
                <p:cNvSpPr/>
                <p:nvPr/>
              </p:nvSpPr>
              <p:spPr>
                <a:xfrm>
                  <a:off x="2489040" y="4749480"/>
                  <a:ext cx="142920" cy="8568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8" name=""/>
                <p:cNvSpPr/>
                <p:nvPr/>
              </p:nvSpPr>
              <p:spPr>
                <a:xfrm>
                  <a:off x="2489040" y="4830480"/>
                  <a:ext cx="142920" cy="856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9" name=""/>
                <p:cNvSpPr/>
                <p:nvPr/>
              </p:nvSpPr>
              <p:spPr>
                <a:xfrm>
                  <a:off x="2489040" y="4911480"/>
                  <a:ext cx="142920" cy="8568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0" name=""/>
                <p:cNvSpPr/>
                <p:nvPr/>
              </p:nvSpPr>
              <p:spPr>
                <a:xfrm>
                  <a:off x="2489040" y="4992480"/>
                  <a:ext cx="142920" cy="8568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1" name=""/>
                <p:cNvSpPr/>
                <p:nvPr/>
              </p:nvSpPr>
              <p:spPr>
                <a:xfrm>
                  <a:off x="2489040" y="5073480"/>
                  <a:ext cx="142920" cy="8568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2" name=""/>
                <p:cNvSpPr/>
                <p:nvPr/>
              </p:nvSpPr>
              <p:spPr>
                <a:xfrm>
                  <a:off x="2489040" y="5154480"/>
                  <a:ext cx="142920" cy="856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3" name=""/>
                <p:cNvSpPr/>
                <p:nvPr/>
              </p:nvSpPr>
              <p:spPr>
                <a:xfrm>
                  <a:off x="2489040" y="5235480"/>
                  <a:ext cx="142920" cy="8568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4" name=""/>
                <p:cNvSpPr/>
                <p:nvPr/>
              </p:nvSpPr>
              <p:spPr>
                <a:xfrm>
                  <a:off x="2489040" y="5316120"/>
                  <a:ext cx="142920" cy="8604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5" name=""/>
                <p:cNvSpPr/>
                <p:nvPr/>
              </p:nvSpPr>
              <p:spPr>
                <a:xfrm>
                  <a:off x="2489040" y="5397120"/>
                  <a:ext cx="142920" cy="8568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06" name=""/>
              <p:cNvSpPr/>
              <p:nvPr/>
            </p:nvSpPr>
            <p:spPr>
              <a:xfrm>
                <a:off x="2251080" y="4238280"/>
                <a:ext cx="463680" cy="510120"/>
              </a:xfrm>
              <a:prstGeom prst="rect">
                <a:avLst/>
              </a:prstGeom>
              <a:noFill/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7" name=""/>
            <p:cNvSpPr/>
            <p:nvPr/>
          </p:nvSpPr>
          <p:spPr>
            <a:xfrm>
              <a:off x="257040" y="5570280"/>
              <a:ext cx="305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baisse de contraste à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8" name=""/>
          <p:cNvSpPr/>
          <p:nvPr/>
        </p:nvSpPr>
        <p:spPr>
          <a:xfrm>
            <a:off x="820440" y="6129360"/>
            <a:ext cx="6921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ote : si la source est ponctuelle dans le continu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lle peut aussi servir de calibrateur de visibilité ( V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cont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46080" y="624960"/>
            <a:ext cx="733896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r avoir de  la HAUTE...  deux limitations à "exploser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8360" y="1039680"/>
            <a:ext cx="867564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4120" bIns="24120" anchor="t">
            <a:spAutoFit/>
          </a:bodyPr>
          <a:p>
            <a:pPr marL="380880" indent="-380880">
              <a:lnSpc>
                <a:spcPct val="58000"/>
              </a:lnSpc>
              <a:spcBef>
                <a:spcPts val="964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58000"/>
              </a:lnSpc>
              <a:spcBef>
                <a:spcPts val="1074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mension  du collec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58000"/>
              </a:lnSpc>
              <a:spcBef>
                <a:spcPts val="1074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urbulence atmosphé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58000"/>
              </a:lnSpc>
              <a:spcBef>
                <a:spcPts val="476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58000"/>
              </a:lnSpc>
              <a:spcBef>
                <a:spcPts val="1074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'est possible avec    l'Interférométrie et la synthèse d'ouver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58000"/>
              </a:lnSpc>
              <a:spcBef>
                <a:spcPts val="1074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  détails plus loi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363600" y="5435640"/>
            <a:ext cx="8184960" cy="1483560"/>
            <a:chOff x="363600" y="5435640"/>
            <a:chExt cx="8184960" cy="1483560"/>
          </a:xfrm>
        </p:grpSpPr>
        <p:sp>
          <p:nvSpPr>
            <p:cNvPr id="496" name=""/>
            <p:cNvSpPr/>
            <p:nvPr/>
          </p:nvSpPr>
          <p:spPr>
            <a:xfrm>
              <a:off x="363600" y="5435640"/>
              <a:ext cx="8184960" cy="142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67080" y="5605560"/>
              <a:ext cx="6406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ne fait plus d'imagerie classique (direct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on tend vers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l'imagerie interférométrique (indirect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ANTICIPATION  (détails plus loi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elle va chercher l'info dans l'espace de Four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7489800" y="6018120"/>
              <a:ext cx="763560" cy="792360"/>
              <a:chOff x="7489800" y="6018120"/>
              <a:chExt cx="763560" cy="792360"/>
            </a:xfrm>
          </p:grpSpPr>
          <p:sp>
            <p:nvSpPr>
              <p:cNvPr id="499" name=""/>
              <p:cNvSpPr/>
              <p:nvPr/>
            </p:nvSpPr>
            <p:spPr>
              <a:xfrm>
                <a:off x="7489800" y="6054840"/>
                <a:ext cx="763560" cy="752400"/>
              </a:xfrm>
              <a:prstGeom prst="roundRect">
                <a:avLst>
                  <a:gd name="adj" fmla="val 5644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489800" y="6054840"/>
                <a:ext cx="763560" cy="750600"/>
              </a:xfrm>
              <a:prstGeom prst="roundRect">
                <a:avLst>
                  <a:gd name="adj" fmla="val 7032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174160" y="6700680"/>
                <a:ext cx="36360" cy="69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174160" y="6700680"/>
                <a:ext cx="36360" cy="6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772400" y="6332400"/>
                <a:ext cx="209520" cy="195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773840" y="6334200"/>
                <a:ext cx="208080" cy="193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661160" y="6054840"/>
                <a:ext cx="408240" cy="2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662960" y="6054840"/>
                <a:ext cx="406440" cy="223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859880" y="6427800"/>
                <a:ext cx="42840" cy="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859880" y="6427800"/>
                <a:ext cx="42840" cy="23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862760" y="6359400"/>
                <a:ext cx="42840" cy="176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659720" y="6057720"/>
                <a:ext cx="504720" cy="2304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729560" y="6084720"/>
                <a:ext cx="55440" cy="1587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729560" y="6084720"/>
                <a:ext cx="55440" cy="158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578720" y="6662880"/>
                <a:ext cx="573120" cy="1476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628040" y="6057720"/>
                <a:ext cx="25200" cy="28800"/>
              </a:xfrm>
              <a:prstGeom prst="rect">
                <a:avLst/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631280" y="6018120"/>
                <a:ext cx="25200" cy="47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6318360" y="5506920"/>
              <a:ext cx="868320" cy="468360"/>
              <a:chOff x="6318360" y="5506920"/>
              <a:chExt cx="868320" cy="468360"/>
            </a:xfrm>
          </p:grpSpPr>
          <p:sp>
            <p:nvSpPr>
              <p:cNvPr id="517" name=""/>
              <p:cNvSpPr/>
              <p:nvPr/>
            </p:nvSpPr>
            <p:spPr>
              <a:xfrm>
                <a:off x="6383160" y="5602320"/>
                <a:ext cx="746280" cy="25560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318360" y="5506920"/>
                <a:ext cx="868320" cy="405000"/>
              </a:xfrm>
              <a:custGeom>
                <a:avLst/>
                <a:gdLst/>
                <a:ahLst/>
                <a:rect l="l" t="t" r="r" b="b"/>
                <a:pathLst>
                  <a:path w="547" h="255">
                    <a:moveTo>
                      <a:pt x="50" y="132"/>
                    </a:moveTo>
                    <a:lnTo>
                      <a:pt x="170" y="63"/>
                    </a:lnTo>
                    <a:lnTo>
                      <a:pt x="318" y="39"/>
                    </a:lnTo>
                    <a:lnTo>
                      <a:pt x="448" y="98"/>
                    </a:lnTo>
                    <a:lnTo>
                      <a:pt x="524" y="147"/>
                    </a:lnTo>
                    <a:lnTo>
                      <a:pt x="461" y="54"/>
                    </a:lnTo>
                    <a:lnTo>
                      <a:pt x="309" y="0"/>
                    </a:lnTo>
                    <a:lnTo>
                      <a:pt x="153" y="19"/>
                    </a:lnTo>
                    <a:lnTo>
                      <a:pt x="36" y="157"/>
                    </a:lnTo>
                    <a:lnTo>
                      <a:pt x="0" y="171"/>
                    </a:lnTo>
                    <a:lnTo>
                      <a:pt x="215" y="255"/>
                    </a:lnTo>
                    <a:lnTo>
                      <a:pt x="399" y="235"/>
                    </a:lnTo>
                    <a:lnTo>
                      <a:pt x="493" y="147"/>
                    </a:lnTo>
                    <a:lnTo>
                      <a:pt x="547" y="137"/>
                    </a:lnTo>
                  </a:path>
                </a:pathLst>
              </a:custGeom>
              <a:solidFill>
                <a:srgbClr val="cc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6418080" y="5584680"/>
                <a:ext cx="689040" cy="390600"/>
                <a:chOff x="6418080" y="5584680"/>
                <a:chExt cx="689040" cy="3906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6581880" y="5586480"/>
                  <a:ext cx="306360" cy="30312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418080" y="5843520"/>
                  <a:ext cx="689040" cy="131760"/>
                </a:xfrm>
                <a:custGeom>
                  <a:avLst/>
                  <a:gdLst/>
                  <a:ahLst/>
                  <a:rect l="l" t="t" r="r" b="b"/>
                  <a:pathLst>
                    <a:path w="434" h="83">
                      <a:moveTo>
                        <a:pt x="0" y="0"/>
                      </a:moveTo>
                      <a:lnTo>
                        <a:pt x="72" y="34"/>
                      </a:lnTo>
                      <a:lnTo>
                        <a:pt x="184" y="83"/>
                      </a:lnTo>
                      <a:lnTo>
                        <a:pt x="331" y="83"/>
                      </a:lnTo>
                      <a:lnTo>
                        <a:pt x="434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581880" y="5584680"/>
                  <a:ext cx="306360" cy="306720"/>
                </a:xfrm>
                <a:prstGeom prst="ellipse">
                  <a:avLst/>
                </a:prstGeom>
                <a:solidFill>
                  <a:srgbClr val="3399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659640" y="5680080"/>
                  <a:ext cx="128520" cy="115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659640" y="5678640"/>
                  <a:ext cx="128520" cy="1188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30840" y="5624640"/>
                  <a:ext cx="57240" cy="101520"/>
                </a:xfrm>
                <a:custGeom>
                  <a:avLst/>
                  <a:gdLst/>
                  <a:ahLst/>
                  <a:rect l="l" t="t" r="r" b="b"/>
                  <a:pathLst>
                    <a:path w="36" h="64">
                      <a:moveTo>
                        <a:pt x="32" y="0"/>
                      </a:moveTo>
                      <a:lnTo>
                        <a:pt x="5" y="35"/>
                      </a:lnTo>
                      <a:lnTo>
                        <a:pt x="0" y="64"/>
                      </a:lnTo>
                      <a:lnTo>
                        <a:pt x="23" y="64"/>
                      </a:lnTo>
                      <a:lnTo>
                        <a:pt x="23" y="40"/>
                      </a:lnTo>
                      <a:lnTo>
                        <a:pt x="36" y="15"/>
                      </a:lnTo>
                      <a:lnTo>
                        <a:pt x="23" y="1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8760" y="5632560"/>
                  <a:ext cx="57240" cy="101520"/>
                </a:xfrm>
                <a:custGeom>
                  <a:avLst/>
                  <a:gdLst/>
                  <a:ahLst/>
                  <a:rect l="l" t="t" r="r" b="b"/>
                  <a:pathLst>
                    <a:path w="36" h="64">
                      <a:moveTo>
                        <a:pt x="31" y="0"/>
                      </a:moveTo>
                      <a:lnTo>
                        <a:pt x="4" y="35"/>
                      </a:lnTo>
                      <a:lnTo>
                        <a:pt x="0" y="64"/>
                      </a:lnTo>
                      <a:lnTo>
                        <a:pt x="22" y="64"/>
                      </a:lnTo>
                      <a:lnTo>
                        <a:pt x="22" y="39"/>
                      </a:lnTo>
                      <a:lnTo>
                        <a:pt x="36" y="15"/>
                      </a:lnTo>
                      <a:lnTo>
                        <a:pt x="22" y="10"/>
                      </a:lnTo>
                    </a:path>
                  </a:pathLst>
                </a:custGeom>
                <a:noFill/>
                <a:ln w="14400">
                  <a:solidFill>
                    <a:srgbClr val="efefe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27" name=""/>
          <p:cNvGrpSpPr/>
          <p:nvPr/>
        </p:nvGrpSpPr>
        <p:grpSpPr>
          <a:xfrm>
            <a:off x="661320" y="2597040"/>
            <a:ext cx="7607160" cy="2640240"/>
            <a:chOff x="661320" y="2597040"/>
            <a:chExt cx="7607160" cy="2640240"/>
          </a:xfrm>
        </p:grpSpPr>
        <p:grpSp>
          <p:nvGrpSpPr>
            <p:cNvPr id="528" name=""/>
            <p:cNvGrpSpPr/>
            <p:nvPr/>
          </p:nvGrpSpPr>
          <p:grpSpPr>
            <a:xfrm>
              <a:off x="4352760" y="2597040"/>
              <a:ext cx="3589200" cy="802080"/>
              <a:chOff x="4352760" y="2597040"/>
              <a:chExt cx="3589200" cy="802080"/>
            </a:xfrm>
          </p:grpSpPr>
          <p:sp>
            <p:nvSpPr>
              <p:cNvPr id="529" name=""/>
              <p:cNvSpPr/>
              <p:nvPr/>
            </p:nvSpPr>
            <p:spPr>
              <a:xfrm>
                <a:off x="4365000" y="2597040"/>
                <a:ext cx="3576960" cy="3931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512840" y="2724120"/>
                <a:ext cx="404280" cy="144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358880" y="2708280"/>
                <a:ext cx="404280" cy="14472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554360" y="3281040"/>
                <a:ext cx="318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352760" y="3002400"/>
                <a:ext cx="40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418280" y="2939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114960" y="29286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661320" y="3375000"/>
              <a:ext cx="7607160" cy="18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n couplant deux (ou plus) télescopes de diamètre D class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obtient de l'information spatiale (</a:t>
              </a: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j'ai pas dit une image !!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vec une résolution comparable à celle fournie pa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n collecteur de diamètre B infaisabl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et l'on peut aussi un peu contourner le problè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e la destruction du lobe par la turbul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9" name="PlaceHolder 1"/>
          <p:cNvSpPr>
            <a:spLocks noGrp="1"/>
          </p:cNvSpPr>
          <p:nvPr>
            <p:ph type="title"/>
          </p:nvPr>
        </p:nvSpPr>
        <p:spPr>
          <a:xfrm>
            <a:off x="431640" y="779040"/>
            <a:ext cx="3679920" cy="82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gression le long du 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0" name=""/>
          <p:cNvSpPr/>
          <p:nvPr/>
        </p:nvSpPr>
        <p:spPr>
          <a:xfrm>
            <a:off x="1563840" y="23796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1" name=""/>
          <p:cNvSpPr/>
          <p:nvPr/>
        </p:nvSpPr>
        <p:spPr>
          <a:xfrm>
            <a:off x="430560" y="1960560"/>
            <a:ext cx="738612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ffffff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contexte science, motivation, but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ffffff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boite à outils conceptuelle (formalis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ffffff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fondements  théo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ffffff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interférométrie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, principes : monde idéa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ffffff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ifficultés : monde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2" name=""/>
          <p:cNvSpPr/>
          <p:nvPr/>
        </p:nvSpPr>
        <p:spPr>
          <a:xfrm>
            <a:off x="2706480" y="128412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lef de voute : H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3" name=""/>
          <p:cNvSpPr/>
          <p:nvPr/>
        </p:nvSpPr>
        <p:spPr>
          <a:xfrm>
            <a:off x="465120" y="4548240"/>
            <a:ext cx="8678880" cy="18367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4" name=""/>
          <p:cNvSpPr/>
          <p:nvPr/>
        </p:nvSpPr>
        <p:spPr>
          <a:xfrm>
            <a:off x="853920" y="4937040"/>
            <a:ext cx="80708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peut-être pas le temps d'en par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et peut-être même pas le tem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d'arriver jusque là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5" name="PlaceHolder 1"/>
          <p:cNvSpPr>
            <a:spLocks noGrp="1"/>
          </p:cNvSpPr>
          <p:nvPr>
            <p:ph type="title"/>
          </p:nvPr>
        </p:nvSpPr>
        <p:spPr>
          <a:xfrm>
            <a:off x="345600" y="590400"/>
            <a:ext cx="4233960" cy="5889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difficultés (quelqu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6" name=""/>
          <p:cNvSpPr/>
          <p:nvPr/>
        </p:nvSpPr>
        <p:spPr>
          <a:xfrm>
            <a:off x="502920" y="1382760"/>
            <a:ext cx="750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ff"/>
                </a:solidFill>
                <a:latin typeface="Comic Sans MS"/>
              </a:rPr>
              <a:t>but primordial : qualité des mesures de visi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justesse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mesures sans bia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ecision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barres d'erreurs faib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ensibilité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 accès aux visibilités faible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délité 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robustesse des mesures, reproductibilit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7" name=""/>
          <p:cNvSpPr/>
          <p:nvPr/>
        </p:nvSpPr>
        <p:spPr>
          <a:xfrm>
            <a:off x="379800" y="3660840"/>
            <a:ext cx="779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ff"/>
                </a:solidFill>
                <a:latin typeface="Comic Sans MS"/>
              </a:rPr>
              <a:t>trois points "clef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tabilité :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out écart au nominal dégrade la me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alibration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ecessité de compenser les degra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apport Signal à Bruit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iabilité des me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8" name=""/>
          <p:cNvSpPr/>
          <p:nvPr/>
        </p:nvSpPr>
        <p:spPr>
          <a:xfrm>
            <a:off x="342720" y="5659560"/>
            <a:ext cx="7290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ff"/>
                </a:solidFill>
                <a:latin typeface="Comic Sans MS"/>
              </a:rPr>
              <a:t>plusieurs registres de difficult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ethodologiques,  operatoires, exploitation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9" name=""/>
          <p:cNvSpPr/>
          <p:nvPr/>
        </p:nvSpPr>
        <p:spPr>
          <a:xfrm>
            <a:off x="5661000" y="6415200"/>
            <a:ext cx="1581120" cy="442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1" name=""/>
          <p:cNvSpPr/>
          <p:nvPr/>
        </p:nvSpPr>
        <p:spPr>
          <a:xfrm>
            <a:off x="318960" y="768240"/>
            <a:ext cx="35838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llustrations graph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2" name=""/>
          <p:cNvGrpSpPr/>
          <p:nvPr/>
        </p:nvGrpSpPr>
        <p:grpSpPr>
          <a:xfrm>
            <a:off x="3122640" y="1598760"/>
            <a:ext cx="1931040" cy="1440720"/>
            <a:chOff x="3122640" y="1598760"/>
            <a:chExt cx="1931040" cy="1440720"/>
          </a:xfrm>
        </p:grpSpPr>
        <p:grpSp>
          <p:nvGrpSpPr>
            <p:cNvPr id="6523" name=""/>
            <p:cNvGrpSpPr/>
            <p:nvPr/>
          </p:nvGrpSpPr>
          <p:grpSpPr>
            <a:xfrm>
              <a:off x="3122640" y="1598760"/>
              <a:ext cx="1931040" cy="1085760"/>
              <a:chOff x="3122640" y="1598760"/>
              <a:chExt cx="1931040" cy="1085760"/>
            </a:xfrm>
          </p:grpSpPr>
          <p:grpSp>
            <p:nvGrpSpPr>
              <p:cNvPr id="6524" name=""/>
              <p:cNvGrpSpPr/>
              <p:nvPr/>
            </p:nvGrpSpPr>
            <p:grpSpPr>
              <a:xfrm>
                <a:off x="3596760" y="1755720"/>
                <a:ext cx="1456920" cy="883800"/>
                <a:chOff x="3596760" y="1755720"/>
                <a:chExt cx="1456920" cy="883800"/>
              </a:xfrm>
            </p:grpSpPr>
            <p:sp>
              <p:nvSpPr>
                <p:cNvPr id="6525" name=""/>
                <p:cNvSpPr/>
                <p:nvPr/>
              </p:nvSpPr>
              <p:spPr>
                <a:xfrm>
                  <a:off x="3596760" y="2511720"/>
                  <a:ext cx="107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6" name=""/>
                <p:cNvSpPr/>
                <p:nvPr/>
              </p:nvSpPr>
              <p:spPr>
                <a:xfrm flipV="1">
                  <a:off x="3987360" y="1755720"/>
                  <a:ext cx="0" cy="71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7" name=""/>
                <p:cNvSpPr/>
                <p:nvPr/>
              </p:nvSpPr>
              <p:spPr>
                <a:xfrm>
                  <a:off x="4681080" y="217980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28" name=""/>
              <p:cNvSpPr/>
              <p:nvPr/>
            </p:nvSpPr>
            <p:spPr>
              <a:xfrm>
                <a:off x="3755520" y="2119680"/>
                <a:ext cx="464760" cy="377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3122640" y="1598760"/>
                <a:ext cx="79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O(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3727080" y="2684520"/>
                <a:ext cx="55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1" name=""/>
            <p:cNvSpPr/>
            <p:nvPr/>
          </p:nvSpPr>
          <p:spPr>
            <a:xfrm>
              <a:off x="3838680" y="25797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2" name=""/>
          <p:cNvSpPr/>
          <p:nvPr/>
        </p:nvSpPr>
        <p:spPr>
          <a:xfrm>
            <a:off x="432000" y="1841400"/>
            <a:ext cx="134208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just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3" name=""/>
          <p:cNvGrpSpPr/>
          <p:nvPr/>
        </p:nvGrpSpPr>
        <p:grpSpPr>
          <a:xfrm>
            <a:off x="5359680" y="946080"/>
            <a:ext cx="3518280" cy="2350440"/>
            <a:chOff x="5359680" y="946080"/>
            <a:chExt cx="3518280" cy="2350440"/>
          </a:xfrm>
        </p:grpSpPr>
        <p:grpSp>
          <p:nvGrpSpPr>
            <p:cNvPr id="6534" name=""/>
            <p:cNvGrpSpPr/>
            <p:nvPr/>
          </p:nvGrpSpPr>
          <p:grpSpPr>
            <a:xfrm>
              <a:off x="5359680" y="946080"/>
              <a:ext cx="3308400" cy="2350440"/>
              <a:chOff x="5359680" y="946080"/>
              <a:chExt cx="3308400" cy="2350440"/>
            </a:xfrm>
          </p:grpSpPr>
          <p:grpSp>
            <p:nvGrpSpPr>
              <p:cNvPr id="6535" name=""/>
              <p:cNvGrpSpPr/>
              <p:nvPr/>
            </p:nvGrpSpPr>
            <p:grpSpPr>
              <a:xfrm>
                <a:off x="5359680" y="946080"/>
                <a:ext cx="3308400" cy="1912320"/>
                <a:chOff x="5359680" y="946080"/>
                <a:chExt cx="3308400" cy="1912320"/>
              </a:xfrm>
            </p:grpSpPr>
            <p:sp>
              <p:nvSpPr>
                <p:cNvPr id="6536" name=""/>
                <p:cNvSpPr/>
                <p:nvPr/>
              </p:nvSpPr>
              <p:spPr>
                <a:xfrm>
                  <a:off x="5703480" y="2819520"/>
                  <a:ext cx="2657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7" name=""/>
                <p:cNvSpPr/>
                <p:nvPr/>
              </p:nvSpPr>
              <p:spPr>
                <a:xfrm flipV="1">
                  <a:off x="5703480" y="1122480"/>
                  <a:ext cx="0" cy="168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8" name=""/>
                <p:cNvSpPr/>
                <p:nvPr/>
              </p:nvSpPr>
              <p:spPr>
                <a:xfrm>
                  <a:off x="8298360" y="2398680"/>
                  <a:ext cx="369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9" name=""/>
                <p:cNvSpPr/>
                <p:nvPr/>
              </p:nvSpPr>
              <p:spPr>
                <a:xfrm>
                  <a:off x="5785560" y="946080"/>
                  <a:ext cx="735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V(u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0" name=""/>
                <p:cNvSpPr/>
                <p:nvPr/>
              </p:nvSpPr>
              <p:spPr>
                <a:xfrm>
                  <a:off x="5632200" y="1774800"/>
                  <a:ext cx="144000" cy="115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1" name=""/>
                <p:cNvSpPr/>
                <p:nvPr/>
              </p:nvSpPr>
              <p:spPr>
                <a:xfrm>
                  <a:off x="5359680" y="15559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42" name=""/>
              <p:cNvSpPr/>
              <p:nvPr/>
            </p:nvSpPr>
            <p:spPr>
              <a:xfrm>
                <a:off x="6329160" y="1862280"/>
                <a:ext cx="174240" cy="172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6724440" y="2057400"/>
                <a:ext cx="174240" cy="173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7119720" y="2338560"/>
                <a:ext cx="174240" cy="172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6081480" y="1862280"/>
                <a:ext cx="1929960" cy="985680"/>
              </a:xfrm>
              <a:custGeom>
                <a:avLst/>
                <a:gdLst/>
                <a:ahLst/>
                <a:rect l="l" t="t" r="r" b="b"/>
                <a:pathLst>
                  <a:path w="1216" h="621">
                    <a:moveTo>
                      <a:pt x="0" y="0"/>
                    </a:moveTo>
                    <a:cubicBezTo>
                      <a:pt x="76" y="21"/>
                      <a:pt x="153" y="42"/>
                      <a:pt x="229" y="73"/>
                    </a:cubicBezTo>
                    <a:cubicBezTo>
                      <a:pt x="305" y="104"/>
                      <a:pt x="375" y="134"/>
                      <a:pt x="457" y="183"/>
                    </a:cubicBezTo>
                    <a:cubicBezTo>
                      <a:pt x="539" y="232"/>
                      <a:pt x="637" y="298"/>
                      <a:pt x="722" y="366"/>
                    </a:cubicBezTo>
                    <a:cubicBezTo>
                      <a:pt x="807" y="434"/>
                      <a:pt x="913" y="567"/>
                      <a:pt x="969" y="594"/>
                    </a:cubicBezTo>
                    <a:cubicBezTo>
                      <a:pt x="1025" y="621"/>
                      <a:pt x="1020" y="547"/>
                      <a:pt x="1061" y="530"/>
                    </a:cubicBezTo>
                    <a:cubicBezTo>
                      <a:pt x="1102" y="513"/>
                      <a:pt x="1184" y="501"/>
                      <a:pt x="1216" y="49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46" name=""/>
              <p:cNvGrpSpPr/>
              <p:nvPr/>
            </p:nvGrpSpPr>
            <p:grpSpPr>
              <a:xfrm>
                <a:off x="6310080" y="2071800"/>
                <a:ext cx="964440" cy="649080"/>
                <a:chOff x="6310080" y="2071800"/>
                <a:chExt cx="964440" cy="649080"/>
              </a:xfrm>
            </p:grpSpPr>
            <p:sp>
              <p:nvSpPr>
                <p:cNvPr id="6547" name=""/>
                <p:cNvSpPr/>
                <p:nvPr/>
              </p:nvSpPr>
              <p:spPr>
                <a:xfrm>
                  <a:off x="6310080" y="2071800"/>
                  <a:ext cx="174240" cy="17280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8" name=""/>
                <p:cNvSpPr/>
                <p:nvPr/>
              </p:nvSpPr>
              <p:spPr>
                <a:xfrm>
                  <a:off x="6705000" y="2266920"/>
                  <a:ext cx="174240" cy="17316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9" name=""/>
                <p:cNvSpPr/>
                <p:nvPr/>
              </p:nvSpPr>
              <p:spPr>
                <a:xfrm>
                  <a:off x="7100280" y="2548080"/>
                  <a:ext cx="174240" cy="17280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0" name=""/>
              <p:cNvSpPr/>
              <p:nvPr/>
            </p:nvSpPr>
            <p:spPr>
              <a:xfrm>
                <a:off x="6109920" y="2036880"/>
                <a:ext cx="1263240" cy="782640"/>
              </a:xfrm>
              <a:custGeom>
                <a:avLst/>
                <a:gdLst/>
                <a:ahLst/>
                <a:rect l="l" t="t" r="r" b="b"/>
                <a:pathLst>
                  <a:path w="796" h="493">
                    <a:moveTo>
                      <a:pt x="0" y="0"/>
                    </a:moveTo>
                    <a:cubicBezTo>
                      <a:pt x="69" y="23"/>
                      <a:pt x="138" y="47"/>
                      <a:pt x="211" y="82"/>
                    </a:cubicBezTo>
                    <a:cubicBezTo>
                      <a:pt x="284" y="117"/>
                      <a:pt x="361" y="161"/>
                      <a:pt x="439" y="210"/>
                    </a:cubicBezTo>
                    <a:cubicBezTo>
                      <a:pt x="517" y="259"/>
                      <a:pt x="618" y="328"/>
                      <a:pt x="677" y="375"/>
                    </a:cubicBezTo>
                    <a:cubicBezTo>
                      <a:pt x="736" y="422"/>
                      <a:pt x="766" y="457"/>
                      <a:pt x="796" y="49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7576920" y="2776680"/>
                <a:ext cx="129600" cy="889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7265520" y="2782800"/>
                <a:ext cx="129960" cy="889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7717320" y="2836800"/>
                <a:ext cx="59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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6438240" y="2732040"/>
                <a:ext cx="11239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</a:t>
                </a:r>
                <a:r>
                  <a:rPr b="0" lang="fr-FR" sz="2400" spc="-1" strike="noStrike" baseline="-25000">
                    <a:solidFill>
                      <a:srgbClr val="ff3300"/>
                    </a:solidFill>
                    <a:latin typeface="Comic Sans MS"/>
                  </a:rPr>
                  <a:t>mesu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5" name=""/>
            <p:cNvSpPr/>
            <p:nvPr/>
          </p:nvSpPr>
          <p:spPr>
            <a:xfrm>
              <a:off x="6604920" y="1582560"/>
              <a:ext cx="22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mesur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= trop gr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6" name=""/>
          <p:cNvGrpSpPr/>
          <p:nvPr/>
        </p:nvGrpSpPr>
        <p:grpSpPr>
          <a:xfrm>
            <a:off x="2268720" y="3240000"/>
            <a:ext cx="1961640" cy="1038960"/>
            <a:chOff x="2268720" y="3240000"/>
            <a:chExt cx="1961640" cy="1038960"/>
          </a:xfrm>
        </p:grpSpPr>
        <p:grpSp>
          <p:nvGrpSpPr>
            <p:cNvPr id="6557" name=""/>
            <p:cNvGrpSpPr/>
            <p:nvPr/>
          </p:nvGrpSpPr>
          <p:grpSpPr>
            <a:xfrm>
              <a:off x="2268720" y="3240000"/>
              <a:ext cx="1961640" cy="1038960"/>
              <a:chOff x="2268720" y="3240000"/>
              <a:chExt cx="1961640" cy="1038960"/>
            </a:xfrm>
          </p:grpSpPr>
          <p:grpSp>
            <p:nvGrpSpPr>
              <p:cNvPr id="6558" name=""/>
              <p:cNvGrpSpPr/>
              <p:nvPr/>
            </p:nvGrpSpPr>
            <p:grpSpPr>
              <a:xfrm>
                <a:off x="2773440" y="3395160"/>
                <a:ext cx="1456920" cy="883800"/>
                <a:chOff x="2773440" y="3395160"/>
                <a:chExt cx="1456920" cy="883800"/>
              </a:xfrm>
            </p:grpSpPr>
            <p:sp>
              <p:nvSpPr>
                <p:cNvPr id="6559" name=""/>
                <p:cNvSpPr/>
                <p:nvPr/>
              </p:nvSpPr>
              <p:spPr>
                <a:xfrm>
                  <a:off x="2773440" y="4151160"/>
                  <a:ext cx="107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0" name=""/>
                <p:cNvSpPr/>
                <p:nvPr/>
              </p:nvSpPr>
              <p:spPr>
                <a:xfrm flipV="1">
                  <a:off x="3164040" y="3395160"/>
                  <a:ext cx="0" cy="711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1" name=""/>
                <p:cNvSpPr/>
                <p:nvPr/>
              </p:nvSpPr>
              <p:spPr>
                <a:xfrm>
                  <a:off x="3857760" y="381924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62" name=""/>
              <p:cNvSpPr/>
              <p:nvPr/>
            </p:nvSpPr>
            <p:spPr>
              <a:xfrm>
                <a:off x="2268720" y="3240000"/>
                <a:ext cx="79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O(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3" name=""/>
            <p:cNvSpPr/>
            <p:nvPr/>
          </p:nvSpPr>
          <p:spPr>
            <a:xfrm>
              <a:off x="3121200" y="3700440"/>
              <a:ext cx="37800" cy="4507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3465360" y="3925800"/>
              <a:ext cx="38160" cy="204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5" name=""/>
          <p:cNvGrpSpPr/>
          <p:nvPr/>
        </p:nvGrpSpPr>
        <p:grpSpPr>
          <a:xfrm>
            <a:off x="5406120" y="3073320"/>
            <a:ext cx="3855240" cy="1912320"/>
            <a:chOff x="5406120" y="3073320"/>
            <a:chExt cx="3855240" cy="1912320"/>
          </a:xfrm>
        </p:grpSpPr>
        <p:sp>
          <p:nvSpPr>
            <p:cNvPr id="6566" name=""/>
            <p:cNvSpPr/>
            <p:nvPr/>
          </p:nvSpPr>
          <p:spPr>
            <a:xfrm>
              <a:off x="5749920" y="4946400"/>
              <a:ext cx="265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 flipV="1">
              <a:off x="5749920" y="3249360"/>
              <a:ext cx="0" cy="16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8344800" y="452592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5832000" y="3073320"/>
              <a:ext cx="73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V(u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5678640" y="3673440"/>
              <a:ext cx="144360" cy="11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5406120" y="3454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5743440" y="3749400"/>
              <a:ext cx="2511360" cy="957240"/>
            </a:xfrm>
            <a:custGeom>
              <a:avLst/>
              <a:gdLst/>
              <a:ahLst/>
              <a:rect l="l" t="t" r="r" b="b"/>
              <a:pathLst>
                <a:path w="1582" h="603">
                  <a:moveTo>
                    <a:pt x="0" y="0"/>
                  </a:moveTo>
                  <a:cubicBezTo>
                    <a:pt x="43" y="18"/>
                    <a:pt x="163" y="90"/>
                    <a:pt x="256" y="110"/>
                  </a:cubicBezTo>
                  <a:cubicBezTo>
                    <a:pt x="349" y="130"/>
                    <a:pt x="451" y="81"/>
                    <a:pt x="558" y="119"/>
                  </a:cubicBezTo>
                  <a:cubicBezTo>
                    <a:pt x="665" y="157"/>
                    <a:pt x="788" y="286"/>
                    <a:pt x="896" y="338"/>
                  </a:cubicBezTo>
                  <a:cubicBezTo>
                    <a:pt x="1004" y="390"/>
                    <a:pt x="1122" y="393"/>
                    <a:pt x="1207" y="430"/>
                  </a:cubicBezTo>
                  <a:cubicBezTo>
                    <a:pt x="1292" y="467"/>
                    <a:pt x="1345" y="529"/>
                    <a:pt x="1408" y="558"/>
                  </a:cubicBezTo>
                  <a:cubicBezTo>
                    <a:pt x="1471" y="587"/>
                    <a:pt x="1546" y="594"/>
                    <a:pt x="1582" y="603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5729400" y="3735360"/>
              <a:ext cx="2627280" cy="1029960"/>
            </a:xfrm>
            <a:custGeom>
              <a:avLst/>
              <a:gdLst/>
              <a:ahLst/>
              <a:rect l="l" t="t" r="r" b="b"/>
              <a:pathLst>
                <a:path w="1655" h="649">
                  <a:moveTo>
                    <a:pt x="0" y="0"/>
                  </a:moveTo>
                  <a:cubicBezTo>
                    <a:pt x="201" y="33"/>
                    <a:pt x="402" y="67"/>
                    <a:pt x="603" y="137"/>
                  </a:cubicBezTo>
                  <a:cubicBezTo>
                    <a:pt x="804" y="207"/>
                    <a:pt x="1032" y="335"/>
                    <a:pt x="1207" y="420"/>
                  </a:cubicBezTo>
                  <a:cubicBezTo>
                    <a:pt x="1382" y="505"/>
                    <a:pt x="1518" y="577"/>
                    <a:pt x="1655" y="64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6222960" y="3690720"/>
              <a:ext cx="88920" cy="3636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6789600" y="3843000"/>
              <a:ext cx="88920" cy="3636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7170840" y="4109760"/>
              <a:ext cx="88920" cy="3636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6912000" y="3462120"/>
              <a:ext cx="23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binarité = non v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8" name=""/>
          <p:cNvSpPr/>
          <p:nvPr/>
        </p:nvSpPr>
        <p:spPr>
          <a:xfrm>
            <a:off x="394200" y="3467160"/>
            <a:ext cx="149148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9" name=""/>
          <p:cNvGrpSpPr/>
          <p:nvPr/>
        </p:nvGrpSpPr>
        <p:grpSpPr>
          <a:xfrm>
            <a:off x="2344680" y="4433760"/>
            <a:ext cx="2382480" cy="966240"/>
            <a:chOff x="2344680" y="4433760"/>
            <a:chExt cx="2382480" cy="966240"/>
          </a:xfrm>
        </p:grpSpPr>
        <p:sp>
          <p:nvSpPr>
            <p:cNvPr id="6580" name=""/>
            <p:cNvSpPr/>
            <p:nvPr/>
          </p:nvSpPr>
          <p:spPr>
            <a:xfrm>
              <a:off x="2695320" y="5345280"/>
              <a:ext cx="175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1" name=""/>
            <p:cNvSpPr/>
            <p:nvPr/>
          </p:nvSpPr>
          <p:spPr>
            <a:xfrm flipV="1">
              <a:off x="3240000" y="4589280"/>
              <a:ext cx="0" cy="71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4354560" y="4940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2344680" y="4433760"/>
              <a:ext cx="79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O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2854080" y="5004000"/>
              <a:ext cx="770040" cy="3348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4132080" y="5192640"/>
              <a:ext cx="88920" cy="1447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6" name=""/>
          <p:cNvGrpSpPr/>
          <p:nvPr/>
        </p:nvGrpSpPr>
        <p:grpSpPr>
          <a:xfrm>
            <a:off x="2482920" y="5357880"/>
            <a:ext cx="2382480" cy="966240"/>
            <a:chOff x="2482920" y="5357880"/>
            <a:chExt cx="2382480" cy="966240"/>
          </a:xfrm>
        </p:grpSpPr>
        <p:sp>
          <p:nvSpPr>
            <p:cNvPr id="6587" name=""/>
            <p:cNvSpPr/>
            <p:nvPr/>
          </p:nvSpPr>
          <p:spPr>
            <a:xfrm>
              <a:off x="2833560" y="6269040"/>
              <a:ext cx="175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 flipV="1">
              <a:off x="3378240" y="5513400"/>
              <a:ext cx="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4492800" y="58644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2482920" y="5357880"/>
              <a:ext cx="79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O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2992320" y="6058080"/>
              <a:ext cx="770040" cy="204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3346560" y="5838840"/>
              <a:ext cx="88920" cy="3920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3" name=""/>
          <p:cNvSpPr/>
          <p:nvPr/>
        </p:nvSpPr>
        <p:spPr>
          <a:xfrm>
            <a:off x="5670720" y="6821640"/>
            <a:ext cx="265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4" name=""/>
          <p:cNvSpPr/>
          <p:nvPr/>
        </p:nvSpPr>
        <p:spPr>
          <a:xfrm flipV="1">
            <a:off x="5670720" y="5124600"/>
            <a:ext cx="0" cy="16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5" name=""/>
          <p:cNvSpPr/>
          <p:nvPr/>
        </p:nvSpPr>
        <p:spPr>
          <a:xfrm>
            <a:off x="8265600" y="640080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6" name=""/>
          <p:cNvSpPr/>
          <p:nvPr/>
        </p:nvSpPr>
        <p:spPr>
          <a:xfrm>
            <a:off x="5752800" y="4948200"/>
            <a:ext cx="7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7" name=""/>
          <p:cNvSpPr/>
          <p:nvPr/>
        </p:nvSpPr>
        <p:spPr>
          <a:xfrm>
            <a:off x="5599080" y="5548320"/>
            <a:ext cx="144360" cy="115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8" name=""/>
          <p:cNvSpPr/>
          <p:nvPr/>
        </p:nvSpPr>
        <p:spPr>
          <a:xfrm>
            <a:off x="5326560" y="5329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9" name=""/>
          <p:cNvSpPr/>
          <p:nvPr/>
        </p:nvSpPr>
        <p:spPr>
          <a:xfrm>
            <a:off x="5664240" y="5624640"/>
            <a:ext cx="2754360" cy="1139760"/>
          </a:xfrm>
          <a:custGeom>
            <a:avLst/>
            <a:gdLst/>
            <a:ahLst/>
            <a:rect l="l" t="t" r="r" b="b"/>
            <a:pathLst>
              <a:path w="1735" h="718">
                <a:moveTo>
                  <a:pt x="0" y="0"/>
                </a:moveTo>
                <a:cubicBezTo>
                  <a:pt x="30" y="31"/>
                  <a:pt x="113" y="89"/>
                  <a:pt x="181" y="187"/>
                </a:cubicBezTo>
                <a:cubicBezTo>
                  <a:pt x="249" y="285"/>
                  <a:pt x="330" y="514"/>
                  <a:pt x="409" y="590"/>
                </a:cubicBezTo>
                <a:cubicBezTo>
                  <a:pt x="488" y="666"/>
                  <a:pt x="539" y="632"/>
                  <a:pt x="656" y="644"/>
                </a:cubicBezTo>
                <a:cubicBezTo>
                  <a:pt x="773" y="656"/>
                  <a:pt x="985" y="658"/>
                  <a:pt x="1113" y="663"/>
                </a:cubicBezTo>
                <a:cubicBezTo>
                  <a:pt x="1241" y="668"/>
                  <a:pt x="1320" y="663"/>
                  <a:pt x="1424" y="672"/>
                </a:cubicBezTo>
                <a:cubicBezTo>
                  <a:pt x="1528" y="681"/>
                  <a:pt x="1670" y="709"/>
                  <a:pt x="1735" y="71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0" name=""/>
          <p:cNvSpPr/>
          <p:nvPr/>
        </p:nvSpPr>
        <p:spPr>
          <a:xfrm>
            <a:off x="5649840" y="5610240"/>
            <a:ext cx="2246400" cy="1138320"/>
          </a:xfrm>
          <a:custGeom>
            <a:avLst/>
            <a:gdLst/>
            <a:ahLst/>
            <a:rect l="l" t="t" r="r" b="b"/>
            <a:pathLst>
              <a:path w="1415" h="717">
                <a:moveTo>
                  <a:pt x="0" y="0"/>
                </a:moveTo>
                <a:cubicBezTo>
                  <a:pt x="36" y="28"/>
                  <a:pt x="150" y="95"/>
                  <a:pt x="217" y="169"/>
                </a:cubicBezTo>
                <a:cubicBezTo>
                  <a:pt x="284" y="243"/>
                  <a:pt x="341" y="356"/>
                  <a:pt x="400" y="443"/>
                </a:cubicBezTo>
                <a:cubicBezTo>
                  <a:pt x="459" y="530"/>
                  <a:pt x="492" y="669"/>
                  <a:pt x="574" y="690"/>
                </a:cubicBezTo>
                <a:cubicBezTo>
                  <a:pt x="656" y="711"/>
                  <a:pt x="803" y="586"/>
                  <a:pt x="894" y="571"/>
                </a:cubicBezTo>
                <a:cubicBezTo>
                  <a:pt x="985" y="556"/>
                  <a:pt x="1035" y="575"/>
                  <a:pt x="1122" y="599"/>
                </a:cubicBezTo>
                <a:cubicBezTo>
                  <a:pt x="1209" y="623"/>
                  <a:pt x="1354" y="693"/>
                  <a:pt x="1415" y="717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1" name=""/>
          <p:cNvSpPr/>
          <p:nvPr/>
        </p:nvSpPr>
        <p:spPr>
          <a:xfrm>
            <a:off x="6169680" y="5424480"/>
            <a:ext cx="25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tructure = non v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2" name=""/>
          <p:cNvSpPr/>
          <p:nvPr/>
        </p:nvSpPr>
        <p:spPr>
          <a:xfrm>
            <a:off x="3570120" y="4525920"/>
            <a:ext cx="66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3" name=""/>
          <p:cNvSpPr/>
          <p:nvPr/>
        </p:nvSpPr>
        <p:spPr>
          <a:xfrm>
            <a:off x="6606720" y="5969160"/>
            <a:ext cx="21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 min acce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4" name=""/>
          <p:cNvSpPr/>
          <p:nvPr/>
        </p:nvSpPr>
        <p:spPr>
          <a:xfrm>
            <a:off x="5864400" y="5718240"/>
            <a:ext cx="88560" cy="30456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5" name=""/>
          <p:cNvSpPr/>
          <p:nvPr/>
        </p:nvSpPr>
        <p:spPr>
          <a:xfrm>
            <a:off x="6016680" y="5913360"/>
            <a:ext cx="88920" cy="3049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6" name=""/>
          <p:cNvSpPr/>
          <p:nvPr/>
        </p:nvSpPr>
        <p:spPr>
          <a:xfrm>
            <a:off x="429120" y="5137200"/>
            <a:ext cx="162108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ensi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7" name="PlaceHolder 1"/>
          <p:cNvSpPr>
            <a:spLocks noGrp="1"/>
          </p:cNvSpPr>
          <p:nvPr>
            <p:ph type="title"/>
          </p:nvPr>
        </p:nvSpPr>
        <p:spPr>
          <a:xfrm>
            <a:off x="185400" y="590040"/>
            <a:ext cx="781380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auses et natures des degradations de la mesure de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8" name=""/>
          <p:cNvGrpSpPr/>
          <p:nvPr/>
        </p:nvGrpSpPr>
        <p:grpSpPr>
          <a:xfrm>
            <a:off x="237600" y="4929120"/>
            <a:ext cx="8422560" cy="1736640"/>
            <a:chOff x="237600" y="4929120"/>
            <a:chExt cx="8422560" cy="1736640"/>
          </a:xfrm>
        </p:grpSpPr>
        <p:sp>
          <p:nvSpPr>
            <p:cNvPr id="6609" name=""/>
            <p:cNvSpPr/>
            <p:nvPr/>
          </p:nvSpPr>
          <p:spPr>
            <a:xfrm>
              <a:off x="237600" y="5291280"/>
              <a:ext cx="8422560" cy="13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oute instabilité des paramètres de la configu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MAIS au sol, il faut inclure l'atmosphere dans la configu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iston,  tip-tilt, speck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ici  q devient aléatoire, on doit en estimer la valeur moyen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304560" y="4929120"/>
              <a:ext cx="397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causes de nature aléato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1" name=""/>
          <p:cNvGrpSpPr/>
          <p:nvPr/>
        </p:nvGrpSpPr>
        <p:grpSpPr>
          <a:xfrm>
            <a:off x="336240" y="1130400"/>
            <a:ext cx="8546040" cy="3697560"/>
            <a:chOff x="336240" y="1130400"/>
            <a:chExt cx="8546040" cy="3697560"/>
          </a:xfrm>
        </p:grpSpPr>
        <p:sp>
          <p:nvSpPr>
            <p:cNvPr id="6612" name=""/>
            <p:cNvSpPr/>
            <p:nvPr/>
          </p:nvSpPr>
          <p:spPr>
            <a:xfrm>
              <a:off x="336240" y="1130400"/>
              <a:ext cx="45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causes de nature determinis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357480" y="1623960"/>
              <a:ext cx="8524800" cy="32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justement non-nominal des paramètres de la configu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lignements optiques, aberr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échantillonnage des franges (spatio-tempore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metrologie ( maintien à zero, de la dd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ésequilibre photometrique (I1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I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non compensation d'effets exterieurs à la configu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refraction differentielle atmospher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onjugaison de pupilles (entrée / sorti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rientation des polarisations (vecteurs champs  non \\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alage de la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4" name=""/>
          <p:cNvSpPr/>
          <p:nvPr/>
        </p:nvSpPr>
        <p:spPr>
          <a:xfrm>
            <a:off x="6965640" y="4557600"/>
            <a:ext cx="1680120" cy="875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omic Sans MS"/>
              </a:rPr>
              <a:t>mesur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= q.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vec q &l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5" name="PlaceHolder 1"/>
          <p:cNvSpPr>
            <a:spLocks noGrp="1"/>
          </p:cNvSpPr>
          <p:nvPr>
            <p:ph/>
          </p:nvPr>
        </p:nvSpPr>
        <p:spPr>
          <a:xfrm>
            <a:off x="569880" y="219240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6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66"/>
                </a:solidFill>
                <a:latin typeface="Comic Sans MS"/>
              </a:rPr>
              <a:t>P   :  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bruit de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r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nslatées aléatoire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t en perman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TT : tip-til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uvaise superposition des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Comic Sans MS"/>
              </a:rPr>
              <a:t>Speckles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6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6" name="PlaceHolder 2"/>
          <p:cNvSpPr>
            <a:spLocks noGrp="1"/>
          </p:cNvSpPr>
          <p:nvPr>
            <p:ph type="title"/>
          </p:nvPr>
        </p:nvSpPr>
        <p:spPr>
          <a:xfrm>
            <a:off x="281160" y="652320"/>
            <a:ext cx="8596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auses aléatoires : atmosphère et 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7" name=""/>
          <p:cNvSpPr/>
          <p:nvPr/>
        </p:nvSpPr>
        <p:spPr>
          <a:xfrm>
            <a:off x="428760" y="1762200"/>
            <a:ext cx="18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8" name=""/>
          <p:cNvSpPr/>
          <p:nvPr/>
        </p:nvSpPr>
        <p:spPr>
          <a:xfrm>
            <a:off x="528480" y="1389240"/>
            <a:ext cx="2173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tmosphère !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9" name=""/>
          <p:cNvSpPr/>
          <p:nvPr/>
        </p:nvSpPr>
        <p:spPr>
          <a:xfrm>
            <a:off x="5169600" y="141768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tout bou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0" name=""/>
          <p:cNvSpPr/>
          <p:nvPr/>
        </p:nvSpPr>
        <p:spPr>
          <a:xfrm>
            <a:off x="5365080" y="158436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tout bou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1" name=""/>
          <p:cNvSpPr/>
          <p:nvPr/>
        </p:nvSpPr>
        <p:spPr>
          <a:xfrm>
            <a:off x="5245920" y="169380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tout bou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2" name=""/>
          <p:cNvSpPr/>
          <p:nvPr/>
        </p:nvSpPr>
        <p:spPr>
          <a:xfrm>
            <a:off x="5698440" y="184644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tout bou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3" name=""/>
          <p:cNvGrpSpPr/>
          <p:nvPr/>
        </p:nvGrpSpPr>
        <p:grpSpPr>
          <a:xfrm>
            <a:off x="7470720" y="5237280"/>
            <a:ext cx="1179720" cy="1340640"/>
            <a:chOff x="7470720" y="5237280"/>
            <a:chExt cx="1179720" cy="1340640"/>
          </a:xfrm>
        </p:grpSpPr>
        <p:grpSp>
          <p:nvGrpSpPr>
            <p:cNvPr id="6624" name=""/>
            <p:cNvGrpSpPr/>
            <p:nvPr/>
          </p:nvGrpSpPr>
          <p:grpSpPr>
            <a:xfrm>
              <a:off x="7470720" y="5237280"/>
              <a:ext cx="1077840" cy="1022400"/>
              <a:chOff x="7470720" y="5237280"/>
              <a:chExt cx="1077840" cy="1022400"/>
            </a:xfrm>
          </p:grpSpPr>
          <p:grpSp>
            <p:nvGrpSpPr>
              <p:cNvPr id="6625" name=""/>
              <p:cNvGrpSpPr/>
              <p:nvPr/>
            </p:nvGrpSpPr>
            <p:grpSpPr>
              <a:xfrm>
                <a:off x="7870680" y="5900760"/>
                <a:ext cx="292320" cy="231840"/>
                <a:chOff x="7870680" y="5900760"/>
                <a:chExt cx="292320" cy="231840"/>
              </a:xfrm>
            </p:grpSpPr>
            <p:sp>
              <p:nvSpPr>
                <p:cNvPr id="6626" name=""/>
                <p:cNvSpPr/>
                <p:nvPr/>
              </p:nvSpPr>
              <p:spPr>
                <a:xfrm>
                  <a:off x="7881840" y="6093000"/>
                  <a:ext cx="281160" cy="3960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7" name=""/>
                <p:cNvSpPr/>
                <p:nvPr/>
              </p:nvSpPr>
              <p:spPr>
                <a:xfrm>
                  <a:off x="7881840" y="6031080"/>
                  <a:ext cx="281160" cy="4104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8" name=""/>
                <p:cNvSpPr/>
                <p:nvPr/>
              </p:nvSpPr>
              <p:spPr>
                <a:xfrm>
                  <a:off x="7881840" y="5961240"/>
                  <a:ext cx="271440" cy="3960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9" name=""/>
                <p:cNvSpPr/>
                <p:nvPr/>
              </p:nvSpPr>
              <p:spPr>
                <a:xfrm>
                  <a:off x="7870680" y="5900760"/>
                  <a:ext cx="282600" cy="396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30" name=""/>
              <p:cNvSpPr/>
              <p:nvPr/>
            </p:nvSpPr>
            <p:spPr>
              <a:xfrm>
                <a:off x="7827840" y="5862600"/>
                <a:ext cx="357480" cy="328680"/>
              </a:xfrm>
              <a:prstGeom prst="ellipse">
                <a:avLst/>
              </a:prstGeom>
              <a:noFill/>
              <a:ln w="87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1" name=""/>
              <p:cNvGrpSpPr/>
              <p:nvPr/>
            </p:nvGrpSpPr>
            <p:grpSpPr>
              <a:xfrm>
                <a:off x="8228160" y="5506920"/>
                <a:ext cx="282600" cy="231840"/>
                <a:chOff x="8228160" y="5506920"/>
                <a:chExt cx="282600" cy="231840"/>
              </a:xfrm>
            </p:grpSpPr>
            <p:sp>
              <p:nvSpPr>
                <p:cNvPr id="6632" name=""/>
                <p:cNvSpPr/>
                <p:nvPr/>
              </p:nvSpPr>
              <p:spPr>
                <a:xfrm>
                  <a:off x="8238960" y="5699160"/>
                  <a:ext cx="271800" cy="3960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3" name=""/>
                <p:cNvSpPr/>
                <p:nvPr/>
              </p:nvSpPr>
              <p:spPr>
                <a:xfrm>
                  <a:off x="8238960" y="5627880"/>
                  <a:ext cx="271800" cy="4104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4" name=""/>
                <p:cNvSpPr/>
                <p:nvPr/>
              </p:nvSpPr>
              <p:spPr>
                <a:xfrm>
                  <a:off x="8228160" y="5567400"/>
                  <a:ext cx="282600" cy="4140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5" name=""/>
                <p:cNvSpPr/>
                <p:nvPr/>
              </p:nvSpPr>
              <p:spPr>
                <a:xfrm>
                  <a:off x="8228160" y="5506920"/>
                  <a:ext cx="271440" cy="4140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36" name=""/>
              <p:cNvSpPr/>
              <p:nvPr/>
            </p:nvSpPr>
            <p:spPr>
              <a:xfrm>
                <a:off x="8185320" y="5448240"/>
                <a:ext cx="357120" cy="319320"/>
              </a:xfrm>
              <a:prstGeom prst="ellipse">
                <a:avLst/>
              </a:prstGeom>
              <a:noFill/>
              <a:ln w="65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7" name=""/>
              <p:cNvGrpSpPr/>
              <p:nvPr/>
            </p:nvGrpSpPr>
            <p:grpSpPr>
              <a:xfrm>
                <a:off x="7794720" y="5237280"/>
                <a:ext cx="358560" cy="328680"/>
                <a:chOff x="7794720" y="5237280"/>
                <a:chExt cx="358560" cy="328680"/>
              </a:xfrm>
            </p:grpSpPr>
            <p:grpSp>
              <p:nvGrpSpPr>
                <p:cNvPr id="6638" name=""/>
                <p:cNvGrpSpPr/>
                <p:nvPr/>
              </p:nvGrpSpPr>
              <p:grpSpPr>
                <a:xfrm>
                  <a:off x="7839000" y="5265720"/>
                  <a:ext cx="281160" cy="231840"/>
                  <a:chOff x="7839000" y="5265720"/>
                  <a:chExt cx="281160" cy="231840"/>
                </a:xfrm>
              </p:grpSpPr>
              <p:sp>
                <p:nvSpPr>
                  <p:cNvPr id="6639" name=""/>
                  <p:cNvSpPr/>
                  <p:nvPr/>
                </p:nvSpPr>
                <p:spPr>
                  <a:xfrm>
                    <a:off x="7850160" y="5456160"/>
                    <a:ext cx="270000" cy="4140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0" name=""/>
                  <p:cNvSpPr/>
                  <p:nvPr/>
                </p:nvSpPr>
                <p:spPr>
                  <a:xfrm>
                    <a:off x="7839000" y="5396040"/>
                    <a:ext cx="281160" cy="41040"/>
                  </a:xfrm>
                  <a:prstGeom prst="rect">
                    <a:avLst/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1" name=""/>
                  <p:cNvSpPr/>
                  <p:nvPr/>
                </p:nvSpPr>
                <p:spPr>
                  <a:xfrm>
                    <a:off x="7839000" y="5326200"/>
                    <a:ext cx="281160" cy="39600"/>
                  </a:xfrm>
                  <a:prstGeom prst="rect">
                    <a:avLst/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2" name=""/>
                  <p:cNvSpPr/>
                  <p:nvPr/>
                </p:nvSpPr>
                <p:spPr>
                  <a:xfrm>
                    <a:off x="7839000" y="5265720"/>
                    <a:ext cx="270000" cy="39600"/>
                  </a:xfrm>
                  <a:prstGeom prst="rect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43" name=""/>
                <p:cNvSpPr/>
                <p:nvPr/>
              </p:nvSpPr>
              <p:spPr>
                <a:xfrm>
                  <a:off x="7794720" y="5237280"/>
                  <a:ext cx="358560" cy="328680"/>
                </a:xfrm>
                <a:prstGeom prst="ellipse">
                  <a:avLst/>
                </a:prstGeom>
                <a:noFill/>
                <a:ln w="87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4" name=""/>
              <p:cNvGrpSpPr/>
              <p:nvPr/>
            </p:nvGrpSpPr>
            <p:grpSpPr>
              <a:xfrm>
                <a:off x="7513560" y="5438880"/>
                <a:ext cx="358920" cy="328680"/>
                <a:chOff x="7513560" y="5438880"/>
                <a:chExt cx="358920" cy="328680"/>
              </a:xfrm>
            </p:grpSpPr>
            <p:grpSp>
              <p:nvGrpSpPr>
                <p:cNvPr id="6645" name=""/>
                <p:cNvGrpSpPr/>
                <p:nvPr/>
              </p:nvGrpSpPr>
              <p:grpSpPr>
                <a:xfrm>
                  <a:off x="7547040" y="5506920"/>
                  <a:ext cx="280800" cy="231840"/>
                  <a:chOff x="7547040" y="5506920"/>
                  <a:chExt cx="280800" cy="231840"/>
                </a:xfrm>
              </p:grpSpPr>
              <p:sp>
                <p:nvSpPr>
                  <p:cNvPr id="6646" name=""/>
                  <p:cNvSpPr/>
                  <p:nvPr/>
                </p:nvSpPr>
                <p:spPr>
                  <a:xfrm>
                    <a:off x="7547040" y="5506920"/>
                    <a:ext cx="269640" cy="41400"/>
                  </a:xfrm>
                  <a:prstGeom prst="rect">
                    <a:avLst/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7" name=""/>
                  <p:cNvSpPr/>
                  <p:nvPr/>
                </p:nvSpPr>
                <p:spPr>
                  <a:xfrm>
                    <a:off x="7547040" y="5567400"/>
                    <a:ext cx="280800" cy="41400"/>
                  </a:xfrm>
                  <a:prstGeom prst="rect">
                    <a:avLst/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8" name=""/>
                  <p:cNvSpPr/>
                  <p:nvPr/>
                </p:nvSpPr>
                <p:spPr>
                  <a:xfrm>
                    <a:off x="7547040" y="5627880"/>
                    <a:ext cx="280800" cy="41040"/>
                  </a:xfrm>
                  <a:prstGeom prst="rect">
                    <a:avLst/>
                  </a:pr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9" name=""/>
                  <p:cNvSpPr/>
                  <p:nvPr/>
                </p:nvSpPr>
                <p:spPr>
                  <a:xfrm>
                    <a:off x="7558200" y="5699160"/>
                    <a:ext cx="269640" cy="39600"/>
                  </a:xfrm>
                  <a:prstGeom prst="rect">
                    <a:avLst/>
                  </a:prstGeom>
                  <a:blipFill rotWithShape="0">
                    <a:blip r:embed="rId1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50" name=""/>
                <p:cNvSpPr/>
                <p:nvPr/>
              </p:nvSpPr>
              <p:spPr>
                <a:xfrm>
                  <a:off x="7513560" y="5438880"/>
                  <a:ext cx="358920" cy="328680"/>
                </a:xfrm>
                <a:prstGeom prst="ellipse">
                  <a:avLst/>
                </a:prstGeom>
                <a:noFill/>
                <a:ln w="87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1" name=""/>
              <p:cNvGrpSpPr/>
              <p:nvPr/>
            </p:nvGrpSpPr>
            <p:grpSpPr>
              <a:xfrm>
                <a:off x="7904160" y="5558040"/>
                <a:ext cx="291960" cy="231480"/>
                <a:chOff x="7904160" y="5558040"/>
                <a:chExt cx="291960" cy="231480"/>
              </a:xfrm>
            </p:grpSpPr>
            <p:sp>
              <p:nvSpPr>
                <p:cNvPr id="6652" name=""/>
                <p:cNvSpPr/>
                <p:nvPr/>
              </p:nvSpPr>
              <p:spPr>
                <a:xfrm>
                  <a:off x="7904160" y="5558040"/>
                  <a:ext cx="281160" cy="39600"/>
                </a:xfrm>
                <a:prstGeom prst="rect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3" name=""/>
                <p:cNvSpPr/>
                <p:nvPr/>
              </p:nvSpPr>
              <p:spPr>
                <a:xfrm>
                  <a:off x="7904160" y="5618160"/>
                  <a:ext cx="281160" cy="41400"/>
                </a:xfrm>
                <a:prstGeom prst="rect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4" name=""/>
                <p:cNvSpPr/>
                <p:nvPr/>
              </p:nvSpPr>
              <p:spPr>
                <a:xfrm>
                  <a:off x="7915320" y="5678640"/>
                  <a:ext cx="270000" cy="41040"/>
                </a:xfrm>
                <a:prstGeom prst="rect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5" name=""/>
                <p:cNvSpPr/>
                <p:nvPr/>
              </p:nvSpPr>
              <p:spPr>
                <a:xfrm>
                  <a:off x="7915320" y="5749920"/>
                  <a:ext cx="280800" cy="39600"/>
                </a:xfrm>
                <a:prstGeom prst="rect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56" name=""/>
              <p:cNvSpPr/>
              <p:nvPr/>
            </p:nvSpPr>
            <p:spPr>
              <a:xfrm>
                <a:off x="7870680" y="5519880"/>
                <a:ext cx="358920" cy="328320"/>
              </a:xfrm>
              <a:prstGeom prst="ellipse">
                <a:avLst/>
              </a:prstGeom>
              <a:noFill/>
              <a:ln w="65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57" name=""/>
              <p:cNvGrpSpPr/>
              <p:nvPr/>
            </p:nvGrpSpPr>
            <p:grpSpPr>
              <a:xfrm>
                <a:off x="7504200" y="5819760"/>
                <a:ext cx="280800" cy="231840"/>
                <a:chOff x="7504200" y="5819760"/>
                <a:chExt cx="280800" cy="231840"/>
              </a:xfrm>
            </p:grpSpPr>
            <p:sp>
              <p:nvSpPr>
                <p:cNvPr id="6658" name=""/>
                <p:cNvSpPr/>
                <p:nvPr/>
              </p:nvSpPr>
              <p:spPr>
                <a:xfrm>
                  <a:off x="7504200" y="5819760"/>
                  <a:ext cx="269640" cy="41400"/>
                </a:xfrm>
                <a:prstGeom prst="rect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9" name=""/>
                <p:cNvSpPr/>
                <p:nvPr/>
              </p:nvSpPr>
              <p:spPr>
                <a:xfrm>
                  <a:off x="7504200" y="5880240"/>
                  <a:ext cx="269640" cy="41040"/>
                </a:xfrm>
                <a:prstGeom prst="rect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0" name=""/>
                <p:cNvSpPr/>
                <p:nvPr/>
              </p:nvSpPr>
              <p:spPr>
                <a:xfrm>
                  <a:off x="7504200" y="5951520"/>
                  <a:ext cx="280800" cy="39600"/>
                </a:xfrm>
                <a:prstGeom prst="rect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1" name=""/>
                <p:cNvSpPr/>
                <p:nvPr/>
              </p:nvSpPr>
              <p:spPr>
                <a:xfrm>
                  <a:off x="7513560" y="6012000"/>
                  <a:ext cx="271440" cy="39600"/>
                </a:xfrm>
                <a:prstGeom prst="rect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62" name=""/>
              <p:cNvSpPr/>
              <p:nvPr/>
            </p:nvSpPr>
            <p:spPr>
              <a:xfrm>
                <a:off x="7470720" y="5792760"/>
                <a:ext cx="357120" cy="317520"/>
              </a:xfrm>
              <a:prstGeom prst="ellipse">
                <a:avLst/>
              </a:prstGeom>
              <a:noFill/>
              <a:ln w="87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7475400" y="5270400"/>
                <a:ext cx="1073160" cy="98928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4" name=""/>
            <p:cNvGrpSpPr/>
            <p:nvPr/>
          </p:nvGrpSpPr>
          <p:grpSpPr>
            <a:xfrm>
              <a:off x="7481880" y="6283440"/>
              <a:ext cx="1168560" cy="30240"/>
              <a:chOff x="7481880" y="6283440"/>
              <a:chExt cx="1168560" cy="30240"/>
            </a:xfrm>
          </p:grpSpPr>
          <p:sp>
            <p:nvSpPr>
              <p:cNvPr id="6665" name=""/>
              <p:cNvSpPr/>
              <p:nvPr/>
            </p:nvSpPr>
            <p:spPr>
              <a:xfrm>
                <a:off x="8585280" y="6283440"/>
                <a:ext cx="65160" cy="3024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41" y="13"/>
                    </a:moveTo>
                    <a:lnTo>
                      <a:pt x="0" y="19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7481880" y="6283440"/>
                <a:ext cx="65160" cy="30240"/>
              </a:xfrm>
              <a:custGeom>
                <a:avLst/>
                <a:gdLst/>
                <a:ahLst/>
                <a:rect l="l" t="t" r="r" b="b"/>
                <a:pathLst>
                  <a:path w="41" h="19">
                    <a:moveTo>
                      <a:pt x="0" y="13"/>
                    </a:moveTo>
                    <a:lnTo>
                      <a:pt x="41" y="0"/>
                    </a:lnTo>
                    <a:lnTo>
                      <a:pt x="41" y="13"/>
                    </a:lnTo>
                    <a:lnTo>
                      <a:pt x="41" y="1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 flipH="1">
                <a:off x="7547040" y="6303960"/>
                <a:ext cx="103824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8" name=""/>
            <p:cNvSpPr/>
            <p:nvPr/>
          </p:nvSpPr>
          <p:spPr>
            <a:xfrm>
              <a:off x="7838640" y="633420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7948080" y="6334200"/>
              <a:ext cx="381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/ r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0" name=""/>
          <p:cNvGrpSpPr/>
          <p:nvPr/>
        </p:nvGrpSpPr>
        <p:grpSpPr>
          <a:xfrm>
            <a:off x="1184400" y="5343480"/>
            <a:ext cx="2121840" cy="1515240"/>
            <a:chOff x="1184400" y="5343480"/>
            <a:chExt cx="2121840" cy="1515240"/>
          </a:xfrm>
        </p:grpSpPr>
        <p:sp>
          <p:nvSpPr>
            <p:cNvPr id="6671" name=""/>
            <p:cNvSpPr/>
            <p:nvPr/>
          </p:nvSpPr>
          <p:spPr>
            <a:xfrm>
              <a:off x="1209600" y="5594400"/>
              <a:ext cx="2070000" cy="753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2" name=""/>
            <p:cNvGrpSpPr/>
            <p:nvPr/>
          </p:nvGrpSpPr>
          <p:grpSpPr>
            <a:xfrm>
              <a:off x="2791800" y="5714280"/>
              <a:ext cx="338040" cy="189000"/>
              <a:chOff x="2791800" y="5714280"/>
              <a:chExt cx="338040" cy="189000"/>
            </a:xfrm>
          </p:grpSpPr>
          <p:sp>
            <p:nvSpPr>
              <p:cNvPr id="6673" name=""/>
              <p:cNvSpPr/>
              <p:nvPr/>
            </p:nvSpPr>
            <p:spPr>
              <a:xfrm rot="474000">
                <a:off x="2797200" y="5776560"/>
                <a:ext cx="3207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 rot="474000">
                <a:off x="2802960" y="5735520"/>
                <a:ext cx="32076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5" name=""/>
            <p:cNvGrpSpPr/>
            <p:nvPr/>
          </p:nvGrpSpPr>
          <p:grpSpPr>
            <a:xfrm>
              <a:off x="1616040" y="5675400"/>
              <a:ext cx="320760" cy="145800"/>
              <a:chOff x="1616040" y="5675400"/>
              <a:chExt cx="320760" cy="145800"/>
            </a:xfrm>
          </p:grpSpPr>
          <p:sp>
            <p:nvSpPr>
              <p:cNvPr id="6676" name=""/>
              <p:cNvSpPr/>
              <p:nvPr/>
            </p:nvSpPr>
            <p:spPr>
              <a:xfrm>
                <a:off x="1616040" y="5715000"/>
                <a:ext cx="32076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1616040" y="5675400"/>
                <a:ext cx="3207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8" name=""/>
            <p:cNvGrpSpPr/>
            <p:nvPr/>
          </p:nvGrpSpPr>
          <p:grpSpPr>
            <a:xfrm>
              <a:off x="1846440" y="5776920"/>
              <a:ext cx="320400" cy="125280"/>
              <a:chOff x="1846440" y="5776920"/>
              <a:chExt cx="320400" cy="125280"/>
            </a:xfrm>
          </p:grpSpPr>
          <p:sp>
            <p:nvSpPr>
              <p:cNvPr id="6679" name=""/>
              <p:cNvSpPr/>
              <p:nvPr/>
            </p:nvSpPr>
            <p:spPr>
              <a:xfrm>
                <a:off x="1846440" y="5796000"/>
                <a:ext cx="30132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1846440" y="5776920"/>
                <a:ext cx="32040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1" name=""/>
            <p:cNvGrpSpPr/>
            <p:nvPr/>
          </p:nvGrpSpPr>
          <p:grpSpPr>
            <a:xfrm>
              <a:off x="1405080" y="5756400"/>
              <a:ext cx="318960" cy="145800"/>
              <a:chOff x="1405080" y="5756400"/>
              <a:chExt cx="318960" cy="145800"/>
            </a:xfrm>
          </p:grpSpPr>
          <p:sp>
            <p:nvSpPr>
              <p:cNvPr id="6682" name=""/>
              <p:cNvSpPr/>
              <p:nvPr/>
            </p:nvSpPr>
            <p:spPr>
              <a:xfrm>
                <a:off x="1405080" y="5796000"/>
                <a:ext cx="30132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1405080" y="5756400"/>
                <a:ext cx="31896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4" name=""/>
            <p:cNvGrpSpPr/>
            <p:nvPr/>
          </p:nvGrpSpPr>
          <p:grpSpPr>
            <a:xfrm>
              <a:off x="1607040" y="5836680"/>
              <a:ext cx="321120" cy="188280"/>
              <a:chOff x="1607040" y="5836680"/>
              <a:chExt cx="321120" cy="188280"/>
            </a:xfrm>
          </p:grpSpPr>
          <p:sp>
            <p:nvSpPr>
              <p:cNvPr id="6685" name=""/>
              <p:cNvSpPr/>
              <p:nvPr/>
            </p:nvSpPr>
            <p:spPr>
              <a:xfrm rot="498000">
                <a:off x="1613160" y="5897160"/>
                <a:ext cx="30312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 rot="498000">
                <a:off x="1618920" y="5857920"/>
                <a:ext cx="30312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7" name=""/>
            <p:cNvGrpSpPr/>
            <p:nvPr/>
          </p:nvGrpSpPr>
          <p:grpSpPr>
            <a:xfrm>
              <a:off x="2064600" y="5622480"/>
              <a:ext cx="342360" cy="209880"/>
              <a:chOff x="2064600" y="5622480"/>
              <a:chExt cx="342360" cy="209880"/>
            </a:xfrm>
          </p:grpSpPr>
          <p:sp>
            <p:nvSpPr>
              <p:cNvPr id="6688" name=""/>
              <p:cNvSpPr/>
              <p:nvPr/>
            </p:nvSpPr>
            <p:spPr>
              <a:xfrm rot="20869800">
                <a:off x="2080440" y="5695200"/>
                <a:ext cx="3189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 rot="20869800">
                <a:off x="2072160" y="5654880"/>
                <a:ext cx="31896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0" name=""/>
            <p:cNvGrpSpPr/>
            <p:nvPr/>
          </p:nvGrpSpPr>
          <p:grpSpPr>
            <a:xfrm>
              <a:off x="1840680" y="6005520"/>
              <a:ext cx="331560" cy="155880"/>
              <a:chOff x="1840680" y="6005520"/>
              <a:chExt cx="331560" cy="155880"/>
            </a:xfrm>
          </p:grpSpPr>
          <p:sp>
            <p:nvSpPr>
              <p:cNvPr id="6691" name=""/>
              <p:cNvSpPr/>
              <p:nvPr/>
            </p:nvSpPr>
            <p:spPr>
              <a:xfrm rot="355200">
                <a:off x="1845000" y="6040440"/>
                <a:ext cx="32040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 rot="355200">
                <a:off x="1864440" y="6020640"/>
                <a:ext cx="3027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3" name=""/>
            <p:cNvGrpSpPr/>
            <p:nvPr/>
          </p:nvGrpSpPr>
          <p:grpSpPr>
            <a:xfrm>
              <a:off x="2189520" y="6012000"/>
              <a:ext cx="340200" cy="202680"/>
              <a:chOff x="2189520" y="6012000"/>
              <a:chExt cx="340200" cy="202680"/>
            </a:xfrm>
          </p:grpSpPr>
          <p:sp>
            <p:nvSpPr>
              <p:cNvPr id="6694" name=""/>
              <p:cNvSpPr/>
              <p:nvPr/>
            </p:nvSpPr>
            <p:spPr>
              <a:xfrm rot="20961600">
                <a:off x="2203560" y="6079320"/>
                <a:ext cx="31896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 rot="20961600">
                <a:off x="2196360" y="6040440"/>
                <a:ext cx="3189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6" name=""/>
            <p:cNvGrpSpPr/>
            <p:nvPr/>
          </p:nvGrpSpPr>
          <p:grpSpPr>
            <a:xfrm>
              <a:off x="2469600" y="5697720"/>
              <a:ext cx="345600" cy="222120"/>
              <a:chOff x="2469600" y="5697720"/>
              <a:chExt cx="345600" cy="222120"/>
            </a:xfrm>
          </p:grpSpPr>
          <p:sp>
            <p:nvSpPr>
              <p:cNvPr id="6697" name=""/>
              <p:cNvSpPr/>
              <p:nvPr/>
            </p:nvSpPr>
            <p:spPr>
              <a:xfrm rot="20720400">
                <a:off x="2487960" y="5776200"/>
                <a:ext cx="3189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 rot="20720400">
                <a:off x="2477880" y="5736240"/>
                <a:ext cx="31896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9" name=""/>
            <p:cNvGrpSpPr/>
            <p:nvPr/>
          </p:nvGrpSpPr>
          <p:grpSpPr>
            <a:xfrm>
              <a:off x="2836800" y="5837400"/>
              <a:ext cx="318960" cy="145800"/>
              <a:chOff x="2836800" y="5837400"/>
              <a:chExt cx="318960" cy="145800"/>
            </a:xfrm>
          </p:grpSpPr>
          <p:sp>
            <p:nvSpPr>
              <p:cNvPr id="6700" name=""/>
              <p:cNvSpPr/>
              <p:nvPr/>
            </p:nvSpPr>
            <p:spPr>
              <a:xfrm>
                <a:off x="2836800" y="5878440"/>
                <a:ext cx="3189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2836800" y="5837400"/>
                <a:ext cx="31896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2" name=""/>
            <p:cNvGrpSpPr/>
            <p:nvPr/>
          </p:nvGrpSpPr>
          <p:grpSpPr>
            <a:xfrm>
              <a:off x="2270160" y="5816520"/>
              <a:ext cx="320400" cy="146160"/>
              <a:chOff x="2270160" y="5816520"/>
              <a:chExt cx="320400" cy="146160"/>
            </a:xfrm>
          </p:grpSpPr>
          <p:sp>
            <p:nvSpPr>
              <p:cNvPr id="6703" name=""/>
              <p:cNvSpPr/>
              <p:nvPr/>
            </p:nvSpPr>
            <p:spPr>
              <a:xfrm>
                <a:off x="2270160" y="5857920"/>
                <a:ext cx="30312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2270160" y="5816520"/>
                <a:ext cx="32040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5" name=""/>
            <p:cNvGrpSpPr/>
            <p:nvPr/>
          </p:nvGrpSpPr>
          <p:grpSpPr>
            <a:xfrm>
              <a:off x="2589120" y="5837400"/>
              <a:ext cx="301680" cy="145800"/>
              <a:chOff x="2589120" y="5837400"/>
              <a:chExt cx="301680" cy="145800"/>
            </a:xfrm>
          </p:grpSpPr>
          <p:sp>
            <p:nvSpPr>
              <p:cNvPr id="6706" name=""/>
              <p:cNvSpPr/>
              <p:nvPr/>
            </p:nvSpPr>
            <p:spPr>
              <a:xfrm>
                <a:off x="2589120" y="5878440"/>
                <a:ext cx="30168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2589120" y="5837400"/>
                <a:ext cx="30168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8" name=""/>
            <p:cNvGrpSpPr/>
            <p:nvPr/>
          </p:nvGrpSpPr>
          <p:grpSpPr>
            <a:xfrm>
              <a:off x="2517840" y="5938920"/>
              <a:ext cx="303120" cy="145800"/>
              <a:chOff x="2517840" y="5938920"/>
              <a:chExt cx="303120" cy="145800"/>
            </a:xfrm>
          </p:grpSpPr>
          <p:sp>
            <p:nvSpPr>
              <p:cNvPr id="6709" name=""/>
              <p:cNvSpPr/>
              <p:nvPr/>
            </p:nvSpPr>
            <p:spPr>
              <a:xfrm>
                <a:off x="2517840" y="5978520"/>
                <a:ext cx="30312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2517840" y="5938920"/>
                <a:ext cx="30312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1" name=""/>
            <p:cNvGrpSpPr/>
            <p:nvPr/>
          </p:nvGrpSpPr>
          <p:grpSpPr>
            <a:xfrm>
              <a:off x="1537200" y="5955840"/>
              <a:ext cx="336960" cy="191160"/>
              <a:chOff x="1537200" y="5955840"/>
              <a:chExt cx="336960" cy="191160"/>
            </a:xfrm>
          </p:grpSpPr>
          <p:sp>
            <p:nvSpPr>
              <p:cNvPr id="6712" name=""/>
              <p:cNvSpPr/>
              <p:nvPr/>
            </p:nvSpPr>
            <p:spPr>
              <a:xfrm rot="21099000">
                <a:off x="1549080" y="6019560"/>
                <a:ext cx="3189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 rot="21099000">
                <a:off x="1542960" y="5978520"/>
                <a:ext cx="31896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4" name=""/>
            <p:cNvGrpSpPr/>
            <p:nvPr/>
          </p:nvGrpSpPr>
          <p:grpSpPr>
            <a:xfrm>
              <a:off x="2690640" y="5952240"/>
              <a:ext cx="334080" cy="199080"/>
              <a:chOff x="2690640" y="5952240"/>
              <a:chExt cx="334080" cy="199080"/>
            </a:xfrm>
          </p:grpSpPr>
          <p:sp>
            <p:nvSpPr>
              <p:cNvPr id="6715" name=""/>
              <p:cNvSpPr/>
              <p:nvPr/>
            </p:nvSpPr>
            <p:spPr>
              <a:xfrm rot="21004800">
                <a:off x="2697120" y="6019560"/>
                <a:ext cx="3207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 rot="21004800">
                <a:off x="2709360" y="5977080"/>
                <a:ext cx="301680" cy="106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7" name=""/>
            <p:cNvGrpSpPr/>
            <p:nvPr/>
          </p:nvGrpSpPr>
          <p:grpSpPr>
            <a:xfrm>
              <a:off x="1239120" y="5871240"/>
              <a:ext cx="339120" cy="198360"/>
              <a:chOff x="1239120" y="5871240"/>
              <a:chExt cx="339120" cy="198360"/>
            </a:xfrm>
          </p:grpSpPr>
          <p:sp>
            <p:nvSpPr>
              <p:cNvPr id="6718" name=""/>
              <p:cNvSpPr/>
              <p:nvPr/>
            </p:nvSpPr>
            <p:spPr>
              <a:xfrm rot="591600">
                <a:off x="1245600" y="5938200"/>
                <a:ext cx="31896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 rot="591600">
                <a:off x="1252440" y="5897520"/>
                <a:ext cx="31896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0" name=""/>
            <p:cNvGrpSpPr/>
            <p:nvPr/>
          </p:nvGrpSpPr>
          <p:grpSpPr>
            <a:xfrm>
              <a:off x="1397160" y="5484960"/>
              <a:ext cx="105840" cy="484200"/>
              <a:chOff x="1397160" y="5484960"/>
              <a:chExt cx="105840" cy="484200"/>
            </a:xfrm>
          </p:grpSpPr>
          <p:sp>
            <p:nvSpPr>
              <p:cNvPr id="6721" name=""/>
              <p:cNvSpPr/>
              <p:nvPr/>
            </p:nvSpPr>
            <p:spPr>
              <a:xfrm>
                <a:off x="1449360" y="5484960"/>
                <a:ext cx="53640" cy="122040"/>
              </a:xfrm>
              <a:custGeom>
                <a:avLst/>
                <a:gdLst/>
                <a:ahLst/>
                <a:rect l="l" t="t" r="r" b="b"/>
                <a:pathLst>
                  <a:path w="34" h="77">
                    <a:moveTo>
                      <a:pt x="34" y="0"/>
                    </a:moveTo>
                    <a:lnTo>
                      <a:pt x="34" y="77"/>
                    </a:lnTo>
                    <a:lnTo>
                      <a:pt x="22" y="64"/>
                    </a:lnTo>
                    <a:lnTo>
                      <a:pt x="0" y="6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 flipV="1">
                <a:off x="1397160" y="5589720"/>
                <a:ext cx="87120" cy="3794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3" name=""/>
            <p:cNvGrpSpPr/>
            <p:nvPr/>
          </p:nvGrpSpPr>
          <p:grpSpPr>
            <a:xfrm>
              <a:off x="1521000" y="5343480"/>
              <a:ext cx="52200" cy="464760"/>
              <a:chOff x="1521000" y="5343480"/>
              <a:chExt cx="52200" cy="464760"/>
            </a:xfrm>
          </p:grpSpPr>
          <p:sp>
            <p:nvSpPr>
              <p:cNvPr id="6724" name=""/>
              <p:cNvSpPr/>
              <p:nvPr/>
            </p:nvSpPr>
            <p:spPr>
              <a:xfrm>
                <a:off x="1521000" y="5343480"/>
                <a:ext cx="52200" cy="120600"/>
              </a:xfrm>
              <a:custGeom>
                <a:avLst/>
                <a:gdLst/>
                <a:ahLst/>
                <a:rect l="l" t="t" r="r" b="b"/>
                <a:pathLst>
                  <a:path w="33" h="76">
                    <a:moveTo>
                      <a:pt x="22" y="0"/>
                    </a:moveTo>
                    <a:lnTo>
                      <a:pt x="33" y="76"/>
                    </a:lnTo>
                    <a:lnTo>
                      <a:pt x="22" y="76"/>
                    </a:lnTo>
                    <a:lnTo>
                      <a:pt x="0" y="7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 flipV="1">
                <a:off x="1555560" y="5463720"/>
                <a:ext cx="1440" cy="3445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6" name=""/>
            <p:cNvGrpSpPr/>
            <p:nvPr/>
          </p:nvGrpSpPr>
          <p:grpSpPr>
            <a:xfrm>
              <a:off x="1979640" y="5526000"/>
              <a:ext cx="106200" cy="303120"/>
              <a:chOff x="1979640" y="5526000"/>
              <a:chExt cx="106200" cy="303120"/>
            </a:xfrm>
          </p:grpSpPr>
          <p:sp>
            <p:nvSpPr>
              <p:cNvPr id="6727" name=""/>
              <p:cNvSpPr/>
              <p:nvPr/>
            </p:nvSpPr>
            <p:spPr>
              <a:xfrm>
                <a:off x="2014560" y="5526000"/>
                <a:ext cx="71280" cy="120600"/>
              </a:xfrm>
              <a:custGeom>
                <a:avLst/>
                <a:gdLst/>
                <a:ahLst/>
                <a:rect l="l" t="t" r="r" b="b"/>
                <a:pathLst>
                  <a:path w="45" h="76">
                    <a:moveTo>
                      <a:pt x="45" y="0"/>
                    </a:moveTo>
                    <a:lnTo>
                      <a:pt x="34" y="76"/>
                    </a:lnTo>
                    <a:lnTo>
                      <a:pt x="12" y="63"/>
                    </a:lnTo>
                    <a:lnTo>
                      <a:pt x="0" y="6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 flipV="1">
                <a:off x="1979640" y="5625720"/>
                <a:ext cx="52200" cy="2034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9" name=""/>
            <p:cNvGrpSpPr/>
            <p:nvPr/>
          </p:nvGrpSpPr>
          <p:grpSpPr>
            <a:xfrm>
              <a:off x="1697040" y="5424480"/>
              <a:ext cx="52200" cy="302760"/>
              <a:chOff x="1697040" y="5424480"/>
              <a:chExt cx="52200" cy="302760"/>
            </a:xfrm>
          </p:grpSpPr>
          <p:sp>
            <p:nvSpPr>
              <p:cNvPr id="6730" name=""/>
              <p:cNvSpPr/>
              <p:nvPr/>
            </p:nvSpPr>
            <p:spPr>
              <a:xfrm>
                <a:off x="1697040" y="5424480"/>
                <a:ext cx="52200" cy="120600"/>
              </a:xfrm>
              <a:custGeom>
                <a:avLst/>
                <a:gdLst/>
                <a:ahLst/>
                <a:rect l="l" t="t" r="r" b="b"/>
                <a:pathLst>
                  <a:path w="33" h="76">
                    <a:moveTo>
                      <a:pt x="22" y="0"/>
                    </a:moveTo>
                    <a:lnTo>
                      <a:pt x="33" y="76"/>
                    </a:lnTo>
                    <a:lnTo>
                      <a:pt x="22" y="76"/>
                    </a:lnTo>
                    <a:lnTo>
                      <a:pt x="0" y="7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 flipV="1">
                <a:off x="1731960" y="5544720"/>
                <a:ext cx="1440" cy="1825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2" name=""/>
            <p:cNvGrpSpPr/>
            <p:nvPr/>
          </p:nvGrpSpPr>
          <p:grpSpPr>
            <a:xfrm>
              <a:off x="2138400" y="5343480"/>
              <a:ext cx="54000" cy="323640"/>
              <a:chOff x="2138400" y="5343480"/>
              <a:chExt cx="54000" cy="323640"/>
            </a:xfrm>
          </p:grpSpPr>
          <p:sp>
            <p:nvSpPr>
              <p:cNvPr id="6733" name=""/>
              <p:cNvSpPr/>
              <p:nvPr/>
            </p:nvSpPr>
            <p:spPr>
              <a:xfrm>
                <a:off x="2138400" y="5343480"/>
                <a:ext cx="54000" cy="120600"/>
              </a:xfrm>
              <a:custGeom>
                <a:avLst/>
                <a:gdLst/>
                <a:ahLst/>
                <a:rect l="l" t="t" r="r" b="b"/>
                <a:pathLst>
                  <a:path w="34" h="76">
                    <a:moveTo>
                      <a:pt x="11" y="0"/>
                    </a:moveTo>
                    <a:lnTo>
                      <a:pt x="34" y="76"/>
                    </a:lnTo>
                    <a:lnTo>
                      <a:pt x="11" y="76"/>
                    </a:lnTo>
                    <a:lnTo>
                      <a:pt x="0" y="7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 flipH="1" flipV="1">
                <a:off x="2157120" y="5463720"/>
                <a:ext cx="34920" cy="2034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5" name=""/>
            <p:cNvGrpSpPr/>
            <p:nvPr/>
          </p:nvGrpSpPr>
          <p:grpSpPr>
            <a:xfrm>
              <a:off x="1768320" y="5586480"/>
              <a:ext cx="52560" cy="298440"/>
              <a:chOff x="1768320" y="5586480"/>
              <a:chExt cx="52560" cy="298440"/>
            </a:xfrm>
          </p:grpSpPr>
          <p:sp>
            <p:nvSpPr>
              <p:cNvPr id="6736" name=""/>
              <p:cNvSpPr/>
              <p:nvPr/>
            </p:nvSpPr>
            <p:spPr>
              <a:xfrm>
                <a:off x="1768320" y="5586480"/>
                <a:ext cx="52560" cy="120600"/>
              </a:xfrm>
              <a:custGeom>
                <a:avLst/>
                <a:gdLst/>
                <a:ahLst/>
                <a:rect l="l" t="t" r="r" b="b"/>
                <a:pathLst>
                  <a:path w="33" h="76">
                    <a:moveTo>
                      <a:pt x="33" y="0"/>
                    </a:moveTo>
                    <a:lnTo>
                      <a:pt x="33" y="76"/>
                    </a:lnTo>
                    <a:lnTo>
                      <a:pt x="22" y="76"/>
                    </a:lnTo>
                    <a:lnTo>
                      <a:pt x="0" y="7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 flipV="1">
                <a:off x="1768320" y="5707080"/>
                <a:ext cx="34920" cy="1778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8" name=""/>
            <p:cNvGrpSpPr/>
            <p:nvPr/>
          </p:nvGrpSpPr>
          <p:grpSpPr>
            <a:xfrm>
              <a:off x="2421000" y="5464080"/>
              <a:ext cx="53640" cy="406080"/>
              <a:chOff x="2421000" y="5464080"/>
              <a:chExt cx="53640" cy="406080"/>
            </a:xfrm>
          </p:grpSpPr>
          <p:sp>
            <p:nvSpPr>
              <p:cNvPr id="6739" name=""/>
              <p:cNvSpPr/>
              <p:nvPr/>
            </p:nvSpPr>
            <p:spPr>
              <a:xfrm>
                <a:off x="2421000" y="5464080"/>
                <a:ext cx="53640" cy="122400"/>
              </a:xfrm>
              <a:custGeom>
                <a:avLst/>
                <a:gdLst/>
                <a:ahLst/>
                <a:rect l="l" t="t" r="r" b="b"/>
                <a:pathLst>
                  <a:path w="34" h="77">
                    <a:moveTo>
                      <a:pt x="23" y="0"/>
                    </a:moveTo>
                    <a:lnTo>
                      <a:pt x="34" y="77"/>
                    </a:lnTo>
                    <a:lnTo>
                      <a:pt x="23" y="77"/>
                    </a:lnTo>
                    <a:lnTo>
                      <a:pt x="0" y="6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 flipV="1">
                <a:off x="2421000" y="5586120"/>
                <a:ext cx="34920" cy="2840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1" name=""/>
            <p:cNvGrpSpPr/>
            <p:nvPr/>
          </p:nvGrpSpPr>
          <p:grpSpPr>
            <a:xfrm>
              <a:off x="2041560" y="5897520"/>
              <a:ext cx="301320" cy="146160"/>
              <a:chOff x="2041560" y="5897520"/>
              <a:chExt cx="301320" cy="146160"/>
            </a:xfrm>
          </p:grpSpPr>
          <p:sp>
            <p:nvSpPr>
              <p:cNvPr id="6742" name=""/>
              <p:cNvSpPr/>
              <p:nvPr/>
            </p:nvSpPr>
            <p:spPr>
              <a:xfrm>
                <a:off x="2041560" y="5938920"/>
                <a:ext cx="301320" cy="104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2041560" y="5897520"/>
                <a:ext cx="301320" cy="106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4" name=""/>
            <p:cNvGrpSpPr/>
            <p:nvPr/>
          </p:nvGrpSpPr>
          <p:grpSpPr>
            <a:xfrm>
              <a:off x="2192400" y="5586480"/>
              <a:ext cx="52200" cy="338040"/>
              <a:chOff x="2192400" y="5586480"/>
              <a:chExt cx="52200" cy="338040"/>
            </a:xfrm>
          </p:grpSpPr>
          <p:sp>
            <p:nvSpPr>
              <p:cNvPr id="6745" name=""/>
              <p:cNvSpPr/>
              <p:nvPr/>
            </p:nvSpPr>
            <p:spPr>
              <a:xfrm>
                <a:off x="2192400" y="5586480"/>
                <a:ext cx="52200" cy="120600"/>
              </a:xfrm>
              <a:custGeom>
                <a:avLst/>
                <a:gdLst/>
                <a:ahLst/>
                <a:rect l="l" t="t" r="r" b="b"/>
                <a:pathLst>
                  <a:path w="33" h="76">
                    <a:moveTo>
                      <a:pt x="33" y="0"/>
                    </a:moveTo>
                    <a:lnTo>
                      <a:pt x="33" y="76"/>
                    </a:lnTo>
                    <a:lnTo>
                      <a:pt x="22" y="76"/>
                    </a:lnTo>
                    <a:lnTo>
                      <a:pt x="0" y="6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 flipV="1">
                <a:off x="2192400" y="5707080"/>
                <a:ext cx="33120" cy="2174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7" name=""/>
            <p:cNvGrpSpPr/>
            <p:nvPr/>
          </p:nvGrpSpPr>
          <p:grpSpPr>
            <a:xfrm>
              <a:off x="1996920" y="5748480"/>
              <a:ext cx="54000" cy="323640"/>
              <a:chOff x="1996920" y="5748480"/>
              <a:chExt cx="54000" cy="323640"/>
            </a:xfrm>
          </p:grpSpPr>
          <p:sp>
            <p:nvSpPr>
              <p:cNvPr id="6748" name=""/>
              <p:cNvSpPr/>
              <p:nvPr/>
            </p:nvSpPr>
            <p:spPr>
              <a:xfrm>
                <a:off x="1996920" y="5748480"/>
                <a:ext cx="54000" cy="122040"/>
              </a:xfrm>
              <a:custGeom>
                <a:avLst/>
                <a:gdLst/>
                <a:ahLst/>
                <a:rect l="l" t="t" r="r" b="b"/>
                <a:pathLst>
                  <a:path w="34" h="77">
                    <a:moveTo>
                      <a:pt x="23" y="0"/>
                    </a:moveTo>
                    <a:lnTo>
                      <a:pt x="34" y="77"/>
                    </a:lnTo>
                    <a:lnTo>
                      <a:pt x="11" y="77"/>
                    </a:lnTo>
                    <a:lnTo>
                      <a:pt x="0" y="7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 flipV="1">
                <a:off x="1996920" y="5877000"/>
                <a:ext cx="17640" cy="1951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0" name=""/>
            <p:cNvGrpSpPr/>
            <p:nvPr/>
          </p:nvGrpSpPr>
          <p:grpSpPr>
            <a:xfrm>
              <a:off x="2298600" y="5707080"/>
              <a:ext cx="69480" cy="406080"/>
              <a:chOff x="2298600" y="5707080"/>
              <a:chExt cx="69480" cy="406080"/>
            </a:xfrm>
          </p:grpSpPr>
          <p:sp>
            <p:nvSpPr>
              <p:cNvPr id="6751" name=""/>
              <p:cNvSpPr/>
              <p:nvPr/>
            </p:nvSpPr>
            <p:spPr>
              <a:xfrm>
                <a:off x="2298600" y="5707080"/>
                <a:ext cx="52560" cy="122400"/>
              </a:xfrm>
              <a:custGeom>
                <a:avLst/>
                <a:gdLst/>
                <a:ahLst/>
                <a:rect l="l" t="t" r="r" b="b"/>
                <a:pathLst>
                  <a:path w="33" h="77">
                    <a:moveTo>
                      <a:pt x="11" y="0"/>
                    </a:moveTo>
                    <a:lnTo>
                      <a:pt x="33" y="64"/>
                    </a:lnTo>
                    <a:lnTo>
                      <a:pt x="22" y="77"/>
                    </a:lnTo>
                    <a:lnTo>
                      <a:pt x="0" y="7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 flipH="1" flipV="1">
                <a:off x="2333160" y="5830560"/>
                <a:ext cx="34920" cy="2826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3" name=""/>
            <p:cNvGrpSpPr/>
            <p:nvPr/>
          </p:nvGrpSpPr>
          <p:grpSpPr>
            <a:xfrm>
              <a:off x="2668680" y="5646600"/>
              <a:ext cx="54000" cy="324000"/>
              <a:chOff x="2668680" y="5646600"/>
              <a:chExt cx="54000" cy="324000"/>
            </a:xfrm>
          </p:grpSpPr>
          <p:sp>
            <p:nvSpPr>
              <p:cNvPr id="6754" name=""/>
              <p:cNvSpPr/>
              <p:nvPr/>
            </p:nvSpPr>
            <p:spPr>
              <a:xfrm>
                <a:off x="2668680" y="5646600"/>
                <a:ext cx="54000" cy="122400"/>
              </a:xfrm>
              <a:custGeom>
                <a:avLst/>
                <a:gdLst/>
                <a:ahLst/>
                <a:rect l="l" t="t" r="r" b="b"/>
                <a:pathLst>
                  <a:path w="34" h="77">
                    <a:moveTo>
                      <a:pt x="34" y="0"/>
                    </a:moveTo>
                    <a:lnTo>
                      <a:pt x="34" y="77"/>
                    </a:lnTo>
                    <a:lnTo>
                      <a:pt x="23" y="77"/>
                    </a:lnTo>
                    <a:lnTo>
                      <a:pt x="0" y="6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 flipV="1">
                <a:off x="2668680" y="5769000"/>
                <a:ext cx="34920" cy="2016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6" name=""/>
            <p:cNvGrpSpPr/>
            <p:nvPr/>
          </p:nvGrpSpPr>
          <p:grpSpPr>
            <a:xfrm>
              <a:off x="2581200" y="5424480"/>
              <a:ext cx="52200" cy="363240"/>
              <a:chOff x="2581200" y="5424480"/>
              <a:chExt cx="52200" cy="363240"/>
            </a:xfrm>
          </p:grpSpPr>
          <p:sp>
            <p:nvSpPr>
              <p:cNvPr id="6757" name=""/>
              <p:cNvSpPr/>
              <p:nvPr/>
            </p:nvSpPr>
            <p:spPr>
              <a:xfrm>
                <a:off x="2581200" y="5424480"/>
                <a:ext cx="52200" cy="120600"/>
              </a:xfrm>
              <a:custGeom>
                <a:avLst/>
                <a:gdLst/>
                <a:ahLst/>
                <a:rect l="l" t="t" r="r" b="b"/>
                <a:pathLst>
                  <a:path w="33" h="76">
                    <a:moveTo>
                      <a:pt x="11" y="0"/>
                    </a:moveTo>
                    <a:lnTo>
                      <a:pt x="33" y="76"/>
                    </a:lnTo>
                    <a:lnTo>
                      <a:pt x="11" y="76"/>
                    </a:lnTo>
                    <a:lnTo>
                      <a:pt x="0" y="7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 flipH="1" flipV="1">
                <a:off x="2598120" y="5544720"/>
                <a:ext cx="17640" cy="2430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9" name=""/>
            <p:cNvGrpSpPr/>
            <p:nvPr/>
          </p:nvGrpSpPr>
          <p:grpSpPr>
            <a:xfrm>
              <a:off x="2951280" y="5464080"/>
              <a:ext cx="54000" cy="324000"/>
              <a:chOff x="2951280" y="5464080"/>
              <a:chExt cx="54000" cy="324000"/>
            </a:xfrm>
          </p:grpSpPr>
          <p:sp>
            <p:nvSpPr>
              <p:cNvPr id="6760" name=""/>
              <p:cNvSpPr/>
              <p:nvPr/>
            </p:nvSpPr>
            <p:spPr>
              <a:xfrm>
                <a:off x="2970360" y="5464080"/>
                <a:ext cx="34920" cy="122400"/>
              </a:xfrm>
              <a:custGeom>
                <a:avLst/>
                <a:gdLst/>
                <a:ahLst/>
                <a:rect l="l" t="t" r="r" b="b"/>
                <a:pathLst>
                  <a:path w="22" h="77">
                    <a:moveTo>
                      <a:pt x="22" y="0"/>
                    </a:moveTo>
                    <a:lnTo>
                      <a:pt x="22" y="77"/>
                    </a:lnTo>
                    <a:lnTo>
                      <a:pt x="11" y="77"/>
                    </a:lnTo>
                    <a:lnTo>
                      <a:pt x="0" y="7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 flipV="1">
                <a:off x="2951280" y="5586480"/>
                <a:ext cx="34920" cy="2016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2" name=""/>
            <p:cNvGrpSpPr/>
            <p:nvPr/>
          </p:nvGrpSpPr>
          <p:grpSpPr>
            <a:xfrm>
              <a:off x="2722680" y="5586480"/>
              <a:ext cx="52200" cy="302760"/>
              <a:chOff x="2722680" y="5586480"/>
              <a:chExt cx="52200" cy="302760"/>
            </a:xfrm>
          </p:grpSpPr>
          <p:sp>
            <p:nvSpPr>
              <p:cNvPr id="6763" name=""/>
              <p:cNvSpPr/>
              <p:nvPr/>
            </p:nvSpPr>
            <p:spPr>
              <a:xfrm>
                <a:off x="2722680" y="5586480"/>
                <a:ext cx="52200" cy="120600"/>
              </a:xfrm>
              <a:custGeom>
                <a:avLst/>
                <a:gdLst/>
                <a:ahLst/>
                <a:rect l="l" t="t" r="r" b="b"/>
                <a:pathLst>
                  <a:path w="33" h="76">
                    <a:moveTo>
                      <a:pt x="11" y="0"/>
                    </a:moveTo>
                    <a:lnTo>
                      <a:pt x="33" y="76"/>
                    </a:lnTo>
                    <a:lnTo>
                      <a:pt x="11" y="76"/>
                    </a:lnTo>
                    <a:lnTo>
                      <a:pt x="0" y="7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 flipV="1">
                <a:off x="2739960" y="5706720"/>
                <a:ext cx="1080" cy="1825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5" name=""/>
            <p:cNvGrpSpPr/>
            <p:nvPr/>
          </p:nvGrpSpPr>
          <p:grpSpPr>
            <a:xfrm>
              <a:off x="2792520" y="5586480"/>
              <a:ext cx="70920" cy="464760"/>
              <a:chOff x="2792520" y="5586480"/>
              <a:chExt cx="70920" cy="464760"/>
            </a:xfrm>
          </p:grpSpPr>
          <p:sp>
            <p:nvSpPr>
              <p:cNvPr id="6766" name=""/>
              <p:cNvSpPr/>
              <p:nvPr/>
            </p:nvSpPr>
            <p:spPr>
              <a:xfrm>
                <a:off x="2792520" y="5586480"/>
                <a:ext cx="53640" cy="120600"/>
              </a:xfrm>
              <a:custGeom>
                <a:avLst/>
                <a:gdLst/>
                <a:ahLst/>
                <a:rect l="l" t="t" r="r" b="b"/>
                <a:pathLst>
                  <a:path w="34" h="76">
                    <a:moveTo>
                      <a:pt x="11" y="0"/>
                    </a:moveTo>
                    <a:lnTo>
                      <a:pt x="34" y="64"/>
                    </a:lnTo>
                    <a:lnTo>
                      <a:pt x="23" y="76"/>
                    </a:lnTo>
                    <a:lnTo>
                      <a:pt x="0" y="7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 flipH="1" flipV="1">
                <a:off x="2828880" y="5713200"/>
                <a:ext cx="34560" cy="3380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8" name=""/>
            <p:cNvGrpSpPr/>
            <p:nvPr/>
          </p:nvGrpSpPr>
          <p:grpSpPr>
            <a:xfrm>
              <a:off x="2987640" y="5626080"/>
              <a:ext cx="52200" cy="283680"/>
              <a:chOff x="2987640" y="5626080"/>
              <a:chExt cx="52200" cy="283680"/>
            </a:xfrm>
          </p:grpSpPr>
          <p:sp>
            <p:nvSpPr>
              <p:cNvPr id="6769" name=""/>
              <p:cNvSpPr/>
              <p:nvPr/>
            </p:nvSpPr>
            <p:spPr>
              <a:xfrm>
                <a:off x="2987640" y="5626080"/>
                <a:ext cx="52200" cy="122400"/>
              </a:xfrm>
              <a:custGeom>
                <a:avLst/>
                <a:gdLst/>
                <a:ahLst/>
                <a:rect l="l" t="t" r="r" b="b"/>
                <a:pathLst>
                  <a:path w="33" h="77">
                    <a:moveTo>
                      <a:pt x="22" y="0"/>
                    </a:moveTo>
                    <a:lnTo>
                      <a:pt x="33" y="77"/>
                    </a:lnTo>
                    <a:lnTo>
                      <a:pt x="22" y="77"/>
                    </a:lnTo>
                    <a:lnTo>
                      <a:pt x="0" y="7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 flipV="1">
                <a:off x="3022560" y="5748120"/>
                <a:ext cx="1440" cy="1616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1" name=""/>
            <p:cNvSpPr/>
            <p:nvPr/>
          </p:nvSpPr>
          <p:spPr>
            <a:xfrm>
              <a:off x="3084480" y="5433840"/>
              <a:ext cx="22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r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2" name=""/>
            <p:cNvGrpSpPr/>
            <p:nvPr/>
          </p:nvGrpSpPr>
          <p:grpSpPr>
            <a:xfrm>
              <a:off x="1184400" y="6558120"/>
              <a:ext cx="2050560" cy="61920"/>
              <a:chOff x="1184400" y="6558120"/>
              <a:chExt cx="2050560" cy="61920"/>
            </a:xfrm>
          </p:grpSpPr>
          <p:sp>
            <p:nvSpPr>
              <p:cNvPr id="6773" name=""/>
              <p:cNvSpPr/>
              <p:nvPr/>
            </p:nvSpPr>
            <p:spPr>
              <a:xfrm>
                <a:off x="1184400" y="6558120"/>
                <a:ext cx="106200" cy="6192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0" y="13"/>
                    </a:moveTo>
                    <a:lnTo>
                      <a:pt x="67" y="0"/>
                    </a:lnTo>
                    <a:lnTo>
                      <a:pt x="67" y="13"/>
                    </a:lnTo>
                    <a:lnTo>
                      <a:pt x="67" y="3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3128760" y="6558120"/>
                <a:ext cx="106200" cy="6192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67" y="13"/>
                    </a:moveTo>
                    <a:lnTo>
                      <a:pt x="0" y="39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1290600" y="6578640"/>
                <a:ext cx="1837800" cy="144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6" name=""/>
            <p:cNvSpPr/>
            <p:nvPr/>
          </p:nvSpPr>
          <p:spPr>
            <a:xfrm>
              <a:off x="2224800" y="6599160"/>
              <a:ext cx="160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7" name=""/>
          <p:cNvSpPr/>
          <p:nvPr/>
        </p:nvSpPr>
        <p:spPr>
          <a:xfrm>
            <a:off x="6362640" y="5931000"/>
            <a:ext cx="87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8" name=""/>
          <p:cNvGrpSpPr/>
          <p:nvPr/>
        </p:nvGrpSpPr>
        <p:grpSpPr>
          <a:xfrm>
            <a:off x="3103560" y="1397160"/>
            <a:ext cx="6014880" cy="2636640"/>
            <a:chOff x="3103560" y="1397160"/>
            <a:chExt cx="6014880" cy="2636640"/>
          </a:xfrm>
        </p:grpSpPr>
        <p:sp>
          <p:nvSpPr>
            <p:cNvPr id="6779" name=""/>
            <p:cNvSpPr/>
            <p:nvPr/>
          </p:nvSpPr>
          <p:spPr>
            <a:xfrm>
              <a:off x="3730680" y="2132280"/>
              <a:ext cx="662040" cy="10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3714840" y="2116080"/>
              <a:ext cx="693720" cy="1087560"/>
            </a:xfrm>
            <a:custGeom>
              <a:avLst/>
              <a:gdLst/>
              <a:ahLst/>
              <a:rect l="l" t="t" r="r" b="b"/>
              <a:pathLst>
                <a:path w="437" h="685">
                  <a:moveTo>
                    <a:pt x="0" y="0"/>
                  </a:moveTo>
                  <a:lnTo>
                    <a:pt x="437" y="0"/>
                  </a:lnTo>
                  <a:lnTo>
                    <a:pt x="437" y="685"/>
                  </a:lnTo>
                  <a:lnTo>
                    <a:pt x="0" y="685"/>
                  </a:lnTo>
                  <a:lnTo>
                    <a:pt x="0" y="0"/>
                  </a:lnTo>
                  <a:close/>
                  <a:moveTo>
                    <a:pt x="21" y="20"/>
                  </a:moveTo>
                  <a:lnTo>
                    <a:pt x="416" y="20"/>
                  </a:lnTo>
                  <a:lnTo>
                    <a:pt x="416" y="664"/>
                  </a:lnTo>
                  <a:lnTo>
                    <a:pt x="21" y="664"/>
                  </a:lnTo>
                  <a:lnTo>
                    <a:pt x="21" y="20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7846920" y="2772000"/>
              <a:ext cx="676440" cy="4143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7829640" y="2756160"/>
              <a:ext cx="711000" cy="447480"/>
            </a:xfrm>
            <a:custGeom>
              <a:avLst/>
              <a:gdLst/>
              <a:ahLst/>
              <a:rect l="l" t="t" r="r" b="b"/>
              <a:pathLst>
                <a:path w="448" h="282">
                  <a:moveTo>
                    <a:pt x="0" y="0"/>
                  </a:moveTo>
                  <a:lnTo>
                    <a:pt x="448" y="0"/>
                  </a:lnTo>
                  <a:lnTo>
                    <a:pt x="448" y="282"/>
                  </a:lnTo>
                  <a:lnTo>
                    <a:pt x="0" y="282"/>
                  </a:lnTo>
                  <a:lnTo>
                    <a:pt x="0" y="0"/>
                  </a:lnTo>
                  <a:close/>
                  <a:moveTo>
                    <a:pt x="21" y="20"/>
                  </a:moveTo>
                  <a:lnTo>
                    <a:pt x="427" y="20"/>
                  </a:lnTo>
                  <a:lnTo>
                    <a:pt x="427" y="261"/>
                  </a:lnTo>
                  <a:lnTo>
                    <a:pt x="21" y="261"/>
                  </a:lnTo>
                  <a:lnTo>
                    <a:pt x="21" y="20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3" name=""/>
            <p:cNvGrpSpPr/>
            <p:nvPr/>
          </p:nvGrpSpPr>
          <p:grpSpPr>
            <a:xfrm>
              <a:off x="3103560" y="3138480"/>
              <a:ext cx="5800680" cy="96840"/>
              <a:chOff x="3103560" y="3138480"/>
              <a:chExt cx="5800680" cy="96840"/>
            </a:xfrm>
          </p:grpSpPr>
          <p:sp>
            <p:nvSpPr>
              <p:cNvPr id="6784" name=""/>
              <p:cNvSpPr/>
              <p:nvPr/>
            </p:nvSpPr>
            <p:spPr>
              <a:xfrm>
                <a:off x="8705880" y="3138480"/>
                <a:ext cx="198360" cy="96840"/>
              </a:xfrm>
              <a:custGeom>
                <a:avLst/>
                <a:gdLst/>
                <a:ahLst/>
                <a:rect l="l" t="t" r="r" b="b"/>
                <a:pathLst>
                  <a:path w="125" h="61">
                    <a:moveTo>
                      <a:pt x="125" y="30"/>
                    </a:moveTo>
                    <a:lnTo>
                      <a:pt x="0" y="61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2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3103560" y="3186000"/>
                <a:ext cx="560232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6" name=""/>
            <p:cNvSpPr/>
            <p:nvPr/>
          </p:nvSpPr>
          <p:spPr>
            <a:xfrm>
              <a:off x="3137040" y="2229120"/>
              <a:ext cx="5932440" cy="590400"/>
            </a:xfrm>
            <a:custGeom>
              <a:avLst/>
              <a:gdLst/>
              <a:ahLst/>
              <a:rect l="l" t="t" r="r" b="b"/>
              <a:pathLst>
                <a:path w="3737" h="372">
                  <a:moveTo>
                    <a:pt x="0" y="140"/>
                  </a:moveTo>
                  <a:lnTo>
                    <a:pt x="31" y="130"/>
                  </a:lnTo>
                  <a:lnTo>
                    <a:pt x="114" y="110"/>
                  </a:lnTo>
                  <a:lnTo>
                    <a:pt x="197" y="90"/>
                  </a:lnTo>
                  <a:lnTo>
                    <a:pt x="249" y="80"/>
                  </a:lnTo>
                  <a:lnTo>
                    <a:pt x="333" y="60"/>
                  </a:lnTo>
                  <a:lnTo>
                    <a:pt x="385" y="50"/>
                  </a:lnTo>
                  <a:lnTo>
                    <a:pt x="437" y="40"/>
                  </a:lnTo>
                  <a:lnTo>
                    <a:pt x="499" y="30"/>
                  </a:lnTo>
                  <a:lnTo>
                    <a:pt x="551" y="20"/>
                  </a:lnTo>
                  <a:lnTo>
                    <a:pt x="603" y="10"/>
                  </a:lnTo>
                  <a:lnTo>
                    <a:pt x="645" y="10"/>
                  </a:lnTo>
                  <a:lnTo>
                    <a:pt x="697" y="0"/>
                  </a:lnTo>
                  <a:lnTo>
                    <a:pt x="728" y="0"/>
                  </a:lnTo>
                  <a:lnTo>
                    <a:pt x="760" y="0"/>
                  </a:lnTo>
                  <a:lnTo>
                    <a:pt x="791" y="0"/>
                  </a:lnTo>
                  <a:lnTo>
                    <a:pt x="822" y="10"/>
                  </a:lnTo>
                  <a:lnTo>
                    <a:pt x="832" y="10"/>
                  </a:lnTo>
                  <a:lnTo>
                    <a:pt x="885" y="20"/>
                  </a:lnTo>
                  <a:lnTo>
                    <a:pt x="999" y="50"/>
                  </a:lnTo>
                  <a:lnTo>
                    <a:pt x="1124" y="80"/>
                  </a:lnTo>
                  <a:lnTo>
                    <a:pt x="1249" y="120"/>
                  </a:lnTo>
                  <a:lnTo>
                    <a:pt x="1311" y="140"/>
                  </a:lnTo>
                  <a:lnTo>
                    <a:pt x="1374" y="161"/>
                  </a:lnTo>
                  <a:lnTo>
                    <a:pt x="1509" y="211"/>
                  </a:lnTo>
                  <a:lnTo>
                    <a:pt x="1634" y="251"/>
                  </a:lnTo>
                  <a:lnTo>
                    <a:pt x="1738" y="291"/>
                  </a:lnTo>
                  <a:lnTo>
                    <a:pt x="1790" y="312"/>
                  </a:lnTo>
                  <a:lnTo>
                    <a:pt x="1821" y="322"/>
                  </a:lnTo>
                  <a:lnTo>
                    <a:pt x="1863" y="332"/>
                  </a:lnTo>
                  <a:lnTo>
                    <a:pt x="1926" y="352"/>
                  </a:lnTo>
                  <a:lnTo>
                    <a:pt x="1978" y="352"/>
                  </a:lnTo>
                  <a:lnTo>
                    <a:pt x="2030" y="362"/>
                  </a:lnTo>
                  <a:lnTo>
                    <a:pt x="2071" y="362"/>
                  </a:lnTo>
                  <a:lnTo>
                    <a:pt x="2123" y="362"/>
                  </a:lnTo>
                  <a:lnTo>
                    <a:pt x="2186" y="362"/>
                  </a:lnTo>
                  <a:lnTo>
                    <a:pt x="2207" y="362"/>
                  </a:lnTo>
                  <a:lnTo>
                    <a:pt x="2248" y="362"/>
                  </a:lnTo>
                  <a:lnTo>
                    <a:pt x="2352" y="352"/>
                  </a:lnTo>
                  <a:lnTo>
                    <a:pt x="2456" y="352"/>
                  </a:lnTo>
                  <a:lnTo>
                    <a:pt x="2561" y="362"/>
                  </a:lnTo>
                  <a:lnTo>
                    <a:pt x="2613" y="362"/>
                  </a:lnTo>
                  <a:lnTo>
                    <a:pt x="2675" y="372"/>
                  </a:lnTo>
                  <a:lnTo>
                    <a:pt x="2769" y="372"/>
                  </a:lnTo>
                  <a:lnTo>
                    <a:pt x="2862" y="372"/>
                  </a:lnTo>
                  <a:lnTo>
                    <a:pt x="2956" y="372"/>
                  </a:lnTo>
                  <a:lnTo>
                    <a:pt x="2998" y="362"/>
                  </a:lnTo>
                  <a:lnTo>
                    <a:pt x="3050" y="352"/>
                  </a:lnTo>
                  <a:lnTo>
                    <a:pt x="3123" y="342"/>
                  </a:lnTo>
                  <a:lnTo>
                    <a:pt x="3196" y="322"/>
                  </a:lnTo>
                  <a:lnTo>
                    <a:pt x="3279" y="291"/>
                  </a:lnTo>
                  <a:lnTo>
                    <a:pt x="3310" y="281"/>
                  </a:lnTo>
                  <a:lnTo>
                    <a:pt x="3331" y="271"/>
                  </a:lnTo>
                  <a:lnTo>
                    <a:pt x="3373" y="261"/>
                  </a:lnTo>
                  <a:lnTo>
                    <a:pt x="3414" y="251"/>
                  </a:lnTo>
                  <a:lnTo>
                    <a:pt x="3456" y="251"/>
                  </a:lnTo>
                  <a:lnTo>
                    <a:pt x="3508" y="241"/>
                  </a:lnTo>
                  <a:lnTo>
                    <a:pt x="3581" y="231"/>
                  </a:lnTo>
                  <a:lnTo>
                    <a:pt x="3643" y="231"/>
                  </a:lnTo>
                  <a:lnTo>
                    <a:pt x="3706" y="231"/>
                  </a:lnTo>
                  <a:lnTo>
                    <a:pt x="3737" y="23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3152880" y="2163960"/>
              <a:ext cx="5800680" cy="718920"/>
            </a:xfrm>
            <a:custGeom>
              <a:avLst/>
              <a:gdLst/>
              <a:ahLst/>
              <a:rect l="l" t="t" r="r" b="b"/>
              <a:pathLst>
                <a:path w="3654" h="453">
                  <a:moveTo>
                    <a:pt x="0" y="292"/>
                  </a:moveTo>
                  <a:lnTo>
                    <a:pt x="31" y="252"/>
                  </a:lnTo>
                  <a:lnTo>
                    <a:pt x="83" y="192"/>
                  </a:lnTo>
                  <a:lnTo>
                    <a:pt x="125" y="151"/>
                  </a:lnTo>
                  <a:lnTo>
                    <a:pt x="177" y="101"/>
                  </a:lnTo>
                  <a:lnTo>
                    <a:pt x="219" y="61"/>
                  </a:lnTo>
                  <a:lnTo>
                    <a:pt x="250" y="41"/>
                  </a:lnTo>
                  <a:lnTo>
                    <a:pt x="292" y="20"/>
                  </a:lnTo>
                  <a:lnTo>
                    <a:pt x="333" y="0"/>
                  </a:lnTo>
                  <a:lnTo>
                    <a:pt x="344" y="0"/>
                  </a:lnTo>
                  <a:lnTo>
                    <a:pt x="375" y="0"/>
                  </a:lnTo>
                  <a:lnTo>
                    <a:pt x="427" y="0"/>
                  </a:lnTo>
                  <a:lnTo>
                    <a:pt x="489" y="10"/>
                  </a:lnTo>
                  <a:lnTo>
                    <a:pt x="531" y="30"/>
                  </a:lnTo>
                  <a:lnTo>
                    <a:pt x="541" y="41"/>
                  </a:lnTo>
                  <a:lnTo>
                    <a:pt x="552" y="51"/>
                  </a:lnTo>
                  <a:lnTo>
                    <a:pt x="593" y="71"/>
                  </a:lnTo>
                  <a:lnTo>
                    <a:pt x="625" y="91"/>
                  </a:lnTo>
                  <a:lnTo>
                    <a:pt x="656" y="101"/>
                  </a:lnTo>
                  <a:lnTo>
                    <a:pt x="666" y="101"/>
                  </a:lnTo>
                  <a:lnTo>
                    <a:pt x="677" y="101"/>
                  </a:lnTo>
                  <a:lnTo>
                    <a:pt x="718" y="101"/>
                  </a:lnTo>
                  <a:lnTo>
                    <a:pt x="760" y="101"/>
                  </a:lnTo>
                  <a:lnTo>
                    <a:pt x="802" y="91"/>
                  </a:lnTo>
                  <a:lnTo>
                    <a:pt x="833" y="81"/>
                  </a:lnTo>
                  <a:lnTo>
                    <a:pt x="843" y="81"/>
                  </a:lnTo>
                  <a:lnTo>
                    <a:pt x="864" y="71"/>
                  </a:lnTo>
                  <a:lnTo>
                    <a:pt x="895" y="61"/>
                  </a:lnTo>
                  <a:lnTo>
                    <a:pt x="916" y="51"/>
                  </a:lnTo>
                  <a:lnTo>
                    <a:pt x="937" y="51"/>
                  </a:lnTo>
                  <a:lnTo>
                    <a:pt x="947" y="51"/>
                  </a:lnTo>
                  <a:lnTo>
                    <a:pt x="968" y="51"/>
                  </a:lnTo>
                  <a:lnTo>
                    <a:pt x="989" y="61"/>
                  </a:lnTo>
                  <a:lnTo>
                    <a:pt x="1010" y="81"/>
                  </a:lnTo>
                  <a:lnTo>
                    <a:pt x="1041" y="111"/>
                  </a:lnTo>
                  <a:lnTo>
                    <a:pt x="1051" y="121"/>
                  </a:lnTo>
                  <a:lnTo>
                    <a:pt x="1062" y="131"/>
                  </a:lnTo>
                  <a:lnTo>
                    <a:pt x="1104" y="161"/>
                  </a:lnTo>
                  <a:lnTo>
                    <a:pt x="1135" y="181"/>
                  </a:lnTo>
                  <a:lnTo>
                    <a:pt x="1145" y="192"/>
                  </a:lnTo>
                  <a:lnTo>
                    <a:pt x="1156" y="202"/>
                  </a:lnTo>
                  <a:lnTo>
                    <a:pt x="1166" y="212"/>
                  </a:lnTo>
                  <a:lnTo>
                    <a:pt x="1197" y="222"/>
                  </a:lnTo>
                  <a:lnTo>
                    <a:pt x="1218" y="222"/>
                  </a:lnTo>
                  <a:lnTo>
                    <a:pt x="1239" y="222"/>
                  </a:lnTo>
                  <a:lnTo>
                    <a:pt x="1291" y="232"/>
                  </a:lnTo>
                  <a:lnTo>
                    <a:pt x="1322" y="232"/>
                  </a:lnTo>
                  <a:lnTo>
                    <a:pt x="1364" y="232"/>
                  </a:lnTo>
                  <a:lnTo>
                    <a:pt x="1385" y="232"/>
                  </a:lnTo>
                  <a:lnTo>
                    <a:pt x="1426" y="232"/>
                  </a:lnTo>
                  <a:lnTo>
                    <a:pt x="1510" y="232"/>
                  </a:lnTo>
                  <a:lnTo>
                    <a:pt x="1582" y="232"/>
                  </a:lnTo>
                  <a:lnTo>
                    <a:pt x="1655" y="242"/>
                  </a:lnTo>
                  <a:lnTo>
                    <a:pt x="1687" y="252"/>
                  </a:lnTo>
                  <a:lnTo>
                    <a:pt x="1718" y="262"/>
                  </a:lnTo>
                  <a:lnTo>
                    <a:pt x="1770" y="282"/>
                  </a:lnTo>
                  <a:lnTo>
                    <a:pt x="1811" y="312"/>
                  </a:lnTo>
                  <a:lnTo>
                    <a:pt x="1853" y="343"/>
                  </a:lnTo>
                  <a:lnTo>
                    <a:pt x="1864" y="363"/>
                  </a:lnTo>
                  <a:lnTo>
                    <a:pt x="1884" y="383"/>
                  </a:lnTo>
                  <a:lnTo>
                    <a:pt x="1936" y="413"/>
                  </a:lnTo>
                  <a:lnTo>
                    <a:pt x="1988" y="433"/>
                  </a:lnTo>
                  <a:lnTo>
                    <a:pt x="2051" y="453"/>
                  </a:lnTo>
                  <a:lnTo>
                    <a:pt x="2082" y="453"/>
                  </a:lnTo>
                  <a:lnTo>
                    <a:pt x="2113" y="453"/>
                  </a:lnTo>
                  <a:lnTo>
                    <a:pt x="2197" y="453"/>
                  </a:lnTo>
                  <a:lnTo>
                    <a:pt x="2270" y="443"/>
                  </a:lnTo>
                  <a:lnTo>
                    <a:pt x="2332" y="433"/>
                  </a:lnTo>
                  <a:lnTo>
                    <a:pt x="2363" y="423"/>
                  </a:lnTo>
                  <a:lnTo>
                    <a:pt x="2394" y="413"/>
                  </a:lnTo>
                  <a:lnTo>
                    <a:pt x="2457" y="393"/>
                  </a:lnTo>
                  <a:lnTo>
                    <a:pt x="2509" y="373"/>
                  </a:lnTo>
                  <a:lnTo>
                    <a:pt x="2561" y="363"/>
                  </a:lnTo>
                  <a:lnTo>
                    <a:pt x="2582" y="353"/>
                  </a:lnTo>
                  <a:lnTo>
                    <a:pt x="2592" y="353"/>
                  </a:lnTo>
                  <a:lnTo>
                    <a:pt x="2613" y="353"/>
                  </a:lnTo>
                  <a:lnTo>
                    <a:pt x="2634" y="353"/>
                  </a:lnTo>
                  <a:lnTo>
                    <a:pt x="2676" y="353"/>
                  </a:lnTo>
                  <a:lnTo>
                    <a:pt x="2696" y="353"/>
                  </a:lnTo>
                  <a:lnTo>
                    <a:pt x="2738" y="363"/>
                  </a:lnTo>
                  <a:lnTo>
                    <a:pt x="2780" y="373"/>
                  </a:lnTo>
                  <a:lnTo>
                    <a:pt x="2811" y="383"/>
                  </a:lnTo>
                  <a:lnTo>
                    <a:pt x="2842" y="393"/>
                  </a:lnTo>
                  <a:lnTo>
                    <a:pt x="2873" y="403"/>
                  </a:lnTo>
                  <a:lnTo>
                    <a:pt x="2915" y="413"/>
                  </a:lnTo>
                  <a:lnTo>
                    <a:pt x="2957" y="423"/>
                  </a:lnTo>
                  <a:lnTo>
                    <a:pt x="2977" y="423"/>
                  </a:lnTo>
                  <a:lnTo>
                    <a:pt x="3019" y="433"/>
                  </a:lnTo>
                  <a:lnTo>
                    <a:pt x="3061" y="443"/>
                  </a:lnTo>
                  <a:lnTo>
                    <a:pt x="3082" y="443"/>
                  </a:lnTo>
                  <a:lnTo>
                    <a:pt x="3102" y="443"/>
                  </a:lnTo>
                  <a:lnTo>
                    <a:pt x="3113" y="443"/>
                  </a:lnTo>
                  <a:lnTo>
                    <a:pt x="3134" y="443"/>
                  </a:lnTo>
                  <a:lnTo>
                    <a:pt x="3175" y="433"/>
                  </a:lnTo>
                  <a:lnTo>
                    <a:pt x="3206" y="423"/>
                  </a:lnTo>
                  <a:lnTo>
                    <a:pt x="3217" y="413"/>
                  </a:lnTo>
                  <a:lnTo>
                    <a:pt x="3227" y="403"/>
                  </a:lnTo>
                  <a:lnTo>
                    <a:pt x="3238" y="393"/>
                  </a:lnTo>
                  <a:lnTo>
                    <a:pt x="3248" y="383"/>
                  </a:lnTo>
                  <a:lnTo>
                    <a:pt x="3269" y="373"/>
                  </a:lnTo>
                  <a:lnTo>
                    <a:pt x="3290" y="373"/>
                  </a:lnTo>
                  <a:lnTo>
                    <a:pt x="3300" y="373"/>
                  </a:lnTo>
                  <a:lnTo>
                    <a:pt x="3311" y="373"/>
                  </a:lnTo>
                  <a:lnTo>
                    <a:pt x="3352" y="353"/>
                  </a:lnTo>
                  <a:lnTo>
                    <a:pt x="3394" y="332"/>
                  </a:lnTo>
                  <a:lnTo>
                    <a:pt x="3435" y="302"/>
                  </a:lnTo>
                  <a:lnTo>
                    <a:pt x="3456" y="282"/>
                  </a:lnTo>
                  <a:lnTo>
                    <a:pt x="3488" y="262"/>
                  </a:lnTo>
                  <a:lnTo>
                    <a:pt x="3529" y="232"/>
                  </a:lnTo>
                  <a:lnTo>
                    <a:pt x="3581" y="212"/>
                  </a:lnTo>
                  <a:lnTo>
                    <a:pt x="3633" y="192"/>
                  </a:lnTo>
                  <a:lnTo>
                    <a:pt x="3654" y="19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8986680" y="2882880"/>
              <a:ext cx="131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9" name=""/>
            <p:cNvGrpSpPr/>
            <p:nvPr/>
          </p:nvGrpSpPr>
          <p:grpSpPr>
            <a:xfrm>
              <a:off x="3301920" y="1573200"/>
              <a:ext cx="98640" cy="1741680"/>
              <a:chOff x="3301920" y="1573200"/>
              <a:chExt cx="98640" cy="1741680"/>
            </a:xfrm>
          </p:grpSpPr>
          <p:sp>
            <p:nvSpPr>
              <p:cNvPr id="6790" name=""/>
              <p:cNvSpPr/>
              <p:nvPr/>
            </p:nvSpPr>
            <p:spPr>
              <a:xfrm>
                <a:off x="3301920" y="1573200"/>
                <a:ext cx="9864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31" y="0"/>
                    </a:moveTo>
                    <a:lnTo>
                      <a:pt x="62" y="121"/>
                    </a:lnTo>
                    <a:lnTo>
                      <a:pt x="31" y="121"/>
                    </a:lnTo>
                    <a:lnTo>
                      <a:pt x="0" y="12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 flipV="1">
                <a:off x="3351240" y="1765440"/>
                <a:ext cx="1800" cy="1549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2" name=""/>
            <p:cNvSpPr/>
            <p:nvPr/>
          </p:nvSpPr>
          <p:spPr>
            <a:xfrm>
              <a:off x="3555720" y="1397160"/>
              <a:ext cx="384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f(</a:t>
              </a:r>
              <a:r>
                <a:rPr b="0" lang="fr-FR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3" name=""/>
            <p:cNvGrpSpPr/>
            <p:nvPr/>
          </p:nvGrpSpPr>
          <p:grpSpPr>
            <a:xfrm>
              <a:off x="3219480" y="2132280"/>
              <a:ext cx="5749920" cy="782640"/>
              <a:chOff x="3219480" y="2132280"/>
              <a:chExt cx="5749920" cy="782640"/>
            </a:xfrm>
          </p:grpSpPr>
          <p:sp>
            <p:nvSpPr>
              <p:cNvPr id="6794" name=""/>
              <p:cNvSpPr/>
              <p:nvPr/>
            </p:nvSpPr>
            <p:spPr>
              <a:xfrm>
                <a:off x="3219480" y="2132280"/>
                <a:ext cx="3387600" cy="782640"/>
              </a:xfrm>
              <a:custGeom>
                <a:avLst/>
                <a:gdLst/>
                <a:ahLst/>
                <a:rect l="l" t="t" r="r" b="b"/>
                <a:pathLst>
                  <a:path w="2134" h="493">
                    <a:moveTo>
                      <a:pt x="0" y="292"/>
                    </a:moveTo>
                    <a:lnTo>
                      <a:pt x="0" y="282"/>
                    </a:lnTo>
                    <a:lnTo>
                      <a:pt x="10" y="262"/>
                    </a:lnTo>
                    <a:lnTo>
                      <a:pt x="21" y="232"/>
                    </a:lnTo>
                    <a:lnTo>
                      <a:pt x="31" y="212"/>
                    </a:lnTo>
                    <a:lnTo>
                      <a:pt x="41" y="201"/>
                    </a:lnTo>
                    <a:lnTo>
                      <a:pt x="52" y="191"/>
                    </a:lnTo>
                    <a:lnTo>
                      <a:pt x="62" y="181"/>
                    </a:lnTo>
                    <a:lnTo>
                      <a:pt x="73" y="181"/>
                    </a:lnTo>
                    <a:lnTo>
                      <a:pt x="83" y="181"/>
                    </a:lnTo>
                    <a:lnTo>
                      <a:pt x="114" y="171"/>
                    </a:lnTo>
                    <a:lnTo>
                      <a:pt x="125" y="161"/>
                    </a:lnTo>
                    <a:lnTo>
                      <a:pt x="135" y="151"/>
                    </a:lnTo>
                    <a:lnTo>
                      <a:pt x="145" y="131"/>
                    </a:lnTo>
                    <a:lnTo>
                      <a:pt x="156" y="111"/>
                    </a:lnTo>
                    <a:lnTo>
                      <a:pt x="166" y="101"/>
                    </a:lnTo>
                    <a:lnTo>
                      <a:pt x="187" y="81"/>
                    </a:lnTo>
                    <a:lnTo>
                      <a:pt x="197" y="61"/>
                    </a:lnTo>
                    <a:lnTo>
                      <a:pt x="197" y="50"/>
                    </a:lnTo>
                    <a:lnTo>
                      <a:pt x="208" y="30"/>
                    </a:lnTo>
                    <a:lnTo>
                      <a:pt x="229" y="20"/>
                    </a:lnTo>
                    <a:lnTo>
                      <a:pt x="250" y="10"/>
                    </a:lnTo>
                    <a:lnTo>
                      <a:pt x="260" y="20"/>
                    </a:lnTo>
                    <a:lnTo>
                      <a:pt x="270" y="20"/>
                    </a:lnTo>
                    <a:lnTo>
                      <a:pt x="291" y="30"/>
                    </a:lnTo>
                    <a:lnTo>
                      <a:pt x="312" y="30"/>
                    </a:lnTo>
                    <a:lnTo>
                      <a:pt x="333" y="30"/>
                    </a:lnTo>
                    <a:lnTo>
                      <a:pt x="354" y="30"/>
                    </a:lnTo>
                    <a:lnTo>
                      <a:pt x="374" y="20"/>
                    </a:lnTo>
                    <a:lnTo>
                      <a:pt x="395" y="10"/>
                    </a:lnTo>
                    <a:lnTo>
                      <a:pt x="416" y="0"/>
                    </a:lnTo>
                    <a:lnTo>
                      <a:pt x="427" y="0"/>
                    </a:lnTo>
                    <a:lnTo>
                      <a:pt x="437" y="0"/>
                    </a:lnTo>
                    <a:lnTo>
                      <a:pt x="447" y="0"/>
                    </a:lnTo>
                    <a:lnTo>
                      <a:pt x="458" y="10"/>
                    </a:lnTo>
                    <a:lnTo>
                      <a:pt x="479" y="30"/>
                    </a:lnTo>
                    <a:lnTo>
                      <a:pt x="479" y="40"/>
                    </a:lnTo>
                    <a:lnTo>
                      <a:pt x="479" y="50"/>
                    </a:lnTo>
                    <a:lnTo>
                      <a:pt x="479" y="61"/>
                    </a:lnTo>
                    <a:lnTo>
                      <a:pt x="489" y="71"/>
                    </a:lnTo>
                    <a:lnTo>
                      <a:pt x="499" y="81"/>
                    </a:lnTo>
                    <a:lnTo>
                      <a:pt x="510" y="81"/>
                    </a:lnTo>
                    <a:lnTo>
                      <a:pt x="520" y="81"/>
                    </a:lnTo>
                    <a:lnTo>
                      <a:pt x="531" y="81"/>
                    </a:lnTo>
                    <a:lnTo>
                      <a:pt x="551" y="81"/>
                    </a:lnTo>
                    <a:lnTo>
                      <a:pt x="562" y="91"/>
                    </a:lnTo>
                    <a:lnTo>
                      <a:pt x="562" y="101"/>
                    </a:lnTo>
                    <a:lnTo>
                      <a:pt x="562" y="111"/>
                    </a:lnTo>
                    <a:lnTo>
                      <a:pt x="583" y="131"/>
                    </a:lnTo>
                    <a:lnTo>
                      <a:pt x="593" y="131"/>
                    </a:lnTo>
                    <a:lnTo>
                      <a:pt x="603" y="131"/>
                    </a:lnTo>
                    <a:lnTo>
                      <a:pt x="614" y="121"/>
                    </a:lnTo>
                    <a:lnTo>
                      <a:pt x="624" y="121"/>
                    </a:lnTo>
                    <a:lnTo>
                      <a:pt x="656" y="111"/>
                    </a:lnTo>
                    <a:lnTo>
                      <a:pt x="676" y="121"/>
                    </a:lnTo>
                    <a:lnTo>
                      <a:pt x="697" y="131"/>
                    </a:lnTo>
                    <a:lnTo>
                      <a:pt x="708" y="141"/>
                    </a:lnTo>
                    <a:lnTo>
                      <a:pt x="728" y="151"/>
                    </a:lnTo>
                    <a:lnTo>
                      <a:pt x="749" y="151"/>
                    </a:lnTo>
                    <a:lnTo>
                      <a:pt x="770" y="141"/>
                    </a:lnTo>
                    <a:lnTo>
                      <a:pt x="780" y="131"/>
                    </a:lnTo>
                    <a:lnTo>
                      <a:pt x="801" y="101"/>
                    </a:lnTo>
                    <a:lnTo>
                      <a:pt x="812" y="81"/>
                    </a:lnTo>
                    <a:lnTo>
                      <a:pt x="833" y="50"/>
                    </a:lnTo>
                    <a:lnTo>
                      <a:pt x="853" y="40"/>
                    </a:lnTo>
                    <a:lnTo>
                      <a:pt x="864" y="40"/>
                    </a:lnTo>
                    <a:lnTo>
                      <a:pt x="874" y="50"/>
                    </a:lnTo>
                    <a:lnTo>
                      <a:pt x="905" y="61"/>
                    </a:lnTo>
                    <a:lnTo>
                      <a:pt x="926" y="61"/>
                    </a:lnTo>
                    <a:lnTo>
                      <a:pt x="937" y="61"/>
                    </a:lnTo>
                    <a:lnTo>
                      <a:pt x="968" y="71"/>
                    </a:lnTo>
                    <a:lnTo>
                      <a:pt x="968" y="81"/>
                    </a:lnTo>
                    <a:lnTo>
                      <a:pt x="989" y="111"/>
                    </a:lnTo>
                    <a:lnTo>
                      <a:pt x="989" y="121"/>
                    </a:lnTo>
                    <a:lnTo>
                      <a:pt x="989" y="131"/>
                    </a:lnTo>
                    <a:lnTo>
                      <a:pt x="999" y="161"/>
                    </a:lnTo>
                    <a:lnTo>
                      <a:pt x="999" y="171"/>
                    </a:lnTo>
                    <a:lnTo>
                      <a:pt x="1009" y="191"/>
                    </a:lnTo>
                    <a:lnTo>
                      <a:pt x="1020" y="201"/>
                    </a:lnTo>
                    <a:lnTo>
                      <a:pt x="1051" y="201"/>
                    </a:lnTo>
                    <a:lnTo>
                      <a:pt x="1072" y="201"/>
                    </a:lnTo>
                    <a:lnTo>
                      <a:pt x="1082" y="201"/>
                    </a:lnTo>
                    <a:lnTo>
                      <a:pt x="1103" y="201"/>
                    </a:lnTo>
                    <a:lnTo>
                      <a:pt x="1124" y="201"/>
                    </a:lnTo>
                    <a:lnTo>
                      <a:pt x="1145" y="212"/>
                    </a:lnTo>
                    <a:lnTo>
                      <a:pt x="1166" y="222"/>
                    </a:lnTo>
                    <a:lnTo>
                      <a:pt x="1176" y="232"/>
                    </a:lnTo>
                    <a:lnTo>
                      <a:pt x="1197" y="252"/>
                    </a:lnTo>
                    <a:lnTo>
                      <a:pt x="1197" y="262"/>
                    </a:lnTo>
                    <a:lnTo>
                      <a:pt x="1207" y="272"/>
                    </a:lnTo>
                    <a:lnTo>
                      <a:pt x="1218" y="282"/>
                    </a:lnTo>
                    <a:lnTo>
                      <a:pt x="1239" y="272"/>
                    </a:lnTo>
                    <a:lnTo>
                      <a:pt x="1249" y="262"/>
                    </a:lnTo>
                    <a:lnTo>
                      <a:pt x="1259" y="252"/>
                    </a:lnTo>
                    <a:lnTo>
                      <a:pt x="1270" y="242"/>
                    </a:lnTo>
                    <a:lnTo>
                      <a:pt x="1280" y="242"/>
                    </a:lnTo>
                    <a:lnTo>
                      <a:pt x="1301" y="242"/>
                    </a:lnTo>
                    <a:lnTo>
                      <a:pt x="1311" y="252"/>
                    </a:lnTo>
                    <a:lnTo>
                      <a:pt x="1322" y="262"/>
                    </a:lnTo>
                    <a:lnTo>
                      <a:pt x="1343" y="272"/>
                    </a:lnTo>
                    <a:lnTo>
                      <a:pt x="1353" y="272"/>
                    </a:lnTo>
                    <a:lnTo>
                      <a:pt x="1374" y="262"/>
                    </a:lnTo>
                    <a:lnTo>
                      <a:pt x="1384" y="252"/>
                    </a:lnTo>
                    <a:lnTo>
                      <a:pt x="1395" y="242"/>
                    </a:lnTo>
                    <a:lnTo>
                      <a:pt x="1405" y="232"/>
                    </a:lnTo>
                    <a:lnTo>
                      <a:pt x="1426" y="232"/>
                    </a:lnTo>
                    <a:lnTo>
                      <a:pt x="1447" y="232"/>
                    </a:lnTo>
                    <a:lnTo>
                      <a:pt x="1457" y="242"/>
                    </a:lnTo>
                    <a:lnTo>
                      <a:pt x="1468" y="252"/>
                    </a:lnTo>
                    <a:lnTo>
                      <a:pt x="1488" y="262"/>
                    </a:lnTo>
                    <a:lnTo>
                      <a:pt x="1509" y="272"/>
                    </a:lnTo>
                    <a:lnTo>
                      <a:pt x="1520" y="272"/>
                    </a:lnTo>
                    <a:lnTo>
                      <a:pt x="1530" y="272"/>
                    </a:lnTo>
                    <a:lnTo>
                      <a:pt x="1551" y="272"/>
                    </a:lnTo>
                    <a:lnTo>
                      <a:pt x="1572" y="262"/>
                    </a:lnTo>
                    <a:lnTo>
                      <a:pt x="1603" y="252"/>
                    </a:lnTo>
                    <a:lnTo>
                      <a:pt x="1613" y="262"/>
                    </a:lnTo>
                    <a:lnTo>
                      <a:pt x="1624" y="272"/>
                    </a:lnTo>
                    <a:lnTo>
                      <a:pt x="1634" y="282"/>
                    </a:lnTo>
                    <a:lnTo>
                      <a:pt x="1645" y="282"/>
                    </a:lnTo>
                    <a:lnTo>
                      <a:pt x="1665" y="282"/>
                    </a:lnTo>
                    <a:lnTo>
                      <a:pt x="1686" y="282"/>
                    </a:lnTo>
                    <a:lnTo>
                      <a:pt x="1707" y="272"/>
                    </a:lnTo>
                    <a:lnTo>
                      <a:pt x="1717" y="272"/>
                    </a:lnTo>
                    <a:lnTo>
                      <a:pt x="1749" y="262"/>
                    </a:lnTo>
                    <a:lnTo>
                      <a:pt x="1769" y="262"/>
                    </a:lnTo>
                    <a:lnTo>
                      <a:pt x="1780" y="272"/>
                    </a:lnTo>
                    <a:lnTo>
                      <a:pt x="1790" y="282"/>
                    </a:lnTo>
                    <a:lnTo>
                      <a:pt x="1801" y="292"/>
                    </a:lnTo>
                    <a:lnTo>
                      <a:pt x="1811" y="302"/>
                    </a:lnTo>
                    <a:lnTo>
                      <a:pt x="1811" y="312"/>
                    </a:lnTo>
                    <a:lnTo>
                      <a:pt x="1811" y="342"/>
                    </a:lnTo>
                    <a:lnTo>
                      <a:pt x="1811" y="352"/>
                    </a:lnTo>
                    <a:lnTo>
                      <a:pt x="1811" y="363"/>
                    </a:lnTo>
                    <a:lnTo>
                      <a:pt x="1811" y="383"/>
                    </a:lnTo>
                    <a:lnTo>
                      <a:pt x="1811" y="393"/>
                    </a:lnTo>
                    <a:lnTo>
                      <a:pt x="1822" y="393"/>
                    </a:lnTo>
                    <a:lnTo>
                      <a:pt x="1832" y="393"/>
                    </a:lnTo>
                    <a:lnTo>
                      <a:pt x="1853" y="393"/>
                    </a:lnTo>
                    <a:lnTo>
                      <a:pt x="1863" y="403"/>
                    </a:lnTo>
                    <a:lnTo>
                      <a:pt x="1884" y="423"/>
                    </a:lnTo>
                    <a:lnTo>
                      <a:pt x="1884" y="433"/>
                    </a:lnTo>
                    <a:lnTo>
                      <a:pt x="1894" y="443"/>
                    </a:lnTo>
                    <a:lnTo>
                      <a:pt x="1894" y="453"/>
                    </a:lnTo>
                    <a:lnTo>
                      <a:pt x="1915" y="453"/>
                    </a:lnTo>
                    <a:lnTo>
                      <a:pt x="1936" y="453"/>
                    </a:lnTo>
                    <a:lnTo>
                      <a:pt x="1957" y="443"/>
                    </a:lnTo>
                    <a:lnTo>
                      <a:pt x="1978" y="433"/>
                    </a:lnTo>
                    <a:lnTo>
                      <a:pt x="1988" y="433"/>
                    </a:lnTo>
                    <a:lnTo>
                      <a:pt x="1998" y="433"/>
                    </a:lnTo>
                    <a:lnTo>
                      <a:pt x="2009" y="443"/>
                    </a:lnTo>
                    <a:lnTo>
                      <a:pt x="2019" y="453"/>
                    </a:lnTo>
                    <a:lnTo>
                      <a:pt x="2030" y="473"/>
                    </a:lnTo>
                    <a:lnTo>
                      <a:pt x="2051" y="493"/>
                    </a:lnTo>
                    <a:lnTo>
                      <a:pt x="2061" y="493"/>
                    </a:lnTo>
                    <a:lnTo>
                      <a:pt x="2071" y="493"/>
                    </a:lnTo>
                    <a:lnTo>
                      <a:pt x="2092" y="483"/>
                    </a:lnTo>
                    <a:lnTo>
                      <a:pt x="2113" y="473"/>
                    </a:lnTo>
                    <a:lnTo>
                      <a:pt x="2123" y="463"/>
                    </a:lnTo>
                    <a:lnTo>
                      <a:pt x="2134" y="453"/>
                    </a:lnTo>
                  </a:path>
                </a:pathLst>
              </a:custGeom>
              <a:noFill/>
              <a:ln w="33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6589800" y="2419560"/>
                <a:ext cx="2379600" cy="463680"/>
              </a:xfrm>
              <a:custGeom>
                <a:avLst/>
                <a:gdLst/>
                <a:ahLst/>
                <a:rect l="l" t="t" r="r" b="b"/>
                <a:pathLst>
                  <a:path w="1499" h="292">
                    <a:moveTo>
                      <a:pt x="0" y="272"/>
                    </a:moveTo>
                    <a:lnTo>
                      <a:pt x="11" y="272"/>
                    </a:lnTo>
                    <a:lnTo>
                      <a:pt x="52" y="282"/>
                    </a:lnTo>
                    <a:lnTo>
                      <a:pt x="73" y="282"/>
                    </a:lnTo>
                    <a:lnTo>
                      <a:pt x="115" y="292"/>
                    </a:lnTo>
                    <a:lnTo>
                      <a:pt x="136" y="292"/>
                    </a:lnTo>
                    <a:lnTo>
                      <a:pt x="157" y="292"/>
                    </a:lnTo>
                    <a:lnTo>
                      <a:pt x="167" y="292"/>
                    </a:lnTo>
                    <a:lnTo>
                      <a:pt x="198" y="282"/>
                    </a:lnTo>
                    <a:lnTo>
                      <a:pt x="209" y="282"/>
                    </a:lnTo>
                    <a:lnTo>
                      <a:pt x="240" y="262"/>
                    </a:lnTo>
                    <a:lnTo>
                      <a:pt x="250" y="252"/>
                    </a:lnTo>
                    <a:lnTo>
                      <a:pt x="271" y="232"/>
                    </a:lnTo>
                    <a:lnTo>
                      <a:pt x="271" y="222"/>
                    </a:lnTo>
                    <a:lnTo>
                      <a:pt x="281" y="212"/>
                    </a:lnTo>
                    <a:lnTo>
                      <a:pt x="281" y="202"/>
                    </a:lnTo>
                    <a:lnTo>
                      <a:pt x="292" y="202"/>
                    </a:lnTo>
                    <a:lnTo>
                      <a:pt x="313" y="202"/>
                    </a:lnTo>
                    <a:lnTo>
                      <a:pt x="323" y="212"/>
                    </a:lnTo>
                    <a:lnTo>
                      <a:pt x="334" y="222"/>
                    </a:lnTo>
                    <a:lnTo>
                      <a:pt x="354" y="222"/>
                    </a:lnTo>
                    <a:lnTo>
                      <a:pt x="365" y="222"/>
                    </a:lnTo>
                    <a:lnTo>
                      <a:pt x="375" y="212"/>
                    </a:lnTo>
                    <a:lnTo>
                      <a:pt x="386" y="202"/>
                    </a:lnTo>
                    <a:lnTo>
                      <a:pt x="396" y="192"/>
                    </a:lnTo>
                    <a:lnTo>
                      <a:pt x="406" y="171"/>
                    </a:lnTo>
                    <a:lnTo>
                      <a:pt x="406" y="182"/>
                    </a:lnTo>
                    <a:lnTo>
                      <a:pt x="417" y="182"/>
                    </a:lnTo>
                    <a:lnTo>
                      <a:pt x="427" y="192"/>
                    </a:lnTo>
                    <a:lnTo>
                      <a:pt x="438" y="202"/>
                    </a:lnTo>
                    <a:lnTo>
                      <a:pt x="448" y="202"/>
                    </a:lnTo>
                    <a:lnTo>
                      <a:pt x="469" y="202"/>
                    </a:lnTo>
                    <a:lnTo>
                      <a:pt x="490" y="202"/>
                    </a:lnTo>
                    <a:lnTo>
                      <a:pt x="500" y="192"/>
                    </a:lnTo>
                    <a:lnTo>
                      <a:pt x="511" y="182"/>
                    </a:lnTo>
                    <a:lnTo>
                      <a:pt x="531" y="171"/>
                    </a:lnTo>
                    <a:lnTo>
                      <a:pt x="542" y="171"/>
                    </a:lnTo>
                    <a:lnTo>
                      <a:pt x="552" y="182"/>
                    </a:lnTo>
                    <a:lnTo>
                      <a:pt x="573" y="192"/>
                    </a:lnTo>
                    <a:lnTo>
                      <a:pt x="583" y="192"/>
                    </a:lnTo>
                    <a:lnTo>
                      <a:pt x="604" y="192"/>
                    </a:lnTo>
                    <a:lnTo>
                      <a:pt x="615" y="192"/>
                    </a:lnTo>
                    <a:lnTo>
                      <a:pt x="625" y="192"/>
                    </a:lnTo>
                    <a:lnTo>
                      <a:pt x="656" y="202"/>
                    </a:lnTo>
                    <a:lnTo>
                      <a:pt x="667" y="212"/>
                    </a:lnTo>
                    <a:lnTo>
                      <a:pt x="687" y="242"/>
                    </a:lnTo>
                    <a:lnTo>
                      <a:pt x="687" y="252"/>
                    </a:lnTo>
                    <a:lnTo>
                      <a:pt x="698" y="272"/>
                    </a:lnTo>
                    <a:lnTo>
                      <a:pt x="719" y="282"/>
                    </a:lnTo>
                    <a:lnTo>
                      <a:pt x="729" y="282"/>
                    </a:lnTo>
                    <a:lnTo>
                      <a:pt x="750" y="282"/>
                    </a:lnTo>
                    <a:lnTo>
                      <a:pt x="771" y="272"/>
                    </a:lnTo>
                    <a:lnTo>
                      <a:pt x="792" y="262"/>
                    </a:lnTo>
                    <a:lnTo>
                      <a:pt x="802" y="262"/>
                    </a:lnTo>
                    <a:lnTo>
                      <a:pt x="833" y="262"/>
                    </a:lnTo>
                    <a:lnTo>
                      <a:pt x="854" y="262"/>
                    </a:lnTo>
                    <a:lnTo>
                      <a:pt x="875" y="272"/>
                    </a:lnTo>
                    <a:lnTo>
                      <a:pt x="896" y="282"/>
                    </a:lnTo>
                    <a:lnTo>
                      <a:pt x="917" y="292"/>
                    </a:lnTo>
                    <a:lnTo>
                      <a:pt x="927" y="292"/>
                    </a:lnTo>
                    <a:lnTo>
                      <a:pt x="937" y="282"/>
                    </a:lnTo>
                    <a:lnTo>
                      <a:pt x="948" y="272"/>
                    </a:lnTo>
                    <a:lnTo>
                      <a:pt x="958" y="262"/>
                    </a:lnTo>
                    <a:lnTo>
                      <a:pt x="979" y="252"/>
                    </a:lnTo>
                    <a:lnTo>
                      <a:pt x="1000" y="242"/>
                    </a:lnTo>
                    <a:lnTo>
                      <a:pt x="1021" y="242"/>
                    </a:lnTo>
                    <a:lnTo>
                      <a:pt x="1041" y="242"/>
                    </a:lnTo>
                    <a:lnTo>
                      <a:pt x="1062" y="242"/>
                    </a:lnTo>
                    <a:lnTo>
                      <a:pt x="1083" y="242"/>
                    </a:lnTo>
                    <a:lnTo>
                      <a:pt x="1104" y="232"/>
                    </a:lnTo>
                    <a:lnTo>
                      <a:pt x="1125" y="222"/>
                    </a:lnTo>
                    <a:lnTo>
                      <a:pt x="1135" y="212"/>
                    </a:lnTo>
                    <a:lnTo>
                      <a:pt x="1146" y="202"/>
                    </a:lnTo>
                    <a:lnTo>
                      <a:pt x="1146" y="192"/>
                    </a:lnTo>
                    <a:lnTo>
                      <a:pt x="1166" y="182"/>
                    </a:lnTo>
                    <a:lnTo>
                      <a:pt x="1187" y="182"/>
                    </a:lnTo>
                    <a:lnTo>
                      <a:pt x="1208" y="182"/>
                    </a:lnTo>
                    <a:lnTo>
                      <a:pt x="1229" y="182"/>
                    </a:lnTo>
                    <a:lnTo>
                      <a:pt x="1239" y="182"/>
                    </a:lnTo>
                    <a:lnTo>
                      <a:pt x="1260" y="182"/>
                    </a:lnTo>
                    <a:lnTo>
                      <a:pt x="1281" y="171"/>
                    </a:lnTo>
                    <a:lnTo>
                      <a:pt x="1291" y="151"/>
                    </a:lnTo>
                    <a:lnTo>
                      <a:pt x="1291" y="131"/>
                    </a:lnTo>
                    <a:lnTo>
                      <a:pt x="1291" y="121"/>
                    </a:lnTo>
                    <a:lnTo>
                      <a:pt x="1302" y="91"/>
                    </a:lnTo>
                    <a:lnTo>
                      <a:pt x="1312" y="91"/>
                    </a:lnTo>
                    <a:lnTo>
                      <a:pt x="1323" y="91"/>
                    </a:lnTo>
                    <a:lnTo>
                      <a:pt x="1343" y="101"/>
                    </a:lnTo>
                    <a:lnTo>
                      <a:pt x="1364" y="101"/>
                    </a:lnTo>
                    <a:lnTo>
                      <a:pt x="1385" y="101"/>
                    </a:lnTo>
                    <a:lnTo>
                      <a:pt x="1395" y="91"/>
                    </a:lnTo>
                    <a:lnTo>
                      <a:pt x="1406" y="81"/>
                    </a:lnTo>
                    <a:lnTo>
                      <a:pt x="1437" y="51"/>
                    </a:lnTo>
                    <a:lnTo>
                      <a:pt x="1447" y="31"/>
                    </a:lnTo>
                    <a:lnTo>
                      <a:pt x="1458" y="20"/>
                    </a:lnTo>
                    <a:lnTo>
                      <a:pt x="1468" y="10"/>
                    </a:lnTo>
                    <a:lnTo>
                      <a:pt x="1479" y="0"/>
                    </a:lnTo>
                    <a:lnTo>
                      <a:pt x="1489" y="0"/>
                    </a:lnTo>
                    <a:lnTo>
                      <a:pt x="1499" y="0"/>
                    </a:lnTo>
                  </a:path>
                </a:pathLst>
              </a:custGeom>
              <a:noFill/>
              <a:ln w="33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6" name=""/>
            <p:cNvSpPr/>
            <p:nvPr/>
          </p:nvSpPr>
          <p:spPr>
            <a:xfrm>
              <a:off x="3730680" y="2691000"/>
              <a:ext cx="662040" cy="463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3714840" y="2675160"/>
              <a:ext cx="693720" cy="495000"/>
            </a:xfrm>
            <a:custGeom>
              <a:avLst/>
              <a:gdLst/>
              <a:ahLst/>
              <a:rect l="l" t="t" r="r" b="b"/>
              <a:pathLst>
                <a:path w="437" h="312">
                  <a:moveTo>
                    <a:pt x="0" y="0"/>
                  </a:moveTo>
                  <a:lnTo>
                    <a:pt x="437" y="0"/>
                  </a:lnTo>
                  <a:lnTo>
                    <a:pt x="437" y="312"/>
                  </a:lnTo>
                  <a:lnTo>
                    <a:pt x="0" y="312"/>
                  </a:lnTo>
                  <a:lnTo>
                    <a:pt x="0" y="0"/>
                  </a:lnTo>
                  <a:close/>
                  <a:moveTo>
                    <a:pt x="21" y="21"/>
                  </a:moveTo>
                  <a:lnTo>
                    <a:pt x="416" y="21"/>
                  </a:lnTo>
                  <a:lnTo>
                    <a:pt x="416" y="292"/>
                  </a:lnTo>
                  <a:lnTo>
                    <a:pt x="21" y="292"/>
                  </a:lnTo>
                  <a:lnTo>
                    <a:pt x="21" y="21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4111560" y="1973520"/>
              <a:ext cx="1800" cy="2060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8143920" y="2691000"/>
              <a:ext cx="149040" cy="16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8143920" y="2691000"/>
              <a:ext cx="149040" cy="160200"/>
            </a:xfrm>
            <a:prstGeom prst="ellipse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1" name=""/>
            <p:cNvSpPr/>
            <p:nvPr/>
          </p:nvSpPr>
          <p:spPr>
            <a:xfrm flipH="1">
              <a:off x="5416200" y="2772000"/>
              <a:ext cx="3438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2" name=""/>
            <p:cNvSpPr/>
            <p:nvPr/>
          </p:nvSpPr>
          <p:spPr>
            <a:xfrm flipH="1">
              <a:off x="3897000" y="2308320"/>
              <a:ext cx="3436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3" name=""/>
            <p:cNvGrpSpPr/>
            <p:nvPr/>
          </p:nvGrpSpPr>
          <p:grpSpPr>
            <a:xfrm>
              <a:off x="6640560" y="2308320"/>
              <a:ext cx="298080" cy="463320"/>
              <a:chOff x="6640560" y="2308320"/>
              <a:chExt cx="298080" cy="463320"/>
            </a:xfrm>
          </p:grpSpPr>
          <p:grpSp>
            <p:nvGrpSpPr>
              <p:cNvPr id="6804" name=""/>
              <p:cNvGrpSpPr/>
              <p:nvPr/>
            </p:nvGrpSpPr>
            <p:grpSpPr>
              <a:xfrm>
                <a:off x="6640560" y="2308320"/>
                <a:ext cx="98280" cy="463320"/>
                <a:chOff x="6640560" y="2308320"/>
                <a:chExt cx="98280" cy="463320"/>
              </a:xfrm>
            </p:grpSpPr>
            <p:sp>
              <p:nvSpPr>
                <p:cNvPr id="6805" name=""/>
                <p:cNvSpPr/>
                <p:nvPr/>
              </p:nvSpPr>
              <p:spPr>
                <a:xfrm>
                  <a:off x="6640560" y="2579760"/>
                  <a:ext cx="98280" cy="191880"/>
                </a:xfrm>
                <a:custGeom>
                  <a:avLst/>
                  <a:gdLst/>
                  <a:ahLst/>
                  <a:rect l="l" t="t" r="r" b="b"/>
                  <a:pathLst>
                    <a:path w="62" h="121">
                      <a:moveTo>
                        <a:pt x="31" y="121"/>
                      </a:moveTo>
                      <a:lnTo>
                        <a:pt x="0" y="0"/>
                      </a:lnTo>
                      <a:lnTo>
                        <a:pt x="31" y="0"/>
                      </a:lnTo>
                      <a:lnTo>
                        <a:pt x="62" y="0"/>
                      </a:lnTo>
                      <a:lnTo>
                        <a:pt x="31" y="1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6" name=""/>
                <p:cNvSpPr/>
                <p:nvPr/>
              </p:nvSpPr>
              <p:spPr>
                <a:xfrm>
                  <a:off x="6640560" y="2308320"/>
                  <a:ext cx="98280" cy="191880"/>
                </a:xfrm>
                <a:custGeom>
                  <a:avLst/>
                  <a:gdLst/>
                  <a:ahLst/>
                  <a:rect l="l" t="t" r="r" b="b"/>
                  <a:pathLst>
                    <a:path w="62" h="121">
                      <a:moveTo>
                        <a:pt x="31" y="0"/>
                      </a:moveTo>
                      <a:lnTo>
                        <a:pt x="62" y="121"/>
                      </a:lnTo>
                      <a:lnTo>
                        <a:pt x="31" y="121"/>
                      </a:lnTo>
                      <a:lnTo>
                        <a:pt x="0" y="121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7" name=""/>
                <p:cNvSpPr/>
                <p:nvPr/>
              </p:nvSpPr>
              <p:spPr>
                <a:xfrm flipV="1">
                  <a:off x="6689880" y="2499840"/>
                  <a:ext cx="1440" cy="79560"/>
                </a:xfrm>
                <a:prstGeom prst="line">
                  <a:avLst/>
                </a:prstGeom>
                <a:ln w="158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08" name=""/>
              <p:cNvSpPr/>
              <p:nvPr/>
            </p:nvSpPr>
            <p:spPr>
              <a:xfrm>
                <a:off x="6776280" y="2355840"/>
                <a:ext cx="162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100" spc="-1" strike="noStrike">
                    <a:solidFill>
                      <a:srgbClr val="ff0066"/>
                    </a:solidFill>
                    <a:latin typeface="Comic Sans MS"/>
                  </a:rPr>
                  <a:t>P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9" name=""/>
            <p:cNvSpPr/>
            <p:nvPr/>
          </p:nvSpPr>
          <p:spPr>
            <a:xfrm flipH="1" flipV="1">
              <a:off x="3384360" y="1989360"/>
              <a:ext cx="1353960" cy="558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0" name=""/>
            <p:cNvGrpSpPr/>
            <p:nvPr/>
          </p:nvGrpSpPr>
          <p:grpSpPr>
            <a:xfrm>
              <a:off x="3268800" y="2036880"/>
              <a:ext cx="974520" cy="1965240"/>
              <a:chOff x="3268800" y="2036880"/>
              <a:chExt cx="974520" cy="1965240"/>
            </a:xfrm>
          </p:grpSpPr>
          <p:sp>
            <p:nvSpPr>
              <p:cNvPr id="6811" name=""/>
              <p:cNvSpPr/>
              <p:nvPr/>
            </p:nvSpPr>
            <p:spPr>
              <a:xfrm>
                <a:off x="3268800" y="3809880"/>
                <a:ext cx="115920" cy="192240"/>
              </a:xfrm>
              <a:custGeom>
                <a:avLst/>
                <a:gdLst/>
                <a:ahLst/>
                <a:rect l="l" t="t" r="r" b="b"/>
                <a:pathLst>
                  <a:path w="73" h="121">
                    <a:moveTo>
                      <a:pt x="0" y="121"/>
                    </a:moveTo>
                    <a:lnTo>
                      <a:pt x="21" y="0"/>
                    </a:lnTo>
                    <a:lnTo>
                      <a:pt x="52" y="10"/>
                    </a:lnTo>
                    <a:lnTo>
                      <a:pt x="73" y="2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 flipH="1">
                <a:off x="3351240" y="2036880"/>
                <a:ext cx="892080" cy="1788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3" name=""/>
            <p:cNvSpPr/>
            <p:nvPr/>
          </p:nvSpPr>
          <p:spPr>
            <a:xfrm>
              <a:off x="4029120" y="2229120"/>
              <a:ext cx="147600" cy="158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4027320" y="2227320"/>
              <a:ext cx="150840" cy="160200"/>
            </a:xfrm>
            <a:prstGeom prst="ellipse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3565440" y="3425760"/>
              <a:ext cx="561960" cy="192240"/>
            </a:xfrm>
            <a:custGeom>
              <a:avLst/>
              <a:gdLst/>
              <a:ahLst/>
              <a:rect l="l" t="t" r="r" b="b"/>
              <a:pathLst>
                <a:path w="354" h="121">
                  <a:moveTo>
                    <a:pt x="0" y="0"/>
                  </a:moveTo>
                  <a:lnTo>
                    <a:pt x="104" y="81"/>
                  </a:lnTo>
                  <a:lnTo>
                    <a:pt x="229" y="121"/>
                  </a:lnTo>
                  <a:lnTo>
                    <a:pt x="354" y="121"/>
                  </a:lnTo>
                </a:path>
              </a:pathLst>
            </a:custGeom>
            <a:noFill/>
            <a:ln w="334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3653640" y="3633840"/>
              <a:ext cx="296280" cy="3204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3333cc"/>
                  </a:solidFill>
                  <a:latin typeface="Comic Sans MS"/>
                </a:rPr>
                <a:t>T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7903080" y="3235320"/>
              <a:ext cx="69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él.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4253400" y="2781360"/>
              <a:ext cx="69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él.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9" name=""/>
          <p:cNvSpPr/>
          <p:nvPr/>
        </p:nvSpPr>
        <p:spPr>
          <a:xfrm>
            <a:off x="4005720" y="5645160"/>
            <a:ext cx="25491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6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obser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6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q chose comme 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0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4959360" cy="58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piston, tilt : V mal estim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1" name=""/>
          <p:cNvGrpSpPr/>
          <p:nvPr/>
        </p:nvGrpSpPr>
        <p:grpSpPr>
          <a:xfrm>
            <a:off x="130320" y="1847880"/>
            <a:ext cx="3638160" cy="4273920"/>
            <a:chOff x="130320" y="1847880"/>
            <a:chExt cx="3638160" cy="4273920"/>
          </a:xfrm>
        </p:grpSpPr>
        <p:grpSp>
          <p:nvGrpSpPr>
            <p:cNvPr id="6822" name=""/>
            <p:cNvGrpSpPr/>
            <p:nvPr/>
          </p:nvGrpSpPr>
          <p:grpSpPr>
            <a:xfrm>
              <a:off x="1762560" y="1919160"/>
              <a:ext cx="99360" cy="1992960"/>
              <a:chOff x="1762560" y="1919160"/>
              <a:chExt cx="99360" cy="1992960"/>
            </a:xfrm>
          </p:grpSpPr>
          <p:sp>
            <p:nvSpPr>
              <p:cNvPr id="6823" name=""/>
              <p:cNvSpPr/>
              <p:nvPr/>
            </p:nvSpPr>
            <p:spPr>
              <a:xfrm>
                <a:off x="1802520" y="1919160"/>
                <a:ext cx="18360" cy="199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>
                <a:off x="1762560" y="1919160"/>
                <a:ext cx="99360" cy="99000"/>
              </a:xfrm>
              <a:custGeom>
                <a:avLst/>
                <a:gdLst/>
                <a:ahLst/>
                <a:rect l="l" t="t" r="r" b="b"/>
                <a:pathLst>
                  <a:path w="102" h="101">
                    <a:moveTo>
                      <a:pt x="102" y="101"/>
                    </a:moveTo>
                    <a:lnTo>
                      <a:pt x="51" y="0"/>
                    </a:lnTo>
                    <a:lnTo>
                      <a:pt x="0" y="101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5" name=""/>
            <p:cNvGrpSpPr/>
            <p:nvPr/>
          </p:nvGrpSpPr>
          <p:grpSpPr>
            <a:xfrm>
              <a:off x="130320" y="3831840"/>
              <a:ext cx="3351240" cy="100800"/>
              <a:chOff x="130320" y="3831840"/>
              <a:chExt cx="3351240" cy="100800"/>
            </a:xfrm>
          </p:grpSpPr>
          <p:sp>
            <p:nvSpPr>
              <p:cNvPr id="6826" name=""/>
              <p:cNvSpPr/>
              <p:nvPr/>
            </p:nvSpPr>
            <p:spPr>
              <a:xfrm>
                <a:off x="130320" y="3872160"/>
                <a:ext cx="3221640" cy="18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3349080" y="3831840"/>
                <a:ext cx="132480" cy="100800"/>
              </a:xfrm>
              <a:custGeom>
                <a:avLst/>
                <a:gdLst/>
                <a:ahLst/>
                <a:rect l="l" t="t" r="r" b="b"/>
                <a:pathLst>
                  <a:path w="101" h="102">
                    <a:moveTo>
                      <a:pt x="0" y="102"/>
                    </a:moveTo>
                    <a:lnTo>
                      <a:pt x="101" y="51"/>
                    </a:lnTo>
                    <a:lnTo>
                      <a:pt x="0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8" name=""/>
            <p:cNvSpPr/>
            <p:nvPr/>
          </p:nvSpPr>
          <p:spPr>
            <a:xfrm>
              <a:off x="795600" y="2646720"/>
              <a:ext cx="2405880" cy="1238400"/>
            </a:xfrm>
            <a:custGeom>
              <a:avLst/>
              <a:gdLst/>
              <a:ahLst/>
              <a:rect l="l" t="t" r="r" b="b"/>
              <a:pathLst>
                <a:path w="1836" h="1261">
                  <a:moveTo>
                    <a:pt x="0" y="1235"/>
                  </a:moveTo>
                  <a:lnTo>
                    <a:pt x="2" y="1261"/>
                  </a:lnTo>
                  <a:lnTo>
                    <a:pt x="9" y="1260"/>
                  </a:lnTo>
                  <a:lnTo>
                    <a:pt x="22" y="1260"/>
                  </a:lnTo>
                  <a:lnTo>
                    <a:pt x="35" y="1260"/>
                  </a:lnTo>
                  <a:lnTo>
                    <a:pt x="50" y="1261"/>
                  </a:lnTo>
                  <a:lnTo>
                    <a:pt x="67" y="1261"/>
                  </a:lnTo>
                  <a:lnTo>
                    <a:pt x="85" y="1261"/>
                  </a:lnTo>
                  <a:lnTo>
                    <a:pt x="123" y="1261"/>
                  </a:lnTo>
                  <a:lnTo>
                    <a:pt x="163" y="1260"/>
                  </a:lnTo>
                  <a:lnTo>
                    <a:pt x="200" y="1258"/>
                  </a:lnTo>
                  <a:lnTo>
                    <a:pt x="217" y="1254"/>
                  </a:lnTo>
                  <a:lnTo>
                    <a:pt x="222" y="1253"/>
                  </a:lnTo>
                  <a:lnTo>
                    <a:pt x="238" y="1250"/>
                  </a:lnTo>
                  <a:lnTo>
                    <a:pt x="252" y="1246"/>
                  </a:lnTo>
                  <a:lnTo>
                    <a:pt x="265" y="1240"/>
                  </a:lnTo>
                  <a:lnTo>
                    <a:pt x="274" y="1234"/>
                  </a:lnTo>
                  <a:lnTo>
                    <a:pt x="279" y="1230"/>
                  </a:lnTo>
                  <a:lnTo>
                    <a:pt x="287" y="1221"/>
                  </a:lnTo>
                  <a:lnTo>
                    <a:pt x="295" y="1212"/>
                  </a:lnTo>
                  <a:lnTo>
                    <a:pt x="298" y="1207"/>
                  </a:lnTo>
                  <a:lnTo>
                    <a:pt x="305" y="1195"/>
                  </a:lnTo>
                  <a:lnTo>
                    <a:pt x="317" y="1170"/>
                  </a:lnTo>
                  <a:lnTo>
                    <a:pt x="327" y="1143"/>
                  </a:lnTo>
                  <a:lnTo>
                    <a:pt x="334" y="1116"/>
                  </a:lnTo>
                  <a:lnTo>
                    <a:pt x="339" y="1103"/>
                  </a:lnTo>
                  <a:lnTo>
                    <a:pt x="342" y="1092"/>
                  </a:lnTo>
                  <a:lnTo>
                    <a:pt x="346" y="1083"/>
                  </a:lnTo>
                  <a:lnTo>
                    <a:pt x="351" y="1074"/>
                  </a:lnTo>
                  <a:lnTo>
                    <a:pt x="339" y="1069"/>
                  </a:lnTo>
                  <a:lnTo>
                    <a:pt x="348" y="1078"/>
                  </a:lnTo>
                  <a:lnTo>
                    <a:pt x="353" y="1072"/>
                  </a:lnTo>
                  <a:lnTo>
                    <a:pt x="343" y="1063"/>
                  </a:lnTo>
                  <a:lnTo>
                    <a:pt x="349" y="1075"/>
                  </a:lnTo>
                  <a:lnTo>
                    <a:pt x="355" y="1070"/>
                  </a:lnTo>
                  <a:lnTo>
                    <a:pt x="356" y="1069"/>
                  </a:lnTo>
                  <a:lnTo>
                    <a:pt x="352" y="1057"/>
                  </a:lnTo>
                  <a:lnTo>
                    <a:pt x="352" y="1070"/>
                  </a:lnTo>
                  <a:lnTo>
                    <a:pt x="354" y="1072"/>
                  </a:lnTo>
                  <a:lnTo>
                    <a:pt x="354" y="1058"/>
                  </a:lnTo>
                  <a:lnTo>
                    <a:pt x="350" y="1070"/>
                  </a:lnTo>
                  <a:lnTo>
                    <a:pt x="352" y="1072"/>
                  </a:lnTo>
                  <a:lnTo>
                    <a:pt x="356" y="1060"/>
                  </a:lnTo>
                  <a:lnTo>
                    <a:pt x="348" y="1068"/>
                  </a:lnTo>
                  <a:lnTo>
                    <a:pt x="350" y="1072"/>
                  </a:lnTo>
                  <a:lnTo>
                    <a:pt x="360" y="1062"/>
                  </a:lnTo>
                  <a:lnTo>
                    <a:pt x="348" y="1067"/>
                  </a:lnTo>
                  <a:lnTo>
                    <a:pt x="353" y="1075"/>
                  </a:lnTo>
                  <a:lnTo>
                    <a:pt x="357" y="1086"/>
                  </a:lnTo>
                  <a:lnTo>
                    <a:pt x="363" y="1098"/>
                  </a:lnTo>
                  <a:lnTo>
                    <a:pt x="367" y="1112"/>
                  </a:lnTo>
                  <a:lnTo>
                    <a:pt x="373" y="1126"/>
                  </a:lnTo>
                  <a:lnTo>
                    <a:pt x="378" y="1141"/>
                  </a:lnTo>
                  <a:lnTo>
                    <a:pt x="383" y="1153"/>
                  </a:lnTo>
                  <a:lnTo>
                    <a:pt x="388" y="1163"/>
                  </a:lnTo>
                  <a:lnTo>
                    <a:pt x="391" y="1168"/>
                  </a:lnTo>
                  <a:lnTo>
                    <a:pt x="397" y="1176"/>
                  </a:lnTo>
                  <a:lnTo>
                    <a:pt x="399" y="1178"/>
                  </a:lnTo>
                  <a:lnTo>
                    <a:pt x="403" y="1180"/>
                  </a:lnTo>
                  <a:lnTo>
                    <a:pt x="407" y="1181"/>
                  </a:lnTo>
                  <a:lnTo>
                    <a:pt x="411" y="1182"/>
                  </a:lnTo>
                  <a:lnTo>
                    <a:pt x="414" y="1182"/>
                  </a:lnTo>
                  <a:lnTo>
                    <a:pt x="420" y="1181"/>
                  </a:lnTo>
                  <a:lnTo>
                    <a:pt x="422" y="1180"/>
                  </a:lnTo>
                  <a:lnTo>
                    <a:pt x="426" y="1178"/>
                  </a:lnTo>
                  <a:lnTo>
                    <a:pt x="430" y="1174"/>
                  </a:lnTo>
                  <a:lnTo>
                    <a:pt x="433" y="1171"/>
                  </a:lnTo>
                  <a:lnTo>
                    <a:pt x="436" y="1167"/>
                  </a:lnTo>
                  <a:lnTo>
                    <a:pt x="439" y="1161"/>
                  </a:lnTo>
                  <a:lnTo>
                    <a:pt x="443" y="1154"/>
                  </a:lnTo>
                  <a:lnTo>
                    <a:pt x="446" y="1145"/>
                  </a:lnTo>
                  <a:lnTo>
                    <a:pt x="449" y="1133"/>
                  </a:lnTo>
                  <a:lnTo>
                    <a:pt x="453" y="1120"/>
                  </a:lnTo>
                  <a:lnTo>
                    <a:pt x="457" y="1103"/>
                  </a:lnTo>
                  <a:lnTo>
                    <a:pt x="458" y="1098"/>
                  </a:lnTo>
                  <a:lnTo>
                    <a:pt x="461" y="1079"/>
                  </a:lnTo>
                  <a:lnTo>
                    <a:pt x="466" y="1056"/>
                  </a:lnTo>
                  <a:lnTo>
                    <a:pt x="470" y="1032"/>
                  </a:lnTo>
                  <a:lnTo>
                    <a:pt x="473" y="1006"/>
                  </a:lnTo>
                  <a:lnTo>
                    <a:pt x="478" y="977"/>
                  </a:lnTo>
                  <a:lnTo>
                    <a:pt x="482" y="947"/>
                  </a:lnTo>
                  <a:lnTo>
                    <a:pt x="486" y="915"/>
                  </a:lnTo>
                  <a:lnTo>
                    <a:pt x="491" y="882"/>
                  </a:lnTo>
                  <a:lnTo>
                    <a:pt x="500" y="813"/>
                  </a:lnTo>
                  <a:lnTo>
                    <a:pt x="508" y="742"/>
                  </a:lnTo>
                  <a:lnTo>
                    <a:pt x="518" y="671"/>
                  </a:lnTo>
                  <a:lnTo>
                    <a:pt x="527" y="601"/>
                  </a:lnTo>
                  <a:lnTo>
                    <a:pt x="531" y="566"/>
                  </a:lnTo>
                  <a:lnTo>
                    <a:pt x="537" y="533"/>
                  </a:lnTo>
                  <a:lnTo>
                    <a:pt x="541" y="501"/>
                  </a:lnTo>
                  <a:lnTo>
                    <a:pt x="546" y="471"/>
                  </a:lnTo>
                  <a:lnTo>
                    <a:pt x="550" y="442"/>
                  </a:lnTo>
                  <a:lnTo>
                    <a:pt x="555" y="415"/>
                  </a:lnTo>
                  <a:lnTo>
                    <a:pt x="560" y="390"/>
                  </a:lnTo>
                  <a:lnTo>
                    <a:pt x="564" y="367"/>
                  </a:lnTo>
                  <a:lnTo>
                    <a:pt x="551" y="367"/>
                  </a:lnTo>
                  <a:lnTo>
                    <a:pt x="563" y="372"/>
                  </a:lnTo>
                  <a:lnTo>
                    <a:pt x="567" y="351"/>
                  </a:lnTo>
                  <a:lnTo>
                    <a:pt x="572" y="335"/>
                  </a:lnTo>
                  <a:lnTo>
                    <a:pt x="576" y="320"/>
                  </a:lnTo>
                  <a:lnTo>
                    <a:pt x="581" y="309"/>
                  </a:lnTo>
                  <a:lnTo>
                    <a:pt x="585" y="301"/>
                  </a:lnTo>
                  <a:lnTo>
                    <a:pt x="573" y="297"/>
                  </a:lnTo>
                  <a:lnTo>
                    <a:pt x="583" y="306"/>
                  </a:lnTo>
                  <a:lnTo>
                    <a:pt x="578" y="309"/>
                  </a:lnTo>
                  <a:lnTo>
                    <a:pt x="584" y="304"/>
                  </a:lnTo>
                  <a:lnTo>
                    <a:pt x="584" y="304"/>
                  </a:lnTo>
                  <a:lnTo>
                    <a:pt x="579" y="292"/>
                  </a:lnTo>
                  <a:lnTo>
                    <a:pt x="579" y="306"/>
                  </a:lnTo>
                  <a:lnTo>
                    <a:pt x="574" y="304"/>
                  </a:lnTo>
                  <a:lnTo>
                    <a:pt x="576" y="304"/>
                  </a:lnTo>
                  <a:lnTo>
                    <a:pt x="582" y="292"/>
                  </a:lnTo>
                  <a:lnTo>
                    <a:pt x="572" y="302"/>
                  </a:lnTo>
                  <a:lnTo>
                    <a:pt x="576" y="307"/>
                  </a:lnTo>
                  <a:lnTo>
                    <a:pt x="586" y="297"/>
                  </a:lnTo>
                  <a:lnTo>
                    <a:pt x="574" y="302"/>
                  </a:lnTo>
                  <a:lnTo>
                    <a:pt x="577" y="310"/>
                  </a:lnTo>
                  <a:lnTo>
                    <a:pt x="582" y="323"/>
                  </a:lnTo>
                  <a:lnTo>
                    <a:pt x="586" y="338"/>
                  </a:lnTo>
                  <a:lnTo>
                    <a:pt x="590" y="357"/>
                  </a:lnTo>
                  <a:lnTo>
                    <a:pt x="602" y="353"/>
                  </a:lnTo>
                  <a:lnTo>
                    <a:pt x="589" y="353"/>
                  </a:lnTo>
                  <a:lnTo>
                    <a:pt x="593" y="373"/>
                  </a:lnTo>
                  <a:lnTo>
                    <a:pt x="597" y="399"/>
                  </a:lnTo>
                  <a:lnTo>
                    <a:pt x="600" y="425"/>
                  </a:lnTo>
                  <a:lnTo>
                    <a:pt x="605" y="453"/>
                  </a:lnTo>
                  <a:lnTo>
                    <a:pt x="609" y="483"/>
                  </a:lnTo>
                  <a:lnTo>
                    <a:pt x="612" y="515"/>
                  </a:lnTo>
                  <a:lnTo>
                    <a:pt x="617" y="547"/>
                  </a:lnTo>
                  <a:lnTo>
                    <a:pt x="620" y="581"/>
                  </a:lnTo>
                  <a:lnTo>
                    <a:pt x="629" y="649"/>
                  </a:lnTo>
                  <a:lnTo>
                    <a:pt x="636" y="717"/>
                  </a:lnTo>
                  <a:lnTo>
                    <a:pt x="640" y="751"/>
                  </a:lnTo>
                  <a:lnTo>
                    <a:pt x="644" y="783"/>
                  </a:lnTo>
                  <a:lnTo>
                    <a:pt x="648" y="813"/>
                  </a:lnTo>
                  <a:lnTo>
                    <a:pt x="652" y="843"/>
                  </a:lnTo>
                  <a:lnTo>
                    <a:pt x="656" y="871"/>
                  </a:lnTo>
                  <a:lnTo>
                    <a:pt x="660" y="896"/>
                  </a:lnTo>
                  <a:lnTo>
                    <a:pt x="664" y="919"/>
                  </a:lnTo>
                  <a:lnTo>
                    <a:pt x="668" y="940"/>
                  </a:lnTo>
                  <a:lnTo>
                    <a:pt x="669" y="945"/>
                  </a:lnTo>
                  <a:lnTo>
                    <a:pt x="674" y="962"/>
                  </a:lnTo>
                  <a:lnTo>
                    <a:pt x="678" y="976"/>
                  </a:lnTo>
                  <a:lnTo>
                    <a:pt x="681" y="986"/>
                  </a:lnTo>
                  <a:lnTo>
                    <a:pt x="686" y="993"/>
                  </a:lnTo>
                  <a:lnTo>
                    <a:pt x="689" y="997"/>
                  </a:lnTo>
                  <a:lnTo>
                    <a:pt x="691" y="999"/>
                  </a:lnTo>
                  <a:lnTo>
                    <a:pt x="695" y="1002"/>
                  </a:lnTo>
                  <a:lnTo>
                    <a:pt x="698" y="1003"/>
                  </a:lnTo>
                  <a:lnTo>
                    <a:pt x="702" y="1004"/>
                  </a:lnTo>
                  <a:lnTo>
                    <a:pt x="704" y="1004"/>
                  </a:lnTo>
                  <a:lnTo>
                    <a:pt x="710" y="1003"/>
                  </a:lnTo>
                  <a:lnTo>
                    <a:pt x="714" y="999"/>
                  </a:lnTo>
                  <a:lnTo>
                    <a:pt x="716" y="998"/>
                  </a:lnTo>
                  <a:lnTo>
                    <a:pt x="718" y="995"/>
                  </a:lnTo>
                  <a:lnTo>
                    <a:pt x="721" y="991"/>
                  </a:lnTo>
                  <a:lnTo>
                    <a:pt x="723" y="986"/>
                  </a:lnTo>
                  <a:lnTo>
                    <a:pt x="725" y="981"/>
                  </a:lnTo>
                  <a:lnTo>
                    <a:pt x="727" y="974"/>
                  </a:lnTo>
                  <a:lnTo>
                    <a:pt x="729" y="967"/>
                  </a:lnTo>
                  <a:lnTo>
                    <a:pt x="732" y="958"/>
                  </a:lnTo>
                  <a:lnTo>
                    <a:pt x="736" y="937"/>
                  </a:lnTo>
                  <a:lnTo>
                    <a:pt x="737" y="933"/>
                  </a:lnTo>
                  <a:lnTo>
                    <a:pt x="741" y="907"/>
                  </a:lnTo>
                  <a:lnTo>
                    <a:pt x="746" y="880"/>
                  </a:lnTo>
                  <a:lnTo>
                    <a:pt x="750" y="848"/>
                  </a:lnTo>
                  <a:lnTo>
                    <a:pt x="754" y="814"/>
                  </a:lnTo>
                  <a:lnTo>
                    <a:pt x="759" y="777"/>
                  </a:lnTo>
                  <a:lnTo>
                    <a:pt x="763" y="738"/>
                  </a:lnTo>
                  <a:lnTo>
                    <a:pt x="768" y="697"/>
                  </a:lnTo>
                  <a:lnTo>
                    <a:pt x="772" y="655"/>
                  </a:lnTo>
                  <a:lnTo>
                    <a:pt x="776" y="611"/>
                  </a:lnTo>
                  <a:lnTo>
                    <a:pt x="782" y="567"/>
                  </a:lnTo>
                  <a:lnTo>
                    <a:pt x="791" y="477"/>
                  </a:lnTo>
                  <a:lnTo>
                    <a:pt x="800" y="388"/>
                  </a:lnTo>
                  <a:lnTo>
                    <a:pt x="805" y="345"/>
                  </a:lnTo>
                  <a:lnTo>
                    <a:pt x="809" y="302"/>
                  </a:lnTo>
                  <a:lnTo>
                    <a:pt x="814" y="262"/>
                  </a:lnTo>
                  <a:lnTo>
                    <a:pt x="819" y="222"/>
                  </a:lnTo>
                  <a:lnTo>
                    <a:pt x="823" y="186"/>
                  </a:lnTo>
                  <a:lnTo>
                    <a:pt x="829" y="152"/>
                  </a:lnTo>
                  <a:lnTo>
                    <a:pt x="833" y="121"/>
                  </a:lnTo>
                  <a:lnTo>
                    <a:pt x="839" y="93"/>
                  </a:lnTo>
                  <a:lnTo>
                    <a:pt x="826" y="93"/>
                  </a:lnTo>
                  <a:lnTo>
                    <a:pt x="838" y="99"/>
                  </a:lnTo>
                  <a:lnTo>
                    <a:pt x="842" y="74"/>
                  </a:lnTo>
                  <a:lnTo>
                    <a:pt x="847" y="54"/>
                  </a:lnTo>
                  <a:lnTo>
                    <a:pt x="850" y="45"/>
                  </a:lnTo>
                  <a:lnTo>
                    <a:pt x="852" y="37"/>
                  </a:lnTo>
                  <a:lnTo>
                    <a:pt x="854" y="31"/>
                  </a:lnTo>
                  <a:lnTo>
                    <a:pt x="857" y="26"/>
                  </a:lnTo>
                  <a:lnTo>
                    <a:pt x="860" y="22"/>
                  </a:lnTo>
                  <a:lnTo>
                    <a:pt x="847" y="18"/>
                  </a:lnTo>
                  <a:lnTo>
                    <a:pt x="857" y="26"/>
                  </a:lnTo>
                  <a:lnTo>
                    <a:pt x="860" y="24"/>
                  </a:lnTo>
                  <a:lnTo>
                    <a:pt x="850" y="14"/>
                  </a:lnTo>
                  <a:lnTo>
                    <a:pt x="855" y="26"/>
                  </a:lnTo>
                  <a:lnTo>
                    <a:pt x="857" y="25"/>
                  </a:lnTo>
                  <a:lnTo>
                    <a:pt x="853" y="13"/>
                  </a:lnTo>
                  <a:lnTo>
                    <a:pt x="853" y="26"/>
                  </a:lnTo>
                  <a:lnTo>
                    <a:pt x="847" y="25"/>
                  </a:lnTo>
                  <a:lnTo>
                    <a:pt x="852" y="26"/>
                  </a:lnTo>
                  <a:lnTo>
                    <a:pt x="853" y="26"/>
                  </a:lnTo>
                  <a:lnTo>
                    <a:pt x="857" y="14"/>
                  </a:lnTo>
                  <a:lnTo>
                    <a:pt x="849" y="24"/>
                  </a:lnTo>
                  <a:lnTo>
                    <a:pt x="851" y="26"/>
                  </a:lnTo>
                  <a:lnTo>
                    <a:pt x="854" y="31"/>
                  </a:lnTo>
                  <a:lnTo>
                    <a:pt x="863" y="21"/>
                  </a:lnTo>
                  <a:lnTo>
                    <a:pt x="851" y="26"/>
                  </a:lnTo>
                  <a:lnTo>
                    <a:pt x="854" y="32"/>
                  </a:lnTo>
                  <a:lnTo>
                    <a:pt x="856" y="38"/>
                  </a:lnTo>
                  <a:lnTo>
                    <a:pt x="860" y="46"/>
                  </a:lnTo>
                  <a:lnTo>
                    <a:pt x="862" y="54"/>
                  </a:lnTo>
                  <a:lnTo>
                    <a:pt x="865" y="64"/>
                  </a:lnTo>
                  <a:lnTo>
                    <a:pt x="870" y="87"/>
                  </a:lnTo>
                  <a:lnTo>
                    <a:pt x="876" y="113"/>
                  </a:lnTo>
                  <a:lnTo>
                    <a:pt x="888" y="107"/>
                  </a:lnTo>
                  <a:lnTo>
                    <a:pt x="875" y="107"/>
                  </a:lnTo>
                  <a:lnTo>
                    <a:pt x="881" y="138"/>
                  </a:lnTo>
                  <a:lnTo>
                    <a:pt x="887" y="171"/>
                  </a:lnTo>
                  <a:lnTo>
                    <a:pt x="893" y="206"/>
                  </a:lnTo>
                  <a:lnTo>
                    <a:pt x="900" y="244"/>
                  </a:lnTo>
                  <a:lnTo>
                    <a:pt x="905" y="285"/>
                  </a:lnTo>
                  <a:lnTo>
                    <a:pt x="912" y="327"/>
                  </a:lnTo>
                  <a:lnTo>
                    <a:pt x="919" y="371"/>
                  </a:lnTo>
                  <a:lnTo>
                    <a:pt x="924" y="417"/>
                  </a:lnTo>
                  <a:lnTo>
                    <a:pt x="937" y="510"/>
                  </a:lnTo>
                  <a:lnTo>
                    <a:pt x="949" y="604"/>
                  </a:lnTo>
                  <a:lnTo>
                    <a:pt x="961" y="697"/>
                  </a:lnTo>
                  <a:lnTo>
                    <a:pt x="967" y="742"/>
                  </a:lnTo>
                  <a:lnTo>
                    <a:pt x="972" y="786"/>
                  </a:lnTo>
                  <a:lnTo>
                    <a:pt x="978" y="829"/>
                  </a:lnTo>
                  <a:lnTo>
                    <a:pt x="983" y="869"/>
                  </a:lnTo>
                  <a:lnTo>
                    <a:pt x="989" y="907"/>
                  </a:lnTo>
                  <a:lnTo>
                    <a:pt x="994" y="944"/>
                  </a:lnTo>
                  <a:lnTo>
                    <a:pt x="1000" y="976"/>
                  </a:lnTo>
                  <a:lnTo>
                    <a:pt x="1004" y="1006"/>
                  </a:lnTo>
                  <a:lnTo>
                    <a:pt x="1008" y="1033"/>
                  </a:lnTo>
                  <a:lnTo>
                    <a:pt x="1013" y="1055"/>
                  </a:lnTo>
                  <a:lnTo>
                    <a:pt x="1014" y="1061"/>
                  </a:lnTo>
                  <a:lnTo>
                    <a:pt x="1016" y="1070"/>
                  </a:lnTo>
                  <a:lnTo>
                    <a:pt x="1018" y="1079"/>
                  </a:lnTo>
                  <a:lnTo>
                    <a:pt x="1020" y="1087"/>
                  </a:lnTo>
                  <a:lnTo>
                    <a:pt x="1023" y="1092"/>
                  </a:lnTo>
                  <a:lnTo>
                    <a:pt x="1026" y="1103"/>
                  </a:lnTo>
                  <a:lnTo>
                    <a:pt x="1030" y="1110"/>
                  </a:lnTo>
                  <a:lnTo>
                    <a:pt x="1032" y="1114"/>
                  </a:lnTo>
                  <a:lnTo>
                    <a:pt x="1036" y="1118"/>
                  </a:lnTo>
                  <a:lnTo>
                    <a:pt x="1040" y="1121"/>
                  </a:lnTo>
                  <a:lnTo>
                    <a:pt x="1043" y="1122"/>
                  </a:lnTo>
                  <a:lnTo>
                    <a:pt x="1048" y="1123"/>
                  </a:lnTo>
                  <a:lnTo>
                    <a:pt x="1053" y="1122"/>
                  </a:lnTo>
                  <a:lnTo>
                    <a:pt x="1055" y="1120"/>
                  </a:lnTo>
                  <a:lnTo>
                    <a:pt x="1060" y="1118"/>
                  </a:lnTo>
                  <a:lnTo>
                    <a:pt x="1063" y="1113"/>
                  </a:lnTo>
                  <a:lnTo>
                    <a:pt x="1065" y="1109"/>
                  </a:lnTo>
                  <a:lnTo>
                    <a:pt x="1067" y="1102"/>
                  </a:lnTo>
                  <a:lnTo>
                    <a:pt x="1070" y="1093"/>
                  </a:lnTo>
                  <a:lnTo>
                    <a:pt x="1071" y="1088"/>
                  </a:lnTo>
                  <a:lnTo>
                    <a:pt x="1073" y="1078"/>
                  </a:lnTo>
                  <a:lnTo>
                    <a:pt x="1075" y="1065"/>
                  </a:lnTo>
                  <a:lnTo>
                    <a:pt x="1076" y="1052"/>
                  </a:lnTo>
                  <a:lnTo>
                    <a:pt x="1078" y="1037"/>
                  </a:lnTo>
                  <a:lnTo>
                    <a:pt x="1079" y="1021"/>
                  </a:lnTo>
                  <a:lnTo>
                    <a:pt x="1082" y="1004"/>
                  </a:lnTo>
                  <a:lnTo>
                    <a:pt x="1084" y="968"/>
                  </a:lnTo>
                  <a:lnTo>
                    <a:pt x="1087" y="930"/>
                  </a:lnTo>
                  <a:lnTo>
                    <a:pt x="1089" y="894"/>
                  </a:lnTo>
                  <a:lnTo>
                    <a:pt x="1093" y="859"/>
                  </a:lnTo>
                  <a:lnTo>
                    <a:pt x="1095" y="843"/>
                  </a:lnTo>
                  <a:lnTo>
                    <a:pt x="1097" y="828"/>
                  </a:lnTo>
                  <a:lnTo>
                    <a:pt x="1098" y="814"/>
                  </a:lnTo>
                  <a:lnTo>
                    <a:pt x="1100" y="801"/>
                  </a:lnTo>
                  <a:lnTo>
                    <a:pt x="1087" y="801"/>
                  </a:lnTo>
                  <a:lnTo>
                    <a:pt x="1099" y="807"/>
                  </a:lnTo>
                  <a:lnTo>
                    <a:pt x="1101" y="796"/>
                  </a:lnTo>
                  <a:lnTo>
                    <a:pt x="1105" y="787"/>
                  </a:lnTo>
                  <a:lnTo>
                    <a:pt x="1107" y="780"/>
                  </a:lnTo>
                  <a:lnTo>
                    <a:pt x="1110" y="776"/>
                  </a:lnTo>
                  <a:lnTo>
                    <a:pt x="1098" y="771"/>
                  </a:lnTo>
                  <a:lnTo>
                    <a:pt x="1107" y="780"/>
                  </a:lnTo>
                  <a:lnTo>
                    <a:pt x="1102" y="783"/>
                  </a:lnTo>
                  <a:lnTo>
                    <a:pt x="1106" y="780"/>
                  </a:lnTo>
                  <a:lnTo>
                    <a:pt x="1101" y="768"/>
                  </a:lnTo>
                  <a:lnTo>
                    <a:pt x="1101" y="782"/>
                  </a:lnTo>
                  <a:lnTo>
                    <a:pt x="1096" y="780"/>
                  </a:lnTo>
                  <a:lnTo>
                    <a:pt x="1098" y="780"/>
                  </a:lnTo>
                  <a:lnTo>
                    <a:pt x="1103" y="785"/>
                  </a:lnTo>
                  <a:lnTo>
                    <a:pt x="1108" y="773"/>
                  </a:lnTo>
                  <a:lnTo>
                    <a:pt x="1099" y="782"/>
                  </a:lnTo>
                  <a:lnTo>
                    <a:pt x="1103" y="787"/>
                  </a:lnTo>
                  <a:lnTo>
                    <a:pt x="1112" y="777"/>
                  </a:lnTo>
                  <a:lnTo>
                    <a:pt x="1100" y="783"/>
                  </a:lnTo>
                  <a:lnTo>
                    <a:pt x="1105" y="789"/>
                  </a:lnTo>
                  <a:lnTo>
                    <a:pt x="1109" y="797"/>
                  </a:lnTo>
                  <a:lnTo>
                    <a:pt x="1113" y="807"/>
                  </a:lnTo>
                  <a:lnTo>
                    <a:pt x="1119" y="818"/>
                  </a:lnTo>
                  <a:lnTo>
                    <a:pt x="1123" y="830"/>
                  </a:lnTo>
                  <a:lnTo>
                    <a:pt x="1129" y="844"/>
                  </a:lnTo>
                  <a:lnTo>
                    <a:pt x="1140" y="873"/>
                  </a:lnTo>
                  <a:lnTo>
                    <a:pt x="1151" y="906"/>
                  </a:lnTo>
                  <a:lnTo>
                    <a:pt x="1163" y="942"/>
                  </a:lnTo>
                  <a:lnTo>
                    <a:pt x="1173" y="980"/>
                  </a:lnTo>
                  <a:lnTo>
                    <a:pt x="1186" y="1017"/>
                  </a:lnTo>
                  <a:lnTo>
                    <a:pt x="1196" y="1055"/>
                  </a:lnTo>
                  <a:lnTo>
                    <a:pt x="1207" y="1091"/>
                  </a:lnTo>
                  <a:lnTo>
                    <a:pt x="1218" y="1125"/>
                  </a:lnTo>
                  <a:lnTo>
                    <a:pt x="1228" y="1157"/>
                  </a:lnTo>
                  <a:lnTo>
                    <a:pt x="1233" y="1171"/>
                  </a:lnTo>
                  <a:lnTo>
                    <a:pt x="1237" y="1183"/>
                  </a:lnTo>
                  <a:lnTo>
                    <a:pt x="1240" y="1195"/>
                  </a:lnTo>
                  <a:lnTo>
                    <a:pt x="1245" y="1206"/>
                  </a:lnTo>
                  <a:lnTo>
                    <a:pt x="1248" y="1216"/>
                  </a:lnTo>
                  <a:lnTo>
                    <a:pt x="1251" y="1224"/>
                  </a:lnTo>
                  <a:lnTo>
                    <a:pt x="1257" y="1235"/>
                  </a:lnTo>
                  <a:lnTo>
                    <a:pt x="1261" y="1243"/>
                  </a:lnTo>
                  <a:lnTo>
                    <a:pt x="1264" y="1249"/>
                  </a:lnTo>
                  <a:lnTo>
                    <a:pt x="1268" y="1253"/>
                  </a:lnTo>
                  <a:lnTo>
                    <a:pt x="1270" y="1257"/>
                  </a:lnTo>
                  <a:lnTo>
                    <a:pt x="1274" y="1259"/>
                  </a:lnTo>
                  <a:lnTo>
                    <a:pt x="1276" y="1260"/>
                  </a:lnTo>
                  <a:lnTo>
                    <a:pt x="1281" y="1261"/>
                  </a:lnTo>
                  <a:lnTo>
                    <a:pt x="1286" y="1260"/>
                  </a:lnTo>
                  <a:lnTo>
                    <a:pt x="1291" y="1258"/>
                  </a:lnTo>
                  <a:lnTo>
                    <a:pt x="1292" y="1255"/>
                  </a:lnTo>
                  <a:lnTo>
                    <a:pt x="1295" y="1251"/>
                  </a:lnTo>
                  <a:lnTo>
                    <a:pt x="1296" y="1249"/>
                  </a:lnTo>
                  <a:lnTo>
                    <a:pt x="1297" y="1244"/>
                  </a:lnTo>
                  <a:lnTo>
                    <a:pt x="1298" y="1240"/>
                  </a:lnTo>
                  <a:lnTo>
                    <a:pt x="1299" y="1229"/>
                  </a:lnTo>
                  <a:lnTo>
                    <a:pt x="1286" y="1229"/>
                  </a:lnTo>
                  <a:lnTo>
                    <a:pt x="1298" y="1235"/>
                  </a:lnTo>
                  <a:lnTo>
                    <a:pt x="1301" y="1224"/>
                  </a:lnTo>
                  <a:lnTo>
                    <a:pt x="1304" y="1219"/>
                  </a:lnTo>
                  <a:lnTo>
                    <a:pt x="1292" y="1214"/>
                  </a:lnTo>
                  <a:lnTo>
                    <a:pt x="1300" y="1224"/>
                  </a:lnTo>
                  <a:lnTo>
                    <a:pt x="1304" y="1220"/>
                  </a:lnTo>
                  <a:lnTo>
                    <a:pt x="1294" y="1211"/>
                  </a:lnTo>
                  <a:lnTo>
                    <a:pt x="1299" y="1223"/>
                  </a:lnTo>
                  <a:lnTo>
                    <a:pt x="1303" y="1220"/>
                  </a:lnTo>
                  <a:lnTo>
                    <a:pt x="1298" y="1208"/>
                  </a:lnTo>
                  <a:lnTo>
                    <a:pt x="1298" y="1221"/>
                  </a:lnTo>
                  <a:lnTo>
                    <a:pt x="1301" y="1221"/>
                  </a:lnTo>
                  <a:lnTo>
                    <a:pt x="1315" y="1225"/>
                  </a:lnTo>
                  <a:lnTo>
                    <a:pt x="1315" y="1212"/>
                  </a:lnTo>
                  <a:lnTo>
                    <a:pt x="1310" y="1224"/>
                  </a:lnTo>
                  <a:lnTo>
                    <a:pt x="1326" y="1228"/>
                  </a:lnTo>
                  <a:lnTo>
                    <a:pt x="1342" y="1235"/>
                  </a:lnTo>
                  <a:lnTo>
                    <a:pt x="1361" y="1241"/>
                  </a:lnTo>
                  <a:lnTo>
                    <a:pt x="1379" y="1248"/>
                  </a:lnTo>
                  <a:lnTo>
                    <a:pt x="1397" y="1251"/>
                  </a:lnTo>
                  <a:lnTo>
                    <a:pt x="1402" y="1252"/>
                  </a:lnTo>
                  <a:lnTo>
                    <a:pt x="1417" y="1253"/>
                  </a:lnTo>
                  <a:lnTo>
                    <a:pt x="1425" y="1253"/>
                  </a:lnTo>
                  <a:lnTo>
                    <a:pt x="1431" y="1252"/>
                  </a:lnTo>
                  <a:lnTo>
                    <a:pt x="1437" y="1250"/>
                  </a:lnTo>
                  <a:lnTo>
                    <a:pt x="1443" y="1247"/>
                  </a:lnTo>
                  <a:lnTo>
                    <a:pt x="1447" y="1243"/>
                  </a:lnTo>
                  <a:lnTo>
                    <a:pt x="1452" y="1239"/>
                  </a:lnTo>
                  <a:lnTo>
                    <a:pt x="1458" y="1232"/>
                  </a:lnTo>
                  <a:lnTo>
                    <a:pt x="1460" y="1228"/>
                  </a:lnTo>
                  <a:lnTo>
                    <a:pt x="1464" y="1220"/>
                  </a:lnTo>
                  <a:lnTo>
                    <a:pt x="1473" y="1203"/>
                  </a:lnTo>
                  <a:lnTo>
                    <a:pt x="1482" y="1183"/>
                  </a:lnTo>
                  <a:lnTo>
                    <a:pt x="1490" y="1165"/>
                  </a:lnTo>
                  <a:lnTo>
                    <a:pt x="1493" y="1157"/>
                  </a:lnTo>
                  <a:lnTo>
                    <a:pt x="1497" y="1149"/>
                  </a:lnTo>
                  <a:lnTo>
                    <a:pt x="1501" y="1143"/>
                  </a:lnTo>
                  <a:lnTo>
                    <a:pt x="1489" y="1138"/>
                  </a:lnTo>
                  <a:lnTo>
                    <a:pt x="1498" y="1147"/>
                  </a:lnTo>
                  <a:lnTo>
                    <a:pt x="1502" y="1143"/>
                  </a:lnTo>
                  <a:lnTo>
                    <a:pt x="1506" y="1139"/>
                  </a:lnTo>
                  <a:lnTo>
                    <a:pt x="1497" y="1130"/>
                  </a:lnTo>
                  <a:lnTo>
                    <a:pt x="1503" y="1142"/>
                  </a:lnTo>
                  <a:lnTo>
                    <a:pt x="1497" y="1143"/>
                  </a:lnTo>
                  <a:lnTo>
                    <a:pt x="1503" y="1142"/>
                  </a:lnTo>
                  <a:lnTo>
                    <a:pt x="1506" y="1143"/>
                  </a:lnTo>
                  <a:lnTo>
                    <a:pt x="1506" y="1130"/>
                  </a:lnTo>
                  <a:lnTo>
                    <a:pt x="1502" y="1142"/>
                  </a:lnTo>
                  <a:lnTo>
                    <a:pt x="1506" y="1144"/>
                  </a:lnTo>
                  <a:lnTo>
                    <a:pt x="1512" y="1132"/>
                  </a:lnTo>
                  <a:lnTo>
                    <a:pt x="1502" y="1142"/>
                  </a:lnTo>
                  <a:lnTo>
                    <a:pt x="1506" y="1146"/>
                  </a:lnTo>
                  <a:lnTo>
                    <a:pt x="1512" y="1151"/>
                  </a:lnTo>
                  <a:lnTo>
                    <a:pt x="1516" y="1159"/>
                  </a:lnTo>
                  <a:lnTo>
                    <a:pt x="1526" y="1149"/>
                  </a:lnTo>
                  <a:lnTo>
                    <a:pt x="1514" y="1155"/>
                  </a:lnTo>
                  <a:lnTo>
                    <a:pt x="1518" y="1162"/>
                  </a:lnTo>
                  <a:lnTo>
                    <a:pt x="1528" y="1180"/>
                  </a:lnTo>
                  <a:lnTo>
                    <a:pt x="1538" y="1199"/>
                  </a:lnTo>
                  <a:lnTo>
                    <a:pt x="1548" y="1215"/>
                  </a:lnTo>
                  <a:lnTo>
                    <a:pt x="1551" y="1219"/>
                  </a:lnTo>
                  <a:lnTo>
                    <a:pt x="1556" y="1226"/>
                  </a:lnTo>
                  <a:lnTo>
                    <a:pt x="1562" y="1231"/>
                  </a:lnTo>
                  <a:lnTo>
                    <a:pt x="1567" y="1236"/>
                  </a:lnTo>
                  <a:lnTo>
                    <a:pt x="1572" y="1238"/>
                  </a:lnTo>
                  <a:lnTo>
                    <a:pt x="1579" y="1241"/>
                  </a:lnTo>
                  <a:lnTo>
                    <a:pt x="1583" y="1240"/>
                  </a:lnTo>
                  <a:lnTo>
                    <a:pt x="1587" y="1241"/>
                  </a:lnTo>
                  <a:lnTo>
                    <a:pt x="1594" y="1241"/>
                  </a:lnTo>
                  <a:lnTo>
                    <a:pt x="1598" y="1240"/>
                  </a:lnTo>
                  <a:lnTo>
                    <a:pt x="1605" y="1238"/>
                  </a:lnTo>
                  <a:lnTo>
                    <a:pt x="1610" y="1235"/>
                  </a:lnTo>
                  <a:lnTo>
                    <a:pt x="1614" y="1231"/>
                  </a:lnTo>
                  <a:lnTo>
                    <a:pt x="1627" y="1223"/>
                  </a:lnTo>
                  <a:lnTo>
                    <a:pt x="1641" y="1213"/>
                  </a:lnTo>
                  <a:lnTo>
                    <a:pt x="1654" y="1201"/>
                  </a:lnTo>
                  <a:lnTo>
                    <a:pt x="1667" y="1191"/>
                  </a:lnTo>
                  <a:lnTo>
                    <a:pt x="1679" y="1182"/>
                  </a:lnTo>
                  <a:lnTo>
                    <a:pt x="1670" y="1172"/>
                  </a:lnTo>
                  <a:lnTo>
                    <a:pt x="1675" y="1184"/>
                  </a:lnTo>
                  <a:lnTo>
                    <a:pt x="1681" y="1182"/>
                  </a:lnTo>
                  <a:lnTo>
                    <a:pt x="1684" y="1181"/>
                  </a:lnTo>
                  <a:lnTo>
                    <a:pt x="1696" y="1179"/>
                  </a:lnTo>
                  <a:lnTo>
                    <a:pt x="1691" y="1167"/>
                  </a:lnTo>
                  <a:lnTo>
                    <a:pt x="1691" y="1180"/>
                  </a:lnTo>
                  <a:lnTo>
                    <a:pt x="1701" y="1180"/>
                  </a:lnTo>
                  <a:lnTo>
                    <a:pt x="1708" y="1181"/>
                  </a:lnTo>
                  <a:lnTo>
                    <a:pt x="1708" y="1168"/>
                  </a:lnTo>
                  <a:lnTo>
                    <a:pt x="1704" y="1180"/>
                  </a:lnTo>
                  <a:lnTo>
                    <a:pt x="1712" y="1183"/>
                  </a:lnTo>
                  <a:lnTo>
                    <a:pt x="1728" y="1191"/>
                  </a:lnTo>
                  <a:lnTo>
                    <a:pt x="1745" y="1200"/>
                  </a:lnTo>
                  <a:lnTo>
                    <a:pt x="1755" y="1205"/>
                  </a:lnTo>
                  <a:lnTo>
                    <a:pt x="1766" y="1212"/>
                  </a:lnTo>
                  <a:lnTo>
                    <a:pt x="1788" y="1226"/>
                  </a:lnTo>
                  <a:lnTo>
                    <a:pt x="1799" y="1232"/>
                  </a:lnTo>
                  <a:lnTo>
                    <a:pt x="1804" y="1220"/>
                  </a:lnTo>
                  <a:lnTo>
                    <a:pt x="1795" y="1230"/>
                  </a:lnTo>
                  <a:lnTo>
                    <a:pt x="1805" y="1237"/>
                  </a:lnTo>
                  <a:lnTo>
                    <a:pt x="1809" y="1240"/>
                  </a:lnTo>
                  <a:lnTo>
                    <a:pt x="1818" y="1246"/>
                  </a:lnTo>
                  <a:lnTo>
                    <a:pt x="1823" y="1249"/>
                  </a:lnTo>
                  <a:lnTo>
                    <a:pt x="1836" y="1227"/>
                  </a:lnTo>
                  <a:lnTo>
                    <a:pt x="1828" y="1221"/>
                  </a:lnTo>
                  <a:lnTo>
                    <a:pt x="1819" y="1216"/>
                  </a:lnTo>
                  <a:lnTo>
                    <a:pt x="1815" y="1228"/>
                  </a:lnTo>
                  <a:lnTo>
                    <a:pt x="1823" y="1218"/>
                  </a:lnTo>
                  <a:lnTo>
                    <a:pt x="1813" y="1212"/>
                  </a:lnTo>
                  <a:lnTo>
                    <a:pt x="1809" y="1208"/>
                  </a:lnTo>
                  <a:lnTo>
                    <a:pt x="1798" y="1202"/>
                  </a:lnTo>
                  <a:lnTo>
                    <a:pt x="1776" y="1188"/>
                  </a:lnTo>
                  <a:lnTo>
                    <a:pt x="1765" y="1181"/>
                  </a:lnTo>
                  <a:lnTo>
                    <a:pt x="1755" y="1177"/>
                  </a:lnTo>
                  <a:lnTo>
                    <a:pt x="1738" y="1167"/>
                  </a:lnTo>
                  <a:lnTo>
                    <a:pt x="1722" y="1159"/>
                  </a:lnTo>
                  <a:lnTo>
                    <a:pt x="1714" y="1156"/>
                  </a:lnTo>
                  <a:lnTo>
                    <a:pt x="1708" y="1155"/>
                  </a:lnTo>
                  <a:lnTo>
                    <a:pt x="1701" y="1154"/>
                  </a:lnTo>
                  <a:lnTo>
                    <a:pt x="1691" y="1154"/>
                  </a:lnTo>
                  <a:lnTo>
                    <a:pt x="1687" y="1155"/>
                  </a:lnTo>
                  <a:lnTo>
                    <a:pt x="1679" y="1156"/>
                  </a:lnTo>
                  <a:lnTo>
                    <a:pt x="1671" y="1158"/>
                  </a:lnTo>
                  <a:lnTo>
                    <a:pt x="1665" y="1160"/>
                  </a:lnTo>
                  <a:lnTo>
                    <a:pt x="1660" y="1163"/>
                  </a:lnTo>
                  <a:lnTo>
                    <a:pt x="1648" y="1172"/>
                  </a:lnTo>
                  <a:lnTo>
                    <a:pt x="1635" y="1182"/>
                  </a:lnTo>
                  <a:lnTo>
                    <a:pt x="1622" y="1194"/>
                  </a:lnTo>
                  <a:lnTo>
                    <a:pt x="1609" y="1204"/>
                  </a:lnTo>
                  <a:lnTo>
                    <a:pt x="1596" y="1213"/>
                  </a:lnTo>
                  <a:lnTo>
                    <a:pt x="1606" y="1223"/>
                  </a:lnTo>
                  <a:lnTo>
                    <a:pt x="1600" y="1211"/>
                  </a:lnTo>
                  <a:lnTo>
                    <a:pt x="1595" y="1214"/>
                  </a:lnTo>
                  <a:lnTo>
                    <a:pt x="1588" y="1216"/>
                  </a:lnTo>
                  <a:lnTo>
                    <a:pt x="1594" y="1228"/>
                  </a:lnTo>
                  <a:lnTo>
                    <a:pt x="1594" y="1215"/>
                  </a:lnTo>
                  <a:lnTo>
                    <a:pt x="1587" y="1215"/>
                  </a:lnTo>
                  <a:lnTo>
                    <a:pt x="1587" y="1228"/>
                  </a:lnTo>
                  <a:lnTo>
                    <a:pt x="1592" y="1216"/>
                  </a:lnTo>
                  <a:lnTo>
                    <a:pt x="1585" y="1216"/>
                  </a:lnTo>
                  <a:lnTo>
                    <a:pt x="1582" y="1214"/>
                  </a:lnTo>
                  <a:lnTo>
                    <a:pt x="1576" y="1226"/>
                  </a:lnTo>
                  <a:lnTo>
                    <a:pt x="1586" y="1217"/>
                  </a:lnTo>
                  <a:lnTo>
                    <a:pt x="1580" y="1213"/>
                  </a:lnTo>
                  <a:lnTo>
                    <a:pt x="1575" y="1207"/>
                  </a:lnTo>
                  <a:lnTo>
                    <a:pt x="1570" y="1201"/>
                  </a:lnTo>
                  <a:lnTo>
                    <a:pt x="1560" y="1209"/>
                  </a:lnTo>
                  <a:lnTo>
                    <a:pt x="1572" y="1205"/>
                  </a:lnTo>
                  <a:lnTo>
                    <a:pt x="1562" y="1189"/>
                  </a:lnTo>
                  <a:lnTo>
                    <a:pt x="1552" y="1170"/>
                  </a:lnTo>
                  <a:lnTo>
                    <a:pt x="1542" y="1153"/>
                  </a:lnTo>
                  <a:lnTo>
                    <a:pt x="1538" y="1145"/>
                  </a:lnTo>
                  <a:lnTo>
                    <a:pt x="1535" y="1141"/>
                  </a:lnTo>
                  <a:lnTo>
                    <a:pt x="1530" y="1133"/>
                  </a:lnTo>
                  <a:lnTo>
                    <a:pt x="1525" y="1127"/>
                  </a:lnTo>
                  <a:lnTo>
                    <a:pt x="1520" y="1123"/>
                  </a:lnTo>
                  <a:lnTo>
                    <a:pt x="1516" y="1120"/>
                  </a:lnTo>
                  <a:lnTo>
                    <a:pt x="1512" y="1118"/>
                  </a:lnTo>
                  <a:lnTo>
                    <a:pt x="1506" y="1116"/>
                  </a:lnTo>
                  <a:lnTo>
                    <a:pt x="1502" y="1115"/>
                  </a:lnTo>
                  <a:lnTo>
                    <a:pt x="1497" y="1116"/>
                  </a:lnTo>
                  <a:lnTo>
                    <a:pt x="1492" y="1118"/>
                  </a:lnTo>
                  <a:lnTo>
                    <a:pt x="1487" y="1121"/>
                  </a:lnTo>
                  <a:lnTo>
                    <a:pt x="1483" y="1124"/>
                  </a:lnTo>
                  <a:lnTo>
                    <a:pt x="1480" y="1128"/>
                  </a:lnTo>
                  <a:lnTo>
                    <a:pt x="1477" y="1133"/>
                  </a:lnTo>
                  <a:lnTo>
                    <a:pt x="1473" y="1139"/>
                  </a:lnTo>
                  <a:lnTo>
                    <a:pt x="1469" y="1147"/>
                  </a:lnTo>
                  <a:lnTo>
                    <a:pt x="1466" y="1155"/>
                  </a:lnTo>
                  <a:lnTo>
                    <a:pt x="1458" y="1173"/>
                  </a:lnTo>
                  <a:lnTo>
                    <a:pt x="1449" y="1193"/>
                  </a:lnTo>
                  <a:lnTo>
                    <a:pt x="1440" y="1211"/>
                  </a:lnTo>
                  <a:lnTo>
                    <a:pt x="1436" y="1218"/>
                  </a:lnTo>
                  <a:lnTo>
                    <a:pt x="1448" y="1223"/>
                  </a:lnTo>
                  <a:lnTo>
                    <a:pt x="1439" y="1214"/>
                  </a:lnTo>
                  <a:lnTo>
                    <a:pt x="1434" y="1220"/>
                  </a:lnTo>
                  <a:lnTo>
                    <a:pt x="1428" y="1225"/>
                  </a:lnTo>
                  <a:lnTo>
                    <a:pt x="1437" y="1235"/>
                  </a:lnTo>
                  <a:lnTo>
                    <a:pt x="1433" y="1223"/>
                  </a:lnTo>
                  <a:lnTo>
                    <a:pt x="1427" y="1226"/>
                  </a:lnTo>
                  <a:lnTo>
                    <a:pt x="1421" y="1228"/>
                  </a:lnTo>
                  <a:lnTo>
                    <a:pt x="1425" y="1240"/>
                  </a:lnTo>
                  <a:lnTo>
                    <a:pt x="1425" y="1227"/>
                  </a:lnTo>
                  <a:lnTo>
                    <a:pt x="1417" y="1227"/>
                  </a:lnTo>
                  <a:lnTo>
                    <a:pt x="1402" y="1226"/>
                  </a:lnTo>
                  <a:lnTo>
                    <a:pt x="1402" y="1239"/>
                  </a:lnTo>
                  <a:lnTo>
                    <a:pt x="1407" y="1227"/>
                  </a:lnTo>
                  <a:lnTo>
                    <a:pt x="1389" y="1224"/>
                  </a:lnTo>
                  <a:lnTo>
                    <a:pt x="1370" y="1217"/>
                  </a:lnTo>
                  <a:lnTo>
                    <a:pt x="1352" y="1211"/>
                  </a:lnTo>
                  <a:lnTo>
                    <a:pt x="1335" y="1204"/>
                  </a:lnTo>
                  <a:lnTo>
                    <a:pt x="1320" y="1200"/>
                  </a:lnTo>
                  <a:lnTo>
                    <a:pt x="1315" y="1199"/>
                  </a:lnTo>
                  <a:lnTo>
                    <a:pt x="1305" y="1196"/>
                  </a:lnTo>
                  <a:lnTo>
                    <a:pt x="1298" y="1195"/>
                  </a:lnTo>
                  <a:lnTo>
                    <a:pt x="1293" y="1196"/>
                  </a:lnTo>
                  <a:lnTo>
                    <a:pt x="1289" y="1199"/>
                  </a:lnTo>
                  <a:lnTo>
                    <a:pt x="1285" y="1202"/>
                  </a:lnTo>
                  <a:lnTo>
                    <a:pt x="1282" y="1205"/>
                  </a:lnTo>
                  <a:lnTo>
                    <a:pt x="1280" y="1209"/>
                  </a:lnTo>
                  <a:lnTo>
                    <a:pt x="1277" y="1214"/>
                  </a:lnTo>
                  <a:lnTo>
                    <a:pt x="1274" y="1225"/>
                  </a:lnTo>
                  <a:lnTo>
                    <a:pt x="1273" y="1229"/>
                  </a:lnTo>
                  <a:lnTo>
                    <a:pt x="1273" y="1229"/>
                  </a:lnTo>
                  <a:lnTo>
                    <a:pt x="1272" y="1240"/>
                  </a:lnTo>
                  <a:lnTo>
                    <a:pt x="1285" y="1240"/>
                  </a:lnTo>
                  <a:lnTo>
                    <a:pt x="1273" y="1235"/>
                  </a:lnTo>
                  <a:lnTo>
                    <a:pt x="1272" y="1239"/>
                  </a:lnTo>
                  <a:lnTo>
                    <a:pt x="1271" y="1241"/>
                  </a:lnTo>
                  <a:lnTo>
                    <a:pt x="1283" y="1247"/>
                  </a:lnTo>
                  <a:lnTo>
                    <a:pt x="1273" y="1237"/>
                  </a:lnTo>
                  <a:lnTo>
                    <a:pt x="1272" y="1239"/>
                  </a:lnTo>
                  <a:lnTo>
                    <a:pt x="1281" y="1235"/>
                  </a:lnTo>
                  <a:lnTo>
                    <a:pt x="1276" y="1236"/>
                  </a:lnTo>
                  <a:lnTo>
                    <a:pt x="1281" y="1248"/>
                  </a:lnTo>
                  <a:lnTo>
                    <a:pt x="1286" y="1236"/>
                  </a:lnTo>
                  <a:lnTo>
                    <a:pt x="1284" y="1235"/>
                  </a:lnTo>
                  <a:lnTo>
                    <a:pt x="1280" y="1247"/>
                  </a:lnTo>
                  <a:lnTo>
                    <a:pt x="1288" y="1238"/>
                  </a:lnTo>
                  <a:lnTo>
                    <a:pt x="1286" y="1235"/>
                  </a:lnTo>
                  <a:lnTo>
                    <a:pt x="1276" y="1244"/>
                  </a:lnTo>
                  <a:lnTo>
                    <a:pt x="1288" y="1239"/>
                  </a:lnTo>
                  <a:lnTo>
                    <a:pt x="1285" y="1234"/>
                  </a:lnTo>
                  <a:lnTo>
                    <a:pt x="1281" y="1225"/>
                  </a:lnTo>
                  <a:lnTo>
                    <a:pt x="1275" y="1213"/>
                  </a:lnTo>
                  <a:lnTo>
                    <a:pt x="1272" y="1206"/>
                  </a:lnTo>
                  <a:lnTo>
                    <a:pt x="1269" y="1196"/>
                  </a:lnTo>
                  <a:lnTo>
                    <a:pt x="1264" y="1185"/>
                  </a:lnTo>
                  <a:lnTo>
                    <a:pt x="1261" y="1173"/>
                  </a:lnTo>
                  <a:lnTo>
                    <a:pt x="1257" y="1161"/>
                  </a:lnTo>
                  <a:lnTo>
                    <a:pt x="1252" y="1147"/>
                  </a:lnTo>
                  <a:lnTo>
                    <a:pt x="1242" y="1115"/>
                  </a:lnTo>
                  <a:lnTo>
                    <a:pt x="1231" y="1081"/>
                  </a:lnTo>
                  <a:lnTo>
                    <a:pt x="1221" y="1045"/>
                  </a:lnTo>
                  <a:lnTo>
                    <a:pt x="1210" y="1007"/>
                  </a:lnTo>
                  <a:lnTo>
                    <a:pt x="1198" y="970"/>
                  </a:lnTo>
                  <a:lnTo>
                    <a:pt x="1187" y="933"/>
                  </a:lnTo>
                  <a:lnTo>
                    <a:pt x="1175" y="896"/>
                  </a:lnTo>
                  <a:lnTo>
                    <a:pt x="1164" y="864"/>
                  </a:lnTo>
                  <a:lnTo>
                    <a:pt x="1153" y="834"/>
                  </a:lnTo>
                  <a:lnTo>
                    <a:pt x="1147" y="820"/>
                  </a:lnTo>
                  <a:lnTo>
                    <a:pt x="1143" y="808"/>
                  </a:lnTo>
                  <a:lnTo>
                    <a:pt x="1137" y="797"/>
                  </a:lnTo>
                  <a:lnTo>
                    <a:pt x="1133" y="787"/>
                  </a:lnTo>
                  <a:lnTo>
                    <a:pt x="1129" y="779"/>
                  </a:lnTo>
                  <a:lnTo>
                    <a:pt x="1124" y="773"/>
                  </a:lnTo>
                  <a:lnTo>
                    <a:pt x="1122" y="768"/>
                  </a:lnTo>
                  <a:lnTo>
                    <a:pt x="1118" y="763"/>
                  </a:lnTo>
                  <a:lnTo>
                    <a:pt x="1113" y="761"/>
                  </a:lnTo>
                  <a:lnTo>
                    <a:pt x="1111" y="759"/>
                  </a:lnTo>
                  <a:lnTo>
                    <a:pt x="1106" y="756"/>
                  </a:lnTo>
                  <a:lnTo>
                    <a:pt x="1101" y="755"/>
                  </a:lnTo>
                  <a:lnTo>
                    <a:pt x="1096" y="756"/>
                  </a:lnTo>
                  <a:lnTo>
                    <a:pt x="1093" y="759"/>
                  </a:lnTo>
                  <a:lnTo>
                    <a:pt x="1088" y="762"/>
                  </a:lnTo>
                  <a:lnTo>
                    <a:pt x="1086" y="766"/>
                  </a:lnTo>
                  <a:lnTo>
                    <a:pt x="1083" y="771"/>
                  </a:lnTo>
                  <a:lnTo>
                    <a:pt x="1081" y="777"/>
                  </a:lnTo>
                  <a:lnTo>
                    <a:pt x="1077" y="786"/>
                  </a:lnTo>
                  <a:lnTo>
                    <a:pt x="1075" y="797"/>
                  </a:lnTo>
                  <a:lnTo>
                    <a:pt x="1074" y="801"/>
                  </a:lnTo>
                  <a:lnTo>
                    <a:pt x="1074" y="801"/>
                  </a:lnTo>
                  <a:lnTo>
                    <a:pt x="1072" y="814"/>
                  </a:lnTo>
                  <a:lnTo>
                    <a:pt x="1071" y="828"/>
                  </a:lnTo>
                  <a:lnTo>
                    <a:pt x="1068" y="843"/>
                  </a:lnTo>
                  <a:lnTo>
                    <a:pt x="1066" y="859"/>
                  </a:lnTo>
                  <a:lnTo>
                    <a:pt x="1063" y="894"/>
                  </a:lnTo>
                  <a:lnTo>
                    <a:pt x="1061" y="930"/>
                  </a:lnTo>
                  <a:lnTo>
                    <a:pt x="1058" y="968"/>
                  </a:lnTo>
                  <a:lnTo>
                    <a:pt x="1055" y="1004"/>
                  </a:lnTo>
                  <a:lnTo>
                    <a:pt x="1053" y="1021"/>
                  </a:lnTo>
                  <a:lnTo>
                    <a:pt x="1052" y="1037"/>
                  </a:lnTo>
                  <a:lnTo>
                    <a:pt x="1050" y="1052"/>
                  </a:lnTo>
                  <a:lnTo>
                    <a:pt x="1049" y="1065"/>
                  </a:lnTo>
                  <a:lnTo>
                    <a:pt x="1047" y="1078"/>
                  </a:lnTo>
                  <a:lnTo>
                    <a:pt x="1044" y="1088"/>
                  </a:lnTo>
                  <a:lnTo>
                    <a:pt x="1058" y="1088"/>
                  </a:lnTo>
                  <a:lnTo>
                    <a:pt x="1045" y="1084"/>
                  </a:lnTo>
                  <a:lnTo>
                    <a:pt x="1043" y="1092"/>
                  </a:lnTo>
                  <a:lnTo>
                    <a:pt x="1041" y="1099"/>
                  </a:lnTo>
                  <a:lnTo>
                    <a:pt x="1039" y="1103"/>
                  </a:lnTo>
                  <a:lnTo>
                    <a:pt x="1041" y="1099"/>
                  </a:lnTo>
                  <a:lnTo>
                    <a:pt x="1051" y="1108"/>
                  </a:lnTo>
                  <a:lnTo>
                    <a:pt x="1045" y="1096"/>
                  </a:lnTo>
                  <a:lnTo>
                    <a:pt x="1043" y="1098"/>
                  </a:lnTo>
                  <a:lnTo>
                    <a:pt x="1048" y="1097"/>
                  </a:lnTo>
                  <a:lnTo>
                    <a:pt x="1048" y="1110"/>
                  </a:lnTo>
                  <a:lnTo>
                    <a:pt x="1053" y="1098"/>
                  </a:lnTo>
                  <a:lnTo>
                    <a:pt x="1050" y="1097"/>
                  </a:lnTo>
                  <a:lnTo>
                    <a:pt x="1045" y="1109"/>
                  </a:lnTo>
                  <a:lnTo>
                    <a:pt x="1054" y="1099"/>
                  </a:lnTo>
                  <a:lnTo>
                    <a:pt x="1051" y="1096"/>
                  </a:lnTo>
                  <a:lnTo>
                    <a:pt x="1042" y="1104"/>
                  </a:lnTo>
                  <a:lnTo>
                    <a:pt x="1054" y="1100"/>
                  </a:lnTo>
                  <a:lnTo>
                    <a:pt x="1050" y="1093"/>
                  </a:lnTo>
                  <a:lnTo>
                    <a:pt x="1047" y="1084"/>
                  </a:lnTo>
                  <a:lnTo>
                    <a:pt x="1044" y="1077"/>
                  </a:lnTo>
                  <a:lnTo>
                    <a:pt x="1042" y="1069"/>
                  </a:lnTo>
                  <a:lnTo>
                    <a:pt x="1040" y="1061"/>
                  </a:lnTo>
                  <a:lnTo>
                    <a:pt x="1038" y="1051"/>
                  </a:lnTo>
                  <a:lnTo>
                    <a:pt x="1026" y="1055"/>
                  </a:lnTo>
                  <a:lnTo>
                    <a:pt x="1039" y="1055"/>
                  </a:lnTo>
                  <a:lnTo>
                    <a:pt x="1035" y="1033"/>
                  </a:lnTo>
                  <a:lnTo>
                    <a:pt x="1030" y="1006"/>
                  </a:lnTo>
                  <a:lnTo>
                    <a:pt x="1026" y="976"/>
                  </a:lnTo>
                  <a:lnTo>
                    <a:pt x="1020" y="944"/>
                  </a:lnTo>
                  <a:lnTo>
                    <a:pt x="1015" y="907"/>
                  </a:lnTo>
                  <a:lnTo>
                    <a:pt x="1009" y="869"/>
                  </a:lnTo>
                  <a:lnTo>
                    <a:pt x="1004" y="829"/>
                  </a:lnTo>
                  <a:lnTo>
                    <a:pt x="998" y="786"/>
                  </a:lnTo>
                  <a:lnTo>
                    <a:pt x="993" y="742"/>
                  </a:lnTo>
                  <a:lnTo>
                    <a:pt x="988" y="697"/>
                  </a:lnTo>
                  <a:lnTo>
                    <a:pt x="975" y="604"/>
                  </a:lnTo>
                  <a:lnTo>
                    <a:pt x="963" y="510"/>
                  </a:lnTo>
                  <a:lnTo>
                    <a:pt x="950" y="417"/>
                  </a:lnTo>
                  <a:lnTo>
                    <a:pt x="945" y="371"/>
                  </a:lnTo>
                  <a:lnTo>
                    <a:pt x="938" y="327"/>
                  </a:lnTo>
                  <a:lnTo>
                    <a:pt x="932" y="285"/>
                  </a:lnTo>
                  <a:lnTo>
                    <a:pt x="926" y="244"/>
                  </a:lnTo>
                  <a:lnTo>
                    <a:pt x="920" y="206"/>
                  </a:lnTo>
                  <a:lnTo>
                    <a:pt x="913" y="171"/>
                  </a:lnTo>
                  <a:lnTo>
                    <a:pt x="908" y="138"/>
                  </a:lnTo>
                  <a:lnTo>
                    <a:pt x="901" y="107"/>
                  </a:lnTo>
                  <a:lnTo>
                    <a:pt x="900" y="103"/>
                  </a:lnTo>
                  <a:lnTo>
                    <a:pt x="895" y="77"/>
                  </a:lnTo>
                  <a:lnTo>
                    <a:pt x="889" y="54"/>
                  </a:lnTo>
                  <a:lnTo>
                    <a:pt x="886" y="44"/>
                  </a:lnTo>
                  <a:lnTo>
                    <a:pt x="884" y="36"/>
                  </a:lnTo>
                  <a:lnTo>
                    <a:pt x="880" y="29"/>
                  </a:lnTo>
                  <a:lnTo>
                    <a:pt x="878" y="22"/>
                  </a:lnTo>
                  <a:lnTo>
                    <a:pt x="875" y="17"/>
                  </a:lnTo>
                  <a:lnTo>
                    <a:pt x="873" y="12"/>
                  </a:lnTo>
                  <a:lnTo>
                    <a:pt x="869" y="8"/>
                  </a:lnTo>
                  <a:lnTo>
                    <a:pt x="867" y="6"/>
                  </a:lnTo>
                  <a:lnTo>
                    <a:pt x="863" y="2"/>
                  </a:lnTo>
                  <a:lnTo>
                    <a:pt x="860" y="1"/>
                  </a:lnTo>
                  <a:lnTo>
                    <a:pt x="857" y="1"/>
                  </a:lnTo>
                  <a:lnTo>
                    <a:pt x="853" y="0"/>
                  </a:lnTo>
                  <a:lnTo>
                    <a:pt x="847" y="1"/>
                  </a:lnTo>
                  <a:lnTo>
                    <a:pt x="845" y="2"/>
                  </a:lnTo>
                  <a:lnTo>
                    <a:pt x="841" y="6"/>
                  </a:lnTo>
                  <a:lnTo>
                    <a:pt x="839" y="8"/>
                  </a:lnTo>
                  <a:lnTo>
                    <a:pt x="835" y="12"/>
                  </a:lnTo>
                  <a:lnTo>
                    <a:pt x="833" y="17"/>
                  </a:lnTo>
                  <a:lnTo>
                    <a:pt x="830" y="21"/>
                  </a:lnTo>
                  <a:lnTo>
                    <a:pt x="828" y="28"/>
                  </a:lnTo>
                  <a:lnTo>
                    <a:pt x="826" y="35"/>
                  </a:lnTo>
                  <a:lnTo>
                    <a:pt x="823" y="44"/>
                  </a:lnTo>
                  <a:lnTo>
                    <a:pt x="818" y="64"/>
                  </a:lnTo>
                  <a:lnTo>
                    <a:pt x="814" y="89"/>
                  </a:lnTo>
                  <a:lnTo>
                    <a:pt x="812" y="93"/>
                  </a:lnTo>
                  <a:lnTo>
                    <a:pt x="812" y="93"/>
                  </a:lnTo>
                  <a:lnTo>
                    <a:pt x="807" y="121"/>
                  </a:lnTo>
                  <a:lnTo>
                    <a:pt x="803" y="152"/>
                  </a:lnTo>
                  <a:lnTo>
                    <a:pt x="797" y="186"/>
                  </a:lnTo>
                  <a:lnTo>
                    <a:pt x="793" y="222"/>
                  </a:lnTo>
                  <a:lnTo>
                    <a:pt x="787" y="262"/>
                  </a:lnTo>
                  <a:lnTo>
                    <a:pt x="783" y="302"/>
                  </a:lnTo>
                  <a:lnTo>
                    <a:pt x="779" y="345"/>
                  </a:lnTo>
                  <a:lnTo>
                    <a:pt x="774" y="388"/>
                  </a:lnTo>
                  <a:lnTo>
                    <a:pt x="764" y="477"/>
                  </a:lnTo>
                  <a:lnTo>
                    <a:pt x="756" y="567"/>
                  </a:lnTo>
                  <a:lnTo>
                    <a:pt x="750" y="611"/>
                  </a:lnTo>
                  <a:lnTo>
                    <a:pt x="746" y="655"/>
                  </a:lnTo>
                  <a:lnTo>
                    <a:pt x="741" y="697"/>
                  </a:lnTo>
                  <a:lnTo>
                    <a:pt x="737" y="738"/>
                  </a:lnTo>
                  <a:lnTo>
                    <a:pt x="733" y="777"/>
                  </a:lnTo>
                  <a:lnTo>
                    <a:pt x="728" y="814"/>
                  </a:lnTo>
                  <a:lnTo>
                    <a:pt x="724" y="848"/>
                  </a:lnTo>
                  <a:lnTo>
                    <a:pt x="719" y="880"/>
                  </a:lnTo>
                  <a:lnTo>
                    <a:pt x="715" y="907"/>
                  </a:lnTo>
                  <a:lnTo>
                    <a:pt x="711" y="933"/>
                  </a:lnTo>
                  <a:lnTo>
                    <a:pt x="724" y="933"/>
                  </a:lnTo>
                  <a:lnTo>
                    <a:pt x="712" y="927"/>
                  </a:lnTo>
                  <a:lnTo>
                    <a:pt x="707" y="948"/>
                  </a:lnTo>
                  <a:lnTo>
                    <a:pt x="705" y="957"/>
                  </a:lnTo>
                  <a:lnTo>
                    <a:pt x="703" y="964"/>
                  </a:lnTo>
                  <a:lnTo>
                    <a:pt x="701" y="971"/>
                  </a:lnTo>
                  <a:lnTo>
                    <a:pt x="699" y="976"/>
                  </a:lnTo>
                  <a:lnTo>
                    <a:pt x="697" y="981"/>
                  </a:lnTo>
                  <a:lnTo>
                    <a:pt x="709" y="985"/>
                  </a:lnTo>
                  <a:lnTo>
                    <a:pt x="700" y="976"/>
                  </a:lnTo>
                  <a:lnTo>
                    <a:pt x="698" y="980"/>
                  </a:lnTo>
                  <a:lnTo>
                    <a:pt x="695" y="981"/>
                  </a:lnTo>
                  <a:lnTo>
                    <a:pt x="699" y="977"/>
                  </a:lnTo>
                  <a:lnTo>
                    <a:pt x="704" y="991"/>
                  </a:lnTo>
                  <a:lnTo>
                    <a:pt x="704" y="977"/>
                  </a:lnTo>
                  <a:lnTo>
                    <a:pt x="702" y="977"/>
                  </a:lnTo>
                  <a:lnTo>
                    <a:pt x="702" y="991"/>
                  </a:lnTo>
                  <a:lnTo>
                    <a:pt x="707" y="979"/>
                  </a:lnTo>
                  <a:lnTo>
                    <a:pt x="705" y="977"/>
                  </a:lnTo>
                  <a:lnTo>
                    <a:pt x="700" y="989"/>
                  </a:lnTo>
                  <a:lnTo>
                    <a:pt x="710" y="981"/>
                  </a:lnTo>
                  <a:lnTo>
                    <a:pt x="707" y="979"/>
                  </a:lnTo>
                  <a:lnTo>
                    <a:pt x="698" y="988"/>
                  </a:lnTo>
                  <a:lnTo>
                    <a:pt x="710" y="983"/>
                  </a:lnTo>
                  <a:lnTo>
                    <a:pt x="705" y="976"/>
                  </a:lnTo>
                  <a:lnTo>
                    <a:pt x="702" y="967"/>
                  </a:lnTo>
                  <a:lnTo>
                    <a:pt x="698" y="952"/>
                  </a:lnTo>
                  <a:lnTo>
                    <a:pt x="693" y="935"/>
                  </a:lnTo>
                  <a:lnTo>
                    <a:pt x="681" y="940"/>
                  </a:lnTo>
                  <a:lnTo>
                    <a:pt x="694" y="940"/>
                  </a:lnTo>
                  <a:lnTo>
                    <a:pt x="690" y="919"/>
                  </a:lnTo>
                  <a:lnTo>
                    <a:pt x="687" y="896"/>
                  </a:lnTo>
                  <a:lnTo>
                    <a:pt x="682" y="871"/>
                  </a:lnTo>
                  <a:lnTo>
                    <a:pt x="678" y="843"/>
                  </a:lnTo>
                  <a:lnTo>
                    <a:pt x="675" y="813"/>
                  </a:lnTo>
                  <a:lnTo>
                    <a:pt x="670" y="783"/>
                  </a:lnTo>
                  <a:lnTo>
                    <a:pt x="666" y="751"/>
                  </a:lnTo>
                  <a:lnTo>
                    <a:pt x="663" y="717"/>
                  </a:lnTo>
                  <a:lnTo>
                    <a:pt x="655" y="649"/>
                  </a:lnTo>
                  <a:lnTo>
                    <a:pt x="646" y="581"/>
                  </a:lnTo>
                  <a:lnTo>
                    <a:pt x="643" y="547"/>
                  </a:lnTo>
                  <a:lnTo>
                    <a:pt x="639" y="515"/>
                  </a:lnTo>
                  <a:lnTo>
                    <a:pt x="635" y="483"/>
                  </a:lnTo>
                  <a:lnTo>
                    <a:pt x="631" y="453"/>
                  </a:lnTo>
                  <a:lnTo>
                    <a:pt x="626" y="425"/>
                  </a:lnTo>
                  <a:lnTo>
                    <a:pt x="623" y="399"/>
                  </a:lnTo>
                  <a:lnTo>
                    <a:pt x="619" y="373"/>
                  </a:lnTo>
                  <a:lnTo>
                    <a:pt x="616" y="353"/>
                  </a:lnTo>
                  <a:lnTo>
                    <a:pt x="614" y="347"/>
                  </a:lnTo>
                  <a:lnTo>
                    <a:pt x="610" y="328"/>
                  </a:lnTo>
                  <a:lnTo>
                    <a:pt x="606" y="313"/>
                  </a:lnTo>
                  <a:lnTo>
                    <a:pt x="601" y="300"/>
                  </a:lnTo>
                  <a:lnTo>
                    <a:pt x="598" y="292"/>
                  </a:lnTo>
                  <a:lnTo>
                    <a:pt x="595" y="288"/>
                  </a:lnTo>
                  <a:lnTo>
                    <a:pt x="590" y="284"/>
                  </a:lnTo>
                  <a:lnTo>
                    <a:pt x="586" y="280"/>
                  </a:lnTo>
                  <a:lnTo>
                    <a:pt x="584" y="280"/>
                  </a:lnTo>
                  <a:lnTo>
                    <a:pt x="579" y="279"/>
                  </a:lnTo>
                  <a:lnTo>
                    <a:pt x="574" y="280"/>
                  </a:lnTo>
                  <a:lnTo>
                    <a:pt x="572" y="281"/>
                  </a:lnTo>
                  <a:lnTo>
                    <a:pt x="569" y="285"/>
                  </a:lnTo>
                  <a:lnTo>
                    <a:pt x="564" y="287"/>
                  </a:lnTo>
                  <a:lnTo>
                    <a:pt x="561" y="291"/>
                  </a:lnTo>
                  <a:lnTo>
                    <a:pt x="556" y="299"/>
                  </a:lnTo>
                  <a:lnTo>
                    <a:pt x="552" y="310"/>
                  </a:lnTo>
                  <a:lnTo>
                    <a:pt x="548" y="325"/>
                  </a:lnTo>
                  <a:lnTo>
                    <a:pt x="543" y="342"/>
                  </a:lnTo>
                  <a:lnTo>
                    <a:pt x="539" y="362"/>
                  </a:lnTo>
                  <a:lnTo>
                    <a:pt x="538" y="367"/>
                  </a:lnTo>
                  <a:lnTo>
                    <a:pt x="538" y="367"/>
                  </a:lnTo>
                  <a:lnTo>
                    <a:pt x="534" y="390"/>
                  </a:lnTo>
                  <a:lnTo>
                    <a:pt x="529" y="415"/>
                  </a:lnTo>
                  <a:lnTo>
                    <a:pt x="524" y="442"/>
                  </a:lnTo>
                  <a:lnTo>
                    <a:pt x="519" y="471"/>
                  </a:lnTo>
                  <a:lnTo>
                    <a:pt x="515" y="501"/>
                  </a:lnTo>
                  <a:lnTo>
                    <a:pt x="511" y="533"/>
                  </a:lnTo>
                  <a:lnTo>
                    <a:pt x="505" y="566"/>
                  </a:lnTo>
                  <a:lnTo>
                    <a:pt x="501" y="601"/>
                  </a:lnTo>
                  <a:lnTo>
                    <a:pt x="492" y="671"/>
                  </a:lnTo>
                  <a:lnTo>
                    <a:pt x="482" y="742"/>
                  </a:lnTo>
                  <a:lnTo>
                    <a:pt x="473" y="813"/>
                  </a:lnTo>
                  <a:lnTo>
                    <a:pt x="465" y="882"/>
                  </a:lnTo>
                  <a:lnTo>
                    <a:pt x="460" y="915"/>
                  </a:lnTo>
                  <a:lnTo>
                    <a:pt x="456" y="947"/>
                  </a:lnTo>
                  <a:lnTo>
                    <a:pt x="451" y="977"/>
                  </a:lnTo>
                  <a:lnTo>
                    <a:pt x="447" y="1006"/>
                  </a:lnTo>
                  <a:lnTo>
                    <a:pt x="444" y="1032"/>
                  </a:lnTo>
                  <a:lnTo>
                    <a:pt x="439" y="1056"/>
                  </a:lnTo>
                  <a:lnTo>
                    <a:pt x="435" y="1079"/>
                  </a:lnTo>
                  <a:lnTo>
                    <a:pt x="432" y="1098"/>
                  </a:lnTo>
                  <a:lnTo>
                    <a:pt x="445" y="1098"/>
                  </a:lnTo>
                  <a:lnTo>
                    <a:pt x="433" y="1093"/>
                  </a:lnTo>
                  <a:lnTo>
                    <a:pt x="428" y="1110"/>
                  </a:lnTo>
                  <a:lnTo>
                    <a:pt x="425" y="1125"/>
                  </a:lnTo>
                  <a:lnTo>
                    <a:pt x="422" y="1135"/>
                  </a:lnTo>
                  <a:lnTo>
                    <a:pt x="419" y="1144"/>
                  </a:lnTo>
                  <a:lnTo>
                    <a:pt x="415" y="1151"/>
                  </a:lnTo>
                  <a:lnTo>
                    <a:pt x="412" y="1157"/>
                  </a:lnTo>
                  <a:lnTo>
                    <a:pt x="424" y="1161"/>
                  </a:lnTo>
                  <a:lnTo>
                    <a:pt x="414" y="1153"/>
                  </a:lnTo>
                  <a:lnTo>
                    <a:pt x="411" y="1156"/>
                  </a:lnTo>
                  <a:lnTo>
                    <a:pt x="408" y="1159"/>
                  </a:lnTo>
                  <a:lnTo>
                    <a:pt x="418" y="1168"/>
                  </a:lnTo>
                  <a:lnTo>
                    <a:pt x="412" y="1156"/>
                  </a:lnTo>
                  <a:lnTo>
                    <a:pt x="410" y="1157"/>
                  </a:lnTo>
                  <a:lnTo>
                    <a:pt x="414" y="1169"/>
                  </a:lnTo>
                  <a:lnTo>
                    <a:pt x="414" y="1156"/>
                  </a:lnTo>
                  <a:lnTo>
                    <a:pt x="411" y="1156"/>
                  </a:lnTo>
                  <a:lnTo>
                    <a:pt x="411" y="1169"/>
                  </a:lnTo>
                  <a:lnTo>
                    <a:pt x="416" y="1157"/>
                  </a:lnTo>
                  <a:lnTo>
                    <a:pt x="413" y="1156"/>
                  </a:lnTo>
                  <a:lnTo>
                    <a:pt x="409" y="1168"/>
                  </a:lnTo>
                  <a:lnTo>
                    <a:pt x="418" y="1159"/>
                  </a:lnTo>
                  <a:lnTo>
                    <a:pt x="415" y="1157"/>
                  </a:lnTo>
                  <a:lnTo>
                    <a:pt x="410" y="1149"/>
                  </a:lnTo>
                  <a:lnTo>
                    <a:pt x="400" y="1158"/>
                  </a:lnTo>
                  <a:lnTo>
                    <a:pt x="412" y="1154"/>
                  </a:lnTo>
                  <a:lnTo>
                    <a:pt x="407" y="1143"/>
                  </a:lnTo>
                  <a:lnTo>
                    <a:pt x="402" y="1131"/>
                  </a:lnTo>
                  <a:lnTo>
                    <a:pt x="397" y="1116"/>
                  </a:lnTo>
                  <a:lnTo>
                    <a:pt x="391" y="1102"/>
                  </a:lnTo>
                  <a:lnTo>
                    <a:pt x="387" y="1088"/>
                  </a:lnTo>
                  <a:lnTo>
                    <a:pt x="381" y="1076"/>
                  </a:lnTo>
                  <a:lnTo>
                    <a:pt x="377" y="1065"/>
                  </a:lnTo>
                  <a:lnTo>
                    <a:pt x="372" y="1057"/>
                  </a:lnTo>
                  <a:lnTo>
                    <a:pt x="368" y="1053"/>
                  </a:lnTo>
                  <a:lnTo>
                    <a:pt x="366" y="1050"/>
                  </a:lnTo>
                  <a:lnTo>
                    <a:pt x="362" y="1047"/>
                  </a:lnTo>
                  <a:lnTo>
                    <a:pt x="360" y="1046"/>
                  </a:lnTo>
                  <a:lnTo>
                    <a:pt x="354" y="1045"/>
                  </a:lnTo>
                  <a:lnTo>
                    <a:pt x="352" y="1044"/>
                  </a:lnTo>
                  <a:lnTo>
                    <a:pt x="346" y="1045"/>
                  </a:lnTo>
                  <a:lnTo>
                    <a:pt x="343" y="1047"/>
                  </a:lnTo>
                  <a:lnTo>
                    <a:pt x="339" y="1051"/>
                  </a:lnTo>
                  <a:lnTo>
                    <a:pt x="334" y="1053"/>
                  </a:lnTo>
                  <a:lnTo>
                    <a:pt x="329" y="1060"/>
                  </a:lnTo>
                  <a:lnTo>
                    <a:pt x="327" y="1064"/>
                  </a:lnTo>
                  <a:lnTo>
                    <a:pt x="322" y="1073"/>
                  </a:lnTo>
                  <a:lnTo>
                    <a:pt x="318" y="1083"/>
                  </a:lnTo>
                  <a:lnTo>
                    <a:pt x="315" y="1093"/>
                  </a:lnTo>
                  <a:lnTo>
                    <a:pt x="310" y="1107"/>
                  </a:lnTo>
                  <a:lnTo>
                    <a:pt x="303" y="1133"/>
                  </a:lnTo>
                  <a:lnTo>
                    <a:pt x="293" y="1160"/>
                  </a:lnTo>
                  <a:lnTo>
                    <a:pt x="281" y="1185"/>
                  </a:lnTo>
                  <a:lnTo>
                    <a:pt x="274" y="1197"/>
                  </a:lnTo>
                  <a:lnTo>
                    <a:pt x="286" y="1202"/>
                  </a:lnTo>
                  <a:lnTo>
                    <a:pt x="276" y="1193"/>
                  </a:lnTo>
                  <a:lnTo>
                    <a:pt x="269" y="1203"/>
                  </a:lnTo>
                  <a:lnTo>
                    <a:pt x="260" y="1212"/>
                  </a:lnTo>
                  <a:lnTo>
                    <a:pt x="269" y="1221"/>
                  </a:lnTo>
                  <a:lnTo>
                    <a:pt x="264" y="1209"/>
                  </a:lnTo>
                  <a:lnTo>
                    <a:pt x="253" y="1217"/>
                  </a:lnTo>
                  <a:lnTo>
                    <a:pt x="243" y="1221"/>
                  </a:lnTo>
                  <a:lnTo>
                    <a:pt x="228" y="1226"/>
                  </a:lnTo>
                  <a:lnTo>
                    <a:pt x="212" y="1229"/>
                  </a:lnTo>
                  <a:lnTo>
                    <a:pt x="217" y="1241"/>
                  </a:lnTo>
                  <a:lnTo>
                    <a:pt x="217" y="1228"/>
                  </a:lnTo>
                  <a:lnTo>
                    <a:pt x="200" y="1231"/>
                  </a:lnTo>
                  <a:lnTo>
                    <a:pt x="163" y="1234"/>
                  </a:lnTo>
                  <a:lnTo>
                    <a:pt x="123" y="1235"/>
                  </a:lnTo>
                  <a:lnTo>
                    <a:pt x="85" y="1235"/>
                  </a:lnTo>
                  <a:lnTo>
                    <a:pt x="67" y="1235"/>
                  </a:lnTo>
                  <a:lnTo>
                    <a:pt x="50" y="1235"/>
                  </a:lnTo>
                  <a:lnTo>
                    <a:pt x="35" y="1234"/>
                  </a:lnTo>
                  <a:lnTo>
                    <a:pt x="22" y="1234"/>
                  </a:lnTo>
                  <a:lnTo>
                    <a:pt x="9" y="1234"/>
                  </a:lnTo>
                  <a:lnTo>
                    <a:pt x="0" y="123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3218040" y="3548880"/>
              <a:ext cx="3272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2766960" y="4030560"/>
              <a:ext cx="14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1548720" y="2111400"/>
              <a:ext cx="13680" cy="1787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2016360" y="3978360"/>
              <a:ext cx="2318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1405800" y="2078280"/>
              <a:ext cx="2318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595080" y="2356200"/>
              <a:ext cx="1218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</a:t>
              </a:r>
              <a:r>
                <a:rPr b="0" lang="fr-FR" sz="2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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1869840" y="1847880"/>
              <a:ext cx="8600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1977840" y="1847880"/>
              <a:ext cx="401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I(x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2296800" y="1866600"/>
              <a:ext cx="15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2411280" y="1847880"/>
              <a:ext cx="7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2467080" y="186660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2601000" y="1847880"/>
              <a:ext cx="84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2501280" y="5722920"/>
              <a:ext cx="106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em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 flipH="1">
              <a:off x="1554480" y="2282400"/>
              <a:ext cx="2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1667160" y="2603520"/>
              <a:ext cx="979920" cy="1767240"/>
            </a:xfrm>
            <a:custGeom>
              <a:avLst/>
              <a:gdLst/>
              <a:ahLst/>
              <a:rect l="l" t="t" r="r" b="b"/>
              <a:pathLst>
                <a:path w="998" h="1800">
                  <a:moveTo>
                    <a:pt x="141" y="0"/>
                  </a:moveTo>
                  <a:cubicBezTo>
                    <a:pt x="165" y="10"/>
                    <a:pt x="224" y="19"/>
                    <a:pt x="286" y="63"/>
                  </a:cubicBezTo>
                  <a:cubicBezTo>
                    <a:pt x="348" y="107"/>
                    <a:pt x="555" y="190"/>
                    <a:pt x="514" y="263"/>
                  </a:cubicBezTo>
                  <a:cubicBezTo>
                    <a:pt x="473" y="336"/>
                    <a:pt x="82" y="445"/>
                    <a:pt x="41" y="500"/>
                  </a:cubicBezTo>
                  <a:cubicBezTo>
                    <a:pt x="0" y="555"/>
                    <a:pt x="233" y="532"/>
                    <a:pt x="268" y="591"/>
                  </a:cubicBezTo>
                  <a:cubicBezTo>
                    <a:pt x="303" y="650"/>
                    <a:pt x="152" y="781"/>
                    <a:pt x="250" y="854"/>
                  </a:cubicBezTo>
                  <a:cubicBezTo>
                    <a:pt x="348" y="927"/>
                    <a:pt x="823" y="959"/>
                    <a:pt x="859" y="1027"/>
                  </a:cubicBezTo>
                  <a:cubicBezTo>
                    <a:pt x="895" y="1095"/>
                    <a:pt x="495" y="1206"/>
                    <a:pt x="468" y="1264"/>
                  </a:cubicBezTo>
                  <a:cubicBezTo>
                    <a:pt x="441" y="1322"/>
                    <a:pt x="657" y="1338"/>
                    <a:pt x="695" y="1373"/>
                  </a:cubicBezTo>
                  <a:cubicBezTo>
                    <a:pt x="733" y="1408"/>
                    <a:pt x="648" y="1432"/>
                    <a:pt x="695" y="1473"/>
                  </a:cubicBezTo>
                  <a:cubicBezTo>
                    <a:pt x="742" y="1514"/>
                    <a:pt x="998" y="1576"/>
                    <a:pt x="977" y="1618"/>
                  </a:cubicBezTo>
                  <a:cubicBezTo>
                    <a:pt x="956" y="1660"/>
                    <a:pt x="604" y="1697"/>
                    <a:pt x="568" y="1727"/>
                  </a:cubicBezTo>
                  <a:cubicBezTo>
                    <a:pt x="532" y="1757"/>
                    <a:pt x="719" y="1785"/>
                    <a:pt x="759" y="1800"/>
                  </a:cubicBezTo>
                </a:path>
              </a:pathLst>
            </a:custGeom>
            <a:noFill/>
            <a:ln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1826280" y="2590560"/>
              <a:ext cx="624240" cy="18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1806120" y="3877920"/>
              <a:ext cx="624240" cy="189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6" name=""/>
            <p:cNvGrpSpPr/>
            <p:nvPr/>
          </p:nvGrpSpPr>
          <p:grpSpPr>
            <a:xfrm>
              <a:off x="1780200" y="2590560"/>
              <a:ext cx="1491120" cy="1310760"/>
              <a:chOff x="1780200" y="2590560"/>
              <a:chExt cx="1491120" cy="1310760"/>
            </a:xfrm>
          </p:grpSpPr>
          <p:sp>
            <p:nvSpPr>
              <p:cNvPr id="6847" name=""/>
              <p:cNvSpPr/>
              <p:nvPr/>
            </p:nvSpPr>
            <p:spPr>
              <a:xfrm>
                <a:off x="3237120" y="3875040"/>
                <a:ext cx="3420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8" y="27"/>
                    </a:moveTo>
                    <a:lnTo>
                      <a:pt x="26" y="9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8" y="23"/>
                    </a:lnTo>
                    <a:lnTo>
                      <a:pt x="1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>
                <a:off x="3191040" y="3858480"/>
                <a:ext cx="3420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7" y="26"/>
                    </a:moveTo>
                    <a:lnTo>
                      <a:pt x="26" y="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7"/>
                    </a:lnTo>
                    <a:lnTo>
                      <a:pt x="4" y="20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3145320" y="3839760"/>
                <a:ext cx="3384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7" y="27"/>
                    </a:moveTo>
                    <a:lnTo>
                      <a:pt x="26" y="10"/>
                    </a:lnTo>
                    <a:lnTo>
                      <a:pt x="14" y="3"/>
                    </a:lnTo>
                    <a:lnTo>
                      <a:pt x="8" y="0"/>
                    </a:lnTo>
                    <a:lnTo>
                      <a:pt x="0" y="17"/>
                    </a:lnTo>
                    <a:lnTo>
                      <a:pt x="6" y="22"/>
                    </a:lnTo>
                    <a:lnTo>
                      <a:pt x="1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3099240" y="3824280"/>
                <a:ext cx="34200" cy="2448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17" y="25"/>
                    </a:moveTo>
                    <a:lnTo>
                      <a:pt x="26" y="7"/>
                    </a:lnTo>
                    <a:lnTo>
                      <a:pt x="13" y="2"/>
                    </a:lnTo>
                    <a:lnTo>
                      <a:pt x="7" y="0"/>
                    </a:lnTo>
                    <a:lnTo>
                      <a:pt x="0" y="17"/>
                    </a:lnTo>
                    <a:lnTo>
                      <a:pt x="5" y="20"/>
                    </a:lnTo>
                    <a:lnTo>
                      <a:pt x="1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3052440" y="3806280"/>
                <a:ext cx="3240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7" y="26"/>
                    </a:moveTo>
                    <a:lnTo>
                      <a:pt x="25" y="9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3003480" y="3792960"/>
                <a:ext cx="34200" cy="252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8" y="26"/>
                    </a:moveTo>
                    <a:lnTo>
                      <a:pt x="26" y="7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1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>
                <a:off x="2955240" y="3781080"/>
                <a:ext cx="3276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19" y="24"/>
                    </a:moveTo>
                    <a:lnTo>
                      <a:pt x="25" y="5"/>
                    </a:lnTo>
                    <a:lnTo>
                      <a:pt x="23" y="4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16" y="23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2906640" y="377208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0" y="22"/>
                    </a:moveTo>
                    <a:lnTo>
                      <a:pt x="24" y="3"/>
                    </a:lnTo>
                    <a:lnTo>
                      <a:pt x="20" y="2"/>
                    </a:lnTo>
                    <a:lnTo>
                      <a:pt x="15" y="1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15" y="21"/>
                    </a:lnTo>
                    <a:lnTo>
                      <a:pt x="15" y="11"/>
                    </a:lnTo>
                    <a:lnTo>
                      <a:pt x="12" y="21"/>
                    </a:lnTo>
                    <a:lnTo>
                      <a:pt x="2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2856960" y="3769200"/>
                <a:ext cx="27360" cy="2124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21" y="19"/>
                    </a:moveTo>
                    <a:lnTo>
                      <a:pt x="21" y="0"/>
                    </a:lnTo>
                    <a:lnTo>
                      <a:pt x="14" y="1"/>
                    </a:lnTo>
                    <a:lnTo>
                      <a:pt x="0" y="3"/>
                    </a:lnTo>
                    <a:lnTo>
                      <a:pt x="3" y="22"/>
                    </a:lnTo>
                    <a:lnTo>
                      <a:pt x="14" y="20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2802960" y="3776040"/>
                <a:ext cx="3528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9"/>
                    </a:moveTo>
                    <a:lnTo>
                      <a:pt x="20" y="0"/>
                    </a:lnTo>
                    <a:lnTo>
                      <a:pt x="9" y="4"/>
                    </a:lnTo>
                    <a:lnTo>
                      <a:pt x="0" y="8"/>
                    </a:lnTo>
                    <a:lnTo>
                      <a:pt x="8" y="27"/>
                    </a:lnTo>
                    <a:lnTo>
                      <a:pt x="17" y="22"/>
                    </a:lnTo>
                    <a:lnTo>
                      <a:pt x="2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2755800" y="3791520"/>
                <a:ext cx="3420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26" y="17"/>
                    </a:moveTo>
                    <a:lnTo>
                      <a:pt x="18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9" y="26"/>
                    </a:lnTo>
                    <a:lnTo>
                      <a:pt x="9" y="27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2710080" y="3809520"/>
                <a:ext cx="3384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26" y="18"/>
                    </a:moveTo>
                    <a:lnTo>
                      <a:pt x="18" y="0"/>
                    </a:lnTo>
                    <a:lnTo>
                      <a:pt x="13" y="2"/>
                    </a:lnTo>
                    <a:lnTo>
                      <a:pt x="0" y="9"/>
                    </a:lnTo>
                    <a:lnTo>
                      <a:pt x="9" y="27"/>
                    </a:lnTo>
                    <a:lnTo>
                      <a:pt x="21" y="21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2664000" y="3827160"/>
                <a:ext cx="3420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17"/>
                    </a:moveTo>
                    <a:lnTo>
                      <a:pt x="18" y="0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8" y="26"/>
                    </a:lnTo>
                    <a:lnTo>
                      <a:pt x="11" y="25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2618280" y="3841920"/>
                <a:ext cx="3240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19"/>
                    </a:moveTo>
                    <a:lnTo>
                      <a:pt x="18" y="0"/>
                    </a:lnTo>
                    <a:lnTo>
                      <a:pt x="16" y="1"/>
                    </a:lnTo>
                    <a:lnTo>
                      <a:pt x="0" y="6"/>
                    </a:lnTo>
                    <a:lnTo>
                      <a:pt x="6" y="24"/>
                    </a:lnTo>
                    <a:lnTo>
                      <a:pt x="23" y="20"/>
                    </a:lnTo>
                    <a:lnTo>
                      <a:pt x="2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2570760" y="3851640"/>
                <a:ext cx="27360" cy="205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1" y="19"/>
                    </a:moveTo>
                    <a:lnTo>
                      <a:pt x="18" y="0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21"/>
                    </a:lnTo>
                    <a:lnTo>
                      <a:pt x="10" y="21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2514600" y="384588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1" y="25"/>
                    </a:moveTo>
                    <a:lnTo>
                      <a:pt x="24" y="6"/>
                    </a:lnTo>
                    <a:lnTo>
                      <a:pt x="20" y="5"/>
                    </a:lnTo>
                    <a:lnTo>
                      <a:pt x="20" y="15"/>
                    </a:lnTo>
                    <a:lnTo>
                      <a:pt x="23" y="5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6" y="20"/>
                    </a:lnTo>
                    <a:lnTo>
                      <a:pt x="16" y="23"/>
                    </a:lnTo>
                    <a:lnTo>
                      <a:pt x="20" y="25"/>
                    </a:lnTo>
                    <a:lnTo>
                      <a:pt x="2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2468520" y="3826080"/>
                <a:ext cx="36720" cy="262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6" y="27"/>
                    </a:moveTo>
                    <a:lnTo>
                      <a:pt x="28" y="12"/>
                    </a:lnTo>
                    <a:lnTo>
                      <a:pt x="20" y="5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6" y="19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2434680" y="3797640"/>
                <a:ext cx="36360" cy="27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2" y="28"/>
                    </a:moveTo>
                    <a:lnTo>
                      <a:pt x="26" y="14"/>
                    </a:lnTo>
                    <a:lnTo>
                      <a:pt x="25" y="13"/>
                    </a:lnTo>
                    <a:lnTo>
                      <a:pt x="19" y="20"/>
                    </a:lnTo>
                    <a:lnTo>
                      <a:pt x="28" y="17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9" y="24"/>
                    </a:lnTo>
                    <a:lnTo>
                      <a:pt x="11" y="28"/>
                    </a:lnTo>
                    <a:lnTo>
                      <a:pt x="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2408040" y="3764160"/>
                <a:ext cx="3564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9" y="27"/>
                    </a:moveTo>
                    <a:lnTo>
                      <a:pt x="27" y="18"/>
                    </a:lnTo>
                    <a:lnTo>
                      <a:pt x="19" y="4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2387160" y="3729960"/>
                <a:ext cx="32400" cy="262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8" y="27"/>
                    </a:moveTo>
                    <a:lnTo>
                      <a:pt x="25" y="18"/>
                    </a:lnTo>
                    <a:lnTo>
                      <a:pt x="25" y="18"/>
                    </a:lnTo>
                    <a:lnTo>
                      <a:pt x="19" y="0"/>
                    </a:lnTo>
                    <a:lnTo>
                      <a:pt x="0" y="8"/>
                    </a:lnTo>
                    <a:lnTo>
                      <a:pt x="7" y="25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2368800" y="369468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6" y="25"/>
                    </a:moveTo>
                    <a:lnTo>
                      <a:pt x="25" y="18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2" y="14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2351880" y="365832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6" y="25"/>
                    </a:moveTo>
                    <a:lnTo>
                      <a:pt x="25" y="19"/>
                    </a:lnTo>
                    <a:lnTo>
                      <a:pt x="25" y="17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2336040" y="362196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6" y="25"/>
                    </a:moveTo>
                    <a:lnTo>
                      <a:pt x="25" y="18"/>
                    </a:lnTo>
                    <a:lnTo>
                      <a:pt x="18" y="0"/>
                    </a:lnTo>
                    <a:lnTo>
                      <a:pt x="0" y="6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2321640" y="358560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5" y="24"/>
                    </a:moveTo>
                    <a:lnTo>
                      <a:pt x="24" y="18"/>
                    </a:lnTo>
                    <a:lnTo>
                      <a:pt x="19" y="3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2307240" y="354744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5" y="24"/>
                    </a:moveTo>
                    <a:lnTo>
                      <a:pt x="24" y="19"/>
                    </a:lnTo>
                    <a:lnTo>
                      <a:pt x="22" y="10"/>
                    </a:lnTo>
                    <a:lnTo>
                      <a:pt x="18" y="0"/>
                    </a:lnTo>
                    <a:lnTo>
                      <a:pt x="0" y="6"/>
                    </a:lnTo>
                    <a:lnTo>
                      <a:pt x="3" y="18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2294280" y="3510000"/>
                <a:ext cx="2988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4" y="25"/>
                    </a:moveTo>
                    <a:lnTo>
                      <a:pt x="23" y="20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2281320" y="3472560"/>
                <a:ext cx="2988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4" y="25"/>
                    </a:moveTo>
                    <a:lnTo>
                      <a:pt x="23" y="19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2268000" y="343440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5" y="26"/>
                    </a:moveTo>
                    <a:lnTo>
                      <a:pt x="23" y="20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2255040" y="3398040"/>
                <a:ext cx="30960" cy="22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6" y="23"/>
                    </a:moveTo>
                    <a:lnTo>
                      <a:pt x="24" y="19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2244240" y="3360600"/>
                <a:ext cx="3024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2232720" y="332352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8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2219400" y="3285360"/>
                <a:ext cx="31320" cy="22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6" y="23"/>
                    </a:moveTo>
                    <a:lnTo>
                      <a:pt x="24" y="19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2207520" y="324792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5" y="23"/>
                    </a:moveTo>
                    <a:lnTo>
                      <a:pt x="23" y="19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2197440" y="321084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8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2185560" y="317232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9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2173320" y="3134880"/>
                <a:ext cx="3024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9"/>
                    </a:lnTo>
                    <a:lnTo>
                      <a:pt x="21" y="7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2" y="1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2161440" y="309672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5" y="24"/>
                    </a:moveTo>
                    <a:lnTo>
                      <a:pt x="23" y="19"/>
                    </a:lnTo>
                    <a:lnTo>
                      <a:pt x="22" y="12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4" y="19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2151000" y="305856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4" y="24"/>
                    </a:moveTo>
                    <a:lnTo>
                      <a:pt x="23" y="20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2139120" y="302148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4" y="24"/>
                    </a:moveTo>
                    <a:lnTo>
                      <a:pt x="23" y="20"/>
                    </a:lnTo>
                    <a:lnTo>
                      <a:pt x="18" y="0"/>
                    </a:lnTo>
                    <a:lnTo>
                      <a:pt x="0" y="4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2126160" y="298404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5" y="24"/>
                    </a:moveTo>
                    <a:lnTo>
                      <a:pt x="24" y="19"/>
                    </a:lnTo>
                    <a:lnTo>
                      <a:pt x="20" y="3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2113200" y="294552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24"/>
                    </a:moveTo>
                    <a:lnTo>
                      <a:pt x="24" y="19"/>
                    </a:lnTo>
                    <a:lnTo>
                      <a:pt x="23" y="15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4" y="22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2099880" y="290844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6" y="25"/>
                    </a:moveTo>
                    <a:lnTo>
                      <a:pt x="24" y="20"/>
                    </a:lnTo>
                    <a:lnTo>
                      <a:pt x="20" y="3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2084400" y="287100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7" y="26"/>
                    </a:moveTo>
                    <a:lnTo>
                      <a:pt x="25" y="20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2068560" y="2834640"/>
                <a:ext cx="3276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7" y="25"/>
                    </a:moveTo>
                    <a:lnTo>
                      <a:pt x="25" y="18"/>
                    </a:lnTo>
                    <a:lnTo>
                      <a:pt x="20" y="3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2051640" y="2797560"/>
                <a:ext cx="3240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7" y="26"/>
                    </a:moveTo>
                    <a:lnTo>
                      <a:pt x="25" y="19"/>
                    </a:lnTo>
                    <a:lnTo>
                      <a:pt x="22" y="11"/>
                    </a:lnTo>
                    <a:lnTo>
                      <a:pt x="19" y="0"/>
                    </a:lnTo>
                    <a:lnTo>
                      <a:pt x="0" y="7"/>
                    </a:lnTo>
                    <a:lnTo>
                      <a:pt x="3" y="19"/>
                    </a:lnTo>
                    <a:lnTo>
                      <a:pt x="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2033280" y="276120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6" y="26"/>
                    </a:moveTo>
                    <a:lnTo>
                      <a:pt x="25" y="19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6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2013480" y="2725560"/>
                <a:ext cx="3420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7" y="26"/>
                    </a:moveTo>
                    <a:lnTo>
                      <a:pt x="26" y="19"/>
                    </a:lnTo>
                    <a:lnTo>
                      <a:pt x="26" y="18"/>
                    </a:lnTo>
                    <a:lnTo>
                      <a:pt x="18" y="2"/>
                    </a:lnTo>
                    <a:lnTo>
                      <a:pt x="17" y="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7" y="25"/>
                    </a:lnTo>
                    <a:lnTo>
                      <a:pt x="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1987200" y="2690640"/>
                <a:ext cx="3528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1" y="27"/>
                    </a:moveTo>
                    <a:lnTo>
                      <a:pt x="27" y="17"/>
                    </a:lnTo>
                    <a:lnTo>
                      <a:pt x="25" y="14"/>
                    </a:lnTo>
                    <a:lnTo>
                      <a:pt x="18" y="4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0" y="12"/>
                    </a:lnTo>
                    <a:lnTo>
                      <a:pt x="2" y="15"/>
                    </a:lnTo>
                    <a:lnTo>
                      <a:pt x="10" y="9"/>
                    </a:lnTo>
                    <a:lnTo>
                      <a:pt x="0" y="12"/>
                    </a:lnTo>
                    <a:lnTo>
                      <a:pt x="6" y="22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1954440" y="266004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4" y="29"/>
                    </a:moveTo>
                    <a:lnTo>
                      <a:pt x="28" y="16"/>
                    </a:lnTo>
                    <a:lnTo>
                      <a:pt x="24" y="11"/>
                    </a:lnTo>
                    <a:lnTo>
                      <a:pt x="14" y="0"/>
                    </a:lnTo>
                    <a:lnTo>
                      <a:pt x="0" y="15"/>
                    </a:lnTo>
                    <a:lnTo>
                      <a:pt x="10" y="25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1919160" y="2632320"/>
                <a:ext cx="36360" cy="27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2" y="28"/>
                    </a:moveTo>
                    <a:lnTo>
                      <a:pt x="28" y="15"/>
                    </a:lnTo>
                    <a:lnTo>
                      <a:pt x="26" y="12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4" y="17"/>
                    </a:lnTo>
                    <a:lnTo>
                      <a:pt x="10" y="25"/>
                    </a:lnTo>
                    <a:lnTo>
                      <a:pt x="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1879560" y="2610720"/>
                <a:ext cx="35280" cy="2448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6" y="25"/>
                    </a:moveTo>
                    <a:lnTo>
                      <a:pt x="27" y="9"/>
                    </a:lnTo>
                    <a:lnTo>
                      <a:pt x="23" y="7"/>
                    </a:lnTo>
                    <a:lnTo>
                      <a:pt x="19" y="4"/>
                    </a:lnTo>
                    <a:lnTo>
                      <a:pt x="9" y="0"/>
                    </a:lnTo>
                    <a:lnTo>
                      <a:pt x="0" y="17"/>
                    </a:lnTo>
                    <a:lnTo>
                      <a:pt x="12" y="23"/>
                    </a:lnTo>
                    <a:lnTo>
                      <a:pt x="16" y="14"/>
                    </a:lnTo>
                    <a:lnTo>
                      <a:pt x="9" y="21"/>
                    </a:lnTo>
                    <a:lnTo>
                      <a:pt x="1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1831320" y="2598120"/>
                <a:ext cx="34200" cy="2340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19" y="24"/>
                    </a:moveTo>
                    <a:lnTo>
                      <a:pt x="26" y="5"/>
                    </a:lnTo>
                    <a:lnTo>
                      <a:pt x="24" y="4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10"/>
                    </a:lnTo>
                    <a:lnTo>
                      <a:pt x="0" y="20"/>
                    </a:lnTo>
                    <a:lnTo>
                      <a:pt x="16" y="23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1780200" y="2590560"/>
                <a:ext cx="32400" cy="223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21" y="23"/>
                    </a:moveTo>
                    <a:lnTo>
                      <a:pt x="25" y="5"/>
                    </a:lnTo>
                    <a:lnTo>
                      <a:pt x="18" y="3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10" y="22"/>
                    </a:lnTo>
                    <a:lnTo>
                      <a:pt x="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0" name=""/>
            <p:cNvGrpSpPr/>
            <p:nvPr/>
          </p:nvGrpSpPr>
          <p:grpSpPr>
            <a:xfrm>
              <a:off x="360720" y="2584440"/>
              <a:ext cx="1489320" cy="1310760"/>
              <a:chOff x="360720" y="2584440"/>
              <a:chExt cx="1489320" cy="1310760"/>
            </a:xfrm>
          </p:grpSpPr>
          <p:sp>
            <p:nvSpPr>
              <p:cNvPr id="6901" name=""/>
              <p:cNvSpPr/>
              <p:nvPr/>
            </p:nvSpPr>
            <p:spPr>
              <a:xfrm>
                <a:off x="360720" y="3867840"/>
                <a:ext cx="32760" cy="2736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0" y="9"/>
                    </a:moveTo>
                    <a:lnTo>
                      <a:pt x="8" y="28"/>
                    </a:lnTo>
                    <a:lnTo>
                      <a:pt x="17" y="23"/>
                    </a:lnTo>
                    <a:lnTo>
                      <a:pt x="25" y="18"/>
                    </a:lnTo>
                    <a:lnTo>
                      <a:pt x="17" y="0"/>
                    </a:lnTo>
                    <a:lnTo>
                      <a:pt x="9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405000" y="385128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9"/>
                    </a:moveTo>
                    <a:lnTo>
                      <a:pt x="9" y="26"/>
                    </a:lnTo>
                    <a:lnTo>
                      <a:pt x="22" y="21"/>
                    </a:lnTo>
                    <a:lnTo>
                      <a:pt x="26" y="17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451080" y="3832920"/>
                <a:ext cx="33840" cy="27360"/>
              </a:xfrm>
              <a:custGeom>
                <a:avLst/>
                <a:gdLst/>
                <a:ahLst/>
                <a:rect l="l" t="t" r="r" b="b"/>
                <a:pathLst>
                  <a:path w="26" h="28">
                    <a:moveTo>
                      <a:pt x="0" y="10"/>
                    </a:moveTo>
                    <a:lnTo>
                      <a:pt x="9" y="28"/>
                    </a:lnTo>
                    <a:lnTo>
                      <a:pt x="20" y="22"/>
                    </a:lnTo>
                    <a:lnTo>
                      <a:pt x="26" y="18"/>
                    </a:lnTo>
                    <a:lnTo>
                      <a:pt x="18" y="0"/>
                    </a:lnTo>
                    <a:lnTo>
                      <a:pt x="12" y="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497160" y="3817080"/>
                <a:ext cx="33840" cy="2448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0" y="8"/>
                    </a:moveTo>
                    <a:lnTo>
                      <a:pt x="9" y="25"/>
                    </a:lnTo>
                    <a:lnTo>
                      <a:pt x="21" y="21"/>
                    </a:lnTo>
                    <a:lnTo>
                      <a:pt x="26" y="17"/>
                    </a:lnTo>
                    <a:lnTo>
                      <a:pt x="19" y="0"/>
                    </a:lnTo>
                    <a:lnTo>
                      <a:pt x="13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545400" y="3799440"/>
                <a:ext cx="3384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9"/>
                    </a:moveTo>
                    <a:lnTo>
                      <a:pt x="8" y="27"/>
                    </a:lnTo>
                    <a:lnTo>
                      <a:pt x="23" y="20"/>
                    </a:lnTo>
                    <a:lnTo>
                      <a:pt x="26" y="19"/>
                    </a:lnTo>
                    <a:lnTo>
                      <a:pt x="18" y="0"/>
                    </a:lnTo>
                    <a:lnTo>
                      <a:pt x="16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592920" y="378540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8"/>
                    </a:moveTo>
                    <a:lnTo>
                      <a:pt x="8" y="26"/>
                    </a:lnTo>
                    <a:lnTo>
                      <a:pt x="26" y="19"/>
                    </a:lnTo>
                    <a:lnTo>
                      <a:pt x="18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642600" y="3773880"/>
                <a:ext cx="3240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6"/>
                    </a:moveTo>
                    <a:lnTo>
                      <a:pt x="6" y="24"/>
                    </a:lnTo>
                    <a:lnTo>
                      <a:pt x="10" y="23"/>
                    </a:lnTo>
                    <a:lnTo>
                      <a:pt x="25" y="19"/>
                    </a:lnTo>
                    <a:lnTo>
                      <a:pt x="19" y="0"/>
                    </a:lnTo>
                    <a:lnTo>
                      <a:pt x="2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692280" y="376488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0" y="4"/>
                    </a:moveTo>
                    <a:lnTo>
                      <a:pt x="4" y="22"/>
                    </a:lnTo>
                    <a:lnTo>
                      <a:pt x="12" y="21"/>
                    </a:lnTo>
                    <a:lnTo>
                      <a:pt x="9" y="11"/>
                    </a:lnTo>
                    <a:lnTo>
                      <a:pt x="9" y="21"/>
                    </a:lnTo>
                    <a:lnTo>
                      <a:pt x="24" y="19"/>
                    </a:lnTo>
                    <a:lnTo>
                      <a:pt x="21" y="0"/>
                    </a:lnTo>
                    <a:lnTo>
                      <a:pt x="9" y="2"/>
                    </a:lnTo>
                    <a:lnTo>
                      <a:pt x="4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747360" y="376200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0"/>
                    </a:lnTo>
                    <a:lnTo>
                      <a:pt x="6" y="21"/>
                    </a:lnTo>
                    <a:lnTo>
                      <a:pt x="17" y="22"/>
                    </a:lnTo>
                    <a:lnTo>
                      <a:pt x="20" y="3"/>
                    </a:lnTo>
                    <a:lnTo>
                      <a:pt x="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793440" y="37699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6" y="0"/>
                    </a:moveTo>
                    <a:lnTo>
                      <a:pt x="0" y="18"/>
                    </a:lnTo>
                    <a:lnTo>
                      <a:pt x="9" y="22"/>
                    </a:lnTo>
                    <a:lnTo>
                      <a:pt x="18" y="26"/>
                    </a:lnTo>
                    <a:lnTo>
                      <a:pt x="26" y="7"/>
                    </a:lnTo>
                    <a:lnTo>
                      <a:pt x="17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840600" y="3784320"/>
                <a:ext cx="33840" cy="266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8" y="0"/>
                    </a:moveTo>
                    <a:lnTo>
                      <a:pt x="0" y="18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26" y="9"/>
                    </a:lnTo>
                    <a:lnTo>
                      <a:pt x="25" y="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886680" y="380304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8" y="0"/>
                    </a:moveTo>
                    <a:lnTo>
                      <a:pt x="0" y="17"/>
                    </a:lnTo>
                    <a:lnTo>
                      <a:pt x="5" y="21"/>
                    </a:lnTo>
                    <a:lnTo>
                      <a:pt x="17" y="26"/>
                    </a:lnTo>
                    <a:lnTo>
                      <a:pt x="26" y="8"/>
                    </a:lnTo>
                    <a:lnTo>
                      <a:pt x="13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932400" y="381996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8" y="0"/>
                    </a:moveTo>
                    <a:lnTo>
                      <a:pt x="0" y="18"/>
                    </a:lnTo>
                    <a:lnTo>
                      <a:pt x="15" y="25"/>
                    </a:lnTo>
                    <a:lnTo>
                      <a:pt x="18" y="26"/>
                    </a:lnTo>
                    <a:lnTo>
                      <a:pt x="26" y="8"/>
                    </a:lnTo>
                    <a:lnTo>
                      <a:pt x="23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979560" y="3835800"/>
                <a:ext cx="3240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7" y="0"/>
                    </a:moveTo>
                    <a:lnTo>
                      <a:pt x="0" y="18"/>
                    </a:lnTo>
                    <a:lnTo>
                      <a:pt x="2" y="19"/>
                    </a:lnTo>
                    <a:lnTo>
                      <a:pt x="19" y="24"/>
                    </a:lnTo>
                    <a:lnTo>
                      <a:pt x="25" y="5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1032120" y="3844440"/>
                <a:ext cx="27360" cy="205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4" y="0"/>
                    </a:moveTo>
                    <a:lnTo>
                      <a:pt x="0" y="19"/>
                    </a:lnTo>
                    <a:lnTo>
                      <a:pt x="11" y="21"/>
                    </a:lnTo>
                    <a:lnTo>
                      <a:pt x="21" y="21"/>
                    </a:lnTo>
                    <a:lnTo>
                      <a:pt x="21" y="1"/>
                    </a:lnTo>
                    <a:lnTo>
                      <a:pt x="1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1084680" y="3839400"/>
                <a:ext cx="3096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5"/>
                    </a:moveTo>
                    <a:lnTo>
                      <a:pt x="3" y="24"/>
                    </a:lnTo>
                    <a:lnTo>
                      <a:pt x="4" y="24"/>
                    </a:lnTo>
                    <a:lnTo>
                      <a:pt x="8" y="23"/>
                    </a:lnTo>
                    <a:lnTo>
                      <a:pt x="19" y="20"/>
                    </a:lnTo>
                    <a:lnTo>
                      <a:pt x="24" y="17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" y="4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1125000" y="3818880"/>
                <a:ext cx="36720" cy="262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12"/>
                    </a:moveTo>
                    <a:lnTo>
                      <a:pt x="12" y="27"/>
                    </a:lnTo>
                    <a:lnTo>
                      <a:pt x="22" y="20"/>
                    </a:lnTo>
                    <a:lnTo>
                      <a:pt x="28" y="14"/>
                    </a:lnTo>
                    <a:lnTo>
                      <a:pt x="15" y="0"/>
                    </a:lnTo>
                    <a:lnTo>
                      <a:pt x="8" y="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1160280" y="3791520"/>
                <a:ext cx="3528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" y="14"/>
                    </a:moveTo>
                    <a:lnTo>
                      <a:pt x="15" y="27"/>
                    </a:lnTo>
                    <a:lnTo>
                      <a:pt x="16" y="27"/>
                    </a:lnTo>
                    <a:lnTo>
                      <a:pt x="18" y="24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0" y="16"/>
                    </a:lnTo>
                    <a:lnTo>
                      <a:pt x="8" y="19"/>
                    </a:lnTo>
                    <a:lnTo>
                      <a:pt x="2" y="13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1186920" y="3758040"/>
                <a:ext cx="35280" cy="2556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17"/>
                    </a:moveTo>
                    <a:lnTo>
                      <a:pt x="18" y="26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9" y="0"/>
                    </a:lnTo>
                    <a:lnTo>
                      <a:pt x="8" y="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1210320" y="3723840"/>
                <a:ext cx="3240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17"/>
                    </a:moveTo>
                    <a:lnTo>
                      <a:pt x="17" y="26"/>
                    </a:lnTo>
                    <a:lnTo>
                      <a:pt x="18" y="25"/>
                    </a:lnTo>
                    <a:lnTo>
                      <a:pt x="25" y="7"/>
                    </a:lnTo>
                    <a:lnTo>
                      <a:pt x="8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1228680" y="36882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7"/>
                    </a:moveTo>
                    <a:lnTo>
                      <a:pt x="19" y="25"/>
                    </a:lnTo>
                    <a:lnTo>
                      <a:pt x="23" y="14"/>
                    </a:lnTo>
                    <a:lnTo>
                      <a:pt x="25" y="6"/>
                    </a:lnTo>
                    <a:lnTo>
                      <a:pt x="7" y="0"/>
                    </a:lnTo>
                    <a:lnTo>
                      <a:pt x="4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1245600" y="3651120"/>
                <a:ext cx="32400" cy="252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19"/>
                    </a:moveTo>
                    <a:lnTo>
                      <a:pt x="19" y="26"/>
                    </a:lnTo>
                    <a:lnTo>
                      <a:pt x="19" y="26"/>
                    </a:lnTo>
                    <a:lnTo>
                      <a:pt x="25" y="7"/>
                    </a:lnTo>
                    <a:lnTo>
                      <a:pt x="7" y="0"/>
                    </a:lnTo>
                    <a:lnTo>
                      <a:pt x="0" y="18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1262880" y="361476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19"/>
                    </a:moveTo>
                    <a:lnTo>
                      <a:pt x="19" y="25"/>
                    </a:lnTo>
                    <a:lnTo>
                      <a:pt x="24" y="7"/>
                    </a:lnTo>
                    <a:lnTo>
                      <a:pt x="6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1277280" y="357840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9"/>
                    </a:moveTo>
                    <a:lnTo>
                      <a:pt x="19" y="24"/>
                    </a:lnTo>
                    <a:lnTo>
                      <a:pt x="23" y="11"/>
                    </a:lnTo>
                    <a:lnTo>
                      <a:pt x="24" y="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1291680" y="354132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8"/>
                    </a:moveTo>
                    <a:lnTo>
                      <a:pt x="19" y="24"/>
                    </a:lnTo>
                    <a:lnTo>
                      <a:pt x="21" y="17"/>
                    </a:lnTo>
                    <a:lnTo>
                      <a:pt x="24" y="5"/>
                    </a:lnTo>
                    <a:lnTo>
                      <a:pt x="6" y="0"/>
                    </a:lnTo>
                    <a:lnTo>
                      <a:pt x="2" y="1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1306080" y="350280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0" y="20"/>
                    </a:moveTo>
                    <a:lnTo>
                      <a:pt x="19" y="26"/>
                    </a:lnTo>
                    <a:lnTo>
                      <a:pt x="23" y="6"/>
                    </a:lnTo>
                    <a:lnTo>
                      <a:pt x="5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1319040" y="3465720"/>
                <a:ext cx="2988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0"/>
                    </a:moveTo>
                    <a:lnTo>
                      <a:pt x="19" y="25"/>
                    </a:lnTo>
                    <a:lnTo>
                      <a:pt x="23" y="6"/>
                    </a:lnTo>
                    <a:lnTo>
                      <a:pt x="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1332360" y="3428280"/>
                <a:ext cx="3024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19"/>
                    </a:moveTo>
                    <a:lnTo>
                      <a:pt x="18" y="25"/>
                    </a:lnTo>
                    <a:lnTo>
                      <a:pt x="23" y="5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1344240" y="3392280"/>
                <a:ext cx="31320" cy="22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8"/>
                    </a:moveTo>
                    <a:lnTo>
                      <a:pt x="18" y="23"/>
                    </a:lnTo>
                    <a:lnTo>
                      <a:pt x="24" y="4"/>
                    </a:lnTo>
                    <a:lnTo>
                      <a:pt x="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1355760" y="335376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9" y="23"/>
                    </a:lnTo>
                    <a:lnTo>
                      <a:pt x="23" y="5"/>
                    </a:lnTo>
                    <a:lnTo>
                      <a:pt x="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1367640" y="331632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9" y="23"/>
                    </a:lnTo>
                    <a:lnTo>
                      <a:pt x="23" y="4"/>
                    </a:lnTo>
                    <a:lnTo>
                      <a:pt x="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1379520" y="3278880"/>
                <a:ext cx="31320" cy="226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8"/>
                    </a:moveTo>
                    <a:lnTo>
                      <a:pt x="19" y="23"/>
                    </a:lnTo>
                    <a:lnTo>
                      <a:pt x="24" y="4"/>
                    </a:lnTo>
                    <a:lnTo>
                      <a:pt x="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1392480" y="324072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8" y="23"/>
                    </a:lnTo>
                    <a:lnTo>
                      <a:pt x="23" y="5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1404720" y="320364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8" y="23"/>
                    </a:lnTo>
                    <a:lnTo>
                      <a:pt x="21" y="8"/>
                    </a:lnTo>
                    <a:lnTo>
                      <a:pt x="23" y="4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1414800" y="316620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8"/>
                    </a:moveTo>
                    <a:lnTo>
                      <a:pt x="19" y="23"/>
                    </a:lnTo>
                    <a:lnTo>
                      <a:pt x="23" y="4"/>
                    </a:lnTo>
                    <a:lnTo>
                      <a:pt x="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1426680" y="312804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9" y="23"/>
                    </a:lnTo>
                    <a:lnTo>
                      <a:pt x="21" y="15"/>
                    </a:lnTo>
                    <a:lnTo>
                      <a:pt x="23" y="5"/>
                    </a:lnTo>
                    <a:lnTo>
                      <a:pt x="4" y="0"/>
                    </a:lnTo>
                    <a:lnTo>
                      <a:pt x="2" y="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1438560" y="308952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20"/>
                    </a:moveTo>
                    <a:lnTo>
                      <a:pt x="18" y="24"/>
                    </a:lnTo>
                    <a:lnTo>
                      <a:pt x="20" y="20"/>
                    </a:lnTo>
                    <a:lnTo>
                      <a:pt x="23" y="4"/>
                    </a:lnTo>
                    <a:lnTo>
                      <a:pt x="4" y="0"/>
                    </a:lnTo>
                    <a:lnTo>
                      <a:pt x="1" y="1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1450440" y="3052440"/>
                <a:ext cx="2988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9"/>
                    </a:moveTo>
                    <a:lnTo>
                      <a:pt x="18" y="24"/>
                    </a:lnTo>
                    <a:lnTo>
                      <a:pt x="23" y="4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1460880" y="3014280"/>
                <a:ext cx="3024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0"/>
                    </a:moveTo>
                    <a:lnTo>
                      <a:pt x="19" y="25"/>
                    </a:lnTo>
                    <a:lnTo>
                      <a:pt x="23" y="5"/>
                    </a:lnTo>
                    <a:lnTo>
                      <a:pt x="5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1472760" y="297684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0"/>
                    </a:moveTo>
                    <a:lnTo>
                      <a:pt x="19" y="24"/>
                    </a:lnTo>
                    <a:lnTo>
                      <a:pt x="23" y="11"/>
                    </a:lnTo>
                    <a:lnTo>
                      <a:pt x="24" y="6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1485720" y="293976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8"/>
                    </a:moveTo>
                    <a:lnTo>
                      <a:pt x="19" y="24"/>
                    </a:lnTo>
                    <a:lnTo>
                      <a:pt x="20" y="22"/>
                    </a:lnTo>
                    <a:lnTo>
                      <a:pt x="24" y="5"/>
                    </a:lnTo>
                    <a:lnTo>
                      <a:pt x="5" y="0"/>
                    </a:lnTo>
                    <a:lnTo>
                      <a:pt x="1" y="1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1498680" y="290232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19"/>
                    </a:moveTo>
                    <a:lnTo>
                      <a:pt x="18" y="25"/>
                    </a:lnTo>
                    <a:lnTo>
                      <a:pt x="23" y="10"/>
                    </a:lnTo>
                    <a:lnTo>
                      <a:pt x="24" y="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1513440" y="2864160"/>
                <a:ext cx="32400" cy="262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0" y="20"/>
                    </a:moveTo>
                    <a:lnTo>
                      <a:pt x="18" y="27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1529280" y="28278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9"/>
                    </a:moveTo>
                    <a:lnTo>
                      <a:pt x="18" y="25"/>
                    </a:lnTo>
                    <a:lnTo>
                      <a:pt x="24" y="11"/>
                    </a:lnTo>
                    <a:lnTo>
                      <a:pt x="25" y="7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1546200" y="279144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8"/>
                    </a:moveTo>
                    <a:lnTo>
                      <a:pt x="18" y="25"/>
                    </a:lnTo>
                    <a:lnTo>
                      <a:pt x="22" y="18"/>
                    </a:lnTo>
                    <a:lnTo>
                      <a:pt x="25" y="6"/>
                    </a:lnTo>
                    <a:lnTo>
                      <a:pt x="6" y="0"/>
                    </a:lnTo>
                    <a:lnTo>
                      <a:pt x="3" y="11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1564560" y="2755080"/>
                <a:ext cx="32400" cy="252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18"/>
                    </a:moveTo>
                    <a:lnTo>
                      <a:pt x="19" y="2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1582560" y="2719800"/>
                <a:ext cx="35280" cy="2556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" y="18"/>
                    </a:moveTo>
                    <a:lnTo>
                      <a:pt x="19" y="26"/>
                    </a:lnTo>
                    <a:lnTo>
                      <a:pt x="19" y="25"/>
                    </a:lnTo>
                    <a:lnTo>
                      <a:pt x="27" y="9"/>
                    </a:lnTo>
                    <a:lnTo>
                      <a:pt x="27" y="8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0" y="17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1607760" y="2683440"/>
                <a:ext cx="35280" cy="2736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0" y="18"/>
                    </a:moveTo>
                    <a:lnTo>
                      <a:pt x="16" y="28"/>
                    </a:lnTo>
                    <a:lnTo>
                      <a:pt x="21" y="22"/>
                    </a:lnTo>
                    <a:lnTo>
                      <a:pt x="27" y="12"/>
                    </a:lnTo>
                    <a:lnTo>
                      <a:pt x="17" y="9"/>
                    </a:lnTo>
                    <a:lnTo>
                      <a:pt x="25" y="16"/>
                    </a:lnTo>
                    <a:lnTo>
                      <a:pt x="27" y="12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5"/>
                    </a:lnTo>
                    <a:lnTo>
                      <a:pt x="2" y="1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1639080" y="2653920"/>
                <a:ext cx="36360" cy="27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15"/>
                    </a:moveTo>
                    <a:lnTo>
                      <a:pt x="14" y="28"/>
                    </a:lnTo>
                    <a:lnTo>
                      <a:pt x="19" y="25"/>
                    </a:lnTo>
                    <a:lnTo>
                      <a:pt x="28" y="14"/>
                    </a:lnTo>
                    <a:lnTo>
                      <a:pt x="14" y="0"/>
                    </a:lnTo>
                    <a:lnTo>
                      <a:pt x="4" y="1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1674720" y="2625480"/>
                <a:ext cx="36720" cy="28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16"/>
                    </a:moveTo>
                    <a:lnTo>
                      <a:pt x="15" y="29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4" y="18"/>
                    </a:lnTo>
                    <a:lnTo>
                      <a:pt x="28" y="15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3" y="12"/>
                    </a:lnTo>
                    <a:lnTo>
                      <a:pt x="10" y="19"/>
                    </a:lnTo>
                    <a:lnTo>
                      <a:pt x="4" y="1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1715400" y="2604240"/>
                <a:ext cx="35280" cy="252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9"/>
                    </a:moveTo>
                    <a:lnTo>
                      <a:pt x="11" y="26"/>
                    </a:lnTo>
                    <a:lnTo>
                      <a:pt x="19" y="21"/>
                    </a:lnTo>
                    <a:lnTo>
                      <a:pt x="11" y="15"/>
                    </a:lnTo>
                    <a:lnTo>
                      <a:pt x="15" y="23"/>
                    </a:lnTo>
                    <a:lnTo>
                      <a:pt x="27" y="18"/>
                    </a:lnTo>
                    <a:lnTo>
                      <a:pt x="19" y="0"/>
                    </a:lnTo>
                    <a:lnTo>
                      <a:pt x="8" y="5"/>
                    </a:lnTo>
                    <a:lnTo>
                      <a:pt x="4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1765080" y="2591280"/>
                <a:ext cx="35280" cy="2340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6"/>
                    </a:moveTo>
                    <a:lnTo>
                      <a:pt x="7" y="24"/>
                    </a:lnTo>
                    <a:lnTo>
                      <a:pt x="10" y="23"/>
                    </a:lnTo>
                    <a:lnTo>
                      <a:pt x="27" y="20"/>
                    </a:lnTo>
                    <a:lnTo>
                      <a:pt x="23" y="10"/>
                    </a:lnTo>
                    <a:lnTo>
                      <a:pt x="23" y="20"/>
                    </a:lnTo>
                    <a:lnTo>
                      <a:pt x="24" y="20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19" y="1"/>
                    </a:lnTo>
                    <a:lnTo>
                      <a:pt x="2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1817640" y="2584440"/>
                <a:ext cx="32400" cy="226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4"/>
                    </a:moveTo>
                    <a:lnTo>
                      <a:pt x="4" y="23"/>
                    </a:lnTo>
                    <a:lnTo>
                      <a:pt x="15" y="22"/>
                    </a:lnTo>
                    <a:lnTo>
                      <a:pt x="25" y="17"/>
                    </a:lnTo>
                    <a:lnTo>
                      <a:pt x="17" y="0"/>
                    </a:lnTo>
                    <a:lnTo>
                      <a:pt x="7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4" name=""/>
            <p:cNvSpPr/>
            <p:nvPr/>
          </p:nvSpPr>
          <p:spPr>
            <a:xfrm>
              <a:off x="1292400" y="4109760"/>
              <a:ext cx="2405880" cy="1238760"/>
            </a:xfrm>
            <a:custGeom>
              <a:avLst/>
              <a:gdLst/>
              <a:ahLst/>
              <a:rect l="l" t="t" r="r" b="b"/>
              <a:pathLst>
                <a:path w="1836" h="1261">
                  <a:moveTo>
                    <a:pt x="0" y="1235"/>
                  </a:moveTo>
                  <a:lnTo>
                    <a:pt x="2" y="1261"/>
                  </a:lnTo>
                  <a:lnTo>
                    <a:pt x="9" y="1260"/>
                  </a:lnTo>
                  <a:lnTo>
                    <a:pt x="22" y="1260"/>
                  </a:lnTo>
                  <a:lnTo>
                    <a:pt x="35" y="1260"/>
                  </a:lnTo>
                  <a:lnTo>
                    <a:pt x="50" y="1261"/>
                  </a:lnTo>
                  <a:lnTo>
                    <a:pt x="67" y="1261"/>
                  </a:lnTo>
                  <a:lnTo>
                    <a:pt x="85" y="1261"/>
                  </a:lnTo>
                  <a:lnTo>
                    <a:pt x="123" y="1261"/>
                  </a:lnTo>
                  <a:lnTo>
                    <a:pt x="163" y="1260"/>
                  </a:lnTo>
                  <a:lnTo>
                    <a:pt x="200" y="1258"/>
                  </a:lnTo>
                  <a:lnTo>
                    <a:pt x="217" y="1254"/>
                  </a:lnTo>
                  <a:lnTo>
                    <a:pt x="222" y="1253"/>
                  </a:lnTo>
                  <a:lnTo>
                    <a:pt x="238" y="1250"/>
                  </a:lnTo>
                  <a:lnTo>
                    <a:pt x="252" y="1246"/>
                  </a:lnTo>
                  <a:lnTo>
                    <a:pt x="265" y="1240"/>
                  </a:lnTo>
                  <a:lnTo>
                    <a:pt x="274" y="1234"/>
                  </a:lnTo>
                  <a:lnTo>
                    <a:pt x="279" y="1230"/>
                  </a:lnTo>
                  <a:lnTo>
                    <a:pt x="287" y="1221"/>
                  </a:lnTo>
                  <a:lnTo>
                    <a:pt x="295" y="1212"/>
                  </a:lnTo>
                  <a:lnTo>
                    <a:pt x="298" y="1207"/>
                  </a:lnTo>
                  <a:lnTo>
                    <a:pt x="305" y="1195"/>
                  </a:lnTo>
                  <a:lnTo>
                    <a:pt x="317" y="1170"/>
                  </a:lnTo>
                  <a:lnTo>
                    <a:pt x="327" y="1143"/>
                  </a:lnTo>
                  <a:lnTo>
                    <a:pt x="334" y="1116"/>
                  </a:lnTo>
                  <a:lnTo>
                    <a:pt x="339" y="1103"/>
                  </a:lnTo>
                  <a:lnTo>
                    <a:pt x="342" y="1092"/>
                  </a:lnTo>
                  <a:lnTo>
                    <a:pt x="346" y="1083"/>
                  </a:lnTo>
                  <a:lnTo>
                    <a:pt x="351" y="1074"/>
                  </a:lnTo>
                  <a:lnTo>
                    <a:pt x="339" y="1069"/>
                  </a:lnTo>
                  <a:lnTo>
                    <a:pt x="348" y="1078"/>
                  </a:lnTo>
                  <a:lnTo>
                    <a:pt x="353" y="1072"/>
                  </a:lnTo>
                  <a:lnTo>
                    <a:pt x="343" y="1063"/>
                  </a:lnTo>
                  <a:lnTo>
                    <a:pt x="349" y="1075"/>
                  </a:lnTo>
                  <a:lnTo>
                    <a:pt x="355" y="1070"/>
                  </a:lnTo>
                  <a:lnTo>
                    <a:pt x="356" y="1069"/>
                  </a:lnTo>
                  <a:lnTo>
                    <a:pt x="352" y="1057"/>
                  </a:lnTo>
                  <a:lnTo>
                    <a:pt x="352" y="1070"/>
                  </a:lnTo>
                  <a:lnTo>
                    <a:pt x="354" y="1072"/>
                  </a:lnTo>
                  <a:lnTo>
                    <a:pt x="354" y="1058"/>
                  </a:lnTo>
                  <a:lnTo>
                    <a:pt x="350" y="1070"/>
                  </a:lnTo>
                  <a:lnTo>
                    <a:pt x="352" y="1072"/>
                  </a:lnTo>
                  <a:lnTo>
                    <a:pt x="356" y="1060"/>
                  </a:lnTo>
                  <a:lnTo>
                    <a:pt x="348" y="1068"/>
                  </a:lnTo>
                  <a:lnTo>
                    <a:pt x="350" y="1072"/>
                  </a:lnTo>
                  <a:lnTo>
                    <a:pt x="360" y="1062"/>
                  </a:lnTo>
                  <a:lnTo>
                    <a:pt x="348" y="1067"/>
                  </a:lnTo>
                  <a:lnTo>
                    <a:pt x="353" y="1075"/>
                  </a:lnTo>
                  <a:lnTo>
                    <a:pt x="357" y="1086"/>
                  </a:lnTo>
                  <a:lnTo>
                    <a:pt x="363" y="1098"/>
                  </a:lnTo>
                  <a:lnTo>
                    <a:pt x="367" y="1112"/>
                  </a:lnTo>
                  <a:lnTo>
                    <a:pt x="373" y="1126"/>
                  </a:lnTo>
                  <a:lnTo>
                    <a:pt x="378" y="1141"/>
                  </a:lnTo>
                  <a:lnTo>
                    <a:pt x="383" y="1153"/>
                  </a:lnTo>
                  <a:lnTo>
                    <a:pt x="388" y="1163"/>
                  </a:lnTo>
                  <a:lnTo>
                    <a:pt x="391" y="1168"/>
                  </a:lnTo>
                  <a:lnTo>
                    <a:pt x="397" y="1176"/>
                  </a:lnTo>
                  <a:lnTo>
                    <a:pt x="399" y="1178"/>
                  </a:lnTo>
                  <a:lnTo>
                    <a:pt x="403" y="1180"/>
                  </a:lnTo>
                  <a:lnTo>
                    <a:pt x="407" y="1181"/>
                  </a:lnTo>
                  <a:lnTo>
                    <a:pt x="411" y="1182"/>
                  </a:lnTo>
                  <a:lnTo>
                    <a:pt x="414" y="1182"/>
                  </a:lnTo>
                  <a:lnTo>
                    <a:pt x="420" y="1181"/>
                  </a:lnTo>
                  <a:lnTo>
                    <a:pt x="422" y="1180"/>
                  </a:lnTo>
                  <a:lnTo>
                    <a:pt x="426" y="1178"/>
                  </a:lnTo>
                  <a:lnTo>
                    <a:pt x="430" y="1174"/>
                  </a:lnTo>
                  <a:lnTo>
                    <a:pt x="433" y="1171"/>
                  </a:lnTo>
                  <a:lnTo>
                    <a:pt x="436" y="1167"/>
                  </a:lnTo>
                  <a:lnTo>
                    <a:pt x="439" y="1161"/>
                  </a:lnTo>
                  <a:lnTo>
                    <a:pt x="443" y="1154"/>
                  </a:lnTo>
                  <a:lnTo>
                    <a:pt x="446" y="1145"/>
                  </a:lnTo>
                  <a:lnTo>
                    <a:pt x="449" y="1133"/>
                  </a:lnTo>
                  <a:lnTo>
                    <a:pt x="453" y="1120"/>
                  </a:lnTo>
                  <a:lnTo>
                    <a:pt x="457" y="1103"/>
                  </a:lnTo>
                  <a:lnTo>
                    <a:pt x="458" y="1098"/>
                  </a:lnTo>
                  <a:lnTo>
                    <a:pt x="461" y="1079"/>
                  </a:lnTo>
                  <a:lnTo>
                    <a:pt x="466" y="1056"/>
                  </a:lnTo>
                  <a:lnTo>
                    <a:pt x="470" y="1032"/>
                  </a:lnTo>
                  <a:lnTo>
                    <a:pt x="473" y="1006"/>
                  </a:lnTo>
                  <a:lnTo>
                    <a:pt x="478" y="977"/>
                  </a:lnTo>
                  <a:lnTo>
                    <a:pt x="482" y="947"/>
                  </a:lnTo>
                  <a:lnTo>
                    <a:pt x="486" y="915"/>
                  </a:lnTo>
                  <a:lnTo>
                    <a:pt x="491" y="882"/>
                  </a:lnTo>
                  <a:lnTo>
                    <a:pt x="500" y="813"/>
                  </a:lnTo>
                  <a:lnTo>
                    <a:pt x="508" y="742"/>
                  </a:lnTo>
                  <a:lnTo>
                    <a:pt x="518" y="671"/>
                  </a:lnTo>
                  <a:lnTo>
                    <a:pt x="527" y="601"/>
                  </a:lnTo>
                  <a:lnTo>
                    <a:pt x="531" y="566"/>
                  </a:lnTo>
                  <a:lnTo>
                    <a:pt x="537" y="533"/>
                  </a:lnTo>
                  <a:lnTo>
                    <a:pt x="541" y="501"/>
                  </a:lnTo>
                  <a:lnTo>
                    <a:pt x="546" y="471"/>
                  </a:lnTo>
                  <a:lnTo>
                    <a:pt x="550" y="442"/>
                  </a:lnTo>
                  <a:lnTo>
                    <a:pt x="555" y="415"/>
                  </a:lnTo>
                  <a:lnTo>
                    <a:pt x="560" y="390"/>
                  </a:lnTo>
                  <a:lnTo>
                    <a:pt x="564" y="367"/>
                  </a:lnTo>
                  <a:lnTo>
                    <a:pt x="551" y="367"/>
                  </a:lnTo>
                  <a:lnTo>
                    <a:pt x="563" y="372"/>
                  </a:lnTo>
                  <a:lnTo>
                    <a:pt x="567" y="351"/>
                  </a:lnTo>
                  <a:lnTo>
                    <a:pt x="572" y="335"/>
                  </a:lnTo>
                  <a:lnTo>
                    <a:pt x="576" y="320"/>
                  </a:lnTo>
                  <a:lnTo>
                    <a:pt x="581" y="309"/>
                  </a:lnTo>
                  <a:lnTo>
                    <a:pt x="585" y="301"/>
                  </a:lnTo>
                  <a:lnTo>
                    <a:pt x="573" y="297"/>
                  </a:lnTo>
                  <a:lnTo>
                    <a:pt x="583" y="306"/>
                  </a:lnTo>
                  <a:lnTo>
                    <a:pt x="578" y="309"/>
                  </a:lnTo>
                  <a:lnTo>
                    <a:pt x="584" y="304"/>
                  </a:lnTo>
                  <a:lnTo>
                    <a:pt x="584" y="304"/>
                  </a:lnTo>
                  <a:lnTo>
                    <a:pt x="579" y="292"/>
                  </a:lnTo>
                  <a:lnTo>
                    <a:pt x="579" y="306"/>
                  </a:lnTo>
                  <a:lnTo>
                    <a:pt x="574" y="304"/>
                  </a:lnTo>
                  <a:lnTo>
                    <a:pt x="576" y="304"/>
                  </a:lnTo>
                  <a:lnTo>
                    <a:pt x="582" y="292"/>
                  </a:lnTo>
                  <a:lnTo>
                    <a:pt x="572" y="302"/>
                  </a:lnTo>
                  <a:lnTo>
                    <a:pt x="576" y="307"/>
                  </a:lnTo>
                  <a:lnTo>
                    <a:pt x="586" y="297"/>
                  </a:lnTo>
                  <a:lnTo>
                    <a:pt x="574" y="302"/>
                  </a:lnTo>
                  <a:lnTo>
                    <a:pt x="577" y="310"/>
                  </a:lnTo>
                  <a:lnTo>
                    <a:pt x="582" y="323"/>
                  </a:lnTo>
                  <a:lnTo>
                    <a:pt x="586" y="338"/>
                  </a:lnTo>
                  <a:lnTo>
                    <a:pt x="590" y="357"/>
                  </a:lnTo>
                  <a:lnTo>
                    <a:pt x="602" y="353"/>
                  </a:lnTo>
                  <a:lnTo>
                    <a:pt x="589" y="353"/>
                  </a:lnTo>
                  <a:lnTo>
                    <a:pt x="593" y="373"/>
                  </a:lnTo>
                  <a:lnTo>
                    <a:pt x="597" y="399"/>
                  </a:lnTo>
                  <a:lnTo>
                    <a:pt x="600" y="425"/>
                  </a:lnTo>
                  <a:lnTo>
                    <a:pt x="605" y="453"/>
                  </a:lnTo>
                  <a:lnTo>
                    <a:pt x="609" y="483"/>
                  </a:lnTo>
                  <a:lnTo>
                    <a:pt x="612" y="515"/>
                  </a:lnTo>
                  <a:lnTo>
                    <a:pt x="617" y="547"/>
                  </a:lnTo>
                  <a:lnTo>
                    <a:pt x="620" y="581"/>
                  </a:lnTo>
                  <a:lnTo>
                    <a:pt x="629" y="649"/>
                  </a:lnTo>
                  <a:lnTo>
                    <a:pt x="636" y="717"/>
                  </a:lnTo>
                  <a:lnTo>
                    <a:pt x="640" y="751"/>
                  </a:lnTo>
                  <a:lnTo>
                    <a:pt x="644" y="783"/>
                  </a:lnTo>
                  <a:lnTo>
                    <a:pt x="648" y="813"/>
                  </a:lnTo>
                  <a:lnTo>
                    <a:pt x="652" y="843"/>
                  </a:lnTo>
                  <a:lnTo>
                    <a:pt x="656" y="871"/>
                  </a:lnTo>
                  <a:lnTo>
                    <a:pt x="660" y="896"/>
                  </a:lnTo>
                  <a:lnTo>
                    <a:pt x="664" y="919"/>
                  </a:lnTo>
                  <a:lnTo>
                    <a:pt x="668" y="940"/>
                  </a:lnTo>
                  <a:lnTo>
                    <a:pt x="669" y="945"/>
                  </a:lnTo>
                  <a:lnTo>
                    <a:pt x="674" y="962"/>
                  </a:lnTo>
                  <a:lnTo>
                    <a:pt x="678" y="976"/>
                  </a:lnTo>
                  <a:lnTo>
                    <a:pt x="681" y="986"/>
                  </a:lnTo>
                  <a:lnTo>
                    <a:pt x="686" y="993"/>
                  </a:lnTo>
                  <a:lnTo>
                    <a:pt x="689" y="997"/>
                  </a:lnTo>
                  <a:lnTo>
                    <a:pt x="691" y="999"/>
                  </a:lnTo>
                  <a:lnTo>
                    <a:pt x="695" y="1002"/>
                  </a:lnTo>
                  <a:lnTo>
                    <a:pt x="698" y="1003"/>
                  </a:lnTo>
                  <a:lnTo>
                    <a:pt x="702" y="1004"/>
                  </a:lnTo>
                  <a:lnTo>
                    <a:pt x="704" y="1004"/>
                  </a:lnTo>
                  <a:lnTo>
                    <a:pt x="710" y="1003"/>
                  </a:lnTo>
                  <a:lnTo>
                    <a:pt x="714" y="999"/>
                  </a:lnTo>
                  <a:lnTo>
                    <a:pt x="716" y="998"/>
                  </a:lnTo>
                  <a:lnTo>
                    <a:pt x="718" y="995"/>
                  </a:lnTo>
                  <a:lnTo>
                    <a:pt x="721" y="991"/>
                  </a:lnTo>
                  <a:lnTo>
                    <a:pt x="723" y="986"/>
                  </a:lnTo>
                  <a:lnTo>
                    <a:pt x="725" y="981"/>
                  </a:lnTo>
                  <a:lnTo>
                    <a:pt x="727" y="974"/>
                  </a:lnTo>
                  <a:lnTo>
                    <a:pt x="729" y="967"/>
                  </a:lnTo>
                  <a:lnTo>
                    <a:pt x="732" y="958"/>
                  </a:lnTo>
                  <a:lnTo>
                    <a:pt x="736" y="937"/>
                  </a:lnTo>
                  <a:lnTo>
                    <a:pt x="737" y="933"/>
                  </a:lnTo>
                  <a:lnTo>
                    <a:pt x="741" y="907"/>
                  </a:lnTo>
                  <a:lnTo>
                    <a:pt x="746" y="880"/>
                  </a:lnTo>
                  <a:lnTo>
                    <a:pt x="750" y="848"/>
                  </a:lnTo>
                  <a:lnTo>
                    <a:pt x="754" y="814"/>
                  </a:lnTo>
                  <a:lnTo>
                    <a:pt x="759" y="777"/>
                  </a:lnTo>
                  <a:lnTo>
                    <a:pt x="763" y="738"/>
                  </a:lnTo>
                  <a:lnTo>
                    <a:pt x="768" y="697"/>
                  </a:lnTo>
                  <a:lnTo>
                    <a:pt x="772" y="655"/>
                  </a:lnTo>
                  <a:lnTo>
                    <a:pt x="776" y="611"/>
                  </a:lnTo>
                  <a:lnTo>
                    <a:pt x="782" y="567"/>
                  </a:lnTo>
                  <a:lnTo>
                    <a:pt x="791" y="477"/>
                  </a:lnTo>
                  <a:lnTo>
                    <a:pt x="800" y="388"/>
                  </a:lnTo>
                  <a:lnTo>
                    <a:pt x="805" y="345"/>
                  </a:lnTo>
                  <a:lnTo>
                    <a:pt x="809" y="302"/>
                  </a:lnTo>
                  <a:lnTo>
                    <a:pt x="814" y="262"/>
                  </a:lnTo>
                  <a:lnTo>
                    <a:pt x="819" y="222"/>
                  </a:lnTo>
                  <a:lnTo>
                    <a:pt x="823" y="186"/>
                  </a:lnTo>
                  <a:lnTo>
                    <a:pt x="829" y="152"/>
                  </a:lnTo>
                  <a:lnTo>
                    <a:pt x="833" y="121"/>
                  </a:lnTo>
                  <a:lnTo>
                    <a:pt x="839" y="93"/>
                  </a:lnTo>
                  <a:lnTo>
                    <a:pt x="826" y="93"/>
                  </a:lnTo>
                  <a:lnTo>
                    <a:pt x="838" y="99"/>
                  </a:lnTo>
                  <a:lnTo>
                    <a:pt x="842" y="74"/>
                  </a:lnTo>
                  <a:lnTo>
                    <a:pt x="847" y="54"/>
                  </a:lnTo>
                  <a:lnTo>
                    <a:pt x="850" y="45"/>
                  </a:lnTo>
                  <a:lnTo>
                    <a:pt x="852" y="37"/>
                  </a:lnTo>
                  <a:lnTo>
                    <a:pt x="854" y="31"/>
                  </a:lnTo>
                  <a:lnTo>
                    <a:pt x="857" y="26"/>
                  </a:lnTo>
                  <a:lnTo>
                    <a:pt x="860" y="22"/>
                  </a:lnTo>
                  <a:lnTo>
                    <a:pt x="847" y="18"/>
                  </a:lnTo>
                  <a:lnTo>
                    <a:pt x="857" y="26"/>
                  </a:lnTo>
                  <a:lnTo>
                    <a:pt x="860" y="24"/>
                  </a:lnTo>
                  <a:lnTo>
                    <a:pt x="850" y="14"/>
                  </a:lnTo>
                  <a:lnTo>
                    <a:pt x="855" y="26"/>
                  </a:lnTo>
                  <a:lnTo>
                    <a:pt x="857" y="25"/>
                  </a:lnTo>
                  <a:lnTo>
                    <a:pt x="853" y="13"/>
                  </a:lnTo>
                  <a:lnTo>
                    <a:pt x="853" y="26"/>
                  </a:lnTo>
                  <a:lnTo>
                    <a:pt x="847" y="25"/>
                  </a:lnTo>
                  <a:lnTo>
                    <a:pt x="852" y="26"/>
                  </a:lnTo>
                  <a:lnTo>
                    <a:pt x="853" y="26"/>
                  </a:lnTo>
                  <a:lnTo>
                    <a:pt x="857" y="14"/>
                  </a:lnTo>
                  <a:lnTo>
                    <a:pt x="849" y="24"/>
                  </a:lnTo>
                  <a:lnTo>
                    <a:pt x="851" y="26"/>
                  </a:lnTo>
                  <a:lnTo>
                    <a:pt x="854" y="31"/>
                  </a:lnTo>
                  <a:lnTo>
                    <a:pt x="863" y="21"/>
                  </a:lnTo>
                  <a:lnTo>
                    <a:pt x="851" y="26"/>
                  </a:lnTo>
                  <a:lnTo>
                    <a:pt x="854" y="32"/>
                  </a:lnTo>
                  <a:lnTo>
                    <a:pt x="856" y="38"/>
                  </a:lnTo>
                  <a:lnTo>
                    <a:pt x="860" y="46"/>
                  </a:lnTo>
                  <a:lnTo>
                    <a:pt x="862" y="54"/>
                  </a:lnTo>
                  <a:lnTo>
                    <a:pt x="865" y="64"/>
                  </a:lnTo>
                  <a:lnTo>
                    <a:pt x="870" y="87"/>
                  </a:lnTo>
                  <a:lnTo>
                    <a:pt x="876" y="113"/>
                  </a:lnTo>
                  <a:lnTo>
                    <a:pt x="888" y="107"/>
                  </a:lnTo>
                  <a:lnTo>
                    <a:pt x="875" y="107"/>
                  </a:lnTo>
                  <a:lnTo>
                    <a:pt x="881" y="138"/>
                  </a:lnTo>
                  <a:lnTo>
                    <a:pt x="887" y="171"/>
                  </a:lnTo>
                  <a:lnTo>
                    <a:pt x="893" y="206"/>
                  </a:lnTo>
                  <a:lnTo>
                    <a:pt x="900" y="244"/>
                  </a:lnTo>
                  <a:lnTo>
                    <a:pt x="905" y="285"/>
                  </a:lnTo>
                  <a:lnTo>
                    <a:pt x="912" y="327"/>
                  </a:lnTo>
                  <a:lnTo>
                    <a:pt x="919" y="371"/>
                  </a:lnTo>
                  <a:lnTo>
                    <a:pt x="924" y="417"/>
                  </a:lnTo>
                  <a:lnTo>
                    <a:pt x="937" y="510"/>
                  </a:lnTo>
                  <a:lnTo>
                    <a:pt x="949" y="604"/>
                  </a:lnTo>
                  <a:lnTo>
                    <a:pt x="961" y="697"/>
                  </a:lnTo>
                  <a:lnTo>
                    <a:pt x="967" y="742"/>
                  </a:lnTo>
                  <a:lnTo>
                    <a:pt x="972" y="786"/>
                  </a:lnTo>
                  <a:lnTo>
                    <a:pt x="978" y="829"/>
                  </a:lnTo>
                  <a:lnTo>
                    <a:pt x="983" y="869"/>
                  </a:lnTo>
                  <a:lnTo>
                    <a:pt x="989" y="907"/>
                  </a:lnTo>
                  <a:lnTo>
                    <a:pt x="994" y="944"/>
                  </a:lnTo>
                  <a:lnTo>
                    <a:pt x="1000" y="976"/>
                  </a:lnTo>
                  <a:lnTo>
                    <a:pt x="1004" y="1006"/>
                  </a:lnTo>
                  <a:lnTo>
                    <a:pt x="1008" y="1033"/>
                  </a:lnTo>
                  <a:lnTo>
                    <a:pt x="1013" y="1055"/>
                  </a:lnTo>
                  <a:lnTo>
                    <a:pt x="1014" y="1061"/>
                  </a:lnTo>
                  <a:lnTo>
                    <a:pt x="1016" y="1070"/>
                  </a:lnTo>
                  <a:lnTo>
                    <a:pt x="1018" y="1079"/>
                  </a:lnTo>
                  <a:lnTo>
                    <a:pt x="1020" y="1087"/>
                  </a:lnTo>
                  <a:lnTo>
                    <a:pt x="1023" y="1092"/>
                  </a:lnTo>
                  <a:lnTo>
                    <a:pt x="1026" y="1103"/>
                  </a:lnTo>
                  <a:lnTo>
                    <a:pt x="1030" y="1110"/>
                  </a:lnTo>
                  <a:lnTo>
                    <a:pt x="1032" y="1114"/>
                  </a:lnTo>
                  <a:lnTo>
                    <a:pt x="1036" y="1118"/>
                  </a:lnTo>
                  <a:lnTo>
                    <a:pt x="1040" y="1121"/>
                  </a:lnTo>
                  <a:lnTo>
                    <a:pt x="1043" y="1122"/>
                  </a:lnTo>
                  <a:lnTo>
                    <a:pt x="1048" y="1123"/>
                  </a:lnTo>
                  <a:lnTo>
                    <a:pt x="1053" y="1122"/>
                  </a:lnTo>
                  <a:lnTo>
                    <a:pt x="1055" y="1120"/>
                  </a:lnTo>
                  <a:lnTo>
                    <a:pt x="1060" y="1118"/>
                  </a:lnTo>
                  <a:lnTo>
                    <a:pt x="1063" y="1113"/>
                  </a:lnTo>
                  <a:lnTo>
                    <a:pt x="1065" y="1109"/>
                  </a:lnTo>
                  <a:lnTo>
                    <a:pt x="1067" y="1102"/>
                  </a:lnTo>
                  <a:lnTo>
                    <a:pt x="1070" y="1093"/>
                  </a:lnTo>
                  <a:lnTo>
                    <a:pt x="1071" y="1088"/>
                  </a:lnTo>
                  <a:lnTo>
                    <a:pt x="1073" y="1078"/>
                  </a:lnTo>
                  <a:lnTo>
                    <a:pt x="1075" y="1065"/>
                  </a:lnTo>
                  <a:lnTo>
                    <a:pt x="1076" y="1052"/>
                  </a:lnTo>
                  <a:lnTo>
                    <a:pt x="1078" y="1037"/>
                  </a:lnTo>
                  <a:lnTo>
                    <a:pt x="1079" y="1021"/>
                  </a:lnTo>
                  <a:lnTo>
                    <a:pt x="1082" y="1004"/>
                  </a:lnTo>
                  <a:lnTo>
                    <a:pt x="1084" y="968"/>
                  </a:lnTo>
                  <a:lnTo>
                    <a:pt x="1087" y="930"/>
                  </a:lnTo>
                  <a:lnTo>
                    <a:pt x="1089" y="894"/>
                  </a:lnTo>
                  <a:lnTo>
                    <a:pt x="1093" y="859"/>
                  </a:lnTo>
                  <a:lnTo>
                    <a:pt x="1095" y="843"/>
                  </a:lnTo>
                  <a:lnTo>
                    <a:pt x="1097" y="828"/>
                  </a:lnTo>
                  <a:lnTo>
                    <a:pt x="1098" y="814"/>
                  </a:lnTo>
                  <a:lnTo>
                    <a:pt x="1100" y="801"/>
                  </a:lnTo>
                  <a:lnTo>
                    <a:pt x="1087" y="801"/>
                  </a:lnTo>
                  <a:lnTo>
                    <a:pt x="1099" y="807"/>
                  </a:lnTo>
                  <a:lnTo>
                    <a:pt x="1101" y="796"/>
                  </a:lnTo>
                  <a:lnTo>
                    <a:pt x="1105" y="787"/>
                  </a:lnTo>
                  <a:lnTo>
                    <a:pt x="1107" y="780"/>
                  </a:lnTo>
                  <a:lnTo>
                    <a:pt x="1110" y="776"/>
                  </a:lnTo>
                  <a:lnTo>
                    <a:pt x="1098" y="771"/>
                  </a:lnTo>
                  <a:lnTo>
                    <a:pt x="1107" y="780"/>
                  </a:lnTo>
                  <a:lnTo>
                    <a:pt x="1102" y="783"/>
                  </a:lnTo>
                  <a:lnTo>
                    <a:pt x="1106" y="780"/>
                  </a:lnTo>
                  <a:lnTo>
                    <a:pt x="1101" y="768"/>
                  </a:lnTo>
                  <a:lnTo>
                    <a:pt x="1101" y="782"/>
                  </a:lnTo>
                  <a:lnTo>
                    <a:pt x="1096" y="780"/>
                  </a:lnTo>
                  <a:lnTo>
                    <a:pt x="1098" y="780"/>
                  </a:lnTo>
                  <a:lnTo>
                    <a:pt x="1103" y="785"/>
                  </a:lnTo>
                  <a:lnTo>
                    <a:pt x="1108" y="773"/>
                  </a:lnTo>
                  <a:lnTo>
                    <a:pt x="1099" y="782"/>
                  </a:lnTo>
                  <a:lnTo>
                    <a:pt x="1103" y="787"/>
                  </a:lnTo>
                  <a:lnTo>
                    <a:pt x="1112" y="777"/>
                  </a:lnTo>
                  <a:lnTo>
                    <a:pt x="1100" y="783"/>
                  </a:lnTo>
                  <a:lnTo>
                    <a:pt x="1105" y="789"/>
                  </a:lnTo>
                  <a:lnTo>
                    <a:pt x="1109" y="797"/>
                  </a:lnTo>
                  <a:lnTo>
                    <a:pt x="1113" y="807"/>
                  </a:lnTo>
                  <a:lnTo>
                    <a:pt x="1119" y="818"/>
                  </a:lnTo>
                  <a:lnTo>
                    <a:pt x="1123" y="830"/>
                  </a:lnTo>
                  <a:lnTo>
                    <a:pt x="1129" y="844"/>
                  </a:lnTo>
                  <a:lnTo>
                    <a:pt x="1140" y="873"/>
                  </a:lnTo>
                  <a:lnTo>
                    <a:pt x="1151" y="906"/>
                  </a:lnTo>
                  <a:lnTo>
                    <a:pt x="1163" y="942"/>
                  </a:lnTo>
                  <a:lnTo>
                    <a:pt x="1173" y="980"/>
                  </a:lnTo>
                  <a:lnTo>
                    <a:pt x="1186" y="1017"/>
                  </a:lnTo>
                  <a:lnTo>
                    <a:pt x="1196" y="1055"/>
                  </a:lnTo>
                  <a:lnTo>
                    <a:pt x="1207" y="1091"/>
                  </a:lnTo>
                  <a:lnTo>
                    <a:pt x="1218" y="1125"/>
                  </a:lnTo>
                  <a:lnTo>
                    <a:pt x="1228" y="1157"/>
                  </a:lnTo>
                  <a:lnTo>
                    <a:pt x="1233" y="1171"/>
                  </a:lnTo>
                  <a:lnTo>
                    <a:pt x="1237" y="1183"/>
                  </a:lnTo>
                  <a:lnTo>
                    <a:pt x="1240" y="1195"/>
                  </a:lnTo>
                  <a:lnTo>
                    <a:pt x="1245" y="1206"/>
                  </a:lnTo>
                  <a:lnTo>
                    <a:pt x="1248" y="1216"/>
                  </a:lnTo>
                  <a:lnTo>
                    <a:pt x="1251" y="1224"/>
                  </a:lnTo>
                  <a:lnTo>
                    <a:pt x="1257" y="1235"/>
                  </a:lnTo>
                  <a:lnTo>
                    <a:pt x="1261" y="1243"/>
                  </a:lnTo>
                  <a:lnTo>
                    <a:pt x="1264" y="1249"/>
                  </a:lnTo>
                  <a:lnTo>
                    <a:pt x="1268" y="1253"/>
                  </a:lnTo>
                  <a:lnTo>
                    <a:pt x="1270" y="1257"/>
                  </a:lnTo>
                  <a:lnTo>
                    <a:pt x="1274" y="1259"/>
                  </a:lnTo>
                  <a:lnTo>
                    <a:pt x="1276" y="1260"/>
                  </a:lnTo>
                  <a:lnTo>
                    <a:pt x="1281" y="1261"/>
                  </a:lnTo>
                  <a:lnTo>
                    <a:pt x="1286" y="1260"/>
                  </a:lnTo>
                  <a:lnTo>
                    <a:pt x="1291" y="1258"/>
                  </a:lnTo>
                  <a:lnTo>
                    <a:pt x="1292" y="1255"/>
                  </a:lnTo>
                  <a:lnTo>
                    <a:pt x="1295" y="1251"/>
                  </a:lnTo>
                  <a:lnTo>
                    <a:pt x="1296" y="1249"/>
                  </a:lnTo>
                  <a:lnTo>
                    <a:pt x="1297" y="1244"/>
                  </a:lnTo>
                  <a:lnTo>
                    <a:pt x="1298" y="1240"/>
                  </a:lnTo>
                  <a:lnTo>
                    <a:pt x="1299" y="1229"/>
                  </a:lnTo>
                  <a:lnTo>
                    <a:pt x="1286" y="1229"/>
                  </a:lnTo>
                  <a:lnTo>
                    <a:pt x="1298" y="1235"/>
                  </a:lnTo>
                  <a:lnTo>
                    <a:pt x="1301" y="1224"/>
                  </a:lnTo>
                  <a:lnTo>
                    <a:pt x="1304" y="1219"/>
                  </a:lnTo>
                  <a:lnTo>
                    <a:pt x="1292" y="1214"/>
                  </a:lnTo>
                  <a:lnTo>
                    <a:pt x="1300" y="1224"/>
                  </a:lnTo>
                  <a:lnTo>
                    <a:pt x="1304" y="1220"/>
                  </a:lnTo>
                  <a:lnTo>
                    <a:pt x="1294" y="1211"/>
                  </a:lnTo>
                  <a:lnTo>
                    <a:pt x="1299" y="1223"/>
                  </a:lnTo>
                  <a:lnTo>
                    <a:pt x="1303" y="1220"/>
                  </a:lnTo>
                  <a:lnTo>
                    <a:pt x="1298" y="1208"/>
                  </a:lnTo>
                  <a:lnTo>
                    <a:pt x="1298" y="1221"/>
                  </a:lnTo>
                  <a:lnTo>
                    <a:pt x="1301" y="1221"/>
                  </a:lnTo>
                  <a:lnTo>
                    <a:pt x="1315" y="1225"/>
                  </a:lnTo>
                  <a:lnTo>
                    <a:pt x="1315" y="1212"/>
                  </a:lnTo>
                  <a:lnTo>
                    <a:pt x="1310" y="1224"/>
                  </a:lnTo>
                  <a:lnTo>
                    <a:pt x="1326" y="1228"/>
                  </a:lnTo>
                  <a:lnTo>
                    <a:pt x="1342" y="1235"/>
                  </a:lnTo>
                  <a:lnTo>
                    <a:pt x="1361" y="1241"/>
                  </a:lnTo>
                  <a:lnTo>
                    <a:pt x="1379" y="1248"/>
                  </a:lnTo>
                  <a:lnTo>
                    <a:pt x="1397" y="1251"/>
                  </a:lnTo>
                  <a:lnTo>
                    <a:pt x="1402" y="1252"/>
                  </a:lnTo>
                  <a:lnTo>
                    <a:pt x="1417" y="1253"/>
                  </a:lnTo>
                  <a:lnTo>
                    <a:pt x="1425" y="1253"/>
                  </a:lnTo>
                  <a:lnTo>
                    <a:pt x="1431" y="1252"/>
                  </a:lnTo>
                  <a:lnTo>
                    <a:pt x="1437" y="1250"/>
                  </a:lnTo>
                  <a:lnTo>
                    <a:pt x="1443" y="1247"/>
                  </a:lnTo>
                  <a:lnTo>
                    <a:pt x="1447" y="1243"/>
                  </a:lnTo>
                  <a:lnTo>
                    <a:pt x="1452" y="1239"/>
                  </a:lnTo>
                  <a:lnTo>
                    <a:pt x="1458" y="1232"/>
                  </a:lnTo>
                  <a:lnTo>
                    <a:pt x="1460" y="1228"/>
                  </a:lnTo>
                  <a:lnTo>
                    <a:pt x="1464" y="1220"/>
                  </a:lnTo>
                  <a:lnTo>
                    <a:pt x="1473" y="1203"/>
                  </a:lnTo>
                  <a:lnTo>
                    <a:pt x="1482" y="1183"/>
                  </a:lnTo>
                  <a:lnTo>
                    <a:pt x="1490" y="1165"/>
                  </a:lnTo>
                  <a:lnTo>
                    <a:pt x="1493" y="1157"/>
                  </a:lnTo>
                  <a:lnTo>
                    <a:pt x="1497" y="1149"/>
                  </a:lnTo>
                  <a:lnTo>
                    <a:pt x="1501" y="1143"/>
                  </a:lnTo>
                  <a:lnTo>
                    <a:pt x="1489" y="1138"/>
                  </a:lnTo>
                  <a:lnTo>
                    <a:pt x="1498" y="1147"/>
                  </a:lnTo>
                  <a:lnTo>
                    <a:pt x="1502" y="1143"/>
                  </a:lnTo>
                  <a:lnTo>
                    <a:pt x="1506" y="1139"/>
                  </a:lnTo>
                  <a:lnTo>
                    <a:pt x="1497" y="1130"/>
                  </a:lnTo>
                  <a:lnTo>
                    <a:pt x="1503" y="1142"/>
                  </a:lnTo>
                  <a:lnTo>
                    <a:pt x="1497" y="1143"/>
                  </a:lnTo>
                  <a:lnTo>
                    <a:pt x="1503" y="1142"/>
                  </a:lnTo>
                  <a:lnTo>
                    <a:pt x="1506" y="1143"/>
                  </a:lnTo>
                  <a:lnTo>
                    <a:pt x="1506" y="1130"/>
                  </a:lnTo>
                  <a:lnTo>
                    <a:pt x="1502" y="1142"/>
                  </a:lnTo>
                  <a:lnTo>
                    <a:pt x="1506" y="1144"/>
                  </a:lnTo>
                  <a:lnTo>
                    <a:pt x="1512" y="1132"/>
                  </a:lnTo>
                  <a:lnTo>
                    <a:pt x="1502" y="1142"/>
                  </a:lnTo>
                  <a:lnTo>
                    <a:pt x="1506" y="1146"/>
                  </a:lnTo>
                  <a:lnTo>
                    <a:pt x="1512" y="1151"/>
                  </a:lnTo>
                  <a:lnTo>
                    <a:pt x="1516" y="1159"/>
                  </a:lnTo>
                  <a:lnTo>
                    <a:pt x="1526" y="1149"/>
                  </a:lnTo>
                  <a:lnTo>
                    <a:pt x="1514" y="1155"/>
                  </a:lnTo>
                  <a:lnTo>
                    <a:pt x="1518" y="1162"/>
                  </a:lnTo>
                  <a:lnTo>
                    <a:pt x="1528" y="1180"/>
                  </a:lnTo>
                  <a:lnTo>
                    <a:pt x="1538" y="1199"/>
                  </a:lnTo>
                  <a:lnTo>
                    <a:pt x="1548" y="1215"/>
                  </a:lnTo>
                  <a:lnTo>
                    <a:pt x="1551" y="1219"/>
                  </a:lnTo>
                  <a:lnTo>
                    <a:pt x="1556" y="1226"/>
                  </a:lnTo>
                  <a:lnTo>
                    <a:pt x="1562" y="1231"/>
                  </a:lnTo>
                  <a:lnTo>
                    <a:pt x="1567" y="1236"/>
                  </a:lnTo>
                  <a:lnTo>
                    <a:pt x="1572" y="1238"/>
                  </a:lnTo>
                  <a:lnTo>
                    <a:pt x="1579" y="1241"/>
                  </a:lnTo>
                  <a:lnTo>
                    <a:pt x="1583" y="1240"/>
                  </a:lnTo>
                  <a:lnTo>
                    <a:pt x="1587" y="1241"/>
                  </a:lnTo>
                  <a:lnTo>
                    <a:pt x="1594" y="1241"/>
                  </a:lnTo>
                  <a:lnTo>
                    <a:pt x="1598" y="1240"/>
                  </a:lnTo>
                  <a:lnTo>
                    <a:pt x="1605" y="1238"/>
                  </a:lnTo>
                  <a:lnTo>
                    <a:pt x="1610" y="1235"/>
                  </a:lnTo>
                  <a:lnTo>
                    <a:pt x="1614" y="1231"/>
                  </a:lnTo>
                  <a:lnTo>
                    <a:pt x="1627" y="1223"/>
                  </a:lnTo>
                  <a:lnTo>
                    <a:pt x="1641" y="1213"/>
                  </a:lnTo>
                  <a:lnTo>
                    <a:pt x="1654" y="1201"/>
                  </a:lnTo>
                  <a:lnTo>
                    <a:pt x="1667" y="1191"/>
                  </a:lnTo>
                  <a:lnTo>
                    <a:pt x="1679" y="1182"/>
                  </a:lnTo>
                  <a:lnTo>
                    <a:pt x="1670" y="1172"/>
                  </a:lnTo>
                  <a:lnTo>
                    <a:pt x="1675" y="1184"/>
                  </a:lnTo>
                  <a:lnTo>
                    <a:pt x="1681" y="1182"/>
                  </a:lnTo>
                  <a:lnTo>
                    <a:pt x="1684" y="1181"/>
                  </a:lnTo>
                  <a:lnTo>
                    <a:pt x="1696" y="1179"/>
                  </a:lnTo>
                  <a:lnTo>
                    <a:pt x="1691" y="1167"/>
                  </a:lnTo>
                  <a:lnTo>
                    <a:pt x="1691" y="1180"/>
                  </a:lnTo>
                  <a:lnTo>
                    <a:pt x="1701" y="1180"/>
                  </a:lnTo>
                  <a:lnTo>
                    <a:pt x="1708" y="1181"/>
                  </a:lnTo>
                  <a:lnTo>
                    <a:pt x="1708" y="1168"/>
                  </a:lnTo>
                  <a:lnTo>
                    <a:pt x="1704" y="1180"/>
                  </a:lnTo>
                  <a:lnTo>
                    <a:pt x="1712" y="1183"/>
                  </a:lnTo>
                  <a:lnTo>
                    <a:pt x="1728" y="1191"/>
                  </a:lnTo>
                  <a:lnTo>
                    <a:pt x="1745" y="1200"/>
                  </a:lnTo>
                  <a:lnTo>
                    <a:pt x="1755" y="1205"/>
                  </a:lnTo>
                  <a:lnTo>
                    <a:pt x="1766" y="1212"/>
                  </a:lnTo>
                  <a:lnTo>
                    <a:pt x="1788" y="1226"/>
                  </a:lnTo>
                  <a:lnTo>
                    <a:pt x="1799" y="1232"/>
                  </a:lnTo>
                  <a:lnTo>
                    <a:pt x="1804" y="1220"/>
                  </a:lnTo>
                  <a:lnTo>
                    <a:pt x="1795" y="1230"/>
                  </a:lnTo>
                  <a:lnTo>
                    <a:pt x="1805" y="1237"/>
                  </a:lnTo>
                  <a:lnTo>
                    <a:pt x="1809" y="1240"/>
                  </a:lnTo>
                  <a:lnTo>
                    <a:pt x="1818" y="1246"/>
                  </a:lnTo>
                  <a:lnTo>
                    <a:pt x="1823" y="1249"/>
                  </a:lnTo>
                  <a:lnTo>
                    <a:pt x="1836" y="1227"/>
                  </a:lnTo>
                  <a:lnTo>
                    <a:pt x="1828" y="1221"/>
                  </a:lnTo>
                  <a:lnTo>
                    <a:pt x="1819" y="1216"/>
                  </a:lnTo>
                  <a:lnTo>
                    <a:pt x="1815" y="1228"/>
                  </a:lnTo>
                  <a:lnTo>
                    <a:pt x="1823" y="1218"/>
                  </a:lnTo>
                  <a:lnTo>
                    <a:pt x="1813" y="1212"/>
                  </a:lnTo>
                  <a:lnTo>
                    <a:pt x="1809" y="1208"/>
                  </a:lnTo>
                  <a:lnTo>
                    <a:pt x="1798" y="1202"/>
                  </a:lnTo>
                  <a:lnTo>
                    <a:pt x="1776" y="1188"/>
                  </a:lnTo>
                  <a:lnTo>
                    <a:pt x="1765" y="1181"/>
                  </a:lnTo>
                  <a:lnTo>
                    <a:pt x="1755" y="1177"/>
                  </a:lnTo>
                  <a:lnTo>
                    <a:pt x="1738" y="1167"/>
                  </a:lnTo>
                  <a:lnTo>
                    <a:pt x="1722" y="1159"/>
                  </a:lnTo>
                  <a:lnTo>
                    <a:pt x="1714" y="1156"/>
                  </a:lnTo>
                  <a:lnTo>
                    <a:pt x="1708" y="1155"/>
                  </a:lnTo>
                  <a:lnTo>
                    <a:pt x="1701" y="1154"/>
                  </a:lnTo>
                  <a:lnTo>
                    <a:pt x="1691" y="1154"/>
                  </a:lnTo>
                  <a:lnTo>
                    <a:pt x="1687" y="1155"/>
                  </a:lnTo>
                  <a:lnTo>
                    <a:pt x="1679" y="1156"/>
                  </a:lnTo>
                  <a:lnTo>
                    <a:pt x="1671" y="1158"/>
                  </a:lnTo>
                  <a:lnTo>
                    <a:pt x="1665" y="1160"/>
                  </a:lnTo>
                  <a:lnTo>
                    <a:pt x="1660" y="1163"/>
                  </a:lnTo>
                  <a:lnTo>
                    <a:pt x="1648" y="1172"/>
                  </a:lnTo>
                  <a:lnTo>
                    <a:pt x="1635" y="1182"/>
                  </a:lnTo>
                  <a:lnTo>
                    <a:pt x="1622" y="1194"/>
                  </a:lnTo>
                  <a:lnTo>
                    <a:pt x="1609" y="1204"/>
                  </a:lnTo>
                  <a:lnTo>
                    <a:pt x="1596" y="1213"/>
                  </a:lnTo>
                  <a:lnTo>
                    <a:pt x="1606" y="1223"/>
                  </a:lnTo>
                  <a:lnTo>
                    <a:pt x="1600" y="1211"/>
                  </a:lnTo>
                  <a:lnTo>
                    <a:pt x="1595" y="1214"/>
                  </a:lnTo>
                  <a:lnTo>
                    <a:pt x="1588" y="1216"/>
                  </a:lnTo>
                  <a:lnTo>
                    <a:pt x="1594" y="1228"/>
                  </a:lnTo>
                  <a:lnTo>
                    <a:pt x="1594" y="1215"/>
                  </a:lnTo>
                  <a:lnTo>
                    <a:pt x="1587" y="1215"/>
                  </a:lnTo>
                  <a:lnTo>
                    <a:pt x="1587" y="1228"/>
                  </a:lnTo>
                  <a:lnTo>
                    <a:pt x="1592" y="1216"/>
                  </a:lnTo>
                  <a:lnTo>
                    <a:pt x="1585" y="1216"/>
                  </a:lnTo>
                  <a:lnTo>
                    <a:pt x="1582" y="1214"/>
                  </a:lnTo>
                  <a:lnTo>
                    <a:pt x="1576" y="1226"/>
                  </a:lnTo>
                  <a:lnTo>
                    <a:pt x="1586" y="1217"/>
                  </a:lnTo>
                  <a:lnTo>
                    <a:pt x="1580" y="1213"/>
                  </a:lnTo>
                  <a:lnTo>
                    <a:pt x="1575" y="1207"/>
                  </a:lnTo>
                  <a:lnTo>
                    <a:pt x="1570" y="1201"/>
                  </a:lnTo>
                  <a:lnTo>
                    <a:pt x="1560" y="1209"/>
                  </a:lnTo>
                  <a:lnTo>
                    <a:pt x="1572" y="1205"/>
                  </a:lnTo>
                  <a:lnTo>
                    <a:pt x="1562" y="1189"/>
                  </a:lnTo>
                  <a:lnTo>
                    <a:pt x="1552" y="1170"/>
                  </a:lnTo>
                  <a:lnTo>
                    <a:pt x="1542" y="1153"/>
                  </a:lnTo>
                  <a:lnTo>
                    <a:pt x="1538" y="1145"/>
                  </a:lnTo>
                  <a:lnTo>
                    <a:pt x="1535" y="1141"/>
                  </a:lnTo>
                  <a:lnTo>
                    <a:pt x="1530" y="1133"/>
                  </a:lnTo>
                  <a:lnTo>
                    <a:pt x="1525" y="1127"/>
                  </a:lnTo>
                  <a:lnTo>
                    <a:pt x="1520" y="1123"/>
                  </a:lnTo>
                  <a:lnTo>
                    <a:pt x="1516" y="1120"/>
                  </a:lnTo>
                  <a:lnTo>
                    <a:pt x="1512" y="1118"/>
                  </a:lnTo>
                  <a:lnTo>
                    <a:pt x="1506" y="1116"/>
                  </a:lnTo>
                  <a:lnTo>
                    <a:pt x="1502" y="1115"/>
                  </a:lnTo>
                  <a:lnTo>
                    <a:pt x="1497" y="1116"/>
                  </a:lnTo>
                  <a:lnTo>
                    <a:pt x="1492" y="1118"/>
                  </a:lnTo>
                  <a:lnTo>
                    <a:pt x="1487" y="1121"/>
                  </a:lnTo>
                  <a:lnTo>
                    <a:pt x="1483" y="1124"/>
                  </a:lnTo>
                  <a:lnTo>
                    <a:pt x="1480" y="1128"/>
                  </a:lnTo>
                  <a:lnTo>
                    <a:pt x="1477" y="1133"/>
                  </a:lnTo>
                  <a:lnTo>
                    <a:pt x="1473" y="1139"/>
                  </a:lnTo>
                  <a:lnTo>
                    <a:pt x="1469" y="1147"/>
                  </a:lnTo>
                  <a:lnTo>
                    <a:pt x="1466" y="1155"/>
                  </a:lnTo>
                  <a:lnTo>
                    <a:pt x="1458" y="1173"/>
                  </a:lnTo>
                  <a:lnTo>
                    <a:pt x="1449" y="1193"/>
                  </a:lnTo>
                  <a:lnTo>
                    <a:pt x="1440" y="1211"/>
                  </a:lnTo>
                  <a:lnTo>
                    <a:pt x="1436" y="1218"/>
                  </a:lnTo>
                  <a:lnTo>
                    <a:pt x="1448" y="1223"/>
                  </a:lnTo>
                  <a:lnTo>
                    <a:pt x="1439" y="1214"/>
                  </a:lnTo>
                  <a:lnTo>
                    <a:pt x="1434" y="1220"/>
                  </a:lnTo>
                  <a:lnTo>
                    <a:pt x="1428" y="1225"/>
                  </a:lnTo>
                  <a:lnTo>
                    <a:pt x="1437" y="1235"/>
                  </a:lnTo>
                  <a:lnTo>
                    <a:pt x="1433" y="1223"/>
                  </a:lnTo>
                  <a:lnTo>
                    <a:pt x="1427" y="1226"/>
                  </a:lnTo>
                  <a:lnTo>
                    <a:pt x="1421" y="1228"/>
                  </a:lnTo>
                  <a:lnTo>
                    <a:pt x="1425" y="1240"/>
                  </a:lnTo>
                  <a:lnTo>
                    <a:pt x="1425" y="1227"/>
                  </a:lnTo>
                  <a:lnTo>
                    <a:pt x="1417" y="1227"/>
                  </a:lnTo>
                  <a:lnTo>
                    <a:pt x="1402" y="1226"/>
                  </a:lnTo>
                  <a:lnTo>
                    <a:pt x="1402" y="1239"/>
                  </a:lnTo>
                  <a:lnTo>
                    <a:pt x="1407" y="1227"/>
                  </a:lnTo>
                  <a:lnTo>
                    <a:pt x="1389" y="1224"/>
                  </a:lnTo>
                  <a:lnTo>
                    <a:pt x="1370" y="1217"/>
                  </a:lnTo>
                  <a:lnTo>
                    <a:pt x="1352" y="1211"/>
                  </a:lnTo>
                  <a:lnTo>
                    <a:pt x="1335" y="1204"/>
                  </a:lnTo>
                  <a:lnTo>
                    <a:pt x="1320" y="1200"/>
                  </a:lnTo>
                  <a:lnTo>
                    <a:pt x="1315" y="1199"/>
                  </a:lnTo>
                  <a:lnTo>
                    <a:pt x="1305" y="1196"/>
                  </a:lnTo>
                  <a:lnTo>
                    <a:pt x="1298" y="1195"/>
                  </a:lnTo>
                  <a:lnTo>
                    <a:pt x="1293" y="1196"/>
                  </a:lnTo>
                  <a:lnTo>
                    <a:pt x="1289" y="1199"/>
                  </a:lnTo>
                  <a:lnTo>
                    <a:pt x="1285" y="1202"/>
                  </a:lnTo>
                  <a:lnTo>
                    <a:pt x="1282" y="1205"/>
                  </a:lnTo>
                  <a:lnTo>
                    <a:pt x="1280" y="1209"/>
                  </a:lnTo>
                  <a:lnTo>
                    <a:pt x="1277" y="1214"/>
                  </a:lnTo>
                  <a:lnTo>
                    <a:pt x="1274" y="1225"/>
                  </a:lnTo>
                  <a:lnTo>
                    <a:pt x="1273" y="1229"/>
                  </a:lnTo>
                  <a:lnTo>
                    <a:pt x="1273" y="1229"/>
                  </a:lnTo>
                  <a:lnTo>
                    <a:pt x="1272" y="1240"/>
                  </a:lnTo>
                  <a:lnTo>
                    <a:pt x="1285" y="1240"/>
                  </a:lnTo>
                  <a:lnTo>
                    <a:pt x="1273" y="1235"/>
                  </a:lnTo>
                  <a:lnTo>
                    <a:pt x="1272" y="1239"/>
                  </a:lnTo>
                  <a:lnTo>
                    <a:pt x="1271" y="1241"/>
                  </a:lnTo>
                  <a:lnTo>
                    <a:pt x="1283" y="1247"/>
                  </a:lnTo>
                  <a:lnTo>
                    <a:pt x="1273" y="1237"/>
                  </a:lnTo>
                  <a:lnTo>
                    <a:pt x="1272" y="1239"/>
                  </a:lnTo>
                  <a:lnTo>
                    <a:pt x="1281" y="1235"/>
                  </a:lnTo>
                  <a:lnTo>
                    <a:pt x="1276" y="1236"/>
                  </a:lnTo>
                  <a:lnTo>
                    <a:pt x="1281" y="1248"/>
                  </a:lnTo>
                  <a:lnTo>
                    <a:pt x="1286" y="1236"/>
                  </a:lnTo>
                  <a:lnTo>
                    <a:pt x="1284" y="1235"/>
                  </a:lnTo>
                  <a:lnTo>
                    <a:pt x="1280" y="1247"/>
                  </a:lnTo>
                  <a:lnTo>
                    <a:pt x="1288" y="1238"/>
                  </a:lnTo>
                  <a:lnTo>
                    <a:pt x="1286" y="1235"/>
                  </a:lnTo>
                  <a:lnTo>
                    <a:pt x="1276" y="1244"/>
                  </a:lnTo>
                  <a:lnTo>
                    <a:pt x="1288" y="1239"/>
                  </a:lnTo>
                  <a:lnTo>
                    <a:pt x="1285" y="1234"/>
                  </a:lnTo>
                  <a:lnTo>
                    <a:pt x="1281" y="1225"/>
                  </a:lnTo>
                  <a:lnTo>
                    <a:pt x="1275" y="1213"/>
                  </a:lnTo>
                  <a:lnTo>
                    <a:pt x="1272" y="1206"/>
                  </a:lnTo>
                  <a:lnTo>
                    <a:pt x="1269" y="1196"/>
                  </a:lnTo>
                  <a:lnTo>
                    <a:pt x="1264" y="1185"/>
                  </a:lnTo>
                  <a:lnTo>
                    <a:pt x="1261" y="1173"/>
                  </a:lnTo>
                  <a:lnTo>
                    <a:pt x="1257" y="1161"/>
                  </a:lnTo>
                  <a:lnTo>
                    <a:pt x="1252" y="1147"/>
                  </a:lnTo>
                  <a:lnTo>
                    <a:pt x="1242" y="1115"/>
                  </a:lnTo>
                  <a:lnTo>
                    <a:pt x="1231" y="1081"/>
                  </a:lnTo>
                  <a:lnTo>
                    <a:pt x="1221" y="1045"/>
                  </a:lnTo>
                  <a:lnTo>
                    <a:pt x="1210" y="1007"/>
                  </a:lnTo>
                  <a:lnTo>
                    <a:pt x="1198" y="970"/>
                  </a:lnTo>
                  <a:lnTo>
                    <a:pt x="1187" y="933"/>
                  </a:lnTo>
                  <a:lnTo>
                    <a:pt x="1175" y="896"/>
                  </a:lnTo>
                  <a:lnTo>
                    <a:pt x="1164" y="864"/>
                  </a:lnTo>
                  <a:lnTo>
                    <a:pt x="1153" y="834"/>
                  </a:lnTo>
                  <a:lnTo>
                    <a:pt x="1147" y="820"/>
                  </a:lnTo>
                  <a:lnTo>
                    <a:pt x="1143" y="808"/>
                  </a:lnTo>
                  <a:lnTo>
                    <a:pt x="1137" y="797"/>
                  </a:lnTo>
                  <a:lnTo>
                    <a:pt x="1133" y="787"/>
                  </a:lnTo>
                  <a:lnTo>
                    <a:pt x="1129" y="779"/>
                  </a:lnTo>
                  <a:lnTo>
                    <a:pt x="1124" y="773"/>
                  </a:lnTo>
                  <a:lnTo>
                    <a:pt x="1122" y="768"/>
                  </a:lnTo>
                  <a:lnTo>
                    <a:pt x="1118" y="763"/>
                  </a:lnTo>
                  <a:lnTo>
                    <a:pt x="1113" y="761"/>
                  </a:lnTo>
                  <a:lnTo>
                    <a:pt x="1111" y="759"/>
                  </a:lnTo>
                  <a:lnTo>
                    <a:pt x="1106" y="756"/>
                  </a:lnTo>
                  <a:lnTo>
                    <a:pt x="1101" y="755"/>
                  </a:lnTo>
                  <a:lnTo>
                    <a:pt x="1096" y="756"/>
                  </a:lnTo>
                  <a:lnTo>
                    <a:pt x="1093" y="759"/>
                  </a:lnTo>
                  <a:lnTo>
                    <a:pt x="1088" y="762"/>
                  </a:lnTo>
                  <a:lnTo>
                    <a:pt x="1086" y="766"/>
                  </a:lnTo>
                  <a:lnTo>
                    <a:pt x="1083" y="771"/>
                  </a:lnTo>
                  <a:lnTo>
                    <a:pt x="1081" y="777"/>
                  </a:lnTo>
                  <a:lnTo>
                    <a:pt x="1077" y="786"/>
                  </a:lnTo>
                  <a:lnTo>
                    <a:pt x="1075" y="797"/>
                  </a:lnTo>
                  <a:lnTo>
                    <a:pt x="1074" y="801"/>
                  </a:lnTo>
                  <a:lnTo>
                    <a:pt x="1074" y="801"/>
                  </a:lnTo>
                  <a:lnTo>
                    <a:pt x="1072" y="814"/>
                  </a:lnTo>
                  <a:lnTo>
                    <a:pt x="1071" y="828"/>
                  </a:lnTo>
                  <a:lnTo>
                    <a:pt x="1068" y="843"/>
                  </a:lnTo>
                  <a:lnTo>
                    <a:pt x="1066" y="859"/>
                  </a:lnTo>
                  <a:lnTo>
                    <a:pt x="1063" y="894"/>
                  </a:lnTo>
                  <a:lnTo>
                    <a:pt x="1061" y="930"/>
                  </a:lnTo>
                  <a:lnTo>
                    <a:pt x="1058" y="968"/>
                  </a:lnTo>
                  <a:lnTo>
                    <a:pt x="1055" y="1004"/>
                  </a:lnTo>
                  <a:lnTo>
                    <a:pt x="1053" y="1021"/>
                  </a:lnTo>
                  <a:lnTo>
                    <a:pt x="1052" y="1037"/>
                  </a:lnTo>
                  <a:lnTo>
                    <a:pt x="1050" y="1052"/>
                  </a:lnTo>
                  <a:lnTo>
                    <a:pt x="1049" y="1065"/>
                  </a:lnTo>
                  <a:lnTo>
                    <a:pt x="1047" y="1078"/>
                  </a:lnTo>
                  <a:lnTo>
                    <a:pt x="1044" y="1088"/>
                  </a:lnTo>
                  <a:lnTo>
                    <a:pt x="1058" y="1088"/>
                  </a:lnTo>
                  <a:lnTo>
                    <a:pt x="1045" y="1084"/>
                  </a:lnTo>
                  <a:lnTo>
                    <a:pt x="1043" y="1092"/>
                  </a:lnTo>
                  <a:lnTo>
                    <a:pt x="1041" y="1099"/>
                  </a:lnTo>
                  <a:lnTo>
                    <a:pt x="1039" y="1103"/>
                  </a:lnTo>
                  <a:lnTo>
                    <a:pt x="1041" y="1099"/>
                  </a:lnTo>
                  <a:lnTo>
                    <a:pt x="1051" y="1108"/>
                  </a:lnTo>
                  <a:lnTo>
                    <a:pt x="1045" y="1096"/>
                  </a:lnTo>
                  <a:lnTo>
                    <a:pt x="1043" y="1098"/>
                  </a:lnTo>
                  <a:lnTo>
                    <a:pt x="1048" y="1097"/>
                  </a:lnTo>
                  <a:lnTo>
                    <a:pt x="1048" y="1110"/>
                  </a:lnTo>
                  <a:lnTo>
                    <a:pt x="1053" y="1098"/>
                  </a:lnTo>
                  <a:lnTo>
                    <a:pt x="1050" y="1097"/>
                  </a:lnTo>
                  <a:lnTo>
                    <a:pt x="1045" y="1109"/>
                  </a:lnTo>
                  <a:lnTo>
                    <a:pt x="1054" y="1099"/>
                  </a:lnTo>
                  <a:lnTo>
                    <a:pt x="1051" y="1096"/>
                  </a:lnTo>
                  <a:lnTo>
                    <a:pt x="1042" y="1104"/>
                  </a:lnTo>
                  <a:lnTo>
                    <a:pt x="1054" y="1100"/>
                  </a:lnTo>
                  <a:lnTo>
                    <a:pt x="1050" y="1093"/>
                  </a:lnTo>
                  <a:lnTo>
                    <a:pt x="1047" y="1084"/>
                  </a:lnTo>
                  <a:lnTo>
                    <a:pt x="1044" y="1077"/>
                  </a:lnTo>
                  <a:lnTo>
                    <a:pt x="1042" y="1069"/>
                  </a:lnTo>
                  <a:lnTo>
                    <a:pt x="1040" y="1061"/>
                  </a:lnTo>
                  <a:lnTo>
                    <a:pt x="1038" y="1051"/>
                  </a:lnTo>
                  <a:lnTo>
                    <a:pt x="1026" y="1055"/>
                  </a:lnTo>
                  <a:lnTo>
                    <a:pt x="1039" y="1055"/>
                  </a:lnTo>
                  <a:lnTo>
                    <a:pt x="1035" y="1033"/>
                  </a:lnTo>
                  <a:lnTo>
                    <a:pt x="1030" y="1006"/>
                  </a:lnTo>
                  <a:lnTo>
                    <a:pt x="1026" y="976"/>
                  </a:lnTo>
                  <a:lnTo>
                    <a:pt x="1020" y="944"/>
                  </a:lnTo>
                  <a:lnTo>
                    <a:pt x="1015" y="907"/>
                  </a:lnTo>
                  <a:lnTo>
                    <a:pt x="1009" y="869"/>
                  </a:lnTo>
                  <a:lnTo>
                    <a:pt x="1004" y="829"/>
                  </a:lnTo>
                  <a:lnTo>
                    <a:pt x="998" y="786"/>
                  </a:lnTo>
                  <a:lnTo>
                    <a:pt x="993" y="742"/>
                  </a:lnTo>
                  <a:lnTo>
                    <a:pt x="988" y="697"/>
                  </a:lnTo>
                  <a:lnTo>
                    <a:pt x="975" y="604"/>
                  </a:lnTo>
                  <a:lnTo>
                    <a:pt x="963" y="510"/>
                  </a:lnTo>
                  <a:lnTo>
                    <a:pt x="950" y="417"/>
                  </a:lnTo>
                  <a:lnTo>
                    <a:pt x="945" y="371"/>
                  </a:lnTo>
                  <a:lnTo>
                    <a:pt x="938" y="327"/>
                  </a:lnTo>
                  <a:lnTo>
                    <a:pt x="932" y="285"/>
                  </a:lnTo>
                  <a:lnTo>
                    <a:pt x="926" y="244"/>
                  </a:lnTo>
                  <a:lnTo>
                    <a:pt x="920" y="206"/>
                  </a:lnTo>
                  <a:lnTo>
                    <a:pt x="913" y="171"/>
                  </a:lnTo>
                  <a:lnTo>
                    <a:pt x="908" y="138"/>
                  </a:lnTo>
                  <a:lnTo>
                    <a:pt x="901" y="107"/>
                  </a:lnTo>
                  <a:lnTo>
                    <a:pt x="900" y="103"/>
                  </a:lnTo>
                  <a:lnTo>
                    <a:pt x="895" y="77"/>
                  </a:lnTo>
                  <a:lnTo>
                    <a:pt x="889" y="54"/>
                  </a:lnTo>
                  <a:lnTo>
                    <a:pt x="886" y="44"/>
                  </a:lnTo>
                  <a:lnTo>
                    <a:pt x="884" y="36"/>
                  </a:lnTo>
                  <a:lnTo>
                    <a:pt x="880" y="29"/>
                  </a:lnTo>
                  <a:lnTo>
                    <a:pt x="878" y="22"/>
                  </a:lnTo>
                  <a:lnTo>
                    <a:pt x="875" y="17"/>
                  </a:lnTo>
                  <a:lnTo>
                    <a:pt x="873" y="12"/>
                  </a:lnTo>
                  <a:lnTo>
                    <a:pt x="869" y="8"/>
                  </a:lnTo>
                  <a:lnTo>
                    <a:pt x="867" y="6"/>
                  </a:lnTo>
                  <a:lnTo>
                    <a:pt x="863" y="2"/>
                  </a:lnTo>
                  <a:lnTo>
                    <a:pt x="860" y="1"/>
                  </a:lnTo>
                  <a:lnTo>
                    <a:pt x="857" y="1"/>
                  </a:lnTo>
                  <a:lnTo>
                    <a:pt x="853" y="0"/>
                  </a:lnTo>
                  <a:lnTo>
                    <a:pt x="847" y="1"/>
                  </a:lnTo>
                  <a:lnTo>
                    <a:pt x="845" y="2"/>
                  </a:lnTo>
                  <a:lnTo>
                    <a:pt x="841" y="6"/>
                  </a:lnTo>
                  <a:lnTo>
                    <a:pt x="839" y="8"/>
                  </a:lnTo>
                  <a:lnTo>
                    <a:pt x="835" y="12"/>
                  </a:lnTo>
                  <a:lnTo>
                    <a:pt x="833" y="17"/>
                  </a:lnTo>
                  <a:lnTo>
                    <a:pt x="830" y="21"/>
                  </a:lnTo>
                  <a:lnTo>
                    <a:pt x="828" y="28"/>
                  </a:lnTo>
                  <a:lnTo>
                    <a:pt x="826" y="35"/>
                  </a:lnTo>
                  <a:lnTo>
                    <a:pt x="823" y="44"/>
                  </a:lnTo>
                  <a:lnTo>
                    <a:pt x="818" y="64"/>
                  </a:lnTo>
                  <a:lnTo>
                    <a:pt x="814" y="89"/>
                  </a:lnTo>
                  <a:lnTo>
                    <a:pt x="812" y="93"/>
                  </a:lnTo>
                  <a:lnTo>
                    <a:pt x="812" y="93"/>
                  </a:lnTo>
                  <a:lnTo>
                    <a:pt x="807" y="121"/>
                  </a:lnTo>
                  <a:lnTo>
                    <a:pt x="803" y="152"/>
                  </a:lnTo>
                  <a:lnTo>
                    <a:pt x="797" y="186"/>
                  </a:lnTo>
                  <a:lnTo>
                    <a:pt x="793" y="222"/>
                  </a:lnTo>
                  <a:lnTo>
                    <a:pt x="787" y="262"/>
                  </a:lnTo>
                  <a:lnTo>
                    <a:pt x="783" y="302"/>
                  </a:lnTo>
                  <a:lnTo>
                    <a:pt x="779" y="345"/>
                  </a:lnTo>
                  <a:lnTo>
                    <a:pt x="774" y="388"/>
                  </a:lnTo>
                  <a:lnTo>
                    <a:pt x="764" y="477"/>
                  </a:lnTo>
                  <a:lnTo>
                    <a:pt x="756" y="567"/>
                  </a:lnTo>
                  <a:lnTo>
                    <a:pt x="750" y="611"/>
                  </a:lnTo>
                  <a:lnTo>
                    <a:pt x="746" y="655"/>
                  </a:lnTo>
                  <a:lnTo>
                    <a:pt x="741" y="697"/>
                  </a:lnTo>
                  <a:lnTo>
                    <a:pt x="737" y="738"/>
                  </a:lnTo>
                  <a:lnTo>
                    <a:pt x="733" y="777"/>
                  </a:lnTo>
                  <a:lnTo>
                    <a:pt x="728" y="814"/>
                  </a:lnTo>
                  <a:lnTo>
                    <a:pt x="724" y="848"/>
                  </a:lnTo>
                  <a:lnTo>
                    <a:pt x="719" y="880"/>
                  </a:lnTo>
                  <a:lnTo>
                    <a:pt x="715" y="907"/>
                  </a:lnTo>
                  <a:lnTo>
                    <a:pt x="711" y="933"/>
                  </a:lnTo>
                  <a:lnTo>
                    <a:pt x="724" y="933"/>
                  </a:lnTo>
                  <a:lnTo>
                    <a:pt x="712" y="927"/>
                  </a:lnTo>
                  <a:lnTo>
                    <a:pt x="707" y="948"/>
                  </a:lnTo>
                  <a:lnTo>
                    <a:pt x="705" y="957"/>
                  </a:lnTo>
                  <a:lnTo>
                    <a:pt x="703" y="964"/>
                  </a:lnTo>
                  <a:lnTo>
                    <a:pt x="701" y="971"/>
                  </a:lnTo>
                  <a:lnTo>
                    <a:pt x="699" y="976"/>
                  </a:lnTo>
                  <a:lnTo>
                    <a:pt x="697" y="981"/>
                  </a:lnTo>
                  <a:lnTo>
                    <a:pt x="709" y="985"/>
                  </a:lnTo>
                  <a:lnTo>
                    <a:pt x="700" y="976"/>
                  </a:lnTo>
                  <a:lnTo>
                    <a:pt x="698" y="980"/>
                  </a:lnTo>
                  <a:lnTo>
                    <a:pt x="695" y="981"/>
                  </a:lnTo>
                  <a:lnTo>
                    <a:pt x="699" y="977"/>
                  </a:lnTo>
                  <a:lnTo>
                    <a:pt x="704" y="991"/>
                  </a:lnTo>
                  <a:lnTo>
                    <a:pt x="704" y="977"/>
                  </a:lnTo>
                  <a:lnTo>
                    <a:pt x="702" y="977"/>
                  </a:lnTo>
                  <a:lnTo>
                    <a:pt x="702" y="991"/>
                  </a:lnTo>
                  <a:lnTo>
                    <a:pt x="707" y="979"/>
                  </a:lnTo>
                  <a:lnTo>
                    <a:pt x="705" y="977"/>
                  </a:lnTo>
                  <a:lnTo>
                    <a:pt x="700" y="989"/>
                  </a:lnTo>
                  <a:lnTo>
                    <a:pt x="710" y="981"/>
                  </a:lnTo>
                  <a:lnTo>
                    <a:pt x="707" y="979"/>
                  </a:lnTo>
                  <a:lnTo>
                    <a:pt x="698" y="988"/>
                  </a:lnTo>
                  <a:lnTo>
                    <a:pt x="710" y="983"/>
                  </a:lnTo>
                  <a:lnTo>
                    <a:pt x="705" y="976"/>
                  </a:lnTo>
                  <a:lnTo>
                    <a:pt x="702" y="967"/>
                  </a:lnTo>
                  <a:lnTo>
                    <a:pt x="698" y="952"/>
                  </a:lnTo>
                  <a:lnTo>
                    <a:pt x="693" y="935"/>
                  </a:lnTo>
                  <a:lnTo>
                    <a:pt x="681" y="940"/>
                  </a:lnTo>
                  <a:lnTo>
                    <a:pt x="694" y="940"/>
                  </a:lnTo>
                  <a:lnTo>
                    <a:pt x="690" y="919"/>
                  </a:lnTo>
                  <a:lnTo>
                    <a:pt x="687" y="896"/>
                  </a:lnTo>
                  <a:lnTo>
                    <a:pt x="682" y="871"/>
                  </a:lnTo>
                  <a:lnTo>
                    <a:pt x="678" y="843"/>
                  </a:lnTo>
                  <a:lnTo>
                    <a:pt x="675" y="813"/>
                  </a:lnTo>
                  <a:lnTo>
                    <a:pt x="670" y="783"/>
                  </a:lnTo>
                  <a:lnTo>
                    <a:pt x="666" y="751"/>
                  </a:lnTo>
                  <a:lnTo>
                    <a:pt x="663" y="717"/>
                  </a:lnTo>
                  <a:lnTo>
                    <a:pt x="655" y="649"/>
                  </a:lnTo>
                  <a:lnTo>
                    <a:pt x="646" y="581"/>
                  </a:lnTo>
                  <a:lnTo>
                    <a:pt x="643" y="547"/>
                  </a:lnTo>
                  <a:lnTo>
                    <a:pt x="639" y="515"/>
                  </a:lnTo>
                  <a:lnTo>
                    <a:pt x="635" y="483"/>
                  </a:lnTo>
                  <a:lnTo>
                    <a:pt x="631" y="453"/>
                  </a:lnTo>
                  <a:lnTo>
                    <a:pt x="626" y="425"/>
                  </a:lnTo>
                  <a:lnTo>
                    <a:pt x="623" y="399"/>
                  </a:lnTo>
                  <a:lnTo>
                    <a:pt x="619" y="373"/>
                  </a:lnTo>
                  <a:lnTo>
                    <a:pt x="616" y="353"/>
                  </a:lnTo>
                  <a:lnTo>
                    <a:pt x="614" y="347"/>
                  </a:lnTo>
                  <a:lnTo>
                    <a:pt x="610" y="328"/>
                  </a:lnTo>
                  <a:lnTo>
                    <a:pt x="606" y="313"/>
                  </a:lnTo>
                  <a:lnTo>
                    <a:pt x="601" y="300"/>
                  </a:lnTo>
                  <a:lnTo>
                    <a:pt x="598" y="292"/>
                  </a:lnTo>
                  <a:lnTo>
                    <a:pt x="595" y="288"/>
                  </a:lnTo>
                  <a:lnTo>
                    <a:pt x="590" y="284"/>
                  </a:lnTo>
                  <a:lnTo>
                    <a:pt x="586" y="280"/>
                  </a:lnTo>
                  <a:lnTo>
                    <a:pt x="584" y="280"/>
                  </a:lnTo>
                  <a:lnTo>
                    <a:pt x="579" y="279"/>
                  </a:lnTo>
                  <a:lnTo>
                    <a:pt x="574" y="280"/>
                  </a:lnTo>
                  <a:lnTo>
                    <a:pt x="572" y="281"/>
                  </a:lnTo>
                  <a:lnTo>
                    <a:pt x="569" y="285"/>
                  </a:lnTo>
                  <a:lnTo>
                    <a:pt x="564" y="287"/>
                  </a:lnTo>
                  <a:lnTo>
                    <a:pt x="561" y="291"/>
                  </a:lnTo>
                  <a:lnTo>
                    <a:pt x="556" y="299"/>
                  </a:lnTo>
                  <a:lnTo>
                    <a:pt x="552" y="310"/>
                  </a:lnTo>
                  <a:lnTo>
                    <a:pt x="548" y="325"/>
                  </a:lnTo>
                  <a:lnTo>
                    <a:pt x="543" y="342"/>
                  </a:lnTo>
                  <a:lnTo>
                    <a:pt x="539" y="362"/>
                  </a:lnTo>
                  <a:lnTo>
                    <a:pt x="538" y="367"/>
                  </a:lnTo>
                  <a:lnTo>
                    <a:pt x="538" y="367"/>
                  </a:lnTo>
                  <a:lnTo>
                    <a:pt x="534" y="390"/>
                  </a:lnTo>
                  <a:lnTo>
                    <a:pt x="529" y="415"/>
                  </a:lnTo>
                  <a:lnTo>
                    <a:pt x="524" y="442"/>
                  </a:lnTo>
                  <a:lnTo>
                    <a:pt x="519" y="471"/>
                  </a:lnTo>
                  <a:lnTo>
                    <a:pt x="515" y="501"/>
                  </a:lnTo>
                  <a:lnTo>
                    <a:pt x="511" y="533"/>
                  </a:lnTo>
                  <a:lnTo>
                    <a:pt x="505" y="566"/>
                  </a:lnTo>
                  <a:lnTo>
                    <a:pt x="501" y="601"/>
                  </a:lnTo>
                  <a:lnTo>
                    <a:pt x="492" y="671"/>
                  </a:lnTo>
                  <a:lnTo>
                    <a:pt x="482" y="742"/>
                  </a:lnTo>
                  <a:lnTo>
                    <a:pt x="473" y="813"/>
                  </a:lnTo>
                  <a:lnTo>
                    <a:pt x="465" y="882"/>
                  </a:lnTo>
                  <a:lnTo>
                    <a:pt x="460" y="915"/>
                  </a:lnTo>
                  <a:lnTo>
                    <a:pt x="456" y="947"/>
                  </a:lnTo>
                  <a:lnTo>
                    <a:pt x="451" y="977"/>
                  </a:lnTo>
                  <a:lnTo>
                    <a:pt x="447" y="1006"/>
                  </a:lnTo>
                  <a:lnTo>
                    <a:pt x="444" y="1032"/>
                  </a:lnTo>
                  <a:lnTo>
                    <a:pt x="439" y="1056"/>
                  </a:lnTo>
                  <a:lnTo>
                    <a:pt x="435" y="1079"/>
                  </a:lnTo>
                  <a:lnTo>
                    <a:pt x="432" y="1098"/>
                  </a:lnTo>
                  <a:lnTo>
                    <a:pt x="445" y="1098"/>
                  </a:lnTo>
                  <a:lnTo>
                    <a:pt x="433" y="1093"/>
                  </a:lnTo>
                  <a:lnTo>
                    <a:pt x="428" y="1110"/>
                  </a:lnTo>
                  <a:lnTo>
                    <a:pt x="425" y="1125"/>
                  </a:lnTo>
                  <a:lnTo>
                    <a:pt x="422" y="1135"/>
                  </a:lnTo>
                  <a:lnTo>
                    <a:pt x="419" y="1144"/>
                  </a:lnTo>
                  <a:lnTo>
                    <a:pt x="415" y="1151"/>
                  </a:lnTo>
                  <a:lnTo>
                    <a:pt x="412" y="1157"/>
                  </a:lnTo>
                  <a:lnTo>
                    <a:pt x="424" y="1161"/>
                  </a:lnTo>
                  <a:lnTo>
                    <a:pt x="414" y="1153"/>
                  </a:lnTo>
                  <a:lnTo>
                    <a:pt x="411" y="1156"/>
                  </a:lnTo>
                  <a:lnTo>
                    <a:pt x="408" y="1159"/>
                  </a:lnTo>
                  <a:lnTo>
                    <a:pt x="418" y="1168"/>
                  </a:lnTo>
                  <a:lnTo>
                    <a:pt x="412" y="1156"/>
                  </a:lnTo>
                  <a:lnTo>
                    <a:pt x="410" y="1157"/>
                  </a:lnTo>
                  <a:lnTo>
                    <a:pt x="414" y="1169"/>
                  </a:lnTo>
                  <a:lnTo>
                    <a:pt x="414" y="1156"/>
                  </a:lnTo>
                  <a:lnTo>
                    <a:pt x="411" y="1156"/>
                  </a:lnTo>
                  <a:lnTo>
                    <a:pt x="411" y="1169"/>
                  </a:lnTo>
                  <a:lnTo>
                    <a:pt x="416" y="1157"/>
                  </a:lnTo>
                  <a:lnTo>
                    <a:pt x="413" y="1156"/>
                  </a:lnTo>
                  <a:lnTo>
                    <a:pt x="409" y="1168"/>
                  </a:lnTo>
                  <a:lnTo>
                    <a:pt x="418" y="1159"/>
                  </a:lnTo>
                  <a:lnTo>
                    <a:pt x="415" y="1157"/>
                  </a:lnTo>
                  <a:lnTo>
                    <a:pt x="410" y="1149"/>
                  </a:lnTo>
                  <a:lnTo>
                    <a:pt x="400" y="1158"/>
                  </a:lnTo>
                  <a:lnTo>
                    <a:pt x="412" y="1154"/>
                  </a:lnTo>
                  <a:lnTo>
                    <a:pt x="407" y="1143"/>
                  </a:lnTo>
                  <a:lnTo>
                    <a:pt x="402" y="1131"/>
                  </a:lnTo>
                  <a:lnTo>
                    <a:pt x="397" y="1116"/>
                  </a:lnTo>
                  <a:lnTo>
                    <a:pt x="391" y="1102"/>
                  </a:lnTo>
                  <a:lnTo>
                    <a:pt x="387" y="1088"/>
                  </a:lnTo>
                  <a:lnTo>
                    <a:pt x="381" y="1076"/>
                  </a:lnTo>
                  <a:lnTo>
                    <a:pt x="377" y="1065"/>
                  </a:lnTo>
                  <a:lnTo>
                    <a:pt x="372" y="1057"/>
                  </a:lnTo>
                  <a:lnTo>
                    <a:pt x="368" y="1053"/>
                  </a:lnTo>
                  <a:lnTo>
                    <a:pt x="366" y="1050"/>
                  </a:lnTo>
                  <a:lnTo>
                    <a:pt x="362" y="1047"/>
                  </a:lnTo>
                  <a:lnTo>
                    <a:pt x="360" y="1046"/>
                  </a:lnTo>
                  <a:lnTo>
                    <a:pt x="354" y="1045"/>
                  </a:lnTo>
                  <a:lnTo>
                    <a:pt x="352" y="1044"/>
                  </a:lnTo>
                  <a:lnTo>
                    <a:pt x="346" y="1045"/>
                  </a:lnTo>
                  <a:lnTo>
                    <a:pt x="343" y="1047"/>
                  </a:lnTo>
                  <a:lnTo>
                    <a:pt x="339" y="1051"/>
                  </a:lnTo>
                  <a:lnTo>
                    <a:pt x="334" y="1053"/>
                  </a:lnTo>
                  <a:lnTo>
                    <a:pt x="329" y="1060"/>
                  </a:lnTo>
                  <a:lnTo>
                    <a:pt x="327" y="1064"/>
                  </a:lnTo>
                  <a:lnTo>
                    <a:pt x="322" y="1073"/>
                  </a:lnTo>
                  <a:lnTo>
                    <a:pt x="318" y="1083"/>
                  </a:lnTo>
                  <a:lnTo>
                    <a:pt x="315" y="1093"/>
                  </a:lnTo>
                  <a:lnTo>
                    <a:pt x="310" y="1107"/>
                  </a:lnTo>
                  <a:lnTo>
                    <a:pt x="303" y="1133"/>
                  </a:lnTo>
                  <a:lnTo>
                    <a:pt x="293" y="1160"/>
                  </a:lnTo>
                  <a:lnTo>
                    <a:pt x="281" y="1185"/>
                  </a:lnTo>
                  <a:lnTo>
                    <a:pt x="274" y="1197"/>
                  </a:lnTo>
                  <a:lnTo>
                    <a:pt x="286" y="1202"/>
                  </a:lnTo>
                  <a:lnTo>
                    <a:pt x="276" y="1193"/>
                  </a:lnTo>
                  <a:lnTo>
                    <a:pt x="269" y="1203"/>
                  </a:lnTo>
                  <a:lnTo>
                    <a:pt x="260" y="1212"/>
                  </a:lnTo>
                  <a:lnTo>
                    <a:pt x="269" y="1221"/>
                  </a:lnTo>
                  <a:lnTo>
                    <a:pt x="264" y="1209"/>
                  </a:lnTo>
                  <a:lnTo>
                    <a:pt x="253" y="1217"/>
                  </a:lnTo>
                  <a:lnTo>
                    <a:pt x="243" y="1221"/>
                  </a:lnTo>
                  <a:lnTo>
                    <a:pt x="228" y="1226"/>
                  </a:lnTo>
                  <a:lnTo>
                    <a:pt x="212" y="1229"/>
                  </a:lnTo>
                  <a:lnTo>
                    <a:pt x="217" y="1241"/>
                  </a:lnTo>
                  <a:lnTo>
                    <a:pt x="217" y="1228"/>
                  </a:lnTo>
                  <a:lnTo>
                    <a:pt x="200" y="1231"/>
                  </a:lnTo>
                  <a:lnTo>
                    <a:pt x="163" y="1234"/>
                  </a:lnTo>
                  <a:lnTo>
                    <a:pt x="123" y="1235"/>
                  </a:lnTo>
                  <a:lnTo>
                    <a:pt x="85" y="1235"/>
                  </a:lnTo>
                  <a:lnTo>
                    <a:pt x="67" y="1235"/>
                  </a:lnTo>
                  <a:lnTo>
                    <a:pt x="50" y="1235"/>
                  </a:lnTo>
                  <a:lnTo>
                    <a:pt x="35" y="1234"/>
                  </a:lnTo>
                  <a:lnTo>
                    <a:pt x="22" y="1234"/>
                  </a:lnTo>
                  <a:lnTo>
                    <a:pt x="9" y="1234"/>
                  </a:lnTo>
                  <a:lnTo>
                    <a:pt x="0" y="123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5" name=""/>
            <p:cNvGrpSpPr/>
            <p:nvPr/>
          </p:nvGrpSpPr>
          <p:grpSpPr>
            <a:xfrm>
              <a:off x="2277360" y="4053600"/>
              <a:ext cx="1491120" cy="1310760"/>
              <a:chOff x="2277360" y="4053600"/>
              <a:chExt cx="1491120" cy="1310760"/>
            </a:xfrm>
          </p:grpSpPr>
          <p:sp>
            <p:nvSpPr>
              <p:cNvPr id="6956" name=""/>
              <p:cNvSpPr/>
              <p:nvPr/>
            </p:nvSpPr>
            <p:spPr>
              <a:xfrm>
                <a:off x="3734280" y="5338080"/>
                <a:ext cx="3420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8" y="27"/>
                    </a:moveTo>
                    <a:lnTo>
                      <a:pt x="26" y="9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8" y="23"/>
                    </a:lnTo>
                    <a:lnTo>
                      <a:pt x="1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3688200" y="5321520"/>
                <a:ext cx="3420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7" y="26"/>
                    </a:moveTo>
                    <a:lnTo>
                      <a:pt x="26" y="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17"/>
                    </a:lnTo>
                    <a:lnTo>
                      <a:pt x="4" y="20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3642480" y="5302800"/>
                <a:ext cx="3384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7" y="27"/>
                    </a:moveTo>
                    <a:lnTo>
                      <a:pt x="26" y="10"/>
                    </a:lnTo>
                    <a:lnTo>
                      <a:pt x="14" y="3"/>
                    </a:lnTo>
                    <a:lnTo>
                      <a:pt x="8" y="0"/>
                    </a:lnTo>
                    <a:lnTo>
                      <a:pt x="0" y="17"/>
                    </a:lnTo>
                    <a:lnTo>
                      <a:pt x="6" y="22"/>
                    </a:lnTo>
                    <a:lnTo>
                      <a:pt x="1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3596400" y="5287320"/>
                <a:ext cx="34200" cy="2448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17" y="25"/>
                    </a:moveTo>
                    <a:lnTo>
                      <a:pt x="26" y="7"/>
                    </a:lnTo>
                    <a:lnTo>
                      <a:pt x="13" y="2"/>
                    </a:lnTo>
                    <a:lnTo>
                      <a:pt x="7" y="0"/>
                    </a:lnTo>
                    <a:lnTo>
                      <a:pt x="0" y="17"/>
                    </a:lnTo>
                    <a:lnTo>
                      <a:pt x="5" y="20"/>
                    </a:lnTo>
                    <a:lnTo>
                      <a:pt x="1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3549600" y="5269320"/>
                <a:ext cx="3240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17" y="26"/>
                    </a:moveTo>
                    <a:lnTo>
                      <a:pt x="25" y="9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1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3500640" y="5256000"/>
                <a:ext cx="34200" cy="252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8" y="26"/>
                    </a:moveTo>
                    <a:lnTo>
                      <a:pt x="26" y="7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1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3452400" y="5244120"/>
                <a:ext cx="3276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19" y="24"/>
                    </a:moveTo>
                    <a:lnTo>
                      <a:pt x="25" y="5"/>
                    </a:lnTo>
                    <a:lnTo>
                      <a:pt x="23" y="4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16" y="23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3403800" y="523512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0" y="22"/>
                    </a:moveTo>
                    <a:lnTo>
                      <a:pt x="24" y="3"/>
                    </a:lnTo>
                    <a:lnTo>
                      <a:pt x="20" y="2"/>
                    </a:lnTo>
                    <a:lnTo>
                      <a:pt x="15" y="1"/>
                    </a:lnTo>
                    <a:lnTo>
                      <a:pt x="3" y="0"/>
                    </a:lnTo>
                    <a:lnTo>
                      <a:pt x="0" y="19"/>
                    </a:lnTo>
                    <a:lnTo>
                      <a:pt x="15" y="21"/>
                    </a:lnTo>
                    <a:lnTo>
                      <a:pt x="15" y="11"/>
                    </a:lnTo>
                    <a:lnTo>
                      <a:pt x="12" y="21"/>
                    </a:lnTo>
                    <a:lnTo>
                      <a:pt x="2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3354120" y="5232240"/>
                <a:ext cx="27360" cy="2124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21" y="19"/>
                    </a:moveTo>
                    <a:lnTo>
                      <a:pt x="21" y="0"/>
                    </a:lnTo>
                    <a:lnTo>
                      <a:pt x="14" y="1"/>
                    </a:lnTo>
                    <a:lnTo>
                      <a:pt x="0" y="3"/>
                    </a:lnTo>
                    <a:lnTo>
                      <a:pt x="3" y="22"/>
                    </a:lnTo>
                    <a:lnTo>
                      <a:pt x="14" y="20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3300120" y="5239080"/>
                <a:ext cx="3528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19"/>
                    </a:moveTo>
                    <a:lnTo>
                      <a:pt x="20" y="0"/>
                    </a:lnTo>
                    <a:lnTo>
                      <a:pt x="9" y="4"/>
                    </a:lnTo>
                    <a:lnTo>
                      <a:pt x="0" y="8"/>
                    </a:lnTo>
                    <a:lnTo>
                      <a:pt x="8" y="27"/>
                    </a:lnTo>
                    <a:lnTo>
                      <a:pt x="17" y="22"/>
                    </a:lnTo>
                    <a:lnTo>
                      <a:pt x="2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3252960" y="5254560"/>
                <a:ext cx="3420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26" y="17"/>
                    </a:moveTo>
                    <a:lnTo>
                      <a:pt x="18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9" y="26"/>
                    </a:lnTo>
                    <a:lnTo>
                      <a:pt x="9" y="27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3207240" y="5272560"/>
                <a:ext cx="3384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26" y="18"/>
                    </a:moveTo>
                    <a:lnTo>
                      <a:pt x="18" y="0"/>
                    </a:lnTo>
                    <a:lnTo>
                      <a:pt x="13" y="2"/>
                    </a:lnTo>
                    <a:lnTo>
                      <a:pt x="0" y="9"/>
                    </a:lnTo>
                    <a:lnTo>
                      <a:pt x="9" y="27"/>
                    </a:lnTo>
                    <a:lnTo>
                      <a:pt x="21" y="21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3161160" y="5290200"/>
                <a:ext cx="3420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17"/>
                    </a:moveTo>
                    <a:lnTo>
                      <a:pt x="18" y="0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8" y="26"/>
                    </a:lnTo>
                    <a:lnTo>
                      <a:pt x="11" y="25"/>
                    </a:lnTo>
                    <a:lnTo>
                      <a:pt x="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3115440" y="5304960"/>
                <a:ext cx="3240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19"/>
                    </a:moveTo>
                    <a:lnTo>
                      <a:pt x="18" y="0"/>
                    </a:lnTo>
                    <a:lnTo>
                      <a:pt x="16" y="1"/>
                    </a:lnTo>
                    <a:lnTo>
                      <a:pt x="0" y="6"/>
                    </a:lnTo>
                    <a:lnTo>
                      <a:pt x="6" y="24"/>
                    </a:lnTo>
                    <a:lnTo>
                      <a:pt x="23" y="20"/>
                    </a:lnTo>
                    <a:lnTo>
                      <a:pt x="2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3067920" y="5314680"/>
                <a:ext cx="27360" cy="205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1" y="19"/>
                    </a:moveTo>
                    <a:lnTo>
                      <a:pt x="18" y="0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21"/>
                    </a:lnTo>
                    <a:lnTo>
                      <a:pt x="10" y="21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3011760" y="530892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1" y="25"/>
                    </a:moveTo>
                    <a:lnTo>
                      <a:pt x="24" y="6"/>
                    </a:lnTo>
                    <a:lnTo>
                      <a:pt x="20" y="5"/>
                    </a:lnTo>
                    <a:lnTo>
                      <a:pt x="20" y="15"/>
                    </a:lnTo>
                    <a:lnTo>
                      <a:pt x="23" y="5"/>
                    </a:lnTo>
                    <a:lnTo>
                      <a:pt x="14" y="2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6" y="20"/>
                    </a:lnTo>
                    <a:lnTo>
                      <a:pt x="16" y="23"/>
                    </a:lnTo>
                    <a:lnTo>
                      <a:pt x="20" y="25"/>
                    </a:lnTo>
                    <a:lnTo>
                      <a:pt x="2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2965680" y="5289120"/>
                <a:ext cx="36720" cy="262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6" y="27"/>
                    </a:moveTo>
                    <a:lnTo>
                      <a:pt x="28" y="12"/>
                    </a:lnTo>
                    <a:lnTo>
                      <a:pt x="20" y="5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6" y="19"/>
                    </a:lnTo>
                    <a:lnTo>
                      <a:pt x="16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2931840" y="5260680"/>
                <a:ext cx="36360" cy="27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2" y="28"/>
                    </a:moveTo>
                    <a:lnTo>
                      <a:pt x="26" y="14"/>
                    </a:lnTo>
                    <a:lnTo>
                      <a:pt x="25" y="13"/>
                    </a:lnTo>
                    <a:lnTo>
                      <a:pt x="19" y="20"/>
                    </a:lnTo>
                    <a:lnTo>
                      <a:pt x="28" y="17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9" y="24"/>
                    </a:lnTo>
                    <a:lnTo>
                      <a:pt x="11" y="28"/>
                    </a:lnTo>
                    <a:lnTo>
                      <a:pt x="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2905200" y="5227200"/>
                <a:ext cx="3564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9" y="27"/>
                    </a:moveTo>
                    <a:lnTo>
                      <a:pt x="27" y="18"/>
                    </a:lnTo>
                    <a:lnTo>
                      <a:pt x="19" y="4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9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2884320" y="5193000"/>
                <a:ext cx="32400" cy="262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8" y="27"/>
                    </a:moveTo>
                    <a:lnTo>
                      <a:pt x="25" y="18"/>
                    </a:lnTo>
                    <a:lnTo>
                      <a:pt x="25" y="18"/>
                    </a:lnTo>
                    <a:lnTo>
                      <a:pt x="19" y="0"/>
                    </a:lnTo>
                    <a:lnTo>
                      <a:pt x="0" y="8"/>
                    </a:lnTo>
                    <a:lnTo>
                      <a:pt x="7" y="25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2865960" y="515772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6" y="25"/>
                    </a:moveTo>
                    <a:lnTo>
                      <a:pt x="25" y="18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2" y="14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2849040" y="512136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6" y="25"/>
                    </a:moveTo>
                    <a:lnTo>
                      <a:pt x="25" y="19"/>
                    </a:lnTo>
                    <a:lnTo>
                      <a:pt x="25" y="17"/>
                    </a:lnTo>
                    <a:lnTo>
                      <a:pt x="18" y="0"/>
                    </a:lnTo>
                    <a:lnTo>
                      <a:pt x="0" y="7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2833200" y="508500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6" y="25"/>
                    </a:moveTo>
                    <a:lnTo>
                      <a:pt x="25" y="18"/>
                    </a:lnTo>
                    <a:lnTo>
                      <a:pt x="18" y="0"/>
                    </a:lnTo>
                    <a:lnTo>
                      <a:pt x="0" y="6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2818800" y="504864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5" y="24"/>
                    </a:moveTo>
                    <a:lnTo>
                      <a:pt x="24" y="18"/>
                    </a:lnTo>
                    <a:lnTo>
                      <a:pt x="19" y="3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2804400" y="501048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5" y="24"/>
                    </a:moveTo>
                    <a:lnTo>
                      <a:pt x="24" y="19"/>
                    </a:lnTo>
                    <a:lnTo>
                      <a:pt x="22" y="10"/>
                    </a:lnTo>
                    <a:lnTo>
                      <a:pt x="18" y="0"/>
                    </a:lnTo>
                    <a:lnTo>
                      <a:pt x="0" y="6"/>
                    </a:lnTo>
                    <a:lnTo>
                      <a:pt x="3" y="18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2791440" y="4973040"/>
                <a:ext cx="2988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4" y="25"/>
                    </a:moveTo>
                    <a:lnTo>
                      <a:pt x="23" y="20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2778480" y="4935600"/>
                <a:ext cx="2988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4" y="25"/>
                    </a:moveTo>
                    <a:lnTo>
                      <a:pt x="23" y="19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2765160" y="489744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5" y="26"/>
                    </a:moveTo>
                    <a:lnTo>
                      <a:pt x="23" y="20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2752200" y="4861080"/>
                <a:ext cx="30960" cy="22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6" y="23"/>
                    </a:moveTo>
                    <a:lnTo>
                      <a:pt x="24" y="19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2741400" y="4823640"/>
                <a:ext cx="3024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8"/>
                    </a:lnTo>
                    <a:lnTo>
                      <a:pt x="18" y="0"/>
                    </a:lnTo>
                    <a:lnTo>
                      <a:pt x="0" y="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2729880" y="478656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8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2716560" y="4748400"/>
                <a:ext cx="31320" cy="22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6" y="23"/>
                    </a:moveTo>
                    <a:lnTo>
                      <a:pt x="24" y="19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2704680" y="471096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5" y="23"/>
                    </a:moveTo>
                    <a:lnTo>
                      <a:pt x="23" y="19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2694600" y="467388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8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2682720" y="463536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9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2670480" y="4597920"/>
                <a:ext cx="3024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4" y="23"/>
                    </a:moveTo>
                    <a:lnTo>
                      <a:pt x="23" y="19"/>
                    </a:lnTo>
                    <a:lnTo>
                      <a:pt x="21" y="7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2" y="1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2658600" y="455976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5" y="24"/>
                    </a:moveTo>
                    <a:lnTo>
                      <a:pt x="23" y="19"/>
                    </a:lnTo>
                    <a:lnTo>
                      <a:pt x="22" y="12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4" y="19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2648160" y="452160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4" y="24"/>
                    </a:moveTo>
                    <a:lnTo>
                      <a:pt x="23" y="20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2636280" y="448452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4" y="24"/>
                    </a:moveTo>
                    <a:lnTo>
                      <a:pt x="23" y="20"/>
                    </a:lnTo>
                    <a:lnTo>
                      <a:pt x="18" y="0"/>
                    </a:lnTo>
                    <a:lnTo>
                      <a:pt x="0" y="4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2623320" y="444708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5" y="24"/>
                    </a:moveTo>
                    <a:lnTo>
                      <a:pt x="24" y="19"/>
                    </a:lnTo>
                    <a:lnTo>
                      <a:pt x="20" y="3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2610360" y="440856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24"/>
                    </a:moveTo>
                    <a:lnTo>
                      <a:pt x="24" y="19"/>
                    </a:lnTo>
                    <a:lnTo>
                      <a:pt x="23" y="15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4" y="22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2597040" y="437148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6" y="25"/>
                    </a:moveTo>
                    <a:lnTo>
                      <a:pt x="24" y="20"/>
                    </a:lnTo>
                    <a:lnTo>
                      <a:pt x="20" y="3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2581560" y="433404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7" y="26"/>
                    </a:moveTo>
                    <a:lnTo>
                      <a:pt x="25" y="20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2565720" y="4297680"/>
                <a:ext cx="3276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7" y="25"/>
                    </a:moveTo>
                    <a:lnTo>
                      <a:pt x="25" y="18"/>
                    </a:lnTo>
                    <a:lnTo>
                      <a:pt x="20" y="3"/>
                    </a:lnTo>
                    <a:lnTo>
                      <a:pt x="19" y="0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2548800" y="4260600"/>
                <a:ext cx="3240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7" y="26"/>
                    </a:moveTo>
                    <a:lnTo>
                      <a:pt x="25" y="19"/>
                    </a:lnTo>
                    <a:lnTo>
                      <a:pt x="22" y="11"/>
                    </a:lnTo>
                    <a:lnTo>
                      <a:pt x="19" y="0"/>
                    </a:lnTo>
                    <a:lnTo>
                      <a:pt x="0" y="7"/>
                    </a:lnTo>
                    <a:lnTo>
                      <a:pt x="3" y="19"/>
                    </a:lnTo>
                    <a:lnTo>
                      <a:pt x="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2530440" y="422424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6" y="26"/>
                    </a:moveTo>
                    <a:lnTo>
                      <a:pt x="25" y="19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6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2510640" y="4188600"/>
                <a:ext cx="3420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7" y="26"/>
                    </a:moveTo>
                    <a:lnTo>
                      <a:pt x="26" y="19"/>
                    </a:lnTo>
                    <a:lnTo>
                      <a:pt x="26" y="18"/>
                    </a:lnTo>
                    <a:lnTo>
                      <a:pt x="18" y="2"/>
                    </a:lnTo>
                    <a:lnTo>
                      <a:pt x="17" y="0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7" y="25"/>
                    </a:lnTo>
                    <a:lnTo>
                      <a:pt x="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2484360" y="4153680"/>
                <a:ext cx="3528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1" y="27"/>
                    </a:moveTo>
                    <a:lnTo>
                      <a:pt x="27" y="17"/>
                    </a:lnTo>
                    <a:lnTo>
                      <a:pt x="25" y="14"/>
                    </a:lnTo>
                    <a:lnTo>
                      <a:pt x="18" y="4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0" y="12"/>
                    </a:lnTo>
                    <a:lnTo>
                      <a:pt x="2" y="15"/>
                    </a:lnTo>
                    <a:lnTo>
                      <a:pt x="10" y="9"/>
                    </a:lnTo>
                    <a:lnTo>
                      <a:pt x="0" y="12"/>
                    </a:lnTo>
                    <a:lnTo>
                      <a:pt x="6" y="22"/>
                    </a:lnTo>
                    <a:lnTo>
                      <a:pt x="1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2451600" y="412308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4" y="29"/>
                    </a:moveTo>
                    <a:lnTo>
                      <a:pt x="28" y="16"/>
                    </a:lnTo>
                    <a:lnTo>
                      <a:pt x="24" y="11"/>
                    </a:lnTo>
                    <a:lnTo>
                      <a:pt x="14" y="0"/>
                    </a:lnTo>
                    <a:lnTo>
                      <a:pt x="0" y="15"/>
                    </a:lnTo>
                    <a:lnTo>
                      <a:pt x="10" y="25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2416320" y="4095360"/>
                <a:ext cx="36360" cy="27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2" y="28"/>
                    </a:moveTo>
                    <a:lnTo>
                      <a:pt x="28" y="15"/>
                    </a:lnTo>
                    <a:lnTo>
                      <a:pt x="26" y="12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4" y="17"/>
                    </a:lnTo>
                    <a:lnTo>
                      <a:pt x="10" y="25"/>
                    </a:lnTo>
                    <a:lnTo>
                      <a:pt x="1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2376720" y="4073760"/>
                <a:ext cx="35280" cy="2448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6" y="25"/>
                    </a:moveTo>
                    <a:lnTo>
                      <a:pt x="27" y="9"/>
                    </a:lnTo>
                    <a:lnTo>
                      <a:pt x="23" y="7"/>
                    </a:lnTo>
                    <a:lnTo>
                      <a:pt x="19" y="4"/>
                    </a:lnTo>
                    <a:lnTo>
                      <a:pt x="9" y="0"/>
                    </a:lnTo>
                    <a:lnTo>
                      <a:pt x="0" y="17"/>
                    </a:lnTo>
                    <a:lnTo>
                      <a:pt x="12" y="23"/>
                    </a:lnTo>
                    <a:lnTo>
                      <a:pt x="16" y="14"/>
                    </a:lnTo>
                    <a:lnTo>
                      <a:pt x="9" y="21"/>
                    </a:lnTo>
                    <a:lnTo>
                      <a:pt x="1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2328480" y="4061160"/>
                <a:ext cx="34200" cy="2340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19" y="24"/>
                    </a:moveTo>
                    <a:lnTo>
                      <a:pt x="26" y="5"/>
                    </a:lnTo>
                    <a:lnTo>
                      <a:pt x="24" y="4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10"/>
                    </a:lnTo>
                    <a:lnTo>
                      <a:pt x="0" y="20"/>
                    </a:lnTo>
                    <a:lnTo>
                      <a:pt x="16" y="23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2277360" y="4053600"/>
                <a:ext cx="32400" cy="223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21" y="23"/>
                    </a:moveTo>
                    <a:lnTo>
                      <a:pt x="25" y="5"/>
                    </a:lnTo>
                    <a:lnTo>
                      <a:pt x="18" y="3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10" y="22"/>
                    </a:lnTo>
                    <a:lnTo>
                      <a:pt x="2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9" name=""/>
            <p:cNvGrpSpPr/>
            <p:nvPr/>
          </p:nvGrpSpPr>
          <p:grpSpPr>
            <a:xfrm>
              <a:off x="857880" y="4047120"/>
              <a:ext cx="1489320" cy="1310760"/>
              <a:chOff x="857880" y="4047120"/>
              <a:chExt cx="1489320" cy="1310760"/>
            </a:xfrm>
          </p:grpSpPr>
          <p:sp>
            <p:nvSpPr>
              <p:cNvPr id="7010" name=""/>
              <p:cNvSpPr/>
              <p:nvPr/>
            </p:nvSpPr>
            <p:spPr>
              <a:xfrm>
                <a:off x="857880" y="5330520"/>
                <a:ext cx="32760" cy="2736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0" y="9"/>
                    </a:moveTo>
                    <a:lnTo>
                      <a:pt x="8" y="28"/>
                    </a:lnTo>
                    <a:lnTo>
                      <a:pt x="17" y="23"/>
                    </a:lnTo>
                    <a:lnTo>
                      <a:pt x="25" y="18"/>
                    </a:lnTo>
                    <a:lnTo>
                      <a:pt x="17" y="0"/>
                    </a:lnTo>
                    <a:lnTo>
                      <a:pt x="9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902160" y="531396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9"/>
                    </a:moveTo>
                    <a:lnTo>
                      <a:pt x="9" y="26"/>
                    </a:lnTo>
                    <a:lnTo>
                      <a:pt x="22" y="21"/>
                    </a:lnTo>
                    <a:lnTo>
                      <a:pt x="26" y="17"/>
                    </a:lnTo>
                    <a:lnTo>
                      <a:pt x="18" y="0"/>
                    </a:lnTo>
                    <a:lnTo>
                      <a:pt x="14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948240" y="5295600"/>
                <a:ext cx="33840" cy="27360"/>
              </a:xfrm>
              <a:custGeom>
                <a:avLst/>
                <a:gdLst/>
                <a:ahLst/>
                <a:rect l="l" t="t" r="r" b="b"/>
                <a:pathLst>
                  <a:path w="26" h="28">
                    <a:moveTo>
                      <a:pt x="0" y="10"/>
                    </a:moveTo>
                    <a:lnTo>
                      <a:pt x="9" y="28"/>
                    </a:lnTo>
                    <a:lnTo>
                      <a:pt x="20" y="22"/>
                    </a:lnTo>
                    <a:lnTo>
                      <a:pt x="26" y="18"/>
                    </a:lnTo>
                    <a:lnTo>
                      <a:pt x="18" y="0"/>
                    </a:lnTo>
                    <a:lnTo>
                      <a:pt x="12" y="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994320" y="5279760"/>
                <a:ext cx="33840" cy="2448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0" y="8"/>
                    </a:moveTo>
                    <a:lnTo>
                      <a:pt x="9" y="25"/>
                    </a:lnTo>
                    <a:lnTo>
                      <a:pt x="21" y="21"/>
                    </a:lnTo>
                    <a:lnTo>
                      <a:pt x="26" y="17"/>
                    </a:lnTo>
                    <a:lnTo>
                      <a:pt x="19" y="0"/>
                    </a:lnTo>
                    <a:lnTo>
                      <a:pt x="13" y="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1042560" y="5262120"/>
                <a:ext cx="33840" cy="2628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9"/>
                    </a:moveTo>
                    <a:lnTo>
                      <a:pt x="8" y="27"/>
                    </a:lnTo>
                    <a:lnTo>
                      <a:pt x="23" y="20"/>
                    </a:lnTo>
                    <a:lnTo>
                      <a:pt x="26" y="19"/>
                    </a:lnTo>
                    <a:lnTo>
                      <a:pt x="18" y="0"/>
                    </a:lnTo>
                    <a:lnTo>
                      <a:pt x="16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1090080" y="524808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8"/>
                    </a:moveTo>
                    <a:lnTo>
                      <a:pt x="8" y="26"/>
                    </a:lnTo>
                    <a:lnTo>
                      <a:pt x="26" y="19"/>
                    </a:lnTo>
                    <a:lnTo>
                      <a:pt x="18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1139760" y="5236560"/>
                <a:ext cx="3240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6"/>
                    </a:moveTo>
                    <a:lnTo>
                      <a:pt x="6" y="24"/>
                    </a:lnTo>
                    <a:lnTo>
                      <a:pt x="10" y="23"/>
                    </a:lnTo>
                    <a:lnTo>
                      <a:pt x="25" y="19"/>
                    </a:lnTo>
                    <a:lnTo>
                      <a:pt x="19" y="0"/>
                    </a:lnTo>
                    <a:lnTo>
                      <a:pt x="2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1189440" y="5227560"/>
                <a:ext cx="31320" cy="2124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0" y="4"/>
                    </a:moveTo>
                    <a:lnTo>
                      <a:pt x="4" y="22"/>
                    </a:lnTo>
                    <a:lnTo>
                      <a:pt x="12" y="21"/>
                    </a:lnTo>
                    <a:lnTo>
                      <a:pt x="9" y="11"/>
                    </a:lnTo>
                    <a:lnTo>
                      <a:pt x="9" y="21"/>
                    </a:lnTo>
                    <a:lnTo>
                      <a:pt x="24" y="19"/>
                    </a:lnTo>
                    <a:lnTo>
                      <a:pt x="21" y="0"/>
                    </a:lnTo>
                    <a:lnTo>
                      <a:pt x="9" y="2"/>
                    </a:lnTo>
                    <a:lnTo>
                      <a:pt x="4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1244520" y="5224680"/>
                <a:ext cx="26280" cy="2124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0" y="0"/>
                    </a:moveTo>
                    <a:lnTo>
                      <a:pt x="0" y="20"/>
                    </a:lnTo>
                    <a:lnTo>
                      <a:pt x="6" y="21"/>
                    </a:lnTo>
                    <a:lnTo>
                      <a:pt x="17" y="22"/>
                    </a:lnTo>
                    <a:lnTo>
                      <a:pt x="20" y="3"/>
                    </a:lnTo>
                    <a:lnTo>
                      <a:pt x="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1290600" y="523260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6" y="0"/>
                    </a:moveTo>
                    <a:lnTo>
                      <a:pt x="0" y="18"/>
                    </a:lnTo>
                    <a:lnTo>
                      <a:pt x="9" y="22"/>
                    </a:lnTo>
                    <a:lnTo>
                      <a:pt x="18" y="26"/>
                    </a:lnTo>
                    <a:lnTo>
                      <a:pt x="26" y="7"/>
                    </a:lnTo>
                    <a:lnTo>
                      <a:pt x="17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1337760" y="5247000"/>
                <a:ext cx="33840" cy="266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8" y="0"/>
                    </a:moveTo>
                    <a:lnTo>
                      <a:pt x="0" y="18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26" y="9"/>
                    </a:lnTo>
                    <a:lnTo>
                      <a:pt x="25" y="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1383840" y="52657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8" y="0"/>
                    </a:moveTo>
                    <a:lnTo>
                      <a:pt x="0" y="17"/>
                    </a:lnTo>
                    <a:lnTo>
                      <a:pt x="5" y="21"/>
                    </a:lnTo>
                    <a:lnTo>
                      <a:pt x="17" y="26"/>
                    </a:lnTo>
                    <a:lnTo>
                      <a:pt x="26" y="8"/>
                    </a:lnTo>
                    <a:lnTo>
                      <a:pt x="13" y="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1429560" y="528264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8" y="0"/>
                    </a:moveTo>
                    <a:lnTo>
                      <a:pt x="0" y="18"/>
                    </a:lnTo>
                    <a:lnTo>
                      <a:pt x="15" y="25"/>
                    </a:lnTo>
                    <a:lnTo>
                      <a:pt x="18" y="26"/>
                    </a:lnTo>
                    <a:lnTo>
                      <a:pt x="26" y="8"/>
                    </a:lnTo>
                    <a:lnTo>
                      <a:pt x="23" y="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1476720" y="5298480"/>
                <a:ext cx="32400" cy="234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7" y="0"/>
                    </a:moveTo>
                    <a:lnTo>
                      <a:pt x="0" y="18"/>
                    </a:lnTo>
                    <a:lnTo>
                      <a:pt x="2" y="19"/>
                    </a:lnTo>
                    <a:lnTo>
                      <a:pt x="19" y="24"/>
                    </a:lnTo>
                    <a:lnTo>
                      <a:pt x="25" y="5"/>
                    </a:lnTo>
                    <a:lnTo>
                      <a:pt x="10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1529280" y="5307120"/>
                <a:ext cx="27360" cy="205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4" y="0"/>
                    </a:moveTo>
                    <a:lnTo>
                      <a:pt x="0" y="19"/>
                    </a:lnTo>
                    <a:lnTo>
                      <a:pt x="11" y="21"/>
                    </a:lnTo>
                    <a:lnTo>
                      <a:pt x="21" y="21"/>
                    </a:lnTo>
                    <a:lnTo>
                      <a:pt x="21" y="1"/>
                    </a:lnTo>
                    <a:lnTo>
                      <a:pt x="11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1581840" y="5302080"/>
                <a:ext cx="3096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5"/>
                    </a:moveTo>
                    <a:lnTo>
                      <a:pt x="3" y="24"/>
                    </a:lnTo>
                    <a:lnTo>
                      <a:pt x="4" y="24"/>
                    </a:lnTo>
                    <a:lnTo>
                      <a:pt x="8" y="23"/>
                    </a:lnTo>
                    <a:lnTo>
                      <a:pt x="19" y="20"/>
                    </a:lnTo>
                    <a:lnTo>
                      <a:pt x="24" y="17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1" y="4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1622160" y="5281560"/>
                <a:ext cx="36720" cy="262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12"/>
                    </a:moveTo>
                    <a:lnTo>
                      <a:pt x="12" y="27"/>
                    </a:lnTo>
                    <a:lnTo>
                      <a:pt x="22" y="20"/>
                    </a:lnTo>
                    <a:lnTo>
                      <a:pt x="28" y="14"/>
                    </a:lnTo>
                    <a:lnTo>
                      <a:pt x="15" y="0"/>
                    </a:lnTo>
                    <a:lnTo>
                      <a:pt x="8" y="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1657440" y="5254200"/>
                <a:ext cx="35280" cy="2628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" y="14"/>
                    </a:moveTo>
                    <a:lnTo>
                      <a:pt x="15" y="27"/>
                    </a:lnTo>
                    <a:lnTo>
                      <a:pt x="16" y="27"/>
                    </a:lnTo>
                    <a:lnTo>
                      <a:pt x="18" y="24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0" y="16"/>
                    </a:lnTo>
                    <a:lnTo>
                      <a:pt x="8" y="19"/>
                    </a:lnTo>
                    <a:lnTo>
                      <a:pt x="2" y="13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1684080" y="5220720"/>
                <a:ext cx="35280" cy="2556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17"/>
                    </a:moveTo>
                    <a:lnTo>
                      <a:pt x="18" y="26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9" y="0"/>
                    </a:lnTo>
                    <a:lnTo>
                      <a:pt x="8" y="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1707480" y="5186520"/>
                <a:ext cx="32400" cy="2556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17"/>
                    </a:moveTo>
                    <a:lnTo>
                      <a:pt x="17" y="26"/>
                    </a:lnTo>
                    <a:lnTo>
                      <a:pt x="18" y="25"/>
                    </a:lnTo>
                    <a:lnTo>
                      <a:pt x="25" y="7"/>
                    </a:lnTo>
                    <a:lnTo>
                      <a:pt x="8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1725840" y="515088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7"/>
                    </a:moveTo>
                    <a:lnTo>
                      <a:pt x="19" y="25"/>
                    </a:lnTo>
                    <a:lnTo>
                      <a:pt x="23" y="14"/>
                    </a:lnTo>
                    <a:lnTo>
                      <a:pt x="25" y="6"/>
                    </a:lnTo>
                    <a:lnTo>
                      <a:pt x="7" y="0"/>
                    </a:lnTo>
                    <a:lnTo>
                      <a:pt x="4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1742760" y="5113800"/>
                <a:ext cx="32400" cy="252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19"/>
                    </a:moveTo>
                    <a:lnTo>
                      <a:pt x="19" y="26"/>
                    </a:lnTo>
                    <a:lnTo>
                      <a:pt x="19" y="26"/>
                    </a:lnTo>
                    <a:lnTo>
                      <a:pt x="25" y="7"/>
                    </a:lnTo>
                    <a:lnTo>
                      <a:pt x="7" y="0"/>
                    </a:lnTo>
                    <a:lnTo>
                      <a:pt x="0" y="18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1760040" y="507744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19"/>
                    </a:moveTo>
                    <a:lnTo>
                      <a:pt x="19" y="25"/>
                    </a:lnTo>
                    <a:lnTo>
                      <a:pt x="24" y="7"/>
                    </a:lnTo>
                    <a:lnTo>
                      <a:pt x="6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1774440" y="504108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9"/>
                    </a:moveTo>
                    <a:lnTo>
                      <a:pt x="19" y="24"/>
                    </a:lnTo>
                    <a:lnTo>
                      <a:pt x="23" y="11"/>
                    </a:lnTo>
                    <a:lnTo>
                      <a:pt x="24" y="5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1788840" y="500400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8"/>
                    </a:moveTo>
                    <a:lnTo>
                      <a:pt x="19" y="24"/>
                    </a:lnTo>
                    <a:lnTo>
                      <a:pt x="21" y="17"/>
                    </a:lnTo>
                    <a:lnTo>
                      <a:pt x="24" y="5"/>
                    </a:lnTo>
                    <a:lnTo>
                      <a:pt x="6" y="0"/>
                    </a:lnTo>
                    <a:lnTo>
                      <a:pt x="2" y="1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1803240" y="496548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0" y="20"/>
                    </a:moveTo>
                    <a:lnTo>
                      <a:pt x="19" y="26"/>
                    </a:lnTo>
                    <a:lnTo>
                      <a:pt x="23" y="6"/>
                    </a:lnTo>
                    <a:lnTo>
                      <a:pt x="5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1816200" y="4928400"/>
                <a:ext cx="2988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0"/>
                    </a:moveTo>
                    <a:lnTo>
                      <a:pt x="19" y="25"/>
                    </a:lnTo>
                    <a:lnTo>
                      <a:pt x="23" y="6"/>
                    </a:lnTo>
                    <a:lnTo>
                      <a:pt x="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1829520" y="4890960"/>
                <a:ext cx="3024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19"/>
                    </a:moveTo>
                    <a:lnTo>
                      <a:pt x="18" y="25"/>
                    </a:lnTo>
                    <a:lnTo>
                      <a:pt x="23" y="5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1841400" y="4854960"/>
                <a:ext cx="31320" cy="22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8"/>
                    </a:moveTo>
                    <a:lnTo>
                      <a:pt x="18" y="23"/>
                    </a:lnTo>
                    <a:lnTo>
                      <a:pt x="24" y="4"/>
                    </a:lnTo>
                    <a:lnTo>
                      <a:pt x="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1852920" y="481644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9" y="23"/>
                    </a:lnTo>
                    <a:lnTo>
                      <a:pt x="23" y="5"/>
                    </a:lnTo>
                    <a:lnTo>
                      <a:pt x="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1864800" y="477900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9" y="23"/>
                    </a:lnTo>
                    <a:lnTo>
                      <a:pt x="23" y="4"/>
                    </a:lnTo>
                    <a:lnTo>
                      <a:pt x="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1876680" y="4741560"/>
                <a:ext cx="31320" cy="2268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18"/>
                    </a:moveTo>
                    <a:lnTo>
                      <a:pt x="19" y="23"/>
                    </a:lnTo>
                    <a:lnTo>
                      <a:pt x="24" y="4"/>
                    </a:lnTo>
                    <a:lnTo>
                      <a:pt x="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1889640" y="470340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8" y="23"/>
                    </a:lnTo>
                    <a:lnTo>
                      <a:pt x="23" y="5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1901880" y="466632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8" y="23"/>
                    </a:lnTo>
                    <a:lnTo>
                      <a:pt x="21" y="8"/>
                    </a:lnTo>
                    <a:lnTo>
                      <a:pt x="23" y="4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1911960" y="462888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8"/>
                    </a:moveTo>
                    <a:lnTo>
                      <a:pt x="19" y="23"/>
                    </a:lnTo>
                    <a:lnTo>
                      <a:pt x="23" y="4"/>
                    </a:lnTo>
                    <a:lnTo>
                      <a:pt x="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1923840" y="4590720"/>
                <a:ext cx="29880" cy="22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9"/>
                    </a:moveTo>
                    <a:lnTo>
                      <a:pt x="19" y="23"/>
                    </a:lnTo>
                    <a:lnTo>
                      <a:pt x="21" y="15"/>
                    </a:lnTo>
                    <a:lnTo>
                      <a:pt x="23" y="5"/>
                    </a:lnTo>
                    <a:lnTo>
                      <a:pt x="4" y="0"/>
                    </a:lnTo>
                    <a:lnTo>
                      <a:pt x="2" y="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1935720" y="455220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20"/>
                    </a:moveTo>
                    <a:lnTo>
                      <a:pt x="18" y="24"/>
                    </a:lnTo>
                    <a:lnTo>
                      <a:pt x="20" y="20"/>
                    </a:lnTo>
                    <a:lnTo>
                      <a:pt x="23" y="4"/>
                    </a:lnTo>
                    <a:lnTo>
                      <a:pt x="4" y="0"/>
                    </a:lnTo>
                    <a:lnTo>
                      <a:pt x="1" y="12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1947600" y="4515120"/>
                <a:ext cx="29880" cy="234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19"/>
                    </a:moveTo>
                    <a:lnTo>
                      <a:pt x="18" y="24"/>
                    </a:lnTo>
                    <a:lnTo>
                      <a:pt x="23" y="4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1958040" y="4476960"/>
                <a:ext cx="30240" cy="2448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0"/>
                    </a:moveTo>
                    <a:lnTo>
                      <a:pt x="19" y="25"/>
                    </a:lnTo>
                    <a:lnTo>
                      <a:pt x="23" y="5"/>
                    </a:lnTo>
                    <a:lnTo>
                      <a:pt x="5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1969920" y="443952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0"/>
                    </a:moveTo>
                    <a:lnTo>
                      <a:pt x="19" y="24"/>
                    </a:lnTo>
                    <a:lnTo>
                      <a:pt x="23" y="11"/>
                    </a:lnTo>
                    <a:lnTo>
                      <a:pt x="24" y="6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1982880" y="4402440"/>
                <a:ext cx="31320" cy="234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8"/>
                    </a:moveTo>
                    <a:lnTo>
                      <a:pt x="19" y="24"/>
                    </a:lnTo>
                    <a:lnTo>
                      <a:pt x="20" y="22"/>
                    </a:lnTo>
                    <a:lnTo>
                      <a:pt x="24" y="5"/>
                    </a:lnTo>
                    <a:lnTo>
                      <a:pt x="5" y="0"/>
                    </a:lnTo>
                    <a:lnTo>
                      <a:pt x="1" y="1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1995840" y="4365000"/>
                <a:ext cx="31320" cy="2448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0" y="19"/>
                    </a:moveTo>
                    <a:lnTo>
                      <a:pt x="18" y="25"/>
                    </a:lnTo>
                    <a:lnTo>
                      <a:pt x="23" y="10"/>
                    </a:lnTo>
                    <a:lnTo>
                      <a:pt x="24" y="5"/>
                    </a:lnTo>
                    <a:lnTo>
                      <a:pt x="5" y="0"/>
                    </a:lnTo>
                    <a:lnTo>
                      <a:pt x="4" y="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2010600" y="4326840"/>
                <a:ext cx="32400" cy="262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0" y="20"/>
                    </a:moveTo>
                    <a:lnTo>
                      <a:pt x="18" y="27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2026440" y="429048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9"/>
                    </a:moveTo>
                    <a:lnTo>
                      <a:pt x="18" y="25"/>
                    </a:lnTo>
                    <a:lnTo>
                      <a:pt x="24" y="11"/>
                    </a:lnTo>
                    <a:lnTo>
                      <a:pt x="25" y="7"/>
                    </a:lnTo>
                    <a:lnTo>
                      <a:pt x="6" y="0"/>
                    </a:lnTo>
                    <a:lnTo>
                      <a:pt x="5" y="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2043360" y="4254120"/>
                <a:ext cx="32400" cy="244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18"/>
                    </a:moveTo>
                    <a:lnTo>
                      <a:pt x="18" y="25"/>
                    </a:lnTo>
                    <a:lnTo>
                      <a:pt x="22" y="18"/>
                    </a:lnTo>
                    <a:lnTo>
                      <a:pt x="25" y="6"/>
                    </a:lnTo>
                    <a:lnTo>
                      <a:pt x="6" y="0"/>
                    </a:lnTo>
                    <a:lnTo>
                      <a:pt x="3" y="11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2061720" y="4217760"/>
                <a:ext cx="32400" cy="252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0" y="18"/>
                    </a:moveTo>
                    <a:lnTo>
                      <a:pt x="19" y="2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2079720" y="4182480"/>
                <a:ext cx="35280" cy="2556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" y="18"/>
                    </a:moveTo>
                    <a:lnTo>
                      <a:pt x="19" y="26"/>
                    </a:lnTo>
                    <a:lnTo>
                      <a:pt x="19" y="25"/>
                    </a:lnTo>
                    <a:lnTo>
                      <a:pt x="27" y="9"/>
                    </a:lnTo>
                    <a:lnTo>
                      <a:pt x="27" y="8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0" y="17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2104920" y="4146120"/>
                <a:ext cx="35280" cy="2736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0" y="18"/>
                    </a:moveTo>
                    <a:lnTo>
                      <a:pt x="16" y="28"/>
                    </a:lnTo>
                    <a:lnTo>
                      <a:pt x="21" y="22"/>
                    </a:lnTo>
                    <a:lnTo>
                      <a:pt x="27" y="12"/>
                    </a:lnTo>
                    <a:lnTo>
                      <a:pt x="17" y="9"/>
                    </a:lnTo>
                    <a:lnTo>
                      <a:pt x="25" y="16"/>
                    </a:lnTo>
                    <a:lnTo>
                      <a:pt x="27" y="12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5"/>
                    </a:lnTo>
                    <a:lnTo>
                      <a:pt x="2" y="1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2136240" y="4116600"/>
                <a:ext cx="36360" cy="273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15"/>
                    </a:moveTo>
                    <a:lnTo>
                      <a:pt x="14" y="28"/>
                    </a:lnTo>
                    <a:lnTo>
                      <a:pt x="19" y="25"/>
                    </a:lnTo>
                    <a:lnTo>
                      <a:pt x="28" y="14"/>
                    </a:lnTo>
                    <a:lnTo>
                      <a:pt x="14" y="0"/>
                    </a:lnTo>
                    <a:lnTo>
                      <a:pt x="4" y="11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2171880" y="4088160"/>
                <a:ext cx="36720" cy="28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16"/>
                    </a:moveTo>
                    <a:lnTo>
                      <a:pt x="15" y="29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4" y="18"/>
                    </a:lnTo>
                    <a:lnTo>
                      <a:pt x="28" y="15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3" y="12"/>
                    </a:lnTo>
                    <a:lnTo>
                      <a:pt x="10" y="19"/>
                    </a:lnTo>
                    <a:lnTo>
                      <a:pt x="4" y="1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2212560" y="4066920"/>
                <a:ext cx="35280" cy="252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9"/>
                    </a:moveTo>
                    <a:lnTo>
                      <a:pt x="11" y="26"/>
                    </a:lnTo>
                    <a:lnTo>
                      <a:pt x="19" y="21"/>
                    </a:lnTo>
                    <a:lnTo>
                      <a:pt x="11" y="15"/>
                    </a:lnTo>
                    <a:lnTo>
                      <a:pt x="15" y="23"/>
                    </a:lnTo>
                    <a:lnTo>
                      <a:pt x="27" y="18"/>
                    </a:lnTo>
                    <a:lnTo>
                      <a:pt x="19" y="0"/>
                    </a:lnTo>
                    <a:lnTo>
                      <a:pt x="8" y="5"/>
                    </a:lnTo>
                    <a:lnTo>
                      <a:pt x="4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2262240" y="4053960"/>
                <a:ext cx="35280" cy="2340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0" y="6"/>
                    </a:moveTo>
                    <a:lnTo>
                      <a:pt x="7" y="24"/>
                    </a:lnTo>
                    <a:lnTo>
                      <a:pt x="10" y="23"/>
                    </a:lnTo>
                    <a:lnTo>
                      <a:pt x="27" y="20"/>
                    </a:lnTo>
                    <a:lnTo>
                      <a:pt x="23" y="10"/>
                    </a:lnTo>
                    <a:lnTo>
                      <a:pt x="23" y="20"/>
                    </a:lnTo>
                    <a:lnTo>
                      <a:pt x="24" y="20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19" y="1"/>
                    </a:lnTo>
                    <a:lnTo>
                      <a:pt x="2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2314800" y="4047120"/>
                <a:ext cx="32400" cy="2268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0" y="4"/>
                    </a:moveTo>
                    <a:lnTo>
                      <a:pt x="4" y="23"/>
                    </a:lnTo>
                    <a:lnTo>
                      <a:pt x="15" y="22"/>
                    </a:lnTo>
                    <a:lnTo>
                      <a:pt x="25" y="17"/>
                    </a:lnTo>
                    <a:lnTo>
                      <a:pt x="17" y="0"/>
                    </a:lnTo>
                    <a:lnTo>
                      <a:pt x="7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3" name=""/>
          <p:cNvGrpSpPr/>
          <p:nvPr/>
        </p:nvGrpSpPr>
        <p:grpSpPr>
          <a:xfrm>
            <a:off x="4648320" y="6168960"/>
            <a:ext cx="3165480" cy="65160"/>
            <a:chOff x="4648320" y="6168960"/>
            <a:chExt cx="3165480" cy="65160"/>
          </a:xfrm>
        </p:grpSpPr>
        <p:sp>
          <p:nvSpPr>
            <p:cNvPr id="7064" name=""/>
            <p:cNvSpPr/>
            <p:nvPr/>
          </p:nvSpPr>
          <p:spPr>
            <a:xfrm>
              <a:off x="7685280" y="6168960"/>
              <a:ext cx="128520" cy="65160"/>
            </a:xfrm>
            <a:custGeom>
              <a:avLst/>
              <a:gdLst/>
              <a:ahLst/>
              <a:rect l="l" t="t" r="r" b="b"/>
              <a:pathLst>
                <a:path w="81" h="41">
                  <a:moveTo>
                    <a:pt x="81" y="27"/>
                  </a:moveTo>
                  <a:lnTo>
                    <a:pt x="0" y="41"/>
                  </a:lnTo>
                  <a:lnTo>
                    <a:pt x="0" y="27"/>
                  </a:lnTo>
                  <a:lnTo>
                    <a:pt x="0" y="0"/>
                  </a:lnTo>
                  <a:lnTo>
                    <a:pt x="8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5" name=""/>
            <p:cNvSpPr/>
            <p:nvPr/>
          </p:nvSpPr>
          <p:spPr>
            <a:xfrm>
              <a:off x="4648320" y="6211800"/>
              <a:ext cx="3036960" cy="1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6" name=""/>
          <p:cNvGrpSpPr/>
          <p:nvPr/>
        </p:nvGrpSpPr>
        <p:grpSpPr>
          <a:xfrm>
            <a:off x="5789520" y="4730760"/>
            <a:ext cx="65160" cy="1824120"/>
            <a:chOff x="5789520" y="4730760"/>
            <a:chExt cx="65160" cy="1824120"/>
          </a:xfrm>
        </p:grpSpPr>
        <p:sp>
          <p:nvSpPr>
            <p:cNvPr id="7067" name=""/>
            <p:cNvSpPr/>
            <p:nvPr/>
          </p:nvSpPr>
          <p:spPr>
            <a:xfrm>
              <a:off x="5789520" y="4730760"/>
              <a:ext cx="6516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13" y="0"/>
                  </a:moveTo>
                  <a:lnTo>
                    <a:pt x="41" y="81"/>
                  </a:lnTo>
                  <a:lnTo>
                    <a:pt x="13" y="81"/>
                  </a:lnTo>
                  <a:lnTo>
                    <a:pt x="0" y="8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8" name=""/>
            <p:cNvSpPr/>
            <p:nvPr/>
          </p:nvSpPr>
          <p:spPr>
            <a:xfrm flipV="1">
              <a:off x="5810040" y="4859280"/>
              <a:ext cx="1800" cy="1695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9" name=""/>
          <p:cNvSpPr/>
          <p:nvPr/>
        </p:nvSpPr>
        <p:spPr>
          <a:xfrm>
            <a:off x="7641360" y="58262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0" name=""/>
          <p:cNvSpPr/>
          <p:nvPr/>
        </p:nvSpPr>
        <p:spPr>
          <a:xfrm>
            <a:off x="5915160" y="4602240"/>
            <a:ext cx="51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 (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1" name=""/>
          <p:cNvSpPr/>
          <p:nvPr/>
        </p:nvSpPr>
        <p:spPr>
          <a:xfrm>
            <a:off x="4734000" y="4967280"/>
            <a:ext cx="2541600" cy="1224000"/>
          </a:xfrm>
          <a:custGeom>
            <a:avLst/>
            <a:gdLst/>
            <a:ahLst/>
            <a:rect l="l" t="t" r="r" b="b"/>
            <a:pathLst>
              <a:path w="1601" h="771">
                <a:moveTo>
                  <a:pt x="0" y="771"/>
                </a:moveTo>
                <a:lnTo>
                  <a:pt x="27" y="771"/>
                </a:lnTo>
                <a:lnTo>
                  <a:pt x="108" y="771"/>
                </a:lnTo>
                <a:lnTo>
                  <a:pt x="149" y="771"/>
                </a:lnTo>
                <a:lnTo>
                  <a:pt x="163" y="771"/>
                </a:lnTo>
                <a:lnTo>
                  <a:pt x="203" y="771"/>
                </a:lnTo>
                <a:lnTo>
                  <a:pt x="217" y="771"/>
                </a:lnTo>
                <a:lnTo>
                  <a:pt x="258" y="757"/>
                </a:lnTo>
                <a:lnTo>
                  <a:pt x="271" y="744"/>
                </a:lnTo>
                <a:lnTo>
                  <a:pt x="298" y="717"/>
                </a:lnTo>
                <a:lnTo>
                  <a:pt x="353" y="649"/>
                </a:lnTo>
                <a:lnTo>
                  <a:pt x="366" y="608"/>
                </a:lnTo>
                <a:lnTo>
                  <a:pt x="380" y="581"/>
                </a:lnTo>
                <a:lnTo>
                  <a:pt x="393" y="541"/>
                </a:lnTo>
                <a:lnTo>
                  <a:pt x="407" y="514"/>
                </a:lnTo>
                <a:lnTo>
                  <a:pt x="421" y="500"/>
                </a:lnTo>
                <a:lnTo>
                  <a:pt x="434" y="487"/>
                </a:lnTo>
                <a:lnTo>
                  <a:pt x="448" y="473"/>
                </a:lnTo>
                <a:lnTo>
                  <a:pt x="488" y="433"/>
                </a:lnTo>
                <a:lnTo>
                  <a:pt x="502" y="406"/>
                </a:lnTo>
                <a:lnTo>
                  <a:pt x="516" y="378"/>
                </a:lnTo>
                <a:lnTo>
                  <a:pt x="529" y="365"/>
                </a:lnTo>
                <a:lnTo>
                  <a:pt x="543" y="365"/>
                </a:lnTo>
                <a:lnTo>
                  <a:pt x="556" y="365"/>
                </a:lnTo>
                <a:lnTo>
                  <a:pt x="570" y="365"/>
                </a:lnTo>
                <a:lnTo>
                  <a:pt x="583" y="338"/>
                </a:lnTo>
                <a:lnTo>
                  <a:pt x="597" y="311"/>
                </a:lnTo>
                <a:lnTo>
                  <a:pt x="611" y="270"/>
                </a:lnTo>
                <a:lnTo>
                  <a:pt x="611" y="257"/>
                </a:lnTo>
                <a:lnTo>
                  <a:pt x="624" y="203"/>
                </a:lnTo>
                <a:lnTo>
                  <a:pt x="624" y="189"/>
                </a:lnTo>
                <a:lnTo>
                  <a:pt x="624" y="176"/>
                </a:lnTo>
                <a:lnTo>
                  <a:pt x="638" y="135"/>
                </a:lnTo>
                <a:lnTo>
                  <a:pt x="638" y="122"/>
                </a:lnTo>
                <a:lnTo>
                  <a:pt x="651" y="108"/>
                </a:lnTo>
                <a:lnTo>
                  <a:pt x="638" y="108"/>
                </a:lnTo>
                <a:lnTo>
                  <a:pt x="651" y="122"/>
                </a:lnTo>
                <a:lnTo>
                  <a:pt x="665" y="149"/>
                </a:lnTo>
                <a:lnTo>
                  <a:pt x="665" y="189"/>
                </a:lnTo>
                <a:lnTo>
                  <a:pt x="665" y="203"/>
                </a:lnTo>
                <a:lnTo>
                  <a:pt x="665" y="216"/>
                </a:lnTo>
                <a:lnTo>
                  <a:pt x="665" y="243"/>
                </a:lnTo>
                <a:lnTo>
                  <a:pt x="678" y="284"/>
                </a:lnTo>
                <a:lnTo>
                  <a:pt x="678" y="270"/>
                </a:lnTo>
                <a:lnTo>
                  <a:pt x="678" y="257"/>
                </a:lnTo>
                <a:lnTo>
                  <a:pt x="692" y="203"/>
                </a:lnTo>
                <a:lnTo>
                  <a:pt x="692" y="162"/>
                </a:lnTo>
                <a:lnTo>
                  <a:pt x="692" y="135"/>
                </a:lnTo>
                <a:lnTo>
                  <a:pt x="692" y="122"/>
                </a:lnTo>
                <a:lnTo>
                  <a:pt x="692" y="94"/>
                </a:lnTo>
                <a:lnTo>
                  <a:pt x="706" y="54"/>
                </a:lnTo>
                <a:lnTo>
                  <a:pt x="706" y="40"/>
                </a:lnTo>
                <a:lnTo>
                  <a:pt x="706" y="27"/>
                </a:lnTo>
                <a:lnTo>
                  <a:pt x="706" y="13"/>
                </a:lnTo>
                <a:lnTo>
                  <a:pt x="719" y="0"/>
                </a:lnTo>
                <a:lnTo>
                  <a:pt x="706" y="13"/>
                </a:lnTo>
                <a:lnTo>
                  <a:pt x="719" y="0"/>
                </a:lnTo>
                <a:lnTo>
                  <a:pt x="719" y="13"/>
                </a:lnTo>
                <a:lnTo>
                  <a:pt x="719" y="27"/>
                </a:lnTo>
                <a:lnTo>
                  <a:pt x="733" y="54"/>
                </a:lnTo>
                <a:lnTo>
                  <a:pt x="733" y="67"/>
                </a:lnTo>
                <a:lnTo>
                  <a:pt x="733" y="94"/>
                </a:lnTo>
                <a:lnTo>
                  <a:pt x="733" y="122"/>
                </a:lnTo>
                <a:lnTo>
                  <a:pt x="733" y="135"/>
                </a:lnTo>
                <a:lnTo>
                  <a:pt x="733" y="149"/>
                </a:lnTo>
                <a:lnTo>
                  <a:pt x="733" y="176"/>
                </a:lnTo>
                <a:lnTo>
                  <a:pt x="746" y="203"/>
                </a:lnTo>
                <a:lnTo>
                  <a:pt x="746" y="230"/>
                </a:lnTo>
                <a:lnTo>
                  <a:pt x="746" y="243"/>
                </a:lnTo>
                <a:lnTo>
                  <a:pt x="746" y="257"/>
                </a:lnTo>
                <a:lnTo>
                  <a:pt x="760" y="270"/>
                </a:lnTo>
                <a:lnTo>
                  <a:pt x="773" y="257"/>
                </a:lnTo>
                <a:lnTo>
                  <a:pt x="760" y="270"/>
                </a:lnTo>
                <a:lnTo>
                  <a:pt x="760" y="257"/>
                </a:lnTo>
                <a:lnTo>
                  <a:pt x="773" y="230"/>
                </a:lnTo>
                <a:lnTo>
                  <a:pt x="773" y="216"/>
                </a:lnTo>
                <a:lnTo>
                  <a:pt x="773" y="189"/>
                </a:lnTo>
                <a:lnTo>
                  <a:pt x="773" y="176"/>
                </a:lnTo>
                <a:lnTo>
                  <a:pt x="773" y="162"/>
                </a:lnTo>
                <a:lnTo>
                  <a:pt x="773" y="135"/>
                </a:lnTo>
                <a:lnTo>
                  <a:pt x="773" y="94"/>
                </a:lnTo>
                <a:lnTo>
                  <a:pt x="787" y="67"/>
                </a:lnTo>
                <a:lnTo>
                  <a:pt x="787" y="54"/>
                </a:lnTo>
                <a:lnTo>
                  <a:pt x="801" y="67"/>
                </a:lnTo>
                <a:lnTo>
                  <a:pt x="801" y="94"/>
                </a:lnTo>
                <a:lnTo>
                  <a:pt x="814" y="135"/>
                </a:lnTo>
                <a:lnTo>
                  <a:pt x="814" y="162"/>
                </a:lnTo>
                <a:lnTo>
                  <a:pt x="814" y="189"/>
                </a:lnTo>
                <a:lnTo>
                  <a:pt x="828" y="243"/>
                </a:lnTo>
                <a:lnTo>
                  <a:pt x="828" y="257"/>
                </a:lnTo>
                <a:lnTo>
                  <a:pt x="841" y="297"/>
                </a:lnTo>
                <a:lnTo>
                  <a:pt x="841" y="311"/>
                </a:lnTo>
                <a:lnTo>
                  <a:pt x="841" y="297"/>
                </a:lnTo>
                <a:lnTo>
                  <a:pt x="855" y="284"/>
                </a:lnTo>
                <a:lnTo>
                  <a:pt x="855" y="270"/>
                </a:lnTo>
                <a:lnTo>
                  <a:pt x="855" y="257"/>
                </a:lnTo>
                <a:lnTo>
                  <a:pt x="855" y="243"/>
                </a:lnTo>
                <a:lnTo>
                  <a:pt x="855" y="230"/>
                </a:lnTo>
                <a:lnTo>
                  <a:pt x="868" y="189"/>
                </a:lnTo>
                <a:lnTo>
                  <a:pt x="882" y="203"/>
                </a:lnTo>
                <a:lnTo>
                  <a:pt x="882" y="230"/>
                </a:lnTo>
                <a:lnTo>
                  <a:pt x="882" y="243"/>
                </a:lnTo>
                <a:lnTo>
                  <a:pt x="896" y="284"/>
                </a:lnTo>
                <a:lnTo>
                  <a:pt x="909" y="311"/>
                </a:lnTo>
                <a:lnTo>
                  <a:pt x="923" y="324"/>
                </a:lnTo>
                <a:lnTo>
                  <a:pt x="936" y="324"/>
                </a:lnTo>
                <a:lnTo>
                  <a:pt x="963" y="324"/>
                </a:lnTo>
                <a:lnTo>
                  <a:pt x="977" y="324"/>
                </a:lnTo>
                <a:lnTo>
                  <a:pt x="990" y="338"/>
                </a:lnTo>
                <a:lnTo>
                  <a:pt x="1004" y="351"/>
                </a:lnTo>
                <a:lnTo>
                  <a:pt x="1045" y="365"/>
                </a:lnTo>
                <a:lnTo>
                  <a:pt x="1058" y="365"/>
                </a:lnTo>
                <a:lnTo>
                  <a:pt x="1085" y="378"/>
                </a:lnTo>
                <a:lnTo>
                  <a:pt x="1113" y="406"/>
                </a:lnTo>
                <a:lnTo>
                  <a:pt x="1126" y="406"/>
                </a:lnTo>
                <a:lnTo>
                  <a:pt x="1140" y="419"/>
                </a:lnTo>
                <a:lnTo>
                  <a:pt x="1167" y="446"/>
                </a:lnTo>
                <a:lnTo>
                  <a:pt x="1180" y="460"/>
                </a:lnTo>
                <a:lnTo>
                  <a:pt x="1194" y="473"/>
                </a:lnTo>
                <a:lnTo>
                  <a:pt x="1208" y="500"/>
                </a:lnTo>
                <a:lnTo>
                  <a:pt x="1221" y="514"/>
                </a:lnTo>
                <a:lnTo>
                  <a:pt x="1248" y="568"/>
                </a:lnTo>
                <a:lnTo>
                  <a:pt x="1262" y="581"/>
                </a:lnTo>
                <a:lnTo>
                  <a:pt x="1275" y="608"/>
                </a:lnTo>
                <a:lnTo>
                  <a:pt x="1289" y="635"/>
                </a:lnTo>
                <a:lnTo>
                  <a:pt x="1316" y="662"/>
                </a:lnTo>
                <a:lnTo>
                  <a:pt x="1343" y="689"/>
                </a:lnTo>
                <a:lnTo>
                  <a:pt x="1357" y="703"/>
                </a:lnTo>
                <a:lnTo>
                  <a:pt x="1384" y="730"/>
                </a:lnTo>
                <a:lnTo>
                  <a:pt x="1398" y="730"/>
                </a:lnTo>
                <a:lnTo>
                  <a:pt x="1411" y="744"/>
                </a:lnTo>
                <a:lnTo>
                  <a:pt x="1438" y="757"/>
                </a:lnTo>
                <a:lnTo>
                  <a:pt x="1452" y="757"/>
                </a:lnTo>
                <a:lnTo>
                  <a:pt x="1465" y="771"/>
                </a:lnTo>
                <a:lnTo>
                  <a:pt x="1493" y="771"/>
                </a:lnTo>
                <a:lnTo>
                  <a:pt x="1506" y="757"/>
                </a:lnTo>
                <a:lnTo>
                  <a:pt x="1520" y="757"/>
                </a:lnTo>
                <a:lnTo>
                  <a:pt x="1574" y="730"/>
                </a:lnTo>
                <a:lnTo>
                  <a:pt x="1601" y="717"/>
                </a:lnTo>
              </a:path>
            </a:pathLst>
          </a:custGeom>
          <a:noFill/>
          <a:ln w="22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2" name=""/>
          <p:cNvSpPr/>
          <p:nvPr/>
        </p:nvSpPr>
        <p:spPr>
          <a:xfrm>
            <a:off x="4691160" y="5611680"/>
            <a:ext cx="2089080" cy="579600"/>
          </a:xfrm>
          <a:custGeom>
            <a:avLst/>
            <a:gdLst/>
            <a:ahLst/>
            <a:rect l="l" t="t" r="r" b="b"/>
            <a:pathLst>
              <a:path w="1316" h="365">
                <a:moveTo>
                  <a:pt x="0" y="365"/>
                </a:moveTo>
                <a:lnTo>
                  <a:pt x="108" y="338"/>
                </a:lnTo>
                <a:lnTo>
                  <a:pt x="190" y="365"/>
                </a:lnTo>
                <a:lnTo>
                  <a:pt x="285" y="351"/>
                </a:lnTo>
                <a:lnTo>
                  <a:pt x="366" y="202"/>
                </a:lnTo>
                <a:lnTo>
                  <a:pt x="448" y="67"/>
                </a:lnTo>
                <a:lnTo>
                  <a:pt x="556" y="13"/>
                </a:lnTo>
                <a:lnTo>
                  <a:pt x="624" y="0"/>
                </a:lnTo>
                <a:lnTo>
                  <a:pt x="692" y="13"/>
                </a:lnTo>
                <a:lnTo>
                  <a:pt x="814" y="135"/>
                </a:lnTo>
                <a:lnTo>
                  <a:pt x="868" y="256"/>
                </a:lnTo>
                <a:lnTo>
                  <a:pt x="923" y="311"/>
                </a:lnTo>
                <a:lnTo>
                  <a:pt x="950" y="351"/>
                </a:lnTo>
                <a:lnTo>
                  <a:pt x="1017" y="365"/>
                </a:lnTo>
                <a:lnTo>
                  <a:pt x="1099" y="324"/>
                </a:lnTo>
                <a:lnTo>
                  <a:pt x="1153" y="311"/>
                </a:lnTo>
                <a:lnTo>
                  <a:pt x="1207" y="338"/>
                </a:lnTo>
                <a:lnTo>
                  <a:pt x="1221" y="365"/>
                </a:lnTo>
                <a:lnTo>
                  <a:pt x="1289" y="365"/>
                </a:lnTo>
                <a:lnTo>
                  <a:pt x="1316" y="351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3" name=""/>
          <p:cNvSpPr/>
          <p:nvPr/>
        </p:nvSpPr>
        <p:spPr>
          <a:xfrm>
            <a:off x="5402160" y="5632560"/>
            <a:ext cx="2067120" cy="579240"/>
          </a:xfrm>
          <a:custGeom>
            <a:avLst/>
            <a:gdLst/>
            <a:ahLst/>
            <a:rect l="l" t="t" r="r" b="b"/>
            <a:pathLst>
              <a:path w="1302" h="365">
                <a:moveTo>
                  <a:pt x="0" y="365"/>
                </a:moveTo>
                <a:lnTo>
                  <a:pt x="95" y="338"/>
                </a:lnTo>
                <a:lnTo>
                  <a:pt x="190" y="365"/>
                </a:lnTo>
                <a:lnTo>
                  <a:pt x="271" y="338"/>
                </a:lnTo>
                <a:lnTo>
                  <a:pt x="366" y="203"/>
                </a:lnTo>
                <a:lnTo>
                  <a:pt x="434" y="68"/>
                </a:lnTo>
                <a:lnTo>
                  <a:pt x="542" y="0"/>
                </a:lnTo>
                <a:lnTo>
                  <a:pt x="610" y="0"/>
                </a:lnTo>
                <a:lnTo>
                  <a:pt x="692" y="14"/>
                </a:lnTo>
                <a:lnTo>
                  <a:pt x="814" y="122"/>
                </a:lnTo>
                <a:lnTo>
                  <a:pt x="854" y="243"/>
                </a:lnTo>
                <a:lnTo>
                  <a:pt x="909" y="311"/>
                </a:lnTo>
                <a:lnTo>
                  <a:pt x="936" y="352"/>
                </a:lnTo>
                <a:lnTo>
                  <a:pt x="1017" y="365"/>
                </a:lnTo>
                <a:lnTo>
                  <a:pt x="1099" y="325"/>
                </a:lnTo>
                <a:lnTo>
                  <a:pt x="1139" y="311"/>
                </a:lnTo>
                <a:lnTo>
                  <a:pt x="1194" y="338"/>
                </a:lnTo>
                <a:lnTo>
                  <a:pt x="1221" y="352"/>
                </a:lnTo>
                <a:lnTo>
                  <a:pt x="1275" y="365"/>
                </a:lnTo>
                <a:lnTo>
                  <a:pt x="1302" y="352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4" name=""/>
          <p:cNvGrpSpPr/>
          <p:nvPr/>
        </p:nvGrpSpPr>
        <p:grpSpPr>
          <a:xfrm>
            <a:off x="5610240" y="2352600"/>
            <a:ext cx="65160" cy="1844280"/>
            <a:chOff x="5610240" y="2352600"/>
            <a:chExt cx="65160" cy="1844280"/>
          </a:xfrm>
        </p:grpSpPr>
        <p:sp>
          <p:nvSpPr>
            <p:cNvPr id="7075" name=""/>
            <p:cNvSpPr/>
            <p:nvPr/>
          </p:nvSpPr>
          <p:spPr>
            <a:xfrm>
              <a:off x="5610240" y="2352600"/>
              <a:ext cx="6516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13" y="0"/>
                  </a:moveTo>
                  <a:lnTo>
                    <a:pt x="41" y="81"/>
                  </a:lnTo>
                  <a:lnTo>
                    <a:pt x="13" y="81"/>
                  </a:lnTo>
                  <a:lnTo>
                    <a:pt x="0" y="8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6" name=""/>
            <p:cNvSpPr/>
            <p:nvPr/>
          </p:nvSpPr>
          <p:spPr>
            <a:xfrm flipV="1">
              <a:off x="5631120" y="2480760"/>
              <a:ext cx="1440" cy="17161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7" name=""/>
          <p:cNvGrpSpPr/>
          <p:nvPr/>
        </p:nvGrpSpPr>
        <p:grpSpPr>
          <a:xfrm>
            <a:off x="4596120" y="987480"/>
            <a:ext cx="2956680" cy="1674720"/>
            <a:chOff x="4596120" y="987480"/>
            <a:chExt cx="2956680" cy="1674720"/>
          </a:xfrm>
        </p:grpSpPr>
        <p:sp>
          <p:nvSpPr>
            <p:cNvPr id="7078" name=""/>
            <p:cNvSpPr/>
            <p:nvPr/>
          </p:nvSpPr>
          <p:spPr>
            <a:xfrm>
              <a:off x="6076800" y="1468440"/>
              <a:ext cx="125280" cy="1042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79" name=""/>
            <p:cNvGrpSpPr/>
            <p:nvPr/>
          </p:nvGrpSpPr>
          <p:grpSpPr>
            <a:xfrm>
              <a:off x="5162400" y="1932120"/>
              <a:ext cx="2390400" cy="42840"/>
              <a:chOff x="5162400" y="1932120"/>
              <a:chExt cx="2390400" cy="42840"/>
            </a:xfrm>
          </p:grpSpPr>
          <p:sp>
            <p:nvSpPr>
              <p:cNvPr id="7080" name=""/>
              <p:cNvSpPr/>
              <p:nvPr/>
            </p:nvSpPr>
            <p:spPr>
              <a:xfrm>
                <a:off x="7459200" y="1932120"/>
                <a:ext cx="93600" cy="4284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59" y="18"/>
                    </a:moveTo>
                    <a:lnTo>
                      <a:pt x="0" y="27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5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5162400" y="1960560"/>
                <a:ext cx="229680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2" name=""/>
            <p:cNvGrpSpPr/>
            <p:nvPr/>
          </p:nvGrpSpPr>
          <p:grpSpPr>
            <a:xfrm>
              <a:off x="5365440" y="1817640"/>
              <a:ext cx="1874880" cy="371520"/>
              <a:chOff x="5365440" y="1817640"/>
              <a:chExt cx="1874880" cy="371520"/>
            </a:xfrm>
          </p:grpSpPr>
          <p:sp>
            <p:nvSpPr>
              <p:cNvPr id="7083" name=""/>
              <p:cNvSpPr/>
              <p:nvPr/>
            </p:nvSpPr>
            <p:spPr>
              <a:xfrm>
                <a:off x="7036920" y="2103480"/>
                <a:ext cx="203400" cy="85680"/>
              </a:xfrm>
              <a:custGeom>
                <a:avLst/>
                <a:gdLst/>
                <a:ahLst/>
                <a:rect l="l" t="t" r="r" b="b"/>
                <a:pathLst>
                  <a:path w="128" h="54">
                    <a:moveTo>
                      <a:pt x="128" y="54"/>
                    </a:moveTo>
                    <a:lnTo>
                      <a:pt x="0" y="54"/>
                    </a:lnTo>
                    <a:lnTo>
                      <a:pt x="10" y="27"/>
                    </a:lnTo>
                    <a:lnTo>
                      <a:pt x="10" y="0"/>
                    </a:lnTo>
                    <a:lnTo>
                      <a:pt x="128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5365440" y="1817640"/>
                <a:ext cx="1687320" cy="3286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5" name=""/>
            <p:cNvGrpSpPr/>
            <p:nvPr/>
          </p:nvGrpSpPr>
          <p:grpSpPr>
            <a:xfrm>
              <a:off x="7178400" y="1560600"/>
              <a:ext cx="46080" cy="815760"/>
              <a:chOff x="7178400" y="1560600"/>
              <a:chExt cx="46080" cy="815760"/>
            </a:xfrm>
          </p:grpSpPr>
          <p:sp>
            <p:nvSpPr>
              <p:cNvPr id="7086" name=""/>
              <p:cNvSpPr/>
              <p:nvPr/>
            </p:nvSpPr>
            <p:spPr>
              <a:xfrm>
                <a:off x="7178400" y="1560600"/>
                <a:ext cx="46080" cy="85680"/>
              </a:xfrm>
              <a:custGeom>
                <a:avLst/>
                <a:gdLst/>
                <a:ahLst/>
                <a:rect l="l" t="t" r="r" b="b"/>
                <a:pathLst>
                  <a:path w="29" h="54">
                    <a:moveTo>
                      <a:pt x="20" y="0"/>
                    </a:moveTo>
                    <a:lnTo>
                      <a:pt x="29" y="54"/>
                    </a:lnTo>
                    <a:lnTo>
                      <a:pt x="20" y="54"/>
                    </a:lnTo>
                    <a:lnTo>
                      <a:pt x="0" y="5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 flipV="1">
                <a:off x="7210080" y="1646280"/>
                <a:ext cx="1440" cy="73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8" name=""/>
            <p:cNvSpPr/>
            <p:nvPr/>
          </p:nvSpPr>
          <p:spPr>
            <a:xfrm>
              <a:off x="7068960" y="2232000"/>
              <a:ext cx="29700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7084440" y="2247840"/>
              <a:ext cx="11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7209720" y="2247840"/>
              <a:ext cx="144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.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 flipH="1">
              <a:off x="6022800" y="1333440"/>
              <a:ext cx="233280" cy="1252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2" name=""/>
            <p:cNvGrpSpPr/>
            <p:nvPr/>
          </p:nvGrpSpPr>
          <p:grpSpPr>
            <a:xfrm>
              <a:off x="6100560" y="1073160"/>
              <a:ext cx="46080" cy="1589040"/>
              <a:chOff x="6100560" y="1073160"/>
              <a:chExt cx="46080" cy="1589040"/>
            </a:xfrm>
          </p:grpSpPr>
          <p:sp>
            <p:nvSpPr>
              <p:cNvPr id="7093" name=""/>
              <p:cNvSpPr/>
              <p:nvPr/>
            </p:nvSpPr>
            <p:spPr>
              <a:xfrm>
                <a:off x="6100560" y="1073160"/>
                <a:ext cx="46080" cy="85680"/>
              </a:xfrm>
              <a:custGeom>
                <a:avLst/>
                <a:gdLst/>
                <a:ahLst/>
                <a:rect l="l" t="t" r="r" b="b"/>
                <a:pathLst>
                  <a:path w="29" h="54">
                    <a:moveTo>
                      <a:pt x="20" y="0"/>
                    </a:moveTo>
                    <a:lnTo>
                      <a:pt x="29" y="54"/>
                    </a:lnTo>
                    <a:lnTo>
                      <a:pt x="20" y="54"/>
                    </a:lnTo>
                    <a:lnTo>
                      <a:pt x="0" y="5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 flipV="1">
                <a:off x="6132240" y="1158840"/>
                <a:ext cx="1440" cy="150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5" name=""/>
            <p:cNvGrpSpPr/>
            <p:nvPr/>
          </p:nvGrpSpPr>
          <p:grpSpPr>
            <a:xfrm>
              <a:off x="4596120" y="1463760"/>
              <a:ext cx="614880" cy="487800"/>
              <a:chOff x="4596120" y="1463760"/>
              <a:chExt cx="614880" cy="487800"/>
            </a:xfrm>
          </p:grpSpPr>
          <p:sp>
            <p:nvSpPr>
              <p:cNvPr id="7096" name=""/>
              <p:cNvSpPr/>
              <p:nvPr/>
            </p:nvSpPr>
            <p:spPr>
              <a:xfrm>
                <a:off x="4596120" y="1463760"/>
                <a:ext cx="6148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</a:t>
                </a:r>
                <a:r>
                  <a:rPr b="0" lang="fr-FR" sz="3200" spc="-1" strike="noStrike">
                    <a:solidFill>
                      <a:srgbClr val="ff3300"/>
                    </a:solidFill>
                    <a:latin typeface="Comic Sans MS"/>
                  </a:rPr>
                  <a:t>(t)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5112720" y="1792440"/>
                <a:ext cx="15840" cy="100080"/>
              </a:xfrm>
              <a:custGeom>
                <a:avLst/>
                <a:gdLst/>
                <a:ahLst/>
                <a:rect l="l" t="t" r="r" b="b"/>
                <a:pathLst>
                  <a:path w="10" h="63">
                    <a:moveTo>
                      <a:pt x="10" y="0"/>
                    </a:moveTo>
                    <a:lnTo>
                      <a:pt x="0" y="27"/>
                    </a:lnTo>
                    <a:lnTo>
                      <a:pt x="0" y="63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8" name=""/>
            <p:cNvSpPr/>
            <p:nvPr/>
          </p:nvSpPr>
          <p:spPr>
            <a:xfrm>
              <a:off x="6146640" y="1389240"/>
              <a:ext cx="109440" cy="140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9" name=""/>
            <p:cNvSpPr/>
            <p:nvPr/>
          </p:nvSpPr>
          <p:spPr>
            <a:xfrm>
              <a:off x="6209280" y="987480"/>
              <a:ext cx="8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7303320" y="1389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1" name=""/>
          <p:cNvSpPr/>
          <p:nvPr/>
        </p:nvSpPr>
        <p:spPr>
          <a:xfrm>
            <a:off x="4890960" y="5459400"/>
            <a:ext cx="2278080" cy="825480"/>
          </a:xfrm>
          <a:custGeom>
            <a:avLst/>
            <a:gdLst/>
            <a:ahLst/>
            <a:rect l="l" t="t" r="r" b="b"/>
            <a:pathLst>
              <a:path w="1435" h="520">
                <a:moveTo>
                  <a:pt x="0" y="474"/>
                </a:moveTo>
                <a:cubicBezTo>
                  <a:pt x="59" y="497"/>
                  <a:pt x="119" y="520"/>
                  <a:pt x="174" y="465"/>
                </a:cubicBezTo>
                <a:cubicBezTo>
                  <a:pt x="229" y="410"/>
                  <a:pt x="267" y="220"/>
                  <a:pt x="329" y="145"/>
                </a:cubicBezTo>
                <a:cubicBezTo>
                  <a:pt x="391" y="70"/>
                  <a:pt x="463" y="34"/>
                  <a:pt x="548" y="17"/>
                </a:cubicBezTo>
                <a:cubicBezTo>
                  <a:pt x="633" y="0"/>
                  <a:pt x="748" y="18"/>
                  <a:pt x="841" y="44"/>
                </a:cubicBezTo>
                <a:cubicBezTo>
                  <a:pt x="934" y="70"/>
                  <a:pt x="1031" y="103"/>
                  <a:pt x="1106" y="172"/>
                </a:cubicBezTo>
                <a:cubicBezTo>
                  <a:pt x="1181" y="241"/>
                  <a:pt x="1234" y="410"/>
                  <a:pt x="1289" y="456"/>
                </a:cubicBezTo>
                <a:cubicBezTo>
                  <a:pt x="1344" y="502"/>
                  <a:pt x="1389" y="474"/>
                  <a:pt x="1435" y="44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2" name=""/>
          <p:cNvSpPr/>
          <p:nvPr/>
        </p:nvSpPr>
        <p:spPr>
          <a:xfrm>
            <a:off x="4367520" y="474516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Comic Sans MS"/>
              </a:rPr>
              <a:t>E</a:t>
            </a:r>
            <a:r>
              <a:rPr b="0" lang="fr-FR" sz="2400" spc="-1" strike="noStrike" baseline="-25000">
                <a:solidFill>
                  <a:srgbClr val="ff3300"/>
                </a:solidFill>
                <a:latin typeface="Comic Sans MS"/>
              </a:rPr>
              <a:t>coh</a:t>
            </a:r>
            <a:r>
              <a:rPr b="0" lang="fr-FR" sz="2400" spc="-1" strike="noStrike">
                <a:solidFill>
                  <a:srgbClr val="ff3300"/>
                </a:solidFill>
                <a:latin typeface="Comic Sans MS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3" name=""/>
          <p:cNvSpPr/>
          <p:nvPr/>
        </p:nvSpPr>
        <p:spPr>
          <a:xfrm>
            <a:off x="4465080" y="5356080"/>
            <a:ext cx="80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ff"/>
                </a:solidFill>
                <a:latin typeface="Comic Sans MS"/>
              </a:rPr>
              <a:t>E</a:t>
            </a:r>
            <a:r>
              <a:rPr b="0" lang="fr-FR" sz="2400" spc="-1" strike="noStrike" baseline="-25000">
                <a:solidFill>
                  <a:srgbClr val="6600ff"/>
                </a:solidFill>
                <a:latin typeface="Comic Sans MS"/>
              </a:rPr>
              <a:t>inc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4" name=""/>
          <p:cNvSpPr/>
          <p:nvPr/>
        </p:nvSpPr>
        <p:spPr>
          <a:xfrm>
            <a:off x="6502320" y="5268960"/>
            <a:ext cx="652680" cy="276120"/>
          </a:xfrm>
          <a:prstGeom prst="rightArrow">
            <a:avLst>
              <a:gd name="adj1" fmla="val 50000"/>
              <a:gd name="adj2" fmla="val 5909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5" name=""/>
          <p:cNvSpPr/>
          <p:nvPr/>
        </p:nvSpPr>
        <p:spPr>
          <a:xfrm>
            <a:off x="7326000" y="51084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6" name=""/>
          <p:cNvSpPr/>
          <p:nvPr/>
        </p:nvSpPr>
        <p:spPr>
          <a:xfrm>
            <a:off x="26049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7" name=""/>
          <p:cNvGrpSpPr/>
          <p:nvPr/>
        </p:nvGrpSpPr>
        <p:grpSpPr>
          <a:xfrm>
            <a:off x="4073400" y="2674800"/>
            <a:ext cx="3562560" cy="1544760"/>
            <a:chOff x="4073400" y="2674800"/>
            <a:chExt cx="3562560" cy="1544760"/>
          </a:xfrm>
        </p:grpSpPr>
        <p:grpSp>
          <p:nvGrpSpPr>
            <p:cNvPr id="7108" name=""/>
            <p:cNvGrpSpPr/>
            <p:nvPr/>
          </p:nvGrpSpPr>
          <p:grpSpPr>
            <a:xfrm>
              <a:off x="4467240" y="3811680"/>
              <a:ext cx="3168720" cy="65160"/>
              <a:chOff x="4467240" y="3811680"/>
              <a:chExt cx="3168720" cy="65160"/>
            </a:xfrm>
          </p:grpSpPr>
          <p:sp>
            <p:nvSpPr>
              <p:cNvPr id="7109" name=""/>
              <p:cNvSpPr/>
              <p:nvPr/>
            </p:nvSpPr>
            <p:spPr>
              <a:xfrm>
                <a:off x="7507440" y="3811680"/>
                <a:ext cx="128520" cy="65160"/>
              </a:xfrm>
              <a:custGeom>
                <a:avLst/>
                <a:gdLst/>
                <a:ahLst/>
                <a:rect l="l" t="t" r="r" b="b"/>
                <a:pathLst>
                  <a:path w="81" h="41">
                    <a:moveTo>
                      <a:pt x="81" y="14"/>
                    </a:moveTo>
                    <a:lnTo>
                      <a:pt x="0" y="41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8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4467240" y="3833640"/>
                <a:ext cx="30402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1" name=""/>
            <p:cNvSpPr/>
            <p:nvPr/>
          </p:nvSpPr>
          <p:spPr>
            <a:xfrm>
              <a:off x="7464240" y="3468600"/>
              <a:ext cx="16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2" name=""/>
            <p:cNvGrpSpPr/>
            <p:nvPr/>
          </p:nvGrpSpPr>
          <p:grpSpPr>
            <a:xfrm>
              <a:off x="4876920" y="3081240"/>
              <a:ext cx="2479680" cy="1116000"/>
              <a:chOff x="4876920" y="3081240"/>
              <a:chExt cx="2479680" cy="1116000"/>
            </a:xfrm>
          </p:grpSpPr>
          <p:sp>
            <p:nvSpPr>
              <p:cNvPr id="7113" name=""/>
              <p:cNvSpPr/>
              <p:nvPr/>
            </p:nvSpPr>
            <p:spPr>
              <a:xfrm>
                <a:off x="6105600" y="3081240"/>
                <a:ext cx="1251000" cy="1116000"/>
              </a:xfrm>
              <a:custGeom>
                <a:avLst/>
                <a:gdLst/>
                <a:ahLst/>
                <a:rect l="l" t="t" r="r" b="b"/>
                <a:pathLst>
                  <a:path w="788" h="703">
                    <a:moveTo>
                      <a:pt x="0" y="0"/>
                    </a:moveTo>
                    <a:lnTo>
                      <a:pt x="41" y="14"/>
                    </a:lnTo>
                    <a:lnTo>
                      <a:pt x="95" y="27"/>
                    </a:lnTo>
                    <a:lnTo>
                      <a:pt x="136" y="54"/>
                    </a:lnTo>
                    <a:lnTo>
                      <a:pt x="163" y="81"/>
                    </a:lnTo>
                    <a:lnTo>
                      <a:pt x="177" y="95"/>
                    </a:lnTo>
                    <a:lnTo>
                      <a:pt x="190" y="109"/>
                    </a:lnTo>
                    <a:lnTo>
                      <a:pt x="204" y="136"/>
                    </a:lnTo>
                    <a:lnTo>
                      <a:pt x="231" y="190"/>
                    </a:lnTo>
                    <a:lnTo>
                      <a:pt x="245" y="217"/>
                    </a:lnTo>
                    <a:lnTo>
                      <a:pt x="258" y="244"/>
                    </a:lnTo>
                    <a:lnTo>
                      <a:pt x="285" y="284"/>
                    </a:lnTo>
                    <a:lnTo>
                      <a:pt x="313" y="365"/>
                    </a:lnTo>
                    <a:lnTo>
                      <a:pt x="326" y="392"/>
                    </a:lnTo>
                    <a:lnTo>
                      <a:pt x="353" y="433"/>
                    </a:lnTo>
                    <a:lnTo>
                      <a:pt x="380" y="501"/>
                    </a:lnTo>
                    <a:lnTo>
                      <a:pt x="380" y="528"/>
                    </a:lnTo>
                    <a:lnTo>
                      <a:pt x="394" y="568"/>
                    </a:lnTo>
                    <a:lnTo>
                      <a:pt x="435" y="636"/>
                    </a:lnTo>
                    <a:lnTo>
                      <a:pt x="462" y="663"/>
                    </a:lnTo>
                    <a:lnTo>
                      <a:pt x="475" y="676"/>
                    </a:lnTo>
                    <a:lnTo>
                      <a:pt x="503" y="690"/>
                    </a:lnTo>
                    <a:lnTo>
                      <a:pt x="530" y="703"/>
                    </a:lnTo>
                    <a:lnTo>
                      <a:pt x="543" y="703"/>
                    </a:lnTo>
                    <a:lnTo>
                      <a:pt x="557" y="703"/>
                    </a:lnTo>
                    <a:lnTo>
                      <a:pt x="571" y="703"/>
                    </a:lnTo>
                    <a:lnTo>
                      <a:pt x="611" y="676"/>
                    </a:lnTo>
                    <a:lnTo>
                      <a:pt x="611" y="663"/>
                    </a:lnTo>
                    <a:lnTo>
                      <a:pt x="625" y="649"/>
                    </a:lnTo>
                    <a:lnTo>
                      <a:pt x="652" y="609"/>
                    </a:lnTo>
                    <a:lnTo>
                      <a:pt x="652" y="595"/>
                    </a:lnTo>
                    <a:lnTo>
                      <a:pt x="666" y="582"/>
                    </a:lnTo>
                    <a:lnTo>
                      <a:pt x="679" y="541"/>
                    </a:lnTo>
                    <a:lnTo>
                      <a:pt x="693" y="514"/>
                    </a:lnTo>
                    <a:lnTo>
                      <a:pt x="706" y="487"/>
                    </a:lnTo>
                    <a:lnTo>
                      <a:pt x="720" y="460"/>
                    </a:lnTo>
                    <a:lnTo>
                      <a:pt x="734" y="447"/>
                    </a:lnTo>
                    <a:lnTo>
                      <a:pt x="747" y="447"/>
                    </a:lnTo>
                    <a:lnTo>
                      <a:pt x="761" y="447"/>
                    </a:lnTo>
                    <a:lnTo>
                      <a:pt x="788" y="447"/>
                    </a:lnTo>
                    <a:lnTo>
                      <a:pt x="788" y="46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4876920" y="3081240"/>
                <a:ext cx="1251000" cy="1116000"/>
              </a:xfrm>
              <a:custGeom>
                <a:avLst/>
                <a:gdLst/>
                <a:ahLst/>
                <a:rect l="l" t="t" r="r" b="b"/>
                <a:pathLst>
                  <a:path w="788" h="703">
                    <a:moveTo>
                      <a:pt x="788" y="0"/>
                    </a:moveTo>
                    <a:lnTo>
                      <a:pt x="761" y="14"/>
                    </a:lnTo>
                    <a:lnTo>
                      <a:pt x="706" y="27"/>
                    </a:lnTo>
                    <a:lnTo>
                      <a:pt x="679" y="41"/>
                    </a:lnTo>
                    <a:lnTo>
                      <a:pt x="638" y="68"/>
                    </a:lnTo>
                    <a:lnTo>
                      <a:pt x="625" y="81"/>
                    </a:lnTo>
                    <a:lnTo>
                      <a:pt x="598" y="122"/>
                    </a:lnTo>
                    <a:lnTo>
                      <a:pt x="557" y="190"/>
                    </a:lnTo>
                    <a:lnTo>
                      <a:pt x="530" y="230"/>
                    </a:lnTo>
                    <a:lnTo>
                      <a:pt x="516" y="271"/>
                    </a:lnTo>
                    <a:lnTo>
                      <a:pt x="475" y="365"/>
                    </a:lnTo>
                    <a:lnTo>
                      <a:pt x="462" y="392"/>
                    </a:lnTo>
                    <a:lnTo>
                      <a:pt x="448" y="433"/>
                    </a:lnTo>
                    <a:lnTo>
                      <a:pt x="421" y="501"/>
                    </a:lnTo>
                    <a:lnTo>
                      <a:pt x="407" y="528"/>
                    </a:lnTo>
                    <a:lnTo>
                      <a:pt x="407" y="541"/>
                    </a:lnTo>
                    <a:lnTo>
                      <a:pt x="394" y="568"/>
                    </a:lnTo>
                    <a:lnTo>
                      <a:pt x="367" y="622"/>
                    </a:lnTo>
                    <a:lnTo>
                      <a:pt x="340" y="649"/>
                    </a:lnTo>
                    <a:lnTo>
                      <a:pt x="326" y="663"/>
                    </a:lnTo>
                    <a:lnTo>
                      <a:pt x="312" y="676"/>
                    </a:lnTo>
                    <a:lnTo>
                      <a:pt x="285" y="690"/>
                    </a:lnTo>
                    <a:lnTo>
                      <a:pt x="258" y="703"/>
                    </a:lnTo>
                    <a:lnTo>
                      <a:pt x="244" y="703"/>
                    </a:lnTo>
                    <a:lnTo>
                      <a:pt x="231" y="703"/>
                    </a:lnTo>
                    <a:lnTo>
                      <a:pt x="217" y="703"/>
                    </a:lnTo>
                    <a:lnTo>
                      <a:pt x="190" y="676"/>
                    </a:lnTo>
                    <a:lnTo>
                      <a:pt x="177" y="649"/>
                    </a:lnTo>
                    <a:lnTo>
                      <a:pt x="177" y="636"/>
                    </a:lnTo>
                    <a:lnTo>
                      <a:pt x="163" y="609"/>
                    </a:lnTo>
                    <a:lnTo>
                      <a:pt x="149" y="595"/>
                    </a:lnTo>
                    <a:lnTo>
                      <a:pt x="149" y="582"/>
                    </a:lnTo>
                    <a:lnTo>
                      <a:pt x="122" y="541"/>
                    </a:lnTo>
                    <a:lnTo>
                      <a:pt x="95" y="514"/>
                    </a:lnTo>
                    <a:lnTo>
                      <a:pt x="95" y="501"/>
                    </a:lnTo>
                    <a:lnTo>
                      <a:pt x="82" y="474"/>
                    </a:lnTo>
                    <a:lnTo>
                      <a:pt x="68" y="460"/>
                    </a:lnTo>
                    <a:lnTo>
                      <a:pt x="54" y="447"/>
                    </a:lnTo>
                    <a:lnTo>
                      <a:pt x="41" y="447"/>
                    </a:lnTo>
                    <a:lnTo>
                      <a:pt x="27" y="447"/>
                    </a:lnTo>
                    <a:lnTo>
                      <a:pt x="0" y="447"/>
                    </a:lnTo>
                    <a:lnTo>
                      <a:pt x="0" y="46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5" name=""/>
            <p:cNvGrpSpPr/>
            <p:nvPr/>
          </p:nvGrpSpPr>
          <p:grpSpPr>
            <a:xfrm>
              <a:off x="4073400" y="3081240"/>
              <a:ext cx="2477880" cy="1138320"/>
              <a:chOff x="4073400" y="3081240"/>
              <a:chExt cx="2477880" cy="1138320"/>
            </a:xfrm>
          </p:grpSpPr>
          <p:sp>
            <p:nvSpPr>
              <p:cNvPr id="7116" name=""/>
              <p:cNvSpPr/>
              <p:nvPr/>
            </p:nvSpPr>
            <p:spPr>
              <a:xfrm>
                <a:off x="5302080" y="3081240"/>
                <a:ext cx="1249200" cy="1138320"/>
              </a:xfrm>
              <a:custGeom>
                <a:avLst/>
                <a:gdLst/>
                <a:ahLst/>
                <a:rect l="l" t="t" r="r" b="b"/>
                <a:pathLst>
                  <a:path w="787" h="717">
                    <a:moveTo>
                      <a:pt x="0" y="0"/>
                    </a:moveTo>
                    <a:lnTo>
                      <a:pt x="27" y="14"/>
                    </a:lnTo>
                    <a:lnTo>
                      <a:pt x="81" y="27"/>
                    </a:lnTo>
                    <a:lnTo>
                      <a:pt x="122" y="54"/>
                    </a:lnTo>
                    <a:lnTo>
                      <a:pt x="149" y="81"/>
                    </a:lnTo>
                    <a:lnTo>
                      <a:pt x="163" y="95"/>
                    </a:lnTo>
                    <a:lnTo>
                      <a:pt x="190" y="136"/>
                    </a:lnTo>
                    <a:lnTo>
                      <a:pt x="244" y="203"/>
                    </a:lnTo>
                    <a:lnTo>
                      <a:pt x="258" y="244"/>
                    </a:lnTo>
                    <a:lnTo>
                      <a:pt x="285" y="284"/>
                    </a:lnTo>
                    <a:lnTo>
                      <a:pt x="312" y="365"/>
                    </a:lnTo>
                    <a:lnTo>
                      <a:pt x="326" y="406"/>
                    </a:lnTo>
                    <a:lnTo>
                      <a:pt x="339" y="447"/>
                    </a:lnTo>
                    <a:lnTo>
                      <a:pt x="366" y="514"/>
                    </a:lnTo>
                    <a:lnTo>
                      <a:pt x="380" y="541"/>
                    </a:lnTo>
                    <a:lnTo>
                      <a:pt x="380" y="555"/>
                    </a:lnTo>
                    <a:lnTo>
                      <a:pt x="394" y="582"/>
                    </a:lnTo>
                    <a:lnTo>
                      <a:pt x="421" y="622"/>
                    </a:lnTo>
                    <a:lnTo>
                      <a:pt x="448" y="649"/>
                    </a:lnTo>
                    <a:lnTo>
                      <a:pt x="461" y="663"/>
                    </a:lnTo>
                    <a:lnTo>
                      <a:pt x="475" y="676"/>
                    </a:lnTo>
                    <a:lnTo>
                      <a:pt x="502" y="703"/>
                    </a:lnTo>
                    <a:lnTo>
                      <a:pt x="529" y="717"/>
                    </a:lnTo>
                    <a:lnTo>
                      <a:pt x="543" y="717"/>
                    </a:lnTo>
                    <a:lnTo>
                      <a:pt x="557" y="717"/>
                    </a:lnTo>
                    <a:lnTo>
                      <a:pt x="570" y="717"/>
                    </a:lnTo>
                    <a:lnTo>
                      <a:pt x="597" y="690"/>
                    </a:lnTo>
                    <a:lnTo>
                      <a:pt x="611" y="663"/>
                    </a:lnTo>
                    <a:lnTo>
                      <a:pt x="624" y="649"/>
                    </a:lnTo>
                    <a:lnTo>
                      <a:pt x="652" y="609"/>
                    </a:lnTo>
                    <a:lnTo>
                      <a:pt x="652" y="595"/>
                    </a:lnTo>
                    <a:lnTo>
                      <a:pt x="652" y="582"/>
                    </a:lnTo>
                    <a:lnTo>
                      <a:pt x="665" y="568"/>
                    </a:lnTo>
                    <a:lnTo>
                      <a:pt x="679" y="541"/>
                    </a:lnTo>
                    <a:lnTo>
                      <a:pt x="692" y="514"/>
                    </a:lnTo>
                    <a:lnTo>
                      <a:pt x="706" y="501"/>
                    </a:lnTo>
                    <a:lnTo>
                      <a:pt x="720" y="474"/>
                    </a:lnTo>
                    <a:lnTo>
                      <a:pt x="733" y="460"/>
                    </a:lnTo>
                    <a:lnTo>
                      <a:pt x="747" y="447"/>
                    </a:lnTo>
                    <a:lnTo>
                      <a:pt x="760" y="447"/>
                    </a:lnTo>
                    <a:lnTo>
                      <a:pt x="787" y="46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4073400" y="3081240"/>
                <a:ext cx="1249200" cy="1116000"/>
              </a:xfrm>
              <a:custGeom>
                <a:avLst/>
                <a:gdLst/>
                <a:ahLst/>
                <a:rect l="l" t="t" r="r" b="b"/>
                <a:pathLst>
                  <a:path w="787" h="703">
                    <a:moveTo>
                      <a:pt x="787" y="0"/>
                    </a:moveTo>
                    <a:lnTo>
                      <a:pt x="747" y="14"/>
                    </a:lnTo>
                    <a:lnTo>
                      <a:pt x="706" y="27"/>
                    </a:lnTo>
                    <a:lnTo>
                      <a:pt x="665" y="54"/>
                    </a:lnTo>
                    <a:lnTo>
                      <a:pt x="624" y="81"/>
                    </a:lnTo>
                    <a:lnTo>
                      <a:pt x="624" y="95"/>
                    </a:lnTo>
                    <a:lnTo>
                      <a:pt x="597" y="136"/>
                    </a:lnTo>
                    <a:lnTo>
                      <a:pt x="556" y="203"/>
                    </a:lnTo>
                    <a:lnTo>
                      <a:pt x="529" y="244"/>
                    </a:lnTo>
                    <a:lnTo>
                      <a:pt x="516" y="284"/>
                    </a:lnTo>
                    <a:lnTo>
                      <a:pt x="475" y="365"/>
                    </a:lnTo>
                    <a:lnTo>
                      <a:pt x="461" y="392"/>
                    </a:lnTo>
                    <a:lnTo>
                      <a:pt x="448" y="433"/>
                    </a:lnTo>
                    <a:lnTo>
                      <a:pt x="421" y="514"/>
                    </a:lnTo>
                    <a:lnTo>
                      <a:pt x="407" y="541"/>
                    </a:lnTo>
                    <a:lnTo>
                      <a:pt x="393" y="582"/>
                    </a:lnTo>
                    <a:lnTo>
                      <a:pt x="353" y="636"/>
                    </a:lnTo>
                    <a:lnTo>
                      <a:pt x="326" y="663"/>
                    </a:lnTo>
                    <a:lnTo>
                      <a:pt x="312" y="676"/>
                    </a:lnTo>
                    <a:lnTo>
                      <a:pt x="285" y="690"/>
                    </a:lnTo>
                    <a:lnTo>
                      <a:pt x="258" y="703"/>
                    </a:lnTo>
                    <a:lnTo>
                      <a:pt x="244" y="703"/>
                    </a:lnTo>
                    <a:lnTo>
                      <a:pt x="230" y="703"/>
                    </a:lnTo>
                    <a:lnTo>
                      <a:pt x="217" y="703"/>
                    </a:lnTo>
                    <a:lnTo>
                      <a:pt x="190" y="676"/>
                    </a:lnTo>
                    <a:lnTo>
                      <a:pt x="176" y="663"/>
                    </a:lnTo>
                    <a:lnTo>
                      <a:pt x="163" y="649"/>
                    </a:lnTo>
                    <a:lnTo>
                      <a:pt x="149" y="609"/>
                    </a:lnTo>
                    <a:lnTo>
                      <a:pt x="135" y="595"/>
                    </a:lnTo>
                    <a:lnTo>
                      <a:pt x="135" y="582"/>
                    </a:lnTo>
                    <a:lnTo>
                      <a:pt x="108" y="541"/>
                    </a:lnTo>
                    <a:lnTo>
                      <a:pt x="95" y="514"/>
                    </a:lnTo>
                    <a:lnTo>
                      <a:pt x="95" y="501"/>
                    </a:lnTo>
                    <a:lnTo>
                      <a:pt x="81" y="487"/>
                    </a:lnTo>
                    <a:lnTo>
                      <a:pt x="67" y="474"/>
                    </a:lnTo>
                    <a:lnTo>
                      <a:pt x="40" y="447"/>
                    </a:lnTo>
                    <a:lnTo>
                      <a:pt x="27" y="447"/>
                    </a:lnTo>
                    <a:lnTo>
                      <a:pt x="0" y="460"/>
                    </a:ln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8" name=""/>
            <p:cNvSpPr/>
            <p:nvPr/>
          </p:nvSpPr>
          <p:spPr>
            <a:xfrm>
              <a:off x="4789800" y="3060720"/>
              <a:ext cx="36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@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6448680" y="3017880"/>
              <a:ext cx="36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@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5308560" y="2887560"/>
              <a:ext cx="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5347800" y="26748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5278320" y="3268800"/>
              <a:ext cx="3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3" name="PlaceHolder 1"/>
          <p:cNvSpPr>
            <a:spLocks noGrp="1"/>
          </p:cNvSpPr>
          <p:nvPr>
            <p:ph type="title"/>
          </p:nvPr>
        </p:nvSpPr>
        <p:spPr>
          <a:xfrm>
            <a:off x="345600" y="590400"/>
            <a:ext cx="6147000" cy="1069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iston, tilt  : facteurs de degradation  </a:t>
            </a: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pecial fana-mathiques !   gens normaux s'absten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4" name=""/>
          <p:cNvGrpSpPr/>
          <p:nvPr/>
        </p:nvGrpSpPr>
        <p:grpSpPr>
          <a:xfrm>
            <a:off x="531720" y="4605480"/>
            <a:ext cx="8282160" cy="2555280"/>
            <a:chOff x="531720" y="4605480"/>
            <a:chExt cx="8282160" cy="2555280"/>
          </a:xfrm>
        </p:grpSpPr>
        <mc:AlternateContent>
          <mc:Choice xmlns:a14="http://schemas.microsoft.com/office/drawing/2010/main" Requires="a14">
            <p:sp>
              <p:nvSpPr>
                <p:cNvPr id="7125" name=""/>
                <p:cNvSpPr txBox="1"/>
                <p:nvPr/>
              </p:nvSpPr>
              <p:spPr>
                <a:xfrm>
                  <a:off x="531720" y="4838760"/>
                  <a:ext cx="8282160" cy="48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126" name=""/>
            <p:cNvSpPr/>
            <p:nvPr/>
          </p:nvSpPr>
          <p:spPr>
            <a:xfrm>
              <a:off x="5221440" y="4649760"/>
              <a:ext cx="1771560" cy="84096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2365200" y="4605480"/>
              <a:ext cx="1654200" cy="885600"/>
            </a:xfrm>
            <a:prstGeom prst="ellipse">
              <a:avLst/>
            </a:pr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28" name=""/>
                <p:cNvSpPr txBox="1"/>
                <p:nvPr/>
              </p:nvSpPr>
              <p:spPr>
                <a:xfrm>
                  <a:off x="4764240" y="5664240"/>
                  <a:ext cx="1968480" cy="101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ilt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β</m:t>
                              </m:r>
                            </m:sub>
                          </m:sSub>
                        </m:num>
                        <m:den>
                          <m:r>
                            <m:t xml:space="preserve">Π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β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129" name=""/>
            <p:cNvSpPr/>
            <p:nvPr/>
          </p:nvSpPr>
          <p:spPr>
            <a:xfrm>
              <a:off x="6005520" y="6156360"/>
              <a:ext cx="153504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0" name=""/>
            <p:cNvGrpSpPr/>
            <p:nvPr/>
          </p:nvGrpSpPr>
          <p:grpSpPr>
            <a:xfrm>
              <a:off x="7194600" y="5691240"/>
              <a:ext cx="1317600" cy="1026360"/>
              <a:chOff x="7194600" y="5691240"/>
              <a:chExt cx="1317600" cy="1026360"/>
            </a:xfrm>
          </p:grpSpPr>
          <p:sp>
            <p:nvSpPr>
              <p:cNvPr id="7131" name=""/>
              <p:cNvSpPr/>
              <p:nvPr/>
            </p:nvSpPr>
            <p:spPr>
              <a:xfrm>
                <a:off x="7880400" y="5895720"/>
                <a:ext cx="324000" cy="325080"/>
              </a:xfrm>
              <a:prstGeom prst="ellipse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8026560" y="5895720"/>
                <a:ext cx="324000" cy="323640"/>
              </a:xfrm>
              <a:prstGeom prst="ellipse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7751880" y="6303600"/>
                <a:ext cx="75888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7696440" y="6392520"/>
                <a:ext cx="323640" cy="323640"/>
              </a:xfrm>
              <a:prstGeom prst="ellipse">
                <a:avLst/>
              </a:prstGeom>
              <a:solidFill>
                <a:srgbClr val="0000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8188560" y="6392520"/>
                <a:ext cx="323640" cy="325080"/>
              </a:xfrm>
              <a:prstGeom prst="ellipse">
                <a:avLst/>
              </a:prstGeom>
              <a:solidFill>
                <a:srgbClr val="0000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8021880" y="6435360"/>
                <a:ext cx="18396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8067960" y="6470280"/>
                <a:ext cx="9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7194600" y="6171840"/>
                <a:ext cx="26208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7242120" y="620532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7308000" y="6281640"/>
                <a:ext cx="111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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7488360" y="6171840"/>
                <a:ext cx="1843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7535880" y="6205320"/>
                <a:ext cx="9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43" name=""/>
              <p:cNvGrpSpPr/>
              <p:nvPr/>
            </p:nvGrpSpPr>
            <p:grpSpPr>
              <a:xfrm>
                <a:off x="8039160" y="5911560"/>
                <a:ext cx="171360" cy="283680"/>
                <a:chOff x="8039160" y="5911560"/>
                <a:chExt cx="171360" cy="283680"/>
              </a:xfrm>
            </p:grpSpPr>
            <p:sp>
              <p:nvSpPr>
                <p:cNvPr id="7144" name=""/>
                <p:cNvSpPr/>
                <p:nvPr/>
              </p:nvSpPr>
              <p:spPr>
                <a:xfrm>
                  <a:off x="8039160" y="5911560"/>
                  <a:ext cx="171360" cy="283680"/>
                </a:xfrm>
                <a:custGeom>
                  <a:avLst/>
                  <a:gdLst/>
                  <a:ahLst/>
                  <a:rect l="l" t="t" r="r" b="b"/>
                  <a:pathLst>
                    <a:path w="218" h="357">
                      <a:moveTo>
                        <a:pt x="109" y="0"/>
                      </a:moveTo>
                      <a:lnTo>
                        <a:pt x="133" y="15"/>
                      </a:lnTo>
                      <a:lnTo>
                        <a:pt x="155" y="33"/>
                      </a:lnTo>
                      <a:lnTo>
                        <a:pt x="174" y="54"/>
                      </a:lnTo>
                      <a:lnTo>
                        <a:pt x="189" y="76"/>
                      </a:lnTo>
                      <a:lnTo>
                        <a:pt x="201" y="101"/>
                      </a:lnTo>
                      <a:lnTo>
                        <a:pt x="210" y="126"/>
                      </a:lnTo>
                      <a:lnTo>
                        <a:pt x="216" y="153"/>
                      </a:lnTo>
                      <a:lnTo>
                        <a:pt x="218" y="180"/>
                      </a:lnTo>
                      <a:lnTo>
                        <a:pt x="216" y="207"/>
                      </a:lnTo>
                      <a:lnTo>
                        <a:pt x="210" y="233"/>
                      </a:lnTo>
                      <a:lnTo>
                        <a:pt x="202" y="257"/>
                      </a:lnTo>
                      <a:lnTo>
                        <a:pt x="191" y="281"/>
                      </a:lnTo>
                      <a:lnTo>
                        <a:pt x="176" y="303"/>
                      </a:lnTo>
                      <a:lnTo>
                        <a:pt x="158" y="324"/>
                      </a:lnTo>
                      <a:lnTo>
                        <a:pt x="139" y="342"/>
                      </a:lnTo>
                      <a:lnTo>
                        <a:pt x="116" y="357"/>
                      </a:lnTo>
                      <a:lnTo>
                        <a:pt x="0" y="180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5" name=""/>
                <p:cNvSpPr/>
                <p:nvPr/>
              </p:nvSpPr>
              <p:spPr>
                <a:xfrm>
                  <a:off x="8124840" y="5911560"/>
                  <a:ext cx="85680" cy="283680"/>
                </a:xfrm>
                <a:custGeom>
                  <a:avLst/>
                  <a:gdLst/>
                  <a:ahLst/>
                  <a:rect l="l" t="t" r="r" b="b"/>
                  <a:pathLst>
                    <a:path w="109" h="357">
                      <a:moveTo>
                        <a:pt x="0" y="0"/>
                      </a:moveTo>
                      <a:lnTo>
                        <a:pt x="24" y="15"/>
                      </a:lnTo>
                      <a:lnTo>
                        <a:pt x="46" y="33"/>
                      </a:lnTo>
                      <a:lnTo>
                        <a:pt x="65" y="54"/>
                      </a:lnTo>
                      <a:lnTo>
                        <a:pt x="80" y="76"/>
                      </a:lnTo>
                      <a:lnTo>
                        <a:pt x="92" y="101"/>
                      </a:lnTo>
                      <a:lnTo>
                        <a:pt x="101" y="126"/>
                      </a:lnTo>
                      <a:lnTo>
                        <a:pt x="107" y="153"/>
                      </a:lnTo>
                      <a:lnTo>
                        <a:pt x="109" y="180"/>
                      </a:lnTo>
                      <a:lnTo>
                        <a:pt x="107" y="207"/>
                      </a:lnTo>
                      <a:lnTo>
                        <a:pt x="101" y="233"/>
                      </a:lnTo>
                      <a:lnTo>
                        <a:pt x="93" y="257"/>
                      </a:lnTo>
                      <a:lnTo>
                        <a:pt x="82" y="281"/>
                      </a:lnTo>
                      <a:lnTo>
                        <a:pt x="67" y="303"/>
                      </a:lnTo>
                      <a:lnTo>
                        <a:pt x="49" y="324"/>
                      </a:lnTo>
                      <a:lnTo>
                        <a:pt x="30" y="342"/>
                      </a:lnTo>
                      <a:lnTo>
                        <a:pt x="7" y="357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6" name=""/>
              <p:cNvGrpSpPr/>
              <p:nvPr/>
            </p:nvGrpSpPr>
            <p:grpSpPr>
              <a:xfrm>
                <a:off x="8013960" y="5910120"/>
                <a:ext cx="172800" cy="302760"/>
                <a:chOff x="8013960" y="5910120"/>
                <a:chExt cx="172800" cy="302760"/>
              </a:xfrm>
            </p:grpSpPr>
            <p:sp>
              <p:nvSpPr>
                <p:cNvPr id="7147" name=""/>
                <p:cNvSpPr/>
                <p:nvPr/>
              </p:nvSpPr>
              <p:spPr>
                <a:xfrm>
                  <a:off x="8013960" y="5910120"/>
                  <a:ext cx="172800" cy="302760"/>
                </a:xfrm>
                <a:custGeom>
                  <a:avLst/>
                  <a:gdLst/>
                  <a:ahLst/>
                  <a:rect l="l" t="t" r="r" b="b"/>
                  <a:pathLst>
                    <a:path w="218" h="381">
                      <a:moveTo>
                        <a:pt x="125" y="0"/>
                      </a:moveTo>
                      <a:lnTo>
                        <a:pt x="98" y="15"/>
                      </a:lnTo>
                      <a:lnTo>
                        <a:pt x="73" y="33"/>
                      </a:lnTo>
                      <a:lnTo>
                        <a:pt x="52" y="55"/>
                      </a:lnTo>
                      <a:lnTo>
                        <a:pt x="34" y="78"/>
                      </a:lnTo>
                      <a:lnTo>
                        <a:pt x="20" y="104"/>
                      </a:lnTo>
                      <a:lnTo>
                        <a:pt x="9" y="131"/>
                      </a:lnTo>
                      <a:lnTo>
                        <a:pt x="5" y="145"/>
                      </a:lnTo>
                      <a:lnTo>
                        <a:pt x="2" y="160"/>
                      </a:lnTo>
                      <a:lnTo>
                        <a:pt x="1" y="175"/>
                      </a:lnTo>
                      <a:lnTo>
                        <a:pt x="0" y="189"/>
                      </a:lnTo>
                      <a:lnTo>
                        <a:pt x="1" y="205"/>
                      </a:lnTo>
                      <a:lnTo>
                        <a:pt x="2" y="221"/>
                      </a:lnTo>
                      <a:lnTo>
                        <a:pt x="5" y="235"/>
                      </a:lnTo>
                      <a:lnTo>
                        <a:pt x="9" y="250"/>
                      </a:lnTo>
                      <a:lnTo>
                        <a:pt x="14" y="264"/>
                      </a:lnTo>
                      <a:lnTo>
                        <a:pt x="21" y="278"/>
                      </a:lnTo>
                      <a:lnTo>
                        <a:pt x="36" y="304"/>
                      </a:lnTo>
                      <a:lnTo>
                        <a:pt x="55" y="328"/>
                      </a:lnTo>
                      <a:lnTo>
                        <a:pt x="77" y="349"/>
                      </a:lnTo>
                      <a:lnTo>
                        <a:pt x="103" y="367"/>
                      </a:lnTo>
                      <a:lnTo>
                        <a:pt x="131" y="381"/>
                      </a:lnTo>
                      <a:lnTo>
                        <a:pt x="218" y="189"/>
                      </a:lnTo>
                      <a:lnTo>
                        <a:pt x="12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8" name=""/>
                <p:cNvSpPr/>
                <p:nvPr/>
              </p:nvSpPr>
              <p:spPr>
                <a:xfrm>
                  <a:off x="8013960" y="5910120"/>
                  <a:ext cx="104760" cy="302760"/>
                </a:xfrm>
                <a:custGeom>
                  <a:avLst/>
                  <a:gdLst/>
                  <a:ahLst/>
                  <a:rect l="l" t="t" r="r" b="b"/>
                  <a:pathLst>
                    <a:path w="131" h="381">
                      <a:moveTo>
                        <a:pt x="125" y="0"/>
                      </a:moveTo>
                      <a:lnTo>
                        <a:pt x="98" y="15"/>
                      </a:lnTo>
                      <a:lnTo>
                        <a:pt x="73" y="33"/>
                      </a:lnTo>
                      <a:lnTo>
                        <a:pt x="52" y="55"/>
                      </a:lnTo>
                      <a:lnTo>
                        <a:pt x="34" y="78"/>
                      </a:lnTo>
                      <a:lnTo>
                        <a:pt x="20" y="104"/>
                      </a:lnTo>
                      <a:lnTo>
                        <a:pt x="9" y="131"/>
                      </a:lnTo>
                      <a:lnTo>
                        <a:pt x="5" y="145"/>
                      </a:lnTo>
                      <a:lnTo>
                        <a:pt x="2" y="160"/>
                      </a:lnTo>
                      <a:lnTo>
                        <a:pt x="1" y="175"/>
                      </a:lnTo>
                      <a:lnTo>
                        <a:pt x="0" y="189"/>
                      </a:lnTo>
                      <a:lnTo>
                        <a:pt x="1" y="205"/>
                      </a:lnTo>
                      <a:lnTo>
                        <a:pt x="2" y="221"/>
                      </a:lnTo>
                      <a:lnTo>
                        <a:pt x="5" y="235"/>
                      </a:lnTo>
                      <a:lnTo>
                        <a:pt x="9" y="250"/>
                      </a:lnTo>
                      <a:lnTo>
                        <a:pt x="14" y="264"/>
                      </a:lnTo>
                      <a:lnTo>
                        <a:pt x="21" y="278"/>
                      </a:lnTo>
                      <a:lnTo>
                        <a:pt x="36" y="304"/>
                      </a:lnTo>
                      <a:lnTo>
                        <a:pt x="55" y="328"/>
                      </a:lnTo>
                      <a:lnTo>
                        <a:pt x="77" y="349"/>
                      </a:lnTo>
                      <a:lnTo>
                        <a:pt x="103" y="367"/>
                      </a:lnTo>
                      <a:lnTo>
                        <a:pt x="131" y="381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49" name=""/>
              <p:cNvSpPr/>
              <p:nvPr/>
            </p:nvSpPr>
            <p:spPr>
              <a:xfrm>
                <a:off x="7728120" y="5694120"/>
                <a:ext cx="21744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7773840" y="5714640"/>
                <a:ext cx="1501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8199720" y="5713200"/>
                <a:ext cx="27612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8245800" y="5691240"/>
                <a:ext cx="24444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fr-FR" sz="15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3" name=""/>
            <p:cNvSpPr/>
            <p:nvPr/>
          </p:nvSpPr>
          <p:spPr>
            <a:xfrm>
              <a:off x="966600" y="5775120"/>
              <a:ext cx="22701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r>
                <a:rPr b="1" lang="fr-FR" sz="2400" spc="-1" strike="noStrike" baseline="-25000">
                  <a:solidFill>
                    <a:srgbClr val="3333cc"/>
                  </a:solidFill>
                  <a:latin typeface="Comic Sans MS"/>
                </a:rPr>
                <a:t>mesur</a:t>
              </a:r>
              <a:r>
                <a:rPr b="1" lang="fr-FR" sz="2800" spc="-1" strike="noStrike">
                  <a:solidFill>
                    <a:srgbClr val="3333cc"/>
                  </a:solidFill>
                  <a:latin typeface="Comic Sans MS"/>
                </a:rPr>
                <a:t> = q</a:t>
              </a:r>
              <a:r>
                <a:rPr b="1" lang="fr-FR" sz="2400" spc="-1" strike="noStrike" baseline="-25000">
                  <a:solidFill>
                    <a:srgbClr val="3333cc"/>
                  </a:solidFill>
                  <a:latin typeface="Comic Sans MS"/>
                </a:rPr>
                <a:t>tilt</a:t>
              </a:r>
              <a:r>
                <a:rPr b="1" lang="fr-FR" sz="2800" spc="-1" strike="noStrike">
                  <a:solidFill>
                    <a:srgbClr val="3333cc"/>
                  </a:solidFill>
                  <a:latin typeface="Comic Sans MS"/>
                </a:rPr>
                <a:t> .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4" name=""/>
          <p:cNvSpPr/>
          <p:nvPr/>
        </p:nvSpPr>
        <p:spPr>
          <a:xfrm>
            <a:off x="23763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5" name=""/>
          <p:cNvSpPr/>
          <p:nvPr/>
        </p:nvSpPr>
        <p:spPr>
          <a:xfrm>
            <a:off x="4014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6" name=""/>
          <p:cNvSpPr/>
          <p:nvPr/>
        </p:nvSpPr>
        <p:spPr>
          <a:xfrm>
            <a:off x="305280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7" name=""/>
          <p:cNvGrpSpPr/>
          <p:nvPr/>
        </p:nvGrpSpPr>
        <p:grpSpPr>
          <a:xfrm>
            <a:off x="343800" y="1268280"/>
            <a:ext cx="7306200" cy="2152800"/>
            <a:chOff x="343800" y="1268280"/>
            <a:chExt cx="7306200" cy="2152800"/>
          </a:xfrm>
        </p:grpSpPr>
        <p:grpSp>
          <p:nvGrpSpPr>
            <p:cNvPr id="7158" name=""/>
            <p:cNvGrpSpPr/>
            <p:nvPr/>
          </p:nvGrpSpPr>
          <p:grpSpPr>
            <a:xfrm>
              <a:off x="836640" y="1268280"/>
              <a:ext cx="6813360" cy="1146600"/>
              <a:chOff x="836640" y="1268280"/>
              <a:chExt cx="6813360" cy="1146600"/>
            </a:xfrm>
          </p:grpSpPr>
          <mc:AlternateContent>
            <mc:Choice xmlns:a14="http://schemas.microsoft.com/office/drawing/2010/main" Requires="a14">
              <p:sp>
                <p:nvSpPr>
                  <p:cNvPr id="7159" name=""/>
                  <p:cNvSpPr txBox="1"/>
                  <p:nvPr/>
                </p:nvSpPr>
                <p:spPr>
                  <a:xfrm>
                    <a:off x="836640" y="1315800"/>
                    <a:ext cx="6813360" cy="99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@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λ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]</m:t>
                            </m:r>
                            <m:r>
                              <m:t xml:space="preserve"> 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160" name=""/>
              <p:cNvSpPr/>
              <p:nvPr/>
            </p:nvSpPr>
            <p:spPr>
              <a:xfrm>
                <a:off x="4078440" y="1268280"/>
                <a:ext cx="1538280" cy="8697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5264280" y="1904760"/>
                <a:ext cx="698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3300"/>
                    </a:solidFill>
                    <a:latin typeface="Comic Sans MS"/>
                  </a:rPr>
                  <a:t>q</a:t>
                </a:r>
                <a:r>
                  <a:rPr b="0" lang="fr-FR" sz="2400" spc="-1" strike="noStrike" baseline="-25000">
                    <a:solidFill>
                      <a:srgbClr val="ff3300"/>
                    </a:solidFill>
                    <a:latin typeface="Comic Sans MS"/>
                  </a:rPr>
                  <a:t>pi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62" name=""/>
            <p:cNvSpPr/>
            <p:nvPr/>
          </p:nvSpPr>
          <p:spPr>
            <a:xfrm>
              <a:off x="343800" y="2147760"/>
              <a:ext cx="23400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r>
                <a:rPr b="1" lang="fr-FR" sz="2400" spc="-1" strike="noStrike" baseline="-25000">
                  <a:solidFill>
                    <a:srgbClr val="3333cc"/>
                  </a:solidFill>
                  <a:latin typeface="Comic Sans MS"/>
                </a:rPr>
                <a:t>mesur</a:t>
              </a:r>
              <a:r>
                <a:rPr b="1" lang="fr-FR" sz="2800" spc="-1" strike="noStrike">
                  <a:solidFill>
                    <a:srgbClr val="3333cc"/>
                  </a:solidFill>
                  <a:latin typeface="Comic Sans MS"/>
                </a:rPr>
                <a:t> = q</a:t>
              </a:r>
              <a:r>
                <a:rPr b="1" lang="fr-FR" sz="2400" spc="-1" strike="noStrike" baseline="-25000">
                  <a:solidFill>
                    <a:srgbClr val="3333cc"/>
                  </a:solidFill>
                  <a:latin typeface="Comic Sans MS"/>
                </a:rPr>
                <a:t>pist</a:t>
              </a:r>
              <a:r>
                <a:rPr b="1" lang="fr-FR" sz="2800" spc="-1" strike="noStrike">
                  <a:solidFill>
                    <a:srgbClr val="3333cc"/>
                  </a:solidFill>
                  <a:latin typeface="Comic Sans MS"/>
                </a:rPr>
                <a:t> .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63" name=""/>
                <p:cNvSpPr txBox="1"/>
                <p:nvPr/>
              </p:nvSpPr>
              <p:spPr>
                <a:xfrm>
                  <a:off x="358920" y="2770200"/>
                  <a:ext cx="110952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64" name=""/>
          <p:cNvSpPr/>
          <p:nvPr/>
        </p:nvSpPr>
        <p:spPr>
          <a:xfrm>
            <a:off x="37767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5" name=""/>
          <p:cNvGrpSpPr/>
          <p:nvPr/>
        </p:nvGrpSpPr>
        <p:grpSpPr>
          <a:xfrm>
            <a:off x="1852560" y="2476440"/>
            <a:ext cx="7291440" cy="1608120"/>
            <a:chOff x="1852560" y="2476440"/>
            <a:chExt cx="7291440" cy="1608120"/>
          </a:xfrm>
        </p:grpSpPr>
        <p:pic>
          <p:nvPicPr>
            <p:cNvPr id="7166" name="" descr=""/>
            <p:cNvPicPr/>
            <p:nvPr/>
          </p:nvPicPr>
          <p:blipFill>
            <a:blip r:embed="rId1"/>
            <a:stretch/>
          </p:blipFill>
          <p:spPr>
            <a:xfrm>
              <a:off x="6105600" y="2476440"/>
              <a:ext cx="3038400" cy="1190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67" name=""/>
            <p:cNvGrpSpPr/>
            <p:nvPr/>
          </p:nvGrpSpPr>
          <p:grpSpPr>
            <a:xfrm>
              <a:off x="1852560" y="3057480"/>
              <a:ext cx="4403880" cy="1027080"/>
              <a:chOff x="1852560" y="3057480"/>
              <a:chExt cx="4403880" cy="1027080"/>
            </a:xfrm>
          </p:grpSpPr>
          <mc:AlternateContent>
            <mc:Choice xmlns:a14="http://schemas.microsoft.com/office/drawing/2010/main" Requires="a14">
              <p:sp>
                <p:nvSpPr>
                  <p:cNvPr id="7168" name=""/>
                  <p:cNvSpPr txBox="1"/>
                  <p:nvPr/>
                </p:nvSpPr>
                <p:spPr>
                  <a:xfrm>
                    <a:off x="1852560" y="3075120"/>
                    <a:ext cx="2025720" cy="1009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s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169" name=""/>
                  <p:cNvSpPr txBox="1"/>
                  <p:nvPr/>
                </p:nvSpPr>
                <p:spPr>
                  <a:xfrm>
                    <a:off x="3971880" y="3057480"/>
                    <a:ext cx="2284560" cy="862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6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0" name="PlaceHolder 1"/>
          <p:cNvSpPr>
            <a:spLocks noGrp="1"/>
          </p:cNvSpPr>
          <p:nvPr>
            <p:ph type="title"/>
          </p:nvPr>
        </p:nvSpPr>
        <p:spPr>
          <a:xfrm>
            <a:off x="188640" y="590040"/>
            <a:ext cx="7894440" cy="52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llustration : intensité en présence de speck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1" name=""/>
          <p:cNvSpPr/>
          <p:nvPr/>
        </p:nvSpPr>
        <p:spPr>
          <a:xfrm flipV="1">
            <a:off x="1627200" y="5775480"/>
            <a:ext cx="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2" name=""/>
          <p:cNvGrpSpPr/>
          <p:nvPr/>
        </p:nvGrpSpPr>
        <p:grpSpPr>
          <a:xfrm>
            <a:off x="3686040" y="3166920"/>
            <a:ext cx="5106960" cy="2489760"/>
            <a:chOff x="3686040" y="3166920"/>
            <a:chExt cx="5106960" cy="2489760"/>
          </a:xfrm>
        </p:grpSpPr>
        <p:sp>
          <p:nvSpPr>
            <p:cNvPr id="7173" name=""/>
            <p:cNvSpPr/>
            <p:nvPr/>
          </p:nvSpPr>
          <p:spPr>
            <a:xfrm>
              <a:off x="3860640" y="3897000"/>
              <a:ext cx="4155840" cy="663840"/>
            </a:xfrm>
            <a:custGeom>
              <a:avLst/>
              <a:gdLst/>
              <a:ahLst/>
              <a:rect l="l" t="t" r="r" b="b"/>
              <a:pathLst>
                <a:path w="2618" h="418">
                  <a:moveTo>
                    <a:pt x="113" y="404"/>
                  </a:moveTo>
                  <a:cubicBezTo>
                    <a:pt x="56" y="411"/>
                    <a:pt x="0" y="418"/>
                    <a:pt x="140" y="358"/>
                  </a:cubicBezTo>
                  <a:cubicBezTo>
                    <a:pt x="280" y="298"/>
                    <a:pt x="658" y="94"/>
                    <a:pt x="954" y="47"/>
                  </a:cubicBezTo>
                  <a:cubicBezTo>
                    <a:pt x="1250" y="0"/>
                    <a:pt x="1642" y="14"/>
                    <a:pt x="1919" y="75"/>
                  </a:cubicBezTo>
                  <a:cubicBezTo>
                    <a:pt x="2196" y="136"/>
                    <a:pt x="2472" y="343"/>
                    <a:pt x="2618" y="413"/>
                  </a:cubicBezTo>
                </a:path>
              </a:pathLst>
            </a:custGeom>
            <a:solidFill>
              <a:srgbClr val="ebeb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8069040" y="40716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3686040" y="4516200"/>
              <a:ext cx="47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5030640" y="4020840"/>
              <a:ext cx="682560" cy="488880"/>
            </a:xfrm>
            <a:custGeom>
              <a:avLst/>
              <a:gdLst/>
              <a:ahLst/>
              <a:rect l="l" t="t" r="r" b="b"/>
              <a:pathLst>
                <a:path w="430" h="308">
                  <a:moveTo>
                    <a:pt x="0" y="262"/>
                  </a:moveTo>
                  <a:cubicBezTo>
                    <a:pt x="58" y="164"/>
                    <a:pt x="117" y="66"/>
                    <a:pt x="156" y="33"/>
                  </a:cubicBezTo>
                  <a:cubicBezTo>
                    <a:pt x="195" y="0"/>
                    <a:pt x="192" y="15"/>
                    <a:pt x="238" y="61"/>
                  </a:cubicBezTo>
                  <a:cubicBezTo>
                    <a:pt x="284" y="107"/>
                    <a:pt x="357" y="207"/>
                    <a:pt x="430" y="308"/>
                  </a:cubicBez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6030720" y="3911400"/>
              <a:ext cx="755640" cy="612720"/>
            </a:xfrm>
            <a:custGeom>
              <a:avLst/>
              <a:gdLst/>
              <a:ahLst/>
              <a:rect l="l" t="t" r="r" b="b"/>
              <a:pathLst>
                <a:path w="476" h="386">
                  <a:moveTo>
                    <a:pt x="0" y="367"/>
                  </a:moveTo>
                  <a:cubicBezTo>
                    <a:pt x="72" y="212"/>
                    <a:pt x="145" y="58"/>
                    <a:pt x="210" y="29"/>
                  </a:cubicBezTo>
                  <a:cubicBezTo>
                    <a:pt x="275" y="0"/>
                    <a:pt x="349" y="134"/>
                    <a:pt x="393" y="194"/>
                  </a:cubicBezTo>
                  <a:cubicBezTo>
                    <a:pt x="437" y="254"/>
                    <a:pt x="462" y="356"/>
                    <a:pt x="476" y="386"/>
                  </a:cubicBez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6764040" y="4028760"/>
              <a:ext cx="682560" cy="488880"/>
            </a:xfrm>
            <a:custGeom>
              <a:avLst/>
              <a:gdLst/>
              <a:ahLst/>
              <a:rect l="l" t="t" r="r" b="b"/>
              <a:pathLst>
                <a:path w="430" h="308">
                  <a:moveTo>
                    <a:pt x="0" y="262"/>
                  </a:moveTo>
                  <a:cubicBezTo>
                    <a:pt x="58" y="164"/>
                    <a:pt x="117" y="66"/>
                    <a:pt x="156" y="33"/>
                  </a:cubicBezTo>
                  <a:cubicBezTo>
                    <a:pt x="195" y="0"/>
                    <a:pt x="192" y="15"/>
                    <a:pt x="238" y="61"/>
                  </a:cubicBezTo>
                  <a:cubicBezTo>
                    <a:pt x="284" y="107"/>
                    <a:pt x="357" y="207"/>
                    <a:pt x="430" y="308"/>
                  </a:cubicBez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4214520" y="4262040"/>
              <a:ext cx="682560" cy="255600"/>
            </a:xfrm>
            <a:custGeom>
              <a:avLst/>
              <a:gdLst/>
              <a:ahLst/>
              <a:rect l="l" t="t" r="r" b="b"/>
              <a:pathLst>
                <a:path w="430" h="308">
                  <a:moveTo>
                    <a:pt x="0" y="262"/>
                  </a:moveTo>
                  <a:cubicBezTo>
                    <a:pt x="58" y="164"/>
                    <a:pt x="117" y="66"/>
                    <a:pt x="156" y="33"/>
                  </a:cubicBezTo>
                  <a:cubicBezTo>
                    <a:pt x="195" y="0"/>
                    <a:pt x="192" y="15"/>
                    <a:pt x="238" y="61"/>
                  </a:cubicBezTo>
                  <a:cubicBezTo>
                    <a:pt x="284" y="107"/>
                    <a:pt x="357" y="207"/>
                    <a:pt x="430" y="308"/>
                  </a:cubicBezTo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0" name=""/>
            <p:cNvSpPr/>
            <p:nvPr/>
          </p:nvSpPr>
          <p:spPr>
            <a:xfrm flipV="1">
              <a:off x="5964120" y="3666960"/>
              <a:ext cx="0" cy="79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1" name=""/>
            <p:cNvGrpSpPr/>
            <p:nvPr/>
          </p:nvGrpSpPr>
          <p:grpSpPr>
            <a:xfrm>
              <a:off x="4103280" y="4028760"/>
              <a:ext cx="788760" cy="514080"/>
              <a:chOff x="4103280" y="4028760"/>
              <a:chExt cx="788760" cy="514080"/>
            </a:xfrm>
          </p:grpSpPr>
          <p:sp>
            <p:nvSpPr>
              <p:cNvPr id="7182" name=""/>
              <p:cNvSpPr/>
              <p:nvPr/>
            </p:nvSpPr>
            <p:spPr>
              <a:xfrm>
                <a:off x="4103280" y="4030560"/>
                <a:ext cx="403560" cy="51228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 flipH="1">
                <a:off x="4488120" y="4028760"/>
                <a:ext cx="403560" cy="51228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4" name=""/>
            <p:cNvGrpSpPr/>
            <p:nvPr/>
          </p:nvGrpSpPr>
          <p:grpSpPr>
            <a:xfrm>
              <a:off x="4936680" y="3744720"/>
              <a:ext cx="788760" cy="790200"/>
              <a:chOff x="4936680" y="3744720"/>
              <a:chExt cx="788760" cy="790200"/>
            </a:xfrm>
          </p:grpSpPr>
          <p:sp>
            <p:nvSpPr>
              <p:cNvPr id="7185" name=""/>
              <p:cNvSpPr/>
              <p:nvPr/>
            </p:nvSpPr>
            <p:spPr>
              <a:xfrm>
                <a:off x="4936680" y="3747600"/>
                <a:ext cx="403560" cy="78732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 flipH="1">
                <a:off x="5321520" y="3744720"/>
                <a:ext cx="403560" cy="78732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7" name=""/>
            <p:cNvGrpSpPr/>
            <p:nvPr/>
          </p:nvGrpSpPr>
          <p:grpSpPr>
            <a:xfrm>
              <a:off x="6013080" y="3644640"/>
              <a:ext cx="788760" cy="877680"/>
              <a:chOff x="6013080" y="3644640"/>
              <a:chExt cx="788760" cy="877680"/>
            </a:xfrm>
          </p:grpSpPr>
          <p:sp>
            <p:nvSpPr>
              <p:cNvPr id="7188" name=""/>
              <p:cNvSpPr/>
              <p:nvPr/>
            </p:nvSpPr>
            <p:spPr>
              <a:xfrm>
                <a:off x="6013080" y="3647880"/>
                <a:ext cx="403560" cy="87444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 flipH="1">
                <a:off x="6397920" y="3644640"/>
                <a:ext cx="403560" cy="87444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0" name=""/>
            <p:cNvGrpSpPr/>
            <p:nvPr/>
          </p:nvGrpSpPr>
          <p:grpSpPr>
            <a:xfrm>
              <a:off x="6703560" y="4074840"/>
              <a:ext cx="788760" cy="426600"/>
              <a:chOff x="6703560" y="4074840"/>
              <a:chExt cx="788760" cy="426600"/>
            </a:xfrm>
          </p:grpSpPr>
          <p:sp>
            <p:nvSpPr>
              <p:cNvPr id="7191" name=""/>
              <p:cNvSpPr/>
              <p:nvPr/>
            </p:nvSpPr>
            <p:spPr>
              <a:xfrm>
                <a:off x="6703560" y="4076280"/>
                <a:ext cx="403560" cy="42516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 flipH="1">
                <a:off x="7088400" y="4074840"/>
                <a:ext cx="403560" cy="425160"/>
              </a:xfrm>
              <a:custGeom>
                <a:avLst/>
                <a:gdLst/>
                <a:ahLst/>
                <a:rect l="l" t="t" r="r" b="b"/>
                <a:pathLst>
                  <a:path w="791" h="937">
                    <a:moveTo>
                      <a:pt x="787" y="73"/>
                    </a:moveTo>
                    <a:cubicBezTo>
                      <a:pt x="779" y="83"/>
                      <a:pt x="766" y="0"/>
                      <a:pt x="742" y="136"/>
                    </a:cubicBezTo>
                    <a:cubicBezTo>
                      <a:pt x="718" y="272"/>
                      <a:pt x="676" y="869"/>
                      <a:pt x="643" y="889"/>
                    </a:cubicBezTo>
                    <a:cubicBezTo>
                      <a:pt x="610" y="909"/>
                      <a:pt x="578" y="254"/>
                      <a:pt x="546" y="254"/>
                    </a:cubicBezTo>
                    <a:cubicBezTo>
                      <a:pt x="514" y="254"/>
                      <a:pt x="477" y="841"/>
                      <a:pt x="451" y="889"/>
                    </a:cubicBezTo>
                    <a:cubicBezTo>
                      <a:pt x="425" y="937"/>
                      <a:pt x="412" y="539"/>
                      <a:pt x="388" y="539"/>
                    </a:cubicBezTo>
                    <a:cubicBezTo>
                      <a:pt x="364" y="539"/>
                      <a:pt x="330" y="846"/>
                      <a:pt x="307" y="889"/>
                    </a:cubicBezTo>
                    <a:cubicBezTo>
                      <a:pt x="284" y="932"/>
                      <a:pt x="272" y="802"/>
                      <a:pt x="251" y="795"/>
                    </a:cubicBezTo>
                    <a:cubicBezTo>
                      <a:pt x="230" y="788"/>
                      <a:pt x="193" y="841"/>
                      <a:pt x="181" y="850"/>
                    </a:cubicBezTo>
                    <a:cubicBezTo>
                      <a:pt x="169" y="859"/>
                      <a:pt x="194" y="844"/>
                      <a:pt x="181" y="850"/>
                    </a:cubicBezTo>
                    <a:cubicBezTo>
                      <a:pt x="168" y="856"/>
                      <a:pt x="0" y="883"/>
                      <a:pt x="102" y="889"/>
                    </a:cubicBezTo>
                    <a:lnTo>
                      <a:pt x="791" y="889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3" name=""/>
            <p:cNvSpPr/>
            <p:nvPr/>
          </p:nvSpPr>
          <p:spPr>
            <a:xfrm>
              <a:off x="6062760" y="3166920"/>
              <a:ext cx="6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I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5596560" y="5146560"/>
              <a:ext cx="68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/r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4972680" y="4674960"/>
              <a:ext cx="6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/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6852240" y="3551040"/>
              <a:ext cx="194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/B : interfr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3962160" y="5160600"/>
              <a:ext cx="4092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8" name=""/>
            <p:cNvSpPr/>
            <p:nvPr/>
          </p:nvSpPr>
          <p:spPr>
            <a:xfrm>
              <a:off x="4898880" y="4705200"/>
              <a:ext cx="88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9" name=""/>
          <p:cNvGrpSpPr/>
          <p:nvPr/>
        </p:nvGrpSpPr>
        <p:grpSpPr>
          <a:xfrm>
            <a:off x="363600" y="1368000"/>
            <a:ext cx="4174560" cy="3116520"/>
            <a:chOff x="363600" y="1368000"/>
            <a:chExt cx="4174560" cy="3116520"/>
          </a:xfrm>
        </p:grpSpPr>
        <p:sp>
          <p:nvSpPr>
            <p:cNvPr id="7200" name=""/>
            <p:cNvSpPr/>
            <p:nvPr/>
          </p:nvSpPr>
          <p:spPr>
            <a:xfrm>
              <a:off x="1828800" y="2003400"/>
              <a:ext cx="1782720" cy="1712880"/>
            </a:xfrm>
            <a:custGeom>
              <a:avLst/>
              <a:gdLst/>
              <a:ahLst/>
              <a:rect l="l" t="t" r="r" b="b"/>
              <a:pathLst>
                <a:path w="1123" h="1079">
                  <a:moveTo>
                    <a:pt x="18" y="0"/>
                  </a:moveTo>
                  <a:lnTo>
                    <a:pt x="1123" y="521"/>
                  </a:lnTo>
                  <a:lnTo>
                    <a:pt x="0" y="10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1" name=""/>
            <p:cNvSpPr/>
            <p:nvPr/>
          </p:nvSpPr>
          <p:spPr>
            <a:xfrm flipV="1">
              <a:off x="3625920" y="1959120"/>
              <a:ext cx="0" cy="159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2" name=""/>
            <p:cNvSpPr/>
            <p:nvPr/>
          </p:nvSpPr>
          <p:spPr>
            <a:xfrm>
              <a:off x="3879000" y="2335320"/>
              <a:ext cx="6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I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3" name=""/>
            <p:cNvSpPr/>
            <p:nvPr/>
          </p:nvSpPr>
          <p:spPr>
            <a:xfrm>
              <a:off x="3245040" y="16430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3625920" y="2859120"/>
              <a:ext cx="68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363600" y="1384200"/>
              <a:ext cx="861840" cy="3100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6" name=""/>
            <p:cNvGrpSpPr/>
            <p:nvPr/>
          </p:nvGrpSpPr>
          <p:grpSpPr>
            <a:xfrm>
              <a:off x="491760" y="1368000"/>
              <a:ext cx="722160" cy="1248480"/>
              <a:chOff x="491760" y="1368000"/>
              <a:chExt cx="722160" cy="1248480"/>
            </a:xfrm>
          </p:grpSpPr>
          <p:sp>
            <p:nvSpPr>
              <p:cNvPr id="7207" name=""/>
              <p:cNvSpPr/>
              <p:nvPr/>
            </p:nvSpPr>
            <p:spPr>
              <a:xfrm rot="16336200">
                <a:off x="213480" y="1767600"/>
                <a:ext cx="1231920" cy="44892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8" name=""/>
              <p:cNvGrpSpPr/>
              <p:nvPr/>
            </p:nvGrpSpPr>
            <p:grpSpPr>
              <a:xfrm>
                <a:off x="742320" y="1460520"/>
                <a:ext cx="119160" cy="203040"/>
                <a:chOff x="742320" y="1460520"/>
                <a:chExt cx="119160" cy="203040"/>
              </a:xfrm>
            </p:grpSpPr>
            <p:sp>
              <p:nvSpPr>
                <p:cNvPr id="7209" name=""/>
                <p:cNvSpPr/>
                <p:nvPr/>
              </p:nvSpPr>
              <p:spPr>
                <a:xfrm rot="16811400">
                  <a:off x="718560" y="1532880"/>
                  <a:ext cx="19044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0" name=""/>
                <p:cNvSpPr/>
                <p:nvPr/>
              </p:nvSpPr>
              <p:spPr>
                <a:xfrm rot="16811400">
                  <a:off x="694800" y="1528200"/>
                  <a:ext cx="19044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1" name=""/>
              <p:cNvGrpSpPr/>
              <p:nvPr/>
            </p:nvGrpSpPr>
            <p:grpSpPr>
              <a:xfrm>
                <a:off x="691560" y="2167920"/>
                <a:ext cx="93960" cy="194400"/>
                <a:chOff x="691560" y="2167920"/>
                <a:chExt cx="93960" cy="194400"/>
              </a:xfrm>
            </p:grpSpPr>
            <p:sp>
              <p:nvSpPr>
                <p:cNvPr id="7212" name=""/>
                <p:cNvSpPr/>
                <p:nvPr/>
              </p:nvSpPr>
              <p:spPr>
                <a:xfrm rot="16336200">
                  <a:off x="654480" y="2234160"/>
                  <a:ext cx="19080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3" name=""/>
                <p:cNvSpPr/>
                <p:nvPr/>
              </p:nvSpPr>
              <p:spPr>
                <a:xfrm rot="16336200">
                  <a:off x="630720" y="2233440"/>
                  <a:ext cx="19080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4" name=""/>
              <p:cNvGrpSpPr/>
              <p:nvPr/>
            </p:nvGrpSpPr>
            <p:grpSpPr>
              <a:xfrm>
                <a:off x="756720" y="2034000"/>
                <a:ext cx="81360" cy="193680"/>
                <a:chOff x="756720" y="2034000"/>
                <a:chExt cx="81360" cy="193680"/>
              </a:xfrm>
            </p:grpSpPr>
            <p:sp>
              <p:nvSpPr>
                <p:cNvPr id="7215" name=""/>
                <p:cNvSpPr/>
                <p:nvPr/>
              </p:nvSpPr>
              <p:spPr>
                <a:xfrm rot="16336200">
                  <a:off x="713160" y="2105280"/>
                  <a:ext cx="17928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6" name=""/>
                <p:cNvSpPr/>
                <p:nvPr/>
              </p:nvSpPr>
              <p:spPr>
                <a:xfrm rot="16336200">
                  <a:off x="695880" y="2099520"/>
                  <a:ext cx="19080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7" name=""/>
              <p:cNvGrpSpPr/>
              <p:nvPr/>
            </p:nvGrpSpPr>
            <p:grpSpPr>
              <a:xfrm>
                <a:off x="734040" y="2295000"/>
                <a:ext cx="93600" cy="193320"/>
                <a:chOff x="734040" y="2295000"/>
                <a:chExt cx="93600" cy="193320"/>
              </a:xfrm>
            </p:grpSpPr>
            <p:sp>
              <p:nvSpPr>
                <p:cNvPr id="7218" name=""/>
                <p:cNvSpPr/>
                <p:nvPr/>
              </p:nvSpPr>
              <p:spPr>
                <a:xfrm rot="16336200">
                  <a:off x="702720" y="2365920"/>
                  <a:ext cx="17928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9" name=""/>
                <p:cNvSpPr/>
                <p:nvPr/>
              </p:nvSpPr>
              <p:spPr>
                <a:xfrm rot="16336200">
                  <a:off x="674280" y="2359440"/>
                  <a:ext cx="18972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0" name=""/>
              <p:cNvGrpSpPr/>
              <p:nvPr/>
            </p:nvGrpSpPr>
            <p:grpSpPr>
              <a:xfrm>
                <a:off x="788040" y="2176560"/>
                <a:ext cx="118440" cy="192960"/>
                <a:chOff x="788040" y="2176560"/>
                <a:chExt cx="118440" cy="192960"/>
              </a:xfrm>
            </p:grpSpPr>
            <p:sp>
              <p:nvSpPr>
                <p:cNvPr id="7221" name=""/>
                <p:cNvSpPr/>
                <p:nvPr/>
              </p:nvSpPr>
              <p:spPr>
                <a:xfrm rot="16834800">
                  <a:off x="768240" y="2243160"/>
                  <a:ext cx="18036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2" name=""/>
                <p:cNvSpPr/>
                <p:nvPr/>
              </p:nvSpPr>
              <p:spPr>
                <a:xfrm rot="16834800">
                  <a:off x="744840" y="2239560"/>
                  <a:ext cx="18036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3" name=""/>
              <p:cNvGrpSpPr/>
              <p:nvPr/>
            </p:nvGrpSpPr>
            <p:grpSpPr>
              <a:xfrm>
                <a:off x="676440" y="1889280"/>
                <a:ext cx="118080" cy="201960"/>
                <a:chOff x="676440" y="1889280"/>
                <a:chExt cx="118080" cy="201960"/>
              </a:xfrm>
            </p:grpSpPr>
            <p:sp>
              <p:nvSpPr>
                <p:cNvPr id="7224" name=""/>
                <p:cNvSpPr/>
                <p:nvPr/>
              </p:nvSpPr>
              <p:spPr>
                <a:xfrm rot="15606600">
                  <a:off x="652680" y="195696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5" name=""/>
                <p:cNvSpPr/>
                <p:nvPr/>
              </p:nvSpPr>
              <p:spPr>
                <a:xfrm rot="15606600">
                  <a:off x="628920" y="196056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6" name=""/>
              <p:cNvGrpSpPr/>
              <p:nvPr/>
            </p:nvGrpSpPr>
            <p:grpSpPr>
              <a:xfrm>
                <a:off x="893520" y="2036520"/>
                <a:ext cx="99000" cy="199080"/>
                <a:chOff x="893520" y="2036520"/>
                <a:chExt cx="99000" cy="199080"/>
              </a:xfrm>
            </p:grpSpPr>
            <p:sp>
              <p:nvSpPr>
                <p:cNvPr id="7227" name=""/>
                <p:cNvSpPr/>
                <p:nvPr/>
              </p:nvSpPr>
              <p:spPr>
                <a:xfrm rot="16692000">
                  <a:off x="852480" y="2105640"/>
                  <a:ext cx="19044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8" name=""/>
                <p:cNvSpPr/>
                <p:nvPr/>
              </p:nvSpPr>
              <p:spPr>
                <a:xfrm rot="16692000">
                  <a:off x="847080" y="2098800"/>
                  <a:ext cx="18000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9" name=""/>
              <p:cNvGrpSpPr/>
              <p:nvPr/>
            </p:nvGrpSpPr>
            <p:grpSpPr>
              <a:xfrm>
                <a:off x="911520" y="1824840"/>
                <a:ext cx="113400" cy="200520"/>
                <a:chOff x="911520" y="1824840"/>
                <a:chExt cx="113400" cy="200520"/>
              </a:xfrm>
            </p:grpSpPr>
            <p:sp>
              <p:nvSpPr>
                <p:cNvPr id="7230" name=""/>
                <p:cNvSpPr/>
                <p:nvPr/>
              </p:nvSpPr>
              <p:spPr>
                <a:xfrm rot="15698400">
                  <a:off x="884880" y="189144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1" name=""/>
                <p:cNvSpPr/>
                <p:nvPr/>
              </p:nvSpPr>
              <p:spPr>
                <a:xfrm rot="15698400">
                  <a:off x="861120" y="189576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2" name=""/>
              <p:cNvGrpSpPr/>
              <p:nvPr/>
            </p:nvGrpSpPr>
            <p:grpSpPr>
              <a:xfrm>
                <a:off x="731520" y="1648440"/>
                <a:ext cx="125640" cy="204120"/>
                <a:chOff x="731520" y="1648440"/>
                <a:chExt cx="125640" cy="204120"/>
              </a:xfrm>
            </p:grpSpPr>
            <p:sp>
              <p:nvSpPr>
                <p:cNvPr id="7233" name=""/>
                <p:cNvSpPr/>
                <p:nvPr/>
              </p:nvSpPr>
              <p:spPr>
                <a:xfrm rot="15457200">
                  <a:off x="711360" y="171648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4" name=""/>
                <p:cNvSpPr/>
                <p:nvPr/>
              </p:nvSpPr>
              <p:spPr>
                <a:xfrm rot="15457200">
                  <a:off x="687600" y="172116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5" name=""/>
              <p:cNvGrpSpPr/>
              <p:nvPr/>
            </p:nvGrpSpPr>
            <p:grpSpPr>
              <a:xfrm>
                <a:off x="816480" y="1444680"/>
                <a:ext cx="93960" cy="193320"/>
                <a:chOff x="816480" y="1444680"/>
                <a:chExt cx="93960" cy="193320"/>
              </a:xfrm>
            </p:grpSpPr>
            <p:sp>
              <p:nvSpPr>
                <p:cNvPr id="7236" name=""/>
                <p:cNvSpPr/>
                <p:nvPr/>
              </p:nvSpPr>
              <p:spPr>
                <a:xfrm rot="16336200">
                  <a:off x="780480" y="151056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7" name=""/>
                <p:cNvSpPr/>
                <p:nvPr/>
              </p:nvSpPr>
              <p:spPr>
                <a:xfrm rot="16336200">
                  <a:off x="756720" y="1509120"/>
                  <a:ext cx="18972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8" name=""/>
              <p:cNvGrpSpPr/>
              <p:nvPr/>
            </p:nvGrpSpPr>
            <p:grpSpPr>
              <a:xfrm>
                <a:off x="790920" y="1782360"/>
                <a:ext cx="93960" cy="194400"/>
                <a:chOff x="790920" y="1782360"/>
                <a:chExt cx="93960" cy="194400"/>
              </a:xfrm>
            </p:grpSpPr>
            <p:sp>
              <p:nvSpPr>
                <p:cNvPr id="7239" name=""/>
                <p:cNvSpPr/>
                <p:nvPr/>
              </p:nvSpPr>
              <p:spPr>
                <a:xfrm rot="16336200">
                  <a:off x="759600" y="1854000"/>
                  <a:ext cx="18036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0" name=""/>
                <p:cNvSpPr/>
                <p:nvPr/>
              </p:nvSpPr>
              <p:spPr>
                <a:xfrm rot="16336200">
                  <a:off x="730800" y="1847160"/>
                  <a:ext cx="19080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1" name=""/>
              <p:cNvGrpSpPr/>
              <p:nvPr/>
            </p:nvGrpSpPr>
            <p:grpSpPr>
              <a:xfrm>
                <a:off x="809640" y="1604880"/>
                <a:ext cx="93600" cy="182880"/>
                <a:chOff x="809640" y="1604880"/>
                <a:chExt cx="93600" cy="182880"/>
              </a:xfrm>
            </p:grpSpPr>
            <p:sp>
              <p:nvSpPr>
                <p:cNvPr id="7242" name=""/>
                <p:cNvSpPr/>
                <p:nvPr/>
              </p:nvSpPr>
              <p:spPr>
                <a:xfrm rot="16336200">
                  <a:off x="778680" y="1665720"/>
                  <a:ext cx="17928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3" name=""/>
                <p:cNvSpPr/>
                <p:nvPr/>
              </p:nvSpPr>
              <p:spPr>
                <a:xfrm rot="16336200">
                  <a:off x="754920" y="1664280"/>
                  <a:ext cx="17928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4" name=""/>
              <p:cNvGrpSpPr/>
              <p:nvPr/>
            </p:nvGrpSpPr>
            <p:grpSpPr>
              <a:xfrm>
                <a:off x="868320" y="1647000"/>
                <a:ext cx="93600" cy="183960"/>
                <a:chOff x="868320" y="1647000"/>
                <a:chExt cx="93600" cy="183960"/>
              </a:xfrm>
            </p:grpSpPr>
            <p:sp>
              <p:nvSpPr>
                <p:cNvPr id="7245" name=""/>
                <p:cNvSpPr/>
                <p:nvPr/>
              </p:nvSpPr>
              <p:spPr>
                <a:xfrm rot="16336200">
                  <a:off x="836280" y="1707840"/>
                  <a:ext cx="18036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6" name=""/>
                <p:cNvSpPr/>
                <p:nvPr/>
              </p:nvSpPr>
              <p:spPr>
                <a:xfrm rot="16336200">
                  <a:off x="812520" y="1707120"/>
                  <a:ext cx="18036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7" name=""/>
              <p:cNvGrpSpPr/>
              <p:nvPr/>
            </p:nvGrpSpPr>
            <p:grpSpPr>
              <a:xfrm>
                <a:off x="863640" y="2214720"/>
                <a:ext cx="106560" cy="197640"/>
                <a:chOff x="863640" y="2214720"/>
                <a:chExt cx="106560" cy="197640"/>
              </a:xfrm>
            </p:grpSpPr>
            <p:sp>
              <p:nvSpPr>
                <p:cNvPr id="7248" name=""/>
                <p:cNvSpPr/>
                <p:nvPr/>
              </p:nvSpPr>
              <p:spPr>
                <a:xfrm rot="15835800">
                  <a:off x="834120" y="228096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9" name=""/>
                <p:cNvSpPr/>
                <p:nvPr/>
              </p:nvSpPr>
              <p:spPr>
                <a:xfrm rot="15835800">
                  <a:off x="810000" y="2283120"/>
                  <a:ext cx="18972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0" name=""/>
              <p:cNvGrpSpPr/>
              <p:nvPr/>
            </p:nvGrpSpPr>
            <p:grpSpPr>
              <a:xfrm>
                <a:off x="888120" y="1530720"/>
                <a:ext cx="111240" cy="196920"/>
                <a:chOff x="888120" y="1530720"/>
                <a:chExt cx="111240" cy="196920"/>
              </a:xfrm>
            </p:grpSpPr>
            <p:sp>
              <p:nvSpPr>
                <p:cNvPr id="7251" name=""/>
                <p:cNvSpPr/>
                <p:nvPr/>
              </p:nvSpPr>
              <p:spPr>
                <a:xfrm rot="15741600">
                  <a:off x="860760" y="1597680"/>
                  <a:ext cx="19044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2" name=""/>
                <p:cNvSpPr/>
                <p:nvPr/>
              </p:nvSpPr>
              <p:spPr>
                <a:xfrm rot="15741600">
                  <a:off x="841680" y="1595160"/>
                  <a:ext cx="17892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3" name=""/>
              <p:cNvGrpSpPr/>
              <p:nvPr/>
            </p:nvGrpSpPr>
            <p:grpSpPr>
              <a:xfrm>
                <a:off x="798840" y="2386440"/>
                <a:ext cx="124920" cy="203400"/>
                <a:chOff x="798840" y="2386440"/>
                <a:chExt cx="124920" cy="203400"/>
              </a:xfrm>
            </p:grpSpPr>
            <p:sp>
              <p:nvSpPr>
                <p:cNvPr id="7254" name=""/>
                <p:cNvSpPr/>
                <p:nvPr/>
              </p:nvSpPr>
              <p:spPr>
                <a:xfrm rot="16927800">
                  <a:off x="778320" y="245952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5" name=""/>
                <p:cNvSpPr/>
                <p:nvPr/>
              </p:nvSpPr>
              <p:spPr>
                <a:xfrm rot="16927800">
                  <a:off x="754560" y="245376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6" name=""/>
              <p:cNvGrpSpPr/>
              <p:nvPr/>
            </p:nvGrpSpPr>
            <p:grpSpPr>
              <a:xfrm>
                <a:off x="574200" y="2421000"/>
                <a:ext cx="286200" cy="74160"/>
                <a:chOff x="574200" y="2421000"/>
                <a:chExt cx="286200" cy="74160"/>
              </a:xfrm>
            </p:grpSpPr>
            <p:sp>
              <p:nvSpPr>
                <p:cNvPr id="7257" name=""/>
                <p:cNvSpPr/>
                <p:nvPr/>
              </p:nvSpPr>
              <p:spPr>
                <a:xfrm rot="16336200">
                  <a:off x="595080" y="2401920"/>
                  <a:ext cx="31680" cy="7236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34" y="0"/>
                      </a:moveTo>
                      <a:lnTo>
                        <a:pt x="34" y="77"/>
                      </a:lnTo>
                      <a:lnTo>
                        <a:pt x="22" y="64"/>
                      </a:lnTo>
                      <a:lnTo>
                        <a:pt x="0" y="64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8" name=""/>
                <p:cNvSpPr/>
                <p:nvPr/>
              </p:nvSpPr>
              <p:spPr>
                <a:xfrm flipH="1" flipV="1">
                  <a:off x="636840" y="2434320"/>
                  <a:ext cx="223560" cy="608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9" name=""/>
              <p:cNvGrpSpPr/>
              <p:nvPr/>
            </p:nvGrpSpPr>
            <p:grpSpPr>
              <a:xfrm>
                <a:off x="491760" y="2374920"/>
                <a:ext cx="276480" cy="33840"/>
                <a:chOff x="491760" y="2374920"/>
                <a:chExt cx="276480" cy="33840"/>
              </a:xfrm>
            </p:grpSpPr>
            <p:sp>
              <p:nvSpPr>
                <p:cNvPr id="7260" name=""/>
                <p:cNvSpPr/>
                <p:nvPr/>
              </p:nvSpPr>
              <p:spPr>
                <a:xfrm rot="16336200">
                  <a:off x="512640" y="235584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22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76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1" name=""/>
                <p:cNvSpPr/>
                <p:nvPr/>
              </p:nvSpPr>
              <p:spPr>
                <a:xfrm flipH="1" flipV="1">
                  <a:off x="563760" y="2387520"/>
                  <a:ext cx="204480" cy="86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2" name=""/>
              <p:cNvGrpSpPr/>
              <p:nvPr/>
            </p:nvGrpSpPr>
            <p:grpSpPr>
              <a:xfrm>
                <a:off x="610560" y="2075400"/>
                <a:ext cx="179280" cy="70560"/>
                <a:chOff x="610560" y="2075400"/>
                <a:chExt cx="179280" cy="70560"/>
              </a:xfrm>
            </p:grpSpPr>
            <p:sp>
              <p:nvSpPr>
                <p:cNvPr id="7263" name=""/>
                <p:cNvSpPr/>
                <p:nvPr/>
              </p:nvSpPr>
              <p:spPr>
                <a:xfrm rot="16336200">
                  <a:off x="625680" y="2062080"/>
                  <a:ext cx="42480" cy="71640"/>
                </a:xfrm>
                <a:custGeom>
                  <a:avLst/>
                  <a:gdLst/>
                  <a:ahLst/>
                  <a:rect l="l" t="t" r="r" b="b"/>
                  <a:pathLst>
                    <a:path w="45" h="76">
                      <a:moveTo>
                        <a:pt x="45" y="0"/>
                      </a:moveTo>
                      <a:lnTo>
                        <a:pt x="34" y="76"/>
                      </a:lnTo>
                      <a:lnTo>
                        <a:pt x="12" y="63"/>
                      </a:lnTo>
                      <a:lnTo>
                        <a:pt x="0" y="6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4" name=""/>
                <p:cNvSpPr/>
                <p:nvPr/>
              </p:nvSpPr>
              <p:spPr>
                <a:xfrm flipH="1" flipV="1">
                  <a:off x="670320" y="2110320"/>
                  <a:ext cx="119520" cy="356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5" name=""/>
              <p:cNvGrpSpPr/>
              <p:nvPr/>
            </p:nvGrpSpPr>
            <p:grpSpPr>
              <a:xfrm>
                <a:off x="544320" y="2273040"/>
                <a:ext cx="180360" cy="33840"/>
                <a:chOff x="544320" y="2273040"/>
                <a:chExt cx="180360" cy="33840"/>
              </a:xfrm>
            </p:grpSpPr>
            <p:sp>
              <p:nvSpPr>
                <p:cNvPr id="7266" name=""/>
                <p:cNvSpPr/>
                <p:nvPr/>
              </p:nvSpPr>
              <p:spPr>
                <a:xfrm rot="16336200">
                  <a:off x="565200" y="225396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22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76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7" name=""/>
                <p:cNvSpPr/>
                <p:nvPr/>
              </p:nvSpPr>
              <p:spPr>
                <a:xfrm flipH="1" flipV="1">
                  <a:off x="616680" y="2285640"/>
                  <a:ext cx="108000" cy="50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8" name=""/>
              <p:cNvGrpSpPr/>
              <p:nvPr/>
            </p:nvGrpSpPr>
            <p:grpSpPr>
              <a:xfrm>
                <a:off x="504360" y="2007720"/>
                <a:ext cx="193680" cy="34920"/>
                <a:chOff x="504360" y="2007720"/>
                <a:chExt cx="193680" cy="34920"/>
              </a:xfrm>
            </p:grpSpPr>
            <p:sp>
              <p:nvSpPr>
                <p:cNvPr id="7269" name=""/>
                <p:cNvSpPr/>
                <p:nvPr/>
              </p:nvSpPr>
              <p:spPr>
                <a:xfrm rot="16336200">
                  <a:off x="524520" y="1989000"/>
                  <a:ext cx="32040" cy="71640"/>
                </a:xfrm>
                <a:custGeom>
                  <a:avLst/>
                  <a:gdLst/>
                  <a:ahLst/>
                  <a:rect l="l" t="t" r="r" b="b"/>
                  <a:pathLst>
                    <a:path w="34" h="76">
                      <a:moveTo>
                        <a:pt x="11" y="0"/>
                      </a:moveTo>
                      <a:lnTo>
                        <a:pt x="34" y="76"/>
                      </a:lnTo>
                      <a:lnTo>
                        <a:pt x="11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0" name=""/>
                <p:cNvSpPr/>
                <p:nvPr/>
              </p:nvSpPr>
              <p:spPr>
                <a:xfrm flipH="1">
                  <a:off x="576360" y="2016360"/>
                  <a:ext cx="121680" cy="1548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1" name=""/>
              <p:cNvGrpSpPr/>
              <p:nvPr/>
            </p:nvGrpSpPr>
            <p:grpSpPr>
              <a:xfrm>
                <a:off x="642240" y="2234160"/>
                <a:ext cx="177480" cy="38160"/>
                <a:chOff x="642240" y="2234160"/>
                <a:chExt cx="177480" cy="38160"/>
              </a:xfrm>
            </p:grpSpPr>
            <p:sp>
              <p:nvSpPr>
                <p:cNvPr id="7272" name=""/>
                <p:cNvSpPr/>
                <p:nvPr/>
              </p:nvSpPr>
              <p:spPr>
                <a:xfrm rot="16336200">
                  <a:off x="663120" y="221508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33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76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3" name=""/>
                <p:cNvSpPr/>
                <p:nvPr/>
              </p:nvSpPr>
              <p:spPr>
                <a:xfrm flipH="1" flipV="1">
                  <a:off x="714960" y="2247480"/>
                  <a:ext cx="104760" cy="248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4" name=""/>
              <p:cNvGrpSpPr/>
              <p:nvPr/>
            </p:nvGrpSpPr>
            <p:grpSpPr>
              <a:xfrm>
                <a:off x="584280" y="1843560"/>
                <a:ext cx="240840" cy="41400"/>
                <a:chOff x="584280" y="1843560"/>
                <a:chExt cx="240840" cy="41400"/>
              </a:xfrm>
            </p:grpSpPr>
            <p:sp>
              <p:nvSpPr>
                <p:cNvPr id="7275" name=""/>
                <p:cNvSpPr/>
                <p:nvPr/>
              </p:nvSpPr>
              <p:spPr>
                <a:xfrm rot="16336200">
                  <a:off x="605160" y="1824480"/>
                  <a:ext cx="32040" cy="7272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23" y="0"/>
                      </a:moveTo>
                      <a:lnTo>
                        <a:pt x="34" y="77"/>
                      </a:lnTo>
                      <a:lnTo>
                        <a:pt x="23" y="77"/>
                      </a:lnTo>
                      <a:lnTo>
                        <a:pt x="0" y="6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6" name=""/>
                <p:cNvSpPr/>
                <p:nvPr/>
              </p:nvSpPr>
              <p:spPr>
                <a:xfrm flipH="1" flipV="1">
                  <a:off x="657360" y="1857600"/>
                  <a:ext cx="167760" cy="2736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7" name=""/>
              <p:cNvGrpSpPr/>
              <p:nvPr/>
            </p:nvGrpSpPr>
            <p:grpSpPr>
              <a:xfrm>
                <a:off x="832320" y="1931760"/>
                <a:ext cx="93960" cy="182880"/>
                <a:chOff x="832320" y="1931760"/>
                <a:chExt cx="93960" cy="182880"/>
              </a:xfrm>
            </p:grpSpPr>
            <p:sp>
              <p:nvSpPr>
                <p:cNvPr id="7278" name=""/>
                <p:cNvSpPr/>
                <p:nvPr/>
              </p:nvSpPr>
              <p:spPr>
                <a:xfrm rot="16336200">
                  <a:off x="801720" y="1992600"/>
                  <a:ext cx="17928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9" name=""/>
                <p:cNvSpPr/>
                <p:nvPr/>
              </p:nvSpPr>
              <p:spPr>
                <a:xfrm rot="16336200">
                  <a:off x="777600" y="1990800"/>
                  <a:ext cx="17928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0" name=""/>
              <p:cNvGrpSpPr/>
              <p:nvPr/>
            </p:nvGrpSpPr>
            <p:grpSpPr>
              <a:xfrm>
                <a:off x="651240" y="1981800"/>
                <a:ext cx="200160" cy="38880"/>
                <a:chOff x="651240" y="1981800"/>
                <a:chExt cx="200160" cy="38880"/>
              </a:xfrm>
            </p:grpSpPr>
            <p:sp>
              <p:nvSpPr>
                <p:cNvPr id="7281" name=""/>
                <p:cNvSpPr/>
                <p:nvPr/>
              </p:nvSpPr>
              <p:spPr>
                <a:xfrm rot="16336200">
                  <a:off x="672120" y="196272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33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64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2" name=""/>
                <p:cNvSpPr/>
                <p:nvPr/>
              </p:nvSpPr>
              <p:spPr>
                <a:xfrm flipH="1" flipV="1">
                  <a:off x="722880" y="1996200"/>
                  <a:ext cx="128520" cy="2448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3" name=""/>
              <p:cNvGrpSpPr/>
              <p:nvPr/>
            </p:nvGrpSpPr>
            <p:grpSpPr>
              <a:xfrm>
                <a:off x="743400" y="2101320"/>
                <a:ext cx="192240" cy="39960"/>
                <a:chOff x="743400" y="2101320"/>
                <a:chExt cx="192240" cy="39960"/>
              </a:xfrm>
            </p:grpSpPr>
            <p:sp>
              <p:nvSpPr>
                <p:cNvPr id="7284" name=""/>
                <p:cNvSpPr/>
                <p:nvPr/>
              </p:nvSpPr>
              <p:spPr>
                <a:xfrm rot="16336200">
                  <a:off x="763920" y="2082600"/>
                  <a:ext cx="32040" cy="7236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23" y="0"/>
                      </a:moveTo>
                      <a:lnTo>
                        <a:pt x="34" y="77"/>
                      </a:lnTo>
                      <a:lnTo>
                        <a:pt x="11" y="77"/>
                      </a:lnTo>
                      <a:lnTo>
                        <a:pt x="0" y="77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5" name=""/>
                <p:cNvSpPr/>
                <p:nvPr/>
              </p:nvSpPr>
              <p:spPr>
                <a:xfrm flipH="1" flipV="1">
                  <a:off x="820080" y="2126160"/>
                  <a:ext cx="115560" cy="151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6" name=""/>
              <p:cNvGrpSpPr/>
              <p:nvPr/>
            </p:nvGrpSpPr>
            <p:grpSpPr>
              <a:xfrm>
                <a:off x="725400" y="1921680"/>
                <a:ext cx="242640" cy="34200"/>
                <a:chOff x="725400" y="1921680"/>
                <a:chExt cx="242640" cy="34200"/>
              </a:xfrm>
            </p:grpSpPr>
            <p:sp>
              <p:nvSpPr>
                <p:cNvPr id="7287" name=""/>
                <p:cNvSpPr/>
                <p:nvPr/>
              </p:nvSpPr>
              <p:spPr>
                <a:xfrm rot="16336200">
                  <a:off x="746640" y="1902600"/>
                  <a:ext cx="30960" cy="72720"/>
                </a:xfrm>
                <a:custGeom>
                  <a:avLst/>
                  <a:gdLst/>
                  <a:ahLst/>
                  <a:rect l="l" t="t" r="r" b="b"/>
                  <a:pathLst>
                    <a:path w="33" h="77">
                      <a:moveTo>
                        <a:pt x="11" y="0"/>
                      </a:moveTo>
                      <a:lnTo>
                        <a:pt x="33" y="64"/>
                      </a:lnTo>
                      <a:lnTo>
                        <a:pt x="22" y="77"/>
                      </a:lnTo>
                      <a:lnTo>
                        <a:pt x="0" y="7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8" name=""/>
                <p:cNvSpPr/>
                <p:nvPr/>
              </p:nvSpPr>
              <p:spPr>
                <a:xfrm flipH="1">
                  <a:off x="799200" y="1921680"/>
                  <a:ext cx="168840" cy="140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9" name=""/>
              <p:cNvGrpSpPr/>
              <p:nvPr/>
            </p:nvGrpSpPr>
            <p:grpSpPr>
              <a:xfrm>
                <a:off x="698400" y="1699560"/>
                <a:ext cx="192240" cy="39960"/>
                <a:chOff x="698400" y="1699560"/>
                <a:chExt cx="192240" cy="39960"/>
              </a:xfrm>
            </p:grpSpPr>
            <p:sp>
              <p:nvSpPr>
                <p:cNvPr id="7290" name=""/>
                <p:cNvSpPr/>
                <p:nvPr/>
              </p:nvSpPr>
              <p:spPr>
                <a:xfrm rot="16336200">
                  <a:off x="719280" y="1680480"/>
                  <a:ext cx="32040" cy="7272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34" y="0"/>
                      </a:moveTo>
                      <a:lnTo>
                        <a:pt x="34" y="77"/>
                      </a:lnTo>
                      <a:lnTo>
                        <a:pt x="23" y="77"/>
                      </a:lnTo>
                      <a:lnTo>
                        <a:pt x="0" y="64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1" name=""/>
                <p:cNvSpPr/>
                <p:nvPr/>
              </p:nvSpPr>
              <p:spPr>
                <a:xfrm flipH="1" flipV="1">
                  <a:off x="771840" y="1713960"/>
                  <a:ext cx="118800" cy="2556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2" name=""/>
              <p:cNvGrpSpPr/>
              <p:nvPr/>
            </p:nvGrpSpPr>
            <p:grpSpPr>
              <a:xfrm>
                <a:off x="564120" y="1747080"/>
                <a:ext cx="216000" cy="33840"/>
                <a:chOff x="564120" y="1747080"/>
                <a:chExt cx="216000" cy="33840"/>
              </a:xfrm>
            </p:grpSpPr>
            <p:sp>
              <p:nvSpPr>
                <p:cNvPr id="7293" name=""/>
                <p:cNvSpPr/>
                <p:nvPr/>
              </p:nvSpPr>
              <p:spPr>
                <a:xfrm rot="16336200">
                  <a:off x="585000" y="172800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11" y="0"/>
                      </a:moveTo>
                      <a:lnTo>
                        <a:pt x="33" y="76"/>
                      </a:lnTo>
                      <a:lnTo>
                        <a:pt x="11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4" name=""/>
                <p:cNvSpPr/>
                <p:nvPr/>
              </p:nvSpPr>
              <p:spPr>
                <a:xfrm flipH="1">
                  <a:off x="635400" y="1766520"/>
                  <a:ext cx="144720" cy="468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5" name=""/>
              <p:cNvGrpSpPr/>
              <p:nvPr/>
            </p:nvGrpSpPr>
            <p:grpSpPr>
              <a:xfrm>
                <a:off x="596880" y="1528200"/>
                <a:ext cx="191520" cy="39600"/>
                <a:chOff x="596880" y="1528200"/>
                <a:chExt cx="191520" cy="39600"/>
              </a:xfrm>
            </p:grpSpPr>
            <p:sp>
              <p:nvSpPr>
                <p:cNvPr id="7296" name=""/>
                <p:cNvSpPr/>
                <p:nvPr/>
              </p:nvSpPr>
              <p:spPr>
                <a:xfrm rot="16336200">
                  <a:off x="623160" y="1503360"/>
                  <a:ext cx="20520" cy="72720"/>
                </a:xfrm>
                <a:custGeom>
                  <a:avLst/>
                  <a:gdLst/>
                  <a:ahLst/>
                  <a:rect l="l" t="t" r="r" b="b"/>
                  <a:pathLst>
                    <a:path w="22" h="77">
                      <a:moveTo>
                        <a:pt x="22" y="0"/>
                      </a:moveTo>
                      <a:lnTo>
                        <a:pt x="22" y="77"/>
                      </a:lnTo>
                      <a:lnTo>
                        <a:pt x="11" y="77"/>
                      </a:lnTo>
                      <a:lnTo>
                        <a:pt x="0" y="7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7" name=""/>
                <p:cNvSpPr/>
                <p:nvPr/>
              </p:nvSpPr>
              <p:spPr>
                <a:xfrm flipH="1" flipV="1">
                  <a:off x="669600" y="1542240"/>
                  <a:ext cx="118800" cy="2556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8" name=""/>
              <p:cNvGrpSpPr/>
              <p:nvPr/>
            </p:nvGrpSpPr>
            <p:grpSpPr>
              <a:xfrm>
                <a:off x="664200" y="1666440"/>
                <a:ext cx="180000" cy="33840"/>
                <a:chOff x="664200" y="1666440"/>
                <a:chExt cx="180000" cy="33840"/>
              </a:xfrm>
            </p:grpSpPr>
            <p:sp>
              <p:nvSpPr>
                <p:cNvPr id="7299" name=""/>
                <p:cNvSpPr/>
                <p:nvPr/>
              </p:nvSpPr>
              <p:spPr>
                <a:xfrm rot="16336200">
                  <a:off x="685080" y="164736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11" y="0"/>
                      </a:moveTo>
                      <a:lnTo>
                        <a:pt x="33" y="76"/>
                      </a:lnTo>
                      <a:lnTo>
                        <a:pt x="11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0" name=""/>
                <p:cNvSpPr/>
                <p:nvPr/>
              </p:nvSpPr>
              <p:spPr>
                <a:xfrm flipH="1" flipV="1">
                  <a:off x="736200" y="1689120"/>
                  <a:ext cx="108000" cy="50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1" name=""/>
              <p:cNvGrpSpPr/>
              <p:nvPr/>
            </p:nvGrpSpPr>
            <p:grpSpPr>
              <a:xfrm>
                <a:off x="664920" y="1623600"/>
                <a:ext cx="277920" cy="34560"/>
                <a:chOff x="664920" y="1623600"/>
                <a:chExt cx="277920" cy="34560"/>
              </a:xfrm>
            </p:grpSpPr>
            <p:sp>
              <p:nvSpPr>
                <p:cNvPr id="7302" name=""/>
                <p:cNvSpPr/>
                <p:nvPr/>
              </p:nvSpPr>
              <p:spPr>
                <a:xfrm rot="16336200">
                  <a:off x="685440" y="1604880"/>
                  <a:ext cx="31680" cy="71640"/>
                </a:xfrm>
                <a:custGeom>
                  <a:avLst/>
                  <a:gdLst/>
                  <a:ahLst/>
                  <a:rect l="l" t="t" r="r" b="b"/>
                  <a:pathLst>
                    <a:path w="34" h="76">
                      <a:moveTo>
                        <a:pt x="11" y="0"/>
                      </a:moveTo>
                      <a:lnTo>
                        <a:pt x="34" y="64"/>
                      </a:lnTo>
                      <a:lnTo>
                        <a:pt x="23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3" name=""/>
                <p:cNvSpPr/>
                <p:nvPr/>
              </p:nvSpPr>
              <p:spPr>
                <a:xfrm flipH="1">
                  <a:off x="740880" y="1624320"/>
                  <a:ext cx="201960" cy="1260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4" name=""/>
              <p:cNvGrpSpPr/>
              <p:nvPr/>
            </p:nvGrpSpPr>
            <p:grpSpPr>
              <a:xfrm>
                <a:off x="693720" y="1509840"/>
                <a:ext cx="169200" cy="33840"/>
                <a:chOff x="693720" y="1509840"/>
                <a:chExt cx="169200" cy="33840"/>
              </a:xfrm>
            </p:grpSpPr>
            <p:sp>
              <p:nvSpPr>
                <p:cNvPr id="7305" name=""/>
                <p:cNvSpPr/>
                <p:nvPr/>
              </p:nvSpPr>
              <p:spPr>
                <a:xfrm rot="16336200">
                  <a:off x="714960" y="1490400"/>
                  <a:ext cx="30960" cy="72720"/>
                </a:xfrm>
                <a:custGeom>
                  <a:avLst/>
                  <a:gdLst/>
                  <a:ahLst/>
                  <a:rect l="l" t="t" r="r" b="b"/>
                  <a:pathLst>
                    <a:path w="33" h="77">
                      <a:moveTo>
                        <a:pt x="22" y="0"/>
                      </a:moveTo>
                      <a:lnTo>
                        <a:pt x="33" y="77"/>
                      </a:lnTo>
                      <a:lnTo>
                        <a:pt x="22" y="77"/>
                      </a:lnTo>
                      <a:lnTo>
                        <a:pt x="0" y="7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6" name=""/>
                <p:cNvSpPr/>
                <p:nvPr/>
              </p:nvSpPr>
              <p:spPr>
                <a:xfrm flipH="1" flipV="1">
                  <a:off x="767160" y="1522440"/>
                  <a:ext cx="95760" cy="43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07" name=""/>
              <p:cNvSpPr/>
              <p:nvPr/>
            </p:nvSpPr>
            <p:spPr>
              <a:xfrm rot="136200">
                <a:off x="986760" y="1552320"/>
                <a:ext cx="2217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700" spc="-1" strike="noStrike">
                    <a:solidFill>
                      <a:srgbClr val="000000"/>
                    </a:solidFill>
                    <a:latin typeface="Comic Sans MS"/>
                  </a:rPr>
                  <a:t>r0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8" name=""/>
            <p:cNvGrpSpPr/>
            <p:nvPr/>
          </p:nvGrpSpPr>
          <p:grpSpPr>
            <a:xfrm>
              <a:off x="1358640" y="1409400"/>
              <a:ext cx="82800" cy="1258920"/>
              <a:chOff x="1358640" y="1409400"/>
              <a:chExt cx="82800" cy="1258920"/>
            </a:xfrm>
          </p:grpSpPr>
          <p:sp>
            <p:nvSpPr>
              <p:cNvPr id="7309" name=""/>
              <p:cNvSpPr/>
              <p:nvPr/>
            </p:nvSpPr>
            <p:spPr>
              <a:xfrm rot="16219800">
                <a:off x="1364040" y="2597760"/>
                <a:ext cx="65160" cy="7560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0" y="13"/>
                    </a:moveTo>
                    <a:lnTo>
                      <a:pt x="67" y="0"/>
                    </a:lnTo>
                    <a:lnTo>
                      <a:pt x="67" y="13"/>
                    </a:lnTo>
                    <a:lnTo>
                      <a:pt x="67" y="3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 rot="16219800">
                <a:off x="1370880" y="1404360"/>
                <a:ext cx="65160" cy="7560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67" y="13"/>
                    </a:moveTo>
                    <a:lnTo>
                      <a:pt x="0" y="39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 flipV="1">
                <a:off x="1383840" y="1474920"/>
                <a:ext cx="7920" cy="1128240"/>
              </a:xfrm>
              <a:prstGeom prst="line">
                <a:avLst/>
              </a:prstGeom>
              <a:ln w="176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2" name=""/>
            <p:cNvSpPr/>
            <p:nvPr/>
          </p:nvSpPr>
          <p:spPr>
            <a:xfrm rot="241200">
              <a:off x="1446840" y="1725480"/>
              <a:ext cx="160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1243080" y="1454040"/>
              <a:ext cx="95040" cy="114948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4" name=""/>
            <p:cNvSpPr/>
            <p:nvPr/>
          </p:nvSpPr>
          <p:spPr>
            <a:xfrm>
              <a:off x="1230480" y="3143160"/>
              <a:ext cx="96840" cy="1147680"/>
            </a:xfrm>
            <a:prstGeom prst="ellipse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15" name=""/>
            <p:cNvGrpSpPr/>
            <p:nvPr/>
          </p:nvGrpSpPr>
          <p:grpSpPr>
            <a:xfrm>
              <a:off x="544680" y="3128760"/>
              <a:ext cx="555840" cy="1232280"/>
              <a:chOff x="544680" y="3128760"/>
              <a:chExt cx="555840" cy="1232280"/>
            </a:xfrm>
          </p:grpSpPr>
          <p:sp>
            <p:nvSpPr>
              <p:cNvPr id="7316" name=""/>
              <p:cNvSpPr/>
              <p:nvPr/>
            </p:nvSpPr>
            <p:spPr>
              <a:xfrm flipV="1" rot="5396400">
                <a:off x="259200" y="3520080"/>
                <a:ext cx="1231920" cy="448560"/>
              </a:xfrm>
              <a:prstGeom prst="ellipse">
                <a:avLst/>
              </a:prstGeom>
              <a:solidFill>
                <a:srgbClr val="ffffff"/>
              </a:solidFill>
              <a:ln w="176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17" name=""/>
              <p:cNvGrpSpPr/>
              <p:nvPr/>
            </p:nvGrpSpPr>
            <p:grpSpPr>
              <a:xfrm>
                <a:off x="766080" y="4070880"/>
                <a:ext cx="111960" cy="200520"/>
                <a:chOff x="766080" y="4070880"/>
                <a:chExt cx="111960" cy="200520"/>
              </a:xfrm>
            </p:grpSpPr>
            <p:sp>
              <p:nvSpPr>
                <p:cNvPr id="7318" name=""/>
                <p:cNvSpPr/>
                <p:nvPr/>
              </p:nvSpPr>
              <p:spPr>
                <a:xfrm flipV="1" rot="4922400">
                  <a:off x="738720" y="4138200"/>
                  <a:ext cx="19044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9" name=""/>
                <p:cNvSpPr/>
                <p:nvPr/>
              </p:nvSpPr>
              <p:spPr>
                <a:xfrm flipV="1" rot="4922400">
                  <a:off x="715320" y="4141080"/>
                  <a:ext cx="19044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0" name=""/>
              <p:cNvGrpSpPr/>
              <p:nvPr/>
            </p:nvGrpSpPr>
            <p:grpSpPr>
              <a:xfrm>
                <a:off x="742320" y="3370680"/>
                <a:ext cx="86760" cy="190800"/>
                <a:chOff x="742320" y="3370680"/>
                <a:chExt cx="86760" cy="190800"/>
              </a:xfrm>
            </p:grpSpPr>
            <p:sp>
              <p:nvSpPr>
                <p:cNvPr id="7321" name=""/>
                <p:cNvSpPr/>
                <p:nvPr/>
              </p:nvSpPr>
              <p:spPr>
                <a:xfrm flipV="1" rot="5396400">
                  <a:off x="701640" y="3434400"/>
                  <a:ext cx="19080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2" name=""/>
                <p:cNvSpPr/>
                <p:nvPr/>
              </p:nvSpPr>
              <p:spPr>
                <a:xfrm flipV="1" rot="5396400">
                  <a:off x="677880" y="3434760"/>
                  <a:ext cx="19080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3" name=""/>
              <p:cNvGrpSpPr/>
              <p:nvPr/>
            </p:nvGrpSpPr>
            <p:grpSpPr>
              <a:xfrm>
                <a:off x="802080" y="3507840"/>
                <a:ext cx="74520" cy="190800"/>
                <a:chOff x="802080" y="3507840"/>
                <a:chExt cx="74520" cy="190800"/>
              </a:xfrm>
            </p:grpSpPr>
            <p:sp>
              <p:nvSpPr>
                <p:cNvPr id="7324" name=""/>
                <p:cNvSpPr/>
                <p:nvPr/>
              </p:nvSpPr>
              <p:spPr>
                <a:xfrm flipV="1" rot="5396400">
                  <a:off x="754920" y="3565800"/>
                  <a:ext cx="17928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5" name=""/>
                <p:cNvSpPr/>
                <p:nvPr/>
              </p:nvSpPr>
              <p:spPr>
                <a:xfrm flipV="1" rot="5396400">
                  <a:off x="737640" y="3571920"/>
                  <a:ext cx="19080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6" name=""/>
              <p:cNvGrpSpPr/>
              <p:nvPr/>
            </p:nvGrpSpPr>
            <p:grpSpPr>
              <a:xfrm>
                <a:off x="790560" y="3246120"/>
                <a:ext cx="86760" cy="189720"/>
                <a:chOff x="790560" y="3246120"/>
                <a:chExt cx="86760" cy="189720"/>
              </a:xfrm>
            </p:grpSpPr>
            <p:sp>
              <p:nvSpPr>
                <p:cNvPr id="7327" name=""/>
                <p:cNvSpPr/>
                <p:nvPr/>
              </p:nvSpPr>
              <p:spPr>
                <a:xfrm flipV="1" rot="5396400">
                  <a:off x="755640" y="3304080"/>
                  <a:ext cx="17928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8" name=""/>
                <p:cNvSpPr/>
                <p:nvPr/>
              </p:nvSpPr>
              <p:spPr>
                <a:xfrm flipV="1" rot="5396400">
                  <a:off x="727200" y="3309120"/>
                  <a:ext cx="18972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9" name=""/>
              <p:cNvGrpSpPr/>
              <p:nvPr/>
            </p:nvGrpSpPr>
            <p:grpSpPr>
              <a:xfrm>
                <a:off x="838080" y="3366720"/>
                <a:ext cx="111960" cy="190800"/>
                <a:chOff x="838080" y="3366720"/>
                <a:chExt cx="111960" cy="190800"/>
              </a:xfrm>
            </p:grpSpPr>
            <p:sp>
              <p:nvSpPr>
                <p:cNvPr id="7330" name=""/>
                <p:cNvSpPr/>
                <p:nvPr/>
              </p:nvSpPr>
              <p:spPr>
                <a:xfrm flipV="1" rot="4898400">
                  <a:off x="815040" y="3428280"/>
                  <a:ext cx="18036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1" name=""/>
                <p:cNvSpPr/>
                <p:nvPr/>
              </p:nvSpPr>
              <p:spPr>
                <a:xfrm flipV="1" rot="4898400">
                  <a:off x="791640" y="3431880"/>
                  <a:ext cx="180360" cy="6264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2" name=""/>
              <p:cNvGrpSpPr/>
              <p:nvPr/>
            </p:nvGrpSpPr>
            <p:grpSpPr>
              <a:xfrm>
                <a:off x="710640" y="3638880"/>
                <a:ext cx="124920" cy="203400"/>
                <a:chOff x="710640" y="3638880"/>
                <a:chExt cx="124920" cy="203400"/>
              </a:xfrm>
            </p:grpSpPr>
            <p:sp>
              <p:nvSpPr>
                <p:cNvPr id="7333" name=""/>
                <p:cNvSpPr/>
                <p:nvPr/>
              </p:nvSpPr>
              <p:spPr>
                <a:xfrm flipV="1" rot="6126600">
                  <a:off x="690120" y="371124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4" name=""/>
                <p:cNvSpPr/>
                <p:nvPr/>
              </p:nvSpPr>
              <p:spPr>
                <a:xfrm flipV="1" rot="6126600">
                  <a:off x="666720" y="370620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5" name=""/>
              <p:cNvGrpSpPr/>
              <p:nvPr/>
            </p:nvGrpSpPr>
            <p:grpSpPr>
              <a:xfrm>
                <a:off x="938160" y="3504600"/>
                <a:ext cx="92520" cy="197280"/>
                <a:chOff x="938160" y="3504600"/>
                <a:chExt cx="92520" cy="197280"/>
              </a:xfrm>
            </p:grpSpPr>
            <p:sp>
              <p:nvSpPr>
                <p:cNvPr id="7336" name=""/>
                <p:cNvSpPr/>
                <p:nvPr/>
              </p:nvSpPr>
              <p:spPr>
                <a:xfrm flipV="1" rot="5041200">
                  <a:off x="894240" y="3570840"/>
                  <a:ext cx="19080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7" name=""/>
                <p:cNvSpPr/>
                <p:nvPr/>
              </p:nvSpPr>
              <p:spPr>
                <a:xfrm flipV="1" rot="5041200">
                  <a:off x="888120" y="3577680"/>
                  <a:ext cx="18036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8" name=""/>
              <p:cNvGrpSpPr/>
              <p:nvPr/>
            </p:nvGrpSpPr>
            <p:grpSpPr>
              <a:xfrm>
                <a:off x="942840" y="3713040"/>
                <a:ext cx="120240" cy="202320"/>
                <a:chOff x="942840" y="3713040"/>
                <a:chExt cx="120240" cy="202320"/>
              </a:xfrm>
            </p:grpSpPr>
            <p:sp>
              <p:nvSpPr>
                <p:cNvPr id="7339" name=""/>
                <p:cNvSpPr/>
                <p:nvPr/>
              </p:nvSpPr>
              <p:spPr>
                <a:xfrm flipV="1" rot="6034800">
                  <a:off x="919440" y="378432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0" name=""/>
                <p:cNvSpPr/>
                <p:nvPr/>
              </p:nvSpPr>
              <p:spPr>
                <a:xfrm flipV="1" rot="6034800">
                  <a:off x="896040" y="378072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1" name=""/>
              <p:cNvGrpSpPr/>
              <p:nvPr/>
            </p:nvGrpSpPr>
            <p:grpSpPr>
              <a:xfrm>
                <a:off x="755640" y="3879720"/>
                <a:ext cx="131760" cy="205560"/>
                <a:chOff x="755640" y="3879720"/>
                <a:chExt cx="131760" cy="205560"/>
              </a:xfrm>
            </p:grpSpPr>
            <p:sp>
              <p:nvSpPr>
                <p:cNvPr id="7342" name=""/>
                <p:cNvSpPr/>
                <p:nvPr/>
              </p:nvSpPr>
              <p:spPr>
                <a:xfrm flipV="1" rot="6276000">
                  <a:off x="738360" y="395424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3" name=""/>
                <p:cNvSpPr/>
                <p:nvPr/>
              </p:nvSpPr>
              <p:spPr>
                <a:xfrm flipV="1" rot="6276000">
                  <a:off x="715320" y="394740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4" name=""/>
              <p:cNvGrpSpPr/>
              <p:nvPr/>
            </p:nvGrpSpPr>
            <p:grpSpPr>
              <a:xfrm>
                <a:off x="838800" y="4098240"/>
                <a:ext cx="86760" cy="189720"/>
                <a:chOff x="838800" y="4098240"/>
                <a:chExt cx="86760" cy="189720"/>
              </a:xfrm>
            </p:grpSpPr>
            <p:sp>
              <p:nvSpPr>
                <p:cNvPr id="7345" name=""/>
                <p:cNvSpPr/>
                <p:nvPr/>
              </p:nvSpPr>
              <p:spPr>
                <a:xfrm flipV="1" rot="5396400">
                  <a:off x="799200" y="416160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6" name=""/>
                <p:cNvSpPr/>
                <p:nvPr/>
              </p:nvSpPr>
              <p:spPr>
                <a:xfrm flipV="1" rot="5396400">
                  <a:off x="775440" y="4161240"/>
                  <a:ext cx="18972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7" name=""/>
              <p:cNvGrpSpPr/>
              <p:nvPr/>
            </p:nvGrpSpPr>
            <p:grpSpPr>
              <a:xfrm>
                <a:off x="826200" y="3760200"/>
                <a:ext cx="87120" cy="190800"/>
                <a:chOff x="826200" y="3760200"/>
                <a:chExt cx="87120" cy="190800"/>
              </a:xfrm>
            </p:grpSpPr>
            <p:sp>
              <p:nvSpPr>
                <p:cNvPr id="7348" name=""/>
                <p:cNvSpPr/>
                <p:nvPr/>
              </p:nvSpPr>
              <p:spPr>
                <a:xfrm flipV="1" rot="5396400">
                  <a:off x="791640" y="3818880"/>
                  <a:ext cx="18036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9" name=""/>
                <p:cNvSpPr/>
                <p:nvPr/>
              </p:nvSpPr>
              <p:spPr>
                <a:xfrm flipV="1" rot="5396400">
                  <a:off x="762480" y="3823920"/>
                  <a:ext cx="19080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0" name=""/>
              <p:cNvGrpSpPr/>
              <p:nvPr/>
            </p:nvGrpSpPr>
            <p:grpSpPr>
              <a:xfrm>
                <a:off x="838440" y="3949920"/>
                <a:ext cx="86760" cy="179280"/>
                <a:chOff x="838440" y="3949920"/>
                <a:chExt cx="86760" cy="179280"/>
              </a:xfrm>
            </p:grpSpPr>
            <p:sp>
              <p:nvSpPr>
                <p:cNvPr id="7351" name=""/>
                <p:cNvSpPr/>
                <p:nvPr/>
              </p:nvSpPr>
              <p:spPr>
                <a:xfrm flipV="1" rot="5396400">
                  <a:off x="803880" y="4008240"/>
                  <a:ext cx="17928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2" name=""/>
                <p:cNvSpPr/>
                <p:nvPr/>
              </p:nvSpPr>
              <p:spPr>
                <a:xfrm flipV="1" rot="5396400">
                  <a:off x="780120" y="4007880"/>
                  <a:ext cx="17928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3" name=""/>
              <p:cNvGrpSpPr/>
              <p:nvPr/>
            </p:nvGrpSpPr>
            <p:grpSpPr>
              <a:xfrm>
                <a:off x="898560" y="3908520"/>
                <a:ext cx="86760" cy="180360"/>
                <a:chOff x="898560" y="3908520"/>
                <a:chExt cx="86760" cy="180360"/>
              </a:xfrm>
            </p:grpSpPr>
            <p:sp>
              <p:nvSpPr>
                <p:cNvPr id="7354" name=""/>
                <p:cNvSpPr/>
                <p:nvPr/>
              </p:nvSpPr>
              <p:spPr>
                <a:xfrm flipV="1" rot="5396400">
                  <a:off x="863280" y="3966840"/>
                  <a:ext cx="180360" cy="6300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5" name=""/>
                <p:cNvSpPr/>
                <p:nvPr/>
              </p:nvSpPr>
              <p:spPr>
                <a:xfrm flipV="1" rot="5396400">
                  <a:off x="839520" y="3967200"/>
                  <a:ext cx="18036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6" name=""/>
              <p:cNvGrpSpPr/>
              <p:nvPr/>
            </p:nvGrpSpPr>
            <p:grpSpPr>
              <a:xfrm>
                <a:off x="909360" y="3324600"/>
                <a:ext cx="113760" cy="200160"/>
                <a:chOff x="909360" y="3324600"/>
                <a:chExt cx="113760" cy="200160"/>
              </a:xfrm>
            </p:grpSpPr>
            <p:sp>
              <p:nvSpPr>
                <p:cNvPr id="7357" name=""/>
                <p:cNvSpPr/>
                <p:nvPr/>
              </p:nvSpPr>
              <p:spPr>
                <a:xfrm flipV="1" rot="5897400">
                  <a:off x="883440" y="3394800"/>
                  <a:ext cx="189720" cy="6264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8" name=""/>
                <p:cNvSpPr/>
                <p:nvPr/>
              </p:nvSpPr>
              <p:spPr>
                <a:xfrm flipV="1" rot="5897400">
                  <a:off x="859320" y="3390840"/>
                  <a:ext cx="18972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9" name=""/>
              <p:cNvGrpSpPr/>
              <p:nvPr/>
            </p:nvGrpSpPr>
            <p:grpSpPr>
              <a:xfrm>
                <a:off x="906840" y="4010760"/>
                <a:ext cx="118080" cy="198720"/>
                <a:chOff x="906840" y="4010760"/>
                <a:chExt cx="118080" cy="198720"/>
              </a:xfrm>
            </p:grpSpPr>
            <p:sp>
              <p:nvSpPr>
                <p:cNvPr id="7360" name=""/>
                <p:cNvSpPr/>
                <p:nvPr/>
              </p:nvSpPr>
              <p:spPr>
                <a:xfrm flipV="1" rot="5991600">
                  <a:off x="882360" y="4078800"/>
                  <a:ext cx="19080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1" name=""/>
                <p:cNvSpPr/>
                <p:nvPr/>
              </p:nvSpPr>
              <p:spPr>
                <a:xfrm flipV="1" rot="5991600">
                  <a:off x="863640" y="4079160"/>
                  <a:ext cx="17928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2" name=""/>
              <p:cNvGrpSpPr/>
              <p:nvPr/>
            </p:nvGrpSpPr>
            <p:grpSpPr>
              <a:xfrm>
                <a:off x="858960" y="3147480"/>
                <a:ext cx="118080" cy="201600"/>
                <a:chOff x="858960" y="3147480"/>
                <a:chExt cx="118080" cy="201600"/>
              </a:xfrm>
            </p:grpSpPr>
            <p:sp>
              <p:nvSpPr>
                <p:cNvPr id="7363" name=""/>
                <p:cNvSpPr/>
                <p:nvPr/>
              </p:nvSpPr>
              <p:spPr>
                <a:xfrm flipV="1" rot="4804800">
                  <a:off x="835200" y="3214440"/>
                  <a:ext cx="18972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4" name=""/>
                <p:cNvSpPr/>
                <p:nvPr/>
              </p:nvSpPr>
              <p:spPr>
                <a:xfrm flipV="1" rot="4804800">
                  <a:off x="811800" y="3218040"/>
                  <a:ext cx="189720" cy="6372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5" name=""/>
              <p:cNvGrpSpPr/>
              <p:nvPr/>
            </p:nvGrpSpPr>
            <p:grpSpPr>
              <a:xfrm>
                <a:off x="629280" y="3241440"/>
                <a:ext cx="287640" cy="63000"/>
                <a:chOff x="629280" y="3241440"/>
                <a:chExt cx="287640" cy="63000"/>
              </a:xfrm>
            </p:grpSpPr>
            <p:sp>
              <p:nvSpPr>
                <p:cNvPr id="7366" name=""/>
                <p:cNvSpPr/>
                <p:nvPr/>
              </p:nvSpPr>
              <p:spPr>
                <a:xfrm flipV="1" rot="5396400">
                  <a:off x="649440" y="3252240"/>
                  <a:ext cx="31680" cy="7236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34" y="0"/>
                      </a:moveTo>
                      <a:lnTo>
                        <a:pt x="34" y="77"/>
                      </a:lnTo>
                      <a:lnTo>
                        <a:pt x="22" y="64"/>
                      </a:lnTo>
                      <a:lnTo>
                        <a:pt x="0" y="64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7" name=""/>
                <p:cNvSpPr/>
                <p:nvPr/>
              </p:nvSpPr>
              <p:spPr>
                <a:xfrm flipH="1">
                  <a:off x="691200" y="3241440"/>
                  <a:ext cx="225720" cy="518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8" name=""/>
              <p:cNvGrpSpPr/>
              <p:nvPr/>
            </p:nvGrpSpPr>
            <p:grpSpPr>
              <a:xfrm>
                <a:off x="545040" y="3315600"/>
                <a:ext cx="276120" cy="30960"/>
                <a:chOff x="545040" y="3315600"/>
                <a:chExt cx="276120" cy="30960"/>
              </a:xfrm>
            </p:grpSpPr>
            <p:sp>
              <p:nvSpPr>
                <p:cNvPr id="7369" name=""/>
                <p:cNvSpPr/>
                <p:nvPr/>
              </p:nvSpPr>
              <p:spPr>
                <a:xfrm flipV="1" rot="5396400">
                  <a:off x="565200" y="329508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22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76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0" name=""/>
                <p:cNvSpPr/>
                <p:nvPr/>
              </p:nvSpPr>
              <p:spPr>
                <a:xfrm flipH="1">
                  <a:off x="616320" y="3335760"/>
                  <a:ext cx="204840" cy="108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1" name=""/>
              <p:cNvGrpSpPr/>
              <p:nvPr/>
            </p:nvGrpSpPr>
            <p:grpSpPr>
              <a:xfrm>
                <a:off x="653040" y="3588120"/>
                <a:ext cx="180360" cy="63360"/>
                <a:chOff x="653040" y="3588120"/>
                <a:chExt cx="180360" cy="63360"/>
              </a:xfrm>
            </p:grpSpPr>
            <p:sp>
              <p:nvSpPr>
                <p:cNvPr id="7372" name=""/>
                <p:cNvSpPr/>
                <p:nvPr/>
              </p:nvSpPr>
              <p:spPr>
                <a:xfrm flipV="1" rot="5396400">
                  <a:off x="667440" y="3594240"/>
                  <a:ext cx="42480" cy="71640"/>
                </a:xfrm>
                <a:custGeom>
                  <a:avLst/>
                  <a:gdLst/>
                  <a:ahLst/>
                  <a:rect l="l" t="t" r="r" b="b"/>
                  <a:pathLst>
                    <a:path w="45" h="76">
                      <a:moveTo>
                        <a:pt x="45" y="0"/>
                      </a:moveTo>
                      <a:lnTo>
                        <a:pt x="34" y="76"/>
                      </a:lnTo>
                      <a:lnTo>
                        <a:pt x="12" y="63"/>
                      </a:lnTo>
                      <a:lnTo>
                        <a:pt x="0" y="6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3" name=""/>
                <p:cNvSpPr/>
                <p:nvPr/>
              </p:nvSpPr>
              <p:spPr>
                <a:xfrm flipH="1">
                  <a:off x="712440" y="3588120"/>
                  <a:ext cx="120960" cy="3096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4" name=""/>
              <p:cNvGrpSpPr/>
              <p:nvPr/>
            </p:nvGrpSpPr>
            <p:grpSpPr>
              <a:xfrm>
                <a:off x="593280" y="3420360"/>
                <a:ext cx="179640" cy="30960"/>
                <a:chOff x="593280" y="3420360"/>
                <a:chExt cx="179640" cy="30960"/>
              </a:xfrm>
            </p:grpSpPr>
            <p:sp>
              <p:nvSpPr>
                <p:cNvPr id="7375" name=""/>
                <p:cNvSpPr/>
                <p:nvPr/>
              </p:nvSpPr>
              <p:spPr>
                <a:xfrm flipV="1" rot="5396400">
                  <a:off x="613440" y="339984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22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76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6" name=""/>
                <p:cNvSpPr/>
                <p:nvPr/>
              </p:nvSpPr>
              <p:spPr>
                <a:xfrm flipH="1">
                  <a:off x="664560" y="3440520"/>
                  <a:ext cx="108360" cy="7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7" name=""/>
              <p:cNvGrpSpPr/>
              <p:nvPr/>
            </p:nvGrpSpPr>
            <p:grpSpPr>
              <a:xfrm>
                <a:off x="544680" y="3682080"/>
                <a:ext cx="192600" cy="32040"/>
                <a:chOff x="544680" y="3682080"/>
                <a:chExt cx="192600" cy="32040"/>
              </a:xfrm>
            </p:grpSpPr>
            <p:sp>
              <p:nvSpPr>
                <p:cNvPr id="7378" name=""/>
                <p:cNvSpPr/>
                <p:nvPr/>
              </p:nvSpPr>
              <p:spPr>
                <a:xfrm flipV="1" rot="5396400">
                  <a:off x="564480" y="3661920"/>
                  <a:ext cx="32040" cy="71640"/>
                </a:xfrm>
                <a:custGeom>
                  <a:avLst/>
                  <a:gdLst/>
                  <a:ahLst/>
                  <a:rect l="l" t="t" r="r" b="b"/>
                  <a:pathLst>
                    <a:path w="34" h="76">
                      <a:moveTo>
                        <a:pt x="11" y="0"/>
                      </a:moveTo>
                      <a:lnTo>
                        <a:pt x="34" y="76"/>
                      </a:lnTo>
                      <a:lnTo>
                        <a:pt x="11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9" name=""/>
                <p:cNvSpPr/>
                <p:nvPr/>
              </p:nvSpPr>
              <p:spPr>
                <a:xfrm flipH="1" flipV="1">
                  <a:off x="616320" y="3692880"/>
                  <a:ext cx="120960" cy="2016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0" name=""/>
              <p:cNvGrpSpPr/>
              <p:nvPr/>
            </p:nvGrpSpPr>
            <p:grpSpPr>
              <a:xfrm>
                <a:off x="689760" y="3462480"/>
                <a:ext cx="177480" cy="30960"/>
                <a:chOff x="689760" y="3462480"/>
                <a:chExt cx="177480" cy="30960"/>
              </a:xfrm>
            </p:grpSpPr>
            <p:sp>
              <p:nvSpPr>
                <p:cNvPr id="7381" name=""/>
                <p:cNvSpPr/>
                <p:nvPr/>
              </p:nvSpPr>
              <p:spPr>
                <a:xfrm flipV="1" rot="5396400">
                  <a:off x="709920" y="344196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33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76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2" name=""/>
                <p:cNvSpPr/>
                <p:nvPr/>
              </p:nvSpPr>
              <p:spPr>
                <a:xfrm flipH="1">
                  <a:off x="761400" y="3462480"/>
                  <a:ext cx="105840" cy="205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3" name=""/>
              <p:cNvGrpSpPr/>
              <p:nvPr/>
            </p:nvGrpSpPr>
            <p:grpSpPr>
              <a:xfrm>
                <a:off x="616320" y="3849840"/>
                <a:ext cx="241200" cy="32400"/>
                <a:chOff x="616320" y="3849840"/>
                <a:chExt cx="241200" cy="32400"/>
              </a:xfrm>
            </p:grpSpPr>
            <p:sp>
              <p:nvSpPr>
                <p:cNvPr id="7384" name=""/>
                <p:cNvSpPr/>
                <p:nvPr/>
              </p:nvSpPr>
              <p:spPr>
                <a:xfrm flipV="1" rot="5396400">
                  <a:off x="636480" y="3829320"/>
                  <a:ext cx="32040" cy="7272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23" y="0"/>
                      </a:moveTo>
                      <a:lnTo>
                        <a:pt x="34" y="77"/>
                      </a:lnTo>
                      <a:lnTo>
                        <a:pt x="23" y="77"/>
                      </a:lnTo>
                      <a:lnTo>
                        <a:pt x="0" y="6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5" name=""/>
                <p:cNvSpPr/>
                <p:nvPr/>
              </p:nvSpPr>
              <p:spPr>
                <a:xfrm flipH="1">
                  <a:off x="688680" y="3849840"/>
                  <a:ext cx="168840" cy="2088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6" name=""/>
              <p:cNvGrpSpPr/>
              <p:nvPr/>
            </p:nvGrpSpPr>
            <p:grpSpPr>
              <a:xfrm>
                <a:off x="874080" y="3624120"/>
                <a:ext cx="87120" cy="179280"/>
                <a:chOff x="874080" y="3624120"/>
                <a:chExt cx="87120" cy="179280"/>
              </a:xfrm>
            </p:grpSpPr>
            <p:sp>
              <p:nvSpPr>
                <p:cNvPr id="7387" name=""/>
                <p:cNvSpPr/>
                <p:nvPr/>
              </p:nvSpPr>
              <p:spPr>
                <a:xfrm flipV="1" rot="5396400">
                  <a:off x="839880" y="3682440"/>
                  <a:ext cx="179280" cy="6228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8" name=""/>
                <p:cNvSpPr/>
                <p:nvPr/>
              </p:nvSpPr>
              <p:spPr>
                <a:xfrm flipV="1" rot="5396400">
                  <a:off x="816120" y="3682080"/>
                  <a:ext cx="179280" cy="63360"/>
                </a:xfrm>
                <a:prstGeom prst="ellipse">
                  <a:avLst/>
                </a:prstGeom>
                <a:solidFill>
                  <a:srgbClr val="ffffff"/>
                </a:solidFill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9" name=""/>
              <p:cNvGrpSpPr/>
              <p:nvPr/>
            </p:nvGrpSpPr>
            <p:grpSpPr>
              <a:xfrm>
                <a:off x="689040" y="3714840"/>
                <a:ext cx="200520" cy="30960"/>
                <a:chOff x="689040" y="3714840"/>
                <a:chExt cx="200520" cy="30960"/>
              </a:xfrm>
            </p:grpSpPr>
            <p:sp>
              <p:nvSpPr>
                <p:cNvPr id="7390" name=""/>
                <p:cNvSpPr/>
                <p:nvPr/>
              </p:nvSpPr>
              <p:spPr>
                <a:xfrm flipV="1" rot="5396400">
                  <a:off x="709200" y="369432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33" y="0"/>
                      </a:moveTo>
                      <a:lnTo>
                        <a:pt x="33" y="76"/>
                      </a:lnTo>
                      <a:lnTo>
                        <a:pt x="22" y="76"/>
                      </a:lnTo>
                      <a:lnTo>
                        <a:pt x="0" y="64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1" name=""/>
                <p:cNvSpPr/>
                <p:nvPr/>
              </p:nvSpPr>
              <p:spPr>
                <a:xfrm flipH="1">
                  <a:off x="760320" y="3714840"/>
                  <a:ext cx="129240" cy="194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2" name=""/>
              <p:cNvGrpSpPr/>
              <p:nvPr/>
            </p:nvGrpSpPr>
            <p:grpSpPr>
              <a:xfrm>
                <a:off x="785520" y="3597480"/>
                <a:ext cx="192240" cy="32040"/>
                <a:chOff x="785520" y="3597480"/>
                <a:chExt cx="192240" cy="32040"/>
              </a:xfrm>
            </p:grpSpPr>
            <p:sp>
              <p:nvSpPr>
                <p:cNvPr id="7393" name=""/>
                <p:cNvSpPr/>
                <p:nvPr/>
              </p:nvSpPr>
              <p:spPr>
                <a:xfrm flipV="1" rot="5396400">
                  <a:off x="805680" y="3576960"/>
                  <a:ext cx="32040" cy="7236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23" y="0"/>
                      </a:moveTo>
                      <a:lnTo>
                        <a:pt x="34" y="77"/>
                      </a:lnTo>
                      <a:lnTo>
                        <a:pt x="11" y="77"/>
                      </a:lnTo>
                      <a:lnTo>
                        <a:pt x="0" y="77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4" name=""/>
                <p:cNvSpPr/>
                <p:nvPr/>
              </p:nvSpPr>
              <p:spPr>
                <a:xfrm flipH="1">
                  <a:off x="861840" y="3597480"/>
                  <a:ext cx="115920" cy="104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5" name=""/>
              <p:cNvGrpSpPr/>
              <p:nvPr/>
            </p:nvGrpSpPr>
            <p:grpSpPr>
              <a:xfrm>
                <a:off x="761040" y="3777120"/>
                <a:ext cx="241200" cy="40320"/>
                <a:chOff x="761040" y="3777120"/>
                <a:chExt cx="241200" cy="40320"/>
              </a:xfrm>
            </p:grpSpPr>
            <p:sp>
              <p:nvSpPr>
                <p:cNvPr id="7396" name=""/>
                <p:cNvSpPr/>
                <p:nvPr/>
              </p:nvSpPr>
              <p:spPr>
                <a:xfrm flipV="1" rot="5396400">
                  <a:off x="781920" y="3756240"/>
                  <a:ext cx="30960" cy="72720"/>
                </a:xfrm>
                <a:custGeom>
                  <a:avLst/>
                  <a:gdLst/>
                  <a:ahLst/>
                  <a:rect l="l" t="t" r="r" b="b"/>
                  <a:pathLst>
                    <a:path w="33" h="77">
                      <a:moveTo>
                        <a:pt x="11" y="0"/>
                      </a:moveTo>
                      <a:lnTo>
                        <a:pt x="33" y="64"/>
                      </a:lnTo>
                      <a:lnTo>
                        <a:pt x="22" y="77"/>
                      </a:lnTo>
                      <a:lnTo>
                        <a:pt x="0" y="7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7" name=""/>
                <p:cNvSpPr/>
                <p:nvPr/>
              </p:nvSpPr>
              <p:spPr>
                <a:xfrm flipH="1" flipV="1">
                  <a:off x="834120" y="3797280"/>
                  <a:ext cx="168120" cy="2016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8" name=""/>
              <p:cNvGrpSpPr/>
              <p:nvPr/>
            </p:nvGrpSpPr>
            <p:grpSpPr>
              <a:xfrm>
                <a:off x="725400" y="3997440"/>
                <a:ext cx="192240" cy="32040"/>
                <a:chOff x="725400" y="3997440"/>
                <a:chExt cx="192240" cy="32040"/>
              </a:xfrm>
            </p:grpSpPr>
            <p:sp>
              <p:nvSpPr>
                <p:cNvPr id="7399" name=""/>
                <p:cNvSpPr/>
                <p:nvPr/>
              </p:nvSpPr>
              <p:spPr>
                <a:xfrm flipV="1" rot="5396400">
                  <a:off x="745560" y="3976560"/>
                  <a:ext cx="32040" cy="72720"/>
                </a:xfrm>
                <a:custGeom>
                  <a:avLst/>
                  <a:gdLst/>
                  <a:ahLst/>
                  <a:rect l="l" t="t" r="r" b="b"/>
                  <a:pathLst>
                    <a:path w="34" h="77">
                      <a:moveTo>
                        <a:pt x="34" y="0"/>
                      </a:moveTo>
                      <a:lnTo>
                        <a:pt x="34" y="77"/>
                      </a:lnTo>
                      <a:lnTo>
                        <a:pt x="23" y="77"/>
                      </a:lnTo>
                      <a:lnTo>
                        <a:pt x="0" y="64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0" name=""/>
                <p:cNvSpPr/>
                <p:nvPr/>
              </p:nvSpPr>
              <p:spPr>
                <a:xfrm flipH="1">
                  <a:off x="797760" y="3997440"/>
                  <a:ext cx="119880" cy="205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1" name=""/>
              <p:cNvGrpSpPr/>
              <p:nvPr/>
            </p:nvGrpSpPr>
            <p:grpSpPr>
              <a:xfrm>
                <a:off x="592920" y="3946680"/>
                <a:ext cx="215640" cy="30960"/>
                <a:chOff x="592920" y="3946680"/>
                <a:chExt cx="215640" cy="30960"/>
              </a:xfrm>
            </p:grpSpPr>
            <p:sp>
              <p:nvSpPr>
                <p:cNvPr id="7402" name=""/>
                <p:cNvSpPr/>
                <p:nvPr/>
              </p:nvSpPr>
              <p:spPr>
                <a:xfrm flipV="1" rot="5396400">
                  <a:off x="613080" y="392616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11" y="0"/>
                      </a:moveTo>
                      <a:lnTo>
                        <a:pt x="33" y="76"/>
                      </a:lnTo>
                      <a:lnTo>
                        <a:pt x="11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3" name=""/>
                <p:cNvSpPr/>
                <p:nvPr/>
              </p:nvSpPr>
              <p:spPr>
                <a:xfrm flipH="1" flipV="1">
                  <a:off x="664200" y="3956040"/>
                  <a:ext cx="144360" cy="1044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4" name=""/>
              <p:cNvGrpSpPr/>
              <p:nvPr/>
            </p:nvGrpSpPr>
            <p:grpSpPr>
              <a:xfrm>
                <a:off x="616680" y="4165560"/>
                <a:ext cx="192240" cy="32040"/>
                <a:chOff x="616680" y="4165560"/>
                <a:chExt cx="192240" cy="32040"/>
              </a:xfrm>
            </p:grpSpPr>
            <p:sp>
              <p:nvSpPr>
                <p:cNvPr id="7405" name=""/>
                <p:cNvSpPr/>
                <p:nvPr/>
              </p:nvSpPr>
              <p:spPr>
                <a:xfrm flipV="1" rot="5396400">
                  <a:off x="642600" y="4150440"/>
                  <a:ext cx="20520" cy="72720"/>
                </a:xfrm>
                <a:custGeom>
                  <a:avLst/>
                  <a:gdLst/>
                  <a:ahLst/>
                  <a:rect l="l" t="t" r="r" b="b"/>
                  <a:pathLst>
                    <a:path w="22" h="77">
                      <a:moveTo>
                        <a:pt x="22" y="0"/>
                      </a:moveTo>
                      <a:lnTo>
                        <a:pt x="22" y="77"/>
                      </a:lnTo>
                      <a:lnTo>
                        <a:pt x="11" y="77"/>
                      </a:lnTo>
                      <a:lnTo>
                        <a:pt x="0" y="7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6" name=""/>
                <p:cNvSpPr/>
                <p:nvPr/>
              </p:nvSpPr>
              <p:spPr>
                <a:xfrm flipH="1">
                  <a:off x="689040" y="4165560"/>
                  <a:ext cx="119880" cy="205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7" name=""/>
              <p:cNvGrpSpPr/>
              <p:nvPr/>
            </p:nvGrpSpPr>
            <p:grpSpPr>
              <a:xfrm>
                <a:off x="689400" y="4030560"/>
                <a:ext cx="179640" cy="30960"/>
                <a:chOff x="689400" y="4030560"/>
                <a:chExt cx="179640" cy="30960"/>
              </a:xfrm>
            </p:grpSpPr>
            <p:sp>
              <p:nvSpPr>
                <p:cNvPr id="7408" name=""/>
                <p:cNvSpPr/>
                <p:nvPr/>
              </p:nvSpPr>
              <p:spPr>
                <a:xfrm flipV="1" rot="5396400">
                  <a:off x="709560" y="4010040"/>
                  <a:ext cx="30960" cy="7164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11" y="0"/>
                      </a:moveTo>
                      <a:lnTo>
                        <a:pt x="33" y="76"/>
                      </a:lnTo>
                      <a:lnTo>
                        <a:pt x="11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9" name=""/>
                <p:cNvSpPr/>
                <p:nvPr/>
              </p:nvSpPr>
              <p:spPr>
                <a:xfrm flipH="1">
                  <a:off x="760680" y="4041000"/>
                  <a:ext cx="108360" cy="7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0" name=""/>
              <p:cNvGrpSpPr/>
              <p:nvPr/>
            </p:nvGrpSpPr>
            <p:grpSpPr>
              <a:xfrm>
                <a:off x="689400" y="4071960"/>
                <a:ext cx="276480" cy="41760"/>
                <a:chOff x="689400" y="4071960"/>
                <a:chExt cx="276480" cy="41760"/>
              </a:xfrm>
            </p:grpSpPr>
            <p:sp>
              <p:nvSpPr>
                <p:cNvPr id="7411" name=""/>
                <p:cNvSpPr/>
                <p:nvPr/>
              </p:nvSpPr>
              <p:spPr>
                <a:xfrm flipV="1" rot="5396400">
                  <a:off x="709200" y="4051800"/>
                  <a:ext cx="31680" cy="71640"/>
                </a:xfrm>
                <a:custGeom>
                  <a:avLst/>
                  <a:gdLst/>
                  <a:ahLst/>
                  <a:rect l="l" t="t" r="r" b="b"/>
                  <a:pathLst>
                    <a:path w="34" h="76">
                      <a:moveTo>
                        <a:pt x="11" y="0"/>
                      </a:moveTo>
                      <a:lnTo>
                        <a:pt x="34" y="64"/>
                      </a:lnTo>
                      <a:lnTo>
                        <a:pt x="23" y="76"/>
                      </a:lnTo>
                      <a:lnTo>
                        <a:pt x="0" y="7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2" name=""/>
                <p:cNvSpPr/>
                <p:nvPr/>
              </p:nvSpPr>
              <p:spPr>
                <a:xfrm flipH="1" flipV="1">
                  <a:off x="764640" y="4093200"/>
                  <a:ext cx="201240" cy="205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3" name=""/>
              <p:cNvGrpSpPr/>
              <p:nvPr/>
            </p:nvGrpSpPr>
            <p:grpSpPr>
              <a:xfrm>
                <a:off x="713160" y="4188240"/>
                <a:ext cx="168480" cy="30960"/>
                <a:chOff x="713160" y="4188240"/>
                <a:chExt cx="168480" cy="30960"/>
              </a:xfrm>
            </p:grpSpPr>
            <p:sp>
              <p:nvSpPr>
                <p:cNvPr id="7414" name=""/>
                <p:cNvSpPr/>
                <p:nvPr/>
              </p:nvSpPr>
              <p:spPr>
                <a:xfrm flipV="1" rot="5396400">
                  <a:off x="734040" y="4167360"/>
                  <a:ext cx="30960" cy="72720"/>
                </a:xfrm>
                <a:custGeom>
                  <a:avLst/>
                  <a:gdLst/>
                  <a:ahLst/>
                  <a:rect l="l" t="t" r="r" b="b"/>
                  <a:pathLst>
                    <a:path w="33" h="77">
                      <a:moveTo>
                        <a:pt x="22" y="0"/>
                      </a:moveTo>
                      <a:lnTo>
                        <a:pt x="33" y="77"/>
                      </a:lnTo>
                      <a:lnTo>
                        <a:pt x="22" y="77"/>
                      </a:lnTo>
                      <a:lnTo>
                        <a:pt x="0" y="7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5" name=""/>
                <p:cNvSpPr/>
                <p:nvPr/>
              </p:nvSpPr>
              <p:spPr>
                <a:xfrm flipH="1">
                  <a:off x="785520" y="4208760"/>
                  <a:ext cx="96120" cy="720"/>
                </a:xfrm>
                <a:prstGeom prst="line">
                  <a:avLst/>
                </a:prstGeom>
                <a:ln w="17640">
                  <a:solidFill>
                    <a:srgbClr val="ff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16" name=""/>
            <p:cNvGrpSpPr/>
            <p:nvPr/>
          </p:nvGrpSpPr>
          <p:grpSpPr>
            <a:xfrm>
              <a:off x="1378080" y="3114720"/>
              <a:ext cx="36360" cy="1218960"/>
              <a:chOff x="1378080" y="3114720"/>
              <a:chExt cx="36360" cy="1218960"/>
            </a:xfrm>
          </p:grpSpPr>
          <p:sp>
            <p:nvSpPr>
              <p:cNvPr id="7417" name=""/>
              <p:cNvSpPr/>
              <p:nvPr/>
            </p:nvSpPr>
            <p:spPr>
              <a:xfrm flipV="1" rot="5400000">
                <a:off x="1364760" y="3127680"/>
                <a:ext cx="63000" cy="3636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0" y="13"/>
                    </a:moveTo>
                    <a:lnTo>
                      <a:pt x="67" y="0"/>
                    </a:lnTo>
                    <a:lnTo>
                      <a:pt x="67" y="13"/>
                    </a:lnTo>
                    <a:lnTo>
                      <a:pt x="67" y="3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 flipV="1" rot="5400000">
                <a:off x="1364760" y="4283640"/>
                <a:ext cx="63000" cy="36360"/>
              </a:xfrm>
              <a:custGeom>
                <a:avLst/>
                <a:gdLst/>
                <a:ahLst/>
                <a:rect l="l" t="t" r="r" b="b"/>
                <a:pathLst>
                  <a:path w="67" h="39">
                    <a:moveTo>
                      <a:pt x="67" y="13"/>
                    </a:moveTo>
                    <a:lnTo>
                      <a:pt x="0" y="39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1389960" y="3177720"/>
                <a:ext cx="720" cy="1092600"/>
              </a:xfrm>
              <a:prstGeom prst="line">
                <a:avLst/>
              </a:prstGeom>
              <a:ln w="1764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0" name=""/>
            <p:cNvSpPr/>
            <p:nvPr/>
          </p:nvSpPr>
          <p:spPr>
            <a:xfrm flipV="1" rot="10800000">
              <a:off x="1404000" y="3704040"/>
              <a:ext cx="160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1" name=""/>
            <p:cNvSpPr/>
            <p:nvPr/>
          </p:nvSpPr>
          <p:spPr>
            <a:xfrm flipV="1">
              <a:off x="1157400" y="1903320"/>
              <a:ext cx="0" cy="180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2" name=""/>
            <p:cNvSpPr/>
            <p:nvPr/>
          </p:nvSpPr>
          <p:spPr>
            <a:xfrm>
              <a:off x="1560600" y="1452600"/>
              <a:ext cx="371520" cy="285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3" name="PlaceHolder 1"/>
          <p:cNvSpPr>
            <a:spLocks noGrp="1"/>
          </p:cNvSpPr>
          <p:nvPr>
            <p:ph type="title"/>
          </p:nvPr>
        </p:nvSpPr>
        <p:spPr>
          <a:xfrm>
            <a:off x="293400" y="678960"/>
            <a:ext cx="8356680" cy="52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égradations de l'information : visibilité mesur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4" name=""/>
          <p:cNvSpPr/>
          <p:nvPr/>
        </p:nvSpPr>
        <p:spPr>
          <a:xfrm>
            <a:off x="1251000" y="124452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5" name=""/>
          <p:cNvSpPr/>
          <p:nvPr/>
        </p:nvSpPr>
        <p:spPr>
          <a:xfrm>
            <a:off x="1568520" y="149868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6" name=""/>
          <p:cNvSpPr/>
          <p:nvPr/>
        </p:nvSpPr>
        <p:spPr>
          <a:xfrm>
            <a:off x="127080" y="1536840"/>
            <a:ext cx="894564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 résultat de tout ça est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visibilité mesurée  et la visibilité vraie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visibilité astrophysique, degré de cohérenc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e sont pas la même chos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haque cause k de dégradation se traduit par un facteur q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mpris entre 0 et 1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(borne 1 non incluse dans la réalité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insi on doit tenir compte de la relatio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mesuré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= (q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q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…..q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. V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vra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mesuré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fr-FR" sz="1800" spc="-1" strike="noStrike">
                <a:solidFill>
                  <a:srgbClr val="ff0066"/>
                </a:solidFill>
                <a:latin typeface="Comic Sans MS"/>
              </a:rPr>
              <a:t>(réponse en visibilité)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.V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vra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 jeu (!) consiste à retrouver  V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vraie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t à amener les q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 plus près possible de la valeur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te :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a réponse varie donc avec les conditions d'ob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atmosphère mais pas seule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28" name="PlaceHolder 1"/>
          <p:cNvSpPr>
            <a:spLocks noGrp="1"/>
          </p:cNvSpPr>
          <p:nvPr>
            <p:ph type="title"/>
          </p:nvPr>
        </p:nvSpPr>
        <p:spPr>
          <a:xfrm>
            <a:off x="345960" y="590400"/>
            <a:ext cx="4181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Comic Sans MS"/>
              </a:rPr>
              <a:t>il faut tout de même </a:t>
            </a:r>
            <a:br>
              <a:rPr sz="3200"/>
            </a:br>
            <a:r>
              <a:rPr b="0" lang="fr-FR" sz="3200" spc="-1" strike="noStrike">
                <a:solidFill>
                  <a:srgbClr val="ffff00"/>
                </a:solidFill>
                <a:latin typeface="Comic Sans MS"/>
              </a:rPr>
              <a:t>évoquer le spa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7000" y="747720"/>
            <a:ext cx="2900160" cy="825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marque anticip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72600" y="1628640"/>
            <a:ext cx="6509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écrire la distribution angulaire  d'intens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ça demande de 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1. mettre en évidence des motifs de détails (détec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2. mesurer   (exigence de qualit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870440" y="2668680"/>
            <a:ext cx="3427560" cy="1855800"/>
            <a:chOff x="4870440" y="2668680"/>
            <a:chExt cx="3427560" cy="1855800"/>
          </a:xfrm>
        </p:grpSpPr>
        <p:pic>
          <p:nvPicPr>
            <p:cNvPr id="540" name="" descr=""/>
            <p:cNvPicPr/>
            <p:nvPr/>
          </p:nvPicPr>
          <p:blipFill>
            <a:blip r:embed="rId1"/>
            <a:stretch/>
          </p:blipFill>
          <p:spPr>
            <a:xfrm>
              <a:off x="4870440" y="2668680"/>
              <a:ext cx="342756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5483160" y="3116160"/>
              <a:ext cx="2381400" cy="337320"/>
            </a:xfrm>
            <a:prstGeom prst="rect">
              <a:avLst/>
            </a:prstGeom>
            <a:noFill/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pas pareille la difficult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456120" y="4665600"/>
            <a:ext cx="667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succès n'est pas seulement une af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 finesse d'analyse spat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'est une affaire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nesse d'analyse  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ET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de rapport signal à br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9" name="PlaceHolder 1"/>
          <p:cNvSpPr>
            <a:spLocks noGrp="1"/>
          </p:cNvSpPr>
          <p:nvPr>
            <p:ph type="title"/>
          </p:nvPr>
        </p:nvSpPr>
        <p:spPr>
          <a:xfrm>
            <a:off x="290520" y="660240"/>
            <a:ext cx="6516720" cy="834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61560" rIns="61560" tIns="24480" bIns="2448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utres approches pour avoir de la H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0" name=""/>
          <p:cNvSpPr/>
          <p:nvPr/>
        </p:nvSpPr>
        <p:spPr>
          <a:xfrm>
            <a:off x="484560" y="1589040"/>
            <a:ext cx="75873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parmi d'aut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avelographie  (speckle interferomet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ccultations par la L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1" name="PlaceHolder 1"/>
          <p:cNvSpPr>
            <a:spLocks noGrp="1"/>
          </p:cNvSpPr>
          <p:nvPr>
            <p:ph type="title"/>
          </p:nvPr>
        </p:nvSpPr>
        <p:spPr>
          <a:xfrm>
            <a:off x="290520" y="660240"/>
            <a:ext cx="7464240" cy="4557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61560" rIns="61560" tIns="24480" bIns="2448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avelographie  ( speckle interferometry)  -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2" name=""/>
          <p:cNvGrpSpPr/>
          <p:nvPr/>
        </p:nvGrpSpPr>
        <p:grpSpPr>
          <a:xfrm>
            <a:off x="680760" y="1766880"/>
            <a:ext cx="7214040" cy="2314440"/>
            <a:chOff x="680760" y="1766880"/>
            <a:chExt cx="7214040" cy="2314440"/>
          </a:xfrm>
        </p:grpSpPr>
        <p:pic>
          <p:nvPicPr>
            <p:cNvPr id="7433" name="" descr=""/>
            <p:cNvPicPr/>
            <p:nvPr/>
          </p:nvPicPr>
          <p:blipFill>
            <a:blip r:embed="rId1"/>
            <a:stretch/>
          </p:blipFill>
          <p:spPr>
            <a:xfrm>
              <a:off x="3083040" y="1766880"/>
              <a:ext cx="3408120" cy="105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4" name="" descr=""/>
            <p:cNvPicPr/>
            <p:nvPr/>
          </p:nvPicPr>
          <p:blipFill>
            <a:blip r:embed="rId2"/>
            <a:stretch/>
          </p:blipFill>
          <p:spPr>
            <a:xfrm>
              <a:off x="3083040" y="2949480"/>
              <a:ext cx="348300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35" name="" descr=""/>
            <p:cNvPicPr/>
            <p:nvPr/>
          </p:nvPicPr>
          <p:blipFill>
            <a:blip r:embed="rId3"/>
            <a:stretch/>
          </p:blipFill>
          <p:spPr>
            <a:xfrm>
              <a:off x="7180200" y="1963800"/>
              <a:ext cx="71460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6" name=""/>
            <p:cNvSpPr/>
            <p:nvPr/>
          </p:nvSpPr>
          <p:spPr>
            <a:xfrm>
              <a:off x="758160" y="2111400"/>
              <a:ext cx="21538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24480" bIns="244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courte pose ( 1 m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680760" y="2998800"/>
              <a:ext cx="2621520" cy="7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24480" bIns="244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longue pose ( &gt; 100 m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imagerie classiqu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8" name=""/>
          <p:cNvGrpSpPr/>
          <p:nvPr/>
        </p:nvGrpSpPr>
        <p:grpSpPr>
          <a:xfrm>
            <a:off x="306360" y="2249640"/>
            <a:ext cx="7480440" cy="2877840"/>
            <a:chOff x="306360" y="2249640"/>
            <a:chExt cx="7480440" cy="2877840"/>
          </a:xfrm>
        </p:grpSpPr>
        <p:sp>
          <p:nvSpPr>
            <p:cNvPr id="7439" name=""/>
            <p:cNvSpPr/>
            <p:nvPr/>
          </p:nvSpPr>
          <p:spPr>
            <a:xfrm flipH="1">
              <a:off x="3041640" y="4826160"/>
              <a:ext cx="1427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0" name=""/>
            <p:cNvGrpSpPr/>
            <p:nvPr/>
          </p:nvGrpSpPr>
          <p:grpSpPr>
            <a:xfrm>
              <a:off x="306360" y="2249640"/>
              <a:ext cx="7480440" cy="2877840"/>
              <a:chOff x="306360" y="2249640"/>
              <a:chExt cx="7480440" cy="2877840"/>
            </a:xfrm>
          </p:grpSpPr>
          <p:pic>
            <p:nvPicPr>
              <p:cNvPr id="74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38800" y="4560840"/>
                <a:ext cx="3348000" cy="56664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  <p:sp>
            <p:nvSpPr>
              <p:cNvPr id="7442" name=""/>
              <p:cNvSpPr/>
              <p:nvPr/>
            </p:nvSpPr>
            <p:spPr>
              <a:xfrm>
                <a:off x="696960" y="4406760"/>
                <a:ext cx="335340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560" rIns="61560" tIns="24480" bIns="2448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738360"/>
                    <a:tab algn="l" pos="1476360"/>
                    <a:tab algn="l" pos="2214720"/>
                    <a:tab algn="l" pos="2952720"/>
                    <a:tab algn="l" pos="3691080"/>
                    <a:tab algn="l" pos="4429080"/>
                    <a:tab algn="l" pos="5167440"/>
                    <a:tab algn="l" pos="5905440"/>
                    <a:tab algn="l" pos="6643800"/>
                    <a:tab algn="l" pos="7381800"/>
                    <a:tab algn="l" pos="8120160"/>
                    <a:tab algn="l" pos="8858160"/>
                    <a:tab algn="l" pos="9596520"/>
                    <a:tab algn="l" pos="10334520"/>
                  </a:tabLst>
                </a:pPr>
                <a:r>
                  <a:rPr b="1" lang="fr-FR" sz="1700" spc="-1" strike="noStrike">
                    <a:solidFill>
                      <a:srgbClr val="000000"/>
                    </a:solidFill>
                    <a:latin typeface="Comic Sans MS"/>
                  </a:rPr>
                  <a:t>ici, on peut espérer</a:t>
                </a: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fr-FR" sz="1700" spc="-1" strike="noStrike">
                    <a:solidFill>
                      <a:srgbClr val="000000"/>
                    </a:solidFill>
                    <a:latin typeface="Comic Sans MS"/>
                  </a:rPr>
                  <a:t>retrouver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38360"/>
                    <a:tab algn="l" pos="1476360"/>
                    <a:tab algn="l" pos="2214720"/>
                    <a:tab algn="l" pos="2952720"/>
                    <a:tab algn="l" pos="3691080"/>
                    <a:tab algn="l" pos="4429080"/>
                    <a:tab algn="l" pos="5167440"/>
                    <a:tab algn="l" pos="5905440"/>
                    <a:tab algn="l" pos="6643800"/>
                    <a:tab algn="l" pos="7381800"/>
                    <a:tab algn="l" pos="8120160"/>
                    <a:tab algn="l" pos="8858160"/>
                    <a:tab algn="l" pos="9596520"/>
                    <a:tab algn="l" pos="10334520"/>
                  </a:tabLst>
                </a:pPr>
                <a:r>
                  <a:rPr b="1" lang="fr-FR" sz="1700" spc="-1" strike="noStrike">
                    <a:solidFill>
                      <a:srgbClr val="000000"/>
                    </a:solidFill>
                    <a:latin typeface="Comic Sans MS"/>
                  </a:rPr>
                  <a:t>le pouvoir de 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38360"/>
                    <a:tab algn="l" pos="1476360"/>
                    <a:tab algn="l" pos="2214720"/>
                    <a:tab algn="l" pos="2952720"/>
                    <a:tab algn="l" pos="3691080"/>
                    <a:tab algn="l" pos="4429080"/>
                    <a:tab algn="l" pos="5167440"/>
                    <a:tab algn="l" pos="5905440"/>
                    <a:tab algn="l" pos="6643800"/>
                    <a:tab algn="l" pos="7381800"/>
                    <a:tab algn="l" pos="8120160"/>
                    <a:tab algn="l" pos="8858160"/>
                    <a:tab algn="l" pos="9596520"/>
                    <a:tab algn="l" pos="10334520"/>
                  </a:tabLst>
                </a:pPr>
                <a:r>
                  <a:rPr b="1" lang="fr-FR" sz="1700" spc="-1" strike="noStrike">
                    <a:solidFill>
                      <a:srgbClr val="000000"/>
                    </a:solidFill>
                    <a:latin typeface="Comic Sans MS"/>
                  </a:rPr>
                  <a:t>résolution théoriqu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>
                <a:off x="306360" y="2249640"/>
                <a:ext cx="347760" cy="2293920"/>
              </a:xfrm>
              <a:custGeom>
                <a:avLst/>
                <a:gdLst/>
                <a:ahLst/>
                <a:rect l="l" t="t" r="r" b="b"/>
                <a:pathLst>
                  <a:path w="219" h="1445">
                    <a:moveTo>
                      <a:pt x="146" y="1445"/>
                    </a:moveTo>
                    <a:lnTo>
                      <a:pt x="0" y="1445"/>
                    </a:lnTo>
                    <a:lnTo>
                      <a:pt x="0" y="0"/>
                    </a:lnTo>
                    <a:lnTo>
                      <a:pt x="219" y="0"/>
                    </a:lnTo>
                  </a:path>
                </a:pathLst>
              </a:custGeom>
              <a:noFill/>
              <a:ln w="57240">
                <a:solidFill>
                  <a:srgbClr val="33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44" name=""/>
          <p:cNvGrpSpPr/>
          <p:nvPr/>
        </p:nvGrpSpPr>
        <p:grpSpPr>
          <a:xfrm>
            <a:off x="93600" y="3112920"/>
            <a:ext cx="7913880" cy="2752920"/>
            <a:chOff x="93600" y="3112920"/>
            <a:chExt cx="7913880" cy="2752920"/>
          </a:xfrm>
        </p:grpSpPr>
        <p:pic>
          <p:nvPicPr>
            <p:cNvPr id="7445" name="" descr=""/>
            <p:cNvPicPr/>
            <p:nvPr/>
          </p:nvPicPr>
          <p:blipFill>
            <a:blip r:embed="rId5"/>
            <a:stretch/>
          </p:blipFill>
          <p:spPr>
            <a:xfrm>
              <a:off x="4511520" y="5311800"/>
              <a:ext cx="3495960" cy="5540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7446" name=""/>
            <p:cNvSpPr/>
            <p:nvPr/>
          </p:nvSpPr>
          <p:spPr>
            <a:xfrm>
              <a:off x="687240" y="5589720"/>
              <a:ext cx="20152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24480" bIns="244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ici on ne peut p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 flipH="1">
              <a:off x="2966760" y="5638680"/>
              <a:ext cx="157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93600" y="3112920"/>
              <a:ext cx="566640" cy="2598840"/>
            </a:xfrm>
            <a:custGeom>
              <a:avLst/>
              <a:gdLst/>
              <a:ahLst/>
              <a:rect l="l" t="t" r="r" b="b"/>
              <a:pathLst>
                <a:path w="219" h="1445">
                  <a:moveTo>
                    <a:pt x="146" y="1445"/>
                  </a:moveTo>
                  <a:lnTo>
                    <a:pt x="0" y="1445"/>
                  </a:lnTo>
                  <a:lnTo>
                    <a:pt x="0" y="0"/>
                  </a:lnTo>
                  <a:lnTo>
                    <a:pt x="219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9" name=""/>
          <p:cNvSpPr/>
          <p:nvPr/>
        </p:nvSpPr>
        <p:spPr>
          <a:xfrm>
            <a:off x="290880" y="13064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0" name=""/>
          <p:cNvSpPr/>
          <p:nvPr/>
        </p:nvSpPr>
        <p:spPr>
          <a:xfrm>
            <a:off x="619920" y="60562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mment lutt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1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751680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omment retrouver la résolution théoriqu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2" name=""/>
          <p:cNvSpPr/>
          <p:nvPr/>
        </p:nvSpPr>
        <p:spPr>
          <a:xfrm>
            <a:off x="253800" y="1339920"/>
            <a:ext cx="86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pproche optimiste  (donc  irresponsable en interfero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comme pour le cas academique, je balance un coup de TF sur l'imag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3" name=""/>
          <p:cNvSpPr/>
          <p:nvPr/>
        </p:nvSpPr>
        <p:spPr>
          <a:xfrm>
            <a:off x="98280" y="4448160"/>
            <a:ext cx="8779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lors on fait quoi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pproche speckle :  </a:t>
            </a:r>
            <a:r>
              <a:rPr b="1" lang="fr-FR" sz="2000" spc="-1" strike="noStrike">
                <a:solidFill>
                  <a:srgbClr val="ff3300"/>
                </a:solidFill>
                <a:latin typeface="Comic Sans MS"/>
              </a:rPr>
              <a:t>on somme ce qui ne bouge pas malgré le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tocorrelation ou module carré de la 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trement dit on recup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module de la  T(f) et si on moyenne on ne perd pas comple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 hautes fre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4" name=""/>
          <p:cNvGrpSpPr/>
          <p:nvPr/>
        </p:nvGrpSpPr>
        <p:grpSpPr>
          <a:xfrm>
            <a:off x="436680" y="2049480"/>
            <a:ext cx="7592400" cy="987480"/>
            <a:chOff x="436680" y="2049480"/>
            <a:chExt cx="7592400" cy="987480"/>
          </a:xfrm>
        </p:grpSpPr>
        <p:grpSp>
          <p:nvGrpSpPr>
            <p:cNvPr id="7455" name=""/>
            <p:cNvGrpSpPr/>
            <p:nvPr/>
          </p:nvGrpSpPr>
          <p:grpSpPr>
            <a:xfrm>
              <a:off x="5486400" y="2049480"/>
              <a:ext cx="2542680" cy="987480"/>
              <a:chOff x="5486400" y="2049480"/>
              <a:chExt cx="2542680" cy="987480"/>
            </a:xfrm>
          </p:grpSpPr>
          <p:grpSp>
            <p:nvGrpSpPr>
              <p:cNvPr id="7456" name=""/>
              <p:cNvGrpSpPr/>
              <p:nvPr/>
            </p:nvGrpSpPr>
            <p:grpSpPr>
              <a:xfrm>
                <a:off x="5486400" y="2049480"/>
                <a:ext cx="982800" cy="726840"/>
                <a:chOff x="5486400" y="2049480"/>
                <a:chExt cx="982800" cy="726840"/>
              </a:xfrm>
            </p:grpSpPr>
            <p:sp>
              <p:nvSpPr>
                <p:cNvPr id="7457" name=""/>
                <p:cNvSpPr/>
                <p:nvPr/>
              </p:nvSpPr>
              <p:spPr>
                <a:xfrm>
                  <a:off x="5486400" y="2049480"/>
                  <a:ext cx="982800" cy="726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58" name=""/>
                <p:cNvGrpSpPr/>
                <p:nvPr/>
              </p:nvGrpSpPr>
              <p:grpSpPr>
                <a:xfrm>
                  <a:off x="5712480" y="2163960"/>
                  <a:ext cx="583200" cy="519840"/>
                  <a:chOff x="5712480" y="2163960"/>
                  <a:chExt cx="583200" cy="519840"/>
                </a:xfrm>
              </p:grpSpPr>
              <p:sp>
                <p:nvSpPr>
                  <p:cNvPr id="7459" name=""/>
                  <p:cNvSpPr/>
                  <p:nvPr/>
                </p:nvSpPr>
                <p:spPr>
                  <a:xfrm>
                    <a:off x="5775480" y="247932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0" name=""/>
                  <p:cNvSpPr/>
                  <p:nvPr/>
                </p:nvSpPr>
                <p:spPr>
                  <a:xfrm>
                    <a:off x="5887440" y="260856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1" name=""/>
                  <p:cNvSpPr/>
                  <p:nvPr/>
                </p:nvSpPr>
                <p:spPr>
                  <a:xfrm>
                    <a:off x="5999400" y="238608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2" name=""/>
                  <p:cNvSpPr/>
                  <p:nvPr/>
                </p:nvSpPr>
                <p:spPr>
                  <a:xfrm>
                    <a:off x="6027480" y="226080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3" name=""/>
                  <p:cNvSpPr/>
                  <p:nvPr/>
                </p:nvSpPr>
                <p:spPr>
                  <a:xfrm>
                    <a:off x="6129360" y="258444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4" name=""/>
                  <p:cNvSpPr/>
                  <p:nvPr/>
                </p:nvSpPr>
                <p:spPr>
                  <a:xfrm>
                    <a:off x="6230520" y="237420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5" name=""/>
                  <p:cNvSpPr/>
                  <p:nvPr/>
                </p:nvSpPr>
                <p:spPr>
                  <a:xfrm>
                    <a:off x="5712480" y="216396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66" name=""/>
              <p:cNvGrpSpPr/>
              <p:nvPr/>
            </p:nvGrpSpPr>
            <p:grpSpPr>
              <a:xfrm>
                <a:off x="6218280" y="2179080"/>
                <a:ext cx="982800" cy="726840"/>
                <a:chOff x="6218280" y="2179080"/>
                <a:chExt cx="982800" cy="726840"/>
              </a:xfrm>
            </p:grpSpPr>
            <p:sp>
              <p:nvSpPr>
                <p:cNvPr id="7467" name=""/>
                <p:cNvSpPr/>
                <p:nvPr/>
              </p:nvSpPr>
              <p:spPr>
                <a:xfrm>
                  <a:off x="6218280" y="2179080"/>
                  <a:ext cx="982800" cy="726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68" name=""/>
                <p:cNvGrpSpPr/>
                <p:nvPr/>
              </p:nvGrpSpPr>
              <p:grpSpPr>
                <a:xfrm>
                  <a:off x="6444360" y="2293560"/>
                  <a:ext cx="583200" cy="519840"/>
                  <a:chOff x="6444360" y="2293560"/>
                  <a:chExt cx="583200" cy="519840"/>
                </a:xfrm>
              </p:grpSpPr>
              <p:sp>
                <p:nvSpPr>
                  <p:cNvPr id="7469" name=""/>
                  <p:cNvSpPr/>
                  <p:nvPr/>
                </p:nvSpPr>
                <p:spPr>
                  <a:xfrm flipH="1">
                    <a:off x="6899040" y="260892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0" name=""/>
                  <p:cNvSpPr/>
                  <p:nvPr/>
                </p:nvSpPr>
                <p:spPr>
                  <a:xfrm flipH="1">
                    <a:off x="6787080" y="273816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1" name=""/>
                  <p:cNvSpPr/>
                  <p:nvPr/>
                </p:nvSpPr>
                <p:spPr>
                  <a:xfrm flipH="1">
                    <a:off x="6675120" y="251568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2" name=""/>
                  <p:cNvSpPr/>
                  <p:nvPr/>
                </p:nvSpPr>
                <p:spPr>
                  <a:xfrm flipH="1">
                    <a:off x="6647040" y="239040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3" name=""/>
                  <p:cNvSpPr/>
                  <p:nvPr/>
                </p:nvSpPr>
                <p:spPr>
                  <a:xfrm flipH="1">
                    <a:off x="6545160" y="271404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4" name=""/>
                  <p:cNvSpPr/>
                  <p:nvPr/>
                </p:nvSpPr>
                <p:spPr>
                  <a:xfrm flipH="1">
                    <a:off x="6444000" y="250380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5" name=""/>
                  <p:cNvSpPr/>
                  <p:nvPr/>
                </p:nvSpPr>
                <p:spPr>
                  <a:xfrm flipH="1">
                    <a:off x="6962040" y="229356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76" name=""/>
              <p:cNvGrpSpPr/>
              <p:nvPr/>
            </p:nvGrpSpPr>
            <p:grpSpPr>
              <a:xfrm>
                <a:off x="7046280" y="2310120"/>
                <a:ext cx="982800" cy="726840"/>
                <a:chOff x="7046280" y="2310120"/>
                <a:chExt cx="982800" cy="726840"/>
              </a:xfrm>
            </p:grpSpPr>
            <p:sp>
              <p:nvSpPr>
                <p:cNvPr id="7477" name=""/>
                <p:cNvSpPr/>
                <p:nvPr/>
              </p:nvSpPr>
              <p:spPr>
                <a:xfrm>
                  <a:off x="7046280" y="2310120"/>
                  <a:ext cx="982800" cy="72684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78" name=""/>
                <p:cNvGrpSpPr/>
                <p:nvPr/>
              </p:nvGrpSpPr>
              <p:grpSpPr>
                <a:xfrm>
                  <a:off x="7272360" y="2424600"/>
                  <a:ext cx="583200" cy="519840"/>
                  <a:chOff x="7272360" y="2424600"/>
                  <a:chExt cx="583200" cy="519840"/>
                </a:xfrm>
              </p:grpSpPr>
              <p:sp>
                <p:nvSpPr>
                  <p:cNvPr id="7479" name=""/>
                  <p:cNvSpPr/>
                  <p:nvPr/>
                </p:nvSpPr>
                <p:spPr>
                  <a:xfrm flipH="1" flipV="1">
                    <a:off x="7727040" y="255348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0" name=""/>
                  <p:cNvSpPr/>
                  <p:nvPr/>
                </p:nvSpPr>
                <p:spPr>
                  <a:xfrm flipH="1" flipV="1">
                    <a:off x="7615080" y="242424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1" name=""/>
                  <p:cNvSpPr/>
                  <p:nvPr/>
                </p:nvSpPr>
                <p:spPr>
                  <a:xfrm flipH="1" flipV="1">
                    <a:off x="7503120" y="264672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2" name=""/>
                  <p:cNvSpPr/>
                  <p:nvPr/>
                </p:nvSpPr>
                <p:spPr>
                  <a:xfrm flipH="1" flipV="1">
                    <a:off x="7475040" y="277200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3" name=""/>
                  <p:cNvSpPr/>
                  <p:nvPr/>
                </p:nvSpPr>
                <p:spPr>
                  <a:xfrm flipH="1" flipV="1">
                    <a:off x="7373160" y="244836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4" name=""/>
                  <p:cNvSpPr/>
                  <p:nvPr/>
                </p:nvSpPr>
                <p:spPr>
                  <a:xfrm flipH="1" flipV="1">
                    <a:off x="7272000" y="265860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5" name=""/>
                  <p:cNvSpPr/>
                  <p:nvPr/>
                </p:nvSpPr>
                <p:spPr>
                  <a:xfrm flipH="1" flipV="1">
                    <a:off x="7790040" y="2868840"/>
                    <a:ext cx="65160" cy="75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486" name=""/>
            <p:cNvSpPr/>
            <p:nvPr/>
          </p:nvSpPr>
          <p:spPr>
            <a:xfrm>
              <a:off x="436680" y="2165400"/>
              <a:ext cx="475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misere !   les  images ressemblent à ç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7" name=""/>
          <p:cNvGrpSpPr/>
          <p:nvPr/>
        </p:nvGrpSpPr>
        <p:grpSpPr>
          <a:xfrm>
            <a:off x="594720" y="2992320"/>
            <a:ext cx="8157240" cy="1611360"/>
            <a:chOff x="594720" y="2992320"/>
            <a:chExt cx="8157240" cy="1611360"/>
          </a:xfrm>
        </p:grpSpPr>
        <p:sp>
          <p:nvSpPr>
            <p:cNvPr id="7488" name=""/>
            <p:cNvSpPr/>
            <p:nvPr/>
          </p:nvSpPr>
          <p:spPr>
            <a:xfrm>
              <a:off x="594720" y="2992320"/>
              <a:ext cx="815724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somme les images ??   gros naif : tout bouge !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fonction de transfert (sic) T(f) est random-instable au delà de r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i on moyenne on perd les frequences eleve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9" name=""/>
            <p:cNvGrpSpPr/>
            <p:nvPr/>
          </p:nvGrpSpPr>
          <p:grpSpPr>
            <a:xfrm>
              <a:off x="5028840" y="3619440"/>
              <a:ext cx="3434040" cy="984240"/>
              <a:chOff x="5028840" y="3619440"/>
              <a:chExt cx="3434040" cy="984240"/>
            </a:xfrm>
          </p:grpSpPr>
          <p:grpSp>
            <p:nvGrpSpPr>
              <p:cNvPr id="7490" name=""/>
              <p:cNvGrpSpPr/>
              <p:nvPr/>
            </p:nvGrpSpPr>
            <p:grpSpPr>
              <a:xfrm>
                <a:off x="5028840" y="3619440"/>
                <a:ext cx="3434040" cy="984240"/>
                <a:chOff x="5028840" y="3619440"/>
                <a:chExt cx="3434040" cy="984240"/>
              </a:xfrm>
            </p:grpSpPr>
            <p:sp>
              <p:nvSpPr>
                <p:cNvPr id="7491" name=""/>
                <p:cNvSpPr/>
                <p:nvPr/>
              </p:nvSpPr>
              <p:spPr>
                <a:xfrm>
                  <a:off x="5211720" y="4300200"/>
                  <a:ext cx="3251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2" name=""/>
                <p:cNvSpPr/>
                <p:nvPr/>
              </p:nvSpPr>
              <p:spPr>
                <a:xfrm flipV="1">
                  <a:off x="6662520" y="3619440"/>
                  <a:ext cx="0" cy="666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3" name=""/>
                <p:cNvSpPr/>
                <p:nvPr/>
              </p:nvSpPr>
              <p:spPr>
                <a:xfrm>
                  <a:off x="6662520" y="3865320"/>
                  <a:ext cx="1640160" cy="738360"/>
                </a:xfrm>
                <a:custGeom>
                  <a:avLst/>
                  <a:gdLst/>
                  <a:ahLst/>
                  <a:rect l="l" t="t" r="r" b="b"/>
                  <a:pathLst>
                    <a:path w="1033" h="465">
                      <a:moveTo>
                        <a:pt x="0" y="0"/>
                      </a:moveTo>
                      <a:cubicBezTo>
                        <a:pt x="23" y="1"/>
                        <a:pt x="47" y="3"/>
                        <a:pt x="64" y="46"/>
                      </a:cubicBezTo>
                      <a:cubicBezTo>
                        <a:pt x="81" y="89"/>
                        <a:pt x="90" y="206"/>
                        <a:pt x="101" y="256"/>
                      </a:cubicBezTo>
                      <a:cubicBezTo>
                        <a:pt x="112" y="306"/>
                        <a:pt x="119" y="360"/>
                        <a:pt x="128" y="348"/>
                      </a:cubicBezTo>
                      <a:cubicBezTo>
                        <a:pt x="137" y="336"/>
                        <a:pt x="147" y="201"/>
                        <a:pt x="156" y="183"/>
                      </a:cubicBezTo>
                      <a:cubicBezTo>
                        <a:pt x="165" y="165"/>
                        <a:pt x="169" y="233"/>
                        <a:pt x="183" y="238"/>
                      </a:cubicBezTo>
                      <a:cubicBezTo>
                        <a:pt x="197" y="243"/>
                        <a:pt x="224" y="175"/>
                        <a:pt x="238" y="210"/>
                      </a:cubicBezTo>
                      <a:cubicBezTo>
                        <a:pt x="252" y="245"/>
                        <a:pt x="250" y="465"/>
                        <a:pt x="265" y="448"/>
                      </a:cubicBezTo>
                      <a:cubicBezTo>
                        <a:pt x="280" y="431"/>
                        <a:pt x="311" y="122"/>
                        <a:pt x="329" y="110"/>
                      </a:cubicBezTo>
                      <a:cubicBezTo>
                        <a:pt x="347" y="98"/>
                        <a:pt x="360" y="360"/>
                        <a:pt x="375" y="375"/>
                      </a:cubicBezTo>
                      <a:cubicBezTo>
                        <a:pt x="390" y="390"/>
                        <a:pt x="404" y="197"/>
                        <a:pt x="421" y="201"/>
                      </a:cubicBezTo>
                      <a:cubicBezTo>
                        <a:pt x="438" y="205"/>
                        <a:pt x="462" y="385"/>
                        <a:pt x="476" y="402"/>
                      </a:cubicBezTo>
                      <a:cubicBezTo>
                        <a:pt x="490" y="419"/>
                        <a:pt x="491" y="305"/>
                        <a:pt x="503" y="302"/>
                      </a:cubicBezTo>
                      <a:cubicBezTo>
                        <a:pt x="515" y="299"/>
                        <a:pt x="535" y="411"/>
                        <a:pt x="549" y="384"/>
                      </a:cubicBezTo>
                      <a:cubicBezTo>
                        <a:pt x="563" y="357"/>
                        <a:pt x="571" y="137"/>
                        <a:pt x="585" y="137"/>
                      </a:cubicBezTo>
                      <a:cubicBezTo>
                        <a:pt x="599" y="137"/>
                        <a:pt x="614" y="375"/>
                        <a:pt x="631" y="384"/>
                      </a:cubicBezTo>
                      <a:cubicBezTo>
                        <a:pt x="648" y="393"/>
                        <a:pt x="668" y="196"/>
                        <a:pt x="686" y="192"/>
                      </a:cubicBezTo>
                      <a:cubicBezTo>
                        <a:pt x="704" y="188"/>
                        <a:pt x="723" y="368"/>
                        <a:pt x="741" y="357"/>
                      </a:cubicBezTo>
                      <a:cubicBezTo>
                        <a:pt x="759" y="346"/>
                        <a:pt x="781" y="146"/>
                        <a:pt x="796" y="128"/>
                      </a:cubicBezTo>
                      <a:cubicBezTo>
                        <a:pt x="811" y="110"/>
                        <a:pt x="820" y="235"/>
                        <a:pt x="832" y="247"/>
                      </a:cubicBezTo>
                      <a:cubicBezTo>
                        <a:pt x="844" y="259"/>
                        <a:pt x="854" y="178"/>
                        <a:pt x="869" y="201"/>
                      </a:cubicBezTo>
                      <a:cubicBezTo>
                        <a:pt x="884" y="224"/>
                        <a:pt x="908" y="378"/>
                        <a:pt x="924" y="384"/>
                      </a:cubicBezTo>
                      <a:cubicBezTo>
                        <a:pt x="940" y="390"/>
                        <a:pt x="955" y="246"/>
                        <a:pt x="969" y="238"/>
                      </a:cubicBezTo>
                      <a:cubicBezTo>
                        <a:pt x="983" y="230"/>
                        <a:pt x="995" y="350"/>
                        <a:pt x="1006" y="338"/>
                      </a:cubicBezTo>
                      <a:cubicBezTo>
                        <a:pt x="1017" y="326"/>
                        <a:pt x="1025" y="197"/>
                        <a:pt x="1033" y="165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4" name=""/>
                <p:cNvSpPr/>
                <p:nvPr/>
              </p:nvSpPr>
              <p:spPr>
                <a:xfrm flipH="1">
                  <a:off x="5028480" y="3858840"/>
                  <a:ext cx="1639800" cy="738360"/>
                </a:xfrm>
                <a:custGeom>
                  <a:avLst/>
                  <a:gdLst/>
                  <a:ahLst/>
                  <a:rect l="l" t="t" r="r" b="b"/>
                  <a:pathLst>
                    <a:path w="1033" h="465">
                      <a:moveTo>
                        <a:pt x="0" y="0"/>
                      </a:moveTo>
                      <a:cubicBezTo>
                        <a:pt x="23" y="1"/>
                        <a:pt x="47" y="3"/>
                        <a:pt x="64" y="46"/>
                      </a:cubicBezTo>
                      <a:cubicBezTo>
                        <a:pt x="81" y="89"/>
                        <a:pt x="90" y="206"/>
                        <a:pt x="101" y="256"/>
                      </a:cubicBezTo>
                      <a:cubicBezTo>
                        <a:pt x="112" y="306"/>
                        <a:pt x="119" y="360"/>
                        <a:pt x="128" y="348"/>
                      </a:cubicBezTo>
                      <a:cubicBezTo>
                        <a:pt x="137" y="336"/>
                        <a:pt x="147" y="201"/>
                        <a:pt x="156" y="183"/>
                      </a:cubicBezTo>
                      <a:cubicBezTo>
                        <a:pt x="165" y="165"/>
                        <a:pt x="169" y="233"/>
                        <a:pt x="183" y="238"/>
                      </a:cubicBezTo>
                      <a:cubicBezTo>
                        <a:pt x="197" y="243"/>
                        <a:pt x="224" y="175"/>
                        <a:pt x="238" y="210"/>
                      </a:cubicBezTo>
                      <a:cubicBezTo>
                        <a:pt x="252" y="245"/>
                        <a:pt x="250" y="465"/>
                        <a:pt x="265" y="448"/>
                      </a:cubicBezTo>
                      <a:cubicBezTo>
                        <a:pt x="280" y="431"/>
                        <a:pt x="311" y="122"/>
                        <a:pt x="329" y="110"/>
                      </a:cubicBezTo>
                      <a:cubicBezTo>
                        <a:pt x="347" y="98"/>
                        <a:pt x="360" y="360"/>
                        <a:pt x="375" y="375"/>
                      </a:cubicBezTo>
                      <a:cubicBezTo>
                        <a:pt x="390" y="390"/>
                        <a:pt x="404" y="197"/>
                        <a:pt x="421" y="201"/>
                      </a:cubicBezTo>
                      <a:cubicBezTo>
                        <a:pt x="438" y="205"/>
                        <a:pt x="462" y="385"/>
                        <a:pt x="476" y="402"/>
                      </a:cubicBezTo>
                      <a:cubicBezTo>
                        <a:pt x="490" y="419"/>
                        <a:pt x="491" y="305"/>
                        <a:pt x="503" y="302"/>
                      </a:cubicBezTo>
                      <a:cubicBezTo>
                        <a:pt x="515" y="299"/>
                        <a:pt x="535" y="411"/>
                        <a:pt x="549" y="384"/>
                      </a:cubicBezTo>
                      <a:cubicBezTo>
                        <a:pt x="563" y="357"/>
                        <a:pt x="571" y="137"/>
                        <a:pt x="585" y="137"/>
                      </a:cubicBezTo>
                      <a:cubicBezTo>
                        <a:pt x="599" y="137"/>
                        <a:pt x="614" y="375"/>
                        <a:pt x="631" y="384"/>
                      </a:cubicBezTo>
                      <a:cubicBezTo>
                        <a:pt x="648" y="393"/>
                        <a:pt x="668" y="196"/>
                        <a:pt x="686" y="192"/>
                      </a:cubicBezTo>
                      <a:cubicBezTo>
                        <a:pt x="704" y="188"/>
                        <a:pt x="723" y="368"/>
                        <a:pt x="741" y="357"/>
                      </a:cubicBezTo>
                      <a:cubicBezTo>
                        <a:pt x="759" y="346"/>
                        <a:pt x="781" y="146"/>
                        <a:pt x="796" y="128"/>
                      </a:cubicBezTo>
                      <a:cubicBezTo>
                        <a:pt x="811" y="110"/>
                        <a:pt x="820" y="235"/>
                        <a:pt x="832" y="247"/>
                      </a:cubicBezTo>
                      <a:cubicBezTo>
                        <a:pt x="844" y="259"/>
                        <a:pt x="854" y="178"/>
                        <a:pt x="869" y="201"/>
                      </a:cubicBezTo>
                      <a:cubicBezTo>
                        <a:pt x="884" y="224"/>
                        <a:pt x="908" y="378"/>
                        <a:pt x="924" y="384"/>
                      </a:cubicBezTo>
                      <a:cubicBezTo>
                        <a:pt x="940" y="390"/>
                        <a:pt x="955" y="246"/>
                        <a:pt x="969" y="238"/>
                      </a:cubicBezTo>
                      <a:cubicBezTo>
                        <a:pt x="983" y="230"/>
                        <a:pt x="995" y="350"/>
                        <a:pt x="1006" y="338"/>
                      </a:cubicBezTo>
                      <a:cubicBezTo>
                        <a:pt x="1017" y="326"/>
                        <a:pt x="1025" y="197"/>
                        <a:pt x="1033" y="165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95" name=""/>
              <p:cNvSpPr/>
              <p:nvPr/>
            </p:nvSpPr>
            <p:spPr>
              <a:xfrm>
                <a:off x="5340240" y="3795840"/>
                <a:ext cx="2714760" cy="563400"/>
              </a:xfrm>
              <a:custGeom>
                <a:avLst/>
                <a:gdLst/>
                <a:ahLst/>
                <a:rect l="l" t="t" r="r" b="b"/>
                <a:pathLst>
                  <a:path w="1710" h="355">
                    <a:moveTo>
                      <a:pt x="0" y="300"/>
                    </a:moveTo>
                    <a:cubicBezTo>
                      <a:pt x="258" y="308"/>
                      <a:pt x="517" y="317"/>
                      <a:pt x="640" y="318"/>
                    </a:cubicBezTo>
                    <a:cubicBezTo>
                      <a:pt x="763" y="319"/>
                      <a:pt x="717" y="355"/>
                      <a:pt x="741" y="309"/>
                    </a:cubicBezTo>
                    <a:cubicBezTo>
                      <a:pt x="765" y="263"/>
                      <a:pt x="767" y="88"/>
                      <a:pt x="787" y="44"/>
                    </a:cubicBezTo>
                    <a:cubicBezTo>
                      <a:pt x="807" y="0"/>
                      <a:pt x="840" y="18"/>
                      <a:pt x="860" y="44"/>
                    </a:cubicBezTo>
                    <a:cubicBezTo>
                      <a:pt x="880" y="70"/>
                      <a:pt x="892" y="153"/>
                      <a:pt x="906" y="199"/>
                    </a:cubicBezTo>
                    <a:cubicBezTo>
                      <a:pt x="920" y="245"/>
                      <a:pt x="871" y="303"/>
                      <a:pt x="942" y="318"/>
                    </a:cubicBezTo>
                    <a:cubicBezTo>
                      <a:pt x="1013" y="333"/>
                      <a:pt x="1207" y="295"/>
                      <a:pt x="1335" y="290"/>
                    </a:cubicBezTo>
                    <a:cubicBezTo>
                      <a:pt x="1463" y="285"/>
                      <a:pt x="1586" y="287"/>
                      <a:pt x="1710" y="290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96" name=""/>
          <p:cNvGrpSpPr/>
          <p:nvPr/>
        </p:nvGrpSpPr>
        <p:grpSpPr>
          <a:xfrm>
            <a:off x="5327280" y="5102280"/>
            <a:ext cx="3432600" cy="1009440"/>
            <a:chOff x="5327280" y="5102280"/>
            <a:chExt cx="3432600" cy="1009440"/>
          </a:xfrm>
        </p:grpSpPr>
        <p:grpSp>
          <p:nvGrpSpPr>
            <p:cNvPr id="7497" name=""/>
            <p:cNvGrpSpPr/>
            <p:nvPr/>
          </p:nvGrpSpPr>
          <p:grpSpPr>
            <a:xfrm>
              <a:off x="5327280" y="5102280"/>
              <a:ext cx="3432600" cy="685800"/>
              <a:chOff x="5327280" y="5102280"/>
              <a:chExt cx="3432600" cy="685800"/>
            </a:xfrm>
          </p:grpSpPr>
          <p:sp>
            <p:nvSpPr>
              <p:cNvPr id="7498" name=""/>
              <p:cNvSpPr/>
              <p:nvPr/>
            </p:nvSpPr>
            <p:spPr>
              <a:xfrm>
                <a:off x="5508720" y="5783400"/>
                <a:ext cx="3251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 flipV="1">
                <a:off x="6959520" y="5102280"/>
                <a:ext cx="0" cy="66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>
                <a:off x="6959520" y="5348160"/>
                <a:ext cx="1639800" cy="432000"/>
              </a:xfrm>
              <a:custGeom>
                <a:avLst/>
                <a:gdLst/>
                <a:ahLst/>
                <a:rect l="l" t="t" r="r" b="b"/>
                <a:pathLst>
                  <a:path w="1033" h="272">
                    <a:moveTo>
                      <a:pt x="0" y="0"/>
                    </a:moveTo>
                    <a:cubicBezTo>
                      <a:pt x="23" y="1"/>
                      <a:pt x="47" y="3"/>
                      <a:pt x="64" y="46"/>
                    </a:cubicBezTo>
                    <a:cubicBezTo>
                      <a:pt x="81" y="89"/>
                      <a:pt x="93" y="240"/>
                      <a:pt x="101" y="256"/>
                    </a:cubicBezTo>
                    <a:cubicBezTo>
                      <a:pt x="109" y="272"/>
                      <a:pt x="105" y="154"/>
                      <a:pt x="114" y="142"/>
                    </a:cubicBezTo>
                    <a:cubicBezTo>
                      <a:pt x="123" y="130"/>
                      <a:pt x="145" y="167"/>
                      <a:pt x="156" y="183"/>
                    </a:cubicBezTo>
                    <a:cubicBezTo>
                      <a:pt x="167" y="199"/>
                      <a:pt x="169" y="233"/>
                      <a:pt x="183" y="238"/>
                    </a:cubicBezTo>
                    <a:cubicBezTo>
                      <a:pt x="197" y="243"/>
                      <a:pt x="221" y="209"/>
                      <a:pt x="238" y="210"/>
                    </a:cubicBezTo>
                    <a:cubicBezTo>
                      <a:pt x="255" y="211"/>
                      <a:pt x="273" y="259"/>
                      <a:pt x="288" y="242"/>
                    </a:cubicBezTo>
                    <a:cubicBezTo>
                      <a:pt x="303" y="225"/>
                      <a:pt x="315" y="115"/>
                      <a:pt x="329" y="110"/>
                    </a:cubicBezTo>
                    <a:cubicBezTo>
                      <a:pt x="343" y="105"/>
                      <a:pt x="355" y="200"/>
                      <a:pt x="370" y="215"/>
                    </a:cubicBezTo>
                    <a:cubicBezTo>
                      <a:pt x="385" y="230"/>
                      <a:pt x="406" y="215"/>
                      <a:pt x="421" y="201"/>
                    </a:cubicBezTo>
                    <a:cubicBezTo>
                      <a:pt x="436" y="187"/>
                      <a:pt x="451" y="134"/>
                      <a:pt x="462" y="133"/>
                    </a:cubicBezTo>
                    <a:cubicBezTo>
                      <a:pt x="473" y="132"/>
                      <a:pt x="477" y="183"/>
                      <a:pt x="489" y="197"/>
                    </a:cubicBezTo>
                    <a:cubicBezTo>
                      <a:pt x="501" y="211"/>
                      <a:pt x="519" y="225"/>
                      <a:pt x="535" y="215"/>
                    </a:cubicBezTo>
                    <a:cubicBezTo>
                      <a:pt x="551" y="205"/>
                      <a:pt x="570" y="137"/>
                      <a:pt x="585" y="137"/>
                    </a:cubicBezTo>
                    <a:cubicBezTo>
                      <a:pt x="600" y="137"/>
                      <a:pt x="609" y="206"/>
                      <a:pt x="626" y="215"/>
                    </a:cubicBezTo>
                    <a:cubicBezTo>
                      <a:pt x="643" y="224"/>
                      <a:pt x="669" y="192"/>
                      <a:pt x="686" y="192"/>
                    </a:cubicBezTo>
                    <a:cubicBezTo>
                      <a:pt x="703" y="192"/>
                      <a:pt x="709" y="226"/>
                      <a:pt x="727" y="215"/>
                    </a:cubicBezTo>
                    <a:cubicBezTo>
                      <a:pt x="745" y="204"/>
                      <a:pt x="779" y="123"/>
                      <a:pt x="796" y="128"/>
                    </a:cubicBezTo>
                    <a:cubicBezTo>
                      <a:pt x="813" y="133"/>
                      <a:pt x="820" y="235"/>
                      <a:pt x="832" y="247"/>
                    </a:cubicBezTo>
                    <a:cubicBezTo>
                      <a:pt x="844" y="259"/>
                      <a:pt x="855" y="202"/>
                      <a:pt x="869" y="201"/>
                    </a:cubicBezTo>
                    <a:cubicBezTo>
                      <a:pt x="883" y="200"/>
                      <a:pt x="903" y="236"/>
                      <a:pt x="919" y="242"/>
                    </a:cubicBezTo>
                    <a:cubicBezTo>
                      <a:pt x="935" y="248"/>
                      <a:pt x="960" y="249"/>
                      <a:pt x="969" y="238"/>
                    </a:cubicBezTo>
                    <a:cubicBezTo>
                      <a:pt x="978" y="227"/>
                      <a:pt x="963" y="190"/>
                      <a:pt x="974" y="178"/>
                    </a:cubicBezTo>
                    <a:cubicBezTo>
                      <a:pt x="985" y="166"/>
                      <a:pt x="1021" y="168"/>
                      <a:pt x="1033" y="16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 flipH="1">
                <a:off x="5326920" y="5356080"/>
                <a:ext cx="1639800" cy="432000"/>
              </a:xfrm>
              <a:custGeom>
                <a:avLst/>
                <a:gdLst/>
                <a:ahLst/>
                <a:rect l="l" t="t" r="r" b="b"/>
                <a:pathLst>
                  <a:path w="1033" h="272">
                    <a:moveTo>
                      <a:pt x="0" y="0"/>
                    </a:moveTo>
                    <a:cubicBezTo>
                      <a:pt x="23" y="1"/>
                      <a:pt x="47" y="3"/>
                      <a:pt x="64" y="46"/>
                    </a:cubicBezTo>
                    <a:cubicBezTo>
                      <a:pt x="81" y="89"/>
                      <a:pt x="93" y="240"/>
                      <a:pt x="101" y="256"/>
                    </a:cubicBezTo>
                    <a:cubicBezTo>
                      <a:pt x="109" y="272"/>
                      <a:pt x="105" y="154"/>
                      <a:pt x="114" y="142"/>
                    </a:cubicBezTo>
                    <a:cubicBezTo>
                      <a:pt x="123" y="130"/>
                      <a:pt x="145" y="167"/>
                      <a:pt x="156" y="183"/>
                    </a:cubicBezTo>
                    <a:cubicBezTo>
                      <a:pt x="167" y="199"/>
                      <a:pt x="169" y="233"/>
                      <a:pt x="183" y="238"/>
                    </a:cubicBezTo>
                    <a:cubicBezTo>
                      <a:pt x="197" y="243"/>
                      <a:pt x="221" y="209"/>
                      <a:pt x="238" y="210"/>
                    </a:cubicBezTo>
                    <a:cubicBezTo>
                      <a:pt x="255" y="211"/>
                      <a:pt x="273" y="259"/>
                      <a:pt x="288" y="242"/>
                    </a:cubicBezTo>
                    <a:cubicBezTo>
                      <a:pt x="303" y="225"/>
                      <a:pt x="315" y="115"/>
                      <a:pt x="329" y="110"/>
                    </a:cubicBezTo>
                    <a:cubicBezTo>
                      <a:pt x="343" y="105"/>
                      <a:pt x="355" y="200"/>
                      <a:pt x="370" y="215"/>
                    </a:cubicBezTo>
                    <a:cubicBezTo>
                      <a:pt x="385" y="230"/>
                      <a:pt x="406" y="215"/>
                      <a:pt x="421" y="201"/>
                    </a:cubicBezTo>
                    <a:cubicBezTo>
                      <a:pt x="436" y="187"/>
                      <a:pt x="451" y="134"/>
                      <a:pt x="462" y="133"/>
                    </a:cubicBezTo>
                    <a:cubicBezTo>
                      <a:pt x="473" y="132"/>
                      <a:pt x="477" y="183"/>
                      <a:pt x="489" y="197"/>
                    </a:cubicBezTo>
                    <a:cubicBezTo>
                      <a:pt x="501" y="211"/>
                      <a:pt x="519" y="225"/>
                      <a:pt x="535" y="215"/>
                    </a:cubicBezTo>
                    <a:cubicBezTo>
                      <a:pt x="551" y="205"/>
                      <a:pt x="570" y="137"/>
                      <a:pt x="585" y="137"/>
                    </a:cubicBezTo>
                    <a:cubicBezTo>
                      <a:pt x="600" y="137"/>
                      <a:pt x="609" y="206"/>
                      <a:pt x="626" y="215"/>
                    </a:cubicBezTo>
                    <a:cubicBezTo>
                      <a:pt x="643" y="224"/>
                      <a:pt x="669" y="192"/>
                      <a:pt x="686" y="192"/>
                    </a:cubicBezTo>
                    <a:cubicBezTo>
                      <a:pt x="703" y="192"/>
                      <a:pt x="709" y="226"/>
                      <a:pt x="727" y="215"/>
                    </a:cubicBezTo>
                    <a:cubicBezTo>
                      <a:pt x="745" y="204"/>
                      <a:pt x="779" y="123"/>
                      <a:pt x="796" y="128"/>
                    </a:cubicBezTo>
                    <a:cubicBezTo>
                      <a:pt x="813" y="133"/>
                      <a:pt x="820" y="235"/>
                      <a:pt x="832" y="247"/>
                    </a:cubicBezTo>
                    <a:cubicBezTo>
                      <a:pt x="844" y="259"/>
                      <a:pt x="855" y="202"/>
                      <a:pt x="869" y="201"/>
                    </a:cubicBezTo>
                    <a:cubicBezTo>
                      <a:pt x="883" y="200"/>
                      <a:pt x="903" y="236"/>
                      <a:pt x="919" y="242"/>
                    </a:cubicBezTo>
                    <a:cubicBezTo>
                      <a:pt x="935" y="248"/>
                      <a:pt x="960" y="249"/>
                      <a:pt x="969" y="238"/>
                    </a:cubicBezTo>
                    <a:cubicBezTo>
                      <a:pt x="978" y="227"/>
                      <a:pt x="963" y="190"/>
                      <a:pt x="974" y="178"/>
                    </a:cubicBezTo>
                    <a:cubicBezTo>
                      <a:pt x="985" y="166"/>
                      <a:pt x="1021" y="168"/>
                      <a:pt x="1033" y="16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2" name=""/>
            <p:cNvSpPr/>
            <p:nvPr/>
          </p:nvSpPr>
          <p:spPr>
            <a:xfrm>
              <a:off x="5651640" y="5276880"/>
              <a:ext cx="2714400" cy="434880"/>
            </a:xfrm>
            <a:custGeom>
              <a:avLst/>
              <a:gdLst/>
              <a:ahLst/>
              <a:rect l="l" t="t" r="r" b="b"/>
              <a:pathLst>
                <a:path w="1710" h="274">
                  <a:moveTo>
                    <a:pt x="0" y="229"/>
                  </a:moveTo>
                  <a:cubicBezTo>
                    <a:pt x="258" y="237"/>
                    <a:pt x="517" y="246"/>
                    <a:pt x="640" y="247"/>
                  </a:cubicBezTo>
                  <a:cubicBezTo>
                    <a:pt x="763" y="248"/>
                    <a:pt x="716" y="274"/>
                    <a:pt x="741" y="238"/>
                  </a:cubicBezTo>
                  <a:cubicBezTo>
                    <a:pt x="766" y="202"/>
                    <a:pt x="771" y="62"/>
                    <a:pt x="792" y="31"/>
                  </a:cubicBezTo>
                  <a:cubicBezTo>
                    <a:pt x="813" y="0"/>
                    <a:pt x="846" y="34"/>
                    <a:pt x="865" y="50"/>
                  </a:cubicBezTo>
                  <a:cubicBezTo>
                    <a:pt x="884" y="66"/>
                    <a:pt x="893" y="95"/>
                    <a:pt x="906" y="128"/>
                  </a:cubicBezTo>
                  <a:cubicBezTo>
                    <a:pt x="919" y="161"/>
                    <a:pt x="871" y="232"/>
                    <a:pt x="942" y="247"/>
                  </a:cubicBezTo>
                  <a:cubicBezTo>
                    <a:pt x="1013" y="262"/>
                    <a:pt x="1207" y="224"/>
                    <a:pt x="1335" y="219"/>
                  </a:cubicBezTo>
                  <a:cubicBezTo>
                    <a:pt x="1463" y="214"/>
                    <a:pt x="1586" y="216"/>
                    <a:pt x="1710" y="21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3" name=""/>
            <p:cNvSpPr/>
            <p:nvPr/>
          </p:nvSpPr>
          <p:spPr>
            <a:xfrm>
              <a:off x="5573880" y="5326200"/>
              <a:ext cx="2800080" cy="450720"/>
            </a:xfrm>
            <a:custGeom>
              <a:avLst/>
              <a:gdLst/>
              <a:ahLst/>
              <a:rect l="l" t="t" r="r" b="b"/>
              <a:pathLst>
                <a:path w="1764" h="284">
                  <a:moveTo>
                    <a:pt x="0" y="266"/>
                  </a:moveTo>
                  <a:lnTo>
                    <a:pt x="878" y="0"/>
                  </a:lnTo>
                  <a:lnTo>
                    <a:pt x="1764" y="2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8024040" y="574344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/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5" name=""/>
            <p:cNvSpPr/>
            <p:nvPr/>
          </p:nvSpPr>
          <p:spPr>
            <a:xfrm>
              <a:off x="8215200" y="5718240"/>
              <a:ext cx="130320" cy="889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6" name="PlaceHolder 1"/>
          <p:cNvSpPr>
            <a:spLocks noGrp="1"/>
          </p:cNvSpPr>
          <p:nvPr>
            <p:ph type="title"/>
          </p:nvPr>
        </p:nvSpPr>
        <p:spPr>
          <a:xfrm>
            <a:off x="205920" y="619200"/>
            <a:ext cx="5767560" cy="403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lIns="61200" rIns="61200" tIns="24480" bIns="2448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Occultations d'étoiles par la Lune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7" name=""/>
          <p:cNvSpPr/>
          <p:nvPr/>
        </p:nvSpPr>
        <p:spPr>
          <a:xfrm>
            <a:off x="131040" y="1081080"/>
            <a:ext cx="27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 phénomèn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8" name=""/>
          <p:cNvGrpSpPr/>
          <p:nvPr/>
        </p:nvGrpSpPr>
        <p:grpSpPr>
          <a:xfrm>
            <a:off x="807120" y="987480"/>
            <a:ext cx="8336520" cy="2074320"/>
            <a:chOff x="807120" y="987480"/>
            <a:chExt cx="8336520" cy="2074320"/>
          </a:xfrm>
        </p:grpSpPr>
        <p:grpSp>
          <p:nvGrpSpPr>
            <p:cNvPr id="7509" name=""/>
            <p:cNvGrpSpPr/>
            <p:nvPr/>
          </p:nvGrpSpPr>
          <p:grpSpPr>
            <a:xfrm>
              <a:off x="4503600" y="987480"/>
              <a:ext cx="4640040" cy="2074320"/>
              <a:chOff x="4503600" y="987480"/>
              <a:chExt cx="4640040" cy="2074320"/>
            </a:xfrm>
          </p:grpSpPr>
          <p:sp>
            <p:nvSpPr>
              <p:cNvPr id="7510" name=""/>
              <p:cNvSpPr/>
              <p:nvPr/>
            </p:nvSpPr>
            <p:spPr>
              <a:xfrm>
                <a:off x="5473080" y="1525320"/>
                <a:ext cx="2016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>
                <a:off x="4509000" y="987480"/>
                <a:ext cx="2262600" cy="1744920"/>
              </a:xfrm>
              <a:prstGeom prst="rect">
                <a:avLst/>
              </a:prstGeom>
              <a:solidFill>
                <a:srgbClr val="3333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>
                <a:off x="4503600" y="2529360"/>
                <a:ext cx="2273760" cy="103320"/>
              </a:xfrm>
              <a:custGeom>
                <a:avLst/>
                <a:gdLst/>
                <a:ahLst/>
                <a:rect l="l" t="t" r="r" b="b"/>
                <a:pathLst>
                  <a:path w="1670" h="76">
                    <a:moveTo>
                      <a:pt x="0" y="25"/>
                    </a:moveTo>
                    <a:lnTo>
                      <a:pt x="9" y="25"/>
                    </a:lnTo>
                    <a:lnTo>
                      <a:pt x="26" y="25"/>
                    </a:lnTo>
                    <a:lnTo>
                      <a:pt x="44" y="25"/>
                    </a:lnTo>
                    <a:lnTo>
                      <a:pt x="70" y="25"/>
                    </a:lnTo>
                    <a:lnTo>
                      <a:pt x="87" y="25"/>
                    </a:lnTo>
                    <a:lnTo>
                      <a:pt x="113" y="25"/>
                    </a:lnTo>
                    <a:lnTo>
                      <a:pt x="139" y="25"/>
                    </a:lnTo>
                    <a:lnTo>
                      <a:pt x="148" y="25"/>
                    </a:lnTo>
                    <a:lnTo>
                      <a:pt x="166" y="25"/>
                    </a:lnTo>
                    <a:lnTo>
                      <a:pt x="174" y="17"/>
                    </a:lnTo>
                    <a:lnTo>
                      <a:pt x="192" y="17"/>
                    </a:lnTo>
                    <a:lnTo>
                      <a:pt x="209" y="17"/>
                    </a:lnTo>
                    <a:lnTo>
                      <a:pt x="226" y="17"/>
                    </a:lnTo>
                    <a:lnTo>
                      <a:pt x="235" y="17"/>
                    </a:lnTo>
                    <a:lnTo>
                      <a:pt x="253" y="8"/>
                    </a:lnTo>
                    <a:lnTo>
                      <a:pt x="270" y="8"/>
                    </a:lnTo>
                    <a:lnTo>
                      <a:pt x="287" y="0"/>
                    </a:lnTo>
                    <a:lnTo>
                      <a:pt x="305" y="0"/>
                    </a:lnTo>
                    <a:lnTo>
                      <a:pt x="322" y="0"/>
                    </a:lnTo>
                    <a:lnTo>
                      <a:pt x="339" y="0"/>
                    </a:lnTo>
                    <a:lnTo>
                      <a:pt x="357" y="0"/>
                    </a:lnTo>
                    <a:lnTo>
                      <a:pt x="383" y="0"/>
                    </a:lnTo>
                    <a:lnTo>
                      <a:pt x="400" y="0"/>
                    </a:lnTo>
                    <a:lnTo>
                      <a:pt x="426" y="0"/>
                    </a:lnTo>
                    <a:lnTo>
                      <a:pt x="444" y="0"/>
                    </a:lnTo>
                    <a:lnTo>
                      <a:pt x="461" y="0"/>
                    </a:lnTo>
                    <a:lnTo>
                      <a:pt x="487" y="8"/>
                    </a:lnTo>
                    <a:lnTo>
                      <a:pt x="513" y="8"/>
                    </a:lnTo>
                    <a:lnTo>
                      <a:pt x="531" y="17"/>
                    </a:lnTo>
                    <a:lnTo>
                      <a:pt x="548" y="17"/>
                    </a:lnTo>
                    <a:lnTo>
                      <a:pt x="574" y="17"/>
                    </a:lnTo>
                    <a:lnTo>
                      <a:pt x="592" y="17"/>
                    </a:lnTo>
                    <a:lnTo>
                      <a:pt x="609" y="17"/>
                    </a:lnTo>
                    <a:lnTo>
                      <a:pt x="618" y="17"/>
                    </a:lnTo>
                    <a:lnTo>
                      <a:pt x="626" y="8"/>
                    </a:lnTo>
                    <a:lnTo>
                      <a:pt x="644" y="8"/>
                    </a:lnTo>
                    <a:lnTo>
                      <a:pt x="652" y="8"/>
                    </a:lnTo>
                    <a:lnTo>
                      <a:pt x="670" y="8"/>
                    </a:lnTo>
                    <a:lnTo>
                      <a:pt x="687" y="17"/>
                    </a:lnTo>
                    <a:lnTo>
                      <a:pt x="696" y="17"/>
                    </a:lnTo>
                    <a:lnTo>
                      <a:pt x="713" y="17"/>
                    </a:lnTo>
                    <a:lnTo>
                      <a:pt x="722" y="17"/>
                    </a:lnTo>
                    <a:lnTo>
                      <a:pt x="739" y="17"/>
                    </a:lnTo>
                    <a:lnTo>
                      <a:pt x="757" y="17"/>
                    </a:lnTo>
                    <a:lnTo>
                      <a:pt x="765" y="17"/>
                    </a:lnTo>
                    <a:lnTo>
                      <a:pt x="774" y="17"/>
                    </a:lnTo>
                    <a:lnTo>
                      <a:pt x="783" y="17"/>
                    </a:lnTo>
                    <a:lnTo>
                      <a:pt x="800" y="17"/>
                    </a:lnTo>
                    <a:lnTo>
                      <a:pt x="818" y="17"/>
                    </a:lnTo>
                    <a:lnTo>
                      <a:pt x="826" y="17"/>
                    </a:lnTo>
                    <a:lnTo>
                      <a:pt x="844" y="17"/>
                    </a:lnTo>
                    <a:lnTo>
                      <a:pt x="844" y="25"/>
                    </a:lnTo>
                    <a:lnTo>
                      <a:pt x="861" y="25"/>
                    </a:lnTo>
                    <a:lnTo>
                      <a:pt x="878" y="25"/>
                    </a:lnTo>
                    <a:lnTo>
                      <a:pt x="896" y="25"/>
                    </a:lnTo>
                    <a:lnTo>
                      <a:pt x="913" y="25"/>
                    </a:lnTo>
                    <a:lnTo>
                      <a:pt x="922" y="34"/>
                    </a:lnTo>
                    <a:lnTo>
                      <a:pt x="931" y="34"/>
                    </a:lnTo>
                    <a:lnTo>
                      <a:pt x="948" y="34"/>
                    </a:lnTo>
                    <a:lnTo>
                      <a:pt x="965" y="34"/>
                    </a:lnTo>
                    <a:lnTo>
                      <a:pt x="983" y="34"/>
                    </a:lnTo>
                    <a:lnTo>
                      <a:pt x="991" y="42"/>
                    </a:lnTo>
                    <a:lnTo>
                      <a:pt x="1000" y="42"/>
                    </a:lnTo>
                    <a:lnTo>
                      <a:pt x="1018" y="42"/>
                    </a:lnTo>
                    <a:lnTo>
                      <a:pt x="1026" y="42"/>
                    </a:lnTo>
                    <a:lnTo>
                      <a:pt x="1044" y="42"/>
                    </a:lnTo>
                    <a:lnTo>
                      <a:pt x="1052" y="51"/>
                    </a:lnTo>
                    <a:lnTo>
                      <a:pt x="1070" y="51"/>
                    </a:lnTo>
                    <a:lnTo>
                      <a:pt x="1078" y="51"/>
                    </a:lnTo>
                    <a:lnTo>
                      <a:pt x="1096" y="51"/>
                    </a:lnTo>
                    <a:lnTo>
                      <a:pt x="1113" y="59"/>
                    </a:lnTo>
                    <a:lnTo>
                      <a:pt x="1131" y="59"/>
                    </a:lnTo>
                    <a:lnTo>
                      <a:pt x="1148" y="59"/>
                    </a:lnTo>
                    <a:lnTo>
                      <a:pt x="1165" y="68"/>
                    </a:lnTo>
                    <a:lnTo>
                      <a:pt x="1191" y="76"/>
                    </a:lnTo>
                    <a:lnTo>
                      <a:pt x="1209" y="76"/>
                    </a:lnTo>
                    <a:lnTo>
                      <a:pt x="1226" y="76"/>
                    </a:lnTo>
                    <a:lnTo>
                      <a:pt x="1235" y="76"/>
                    </a:lnTo>
                    <a:lnTo>
                      <a:pt x="1252" y="76"/>
                    </a:lnTo>
                    <a:lnTo>
                      <a:pt x="1261" y="76"/>
                    </a:lnTo>
                    <a:lnTo>
                      <a:pt x="1278" y="76"/>
                    </a:lnTo>
                    <a:lnTo>
                      <a:pt x="1296" y="76"/>
                    </a:lnTo>
                    <a:lnTo>
                      <a:pt x="1304" y="76"/>
                    </a:lnTo>
                    <a:lnTo>
                      <a:pt x="1322" y="76"/>
                    </a:lnTo>
                    <a:lnTo>
                      <a:pt x="1339" y="68"/>
                    </a:lnTo>
                    <a:lnTo>
                      <a:pt x="1357" y="68"/>
                    </a:lnTo>
                    <a:lnTo>
                      <a:pt x="1365" y="68"/>
                    </a:lnTo>
                    <a:lnTo>
                      <a:pt x="1383" y="68"/>
                    </a:lnTo>
                    <a:lnTo>
                      <a:pt x="1400" y="68"/>
                    </a:lnTo>
                    <a:lnTo>
                      <a:pt x="1409" y="59"/>
                    </a:lnTo>
                    <a:lnTo>
                      <a:pt x="1426" y="59"/>
                    </a:lnTo>
                    <a:lnTo>
                      <a:pt x="1444" y="51"/>
                    </a:lnTo>
                    <a:lnTo>
                      <a:pt x="1461" y="51"/>
                    </a:lnTo>
                    <a:lnTo>
                      <a:pt x="1470" y="51"/>
                    </a:lnTo>
                    <a:lnTo>
                      <a:pt x="1487" y="42"/>
                    </a:lnTo>
                    <a:lnTo>
                      <a:pt x="1504" y="42"/>
                    </a:lnTo>
                    <a:lnTo>
                      <a:pt x="1522" y="34"/>
                    </a:lnTo>
                    <a:lnTo>
                      <a:pt x="1530" y="34"/>
                    </a:lnTo>
                    <a:lnTo>
                      <a:pt x="1557" y="34"/>
                    </a:lnTo>
                    <a:lnTo>
                      <a:pt x="1574" y="34"/>
                    </a:lnTo>
                    <a:lnTo>
                      <a:pt x="1591" y="25"/>
                    </a:lnTo>
                    <a:lnTo>
                      <a:pt x="1609" y="25"/>
                    </a:lnTo>
                    <a:lnTo>
                      <a:pt x="1609" y="25"/>
                    </a:lnTo>
                    <a:lnTo>
                      <a:pt x="1626" y="25"/>
                    </a:lnTo>
                    <a:lnTo>
                      <a:pt x="1635" y="17"/>
                    </a:lnTo>
                    <a:lnTo>
                      <a:pt x="1643" y="17"/>
                    </a:lnTo>
                    <a:lnTo>
                      <a:pt x="1652" y="17"/>
                    </a:lnTo>
                    <a:lnTo>
                      <a:pt x="1661" y="17"/>
                    </a:lnTo>
                    <a:lnTo>
                      <a:pt x="1670" y="1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>
                <a:off x="4503600" y="2529360"/>
                <a:ext cx="2273760" cy="103320"/>
              </a:xfrm>
              <a:custGeom>
                <a:avLst/>
                <a:gdLst/>
                <a:ahLst/>
                <a:rect l="l" t="t" r="r" b="b"/>
                <a:pathLst>
                  <a:path w="1670" h="76">
                    <a:moveTo>
                      <a:pt x="0" y="25"/>
                    </a:moveTo>
                    <a:lnTo>
                      <a:pt x="70" y="25"/>
                    </a:lnTo>
                    <a:lnTo>
                      <a:pt x="87" y="25"/>
                    </a:lnTo>
                    <a:lnTo>
                      <a:pt x="113" y="25"/>
                    </a:lnTo>
                    <a:lnTo>
                      <a:pt x="139" y="25"/>
                    </a:lnTo>
                    <a:lnTo>
                      <a:pt x="157" y="25"/>
                    </a:lnTo>
                    <a:lnTo>
                      <a:pt x="166" y="25"/>
                    </a:lnTo>
                    <a:lnTo>
                      <a:pt x="183" y="25"/>
                    </a:lnTo>
                    <a:lnTo>
                      <a:pt x="218" y="25"/>
                    </a:lnTo>
                    <a:lnTo>
                      <a:pt x="235" y="17"/>
                    </a:lnTo>
                    <a:lnTo>
                      <a:pt x="253" y="17"/>
                    </a:lnTo>
                    <a:lnTo>
                      <a:pt x="296" y="8"/>
                    </a:lnTo>
                    <a:lnTo>
                      <a:pt x="322" y="0"/>
                    </a:lnTo>
                    <a:lnTo>
                      <a:pt x="348" y="0"/>
                    </a:lnTo>
                    <a:lnTo>
                      <a:pt x="400" y="0"/>
                    </a:lnTo>
                    <a:lnTo>
                      <a:pt x="426" y="0"/>
                    </a:lnTo>
                    <a:lnTo>
                      <a:pt x="452" y="8"/>
                    </a:lnTo>
                    <a:lnTo>
                      <a:pt x="505" y="17"/>
                    </a:lnTo>
                    <a:lnTo>
                      <a:pt x="531" y="17"/>
                    </a:lnTo>
                    <a:lnTo>
                      <a:pt x="539" y="17"/>
                    </a:lnTo>
                    <a:lnTo>
                      <a:pt x="574" y="25"/>
                    </a:lnTo>
                    <a:lnTo>
                      <a:pt x="592" y="25"/>
                    </a:lnTo>
                    <a:lnTo>
                      <a:pt x="618" y="17"/>
                    </a:lnTo>
                    <a:lnTo>
                      <a:pt x="618" y="17"/>
                    </a:lnTo>
                    <a:lnTo>
                      <a:pt x="635" y="17"/>
                    </a:lnTo>
                    <a:lnTo>
                      <a:pt x="670" y="17"/>
                    </a:lnTo>
                    <a:lnTo>
                      <a:pt x="687" y="17"/>
                    </a:lnTo>
                    <a:lnTo>
                      <a:pt x="705" y="25"/>
                    </a:lnTo>
                    <a:lnTo>
                      <a:pt x="739" y="25"/>
                    </a:lnTo>
                    <a:lnTo>
                      <a:pt x="757" y="17"/>
                    </a:lnTo>
                    <a:lnTo>
                      <a:pt x="774" y="17"/>
                    </a:lnTo>
                    <a:lnTo>
                      <a:pt x="800" y="17"/>
                    </a:lnTo>
                    <a:lnTo>
                      <a:pt x="818" y="17"/>
                    </a:lnTo>
                    <a:lnTo>
                      <a:pt x="835" y="25"/>
                    </a:lnTo>
                    <a:lnTo>
                      <a:pt x="861" y="25"/>
                    </a:lnTo>
                    <a:lnTo>
                      <a:pt x="878" y="25"/>
                    </a:lnTo>
                    <a:lnTo>
                      <a:pt x="905" y="34"/>
                    </a:lnTo>
                    <a:lnTo>
                      <a:pt x="939" y="42"/>
                    </a:lnTo>
                    <a:lnTo>
                      <a:pt x="957" y="42"/>
                    </a:lnTo>
                    <a:lnTo>
                      <a:pt x="974" y="42"/>
                    </a:lnTo>
                    <a:lnTo>
                      <a:pt x="1009" y="51"/>
                    </a:lnTo>
                    <a:lnTo>
                      <a:pt x="1018" y="51"/>
                    </a:lnTo>
                    <a:lnTo>
                      <a:pt x="1035" y="51"/>
                    </a:lnTo>
                    <a:lnTo>
                      <a:pt x="1070" y="51"/>
                    </a:lnTo>
                    <a:lnTo>
                      <a:pt x="1087" y="51"/>
                    </a:lnTo>
                    <a:lnTo>
                      <a:pt x="1104" y="59"/>
                    </a:lnTo>
                    <a:lnTo>
                      <a:pt x="1148" y="68"/>
                    </a:lnTo>
                    <a:lnTo>
                      <a:pt x="1174" y="68"/>
                    </a:lnTo>
                    <a:lnTo>
                      <a:pt x="1191" y="76"/>
                    </a:lnTo>
                    <a:lnTo>
                      <a:pt x="1209" y="76"/>
                    </a:lnTo>
                    <a:lnTo>
                      <a:pt x="1226" y="76"/>
                    </a:lnTo>
                    <a:lnTo>
                      <a:pt x="1252" y="76"/>
                    </a:lnTo>
                    <a:lnTo>
                      <a:pt x="1252" y="76"/>
                    </a:lnTo>
                    <a:lnTo>
                      <a:pt x="1270" y="76"/>
                    </a:lnTo>
                    <a:lnTo>
                      <a:pt x="1304" y="76"/>
                    </a:lnTo>
                    <a:lnTo>
                      <a:pt x="1322" y="76"/>
                    </a:lnTo>
                    <a:lnTo>
                      <a:pt x="1348" y="76"/>
                    </a:lnTo>
                    <a:lnTo>
                      <a:pt x="1383" y="76"/>
                    </a:lnTo>
                    <a:lnTo>
                      <a:pt x="1400" y="68"/>
                    </a:lnTo>
                    <a:lnTo>
                      <a:pt x="1417" y="68"/>
                    </a:lnTo>
                    <a:lnTo>
                      <a:pt x="1461" y="59"/>
                    </a:lnTo>
                    <a:lnTo>
                      <a:pt x="1478" y="51"/>
                    </a:lnTo>
                    <a:lnTo>
                      <a:pt x="1496" y="51"/>
                    </a:lnTo>
                    <a:lnTo>
                      <a:pt x="1539" y="42"/>
                    </a:lnTo>
                    <a:lnTo>
                      <a:pt x="1557" y="42"/>
                    </a:lnTo>
                    <a:lnTo>
                      <a:pt x="1565" y="42"/>
                    </a:lnTo>
                    <a:lnTo>
                      <a:pt x="1600" y="34"/>
                    </a:lnTo>
                    <a:lnTo>
                      <a:pt x="1609" y="34"/>
                    </a:lnTo>
                    <a:lnTo>
                      <a:pt x="1635" y="25"/>
                    </a:lnTo>
                    <a:lnTo>
                      <a:pt x="1635" y="25"/>
                    </a:lnTo>
                    <a:lnTo>
                      <a:pt x="1643" y="25"/>
                    </a:lnTo>
                    <a:lnTo>
                      <a:pt x="1670" y="17"/>
                    </a:lnTo>
                    <a:lnTo>
                      <a:pt x="1670" y="1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>
                <a:off x="4503600" y="2529360"/>
                <a:ext cx="2273760" cy="103320"/>
              </a:xfrm>
              <a:custGeom>
                <a:avLst/>
                <a:gdLst/>
                <a:ahLst/>
                <a:rect l="l" t="t" r="r" b="b"/>
                <a:pathLst>
                  <a:path w="1670" h="76">
                    <a:moveTo>
                      <a:pt x="0" y="25"/>
                    </a:moveTo>
                    <a:lnTo>
                      <a:pt x="70" y="25"/>
                    </a:lnTo>
                    <a:lnTo>
                      <a:pt x="87" y="25"/>
                    </a:lnTo>
                    <a:lnTo>
                      <a:pt x="113" y="25"/>
                    </a:lnTo>
                    <a:lnTo>
                      <a:pt x="139" y="25"/>
                    </a:lnTo>
                    <a:lnTo>
                      <a:pt x="157" y="25"/>
                    </a:lnTo>
                    <a:lnTo>
                      <a:pt x="166" y="25"/>
                    </a:lnTo>
                    <a:lnTo>
                      <a:pt x="183" y="25"/>
                    </a:lnTo>
                    <a:lnTo>
                      <a:pt x="218" y="25"/>
                    </a:lnTo>
                    <a:lnTo>
                      <a:pt x="235" y="17"/>
                    </a:lnTo>
                    <a:lnTo>
                      <a:pt x="253" y="17"/>
                    </a:lnTo>
                    <a:lnTo>
                      <a:pt x="296" y="8"/>
                    </a:lnTo>
                    <a:lnTo>
                      <a:pt x="322" y="0"/>
                    </a:lnTo>
                    <a:lnTo>
                      <a:pt x="348" y="0"/>
                    </a:lnTo>
                    <a:lnTo>
                      <a:pt x="400" y="0"/>
                    </a:lnTo>
                    <a:lnTo>
                      <a:pt x="426" y="0"/>
                    </a:lnTo>
                    <a:lnTo>
                      <a:pt x="452" y="8"/>
                    </a:lnTo>
                    <a:lnTo>
                      <a:pt x="505" y="17"/>
                    </a:lnTo>
                    <a:lnTo>
                      <a:pt x="531" y="17"/>
                    </a:lnTo>
                    <a:lnTo>
                      <a:pt x="539" y="17"/>
                    </a:lnTo>
                    <a:lnTo>
                      <a:pt x="574" y="25"/>
                    </a:lnTo>
                    <a:lnTo>
                      <a:pt x="592" y="25"/>
                    </a:lnTo>
                    <a:lnTo>
                      <a:pt x="618" y="17"/>
                    </a:lnTo>
                    <a:lnTo>
                      <a:pt x="635" y="17"/>
                    </a:lnTo>
                    <a:lnTo>
                      <a:pt x="670" y="17"/>
                    </a:lnTo>
                    <a:lnTo>
                      <a:pt x="687" y="17"/>
                    </a:lnTo>
                    <a:lnTo>
                      <a:pt x="705" y="25"/>
                    </a:lnTo>
                    <a:lnTo>
                      <a:pt x="739" y="25"/>
                    </a:lnTo>
                    <a:lnTo>
                      <a:pt x="757" y="17"/>
                    </a:lnTo>
                    <a:lnTo>
                      <a:pt x="774" y="17"/>
                    </a:lnTo>
                    <a:lnTo>
                      <a:pt x="800" y="17"/>
                    </a:lnTo>
                    <a:lnTo>
                      <a:pt x="818" y="17"/>
                    </a:lnTo>
                    <a:lnTo>
                      <a:pt x="835" y="25"/>
                    </a:lnTo>
                    <a:lnTo>
                      <a:pt x="861" y="25"/>
                    </a:lnTo>
                    <a:lnTo>
                      <a:pt x="878" y="25"/>
                    </a:lnTo>
                    <a:lnTo>
                      <a:pt x="905" y="34"/>
                    </a:lnTo>
                    <a:lnTo>
                      <a:pt x="939" y="42"/>
                    </a:lnTo>
                    <a:lnTo>
                      <a:pt x="957" y="42"/>
                    </a:lnTo>
                    <a:lnTo>
                      <a:pt x="974" y="42"/>
                    </a:lnTo>
                    <a:lnTo>
                      <a:pt x="1009" y="51"/>
                    </a:lnTo>
                    <a:lnTo>
                      <a:pt x="1018" y="51"/>
                    </a:lnTo>
                    <a:lnTo>
                      <a:pt x="1035" y="51"/>
                    </a:lnTo>
                    <a:lnTo>
                      <a:pt x="1070" y="51"/>
                    </a:lnTo>
                    <a:lnTo>
                      <a:pt x="1087" y="51"/>
                    </a:lnTo>
                    <a:lnTo>
                      <a:pt x="1104" y="59"/>
                    </a:lnTo>
                    <a:lnTo>
                      <a:pt x="1148" y="68"/>
                    </a:lnTo>
                    <a:lnTo>
                      <a:pt x="1174" y="68"/>
                    </a:lnTo>
                    <a:lnTo>
                      <a:pt x="1191" y="76"/>
                    </a:lnTo>
                    <a:lnTo>
                      <a:pt x="1209" y="76"/>
                    </a:lnTo>
                    <a:lnTo>
                      <a:pt x="1226" y="76"/>
                    </a:lnTo>
                    <a:lnTo>
                      <a:pt x="1252" y="76"/>
                    </a:lnTo>
                    <a:lnTo>
                      <a:pt x="1270" y="76"/>
                    </a:lnTo>
                    <a:lnTo>
                      <a:pt x="1304" y="76"/>
                    </a:lnTo>
                    <a:lnTo>
                      <a:pt x="1322" y="76"/>
                    </a:lnTo>
                    <a:lnTo>
                      <a:pt x="1348" y="76"/>
                    </a:lnTo>
                    <a:lnTo>
                      <a:pt x="1383" y="76"/>
                    </a:lnTo>
                    <a:lnTo>
                      <a:pt x="1400" y="68"/>
                    </a:lnTo>
                    <a:lnTo>
                      <a:pt x="1417" y="68"/>
                    </a:lnTo>
                    <a:lnTo>
                      <a:pt x="1461" y="59"/>
                    </a:lnTo>
                    <a:lnTo>
                      <a:pt x="1478" y="51"/>
                    </a:lnTo>
                    <a:lnTo>
                      <a:pt x="1496" y="51"/>
                    </a:lnTo>
                    <a:lnTo>
                      <a:pt x="1539" y="42"/>
                    </a:lnTo>
                    <a:lnTo>
                      <a:pt x="1557" y="42"/>
                    </a:lnTo>
                    <a:lnTo>
                      <a:pt x="1565" y="42"/>
                    </a:lnTo>
                    <a:lnTo>
                      <a:pt x="1600" y="34"/>
                    </a:lnTo>
                    <a:lnTo>
                      <a:pt x="1609" y="34"/>
                    </a:lnTo>
                    <a:lnTo>
                      <a:pt x="1635" y="25"/>
                    </a:lnTo>
                    <a:lnTo>
                      <a:pt x="1643" y="25"/>
                    </a:lnTo>
                    <a:lnTo>
                      <a:pt x="1670" y="17"/>
                    </a:lnTo>
                  </a:path>
                </a:pathLst>
              </a:custGeom>
              <a:solidFill>
                <a:srgbClr val="3333cc"/>
              </a:solidFill>
              <a:ln w="144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>
                <a:off x="5652720" y="2483280"/>
                <a:ext cx="1124640" cy="80280"/>
              </a:xfrm>
              <a:custGeom>
                <a:avLst/>
                <a:gdLst/>
                <a:ahLst/>
                <a:rect l="l" t="t" r="r" b="b"/>
                <a:pathLst>
                  <a:path w="826" h="59">
                    <a:moveTo>
                      <a:pt x="0" y="51"/>
                    </a:moveTo>
                    <a:lnTo>
                      <a:pt x="17" y="51"/>
                    </a:lnTo>
                    <a:lnTo>
                      <a:pt x="34" y="51"/>
                    </a:lnTo>
                    <a:lnTo>
                      <a:pt x="69" y="51"/>
                    </a:lnTo>
                    <a:lnTo>
                      <a:pt x="104" y="51"/>
                    </a:lnTo>
                    <a:lnTo>
                      <a:pt x="139" y="51"/>
                    </a:lnTo>
                    <a:lnTo>
                      <a:pt x="174" y="51"/>
                    </a:lnTo>
                    <a:lnTo>
                      <a:pt x="200" y="51"/>
                    </a:lnTo>
                    <a:lnTo>
                      <a:pt x="226" y="51"/>
                    </a:lnTo>
                    <a:lnTo>
                      <a:pt x="234" y="59"/>
                    </a:lnTo>
                    <a:lnTo>
                      <a:pt x="252" y="51"/>
                    </a:lnTo>
                    <a:lnTo>
                      <a:pt x="260" y="51"/>
                    </a:lnTo>
                    <a:lnTo>
                      <a:pt x="278" y="51"/>
                    </a:lnTo>
                    <a:lnTo>
                      <a:pt x="295" y="51"/>
                    </a:lnTo>
                    <a:lnTo>
                      <a:pt x="304" y="51"/>
                    </a:lnTo>
                    <a:lnTo>
                      <a:pt x="304" y="51"/>
                    </a:lnTo>
                    <a:lnTo>
                      <a:pt x="321" y="51"/>
                    </a:lnTo>
                    <a:lnTo>
                      <a:pt x="330" y="42"/>
                    </a:lnTo>
                    <a:lnTo>
                      <a:pt x="347" y="42"/>
                    </a:lnTo>
                    <a:lnTo>
                      <a:pt x="356" y="42"/>
                    </a:lnTo>
                    <a:lnTo>
                      <a:pt x="365" y="42"/>
                    </a:lnTo>
                    <a:lnTo>
                      <a:pt x="382" y="34"/>
                    </a:lnTo>
                    <a:lnTo>
                      <a:pt x="391" y="34"/>
                    </a:lnTo>
                    <a:lnTo>
                      <a:pt x="400" y="26"/>
                    </a:lnTo>
                    <a:lnTo>
                      <a:pt x="417" y="26"/>
                    </a:lnTo>
                    <a:lnTo>
                      <a:pt x="434" y="17"/>
                    </a:lnTo>
                    <a:lnTo>
                      <a:pt x="443" y="9"/>
                    </a:lnTo>
                    <a:lnTo>
                      <a:pt x="460" y="9"/>
                    </a:lnTo>
                    <a:lnTo>
                      <a:pt x="469" y="9"/>
                    </a:lnTo>
                    <a:lnTo>
                      <a:pt x="478" y="17"/>
                    </a:lnTo>
                    <a:lnTo>
                      <a:pt x="487" y="17"/>
                    </a:lnTo>
                    <a:lnTo>
                      <a:pt x="504" y="17"/>
                    </a:lnTo>
                    <a:lnTo>
                      <a:pt x="513" y="17"/>
                    </a:lnTo>
                    <a:lnTo>
                      <a:pt x="530" y="17"/>
                    </a:lnTo>
                    <a:lnTo>
                      <a:pt x="539" y="26"/>
                    </a:lnTo>
                    <a:lnTo>
                      <a:pt x="547" y="26"/>
                    </a:lnTo>
                    <a:lnTo>
                      <a:pt x="565" y="26"/>
                    </a:lnTo>
                    <a:lnTo>
                      <a:pt x="582" y="26"/>
                    </a:lnTo>
                    <a:lnTo>
                      <a:pt x="600" y="26"/>
                    </a:lnTo>
                    <a:lnTo>
                      <a:pt x="617" y="26"/>
                    </a:lnTo>
                    <a:lnTo>
                      <a:pt x="626" y="17"/>
                    </a:lnTo>
                    <a:lnTo>
                      <a:pt x="643" y="17"/>
                    </a:lnTo>
                    <a:lnTo>
                      <a:pt x="660" y="17"/>
                    </a:lnTo>
                    <a:lnTo>
                      <a:pt x="678" y="17"/>
                    </a:lnTo>
                    <a:lnTo>
                      <a:pt x="695" y="9"/>
                    </a:lnTo>
                    <a:lnTo>
                      <a:pt x="713" y="9"/>
                    </a:lnTo>
                    <a:lnTo>
                      <a:pt x="730" y="0"/>
                    </a:lnTo>
                    <a:lnTo>
                      <a:pt x="747" y="0"/>
                    </a:lnTo>
                    <a:lnTo>
                      <a:pt x="756" y="9"/>
                    </a:lnTo>
                    <a:lnTo>
                      <a:pt x="765" y="9"/>
                    </a:lnTo>
                    <a:lnTo>
                      <a:pt x="773" y="17"/>
                    </a:lnTo>
                    <a:lnTo>
                      <a:pt x="791" y="17"/>
                    </a:lnTo>
                    <a:lnTo>
                      <a:pt x="799" y="17"/>
                    </a:lnTo>
                    <a:lnTo>
                      <a:pt x="808" y="17"/>
                    </a:lnTo>
                    <a:lnTo>
                      <a:pt x="826" y="17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>
                <a:off x="5652720" y="2495160"/>
                <a:ext cx="1124640" cy="68040"/>
              </a:xfrm>
              <a:custGeom>
                <a:avLst/>
                <a:gdLst/>
                <a:ahLst/>
                <a:rect l="l" t="t" r="r" b="b"/>
                <a:pathLst>
                  <a:path w="826" h="50">
                    <a:moveTo>
                      <a:pt x="0" y="42"/>
                    </a:moveTo>
                    <a:lnTo>
                      <a:pt x="104" y="42"/>
                    </a:lnTo>
                    <a:lnTo>
                      <a:pt x="130" y="42"/>
                    </a:lnTo>
                    <a:lnTo>
                      <a:pt x="174" y="50"/>
                    </a:lnTo>
                    <a:lnTo>
                      <a:pt x="208" y="50"/>
                    </a:lnTo>
                    <a:lnTo>
                      <a:pt x="234" y="50"/>
                    </a:lnTo>
                    <a:lnTo>
                      <a:pt x="243" y="50"/>
                    </a:lnTo>
                    <a:lnTo>
                      <a:pt x="260" y="50"/>
                    </a:lnTo>
                    <a:lnTo>
                      <a:pt x="287" y="50"/>
                    </a:lnTo>
                    <a:lnTo>
                      <a:pt x="304" y="42"/>
                    </a:lnTo>
                    <a:lnTo>
                      <a:pt x="321" y="42"/>
                    </a:lnTo>
                    <a:lnTo>
                      <a:pt x="339" y="42"/>
                    </a:lnTo>
                    <a:lnTo>
                      <a:pt x="356" y="33"/>
                    </a:lnTo>
                    <a:lnTo>
                      <a:pt x="374" y="33"/>
                    </a:lnTo>
                    <a:lnTo>
                      <a:pt x="400" y="25"/>
                    </a:lnTo>
                    <a:lnTo>
                      <a:pt x="417" y="17"/>
                    </a:lnTo>
                    <a:lnTo>
                      <a:pt x="426" y="17"/>
                    </a:lnTo>
                    <a:lnTo>
                      <a:pt x="443" y="8"/>
                    </a:lnTo>
                    <a:lnTo>
                      <a:pt x="460" y="8"/>
                    </a:lnTo>
                    <a:lnTo>
                      <a:pt x="487" y="8"/>
                    </a:lnTo>
                    <a:lnTo>
                      <a:pt x="487" y="8"/>
                    </a:lnTo>
                    <a:lnTo>
                      <a:pt x="504" y="17"/>
                    </a:lnTo>
                    <a:lnTo>
                      <a:pt x="530" y="17"/>
                    </a:lnTo>
                    <a:lnTo>
                      <a:pt x="539" y="17"/>
                    </a:lnTo>
                    <a:lnTo>
                      <a:pt x="556" y="17"/>
                    </a:lnTo>
                    <a:lnTo>
                      <a:pt x="600" y="17"/>
                    </a:lnTo>
                    <a:lnTo>
                      <a:pt x="617" y="17"/>
                    </a:lnTo>
                    <a:lnTo>
                      <a:pt x="634" y="17"/>
                    </a:lnTo>
                    <a:lnTo>
                      <a:pt x="669" y="17"/>
                    </a:lnTo>
                    <a:lnTo>
                      <a:pt x="695" y="8"/>
                    </a:lnTo>
                    <a:lnTo>
                      <a:pt x="704" y="8"/>
                    </a:lnTo>
                    <a:lnTo>
                      <a:pt x="730" y="0"/>
                    </a:lnTo>
                    <a:lnTo>
                      <a:pt x="747" y="0"/>
                    </a:lnTo>
                    <a:lnTo>
                      <a:pt x="773" y="8"/>
                    </a:lnTo>
                    <a:lnTo>
                      <a:pt x="773" y="8"/>
                    </a:lnTo>
                    <a:lnTo>
                      <a:pt x="791" y="17"/>
                    </a:lnTo>
                    <a:lnTo>
                      <a:pt x="808" y="17"/>
                    </a:lnTo>
                    <a:lnTo>
                      <a:pt x="826" y="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>
                <a:off x="5652720" y="2495160"/>
                <a:ext cx="1124640" cy="68040"/>
              </a:xfrm>
              <a:custGeom>
                <a:avLst/>
                <a:gdLst/>
                <a:ahLst/>
                <a:rect l="l" t="t" r="r" b="b"/>
                <a:pathLst>
                  <a:path w="826" h="50">
                    <a:moveTo>
                      <a:pt x="0" y="42"/>
                    </a:moveTo>
                    <a:lnTo>
                      <a:pt x="104" y="42"/>
                    </a:lnTo>
                    <a:lnTo>
                      <a:pt x="130" y="42"/>
                    </a:lnTo>
                    <a:lnTo>
                      <a:pt x="174" y="50"/>
                    </a:lnTo>
                    <a:lnTo>
                      <a:pt x="208" y="50"/>
                    </a:lnTo>
                    <a:lnTo>
                      <a:pt x="234" y="50"/>
                    </a:lnTo>
                    <a:lnTo>
                      <a:pt x="243" y="50"/>
                    </a:lnTo>
                    <a:lnTo>
                      <a:pt x="260" y="50"/>
                    </a:lnTo>
                    <a:lnTo>
                      <a:pt x="287" y="50"/>
                    </a:lnTo>
                    <a:lnTo>
                      <a:pt x="304" y="42"/>
                    </a:lnTo>
                    <a:lnTo>
                      <a:pt x="321" y="42"/>
                    </a:lnTo>
                    <a:lnTo>
                      <a:pt x="339" y="42"/>
                    </a:lnTo>
                    <a:lnTo>
                      <a:pt x="356" y="33"/>
                    </a:lnTo>
                    <a:lnTo>
                      <a:pt x="374" y="33"/>
                    </a:lnTo>
                    <a:lnTo>
                      <a:pt x="400" y="25"/>
                    </a:lnTo>
                    <a:lnTo>
                      <a:pt x="417" y="17"/>
                    </a:lnTo>
                    <a:lnTo>
                      <a:pt x="426" y="17"/>
                    </a:lnTo>
                    <a:lnTo>
                      <a:pt x="443" y="8"/>
                    </a:lnTo>
                    <a:lnTo>
                      <a:pt x="460" y="8"/>
                    </a:lnTo>
                    <a:lnTo>
                      <a:pt x="487" y="8"/>
                    </a:lnTo>
                    <a:lnTo>
                      <a:pt x="504" y="17"/>
                    </a:lnTo>
                    <a:lnTo>
                      <a:pt x="530" y="17"/>
                    </a:lnTo>
                    <a:lnTo>
                      <a:pt x="539" y="17"/>
                    </a:lnTo>
                    <a:lnTo>
                      <a:pt x="556" y="17"/>
                    </a:lnTo>
                    <a:lnTo>
                      <a:pt x="600" y="17"/>
                    </a:lnTo>
                    <a:lnTo>
                      <a:pt x="617" y="17"/>
                    </a:lnTo>
                    <a:lnTo>
                      <a:pt x="634" y="17"/>
                    </a:lnTo>
                    <a:lnTo>
                      <a:pt x="669" y="17"/>
                    </a:lnTo>
                    <a:lnTo>
                      <a:pt x="695" y="8"/>
                    </a:lnTo>
                    <a:lnTo>
                      <a:pt x="704" y="8"/>
                    </a:lnTo>
                    <a:lnTo>
                      <a:pt x="730" y="0"/>
                    </a:lnTo>
                    <a:lnTo>
                      <a:pt x="747" y="0"/>
                    </a:lnTo>
                    <a:lnTo>
                      <a:pt x="773" y="8"/>
                    </a:lnTo>
                    <a:lnTo>
                      <a:pt x="791" y="17"/>
                    </a:lnTo>
                    <a:lnTo>
                      <a:pt x="808" y="17"/>
                    </a:lnTo>
                    <a:lnTo>
                      <a:pt x="826" y="8"/>
                    </a:lnTo>
                  </a:path>
                </a:pathLst>
              </a:custGeom>
              <a:solidFill>
                <a:srgbClr val="3333cc"/>
              </a:solidFill>
              <a:ln w="144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>
                <a:off x="4894200" y="2403000"/>
                <a:ext cx="189000" cy="183600"/>
              </a:xfrm>
              <a:custGeom>
                <a:avLst/>
                <a:gdLst/>
                <a:ahLst/>
                <a:rect l="l" t="t" r="r" b="b"/>
                <a:pathLst>
                  <a:path w="139" h="135">
                    <a:moveTo>
                      <a:pt x="9" y="93"/>
                    </a:moveTo>
                    <a:lnTo>
                      <a:pt x="26" y="0"/>
                    </a:lnTo>
                    <a:lnTo>
                      <a:pt x="44" y="85"/>
                    </a:lnTo>
                    <a:lnTo>
                      <a:pt x="139" y="85"/>
                    </a:lnTo>
                    <a:lnTo>
                      <a:pt x="139" y="118"/>
                    </a:lnTo>
                    <a:lnTo>
                      <a:pt x="0" y="135"/>
                    </a:lnTo>
                    <a:lnTo>
                      <a:pt x="9" y="93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>
                <a:off x="4894200" y="2403000"/>
                <a:ext cx="189000" cy="183600"/>
              </a:xfrm>
              <a:custGeom>
                <a:avLst/>
                <a:gdLst/>
                <a:ahLst/>
                <a:rect l="l" t="t" r="r" b="b"/>
                <a:pathLst>
                  <a:path w="139" h="135">
                    <a:moveTo>
                      <a:pt x="9" y="93"/>
                    </a:moveTo>
                    <a:lnTo>
                      <a:pt x="26" y="0"/>
                    </a:lnTo>
                    <a:lnTo>
                      <a:pt x="44" y="85"/>
                    </a:lnTo>
                    <a:lnTo>
                      <a:pt x="139" y="85"/>
                    </a:lnTo>
                    <a:lnTo>
                      <a:pt x="139" y="118"/>
                    </a:lnTo>
                    <a:lnTo>
                      <a:pt x="0" y="135"/>
                    </a:lnTo>
                    <a:lnTo>
                      <a:pt x="9" y="93"/>
                    </a:lnTo>
                    <a:close/>
                  </a:path>
                </a:pathLst>
              </a:custGeom>
              <a:solidFill>
                <a:srgbClr val="3333cc"/>
              </a:solidFill>
              <a:ln w="144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>
                <a:off x="5095800" y="2333520"/>
                <a:ext cx="118080" cy="195840"/>
              </a:xfrm>
              <a:custGeom>
                <a:avLst/>
                <a:gdLst/>
                <a:ahLst/>
                <a:rect l="l" t="t" r="r" b="b"/>
                <a:pathLst>
                  <a:path w="87" h="144">
                    <a:moveTo>
                      <a:pt x="26" y="119"/>
                    </a:moveTo>
                    <a:lnTo>
                      <a:pt x="26" y="110"/>
                    </a:lnTo>
                    <a:lnTo>
                      <a:pt x="26" y="110"/>
                    </a:lnTo>
                    <a:lnTo>
                      <a:pt x="26" y="93"/>
                    </a:lnTo>
                    <a:lnTo>
                      <a:pt x="26" y="85"/>
                    </a:lnTo>
                    <a:lnTo>
                      <a:pt x="26" y="68"/>
                    </a:lnTo>
                    <a:lnTo>
                      <a:pt x="26" y="51"/>
                    </a:lnTo>
                    <a:lnTo>
                      <a:pt x="26" y="42"/>
                    </a:lnTo>
                    <a:lnTo>
                      <a:pt x="26" y="25"/>
                    </a:lnTo>
                    <a:lnTo>
                      <a:pt x="35" y="17"/>
                    </a:lnTo>
                    <a:lnTo>
                      <a:pt x="44" y="8"/>
                    </a:lnTo>
                    <a:lnTo>
                      <a:pt x="52" y="0"/>
                    </a:lnTo>
                    <a:lnTo>
                      <a:pt x="61" y="8"/>
                    </a:lnTo>
                    <a:lnTo>
                      <a:pt x="61" y="17"/>
                    </a:lnTo>
                    <a:lnTo>
                      <a:pt x="61" y="25"/>
                    </a:lnTo>
                    <a:lnTo>
                      <a:pt x="70" y="42"/>
                    </a:lnTo>
                    <a:lnTo>
                      <a:pt x="70" y="42"/>
                    </a:lnTo>
                    <a:lnTo>
                      <a:pt x="78" y="59"/>
                    </a:lnTo>
                    <a:lnTo>
                      <a:pt x="87" y="68"/>
                    </a:lnTo>
                    <a:lnTo>
                      <a:pt x="87" y="76"/>
                    </a:lnTo>
                    <a:lnTo>
                      <a:pt x="87" y="93"/>
                    </a:lnTo>
                    <a:lnTo>
                      <a:pt x="87" y="102"/>
                    </a:lnTo>
                    <a:lnTo>
                      <a:pt x="87" y="110"/>
                    </a:lnTo>
                    <a:lnTo>
                      <a:pt x="78" y="119"/>
                    </a:lnTo>
                    <a:lnTo>
                      <a:pt x="70" y="127"/>
                    </a:lnTo>
                    <a:lnTo>
                      <a:pt x="61" y="127"/>
                    </a:lnTo>
                    <a:lnTo>
                      <a:pt x="44" y="136"/>
                    </a:lnTo>
                    <a:lnTo>
                      <a:pt x="35" y="136"/>
                    </a:lnTo>
                    <a:lnTo>
                      <a:pt x="26" y="144"/>
                    </a:lnTo>
                    <a:lnTo>
                      <a:pt x="17" y="136"/>
                    </a:lnTo>
                    <a:lnTo>
                      <a:pt x="9" y="136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9" y="110"/>
                    </a:lnTo>
                    <a:lnTo>
                      <a:pt x="9" y="110"/>
                    </a:lnTo>
                    <a:lnTo>
                      <a:pt x="9" y="102"/>
                    </a:lnTo>
                    <a:lnTo>
                      <a:pt x="17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119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>
                <a:off x="5108040" y="2344320"/>
                <a:ext cx="106200" cy="18504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17" y="111"/>
                    </a:moveTo>
                    <a:lnTo>
                      <a:pt x="17" y="77"/>
                    </a:lnTo>
                    <a:lnTo>
                      <a:pt x="17" y="60"/>
                    </a:lnTo>
                    <a:lnTo>
                      <a:pt x="26" y="26"/>
                    </a:lnTo>
                    <a:lnTo>
                      <a:pt x="35" y="9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52" y="0"/>
                    </a:lnTo>
                    <a:lnTo>
                      <a:pt x="52" y="9"/>
                    </a:lnTo>
                    <a:lnTo>
                      <a:pt x="61" y="26"/>
                    </a:lnTo>
                    <a:lnTo>
                      <a:pt x="69" y="51"/>
                    </a:lnTo>
                    <a:lnTo>
                      <a:pt x="78" y="68"/>
                    </a:lnTo>
                    <a:lnTo>
                      <a:pt x="78" y="68"/>
                    </a:lnTo>
                    <a:lnTo>
                      <a:pt x="78" y="85"/>
                    </a:lnTo>
                    <a:lnTo>
                      <a:pt x="78" y="102"/>
                    </a:lnTo>
                    <a:lnTo>
                      <a:pt x="78" y="102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52" y="128"/>
                    </a:lnTo>
                    <a:lnTo>
                      <a:pt x="35" y="136"/>
                    </a:lnTo>
                    <a:lnTo>
                      <a:pt x="26" y="136"/>
                    </a:lnTo>
                    <a:lnTo>
                      <a:pt x="17" y="136"/>
                    </a:lnTo>
                    <a:lnTo>
                      <a:pt x="8" y="136"/>
                    </a:lnTo>
                    <a:lnTo>
                      <a:pt x="8" y="136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111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>
                <a:off x="5108040" y="2344320"/>
                <a:ext cx="106200" cy="185040"/>
              </a:xfrm>
              <a:custGeom>
                <a:avLst/>
                <a:gdLst/>
                <a:ahLst/>
                <a:rect l="l" t="t" r="r" b="b"/>
                <a:pathLst>
                  <a:path w="78" h="136">
                    <a:moveTo>
                      <a:pt x="17" y="111"/>
                    </a:moveTo>
                    <a:lnTo>
                      <a:pt x="17" y="77"/>
                    </a:lnTo>
                    <a:lnTo>
                      <a:pt x="17" y="60"/>
                    </a:lnTo>
                    <a:lnTo>
                      <a:pt x="26" y="26"/>
                    </a:lnTo>
                    <a:lnTo>
                      <a:pt x="35" y="9"/>
                    </a:lnTo>
                    <a:lnTo>
                      <a:pt x="43" y="0"/>
                    </a:lnTo>
                    <a:lnTo>
                      <a:pt x="52" y="0"/>
                    </a:lnTo>
                    <a:lnTo>
                      <a:pt x="52" y="9"/>
                    </a:lnTo>
                    <a:lnTo>
                      <a:pt x="61" y="26"/>
                    </a:lnTo>
                    <a:lnTo>
                      <a:pt x="69" y="51"/>
                    </a:lnTo>
                    <a:lnTo>
                      <a:pt x="78" y="68"/>
                    </a:lnTo>
                    <a:lnTo>
                      <a:pt x="78" y="85"/>
                    </a:lnTo>
                    <a:lnTo>
                      <a:pt x="78" y="102"/>
                    </a:lnTo>
                    <a:lnTo>
                      <a:pt x="69" y="111"/>
                    </a:lnTo>
                    <a:lnTo>
                      <a:pt x="52" y="128"/>
                    </a:lnTo>
                    <a:lnTo>
                      <a:pt x="35" y="136"/>
                    </a:lnTo>
                    <a:lnTo>
                      <a:pt x="26" y="136"/>
                    </a:lnTo>
                    <a:lnTo>
                      <a:pt x="17" y="136"/>
                    </a:lnTo>
                    <a:lnTo>
                      <a:pt x="8" y="136"/>
                    </a:lnTo>
                    <a:lnTo>
                      <a:pt x="0" y="128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8" y="94"/>
                    </a:lnTo>
                    <a:lnTo>
                      <a:pt x="17" y="85"/>
                    </a:lnTo>
                  </a:path>
                </a:pathLst>
              </a:custGeom>
              <a:solidFill>
                <a:srgbClr val="3333cc"/>
              </a:solidFill>
              <a:ln w="144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>
                <a:off x="5249880" y="2483280"/>
                <a:ext cx="47520" cy="69480"/>
              </a:xfrm>
              <a:custGeom>
                <a:avLst/>
                <a:gdLst/>
                <a:ahLst/>
                <a:rect l="l" t="t" r="r" b="b"/>
                <a:pathLst>
                  <a:path w="35" h="51">
                    <a:moveTo>
                      <a:pt x="26" y="42"/>
                    </a:moveTo>
                    <a:lnTo>
                      <a:pt x="9" y="42"/>
                    </a:lnTo>
                    <a:lnTo>
                      <a:pt x="0" y="42"/>
                    </a:lnTo>
                    <a:lnTo>
                      <a:pt x="0" y="51"/>
                    </a:lnTo>
                    <a:lnTo>
                      <a:pt x="0" y="42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26" y="9"/>
                    </a:lnTo>
                    <a:lnTo>
                      <a:pt x="26" y="17"/>
                    </a:lnTo>
                    <a:lnTo>
                      <a:pt x="35" y="26"/>
                    </a:lnTo>
                    <a:lnTo>
                      <a:pt x="26" y="34"/>
                    </a:lnTo>
                    <a:lnTo>
                      <a:pt x="26" y="42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>
                <a:off x="5249880" y="2483280"/>
                <a:ext cx="59760" cy="69480"/>
              </a:xfrm>
              <a:custGeom>
                <a:avLst/>
                <a:gdLst/>
                <a:ahLst/>
                <a:rect l="l" t="t" r="r" b="b"/>
                <a:pathLst>
                  <a:path w="44" h="51">
                    <a:moveTo>
                      <a:pt x="0" y="51"/>
                    </a:moveTo>
                    <a:lnTo>
                      <a:pt x="0" y="1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7" y="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35" y="17"/>
                    </a:lnTo>
                    <a:lnTo>
                      <a:pt x="44" y="26"/>
                    </a:lnTo>
                    <a:lnTo>
                      <a:pt x="44" y="34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3333cc"/>
              </a:solidFill>
              <a:ln w="144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>
                <a:off x="5320440" y="2518560"/>
                <a:ext cx="189000" cy="45000"/>
              </a:xfrm>
              <a:custGeom>
                <a:avLst/>
                <a:gdLst/>
                <a:ahLst/>
                <a:rect l="l" t="t" r="r" b="b"/>
                <a:pathLst>
                  <a:path w="139" h="33">
                    <a:moveTo>
                      <a:pt x="105" y="0"/>
                    </a:moveTo>
                    <a:lnTo>
                      <a:pt x="139" y="33"/>
                    </a:lnTo>
                    <a:lnTo>
                      <a:pt x="35" y="3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>
                <a:off x="5320440" y="2518560"/>
                <a:ext cx="189000" cy="45000"/>
              </a:xfrm>
              <a:custGeom>
                <a:avLst/>
                <a:gdLst/>
                <a:ahLst/>
                <a:rect l="l" t="t" r="r" b="b"/>
                <a:pathLst>
                  <a:path w="139" h="33">
                    <a:moveTo>
                      <a:pt x="105" y="0"/>
                    </a:moveTo>
                    <a:lnTo>
                      <a:pt x="139" y="33"/>
                    </a:lnTo>
                    <a:lnTo>
                      <a:pt x="35" y="3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3333cc"/>
              </a:solidFill>
              <a:ln w="144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>
                <a:off x="5297400" y="2518560"/>
                <a:ext cx="82800" cy="68040"/>
              </a:xfrm>
              <a:custGeom>
                <a:avLst/>
                <a:gdLst/>
                <a:ahLst/>
                <a:rect l="l" t="t" r="r" b="b"/>
                <a:pathLst>
                  <a:path w="61" h="50">
                    <a:moveTo>
                      <a:pt x="26" y="0"/>
                    </a:moveTo>
                    <a:lnTo>
                      <a:pt x="0" y="42"/>
                    </a:lnTo>
                    <a:lnTo>
                      <a:pt x="52" y="50"/>
                    </a:lnTo>
                    <a:lnTo>
                      <a:pt x="61" y="3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>
                <a:off x="5297400" y="2518560"/>
                <a:ext cx="82800" cy="68040"/>
              </a:xfrm>
              <a:custGeom>
                <a:avLst/>
                <a:gdLst/>
                <a:ahLst/>
                <a:rect l="l" t="t" r="r" b="b"/>
                <a:pathLst>
                  <a:path w="61" h="50">
                    <a:moveTo>
                      <a:pt x="26" y="0"/>
                    </a:moveTo>
                    <a:lnTo>
                      <a:pt x="0" y="42"/>
                    </a:lnTo>
                    <a:lnTo>
                      <a:pt x="52" y="50"/>
                    </a:lnTo>
                    <a:lnTo>
                      <a:pt x="61" y="3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3333cc"/>
              </a:solidFill>
              <a:ln w="1440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52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108360" y="1778760"/>
                <a:ext cx="35280" cy="3384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197560" y="2101680"/>
                <a:ext cx="7056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611560" y="1859040"/>
                <a:ext cx="7056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137440" y="1778760"/>
                <a:ext cx="7200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871480" y="1686240"/>
                <a:ext cx="7200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320600" y="2021400"/>
                <a:ext cx="8280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711560" y="1247400"/>
                <a:ext cx="7200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36040" y="1905480"/>
                <a:ext cx="7056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pic>
            <p:nvPicPr>
              <p:cNvPr id="753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245080" y="1351080"/>
                <a:ext cx="81720" cy="694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sp>
            <p:nvSpPr>
              <p:cNvPr id="7538" name=""/>
              <p:cNvSpPr/>
              <p:nvPr/>
            </p:nvSpPr>
            <p:spPr>
              <a:xfrm>
                <a:off x="6818400" y="987480"/>
                <a:ext cx="2273400" cy="1744920"/>
              </a:xfrm>
              <a:prstGeom prst="rect">
                <a:avLst/>
              </a:prstGeom>
              <a:solidFill>
                <a:srgbClr val="3333cc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39" name=""/>
              <p:cNvGrpSpPr/>
              <p:nvPr/>
            </p:nvGrpSpPr>
            <p:grpSpPr>
              <a:xfrm>
                <a:off x="6823800" y="2297880"/>
                <a:ext cx="2273400" cy="334800"/>
                <a:chOff x="6823800" y="2297880"/>
                <a:chExt cx="2273400" cy="334800"/>
              </a:xfrm>
            </p:grpSpPr>
            <p:pic>
              <p:nvPicPr>
                <p:cNvPr id="754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670960" y="2390400"/>
                  <a:ext cx="70560" cy="8136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pic>
              <p:nvPicPr>
                <p:cNvPr id="754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966520" y="2297880"/>
                  <a:ext cx="82800" cy="8172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sp>
              <p:nvSpPr>
                <p:cNvPr id="7542" name=""/>
                <p:cNvSpPr/>
                <p:nvPr/>
              </p:nvSpPr>
              <p:spPr>
                <a:xfrm>
                  <a:off x="6823800" y="2529360"/>
                  <a:ext cx="2273400" cy="103320"/>
                </a:xfrm>
                <a:custGeom>
                  <a:avLst/>
                  <a:gdLst/>
                  <a:ahLst/>
                  <a:rect l="l" t="t" r="r" b="b"/>
                  <a:pathLst>
                    <a:path w="1670" h="76">
                      <a:moveTo>
                        <a:pt x="0" y="25"/>
                      </a:moveTo>
                      <a:lnTo>
                        <a:pt x="9" y="25"/>
                      </a:lnTo>
                      <a:lnTo>
                        <a:pt x="26" y="25"/>
                      </a:lnTo>
                      <a:lnTo>
                        <a:pt x="44" y="25"/>
                      </a:lnTo>
                      <a:lnTo>
                        <a:pt x="61" y="25"/>
                      </a:lnTo>
                      <a:lnTo>
                        <a:pt x="87" y="25"/>
                      </a:lnTo>
                      <a:lnTo>
                        <a:pt x="113" y="25"/>
                      </a:lnTo>
                      <a:lnTo>
                        <a:pt x="139" y="25"/>
                      </a:lnTo>
                      <a:lnTo>
                        <a:pt x="148" y="25"/>
                      </a:lnTo>
                      <a:lnTo>
                        <a:pt x="166" y="25"/>
                      </a:lnTo>
                      <a:lnTo>
                        <a:pt x="174" y="17"/>
                      </a:lnTo>
                      <a:lnTo>
                        <a:pt x="192" y="17"/>
                      </a:lnTo>
                      <a:lnTo>
                        <a:pt x="209" y="17"/>
                      </a:lnTo>
                      <a:lnTo>
                        <a:pt x="218" y="17"/>
                      </a:lnTo>
                      <a:lnTo>
                        <a:pt x="235" y="17"/>
                      </a:lnTo>
                      <a:lnTo>
                        <a:pt x="252" y="8"/>
                      </a:lnTo>
                      <a:lnTo>
                        <a:pt x="270" y="8"/>
                      </a:lnTo>
                      <a:lnTo>
                        <a:pt x="287" y="0"/>
                      </a:lnTo>
                      <a:lnTo>
                        <a:pt x="296" y="0"/>
                      </a:lnTo>
                      <a:lnTo>
                        <a:pt x="322" y="0"/>
                      </a:lnTo>
                      <a:lnTo>
                        <a:pt x="339" y="0"/>
                      </a:lnTo>
                      <a:lnTo>
                        <a:pt x="357" y="0"/>
                      </a:lnTo>
                      <a:lnTo>
                        <a:pt x="374" y="0"/>
                      </a:lnTo>
                      <a:lnTo>
                        <a:pt x="400" y="0"/>
                      </a:lnTo>
                      <a:lnTo>
                        <a:pt x="426" y="0"/>
                      </a:lnTo>
                      <a:lnTo>
                        <a:pt x="444" y="0"/>
                      </a:lnTo>
                      <a:lnTo>
                        <a:pt x="461" y="0"/>
                      </a:lnTo>
                      <a:lnTo>
                        <a:pt x="487" y="8"/>
                      </a:lnTo>
                      <a:lnTo>
                        <a:pt x="513" y="8"/>
                      </a:lnTo>
                      <a:lnTo>
                        <a:pt x="531" y="17"/>
                      </a:lnTo>
                      <a:lnTo>
                        <a:pt x="548" y="17"/>
                      </a:lnTo>
                      <a:lnTo>
                        <a:pt x="574" y="17"/>
                      </a:lnTo>
                      <a:lnTo>
                        <a:pt x="592" y="17"/>
                      </a:lnTo>
                      <a:lnTo>
                        <a:pt x="600" y="17"/>
                      </a:lnTo>
                      <a:lnTo>
                        <a:pt x="618" y="17"/>
                      </a:lnTo>
                      <a:lnTo>
                        <a:pt x="626" y="8"/>
                      </a:lnTo>
                      <a:lnTo>
                        <a:pt x="644" y="8"/>
                      </a:lnTo>
                      <a:lnTo>
                        <a:pt x="652" y="8"/>
                      </a:lnTo>
                      <a:lnTo>
                        <a:pt x="670" y="8"/>
                      </a:lnTo>
                      <a:lnTo>
                        <a:pt x="678" y="17"/>
                      </a:lnTo>
                      <a:lnTo>
                        <a:pt x="696" y="17"/>
                      </a:lnTo>
                      <a:lnTo>
                        <a:pt x="713" y="17"/>
                      </a:lnTo>
                      <a:lnTo>
                        <a:pt x="722" y="17"/>
                      </a:lnTo>
                      <a:lnTo>
                        <a:pt x="739" y="17"/>
                      </a:lnTo>
                      <a:lnTo>
                        <a:pt x="757" y="17"/>
                      </a:lnTo>
                      <a:lnTo>
                        <a:pt x="757" y="17"/>
                      </a:lnTo>
                      <a:lnTo>
                        <a:pt x="774" y="17"/>
                      </a:lnTo>
                      <a:lnTo>
                        <a:pt x="783" y="17"/>
                      </a:lnTo>
                      <a:lnTo>
                        <a:pt x="800" y="17"/>
                      </a:lnTo>
                      <a:lnTo>
                        <a:pt x="818" y="17"/>
                      </a:lnTo>
                      <a:lnTo>
                        <a:pt x="826" y="17"/>
                      </a:lnTo>
                      <a:lnTo>
                        <a:pt x="835" y="17"/>
                      </a:lnTo>
                      <a:lnTo>
                        <a:pt x="844" y="25"/>
                      </a:lnTo>
                      <a:lnTo>
                        <a:pt x="861" y="25"/>
                      </a:lnTo>
                      <a:lnTo>
                        <a:pt x="878" y="25"/>
                      </a:lnTo>
                      <a:lnTo>
                        <a:pt x="896" y="25"/>
                      </a:lnTo>
                      <a:lnTo>
                        <a:pt x="904" y="25"/>
                      </a:lnTo>
                      <a:lnTo>
                        <a:pt x="913" y="34"/>
                      </a:lnTo>
                      <a:lnTo>
                        <a:pt x="931" y="34"/>
                      </a:lnTo>
                      <a:lnTo>
                        <a:pt x="948" y="34"/>
                      </a:lnTo>
                      <a:lnTo>
                        <a:pt x="965" y="34"/>
                      </a:lnTo>
                      <a:lnTo>
                        <a:pt x="983" y="34"/>
                      </a:lnTo>
                      <a:lnTo>
                        <a:pt x="983" y="42"/>
                      </a:lnTo>
                      <a:lnTo>
                        <a:pt x="1000" y="42"/>
                      </a:lnTo>
                      <a:lnTo>
                        <a:pt x="1018" y="42"/>
                      </a:lnTo>
                      <a:lnTo>
                        <a:pt x="1026" y="42"/>
                      </a:lnTo>
                      <a:lnTo>
                        <a:pt x="1044" y="42"/>
                      </a:lnTo>
                      <a:lnTo>
                        <a:pt x="1052" y="51"/>
                      </a:lnTo>
                      <a:lnTo>
                        <a:pt x="1061" y="51"/>
                      </a:lnTo>
                      <a:lnTo>
                        <a:pt x="1078" y="51"/>
                      </a:lnTo>
                      <a:lnTo>
                        <a:pt x="1096" y="51"/>
                      </a:lnTo>
                      <a:lnTo>
                        <a:pt x="1113" y="59"/>
                      </a:lnTo>
                      <a:lnTo>
                        <a:pt x="1131" y="59"/>
                      </a:lnTo>
                      <a:lnTo>
                        <a:pt x="1139" y="59"/>
                      </a:lnTo>
                      <a:lnTo>
                        <a:pt x="1165" y="68"/>
                      </a:lnTo>
                      <a:lnTo>
                        <a:pt x="1191" y="76"/>
                      </a:lnTo>
                      <a:lnTo>
                        <a:pt x="1209" y="76"/>
                      </a:lnTo>
                      <a:lnTo>
                        <a:pt x="1217" y="76"/>
                      </a:lnTo>
                      <a:lnTo>
                        <a:pt x="1235" y="76"/>
                      </a:lnTo>
                      <a:lnTo>
                        <a:pt x="1252" y="76"/>
                      </a:lnTo>
                      <a:lnTo>
                        <a:pt x="1261" y="76"/>
                      </a:lnTo>
                      <a:lnTo>
                        <a:pt x="1278" y="76"/>
                      </a:lnTo>
                      <a:lnTo>
                        <a:pt x="1296" y="76"/>
                      </a:lnTo>
                      <a:lnTo>
                        <a:pt x="1304" y="76"/>
                      </a:lnTo>
                      <a:lnTo>
                        <a:pt x="1322" y="76"/>
                      </a:lnTo>
                      <a:lnTo>
                        <a:pt x="1339" y="68"/>
                      </a:lnTo>
                      <a:lnTo>
                        <a:pt x="1357" y="68"/>
                      </a:lnTo>
                      <a:lnTo>
                        <a:pt x="1365" y="68"/>
                      </a:lnTo>
                      <a:lnTo>
                        <a:pt x="1374" y="68"/>
                      </a:lnTo>
                      <a:lnTo>
                        <a:pt x="1400" y="68"/>
                      </a:lnTo>
                      <a:lnTo>
                        <a:pt x="1409" y="59"/>
                      </a:lnTo>
                      <a:lnTo>
                        <a:pt x="1426" y="59"/>
                      </a:lnTo>
                      <a:lnTo>
                        <a:pt x="1443" y="51"/>
                      </a:lnTo>
                      <a:lnTo>
                        <a:pt x="1452" y="51"/>
                      </a:lnTo>
                      <a:lnTo>
                        <a:pt x="1470" y="51"/>
                      </a:lnTo>
                      <a:lnTo>
                        <a:pt x="1487" y="42"/>
                      </a:lnTo>
                      <a:lnTo>
                        <a:pt x="1504" y="42"/>
                      </a:lnTo>
                      <a:lnTo>
                        <a:pt x="1522" y="34"/>
                      </a:lnTo>
                      <a:lnTo>
                        <a:pt x="1530" y="34"/>
                      </a:lnTo>
                      <a:lnTo>
                        <a:pt x="1557" y="34"/>
                      </a:lnTo>
                      <a:lnTo>
                        <a:pt x="1574" y="34"/>
                      </a:lnTo>
                      <a:lnTo>
                        <a:pt x="1591" y="25"/>
                      </a:lnTo>
                      <a:lnTo>
                        <a:pt x="1600" y="25"/>
                      </a:lnTo>
                      <a:lnTo>
                        <a:pt x="1609" y="25"/>
                      </a:lnTo>
                      <a:lnTo>
                        <a:pt x="1626" y="25"/>
                      </a:lnTo>
                      <a:lnTo>
                        <a:pt x="1635" y="17"/>
                      </a:lnTo>
                      <a:lnTo>
                        <a:pt x="1643" y="17"/>
                      </a:lnTo>
                      <a:lnTo>
                        <a:pt x="1652" y="17"/>
                      </a:lnTo>
                      <a:lnTo>
                        <a:pt x="1661" y="17"/>
                      </a:lnTo>
                      <a:lnTo>
                        <a:pt x="1670" y="17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3" name=""/>
                <p:cNvSpPr/>
                <p:nvPr/>
              </p:nvSpPr>
              <p:spPr>
                <a:xfrm>
                  <a:off x="6823800" y="2529360"/>
                  <a:ext cx="2273400" cy="103320"/>
                </a:xfrm>
                <a:custGeom>
                  <a:avLst/>
                  <a:gdLst/>
                  <a:ahLst/>
                  <a:rect l="l" t="t" r="r" b="b"/>
                  <a:pathLst>
                    <a:path w="1670" h="76">
                      <a:moveTo>
                        <a:pt x="0" y="25"/>
                      </a:moveTo>
                      <a:lnTo>
                        <a:pt x="70" y="25"/>
                      </a:lnTo>
                      <a:lnTo>
                        <a:pt x="87" y="25"/>
                      </a:lnTo>
                      <a:lnTo>
                        <a:pt x="113" y="25"/>
                      </a:lnTo>
                      <a:lnTo>
                        <a:pt x="139" y="25"/>
                      </a:lnTo>
                      <a:lnTo>
                        <a:pt x="157" y="25"/>
                      </a:lnTo>
                      <a:lnTo>
                        <a:pt x="166" y="25"/>
                      </a:lnTo>
                      <a:lnTo>
                        <a:pt x="183" y="25"/>
                      </a:lnTo>
                      <a:lnTo>
                        <a:pt x="218" y="25"/>
                      </a:lnTo>
                      <a:lnTo>
                        <a:pt x="235" y="17"/>
                      </a:lnTo>
                      <a:lnTo>
                        <a:pt x="252" y="17"/>
                      </a:lnTo>
                      <a:lnTo>
                        <a:pt x="296" y="8"/>
                      </a:lnTo>
                      <a:lnTo>
                        <a:pt x="322" y="0"/>
                      </a:lnTo>
                      <a:lnTo>
                        <a:pt x="348" y="0"/>
                      </a:lnTo>
                      <a:lnTo>
                        <a:pt x="400" y="0"/>
                      </a:lnTo>
                      <a:lnTo>
                        <a:pt x="426" y="0"/>
                      </a:lnTo>
                      <a:lnTo>
                        <a:pt x="452" y="8"/>
                      </a:lnTo>
                      <a:lnTo>
                        <a:pt x="505" y="17"/>
                      </a:lnTo>
                      <a:lnTo>
                        <a:pt x="531" y="17"/>
                      </a:lnTo>
                      <a:lnTo>
                        <a:pt x="539" y="17"/>
                      </a:lnTo>
                      <a:lnTo>
                        <a:pt x="574" y="25"/>
                      </a:lnTo>
                      <a:lnTo>
                        <a:pt x="592" y="25"/>
                      </a:lnTo>
                      <a:lnTo>
                        <a:pt x="618" y="17"/>
                      </a:lnTo>
                      <a:lnTo>
                        <a:pt x="618" y="17"/>
                      </a:lnTo>
                      <a:lnTo>
                        <a:pt x="635" y="17"/>
                      </a:lnTo>
                      <a:lnTo>
                        <a:pt x="670" y="17"/>
                      </a:lnTo>
                      <a:lnTo>
                        <a:pt x="687" y="17"/>
                      </a:lnTo>
                      <a:lnTo>
                        <a:pt x="705" y="25"/>
                      </a:lnTo>
                      <a:lnTo>
                        <a:pt x="739" y="25"/>
                      </a:lnTo>
                      <a:lnTo>
                        <a:pt x="757" y="17"/>
                      </a:lnTo>
                      <a:lnTo>
                        <a:pt x="774" y="17"/>
                      </a:lnTo>
                      <a:lnTo>
                        <a:pt x="800" y="17"/>
                      </a:lnTo>
                      <a:lnTo>
                        <a:pt x="818" y="17"/>
                      </a:lnTo>
                      <a:lnTo>
                        <a:pt x="835" y="25"/>
                      </a:lnTo>
                      <a:lnTo>
                        <a:pt x="861" y="25"/>
                      </a:lnTo>
                      <a:lnTo>
                        <a:pt x="878" y="25"/>
                      </a:lnTo>
                      <a:lnTo>
                        <a:pt x="896" y="34"/>
                      </a:lnTo>
                      <a:lnTo>
                        <a:pt x="931" y="42"/>
                      </a:lnTo>
                      <a:lnTo>
                        <a:pt x="948" y="42"/>
                      </a:lnTo>
                      <a:lnTo>
                        <a:pt x="965" y="42"/>
                      </a:lnTo>
                      <a:lnTo>
                        <a:pt x="1000" y="51"/>
                      </a:lnTo>
                      <a:lnTo>
                        <a:pt x="1018" y="51"/>
                      </a:lnTo>
                      <a:lnTo>
                        <a:pt x="1035" y="51"/>
                      </a:lnTo>
                      <a:lnTo>
                        <a:pt x="1070" y="51"/>
                      </a:lnTo>
                      <a:lnTo>
                        <a:pt x="1087" y="51"/>
                      </a:lnTo>
                      <a:lnTo>
                        <a:pt x="1104" y="59"/>
                      </a:lnTo>
                      <a:lnTo>
                        <a:pt x="1148" y="68"/>
                      </a:lnTo>
                      <a:lnTo>
                        <a:pt x="1174" y="68"/>
                      </a:lnTo>
                      <a:lnTo>
                        <a:pt x="1191" y="76"/>
                      </a:lnTo>
                      <a:lnTo>
                        <a:pt x="1200" y="76"/>
                      </a:lnTo>
                      <a:lnTo>
                        <a:pt x="1217" y="76"/>
                      </a:lnTo>
                      <a:lnTo>
                        <a:pt x="1244" y="76"/>
                      </a:lnTo>
                      <a:lnTo>
                        <a:pt x="1252" y="76"/>
                      </a:lnTo>
                      <a:lnTo>
                        <a:pt x="1270" y="76"/>
                      </a:lnTo>
                      <a:lnTo>
                        <a:pt x="1304" y="76"/>
                      </a:lnTo>
                      <a:lnTo>
                        <a:pt x="1322" y="76"/>
                      </a:lnTo>
                      <a:lnTo>
                        <a:pt x="1348" y="76"/>
                      </a:lnTo>
                      <a:lnTo>
                        <a:pt x="1383" y="76"/>
                      </a:lnTo>
                      <a:lnTo>
                        <a:pt x="1400" y="68"/>
                      </a:lnTo>
                      <a:lnTo>
                        <a:pt x="1417" y="68"/>
                      </a:lnTo>
                      <a:lnTo>
                        <a:pt x="1461" y="59"/>
                      </a:lnTo>
                      <a:lnTo>
                        <a:pt x="1478" y="51"/>
                      </a:lnTo>
                      <a:lnTo>
                        <a:pt x="1496" y="51"/>
                      </a:lnTo>
                      <a:lnTo>
                        <a:pt x="1539" y="42"/>
                      </a:lnTo>
                      <a:lnTo>
                        <a:pt x="1557" y="42"/>
                      </a:lnTo>
                      <a:lnTo>
                        <a:pt x="1574" y="42"/>
                      </a:lnTo>
                      <a:lnTo>
                        <a:pt x="1617" y="34"/>
                      </a:lnTo>
                      <a:lnTo>
                        <a:pt x="1635" y="25"/>
                      </a:lnTo>
                      <a:lnTo>
                        <a:pt x="1643" y="25"/>
                      </a:lnTo>
                      <a:lnTo>
                        <a:pt x="1670" y="17"/>
                      </a:lnTo>
                      <a:lnTo>
                        <a:pt x="1670" y="17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4" name=""/>
                <p:cNvSpPr/>
                <p:nvPr/>
              </p:nvSpPr>
              <p:spPr>
                <a:xfrm>
                  <a:off x="6823800" y="2529360"/>
                  <a:ext cx="2273400" cy="103320"/>
                </a:xfrm>
                <a:custGeom>
                  <a:avLst/>
                  <a:gdLst/>
                  <a:ahLst/>
                  <a:rect l="l" t="t" r="r" b="b"/>
                  <a:pathLst>
                    <a:path w="1670" h="76">
                      <a:moveTo>
                        <a:pt x="0" y="25"/>
                      </a:moveTo>
                      <a:lnTo>
                        <a:pt x="70" y="25"/>
                      </a:lnTo>
                      <a:lnTo>
                        <a:pt x="87" y="25"/>
                      </a:lnTo>
                      <a:lnTo>
                        <a:pt x="113" y="25"/>
                      </a:lnTo>
                      <a:lnTo>
                        <a:pt x="139" y="25"/>
                      </a:lnTo>
                      <a:lnTo>
                        <a:pt x="157" y="25"/>
                      </a:lnTo>
                      <a:lnTo>
                        <a:pt x="166" y="25"/>
                      </a:lnTo>
                      <a:lnTo>
                        <a:pt x="183" y="25"/>
                      </a:lnTo>
                      <a:lnTo>
                        <a:pt x="218" y="25"/>
                      </a:lnTo>
                      <a:lnTo>
                        <a:pt x="235" y="17"/>
                      </a:lnTo>
                      <a:lnTo>
                        <a:pt x="252" y="17"/>
                      </a:lnTo>
                      <a:lnTo>
                        <a:pt x="296" y="8"/>
                      </a:lnTo>
                      <a:lnTo>
                        <a:pt x="322" y="0"/>
                      </a:lnTo>
                      <a:lnTo>
                        <a:pt x="348" y="0"/>
                      </a:lnTo>
                      <a:lnTo>
                        <a:pt x="400" y="0"/>
                      </a:lnTo>
                      <a:lnTo>
                        <a:pt x="426" y="0"/>
                      </a:lnTo>
                      <a:lnTo>
                        <a:pt x="452" y="8"/>
                      </a:lnTo>
                      <a:lnTo>
                        <a:pt x="505" y="17"/>
                      </a:lnTo>
                      <a:lnTo>
                        <a:pt x="531" y="17"/>
                      </a:lnTo>
                      <a:lnTo>
                        <a:pt x="539" y="17"/>
                      </a:lnTo>
                      <a:lnTo>
                        <a:pt x="574" y="25"/>
                      </a:lnTo>
                      <a:lnTo>
                        <a:pt x="592" y="25"/>
                      </a:lnTo>
                      <a:lnTo>
                        <a:pt x="618" y="17"/>
                      </a:lnTo>
                      <a:lnTo>
                        <a:pt x="635" y="17"/>
                      </a:lnTo>
                      <a:lnTo>
                        <a:pt x="670" y="17"/>
                      </a:lnTo>
                      <a:lnTo>
                        <a:pt x="687" y="17"/>
                      </a:lnTo>
                      <a:lnTo>
                        <a:pt x="705" y="25"/>
                      </a:lnTo>
                      <a:lnTo>
                        <a:pt x="739" y="25"/>
                      </a:lnTo>
                      <a:lnTo>
                        <a:pt x="757" y="17"/>
                      </a:lnTo>
                      <a:lnTo>
                        <a:pt x="774" y="17"/>
                      </a:lnTo>
                      <a:lnTo>
                        <a:pt x="800" y="17"/>
                      </a:lnTo>
                      <a:lnTo>
                        <a:pt x="818" y="17"/>
                      </a:lnTo>
                      <a:lnTo>
                        <a:pt x="835" y="25"/>
                      </a:lnTo>
                      <a:lnTo>
                        <a:pt x="861" y="25"/>
                      </a:lnTo>
                      <a:lnTo>
                        <a:pt x="878" y="25"/>
                      </a:lnTo>
                      <a:lnTo>
                        <a:pt x="896" y="34"/>
                      </a:lnTo>
                      <a:lnTo>
                        <a:pt x="931" y="42"/>
                      </a:lnTo>
                      <a:lnTo>
                        <a:pt x="948" y="42"/>
                      </a:lnTo>
                      <a:lnTo>
                        <a:pt x="965" y="42"/>
                      </a:lnTo>
                      <a:lnTo>
                        <a:pt x="1000" y="51"/>
                      </a:lnTo>
                      <a:lnTo>
                        <a:pt x="1018" y="51"/>
                      </a:lnTo>
                      <a:lnTo>
                        <a:pt x="1035" y="51"/>
                      </a:lnTo>
                      <a:lnTo>
                        <a:pt x="1070" y="51"/>
                      </a:lnTo>
                      <a:lnTo>
                        <a:pt x="1087" y="51"/>
                      </a:lnTo>
                      <a:lnTo>
                        <a:pt x="1104" y="59"/>
                      </a:lnTo>
                      <a:lnTo>
                        <a:pt x="1148" y="68"/>
                      </a:lnTo>
                      <a:lnTo>
                        <a:pt x="1174" y="68"/>
                      </a:lnTo>
                      <a:lnTo>
                        <a:pt x="1191" y="76"/>
                      </a:lnTo>
                      <a:lnTo>
                        <a:pt x="1200" y="76"/>
                      </a:lnTo>
                      <a:lnTo>
                        <a:pt x="1217" y="76"/>
                      </a:lnTo>
                      <a:lnTo>
                        <a:pt x="1244" y="76"/>
                      </a:lnTo>
                      <a:lnTo>
                        <a:pt x="1252" y="76"/>
                      </a:lnTo>
                      <a:lnTo>
                        <a:pt x="1270" y="76"/>
                      </a:lnTo>
                      <a:lnTo>
                        <a:pt x="1304" y="76"/>
                      </a:lnTo>
                      <a:lnTo>
                        <a:pt x="1322" y="76"/>
                      </a:lnTo>
                      <a:lnTo>
                        <a:pt x="1348" y="76"/>
                      </a:lnTo>
                      <a:lnTo>
                        <a:pt x="1383" y="76"/>
                      </a:lnTo>
                      <a:lnTo>
                        <a:pt x="1400" y="68"/>
                      </a:lnTo>
                      <a:lnTo>
                        <a:pt x="1417" y="68"/>
                      </a:lnTo>
                      <a:lnTo>
                        <a:pt x="1461" y="59"/>
                      </a:lnTo>
                      <a:lnTo>
                        <a:pt x="1478" y="51"/>
                      </a:lnTo>
                      <a:lnTo>
                        <a:pt x="1496" y="51"/>
                      </a:lnTo>
                      <a:lnTo>
                        <a:pt x="1539" y="42"/>
                      </a:lnTo>
                      <a:lnTo>
                        <a:pt x="1557" y="42"/>
                      </a:lnTo>
                      <a:lnTo>
                        <a:pt x="1574" y="42"/>
                      </a:lnTo>
                      <a:lnTo>
                        <a:pt x="1617" y="34"/>
                      </a:lnTo>
                      <a:lnTo>
                        <a:pt x="1635" y="25"/>
                      </a:lnTo>
                      <a:lnTo>
                        <a:pt x="1643" y="25"/>
                      </a:lnTo>
                      <a:lnTo>
                        <a:pt x="1670" y="17"/>
                      </a:lnTo>
                    </a:path>
                  </a:pathLst>
                </a:custGeom>
                <a:noFill/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5" name=""/>
                <p:cNvSpPr/>
                <p:nvPr/>
              </p:nvSpPr>
              <p:spPr>
                <a:xfrm>
                  <a:off x="7972560" y="2482920"/>
                  <a:ext cx="1124640" cy="80280"/>
                </a:xfrm>
                <a:custGeom>
                  <a:avLst/>
                  <a:gdLst/>
                  <a:ahLst/>
                  <a:rect l="l" t="t" r="r" b="b"/>
                  <a:pathLst>
                    <a:path w="826" h="59">
                      <a:moveTo>
                        <a:pt x="0" y="51"/>
                      </a:moveTo>
                      <a:lnTo>
                        <a:pt x="17" y="51"/>
                      </a:lnTo>
                      <a:lnTo>
                        <a:pt x="34" y="51"/>
                      </a:lnTo>
                      <a:lnTo>
                        <a:pt x="60" y="51"/>
                      </a:lnTo>
                      <a:lnTo>
                        <a:pt x="104" y="51"/>
                      </a:lnTo>
                      <a:lnTo>
                        <a:pt x="139" y="51"/>
                      </a:lnTo>
                      <a:lnTo>
                        <a:pt x="174" y="51"/>
                      </a:lnTo>
                      <a:lnTo>
                        <a:pt x="200" y="51"/>
                      </a:lnTo>
                      <a:lnTo>
                        <a:pt x="217" y="51"/>
                      </a:lnTo>
                      <a:lnTo>
                        <a:pt x="234" y="59"/>
                      </a:lnTo>
                      <a:lnTo>
                        <a:pt x="252" y="51"/>
                      </a:lnTo>
                      <a:lnTo>
                        <a:pt x="260" y="51"/>
                      </a:lnTo>
                      <a:lnTo>
                        <a:pt x="278" y="51"/>
                      </a:lnTo>
                      <a:lnTo>
                        <a:pt x="295" y="51"/>
                      </a:lnTo>
                      <a:lnTo>
                        <a:pt x="295" y="51"/>
                      </a:lnTo>
                      <a:lnTo>
                        <a:pt x="304" y="51"/>
                      </a:lnTo>
                      <a:lnTo>
                        <a:pt x="321" y="51"/>
                      </a:lnTo>
                      <a:lnTo>
                        <a:pt x="330" y="42"/>
                      </a:lnTo>
                      <a:lnTo>
                        <a:pt x="347" y="42"/>
                      </a:lnTo>
                      <a:lnTo>
                        <a:pt x="356" y="42"/>
                      </a:lnTo>
                      <a:lnTo>
                        <a:pt x="365" y="42"/>
                      </a:lnTo>
                      <a:lnTo>
                        <a:pt x="373" y="34"/>
                      </a:lnTo>
                      <a:lnTo>
                        <a:pt x="391" y="34"/>
                      </a:lnTo>
                      <a:lnTo>
                        <a:pt x="400" y="26"/>
                      </a:lnTo>
                      <a:lnTo>
                        <a:pt x="417" y="26"/>
                      </a:lnTo>
                      <a:lnTo>
                        <a:pt x="434" y="17"/>
                      </a:lnTo>
                      <a:lnTo>
                        <a:pt x="443" y="9"/>
                      </a:lnTo>
                      <a:lnTo>
                        <a:pt x="452" y="9"/>
                      </a:lnTo>
                      <a:lnTo>
                        <a:pt x="469" y="9"/>
                      </a:lnTo>
                      <a:lnTo>
                        <a:pt x="478" y="17"/>
                      </a:lnTo>
                      <a:lnTo>
                        <a:pt x="486" y="17"/>
                      </a:lnTo>
                      <a:lnTo>
                        <a:pt x="504" y="17"/>
                      </a:lnTo>
                      <a:lnTo>
                        <a:pt x="513" y="17"/>
                      </a:lnTo>
                      <a:lnTo>
                        <a:pt x="521" y="17"/>
                      </a:lnTo>
                      <a:lnTo>
                        <a:pt x="539" y="26"/>
                      </a:lnTo>
                      <a:lnTo>
                        <a:pt x="547" y="26"/>
                      </a:lnTo>
                      <a:lnTo>
                        <a:pt x="565" y="26"/>
                      </a:lnTo>
                      <a:lnTo>
                        <a:pt x="582" y="26"/>
                      </a:lnTo>
                      <a:lnTo>
                        <a:pt x="599" y="26"/>
                      </a:lnTo>
                      <a:lnTo>
                        <a:pt x="608" y="26"/>
                      </a:lnTo>
                      <a:lnTo>
                        <a:pt x="626" y="17"/>
                      </a:lnTo>
                      <a:lnTo>
                        <a:pt x="643" y="17"/>
                      </a:lnTo>
                      <a:lnTo>
                        <a:pt x="660" y="17"/>
                      </a:lnTo>
                      <a:lnTo>
                        <a:pt x="678" y="17"/>
                      </a:lnTo>
                      <a:lnTo>
                        <a:pt x="695" y="9"/>
                      </a:lnTo>
                      <a:lnTo>
                        <a:pt x="713" y="9"/>
                      </a:lnTo>
                      <a:lnTo>
                        <a:pt x="730" y="0"/>
                      </a:lnTo>
                      <a:lnTo>
                        <a:pt x="747" y="0"/>
                      </a:lnTo>
                      <a:lnTo>
                        <a:pt x="756" y="9"/>
                      </a:lnTo>
                      <a:lnTo>
                        <a:pt x="765" y="9"/>
                      </a:lnTo>
                      <a:lnTo>
                        <a:pt x="773" y="17"/>
                      </a:lnTo>
                      <a:lnTo>
                        <a:pt x="791" y="17"/>
                      </a:lnTo>
                      <a:lnTo>
                        <a:pt x="799" y="17"/>
                      </a:lnTo>
                      <a:lnTo>
                        <a:pt x="808" y="17"/>
                      </a:lnTo>
                      <a:lnTo>
                        <a:pt x="826" y="17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6" name=""/>
                <p:cNvSpPr/>
                <p:nvPr/>
              </p:nvSpPr>
              <p:spPr>
                <a:xfrm>
                  <a:off x="7972560" y="2495160"/>
                  <a:ext cx="1124640" cy="68040"/>
                </a:xfrm>
                <a:custGeom>
                  <a:avLst/>
                  <a:gdLst/>
                  <a:ahLst/>
                  <a:rect l="l" t="t" r="r" b="b"/>
                  <a:pathLst>
                    <a:path w="826" h="50">
                      <a:moveTo>
                        <a:pt x="0" y="42"/>
                      </a:moveTo>
                      <a:lnTo>
                        <a:pt x="104" y="42"/>
                      </a:lnTo>
                      <a:lnTo>
                        <a:pt x="130" y="42"/>
                      </a:lnTo>
                      <a:lnTo>
                        <a:pt x="174" y="50"/>
                      </a:lnTo>
                      <a:lnTo>
                        <a:pt x="208" y="50"/>
                      </a:lnTo>
                      <a:lnTo>
                        <a:pt x="234" y="50"/>
                      </a:lnTo>
                      <a:lnTo>
                        <a:pt x="243" y="50"/>
                      </a:lnTo>
                      <a:lnTo>
                        <a:pt x="260" y="50"/>
                      </a:lnTo>
                      <a:lnTo>
                        <a:pt x="287" y="50"/>
                      </a:lnTo>
                      <a:lnTo>
                        <a:pt x="304" y="42"/>
                      </a:lnTo>
                      <a:lnTo>
                        <a:pt x="321" y="42"/>
                      </a:lnTo>
                      <a:lnTo>
                        <a:pt x="339" y="42"/>
                      </a:lnTo>
                      <a:lnTo>
                        <a:pt x="356" y="33"/>
                      </a:lnTo>
                      <a:lnTo>
                        <a:pt x="373" y="33"/>
                      </a:lnTo>
                      <a:lnTo>
                        <a:pt x="400" y="25"/>
                      </a:lnTo>
                      <a:lnTo>
                        <a:pt x="417" y="17"/>
                      </a:lnTo>
                      <a:lnTo>
                        <a:pt x="426" y="17"/>
                      </a:lnTo>
                      <a:lnTo>
                        <a:pt x="443" y="8"/>
                      </a:lnTo>
                      <a:lnTo>
                        <a:pt x="460" y="8"/>
                      </a:lnTo>
                      <a:lnTo>
                        <a:pt x="478" y="8"/>
                      </a:lnTo>
                      <a:lnTo>
                        <a:pt x="486" y="8"/>
                      </a:lnTo>
                      <a:lnTo>
                        <a:pt x="504" y="17"/>
                      </a:lnTo>
                      <a:lnTo>
                        <a:pt x="530" y="17"/>
                      </a:lnTo>
                      <a:lnTo>
                        <a:pt x="539" y="17"/>
                      </a:lnTo>
                      <a:lnTo>
                        <a:pt x="556" y="17"/>
                      </a:lnTo>
                      <a:lnTo>
                        <a:pt x="591" y="17"/>
                      </a:lnTo>
                      <a:lnTo>
                        <a:pt x="608" y="17"/>
                      </a:lnTo>
                      <a:lnTo>
                        <a:pt x="634" y="17"/>
                      </a:lnTo>
                      <a:lnTo>
                        <a:pt x="669" y="17"/>
                      </a:lnTo>
                      <a:lnTo>
                        <a:pt x="695" y="8"/>
                      </a:lnTo>
                      <a:lnTo>
                        <a:pt x="704" y="8"/>
                      </a:lnTo>
                      <a:lnTo>
                        <a:pt x="730" y="0"/>
                      </a:lnTo>
                      <a:lnTo>
                        <a:pt x="747" y="0"/>
                      </a:lnTo>
                      <a:lnTo>
                        <a:pt x="773" y="8"/>
                      </a:lnTo>
                      <a:lnTo>
                        <a:pt x="773" y="8"/>
                      </a:lnTo>
                      <a:lnTo>
                        <a:pt x="791" y="17"/>
                      </a:lnTo>
                      <a:lnTo>
                        <a:pt x="808" y="17"/>
                      </a:lnTo>
                      <a:lnTo>
                        <a:pt x="826" y="8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7" name=""/>
                <p:cNvSpPr/>
                <p:nvPr/>
              </p:nvSpPr>
              <p:spPr>
                <a:xfrm>
                  <a:off x="7972560" y="2495160"/>
                  <a:ext cx="1124640" cy="68040"/>
                </a:xfrm>
                <a:custGeom>
                  <a:avLst/>
                  <a:gdLst/>
                  <a:ahLst/>
                  <a:rect l="l" t="t" r="r" b="b"/>
                  <a:pathLst>
                    <a:path w="826" h="50">
                      <a:moveTo>
                        <a:pt x="0" y="42"/>
                      </a:moveTo>
                      <a:lnTo>
                        <a:pt x="104" y="42"/>
                      </a:lnTo>
                      <a:lnTo>
                        <a:pt x="130" y="42"/>
                      </a:lnTo>
                      <a:lnTo>
                        <a:pt x="174" y="50"/>
                      </a:lnTo>
                      <a:lnTo>
                        <a:pt x="208" y="50"/>
                      </a:lnTo>
                      <a:lnTo>
                        <a:pt x="234" y="50"/>
                      </a:lnTo>
                      <a:lnTo>
                        <a:pt x="243" y="50"/>
                      </a:lnTo>
                      <a:lnTo>
                        <a:pt x="260" y="50"/>
                      </a:lnTo>
                      <a:lnTo>
                        <a:pt x="287" y="50"/>
                      </a:lnTo>
                      <a:lnTo>
                        <a:pt x="304" y="42"/>
                      </a:lnTo>
                      <a:lnTo>
                        <a:pt x="321" y="42"/>
                      </a:lnTo>
                      <a:lnTo>
                        <a:pt x="339" y="42"/>
                      </a:lnTo>
                      <a:lnTo>
                        <a:pt x="356" y="33"/>
                      </a:lnTo>
                      <a:lnTo>
                        <a:pt x="373" y="33"/>
                      </a:lnTo>
                      <a:lnTo>
                        <a:pt x="400" y="25"/>
                      </a:lnTo>
                      <a:lnTo>
                        <a:pt x="417" y="17"/>
                      </a:lnTo>
                      <a:lnTo>
                        <a:pt x="426" y="17"/>
                      </a:lnTo>
                      <a:lnTo>
                        <a:pt x="443" y="8"/>
                      </a:lnTo>
                      <a:lnTo>
                        <a:pt x="460" y="8"/>
                      </a:lnTo>
                      <a:lnTo>
                        <a:pt x="478" y="8"/>
                      </a:lnTo>
                      <a:lnTo>
                        <a:pt x="486" y="8"/>
                      </a:lnTo>
                      <a:lnTo>
                        <a:pt x="504" y="17"/>
                      </a:lnTo>
                      <a:lnTo>
                        <a:pt x="530" y="17"/>
                      </a:lnTo>
                      <a:lnTo>
                        <a:pt x="539" y="17"/>
                      </a:lnTo>
                      <a:lnTo>
                        <a:pt x="556" y="17"/>
                      </a:lnTo>
                      <a:lnTo>
                        <a:pt x="591" y="17"/>
                      </a:lnTo>
                      <a:lnTo>
                        <a:pt x="608" y="17"/>
                      </a:lnTo>
                      <a:lnTo>
                        <a:pt x="634" y="17"/>
                      </a:lnTo>
                      <a:lnTo>
                        <a:pt x="669" y="17"/>
                      </a:lnTo>
                      <a:lnTo>
                        <a:pt x="695" y="8"/>
                      </a:lnTo>
                      <a:lnTo>
                        <a:pt x="704" y="8"/>
                      </a:lnTo>
                      <a:lnTo>
                        <a:pt x="730" y="0"/>
                      </a:lnTo>
                      <a:lnTo>
                        <a:pt x="747" y="0"/>
                      </a:lnTo>
                      <a:lnTo>
                        <a:pt x="773" y="8"/>
                      </a:lnTo>
                      <a:lnTo>
                        <a:pt x="791" y="17"/>
                      </a:lnTo>
                      <a:lnTo>
                        <a:pt x="808" y="17"/>
                      </a:lnTo>
                      <a:lnTo>
                        <a:pt x="826" y="8"/>
                      </a:lnTo>
                    </a:path>
                  </a:pathLst>
                </a:custGeom>
                <a:noFill/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8" name=""/>
                <p:cNvSpPr/>
                <p:nvPr/>
              </p:nvSpPr>
              <p:spPr>
                <a:xfrm>
                  <a:off x="7214040" y="2402640"/>
                  <a:ext cx="189000" cy="183600"/>
                </a:xfrm>
                <a:custGeom>
                  <a:avLst/>
                  <a:gdLst/>
                  <a:ahLst/>
                  <a:rect l="l" t="t" r="r" b="b"/>
                  <a:pathLst>
                    <a:path w="139" h="135">
                      <a:moveTo>
                        <a:pt x="9" y="93"/>
                      </a:moveTo>
                      <a:lnTo>
                        <a:pt x="26" y="0"/>
                      </a:lnTo>
                      <a:lnTo>
                        <a:pt x="44" y="85"/>
                      </a:lnTo>
                      <a:lnTo>
                        <a:pt x="139" y="85"/>
                      </a:lnTo>
                      <a:lnTo>
                        <a:pt x="139" y="118"/>
                      </a:lnTo>
                      <a:lnTo>
                        <a:pt x="0" y="135"/>
                      </a:lnTo>
                      <a:lnTo>
                        <a:pt x="9" y="93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9" name=""/>
                <p:cNvSpPr/>
                <p:nvPr/>
              </p:nvSpPr>
              <p:spPr>
                <a:xfrm>
                  <a:off x="7214040" y="2402640"/>
                  <a:ext cx="189000" cy="183600"/>
                </a:xfrm>
                <a:custGeom>
                  <a:avLst/>
                  <a:gdLst/>
                  <a:ahLst/>
                  <a:rect l="l" t="t" r="r" b="b"/>
                  <a:pathLst>
                    <a:path w="139" h="135">
                      <a:moveTo>
                        <a:pt x="9" y="93"/>
                      </a:moveTo>
                      <a:lnTo>
                        <a:pt x="26" y="0"/>
                      </a:lnTo>
                      <a:lnTo>
                        <a:pt x="44" y="85"/>
                      </a:lnTo>
                      <a:lnTo>
                        <a:pt x="139" y="85"/>
                      </a:lnTo>
                      <a:lnTo>
                        <a:pt x="139" y="118"/>
                      </a:lnTo>
                      <a:lnTo>
                        <a:pt x="0" y="135"/>
                      </a:lnTo>
                      <a:lnTo>
                        <a:pt x="9" y="93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0" name=""/>
                <p:cNvSpPr/>
                <p:nvPr/>
              </p:nvSpPr>
              <p:spPr>
                <a:xfrm>
                  <a:off x="7415640" y="2333160"/>
                  <a:ext cx="118440" cy="195840"/>
                </a:xfrm>
                <a:custGeom>
                  <a:avLst/>
                  <a:gdLst/>
                  <a:ahLst/>
                  <a:rect l="l" t="t" r="r" b="b"/>
                  <a:pathLst>
                    <a:path w="87" h="144">
                      <a:moveTo>
                        <a:pt x="26" y="119"/>
                      </a:moveTo>
                      <a:lnTo>
                        <a:pt x="17" y="110"/>
                      </a:lnTo>
                      <a:lnTo>
                        <a:pt x="17" y="110"/>
                      </a:lnTo>
                      <a:lnTo>
                        <a:pt x="17" y="93"/>
                      </a:lnTo>
                      <a:lnTo>
                        <a:pt x="17" y="85"/>
                      </a:lnTo>
                      <a:lnTo>
                        <a:pt x="17" y="68"/>
                      </a:lnTo>
                      <a:lnTo>
                        <a:pt x="17" y="51"/>
                      </a:lnTo>
                      <a:lnTo>
                        <a:pt x="17" y="42"/>
                      </a:lnTo>
                      <a:lnTo>
                        <a:pt x="26" y="25"/>
                      </a:lnTo>
                      <a:lnTo>
                        <a:pt x="35" y="17"/>
                      </a:lnTo>
                      <a:lnTo>
                        <a:pt x="43" y="8"/>
                      </a:lnTo>
                      <a:lnTo>
                        <a:pt x="52" y="0"/>
                      </a:lnTo>
                      <a:lnTo>
                        <a:pt x="61" y="8"/>
                      </a:lnTo>
                      <a:lnTo>
                        <a:pt x="61" y="17"/>
                      </a:lnTo>
                      <a:lnTo>
                        <a:pt x="61" y="25"/>
                      </a:lnTo>
                      <a:lnTo>
                        <a:pt x="70" y="42"/>
                      </a:lnTo>
                      <a:lnTo>
                        <a:pt x="70" y="42"/>
                      </a:lnTo>
                      <a:lnTo>
                        <a:pt x="78" y="59"/>
                      </a:lnTo>
                      <a:lnTo>
                        <a:pt x="87" y="68"/>
                      </a:lnTo>
                      <a:lnTo>
                        <a:pt x="87" y="76"/>
                      </a:lnTo>
                      <a:lnTo>
                        <a:pt x="87" y="93"/>
                      </a:lnTo>
                      <a:lnTo>
                        <a:pt x="87" y="102"/>
                      </a:lnTo>
                      <a:lnTo>
                        <a:pt x="87" y="110"/>
                      </a:lnTo>
                      <a:lnTo>
                        <a:pt x="78" y="119"/>
                      </a:lnTo>
                      <a:lnTo>
                        <a:pt x="70" y="127"/>
                      </a:lnTo>
                      <a:lnTo>
                        <a:pt x="61" y="127"/>
                      </a:lnTo>
                      <a:lnTo>
                        <a:pt x="43" y="136"/>
                      </a:lnTo>
                      <a:lnTo>
                        <a:pt x="35" y="136"/>
                      </a:lnTo>
                      <a:lnTo>
                        <a:pt x="26" y="144"/>
                      </a:lnTo>
                      <a:lnTo>
                        <a:pt x="9" y="136"/>
                      </a:lnTo>
                      <a:lnTo>
                        <a:pt x="9" y="136"/>
                      </a:lnTo>
                      <a:lnTo>
                        <a:pt x="0" y="127"/>
                      </a:lnTo>
                      <a:lnTo>
                        <a:pt x="0" y="119"/>
                      </a:lnTo>
                      <a:lnTo>
                        <a:pt x="9" y="110"/>
                      </a:lnTo>
                      <a:lnTo>
                        <a:pt x="9" y="110"/>
                      </a:lnTo>
                      <a:lnTo>
                        <a:pt x="9" y="102"/>
                      </a:lnTo>
                      <a:lnTo>
                        <a:pt x="9" y="93"/>
                      </a:lnTo>
                      <a:lnTo>
                        <a:pt x="17" y="93"/>
                      </a:lnTo>
                      <a:lnTo>
                        <a:pt x="26" y="93"/>
                      </a:lnTo>
                      <a:lnTo>
                        <a:pt x="26" y="119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1" name=""/>
                <p:cNvSpPr/>
                <p:nvPr/>
              </p:nvSpPr>
              <p:spPr>
                <a:xfrm>
                  <a:off x="7428240" y="2343960"/>
                  <a:ext cx="106200" cy="185040"/>
                </a:xfrm>
                <a:custGeom>
                  <a:avLst/>
                  <a:gdLst/>
                  <a:ahLst/>
                  <a:rect l="l" t="t" r="r" b="b"/>
                  <a:pathLst>
                    <a:path w="78" h="136">
                      <a:moveTo>
                        <a:pt x="17" y="111"/>
                      </a:moveTo>
                      <a:lnTo>
                        <a:pt x="17" y="77"/>
                      </a:lnTo>
                      <a:lnTo>
                        <a:pt x="17" y="68"/>
                      </a:lnTo>
                      <a:lnTo>
                        <a:pt x="17" y="51"/>
                      </a:lnTo>
                      <a:lnTo>
                        <a:pt x="17" y="34"/>
                      </a:lnTo>
                      <a:lnTo>
                        <a:pt x="26" y="17"/>
                      </a:lnTo>
                      <a:lnTo>
                        <a:pt x="34" y="9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52" y="9"/>
                      </a:lnTo>
                      <a:lnTo>
                        <a:pt x="61" y="26"/>
                      </a:lnTo>
                      <a:lnTo>
                        <a:pt x="69" y="51"/>
                      </a:lnTo>
                      <a:lnTo>
                        <a:pt x="78" y="68"/>
                      </a:lnTo>
                      <a:lnTo>
                        <a:pt x="78" y="68"/>
                      </a:lnTo>
                      <a:lnTo>
                        <a:pt x="78" y="85"/>
                      </a:lnTo>
                      <a:lnTo>
                        <a:pt x="78" y="102"/>
                      </a:lnTo>
                      <a:lnTo>
                        <a:pt x="78" y="102"/>
                      </a:lnTo>
                      <a:lnTo>
                        <a:pt x="69" y="111"/>
                      </a:lnTo>
                      <a:lnTo>
                        <a:pt x="69" y="111"/>
                      </a:lnTo>
                      <a:lnTo>
                        <a:pt x="52" y="128"/>
                      </a:lnTo>
                      <a:lnTo>
                        <a:pt x="34" y="136"/>
                      </a:lnTo>
                      <a:lnTo>
                        <a:pt x="26" y="136"/>
                      </a:lnTo>
                      <a:lnTo>
                        <a:pt x="17" y="136"/>
                      </a:lnTo>
                      <a:lnTo>
                        <a:pt x="8" y="136"/>
                      </a:lnTo>
                      <a:lnTo>
                        <a:pt x="8" y="136"/>
                      </a:lnTo>
                      <a:lnTo>
                        <a:pt x="0" y="128"/>
                      </a:lnTo>
                      <a:lnTo>
                        <a:pt x="0" y="119"/>
                      </a:lnTo>
                      <a:lnTo>
                        <a:pt x="0" y="111"/>
                      </a:lnTo>
                      <a:lnTo>
                        <a:pt x="0" y="102"/>
                      </a:lnTo>
                      <a:lnTo>
                        <a:pt x="0" y="102"/>
                      </a:lnTo>
                      <a:lnTo>
                        <a:pt x="8" y="85"/>
                      </a:lnTo>
                      <a:lnTo>
                        <a:pt x="17" y="85"/>
                      </a:lnTo>
                      <a:lnTo>
                        <a:pt x="17" y="85"/>
                      </a:lnTo>
                      <a:lnTo>
                        <a:pt x="17" y="111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2" name=""/>
                <p:cNvSpPr/>
                <p:nvPr/>
              </p:nvSpPr>
              <p:spPr>
                <a:xfrm>
                  <a:off x="7428240" y="2343960"/>
                  <a:ext cx="106200" cy="185040"/>
                </a:xfrm>
                <a:custGeom>
                  <a:avLst/>
                  <a:gdLst/>
                  <a:ahLst/>
                  <a:rect l="l" t="t" r="r" b="b"/>
                  <a:pathLst>
                    <a:path w="78" h="136">
                      <a:moveTo>
                        <a:pt x="17" y="111"/>
                      </a:moveTo>
                      <a:lnTo>
                        <a:pt x="17" y="77"/>
                      </a:lnTo>
                      <a:lnTo>
                        <a:pt x="17" y="68"/>
                      </a:lnTo>
                      <a:lnTo>
                        <a:pt x="17" y="51"/>
                      </a:lnTo>
                      <a:lnTo>
                        <a:pt x="17" y="34"/>
                      </a:lnTo>
                      <a:lnTo>
                        <a:pt x="26" y="17"/>
                      </a:lnTo>
                      <a:lnTo>
                        <a:pt x="34" y="9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52" y="9"/>
                      </a:lnTo>
                      <a:lnTo>
                        <a:pt x="61" y="26"/>
                      </a:lnTo>
                      <a:lnTo>
                        <a:pt x="69" y="51"/>
                      </a:lnTo>
                      <a:lnTo>
                        <a:pt x="78" y="68"/>
                      </a:lnTo>
                      <a:lnTo>
                        <a:pt x="78" y="85"/>
                      </a:lnTo>
                      <a:lnTo>
                        <a:pt x="78" y="102"/>
                      </a:lnTo>
                      <a:lnTo>
                        <a:pt x="69" y="111"/>
                      </a:lnTo>
                      <a:lnTo>
                        <a:pt x="52" y="128"/>
                      </a:lnTo>
                      <a:lnTo>
                        <a:pt x="34" y="136"/>
                      </a:lnTo>
                      <a:lnTo>
                        <a:pt x="26" y="136"/>
                      </a:lnTo>
                      <a:lnTo>
                        <a:pt x="17" y="136"/>
                      </a:lnTo>
                      <a:lnTo>
                        <a:pt x="8" y="136"/>
                      </a:lnTo>
                      <a:lnTo>
                        <a:pt x="0" y="128"/>
                      </a:lnTo>
                      <a:lnTo>
                        <a:pt x="0" y="119"/>
                      </a:lnTo>
                      <a:lnTo>
                        <a:pt x="0" y="111"/>
                      </a:lnTo>
                      <a:lnTo>
                        <a:pt x="0" y="102"/>
                      </a:lnTo>
                      <a:lnTo>
                        <a:pt x="8" y="85"/>
                      </a:lnTo>
                      <a:lnTo>
                        <a:pt x="17" y="85"/>
                      </a:lnTo>
                    </a:path>
                  </a:pathLst>
                </a:custGeom>
                <a:noFill/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3" name=""/>
                <p:cNvSpPr/>
                <p:nvPr/>
              </p:nvSpPr>
              <p:spPr>
                <a:xfrm>
                  <a:off x="7569360" y="2482920"/>
                  <a:ext cx="47520" cy="69480"/>
                </a:xfrm>
                <a:custGeom>
                  <a:avLst/>
                  <a:gdLst/>
                  <a:ahLst/>
                  <a:rect l="l" t="t" r="r" b="b"/>
                  <a:pathLst>
                    <a:path w="35" h="51">
                      <a:moveTo>
                        <a:pt x="26" y="42"/>
                      </a:moveTo>
                      <a:lnTo>
                        <a:pt x="9" y="42"/>
                      </a:lnTo>
                      <a:lnTo>
                        <a:pt x="0" y="42"/>
                      </a:lnTo>
                      <a:lnTo>
                        <a:pt x="0" y="51"/>
                      </a:lnTo>
                      <a:lnTo>
                        <a:pt x="0" y="42"/>
                      </a:lnTo>
                      <a:lnTo>
                        <a:pt x="0" y="34"/>
                      </a:lnTo>
                      <a:lnTo>
                        <a:pt x="0" y="26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26" y="9"/>
                      </a:lnTo>
                      <a:lnTo>
                        <a:pt x="26" y="17"/>
                      </a:lnTo>
                      <a:lnTo>
                        <a:pt x="35" y="26"/>
                      </a:lnTo>
                      <a:lnTo>
                        <a:pt x="26" y="34"/>
                      </a:lnTo>
                      <a:lnTo>
                        <a:pt x="26" y="42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4" name=""/>
                <p:cNvSpPr/>
                <p:nvPr/>
              </p:nvSpPr>
              <p:spPr>
                <a:xfrm>
                  <a:off x="7569360" y="2482920"/>
                  <a:ext cx="59760" cy="69480"/>
                </a:xfrm>
                <a:custGeom>
                  <a:avLst/>
                  <a:gdLst/>
                  <a:ahLst/>
                  <a:rect l="l" t="t" r="r" b="b"/>
                  <a:pathLst>
                    <a:path w="44" h="51">
                      <a:moveTo>
                        <a:pt x="0" y="51"/>
                      </a:move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7" y="0"/>
                      </a:lnTo>
                      <a:lnTo>
                        <a:pt x="26" y="9"/>
                      </a:lnTo>
                      <a:lnTo>
                        <a:pt x="26" y="9"/>
                      </a:lnTo>
                      <a:lnTo>
                        <a:pt x="35" y="17"/>
                      </a:lnTo>
                      <a:lnTo>
                        <a:pt x="44" y="26"/>
                      </a:lnTo>
                      <a:lnTo>
                        <a:pt x="44" y="34"/>
                      </a:lnTo>
                      <a:lnTo>
                        <a:pt x="26" y="42"/>
                      </a:lnTo>
                      <a:lnTo>
                        <a:pt x="26" y="42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5" name=""/>
                <p:cNvSpPr/>
                <p:nvPr/>
              </p:nvSpPr>
              <p:spPr>
                <a:xfrm>
                  <a:off x="7640280" y="2518200"/>
                  <a:ext cx="189000" cy="45000"/>
                </a:xfrm>
                <a:custGeom>
                  <a:avLst/>
                  <a:gdLst/>
                  <a:ahLst/>
                  <a:rect l="l" t="t" r="r" b="b"/>
                  <a:pathLst>
                    <a:path w="139" h="33">
                      <a:moveTo>
                        <a:pt x="105" y="0"/>
                      </a:moveTo>
                      <a:lnTo>
                        <a:pt x="139" y="33"/>
                      </a:lnTo>
                      <a:lnTo>
                        <a:pt x="35" y="33"/>
                      </a:lnTo>
                      <a:lnTo>
                        <a:pt x="0" y="0"/>
                      </a:lnTo>
                      <a:lnTo>
                        <a:pt x="10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6" name=""/>
                <p:cNvSpPr/>
                <p:nvPr/>
              </p:nvSpPr>
              <p:spPr>
                <a:xfrm>
                  <a:off x="7640280" y="2518200"/>
                  <a:ext cx="189000" cy="45000"/>
                </a:xfrm>
                <a:custGeom>
                  <a:avLst/>
                  <a:gdLst/>
                  <a:ahLst/>
                  <a:rect l="l" t="t" r="r" b="b"/>
                  <a:pathLst>
                    <a:path w="139" h="33">
                      <a:moveTo>
                        <a:pt x="105" y="0"/>
                      </a:moveTo>
                      <a:lnTo>
                        <a:pt x="139" y="33"/>
                      </a:lnTo>
                      <a:lnTo>
                        <a:pt x="35" y="33"/>
                      </a:lnTo>
                      <a:lnTo>
                        <a:pt x="0" y="0"/>
                      </a:lnTo>
                      <a:lnTo>
                        <a:pt x="105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7" name=""/>
                <p:cNvSpPr/>
                <p:nvPr/>
              </p:nvSpPr>
              <p:spPr>
                <a:xfrm>
                  <a:off x="7617240" y="2518200"/>
                  <a:ext cx="82800" cy="68040"/>
                </a:xfrm>
                <a:custGeom>
                  <a:avLst/>
                  <a:gdLst/>
                  <a:ahLst/>
                  <a:rect l="l" t="t" r="r" b="b"/>
                  <a:pathLst>
                    <a:path w="61" h="50">
                      <a:moveTo>
                        <a:pt x="17" y="0"/>
                      </a:moveTo>
                      <a:lnTo>
                        <a:pt x="0" y="42"/>
                      </a:lnTo>
                      <a:lnTo>
                        <a:pt x="52" y="50"/>
                      </a:lnTo>
                      <a:lnTo>
                        <a:pt x="61" y="3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8" name=""/>
                <p:cNvSpPr/>
                <p:nvPr/>
              </p:nvSpPr>
              <p:spPr>
                <a:xfrm>
                  <a:off x="7617240" y="2518200"/>
                  <a:ext cx="82800" cy="68040"/>
                </a:xfrm>
                <a:custGeom>
                  <a:avLst/>
                  <a:gdLst/>
                  <a:ahLst/>
                  <a:rect l="l" t="t" r="r" b="b"/>
                  <a:pathLst>
                    <a:path w="61" h="50">
                      <a:moveTo>
                        <a:pt x="17" y="0"/>
                      </a:moveTo>
                      <a:lnTo>
                        <a:pt x="0" y="42"/>
                      </a:lnTo>
                      <a:lnTo>
                        <a:pt x="52" y="50"/>
                      </a:lnTo>
                      <a:lnTo>
                        <a:pt x="61" y="3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59" name=""/>
              <p:cNvSpPr/>
              <p:nvPr/>
            </p:nvSpPr>
            <p:spPr>
              <a:xfrm>
                <a:off x="5752080" y="1491120"/>
                <a:ext cx="510480" cy="358200"/>
              </a:xfrm>
              <a:prstGeom prst="rect">
                <a:avLst/>
              </a:prstGeom>
              <a:solidFill>
                <a:srgbClr val="3333cc"/>
              </a:solidFill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>
                <a:off x="8085600" y="1558080"/>
                <a:ext cx="603000" cy="484560"/>
              </a:xfrm>
              <a:custGeom>
                <a:avLst/>
                <a:gdLst/>
                <a:ahLst/>
                <a:rect l="l" t="t" r="r" b="b"/>
                <a:pathLst>
                  <a:path w="443" h="356">
                    <a:moveTo>
                      <a:pt x="87" y="0"/>
                    </a:moveTo>
                    <a:lnTo>
                      <a:pt x="443" y="102"/>
                    </a:lnTo>
                    <a:lnTo>
                      <a:pt x="356" y="356"/>
                    </a:lnTo>
                    <a:lnTo>
                      <a:pt x="0" y="246"/>
                    </a:lnTo>
                    <a:lnTo>
                      <a:pt x="87" y="0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>
                <a:off x="5395680" y="2772000"/>
                <a:ext cx="486720" cy="289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900" spc="-1" strike="noStrike">
                    <a:solidFill>
                      <a:srgbClr val="000000"/>
                    </a:solidFill>
                    <a:latin typeface="New York"/>
                  </a:rPr>
                  <a:t>20 h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>
                <a:off x="7538760" y="2772000"/>
                <a:ext cx="486720" cy="289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900" spc="-1" strike="noStrike">
                    <a:solidFill>
                      <a:srgbClr val="000000"/>
                    </a:solidFill>
                    <a:latin typeface="New York"/>
                  </a:rPr>
                  <a:t>21 h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3" name=""/>
              <p:cNvGrpSpPr/>
              <p:nvPr/>
            </p:nvGrpSpPr>
            <p:grpSpPr>
              <a:xfrm>
                <a:off x="6006960" y="1575720"/>
                <a:ext cx="225360" cy="198720"/>
                <a:chOff x="6006960" y="1575720"/>
                <a:chExt cx="225360" cy="198720"/>
              </a:xfrm>
            </p:grpSpPr>
            <p:sp>
              <p:nvSpPr>
                <p:cNvPr id="7564" name=""/>
                <p:cNvSpPr/>
                <p:nvPr/>
              </p:nvSpPr>
              <p:spPr>
                <a:xfrm>
                  <a:off x="6019200" y="1575720"/>
                  <a:ext cx="213120" cy="195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5" name=""/>
                <p:cNvSpPr/>
                <p:nvPr/>
              </p:nvSpPr>
              <p:spPr>
                <a:xfrm>
                  <a:off x="6031440" y="1587960"/>
                  <a:ext cx="200880" cy="183600"/>
                </a:xfrm>
                <a:custGeom>
                  <a:avLst/>
                  <a:gdLst/>
                  <a:ahLst/>
                  <a:rect l="l" t="t" r="r" b="b"/>
                  <a:pathLst>
                    <a:path w="148" h="135">
                      <a:moveTo>
                        <a:pt x="0" y="34"/>
                      </a:moveTo>
                      <a:lnTo>
                        <a:pt x="9" y="25"/>
                      </a:lnTo>
                      <a:lnTo>
                        <a:pt x="26" y="8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78" y="0"/>
                      </a:lnTo>
                      <a:lnTo>
                        <a:pt x="96" y="0"/>
                      </a:lnTo>
                      <a:lnTo>
                        <a:pt x="104" y="8"/>
                      </a:lnTo>
                      <a:lnTo>
                        <a:pt x="122" y="17"/>
                      </a:lnTo>
                      <a:lnTo>
                        <a:pt x="130" y="25"/>
                      </a:lnTo>
                      <a:lnTo>
                        <a:pt x="139" y="42"/>
                      </a:lnTo>
                      <a:lnTo>
                        <a:pt x="139" y="42"/>
                      </a:lnTo>
                      <a:lnTo>
                        <a:pt x="148" y="59"/>
                      </a:lnTo>
                      <a:lnTo>
                        <a:pt x="148" y="76"/>
                      </a:lnTo>
                      <a:lnTo>
                        <a:pt x="139" y="93"/>
                      </a:lnTo>
                      <a:lnTo>
                        <a:pt x="130" y="110"/>
                      </a:lnTo>
                      <a:lnTo>
                        <a:pt x="104" y="127"/>
                      </a:lnTo>
                      <a:lnTo>
                        <a:pt x="96" y="127"/>
                      </a:lnTo>
                      <a:lnTo>
                        <a:pt x="78" y="135"/>
                      </a:lnTo>
                      <a:lnTo>
                        <a:pt x="61" y="135"/>
                      </a:lnTo>
                      <a:lnTo>
                        <a:pt x="43" y="127"/>
                      </a:lnTo>
                      <a:lnTo>
                        <a:pt x="35" y="127"/>
                      </a:lnTo>
                      <a:lnTo>
                        <a:pt x="17" y="110"/>
                      </a:lnTo>
                      <a:lnTo>
                        <a:pt x="9" y="102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76"/>
                      </a:lnTo>
                      <a:lnTo>
                        <a:pt x="0" y="5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6" name=""/>
                <p:cNvSpPr/>
                <p:nvPr/>
              </p:nvSpPr>
              <p:spPr>
                <a:xfrm>
                  <a:off x="6031440" y="1575720"/>
                  <a:ext cx="153360" cy="185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7" name=""/>
                <p:cNvSpPr/>
                <p:nvPr/>
              </p:nvSpPr>
              <p:spPr>
                <a:xfrm>
                  <a:off x="6006960" y="1575720"/>
                  <a:ext cx="178200" cy="198720"/>
                </a:xfrm>
                <a:custGeom>
                  <a:avLst/>
                  <a:gdLst/>
                  <a:ahLst/>
                  <a:rect l="l" t="t" r="r" b="b"/>
                  <a:pathLst>
                    <a:path w="113" h="118">
                      <a:moveTo>
                        <a:pt x="9" y="34"/>
                      </a:moveTo>
                      <a:lnTo>
                        <a:pt x="18" y="17"/>
                      </a:lnTo>
                      <a:lnTo>
                        <a:pt x="26" y="8"/>
                      </a:lnTo>
                      <a:lnTo>
                        <a:pt x="44" y="0"/>
                      </a:lnTo>
                      <a:lnTo>
                        <a:pt x="52" y="0"/>
                      </a:lnTo>
                      <a:lnTo>
                        <a:pt x="70" y="0"/>
                      </a:lnTo>
                      <a:lnTo>
                        <a:pt x="87" y="0"/>
                      </a:lnTo>
                      <a:lnTo>
                        <a:pt x="96" y="8"/>
                      </a:lnTo>
                      <a:lnTo>
                        <a:pt x="113" y="25"/>
                      </a:lnTo>
                      <a:lnTo>
                        <a:pt x="113" y="34"/>
                      </a:lnTo>
                      <a:lnTo>
                        <a:pt x="113" y="42"/>
                      </a:lnTo>
                      <a:lnTo>
                        <a:pt x="113" y="59"/>
                      </a:lnTo>
                      <a:lnTo>
                        <a:pt x="105" y="76"/>
                      </a:lnTo>
                      <a:lnTo>
                        <a:pt x="105" y="85"/>
                      </a:lnTo>
                      <a:lnTo>
                        <a:pt x="78" y="110"/>
                      </a:lnTo>
                      <a:lnTo>
                        <a:pt x="70" y="110"/>
                      </a:lnTo>
                      <a:lnTo>
                        <a:pt x="61" y="118"/>
                      </a:lnTo>
                      <a:lnTo>
                        <a:pt x="61" y="118"/>
                      </a:lnTo>
                      <a:lnTo>
                        <a:pt x="52" y="118"/>
                      </a:lnTo>
                      <a:lnTo>
                        <a:pt x="26" y="118"/>
                      </a:lnTo>
                      <a:lnTo>
                        <a:pt x="26" y="118"/>
                      </a:lnTo>
                      <a:lnTo>
                        <a:pt x="18" y="110"/>
                      </a:lnTo>
                      <a:lnTo>
                        <a:pt x="9" y="93"/>
                      </a:lnTo>
                      <a:lnTo>
                        <a:pt x="0" y="85"/>
                      </a:lnTo>
                      <a:lnTo>
                        <a:pt x="0" y="76"/>
                      </a:lnTo>
                      <a:lnTo>
                        <a:pt x="9" y="42"/>
                      </a:lnTo>
                      <a:lnTo>
                        <a:pt x="9" y="34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8" name=""/>
              <p:cNvGrpSpPr/>
              <p:nvPr/>
            </p:nvGrpSpPr>
            <p:grpSpPr>
              <a:xfrm>
                <a:off x="8402040" y="1695600"/>
                <a:ext cx="227880" cy="198720"/>
                <a:chOff x="8402040" y="1695600"/>
                <a:chExt cx="227880" cy="198720"/>
              </a:xfrm>
            </p:grpSpPr>
            <p:sp>
              <p:nvSpPr>
                <p:cNvPr id="7569" name=""/>
                <p:cNvSpPr/>
                <p:nvPr/>
              </p:nvSpPr>
              <p:spPr>
                <a:xfrm>
                  <a:off x="8416800" y="1695600"/>
                  <a:ext cx="213120" cy="195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0" name=""/>
                <p:cNvSpPr/>
                <p:nvPr/>
              </p:nvSpPr>
              <p:spPr>
                <a:xfrm>
                  <a:off x="8429040" y="1707480"/>
                  <a:ext cx="200880" cy="183600"/>
                </a:xfrm>
                <a:custGeom>
                  <a:avLst/>
                  <a:gdLst/>
                  <a:ahLst/>
                  <a:rect l="l" t="t" r="r" b="b"/>
                  <a:pathLst>
                    <a:path w="148" h="135">
                      <a:moveTo>
                        <a:pt x="0" y="34"/>
                      </a:moveTo>
                      <a:lnTo>
                        <a:pt x="9" y="25"/>
                      </a:lnTo>
                      <a:lnTo>
                        <a:pt x="26" y="8"/>
                      </a:lnTo>
                      <a:lnTo>
                        <a:pt x="43" y="0"/>
                      </a:lnTo>
                      <a:lnTo>
                        <a:pt x="52" y="0"/>
                      </a:lnTo>
                      <a:lnTo>
                        <a:pt x="78" y="0"/>
                      </a:lnTo>
                      <a:lnTo>
                        <a:pt x="96" y="0"/>
                      </a:lnTo>
                      <a:lnTo>
                        <a:pt x="104" y="8"/>
                      </a:lnTo>
                      <a:lnTo>
                        <a:pt x="122" y="17"/>
                      </a:lnTo>
                      <a:lnTo>
                        <a:pt x="130" y="25"/>
                      </a:lnTo>
                      <a:lnTo>
                        <a:pt x="139" y="42"/>
                      </a:lnTo>
                      <a:lnTo>
                        <a:pt x="139" y="42"/>
                      </a:lnTo>
                      <a:lnTo>
                        <a:pt x="148" y="59"/>
                      </a:lnTo>
                      <a:lnTo>
                        <a:pt x="148" y="76"/>
                      </a:lnTo>
                      <a:lnTo>
                        <a:pt x="139" y="93"/>
                      </a:lnTo>
                      <a:lnTo>
                        <a:pt x="130" y="110"/>
                      </a:lnTo>
                      <a:lnTo>
                        <a:pt x="104" y="127"/>
                      </a:lnTo>
                      <a:lnTo>
                        <a:pt x="96" y="127"/>
                      </a:lnTo>
                      <a:lnTo>
                        <a:pt x="78" y="135"/>
                      </a:lnTo>
                      <a:lnTo>
                        <a:pt x="61" y="135"/>
                      </a:lnTo>
                      <a:lnTo>
                        <a:pt x="43" y="127"/>
                      </a:lnTo>
                      <a:lnTo>
                        <a:pt x="35" y="127"/>
                      </a:lnTo>
                      <a:lnTo>
                        <a:pt x="17" y="110"/>
                      </a:lnTo>
                      <a:lnTo>
                        <a:pt x="9" y="102"/>
                      </a:lnTo>
                      <a:lnTo>
                        <a:pt x="0" y="85"/>
                      </a:lnTo>
                      <a:lnTo>
                        <a:pt x="0" y="85"/>
                      </a:lnTo>
                      <a:lnTo>
                        <a:pt x="0" y="76"/>
                      </a:lnTo>
                      <a:lnTo>
                        <a:pt x="0" y="51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1" name=""/>
                <p:cNvSpPr/>
                <p:nvPr/>
              </p:nvSpPr>
              <p:spPr>
                <a:xfrm>
                  <a:off x="8429040" y="1695600"/>
                  <a:ext cx="153720" cy="184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2" name=""/>
                <p:cNvSpPr/>
                <p:nvPr/>
              </p:nvSpPr>
              <p:spPr>
                <a:xfrm>
                  <a:off x="8402040" y="1695600"/>
                  <a:ext cx="180720" cy="198720"/>
                </a:xfrm>
                <a:custGeom>
                  <a:avLst/>
                  <a:gdLst/>
                  <a:ahLst/>
                  <a:rect l="l" t="t" r="r" b="b"/>
                  <a:pathLst>
                    <a:path w="133" h="146">
                      <a:moveTo>
                        <a:pt x="12" y="42"/>
                      </a:moveTo>
                      <a:lnTo>
                        <a:pt x="23" y="21"/>
                      </a:lnTo>
                      <a:lnTo>
                        <a:pt x="32" y="10"/>
                      </a:lnTo>
                      <a:lnTo>
                        <a:pt x="53" y="0"/>
                      </a:lnTo>
                      <a:lnTo>
                        <a:pt x="62" y="0"/>
                      </a:lnTo>
                      <a:lnTo>
                        <a:pt x="83" y="0"/>
                      </a:lnTo>
                      <a:lnTo>
                        <a:pt x="103" y="0"/>
                      </a:lnTo>
                      <a:lnTo>
                        <a:pt x="113" y="10"/>
                      </a:lnTo>
                      <a:lnTo>
                        <a:pt x="133" y="31"/>
                      </a:lnTo>
                      <a:lnTo>
                        <a:pt x="133" y="42"/>
                      </a:lnTo>
                      <a:lnTo>
                        <a:pt x="133" y="52"/>
                      </a:lnTo>
                      <a:lnTo>
                        <a:pt x="133" y="73"/>
                      </a:lnTo>
                      <a:lnTo>
                        <a:pt x="124" y="94"/>
                      </a:lnTo>
                      <a:lnTo>
                        <a:pt x="124" y="105"/>
                      </a:lnTo>
                      <a:lnTo>
                        <a:pt x="92" y="136"/>
                      </a:lnTo>
                      <a:lnTo>
                        <a:pt x="83" y="136"/>
                      </a:lnTo>
                      <a:lnTo>
                        <a:pt x="73" y="146"/>
                      </a:lnTo>
                      <a:lnTo>
                        <a:pt x="73" y="146"/>
                      </a:lnTo>
                      <a:lnTo>
                        <a:pt x="62" y="146"/>
                      </a:lnTo>
                      <a:lnTo>
                        <a:pt x="32" y="146"/>
                      </a:lnTo>
                      <a:lnTo>
                        <a:pt x="32" y="146"/>
                      </a:lnTo>
                      <a:lnTo>
                        <a:pt x="23" y="136"/>
                      </a:lnTo>
                      <a:lnTo>
                        <a:pt x="12" y="115"/>
                      </a:lnTo>
                      <a:lnTo>
                        <a:pt x="2" y="105"/>
                      </a:lnTo>
                      <a:lnTo>
                        <a:pt x="2" y="94"/>
                      </a:lnTo>
                      <a:lnTo>
                        <a:pt x="0" y="68"/>
                      </a:lnTo>
                      <a:lnTo>
                        <a:pt x="12" y="42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3" name=""/>
              <p:cNvGrpSpPr/>
              <p:nvPr/>
            </p:nvGrpSpPr>
            <p:grpSpPr>
              <a:xfrm>
                <a:off x="4751280" y="1085400"/>
                <a:ext cx="1793880" cy="1176480"/>
                <a:chOff x="4751280" y="1085400"/>
                <a:chExt cx="1793880" cy="1176480"/>
              </a:xfrm>
            </p:grpSpPr>
            <p:sp>
              <p:nvSpPr>
                <p:cNvPr id="7574" name=""/>
                <p:cNvSpPr/>
                <p:nvPr/>
              </p:nvSpPr>
              <p:spPr>
                <a:xfrm>
                  <a:off x="4789440" y="108540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5" name=""/>
                <p:cNvSpPr/>
                <p:nvPr/>
              </p:nvSpPr>
              <p:spPr>
                <a:xfrm>
                  <a:off x="4920120" y="1215720"/>
                  <a:ext cx="106200" cy="8712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6" name=""/>
                <p:cNvSpPr/>
                <p:nvPr/>
              </p:nvSpPr>
              <p:spPr>
                <a:xfrm>
                  <a:off x="4936320" y="134676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7" name=""/>
                <p:cNvSpPr/>
                <p:nvPr/>
              </p:nvSpPr>
              <p:spPr>
                <a:xfrm>
                  <a:off x="5328360" y="147744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8" name=""/>
                <p:cNvSpPr/>
                <p:nvPr/>
              </p:nvSpPr>
              <p:spPr>
                <a:xfrm>
                  <a:off x="5742360" y="1564560"/>
                  <a:ext cx="106200" cy="8712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9" name=""/>
                <p:cNvSpPr/>
                <p:nvPr/>
              </p:nvSpPr>
              <p:spPr>
                <a:xfrm>
                  <a:off x="5453640" y="173916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0" name=""/>
                <p:cNvSpPr/>
                <p:nvPr/>
              </p:nvSpPr>
              <p:spPr>
                <a:xfrm>
                  <a:off x="5170680" y="202788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1" name=""/>
                <p:cNvSpPr/>
                <p:nvPr/>
              </p:nvSpPr>
              <p:spPr>
                <a:xfrm>
                  <a:off x="4887360" y="217512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2" name=""/>
                <p:cNvSpPr/>
                <p:nvPr/>
              </p:nvSpPr>
              <p:spPr>
                <a:xfrm>
                  <a:off x="4751280" y="167364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3" name=""/>
                <p:cNvSpPr/>
                <p:nvPr/>
              </p:nvSpPr>
              <p:spPr>
                <a:xfrm>
                  <a:off x="5971320" y="2120400"/>
                  <a:ext cx="106200" cy="8712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4" name=""/>
                <p:cNvSpPr/>
                <p:nvPr/>
              </p:nvSpPr>
              <p:spPr>
                <a:xfrm>
                  <a:off x="6101640" y="191880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5" name=""/>
                <p:cNvSpPr/>
                <p:nvPr/>
              </p:nvSpPr>
              <p:spPr>
                <a:xfrm>
                  <a:off x="6439320" y="1630080"/>
                  <a:ext cx="10584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6" name=""/>
                <p:cNvSpPr/>
                <p:nvPr/>
              </p:nvSpPr>
              <p:spPr>
                <a:xfrm>
                  <a:off x="6341400" y="126504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7" name=""/>
              <p:cNvGrpSpPr/>
              <p:nvPr/>
            </p:nvGrpSpPr>
            <p:grpSpPr>
              <a:xfrm>
                <a:off x="7324560" y="1216080"/>
                <a:ext cx="1793880" cy="1176480"/>
                <a:chOff x="7324560" y="1216080"/>
                <a:chExt cx="1793880" cy="1176480"/>
              </a:xfrm>
            </p:grpSpPr>
            <p:sp>
              <p:nvSpPr>
                <p:cNvPr id="7588" name=""/>
                <p:cNvSpPr/>
                <p:nvPr/>
              </p:nvSpPr>
              <p:spPr>
                <a:xfrm>
                  <a:off x="7362720" y="121608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9" name=""/>
                <p:cNvSpPr/>
                <p:nvPr/>
              </p:nvSpPr>
              <p:spPr>
                <a:xfrm>
                  <a:off x="7493400" y="1346400"/>
                  <a:ext cx="106200" cy="8712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0" name=""/>
                <p:cNvSpPr/>
                <p:nvPr/>
              </p:nvSpPr>
              <p:spPr>
                <a:xfrm>
                  <a:off x="7509600" y="147744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1" name=""/>
                <p:cNvSpPr/>
                <p:nvPr/>
              </p:nvSpPr>
              <p:spPr>
                <a:xfrm>
                  <a:off x="7901640" y="160812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2" name=""/>
                <p:cNvSpPr/>
                <p:nvPr/>
              </p:nvSpPr>
              <p:spPr>
                <a:xfrm>
                  <a:off x="8315640" y="1695240"/>
                  <a:ext cx="106200" cy="8712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3" name=""/>
                <p:cNvSpPr/>
                <p:nvPr/>
              </p:nvSpPr>
              <p:spPr>
                <a:xfrm>
                  <a:off x="8026920" y="186984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4" name=""/>
                <p:cNvSpPr/>
                <p:nvPr/>
              </p:nvSpPr>
              <p:spPr>
                <a:xfrm>
                  <a:off x="7743960" y="215856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5" name=""/>
                <p:cNvSpPr/>
                <p:nvPr/>
              </p:nvSpPr>
              <p:spPr>
                <a:xfrm>
                  <a:off x="7460640" y="230580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6" name=""/>
                <p:cNvSpPr/>
                <p:nvPr/>
              </p:nvSpPr>
              <p:spPr>
                <a:xfrm>
                  <a:off x="7324560" y="180432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7" name=""/>
                <p:cNvSpPr/>
                <p:nvPr/>
              </p:nvSpPr>
              <p:spPr>
                <a:xfrm>
                  <a:off x="8544600" y="2251080"/>
                  <a:ext cx="106200" cy="8712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8" name=""/>
                <p:cNvSpPr/>
                <p:nvPr/>
              </p:nvSpPr>
              <p:spPr>
                <a:xfrm>
                  <a:off x="8674920" y="204948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9" name=""/>
                <p:cNvSpPr/>
                <p:nvPr/>
              </p:nvSpPr>
              <p:spPr>
                <a:xfrm>
                  <a:off x="9012600" y="1760760"/>
                  <a:ext cx="10584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0" name=""/>
                <p:cNvSpPr/>
                <p:nvPr/>
              </p:nvSpPr>
              <p:spPr>
                <a:xfrm>
                  <a:off x="8914680" y="1395720"/>
                  <a:ext cx="106200" cy="86760"/>
                </a:xfrm>
                <a:prstGeom prst="star5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601" name=""/>
            <p:cNvSpPr/>
            <p:nvPr/>
          </p:nvSpPr>
          <p:spPr>
            <a:xfrm>
              <a:off x="807120" y="1746360"/>
              <a:ext cx="3830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lune dériv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ar rapport au grand manège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lle vient cacher des éto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2" name=""/>
          <p:cNvGrpSpPr/>
          <p:nvPr/>
        </p:nvGrpSpPr>
        <p:grpSpPr>
          <a:xfrm>
            <a:off x="180000" y="3178080"/>
            <a:ext cx="8964000" cy="3679920"/>
            <a:chOff x="180000" y="3178080"/>
            <a:chExt cx="8964000" cy="3679920"/>
          </a:xfrm>
        </p:grpSpPr>
        <p:grpSp>
          <p:nvGrpSpPr>
            <p:cNvPr id="7603" name=""/>
            <p:cNvGrpSpPr/>
            <p:nvPr/>
          </p:nvGrpSpPr>
          <p:grpSpPr>
            <a:xfrm>
              <a:off x="804960" y="4162320"/>
              <a:ext cx="4616280" cy="2692440"/>
              <a:chOff x="804960" y="4162320"/>
              <a:chExt cx="4616280" cy="2692440"/>
            </a:xfrm>
          </p:grpSpPr>
          <p:sp>
            <p:nvSpPr>
              <p:cNvPr id="7604" name=""/>
              <p:cNvSpPr/>
              <p:nvPr/>
            </p:nvSpPr>
            <p:spPr>
              <a:xfrm>
                <a:off x="804960" y="4162320"/>
                <a:ext cx="4616280" cy="2692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5" name=""/>
              <p:cNvGrpSpPr/>
              <p:nvPr/>
            </p:nvGrpSpPr>
            <p:grpSpPr>
              <a:xfrm>
                <a:off x="2154240" y="4437000"/>
                <a:ext cx="1958760" cy="2230560"/>
                <a:chOff x="2154240" y="4437000"/>
                <a:chExt cx="1958760" cy="2230560"/>
              </a:xfrm>
            </p:grpSpPr>
            <p:sp>
              <p:nvSpPr>
                <p:cNvPr id="7606" name=""/>
                <p:cNvSpPr/>
                <p:nvPr/>
              </p:nvSpPr>
              <p:spPr>
                <a:xfrm>
                  <a:off x="2373120" y="4829040"/>
                  <a:ext cx="1487160" cy="1838520"/>
                </a:xfrm>
                <a:custGeom>
                  <a:avLst/>
                  <a:gdLst>
                    <a:gd name="textAreaLeft" fmla="*/ 199080 w 1487160"/>
                    <a:gd name="textAreaRight" fmla="*/ 1288080 w 1487160"/>
                    <a:gd name="textAreaTop" fmla="*/ 353880 h 1838520"/>
                    <a:gd name="textAreaBottom" fmla="*/ 1300680 h 1838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8318" stAng="-5400000" swAng="-5400000"/>
                      <a:lnTo>
                        <a:pt x="0" y="11123"/>
                      </a:lnTo>
                      <a:arcTo wR="21600" hR="8318" stAng="10800000" swAng="-2694645"/>
                      <a:lnTo>
                        <a:pt x="13817" y="21041"/>
                      </a:lnTo>
                      <a:lnTo>
                        <a:pt x="21600" y="18038"/>
                      </a:lnTo>
                      <a:lnTo>
                        <a:pt x="13817" y="13916"/>
                      </a:lnTo>
                      <a:lnTo>
                        <a:pt x="13817" y="16076"/>
                      </a:lnTo>
                      <a:arcTo wR="21600" hR="8318" stAng="8105355" swAng="2468514"/>
                      <a:lnTo>
                        <a:pt x="309" y="9720"/>
                      </a:lnTo>
                      <a:arcTo wR="21600" hR="8318" stAng="-10573869" swAng="5173869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8318" stAng="-5400000" swAng="-5400000"/>
                      <a:lnTo>
                        <a:pt x="0" y="8318"/>
                      </a:lnTo>
                      <a:arcTo wR="21600" hR="8318" stAng="10800000" swAng="-226131"/>
                      <a:lnTo>
                        <a:pt x="309" y="9720"/>
                      </a:lnTo>
                      <a:arcTo wR="21600" hR="8318" stAng="-10573869" swAng="5173869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7" name=""/>
                <p:cNvSpPr/>
                <p:nvPr/>
              </p:nvSpPr>
              <p:spPr>
                <a:xfrm>
                  <a:off x="2154240" y="4437000"/>
                  <a:ext cx="1958760" cy="1712880"/>
                </a:xfrm>
                <a:custGeom>
                  <a:avLst/>
                  <a:gdLst/>
                  <a:ahLst/>
                  <a:rect l="l" t="t" r="r" b="b"/>
                  <a:pathLst>
                    <a:path w="1234" h="1079">
                      <a:moveTo>
                        <a:pt x="1225" y="512"/>
                      </a:moveTo>
                      <a:lnTo>
                        <a:pt x="1216" y="0"/>
                      </a:lnTo>
                      <a:lnTo>
                        <a:pt x="0" y="18"/>
                      </a:lnTo>
                      <a:lnTo>
                        <a:pt x="9" y="1079"/>
                      </a:lnTo>
                      <a:lnTo>
                        <a:pt x="1234" y="356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8" name=""/>
              <p:cNvGrpSpPr/>
              <p:nvPr/>
            </p:nvGrpSpPr>
            <p:grpSpPr>
              <a:xfrm>
                <a:off x="3564000" y="4403520"/>
                <a:ext cx="1538280" cy="1504800"/>
                <a:chOff x="3564000" y="4403520"/>
                <a:chExt cx="1538280" cy="1504800"/>
              </a:xfrm>
            </p:grpSpPr>
            <p:sp>
              <p:nvSpPr>
                <p:cNvPr id="7609" name=""/>
                <p:cNvSpPr/>
                <p:nvPr/>
              </p:nvSpPr>
              <p:spPr>
                <a:xfrm>
                  <a:off x="3589200" y="4403520"/>
                  <a:ext cx="1513080" cy="1504800"/>
                </a:xfrm>
                <a:prstGeom prst="ellipse">
                  <a:avLst/>
                </a:prstGeom>
                <a:solidFill>
                  <a:srgbClr val="33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0" name=""/>
                <p:cNvSpPr/>
                <p:nvPr/>
              </p:nvSpPr>
              <p:spPr>
                <a:xfrm>
                  <a:off x="3959280" y="5050800"/>
                  <a:ext cx="663480" cy="719280"/>
                </a:xfrm>
                <a:custGeom>
                  <a:avLst/>
                  <a:gdLst/>
                  <a:ahLst/>
                  <a:rect l="l" t="t" r="r" b="b"/>
                  <a:pathLst>
                    <a:path w="418" h="448">
                      <a:moveTo>
                        <a:pt x="161" y="0"/>
                      </a:moveTo>
                      <a:lnTo>
                        <a:pt x="33" y="45"/>
                      </a:lnTo>
                      <a:lnTo>
                        <a:pt x="0" y="187"/>
                      </a:lnTo>
                      <a:lnTo>
                        <a:pt x="121" y="262"/>
                      </a:lnTo>
                      <a:lnTo>
                        <a:pt x="209" y="262"/>
                      </a:lnTo>
                      <a:lnTo>
                        <a:pt x="209" y="321"/>
                      </a:lnTo>
                      <a:lnTo>
                        <a:pt x="282" y="403"/>
                      </a:lnTo>
                      <a:lnTo>
                        <a:pt x="378" y="448"/>
                      </a:lnTo>
                      <a:lnTo>
                        <a:pt x="418" y="403"/>
                      </a:lnTo>
                      <a:lnTo>
                        <a:pt x="394" y="284"/>
                      </a:lnTo>
                      <a:lnTo>
                        <a:pt x="386" y="194"/>
                      </a:lnTo>
                      <a:lnTo>
                        <a:pt x="410" y="112"/>
                      </a:lnTo>
                      <a:lnTo>
                        <a:pt x="322" y="38"/>
                      </a:lnTo>
                      <a:lnTo>
                        <a:pt x="217" y="30"/>
                      </a:lnTo>
                      <a:lnTo>
                        <a:pt x="161" y="8"/>
                      </a:lnTo>
                      <a:lnTo>
                        <a:pt x="161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1" name=""/>
                <p:cNvSpPr/>
                <p:nvPr/>
              </p:nvSpPr>
              <p:spPr>
                <a:xfrm>
                  <a:off x="3959280" y="4523400"/>
                  <a:ext cx="1035000" cy="767880"/>
                </a:xfrm>
                <a:custGeom>
                  <a:avLst/>
                  <a:gdLst/>
                  <a:ahLst/>
                  <a:rect l="l" t="t" r="r" b="b"/>
                  <a:pathLst>
                    <a:path w="652" h="478">
                      <a:moveTo>
                        <a:pt x="322" y="351"/>
                      </a:moveTo>
                      <a:lnTo>
                        <a:pt x="362" y="314"/>
                      </a:lnTo>
                      <a:lnTo>
                        <a:pt x="354" y="246"/>
                      </a:lnTo>
                      <a:lnTo>
                        <a:pt x="250" y="239"/>
                      </a:lnTo>
                      <a:lnTo>
                        <a:pt x="298" y="284"/>
                      </a:lnTo>
                      <a:lnTo>
                        <a:pt x="258" y="299"/>
                      </a:lnTo>
                      <a:lnTo>
                        <a:pt x="234" y="239"/>
                      </a:lnTo>
                      <a:lnTo>
                        <a:pt x="169" y="231"/>
                      </a:lnTo>
                      <a:lnTo>
                        <a:pt x="217" y="269"/>
                      </a:lnTo>
                      <a:lnTo>
                        <a:pt x="225" y="299"/>
                      </a:lnTo>
                      <a:lnTo>
                        <a:pt x="193" y="314"/>
                      </a:lnTo>
                      <a:lnTo>
                        <a:pt x="201" y="284"/>
                      </a:lnTo>
                      <a:lnTo>
                        <a:pt x="145" y="254"/>
                      </a:lnTo>
                      <a:lnTo>
                        <a:pt x="97" y="261"/>
                      </a:lnTo>
                      <a:lnTo>
                        <a:pt x="89" y="314"/>
                      </a:lnTo>
                      <a:lnTo>
                        <a:pt x="33" y="328"/>
                      </a:lnTo>
                      <a:lnTo>
                        <a:pt x="0" y="314"/>
                      </a:lnTo>
                      <a:lnTo>
                        <a:pt x="16" y="239"/>
                      </a:lnTo>
                      <a:lnTo>
                        <a:pt x="81" y="239"/>
                      </a:lnTo>
                      <a:lnTo>
                        <a:pt x="97" y="194"/>
                      </a:lnTo>
                      <a:lnTo>
                        <a:pt x="73" y="179"/>
                      </a:lnTo>
                      <a:lnTo>
                        <a:pt x="97" y="179"/>
                      </a:lnTo>
                      <a:lnTo>
                        <a:pt x="121" y="179"/>
                      </a:lnTo>
                      <a:lnTo>
                        <a:pt x="121" y="164"/>
                      </a:lnTo>
                      <a:lnTo>
                        <a:pt x="145" y="164"/>
                      </a:lnTo>
                      <a:lnTo>
                        <a:pt x="193" y="164"/>
                      </a:lnTo>
                      <a:lnTo>
                        <a:pt x="201" y="119"/>
                      </a:lnTo>
                      <a:lnTo>
                        <a:pt x="225" y="149"/>
                      </a:lnTo>
                      <a:lnTo>
                        <a:pt x="274" y="119"/>
                      </a:lnTo>
                      <a:lnTo>
                        <a:pt x="258" y="45"/>
                      </a:lnTo>
                      <a:lnTo>
                        <a:pt x="217" y="30"/>
                      </a:lnTo>
                      <a:lnTo>
                        <a:pt x="201" y="90"/>
                      </a:lnTo>
                      <a:lnTo>
                        <a:pt x="161" y="119"/>
                      </a:lnTo>
                      <a:lnTo>
                        <a:pt x="153" y="90"/>
                      </a:lnTo>
                      <a:lnTo>
                        <a:pt x="113" y="134"/>
                      </a:lnTo>
                      <a:lnTo>
                        <a:pt x="145" y="45"/>
                      </a:lnTo>
                      <a:lnTo>
                        <a:pt x="209" y="0"/>
                      </a:lnTo>
                      <a:lnTo>
                        <a:pt x="266" y="0"/>
                      </a:lnTo>
                      <a:lnTo>
                        <a:pt x="306" y="45"/>
                      </a:lnTo>
                      <a:lnTo>
                        <a:pt x="362" y="60"/>
                      </a:lnTo>
                      <a:lnTo>
                        <a:pt x="402" y="30"/>
                      </a:lnTo>
                      <a:lnTo>
                        <a:pt x="443" y="45"/>
                      </a:lnTo>
                      <a:lnTo>
                        <a:pt x="475" y="0"/>
                      </a:lnTo>
                      <a:lnTo>
                        <a:pt x="571" y="82"/>
                      </a:lnTo>
                      <a:lnTo>
                        <a:pt x="644" y="202"/>
                      </a:lnTo>
                      <a:lnTo>
                        <a:pt x="652" y="351"/>
                      </a:lnTo>
                      <a:lnTo>
                        <a:pt x="636" y="425"/>
                      </a:lnTo>
                      <a:lnTo>
                        <a:pt x="571" y="351"/>
                      </a:lnTo>
                      <a:lnTo>
                        <a:pt x="467" y="306"/>
                      </a:lnTo>
                      <a:lnTo>
                        <a:pt x="435" y="351"/>
                      </a:lnTo>
                      <a:lnTo>
                        <a:pt x="539" y="396"/>
                      </a:lnTo>
                      <a:lnTo>
                        <a:pt x="547" y="463"/>
                      </a:lnTo>
                      <a:lnTo>
                        <a:pt x="475" y="478"/>
                      </a:lnTo>
                      <a:lnTo>
                        <a:pt x="443" y="411"/>
                      </a:lnTo>
                      <a:lnTo>
                        <a:pt x="370" y="373"/>
                      </a:lnTo>
                      <a:lnTo>
                        <a:pt x="346" y="381"/>
                      </a:lnTo>
                      <a:lnTo>
                        <a:pt x="306" y="358"/>
                      </a:lnTo>
                      <a:lnTo>
                        <a:pt x="322" y="351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2" name=""/>
                <p:cNvSpPr/>
                <p:nvPr/>
              </p:nvSpPr>
              <p:spPr>
                <a:xfrm>
                  <a:off x="3564000" y="5160240"/>
                  <a:ext cx="498240" cy="682560"/>
                </a:xfrm>
                <a:custGeom>
                  <a:avLst/>
                  <a:gdLst/>
                  <a:ahLst/>
                  <a:rect l="l" t="t" r="r" b="b"/>
                  <a:pathLst>
                    <a:path w="314" h="425">
                      <a:moveTo>
                        <a:pt x="8" y="89"/>
                      </a:moveTo>
                      <a:lnTo>
                        <a:pt x="89" y="104"/>
                      </a:lnTo>
                      <a:lnTo>
                        <a:pt x="113" y="209"/>
                      </a:lnTo>
                      <a:lnTo>
                        <a:pt x="121" y="276"/>
                      </a:lnTo>
                      <a:lnTo>
                        <a:pt x="233" y="365"/>
                      </a:lnTo>
                      <a:lnTo>
                        <a:pt x="314" y="425"/>
                      </a:lnTo>
                      <a:lnTo>
                        <a:pt x="153" y="343"/>
                      </a:lnTo>
                      <a:lnTo>
                        <a:pt x="48" y="224"/>
                      </a:lnTo>
                      <a:lnTo>
                        <a:pt x="8" y="82"/>
                      </a:lnTo>
                      <a:lnTo>
                        <a:pt x="0" y="0"/>
                      </a:lnTo>
                      <a:lnTo>
                        <a:pt x="8" y="89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3" name=""/>
                <p:cNvSpPr/>
                <p:nvPr/>
              </p:nvSpPr>
              <p:spPr>
                <a:xfrm>
                  <a:off x="4956120" y="5399640"/>
                  <a:ext cx="101520" cy="131400"/>
                </a:xfrm>
                <a:custGeom>
                  <a:avLst/>
                  <a:gdLst/>
                  <a:ahLst/>
                  <a:rect l="l" t="t" r="r" b="b"/>
                  <a:pathLst>
                    <a:path w="64" h="82">
                      <a:moveTo>
                        <a:pt x="56" y="0"/>
                      </a:moveTo>
                      <a:lnTo>
                        <a:pt x="0" y="37"/>
                      </a:lnTo>
                      <a:lnTo>
                        <a:pt x="8" y="82"/>
                      </a:lnTo>
                      <a:lnTo>
                        <a:pt x="64" y="22"/>
                      </a:lnTo>
                      <a:lnTo>
                        <a:pt x="56" y="7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4" name=""/>
                <p:cNvSpPr/>
                <p:nvPr/>
              </p:nvSpPr>
              <p:spPr>
                <a:xfrm>
                  <a:off x="3806640" y="4464360"/>
                  <a:ext cx="255600" cy="191160"/>
                </a:xfrm>
                <a:custGeom>
                  <a:avLst/>
                  <a:gdLst/>
                  <a:ahLst/>
                  <a:rect l="l" t="t" r="r" b="b"/>
                  <a:pathLst>
                    <a:path w="161" h="119">
                      <a:moveTo>
                        <a:pt x="161" y="0"/>
                      </a:moveTo>
                      <a:lnTo>
                        <a:pt x="120" y="82"/>
                      </a:lnTo>
                      <a:lnTo>
                        <a:pt x="56" y="104"/>
                      </a:lnTo>
                      <a:lnTo>
                        <a:pt x="0" y="119"/>
                      </a:lnTo>
                      <a:lnTo>
                        <a:pt x="104" y="30"/>
                      </a:lnTo>
                      <a:lnTo>
                        <a:pt x="153" y="7"/>
                      </a:lnTo>
                      <a:lnTo>
                        <a:pt x="161" y="0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5" name=""/>
                <p:cNvSpPr/>
                <p:nvPr/>
              </p:nvSpPr>
              <p:spPr>
                <a:xfrm>
                  <a:off x="4151160" y="4835520"/>
                  <a:ext cx="88920" cy="83160"/>
                </a:xfrm>
                <a:prstGeom prst="ellipse">
                  <a:avLst/>
                </a:prstGeom>
                <a:solidFill>
                  <a:srgbClr val="66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6" name=""/>
                <p:cNvSpPr/>
                <p:nvPr/>
              </p:nvSpPr>
              <p:spPr>
                <a:xfrm>
                  <a:off x="4151160" y="4836960"/>
                  <a:ext cx="88920" cy="81720"/>
                </a:xfrm>
                <a:prstGeom prst="ellipse">
                  <a:avLst/>
                </a:prstGeom>
                <a:solidFill>
                  <a:srgbClr val="66ff66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17" name=""/>
              <p:cNvSpPr/>
              <p:nvPr/>
            </p:nvSpPr>
            <p:spPr>
              <a:xfrm flipV="1">
                <a:off x="1138320" y="4919400"/>
                <a:ext cx="2987640" cy="134460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>
                <a:off x="2581200" y="4919760"/>
                <a:ext cx="1838160" cy="707760"/>
              </a:xfrm>
              <a:custGeom>
                <a:avLst/>
                <a:gdLst/>
                <a:ahLst/>
                <a:rect l="l" t="t" r="r" b="b"/>
                <a:pathLst>
                  <a:path w="1158" h="441">
                    <a:moveTo>
                      <a:pt x="0" y="441"/>
                    </a:moveTo>
                    <a:lnTo>
                      <a:pt x="1061" y="0"/>
                    </a:lnTo>
                    <a:lnTo>
                      <a:pt x="1110" y="15"/>
                    </a:lnTo>
                    <a:lnTo>
                      <a:pt x="24" y="433"/>
                    </a:lnTo>
                    <a:lnTo>
                      <a:pt x="1150" y="38"/>
                    </a:lnTo>
                    <a:lnTo>
                      <a:pt x="1158" y="53"/>
                    </a:lnTo>
                    <a:lnTo>
                      <a:pt x="40" y="433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>
                <a:off x="966600" y="6197400"/>
                <a:ext cx="212760" cy="23040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28" y="41"/>
                    </a:moveTo>
                    <a:lnTo>
                      <a:pt x="36" y="0"/>
                    </a:lnTo>
                    <a:lnTo>
                      <a:pt x="60" y="38"/>
                    </a:lnTo>
                    <a:lnTo>
                      <a:pt x="97" y="30"/>
                    </a:lnTo>
                    <a:lnTo>
                      <a:pt x="68" y="56"/>
                    </a:lnTo>
                    <a:lnTo>
                      <a:pt x="89" y="97"/>
                    </a:lnTo>
                    <a:lnTo>
                      <a:pt x="48" y="64"/>
                    </a:lnTo>
                    <a:lnTo>
                      <a:pt x="4" y="94"/>
                    </a:lnTo>
                    <a:lnTo>
                      <a:pt x="20" y="56"/>
                    </a:lnTo>
                    <a:lnTo>
                      <a:pt x="0" y="38"/>
                    </a:lnTo>
                    <a:lnTo>
                      <a:pt x="28" y="38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20" name=""/>
              <p:cNvGrpSpPr/>
              <p:nvPr/>
            </p:nvGrpSpPr>
            <p:grpSpPr>
              <a:xfrm>
                <a:off x="2082600" y="5340240"/>
                <a:ext cx="587520" cy="561600"/>
                <a:chOff x="2082600" y="5340240"/>
                <a:chExt cx="587520" cy="561600"/>
              </a:xfrm>
            </p:grpSpPr>
            <p:sp>
              <p:nvSpPr>
                <p:cNvPr id="7621" name=""/>
                <p:cNvSpPr/>
                <p:nvPr/>
              </p:nvSpPr>
              <p:spPr>
                <a:xfrm>
                  <a:off x="2082600" y="5340240"/>
                  <a:ext cx="587520" cy="561600"/>
                </a:xfrm>
                <a:prstGeom prst="ellipse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2" name=""/>
                <p:cNvSpPr/>
                <p:nvPr/>
              </p:nvSpPr>
              <p:spPr>
                <a:xfrm>
                  <a:off x="2363760" y="5351400"/>
                  <a:ext cx="293760" cy="539280"/>
                </a:xfrm>
                <a:custGeom>
                  <a:avLst/>
                  <a:gdLst/>
                  <a:ahLst/>
                  <a:rect l="l" t="t" r="r" b="b"/>
                  <a:pathLst>
                    <a:path w="185" h="336">
                      <a:moveTo>
                        <a:pt x="73" y="328"/>
                      </a:moveTo>
                      <a:lnTo>
                        <a:pt x="161" y="261"/>
                      </a:lnTo>
                      <a:lnTo>
                        <a:pt x="185" y="149"/>
                      </a:lnTo>
                      <a:lnTo>
                        <a:pt x="153" y="67"/>
                      </a:lnTo>
                      <a:lnTo>
                        <a:pt x="97" y="7"/>
                      </a:lnTo>
                      <a:lnTo>
                        <a:pt x="0" y="0"/>
                      </a:lnTo>
                      <a:lnTo>
                        <a:pt x="121" y="60"/>
                      </a:lnTo>
                      <a:lnTo>
                        <a:pt x="145" y="194"/>
                      </a:lnTo>
                      <a:lnTo>
                        <a:pt x="129" y="254"/>
                      </a:lnTo>
                      <a:lnTo>
                        <a:pt x="65" y="328"/>
                      </a:lnTo>
                      <a:lnTo>
                        <a:pt x="32" y="336"/>
                      </a:lnTo>
                      <a:lnTo>
                        <a:pt x="73" y="328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7623" name="" descr=""/>
            <p:cNvPicPr/>
            <p:nvPr/>
          </p:nvPicPr>
          <p:blipFill>
            <a:blip r:embed="rId12"/>
            <a:stretch/>
          </p:blipFill>
          <p:spPr>
            <a:xfrm>
              <a:off x="5218200" y="5516640"/>
              <a:ext cx="279396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4" name=""/>
            <p:cNvSpPr/>
            <p:nvPr/>
          </p:nvSpPr>
          <p:spPr>
            <a:xfrm>
              <a:off x="180000" y="3178080"/>
              <a:ext cx="4891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à cause de la diffraction de Fres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lumière de l'étoile projette sur  Ter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s franges de bord d'écra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5" name=""/>
            <p:cNvGrpSpPr/>
            <p:nvPr/>
          </p:nvGrpSpPr>
          <p:grpSpPr>
            <a:xfrm>
              <a:off x="5692680" y="3790800"/>
              <a:ext cx="3451320" cy="965520"/>
              <a:chOff x="5692680" y="3790800"/>
              <a:chExt cx="3451320" cy="965520"/>
            </a:xfrm>
          </p:grpSpPr>
          <p:sp>
            <p:nvSpPr>
              <p:cNvPr id="7626" name=""/>
              <p:cNvSpPr/>
              <p:nvPr/>
            </p:nvSpPr>
            <p:spPr>
              <a:xfrm>
                <a:off x="8232120" y="4174200"/>
                <a:ext cx="889560" cy="561960"/>
              </a:xfrm>
              <a:prstGeom prst="rect">
                <a:avLst/>
              </a:prstGeom>
              <a:gradFill rotWithShape="0">
                <a:gsLst>
                  <a:gs pos="0">
                    <a:srgbClr val="ff8939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>
                <a:off x="8232120" y="4003920"/>
                <a:ext cx="889560" cy="2437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28" name=""/>
              <p:cNvGrpSpPr/>
              <p:nvPr/>
            </p:nvGrpSpPr>
            <p:grpSpPr>
              <a:xfrm>
                <a:off x="8232120" y="4324320"/>
                <a:ext cx="911880" cy="132840"/>
                <a:chOff x="8232120" y="4324320"/>
                <a:chExt cx="911880" cy="132840"/>
              </a:xfrm>
            </p:grpSpPr>
            <p:sp>
              <p:nvSpPr>
                <p:cNvPr id="7629" name=""/>
                <p:cNvSpPr/>
                <p:nvPr/>
              </p:nvSpPr>
              <p:spPr>
                <a:xfrm>
                  <a:off x="8232120" y="4324320"/>
                  <a:ext cx="91188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0" name=""/>
                <p:cNvSpPr/>
                <p:nvPr/>
              </p:nvSpPr>
              <p:spPr>
                <a:xfrm>
                  <a:off x="8232120" y="4390920"/>
                  <a:ext cx="91188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1" name=""/>
                <p:cNvSpPr/>
                <p:nvPr/>
              </p:nvSpPr>
              <p:spPr>
                <a:xfrm>
                  <a:off x="8232120" y="4457160"/>
                  <a:ext cx="91188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32" name=""/>
              <p:cNvSpPr/>
              <p:nvPr/>
            </p:nvSpPr>
            <p:spPr>
              <a:xfrm>
                <a:off x="8221680" y="3844440"/>
                <a:ext cx="889200" cy="1900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>
                <a:off x="8218080" y="3855960"/>
                <a:ext cx="900000" cy="880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 flipV="1">
                <a:off x="5692680" y="3790800"/>
                <a:ext cx="2121840" cy="965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 flipV="1">
                <a:off x="6242760" y="4027320"/>
                <a:ext cx="0" cy="408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 flipV="1">
                <a:off x="6240600" y="4219920"/>
                <a:ext cx="0" cy="6840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 flipV="1" rot="5400000">
                <a:off x="6325200" y="3972960"/>
                <a:ext cx="378720" cy="559440"/>
              </a:xfrm>
              <a:prstGeom prst="triangle">
                <a:avLst>
                  <a:gd name="adj" fmla="val 50000"/>
                </a:avLst>
              </a:prstGeom>
              <a:solidFill>
                <a:srgbClr val="ff8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 flipV="1">
                <a:off x="6789960" y="3816000"/>
                <a:ext cx="0" cy="443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 flipH="1" flipV="1">
                <a:off x="6224400" y="4257720"/>
                <a:ext cx="1373400" cy="477720"/>
              </a:xfrm>
              <a:prstGeom prst="rtTriangle">
                <a:avLst/>
              </a:prstGeom>
              <a:solidFill>
                <a:srgbClr val="ff8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40" name=""/>
              <p:cNvGrpSpPr/>
              <p:nvPr/>
            </p:nvGrpSpPr>
            <p:grpSpPr>
              <a:xfrm>
                <a:off x="6789960" y="4272840"/>
                <a:ext cx="786600" cy="258480"/>
                <a:chOff x="6789960" y="4272840"/>
                <a:chExt cx="786600" cy="258480"/>
              </a:xfrm>
            </p:grpSpPr>
            <p:sp>
              <p:nvSpPr>
                <p:cNvPr id="7641" name=""/>
                <p:cNvSpPr/>
                <p:nvPr/>
              </p:nvSpPr>
              <p:spPr>
                <a:xfrm>
                  <a:off x="6800040" y="4283280"/>
                  <a:ext cx="759960" cy="15804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2" name=""/>
                <p:cNvSpPr/>
                <p:nvPr/>
              </p:nvSpPr>
              <p:spPr>
                <a:xfrm>
                  <a:off x="6789960" y="4272840"/>
                  <a:ext cx="786600" cy="90000"/>
                </a:xfrm>
                <a:prstGeom prst="line">
                  <a:avLst/>
                </a:prstGeom>
                <a:ln w="572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3" name=""/>
                <p:cNvSpPr/>
                <p:nvPr/>
              </p:nvSpPr>
              <p:spPr>
                <a:xfrm>
                  <a:off x="6789960" y="4295520"/>
                  <a:ext cx="759960" cy="23580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44" name=""/>
              <p:cNvSpPr/>
              <p:nvPr/>
            </p:nvSpPr>
            <p:spPr>
              <a:xfrm>
                <a:off x="6786000" y="4122000"/>
                <a:ext cx="805680" cy="147960"/>
              </a:xfrm>
              <a:custGeom>
                <a:avLst/>
                <a:gdLst/>
                <a:ahLst/>
                <a:rect l="l" t="t" r="r" b="b"/>
                <a:pathLst>
                  <a:path w="691" h="218">
                    <a:moveTo>
                      <a:pt x="0" y="200"/>
                    </a:moveTo>
                    <a:lnTo>
                      <a:pt x="691" y="0"/>
                    </a:lnTo>
                    <a:lnTo>
                      <a:pt x="691" y="218"/>
                    </a:lnTo>
                    <a:lnTo>
                      <a:pt x="0" y="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cccc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5" name="PlaceHolder 1"/>
          <p:cNvSpPr>
            <a:spLocks noGrp="1"/>
          </p:cNvSpPr>
          <p:nvPr>
            <p:ph type="title"/>
          </p:nvPr>
        </p:nvSpPr>
        <p:spPr>
          <a:xfrm>
            <a:off x="205920" y="619200"/>
            <a:ext cx="5767560" cy="403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lIns="61200" rIns="61200" tIns="24480" bIns="2448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Occultations d'étoiles par la Lune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6" name=""/>
          <p:cNvSpPr/>
          <p:nvPr/>
        </p:nvSpPr>
        <p:spPr>
          <a:xfrm>
            <a:off x="126720" y="1130400"/>
            <a:ext cx="44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'observation du phénomè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7" name=""/>
          <p:cNvGrpSpPr/>
          <p:nvPr/>
        </p:nvGrpSpPr>
        <p:grpSpPr>
          <a:xfrm>
            <a:off x="243000" y="3341520"/>
            <a:ext cx="8881920" cy="3310920"/>
            <a:chOff x="243000" y="3341520"/>
            <a:chExt cx="8881920" cy="3310920"/>
          </a:xfrm>
        </p:grpSpPr>
        <p:sp>
          <p:nvSpPr>
            <p:cNvPr id="7648" name=""/>
            <p:cNvSpPr/>
            <p:nvPr/>
          </p:nvSpPr>
          <p:spPr>
            <a:xfrm>
              <a:off x="243000" y="3341520"/>
              <a:ext cx="6277680" cy="33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24480" bIns="244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l'observable est une courbe de lumière (bruitée) :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signal photométriqu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donnant l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puissance collectée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par le télescop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au cours du passage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des franges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(durée typiqu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du passage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0.1 seconde  en visible)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9" name=""/>
            <p:cNvGrpSpPr/>
            <p:nvPr/>
          </p:nvGrpSpPr>
          <p:grpSpPr>
            <a:xfrm>
              <a:off x="4051440" y="3876840"/>
              <a:ext cx="5073480" cy="2419200"/>
              <a:chOff x="4051440" y="3876840"/>
              <a:chExt cx="5073480" cy="2419200"/>
            </a:xfrm>
          </p:grpSpPr>
          <p:sp>
            <p:nvSpPr>
              <p:cNvPr id="7650" name=""/>
              <p:cNvSpPr/>
              <p:nvPr/>
            </p:nvSpPr>
            <p:spPr>
              <a:xfrm>
                <a:off x="4051440" y="6068880"/>
                <a:ext cx="478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 flipV="1">
                <a:off x="4265640" y="3994200"/>
                <a:ext cx="0" cy="230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>
                <a:off x="4350600" y="3876840"/>
                <a:ext cx="4834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560" rIns="61560" tIns="24480" bIns="2448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738360"/>
                    <a:tab algn="l" pos="1476360"/>
                    <a:tab algn="l" pos="2214720"/>
                    <a:tab algn="l" pos="2952720"/>
                    <a:tab algn="l" pos="3691080"/>
                    <a:tab algn="l" pos="4429080"/>
                    <a:tab algn="l" pos="5167440"/>
                    <a:tab algn="l" pos="5905440"/>
                    <a:tab algn="l" pos="6643800"/>
                    <a:tab algn="l" pos="7381800"/>
                    <a:tab algn="l" pos="8120160"/>
                    <a:tab algn="l" pos="8858160"/>
                    <a:tab algn="l" pos="9596520"/>
                    <a:tab algn="l" pos="10334520"/>
                  </a:tabLst>
                </a:pPr>
                <a:r>
                  <a:rPr b="1" lang="fr-FR" sz="1700" spc="-1" strike="noStrike">
                    <a:solidFill>
                      <a:srgbClr val="000000"/>
                    </a:solidFill>
                    <a:latin typeface="Arial"/>
                  </a:rPr>
                  <a:t>S(t)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>
                <a:off x="8929440" y="5945040"/>
                <a:ext cx="19548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560" rIns="61560" tIns="24480" bIns="2448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738360"/>
                    <a:tab algn="l" pos="1476360"/>
                    <a:tab algn="l" pos="2214720"/>
                    <a:tab algn="l" pos="2952720"/>
                    <a:tab algn="l" pos="3691080"/>
                    <a:tab algn="l" pos="4429080"/>
                    <a:tab algn="l" pos="5167440"/>
                    <a:tab algn="l" pos="5905440"/>
                    <a:tab algn="l" pos="6643800"/>
                    <a:tab algn="l" pos="7381800"/>
                    <a:tab algn="l" pos="8120160"/>
                    <a:tab algn="l" pos="8858160"/>
                    <a:tab algn="l" pos="9596520"/>
                    <a:tab algn="l" pos="10334520"/>
                  </a:tabLst>
                </a:pPr>
                <a:r>
                  <a:rPr b="1" lang="fr-FR" sz="17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6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33680" y="4413240"/>
                <a:ext cx="3703320" cy="158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55" name=""/>
              <p:cNvSpPr/>
              <p:nvPr/>
            </p:nvSpPr>
            <p:spPr>
              <a:xfrm>
                <a:off x="4357440" y="4538520"/>
                <a:ext cx="3619080" cy="1192320"/>
              </a:xfrm>
              <a:custGeom>
                <a:avLst/>
                <a:gdLst/>
                <a:ahLst/>
                <a:rect l="l" t="t" r="r" b="b"/>
                <a:pathLst>
                  <a:path w="2280" h="751">
                    <a:moveTo>
                      <a:pt x="0" y="227"/>
                    </a:moveTo>
                    <a:cubicBezTo>
                      <a:pt x="10" y="226"/>
                      <a:pt x="45" y="216"/>
                      <a:pt x="60" y="219"/>
                    </a:cubicBezTo>
                    <a:cubicBezTo>
                      <a:pt x="75" y="222"/>
                      <a:pt x="81" y="241"/>
                      <a:pt x="92" y="243"/>
                    </a:cubicBezTo>
                    <a:cubicBezTo>
                      <a:pt x="103" y="245"/>
                      <a:pt x="115" y="236"/>
                      <a:pt x="128" y="231"/>
                    </a:cubicBezTo>
                    <a:cubicBezTo>
                      <a:pt x="141" y="226"/>
                      <a:pt x="161" y="209"/>
                      <a:pt x="172" y="211"/>
                    </a:cubicBezTo>
                    <a:cubicBezTo>
                      <a:pt x="183" y="213"/>
                      <a:pt x="183" y="240"/>
                      <a:pt x="196" y="243"/>
                    </a:cubicBezTo>
                    <a:cubicBezTo>
                      <a:pt x="209" y="246"/>
                      <a:pt x="230" y="232"/>
                      <a:pt x="248" y="227"/>
                    </a:cubicBezTo>
                    <a:cubicBezTo>
                      <a:pt x="266" y="222"/>
                      <a:pt x="289" y="210"/>
                      <a:pt x="304" y="211"/>
                    </a:cubicBezTo>
                    <a:cubicBezTo>
                      <a:pt x="319" y="212"/>
                      <a:pt x="326" y="236"/>
                      <a:pt x="336" y="235"/>
                    </a:cubicBezTo>
                    <a:cubicBezTo>
                      <a:pt x="346" y="234"/>
                      <a:pt x="354" y="208"/>
                      <a:pt x="364" y="207"/>
                    </a:cubicBezTo>
                    <a:cubicBezTo>
                      <a:pt x="374" y="206"/>
                      <a:pt x="386" y="230"/>
                      <a:pt x="396" y="231"/>
                    </a:cubicBezTo>
                    <a:cubicBezTo>
                      <a:pt x="406" y="232"/>
                      <a:pt x="414" y="211"/>
                      <a:pt x="424" y="211"/>
                    </a:cubicBezTo>
                    <a:cubicBezTo>
                      <a:pt x="434" y="211"/>
                      <a:pt x="446" y="235"/>
                      <a:pt x="456" y="231"/>
                    </a:cubicBezTo>
                    <a:cubicBezTo>
                      <a:pt x="466" y="227"/>
                      <a:pt x="475" y="188"/>
                      <a:pt x="484" y="187"/>
                    </a:cubicBezTo>
                    <a:cubicBezTo>
                      <a:pt x="493" y="186"/>
                      <a:pt x="503" y="219"/>
                      <a:pt x="512" y="223"/>
                    </a:cubicBezTo>
                    <a:cubicBezTo>
                      <a:pt x="521" y="227"/>
                      <a:pt x="531" y="206"/>
                      <a:pt x="540" y="211"/>
                    </a:cubicBezTo>
                    <a:cubicBezTo>
                      <a:pt x="549" y="216"/>
                      <a:pt x="559" y="252"/>
                      <a:pt x="568" y="251"/>
                    </a:cubicBezTo>
                    <a:cubicBezTo>
                      <a:pt x="577" y="250"/>
                      <a:pt x="582" y="210"/>
                      <a:pt x="592" y="207"/>
                    </a:cubicBezTo>
                    <a:cubicBezTo>
                      <a:pt x="602" y="204"/>
                      <a:pt x="615" y="235"/>
                      <a:pt x="628" y="235"/>
                    </a:cubicBezTo>
                    <a:cubicBezTo>
                      <a:pt x="641" y="235"/>
                      <a:pt x="659" y="202"/>
                      <a:pt x="672" y="207"/>
                    </a:cubicBezTo>
                    <a:cubicBezTo>
                      <a:pt x="685" y="212"/>
                      <a:pt x="699" y="264"/>
                      <a:pt x="708" y="267"/>
                    </a:cubicBezTo>
                    <a:cubicBezTo>
                      <a:pt x="717" y="270"/>
                      <a:pt x="719" y="228"/>
                      <a:pt x="728" y="227"/>
                    </a:cubicBezTo>
                    <a:cubicBezTo>
                      <a:pt x="737" y="226"/>
                      <a:pt x="754" y="272"/>
                      <a:pt x="764" y="263"/>
                    </a:cubicBezTo>
                    <a:cubicBezTo>
                      <a:pt x="774" y="254"/>
                      <a:pt x="779" y="169"/>
                      <a:pt x="788" y="175"/>
                    </a:cubicBezTo>
                    <a:cubicBezTo>
                      <a:pt x="797" y="181"/>
                      <a:pt x="808" y="300"/>
                      <a:pt x="820" y="299"/>
                    </a:cubicBezTo>
                    <a:cubicBezTo>
                      <a:pt x="832" y="298"/>
                      <a:pt x="847" y="170"/>
                      <a:pt x="860" y="171"/>
                    </a:cubicBezTo>
                    <a:cubicBezTo>
                      <a:pt x="873" y="172"/>
                      <a:pt x="884" y="310"/>
                      <a:pt x="900" y="303"/>
                    </a:cubicBezTo>
                    <a:cubicBezTo>
                      <a:pt x="916" y="296"/>
                      <a:pt x="938" y="132"/>
                      <a:pt x="956" y="131"/>
                    </a:cubicBezTo>
                    <a:cubicBezTo>
                      <a:pt x="974" y="130"/>
                      <a:pt x="985" y="314"/>
                      <a:pt x="1008" y="299"/>
                    </a:cubicBezTo>
                    <a:cubicBezTo>
                      <a:pt x="1031" y="284"/>
                      <a:pt x="1059" y="0"/>
                      <a:pt x="1092" y="43"/>
                    </a:cubicBezTo>
                    <a:cubicBezTo>
                      <a:pt x="1125" y="86"/>
                      <a:pt x="1175" y="451"/>
                      <a:pt x="1208" y="559"/>
                    </a:cubicBezTo>
                    <a:cubicBezTo>
                      <a:pt x="1241" y="667"/>
                      <a:pt x="1256" y="662"/>
                      <a:pt x="1292" y="691"/>
                    </a:cubicBezTo>
                    <a:cubicBezTo>
                      <a:pt x="1328" y="720"/>
                      <a:pt x="1324" y="726"/>
                      <a:pt x="1424" y="735"/>
                    </a:cubicBezTo>
                    <a:cubicBezTo>
                      <a:pt x="1524" y="744"/>
                      <a:pt x="1749" y="740"/>
                      <a:pt x="1892" y="743"/>
                    </a:cubicBezTo>
                    <a:cubicBezTo>
                      <a:pt x="2035" y="746"/>
                      <a:pt x="2215" y="750"/>
                      <a:pt x="2280" y="751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56" name=""/>
          <p:cNvGrpSpPr/>
          <p:nvPr/>
        </p:nvGrpSpPr>
        <p:grpSpPr>
          <a:xfrm>
            <a:off x="690480" y="938160"/>
            <a:ext cx="7499160" cy="2258640"/>
            <a:chOff x="690480" y="938160"/>
            <a:chExt cx="7499160" cy="2258640"/>
          </a:xfrm>
        </p:grpSpPr>
        <p:grpSp>
          <p:nvGrpSpPr>
            <p:cNvPr id="7657" name=""/>
            <p:cNvGrpSpPr/>
            <p:nvPr/>
          </p:nvGrpSpPr>
          <p:grpSpPr>
            <a:xfrm>
              <a:off x="5499000" y="938160"/>
              <a:ext cx="2690640" cy="2258640"/>
              <a:chOff x="5499000" y="938160"/>
              <a:chExt cx="2690640" cy="2258640"/>
            </a:xfrm>
          </p:grpSpPr>
          <p:grpSp>
            <p:nvGrpSpPr>
              <p:cNvPr id="7658" name=""/>
              <p:cNvGrpSpPr/>
              <p:nvPr/>
            </p:nvGrpSpPr>
            <p:grpSpPr>
              <a:xfrm>
                <a:off x="6537240" y="988920"/>
                <a:ext cx="1652400" cy="1090080"/>
                <a:chOff x="6537240" y="988920"/>
                <a:chExt cx="1652400" cy="1090080"/>
              </a:xfrm>
            </p:grpSpPr>
            <p:sp>
              <p:nvSpPr>
                <p:cNvPr id="7659" name=""/>
                <p:cNvSpPr/>
                <p:nvPr/>
              </p:nvSpPr>
              <p:spPr>
                <a:xfrm rot="5400000">
                  <a:off x="7606440" y="1495800"/>
                  <a:ext cx="777960" cy="388080"/>
                </a:xfrm>
                <a:prstGeom prst="parallelogram">
                  <a:avLst>
                    <a:gd name="adj" fmla="val 22682"/>
                  </a:avLst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0" name=""/>
                <p:cNvSpPr/>
                <p:nvPr/>
              </p:nvSpPr>
              <p:spPr>
                <a:xfrm rot="5400000">
                  <a:off x="6697080" y="828720"/>
                  <a:ext cx="1010160" cy="1329840"/>
                </a:xfrm>
                <a:prstGeom prst="parallelogram">
                  <a:avLst>
                    <a:gd name="adj" fmla="val 32593"/>
                  </a:avLst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1" name=""/>
                <p:cNvSpPr/>
                <p:nvPr/>
              </p:nvSpPr>
              <p:spPr>
                <a:xfrm rot="5400000">
                  <a:off x="6868440" y="1398960"/>
                  <a:ext cx="747000" cy="187560"/>
                </a:xfrm>
                <a:prstGeom prst="parallelogram">
                  <a:avLst>
                    <a:gd name="adj" fmla="val 30018"/>
                  </a:avLst>
                </a:prstGeom>
                <a:gradFill rotWithShape="0">
                  <a:gsLst>
                    <a:gs pos="0">
                      <a:srgbClr val="ccccff"/>
                    </a:gs>
                    <a:gs pos="5000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2" name=""/>
                <p:cNvSpPr/>
                <p:nvPr/>
              </p:nvSpPr>
              <p:spPr>
                <a:xfrm rot="5400000">
                  <a:off x="6745320" y="1423800"/>
                  <a:ext cx="714600" cy="83880"/>
                </a:xfrm>
                <a:prstGeom prst="parallelogram">
                  <a:avLst>
                    <a:gd name="adj" fmla="val 10058"/>
                  </a:avLst>
                </a:prstGeom>
                <a:gradFill rotWithShape="0">
                  <a:gsLst>
                    <a:gs pos="0">
                      <a:srgbClr val="ccccff"/>
                    </a:gs>
                    <a:gs pos="5000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3" name=""/>
                <p:cNvSpPr/>
                <p:nvPr/>
              </p:nvSpPr>
              <p:spPr>
                <a:xfrm rot="5400000">
                  <a:off x="6668640" y="1433160"/>
                  <a:ext cx="720720" cy="38160"/>
                </a:xfrm>
                <a:prstGeom prst="parallelogram">
                  <a:avLst>
                    <a:gd name="adj" fmla="val 22297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4" name=""/>
                <p:cNvSpPr/>
                <p:nvPr/>
              </p:nvSpPr>
              <p:spPr>
                <a:xfrm rot="5400000">
                  <a:off x="7054200" y="1474920"/>
                  <a:ext cx="713880" cy="141840"/>
                </a:xfrm>
                <a:prstGeom prst="parallelogram">
                  <a:avLst>
                    <a:gd name="adj" fmla="val 29615"/>
                  </a:avLst>
                </a:prstGeom>
                <a:gradFill rotWithShape="0">
                  <a:gsLst>
                    <a:gs pos="0">
                      <a:srgbClr val="9999ff"/>
                    </a:gs>
                    <a:gs pos="50000">
                      <a:srgbClr val="ffffff"/>
                    </a:gs>
                    <a:gs pos="100000">
                      <a:srgbClr val="9999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5" name=""/>
                <p:cNvSpPr/>
                <p:nvPr/>
              </p:nvSpPr>
              <p:spPr>
                <a:xfrm rot="5400000">
                  <a:off x="7203240" y="1449000"/>
                  <a:ext cx="727200" cy="264600"/>
                </a:xfrm>
                <a:prstGeom prst="parallelogram">
                  <a:avLst>
                    <a:gd name="adj" fmla="val 18780"/>
                  </a:avLst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66" name=""/>
              <p:cNvSpPr/>
              <p:nvPr/>
            </p:nvSpPr>
            <p:spPr>
              <a:xfrm>
                <a:off x="8016840" y="1636560"/>
                <a:ext cx="96840" cy="174600"/>
              </a:xfrm>
              <a:prstGeom prst="ellipse">
                <a:avLst/>
              </a:prstGeom>
              <a:gradFill rotWithShape="0">
                <a:gsLst>
                  <a:gs pos="0">
                    <a:srgbClr val="ccecff"/>
                  </a:gs>
                  <a:gs pos="5000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 rot="1170600">
                <a:off x="7065720" y="2377800"/>
                <a:ext cx="434880" cy="216000"/>
              </a:xfrm>
              <a:prstGeom prst="rightArrow">
                <a:avLst>
                  <a:gd name="adj1" fmla="val 50000"/>
                  <a:gd name="adj2" fmla="val 50333"/>
                </a:avLst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68" name=""/>
              <p:cNvGrpSpPr/>
              <p:nvPr/>
            </p:nvGrpSpPr>
            <p:grpSpPr>
              <a:xfrm>
                <a:off x="6033960" y="1460160"/>
                <a:ext cx="845280" cy="1736640"/>
                <a:chOff x="6033960" y="1460160"/>
                <a:chExt cx="845280" cy="1736640"/>
              </a:xfrm>
            </p:grpSpPr>
            <p:sp>
              <p:nvSpPr>
                <p:cNvPr id="7669" name=""/>
                <p:cNvSpPr/>
                <p:nvPr/>
              </p:nvSpPr>
              <p:spPr>
                <a:xfrm>
                  <a:off x="6467760" y="1559880"/>
                  <a:ext cx="411480" cy="163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764" y="2546"/>
                      </a:moveTo>
                      <a:arcTo wR="10800" hR="10800" stAng="-2990710" swAng="576485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764" y="2546"/>
                      </a:moveTo>
                      <a:arcTo wR="10800" hR="10800" stAng="-2990710" swAng="5764850"/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0" name=""/>
                <p:cNvSpPr/>
                <p:nvPr/>
              </p:nvSpPr>
              <p:spPr>
                <a:xfrm>
                  <a:off x="6033960" y="1460160"/>
                  <a:ext cx="801000" cy="1496520"/>
                </a:xfrm>
                <a:custGeom>
                  <a:avLst/>
                  <a:gdLst/>
                  <a:ahLst/>
                  <a:rect l="l" t="t" r="r" b="b"/>
                  <a:pathLst>
                    <a:path w="1134" h="2121">
                      <a:moveTo>
                        <a:pt x="1107" y="402"/>
                      </a:moveTo>
                      <a:lnTo>
                        <a:pt x="0" y="0"/>
                      </a:lnTo>
                      <a:lnTo>
                        <a:pt x="9" y="1655"/>
                      </a:lnTo>
                      <a:lnTo>
                        <a:pt x="1134" y="2121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71" name=""/>
              <p:cNvSpPr/>
              <p:nvPr/>
            </p:nvSpPr>
            <p:spPr>
              <a:xfrm flipH="1">
                <a:off x="5862600" y="1658880"/>
                <a:ext cx="1690560" cy="116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>
                <a:off x="5852880" y="2057040"/>
                <a:ext cx="1433520" cy="53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3" name=""/>
              <p:cNvSpPr/>
              <p:nvPr/>
            </p:nvSpPr>
            <p:spPr>
              <a:xfrm flipV="1">
                <a:off x="6595920" y="938160"/>
                <a:ext cx="0" cy="215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>
                <a:off x="5499000" y="2795400"/>
                <a:ext cx="318960" cy="298440"/>
              </a:xfrm>
              <a:prstGeom prst="star5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 flipH="1">
                <a:off x="5878080" y="1726920"/>
                <a:ext cx="2189160" cy="11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6" name=""/>
            <p:cNvSpPr/>
            <p:nvPr/>
          </p:nvSpPr>
          <p:spPr>
            <a:xfrm>
              <a:off x="690480" y="1730520"/>
              <a:ext cx="3263760" cy="12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s franges se déplac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vant le telesc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vitesse de l'ordre de 700 m/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7" name="PlaceHolder 1"/>
          <p:cNvSpPr>
            <a:spLocks noGrp="1"/>
          </p:cNvSpPr>
          <p:nvPr>
            <p:ph type="title"/>
          </p:nvPr>
        </p:nvSpPr>
        <p:spPr>
          <a:xfrm>
            <a:off x="229680" y="579600"/>
            <a:ext cx="5565960" cy="83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Occultations d'étoiles par la Lune_3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 interféromètre grand comme ç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8" name=""/>
          <p:cNvGrpSpPr/>
          <p:nvPr/>
        </p:nvGrpSpPr>
        <p:grpSpPr>
          <a:xfrm>
            <a:off x="6372360" y="2685960"/>
            <a:ext cx="2850840" cy="3619440"/>
            <a:chOff x="6372360" y="2685960"/>
            <a:chExt cx="2850840" cy="3619440"/>
          </a:xfrm>
        </p:grpSpPr>
        <p:sp>
          <p:nvSpPr>
            <p:cNvPr id="7679" name=""/>
            <p:cNvSpPr/>
            <p:nvPr/>
          </p:nvSpPr>
          <p:spPr>
            <a:xfrm>
              <a:off x="6372360" y="5905080"/>
              <a:ext cx="399960" cy="209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6562800" y="2685960"/>
              <a:ext cx="0" cy="36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1" name=""/>
            <p:cNvSpPr/>
            <p:nvPr/>
          </p:nvSpPr>
          <p:spPr>
            <a:xfrm>
              <a:off x="6764040" y="4541760"/>
              <a:ext cx="245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3300"/>
                  </a:solidFill>
                  <a:latin typeface="Comic Sans MS"/>
                </a:rPr>
                <a:t>base de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3300"/>
                  </a:solidFill>
                  <a:latin typeface="Comic Sans MS"/>
                </a:rPr>
                <a:t>l'interferomet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2" name=""/>
            <p:cNvSpPr/>
            <p:nvPr/>
          </p:nvSpPr>
          <p:spPr>
            <a:xfrm flipH="1">
              <a:off x="6562800" y="4228920"/>
              <a:ext cx="10288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3" name=""/>
            <p:cNvSpPr/>
            <p:nvPr/>
          </p:nvSpPr>
          <p:spPr>
            <a:xfrm>
              <a:off x="6848640" y="5808240"/>
              <a:ext cx="13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elesc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4" name=""/>
            <p:cNvSpPr/>
            <p:nvPr/>
          </p:nvSpPr>
          <p:spPr>
            <a:xfrm>
              <a:off x="7626600" y="3627360"/>
              <a:ext cx="1044360" cy="10443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5" name=""/>
            <p:cNvSpPr/>
            <p:nvPr/>
          </p:nvSpPr>
          <p:spPr>
            <a:xfrm>
              <a:off x="7708320" y="3865320"/>
              <a:ext cx="91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lu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6410520" y="3143160"/>
              <a:ext cx="295200" cy="209520"/>
            </a:xfrm>
            <a:prstGeom prst="star5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7" name=""/>
          <p:cNvSpPr/>
          <p:nvPr/>
        </p:nvSpPr>
        <p:spPr>
          <a:xfrm>
            <a:off x="161640" y="1417680"/>
            <a:ext cx="43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'exploitation du phénomè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8" name=""/>
          <p:cNvGrpSpPr/>
          <p:nvPr/>
        </p:nvGrpSpPr>
        <p:grpSpPr>
          <a:xfrm>
            <a:off x="317520" y="1208160"/>
            <a:ext cx="8726040" cy="3952800"/>
            <a:chOff x="317520" y="1208160"/>
            <a:chExt cx="8726040" cy="3952800"/>
          </a:xfrm>
        </p:grpSpPr>
        <p:grpSp>
          <p:nvGrpSpPr>
            <p:cNvPr id="7689" name=""/>
            <p:cNvGrpSpPr/>
            <p:nvPr/>
          </p:nvGrpSpPr>
          <p:grpSpPr>
            <a:xfrm>
              <a:off x="5537160" y="1208160"/>
              <a:ext cx="3506400" cy="1290240"/>
              <a:chOff x="5537160" y="1208160"/>
              <a:chExt cx="3506400" cy="1290240"/>
            </a:xfrm>
          </p:grpSpPr>
          <p:grpSp>
            <p:nvGrpSpPr>
              <p:cNvPr id="7690" name=""/>
              <p:cNvGrpSpPr/>
              <p:nvPr/>
            </p:nvGrpSpPr>
            <p:grpSpPr>
              <a:xfrm>
                <a:off x="7230960" y="1208160"/>
                <a:ext cx="549360" cy="832680"/>
                <a:chOff x="7230960" y="1208160"/>
                <a:chExt cx="549360" cy="832680"/>
              </a:xfrm>
            </p:grpSpPr>
            <p:sp>
              <p:nvSpPr>
                <p:cNvPr id="7691" name=""/>
                <p:cNvSpPr/>
                <p:nvPr/>
              </p:nvSpPr>
              <p:spPr>
                <a:xfrm>
                  <a:off x="7230960" y="1473480"/>
                  <a:ext cx="0" cy="56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2" name=""/>
                <p:cNvSpPr/>
                <p:nvPr/>
              </p:nvSpPr>
              <p:spPr>
                <a:xfrm>
                  <a:off x="7230960" y="1208160"/>
                  <a:ext cx="549360" cy="823680"/>
                </a:xfrm>
                <a:custGeom>
                  <a:avLst/>
                  <a:gdLst/>
                  <a:ahLst/>
                  <a:rect l="l" t="t" r="r" b="b"/>
                  <a:pathLst>
                    <a:path w="720" h="1080">
                      <a:moveTo>
                        <a:pt x="0" y="336"/>
                      </a:moveTo>
                      <a:lnTo>
                        <a:pt x="624" y="0"/>
                      </a:lnTo>
                      <a:lnTo>
                        <a:pt x="720" y="684"/>
                      </a:lnTo>
                      <a:lnTo>
                        <a:pt x="12" y="1080"/>
                      </a:lnTo>
                    </a:path>
                  </a:pathLst>
                </a:custGeom>
                <a:solidFill>
                  <a:srgbClr val="b2b2b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93" name=""/>
              <p:cNvSpPr/>
              <p:nvPr/>
            </p:nvSpPr>
            <p:spPr>
              <a:xfrm>
                <a:off x="5664960" y="1802880"/>
                <a:ext cx="2902680" cy="32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>
                <a:off x="8503560" y="1977120"/>
                <a:ext cx="164520" cy="25596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>
                <a:off x="6983640" y="1684080"/>
                <a:ext cx="0" cy="46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>
                <a:off x="5537160" y="1713600"/>
                <a:ext cx="141840" cy="135000"/>
              </a:xfrm>
              <a:prstGeom prst="star5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7" name=""/>
              <p:cNvSpPr/>
              <p:nvPr/>
            </p:nvSpPr>
            <p:spPr>
              <a:xfrm>
                <a:off x="5683320" y="1775520"/>
                <a:ext cx="3360240" cy="5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8" name=""/>
              <p:cNvSpPr/>
              <p:nvPr/>
            </p:nvSpPr>
            <p:spPr>
              <a:xfrm flipV="1">
                <a:off x="6635880" y="1692720"/>
                <a:ext cx="768960" cy="48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9" name=""/>
              <p:cNvSpPr/>
              <p:nvPr/>
            </p:nvSpPr>
            <p:spPr>
              <a:xfrm flipV="1">
                <a:off x="8164800" y="1884960"/>
                <a:ext cx="768960" cy="48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>
                <a:off x="8530920" y="1931040"/>
                <a:ext cx="511200" cy="567360"/>
              </a:xfrm>
              <a:custGeom>
                <a:avLst/>
                <a:gdLst/>
                <a:ahLst/>
                <a:rect l="l" t="t" r="r" b="b"/>
                <a:pathLst>
                  <a:path w="670" h="744">
                    <a:moveTo>
                      <a:pt x="492" y="0"/>
                    </a:moveTo>
                    <a:cubicBezTo>
                      <a:pt x="406" y="35"/>
                      <a:pt x="320" y="70"/>
                      <a:pt x="348" y="120"/>
                    </a:cubicBezTo>
                    <a:cubicBezTo>
                      <a:pt x="376" y="170"/>
                      <a:pt x="650" y="268"/>
                      <a:pt x="660" y="300"/>
                    </a:cubicBezTo>
                    <a:cubicBezTo>
                      <a:pt x="670" y="332"/>
                      <a:pt x="424" y="292"/>
                      <a:pt x="408" y="312"/>
                    </a:cubicBezTo>
                    <a:cubicBezTo>
                      <a:pt x="392" y="332"/>
                      <a:pt x="574" y="404"/>
                      <a:pt x="564" y="420"/>
                    </a:cubicBezTo>
                    <a:cubicBezTo>
                      <a:pt x="554" y="436"/>
                      <a:pt x="366" y="394"/>
                      <a:pt x="348" y="408"/>
                    </a:cubicBezTo>
                    <a:cubicBezTo>
                      <a:pt x="330" y="422"/>
                      <a:pt x="454" y="490"/>
                      <a:pt x="456" y="504"/>
                    </a:cubicBezTo>
                    <a:cubicBezTo>
                      <a:pt x="458" y="518"/>
                      <a:pt x="436" y="452"/>
                      <a:pt x="360" y="492"/>
                    </a:cubicBezTo>
                    <a:cubicBezTo>
                      <a:pt x="284" y="532"/>
                      <a:pt x="142" y="638"/>
                      <a:pt x="0" y="74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>
                <a:off x="7438680" y="163368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lu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2" name=""/>
            <p:cNvSpPr/>
            <p:nvPr/>
          </p:nvSpPr>
          <p:spPr>
            <a:xfrm>
              <a:off x="317520" y="2021040"/>
              <a:ext cx="732168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profil des franges est donné par  la convolu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franges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= O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* R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03" name="" descr=""/>
            <p:cNvPicPr/>
            <p:nvPr/>
          </p:nvPicPr>
          <p:blipFill>
            <a:blip r:embed="rId1"/>
            <a:stretch/>
          </p:blipFill>
          <p:spPr>
            <a:xfrm>
              <a:off x="554040" y="3043080"/>
              <a:ext cx="3602160" cy="8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4" name="" descr=""/>
            <p:cNvPicPr/>
            <p:nvPr/>
          </p:nvPicPr>
          <p:blipFill>
            <a:blip r:embed="rId2"/>
            <a:stretch/>
          </p:blipFill>
          <p:spPr>
            <a:xfrm>
              <a:off x="682560" y="3859200"/>
              <a:ext cx="4459320" cy="130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05" name=""/>
          <p:cNvSpPr/>
          <p:nvPr/>
        </p:nvSpPr>
        <p:spPr>
          <a:xfrm>
            <a:off x="489240" y="5022720"/>
            <a:ext cx="6089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information HRA est dans la 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 la courbe (contraste et enveloppe des frang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eut dire qu'on a un interféromè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interféromètre d'Augustin Fres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6" name="PlaceHolder 1"/>
          <p:cNvSpPr>
            <a:spLocks noGrp="1"/>
          </p:cNvSpPr>
          <p:nvPr>
            <p:ph type="title"/>
          </p:nvPr>
        </p:nvSpPr>
        <p:spPr>
          <a:xfrm>
            <a:off x="229680" y="579240"/>
            <a:ext cx="855036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Occultations d'étoiles par la Lune_3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rféromètre  grand comme ça .....   et instrument petit comme ça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7" name=""/>
          <p:cNvGrpSpPr/>
          <p:nvPr/>
        </p:nvGrpSpPr>
        <p:grpSpPr>
          <a:xfrm>
            <a:off x="215280" y="3710160"/>
            <a:ext cx="8345160" cy="2229120"/>
            <a:chOff x="215280" y="3710160"/>
            <a:chExt cx="8345160" cy="2229120"/>
          </a:xfrm>
        </p:grpSpPr>
        <p:grpSp>
          <p:nvGrpSpPr>
            <p:cNvPr id="7708" name=""/>
            <p:cNvGrpSpPr/>
            <p:nvPr/>
          </p:nvGrpSpPr>
          <p:grpSpPr>
            <a:xfrm>
              <a:off x="2433600" y="5122800"/>
              <a:ext cx="5790960" cy="816480"/>
              <a:chOff x="2433600" y="5122800"/>
              <a:chExt cx="5790960" cy="816480"/>
            </a:xfrm>
          </p:grpSpPr>
          <p:sp>
            <p:nvSpPr>
              <p:cNvPr id="7709" name=""/>
              <p:cNvSpPr/>
              <p:nvPr/>
            </p:nvSpPr>
            <p:spPr>
              <a:xfrm>
                <a:off x="5792040" y="5168160"/>
                <a:ext cx="2432520" cy="593640"/>
              </a:xfrm>
              <a:custGeom>
                <a:avLst/>
                <a:gdLst/>
                <a:ahLst/>
                <a:rect l="l" t="t" r="r" b="b"/>
                <a:pathLst>
                  <a:path w="1913" h="467">
                    <a:moveTo>
                      <a:pt x="0" y="441"/>
                    </a:moveTo>
                    <a:cubicBezTo>
                      <a:pt x="44" y="440"/>
                      <a:pt x="178" y="436"/>
                      <a:pt x="264" y="432"/>
                    </a:cubicBezTo>
                    <a:cubicBezTo>
                      <a:pt x="351" y="428"/>
                      <a:pt x="439" y="444"/>
                      <a:pt x="515" y="417"/>
                    </a:cubicBezTo>
                    <a:cubicBezTo>
                      <a:pt x="591" y="390"/>
                      <a:pt x="669" y="321"/>
                      <a:pt x="723" y="267"/>
                    </a:cubicBezTo>
                    <a:cubicBezTo>
                      <a:pt x="777" y="213"/>
                      <a:pt x="809" y="131"/>
                      <a:pt x="837" y="95"/>
                    </a:cubicBezTo>
                    <a:cubicBezTo>
                      <a:pt x="865" y="59"/>
                      <a:pt x="857" y="38"/>
                      <a:pt x="892" y="49"/>
                    </a:cubicBezTo>
                    <a:cubicBezTo>
                      <a:pt x="927" y="60"/>
                      <a:pt x="1001" y="148"/>
                      <a:pt x="1048" y="159"/>
                    </a:cubicBezTo>
                    <a:cubicBezTo>
                      <a:pt x="1095" y="170"/>
                      <a:pt x="1135" y="117"/>
                      <a:pt x="1176" y="113"/>
                    </a:cubicBezTo>
                    <a:cubicBezTo>
                      <a:pt x="1217" y="109"/>
                      <a:pt x="1262" y="134"/>
                      <a:pt x="1295" y="132"/>
                    </a:cubicBezTo>
                    <a:cubicBezTo>
                      <a:pt x="1328" y="130"/>
                      <a:pt x="1343" y="106"/>
                      <a:pt x="1372" y="103"/>
                    </a:cubicBezTo>
                    <a:cubicBezTo>
                      <a:pt x="1401" y="100"/>
                      <a:pt x="1439" y="113"/>
                      <a:pt x="1472" y="112"/>
                    </a:cubicBezTo>
                    <a:cubicBezTo>
                      <a:pt x="1505" y="111"/>
                      <a:pt x="1530" y="100"/>
                      <a:pt x="1570" y="97"/>
                    </a:cubicBezTo>
                    <a:cubicBezTo>
                      <a:pt x="1610" y="94"/>
                      <a:pt x="1658" y="98"/>
                      <a:pt x="1710" y="94"/>
                    </a:cubicBezTo>
                    <a:cubicBezTo>
                      <a:pt x="1762" y="90"/>
                      <a:pt x="1855" y="79"/>
                      <a:pt x="1884" y="74"/>
                    </a:cubicBezTo>
                    <a:cubicBezTo>
                      <a:pt x="1913" y="69"/>
                      <a:pt x="1881" y="0"/>
                      <a:pt x="1884" y="65"/>
                    </a:cubicBezTo>
                    <a:cubicBezTo>
                      <a:pt x="1887" y="130"/>
                      <a:pt x="1899" y="383"/>
                      <a:pt x="1903" y="467"/>
                    </a:cubicBezTo>
                  </a:path>
                </a:pathLst>
              </a:custGeom>
              <a:solidFill>
                <a:srgbClr val="cccc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>
                <a:off x="2658600" y="5441400"/>
                <a:ext cx="115560" cy="313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>
                <a:off x="3196080" y="5421240"/>
                <a:ext cx="21708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>
                <a:off x="5463720" y="5312160"/>
                <a:ext cx="2462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>
                <a:off x="2433600" y="5755680"/>
                <a:ext cx="619200" cy="10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14" name=""/>
              <p:cNvGrpSpPr/>
              <p:nvPr/>
            </p:nvGrpSpPr>
            <p:grpSpPr>
              <a:xfrm>
                <a:off x="2666160" y="5183280"/>
                <a:ext cx="99000" cy="581400"/>
                <a:chOff x="2666160" y="5183280"/>
                <a:chExt cx="99000" cy="581400"/>
              </a:xfrm>
            </p:grpSpPr>
            <p:sp>
              <p:nvSpPr>
                <p:cNvPr id="7715" name=""/>
                <p:cNvSpPr/>
                <p:nvPr/>
              </p:nvSpPr>
              <p:spPr>
                <a:xfrm>
                  <a:off x="2666160" y="5183280"/>
                  <a:ext cx="99000" cy="162360"/>
                </a:xfrm>
                <a:custGeom>
                  <a:avLst/>
                  <a:gdLst/>
                  <a:ahLst/>
                  <a:rect l="l" t="t" r="r" b="b"/>
                  <a:pathLst>
                    <a:path w="78" h="128">
                      <a:moveTo>
                        <a:pt x="43" y="0"/>
                      </a:moveTo>
                      <a:lnTo>
                        <a:pt x="78" y="128"/>
                      </a:lnTo>
                      <a:lnTo>
                        <a:pt x="43" y="128"/>
                      </a:lnTo>
                      <a:lnTo>
                        <a:pt x="0" y="128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6" name=""/>
                <p:cNvSpPr/>
                <p:nvPr/>
              </p:nvSpPr>
              <p:spPr>
                <a:xfrm flipV="1">
                  <a:off x="2720880" y="5335200"/>
                  <a:ext cx="1080" cy="429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17" name=""/>
              <p:cNvSpPr/>
              <p:nvPr/>
            </p:nvSpPr>
            <p:spPr>
              <a:xfrm>
                <a:off x="3158280" y="5122800"/>
                <a:ext cx="2454120" cy="659520"/>
              </a:xfrm>
              <a:custGeom>
                <a:avLst/>
                <a:gdLst/>
                <a:ahLst/>
                <a:rect l="l" t="t" r="r" b="b"/>
                <a:pathLst>
                  <a:path w="1271" h="519">
                    <a:moveTo>
                      <a:pt x="0" y="516"/>
                    </a:moveTo>
                    <a:cubicBezTo>
                      <a:pt x="29" y="515"/>
                      <a:pt x="117" y="511"/>
                      <a:pt x="174" y="507"/>
                    </a:cubicBezTo>
                    <a:cubicBezTo>
                      <a:pt x="231" y="503"/>
                      <a:pt x="289" y="519"/>
                      <a:pt x="339" y="492"/>
                    </a:cubicBezTo>
                    <a:cubicBezTo>
                      <a:pt x="389" y="465"/>
                      <a:pt x="441" y="397"/>
                      <a:pt x="476" y="342"/>
                    </a:cubicBezTo>
                    <a:cubicBezTo>
                      <a:pt x="511" y="287"/>
                      <a:pt x="526" y="213"/>
                      <a:pt x="549" y="160"/>
                    </a:cubicBezTo>
                    <a:cubicBezTo>
                      <a:pt x="572" y="107"/>
                      <a:pt x="587" y="0"/>
                      <a:pt x="613" y="25"/>
                    </a:cubicBezTo>
                    <a:cubicBezTo>
                      <a:pt x="639" y="50"/>
                      <a:pt x="677" y="297"/>
                      <a:pt x="704" y="309"/>
                    </a:cubicBezTo>
                    <a:cubicBezTo>
                      <a:pt x="731" y="321"/>
                      <a:pt x="752" y="107"/>
                      <a:pt x="778" y="99"/>
                    </a:cubicBezTo>
                    <a:cubicBezTo>
                      <a:pt x="804" y="91"/>
                      <a:pt x="839" y="258"/>
                      <a:pt x="860" y="263"/>
                    </a:cubicBezTo>
                    <a:cubicBezTo>
                      <a:pt x="881" y="268"/>
                      <a:pt x="891" y="132"/>
                      <a:pt x="906" y="126"/>
                    </a:cubicBezTo>
                    <a:cubicBezTo>
                      <a:pt x="921" y="120"/>
                      <a:pt x="930" y="219"/>
                      <a:pt x="951" y="227"/>
                    </a:cubicBezTo>
                    <a:cubicBezTo>
                      <a:pt x="972" y="235"/>
                      <a:pt x="981" y="183"/>
                      <a:pt x="1034" y="172"/>
                    </a:cubicBezTo>
                    <a:cubicBezTo>
                      <a:pt x="1087" y="161"/>
                      <a:pt x="1179" y="162"/>
                      <a:pt x="1271" y="16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8" name=""/>
              <p:cNvSpPr/>
              <p:nvPr/>
            </p:nvSpPr>
            <p:spPr>
              <a:xfrm>
                <a:off x="5774040" y="5169600"/>
                <a:ext cx="2432520" cy="597240"/>
              </a:xfrm>
              <a:custGeom>
                <a:avLst/>
                <a:gdLst/>
                <a:ahLst/>
                <a:rect l="l" t="t" r="r" b="b"/>
                <a:pathLst>
                  <a:path w="1913" h="470">
                    <a:moveTo>
                      <a:pt x="0" y="444"/>
                    </a:moveTo>
                    <a:cubicBezTo>
                      <a:pt x="44" y="443"/>
                      <a:pt x="178" y="439"/>
                      <a:pt x="264" y="435"/>
                    </a:cubicBezTo>
                    <a:cubicBezTo>
                      <a:pt x="351" y="431"/>
                      <a:pt x="439" y="447"/>
                      <a:pt x="515" y="420"/>
                    </a:cubicBezTo>
                    <a:cubicBezTo>
                      <a:pt x="591" y="393"/>
                      <a:pt x="670" y="325"/>
                      <a:pt x="723" y="270"/>
                    </a:cubicBezTo>
                    <a:cubicBezTo>
                      <a:pt x="776" y="215"/>
                      <a:pt x="804" y="130"/>
                      <a:pt x="834" y="88"/>
                    </a:cubicBezTo>
                    <a:cubicBezTo>
                      <a:pt x="864" y="46"/>
                      <a:pt x="871" y="0"/>
                      <a:pt x="906" y="15"/>
                    </a:cubicBezTo>
                    <a:cubicBezTo>
                      <a:pt x="941" y="30"/>
                      <a:pt x="997" y="165"/>
                      <a:pt x="1043" y="179"/>
                    </a:cubicBezTo>
                    <a:cubicBezTo>
                      <a:pt x="1089" y="193"/>
                      <a:pt x="1139" y="101"/>
                      <a:pt x="1180" y="97"/>
                    </a:cubicBezTo>
                    <a:cubicBezTo>
                      <a:pt x="1221" y="93"/>
                      <a:pt x="1258" y="150"/>
                      <a:pt x="1290" y="152"/>
                    </a:cubicBezTo>
                    <a:cubicBezTo>
                      <a:pt x="1322" y="154"/>
                      <a:pt x="1342" y="112"/>
                      <a:pt x="1372" y="106"/>
                    </a:cubicBezTo>
                    <a:cubicBezTo>
                      <a:pt x="1402" y="100"/>
                      <a:pt x="1439" y="116"/>
                      <a:pt x="1472" y="115"/>
                    </a:cubicBezTo>
                    <a:cubicBezTo>
                      <a:pt x="1505" y="114"/>
                      <a:pt x="1530" y="103"/>
                      <a:pt x="1570" y="100"/>
                    </a:cubicBezTo>
                    <a:cubicBezTo>
                      <a:pt x="1610" y="97"/>
                      <a:pt x="1658" y="101"/>
                      <a:pt x="1710" y="97"/>
                    </a:cubicBezTo>
                    <a:cubicBezTo>
                      <a:pt x="1762" y="93"/>
                      <a:pt x="1855" y="82"/>
                      <a:pt x="1884" y="77"/>
                    </a:cubicBezTo>
                    <a:cubicBezTo>
                      <a:pt x="1913" y="72"/>
                      <a:pt x="1881" y="3"/>
                      <a:pt x="1884" y="68"/>
                    </a:cubicBezTo>
                    <a:cubicBezTo>
                      <a:pt x="1887" y="133"/>
                      <a:pt x="1899" y="386"/>
                      <a:pt x="1903" y="470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9" name=""/>
            <p:cNvSpPr/>
            <p:nvPr/>
          </p:nvSpPr>
          <p:spPr>
            <a:xfrm>
              <a:off x="215280" y="3710160"/>
              <a:ext cx="834516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profil enregistré est donné par la convolution avec T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(telescop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telescope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= I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franges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* T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lors plus petit le diamètre, plus fidèle l'enregistrement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0" name=""/>
          <p:cNvGrpSpPr/>
          <p:nvPr/>
        </p:nvGrpSpPr>
        <p:grpSpPr>
          <a:xfrm>
            <a:off x="96840" y="1415880"/>
            <a:ext cx="9047160" cy="2086560"/>
            <a:chOff x="96840" y="1415880"/>
            <a:chExt cx="9047160" cy="2086560"/>
          </a:xfrm>
        </p:grpSpPr>
        <p:sp>
          <p:nvSpPr>
            <p:cNvPr id="7721" name=""/>
            <p:cNvSpPr/>
            <p:nvPr/>
          </p:nvSpPr>
          <p:spPr>
            <a:xfrm>
              <a:off x="96840" y="1415880"/>
              <a:ext cx="9047160" cy="11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profil des franges est donné par la convolution  I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franges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= O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* R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lus grosse l'étoile, plus faible est le contras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onvolution </a:t>
              </a:r>
              <a:r>
                <a:rPr b="0" lang="fr-FR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li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2" name=""/>
            <p:cNvGrpSpPr/>
            <p:nvPr/>
          </p:nvGrpSpPr>
          <p:grpSpPr>
            <a:xfrm>
              <a:off x="2701800" y="2004840"/>
              <a:ext cx="5893920" cy="1497600"/>
              <a:chOff x="2701800" y="2004840"/>
              <a:chExt cx="5893920" cy="1497600"/>
            </a:xfrm>
          </p:grpSpPr>
          <p:grpSp>
            <p:nvGrpSpPr>
              <p:cNvPr id="7723" name=""/>
              <p:cNvGrpSpPr/>
              <p:nvPr/>
            </p:nvGrpSpPr>
            <p:grpSpPr>
              <a:xfrm>
                <a:off x="2750760" y="2004840"/>
                <a:ext cx="5844960" cy="873720"/>
                <a:chOff x="2750760" y="2004840"/>
                <a:chExt cx="5844960" cy="873720"/>
              </a:xfrm>
            </p:grpSpPr>
            <p:sp>
              <p:nvSpPr>
                <p:cNvPr id="7724" name=""/>
                <p:cNvSpPr/>
                <p:nvPr/>
              </p:nvSpPr>
              <p:spPr>
                <a:xfrm>
                  <a:off x="3523320" y="2360520"/>
                  <a:ext cx="21708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4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5" name=""/>
                <p:cNvSpPr/>
                <p:nvPr/>
              </p:nvSpPr>
              <p:spPr>
                <a:xfrm>
                  <a:off x="5822280" y="2249640"/>
                  <a:ext cx="24624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6" name=""/>
                <p:cNvSpPr/>
                <p:nvPr/>
              </p:nvSpPr>
              <p:spPr>
                <a:xfrm>
                  <a:off x="2750760" y="2700000"/>
                  <a:ext cx="627840" cy="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27" name=""/>
                <p:cNvGrpSpPr/>
                <p:nvPr/>
              </p:nvGrpSpPr>
              <p:grpSpPr>
                <a:xfrm>
                  <a:off x="2986560" y="2119320"/>
                  <a:ext cx="100440" cy="590040"/>
                  <a:chOff x="2986560" y="2119320"/>
                  <a:chExt cx="100440" cy="590040"/>
                </a:xfrm>
              </p:grpSpPr>
              <p:sp>
                <p:nvSpPr>
                  <p:cNvPr id="7728" name=""/>
                  <p:cNvSpPr/>
                  <p:nvPr/>
                </p:nvSpPr>
                <p:spPr>
                  <a:xfrm>
                    <a:off x="2986560" y="2119320"/>
                    <a:ext cx="10044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28">
                        <a:moveTo>
                          <a:pt x="43" y="0"/>
                        </a:moveTo>
                        <a:lnTo>
                          <a:pt x="78" y="128"/>
                        </a:lnTo>
                        <a:lnTo>
                          <a:pt x="43" y="128"/>
                        </a:lnTo>
                        <a:lnTo>
                          <a:pt x="0" y="128"/>
                        </a:lnTo>
                        <a:lnTo>
                          <a:pt x="4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9" name=""/>
                  <p:cNvSpPr/>
                  <p:nvPr/>
                </p:nvSpPr>
                <p:spPr>
                  <a:xfrm flipV="1">
                    <a:off x="3042000" y="2273400"/>
                    <a:ext cx="1080" cy="435960"/>
                  </a:xfrm>
                  <a:prstGeom prst="line">
                    <a:avLst/>
                  </a:prstGeom>
                  <a:ln w="270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30" name=""/>
                <p:cNvSpPr/>
                <p:nvPr/>
              </p:nvSpPr>
              <p:spPr>
                <a:xfrm>
                  <a:off x="3485520" y="2057760"/>
                  <a:ext cx="2487600" cy="668880"/>
                </a:xfrm>
                <a:custGeom>
                  <a:avLst/>
                  <a:gdLst/>
                  <a:ahLst/>
                  <a:rect l="l" t="t" r="r" b="b"/>
                  <a:pathLst>
                    <a:path w="1271" h="519">
                      <a:moveTo>
                        <a:pt x="0" y="516"/>
                      </a:moveTo>
                      <a:cubicBezTo>
                        <a:pt x="29" y="515"/>
                        <a:pt x="117" y="511"/>
                        <a:pt x="174" y="507"/>
                      </a:cubicBezTo>
                      <a:cubicBezTo>
                        <a:pt x="231" y="503"/>
                        <a:pt x="289" y="519"/>
                        <a:pt x="339" y="492"/>
                      </a:cubicBezTo>
                      <a:cubicBezTo>
                        <a:pt x="389" y="465"/>
                        <a:pt x="441" y="397"/>
                        <a:pt x="476" y="342"/>
                      </a:cubicBezTo>
                      <a:cubicBezTo>
                        <a:pt x="511" y="287"/>
                        <a:pt x="526" y="213"/>
                        <a:pt x="549" y="160"/>
                      </a:cubicBezTo>
                      <a:cubicBezTo>
                        <a:pt x="572" y="107"/>
                        <a:pt x="587" y="0"/>
                        <a:pt x="613" y="25"/>
                      </a:cubicBezTo>
                      <a:cubicBezTo>
                        <a:pt x="639" y="50"/>
                        <a:pt x="677" y="297"/>
                        <a:pt x="704" y="309"/>
                      </a:cubicBezTo>
                      <a:cubicBezTo>
                        <a:pt x="731" y="321"/>
                        <a:pt x="752" y="107"/>
                        <a:pt x="778" y="99"/>
                      </a:cubicBezTo>
                      <a:cubicBezTo>
                        <a:pt x="804" y="91"/>
                        <a:pt x="839" y="258"/>
                        <a:pt x="860" y="263"/>
                      </a:cubicBezTo>
                      <a:cubicBezTo>
                        <a:pt x="881" y="268"/>
                        <a:pt x="891" y="132"/>
                        <a:pt x="906" y="126"/>
                      </a:cubicBezTo>
                      <a:cubicBezTo>
                        <a:pt x="921" y="120"/>
                        <a:pt x="930" y="219"/>
                        <a:pt x="951" y="227"/>
                      </a:cubicBezTo>
                      <a:cubicBezTo>
                        <a:pt x="972" y="235"/>
                        <a:pt x="981" y="183"/>
                        <a:pt x="1034" y="172"/>
                      </a:cubicBezTo>
                      <a:cubicBezTo>
                        <a:pt x="1087" y="161"/>
                        <a:pt x="1179" y="162"/>
                        <a:pt x="1271" y="16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1" name=""/>
                <p:cNvSpPr/>
                <p:nvPr/>
              </p:nvSpPr>
              <p:spPr>
                <a:xfrm>
                  <a:off x="6108480" y="2004840"/>
                  <a:ext cx="2487240" cy="668880"/>
                </a:xfrm>
                <a:custGeom>
                  <a:avLst/>
                  <a:gdLst/>
                  <a:ahLst/>
                  <a:rect l="l" t="t" r="r" b="b"/>
                  <a:pathLst>
                    <a:path w="1271" h="519">
                      <a:moveTo>
                        <a:pt x="0" y="516"/>
                      </a:moveTo>
                      <a:cubicBezTo>
                        <a:pt x="29" y="515"/>
                        <a:pt x="117" y="511"/>
                        <a:pt x="174" y="507"/>
                      </a:cubicBezTo>
                      <a:cubicBezTo>
                        <a:pt x="231" y="503"/>
                        <a:pt x="289" y="519"/>
                        <a:pt x="339" y="492"/>
                      </a:cubicBezTo>
                      <a:cubicBezTo>
                        <a:pt x="389" y="465"/>
                        <a:pt x="441" y="397"/>
                        <a:pt x="476" y="342"/>
                      </a:cubicBezTo>
                      <a:cubicBezTo>
                        <a:pt x="511" y="287"/>
                        <a:pt x="526" y="213"/>
                        <a:pt x="549" y="160"/>
                      </a:cubicBezTo>
                      <a:cubicBezTo>
                        <a:pt x="572" y="107"/>
                        <a:pt x="587" y="0"/>
                        <a:pt x="613" y="25"/>
                      </a:cubicBezTo>
                      <a:cubicBezTo>
                        <a:pt x="639" y="50"/>
                        <a:pt x="677" y="297"/>
                        <a:pt x="704" y="309"/>
                      </a:cubicBezTo>
                      <a:cubicBezTo>
                        <a:pt x="731" y="321"/>
                        <a:pt x="752" y="107"/>
                        <a:pt x="778" y="99"/>
                      </a:cubicBezTo>
                      <a:cubicBezTo>
                        <a:pt x="804" y="91"/>
                        <a:pt x="839" y="258"/>
                        <a:pt x="860" y="263"/>
                      </a:cubicBezTo>
                      <a:cubicBezTo>
                        <a:pt x="881" y="268"/>
                        <a:pt x="891" y="132"/>
                        <a:pt x="906" y="126"/>
                      </a:cubicBezTo>
                      <a:cubicBezTo>
                        <a:pt x="921" y="120"/>
                        <a:pt x="930" y="219"/>
                        <a:pt x="951" y="227"/>
                      </a:cubicBezTo>
                      <a:cubicBezTo>
                        <a:pt x="972" y="235"/>
                        <a:pt x="981" y="183"/>
                        <a:pt x="1034" y="172"/>
                      </a:cubicBezTo>
                      <a:cubicBezTo>
                        <a:pt x="1087" y="161"/>
                        <a:pt x="1179" y="162"/>
                        <a:pt x="1271" y="16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2" name=""/>
              <p:cNvGrpSpPr/>
              <p:nvPr/>
            </p:nvGrpSpPr>
            <p:grpSpPr>
              <a:xfrm>
                <a:off x="2701800" y="2640600"/>
                <a:ext cx="5851440" cy="861840"/>
                <a:chOff x="2701800" y="2640600"/>
                <a:chExt cx="5851440" cy="861840"/>
              </a:xfrm>
            </p:grpSpPr>
            <p:sp>
              <p:nvSpPr>
                <p:cNvPr id="7733" name=""/>
                <p:cNvSpPr/>
                <p:nvPr/>
              </p:nvSpPr>
              <p:spPr>
                <a:xfrm>
                  <a:off x="2895120" y="3005280"/>
                  <a:ext cx="187920" cy="31824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4" name=""/>
                <p:cNvSpPr/>
                <p:nvPr/>
              </p:nvSpPr>
              <p:spPr>
                <a:xfrm>
                  <a:off x="3474360" y="2984400"/>
                  <a:ext cx="21708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4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5" name=""/>
                <p:cNvSpPr/>
                <p:nvPr/>
              </p:nvSpPr>
              <p:spPr>
                <a:xfrm>
                  <a:off x="5773320" y="2873520"/>
                  <a:ext cx="246240" cy="51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3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6" name=""/>
                <p:cNvSpPr/>
                <p:nvPr/>
              </p:nvSpPr>
              <p:spPr>
                <a:xfrm>
                  <a:off x="2701800" y="3323520"/>
                  <a:ext cx="627840" cy="1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37" name=""/>
                <p:cNvGrpSpPr/>
                <p:nvPr/>
              </p:nvGrpSpPr>
              <p:grpSpPr>
                <a:xfrm>
                  <a:off x="2937600" y="2743560"/>
                  <a:ext cx="100440" cy="589320"/>
                  <a:chOff x="2937600" y="2743560"/>
                  <a:chExt cx="100440" cy="589320"/>
                </a:xfrm>
              </p:grpSpPr>
              <p:sp>
                <p:nvSpPr>
                  <p:cNvPr id="7738" name=""/>
                  <p:cNvSpPr/>
                  <p:nvPr/>
                </p:nvSpPr>
                <p:spPr>
                  <a:xfrm>
                    <a:off x="2937600" y="2743560"/>
                    <a:ext cx="10044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28">
                        <a:moveTo>
                          <a:pt x="43" y="0"/>
                        </a:moveTo>
                        <a:lnTo>
                          <a:pt x="78" y="128"/>
                        </a:lnTo>
                        <a:lnTo>
                          <a:pt x="43" y="128"/>
                        </a:lnTo>
                        <a:lnTo>
                          <a:pt x="0" y="128"/>
                        </a:lnTo>
                        <a:lnTo>
                          <a:pt x="4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9" name=""/>
                  <p:cNvSpPr/>
                  <p:nvPr/>
                </p:nvSpPr>
                <p:spPr>
                  <a:xfrm flipV="1">
                    <a:off x="2993040" y="2897640"/>
                    <a:ext cx="1080" cy="435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40" name=""/>
                <p:cNvSpPr/>
                <p:nvPr/>
              </p:nvSpPr>
              <p:spPr>
                <a:xfrm>
                  <a:off x="3436560" y="2681640"/>
                  <a:ext cx="2487600" cy="668880"/>
                </a:xfrm>
                <a:custGeom>
                  <a:avLst/>
                  <a:gdLst/>
                  <a:ahLst/>
                  <a:rect l="l" t="t" r="r" b="b"/>
                  <a:pathLst>
                    <a:path w="1271" h="519">
                      <a:moveTo>
                        <a:pt x="0" y="516"/>
                      </a:moveTo>
                      <a:cubicBezTo>
                        <a:pt x="29" y="515"/>
                        <a:pt x="117" y="511"/>
                        <a:pt x="174" y="507"/>
                      </a:cubicBezTo>
                      <a:cubicBezTo>
                        <a:pt x="231" y="503"/>
                        <a:pt x="289" y="519"/>
                        <a:pt x="339" y="492"/>
                      </a:cubicBezTo>
                      <a:cubicBezTo>
                        <a:pt x="389" y="465"/>
                        <a:pt x="441" y="397"/>
                        <a:pt x="476" y="342"/>
                      </a:cubicBezTo>
                      <a:cubicBezTo>
                        <a:pt x="511" y="287"/>
                        <a:pt x="526" y="213"/>
                        <a:pt x="549" y="160"/>
                      </a:cubicBezTo>
                      <a:cubicBezTo>
                        <a:pt x="572" y="107"/>
                        <a:pt x="587" y="0"/>
                        <a:pt x="613" y="25"/>
                      </a:cubicBezTo>
                      <a:cubicBezTo>
                        <a:pt x="639" y="50"/>
                        <a:pt x="677" y="297"/>
                        <a:pt x="704" y="309"/>
                      </a:cubicBezTo>
                      <a:cubicBezTo>
                        <a:pt x="731" y="321"/>
                        <a:pt x="752" y="107"/>
                        <a:pt x="778" y="99"/>
                      </a:cubicBezTo>
                      <a:cubicBezTo>
                        <a:pt x="804" y="91"/>
                        <a:pt x="839" y="258"/>
                        <a:pt x="860" y="263"/>
                      </a:cubicBezTo>
                      <a:cubicBezTo>
                        <a:pt x="881" y="268"/>
                        <a:pt x="891" y="132"/>
                        <a:pt x="906" y="126"/>
                      </a:cubicBezTo>
                      <a:cubicBezTo>
                        <a:pt x="921" y="120"/>
                        <a:pt x="930" y="219"/>
                        <a:pt x="951" y="227"/>
                      </a:cubicBezTo>
                      <a:cubicBezTo>
                        <a:pt x="972" y="235"/>
                        <a:pt x="981" y="183"/>
                        <a:pt x="1034" y="172"/>
                      </a:cubicBezTo>
                      <a:cubicBezTo>
                        <a:pt x="1087" y="161"/>
                        <a:pt x="1179" y="162"/>
                        <a:pt x="1271" y="16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1" name=""/>
                <p:cNvSpPr/>
                <p:nvPr/>
              </p:nvSpPr>
              <p:spPr>
                <a:xfrm>
                  <a:off x="6087960" y="2729160"/>
                  <a:ext cx="2465280" cy="605880"/>
                </a:xfrm>
                <a:custGeom>
                  <a:avLst/>
                  <a:gdLst/>
                  <a:ahLst/>
                  <a:rect l="l" t="t" r="r" b="b"/>
                  <a:pathLst>
                    <a:path w="1913" h="470">
                      <a:moveTo>
                        <a:pt x="0" y="444"/>
                      </a:moveTo>
                      <a:cubicBezTo>
                        <a:pt x="44" y="443"/>
                        <a:pt x="178" y="439"/>
                        <a:pt x="264" y="435"/>
                      </a:cubicBezTo>
                      <a:cubicBezTo>
                        <a:pt x="351" y="431"/>
                        <a:pt x="439" y="447"/>
                        <a:pt x="515" y="420"/>
                      </a:cubicBezTo>
                      <a:cubicBezTo>
                        <a:pt x="591" y="393"/>
                        <a:pt x="670" y="325"/>
                        <a:pt x="723" y="270"/>
                      </a:cubicBezTo>
                      <a:cubicBezTo>
                        <a:pt x="776" y="215"/>
                        <a:pt x="804" y="130"/>
                        <a:pt x="834" y="88"/>
                      </a:cubicBezTo>
                      <a:cubicBezTo>
                        <a:pt x="864" y="46"/>
                        <a:pt x="871" y="0"/>
                        <a:pt x="906" y="15"/>
                      </a:cubicBezTo>
                      <a:cubicBezTo>
                        <a:pt x="941" y="30"/>
                        <a:pt x="997" y="165"/>
                        <a:pt x="1043" y="179"/>
                      </a:cubicBezTo>
                      <a:cubicBezTo>
                        <a:pt x="1089" y="193"/>
                        <a:pt x="1139" y="101"/>
                        <a:pt x="1180" y="97"/>
                      </a:cubicBezTo>
                      <a:cubicBezTo>
                        <a:pt x="1221" y="93"/>
                        <a:pt x="1258" y="150"/>
                        <a:pt x="1290" y="152"/>
                      </a:cubicBezTo>
                      <a:cubicBezTo>
                        <a:pt x="1322" y="154"/>
                        <a:pt x="1342" y="112"/>
                        <a:pt x="1372" y="106"/>
                      </a:cubicBezTo>
                      <a:cubicBezTo>
                        <a:pt x="1402" y="100"/>
                        <a:pt x="1439" y="116"/>
                        <a:pt x="1472" y="115"/>
                      </a:cubicBezTo>
                      <a:cubicBezTo>
                        <a:pt x="1505" y="114"/>
                        <a:pt x="1530" y="103"/>
                        <a:pt x="1570" y="100"/>
                      </a:cubicBezTo>
                      <a:cubicBezTo>
                        <a:pt x="1610" y="97"/>
                        <a:pt x="1658" y="101"/>
                        <a:pt x="1710" y="97"/>
                      </a:cubicBezTo>
                      <a:cubicBezTo>
                        <a:pt x="1762" y="93"/>
                        <a:pt x="1855" y="82"/>
                        <a:pt x="1884" y="77"/>
                      </a:cubicBezTo>
                      <a:cubicBezTo>
                        <a:pt x="1913" y="72"/>
                        <a:pt x="1881" y="3"/>
                        <a:pt x="1884" y="68"/>
                      </a:cubicBezTo>
                      <a:cubicBezTo>
                        <a:pt x="1887" y="133"/>
                        <a:pt x="1899" y="386"/>
                        <a:pt x="1903" y="470"/>
                      </a:cubicBezTo>
                    </a:path>
                  </a:pathLst>
                </a:custGeom>
                <a:solidFill>
                  <a:srgbClr val="ffff66"/>
                </a:solidFill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2" name=""/>
                <p:cNvSpPr/>
                <p:nvPr/>
              </p:nvSpPr>
              <p:spPr>
                <a:xfrm>
                  <a:off x="6059520" y="2640600"/>
                  <a:ext cx="2460240" cy="694800"/>
                </a:xfrm>
                <a:custGeom>
                  <a:avLst/>
                  <a:gdLst/>
                  <a:ahLst/>
                  <a:rect l="l" t="t" r="r" b="b"/>
                  <a:pathLst>
                    <a:path w="1909" h="539">
                      <a:moveTo>
                        <a:pt x="0" y="516"/>
                      </a:moveTo>
                      <a:cubicBezTo>
                        <a:pt x="44" y="515"/>
                        <a:pt x="178" y="511"/>
                        <a:pt x="264" y="507"/>
                      </a:cubicBezTo>
                      <a:cubicBezTo>
                        <a:pt x="351" y="503"/>
                        <a:pt x="439" y="519"/>
                        <a:pt x="515" y="492"/>
                      </a:cubicBezTo>
                      <a:cubicBezTo>
                        <a:pt x="591" y="465"/>
                        <a:pt x="670" y="397"/>
                        <a:pt x="723" y="342"/>
                      </a:cubicBezTo>
                      <a:cubicBezTo>
                        <a:pt x="776" y="287"/>
                        <a:pt x="799" y="213"/>
                        <a:pt x="834" y="160"/>
                      </a:cubicBezTo>
                      <a:cubicBezTo>
                        <a:pt x="869" y="107"/>
                        <a:pt x="891" y="0"/>
                        <a:pt x="931" y="25"/>
                      </a:cubicBezTo>
                      <a:cubicBezTo>
                        <a:pt x="970" y="50"/>
                        <a:pt x="1028" y="297"/>
                        <a:pt x="1069" y="309"/>
                      </a:cubicBezTo>
                      <a:cubicBezTo>
                        <a:pt x="1110" y="321"/>
                        <a:pt x="1142" y="107"/>
                        <a:pt x="1181" y="99"/>
                      </a:cubicBezTo>
                      <a:cubicBezTo>
                        <a:pt x="1221" y="91"/>
                        <a:pt x="1274" y="258"/>
                        <a:pt x="1306" y="263"/>
                      </a:cubicBezTo>
                      <a:cubicBezTo>
                        <a:pt x="1338" y="268"/>
                        <a:pt x="1353" y="132"/>
                        <a:pt x="1376" y="126"/>
                      </a:cubicBezTo>
                      <a:cubicBezTo>
                        <a:pt x="1399" y="120"/>
                        <a:pt x="1412" y="219"/>
                        <a:pt x="1444" y="227"/>
                      </a:cubicBezTo>
                      <a:cubicBezTo>
                        <a:pt x="1476" y="235"/>
                        <a:pt x="1508" y="182"/>
                        <a:pt x="1570" y="172"/>
                      </a:cubicBezTo>
                      <a:cubicBezTo>
                        <a:pt x="1632" y="162"/>
                        <a:pt x="1762" y="164"/>
                        <a:pt x="1815" y="164"/>
                      </a:cubicBezTo>
                      <a:cubicBezTo>
                        <a:pt x="1868" y="164"/>
                        <a:pt x="1873" y="175"/>
                        <a:pt x="1888" y="174"/>
                      </a:cubicBezTo>
                      <a:cubicBezTo>
                        <a:pt x="1903" y="173"/>
                        <a:pt x="1903" y="94"/>
                        <a:pt x="1906" y="155"/>
                      </a:cubicBezTo>
                      <a:cubicBezTo>
                        <a:pt x="1909" y="216"/>
                        <a:pt x="1906" y="459"/>
                        <a:pt x="1906" y="539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743" name=""/>
          <p:cNvSpPr/>
          <p:nvPr/>
        </p:nvSpPr>
        <p:spPr>
          <a:xfrm>
            <a:off x="229320" y="5938920"/>
            <a:ext cx="818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peut être, mais plus faible le rapport signal à bruit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ins fiable l'exploitation des franges, moins bon l'interféromètre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4" name="PlaceHolder 1"/>
          <p:cNvSpPr>
            <a:spLocks noGrp="1"/>
          </p:cNvSpPr>
          <p:nvPr>
            <p:ph type="title"/>
          </p:nvPr>
        </p:nvSpPr>
        <p:spPr>
          <a:xfrm>
            <a:off x="404280" y="768240"/>
            <a:ext cx="4983480" cy="5889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onclusion   (absence d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5" name=""/>
          <p:cNvSpPr/>
          <p:nvPr/>
        </p:nvSpPr>
        <p:spPr>
          <a:xfrm>
            <a:off x="686880" y="2583000"/>
            <a:ext cx="7581240" cy="4597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erferometrie sur le papier : très beau magnif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6" name=""/>
          <p:cNvSpPr/>
          <p:nvPr/>
        </p:nvSpPr>
        <p:spPr>
          <a:xfrm>
            <a:off x="915840" y="3300480"/>
            <a:ext cx="4556160" cy="1557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erferometrie sur le terrain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ès beau magnifique au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is il faut le m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7" name=""/>
          <p:cNvSpPr/>
          <p:nvPr/>
        </p:nvSpPr>
        <p:spPr>
          <a:xfrm>
            <a:off x="4060080" y="5326200"/>
            <a:ext cx="4262040" cy="119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seil aux jeune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ettez vous du coté des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t pas du coté des pho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8" name=""/>
          <p:cNvSpPr/>
          <p:nvPr/>
        </p:nvSpPr>
        <p:spPr>
          <a:xfrm>
            <a:off x="705600" y="1652760"/>
            <a:ext cx="5845320" cy="4597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olution aux problèmes ? une autre f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9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382752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syndrome de la Joconde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0" name=""/>
          <p:cNvGrpSpPr/>
          <p:nvPr/>
        </p:nvGrpSpPr>
        <p:grpSpPr>
          <a:xfrm>
            <a:off x="304920" y="1371600"/>
            <a:ext cx="2965320" cy="4038480"/>
            <a:chOff x="304920" y="1371600"/>
            <a:chExt cx="2965320" cy="4038480"/>
          </a:xfrm>
        </p:grpSpPr>
        <p:pic>
          <p:nvPicPr>
            <p:cNvPr id="7751" name="joconde" descr=""/>
            <p:cNvPicPr/>
            <p:nvPr/>
          </p:nvPicPr>
          <p:blipFill>
            <a:blip r:embed="rId1"/>
            <a:stretch/>
          </p:blipFill>
          <p:spPr>
            <a:xfrm>
              <a:off x="304920" y="1371600"/>
              <a:ext cx="296532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2" name=""/>
            <p:cNvSpPr/>
            <p:nvPr/>
          </p:nvSpPr>
          <p:spPr>
            <a:xfrm>
              <a:off x="1219320" y="1828800"/>
              <a:ext cx="990360" cy="1295280"/>
            </a:xfrm>
            <a:prstGeom prst="rect">
              <a:avLst/>
            </a:pr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3" name=""/>
          <p:cNvSpPr/>
          <p:nvPr/>
        </p:nvSpPr>
        <p:spPr>
          <a:xfrm>
            <a:off x="4317840" y="1743120"/>
            <a:ext cx="382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a Joconde , c'est comme le Solei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n connaît la physionomie en dé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4" name=""/>
          <p:cNvGrpSpPr/>
          <p:nvPr/>
        </p:nvGrpSpPr>
        <p:grpSpPr>
          <a:xfrm>
            <a:off x="3354480" y="2584440"/>
            <a:ext cx="866520" cy="1139760"/>
            <a:chOff x="3354480" y="2584440"/>
            <a:chExt cx="866520" cy="1139760"/>
          </a:xfrm>
        </p:grpSpPr>
        <p:pic>
          <p:nvPicPr>
            <p:cNvPr id="7755" name="joc_degrad" descr=""/>
            <p:cNvPicPr/>
            <p:nvPr/>
          </p:nvPicPr>
          <p:blipFill>
            <a:blip r:embed="rId2"/>
            <a:stretch/>
          </p:blipFill>
          <p:spPr>
            <a:xfrm>
              <a:off x="3354480" y="2584440"/>
              <a:ext cx="8665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6" name=""/>
            <p:cNvSpPr/>
            <p:nvPr/>
          </p:nvSpPr>
          <p:spPr>
            <a:xfrm>
              <a:off x="3354480" y="2584440"/>
              <a:ext cx="855000" cy="1139760"/>
            </a:xfrm>
            <a:prstGeom prst="rect">
              <a:avLst/>
            </a:prstGeom>
            <a:noFill/>
            <a:ln w="7632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7" name=""/>
          <p:cNvGrpSpPr/>
          <p:nvPr/>
        </p:nvGrpSpPr>
        <p:grpSpPr>
          <a:xfrm>
            <a:off x="4107960" y="3430440"/>
            <a:ext cx="4077720" cy="1313640"/>
            <a:chOff x="4107960" y="3430440"/>
            <a:chExt cx="4077720" cy="1313640"/>
          </a:xfrm>
        </p:grpSpPr>
        <p:sp>
          <p:nvSpPr>
            <p:cNvPr id="7758" name=""/>
            <p:cNvSpPr/>
            <p:nvPr/>
          </p:nvSpPr>
          <p:spPr>
            <a:xfrm rot="13481400">
              <a:off x="4084560" y="4031640"/>
              <a:ext cx="866880" cy="290520"/>
            </a:xfrm>
            <a:prstGeom prst="rightArrow">
              <a:avLst>
                <a:gd name="adj1" fmla="val 33333"/>
                <a:gd name="adj2" fmla="val 74597"/>
              </a:avLst>
            </a:prstGeom>
            <a:solidFill>
              <a:srgbClr val="ccccff"/>
            </a:solidFill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4812120" y="3430440"/>
              <a:ext cx="3373560" cy="1313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i on observai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à résolution angulaire dégrad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on aurai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ç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0" name=""/>
          <p:cNvGrpSpPr/>
          <p:nvPr/>
        </p:nvGrpSpPr>
        <p:grpSpPr>
          <a:xfrm>
            <a:off x="1143000" y="4014720"/>
            <a:ext cx="1066680" cy="2506680"/>
            <a:chOff x="1143000" y="4014720"/>
            <a:chExt cx="1066680" cy="2506680"/>
          </a:xfrm>
        </p:grpSpPr>
        <p:grpSp>
          <p:nvGrpSpPr>
            <p:cNvPr id="7761" name=""/>
            <p:cNvGrpSpPr/>
            <p:nvPr/>
          </p:nvGrpSpPr>
          <p:grpSpPr>
            <a:xfrm>
              <a:off x="1143000" y="4495320"/>
              <a:ext cx="1066680" cy="2026080"/>
              <a:chOff x="1143000" y="4495320"/>
              <a:chExt cx="1066680" cy="2026080"/>
            </a:xfrm>
          </p:grpSpPr>
          <p:pic>
            <p:nvPicPr>
              <p:cNvPr id="7762" name="sun_red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3000" y="5486400"/>
                <a:ext cx="1066680" cy="103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63" name=""/>
              <p:cNvSpPr/>
              <p:nvPr/>
            </p:nvSpPr>
            <p:spPr>
              <a:xfrm flipV="1">
                <a:off x="1676520" y="4495320"/>
                <a:ext cx="0" cy="106668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4" name=""/>
            <p:cNvSpPr/>
            <p:nvPr/>
          </p:nvSpPr>
          <p:spPr>
            <a:xfrm>
              <a:off x="1338120" y="4014720"/>
              <a:ext cx="373320" cy="992160"/>
            </a:xfrm>
            <a:custGeom>
              <a:avLst/>
              <a:gdLst/>
              <a:ahLst/>
              <a:rect l="l" t="t" r="r" b="b"/>
              <a:pathLst>
                <a:path w="235" h="625">
                  <a:moveTo>
                    <a:pt x="213" y="207"/>
                  </a:moveTo>
                  <a:cubicBezTo>
                    <a:pt x="215" y="196"/>
                    <a:pt x="235" y="166"/>
                    <a:pt x="227" y="138"/>
                  </a:cubicBezTo>
                  <a:cubicBezTo>
                    <a:pt x="219" y="110"/>
                    <a:pt x="190" y="56"/>
                    <a:pt x="162" y="41"/>
                  </a:cubicBezTo>
                  <a:cubicBezTo>
                    <a:pt x="134" y="26"/>
                    <a:pt x="83" y="0"/>
                    <a:pt x="57" y="49"/>
                  </a:cubicBezTo>
                  <a:cubicBezTo>
                    <a:pt x="31" y="98"/>
                    <a:pt x="16" y="257"/>
                    <a:pt x="8" y="333"/>
                  </a:cubicBezTo>
                  <a:cubicBezTo>
                    <a:pt x="0" y="409"/>
                    <a:pt x="9" y="454"/>
                    <a:pt x="8" y="503"/>
                  </a:cubicBezTo>
                  <a:cubicBezTo>
                    <a:pt x="7" y="552"/>
                    <a:pt x="2" y="600"/>
                    <a:pt x="0" y="625"/>
                  </a:cubicBezTo>
                </a:path>
              </a:pathLst>
            </a:custGeom>
            <a:noFill/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5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382752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syndrome de la Joconde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6" name=""/>
          <p:cNvGrpSpPr/>
          <p:nvPr/>
        </p:nvGrpSpPr>
        <p:grpSpPr>
          <a:xfrm>
            <a:off x="249120" y="1230480"/>
            <a:ext cx="2919240" cy="3719880"/>
            <a:chOff x="249120" y="1230480"/>
            <a:chExt cx="2919240" cy="3719880"/>
          </a:xfrm>
        </p:grpSpPr>
        <p:grpSp>
          <p:nvGrpSpPr>
            <p:cNvPr id="7767" name=""/>
            <p:cNvGrpSpPr/>
            <p:nvPr/>
          </p:nvGrpSpPr>
          <p:grpSpPr>
            <a:xfrm>
              <a:off x="2301840" y="1230480"/>
              <a:ext cx="866520" cy="1140120"/>
              <a:chOff x="2301840" y="1230480"/>
              <a:chExt cx="866520" cy="1140120"/>
            </a:xfrm>
          </p:grpSpPr>
          <p:pic>
            <p:nvPicPr>
              <p:cNvPr id="7768" name="joc_degrad" descr=""/>
              <p:cNvPicPr/>
              <p:nvPr/>
            </p:nvPicPr>
            <p:blipFill>
              <a:blip r:embed="rId1"/>
              <a:stretch/>
            </p:blipFill>
            <p:spPr>
              <a:xfrm>
                <a:off x="2301840" y="1230480"/>
                <a:ext cx="866520" cy="114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69" name=""/>
              <p:cNvSpPr/>
              <p:nvPr/>
            </p:nvSpPr>
            <p:spPr>
              <a:xfrm>
                <a:off x="2301840" y="1230480"/>
                <a:ext cx="855000" cy="1140120"/>
              </a:xfrm>
              <a:prstGeom prst="rect">
                <a:avLst/>
              </a:prstGeom>
              <a:noFill/>
              <a:ln w="7632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770" name="joconde" descr=""/>
            <p:cNvPicPr/>
            <p:nvPr/>
          </p:nvPicPr>
          <p:blipFill>
            <a:blip r:embed="rId2"/>
            <a:stretch/>
          </p:blipFill>
          <p:spPr>
            <a:xfrm>
              <a:off x="249120" y="1868760"/>
              <a:ext cx="1775160" cy="241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71" name=""/>
            <p:cNvGrpSpPr/>
            <p:nvPr/>
          </p:nvGrpSpPr>
          <p:grpSpPr>
            <a:xfrm>
              <a:off x="750600" y="3450960"/>
              <a:ext cx="638640" cy="1499400"/>
              <a:chOff x="750600" y="3450960"/>
              <a:chExt cx="638640" cy="1499400"/>
            </a:xfrm>
          </p:grpSpPr>
          <p:grpSp>
            <p:nvGrpSpPr>
              <p:cNvPr id="7772" name=""/>
              <p:cNvGrpSpPr/>
              <p:nvPr/>
            </p:nvGrpSpPr>
            <p:grpSpPr>
              <a:xfrm>
                <a:off x="750600" y="3738240"/>
                <a:ext cx="638640" cy="1212120"/>
                <a:chOff x="750600" y="3738240"/>
                <a:chExt cx="638640" cy="1212120"/>
              </a:xfrm>
            </p:grpSpPr>
            <p:pic>
              <p:nvPicPr>
                <p:cNvPr id="7773" name="sun_red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50600" y="4331160"/>
                  <a:ext cx="638640" cy="61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74" name=""/>
                <p:cNvSpPr/>
                <p:nvPr/>
              </p:nvSpPr>
              <p:spPr>
                <a:xfrm flipV="1">
                  <a:off x="1069920" y="3738240"/>
                  <a:ext cx="0" cy="63828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75" name=""/>
              <p:cNvSpPr/>
              <p:nvPr/>
            </p:nvSpPr>
            <p:spPr>
              <a:xfrm>
                <a:off x="867240" y="3450960"/>
                <a:ext cx="223560" cy="593640"/>
              </a:xfrm>
              <a:custGeom>
                <a:avLst/>
                <a:gdLst/>
                <a:ahLst/>
                <a:rect l="l" t="t" r="r" b="b"/>
                <a:pathLst>
                  <a:path w="235" h="625">
                    <a:moveTo>
                      <a:pt x="213" y="207"/>
                    </a:moveTo>
                    <a:cubicBezTo>
                      <a:pt x="215" y="196"/>
                      <a:pt x="235" y="166"/>
                      <a:pt x="227" y="138"/>
                    </a:cubicBezTo>
                    <a:cubicBezTo>
                      <a:pt x="219" y="110"/>
                      <a:pt x="190" y="56"/>
                      <a:pt x="162" y="41"/>
                    </a:cubicBezTo>
                    <a:cubicBezTo>
                      <a:pt x="134" y="26"/>
                      <a:pt x="83" y="0"/>
                      <a:pt x="57" y="49"/>
                    </a:cubicBezTo>
                    <a:cubicBezTo>
                      <a:pt x="31" y="98"/>
                      <a:pt x="16" y="257"/>
                      <a:pt x="8" y="333"/>
                    </a:cubicBezTo>
                    <a:cubicBezTo>
                      <a:pt x="0" y="409"/>
                      <a:pt x="9" y="454"/>
                      <a:pt x="8" y="503"/>
                    </a:cubicBezTo>
                    <a:cubicBezTo>
                      <a:pt x="7" y="552"/>
                      <a:pt x="2" y="600"/>
                      <a:pt x="0" y="625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6" name=""/>
            <p:cNvSpPr/>
            <p:nvPr/>
          </p:nvSpPr>
          <p:spPr>
            <a:xfrm rot="20653200">
              <a:off x="1389240" y="2233800"/>
              <a:ext cx="866880" cy="290880"/>
            </a:xfrm>
            <a:prstGeom prst="rightArrow">
              <a:avLst>
                <a:gd name="adj1" fmla="val 33333"/>
                <a:gd name="adj2" fmla="val 74505"/>
              </a:avLst>
            </a:prstGeom>
            <a:solidFill>
              <a:srgbClr val="ccccff"/>
            </a:solidFill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796320" y="2142360"/>
              <a:ext cx="592920" cy="775080"/>
            </a:xfrm>
            <a:prstGeom prst="rect">
              <a:avLst/>
            </a:pr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8" name=""/>
          <p:cNvGrpSpPr/>
          <p:nvPr/>
        </p:nvGrpSpPr>
        <p:grpSpPr>
          <a:xfrm>
            <a:off x="2262240" y="4003560"/>
            <a:ext cx="2820960" cy="1685880"/>
            <a:chOff x="2262240" y="4003560"/>
            <a:chExt cx="2820960" cy="1685880"/>
          </a:xfrm>
        </p:grpSpPr>
        <p:pic>
          <p:nvPicPr>
            <p:cNvPr id="7779" name="chardin_mosaic" descr=""/>
            <p:cNvPicPr/>
            <p:nvPr/>
          </p:nvPicPr>
          <p:blipFill>
            <a:blip r:embed="rId4"/>
            <a:stretch/>
          </p:blipFill>
          <p:spPr>
            <a:xfrm>
              <a:off x="3705120" y="4013280"/>
              <a:ext cx="137808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0" name="ingres_mosaic" descr=""/>
            <p:cNvPicPr/>
            <p:nvPr/>
          </p:nvPicPr>
          <p:blipFill>
            <a:blip r:embed="rId5"/>
            <a:stretch/>
          </p:blipFill>
          <p:spPr>
            <a:xfrm>
              <a:off x="2262240" y="4003560"/>
              <a:ext cx="1316160" cy="167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81" name=""/>
          <p:cNvGrpSpPr/>
          <p:nvPr/>
        </p:nvGrpSpPr>
        <p:grpSpPr>
          <a:xfrm>
            <a:off x="5719680" y="4192560"/>
            <a:ext cx="3102120" cy="1616040"/>
            <a:chOff x="5719680" y="4192560"/>
            <a:chExt cx="3102120" cy="1616040"/>
          </a:xfrm>
        </p:grpSpPr>
        <p:pic>
          <p:nvPicPr>
            <p:cNvPr id="7782" name="joc_chardin" descr=""/>
            <p:cNvPicPr/>
            <p:nvPr/>
          </p:nvPicPr>
          <p:blipFill>
            <a:blip r:embed="rId6"/>
            <a:stretch/>
          </p:blipFill>
          <p:spPr>
            <a:xfrm>
              <a:off x="7426440" y="4192560"/>
              <a:ext cx="13953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3" name="joc_ingres" descr=""/>
            <p:cNvPicPr/>
            <p:nvPr/>
          </p:nvPicPr>
          <p:blipFill>
            <a:blip r:embed="rId7"/>
            <a:stretch/>
          </p:blipFill>
          <p:spPr>
            <a:xfrm>
              <a:off x="5719680" y="4208400"/>
              <a:ext cx="14652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4" name=""/>
          <p:cNvSpPr/>
          <p:nvPr/>
        </p:nvSpPr>
        <p:spPr>
          <a:xfrm>
            <a:off x="3894480" y="1527120"/>
            <a:ext cx="392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 on a un modèle  a priori (Jocon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t qu'on observe des ch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 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5" name=""/>
          <p:cNvGrpSpPr/>
          <p:nvPr/>
        </p:nvGrpSpPr>
        <p:grpSpPr>
          <a:xfrm>
            <a:off x="3650760" y="2147760"/>
            <a:ext cx="1502280" cy="1676520"/>
            <a:chOff x="3650760" y="2147760"/>
            <a:chExt cx="1502280" cy="1676520"/>
          </a:xfrm>
        </p:grpSpPr>
        <p:sp>
          <p:nvSpPr>
            <p:cNvPr id="7786" name=""/>
            <p:cNvSpPr/>
            <p:nvPr/>
          </p:nvSpPr>
          <p:spPr>
            <a:xfrm flipH="1">
              <a:off x="4013280" y="2147760"/>
              <a:ext cx="1139760" cy="36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7" name=""/>
            <p:cNvSpPr/>
            <p:nvPr/>
          </p:nvSpPr>
          <p:spPr>
            <a:xfrm flipH="1">
              <a:off x="3650400" y="2352600"/>
              <a:ext cx="374760" cy="1471680"/>
            </a:xfrm>
            <a:custGeom>
              <a:avLst/>
              <a:gdLst/>
              <a:ahLst/>
              <a:rect l="l" t="t" r="r" b="b"/>
              <a:pathLst>
                <a:path w="454" h="764">
                  <a:moveTo>
                    <a:pt x="0" y="0"/>
                  </a:moveTo>
                  <a:lnTo>
                    <a:pt x="454" y="0"/>
                  </a:lnTo>
                  <a:lnTo>
                    <a:pt x="454" y="7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8" name=""/>
          <p:cNvGrpSpPr/>
          <p:nvPr/>
        </p:nvGrpSpPr>
        <p:grpSpPr>
          <a:xfrm>
            <a:off x="3899160" y="2754360"/>
            <a:ext cx="4668840" cy="1539720"/>
            <a:chOff x="3899160" y="2754360"/>
            <a:chExt cx="4668840" cy="1539720"/>
          </a:xfrm>
        </p:grpSpPr>
        <p:grpSp>
          <p:nvGrpSpPr>
            <p:cNvPr id="7789" name=""/>
            <p:cNvGrpSpPr/>
            <p:nvPr/>
          </p:nvGrpSpPr>
          <p:grpSpPr>
            <a:xfrm>
              <a:off x="6676920" y="3125880"/>
              <a:ext cx="1139760" cy="1168200"/>
              <a:chOff x="6676920" y="3125880"/>
              <a:chExt cx="1139760" cy="1168200"/>
            </a:xfrm>
          </p:grpSpPr>
          <p:sp>
            <p:nvSpPr>
              <p:cNvPr id="7790" name=""/>
              <p:cNvSpPr/>
              <p:nvPr/>
            </p:nvSpPr>
            <p:spPr>
              <a:xfrm flipH="1">
                <a:off x="6676920" y="3125880"/>
                <a:ext cx="1139760" cy="360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 flipH="1">
                <a:off x="7282800" y="3471840"/>
                <a:ext cx="74520" cy="822240"/>
              </a:xfrm>
              <a:custGeom>
                <a:avLst/>
                <a:gdLst/>
                <a:ahLst/>
                <a:rect l="l" t="t" r="r" b="b"/>
                <a:pathLst>
                  <a:path w="454" h="764">
                    <a:moveTo>
                      <a:pt x="0" y="0"/>
                    </a:moveTo>
                    <a:lnTo>
                      <a:pt x="454" y="0"/>
                    </a:lnTo>
                    <a:lnTo>
                      <a:pt x="454" y="76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2" name=""/>
            <p:cNvSpPr/>
            <p:nvPr/>
          </p:nvSpPr>
          <p:spPr>
            <a:xfrm>
              <a:off x="3899160" y="2754360"/>
              <a:ext cx="466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alors on est tenté de dire que les objets so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comme ç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4284720" cy="825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avaux pratiques immédi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00" y="1654200"/>
            <a:ext cx="48502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estez votre résolution ang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384120" y="2349360"/>
            <a:ext cx="4901400" cy="4061520"/>
            <a:chOff x="384120" y="2349360"/>
            <a:chExt cx="4901400" cy="4061520"/>
          </a:xfrm>
        </p:grpSpPr>
        <p:sp>
          <p:nvSpPr>
            <p:cNvPr id="546" name=""/>
            <p:cNvSpPr/>
            <p:nvPr/>
          </p:nvSpPr>
          <p:spPr>
            <a:xfrm>
              <a:off x="384120" y="2349360"/>
              <a:ext cx="4826160" cy="331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380880" indent="-380880">
                <a:lnSpc>
                  <a:spcPct val="100000"/>
                </a:lnSpc>
                <a:spcBef>
                  <a:spcPts val="2064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3600" spc="-1" strike="noStrike">
                  <a:solidFill>
                    <a:srgbClr val="000000"/>
                  </a:solidFill>
                  <a:latin typeface="Comic Sans MS"/>
                </a:rPr>
                <a:t>pas beaucou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75000"/>
                </a:lnSpc>
                <a:spcBef>
                  <a:spcPts val="1599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2800" spc="-1" strike="noStrike">
                  <a:solidFill>
                    <a:srgbClr val="000000"/>
                  </a:solidFill>
                  <a:latin typeface="Comic Sans MS"/>
                </a:rPr>
                <a:t>assez beaucou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75000"/>
                </a:lnSpc>
                <a:spcBef>
                  <a:spcPts val="1151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pas m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170000"/>
                </a:lnSpc>
                <a:spcBef>
                  <a:spcPts val="913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vachement beauc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130000"/>
                </a:lnSpc>
                <a:spcBef>
                  <a:spcPts val="689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1200" spc="-1" strike="noStrike">
                  <a:solidFill>
                    <a:srgbClr val="000000"/>
                  </a:solidFill>
                  <a:latin typeface="Comic Sans MS"/>
                </a:rPr>
                <a:t>carrement grave su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260000"/>
                </a:lnSpc>
                <a:spcBef>
                  <a:spcPts val="451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800" spc="-1" strike="noStrike">
                  <a:solidFill>
                    <a:srgbClr val="000000"/>
                  </a:solidFill>
                  <a:latin typeface="Comic Sans MS"/>
                </a:rPr>
                <a:t>hyper mega to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0880" indent="-380880">
                <a:lnSpc>
                  <a:spcPct val="260000"/>
                </a:lnSpc>
                <a:spcBef>
                  <a:spcPts val="451"/>
                </a:spcBef>
                <a:tabLst>
                  <a:tab algn="l" pos="0"/>
                  <a:tab algn="l" pos="1117440"/>
                  <a:tab algn="l" pos="2260440"/>
                  <a:tab algn="l" pos="3403440"/>
                  <a:tab algn="l" pos="4597560"/>
                  <a:tab algn="l" pos="5689440"/>
                  <a:tab algn="l" pos="5791320"/>
                  <a:tab algn="l" pos="5943600"/>
                  <a:tab algn="l" pos="6095880"/>
                  <a:tab algn="l" pos="6248520"/>
                  <a:tab algn="l" pos="6400800"/>
                  <a:tab algn="l" pos="6553080"/>
                  <a:tab algn="l" pos="6705720"/>
                  <a:tab algn="l" pos="6858000"/>
                  <a:tab algn="l" pos="7010280"/>
                  <a:tab algn="l" pos="7162920"/>
                  <a:tab algn="l" pos="7315200"/>
                  <a:tab algn="l" pos="7467480"/>
                  <a:tab algn="l" pos="7620120"/>
                  <a:tab algn="l" pos="7772400"/>
                  <a:tab algn="l" pos="7924680"/>
                  <a:tab algn="l" pos="8077320"/>
                  <a:tab algn="l" pos="8229600"/>
                  <a:tab algn="l" pos="8381880"/>
                  <a:tab algn="l" pos="8534520"/>
                  <a:tab algn="l" pos="86868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02080" y="2570040"/>
              <a:ext cx="0" cy="261000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565440" y="5219640"/>
              <a:ext cx="172008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v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ésolu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meille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5477040" y="1403280"/>
            <a:ext cx="3213000" cy="5251320"/>
            <a:chOff x="5477040" y="1403280"/>
            <a:chExt cx="3213000" cy="5251320"/>
          </a:xfrm>
        </p:grpSpPr>
        <p:sp>
          <p:nvSpPr>
            <p:cNvPr id="550" name=""/>
            <p:cNvSpPr/>
            <p:nvPr/>
          </p:nvSpPr>
          <p:spPr>
            <a:xfrm>
              <a:off x="5878800" y="4379760"/>
              <a:ext cx="2518560" cy="12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problèm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Rapport Signal à Br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et encore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ici, il y a un modèle a prio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5477040" y="1403280"/>
              <a:ext cx="3213000" cy="2844720"/>
              <a:chOff x="5477040" y="1403280"/>
              <a:chExt cx="3213000" cy="2844720"/>
            </a:xfrm>
          </p:grpSpPr>
          <p:sp>
            <p:nvSpPr>
              <p:cNvPr id="552" name=""/>
              <p:cNvSpPr/>
              <p:nvPr/>
            </p:nvSpPr>
            <p:spPr>
              <a:xfrm>
                <a:off x="5477040" y="1403280"/>
                <a:ext cx="3213000" cy="2844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97560" y="1439640"/>
                <a:ext cx="3143160" cy="2801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4" name=""/>
              <p:cNvGrpSpPr/>
              <p:nvPr/>
            </p:nvGrpSpPr>
            <p:grpSpPr>
              <a:xfrm>
                <a:off x="5609520" y="1693800"/>
                <a:ext cx="2628360" cy="2202480"/>
                <a:chOff x="5609520" y="1693800"/>
                <a:chExt cx="2628360" cy="22024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6413400" y="1693800"/>
                  <a:ext cx="111780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4400" spc="-1" strike="noStrike">
                      <a:solidFill>
                        <a:srgbClr val="ffcccc"/>
                      </a:solidFill>
                      <a:latin typeface="Arial"/>
                    </a:rPr>
                    <a:t>Oh !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795800" y="2122200"/>
                  <a:ext cx="64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ffcccc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716880" y="3053880"/>
                  <a:ext cx="5508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900" spc="-1" strike="noStrike">
                      <a:solidFill>
                        <a:srgbClr val="ffcccc"/>
                      </a:solidFill>
                      <a:latin typeface="Arial"/>
                    </a:rPr>
                    <a:t>bella</a:t>
                  </a:r>
                  <a:endParaRPr b="0" lang="en-US" sz="1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508160" y="3146040"/>
                  <a:ext cx="64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ffcccc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846120" y="3436560"/>
                  <a:ext cx="4730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ffcccc"/>
                      </a:solidFill>
                      <a:latin typeface="Arial"/>
                    </a:rPr>
                    <a:t>Tchi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903360" y="3728520"/>
                  <a:ext cx="28872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100" spc="-1" strike="noStrike">
                      <a:solidFill>
                        <a:srgbClr val="ffcccc"/>
                      </a:solidFill>
                      <a:latin typeface="Arial"/>
                    </a:rPr>
                    <a:t>Tch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609520" y="2457000"/>
                  <a:ext cx="2628360" cy="53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100" spc="-1" strike="noStrike">
                      <a:solidFill>
                        <a:srgbClr val="ffcccc"/>
                      </a:solidFill>
                      <a:latin typeface="Arial"/>
                    </a:rPr>
                    <a:t>  </a:t>
                  </a:r>
                  <a:r>
                    <a:rPr b="1" lang="fr-FR" sz="3100" spc="-1" strike="noStrike">
                      <a:solidFill>
                        <a:srgbClr val="ffcccc"/>
                      </a:solidFill>
                      <a:latin typeface="Arial"/>
                    </a:rPr>
                    <a:t>Catharineta</a:t>
                  </a:r>
                  <a:r>
                    <a:rPr b="1" lang="fr-FR" sz="3500" spc="-1" strike="noStrike">
                      <a:solidFill>
                        <a:srgbClr val="ffcccc"/>
                      </a:solidFill>
                      <a:latin typeface="Arial"/>
                    </a:rPr>
                    <a:t>  </a:t>
                  </a:r>
                  <a:endParaRPr b="0" lang="en-US" sz="3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2" name=""/>
            <p:cNvSpPr/>
            <p:nvPr/>
          </p:nvSpPr>
          <p:spPr>
            <a:xfrm>
              <a:off x="5603760" y="6108840"/>
              <a:ext cx="30481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mais Atten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à l'effet Mona Lisa (plus loi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3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382752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syndrome de la Joconde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4" name=""/>
          <p:cNvGrpSpPr/>
          <p:nvPr/>
        </p:nvGrpSpPr>
        <p:grpSpPr>
          <a:xfrm>
            <a:off x="235080" y="2701800"/>
            <a:ext cx="2919240" cy="3720960"/>
            <a:chOff x="235080" y="2701800"/>
            <a:chExt cx="2919240" cy="3720960"/>
          </a:xfrm>
        </p:grpSpPr>
        <p:grpSp>
          <p:nvGrpSpPr>
            <p:cNvPr id="7795" name=""/>
            <p:cNvGrpSpPr/>
            <p:nvPr/>
          </p:nvGrpSpPr>
          <p:grpSpPr>
            <a:xfrm>
              <a:off x="2287800" y="2701800"/>
              <a:ext cx="866520" cy="1140120"/>
              <a:chOff x="2287800" y="2701800"/>
              <a:chExt cx="866520" cy="1140120"/>
            </a:xfrm>
          </p:grpSpPr>
          <p:pic>
            <p:nvPicPr>
              <p:cNvPr id="7796" name="joc_degrad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7800" y="2701800"/>
                <a:ext cx="866520" cy="114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97" name=""/>
              <p:cNvSpPr/>
              <p:nvPr/>
            </p:nvSpPr>
            <p:spPr>
              <a:xfrm>
                <a:off x="2287800" y="2701800"/>
                <a:ext cx="855000" cy="1140120"/>
              </a:xfrm>
              <a:prstGeom prst="rect">
                <a:avLst/>
              </a:prstGeom>
              <a:noFill/>
              <a:ln w="7632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798" name="joconde" descr=""/>
            <p:cNvPicPr/>
            <p:nvPr/>
          </p:nvPicPr>
          <p:blipFill>
            <a:blip r:embed="rId2"/>
            <a:stretch/>
          </p:blipFill>
          <p:spPr>
            <a:xfrm>
              <a:off x="235080" y="3340080"/>
              <a:ext cx="1775160" cy="2417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99" name=""/>
            <p:cNvGrpSpPr/>
            <p:nvPr/>
          </p:nvGrpSpPr>
          <p:grpSpPr>
            <a:xfrm>
              <a:off x="736560" y="4922640"/>
              <a:ext cx="638280" cy="1500120"/>
              <a:chOff x="736560" y="4922640"/>
              <a:chExt cx="638280" cy="1500120"/>
            </a:xfrm>
          </p:grpSpPr>
          <p:grpSp>
            <p:nvGrpSpPr>
              <p:cNvPr id="7800" name=""/>
              <p:cNvGrpSpPr/>
              <p:nvPr/>
            </p:nvGrpSpPr>
            <p:grpSpPr>
              <a:xfrm>
                <a:off x="736560" y="5209920"/>
                <a:ext cx="638280" cy="1212840"/>
                <a:chOff x="736560" y="5209920"/>
                <a:chExt cx="638280" cy="1212840"/>
              </a:xfrm>
            </p:grpSpPr>
            <p:pic>
              <p:nvPicPr>
                <p:cNvPr id="7801" name="sun_red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36560" y="5803200"/>
                  <a:ext cx="638280" cy="619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02" name=""/>
                <p:cNvSpPr/>
                <p:nvPr/>
              </p:nvSpPr>
              <p:spPr>
                <a:xfrm flipV="1">
                  <a:off x="1055880" y="5209920"/>
                  <a:ext cx="0" cy="638280"/>
                </a:xfrm>
                <a:prstGeom prst="line">
                  <a:avLst/>
                </a:prstGeom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03" name=""/>
              <p:cNvSpPr/>
              <p:nvPr/>
            </p:nvSpPr>
            <p:spPr>
              <a:xfrm>
                <a:off x="853200" y="4922640"/>
                <a:ext cx="223200" cy="593640"/>
              </a:xfrm>
              <a:custGeom>
                <a:avLst/>
                <a:gdLst/>
                <a:ahLst/>
                <a:rect l="l" t="t" r="r" b="b"/>
                <a:pathLst>
                  <a:path w="235" h="625">
                    <a:moveTo>
                      <a:pt x="213" y="207"/>
                    </a:moveTo>
                    <a:cubicBezTo>
                      <a:pt x="215" y="196"/>
                      <a:pt x="235" y="166"/>
                      <a:pt x="227" y="138"/>
                    </a:cubicBezTo>
                    <a:cubicBezTo>
                      <a:pt x="219" y="110"/>
                      <a:pt x="190" y="56"/>
                      <a:pt x="162" y="41"/>
                    </a:cubicBezTo>
                    <a:cubicBezTo>
                      <a:pt x="134" y="26"/>
                      <a:pt x="83" y="0"/>
                      <a:pt x="57" y="49"/>
                    </a:cubicBezTo>
                    <a:cubicBezTo>
                      <a:pt x="31" y="98"/>
                      <a:pt x="16" y="257"/>
                      <a:pt x="8" y="333"/>
                    </a:cubicBezTo>
                    <a:cubicBezTo>
                      <a:pt x="0" y="409"/>
                      <a:pt x="9" y="454"/>
                      <a:pt x="8" y="503"/>
                    </a:cubicBezTo>
                    <a:cubicBezTo>
                      <a:pt x="7" y="552"/>
                      <a:pt x="2" y="600"/>
                      <a:pt x="0" y="625"/>
                    </a:cubicBezTo>
                  </a:path>
                </a:pathLst>
              </a:custGeom>
              <a:noFill/>
              <a:ln w="9360">
                <a:solidFill>
                  <a:srgbClr val="ff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4" name=""/>
            <p:cNvSpPr/>
            <p:nvPr/>
          </p:nvSpPr>
          <p:spPr>
            <a:xfrm rot="20653200">
              <a:off x="1374840" y="3704760"/>
              <a:ext cx="866520" cy="290880"/>
            </a:xfrm>
            <a:prstGeom prst="rightArrow">
              <a:avLst>
                <a:gd name="adj1" fmla="val 33333"/>
                <a:gd name="adj2" fmla="val 74474"/>
              </a:avLst>
            </a:prstGeom>
            <a:solidFill>
              <a:srgbClr val="ccccff"/>
            </a:solidFill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782280" y="3614040"/>
              <a:ext cx="592560" cy="775080"/>
            </a:xfrm>
            <a:prstGeom prst="rect">
              <a:avLst/>
            </a:pr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6" name=""/>
          <p:cNvGrpSpPr/>
          <p:nvPr/>
        </p:nvGrpSpPr>
        <p:grpSpPr>
          <a:xfrm>
            <a:off x="3839760" y="1601640"/>
            <a:ext cx="4807440" cy="1806840"/>
            <a:chOff x="3839760" y="1601640"/>
            <a:chExt cx="4807440" cy="1806840"/>
          </a:xfrm>
        </p:grpSpPr>
        <p:pic>
          <p:nvPicPr>
            <p:cNvPr id="7807" name="chardin_mosaic" descr=""/>
            <p:cNvPicPr/>
            <p:nvPr/>
          </p:nvPicPr>
          <p:blipFill>
            <a:blip r:embed="rId4"/>
            <a:stretch/>
          </p:blipFill>
          <p:spPr>
            <a:xfrm>
              <a:off x="7802640" y="2381400"/>
              <a:ext cx="84456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8" name="ingres_mosaic" descr=""/>
            <p:cNvPicPr/>
            <p:nvPr/>
          </p:nvPicPr>
          <p:blipFill>
            <a:blip r:embed="rId5"/>
            <a:stretch/>
          </p:blipFill>
          <p:spPr>
            <a:xfrm>
              <a:off x="6837480" y="2373480"/>
              <a:ext cx="806400" cy="10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9" name=""/>
            <p:cNvSpPr/>
            <p:nvPr/>
          </p:nvSpPr>
          <p:spPr>
            <a:xfrm>
              <a:off x="3839760" y="1601640"/>
              <a:ext cx="3755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en fait, j'ai fabriqu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les deux représentations ci-dess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0" name=""/>
          <p:cNvSpPr/>
          <p:nvPr/>
        </p:nvSpPr>
        <p:spPr>
          <a:xfrm>
            <a:off x="3821400" y="3573360"/>
            <a:ext cx="28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 dégradant la résolu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images ci-co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11" name="ingres" descr=""/>
          <p:cNvPicPr/>
          <p:nvPr/>
        </p:nvPicPr>
        <p:blipFill>
          <a:blip r:embed="rId6"/>
          <a:stretch/>
        </p:blipFill>
        <p:spPr>
          <a:xfrm>
            <a:off x="6856560" y="4132440"/>
            <a:ext cx="855360" cy="1090440"/>
          </a:xfrm>
          <a:prstGeom prst="rect">
            <a:avLst/>
          </a:prstGeom>
          <a:ln w="0">
            <a:noFill/>
          </a:ln>
        </p:spPr>
      </p:pic>
      <p:pic>
        <p:nvPicPr>
          <p:cNvPr id="7812" name="chardin" descr=""/>
          <p:cNvPicPr/>
          <p:nvPr/>
        </p:nvPicPr>
        <p:blipFill>
          <a:blip r:embed="rId7"/>
          <a:stretch/>
        </p:blipFill>
        <p:spPr>
          <a:xfrm>
            <a:off x="7867800" y="4149720"/>
            <a:ext cx="858600" cy="1044720"/>
          </a:xfrm>
          <a:prstGeom prst="rect">
            <a:avLst/>
          </a:prstGeom>
          <a:ln w="0">
            <a:noFill/>
          </a:ln>
        </p:spPr>
      </p:pic>
      <p:grpSp>
        <p:nvGrpSpPr>
          <p:cNvPr id="7813" name=""/>
          <p:cNvGrpSpPr/>
          <p:nvPr/>
        </p:nvGrpSpPr>
        <p:grpSpPr>
          <a:xfrm>
            <a:off x="3782160" y="5237280"/>
            <a:ext cx="5001480" cy="1313640"/>
            <a:chOff x="3782160" y="5237280"/>
            <a:chExt cx="5001480" cy="1313640"/>
          </a:xfrm>
        </p:grpSpPr>
        <p:pic>
          <p:nvPicPr>
            <p:cNvPr id="7814" name="joc_chardin" descr=""/>
            <p:cNvPicPr/>
            <p:nvPr/>
          </p:nvPicPr>
          <p:blipFill>
            <a:blip r:embed="rId8"/>
            <a:stretch/>
          </p:blipFill>
          <p:spPr>
            <a:xfrm>
              <a:off x="7902720" y="5505480"/>
              <a:ext cx="880920" cy="9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15" name="joc_ingres" descr=""/>
            <p:cNvPicPr/>
            <p:nvPr/>
          </p:nvPicPr>
          <p:blipFill>
            <a:blip r:embed="rId9"/>
            <a:stretch/>
          </p:blipFill>
          <p:spPr>
            <a:xfrm>
              <a:off x="6845400" y="5506920"/>
              <a:ext cx="873000" cy="9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6" name=""/>
            <p:cNvSpPr/>
            <p:nvPr/>
          </p:nvSpPr>
          <p:spPr>
            <a:xfrm>
              <a:off x="3782160" y="5237280"/>
              <a:ext cx="3112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le modèle  a prio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nous a amen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loin de la vérit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urtout pour le deuxième c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7" name="PlaceHolder 1"/>
          <p:cNvSpPr>
            <a:spLocks noGrp="1"/>
          </p:cNvSpPr>
          <p:nvPr>
            <p:ph type="title"/>
          </p:nvPr>
        </p:nvSpPr>
        <p:spPr>
          <a:xfrm>
            <a:off x="290160" y="659880"/>
            <a:ext cx="230040" cy="44316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24480" bIns="2448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8" name=""/>
          <p:cNvSpPr/>
          <p:nvPr/>
        </p:nvSpPr>
        <p:spPr>
          <a:xfrm>
            <a:off x="565200" y="1589040"/>
            <a:ext cx="4214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ça y 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ette fois , c'est bien f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éveillez v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erci de votre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9" name=""/>
          <p:cNvSpPr/>
          <p:nvPr/>
        </p:nvSpPr>
        <p:spPr>
          <a:xfrm>
            <a:off x="5738760" y="4255920"/>
            <a:ext cx="1332000" cy="1033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0" name=""/>
          <p:cNvSpPr/>
          <p:nvPr/>
        </p:nvSpPr>
        <p:spPr>
          <a:xfrm>
            <a:off x="5681520" y="3627360"/>
            <a:ext cx="1528920" cy="103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1" name=""/>
          <p:cNvSpPr/>
          <p:nvPr/>
        </p:nvSpPr>
        <p:spPr>
          <a:xfrm>
            <a:off x="6657840" y="3605040"/>
            <a:ext cx="322560" cy="22320"/>
          </a:xfrm>
          <a:custGeom>
            <a:avLst/>
            <a:gdLst/>
            <a:ahLst/>
            <a:rect l="l" t="t" r="r" b="b"/>
            <a:pathLst>
              <a:path w="255" h="18">
                <a:moveTo>
                  <a:pt x="0" y="18"/>
                </a:moveTo>
                <a:lnTo>
                  <a:pt x="137" y="0"/>
                </a:lnTo>
                <a:lnTo>
                  <a:pt x="255" y="9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3400" bIns="-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2" name=""/>
          <p:cNvSpPr/>
          <p:nvPr/>
        </p:nvSpPr>
        <p:spPr>
          <a:xfrm>
            <a:off x="5727600" y="3648240"/>
            <a:ext cx="184320" cy="101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3" name=""/>
          <p:cNvSpPr/>
          <p:nvPr/>
        </p:nvSpPr>
        <p:spPr>
          <a:xfrm>
            <a:off x="5940360" y="3645000"/>
            <a:ext cx="184320" cy="101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4" name=""/>
          <p:cNvSpPr/>
          <p:nvPr/>
        </p:nvSpPr>
        <p:spPr>
          <a:xfrm>
            <a:off x="6153120" y="3641760"/>
            <a:ext cx="184320" cy="1011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5" name=""/>
          <p:cNvSpPr/>
          <p:nvPr/>
        </p:nvSpPr>
        <p:spPr>
          <a:xfrm>
            <a:off x="6364440" y="3637080"/>
            <a:ext cx="183960" cy="101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6" name=""/>
          <p:cNvSpPr/>
          <p:nvPr/>
        </p:nvSpPr>
        <p:spPr>
          <a:xfrm>
            <a:off x="6576840" y="3633840"/>
            <a:ext cx="184320" cy="10112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7" name=""/>
          <p:cNvSpPr/>
          <p:nvPr/>
        </p:nvSpPr>
        <p:spPr>
          <a:xfrm>
            <a:off x="6789600" y="3630600"/>
            <a:ext cx="184320" cy="101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8" name=""/>
          <p:cNvSpPr/>
          <p:nvPr/>
        </p:nvSpPr>
        <p:spPr>
          <a:xfrm>
            <a:off x="7000920" y="3627360"/>
            <a:ext cx="183960" cy="10112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9" name=""/>
          <p:cNvGrpSpPr/>
          <p:nvPr/>
        </p:nvGrpSpPr>
        <p:grpSpPr>
          <a:xfrm>
            <a:off x="5475240" y="3060720"/>
            <a:ext cx="2493720" cy="945720"/>
            <a:chOff x="5475240" y="3060720"/>
            <a:chExt cx="2493720" cy="945720"/>
          </a:xfrm>
        </p:grpSpPr>
        <p:grpSp>
          <p:nvGrpSpPr>
            <p:cNvPr id="7830" name=""/>
            <p:cNvGrpSpPr/>
            <p:nvPr/>
          </p:nvGrpSpPr>
          <p:grpSpPr>
            <a:xfrm>
              <a:off x="5475240" y="3060720"/>
              <a:ext cx="2493720" cy="945720"/>
              <a:chOff x="5475240" y="3060720"/>
              <a:chExt cx="2493720" cy="945720"/>
            </a:xfrm>
          </p:grpSpPr>
          <p:sp>
            <p:nvSpPr>
              <p:cNvPr id="7831" name=""/>
              <p:cNvSpPr/>
              <p:nvPr/>
            </p:nvSpPr>
            <p:spPr>
              <a:xfrm>
                <a:off x="6210720" y="3060720"/>
                <a:ext cx="1642320" cy="837000"/>
              </a:xfrm>
              <a:custGeom>
                <a:avLst/>
                <a:gdLst/>
                <a:ahLst/>
                <a:rect l="l" t="t" r="r" b="b"/>
                <a:pathLst>
                  <a:path w="1300" h="700">
                    <a:moveTo>
                      <a:pt x="0" y="0"/>
                    </a:moveTo>
                    <a:lnTo>
                      <a:pt x="173" y="27"/>
                    </a:lnTo>
                    <a:lnTo>
                      <a:pt x="345" y="164"/>
                    </a:lnTo>
                    <a:lnTo>
                      <a:pt x="473" y="200"/>
                    </a:lnTo>
                    <a:lnTo>
                      <a:pt x="636" y="137"/>
                    </a:lnTo>
                    <a:lnTo>
                      <a:pt x="718" y="124"/>
                    </a:lnTo>
                    <a:lnTo>
                      <a:pt x="818" y="155"/>
                    </a:lnTo>
                    <a:lnTo>
                      <a:pt x="900" y="282"/>
                    </a:lnTo>
                    <a:lnTo>
                      <a:pt x="991" y="355"/>
                    </a:lnTo>
                    <a:lnTo>
                      <a:pt x="1091" y="355"/>
                    </a:lnTo>
                    <a:lnTo>
                      <a:pt x="1200" y="391"/>
                    </a:lnTo>
                    <a:lnTo>
                      <a:pt x="1282" y="427"/>
                    </a:lnTo>
                    <a:lnTo>
                      <a:pt x="1300" y="518"/>
                    </a:lnTo>
                    <a:lnTo>
                      <a:pt x="1263" y="609"/>
                    </a:lnTo>
                    <a:lnTo>
                      <a:pt x="1200" y="664"/>
                    </a:lnTo>
                    <a:lnTo>
                      <a:pt x="1054" y="700"/>
                    </a:lnTo>
                    <a:lnTo>
                      <a:pt x="882" y="664"/>
                    </a:lnTo>
                    <a:lnTo>
                      <a:pt x="800" y="555"/>
                    </a:lnTo>
                    <a:lnTo>
                      <a:pt x="727" y="491"/>
                    </a:lnTo>
                    <a:lnTo>
                      <a:pt x="627" y="455"/>
                    </a:lnTo>
                    <a:lnTo>
                      <a:pt x="564" y="427"/>
                    </a:lnTo>
                    <a:lnTo>
                      <a:pt x="509" y="318"/>
                    </a:lnTo>
                    <a:lnTo>
                      <a:pt x="554" y="246"/>
                    </a:lnTo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>
                <a:off x="5727600" y="3060720"/>
                <a:ext cx="919800" cy="593280"/>
              </a:xfrm>
              <a:custGeom>
                <a:avLst/>
                <a:gdLst/>
                <a:ahLst/>
                <a:rect l="l" t="t" r="r" b="b"/>
                <a:pathLst>
                  <a:path w="728" h="496">
                    <a:moveTo>
                      <a:pt x="437" y="0"/>
                    </a:moveTo>
                    <a:lnTo>
                      <a:pt x="318" y="9"/>
                    </a:lnTo>
                    <a:lnTo>
                      <a:pt x="248" y="8"/>
                    </a:lnTo>
                    <a:lnTo>
                      <a:pt x="132" y="48"/>
                    </a:lnTo>
                    <a:lnTo>
                      <a:pt x="46" y="109"/>
                    </a:lnTo>
                    <a:lnTo>
                      <a:pt x="12" y="184"/>
                    </a:lnTo>
                    <a:lnTo>
                      <a:pt x="0" y="264"/>
                    </a:lnTo>
                    <a:lnTo>
                      <a:pt x="46" y="364"/>
                    </a:lnTo>
                    <a:lnTo>
                      <a:pt x="82" y="437"/>
                    </a:lnTo>
                    <a:lnTo>
                      <a:pt x="155" y="464"/>
                    </a:lnTo>
                    <a:lnTo>
                      <a:pt x="346" y="491"/>
                    </a:lnTo>
                    <a:lnTo>
                      <a:pt x="491" y="455"/>
                    </a:lnTo>
                    <a:lnTo>
                      <a:pt x="627" y="482"/>
                    </a:lnTo>
                    <a:lnTo>
                      <a:pt x="708" y="496"/>
                    </a:lnTo>
                    <a:lnTo>
                      <a:pt x="728" y="456"/>
                    </a:lnTo>
                    <a:lnTo>
                      <a:pt x="727" y="409"/>
                    </a:lnTo>
                    <a:lnTo>
                      <a:pt x="692" y="344"/>
                    </a:lnTo>
                    <a:lnTo>
                      <a:pt x="612" y="336"/>
                    </a:lnTo>
                    <a:lnTo>
                      <a:pt x="552" y="348"/>
                    </a:lnTo>
                    <a:lnTo>
                      <a:pt x="418" y="346"/>
                    </a:lnTo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>
                <a:off x="5475240" y="3485160"/>
                <a:ext cx="286560" cy="510480"/>
              </a:xfrm>
              <a:custGeom>
                <a:avLst/>
                <a:gdLst/>
                <a:ahLst/>
                <a:rect l="l" t="t" r="r" b="b"/>
                <a:pathLst>
                  <a:path w="227" h="427">
                    <a:moveTo>
                      <a:pt x="227" y="0"/>
                    </a:moveTo>
                    <a:lnTo>
                      <a:pt x="109" y="27"/>
                    </a:lnTo>
                    <a:lnTo>
                      <a:pt x="55" y="163"/>
                    </a:lnTo>
                    <a:lnTo>
                      <a:pt x="0" y="354"/>
                    </a:lnTo>
                    <a:lnTo>
                      <a:pt x="0" y="42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>
                <a:off x="7784640" y="3561840"/>
                <a:ext cx="184320" cy="20412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>
                <a:off x="6910560" y="3388320"/>
                <a:ext cx="193320" cy="618120"/>
              </a:xfrm>
              <a:custGeom>
                <a:avLst/>
                <a:gdLst/>
                <a:ahLst/>
                <a:rect l="l" t="t" r="r" b="b"/>
                <a:pathLst>
                  <a:path w="137" h="445">
                    <a:moveTo>
                      <a:pt x="64" y="0"/>
                    </a:moveTo>
                    <a:lnTo>
                      <a:pt x="37" y="272"/>
                    </a:lnTo>
                    <a:lnTo>
                      <a:pt x="0" y="418"/>
                    </a:lnTo>
                    <a:lnTo>
                      <a:pt x="55" y="445"/>
                    </a:lnTo>
                    <a:lnTo>
                      <a:pt x="128" y="400"/>
                    </a:lnTo>
                    <a:lnTo>
                      <a:pt x="137" y="309"/>
                    </a:lnTo>
                    <a:lnTo>
                      <a:pt x="119" y="200"/>
                    </a:lnTo>
                    <a:lnTo>
                      <a:pt x="100" y="91"/>
                    </a:lnTo>
                    <a:lnTo>
                      <a:pt x="119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6" name=""/>
            <p:cNvSpPr/>
            <p:nvPr/>
          </p:nvSpPr>
          <p:spPr>
            <a:xfrm>
              <a:off x="7178400" y="3486240"/>
              <a:ext cx="120960" cy="52560"/>
            </a:xfrm>
            <a:custGeom>
              <a:avLst/>
              <a:gdLst/>
              <a:ahLst/>
              <a:rect l="l" t="t" r="r" b="b"/>
              <a:pathLst>
                <a:path w="96" h="44">
                  <a:moveTo>
                    <a:pt x="96" y="0"/>
                  </a:moveTo>
                  <a:lnTo>
                    <a:pt x="64" y="24"/>
                  </a:lnTo>
                  <a:lnTo>
                    <a:pt x="24" y="40"/>
                  </a:lnTo>
                  <a:lnTo>
                    <a:pt x="0" y="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7" name=""/>
          <p:cNvSpPr/>
          <p:nvPr/>
        </p:nvSpPr>
        <p:spPr>
          <a:xfrm>
            <a:off x="5880240" y="841320"/>
            <a:ext cx="2847960" cy="1817640"/>
          </a:xfrm>
          <a:prstGeom prst="cloudCallout">
            <a:avLst>
              <a:gd name="adj1" fmla="val 55"/>
              <a:gd name="adj2" fmla="val 80916"/>
            </a:avLst>
          </a:prstGeom>
          <a:blipFill rotWithShape="0">
            <a:blip r:embed="rId11"/>
            <a:srcRect/>
            <a:stretch/>
          </a:blip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39" name="PlaceHolder 1"/>
          <p:cNvSpPr>
            <a:spLocks noGrp="1"/>
          </p:cNvSpPr>
          <p:nvPr>
            <p:ph type="title"/>
          </p:nvPr>
        </p:nvSpPr>
        <p:spPr>
          <a:xfrm>
            <a:off x="345600" y="590400"/>
            <a:ext cx="331956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et maintenant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à fond la form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5342040" cy="825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avaux   pratiques immédiats,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7000" y="1654200"/>
            <a:ext cx="87199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Testez votre résolution angulaire, </a:t>
            </a:r>
            <a:r>
              <a:rPr b="1" lang="fr-FR" sz="2400" spc="-1" strike="noStrike">
                <a:solidFill>
                  <a:srgbClr val="ff0066"/>
                </a:solidFill>
                <a:latin typeface="Comic Sans MS"/>
              </a:rPr>
              <a:t>sans modèle "a priori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0" y="2192400"/>
            <a:ext cx="5343120" cy="3544200"/>
            <a:chOff x="0" y="2192400"/>
            <a:chExt cx="5343120" cy="3544200"/>
          </a:xfrm>
        </p:grpSpPr>
        <p:sp>
          <p:nvSpPr>
            <p:cNvPr id="566" name=""/>
            <p:cNvSpPr/>
            <p:nvPr/>
          </p:nvSpPr>
          <p:spPr>
            <a:xfrm>
              <a:off x="1268280" y="5167440"/>
              <a:ext cx="28371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sans  modèle  a prio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c'est plus diffic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0" y="2192400"/>
              <a:ext cx="5343120" cy="2844720"/>
              <a:chOff x="0" y="2192400"/>
              <a:chExt cx="5343120" cy="2844720"/>
            </a:xfrm>
          </p:grpSpPr>
          <p:sp>
            <p:nvSpPr>
              <p:cNvPr id="568" name=""/>
              <p:cNvSpPr/>
              <p:nvPr/>
            </p:nvSpPr>
            <p:spPr>
              <a:xfrm>
                <a:off x="0" y="2192400"/>
                <a:ext cx="3352320" cy="2844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6360" y="2203560"/>
                <a:ext cx="5306760" cy="2827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102680" y="2482920"/>
                <a:ext cx="2340360" cy="73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800" spc="-1" strike="noStrike">
                    <a:solidFill>
                      <a:srgbClr val="ffcccc"/>
                    </a:solidFill>
                    <a:latin typeface="Comic Sans MS"/>
                  </a:rPr>
                  <a:t>  </a:t>
                </a:r>
                <a:r>
                  <a:rPr b="1" lang="fr-FR" sz="4800" spc="-1" strike="noStrike">
                    <a:solidFill>
                      <a:srgbClr val="ffcccc"/>
                    </a:solidFill>
                    <a:latin typeface="Comic Sans MS"/>
                  </a:rPr>
                  <a:t>A Rose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438280" y="291168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cccc"/>
                    </a:solidFill>
                    <a:latin typeface="Comic Sans MS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49280" y="3843360"/>
                <a:ext cx="202284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100" spc="-1" strike="noStrike">
                    <a:solidFill>
                      <a:srgbClr val="ffcccc"/>
                    </a:solidFill>
                    <a:latin typeface="Comic Sans MS"/>
                  </a:rPr>
                  <a:t>      </a:t>
                </a:r>
                <a:r>
                  <a:rPr b="1" lang="fr-FR" sz="2100" spc="-1" strike="noStrike">
                    <a:solidFill>
                      <a:srgbClr val="ffcccc"/>
                    </a:solidFill>
                    <a:latin typeface="Comic Sans MS"/>
                  </a:rPr>
                  <a:t>would smell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139480" y="3935520"/>
                <a:ext cx="6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cccc"/>
                    </a:solidFill>
                    <a:latin typeface="Comic Sans MS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572120" y="4226040"/>
                <a:ext cx="1468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cccc"/>
                    </a:solidFill>
                    <a:latin typeface="Comic Sans MS"/>
                  </a:rPr>
                  <a:t>       </a:t>
                </a:r>
                <a:r>
                  <a:rPr b="1" lang="fr-FR" sz="1800" spc="-1" strike="noStrike">
                    <a:solidFill>
                      <a:srgbClr val="ffcccc"/>
                    </a:solidFill>
                    <a:latin typeface="Comic Sans MS"/>
                  </a:rPr>
                  <a:t>as swe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599480" y="4518000"/>
                <a:ext cx="1600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cccc"/>
                    </a:solidFill>
                    <a:latin typeface="Comic Sans MS"/>
                  </a:rPr>
                  <a:t>       </a:t>
                </a:r>
                <a:r>
                  <a:rPr b="1" lang="fr-FR" sz="1300" spc="-1" strike="noStrike">
                    <a:solidFill>
                      <a:srgbClr val="ffcccc"/>
                    </a:solidFill>
                    <a:latin typeface="Comic Sans MS"/>
                  </a:rPr>
                  <a:t>W. Shakespea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83320" y="3246480"/>
                <a:ext cx="488196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500" spc="-1" strike="noStrike">
                    <a:solidFill>
                      <a:srgbClr val="ffcccc"/>
                    </a:solidFill>
                    <a:latin typeface="Comic Sans MS"/>
                  </a:rPr>
                  <a:t>   </a:t>
                </a:r>
                <a:r>
                  <a:rPr b="1" lang="fr-FR" sz="3500" spc="-1" strike="noStrike">
                    <a:solidFill>
                      <a:srgbClr val="ffcccc"/>
                    </a:solidFill>
                    <a:latin typeface="Comic Sans MS"/>
                  </a:rPr>
                  <a:t>by any other  name  </a:t>
                </a:r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7" name=""/>
          <p:cNvSpPr/>
          <p:nvPr/>
        </p:nvSpPr>
        <p:spPr>
          <a:xfrm>
            <a:off x="5415120" y="2127240"/>
            <a:ext cx="3350880" cy="4466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80880" indent="-380880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1" lang="fr-FR" sz="3600" spc="-1" strike="noStrike">
                <a:solidFill>
                  <a:srgbClr val="f8f8f8"/>
                </a:solidFill>
                <a:latin typeface="Comic Sans MS"/>
              </a:rPr>
              <a:t>Le jabberw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8f8f8"/>
                </a:solidFill>
                <a:latin typeface="Comic Sans MS"/>
              </a:rPr>
              <a:t>l'œil flambloy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32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8f8f8"/>
                </a:solidFill>
                <a:latin typeface="Comic Sans MS"/>
              </a:rPr>
              <a:t>ruginif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1" lang="fr-FR" sz="1400" spc="-1" strike="noStrike">
                <a:solidFill>
                  <a:srgbClr val="f8f8f8"/>
                </a:solidFill>
                <a:latin typeface="Comic Sans MS"/>
              </a:rPr>
              <a:t>par le bois touffe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1" lang="fr-FR" sz="1000" spc="-1" strike="noStrike">
                <a:solidFill>
                  <a:srgbClr val="f8f8f8"/>
                </a:solidFill>
                <a:latin typeface="Comic Sans MS"/>
              </a:rPr>
              <a:t>arrivait en barigoul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260000"/>
              </a:lnSpc>
              <a:spcBef>
                <a:spcPts val="451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1" lang="fr-FR" sz="800" spc="-1" strike="noStrike">
                <a:solidFill>
                  <a:srgbClr val="f8f8f8"/>
                </a:solidFill>
                <a:latin typeface="Comic Sans MS"/>
              </a:rPr>
              <a:t>traduit de Lewis Car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260000"/>
              </a:lnSpc>
              <a:spcBef>
                <a:spcPts val="451"/>
              </a:spcBef>
              <a:tabLst>
                <a:tab algn="l" pos="0"/>
                <a:tab algn="l" pos="1117440"/>
                <a:tab algn="l" pos="2260440"/>
                <a:tab algn="l" pos="3403440"/>
                <a:tab algn="l" pos="4597560"/>
                <a:tab algn="l" pos="5689440"/>
                <a:tab algn="l" pos="5791320"/>
                <a:tab algn="l" pos="5943600"/>
                <a:tab algn="l" pos="6095880"/>
                <a:tab algn="l" pos="6248520"/>
                <a:tab algn="l" pos="6400800"/>
                <a:tab algn="l" pos="6553080"/>
                <a:tab algn="l" pos="6705720"/>
                <a:tab algn="l" pos="6858000"/>
                <a:tab algn="l" pos="7010280"/>
                <a:tab algn="l" pos="7162920"/>
                <a:tab algn="l" pos="7315200"/>
                <a:tab algn="l" pos="7467480"/>
                <a:tab algn="l" pos="7620120"/>
                <a:tab algn="l" pos="7772400"/>
                <a:tab algn="l" pos="7924680"/>
                <a:tab algn="l" pos="8077320"/>
                <a:tab algn="l" pos="8229600"/>
                <a:tab algn="l" pos="8381880"/>
                <a:tab algn="l" pos="8534520"/>
                <a:tab algn="l" pos="86868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379560" y="6345360"/>
            <a:ext cx="2669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lors ?  heureux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31640" y="779040"/>
            <a:ext cx="3679920" cy="82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gression le long du 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3840" y="23796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30560" y="1960560"/>
            <a:ext cx="738612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contexte science, motivation, but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boite à outils ( notations, formalis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dements  théo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interférométri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, principes : monde idéa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icultés : monde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706480" y="128412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lef de voute : H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5120" y="2762280"/>
            <a:ext cx="7024680" cy="46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1640" y="779040"/>
            <a:ext cx="55929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lan plus détaillé pour le gros morc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4760" y="1501920"/>
            <a:ext cx="64076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boite à outils ( notations, formalis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0760" y="1546200"/>
            <a:ext cx="6764400" cy="900000"/>
          </a:xfrm>
          <a:prstGeom prst="rect">
            <a:avLst/>
          </a:pr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72600" y="2830680"/>
            <a:ext cx="685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ansformée de Fourier (1 et 2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pectre spatial, fréquences spat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ltrage liné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6564240" y="698400"/>
            <a:ext cx="281484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2894040" y="5907240"/>
            <a:ext cx="5973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as celle là non pl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n va toutefois y venir, mais dou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34720" y="603360"/>
            <a:ext cx="63594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omic Sans MS"/>
              </a:rPr>
              <a:t>fourier, 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quelques rapp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504800" y="4160880"/>
            <a:ext cx="5056200" cy="3157560"/>
            <a:chOff x="1504800" y="4160880"/>
            <a:chExt cx="5056200" cy="3157560"/>
          </a:xfrm>
        </p:grpSpPr>
        <p:sp>
          <p:nvSpPr>
            <p:cNvPr id="592" name=""/>
            <p:cNvSpPr/>
            <p:nvPr/>
          </p:nvSpPr>
          <p:spPr>
            <a:xfrm>
              <a:off x="1504800" y="4160880"/>
              <a:ext cx="4863960" cy="3157560"/>
            </a:xfrm>
            <a:custGeom>
              <a:avLst/>
              <a:gdLst/>
              <a:ahLst/>
              <a:rect l="l" t="t" r="r" b="b"/>
              <a:pathLst>
                <a:path w="3064" h="1989">
                  <a:moveTo>
                    <a:pt x="192" y="1880"/>
                  </a:moveTo>
                  <a:cubicBezTo>
                    <a:pt x="96" y="1934"/>
                    <a:pt x="0" y="1989"/>
                    <a:pt x="208" y="1816"/>
                  </a:cubicBezTo>
                  <a:cubicBezTo>
                    <a:pt x="416" y="1643"/>
                    <a:pt x="964" y="1143"/>
                    <a:pt x="1440" y="840"/>
                  </a:cubicBezTo>
                  <a:cubicBezTo>
                    <a:pt x="1916" y="537"/>
                    <a:pt x="2490" y="268"/>
                    <a:pt x="3064" y="0"/>
                  </a:cubicBez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37880" y="4562280"/>
              <a:ext cx="4623120" cy="1816200"/>
            </a:xfrm>
            <a:custGeom>
              <a:avLst/>
              <a:gdLst/>
              <a:ahLst/>
              <a:rect l="l" t="t" r="r" b="b"/>
              <a:pathLst>
                <a:path w="2912" h="1144">
                  <a:moveTo>
                    <a:pt x="0" y="0"/>
                  </a:moveTo>
                  <a:cubicBezTo>
                    <a:pt x="536" y="90"/>
                    <a:pt x="1073" y="180"/>
                    <a:pt x="1512" y="336"/>
                  </a:cubicBezTo>
                  <a:cubicBezTo>
                    <a:pt x="1951" y="492"/>
                    <a:pt x="2399" y="801"/>
                    <a:pt x="2632" y="936"/>
                  </a:cubicBezTo>
                  <a:cubicBezTo>
                    <a:pt x="2865" y="1071"/>
                    <a:pt x="2888" y="1107"/>
                    <a:pt x="2912" y="1144"/>
                  </a:cubicBez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53000" y="1716120"/>
            <a:ext cx="8035200" cy="2188080"/>
            <a:chOff x="153000" y="1716120"/>
            <a:chExt cx="8035200" cy="2188080"/>
          </a:xfrm>
        </p:grpSpPr>
        <p:sp>
          <p:nvSpPr>
            <p:cNvPr id="595" name=""/>
            <p:cNvSpPr/>
            <p:nvPr/>
          </p:nvSpPr>
          <p:spPr>
            <a:xfrm>
              <a:off x="153000" y="1716120"/>
              <a:ext cx="400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une fa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çon de commencer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96000" y="2154240"/>
              <a:ext cx="7792200" cy="1749960"/>
              <a:chOff x="396000" y="2154240"/>
              <a:chExt cx="7792200" cy="1749960"/>
            </a:xfrm>
          </p:grpSpPr>
          <p:sp>
            <p:nvSpPr>
              <p:cNvPr id="597" name=""/>
              <p:cNvSpPr/>
              <p:nvPr/>
            </p:nvSpPr>
            <p:spPr>
              <a:xfrm>
                <a:off x="2668680" y="2665440"/>
                <a:ext cx="3860640" cy="682560"/>
              </a:xfrm>
              <a:prstGeom prst="rightArrow">
                <a:avLst>
                  <a:gd name="adj1" fmla="val 57139"/>
                  <a:gd name="adj2" fmla="val 41635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009999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96000" y="2727360"/>
                <a:ext cx="19623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fonction f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9" name=""/>
              <p:cNvGrpSpPr/>
              <p:nvPr/>
            </p:nvGrpSpPr>
            <p:grpSpPr>
              <a:xfrm>
                <a:off x="3236760" y="2154240"/>
                <a:ext cx="2582640" cy="1749960"/>
                <a:chOff x="3236760" y="2154240"/>
                <a:chExt cx="2582640" cy="17499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3236760" y="2154240"/>
                  <a:ext cx="2582640" cy="1712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318120" y="2225520"/>
                  <a:ext cx="2436120" cy="1678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ffffff"/>
                      </a:solidFill>
                      <a:latin typeface="Comic Sans MS"/>
                    </a:rPr>
                    <a:t>transformation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ffffff"/>
                      </a:solidFill>
                      <a:latin typeface="Comic Sans MS"/>
                    </a:rPr>
                    <a:t>de Fouri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200" spc="-1" strike="noStrike">
                      <a:solidFill>
                        <a:srgbClr val="ffffff"/>
                      </a:solidFill>
                      <a:latin typeface="Comic Sans MS"/>
                    </a:rPr>
                    <a:t>boite noire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2" name=""/>
              <p:cNvSpPr/>
              <p:nvPr/>
            </p:nvSpPr>
            <p:spPr>
              <a:xfrm>
                <a:off x="6713640" y="2763720"/>
                <a:ext cx="1474560" cy="520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TF de f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3" name=""/>
          <p:cNvGrpSpPr/>
          <p:nvPr/>
        </p:nvGrpSpPr>
        <p:grpSpPr>
          <a:xfrm>
            <a:off x="2041560" y="1662120"/>
            <a:ext cx="6856560" cy="3157560"/>
            <a:chOff x="2041560" y="1662120"/>
            <a:chExt cx="6856560" cy="3157560"/>
          </a:xfrm>
        </p:grpSpPr>
        <p:sp>
          <p:nvSpPr>
            <p:cNvPr id="604" name=""/>
            <p:cNvSpPr/>
            <p:nvPr/>
          </p:nvSpPr>
          <p:spPr>
            <a:xfrm>
              <a:off x="6899400" y="3670200"/>
              <a:ext cx="199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pas celle l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2041560" y="1662120"/>
              <a:ext cx="4991040" cy="3157560"/>
              <a:chOff x="2041560" y="1662120"/>
              <a:chExt cx="4991040" cy="3157560"/>
            </a:xfrm>
          </p:grpSpPr>
          <p:sp>
            <p:nvSpPr>
              <p:cNvPr id="606" name=""/>
              <p:cNvSpPr/>
              <p:nvPr/>
            </p:nvSpPr>
            <p:spPr>
              <a:xfrm>
                <a:off x="2168640" y="1662120"/>
                <a:ext cx="4863960" cy="3157560"/>
              </a:xfrm>
              <a:custGeom>
                <a:avLst/>
                <a:gdLst/>
                <a:ahLst/>
                <a:rect l="l" t="t" r="r" b="b"/>
                <a:pathLst>
                  <a:path w="3064" h="1989">
                    <a:moveTo>
                      <a:pt x="192" y="1880"/>
                    </a:moveTo>
                    <a:cubicBezTo>
                      <a:pt x="96" y="1934"/>
                      <a:pt x="0" y="1989"/>
                      <a:pt x="208" y="1816"/>
                    </a:cubicBezTo>
                    <a:cubicBezTo>
                      <a:pt x="416" y="1643"/>
                      <a:pt x="964" y="1143"/>
                      <a:pt x="1440" y="840"/>
                    </a:cubicBezTo>
                    <a:cubicBezTo>
                      <a:pt x="1916" y="537"/>
                      <a:pt x="2490" y="268"/>
                      <a:pt x="3064" y="0"/>
                    </a:cubicBezTo>
                  </a:path>
                </a:pathLst>
              </a:custGeom>
              <a:noFill/>
              <a:ln w="127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041560" y="2309760"/>
                <a:ext cx="4622760" cy="1816200"/>
              </a:xfrm>
              <a:custGeom>
                <a:avLst/>
                <a:gdLst/>
                <a:ahLst/>
                <a:rect l="l" t="t" r="r" b="b"/>
                <a:pathLst>
                  <a:path w="2912" h="1144">
                    <a:moveTo>
                      <a:pt x="0" y="0"/>
                    </a:moveTo>
                    <a:cubicBezTo>
                      <a:pt x="536" y="90"/>
                      <a:pt x="1073" y="180"/>
                      <a:pt x="1512" y="336"/>
                    </a:cubicBezTo>
                    <a:cubicBezTo>
                      <a:pt x="1951" y="492"/>
                      <a:pt x="2399" y="801"/>
                      <a:pt x="2632" y="936"/>
                    </a:cubicBezTo>
                    <a:cubicBezTo>
                      <a:pt x="2865" y="1071"/>
                      <a:pt x="2888" y="1107"/>
                      <a:pt x="2912" y="1144"/>
                    </a:cubicBezTo>
                  </a:path>
                </a:pathLst>
              </a:custGeom>
              <a:noFill/>
              <a:ln w="127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8" name=""/>
          <p:cNvGrpSpPr/>
          <p:nvPr/>
        </p:nvGrpSpPr>
        <p:grpSpPr>
          <a:xfrm>
            <a:off x="306000" y="4111560"/>
            <a:ext cx="6577560" cy="1633680"/>
            <a:chOff x="306000" y="4111560"/>
            <a:chExt cx="6577560" cy="1633680"/>
          </a:xfrm>
        </p:grpSpPr>
        <mc:AlternateContent>
          <mc:Choice xmlns:a14="http://schemas.microsoft.com/office/drawing/2010/main" Requires="a14">
            <p:sp>
              <p:nvSpPr>
                <p:cNvPr id="609" name=""/>
                <p:cNvSpPr txBox="1"/>
                <p:nvPr/>
              </p:nvSpPr>
              <p:spPr>
                <a:xfrm>
                  <a:off x="1058760" y="4699080"/>
                  <a:ext cx="582480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u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x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610" name=""/>
            <p:cNvSpPr/>
            <p:nvPr/>
          </p:nvSpPr>
          <p:spPr>
            <a:xfrm>
              <a:off x="306000" y="4111560"/>
              <a:ext cx="282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une autre faç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6613560" y="326880"/>
            <a:ext cx="253044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8560" y="590040"/>
            <a:ext cx="4597560" cy="46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 cahier des charges annonc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4120" y="1274760"/>
            <a:ext cx="85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a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ute résolution angula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e sur des principes physiques simples liés essentiellement aux propriété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ation d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ages dans un instrument d'optiqu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n abordera ainsi les notion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on objet-im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 pupil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t 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nction de transf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hérence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'une onde et de la façon dont ces propriétés peuvent être exploités pour d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ogrammes scientifiques nouveau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31560" y="609120"/>
            <a:ext cx="47847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 raccourci conceptuel gross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73240" y="1135080"/>
            <a:ext cx="8758440" cy="1618200"/>
            <a:chOff x="273240" y="1135080"/>
            <a:chExt cx="8758440" cy="1618200"/>
          </a:xfrm>
        </p:grpSpPr>
        <p:sp>
          <p:nvSpPr>
            <p:cNvPr id="614" name=""/>
            <p:cNvSpPr/>
            <p:nvPr/>
          </p:nvSpPr>
          <p:spPr>
            <a:xfrm>
              <a:off x="273240" y="1327320"/>
              <a:ext cx="432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onction "brave" ou "sympathique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 signal physiq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69720" y="2049480"/>
              <a:ext cx="543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crite par un ensemble de couples  (x, f(x)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scription dans l'espace des coordonné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5902200" y="1135080"/>
              <a:ext cx="3129480" cy="1520640"/>
              <a:chOff x="5902200" y="1135080"/>
              <a:chExt cx="3129480" cy="1520640"/>
            </a:xfrm>
          </p:grpSpPr>
          <p:sp>
            <p:nvSpPr>
              <p:cNvPr id="617" name=""/>
              <p:cNvSpPr/>
              <p:nvPr/>
            </p:nvSpPr>
            <p:spPr>
              <a:xfrm>
                <a:off x="6229440" y="1708200"/>
                <a:ext cx="2419200" cy="90000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902200" y="2238480"/>
                <a:ext cx="310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7261200" y="1454040"/>
                <a:ext cx="0" cy="120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345440" y="1135080"/>
                <a:ext cx="5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(x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716680" y="190188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73720" y="1717560"/>
                <a:ext cx="2374920" cy="803520"/>
              </a:xfrm>
              <a:custGeom>
                <a:avLst/>
                <a:gdLst/>
                <a:ahLst/>
                <a:rect l="l" t="t" r="r" b="b"/>
                <a:pathLst>
                  <a:path w="1496" h="506">
                    <a:moveTo>
                      <a:pt x="0" y="314"/>
                    </a:moveTo>
                    <a:cubicBezTo>
                      <a:pt x="38" y="291"/>
                      <a:pt x="163" y="172"/>
                      <a:pt x="225" y="183"/>
                    </a:cubicBezTo>
                    <a:cubicBezTo>
                      <a:pt x="287" y="194"/>
                      <a:pt x="334" y="333"/>
                      <a:pt x="373" y="381"/>
                    </a:cubicBezTo>
                    <a:cubicBezTo>
                      <a:pt x="412" y="429"/>
                      <a:pt x="434" y="506"/>
                      <a:pt x="460" y="474"/>
                    </a:cubicBezTo>
                    <a:cubicBezTo>
                      <a:pt x="486" y="442"/>
                      <a:pt x="507" y="267"/>
                      <a:pt x="528" y="189"/>
                    </a:cubicBezTo>
                    <a:cubicBezTo>
                      <a:pt x="549" y="111"/>
                      <a:pt x="552" y="16"/>
                      <a:pt x="586" y="8"/>
                    </a:cubicBezTo>
                    <a:cubicBezTo>
                      <a:pt x="620" y="0"/>
                      <a:pt x="691" y="91"/>
                      <a:pt x="730" y="139"/>
                    </a:cubicBezTo>
                    <a:cubicBezTo>
                      <a:pt x="769" y="187"/>
                      <a:pt x="791" y="274"/>
                      <a:pt x="821" y="299"/>
                    </a:cubicBezTo>
                    <a:cubicBezTo>
                      <a:pt x="851" y="324"/>
                      <a:pt x="876" y="308"/>
                      <a:pt x="912" y="289"/>
                    </a:cubicBezTo>
                    <a:cubicBezTo>
                      <a:pt x="948" y="270"/>
                      <a:pt x="984" y="191"/>
                      <a:pt x="1036" y="183"/>
                    </a:cubicBezTo>
                    <a:cubicBezTo>
                      <a:pt x="1088" y="175"/>
                      <a:pt x="1171" y="213"/>
                      <a:pt x="1226" y="240"/>
                    </a:cubicBezTo>
                    <a:cubicBezTo>
                      <a:pt x="1281" y="268"/>
                      <a:pt x="1324" y="328"/>
                      <a:pt x="1370" y="342"/>
                    </a:cubicBezTo>
                    <a:cubicBezTo>
                      <a:pt x="1415" y="357"/>
                      <a:pt x="1469" y="331"/>
                      <a:pt x="1496" y="32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3" name=""/>
          <p:cNvSpPr/>
          <p:nvPr/>
        </p:nvSpPr>
        <p:spPr>
          <a:xfrm>
            <a:off x="315000" y="2905200"/>
            <a:ext cx="89330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 existe une autre description ( espace des frequen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scription par une </a:t>
            </a: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somme pondérée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sinusoides de diverses frequences et phases (elles forment une 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cc"/>
                </a:solidFill>
                <a:latin typeface="Comic Sans MS"/>
              </a:rPr>
              <a:t>comme pour les vecteurs (ou pres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5427000" y="4054320"/>
            <a:ext cx="3636360" cy="1715040"/>
            <a:chOff x="5427000" y="4054320"/>
            <a:chExt cx="3636360" cy="1715040"/>
          </a:xfrm>
        </p:grpSpPr>
        <p:sp>
          <p:nvSpPr>
            <p:cNvPr id="625" name=""/>
            <p:cNvSpPr/>
            <p:nvPr/>
          </p:nvSpPr>
          <p:spPr>
            <a:xfrm>
              <a:off x="7226280" y="4686120"/>
              <a:ext cx="463320" cy="322200"/>
            </a:xfrm>
            <a:custGeom>
              <a:avLst/>
              <a:gdLst/>
              <a:ahLst/>
              <a:rect l="l" t="t" r="r" b="b"/>
              <a:pathLst>
                <a:path w="383" h="255">
                  <a:moveTo>
                    <a:pt x="16" y="58"/>
                  </a:moveTo>
                  <a:lnTo>
                    <a:pt x="204" y="58"/>
                  </a:lnTo>
                  <a:lnTo>
                    <a:pt x="204" y="0"/>
                  </a:lnTo>
                  <a:lnTo>
                    <a:pt x="383" y="140"/>
                  </a:lnTo>
                  <a:lnTo>
                    <a:pt x="204" y="255"/>
                  </a:lnTo>
                  <a:lnTo>
                    <a:pt x="204" y="197"/>
                  </a:lnTo>
                  <a:lnTo>
                    <a:pt x="0" y="197"/>
                  </a:lnTo>
                  <a:lnTo>
                    <a:pt x="0" y="58"/>
                  </a:lnTo>
                </a:path>
              </a:pathLst>
            </a:custGeom>
            <a:solidFill>
              <a:srgbClr val="3399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5427000" y="4282920"/>
              <a:ext cx="1602360" cy="1486440"/>
              <a:chOff x="5427000" y="4282920"/>
              <a:chExt cx="1602360" cy="1486440"/>
            </a:xfrm>
          </p:grpSpPr>
          <p:sp>
            <p:nvSpPr>
              <p:cNvPr id="627" name=""/>
              <p:cNvSpPr/>
              <p:nvPr/>
            </p:nvSpPr>
            <p:spPr>
              <a:xfrm>
                <a:off x="5427000" y="5205240"/>
                <a:ext cx="26892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700" spc="-1" strike="noStrike">
                    <a:solidFill>
                      <a:srgbClr val="ff3300"/>
                    </a:solidFill>
                    <a:latin typeface="Comic Sans MS"/>
                  </a:rPr>
                  <a:t>+</a:t>
                </a:r>
                <a:endParaRPr b="0" lang="en-US" sz="3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441400" y="4806720"/>
                <a:ext cx="26892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700" spc="-1" strike="noStrike">
                    <a:solidFill>
                      <a:srgbClr val="ff3300"/>
                    </a:solidFill>
                    <a:latin typeface="Comic Sans MS"/>
                  </a:rPr>
                  <a:t>+</a:t>
                </a:r>
                <a:endParaRPr b="0" lang="en-US" sz="3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436720" y="4371840"/>
                <a:ext cx="26892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700" spc="-1" strike="noStrike">
                    <a:solidFill>
                      <a:srgbClr val="ff3300"/>
                    </a:solidFill>
                    <a:latin typeface="Comic Sans MS"/>
                  </a:rPr>
                  <a:t>+</a:t>
                </a:r>
                <a:endParaRPr b="0" lang="en-US" sz="3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665680" y="4282920"/>
                <a:ext cx="1363680" cy="347760"/>
              </a:xfrm>
              <a:custGeom>
                <a:avLst/>
                <a:gdLst/>
                <a:ahLst/>
                <a:rect l="l" t="t" r="r" b="b"/>
                <a:pathLst>
                  <a:path w="1126" h="275">
                    <a:moveTo>
                      <a:pt x="0" y="140"/>
                    </a:moveTo>
                    <a:lnTo>
                      <a:pt x="8" y="156"/>
                    </a:lnTo>
                    <a:lnTo>
                      <a:pt x="20" y="185"/>
                    </a:lnTo>
                    <a:lnTo>
                      <a:pt x="33" y="209"/>
                    </a:lnTo>
                    <a:lnTo>
                      <a:pt x="45" y="226"/>
                    </a:lnTo>
                    <a:lnTo>
                      <a:pt x="57" y="242"/>
                    </a:lnTo>
                    <a:lnTo>
                      <a:pt x="69" y="255"/>
                    </a:lnTo>
                    <a:lnTo>
                      <a:pt x="82" y="263"/>
                    </a:lnTo>
                    <a:lnTo>
                      <a:pt x="94" y="267"/>
                    </a:lnTo>
                    <a:lnTo>
                      <a:pt x="106" y="263"/>
                    </a:lnTo>
                    <a:lnTo>
                      <a:pt x="118" y="259"/>
                    </a:lnTo>
                    <a:lnTo>
                      <a:pt x="126" y="250"/>
                    </a:lnTo>
                    <a:lnTo>
                      <a:pt x="135" y="242"/>
                    </a:lnTo>
                    <a:lnTo>
                      <a:pt x="147" y="222"/>
                    </a:lnTo>
                    <a:lnTo>
                      <a:pt x="155" y="205"/>
                    </a:lnTo>
                    <a:lnTo>
                      <a:pt x="167" y="177"/>
                    </a:lnTo>
                    <a:lnTo>
                      <a:pt x="175" y="148"/>
                    </a:lnTo>
                    <a:lnTo>
                      <a:pt x="180" y="131"/>
                    </a:lnTo>
                    <a:lnTo>
                      <a:pt x="184" y="115"/>
                    </a:lnTo>
                    <a:lnTo>
                      <a:pt x="196" y="82"/>
                    </a:lnTo>
                    <a:lnTo>
                      <a:pt x="204" y="57"/>
                    </a:lnTo>
                    <a:lnTo>
                      <a:pt x="212" y="41"/>
                    </a:lnTo>
                    <a:lnTo>
                      <a:pt x="224" y="21"/>
                    </a:lnTo>
                    <a:lnTo>
                      <a:pt x="233" y="8"/>
                    </a:lnTo>
                    <a:lnTo>
                      <a:pt x="241" y="4"/>
                    </a:lnTo>
                    <a:lnTo>
                      <a:pt x="249" y="0"/>
                    </a:lnTo>
                    <a:lnTo>
                      <a:pt x="257" y="0"/>
                    </a:lnTo>
                    <a:lnTo>
                      <a:pt x="269" y="4"/>
                    </a:lnTo>
                    <a:lnTo>
                      <a:pt x="281" y="12"/>
                    </a:lnTo>
                    <a:lnTo>
                      <a:pt x="286" y="21"/>
                    </a:lnTo>
                    <a:lnTo>
                      <a:pt x="294" y="37"/>
                    </a:lnTo>
                    <a:lnTo>
                      <a:pt x="306" y="62"/>
                    </a:lnTo>
                    <a:lnTo>
                      <a:pt x="314" y="86"/>
                    </a:lnTo>
                    <a:lnTo>
                      <a:pt x="322" y="115"/>
                    </a:lnTo>
                    <a:lnTo>
                      <a:pt x="326" y="127"/>
                    </a:lnTo>
                    <a:lnTo>
                      <a:pt x="330" y="140"/>
                    </a:lnTo>
                    <a:lnTo>
                      <a:pt x="339" y="168"/>
                    </a:lnTo>
                    <a:lnTo>
                      <a:pt x="347" y="193"/>
                    </a:lnTo>
                    <a:lnTo>
                      <a:pt x="355" y="213"/>
                    </a:lnTo>
                    <a:lnTo>
                      <a:pt x="367" y="234"/>
                    </a:lnTo>
                    <a:lnTo>
                      <a:pt x="375" y="246"/>
                    </a:lnTo>
                    <a:lnTo>
                      <a:pt x="379" y="250"/>
                    </a:lnTo>
                    <a:lnTo>
                      <a:pt x="387" y="255"/>
                    </a:lnTo>
                    <a:lnTo>
                      <a:pt x="400" y="255"/>
                    </a:lnTo>
                    <a:lnTo>
                      <a:pt x="412" y="250"/>
                    </a:lnTo>
                    <a:lnTo>
                      <a:pt x="416" y="246"/>
                    </a:lnTo>
                    <a:lnTo>
                      <a:pt x="424" y="234"/>
                    </a:lnTo>
                    <a:lnTo>
                      <a:pt x="436" y="213"/>
                    </a:lnTo>
                    <a:lnTo>
                      <a:pt x="445" y="197"/>
                    </a:lnTo>
                    <a:lnTo>
                      <a:pt x="453" y="172"/>
                    </a:lnTo>
                    <a:lnTo>
                      <a:pt x="461" y="144"/>
                    </a:lnTo>
                    <a:lnTo>
                      <a:pt x="465" y="131"/>
                    </a:lnTo>
                    <a:lnTo>
                      <a:pt x="469" y="119"/>
                    </a:lnTo>
                    <a:lnTo>
                      <a:pt x="477" y="90"/>
                    </a:lnTo>
                    <a:lnTo>
                      <a:pt x="485" y="66"/>
                    </a:lnTo>
                    <a:lnTo>
                      <a:pt x="494" y="49"/>
                    </a:lnTo>
                    <a:lnTo>
                      <a:pt x="506" y="29"/>
                    </a:lnTo>
                    <a:lnTo>
                      <a:pt x="514" y="16"/>
                    </a:lnTo>
                    <a:lnTo>
                      <a:pt x="522" y="8"/>
                    </a:lnTo>
                    <a:lnTo>
                      <a:pt x="526" y="8"/>
                    </a:lnTo>
                    <a:lnTo>
                      <a:pt x="538" y="8"/>
                    </a:lnTo>
                    <a:lnTo>
                      <a:pt x="547" y="8"/>
                    </a:lnTo>
                    <a:lnTo>
                      <a:pt x="555" y="16"/>
                    </a:lnTo>
                    <a:lnTo>
                      <a:pt x="563" y="29"/>
                    </a:lnTo>
                    <a:lnTo>
                      <a:pt x="575" y="49"/>
                    </a:lnTo>
                    <a:lnTo>
                      <a:pt x="583" y="66"/>
                    </a:lnTo>
                    <a:lnTo>
                      <a:pt x="591" y="90"/>
                    </a:lnTo>
                    <a:lnTo>
                      <a:pt x="600" y="119"/>
                    </a:lnTo>
                    <a:lnTo>
                      <a:pt x="604" y="131"/>
                    </a:lnTo>
                    <a:lnTo>
                      <a:pt x="608" y="144"/>
                    </a:lnTo>
                    <a:lnTo>
                      <a:pt x="616" y="172"/>
                    </a:lnTo>
                    <a:lnTo>
                      <a:pt x="624" y="197"/>
                    </a:lnTo>
                    <a:lnTo>
                      <a:pt x="632" y="218"/>
                    </a:lnTo>
                    <a:lnTo>
                      <a:pt x="640" y="234"/>
                    </a:lnTo>
                    <a:lnTo>
                      <a:pt x="653" y="246"/>
                    </a:lnTo>
                    <a:lnTo>
                      <a:pt x="657" y="255"/>
                    </a:lnTo>
                    <a:lnTo>
                      <a:pt x="665" y="259"/>
                    </a:lnTo>
                    <a:lnTo>
                      <a:pt x="673" y="259"/>
                    </a:lnTo>
                    <a:lnTo>
                      <a:pt x="681" y="259"/>
                    </a:lnTo>
                    <a:lnTo>
                      <a:pt x="689" y="250"/>
                    </a:lnTo>
                    <a:lnTo>
                      <a:pt x="702" y="238"/>
                    </a:lnTo>
                    <a:lnTo>
                      <a:pt x="710" y="222"/>
                    </a:lnTo>
                    <a:lnTo>
                      <a:pt x="718" y="205"/>
                    </a:lnTo>
                    <a:lnTo>
                      <a:pt x="726" y="181"/>
                    </a:lnTo>
                    <a:lnTo>
                      <a:pt x="734" y="160"/>
                    </a:lnTo>
                    <a:lnTo>
                      <a:pt x="738" y="144"/>
                    </a:lnTo>
                    <a:lnTo>
                      <a:pt x="742" y="131"/>
                    </a:lnTo>
                    <a:lnTo>
                      <a:pt x="750" y="107"/>
                    </a:lnTo>
                    <a:lnTo>
                      <a:pt x="759" y="82"/>
                    </a:lnTo>
                    <a:lnTo>
                      <a:pt x="767" y="66"/>
                    </a:lnTo>
                    <a:lnTo>
                      <a:pt x="779" y="49"/>
                    </a:lnTo>
                    <a:lnTo>
                      <a:pt x="787" y="37"/>
                    </a:lnTo>
                    <a:lnTo>
                      <a:pt x="791" y="33"/>
                    </a:lnTo>
                    <a:lnTo>
                      <a:pt x="799" y="29"/>
                    </a:lnTo>
                    <a:lnTo>
                      <a:pt x="812" y="29"/>
                    </a:lnTo>
                    <a:lnTo>
                      <a:pt x="820" y="33"/>
                    </a:lnTo>
                    <a:lnTo>
                      <a:pt x="828" y="41"/>
                    </a:lnTo>
                    <a:lnTo>
                      <a:pt x="836" y="49"/>
                    </a:lnTo>
                    <a:lnTo>
                      <a:pt x="848" y="70"/>
                    </a:lnTo>
                    <a:lnTo>
                      <a:pt x="856" y="90"/>
                    </a:lnTo>
                    <a:lnTo>
                      <a:pt x="865" y="111"/>
                    </a:lnTo>
                    <a:lnTo>
                      <a:pt x="873" y="140"/>
                    </a:lnTo>
                    <a:lnTo>
                      <a:pt x="877" y="152"/>
                    </a:lnTo>
                    <a:lnTo>
                      <a:pt x="881" y="164"/>
                    </a:lnTo>
                    <a:lnTo>
                      <a:pt x="889" y="193"/>
                    </a:lnTo>
                    <a:lnTo>
                      <a:pt x="897" y="213"/>
                    </a:lnTo>
                    <a:lnTo>
                      <a:pt x="905" y="234"/>
                    </a:lnTo>
                    <a:lnTo>
                      <a:pt x="914" y="250"/>
                    </a:lnTo>
                    <a:lnTo>
                      <a:pt x="922" y="259"/>
                    </a:lnTo>
                    <a:lnTo>
                      <a:pt x="934" y="271"/>
                    </a:lnTo>
                    <a:lnTo>
                      <a:pt x="942" y="275"/>
                    </a:lnTo>
                    <a:lnTo>
                      <a:pt x="946" y="275"/>
                    </a:lnTo>
                    <a:lnTo>
                      <a:pt x="958" y="271"/>
                    </a:lnTo>
                    <a:lnTo>
                      <a:pt x="963" y="267"/>
                    </a:lnTo>
                    <a:lnTo>
                      <a:pt x="971" y="255"/>
                    </a:lnTo>
                    <a:lnTo>
                      <a:pt x="979" y="238"/>
                    </a:lnTo>
                    <a:lnTo>
                      <a:pt x="987" y="222"/>
                    </a:lnTo>
                    <a:lnTo>
                      <a:pt x="991" y="201"/>
                    </a:lnTo>
                    <a:lnTo>
                      <a:pt x="999" y="177"/>
                    </a:lnTo>
                    <a:lnTo>
                      <a:pt x="1003" y="160"/>
                    </a:lnTo>
                    <a:lnTo>
                      <a:pt x="1007" y="144"/>
                    </a:lnTo>
                    <a:lnTo>
                      <a:pt x="1016" y="119"/>
                    </a:lnTo>
                    <a:lnTo>
                      <a:pt x="1020" y="99"/>
                    </a:lnTo>
                    <a:lnTo>
                      <a:pt x="1028" y="78"/>
                    </a:lnTo>
                    <a:lnTo>
                      <a:pt x="1036" y="66"/>
                    </a:lnTo>
                    <a:lnTo>
                      <a:pt x="1044" y="49"/>
                    </a:lnTo>
                    <a:lnTo>
                      <a:pt x="1052" y="41"/>
                    </a:lnTo>
                    <a:lnTo>
                      <a:pt x="1056" y="41"/>
                    </a:lnTo>
                    <a:lnTo>
                      <a:pt x="1069" y="37"/>
                    </a:lnTo>
                    <a:lnTo>
                      <a:pt x="1073" y="41"/>
                    </a:lnTo>
                    <a:lnTo>
                      <a:pt x="1085" y="49"/>
                    </a:lnTo>
                    <a:lnTo>
                      <a:pt x="1089" y="57"/>
                    </a:lnTo>
                    <a:lnTo>
                      <a:pt x="1097" y="70"/>
                    </a:lnTo>
                    <a:lnTo>
                      <a:pt x="1105" y="90"/>
                    </a:lnTo>
                    <a:lnTo>
                      <a:pt x="1113" y="111"/>
                    </a:lnTo>
                    <a:lnTo>
                      <a:pt x="1122" y="140"/>
                    </a:lnTo>
                    <a:lnTo>
                      <a:pt x="1126" y="152"/>
                    </a:ln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88080" y="4868640"/>
                <a:ext cx="563400" cy="169920"/>
              </a:xfrm>
              <a:custGeom>
                <a:avLst/>
                <a:gdLst/>
                <a:ahLst/>
                <a:rect l="l" t="t" r="r" b="b"/>
                <a:pathLst>
                  <a:path w="465" h="135">
                    <a:moveTo>
                      <a:pt x="0" y="70"/>
                    </a:moveTo>
                    <a:lnTo>
                      <a:pt x="4" y="78"/>
                    </a:lnTo>
                    <a:lnTo>
                      <a:pt x="8" y="90"/>
                    </a:lnTo>
                    <a:lnTo>
                      <a:pt x="12" y="98"/>
                    </a:lnTo>
                    <a:lnTo>
                      <a:pt x="20" y="115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7"/>
                    </a:lnTo>
                    <a:lnTo>
                      <a:pt x="41" y="131"/>
                    </a:lnTo>
                    <a:lnTo>
                      <a:pt x="53" y="127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61" y="111"/>
                    </a:lnTo>
                    <a:lnTo>
                      <a:pt x="65" y="103"/>
                    </a:lnTo>
                    <a:lnTo>
                      <a:pt x="69" y="90"/>
                    </a:lnTo>
                    <a:lnTo>
                      <a:pt x="78" y="70"/>
                    </a:lnTo>
                    <a:lnTo>
                      <a:pt x="78" y="66"/>
                    </a:lnTo>
                    <a:lnTo>
                      <a:pt x="78" y="61"/>
                    </a:lnTo>
                    <a:lnTo>
                      <a:pt x="82" y="45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12"/>
                    </a:lnTo>
                    <a:lnTo>
                      <a:pt x="98" y="4"/>
                    </a:lnTo>
                    <a:lnTo>
                      <a:pt x="102" y="0"/>
                    </a:lnTo>
                    <a:lnTo>
                      <a:pt x="106" y="0"/>
                    </a:lnTo>
                    <a:lnTo>
                      <a:pt x="110" y="0"/>
                    </a:lnTo>
                    <a:lnTo>
                      <a:pt x="114" y="4"/>
                    </a:lnTo>
                    <a:lnTo>
                      <a:pt x="118" y="8"/>
                    </a:lnTo>
                    <a:lnTo>
                      <a:pt x="122" y="20"/>
                    </a:lnTo>
                    <a:lnTo>
                      <a:pt x="126" y="33"/>
                    </a:lnTo>
                    <a:lnTo>
                      <a:pt x="131" y="41"/>
                    </a:lnTo>
                    <a:lnTo>
                      <a:pt x="135" y="57"/>
                    </a:lnTo>
                    <a:lnTo>
                      <a:pt x="135" y="61"/>
                    </a:lnTo>
                    <a:lnTo>
                      <a:pt x="135" y="66"/>
                    </a:lnTo>
                    <a:lnTo>
                      <a:pt x="139" y="82"/>
                    </a:lnTo>
                    <a:lnTo>
                      <a:pt x="143" y="90"/>
                    </a:lnTo>
                    <a:lnTo>
                      <a:pt x="147" y="103"/>
                    </a:lnTo>
                    <a:lnTo>
                      <a:pt x="151" y="115"/>
                    </a:lnTo>
                    <a:lnTo>
                      <a:pt x="155" y="119"/>
                    </a:lnTo>
                    <a:lnTo>
                      <a:pt x="159" y="123"/>
                    </a:lnTo>
                    <a:lnTo>
                      <a:pt x="163" y="123"/>
                    </a:lnTo>
                    <a:lnTo>
                      <a:pt x="167" y="123"/>
                    </a:lnTo>
                    <a:lnTo>
                      <a:pt x="175" y="119"/>
                    </a:lnTo>
                    <a:lnTo>
                      <a:pt x="175" y="115"/>
                    </a:lnTo>
                    <a:lnTo>
                      <a:pt x="179" y="103"/>
                    </a:lnTo>
                    <a:lnTo>
                      <a:pt x="184" y="94"/>
                    </a:lnTo>
                    <a:lnTo>
                      <a:pt x="188" y="82"/>
                    </a:lnTo>
                    <a:lnTo>
                      <a:pt x="192" y="70"/>
                    </a:lnTo>
                    <a:lnTo>
                      <a:pt x="192" y="66"/>
                    </a:lnTo>
                    <a:lnTo>
                      <a:pt x="192" y="61"/>
                    </a:lnTo>
                    <a:lnTo>
                      <a:pt x="196" y="45"/>
                    </a:lnTo>
                    <a:lnTo>
                      <a:pt x="200" y="37"/>
                    </a:lnTo>
                    <a:lnTo>
                      <a:pt x="204" y="25"/>
                    </a:lnTo>
                    <a:lnTo>
                      <a:pt x="208" y="12"/>
                    </a:lnTo>
                    <a:lnTo>
                      <a:pt x="212" y="8"/>
                    </a:lnTo>
                    <a:lnTo>
                      <a:pt x="216" y="4"/>
                    </a:lnTo>
                    <a:lnTo>
                      <a:pt x="220" y="4"/>
                    </a:lnTo>
                    <a:lnTo>
                      <a:pt x="224" y="4"/>
                    </a:lnTo>
                    <a:lnTo>
                      <a:pt x="228" y="8"/>
                    </a:lnTo>
                    <a:lnTo>
                      <a:pt x="232" y="12"/>
                    </a:lnTo>
                    <a:lnTo>
                      <a:pt x="237" y="25"/>
                    </a:lnTo>
                    <a:lnTo>
                      <a:pt x="241" y="37"/>
                    </a:lnTo>
                    <a:lnTo>
                      <a:pt x="245" y="45"/>
                    </a:lnTo>
                    <a:lnTo>
                      <a:pt x="249" y="61"/>
                    </a:lnTo>
                    <a:lnTo>
                      <a:pt x="249" y="66"/>
                    </a:lnTo>
                    <a:lnTo>
                      <a:pt x="253" y="74"/>
                    </a:lnTo>
                    <a:lnTo>
                      <a:pt x="253" y="82"/>
                    </a:lnTo>
                    <a:lnTo>
                      <a:pt x="257" y="94"/>
                    </a:lnTo>
                    <a:lnTo>
                      <a:pt x="261" y="107"/>
                    </a:lnTo>
                    <a:lnTo>
                      <a:pt x="265" y="111"/>
                    </a:lnTo>
                    <a:lnTo>
                      <a:pt x="269" y="119"/>
                    </a:lnTo>
                    <a:lnTo>
                      <a:pt x="273" y="123"/>
                    </a:lnTo>
                    <a:lnTo>
                      <a:pt x="281" y="127"/>
                    </a:lnTo>
                    <a:lnTo>
                      <a:pt x="285" y="123"/>
                    </a:lnTo>
                    <a:lnTo>
                      <a:pt x="290" y="119"/>
                    </a:lnTo>
                    <a:lnTo>
                      <a:pt x="294" y="111"/>
                    </a:lnTo>
                    <a:lnTo>
                      <a:pt x="298" y="103"/>
                    </a:lnTo>
                    <a:lnTo>
                      <a:pt x="302" y="86"/>
                    </a:lnTo>
                    <a:lnTo>
                      <a:pt x="306" y="74"/>
                    </a:lnTo>
                    <a:lnTo>
                      <a:pt x="306" y="70"/>
                    </a:lnTo>
                    <a:lnTo>
                      <a:pt x="306" y="66"/>
                    </a:lnTo>
                    <a:lnTo>
                      <a:pt x="310" y="53"/>
                    </a:lnTo>
                    <a:lnTo>
                      <a:pt x="314" y="41"/>
                    </a:lnTo>
                    <a:lnTo>
                      <a:pt x="318" y="33"/>
                    </a:lnTo>
                    <a:lnTo>
                      <a:pt x="322" y="25"/>
                    </a:lnTo>
                    <a:lnTo>
                      <a:pt x="326" y="16"/>
                    </a:lnTo>
                    <a:lnTo>
                      <a:pt x="330" y="16"/>
                    </a:lnTo>
                    <a:lnTo>
                      <a:pt x="339" y="16"/>
                    </a:lnTo>
                    <a:lnTo>
                      <a:pt x="343" y="20"/>
                    </a:lnTo>
                    <a:lnTo>
                      <a:pt x="347" y="25"/>
                    </a:lnTo>
                    <a:lnTo>
                      <a:pt x="351" y="37"/>
                    </a:lnTo>
                    <a:lnTo>
                      <a:pt x="355" y="45"/>
                    </a:lnTo>
                    <a:lnTo>
                      <a:pt x="359" y="57"/>
                    </a:lnTo>
                    <a:lnTo>
                      <a:pt x="363" y="70"/>
                    </a:lnTo>
                    <a:lnTo>
                      <a:pt x="363" y="74"/>
                    </a:lnTo>
                    <a:lnTo>
                      <a:pt x="363" y="78"/>
                    </a:lnTo>
                    <a:lnTo>
                      <a:pt x="367" y="90"/>
                    </a:lnTo>
                    <a:lnTo>
                      <a:pt x="371" y="103"/>
                    </a:lnTo>
                    <a:lnTo>
                      <a:pt x="375" y="115"/>
                    </a:lnTo>
                    <a:lnTo>
                      <a:pt x="379" y="123"/>
                    </a:lnTo>
                    <a:lnTo>
                      <a:pt x="383" y="131"/>
                    </a:lnTo>
                    <a:lnTo>
                      <a:pt x="387" y="135"/>
                    </a:lnTo>
                    <a:lnTo>
                      <a:pt x="392" y="135"/>
                    </a:lnTo>
                    <a:lnTo>
                      <a:pt x="396" y="135"/>
                    </a:lnTo>
                    <a:lnTo>
                      <a:pt x="396" y="131"/>
                    </a:lnTo>
                    <a:lnTo>
                      <a:pt x="400" y="127"/>
                    </a:lnTo>
                    <a:lnTo>
                      <a:pt x="404" y="123"/>
                    </a:lnTo>
                    <a:lnTo>
                      <a:pt x="404" y="119"/>
                    </a:lnTo>
                    <a:lnTo>
                      <a:pt x="408" y="111"/>
                    </a:lnTo>
                    <a:lnTo>
                      <a:pt x="412" y="94"/>
                    </a:lnTo>
                    <a:lnTo>
                      <a:pt x="416" y="82"/>
                    </a:lnTo>
                    <a:lnTo>
                      <a:pt x="416" y="78"/>
                    </a:lnTo>
                    <a:lnTo>
                      <a:pt x="416" y="74"/>
                    </a:lnTo>
                    <a:lnTo>
                      <a:pt x="420" y="61"/>
                    </a:lnTo>
                    <a:lnTo>
                      <a:pt x="424" y="45"/>
                    </a:lnTo>
                    <a:lnTo>
                      <a:pt x="428" y="37"/>
                    </a:lnTo>
                    <a:lnTo>
                      <a:pt x="428" y="33"/>
                    </a:lnTo>
                    <a:lnTo>
                      <a:pt x="432" y="29"/>
                    </a:lnTo>
                    <a:lnTo>
                      <a:pt x="436" y="20"/>
                    </a:lnTo>
                    <a:lnTo>
                      <a:pt x="440" y="20"/>
                    </a:lnTo>
                    <a:lnTo>
                      <a:pt x="445" y="20"/>
                    </a:lnTo>
                    <a:lnTo>
                      <a:pt x="449" y="25"/>
                    </a:lnTo>
                    <a:lnTo>
                      <a:pt x="453" y="33"/>
                    </a:lnTo>
                    <a:lnTo>
                      <a:pt x="457" y="41"/>
                    </a:lnTo>
                    <a:lnTo>
                      <a:pt x="461" y="57"/>
                    </a:lnTo>
                    <a:lnTo>
                      <a:pt x="465" y="70"/>
                    </a:lnTo>
                    <a:lnTo>
                      <a:pt x="465" y="74"/>
                    </a:ln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>
                <a:off x="6327720" y="4909680"/>
                <a:ext cx="33120" cy="66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42120" y="4873320"/>
                <a:ext cx="563400" cy="169920"/>
              </a:xfrm>
              <a:custGeom>
                <a:avLst/>
                <a:gdLst/>
                <a:ahLst/>
                <a:rect l="l" t="t" r="r" b="b"/>
                <a:pathLst>
                  <a:path w="465" h="135">
                    <a:moveTo>
                      <a:pt x="0" y="66"/>
                    </a:moveTo>
                    <a:lnTo>
                      <a:pt x="4" y="74"/>
                    </a:lnTo>
                    <a:lnTo>
                      <a:pt x="8" y="86"/>
                    </a:lnTo>
                    <a:lnTo>
                      <a:pt x="12" y="99"/>
                    </a:lnTo>
                    <a:lnTo>
                      <a:pt x="20" y="111"/>
                    </a:lnTo>
                    <a:lnTo>
                      <a:pt x="24" y="119"/>
                    </a:lnTo>
                    <a:lnTo>
                      <a:pt x="28" y="123"/>
                    </a:lnTo>
                    <a:lnTo>
                      <a:pt x="32" y="127"/>
                    </a:lnTo>
                    <a:lnTo>
                      <a:pt x="41" y="131"/>
                    </a:lnTo>
                    <a:lnTo>
                      <a:pt x="53" y="127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61" y="111"/>
                    </a:lnTo>
                    <a:lnTo>
                      <a:pt x="65" y="103"/>
                    </a:lnTo>
                    <a:lnTo>
                      <a:pt x="69" y="90"/>
                    </a:lnTo>
                    <a:lnTo>
                      <a:pt x="77" y="70"/>
                    </a:lnTo>
                    <a:lnTo>
                      <a:pt x="77" y="66"/>
                    </a:lnTo>
                    <a:lnTo>
                      <a:pt x="77" y="62"/>
                    </a:lnTo>
                    <a:lnTo>
                      <a:pt x="81" y="45"/>
                    </a:lnTo>
                    <a:lnTo>
                      <a:pt x="85" y="33"/>
                    </a:lnTo>
                    <a:lnTo>
                      <a:pt x="89" y="25"/>
                    </a:lnTo>
                    <a:lnTo>
                      <a:pt x="94" y="12"/>
                    </a:lnTo>
                    <a:lnTo>
                      <a:pt x="98" y="4"/>
                    </a:lnTo>
                    <a:lnTo>
                      <a:pt x="102" y="0"/>
                    </a:lnTo>
                    <a:lnTo>
                      <a:pt x="106" y="0"/>
                    </a:lnTo>
                    <a:lnTo>
                      <a:pt x="110" y="0"/>
                    </a:lnTo>
                    <a:lnTo>
                      <a:pt x="114" y="4"/>
                    </a:lnTo>
                    <a:lnTo>
                      <a:pt x="118" y="8"/>
                    </a:lnTo>
                    <a:lnTo>
                      <a:pt x="122" y="21"/>
                    </a:lnTo>
                    <a:lnTo>
                      <a:pt x="126" y="33"/>
                    </a:lnTo>
                    <a:lnTo>
                      <a:pt x="130" y="41"/>
                    </a:lnTo>
                    <a:lnTo>
                      <a:pt x="134" y="57"/>
                    </a:lnTo>
                    <a:lnTo>
                      <a:pt x="134" y="62"/>
                    </a:lnTo>
                    <a:lnTo>
                      <a:pt x="134" y="66"/>
                    </a:lnTo>
                    <a:lnTo>
                      <a:pt x="138" y="82"/>
                    </a:lnTo>
                    <a:lnTo>
                      <a:pt x="143" y="90"/>
                    </a:lnTo>
                    <a:lnTo>
                      <a:pt x="147" y="103"/>
                    </a:lnTo>
                    <a:lnTo>
                      <a:pt x="151" y="115"/>
                    </a:lnTo>
                    <a:lnTo>
                      <a:pt x="155" y="119"/>
                    </a:lnTo>
                    <a:lnTo>
                      <a:pt x="159" y="123"/>
                    </a:lnTo>
                    <a:lnTo>
                      <a:pt x="163" y="123"/>
                    </a:lnTo>
                    <a:lnTo>
                      <a:pt x="167" y="123"/>
                    </a:lnTo>
                    <a:lnTo>
                      <a:pt x="175" y="119"/>
                    </a:lnTo>
                    <a:lnTo>
                      <a:pt x="175" y="115"/>
                    </a:lnTo>
                    <a:lnTo>
                      <a:pt x="179" y="103"/>
                    </a:lnTo>
                    <a:lnTo>
                      <a:pt x="183" y="94"/>
                    </a:lnTo>
                    <a:lnTo>
                      <a:pt x="187" y="82"/>
                    </a:lnTo>
                    <a:lnTo>
                      <a:pt x="191" y="70"/>
                    </a:lnTo>
                    <a:lnTo>
                      <a:pt x="191" y="66"/>
                    </a:lnTo>
                    <a:lnTo>
                      <a:pt x="191" y="62"/>
                    </a:lnTo>
                    <a:lnTo>
                      <a:pt x="196" y="45"/>
                    </a:lnTo>
                    <a:lnTo>
                      <a:pt x="200" y="37"/>
                    </a:lnTo>
                    <a:lnTo>
                      <a:pt x="204" y="25"/>
                    </a:lnTo>
                    <a:lnTo>
                      <a:pt x="208" y="12"/>
                    </a:lnTo>
                    <a:lnTo>
                      <a:pt x="212" y="8"/>
                    </a:lnTo>
                    <a:lnTo>
                      <a:pt x="216" y="4"/>
                    </a:lnTo>
                    <a:lnTo>
                      <a:pt x="220" y="4"/>
                    </a:lnTo>
                    <a:lnTo>
                      <a:pt x="224" y="4"/>
                    </a:lnTo>
                    <a:lnTo>
                      <a:pt x="228" y="8"/>
                    </a:lnTo>
                    <a:lnTo>
                      <a:pt x="232" y="12"/>
                    </a:lnTo>
                    <a:lnTo>
                      <a:pt x="236" y="25"/>
                    </a:lnTo>
                    <a:lnTo>
                      <a:pt x="240" y="37"/>
                    </a:lnTo>
                    <a:lnTo>
                      <a:pt x="244" y="45"/>
                    </a:lnTo>
                    <a:lnTo>
                      <a:pt x="249" y="62"/>
                    </a:lnTo>
                    <a:lnTo>
                      <a:pt x="249" y="66"/>
                    </a:lnTo>
                    <a:lnTo>
                      <a:pt x="253" y="74"/>
                    </a:lnTo>
                    <a:lnTo>
                      <a:pt x="253" y="82"/>
                    </a:lnTo>
                    <a:lnTo>
                      <a:pt x="257" y="94"/>
                    </a:lnTo>
                    <a:lnTo>
                      <a:pt x="261" y="107"/>
                    </a:lnTo>
                    <a:lnTo>
                      <a:pt x="265" y="111"/>
                    </a:lnTo>
                    <a:lnTo>
                      <a:pt x="269" y="119"/>
                    </a:lnTo>
                    <a:lnTo>
                      <a:pt x="273" y="123"/>
                    </a:lnTo>
                    <a:lnTo>
                      <a:pt x="281" y="127"/>
                    </a:lnTo>
                    <a:lnTo>
                      <a:pt x="285" y="123"/>
                    </a:lnTo>
                    <a:lnTo>
                      <a:pt x="289" y="119"/>
                    </a:lnTo>
                    <a:lnTo>
                      <a:pt x="293" y="111"/>
                    </a:lnTo>
                    <a:lnTo>
                      <a:pt x="297" y="103"/>
                    </a:lnTo>
                    <a:lnTo>
                      <a:pt x="302" y="86"/>
                    </a:lnTo>
                    <a:lnTo>
                      <a:pt x="306" y="74"/>
                    </a:lnTo>
                    <a:lnTo>
                      <a:pt x="306" y="70"/>
                    </a:lnTo>
                    <a:lnTo>
                      <a:pt x="306" y="66"/>
                    </a:lnTo>
                    <a:lnTo>
                      <a:pt x="310" y="53"/>
                    </a:lnTo>
                    <a:lnTo>
                      <a:pt x="314" y="41"/>
                    </a:lnTo>
                    <a:lnTo>
                      <a:pt x="318" y="33"/>
                    </a:lnTo>
                    <a:lnTo>
                      <a:pt x="322" y="21"/>
                    </a:lnTo>
                    <a:lnTo>
                      <a:pt x="326" y="16"/>
                    </a:lnTo>
                    <a:lnTo>
                      <a:pt x="334" y="12"/>
                    </a:lnTo>
                    <a:lnTo>
                      <a:pt x="342" y="16"/>
                    </a:lnTo>
                    <a:lnTo>
                      <a:pt x="346" y="25"/>
                    </a:lnTo>
                    <a:lnTo>
                      <a:pt x="350" y="33"/>
                    </a:lnTo>
                    <a:lnTo>
                      <a:pt x="355" y="45"/>
                    </a:lnTo>
                    <a:lnTo>
                      <a:pt x="359" y="57"/>
                    </a:lnTo>
                    <a:lnTo>
                      <a:pt x="363" y="70"/>
                    </a:lnTo>
                    <a:lnTo>
                      <a:pt x="363" y="74"/>
                    </a:lnTo>
                    <a:lnTo>
                      <a:pt x="363" y="78"/>
                    </a:lnTo>
                    <a:lnTo>
                      <a:pt x="367" y="90"/>
                    </a:lnTo>
                    <a:lnTo>
                      <a:pt x="371" y="103"/>
                    </a:lnTo>
                    <a:lnTo>
                      <a:pt x="375" y="115"/>
                    </a:lnTo>
                    <a:lnTo>
                      <a:pt x="379" y="123"/>
                    </a:lnTo>
                    <a:lnTo>
                      <a:pt x="383" y="131"/>
                    </a:lnTo>
                    <a:lnTo>
                      <a:pt x="387" y="135"/>
                    </a:lnTo>
                    <a:lnTo>
                      <a:pt x="391" y="135"/>
                    </a:lnTo>
                    <a:lnTo>
                      <a:pt x="395" y="135"/>
                    </a:lnTo>
                    <a:lnTo>
                      <a:pt x="395" y="131"/>
                    </a:lnTo>
                    <a:lnTo>
                      <a:pt x="399" y="127"/>
                    </a:lnTo>
                    <a:lnTo>
                      <a:pt x="404" y="123"/>
                    </a:lnTo>
                    <a:lnTo>
                      <a:pt x="404" y="119"/>
                    </a:lnTo>
                    <a:lnTo>
                      <a:pt x="408" y="111"/>
                    </a:lnTo>
                    <a:lnTo>
                      <a:pt x="412" y="94"/>
                    </a:lnTo>
                    <a:lnTo>
                      <a:pt x="416" y="82"/>
                    </a:lnTo>
                    <a:lnTo>
                      <a:pt x="416" y="78"/>
                    </a:lnTo>
                    <a:lnTo>
                      <a:pt x="416" y="74"/>
                    </a:lnTo>
                    <a:lnTo>
                      <a:pt x="420" y="62"/>
                    </a:lnTo>
                    <a:lnTo>
                      <a:pt x="424" y="45"/>
                    </a:lnTo>
                    <a:lnTo>
                      <a:pt x="428" y="37"/>
                    </a:lnTo>
                    <a:lnTo>
                      <a:pt x="428" y="33"/>
                    </a:lnTo>
                    <a:lnTo>
                      <a:pt x="432" y="29"/>
                    </a:lnTo>
                    <a:lnTo>
                      <a:pt x="436" y="21"/>
                    </a:lnTo>
                    <a:lnTo>
                      <a:pt x="440" y="21"/>
                    </a:lnTo>
                    <a:lnTo>
                      <a:pt x="444" y="21"/>
                    </a:lnTo>
                    <a:lnTo>
                      <a:pt x="448" y="25"/>
                    </a:lnTo>
                    <a:lnTo>
                      <a:pt x="452" y="33"/>
                    </a:lnTo>
                    <a:lnTo>
                      <a:pt x="457" y="41"/>
                    </a:lnTo>
                    <a:lnTo>
                      <a:pt x="461" y="57"/>
                    </a:lnTo>
                    <a:lnTo>
                      <a:pt x="465" y="70"/>
                    </a:lnTo>
                    <a:lnTo>
                      <a:pt x="465" y="74"/>
                    </a:ln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 flipV="1">
                <a:off x="6879600" y="4914360"/>
                <a:ext cx="34920" cy="66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871960" y="5221080"/>
                <a:ext cx="252360" cy="82440"/>
              </a:xfrm>
              <a:custGeom>
                <a:avLst/>
                <a:gdLst/>
                <a:ahLst/>
                <a:rect l="l" t="t" r="r" b="b"/>
                <a:pathLst>
                  <a:path w="208" h="66">
                    <a:moveTo>
                      <a:pt x="0" y="33"/>
                    </a:moveTo>
                    <a:lnTo>
                      <a:pt x="4" y="41"/>
                    </a:lnTo>
                    <a:lnTo>
                      <a:pt x="9" y="53"/>
                    </a:lnTo>
                    <a:lnTo>
                      <a:pt x="13" y="62"/>
                    </a:lnTo>
                    <a:lnTo>
                      <a:pt x="17" y="62"/>
                    </a:lnTo>
                    <a:lnTo>
                      <a:pt x="21" y="62"/>
                    </a:lnTo>
                    <a:lnTo>
                      <a:pt x="25" y="57"/>
                    </a:lnTo>
                    <a:lnTo>
                      <a:pt x="29" y="49"/>
                    </a:lnTo>
                    <a:lnTo>
                      <a:pt x="33" y="37"/>
                    </a:lnTo>
                    <a:lnTo>
                      <a:pt x="33" y="29"/>
                    </a:lnTo>
                    <a:lnTo>
                      <a:pt x="37" y="21"/>
                    </a:lnTo>
                    <a:lnTo>
                      <a:pt x="37" y="12"/>
                    </a:lnTo>
                    <a:lnTo>
                      <a:pt x="41" y="4"/>
                    </a:lnTo>
                    <a:lnTo>
                      <a:pt x="45" y="0"/>
                    </a:lnTo>
                    <a:lnTo>
                      <a:pt x="49" y="0"/>
                    </a:lnTo>
                    <a:lnTo>
                      <a:pt x="53" y="0"/>
                    </a:lnTo>
                    <a:lnTo>
                      <a:pt x="57" y="12"/>
                    </a:lnTo>
                    <a:lnTo>
                      <a:pt x="62" y="25"/>
                    </a:lnTo>
                    <a:lnTo>
                      <a:pt x="62" y="29"/>
                    </a:lnTo>
                    <a:lnTo>
                      <a:pt x="62" y="33"/>
                    </a:lnTo>
                    <a:lnTo>
                      <a:pt x="66" y="45"/>
                    </a:lnTo>
                    <a:lnTo>
                      <a:pt x="70" y="57"/>
                    </a:lnTo>
                    <a:lnTo>
                      <a:pt x="74" y="62"/>
                    </a:lnTo>
                    <a:lnTo>
                      <a:pt x="78" y="57"/>
                    </a:lnTo>
                    <a:lnTo>
                      <a:pt x="82" y="45"/>
                    </a:lnTo>
                    <a:lnTo>
                      <a:pt x="86" y="33"/>
                    </a:lnTo>
                    <a:lnTo>
                      <a:pt x="86" y="29"/>
                    </a:lnTo>
                    <a:lnTo>
                      <a:pt x="86" y="25"/>
                    </a:lnTo>
                    <a:lnTo>
                      <a:pt x="90" y="12"/>
                    </a:lnTo>
                    <a:lnTo>
                      <a:pt x="94" y="0"/>
                    </a:lnTo>
                    <a:lnTo>
                      <a:pt x="98" y="0"/>
                    </a:lnTo>
                    <a:lnTo>
                      <a:pt x="102" y="0"/>
                    </a:lnTo>
                    <a:lnTo>
                      <a:pt x="106" y="12"/>
                    </a:lnTo>
                    <a:lnTo>
                      <a:pt x="110" y="25"/>
                    </a:lnTo>
                    <a:lnTo>
                      <a:pt x="110" y="29"/>
                    </a:lnTo>
                    <a:lnTo>
                      <a:pt x="115" y="37"/>
                    </a:lnTo>
                    <a:lnTo>
                      <a:pt x="115" y="45"/>
                    </a:lnTo>
                    <a:lnTo>
                      <a:pt x="119" y="53"/>
                    </a:lnTo>
                    <a:lnTo>
                      <a:pt x="123" y="57"/>
                    </a:lnTo>
                    <a:lnTo>
                      <a:pt x="131" y="62"/>
                    </a:lnTo>
                    <a:lnTo>
                      <a:pt x="135" y="57"/>
                    </a:lnTo>
                    <a:lnTo>
                      <a:pt x="135" y="49"/>
                    </a:lnTo>
                    <a:lnTo>
                      <a:pt x="139" y="37"/>
                    </a:lnTo>
                    <a:lnTo>
                      <a:pt x="139" y="33"/>
                    </a:lnTo>
                    <a:lnTo>
                      <a:pt x="139" y="29"/>
                    </a:lnTo>
                    <a:lnTo>
                      <a:pt x="143" y="16"/>
                    </a:lnTo>
                    <a:lnTo>
                      <a:pt x="147" y="8"/>
                    </a:lnTo>
                    <a:lnTo>
                      <a:pt x="155" y="8"/>
                    </a:lnTo>
                    <a:lnTo>
                      <a:pt x="159" y="21"/>
                    </a:lnTo>
                    <a:lnTo>
                      <a:pt x="163" y="33"/>
                    </a:lnTo>
                    <a:lnTo>
                      <a:pt x="163" y="37"/>
                    </a:lnTo>
                    <a:lnTo>
                      <a:pt x="163" y="41"/>
                    </a:lnTo>
                    <a:lnTo>
                      <a:pt x="168" y="53"/>
                    </a:lnTo>
                    <a:lnTo>
                      <a:pt x="172" y="66"/>
                    </a:lnTo>
                    <a:lnTo>
                      <a:pt x="176" y="66"/>
                    </a:lnTo>
                    <a:lnTo>
                      <a:pt x="180" y="62"/>
                    </a:lnTo>
                    <a:lnTo>
                      <a:pt x="180" y="57"/>
                    </a:lnTo>
                    <a:lnTo>
                      <a:pt x="184" y="41"/>
                    </a:lnTo>
                    <a:lnTo>
                      <a:pt x="184" y="37"/>
                    </a:lnTo>
                    <a:lnTo>
                      <a:pt x="184" y="33"/>
                    </a:lnTo>
                    <a:lnTo>
                      <a:pt x="188" y="21"/>
                    </a:lnTo>
                    <a:lnTo>
                      <a:pt x="192" y="8"/>
                    </a:lnTo>
                    <a:lnTo>
                      <a:pt x="196" y="8"/>
                    </a:lnTo>
                    <a:lnTo>
                      <a:pt x="200" y="8"/>
                    </a:lnTo>
                    <a:lnTo>
                      <a:pt x="204" y="21"/>
                    </a:lnTo>
                    <a:lnTo>
                      <a:pt x="208" y="33"/>
                    </a:lnTo>
                    <a:lnTo>
                      <a:pt x="208" y="37"/>
                    </a:lnTo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119640" y="5221080"/>
                <a:ext cx="252360" cy="82440"/>
              </a:xfrm>
              <a:custGeom>
                <a:avLst/>
                <a:gdLst/>
                <a:ahLst/>
                <a:rect l="l" t="t" r="r" b="b"/>
                <a:pathLst>
                  <a:path w="208" h="66">
                    <a:moveTo>
                      <a:pt x="0" y="33"/>
                    </a:moveTo>
                    <a:lnTo>
                      <a:pt x="4" y="41"/>
                    </a:lnTo>
                    <a:lnTo>
                      <a:pt x="8" y="53"/>
                    </a:lnTo>
                    <a:lnTo>
                      <a:pt x="12" y="62"/>
                    </a:lnTo>
                    <a:lnTo>
                      <a:pt x="17" y="66"/>
                    </a:lnTo>
                    <a:lnTo>
                      <a:pt x="21" y="66"/>
                    </a:lnTo>
                    <a:lnTo>
                      <a:pt x="21" y="62"/>
                    </a:lnTo>
                    <a:lnTo>
                      <a:pt x="29" y="49"/>
                    </a:lnTo>
                    <a:lnTo>
                      <a:pt x="33" y="37"/>
                    </a:lnTo>
                    <a:lnTo>
                      <a:pt x="33" y="33"/>
                    </a:lnTo>
                    <a:lnTo>
                      <a:pt x="37" y="25"/>
                    </a:lnTo>
                    <a:lnTo>
                      <a:pt x="37" y="16"/>
                    </a:lnTo>
                    <a:lnTo>
                      <a:pt x="41" y="8"/>
                    </a:lnTo>
                    <a:lnTo>
                      <a:pt x="45" y="4"/>
                    </a:lnTo>
                    <a:lnTo>
                      <a:pt x="53" y="0"/>
                    </a:lnTo>
                    <a:lnTo>
                      <a:pt x="57" y="4"/>
                    </a:lnTo>
                    <a:lnTo>
                      <a:pt x="57" y="12"/>
                    </a:lnTo>
                    <a:lnTo>
                      <a:pt x="61" y="25"/>
                    </a:lnTo>
                    <a:lnTo>
                      <a:pt x="61" y="29"/>
                    </a:lnTo>
                    <a:lnTo>
                      <a:pt x="61" y="33"/>
                    </a:lnTo>
                    <a:lnTo>
                      <a:pt x="66" y="45"/>
                    </a:lnTo>
                    <a:lnTo>
                      <a:pt x="70" y="57"/>
                    </a:lnTo>
                    <a:lnTo>
                      <a:pt x="74" y="62"/>
                    </a:lnTo>
                    <a:lnTo>
                      <a:pt x="78" y="62"/>
                    </a:lnTo>
                    <a:lnTo>
                      <a:pt x="82" y="49"/>
                    </a:lnTo>
                    <a:lnTo>
                      <a:pt x="86" y="37"/>
                    </a:lnTo>
                    <a:lnTo>
                      <a:pt x="86" y="33"/>
                    </a:lnTo>
                    <a:lnTo>
                      <a:pt x="86" y="29"/>
                    </a:lnTo>
                    <a:lnTo>
                      <a:pt x="90" y="16"/>
                    </a:lnTo>
                    <a:lnTo>
                      <a:pt x="94" y="4"/>
                    </a:lnTo>
                    <a:lnTo>
                      <a:pt x="98" y="0"/>
                    </a:lnTo>
                    <a:lnTo>
                      <a:pt x="98" y="4"/>
                    </a:lnTo>
                    <a:lnTo>
                      <a:pt x="106" y="8"/>
                    </a:lnTo>
                    <a:lnTo>
                      <a:pt x="110" y="16"/>
                    </a:lnTo>
                    <a:lnTo>
                      <a:pt x="114" y="29"/>
                    </a:lnTo>
                    <a:lnTo>
                      <a:pt x="114" y="33"/>
                    </a:lnTo>
                    <a:lnTo>
                      <a:pt x="114" y="37"/>
                    </a:lnTo>
                    <a:lnTo>
                      <a:pt x="119" y="49"/>
                    </a:lnTo>
                    <a:lnTo>
                      <a:pt x="123" y="62"/>
                    </a:lnTo>
                    <a:lnTo>
                      <a:pt x="127" y="66"/>
                    </a:lnTo>
                    <a:lnTo>
                      <a:pt x="127" y="62"/>
                    </a:lnTo>
                    <a:lnTo>
                      <a:pt x="131" y="62"/>
                    </a:lnTo>
                    <a:lnTo>
                      <a:pt x="135" y="53"/>
                    </a:lnTo>
                    <a:lnTo>
                      <a:pt x="139" y="41"/>
                    </a:lnTo>
                    <a:lnTo>
                      <a:pt x="139" y="37"/>
                    </a:lnTo>
                    <a:lnTo>
                      <a:pt x="139" y="33"/>
                    </a:lnTo>
                    <a:lnTo>
                      <a:pt x="143" y="21"/>
                    </a:lnTo>
                    <a:lnTo>
                      <a:pt x="147" y="8"/>
                    </a:lnTo>
                    <a:lnTo>
                      <a:pt x="151" y="8"/>
                    </a:lnTo>
                    <a:lnTo>
                      <a:pt x="155" y="8"/>
                    </a:lnTo>
                    <a:lnTo>
                      <a:pt x="159" y="21"/>
                    </a:lnTo>
                    <a:lnTo>
                      <a:pt x="163" y="33"/>
                    </a:lnTo>
                    <a:lnTo>
                      <a:pt x="163" y="37"/>
                    </a:lnTo>
                    <a:lnTo>
                      <a:pt x="163" y="41"/>
                    </a:lnTo>
                    <a:lnTo>
                      <a:pt x="167" y="53"/>
                    </a:lnTo>
                    <a:lnTo>
                      <a:pt x="172" y="66"/>
                    </a:lnTo>
                    <a:lnTo>
                      <a:pt x="176" y="66"/>
                    </a:lnTo>
                    <a:lnTo>
                      <a:pt x="180" y="66"/>
                    </a:lnTo>
                    <a:lnTo>
                      <a:pt x="184" y="53"/>
                    </a:lnTo>
                    <a:lnTo>
                      <a:pt x="188" y="41"/>
                    </a:lnTo>
                    <a:lnTo>
                      <a:pt x="188" y="37"/>
                    </a:lnTo>
                    <a:lnTo>
                      <a:pt x="188" y="33"/>
                    </a:lnTo>
                    <a:lnTo>
                      <a:pt x="192" y="16"/>
                    </a:lnTo>
                    <a:lnTo>
                      <a:pt x="196" y="8"/>
                    </a:lnTo>
                    <a:lnTo>
                      <a:pt x="196" y="12"/>
                    </a:lnTo>
                    <a:lnTo>
                      <a:pt x="200" y="12"/>
                    </a:lnTo>
                    <a:lnTo>
                      <a:pt x="204" y="21"/>
                    </a:lnTo>
                    <a:lnTo>
                      <a:pt x="208" y="33"/>
                    </a:lnTo>
                    <a:lnTo>
                      <a:pt x="208" y="37"/>
                    </a:lnTo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375240" y="5229000"/>
                <a:ext cx="252360" cy="88920"/>
              </a:xfrm>
              <a:custGeom>
                <a:avLst/>
                <a:gdLst/>
                <a:ahLst/>
                <a:rect l="l" t="t" r="r" b="b"/>
                <a:pathLst>
                  <a:path w="208" h="70">
                    <a:moveTo>
                      <a:pt x="0" y="33"/>
                    </a:moveTo>
                    <a:lnTo>
                      <a:pt x="4" y="41"/>
                    </a:lnTo>
                    <a:lnTo>
                      <a:pt x="8" y="54"/>
                    </a:lnTo>
                    <a:lnTo>
                      <a:pt x="13" y="62"/>
                    </a:lnTo>
                    <a:lnTo>
                      <a:pt x="17" y="66"/>
                    </a:lnTo>
                    <a:lnTo>
                      <a:pt x="21" y="66"/>
                    </a:lnTo>
                    <a:lnTo>
                      <a:pt x="21" y="62"/>
                    </a:lnTo>
                    <a:lnTo>
                      <a:pt x="29" y="49"/>
                    </a:lnTo>
                    <a:lnTo>
                      <a:pt x="33" y="37"/>
                    </a:lnTo>
                    <a:lnTo>
                      <a:pt x="33" y="33"/>
                    </a:lnTo>
                    <a:lnTo>
                      <a:pt x="37" y="25"/>
                    </a:lnTo>
                    <a:lnTo>
                      <a:pt x="37" y="17"/>
                    </a:lnTo>
                    <a:lnTo>
                      <a:pt x="41" y="8"/>
                    </a:lnTo>
                    <a:lnTo>
                      <a:pt x="45" y="4"/>
                    </a:lnTo>
                    <a:lnTo>
                      <a:pt x="49" y="4"/>
                    </a:lnTo>
                    <a:lnTo>
                      <a:pt x="53" y="4"/>
                    </a:lnTo>
                    <a:lnTo>
                      <a:pt x="57" y="17"/>
                    </a:lnTo>
                    <a:lnTo>
                      <a:pt x="61" y="29"/>
                    </a:lnTo>
                    <a:lnTo>
                      <a:pt x="61" y="33"/>
                    </a:lnTo>
                    <a:lnTo>
                      <a:pt x="61" y="37"/>
                    </a:lnTo>
                    <a:lnTo>
                      <a:pt x="66" y="49"/>
                    </a:lnTo>
                    <a:lnTo>
                      <a:pt x="70" y="62"/>
                    </a:lnTo>
                    <a:lnTo>
                      <a:pt x="74" y="62"/>
                    </a:lnTo>
                    <a:lnTo>
                      <a:pt x="78" y="62"/>
                    </a:lnTo>
                    <a:lnTo>
                      <a:pt x="82" y="49"/>
                    </a:lnTo>
                    <a:lnTo>
                      <a:pt x="86" y="37"/>
                    </a:lnTo>
                    <a:lnTo>
                      <a:pt x="86" y="33"/>
                    </a:lnTo>
                    <a:lnTo>
                      <a:pt x="86" y="29"/>
                    </a:lnTo>
                    <a:lnTo>
                      <a:pt x="90" y="17"/>
                    </a:lnTo>
                    <a:lnTo>
                      <a:pt x="94" y="4"/>
                    </a:lnTo>
                    <a:lnTo>
                      <a:pt x="98" y="0"/>
                    </a:lnTo>
                    <a:lnTo>
                      <a:pt x="98" y="4"/>
                    </a:lnTo>
                    <a:lnTo>
                      <a:pt x="102" y="4"/>
                    </a:lnTo>
                    <a:lnTo>
                      <a:pt x="106" y="17"/>
                    </a:lnTo>
                    <a:lnTo>
                      <a:pt x="110" y="29"/>
                    </a:lnTo>
                    <a:lnTo>
                      <a:pt x="110" y="33"/>
                    </a:lnTo>
                    <a:lnTo>
                      <a:pt x="115" y="41"/>
                    </a:lnTo>
                    <a:lnTo>
                      <a:pt x="115" y="49"/>
                    </a:lnTo>
                    <a:lnTo>
                      <a:pt x="119" y="58"/>
                    </a:lnTo>
                    <a:lnTo>
                      <a:pt x="123" y="62"/>
                    </a:lnTo>
                    <a:lnTo>
                      <a:pt x="127" y="62"/>
                    </a:lnTo>
                    <a:lnTo>
                      <a:pt x="131" y="62"/>
                    </a:lnTo>
                    <a:lnTo>
                      <a:pt x="135" y="54"/>
                    </a:lnTo>
                    <a:lnTo>
                      <a:pt x="139" y="41"/>
                    </a:lnTo>
                    <a:lnTo>
                      <a:pt x="139" y="37"/>
                    </a:lnTo>
                    <a:lnTo>
                      <a:pt x="139" y="33"/>
                    </a:lnTo>
                    <a:lnTo>
                      <a:pt x="143" y="21"/>
                    </a:lnTo>
                    <a:lnTo>
                      <a:pt x="147" y="8"/>
                    </a:lnTo>
                    <a:lnTo>
                      <a:pt x="151" y="8"/>
                    </a:lnTo>
                    <a:lnTo>
                      <a:pt x="155" y="8"/>
                    </a:lnTo>
                    <a:lnTo>
                      <a:pt x="159" y="21"/>
                    </a:lnTo>
                    <a:lnTo>
                      <a:pt x="163" y="33"/>
                    </a:lnTo>
                    <a:lnTo>
                      <a:pt x="163" y="37"/>
                    </a:lnTo>
                    <a:lnTo>
                      <a:pt x="163" y="41"/>
                    </a:lnTo>
                    <a:lnTo>
                      <a:pt x="168" y="54"/>
                    </a:lnTo>
                    <a:lnTo>
                      <a:pt x="172" y="66"/>
                    </a:lnTo>
                    <a:lnTo>
                      <a:pt x="176" y="70"/>
                    </a:lnTo>
                    <a:lnTo>
                      <a:pt x="176" y="66"/>
                    </a:lnTo>
                    <a:lnTo>
                      <a:pt x="180" y="66"/>
                    </a:lnTo>
                    <a:lnTo>
                      <a:pt x="184" y="58"/>
                    </a:lnTo>
                    <a:lnTo>
                      <a:pt x="188" y="45"/>
                    </a:lnTo>
                    <a:lnTo>
                      <a:pt x="188" y="41"/>
                    </a:lnTo>
                    <a:lnTo>
                      <a:pt x="188" y="37"/>
                    </a:lnTo>
                    <a:lnTo>
                      <a:pt x="192" y="21"/>
                    </a:lnTo>
                    <a:lnTo>
                      <a:pt x="192" y="17"/>
                    </a:lnTo>
                    <a:lnTo>
                      <a:pt x="196" y="8"/>
                    </a:lnTo>
                    <a:lnTo>
                      <a:pt x="196" y="13"/>
                    </a:lnTo>
                    <a:lnTo>
                      <a:pt x="200" y="13"/>
                    </a:lnTo>
                    <a:lnTo>
                      <a:pt x="204" y="21"/>
                    </a:lnTo>
                    <a:lnTo>
                      <a:pt x="208" y="33"/>
                    </a:lnTo>
                    <a:lnTo>
                      <a:pt x="208" y="37"/>
                    </a:lnTo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622920" y="5229000"/>
                <a:ext cx="252360" cy="88920"/>
              </a:xfrm>
              <a:custGeom>
                <a:avLst/>
                <a:gdLst/>
                <a:ahLst/>
                <a:rect l="l" t="t" r="r" b="b"/>
                <a:pathLst>
                  <a:path w="208" h="70">
                    <a:moveTo>
                      <a:pt x="0" y="37"/>
                    </a:moveTo>
                    <a:lnTo>
                      <a:pt x="4" y="45"/>
                    </a:lnTo>
                    <a:lnTo>
                      <a:pt x="8" y="58"/>
                    </a:lnTo>
                    <a:lnTo>
                      <a:pt x="12" y="62"/>
                    </a:lnTo>
                    <a:lnTo>
                      <a:pt x="17" y="66"/>
                    </a:lnTo>
                    <a:lnTo>
                      <a:pt x="25" y="66"/>
                    </a:lnTo>
                    <a:lnTo>
                      <a:pt x="29" y="62"/>
                    </a:lnTo>
                    <a:lnTo>
                      <a:pt x="29" y="58"/>
                    </a:lnTo>
                    <a:lnTo>
                      <a:pt x="37" y="41"/>
                    </a:lnTo>
                    <a:lnTo>
                      <a:pt x="37" y="33"/>
                    </a:lnTo>
                    <a:lnTo>
                      <a:pt x="37" y="29"/>
                    </a:lnTo>
                    <a:lnTo>
                      <a:pt x="41" y="17"/>
                    </a:lnTo>
                    <a:lnTo>
                      <a:pt x="45" y="4"/>
                    </a:lnTo>
                    <a:lnTo>
                      <a:pt x="49" y="0"/>
                    </a:lnTo>
                    <a:lnTo>
                      <a:pt x="49" y="4"/>
                    </a:lnTo>
                    <a:lnTo>
                      <a:pt x="53" y="4"/>
                    </a:lnTo>
                    <a:lnTo>
                      <a:pt x="57" y="17"/>
                    </a:lnTo>
                    <a:lnTo>
                      <a:pt x="61" y="29"/>
                    </a:lnTo>
                    <a:lnTo>
                      <a:pt x="61" y="33"/>
                    </a:lnTo>
                    <a:lnTo>
                      <a:pt x="61" y="37"/>
                    </a:lnTo>
                    <a:lnTo>
                      <a:pt x="65" y="49"/>
                    </a:lnTo>
                    <a:lnTo>
                      <a:pt x="70" y="62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82" y="49"/>
                    </a:lnTo>
                    <a:lnTo>
                      <a:pt x="86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0" y="17"/>
                    </a:lnTo>
                    <a:lnTo>
                      <a:pt x="94" y="8"/>
                    </a:lnTo>
                    <a:lnTo>
                      <a:pt x="98" y="4"/>
                    </a:lnTo>
                    <a:lnTo>
                      <a:pt x="102" y="4"/>
                    </a:lnTo>
                    <a:lnTo>
                      <a:pt x="106" y="4"/>
                    </a:lnTo>
                    <a:lnTo>
                      <a:pt x="110" y="17"/>
                    </a:lnTo>
                    <a:lnTo>
                      <a:pt x="114" y="29"/>
                    </a:lnTo>
                    <a:lnTo>
                      <a:pt x="114" y="33"/>
                    </a:lnTo>
                    <a:lnTo>
                      <a:pt x="114" y="37"/>
                    </a:lnTo>
                    <a:lnTo>
                      <a:pt x="118" y="49"/>
                    </a:lnTo>
                    <a:lnTo>
                      <a:pt x="123" y="62"/>
                    </a:lnTo>
                    <a:lnTo>
                      <a:pt x="127" y="66"/>
                    </a:lnTo>
                    <a:lnTo>
                      <a:pt x="131" y="66"/>
                    </a:lnTo>
                    <a:lnTo>
                      <a:pt x="135" y="54"/>
                    </a:lnTo>
                    <a:lnTo>
                      <a:pt x="139" y="41"/>
                    </a:lnTo>
                    <a:lnTo>
                      <a:pt x="139" y="37"/>
                    </a:lnTo>
                    <a:lnTo>
                      <a:pt x="139" y="33"/>
                    </a:lnTo>
                    <a:lnTo>
                      <a:pt x="143" y="21"/>
                    </a:lnTo>
                    <a:lnTo>
                      <a:pt x="147" y="8"/>
                    </a:lnTo>
                    <a:lnTo>
                      <a:pt x="151" y="8"/>
                    </a:lnTo>
                    <a:lnTo>
                      <a:pt x="155" y="13"/>
                    </a:lnTo>
                    <a:lnTo>
                      <a:pt x="159" y="25"/>
                    </a:lnTo>
                    <a:lnTo>
                      <a:pt x="163" y="37"/>
                    </a:lnTo>
                    <a:lnTo>
                      <a:pt x="163" y="41"/>
                    </a:lnTo>
                    <a:lnTo>
                      <a:pt x="163" y="45"/>
                    </a:lnTo>
                    <a:lnTo>
                      <a:pt x="167" y="58"/>
                    </a:lnTo>
                    <a:lnTo>
                      <a:pt x="172" y="70"/>
                    </a:lnTo>
                    <a:lnTo>
                      <a:pt x="176" y="70"/>
                    </a:lnTo>
                    <a:lnTo>
                      <a:pt x="180" y="70"/>
                    </a:lnTo>
                    <a:lnTo>
                      <a:pt x="184" y="58"/>
                    </a:lnTo>
                    <a:lnTo>
                      <a:pt x="188" y="45"/>
                    </a:lnTo>
                    <a:lnTo>
                      <a:pt x="188" y="41"/>
                    </a:lnTo>
                    <a:lnTo>
                      <a:pt x="188" y="37"/>
                    </a:lnTo>
                    <a:lnTo>
                      <a:pt x="192" y="21"/>
                    </a:lnTo>
                    <a:lnTo>
                      <a:pt x="192" y="17"/>
                    </a:lnTo>
                    <a:lnTo>
                      <a:pt x="196" y="13"/>
                    </a:lnTo>
                    <a:lnTo>
                      <a:pt x="200" y="13"/>
                    </a:lnTo>
                    <a:lnTo>
                      <a:pt x="204" y="25"/>
                    </a:lnTo>
                    <a:lnTo>
                      <a:pt x="208" y="37"/>
                    </a:lnTo>
                    <a:lnTo>
                      <a:pt x="208" y="41"/>
                    </a:lnTo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841720" y="54748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946840" y="547488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051600" y="547488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156360" y="5474880"/>
                <a:ext cx="4572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61120" y="54748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365880" y="54748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470640" y="54748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7426080" y="4054320"/>
              <a:ext cx="1637280" cy="1168200"/>
              <a:chOff x="7426080" y="4054320"/>
              <a:chExt cx="1637280" cy="1168200"/>
            </a:xfrm>
          </p:grpSpPr>
          <p:sp>
            <p:nvSpPr>
              <p:cNvPr id="647" name=""/>
              <p:cNvSpPr/>
              <p:nvPr/>
            </p:nvSpPr>
            <p:spPr>
              <a:xfrm>
                <a:off x="7503840" y="4605120"/>
                <a:ext cx="1135080" cy="558720"/>
              </a:xfrm>
              <a:custGeom>
                <a:avLst/>
                <a:gdLst/>
                <a:ahLst/>
                <a:rect l="l" t="t" r="r" b="b"/>
                <a:pathLst>
                  <a:path w="938" h="443">
                    <a:moveTo>
                      <a:pt x="0" y="443"/>
                    </a:moveTo>
                    <a:lnTo>
                      <a:pt x="220" y="443"/>
                    </a:lnTo>
                    <a:lnTo>
                      <a:pt x="302" y="418"/>
                    </a:lnTo>
                    <a:lnTo>
                      <a:pt x="318" y="377"/>
                    </a:lnTo>
                    <a:lnTo>
                      <a:pt x="342" y="49"/>
                    </a:lnTo>
                    <a:lnTo>
                      <a:pt x="375" y="16"/>
                    </a:lnTo>
                    <a:lnTo>
                      <a:pt x="432" y="0"/>
                    </a:lnTo>
                    <a:lnTo>
                      <a:pt x="603" y="8"/>
                    </a:lnTo>
                    <a:lnTo>
                      <a:pt x="644" y="41"/>
                    </a:lnTo>
                    <a:lnTo>
                      <a:pt x="652" y="82"/>
                    </a:lnTo>
                    <a:lnTo>
                      <a:pt x="652" y="353"/>
                    </a:lnTo>
                    <a:lnTo>
                      <a:pt x="669" y="394"/>
                    </a:lnTo>
                    <a:lnTo>
                      <a:pt x="766" y="435"/>
                    </a:lnTo>
                    <a:lnTo>
                      <a:pt x="856" y="435"/>
                    </a:lnTo>
                    <a:lnTo>
                      <a:pt x="938" y="435"/>
                    </a:lnTo>
                    <a:lnTo>
                      <a:pt x="0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513560" y="4614480"/>
                <a:ext cx="1135080" cy="559080"/>
              </a:xfrm>
              <a:custGeom>
                <a:avLst/>
                <a:gdLst/>
                <a:ahLst/>
                <a:rect l="l" t="t" r="r" b="b"/>
                <a:pathLst>
                  <a:path w="938" h="443">
                    <a:moveTo>
                      <a:pt x="0" y="443"/>
                    </a:moveTo>
                    <a:lnTo>
                      <a:pt x="220" y="443"/>
                    </a:lnTo>
                    <a:lnTo>
                      <a:pt x="302" y="418"/>
                    </a:lnTo>
                    <a:lnTo>
                      <a:pt x="318" y="377"/>
                    </a:lnTo>
                    <a:lnTo>
                      <a:pt x="343" y="49"/>
                    </a:lnTo>
                    <a:lnTo>
                      <a:pt x="375" y="16"/>
                    </a:lnTo>
                    <a:lnTo>
                      <a:pt x="432" y="0"/>
                    </a:lnTo>
                    <a:lnTo>
                      <a:pt x="604" y="8"/>
                    </a:lnTo>
                    <a:lnTo>
                      <a:pt x="644" y="41"/>
                    </a:lnTo>
                    <a:lnTo>
                      <a:pt x="652" y="82"/>
                    </a:lnTo>
                    <a:lnTo>
                      <a:pt x="652" y="353"/>
                    </a:lnTo>
                    <a:lnTo>
                      <a:pt x="669" y="394"/>
                    </a:lnTo>
                    <a:lnTo>
                      <a:pt x="767" y="435"/>
                    </a:lnTo>
                    <a:lnTo>
                      <a:pt x="856" y="435"/>
                    </a:lnTo>
                    <a:lnTo>
                      <a:pt x="938" y="435"/>
                    </a:ln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958160" y="4189320"/>
                <a:ext cx="276120" cy="393480"/>
              </a:xfrm>
              <a:custGeom>
                <a:avLst/>
                <a:gdLst/>
                <a:ahLst/>
                <a:rect l="l" t="t" r="r" b="b"/>
                <a:pathLst>
                  <a:path w="228" h="312">
                    <a:moveTo>
                      <a:pt x="98" y="8"/>
                    </a:moveTo>
                    <a:lnTo>
                      <a:pt x="228" y="312"/>
                    </a:lnTo>
                    <a:lnTo>
                      <a:pt x="130" y="312"/>
                    </a:lnTo>
                    <a:lnTo>
                      <a:pt x="0" y="0"/>
                    </a:lnTo>
                    <a:lnTo>
                      <a:pt x="90" y="17"/>
                    </a:lnTo>
                    <a:lnTo>
                      <a:pt x="9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238960" y="4054320"/>
                <a:ext cx="63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f(x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7426080" y="5170320"/>
                <a:ext cx="151452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721000" y="472572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8092800" y="4282920"/>
                <a:ext cx="0" cy="9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4" name=""/>
          <p:cNvGrpSpPr/>
          <p:nvPr/>
        </p:nvGrpSpPr>
        <p:grpSpPr>
          <a:xfrm>
            <a:off x="152280" y="4203720"/>
            <a:ext cx="4838760" cy="2497680"/>
            <a:chOff x="152280" y="4203720"/>
            <a:chExt cx="4838760" cy="2497680"/>
          </a:xfrm>
        </p:grpSpPr>
        <p:sp>
          <p:nvSpPr>
            <p:cNvPr id="655" name=""/>
            <p:cNvSpPr/>
            <p:nvPr/>
          </p:nvSpPr>
          <p:spPr>
            <a:xfrm>
              <a:off x="152280" y="4203720"/>
              <a:ext cx="4838760" cy="248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095000" y="570384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3333cc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5160" y="4306680"/>
              <a:ext cx="271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composante (x, frequen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36160" y="531144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33ff"/>
                  </a:solidFill>
                  <a:latin typeface="Comic Sans MS"/>
                </a:rPr>
                <a:t>poi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82440" y="5778360"/>
              <a:ext cx="322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512800" y="4559040"/>
              <a:ext cx="0" cy="139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73040" y="5213160"/>
              <a:ext cx="2498760" cy="1049040"/>
            </a:xfrm>
            <a:custGeom>
              <a:avLst/>
              <a:gdLst/>
              <a:ahLst/>
              <a:rect l="l" t="t" r="r" b="b"/>
              <a:pathLst>
                <a:path w="1000" h="416">
                  <a:moveTo>
                    <a:pt x="0" y="295"/>
                  </a:moveTo>
                  <a:cubicBezTo>
                    <a:pt x="21" y="250"/>
                    <a:pt x="88" y="4"/>
                    <a:pt x="128" y="23"/>
                  </a:cubicBezTo>
                  <a:cubicBezTo>
                    <a:pt x="168" y="42"/>
                    <a:pt x="200" y="408"/>
                    <a:pt x="240" y="407"/>
                  </a:cubicBezTo>
                  <a:cubicBezTo>
                    <a:pt x="280" y="406"/>
                    <a:pt x="325" y="15"/>
                    <a:pt x="368" y="15"/>
                  </a:cubicBezTo>
                  <a:cubicBezTo>
                    <a:pt x="411" y="15"/>
                    <a:pt x="453" y="407"/>
                    <a:pt x="496" y="407"/>
                  </a:cubicBezTo>
                  <a:cubicBezTo>
                    <a:pt x="539" y="407"/>
                    <a:pt x="581" y="14"/>
                    <a:pt x="624" y="15"/>
                  </a:cubicBezTo>
                  <a:cubicBezTo>
                    <a:pt x="667" y="16"/>
                    <a:pt x="708" y="414"/>
                    <a:pt x="752" y="415"/>
                  </a:cubicBezTo>
                  <a:cubicBezTo>
                    <a:pt x="796" y="416"/>
                    <a:pt x="851" y="46"/>
                    <a:pt x="888" y="23"/>
                  </a:cubicBezTo>
                  <a:cubicBezTo>
                    <a:pt x="925" y="0"/>
                    <a:pt x="957" y="222"/>
                    <a:pt x="976" y="279"/>
                  </a:cubicBezTo>
                  <a:cubicBezTo>
                    <a:pt x="995" y="336"/>
                    <a:pt x="995" y="349"/>
                    <a:pt x="1000" y="36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1093680" y="5231880"/>
              <a:ext cx="0" cy="57276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5360" y="5249520"/>
              <a:ext cx="407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48040" y="5092560"/>
              <a:ext cx="0" cy="134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611520" y="5079960"/>
              <a:ext cx="0" cy="134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48040" y="6324480"/>
              <a:ext cx="645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51760" y="6364080"/>
              <a:ext cx="229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0000"/>
                  </a:solidFill>
                  <a:latin typeface="Comic Sans MS"/>
                </a:rPr>
                <a:t>periode = 1/fr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514600" y="5079960"/>
              <a:ext cx="4442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56640" y="4751280"/>
              <a:ext cx="7567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ff00"/>
                  </a:solidFill>
                  <a:latin typeface="Comic Sans MS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0118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mplément au raccourci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-182880" y="1273320"/>
            <a:ext cx="67078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qui sont les fonctions "mechantes" ou "pas sympa"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càd celles pour qui ça ne marche pas en genera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on verra pourquoi, si beso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-774720" y="2519280"/>
            <a:ext cx="10617120" cy="1444680"/>
            <a:chOff x="-774720" y="2519280"/>
            <a:chExt cx="10617120" cy="1444680"/>
          </a:xfrm>
        </p:grpSpPr>
        <p:sp>
          <p:nvSpPr>
            <p:cNvPr id="673" name=""/>
            <p:cNvSpPr/>
            <p:nvPr/>
          </p:nvSpPr>
          <p:spPr>
            <a:xfrm>
              <a:off x="-774720" y="3009960"/>
              <a:ext cx="10617120" cy="812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6486480" y="2762280"/>
              <a:ext cx="0" cy="12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-736560" y="3530520"/>
              <a:ext cx="9680400" cy="17640"/>
            </a:xfrm>
            <a:custGeom>
              <a:avLst/>
              <a:gdLst/>
              <a:ahLst/>
              <a:rect l="l" t="t" r="r" b="b"/>
              <a:pathLst>
                <a:path w="6098" h="11">
                  <a:moveTo>
                    <a:pt x="0" y="0"/>
                  </a:moveTo>
                  <a:lnTo>
                    <a:pt x="6098" y="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532560" y="263376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808840" y="34383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-304920" y="3025800"/>
              <a:ext cx="9842760" cy="803160"/>
            </a:xfrm>
            <a:custGeom>
              <a:avLst/>
              <a:gdLst/>
              <a:ahLst/>
              <a:rect l="l" t="t" r="r" b="b"/>
              <a:pathLst>
                <a:path w="6200" h="506">
                  <a:moveTo>
                    <a:pt x="0" y="142"/>
                  </a:moveTo>
                  <a:cubicBezTo>
                    <a:pt x="181" y="141"/>
                    <a:pt x="691" y="94"/>
                    <a:pt x="1088" y="134"/>
                  </a:cubicBezTo>
                  <a:cubicBezTo>
                    <a:pt x="1485" y="174"/>
                    <a:pt x="2015" y="386"/>
                    <a:pt x="2384" y="382"/>
                  </a:cubicBezTo>
                  <a:cubicBezTo>
                    <a:pt x="2753" y="378"/>
                    <a:pt x="3055" y="143"/>
                    <a:pt x="3304" y="110"/>
                  </a:cubicBezTo>
                  <a:cubicBezTo>
                    <a:pt x="3553" y="77"/>
                    <a:pt x="3760" y="138"/>
                    <a:pt x="3881" y="183"/>
                  </a:cubicBezTo>
                  <a:cubicBezTo>
                    <a:pt x="4002" y="228"/>
                    <a:pt x="3990" y="333"/>
                    <a:pt x="4029" y="381"/>
                  </a:cubicBezTo>
                  <a:cubicBezTo>
                    <a:pt x="4068" y="429"/>
                    <a:pt x="4090" y="506"/>
                    <a:pt x="4116" y="474"/>
                  </a:cubicBezTo>
                  <a:cubicBezTo>
                    <a:pt x="4142" y="442"/>
                    <a:pt x="4163" y="267"/>
                    <a:pt x="4184" y="189"/>
                  </a:cubicBezTo>
                  <a:cubicBezTo>
                    <a:pt x="4205" y="111"/>
                    <a:pt x="4208" y="16"/>
                    <a:pt x="4242" y="8"/>
                  </a:cubicBezTo>
                  <a:cubicBezTo>
                    <a:pt x="4276" y="0"/>
                    <a:pt x="4347" y="91"/>
                    <a:pt x="4386" y="139"/>
                  </a:cubicBezTo>
                  <a:cubicBezTo>
                    <a:pt x="4425" y="187"/>
                    <a:pt x="4447" y="274"/>
                    <a:pt x="4477" y="299"/>
                  </a:cubicBezTo>
                  <a:cubicBezTo>
                    <a:pt x="4507" y="324"/>
                    <a:pt x="4532" y="308"/>
                    <a:pt x="4568" y="289"/>
                  </a:cubicBezTo>
                  <a:cubicBezTo>
                    <a:pt x="4604" y="270"/>
                    <a:pt x="4640" y="191"/>
                    <a:pt x="4692" y="183"/>
                  </a:cubicBezTo>
                  <a:cubicBezTo>
                    <a:pt x="4744" y="175"/>
                    <a:pt x="4827" y="213"/>
                    <a:pt x="4882" y="240"/>
                  </a:cubicBezTo>
                  <a:cubicBezTo>
                    <a:pt x="4937" y="268"/>
                    <a:pt x="4934" y="362"/>
                    <a:pt x="5026" y="342"/>
                  </a:cubicBezTo>
                  <a:cubicBezTo>
                    <a:pt x="5118" y="322"/>
                    <a:pt x="5236" y="126"/>
                    <a:pt x="5432" y="118"/>
                  </a:cubicBezTo>
                  <a:cubicBezTo>
                    <a:pt x="5628" y="110"/>
                    <a:pt x="6040" y="257"/>
                    <a:pt x="6200" y="29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7760" y="2519280"/>
              <a:ext cx="77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nfi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84400" y="2544840"/>
              <a:ext cx="77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nfi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531200" y="270504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965160" y="262872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163080" y="3914640"/>
            <a:ext cx="761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is alors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stante = méchante ?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oui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sinusoide = méchante ? 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o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is pour elles "ça marche" (enfin, on se débrouille pour qu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5902200" y="-476280"/>
            <a:ext cx="2345040" cy="3175200"/>
            <a:chOff x="5902200" y="-476280"/>
            <a:chExt cx="2345040" cy="3175200"/>
          </a:xfrm>
        </p:grpSpPr>
        <p:sp>
          <p:nvSpPr>
            <p:cNvPr id="685" name=""/>
            <p:cNvSpPr/>
            <p:nvPr/>
          </p:nvSpPr>
          <p:spPr>
            <a:xfrm>
              <a:off x="6146640" y="-299880"/>
              <a:ext cx="1662120" cy="2911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6707160" y="1789200"/>
              <a:ext cx="0" cy="83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294240" y="139212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932240" y="19573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181560" y="-365040"/>
              <a:ext cx="906480" cy="2892240"/>
            </a:xfrm>
            <a:custGeom>
              <a:avLst/>
              <a:gdLst/>
              <a:ahLst/>
              <a:rect l="l" t="t" r="r" b="b"/>
              <a:pathLst>
                <a:path w="968" h="2631">
                  <a:moveTo>
                    <a:pt x="0" y="2439"/>
                  </a:moveTo>
                  <a:cubicBezTo>
                    <a:pt x="38" y="2416"/>
                    <a:pt x="163" y="2297"/>
                    <a:pt x="225" y="2308"/>
                  </a:cubicBezTo>
                  <a:cubicBezTo>
                    <a:pt x="287" y="2319"/>
                    <a:pt x="334" y="2458"/>
                    <a:pt x="373" y="2506"/>
                  </a:cubicBezTo>
                  <a:cubicBezTo>
                    <a:pt x="412" y="2554"/>
                    <a:pt x="434" y="2631"/>
                    <a:pt x="460" y="2599"/>
                  </a:cubicBezTo>
                  <a:cubicBezTo>
                    <a:pt x="486" y="2567"/>
                    <a:pt x="507" y="2392"/>
                    <a:pt x="528" y="2314"/>
                  </a:cubicBezTo>
                  <a:cubicBezTo>
                    <a:pt x="549" y="2236"/>
                    <a:pt x="552" y="2141"/>
                    <a:pt x="586" y="2133"/>
                  </a:cubicBezTo>
                  <a:cubicBezTo>
                    <a:pt x="620" y="2125"/>
                    <a:pt x="673" y="2564"/>
                    <a:pt x="730" y="2264"/>
                  </a:cubicBezTo>
                  <a:cubicBezTo>
                    <a:pt x="787" y="1964"/>
                    <a:pt x="888" y="662"/>
                    <a:pt x="928" y="331"/>
                  </a:cubicBezTo>
                  <a:cubicBezTo>
                    <a:pt x="968" y="0"/>
                    <a:pt x="960" y="287"/>
                    <a:pt x="968" y="27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flipV="1">
              <a:off x="7175520" y="-476280"/>
              <a:ext cx="17280" cy="317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219800" y="-190440"/>
              <a:ext cx="598680" cy="2668680"/>
            </a:xfrm>
            <a:custGeom>
              <a:avLst/>
              <a:gdLst/>
              <a:ahLst/>
              <a:rect l="l" t="t" r="r" b="b"/>
              <a:pathLst>
                <a:path w="377" h="1681">
                  <a:moveTo>
                    <a:pt x="0" y="0"/>
                  </a:moveTo>
                  <a:cubicBezTo>
                    <a:pt x="17" y="202"/>
                    <a:pt x="64" y="952"/>
                    <a:pt x="88" y="1210"/>
                  </a:cubicBezTo>
                  <a:cubicBezTo>
                    <a:pt x="112" y="1468"/>
                    <a:pt x="121" y="1470"/>
                    <a:pt x="144" y="1548"/>
                  </a:cubicBezTo>
                  <a:cubicBezTo>
                    <a:pt x="167" y="1626"/>
                    <a:pt x="188" y="1670"/>
                    <a:pt x="227" y="1675"/>
                  </a:cubicBezTo>
                  <a:cubicBezTo>
                    <a:pt x="266" y="1681"/>
                    <a:pt x="346" y="1601"/>
                    <a:pt x="377" y="15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334280" y="587520"/>
              <a:ext cx="501480" cy="1231920"/>
            </a:xfrm>
            <a:prstGeom prst="upArrow">
              <a:avLst>
                <a:gd name="adj1" fmla="val 50000"/>
                <a:gd name="adj2" fmla="val 61414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68040" y="239760"/>
              <a:ext cx="77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nfi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902200" y="2320920"/>
              <a:ext cx="234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-717480" y="5014800"/>
            <a:ext cx="10966320" cy="1089720"/>
            <a:chOff x="-717480" y="5014800"/>
            <a:chExt cx="10966320" cy="1089720"/>
          </a:xfrm>
        </p:grpSpPr>
        <p:sp>
          <p:nvSpPr>
            <p:cNvPr id="696" name=""/>
            <p:cNvSpPr/>
            <p:nvPr/>
          </p:nvSpPr>
          <p:spPr>
            <a:xfrm>
              <a:off x="8827560" y="57056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-717480" y="5014800"/>
              <a:ext cx="10966320" cy="853920"/>
              <a:chOff x="-717480" y="5014800"/>
              <a:chExt cx="10966320" cy="853920"/>
            </a:xfrm>
          </p:grpSpPr>
          <p:sp>
            <p:nvSpPr>
              <p:cNvPr id="698" name=""/>
              <p:cNvSpPr/>
              <p:nvPr/>
            </p:nvSpPr>
            <p:spPr>
              <a:xfrm flipV="1">
                <a:off x="8277120" y="5028840"/>
                <a:ext cx="0" cy="83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-717480" y="5797440"/>
                <a:ext cx="9680400" cy="17640"/>
              </a:xfrm>
              <a:custGeom>
                <a:avLst/>
                <a:gdLst/>
                <a:ahLst/>
                <a:rect l="l" t="t" r="r" b="b"/>
                <a:pathLst>
                  <a:path w="6098" h="11">
                    <a:moveTo>
                      <a:pt x="0" y="0"/>
                    </a:moveTo>
                    <a:lnTo>
                      <a:pt x="6098" y="1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285040" y="5014800"/>
                <a:ext cx="5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(x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0" y="5524560"/>
                <a:ext cx="10248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2" name=""/>
          <p:cNvGrpSpPr/>
          <p:nvPr/>
        </p:nvGrpSpPr>
        <p:grpSpPr>
          <a:xfrm>
            <a:off x="-1590840" y="5986440"/>
            <a:ext cx="13047840" cy="1215720"/>
            <a:chOff x="-1590840" y="5986440"/>
            <a:chExt cx="13047840" cy="1215720"/>
          </a:xfrm>
        </p:grpSpPr>
        <p:grpSp>
          <p:nvGrpSpPr>
            <p:cNvPr id="703" name=""/>
            <p:cNvGrpSpPr/>
            <p:nvPr/>
          </p:nvGrpSpPr>
          <p:grpSpPr>
            <a:xfrm>
              <a:off x="-1590840" y="6140160"/>
              <a:ext cx="13047840" cy="645480"/>
              <a:chOff x="-1590840" y="6140160"/>
              <a:chExt cx="13047840" cy="645480"/>
            </a:xfrm>
          </p:grpSpPr>
          <p:sp>
            <p:nvSpPr>
              <p:cNvPr id="704" name=""/>
              <p:cNvSpPr/>
              <p:nvPr/>
            </p:nvSpPr>
            <p:spPr>
              <a:xfrm>
                <a:off x="2739960" y="6140160"/>
                <a:ext cx="4361040" cy="623160"/>
              </a:xfrm>
              <a:custGeom>
                <a:avLst/>
                <a:gdLst/>
                <a:ahLst/>
                <a:rect l="l" t="t" r="r" b="b"/>
                <a:pathLst>
                  <a:path w="1126" h="275">
                    <a:moveTo>
                      <a:pt x="0" y="140"/>
                    </a:moveTo>
                    <a:lnTo>
                      <a:pt x="8" y="156"/>
                    </a:lnTo>
                    <a:lnTo>
                      <a:pt x="20" y="185"/>
                    </a:lnTo>
                    <a:lnTo>
                      <a:pt x="33" y="209"/>
                    </a:lnTo>
                    <a:lnTo>
                      <a:pt x="45" y="226"/>
                    </a:lnTo>
                    <a:lnTo>
                      <a:pt x="57" y="242"/>
                    </a:lnTo>
                    <a:lnTo>
                      <a:pt x="69" y="255"/>
                    </a:lnTo>
                    <a:lnTo>
                      <a:pt x="82" y="263"/>
                    </a:lnTo>
                    <a:lnTo>
                      <a:pt x="94" y="267"/>
                    </a:lnTo>
                    <a:lnTo>
                      <a:pt x="106" y="263"/>
                    </a:lnTo>
                    <a:lnTo>
                      <a:pt x="118" y="259"/>
                    </a:lnTo>
                    <a:lnTo>
                      <a:pt x="126" y="250"/>
                    </a:lnTo>
                    <a:lnTo>
                      <a:pt x="135" y="242"/>
                    </a:lnTo>
                    <a:lnTo>
                      <a:pt x="147" y="222"/>
                    </a:lnTo>
                    <a:lnTo>
                      <a:pt x="155" y="205"/>
                    </a:lnTo>
                    <a:lnTo>
                      <a:pt x="167" y="177"/>
                    </a:lnTo>
                    <a:lnTo>
                      <a:pt x="175" y="148"/>
                    </a:lnTo>
                    <a:lnTo>
                      <a:pt x="180" y="131"/>
                    </a:lnTo>
                    <a:lnTo>
                      <a:pt x="184" y="115"/>
                    </a:lnTo>
                    <a:lnTo>
                      <a:pt x="196" y="82"/>
                    </a:lnTo>
                    <a:lnTo>
                      <a:pt x="204" y="57"/>
                    </a:lnTo>
                    <a:lnTo>
                      <a:pt x="212" y="41"/>
                    </a:lnTo>
                    <a:lnTo>
                      <a:pt x="224" y="21"/>
                    </a:lnTo>
                    <a:lnTo>
                      <a:pt x="233" y="8"/>
                    </a:lnTo>
                    <a:lnTo>
                      <a:pt x="241" y="4"/>
                    </a:lnTo>
                    <a:lnTo>
                      <a:pt x="249" y="0"/>
                    </a:lnTo>
                    <a:lnTo>
                      <a:pt x="257" y="0"/>
                    </a:lnTo>
                    <a:lnTo>
                      <a:pt x="269" y="4"/>
                    </a:lnTo>
                    <a:lnTo>
                      <a:pt x="281" y="12"/>
                    </a:lnTo>
                    <a:lnTo>
                      <a:pt x="286" y="21"/>
                    </a:lnTo>
                    <a:lnTo>
                      <a:pt x="294" y="37"/>
                    </a:lnTo>
                    <a:lnTo>
                      <a:pt x="306" y="62"/>
                    </a:lnTo>
                    <a:lnTo>
                      <a:pt x="314" y="86"/>
                    </a:lnTo>
                    <a:lnTo>
                      <a:pt x="322" y="115"/>
                    </a:lnTo>
                    <a:lnTo>
                      <a:pt x="326" y="127"/>
                    </a:lnTo>
                    <a:lnTo>
                      <a:pt x="330" y="140"/>
                    </a:lnTo>
                    <a:lnTo>
                      <a:pt x="339" y="168"/>
                    </a:lnTo>
                    <a:lnTo>
                      <a:pt x="347" y="193"/>
                    </a:lnTo>
                    <a:lnTo>
                      <a:pt x="355" y="213"/>
                    </a:lnTo>
                    <a:lnTo>
                      <a:pt x="367" y="234"/>
                    </a:lnTo>
                    <a:lnTo>
                      <a:pt x="375" y="246"/>
                    </a:lnTo>
                    <a:lnTo>
                      <a:pt x="379" y="250"/>
                    </a:lnTo>
                    <a:lnTo>
                      <a:pt x="387" y="255"/>
                    </a:lnTo>
                    <a:lnTo>
                      <a:pt x="400" y="255"/>
                    </a:lnTo>
                    <a:lnTo>
                      <a:pt x="412" y="250"/>
                    </a:lnTo>
                    <a:lnTo>
                      <a:pt x="416" y="246"/>
                    </a:lnTo>
                    <a:lnTo>
                      <a:pt x="424" y="234"/>
                    </a:lnTo>
                    <a:lnTo>
                      <a:pt x="436" y="213"/>
                    </a:lnTo>
                    <a:lnTo>
                      <a:pt x="445" y="197"/>
                    </a:lnTo>
                    <a:lnTo>
                      <a:pt x="453" y="172"/>
                    </a:lnTo>
                    <a:lnTo>
                      <a:pt x="461" y="144"/>
                    </a:lnTo>
                    <a:lnTo>
                      <a:pt x="465" y="131"/>
                    </a:lnTo>
                    <a:lnTo>
                      <a:pt x="469" y="119"/>
                    </a:lnTo>
                    <a:lnTo>
                      <a:pt x="477" y="90"/>
                    </a:lnTo>
                    <a:lnTo>
                      <a:pt x="485" y="66"/>
                    </a:lnTo>
                    <a:lnTo>
                      <a:pt x="494" y="49"/>
                    </a:lnTo>
                    <a:lnTo>
                      <a:pt x="506" y="29"/>
                    </a:lnTo>
                    <a:lnTo>
                      <a:pt x="514" y="16"/>
                    </a:lnTo>
                    <a:lnTo>
                      <a:pt x="522" y="8"/>
                    </a:lnTo>
                    <a:lnTo>
                      <a:pt x="526" y="8"/>
                    </a:lnTo>
                    <a:lnTo>
                      <a:pt x="538" y="8"/>
                    </a:lnTo>
                    <a:lnTo>
                      <a:pt x="547" y="8"/>
                    </a:lnTo>
                    <a:lnTo>
                      <a:pt x="555" y="16"/>
                    </a:lnTo>
                    <a:lnTo>
                      <a:pt x="563" y="29"/>
                    </a:lnTo>
                    <a:lnTo>
                      <a:pt x="575" y="49"/>
                    </a:lnTo>
                    <a:lnTo>
                      <a:pt x="583" y="66"/>
                    </a:lnTo>
                    <a:lnTo>
                      <a:pt x="591" y="90"/>
                    </a:lnTo>
                    <a:lnTo>
                      <a:pt x="600" y="119"/>
                    </a:lnTo>
                    <a:lnTo>
                      <a:pt x="604" y="131"/>
                    </a:lnTo>
                    <a:lnTo>
                      <a:pt x="608" y="144"/>
                    </a:lnTo>
                    <a:lnTo>
                      <a:pt x="616" y="172"/>
                    </a:lnTo>
                    <a:lnTo>
                      <a:pt x="624" y="197"/>
                    </a:lnTo>
                    <a:lnTo>
                      <a:pt x="632" y="218"/>
                    </a:lnTo>
                    <a:lnTo>
                      <a:pt x="640" y="234"/>
                    </a:lnTo>
                    <a:lnTo>
                      <a:pt x="653" y="246"/>
                    </a:lnTo>
                    <a:lnTo>
                      <a:pt x="657" y="255"/>
                    </a:lnTo>
                    <a:lnTo>
                      <a:pt x="665" y="259"/>
                    </a:lnTo>
                    <a:lnTo>
                      <a:pt x="673" y="259"/>
                    </a:lnTo>
                    <a:lnTo>
                      <a:pt x="681" y="259"/>
                    </a:lnTo>
                    <a:lnTo>
                      <a:pt x="689" y="250"/>
                    </a:lnTo>
                    <a:lnTo>
                      <a:pt x="702" y="238"/>
                    </a:lnTo>
                    <a:lnTo>
                      <a:pt x="710" y="222"/>
                    </a:lnTo>
                    <a:lnTo>
                      <a:pt x="718" y="205"/>
                    </a:lnTo>
                    <a:lnTo>
                      <a:pt x="726" y="181"/>
                    </a:lnTo>
                    <a:lnTo>
                      <a:pt x="734" y="160"/>
                    </a:lnTo>
                    <a:lnTo>
                      <a:pt x="738" y="144"/>
                    </a:lnTo>
                    <a:lnTo>
                      <a:pt x="742" y="131"/>
                    </a:lnTo>
                    <a:lnTo>
                      <a:pt x="750" y="107"/>
                    </a:lnTo>
                    <a:lnTo>
                      <a:pt x="759" y="82"/>
                    </a:lnTo>
                    <a:lnTo>
                      <a:pt x="767" y="66"/>
                    </a:lnTo>
                    <a:lnTo>
                      <a:pt x="779" y="49"/>
                    </a:lnTo>
                    <a:lnTo>
                      <a:pt x="787" y="37"/>
                    </a:lnTo>
                    <a:lnTo>
                      <a:pt x="791" y="33"/>
                    </a:lnTo>
                    <a:lnTo>
                      <a:pt x="799" y="29"/>
                    </a:lnTo>
                    <a:lnTo>
                      <a:pt x="812" y="29"/>
                    </a:lnTo>
                    <a:lnTo>
                      <a:pt x="820" y="33"/>
                    </a:lnTo>
                    <a:lnTo>
                      <a:pt x="828" y="41"/>
                    </a:lnTo>
                    <a:lnTo>
                      <a:pt x="836" y="49"/>
                    </a:lnTo>
                    <a:lnTo>
                      <a:pt x="848" y="70"/>
                    </a:lnTo>
                    <a:lnTo>
                      <a:pt x="856" y="90"/>
                    </a:lnTo>
                    <a:lnTo>
                      <a:pt x="865" y="111"/>
                    </a:lnTo>
                    <a:lnTo>
                      <a:pt x="873" y="140"/>
                    </a:lnTo>
                    <a:lnTo>
                      <a:pt x="877" y="152"/>
                    </a:lnTo>
                    <a:lnTo>
                      <a:pt x="881" y="164"/>
                    </a:lnTo>
                    <a:lnTo>
                      <a:pt x="889" y="193"/>
                    </a:lnTo>
                    <a:lnTo>
                      <a:pt x="897" y="213"/>
                    </a:lnTo>
                    <a:lnTo>
                      <a:pt x="905" y="234"/>
                    </a:lnTo>
                    <a:lnTo>
                      <a:pt x="914" y="250"/>
                    </a:lnTo>
                    <a:lnTo>
                      <a:pt x="922" y="259"/>
                    </a:lnTo>
                    <a:lnTo>
                      <a:pt x="934" y="271"/>
                    </a:lnTo>
                    <a:lnTo>
                      <a:pt x="942" y="275"/>
                    </a:lnTo>
                    <a:lnTo>
                      <a:pt x="946" y="275"/>
                    </a:lnTo>
                    <a:lnTo>
                      <a:pt x="958" y="271"/>
                    </a:lnTo>
                    <a:lnTo>
                      <a:pt x="963" y="267"/>
                    </a:lnTo>
                    <a:lnTo>
                      <a:pt x="971" y="255"/>
                    </a:lnTo>
                    <a:lnTo>
                      <a:pt x="979" y="238"/>
                    </a:lnTo>
                    <a:lnTo>
                      <a:pt x="987" y="222"/>
                    </a:lnTo>
                    <a:lnTo>
                      <a:pt x="991" y="201"/>
                    </a:lnTo>
                    <a:lnTo>
                      <a:pt x="999" y="177"/>
                    </a:lnTo>
                    <a:lnTo>
                      <a:pt x="1003" y="160"/>
                    </a:lnTo>
                    <a:lnTo>
                      <a:pt x="1007" y="144"/>
                    </a:lnTo>
                    <a:lnTo>
                      <a:pt x="1016" y="119"/>
                    </a:lnTo>
                    <a:lnTo>
                      <a:pt x="1020" y="99"/>
                    </a:lnTo>
                    <a:lnTo>
                      <a:pt x="1028" y="78"/>
                    </a:lnTo>
                    <a:lnTo>
                      <a:pt x="1036" y="66"/>
                    </a:lnTo>
                    <a:lnTo>
                      <a:pt x="1044" y="49"/>
                    </a:lnTo>
                    <a:lnTo>
                      <a:pt x="1052" y="41"/>
                    </a:lnTo>
                    <a:lnTo>
                      <a:pt x="1056" y="41"/>
                    </a:lnTo>
                    <a:lnTo>
                      <a:pt x="1069" y="37"/>
                    </a:lnTo>
                    <a:lnTo>
                      <a:pt x="1073" y="41"/>
                    </a:lnTo>
                    <a:lnTo>
                      <a:pt x="1085" y="49"/>
                    </a:lnTo>
                    <a:lnTo>
                      <a:pt x="1089" y="57"/>
                    </a:lnTo>
                    <a:lnTo>
                      <a:pt x="1097" y="70"/>
                    </a:lnTo>
                    <a:lnTo>
                      <a:pt x="1105" y="90"/>
                    </a:lnTo>
                    <a:lnTo>
                      <a:pt x="1113" y="111"/>
                    </a:lnTo>
                    <a:lnTo>
                      <a:pt x="1122" y="140"/>
                    </a:lnTo>
                    <a:lnTo>
                      <a:pt x="1126" y="152"/>
                    </a:ln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95960" y="6162480"/>
                <a:ext cx="4361040" cy="623160"/>
              </a:xfrm>
              <a:custGeom>
                <a:avLst/>
                <a:gdLst/>
                <a:ahLst/>
                <a:rect l="l" t="t" r="r" b="b"/>
                <a:pathLst>
                  <a:path w="1126" h="275">
                    <a:moveTo>
                      <a:pt x="0" y="140"/>
                    </a:moveTo>
                    <a:lnTo>
                      <a:pt x="8" y="156"/>
                    </a:lnTo>
                    <a:lnTo>
                      <a:pt x="20" y="185"/>
                    </a:lnTo>
                    <a:lnTo>
                      <a:pt x="33" y="209"/>
                    </a:lnTo>
                    <a:lnTo>
                      <a:pt x="45" y="226"/>
                    </a:lnTo>
                    <a:lnTo>
                      <a:pt x="57" y="242"/>
                    </a:lnTo>
                    <a:lnTo>
                      <a:pt x="69" y="255"/>
                    </a:lnTo>
                    <a:lnTo>
                      <a:pt x="82" y="263"/>
                    </a:lnTo>
                    <a:lnTo>
                      <a:pt x="94" y="267"/>
                    </a:lnTo>
                    <a:lnTo>
                      <a:pt x="106" y="263"/>
                    </a:lnTo>
                    <a:lnTo>
                      <a:pt x="118" y="259"/>
                    </a:lnTo>
                    <a:lnTo>
                      <a:pt x="126" y="250"/>
                    </a:lnTo>
                    <a:lnTo>
                      <a:pt x="135" y="242"/>
                    </a:lnTo>
                    <a:lnTo>
                      <a:pt x="147" y="222"/>
                    </a:lnTo>
                    <a:lnTo>
                      <a:pt x="155" y="205"/>
                    </a:lnTo>
                    <a:lnTo>
                      <a:pt x="167" y="177"/>
                    </a:lnTo>
                    <a:lnTo>
                      <a:pt x="175" y="148"/>
                    </a:lnTo>
                    <a:lnTo>
                      <a:pt x="180" y="131"/>
                    </a:lnTo>
                    <a:lnTo>
                      <a:pt x="184" y="115"/>
                    </a:lnTo>
                    <a:lnTo>
                      <a:pt x="196" y="82"/>
                    </a:lnTo>
                    <a:lnTo>
                      <a:pt x="204" y="57"/>
                    </a:lnTo>
                    <a:lnTo>
                      <a:pt x="212" y="41"/>
                    </a:lnTo>
                    <a:lnTo>
                      <a:pt x="224" y="21"/>
                    </a:lnTo>
                    <a:lnTo>
                      <a:pt x="233" y="8"/>
                    </a:lnTo>
                    <a:lnTo>
                      <a:pt x="241" y="4"/>
                    </a:lnTo>
                    <a:lnTo>
                      <a:pt x="249" y="0"/>
                    </a:lnTo>
                    <a:lnTo>
                      <a:pt x="257" y="0"/>
                    </a:lnTo>
                    <a:lnTo>
                      <a:pt x="269" y="4"/>
                    </a:lnTo>
                    <a:lnTo>
                      <a:pt x="281" y="12"/>
                    </a:lnTo>
                    <a:lnTo>
                      <a:pt x="286" y="21"/>
                    </a:lnTo>
                    <a:lnTo>
                      <a:pt x="294" y="37"/>
                    </a:lnTo>
                    <a:lnTo>
                      <a:pt x="306" y="62"/>
                    </a:lnTo>
                    <a:lnTo>
                      <a:pt x="314" y="86"/>
                    </a:lnTo>
                    <a:lnTo>
                      <a:pt x="322" y="115"/>
                    </a:lnTo>
                    <a:lnTo>
                      <a:pt x="326" y="127"/>
                    </a:lnTo>
                    <a:lnTo>
                      <a:pt x="330" y="140"/>
                    </a:lnTo>
                    <a:lnTo>
                      <a:pt x="339" y="168"/>
                    </a:lnTo>
                    <a:lnTo>
                      <a:pt x="347" y="193"/>
                    </a:lnTo>
                    <a:lnTo>
                      <a:pt x="355" y="213"/>
                    </a:lnTo>
                    <a:lnTo>
                      <a:pt x="367" y="234"/>
                    </a:lnTo>
                    <a:lnTo>
                      <a:pt x="375" y="246"/>
                    </a:lnTo>
                    <a:lnTo>
                      <a:pt x="379" y="250"/>
                    </a:lnTo>
                    <a:lnTo>
                      <a:pt x="387" y="255"/>
                    </a:lnTo>
                    <a:lnTo>
                      <a:pt x="400" y="255"/>
                    </a:lnTo>
                    <a:lnTo>
                      <a:pt x="412" y="250"/>
                    </a:lnTo>
                    <a:lnTo>
                      <a:pt x="416" y="246"/>
                    </a:lnTo>
                    <a:lnTo>
                      <a:pt x="424" y="234"/>
                    </a:lnTo>
                    <a:lnTo>
                      <a:pt x="436" y="213"/>
                    </a:lnTo>
                    <a:lnTo>
                      <a:pt x="445" y="197"/>
                    </a:lnTo>
                    <a:lnTo>
                      <a:pt x="453" y="172"/>
                    </a:lnTo>
                    <a:lnTo>
                      <a:pt x="461" y="144"/>
                    </a:lnTo>
                    <a:lnTo>
                      <a:pt x="465" y="131"/>
                    </a:lnTo>
                    <a:lnTo>
                      <a:pt x="469" y="119"/>
                    </a:lnTo>
                    <a:lnTo>
                      <a:pt x="477" y="90"/>
                    </a:lnTo>
                    <a:lnTo>
                      <a:pt x="485" y="66"/>
                    </a:lnTo>
                    <a:lnTo>
                      <a:pt x="494" y="49"/>
                    </a:lnTo>
                    <a:lnTo>
                      <a:pt x="506" y="29"/>
                    </a:lnTo>
                    <a:lnTo>
                      <a:pt x="514" y="16"/>
                    </a:lnTo>
                    <a:lnTo>
                      <a:pt x="522" y="8"/>
                    </a:lnTo>
                    <a:lnTo>
                      <a:pt x="526" y="8"/>
                    </a:lnTo>
                    <a:lnTo>
                      <a:pt x="538" y="8"/>
                    </a:lnTo>
                    <a:lnTo>
                      <a:pt x="547" y="8"/>
                    </a:lnTo>
                    <a:lnTo>
                      <a:pt x="555" y="16"/>
                    </a:lnTo>
                    <a:lnTo>
                      <a:pt x="563" y="29"/>
                    </a:lnTo>
                    <a:lnTo>
                      <a:pt x="575" y="49"/>
                    </a:lnTo>
                    <a:lnTo>
                      <a:pt x="583" y="66"/>
                    </a:lnTo>
                    <a:lnTo>
                      <a:pt x="591" y="90"/>
                    </a:lnTo>
                    <a:lnTo>
                      <a:pt x="600" y="119"/>
                    </a:lnTo>
                    <a:lnTo>
                      <a:pt x="604" y="131"/>
                    </a:lnTo>
                    <a:lnTo>
                      <a:pt x="608" y="144"/>
                    </a:lnTo>
                    <a:lnTo>
                      <a:pt x="616" y="172"/>
                    </a:lnTo>
                    <a:lnTo>
                      <a:pt x="624" y="197"/>
                    </a:lnTo>
                    <a:lnTo>
                      <a:pt x="632" y="218"/>
                    </a:lnTo>
                    <a:lnTo>
                      <a:pt x="640" y="234"/>
                    </a:lnTo>
                    <a:lnTo>
                      <a:pt x="653" y="246"/>
                    </a:lnTo>
                    <a:lnTo>
                      <a:pt x="657" y="255"/>
                    </a:lnTo>
                    <a:lnTo>
                      <a:pt x="665" y="259"/>
                    </a:lnTo>
                    <a:lnTo>
                      <a:pt x="673" y="259"/>
                    </a:lnTo>
                    <a:lnTo>
                      <a:pt x="681" y="259"/>
                    </a:lnTo>
                    <a:lnTo>
                      <a:pt x="689" y="250"/>
                    </a:lnTo>
                    <a:lnTo>
                      <a:pt x="702" y="238"/>
                    </a:lnTo>
                    <a:lnTo>
                      <a:pt x="710" y="222"/>
                    </a:lnTo>
                    <a:lnTo>
                      <a:pt x="718" y="205"/>
                    </a:lnTo>
                    <a:lnTo>
                      <a:pt x="726" y="181"/>
                    </a:lnTo>
                    <a:lnTo>
                      <a:pt x="734" y="160"/>
                    </a:lnTo>
                    <a:lnTo>
                      <a:pt x="738" y="144"/>
                    </a:lnTo>
                    <a:lnTo>
                      <a:pt x="742" y="131"/>
                    </a:lnTo>
                    <a:lnTo>
                      <a:pt x="750" y="107"/>
                    </a:lnTo>
                    <a:lnTo>
                      <a:pt x="759" y="82"/>
                    </a:lnTo>
                    <a:lnTo>
                      <a:pt x="767" y="66"/>
                    </a:lnTo>
                    <a:lnTo>
                      <a:pt x="779" y="49"/>
                    </a:lnTo>
                    <a:lnTo>
                      <a:pt x="787" y="37"/>
                    </a:lnTo>
                    <a:lnTo>
                      <a:pt x="791" y="33"/>
                    </a:lnTo>
                    <a:lnTo>
                      <a:pt x="799" y="29"/>
                    </a:lnTo>
                    <a:lnTo>
                      <a:pt x="812" y="29"/>
                    </a:lnTo>
                    <a:lnTo>
                      <a:pt x="820" y="33"/>
                    </a:lnTo>
                    <a:lnTo>
                      <a:pt x="828" y="41"/>
                    </a:lnTo>
                    <a:lnTo>
                      <a:pt x="836" y="49"/>
                    </a:lnTo>
                    <a:lnTo>
                      <a:pt x="848" y="70"/>
                    </a:lnTo>
                    <a:lnTo>
                      <a:pt x="856" y="90"/>
                    </a:lnTo>
                    <a:lnTo>
                      <a:pt x="865" y="111"/>
                    </a:lnTo>
                    <a:lnTo>
                      <a:pt x="873" y="140"/>
                    </a:lnTo>
                    <a:lnTo>
                      <a:pt x="877" y="152"/>
                    </a:lnTo>
                    <a:lnTo>
                      <a:pt x="881" y="164"/>
                    </a:lnTo>
                    <a:lnTo>
                      <a:pt x="889" y="193"/>
                    </a:lnTo>
                    <a:lnTo>
                      <a:pt x="897" y="213"/>
                    </a:lnTo>
                    <a:lnTo>
                      <a:pt x="905" y="234"/>
                    </a:lnTo>
                    <a:lnTo>
                      <a:pt x="914" y="250"/>
                    </a:lnTo>
                    <a:lnTo>
                      <a:pt x="922" y="259"/>
                    </a:lnTo>
                    <a:lnTo>
                      <a:pt x="934" y="271"/>
                    </a:lnTo>
                    <a:lnTo>
                      <a:pt x="942" y="275"/>
                    </a:lnTo>
                    <a:lnTo>
                      <a:pt x="946" y="275"/>
                    </a:lnTo>
                    <a:lnTo>
                      <a:pt x="958" y="271"/>
                    </a:lnTo>
                    <a:lnTo>
                      <a:pt x="963" y="267"/>
                    </a:lnTo>
                    <a:lnTo>
                      <a:pt x="971" y="255"/>
                    </a:lnTo>
                    <a:lnTo>
                      <a:pt x="979" y="238"/>
                    </a:lnTo>
                    <a:lnTo>
                      <a:pt x="987" y="222"/>
                    </a:lnTo>
                    <a:lnTo>
                      <a:pt x="991" y="201"/>
                    </a:lnTo>
                    <a:lnTo>
                      <a:pt x="999" y="177"/>
                    </a:lnTo>
                    <a:lnTo>
                      <a:pt x="1003" y="160"/>
                    </a:lnTo>
                    <a:lnTo>
                      <a:pt x="1007" y="144"/>
                    </a:lnTo>
                    <a:lnTo>
                      <a:pt x="1016" y="119"/>
                    </a:lnTo>
                    <a:lnTo>
                      <a:pt x="1020" y="99"/>
                    </a:lnTo>
                    <a:lnTo>
                      <a:pt x="1028" y="78"/>
                    </a:lnTo>
                    <a:lnTo>
                      <a:pt x="1036" y="66"/>
                    </a:lnTo>
                    <a:lnTo>
                      <a:pt x="1044" y="49"/>
                    </a:lnTo>
                    <a:lnTo>
                      <a:pt x="1052" y="41"/>
                    </a:lnTo>
                    <a:lnTo>
                      <a:pt x="1056" y="41"/>
                    </a:lnTo>
                    <a:lnTo>
                      <a:pt x="1069" y="37"/>
                    </a:lnTo>
                    <a:lnTo>
                      <a:pt x="1073" y="41"/>
                    </a:lnTo>
                    <a:lnTo>
                      <a:pt x="1085" y="49"/>
                    </a:lnTo>
                    <a:lnTo>
                      <a:pt x="1089" y="57"/>
                    </a:lnTo>
                    <a:lnTo>
                      <a:pt x="1097" y="70"/>
                    </a:lnTo>
                    <a:lnTo>
                      <a:pt x="1105" y="90"/>
                    </a:lnTo>
                    <a:lnTo>
                      <a:pt x="1113" y="111"/>
                    </a:lnTo>
                    <a:lnTo>
                      <a:pt x="1122" y="140"/>
                    </a:lnTo>
                    <a:lnTo>
                      <a:pt x="1126" y="152"/>
                    </a:ln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-1590840" y="6140160"/>
                <a:ext cx="4361040" cy="623160"/>
              </a:xfrm>
              <a:custGeom>
                <a:avLst/>
                <a:gdLst/>
                <a:ahLst/>
                <a:rect l="l" t="t" r="r" b="b"/>
                <a:pathLst>
                  <a:path w="1126" h="275">
                    <a:moveTo>
                      <a:pt x="0" y="140"/>
                    </a:moveTo>
                    <a:lnTo>
                      <a:pt x="8" y="156"/>
                    </a:lnTo>
                    <a:lnTo>
                      <a:pt x="20" y="185"/>
                    </a:lnTo>
                    <a:lnTo>
                      <a:pt x="33" y="209"/>
                    </a:lnTo>
                    <a:lnTo>
                      <a:pt x="45" y="226"/>
                    </a:lnTo>
                    <a:lnTo>
                      <a:pt x="57" y="242"/>
                    </a:lnTo>
                    <a:lnTo>
                      <a:pt x="69" y="255"/>
                    </a:lnTo>
                    <a:lnTo>
                      <a:pt x="82" y="263"/>
                    </a:lnTo>
                    <a:lnTo>
                      <a:pt x="94" y="267"/>
                    </a:lnTo>
                    <a:lnTo>
                      <a:pt x="106" y="263"/>
                    </a:lnTo>
                    <a:lnTo>
                      <a:pt x="118" y="259"/>
                    </a:lnTo>
                    <a:lnTo>
                      <a:pt x="126" y="250"/>
                    </a:lnTo>
                    <a:lnTo>
                      <a:pt x="135" y="242"/>
                    </a:lnTo>
                    <a:lnTo>
                      <a:pt x="147" y="222"/>
                    </a:lnTo>
                    <a:lnTo>
                      <a:pt x="155" y="205"/>
                    </a:lnTo>
                    <a:lnTo>
                      <a:pt x="167" y="177"/>
                    </a:lnTo>
                    <a:lnTo>
                      <a:pt x="175" y="148"/>
                    </a:lnTo>
                    <a:lnTo>
                      <a:pt x="180" y="131"/>
                    </a:lnTo>
                    <a:lnTo>
                      <a:pt x="184" y="115"/>
                    </a:lnTo>
                    <a:lnTo>
                      <a:pt x="196" y="82"/>
                    </a:lnTo>
                    <a:lnTo>
                      <a:pt x="204" y="57"/>
                    </a:lnTo>
                    <a:lnTo>
                      <a:pt x="212" y="41"/>
                    </a:lnTo>
                    <a:lnTo>
                      <a:pt x="224" y="21"/>
                    </a:lnTo>
                    <a:lnTo>
                      <a:pt x="233" y="8"/>
                    </a:lnTo>
                    <a:lnTo>
                      <a:pt x="241" y="4"/>
                    </a:lnTo>
                    <a:lnTo>
                      <a:pt x="249" y="0"/>
                    </a:lnTo>
                    <a:lnTo>
                      <a:pt x="257" y="0"/>
                    </a:lnTo>
                    <a:lnTo>
                      <a:pt x="269" y="4"/>
                    </a:lnTo>
                    <a:lnTo>
                      <a:pt x="281" y="12"/>
                    </a:lnTo>
                    <a:lnTo>
                      <a:pt x="286" y="21"/>
                    </a:lnTo>
                    <a:lnTo>
                      <a:pt x="294" y="37"/>
                    </a:lnTo>
                    <a:lnTo>
                      <a:pt x="306" y="62"/>
                    </a:lnTo>
                    <a:lnTo>
                      <a:pt x="314" y="86"/>
                    </a:lnTo>
                    <a:lnTo>
                      <a:pt x="322" y="115"/>
                    </a:lnTo>
                    <a:lnTo>
                      <a:pt x="326" y="127"/>
                    </a:lnTo>
                    <a:lnTo>
                      <a:pt x="330" y="140"/>
                    </a:lnTo>
                    <a:lnTo>
                      <a:pt x="339" y="168"/>
                    </a:lnTo>
                    <a:lnTo>
                      <a:pt x="347" y="193"/>
                    </a:lnTo>
                    <a:lnTo>
                      <a:pt x="355" y="213"/>
                    </a:lnTo>
                    <a:lnTo>
                      <a:pt x="367" y="234"/>
                    </a:lnTo>
                    <a:lnTo>
                      <a:pt x="375" y="246"/>
                    </a:lnTo>
                    <a:lnTo>
                      <a:pt x="379" y="250"/>
                    </a:lnTo>
                    <a:lnTo>
                      <a:pt x="387" y="255"/>
                    </a:lnTo>
                    <a:lnTo>
                      <a:pt x="400" y="255"/>
                    </a:lnTo>
                    <a:lnTo>
                      <a:pt x="412" y="250"/>
                    </a:lnTo>
                    <a:lnTo>
                      <a:pt x="416" y="246"/>
                    </a:lnTo>
                    <a:lnTo>
                      <a:pt x="424" y="234"/>
                    </a:lnTo>
                    <a:lnTo>
                      <a:pt x="436" y="213"/>
                    </a:lnTo>
                    <a:lnTo>
                      <a:pt x="445" y="197"/>
                    </a:lnTo>
                    <a:lnTo>
                      <a:pt x="453" y="172"/>
                    </a:lnTo>
                    <a:lnTo>
                      <a:pt x="461" y="144"/>
                    </a:lnTo>
                    <a:lnTo>
                      <a:pt x="465" y="131"/>
                    </a:lnTo>
                    <a:lnTo>
                      <a:pt x="469" y="119"/>
                    </a:lnTo>
                    <a:lnTo>
                      <a:pt x="477" y="90"/>
                    </a:lnTo>
                    <a:lnTo>
                      <a:pt x="485" y="66"/>
                    </a:lnTo>
                    <a:lnTo>
                      <a:pt x="494" y="49"/>
                    </a:lnTo>
                    <a:lnTo>
                      <a:pt x="506" y="29"/>
                    </a:lnTo>
                    <a:lnTo>
                      <a:pt x="514" y="16"/>
                    </a:lnTo>
                    <a:lnTo>
                      <a:pt x="522" y="8"/>
                    </a:lnTo>
                    <a:lnTo>
                      <a:pt x="526" y="8"/>
                    </a:lnTo>
                    <a:lnTo>
                      <a:pt x="538" y="8"/>
                    </a:lnTo>
                    <a:lnTo>
                      <a:pt x="547" y="8"/>
                    </a:lnTo>
                    <a:lnTo>
                      <a:pt x="555" y="16"/>
                    </a:lnTo>
                    <a:lnTo>
                      <a:pt x="563" y="29"/>
                    </a:lnTo>
                    <a:lnTo>
                      <a:pt x="575" y="49"/>
                    </a:lnTo>
                    <a:lnTo>
                      <a:pt x="583" y="66"/>
                    </a:lnTo>
                    <a:lnTo>
                      <a:pt x="591" y="90"/>
                    </a:lnTo>
                    <a:lnTo>
                      <a:pt x="600" y="119"/>
                    </a:lnTo>
                    <a:lnTo>
                      <a:pt x="604" y="131"/>
                    </a:lnTo>
                    <a:lnTo>
                      <a:pt x="608" y="144"/>
                    </a:lnTo>
                    <a:lnTo>
                      <a:pt x="616" y="172"/>
                    </a:lnTo>
                    <a:lnTo>
                      <a:pt x="624" y="197"/>
                    </a:lnTo>
                    <a:lnTo>
                      <a:pt x="632" y="218"/>
                    </a:lnTo>
                    <a:lnTo>
                      <a:pt x="640" y="234"/>
                    </a:lnTo>
                    <a:lnTo>
                      <a:pt x="653" y="246"/>
                    </a:lnTo>
                    <a:lnTo>
                      <a:pt x="657" y="255"/>
                    </a:lnTo>
                    <a:lnTo>
                      <a:pt x="665" y="259"/>
                    </a:lnTo>
                    <a:lnTo>
                      <a:pt x="673" y="259"/>
                    </a:lnTo>
                    <a:lnTo>
                      <a:pt x="681" y="259"/>
                    </a:lnTo>
                    <a:lnTo>
                      <a:pt x="689" y="250"/>
                    </a:lnTo>
                    <a:lnTo>
                      <a:pt x="702" y="238"/>
                    </a:lnTo>
                    <a:lnTo>
                      <a:pt x="710" y="222"/>
                    </a:lnTo>
                    <a:lnTo>
                      <a:pt x="718" y="205"/>
                    </a:lnTo>
                    <a:lnTo>
                      <a:pt x="726" y="181"/>
                    </a:lnTo>
                    <a:lnTo>
                      <a:pt x="734" y="160"/>
                    </a:lnTo>
                    <a:lnTo>
                      <a:pt x="738" y="144"/>
                    </a:lnTo>
                    <a:lnTo>
                      <a:pt x="742" y="131"/>
                    </a:lnTo>
                    <a:lnTo>
                      <a:pt x="750" y="107"/>
                    </a:lnTo>
                    <a:lnTo>
                      <a:pt x="759" y="82"/>
                    </a:lnTo>
                    <a:lnTo>
                      <a:pt x="767" y="66"/>
                    </a:lnTo>
                    <a:lnTo>
                      <a:pt x="779" y="49"/>
                    </a:lnTo>
                    <a:lnTo>
                      <a:pt x="787" y="37"/>
                    </a:lnTo>
                    <a:lnTo>
                      <a:pt x="791" y="33"/>
                    </a:lnTo>
                    <a:lnTo>
                      <a:pt x="799" y="29"/>
                    </a:lnTo>
                    <a:lnTo>
                      <a:pt x="812" y="29"/>
                    </a:lnTo>
                    <a:lnTo>
                      <a:pt x="820" y="33"/>
                    </a:lnTo>
                    <a:lnTo>
                      <a:pt x="828" y="41"/>
                    </a:lnTo>
                    <a:lnTo>
                      <a:pt x="836" y="49"/>
                    </a:lnTo>
                    <a:lnTo>
                      <a:pt x="848" y="70"/>
                    </a:lnTo>
                    <a:lnTo>
                      <a:pt x="856" y="90"/>
                    </a:lnTo>
                    <a:lnTo>
                      <a:pt x="865" y="111"/>
                    </a:lnTo>
                    <a:lnTo>
                      <a:pt x="873" y="140"/>
                    </a:lnTo>
                    <a:lnTo>
                      <a:pt x="877" y="152"/>
                    </a:lnTo>
                    <a:lnTo>
                      <a:pt x="881" y="164"/>
                    </a:lnTo>
                    <a:lnTo>
                      <a:pt x="889" y="193"/>
                    </a:lnTo>
                    <a:lnTo>
                      <a:pt x="897" y="213"/>
                    </a:lnTo>
                    <a:lnTo>
                      <a:pt x="905" y="234"/>
                    </a:lnTo>
                    <a:lnTo>
                      <a:pt x="914" y="250"/>
                    </a:lnTo>
                    <a:lnTo>
                      <a:pt x="922" y="259"/>
                    </a:lnTo>
                    <a:lnTo>
                      <a:pt x="934" y="271"/>
                    </a:lnTo>
                    <a:lnTo>
                      <a:pt x="942" y="275"/>
                    </a:lnTo>
                    <a:lnTo>
                      <a:pt x="946" y="275"/>
                    </a:lnTo>
                    <a:lnTo>
                      <a:pt x="958" y="271"/>
                    </a:lnTo>
                    <a:lnTo>
                      <a:pt x="963" y="267"/>
                    </a:lnTo>
                    <a:lnTo>
                      <a:pt x="971" y="255"/>
                    </a:lnTo>
                    <a:lnTo>
                      <a:pt x="979" y="238"/>
                    </a:lnTo>
                    <a:lnTo>
                      <a:pt x="987" y="222"/>
                    </a:lnTo>
                    <a:lnTo>
                      <a:pt x="991" y="201"/>
                    </a:lnTo>
                    <a:lnTo>
                      <a:pt x="999" y="177"/>
                    </a:lnTo>
                    <a:lnTo>
                      <a:pt x="1003" y="160"/>
                    </a:lnTo>
                    <a:lnTo>
                      <a:pt x="1007" y="144"/>
                    </a:lnTo>
                    <a:lnTo>
                      <a:pt x="1016" y="119"/>
                    </a:lnTo>
                    <a:lnTo>
                      <a:pt x="1020" y="99"/>
                    </a:lnTo>
                    <a:lnTo>
                      <a:pt x="1028" y="78"/>
                    </a:lnTo>
                    <a:lnTo>
                      <a:pt x="1036" y="66"/>
                    </a:lnTo>
                    <a:lnTo>
                      <a:pt x="1044" y="49"/>
                    </a:lnTo>
                    <a:lnTo>
                      <a:pt x="1052" y="41"/>
                    </a:lnTo>
                    <a:lnTo>
                      <a:pt x="1056" y="41"/>
                    </a:lnTo>
                    <a:lnTo>
                      <a:pt x="1069" y="37"/>
                    </a:lnTo>
                    <a:lnTo>
                      <a:pt x="1073" y="41"/>
                    </a:lnTo>
                    <a:lnTo>
                      <a:pt x="1085" y="49"/>
                    </a:lnTo>
                    <a:lnTo>
                      <a:pt x="1089" y="57"/>
                    </a:lnTo>
                    <a:lnTo>
                      <a:pt x="1097" y="70"/>
                    </a:lnTo>
                    <a:lnTo>
                      <a:pt x="1105" y="90"/>
                    </a:lnTo>
                    <a:lnTo>
                      <a:pt x="1113" y="111"/>
                    </a:lnTo>
                    <a:lnTo>
                      <a:pt x="1122" y="140"/>
                    </a:lnTo>
                    <a:lnTo>
                      <a:pt x="1126" y="152"/>
                    </a:ln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 flipV="1">
              <a:off x="6543720" y="6000480"/>
              <a:ext cx="0" cy="12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-1098720" y="6483240"/>
              <a:ext cx="9680760" cy="17280"/>
            </a:xfrm>
            <a:custGeom>
              <a:avLst/>
              <a:gdLst/>
              <a:ahLst/>
              <a:rect l="l" t="t" r="r" b="b"/>
              <a:pathLst>
                <a:path w="6098" h="11">
                  <a:moveTo>
                    <a:pt x="0" y="0"/>
                  </a:moveTo>
                  <a:lnTo>
                    <a:pt x="6098" y="1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999040" y="598644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446680" y="63910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20840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mpléments au raccourci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5010120" y="517680"/>
            <a:ext cx="1000080" cy="812880"/>
            <a:chOff x="5010120" y="517680"/>
            <a:chExt cx="1000080" cy="812880"/>
          </a:xfrm>
        </p:grpSpPr>
        <p:sp>
          <p:nvSpPr>
            <p:cNvPr id="713" name=""/>
            <p:cNvSpPr/>
            <p:nvPr/>
          </p:nvSpPr>
          <p:spPr>
            <a:xfrm>
              <a:off x="5010120" y="51768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231160" y="7491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60080" y="1360440"/>
            <a:ext cx="8660520" cy="2084400"/>
            <a:chOff x="460080" y="1360440"/>
            <a:chExt cx="8660520" cy="2084400"/>
          </a:xfrm>
        </p:grpSpPr>
        <p:sp>
          <p:nvSpPr>
            <p:cNvPr id="716" name=""/>
            <p:cNvSpPr/>
            <p:nvPr/>
          </p:nvSpPr>
          <p:spPr>
            <a:xfrm>
              <a:off x="460080" y="1360440"/>
              <a:ext cx="8660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SzPct val="12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la somme sur les sinusoides (frequences notées "u"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est une somme continue et étendue à l'infini ( integrale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SzPct val="12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SzPct val="12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7" name=""/>
                <p:cNvSpPr txBox="1"/>
                <p:nvPr/>
              </p:nvSpPr>
              <p:spPr>
                <a:xfrm>
                  <a:off x="1617840" y="2236680"/>
                  <a:ext cx="6406920" cy="12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poids</m:t>
                          </m:r>
                          <m:r>
                            <m:t xml:space="preserve">(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élémen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ase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du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8" name=""/>
          <p:cNvGrpSpPr/>
          <p:nvPr/>
        </p:nvGrpSpPr>
        <p:grpSpPr>
          <a:xfrm>
            <a:off x="373320" y="3475080"/>
            <a:ext cx="8940240" cy="3385080"/>
            <a:chOff x="373320" y="3475080"/>
            <a:chExt cx="8940240" cy="3385080"/>
          </a:xfrm>
        </p:grpSpPr>
        <p:sp>
          <p:nvSpPr>
            <p:cNvPr id="719" name=""/>
            <p:cNvSpPr/>
            <p:nvPr/>
          </p:nvSpPr>
          <p:spPr>
            <a:xfrm>
              <a:off x="373320" y="3475080"/>
              <a:ext cx="8940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SzPct val="12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les éléménts de la base ne sont pas de simples  sinusoi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mais des fonctions  exponentielles  complexes (helic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SzPct val="12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2757600" y="4879800"/>
              <a:ext cx="3807000" cy="1980360"/>
              <a:chOff x="2757600" y="4879800"/>
              <a:chExt cx="3807000" cy="1980360"/>
            </a:xfrm>
          </p:grpSpPr>
          <p:sp>
            <p:nvSpPr>
              <p:cNvPr id="721" name=""/>
              <p:cNvSpPr/>
              <p:nvPr/>
            </p:nvSpPr>
            <p:spPr>
              <a:xfrm rot="6226800">
                <a:off x="4197600" y="4422960"/>
                <a:ext cx="674640" cy="2809800"/>
              </a:xfrm>
              <a:prstGeom prst="can">
                <a:avLst>
                  <a:gd name="adj" fmla="val 16171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757600" y="5388120"/>
                <a:ext cx="3485880" cy="83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3981600" y="5460480"/>
                <a:ext cx="1226880" cy="44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357800" y="5265720"/>
                <a:ext cx="0" cy="10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249600" y="611820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777840" y="4879800"/>
                <a:ext cx="1156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Re (e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x,u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)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077800" y="5159520"/>
                <a:ext cx="11790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Im (e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x,u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)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041600">
                <a:off x="4122720" y="5459400"/>
                <a:ext cx="476280" cy="665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610080" y="5322960"/>
                <a:ext cx="1933560" cy="965160"/>
              </a:xfrm>
              <a:custGeom>
                <a:avLst/>
                <a:gdLst/>
                <a:ahLst/>
                <a:rect l="l" t="t" r="r" b="b"/>
                <a:pathLst>
                  <a:path w="2075" h="1036">
                    <a:moveTo>
                      <a:pt x="0" y="229"/>
                    </a:moveTo>
                    <a:cubicBezTo>
                      <a:pt x="26" y="200"/>
                      <a:pt x="94" y="79"/>
                      <a:pt x="155" y="46"/>
                    </a:cubicBezTo>
                    <a:cubicBezTo>
                      <a:pt x="216" y="13"/>
                      <a:pt x="295" y="0"/>
                      <a:pt x="369" y="31"/>
                    </a:cubicBezTo>
                    <a:cubicBezTo>
                      <a:pt x="443" y="62"/>
                      <a:pt x="545" y="142"/>
                      <a:pt x="598" y="232"/>
                    </a:cubicBezTo>
                    <a:cubicBezTo>
                      <a:pt x="651" y="322"/>
                      <a:pt x="694" y="477"/>
                      <a:pt x="689" y="570"/>
                    </a:cubicBezTo>
                    <a:cubicBezTo>
                      <a:pt x="684" y="663"/>
                      <a:pt x="617" y="760"/>
                      <a:pt x="570" y="790"/>
                    </a:cubicBezTo>
                    <a:cubicBezTo>
                      <a:pt x="523" y="820"/>
                      <a:pt x="450" y="788"/>
                      <a:pt x="406" y="753"/>
                    </a:cubicBezTo>
                    <a:cubicBezTo>
                      <a:pt x="362" y="718"/>
                      <a:pt x="294" y="664"/>
                      <a:pt x="305" y="580"/>
                    </a:cubicBezTo>
                    <a:cubicBezTo>
                      <a:pt x="316" y="496"/>
                      <a:pt x="400" y="322"/>
                      <a:pt x="470" y="250"/>
                    </a:cubicBezTo>
                    <a:cubicBezTo>
                      <a:pt x="540" y="178"/>
                      <a:pt x="647" y="162"/>
                      <a:pt x="726" y="150"/>
                    </a:cubicBezTo>
                    <a:cubicBezTo>
                      <a:pt x="805" y="138"/>
                      <a:pt x="875" y="139"/>
                      <a:pt x="945" y="177"/>
                    </a:cubicBezTo>
                    <a:cubicBezTo>
                      <a:pt x="1015" y="215"/>
                      <a:pt x="1105" y="291"/>
                      <a:pt x="1146" y="378"/>
                    </a:cubicBezTo>
                    <a:cubicBezTo>
                      <a:pt x="1187" y="465"/>
                      <a:pt x="1207" y="613"/>
                      <a:pt x="1192" y="698"/>
                    </a:cubicBezTo>
                    <a:cubicBezTo>
                      <a:pt x="1177" y="783"/>
                      <a:pt x="1108" y="864"/>
                      <a:pt x="1055" y="890"/>
                    </a:cubicBezTo>
                    <a:cubicBezTo>
                      <a:pt x="1002" y="916"/>
                      <a:pt x="903" y="916"/>
                      <a:pt x="872" y="854"/>
                    </a:cubicBezTo>
                    <a:cubicBezTo>
                      <a:pt x="841" y="792"/>
                      <a:pt x="819" y="612"/>
                      <a:pt x="872" y="516"/>
                    </a:cubicBezTo>
                    <a:cubicBezTo>
                      <a:pt x="925" y="420"/>
                      <a:pt x="1088" y="312"/>
                      <a:pt x="1192" y="278"/>
                    </a:cubicBezTo>
                    <a:cubicBezTo>
                      <a:pt x="1296" y="244"/>
                      <a:pt x="1406" y="258"/>
                      <a:pt x="1494" y="314"/>
                    </a:cubicBezTo>
                    <a:cubicBezTo>
                      <a:pt x="1582" y="370"/>
                      <a:pt x="1688" y="530"/>
                      <a:pt x="1722" y="616"/>
                    </a:cubicBezTo>
                    <a:cubicBezTo>
                      <a:pt x="1756" y="702"/>
                      <a:pt x="1725" y="765"/>
                      <a:pt x="1700" y="832"/>
                    </a:cubicBezTo>
                    <a:cubicBezTo>
                      <a:pt x="1675" y="899"/>
                      <a:pt x="1622" y="994"/>
                      <a:pt x="1572" y="1015"/>
                    </a:cubicBezTo>
                    <a:cubicBezTo>
                      <a:pt x="1522" y="1036"/>
                      <a:pt x="1426" y="1025"/>
                      <a:pt x="1399" y="960"/>
                    </a:cubicBezTo>
                    <a:cubicBezTo>
                      <a:pt x="1372" y="895"/>
                      <a:pt x="1359" y="716"/>
                      <a:pt x="1408" y="622"/>
                    </a:cubicBezTo>
                    <a:cubicBezTo>
                      <a:pt x="1457" y="528"/>
                      <a:pt x="1597" y="423"/>
                      <a:pt x="1691" y="393"/>
                    </a:cubicBezTo>
                    <a:cubicBezTo>
                      <a:pt x="1785" y="363"/>
                      <a:pt x="1911" y="396"/>
                      <a:pt x="1975" y="439"/>
                    </a:cubicBezTo>
                    <a:cubicBezTo>
                      <a:pt x="2039" y="482"/>
                      <a:pt x="2054" y="605"/>
                      <a:pt x="2075" y="649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498920" y="6134040"/>
                <a:ext cx="0" cy="47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003640" y="6240600"/>
                <a:ext cx="0" cy="47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497480" y="6388200"/>
                <a:ext cx="493560" cy="13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534560" y="6461280"/>
                <a:ext cx="57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1/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34" name=""/>
                <p:cNvSpPr txBox="1"/>
                <p:nvPr/>
              </p:nvSpPr>
              <p:spPr>
                <a:xfrm>
                  <a:off x="849240" y="4359240"/>
                  <a:ext cx="774720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élémén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ase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9341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 cran plus loin dans le raccour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0880" y="1246320"/>
            <a:ext cx="91112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ansformée de Fourier (TF)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ération mathématique (revers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ermettant de passer d'une description à une au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ordonné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composantes (ou fréquences pondérées)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TF direc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mposantes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coordonnées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TF 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33200" y="3124080"/>
            <a:ext cx="8877600" cy="247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7720" y="3665520"/>
            <a:ext cx="40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space des coordonné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313960" y="3646440"/>
            <a:ext cx="35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space des freque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ou Espace de Fouri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38480" y="443880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49520" y="3862440"/>
            <a:ext cx="6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T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43600" y="5886360"/>
            <a:ext cx="7371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ais comment passer d'une description à l'aut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n va voir ça, dans une approche cand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405400" y="477036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scription </a:t>
            </a:r>
            <a:r>
              <a:rPr b="0" lang="fr-FR" sz="2400" spc="-1" strike="noStrike">
                <a:solidFill>
                  <a:srgbClr val="3333cc"/>
                </a:solidFill>
                <a:latin typeface="Comic Sans MS"/>
              </a:rPr>
              <a:t>spect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9360" y="4789440"/>
            <a:ext cx="28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scription </a:t>
            </a:r>
            <a:r>
              <a:rPr b="0" lang="fr-FR" sz="2400" spc="-1" strike="noStrike">
                <a:solidFill>
                  <a:srgbClr val="3333cc"/>
                </a:solidFill>
                <a:latin typeface="Comic Sans MS"/>
              </a:rPr>
              <a:t>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85840" y="3524400"/>
            <a:ext cx="3752640" cy="180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95960" y="3524400"/>
            <a:ext cx="3467160" cy="180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45960" y="590400"/>
            <a:ext cx="629784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e analogie 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sauvag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avec les ve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0" y="2370240"/>
            <a:ext cx="8688240" cy="2180520"/>
            <a:chOff x="0" y="2370240"/>
            <a:chExt cx="8688240" cy="2180520"/>
          </a:xfrm>
        </p:grpSpPr>
        <p:grpSp>
          <p:nvGrpSpPr>
            <p:cNvPr id="749" name=""/>
            <p:cNvGrpSpPr/>
            <p:nvPr/>
          </p:nvGrpSpPr>
          <p:grpSpPr>
            <a:xfrm>
              <a:off x="0" y="2370240"/>
              <a:ext cx="2692440" cy="2180520"/>
              <a:chOff x="0" y="2370240"/>
              <a:chExt cx="2692440" cy="2180520"/>
            </a:xfrm>
          </p:grpSpPr>
          <p:sp>
            <p:nvSpPr>
              <p:cNvPr id="750" name=""/>
              <p:cNvSpPr/>
              <p:nvPr/>
            </p:nvSpPr>
            <p:spPr>
              <a:xfrm>
                <a:off x="923760" y="2744640"/>
                <a:ext cx="1500120" cy="1430640"/>
              </a:xfrm>
              <a:custGeom>
                <a:avLst/>
                <a:gdLst/>
                <a:ahLst/>
                <a:rect l="l" t="t" r="r" b="b"/>
                <a:pathLst>
                  <a:path w="1218" h="1161">
                    <a:moveTo>
                      <a:pt x="0" y="678"/>
                    </a:moveTo>
                    <a:lnTo>
                      <a:pt x="0" y="1161"/>
                    </a:lnTo>
                    <a:lnTo>
                      <a:pt x="1218" y="1161"/>
                    </a:lnTo>
                    <a:lnTo>
                      <a:pt x="1218" y="0"/>
                    </a:lnTo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31640" y="2755800"/>
                <a:ext cx="1992240" cy="814320"/>
              </a:xfrm>
              <a:custGeom>
                <a:avLst/>
                <a:gdLst/>
                <a:ahLst/>
                <a:rect l="l" t="t" r="r" b="b"/>
                <a:pathLst>
                  <a:path w="1617" h="660">
                    <a:moveTo>
                      <a:pt x="1617" y="0"/>
                    </a:moveTo>
                    <a:lnTo>
                      <a:pt x="0" y="0"/>
                    </a:lnTo>
                    <a:lnTo>
                      <a:pt x="0" y="660"/>
                    </a:lnTo>
                    <a:lnTo>
                      <a:pt x="399" y="660"/>
                    </a:lnTo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917640" y="2760120"/>
                <a:ext cx="1500120" cy="824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71440" y="4181400"/>
                <a:ext cx="242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431640" y="2370240"/>
                <a:ext cx="0" cy="19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431640" y="3786120"/>
                <a:ext cx="0" cy="39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31640" y="4200480"/>
                <a:ext cx="357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907920" y="4179960"/>
                <a:ext cx="35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290600" y="4179960"/>
                <a:ext cx="35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673280" y="4179960"/>
                <a:ext cx="355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054160" y="4179960"/>
                <a:ext cx="357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450720" y="3173400"/>
                <a:ext cx="0" cy="3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47480" y="2770200"/>
                <a:ext cx="0" cy="3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31640" y="4145040"/>
                <a:ext cx="433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1" lang="fr-FR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0" y="3771720"/>
                <a:ext cx="433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1" lang="fr-FR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339560" y="3726000"/>
                <a:ext cx="890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1" lang="fr-FR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=  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07960" y="2916360"/>
                <a:ext cx="892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1" lang="fr-FR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= 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7" name=""/>
                  <p:cNvSpPr txBox="1"/>
                  <p:nvPr/>
                </p:nvSpPr>
                <p:spPr>
                  <a:xfrm>
                    <a:off x="1925640" y="2946240"/>
                    <a:ext cx="509400" cy="63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68" name=""/>
                  <p:cNvSpPr txBox="1"/>
                  <p:nvPr/>
                </p:nvSpPr>
                <p:spPr>
                  <a:xfrm>
                    <a:off x="1925640" y="2946240"/>
                    <a:ext cx="509400" cy="63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69" name=""/>
                  <p:cNvSpPr txBox="1"/>
                  <p:nvPr/>
                </p:nvSpPr>
                <p:spPr>
                  <a:xfrm>
                    <a:off x="1925640" y="2946240"/>
                    <a:ext cx="509400" cy="63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70" name=""/>
            <p:cNvSpPr/>
            <p:nvPr/>
          </p:nvSpPr>
          <p:spPr>
            <a:xfrm>
              <a:off x="2943000" y="2479680"/>
              <a:ext cx="574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bjet algebr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442800" y="1409760"/>
            <a:ext cx="6627960" cy="896760"/>
            <a:chOff x="442800" y="1409760"/>
            <a:chExt cx="6627960" cy="896760"/>
          </a:xfrm>
        </p:grpSpPr>
        <p:grpSp>
          <p:nvGrpSpPr>
            <p:cNvPr id="772" name=""/>
            <p:cNvGrpSpPr/>
            <p:nvPr/>
          </p:nvGrpSpPr>
          <p:grpSpPr>
            <a:xfrm>
              <a:off x="442800" y="1409760"/>
              <a:ext cx="1521000" cy="896760"/>
              <a:chOff x="442800" y="1409760"/>
              <a:chExt cx="1521000" cy="896760"/>
            </a:xfrm>
          </p:grpSpPr>
          <p:sp>
            <p:nvSpPr>
              <p:cNvPr id="773" name=""/>
              <p:cNvSpPr/>
              <p:nvPr/>
            </p:nvSpPr>
            <p:spPr>
              <a:xfrm>
                <a:off x="442800" y="1409760"/>
                <a:ext cx="1517760" cy="89676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465120" y="1417320"/>
                <a:ext cx="1498680" cy="825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5" name=""/>
                  <p:cNvSpPr txBox="1"/>
                  <p:nvPr/>
                </p:nvSpPr>
                <p:spPr>
                  <a:xfrm>
                    <a:off x="1353960" y="1661760"/>
                    <a:ext cx="509760" cy="63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76" name=""/>
            <p:cNvGrpSpPr/>
            <p:nvPr/>
          </p:nvGrpSpPr>
          <p:grpSpPr>
            <a:xfrm>
              <a:off x="2962440" y="1423800"/>
              <a:ext cx="4108320" cy="810720"/>
              <a:chOff x="2962440" y="1423800"/>
              <a:chExt cx="4108320" cy="810720"/>
            </a:xfrm>
          </p:grpSpPr>
          <p:sp>
            <p:nvSpPr>
              <p:cNvPr id="777" name=""/>
              <p:cNvSpPr/>
              <p:nvPr/>
            </p:nvSpPr>
            <p:spPr>
              <a:xfrm>
                <a:off x="2962440" y="1423800"/>
                <a:ext cx="2477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objet geometriqu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981160" y="1866240"/>
                <a:ext cx="4089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direction, sens, longueur, orig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9" name=""/>
          <p:cNvGrpSpPr/>
          <p:nvPr/>
        </p:nvGrpSpPr>
        <p:grpSpPr>
          <a:xfrm>
            <a:off x="6838920" y="669960"/>
            <a:ext cx="1000080" cy="812880"/>
            <a:chOff x="6838920" y="669960"/>
            <a:chExt cx="1000080" cy="812880"/>
          </a:xfrm>
        </p:grpSpPr>
        <p:sp>
          <p:nvSpPr>
            <p:cNvPr id="780" name=""/>
            <p:cNvSpPr/>
            <p:nvPr/>
          </p:nvSpPr>
          <p:spPr>
            <a:xfrm>
              <a:off x="6838920" y="66996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59960" y="9014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3035160" y="2598840"/>
            <a:ext cx="6098760" cy="2074680"/>
            <a:chOff x="3035160" y="2598840"/>
            <a:chExt cx="6098760" cy="2074680"/>
          </a:xfrm>
        </p:grpSpPr>
        <p:sp>
          <p:nvSpPr>
            <p:cNvPr id="783" name=""/>
            <p:cNvSpPr/>
            <p:nvPr/>
          </p:nvSpPr>
          <p:spPr>
            <a:xfrm>
              <a:off x="5381640" y="2598840"/>
              <a:ext cx="2749680" cy="469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3035160" y="2602080"/>
              <a:ext cx="6098760" cy="2071440"/>
              <a:chOff x="3035160" y="2602080"/>
              <a:chExt cx="6098760" cy="2071440"/>
            </a:xfrm>
          </p:grpSpPr>
          <p:sp>
            <p:nvSpPr>
              <p:cNvPr id="785" name=""/>
              <p:cNvSpPr/>
              <p:nvPr/>
            </p:nvSpPr>
            <p:spPr>
              <a:xfrm>
                <a:off x="5367600" y="2602080"/>
                <a:ext cx="2724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9933ff"/>
                    </a:solidFill>
                    <a:latin typeface="Comic Sans MS"/>
                  </a:rPr>
                  <a:t>deux descrip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6" name=""/>
              <p:cNvGrpSpPr/>
              <p:nvPr/>
            </p:nvGrpSpPr>
            <p:grpSpPr>
              <a:xfrm>
                <a:off x="3143160" y="3187800"/>
                <a:ext cx="5898960" cy="605520"/>
                <a:chOff x="3143160" y="3187800"/>
                <a:chExt cx="5898960" cy="6055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787" name=""/>
                    <p:cNvSpPr txBox="1"/>
                    <p:nvPr/>
                  </p:nvSpPr>
                  <p:spPr>
                    <a:xfrm>
                      <a:off x="3143160" y="3187800"/>
                      <a:ext cx="3052800" cy="5047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e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e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788" name=""/>
                <p:cNvSpPr/>
                <p:nvPr/>
              </p:nvSpPr>
              <p:spPr>
                <a:xfrm>
                  <a:off x="7867800" y="3333600"/>
                  <a:ext cx="1174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9933ff"/>
                      </a:solidFill>
                      <a:latin typeface="Comic Sans MS"/>
                    </a:rPr>
                    <a:t>direct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3035160" y="3746520"/>
                <a:ext cx="6098760" cy="927000"/>
                <a:chOff x="3035160" y="3746520"/>
                <a:chExt cx="6098760" cy="92700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7642440" y="4038480"/>
                  <a:ext cx="1491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9933ff"/>
                      </a:solidFill>
                      <a:latin typeface="Comic Sans MS"/>
                    </a:rPr>
                    <a:t>spectral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791" name=""/>
                    <p:cNvSpPr txBox="1"/>
                    <p:nvPr/>
                  </p:nvSpPr>
                  <p:spPr>
                    <a:xfrm>
                      <a:off x="3035160" y="3746520"/>
                      <a:ext cx="4334040" cy="927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t xml:space="preserve">|</m:t>
                          </m:r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e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t xml:space="preserve">|</m:t>
                          </m:r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e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t xml:space="preserve">|</m:t>
                          </m:r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grpSp>
        <p:nvGrpSpPr>
          <p:cNvPr id="792" name=""/>
          <p:cNvGrpSpPr/>
          <p:nvPr/>
        </p:nvGrpSpPr>
        <p:grpSpPr>
          <a:xfrm>
            <a:off x="412200" y="4770360"/>
            <a:ext cx="7356960" cy="875880"/>
            <a:chOff x="412200" y="4770360"/>
            <a:chExt cx="7356960" cy="875880"/>
          </a:xfrm>
        </p:grpSpPr>
        <mc:AlternateContent>
          <mc:Choice xmlns:a14="http://schemas.microsoft.com/office/drawing/2010/main" Requires="a14">
            <p:sp>
              <p:nvSpPr>
                <p:cNvPr id="793" name=""/>
                <p:cNvSpPr txBox="1"/>
                <p:nvPr/>
              </p:nvSpPr>
              <p:spPr>
                <a:xfrm>
                  <a:off x="5832360" y="4978440"/>
                  <a:ext cx="193680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94" name=""/>
            <p:cNvSpPr/>
            <p:nvPr/>
          </p:nvSpPr>
          <p:spPr>
            <a:xfrm>
              <a:off x="412200" y="4770360"/>
              <a:ext cx="41828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etrouver les composante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k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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    produit scala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339840" y="5570640"/>
            <a:ext cx="8628120" cy="1353960"/>
            <a:chOff x="339840" y="5570640"/>
            <a:chExt cx="8628120" cy="1353960"/>
          </a:xfrm>
        </p:grpSpPr>
        <mc:AlternateContent>
          <mc:Choice xmlns:a14="http://schemas.microsoft.com/office/drawing/2010/main" Requires="a14">
            <p:sp>
              <p:nvSpPr>
                <p:cNvPr id="796" name=""/>
                <p:cNvSpPr txBox="1"/>
                <p:nvPr/>
              </p:nvSpPr>
              <p:spPr>
                <a:xfrm>
                  <a:off x="5243400" y="5570640"/>
                  <a:ext cx="174780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e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7" name=""/>
                <p:cNvSpPr txBox="1"/>
                <p:nvPr/>
              </p:nvSpPr>
              <p:spPr>
                <a:xfrm>
                  <a:off x="7031160" y="6024600"/>
                  <a:ext cx="1936800" cy="90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  <m:r>
                            <m:t xml:space="preserve"> 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e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grpSp>
          <p:nvGrpSpPr>
            <p:cNvPr id="798" name=""/>
            <p:cNvGrpSpPr/>
            <p:nvPr/>
          </p:nvGrpSpPr>
          <p:grpSpPr>
            <a:xfrm>
              <a:off x="339840" y="5732640"/>
              <a:ext cx="5018040" cy="1184040"/>
              <a:chOff x="339840" y="5732640"/>
              <a:chExt cx="5018040" cy="1184040"/>
            </a:xfrm>
          </p:grpSpPr>
          <p:sp>
            <p:nvSpPr>
              <p:cNvPr id="799" name=""/>
              <p:cNvSpPr/>
              <p:nvPr/>
            </p:nvSpPr>
            <p:spPr>
              <a:xfrm>
                <a:off x="339840" y="5732640"/>
                <a:ext cx="5018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note : on peut la jouer à N composante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et meme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Comic Sans MS"/>
                  </a:rPr>
                  <a:t>imaginer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que N est infini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128600" y="6397560"/>
                <a:ext cx="1810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1" name=""/>
          <p:cNvSpPr/>
          <p:nvPr/>
        </p:nvSpPr>
        <p:spPr>
          <a:xfrm>
            <a:off x="2055240" y="633888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bonjour la rigueur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45600" y="800280"/>
            <a:ext cx="4125960" cy="466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quel rapport avec Fourier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02200" y="1627200"/>
            <a:ext cx="7949520" cy="875880"/>
            <a:chOff x="502200" y="1627200"/>
            <a:chExt cx="7949520" cy="875880"/>
          </a:xfrm>
        </p:grpSpPr>
        <p:sp>
          <p:nvSpPr>
            <p:cNvPr id="804" name=""/>
            <p:cNvSpPr/>
            <p:nvPr/>
          </p:nvSpPr>
          <p:spPr>
            <a:xfrm>
              <a:off x="502200" y="1627200"/>
              <a:ext cx="69811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Vecteurs 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composantes X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retrouvées par produit scala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7553160" y="1959120"/>
              <a:ext cx="898560" cy="522720"/>
              <a:chOff x="7553160" y="1959120"/>
              <a:chExt cx="898560" cy="522720"/>
            </a:xfrm>
          </p:grpSpPr>
          <p:sp>
            <p:nvSpPr>
              <p:cNvPr id="806" name=""/>
              <p:cNvSpPr/>
              <p:nvPr/>
            </p:nvSpPr>
            <p:spPr>
              <a:xfrm>
                <a:off x="7553160" y="1971720"/>
                <a:ext cx="898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V. e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n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08600" y="1959120"/>
                <a:ext cx="34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030880" y="1978200"/>
                <a:ext cx="34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9" name=""/>
          <p:cNvGrpSpPr/>
          <p:nvPr/>
        </p:nvGrpSpPr>
        <p:grpSpPr>
          <a:xfrm>
            <a:off x="5048280" y="689040"/>
            <a:ext cx="1000080" cy="812880"/>
            <a:chOff x="5048280" y="689040"/>
            <a:chExt cx="1000080" cy="812880"/>
          </a:xfrm>
        </p:grpSpPr>
        <p:sp>
          <p:nvSpPr>
            <p:cNvPr id="810" name=""/>
            <p:cNvSpPr/>
            <p:nvPr/>
          </p:nvSpPr>
          <p:spPr>
            <a:xfrm>
              <a:off x="5048280" y="6890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69320" y="9205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569880" y="2568600"/>
            <a:ext cx="8035560" cy="2678040"/>
            <a:chOff x="569880" y="2568600"/>
            <a:chExt cx="8035560" cy="2678040"/>
          </a:xfrm>
        </p:grpSpPr>
        <p:sp>
          <p:nvSpPr>
            <p:cNvPr id="813" name=""/>
            <p:cNvSpPr/>
            <p:nvPr/>
          </p:nvSpPr>
          <p:spPr>
            <a:xfrm>
              <a:off x="569880" y="2568600"/>
              <a:ext cx="8035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TransFouriée 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fonctions "sympa" :  le produit scalaire de f avec g  est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4" name=""/>
                <p:cNvSpPr txBox="1"/>
                <p:nvPr/>
              </p:nvSpPr>
              <p:spPr>
                <a:xfrm>
                  <a:off x="2365200" y="3387600"/>
                  <a:ext cx="3816360" cy="73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 </m:t>
                      </m:r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/>
                          </m:sSup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15" name=""/>
            <p:cNvSpPr/>
            <p:nvPr/>
          </p:nvSpPr>
          <p:spPr>
            <a:xfrm>
              <a:off x="658440" y="4156200"/>
              <a:ext cx="7576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le produit scalaire de f(x) avec composante(x,u) est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6" name=""/>
                <p:cNvSpPr txBox="1"/>
                <p:nvPr/>
              </p:nvSpPr>
              <p:spPr>
                <a:xfrm>
                  <a:off x="2049480" y="4486320"/>
                  <a:ext cx="535464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/>
                          </m:sSup>
                          <m:r>
                            <m:t xml:space="preserve">(</m:t>
                          </m:r>
                          <m:r>
                            <m:t xml:space="preserve">u</m:t>
                          </m:r>
                          <m:r>
                            <m:t xml:space="preserve">,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7" name=""/>
          <p:cNvGrpSpPr/>
          <p:nvPr/>
        </p:nvGrpSpPr>
        <p:grpSpPr>
          <a:xfrm>
            <a:off x="716400" y="5146560"/>
            <a:ext cx="8242920" cy="1420920"/>
            <a:chOff x="716400" y="5146560"/>
            <a:chExt cx="8242920" cy="1420920"/>
          </a:xfrm>
        </p:grpSpPr>
        <p:sp>
          <p:nvSpPr>
            <p:cNvPr id="818" name=""/>
            <p:cNvSpPr/>
            <p:nvPr/>
          </p:nvSpPr>
          <p:spPr>
            <a:xfrm>
              <a:off x="716400" y="5146560"/>
              <a:ext cx="22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alors on écrit 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9" name=""/>
                <p:cNvSpPr txBox="1"/>
                <p:nvPr/>
              </p:nvSpPr>
              <p:spPr>
                <a:xfrm>
                  <a:off x="814320" y="5638680"/>
                  <a:ext cx="4961160" cy="92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e</m:t>
                          </m:r>
                          <m:sSup>
                            <m:e>
                              <m:r>
                                <m:t xml:space="preserve"> 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u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x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20" name=""/>
            <p:cNvGrpSpPr/>
            <p:nvPr/>
          </p:nvGrpSpPr>
          <p:grpSpPr>
            <a:xfrm>
              <a:off x="6370560" y="5468760"/>
              <a:ext cx="2588760" cy="1028160"/>
              <a:chOff x="6370560" y="5468760"/>
              <a:chExt cx="2588760" cy="1028160"/>
            </a:xfrm>
          </p:grpSpPr>
          <p:sp>
            <p:nvSpPr>
              <p:cNvPr id="821" name=""/>
              <p:cNvSpPr/>
              <p:nvPr/>
            </p:nvSpPr>
            <p:spPr>
              <a:xfrm>
                <a:off x="6370560" y="5538960"/>
                <a:ext cx="2481480" cy="9144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462000" y="5468760"/>
                <a:ext cx="2497320" cy="102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un peu comme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     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V . e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048440" y="6013440"/>
                <a:ext cx="420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48480" y="6093000"/>
                <a:ext cx="420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19195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capitul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3935520" y="2641680"/>
                <a:ext cx="49608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u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7" name=""/>
          <p:cNvSpPr/>
          <p:nvPr/>
        </p:nvSpPr>
        <p:spPr>
          <a:xfrm>
            <a:off x="514080" y="1463760"/>
            <a:ext cx="60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aviguer d'une description à l'au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11360" y="2075040"/>
            <a:ext cx="43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irecte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pectrale  :   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T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01560" y="3656160"/>
            <a:ext cx="6345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pectrale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directe :   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TF inverse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change le signe de l'exponenti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3606840" y="4649760"/>
            <a:ext cx="5327640" cy="951120"/>
            <a:chOff x="3606840" y="4649760"/>
            <a:chExt cx="5327640" cy="951120"/>
          </a:xfrm>
        </p:grpSpPr>
        <p:sp>
          <p:nvSpPr>
            <p:cNvPr id="831" name=""/>
            <p:cNvSpPr/>
            <p:nvPr/>
          </p:nvSpPr>
          <p:spPr>
            <a:xfrm>
              <a:off x="3790800" y="4667400"/>
              <a:ext cx="5143680" cy="914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2" name=""/>
                <p:cNvSpPr txBox="1"/>
                <p:nvPr/>
              </p:nvSpPr>
              <p:spPr>
                <a:xfrm>
                  <a:off x="3606840" y="4649760"/>
                  <a:ext cx="5308560" cy="95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(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e</m:t>
                          </m:r>
                          <m:sSup>
                            <m:e>
                              <m:r>
                                <m:t xml:space="preserve"> 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u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x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du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3" name=""/>
          <p:cNvGrpSpPr/>
          <p:nvPr/>
        </p:nvGrpSpPr>
        <p:grpSpPr>
          <a:xfrm>
            <a:off x="5010120" y="517680"/>
            <a:ext cx="1000080" cy="812880"/>
            <a:chOff x="5010120" y="517680"/>
            <a:chExt cx="1000080" cy="812880"/>
          </a:xfrm>
        </p:grpSpPr>
        <p:sp>
          <p:nvSpPr>
            <p:cNvPr id="834" name=""/>
            <p:cNvSpPr/>
            <p:nvPr/>
          </p:nvSpPr>
          <p:spPr>
            <a:xfrm>
              <a:off x="5010120" y="51768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31160" y="7491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708120" y="5535720"/>
            <a:ext cx="8435880" cy="1008720"/>
            <a:chOff x="708120" y="5535720"/>
            <a:chExt cx="8435880" cy="1008720"/>
          </a:xfrm>
        </p:grpSpPr>
        <p:sp>
          <p:nvSpPr>
            <p:cNvPr id="837" name=""/>
            <p:cNvSpPr/>
            <p:nvPr/>
          </p:nvSpPr>
          <p:spPr>
            <a:xfrm>
              <a:off x="708120" y="5535720"/>
              <a:ext cx="843588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attention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différence immédiate avec les vecteurs :   en fait ici  f(u) et f(x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peuvent être vues comme les composantes l'une de l'aut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039080" y="5667120"/>
              <a:ext cx="3834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3333cc"/>
                  </a:solidFill>
                  <a:latin typeface="Comic Sans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74560" y="642600"/>
            <a:ext cx="7408800" cy="95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mais qu'est ce que ça veut dire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toutes ces horribles formules   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83480" y="5048280"/>
            <a:ext cx="8364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our appréhender la situation plus intuitiveme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n va fourieriser à la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mais voyons d'abord quelques fonctions usu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Comic Sans MS"/>
              </a:rPr>
              <a:t>qui serviront de co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490760" y="3208320"/>
            <a:ext cx="5705280" cy="1709640"/>
            <a:chOff x="1490760" y="3208320"/>
            <a:chExt cx="5705280" cy="1709640"/>
          </a:xfrm>
        </p:grpSpPr>
        <p:sp>
          <p:nvSpPr>
            <p:cNvPr id="842" name=""/>
            <p:cNvSpPr/>
            <p:nvPr/>
          </p:nvSpPr>
          <p:spPr>
            <a:xfrm>
              <a:off x="1499040" y="3208320"/>
              <a:ext cx="434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pproche moins abstraite :   dess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1490760" y="3656160"/>
              <a:ext cx="5705280" cy="1261800"/>
              <a:chOff x="1490760" y="3656160"/>
              <a:chExt cx="5705280" cy="1261800"/>
            </a:xfrm>
          </p:grpSpPr>
          <p:sp>
            <p:nvSpPr>
              <p:cNvPr id="844" name=""/>
              <p:cNvSpPr/>
              <p:nvPr/>
            </p:nvSpPr>
            <p:spPr>
              <a:xfrm>
                <a:off x="2739960" y="3714840"/>
                <a:ext cx="479520" cy="1166400"/>
              </a:xfrm>
              <a:custGeom>
                <a:avLst/>
                <a:gdLst/>
                <a:ahLst/>
                <a:rect l="l" t="t" r="r" b="b"/>
                <a:pathLst>
                  <a:path w="302" h="570">
                    <a:moveTo>
                      <a:pt x="302" y="0"/>
                    </a:moveTo>
                    <a:cubicBezTo>
                      <a:pt x="282" y="18"/>
                      <a:pt x="212" y="28"/>
                      <a:pt x="183" y="110"/>
                    </a:cubicBezTo>
                    <a:cubicBezTo>
                      <a:pt x="154" y="192"/>
                      <a:pt x="159" y="418"/>
                      <a:pt x="128" y="494"/>
                    </a:cubicBezTo>
                    <a:cubicBezTo>
                      <a:pt x="97" y="570"/>
                      <a:pt x="27" y="552"/>
                      <a:pt x="0" y="567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" name=""/>
              <p:cNvGrpSpPr/>
              <p:nvPr/>
            </p:nvGrpSpPr>
            <p:grpSpPr>
              <a:xfrm>
                <a:off x="1816200" y="3875040"/>
                <a:ext cx="383400" cy="678960"/>
                <a:chOff x="1816200" y="3875040"/>
                <a:chExt cx="383400" cy="67896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1843920" y="4033440"/>
                  <a:ext cx="302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816200" y="38750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Comic Sans MS"/>
                    </a:rPr>
                    <a:t>^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8" name=""/>
              <p:cNvSpPr/>
              <p:nvPr/>
            </p:nvSpPr>
            <p:spPr>
              <a:xfrm>
                <a:off x="2277000" y="4060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9" name=""/>
              <p:cNvGrpSpPr/>
              <p:nvPr/>
            </p:nvGrpSpPr>
            <p:grpSpPr>
              <a:xfrm>
                <a:off x="3254400" y="3892320"/>
                <a:ext cx="1596960" cy="841320"/>
                <a:chOff x="3254400" y="3892320"/>
                <a:chExt cx="1596960" cy="84132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3254400" y="3892320"/>
                  <a:ext cx="1596960" cy="841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3357360" y="4617720"/>
                  <a:ext cx="1438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V="1">
                  <a:off x="3706920" y="3935160"/>
                  <a:ext cx="0" cy="72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3852720" y="4197240"/>
                  <a:ext cx="696960" cy="434880"/>
                </a:xfrm>
                <a:custGeom>
                  <a:avLst/>
                  <a:gdLst/>
                  <a:ahLst/>
                  <a:rect l="l" t="t" r="r" b="b"/>
                  <a:pathLst>
                    <a:path w="439" h="274">
                      <a:moveTo>
                        <a:pt x="0" y="265"/>
                      </a:moveTo>
                      <a:cubicBezTo>
                        <a:pt x="29" y="217"/>
                        <a:pt x="58" y="170"/>
                        <a:pt x="82" y="155"/>
                      </a:cubicBezTo>
                      <a:cubicBezTo>
                        <a:pt x="106" y="140"/>
                        <a:pt x="122" y="197"/>
                        <a:pt x="146" y="174"/>
                      </a:cubicBezTo>
                      <a:cubicBezTo>
                        <a:pt x="170" y="151"/>
                        <a:pt x="198" y="36"/>
                        <a:pt x="228" y="18"/>
                      </a:cubicBezTo>
                      <a:cubicBezTo>
                        <a:pt x="258" y="0"/>
                        <a:pt x="306" y="44"/>
                        <a:pt x="329" y="64"/>
                      </a:cubicBezTo>
                      <a:cubicBezTo>
                        <a:pt x="352" y="84"/>
                        <a:pt x="351" y="110"/>
                        <a:pt x="365" y="137"/>
                      </a:cubicBezTo>
                      <a:cubicBezTo>
                        <a:pt x="379" y="164"/>
                        <a:pt x="399" y="206"/>
                        <a:pt x="411" y="229"/>
                      </a:cubicBezTo>
                      <a:cubicBezTo>
                        <a:pt x="423" y="252"/>
                        <a:pt x="433" y="267"/>
                        <a:pt x="439" y="274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4" name=""/>
              <p:cNvSpPr/>
              <p:nvPr/>
            </p:nvSpPr>
            <p:spPr>
              <a:xfrm>
                <a:off x="4884120" y="416880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" name=""/>
              <p:cNvGrpSpPr/>
              <p:nvPr/>
            </p:nvGrpSpPr>
            <p:grpSpPr>
              <a:xfrm>
                <a:off x="5164200" y="3887640"/>
                <a:ext cx="1596960" cy="840960"/>
                <a:chOff x="5164200" y="3887640"/>
                <a:chExt cx="1596960" cy="84096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5164200" y="3887640"/>
                  <a:ext cx="1596960" cy="84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5267160" y="4369680"/>
                  <a:ext cx="1437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V="1">
                  <a:off x="5930640" y="3930120"/>
                  <a:ext cx="0" cy="72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5341680" y="4036320"/>
                  <a:ext cx="1307880" cy="582480"/>
                </a:xfrm>
                <a:custGeom>
                  <a:avLst/>
                  <a:gdLst/>
                  <a:ahLst/>
                  <a:rect l="l" t="t" r="r" b="b"/>
                  <a:pathLst>
                    <a:path w="824" h="367">
                      <a:moveTo>
                        <a:pt x="0" y="42"/>
                      </a:moveTo>
                      <a:cubicBezTo>
                        <a:pt x="38" y="72"/>
                        <a:pt x="206" y="166"/>
                        <a:pt x="230" y="220"/>
                      </a:cubicBezTo>
                      <a:cubicBezTo>
                        <a:pt x="254" y="274"/>
                        <a:pt x="175" y="365"/>
                        <a:pt x="147" y="366"/>
                      </a:cubicBezTo>
                      <a:cubicBezTo>
                        <a:pt x="119" y="367"/>
                        <a:pt x="43" y="282"/>
                        <a:pt x="64" y="225"/>
                      </a:cubicBezTo>
                      <a:cubicBezTo>
                        <a:pt x="85" y="168"/>
                        <a:pt x="211" y="32"/>
                        <a:pt x="274" y="24"/>
                      </a:cubicBezTo>
                      <a:cubicBezTo>
                        <a:pt x="337" y="16"/>
                        <a:pt x="419" y="119"/>
                        <a:pt x="440" y="174"/>
                      </a:cubicBezTo>
                      <a:cubicBezTo>
                        <a:pt x="461" y="229"/>
                        <a:pt x="423" y="351"/>
                        <a:pt x="403" y="357"/>
                      </a:cubicBezTo>
                      <a:cubicBezTo>
                        <a:pt x="383" y="363"/>
                        <a:pt x="299" y="267"/>
                        <a:pt x="321" y="211"/>
                      </a:cubicBezTo>
                      <a:cubicBezTo>
                        <a:pt x="343" y="155"/>
                        <a:pt x="476" y="17"/>
                        <a:pt x="534" y="19"/>
                      </a:cubicBezTo>
                      <a:cubicBezTo>
                        <a:pt x="592" y="21"/>
                        <a:pt x="654" y="164"/>
                        <a:pt x="669" y="220"/>
                      </a:cubicBezTo>
                      <a:cubicBezTo>
                        <a:pt x="684" y="276"/>
                        <a:pt x="645" y="359"/>
                        <a:pt x="623" y="357"/>
                      </a:cubicBezTo>
                      <a:cubicBezTo>
                        <a:pt x="601" y="355"/>
                        <a:pt x="519" y="265"/>
                        <a:pt x="534" y="207"/>
                      </a:cubicBezTo>
                      <a:cubicBezTo>
                        <a:pt x="549" y="149"/>
                        <a:pt x="666" y="20"/>
                        <a:pt x="714" y="10"/>
                      </a:cubicBezTo>
                      <a:cubicBezTo>
                        <a:pt x="762" y="0"/>
                        <a:pt x="801" y="119"/>
                        <a:pt x="824" y="147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0" name=""/>
              <p:cNvSpPr/>
              <p:nvPr/>
            </p:nvSpPr>
            <p:spPr>
              <a:xfrm>
                <a:off x="1490760" y="3656160"/>
                <a:ext cx="5705280" cy="1261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1" name=""/>
          <p:cNvSpPr/>
          <p:nvPr/>
        </p:nvSpPr>
        <p:spPr>
          <a:xfrm>
            <a:off x="336600" y="1657440"/>
            <a:ext cx="8552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 bref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la TF permet d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raconter le contenu en fréquences</a:t>
            </a:r>
            <a:r>
              <a:rPr b="1" lang="fr-FR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s fonctions "sympa"  (et de quelques autres auss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Comic Sans MS"/>
              </a:rPr>
              <a:t>Les formules montrent comment on extrait ce cont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85122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ctions d'usage fréquent _ 1 notations  et physion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43080" y="1467000"/>
            <a:ext cx="8248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ctangle, rectangle translaté, triangle ou Lambda (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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gaussienne, camemb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879280" y="2333520"/>
            <a:ext cx="2294640" cy="2008800"/>
            <a:chOff x="2879280" y="2333520"/>
            <a:chExt cx="2294640" cy="2008800"/>
          </a:xfrm>
        </p:grpSpPr>
        <p:sp>
          <p:nvSpPr>
            <p:cNvPr id="865" name=""/>
            <p:cNvSpPr/>
            <p:nvPr/>
          </p:nvSpPr>
          <p:spPr>
            <a:xfrm>
              <a:off x="3795480" y="3222720"/>
              <a:ext cx="824040" cy="603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008160" y="3825720"/>
              <a:ext cx="20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3409920" y="2874600"/>
              <a:ext cx="0" cy="9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169080" y="2903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58920" y="34448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083120" y="394344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75000" y="3166920"/>
              <a:ext cx="101520" cy="10188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81080" y="396396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2974680" y="2333520"/>
              <a:ext cx="1333080" cy="729000"/>
              <a:chOff x="2974680" y="2333520"/>
              <a:chExt cx="1333080" cy="729000"/>
            </a:xfrm>
          </p:grpSpPr>
          <p:sp>
            <p:nvSpPr>
              <p:cNvPr id="874" name=""/>
              <p:cNvSpPr/>
              <p:nvPr/>
            </p:nvSpPr>
            <p:spPr>
              <a:xfrm>
                <a:off x="2974680" y="2338200"/>
                <a:ext cx="1333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           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5" name=""/>
              <p:cNvGrpSpPr/>
              <p:nvPr/>
            </p:nvGrpSpPr>
            <p:grpSpPr>
              <a:xfrm>
                <a:off x="3423600" y="2333520"/>
                <a:ext cx="693720" cy="729000"/>
                <a:chOff x="3423600" y="2333520"/>
                <a:chExt cx="693720" cy="729000"/>
              </a:xfrm>
            </p:grpSpPr>
            <p:sp>
              <p:nvSpPr>
                <p:cNvPr id="876" name=""/>
                <p:cNvSpPr/>
                <p:nvPr/>
              </p:nvSpPr>
              <p:spPr>
                <a:xfrm>
                  <a:off x="3445920" y="2333520"/>
                  <a:ext cx="671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x - 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3598560" y="2663640"/>
                  <a:ext cx="343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3423600" y="2684520"/>
                  <a:ext cx="660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9" name=""/>
            <p:cNvSpPr/>
            <p:nvPr/>
          </p:nvSpPr>
          <p:spPr>
            <a:xfrm>
              <a:off x="4174920" y="3776760"/>
              <a:ext cx="101520" cy="1015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926520" y="341640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879280" y="3218040"/>
              <a:ext cx="1485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33440" y="3218040"/>
              <a:ext cx="1727280" cy="622080"/>
            </a:xfrm>
            <a:custGeom>
              <a:avLst/>
              <a:gdLst/>
              <a:ahLst/>
              <a:rect l="l" t="t" r="r" b="b"/>
              <a:pathLst>
                <a:path w="1088" h="392">
                  <a:moveTo>
                    <a:pt x="0" y="383"/>
                  </a:moveTo>
                  <a:lnTo>
                    <a:pt x="424" y="392"/>
                  </a:lnTo>
                  <a:lnTo>
                    <a:pt x="424" y="0"/>
                  </a:lnTo>
                  <a:lnTo>
                    <a:pt x="936" y="0"/>
                  </a:lnTo>
                  <a:lnTo>
                    <a:pt x="936" y="384"/>
                  </a:lnTo>
                  <a:lnTo>
                    <a:pt x="1088" y="384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04720" y="2678040"/>
            <a:ext cx="1793520" cy="1643400"/>
            <a:chOff x="504720" y="2678040"/>
            <a:chExt cx="1793520" cy="1643400"/>
          </a:xfrm>
        </p:grpSpPr>
        <p:sp>
          <p:nvSpPr>
            <p:cNvPr id="884" name=""/>
            <p:cNvSpPr/>
            <p:nvPr/>
          </p:nvSpPr>
          <p:spPr>
            <a:xfrm>
              <a:off x="504720" y="3789000"/>
              <a:ext cx="14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84080" y="3186000"/>
              <a:ext cx="824040" cy="60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1212840" y="2837880"/>
              <a:ext cx="0" cy="9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959400" y="2866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728360" y="34146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071720" y="392256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69680" y="3943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308240" y="2678040"/>
              <a:ext cx="99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 x/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2880" y="3180960"/>
              <a:ext cx="1320840" cy="622440"/>
            </a:xfrm>
            <a:custGeom>
              <a:avLst/>
              <a:gdLst/>
              <a:ahLst/>
              <a:rect l="l" t="t" r="r" b="b"/>
              <a:pathLst>
                <a:path w="832" h="392">
                  <a:moveTo>
                    <a:pt x="0" y="392"/>
                  </a:moveTo>
                  <a:lnTo>
                    <a:pt x="168" y="392"/>
                  </a:lnTo>
                  <a:lnTo>
                    <a:pt x="168" y="0"/>
                  </a:lnTo>
                  <a:lnTo>
                    <a:pt x="680" y="0"/>
                  </a:lnTo>
                  <a:lnTo>
                    <a:pt x="680" y="384"/>
                  </a:lnTo>
                  <a:lnTo>
                    <a:pt x="832" y="384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164960" y="3130200"/>
              <a:ext cx="101880" cy="10188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5342040" y="4619520"/>
            <a:ext cx="2411640" cy="2173320"/>
            <a:chOff x="5342040" y="4619520"/>
            <a:chExt cx="2411640" cy="2173320"/>
          </a:xfrm>
        </p:grpSpPr>
        <p:grpSp>
          <p:nvGrpSpPr>
            <p:cNvPr id="895" name=""/>
            <p:cNvGrpSpPr/>
            <p:nvPr/>
          </p:nvGrpSpPr>
          <p:grpSpPr>
            <a:xfrm>
              <a:off x="5553000" y="5365800"/>
              <a:ext cx="1409760" cy="995400"/>
              <a:chOff x="5553000" y="5365800"/>
              <a:chExt cx="1409760" cy="995400"/>
            </a:xfrm>
          </p:grpSpPr>
          <p:sp>
            <p:nvSpPr>
              <p:cNvPr id="896" name=""/>
              <p:cNvSpPr/>
              <p:nvPr/>
            </p:nvSpPr>
            <p:spPr>
              <a:xfrm>
                <a:off x="5553000" y="5575320"/>
                <a:ext cx="1800" cy="585720"/>
              </a:xfrm>
              <a:custGeom>
                <a:avLst/>
                <a:gdLst/>
                <a:ahLst/>
                <a:rect l="l" t="t" r="r" b="b"/>
                <a:pathLst>
                  <a:path w="1" h="740">
                    <a:moveTo>
                      <a:pt x="0" y="0"/>
                    </a:moveTo>
                    <a:lnTo>
                      <a:pt x="1" y="13"/>
                    </a:lnTo>
                    <a:lnTo>
                      <a:pt x="1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2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554800" y="5584680"/>
                <a:ext cx="2880" cy="588960"/>
              </a:xfrm>
              <a:custGeom>
                <a:avLst/>
                <a:gdLst/>
                <a:ahLst/>
                <a:rect l="l" t="t" r="r" b="b"/>
                <a:pathLst>
                  <a:path w="4" h="742">
                    <a:moveTo>
                      <a:pt x="0" y="0"/>
                    </a:moveTo>
                    <a:lnTo>
                      <a:pt x="4" y="15"/>
                    </a:lnTo>
                    <a:lnTo>
                      <a:pt x="4" y="74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557680" y="5595840"/>
                <a:ext cx="5040" cy="587520"/>
              </a:xfrm>
              <a:custGeom>
                <a:avLst/>
                <a:gdLst/>
                <a:ahLst/>
                <a:rect l="l" t="t" r="r" b="b"/>
                <a:pathLst>
                  <a:path w="5" h="739">
                    <a:moveTo>
                      <a:pt x="0" y="0"/>
                    </a:moveTo>
                    <a:lnTo>
                      <a:pt x="5" y="12"/>
                    </a:lnTo>
                    <a:lnTo>
                      <a:pt x="5" y="73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557680" y="5595840"/>
                <a:ext cx="1800" cy="581040"/>
              </a:xfrm>
              <a:custGeom>
                <a:avLst/>
                <a:gdLst/>
                <a:ahLst/>
                <a:rect l="l" t="t" r="r" b="b"/>
                <a:pathLst>
                  <a:path w="2" h="732">
                    <a:moveTo>
                      <a:pt x="0" y="0"/>
                    </a:moveTo>
                    <a:lnTo>
                      <a:pt x="2" y="5"/>
                    </a:lnTo>
                    <a:lnTo>
                      <a:pt x="2" y="73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559480" y="5600880"/>
                <a:ext cx="3240" cy="582480"/>
              </a:xfrm>
              <a:custGeom>
                <a:avLst/>
                <a:gdLst/>
                <a:ahLst/>
                <a:rect l="l" t="t" r="r" b="b"/>
                <a:pathLst>
                  <a:path w="3" h="734">
                    <a:moveTo>
                      <a:pt x="0" y="0"/>
                    </a:moveTo>
                    <a:lnTo>
                      <a:pt x="3" y="7"/>
                    </a:lnTo>
                    <a:lnTo>
                      <a:pt x="3" y="73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562720" y="5607000"/>
                <a:ext cx="4680" cy="585720"/>
              </a:xfrm>
              <a:custGeom>
                <a:avLst/>
                <a:gdLst/>
                <a:ahLst/>
                <a:rect l="l" t="t" r="r" b="b"/>
                <a:pathLst>
                  <a:path w="8" h="740">
                    <a:moveTo>
                      <a:pt x="0" y="0"/>
                    </a:moveTo>
                    <a:lnTo>
                      <a:pt x="8" y="13"/>
                    </a:lnTo>
                    <a:lnTo>
                      <a:pt x="8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562720" y="5607000"/>
                <a:ext cx="1440" cy="579600"/>
              </a:xfrm>
              <a:custGeom>
                <a:avLst/>
                <a:gdLst/>
                <a:ahLst/>
                <a:rect l="l" t="t" r="r" b="b"/>
                <a:pathLst>
                  <a:path w="2" h="731">
                    <a:moveTo>
                      <a:pt x="0" y="0"/>
                    </a:moveTo>
                    <a:lnTo>
                      <a:pt x="2" y="4"/>
                    </a:lnTo>
                    <a:lnTo>
                      <a:pt x="2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564160" y="5608800"/>
                <a:ext cx="1440" cy="582480"/>
              </a:xfrm>
              <a:custGeom>
                <a:avLst/>
                <a:gdLst/>
                <a:ahLst/>
                <a:rect l="l" t="t" r="r" b="b"/>
                <a:pathLst>
                  <a:path w="2" h="732">
                    <a:moveTo>
                      <a:pt x="0" y="0"/>
                    </a:moveTo>
                    <a:lnTo>
                      <a:pt x="2" y="5"/>
                    </a:lnTo>
                    <a:lnTo>
                      <a:pt x="2" y="73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565600" y="5613480"/>
                <a:ext cx="180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ba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567400" y="5616720"/>
                <a:ext cx="7920" cy="587160"/>
              </a:xfrm>
              <a:custGeom>
                <a:avLst/>
                <a:gdLst/>
                <a:ahLst/>
                <a:rect l="l" t="t" r="r" b="b"/>
                <a:pathLst>
                  <a:path w="9" h="740">
                    <a:moveTo>
                      <a:pt x="0" y="0"/>
                    </a:moveTo>
                    <a:lnTo>
                      <a:pt x="9" y="13"/>
                    </a:lnTo>
                    <a:lnTo>
                      <a:pt x="9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567400" y="561672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3" h="732">
                    <a:moveTo>
                      <a:pt x="0" y="0"/>
                    </a:moveTo>
                    <a:lnTo>
                      <a:pt x="3" y="5"/>
                    </a:lnTo>
                    <a:lnTo>
                      <a:pt x="3" y="73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570640" y="562140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b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573880" y="5624640"/>
                <a:ext cx="1440" cy="579240"/>
              </a:xfrm>
              <a:custGeom>
                <a:avLst/>
                <a:gdLst/>
                <a:ahLst/>
                <a:rect l="l" t="t" r="r" b="b"/>
                <a:pathLst>
                  <a:path w="2" h="731">
                    <a:moveTo>
                      <a:pt x="0" y="0"/>
                    </a:moveTo>
                    <a:lnTo>
                      <a:pt x="2" y="4"/>
                    </a:lnTo>
                    <a:lnTo>
                      <a:pt x="2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575320" y="5626080"/>
                <a:ext cx="9360" cy="587520"/>
              </a:xfrm>
              <a:custGeom>
                <a:avLst/>
                <a:gdLst/>
                <a:ahLst/>
                <a:rect l="l" t="t" r="r" b="b"/>
                <a:pathLst>
                  <a:path w="13" h="739">
                    <a:moveTo>
                      <a:pt x="0" y="0"/>
                    </a:moveTo>
                    <a:lnTo>
                      <a:pt x="13" y="12"/>
                    </a:lnTo>
                    <a:lnTo>
                      <a:pt x="13" y="73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575320" y="562608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3" h="730">
                    <a:moveTo>
                      <a:pt x="0" y="0"/>
                    </a:moveTo>
                    <a:lnTo>
                      <a:pt x="3" y="3"/>
                    </a:lnTo>
                    <a:lnTo>
                      <a:pt x="3" y="73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578560" y="562932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581800" y="5632560"/>
                <a:ext cx="1440" cy="57780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0"/>
                    </a:moveTo>
                    <a:lnTo>
                      <a:pt x="2" y="2"/>
                    </a:lnTo>
                    <a:lnTo>
                      <a:pt x="2" y="72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c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581800" y="5634000"/>
                <a:ext cx="2880" cy="579600"/>
              </a:xfrm>
              <a:custGeom>
                <a:avLst/>
                <a:gdLst/>
                <a:ahLst/>
                <a:rect l="l" t="t" r="r" b="b"/>
                <a:pathLst>
                  <a:path w="4" h="730">
                    <a:moveTo>
                      <a:pt x="0" y="0"/>
                    </a:moveTo>
                    <a:lnTo>
                      <a:pt x="4" y="3"/>
                    </a:lnTo>
                    <a:lnTo>
                      <a:pt x="4" y="73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584680" y="5637240"/>
                <a:ext cx="12960" cy="587520"/>
              </a:xfrm>
              <a:custGeom>
                <a:avLst/>
                <a:gdLst/>
                <a:ahLst/>
                <a:rect l="l" t="t" r="r" b="b"/>
                <a:pathLst>
                  <a:path w="14" h="740">
                    <a:moveTo>
                      <a:pt x="0" y="0"/>
                    </a:moveTo>
                    <a:lnTo>
                      <a:pt x="14" y="13"/>
                    </a:lnTo>
                    <a:lnTo>
                      <a:pt x="14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584680" y="563724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3" h="731">
                    <a:moveTo>
                      <a:pt x="0" y="0"/>
                    </a:moveTo>
                    <a:lnTo>
                      <a:pt x="3" y="4"/>
                    </a:lnTo>
                    <a:lnTo>
                      <a:pt x="3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587920" y="5640480"/>
                <a:ext cx="3240" cy="5778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0"/>
                    </a:moveTo>
                    <a:lnTo>
                      <a:pt x="4" y="2"/>
                    </a:lnTo>
                    <a:lnTo>
                      <a:pt x="4" y="72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591160" y="564048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3" h="731">
                    <a:moveTo>
                      <a:pt x="0" y="0"/>
                    </a:moveTo>
                    <a:lnTo>
                      <a:pt x="3" y="3"/>
                    </a:lnTo>
                    <a:lnTo>
                      <a:pt x="3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594400" y="564372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597640" y="5646600"/>
                <a:ext cx="11160" cy="586080"/>
              </a:xfrm>
              <a:custGeom>
                <a:avLst/>
                <a:gdLst/>
                <a:ahLst/>
                <a:rect l="l" t="t" r="r" b="b"/>
                <a:pathLst>
                  <a:path w="15" h="738">
                    <a:moveTo>
                      <a:pt x="0" y="0"/>
                    </a:moveTo>
                    <a:lnTo>
                      <a:pt x="15" y="11"/>
                    </a:lnTo>
                    <a:lnTo>
                      <a:pt x="15" y="738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597640" y="5646600"/>
                <a:ext cx="3240" cy="579600"/>
              </a:xfrm>
              <a:custGeom>
                <a:avLst/>
                <a:gdLst/>
                <a:ahLst/>
                <a:rect l="l" t="t" r="r" b="b"/>
                <a:pathLst>
                  <a:path w="6" h="731">
                    <a:moveTo>
                      <a:pt x="0" y="0"/>
                    </a:moveTo>
                    <a:lnTo>
                      <a:pt x="6" y="4"/>
                    </a:lnTo>
                    <a:lnTo>
                      <a:pt x="6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600880" y="5649840"/>
                <a:ext cx="2880" cy="579600"/>
              </a:xfrm>
              <a:custGeom>
                <a:avLst/>
                <a:gdLst/>
                <a:ahLst/>
                <a:rect l="l" t="t" r="r" b="b"/>
                <a:pathLst>
                  <a:path w="3" h="730">
                    <a:moveTo>
                      <a:pt x="0" y="0"/>
                    </a:moveTo>
                    <a:lnTo>
                      <a:pt x="3" y="3"/>
                    </a:lnTo>
                    <a:lnTo>
                      <a:pt x="3" y="73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603760" y="5653080"/>
                <a:ext cx="5040" cy="579600"/>
              </a:xfrm>
              <a:custGeom>
                <a:avLst/>
                <a:gdLst/>
                <a:ahLst/>
                <a:rect l="l" t="t" r="r" b="b"/>
                <a:pathLst>
                  <a:path w="6" h="731">
                    <a:moveTo>
                      <a:pt x="0" y="0"/>
                    </a:moveTo>
                    <a:lnTo>
                      <a:pt x="6" y="4"/>
                    </a:lnTo>
                    <a:lnTo>
                      <a:pt x="6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608800" y="5656320"/>
                <a:ext cx="29880" cy="595080"/>
              </a:xfrm>
              <a:custGeom>
                <a:avLst/>
                <a:gdLst/>
                <a:ahLst/>
                <a:rect l="l" t="t" r="r" b="b"/>
                <a:pathLst>
                  <a:path w="38" h="751">
                    <a:moveTo>
                      <a:pt x="0" y="0"/>
                    </a:moveTo>
                    <a:lnTo>
                      <a:pt x="38" y="24"/>
                    </a:lnTo>
                    <a:lnTo>
                      <a:pt x="38" y="75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608800" y="5656320"/>
                <a:ext cx="15840" cy="585720"/>
              </a:xfrm>
              <a:custGeom>
                <a:avLst/>
                <a:gdLst/>
                <a:ahLst/>
                <a:rect l="l" t="t" r="r" b="b"/>
                <a:pathLst>
                  <a:path w="20" h="740">
                    <a:moveTo>
                      <a:pt x="0" y="0"/>
                    </a:moveTo>
                    <a:lnTo>
                      <a:pt x="20" y="13"/>
                    </a:lnTo>
                    <a:lnTo>
                      <a:pt x="20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624640" y="5665680"/>
                <a:ext cx="14040" cy="585720"/>
              </a:xfrm>
              <a:custGeom>
                <a:avLst/>
                <a:gdLst/>
                <a:ahLst/>
                <a:rect l="l" t="t" r="r" b="b"/>
                <a:pathLst>
                  <a:path w="18" h="738">
                    <a:moveTo>
                      <a:pt x="0" y="0"/>
                    </a:moveTo>
                    <a:lnTo>
                      <a:pt x="18" y="11"/>
                    </a:lnTo>
                    <a:lnTo>
                      <a:pt x="18" y="738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638680" y="5673600"/>
                <a:ext cx="34920" cy="595440"/>
              </a:xfrm>
              <a:custGeom>
                <a:avLst/>
                <a:gdLst/>
                <a:ahLst/>
                <a:rect l="l" t="t" r="r" b="b"/>
                <a:pathLst>
                  <a:path w="43" h="748">
                    <a:moveTo>
                      <a:pt x="0" y="0"/>
                    </a:moveTo>
                    <a:lnTo>
                      <a:pt x="43" y="21"/>
                    </a:lnTo>
                    <a:lnTo>
                      <a:pt x="43" y="748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673600" y="5691240"/>
                <a:ext cx="41400" cy="593640"/>
              </a:xfrm>
              <a:custGeom>
                <a:avLst/>
                <a:gdLst/>
                <a:ahLst/>
                <a:rect l="l" t="t" r="r" b="b"/>
                <a:pathLst>
                  <a:path w="53" h="747">
                    <a:moveTo>
                      <a:pt x="0" y="0"/>
                    </a:moveTo>
                    <a:lnTo>
                      <a:pt x="53" y="20"/>
                    </a:lnTo>
                    <a:lnTo>
                      <a:pt x="53" y="747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715000" y="5707080"/>
                <a:ext cx="44280" cy="593640"/>
              </a:xfrm>
              <a:custGeom>
                <a:avLst/>
                <a:gdLst/>
                <a:ahLst/>
                <a:rect l="l" t="t" r="r" b="b"/>
                <a:pathLst>
                  <a:path w="57" h="747">
                    <a:moveTo>
                      <a:pt x="0" y="0"/>
                    </a:moveTo>
                    <a:lnTo>
                      <a:pt x="57" y="20"/>
                    </a:lnTo>
                    <a:lnTo>
                      <a:pt x="57" y="747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759280" y="5722920"/>
                <a:ext cx="51120" cy="590400"/>
              </a:xfrm>
              <a:custGeom>
                <a:avLst/>
                <a:gdLst/>
                <a:ahLst/>
                <a:rect l="l" t="t" r="r" b="b"/>
                <a:pathLst>
                  <a:path w="63" h="744">
                    <a:moveTo>
                      <a:pt x="0" y="0"/>
                    </a:moveTo>
                    <a:lnTo>
                      <a:pt x="63" y="17"/>
                    </a:lnTo>
                    <a:lnTo>
                      <a:pt x="63" y="74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10400" y="5735520"/>
                <a:ext cx="54000" cy="588960"/>
              </a:xfrm>
              <a:custGeom>
                <a:avLst/>
                <a:gdLst/>
                <a:ahLst/>
                <a:rect l="l" t="t" r="r" b="b"/>
                <a:pathLst>
                  <a:path w="67" h="741">
                    <a:moveTo>
                      <a:pt x="0" y="0"/>
                    </a:moveTo>
                    <a:lnTo>
                      <a:pt x="67" y="14"/>
                    </a:lnTo>
                    <a:lnTo>
                      <a:pt x="67" y="74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64400" y="5748480"/>
                <a:ext cx="58680" cy="587160"/>
              </a:xfrm>
              <a:custGeom>
                <a:avLst/>
                <a:gdLst/>
                <a:ahLst/>
                <a:rect l="l" t="t" r="r" b="b"/>
                <a:pathLst>
                  <a:path w="75" h="740">
                    <a:moveTo>
                      <a:pt x="0" y="0"/>
                    </a:moveTo>
                    <a:lnTo>
                      <a:pt x="75" y="13"/>
                    </a:lnTo>
                    <a:lnTo>
                      <a:pt x="75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923080" y="5757840"/>
                <a:ext cx="60120" cy="587520"/>
              </a:xfrm>
              <a:custGeom>
                <a:avLst/>
                <a:gdLst/>
                <a:ahLst/>
                <a:rect l="l" t="t" r="r" b="b"/>
                <a:pathLst>
                  <a:path w="76" h="740">
                    <a:moveTo>
                      <a:pt x="0" y="0"/>
                    </a:moveTo>
                    <a:lnTo>
                      <a:pt x="76" y="13"/>
                    </a:lnTo>
                    <a:lnTo>
                      <a:pt x="76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983200" y="5767560"/>
                <a:ext cx="65160" cy="583920"/>
              </a:xfrm>
              <a:custGeom>
                <a:avLst/>
                <a:gdLst/>
                <a:ahLst/>
                <a:rect l="l" t="t" r="r" b="b"/>
                <a:pathLst>
                  <a:path w="82" h="734">
                    <a:moveTo>
                      <a:pt x="0" y="0"/>
                    </a:moveTo>
                    <a:lnTo>
                      <a:pt x="82" y="7"/>
                    </a:lnTo>
                    <a:lnTo>
                      <a:pt x="82" y="73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048360" y="5773680"/>
                <a:ext cx="68400" cy="582840"/>
              </a:xfrm>
              <a:custGeom>
                <a:avLst/>
                <a:gdLst/>
                <a:ahLst/>
                <a:rect l="l" t="t" r="r" b="b"/>
                <a:pathLst>
                  <a:path w="86" h="734">
                    <a:moveTo>
                      <a:pt x="0" y="0"/>
                    </a:moveTo>
                    <a:lnTo>
                      <a:pt x="86" y="7"/>
                    </a:lnTo>
                    <a:lnTo>
                      <a:pt x="86" y="73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116760" y="5780160"/>
                <a:ext cx="69840" cy="579240"/>
              </a:xfrm>
              <a:custGeom>
                <a:avLst/>
                <a:gdLst/>
                <a:ahLst/>
                <a:rect l="l" t="t" r="r" b="b"/>
                <a:pathLst>
                  <a:path w="89" h="731">
                    <a:moveTo>
                      <a:pt x="0" y="0"/>
                    </a:moveTo>
                    <a:lnTo>
                      <a:pt x="89" y="4"/>
                    </a:lnTo>
                    <a:lnTo>
                      <a:pt x="89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186600" y="5781600"/>
                <a:ext cx="71280" cy="579600"/>
              </a:xfrm>
              <a:custGeom>
                <a:avLst/>
                <a:gdLst/>
                <a:ahLst/>
                <a:rect l="l" t="t" r="r" b="b"/>
                <a:pathLst>
                  <a:path w="89" h="729">
                    <a:moveTo>
                      <a:pt x="0" y="0"/>
                    </a:moveTo>
                    <a:lnTo>
                      <a:pt x="89" y="2"/>
                    </a:lnTo>
                    <a:lnTo>
                      <a:pt x="89" y="72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257880" y="5781600"/>
                <a:ext cx="71640" cy="579600"/>
              </a:xfrm>
              <a:custGeom>
                <a:avLst/>
                <a:gdLst/>
                <a:ahLst/>
                <a:rect l="l" t="t" r="r" b="b"/>
                <a:pathLst>
                  <a:path w="91" h="729">
                    <a:moveTo>
                      <a:pt x="0" y="2"/>
                    </a:moveTo>
                    <a:lnTo>
                      <a:pt x="91" y="0"/>
                    </a:lnTo>
                    <a:lnTo>
                      <a:pt x="91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d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329520" y="5780160"/>
                <a:ext cx="71280" cy="579240"/>
              </a:xfrm>
              <a:custGeom>
                <a:avLst/>
                <a:gdLst/>
                <a:ahLst/>
                <a:rect l="l" t="t" r="r" b="b"/>
                <a:pathLst>
                  <a:path w="89" h="731">
                    <a:moveTo>
                      <a:pt x="0" y="4"/>
                    </a:moveTo>
                    <a:lnTo>
                      <a:pt x="89" y="0"/>
                    </a:lnTo>
                    <a:lnTo>
                      <a:pt x="89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400800" y="5773680"/>
                <a:ext cx="68400" cy="582840"/>
              </a:xfrm>
              <a:custGeom>
                <a:avLst/>
                <a:gdLst/>
                <a:ahLst/>
                <a:rect l="l" t="t" r="r" b="b"/>
                <a:pathLst>
                  <a:path w="85" h="734">
                    <a:moveTo>
                      <a:pt x="0" y="7"/>
                    </a:moveTo>
                    <a:lnTo>
                      <a:pt x="85" y="0"/>
                    </a:lnTo>
                    <a:lnTo>
                      <a:pt x="85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b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400800" y="5776920"/>
                <a:ext cx="33480" cy="579600"/>
              </a:xfrm>
              <a:custGeom>
                <a:avLst/>
                <a:gdLst/>
                <a:ahLst/>
                <a:rect l="l" t="t" r="r" b="b"/>
                <a:pathLst>
                  <a:path w="42" h="730">
                    <a:moveTo>
                      <a:pt x="0" y="3"/>
                    </a:moveTo>
                    <a:lnTo>
                      <a:pt x="42" y="0"/>
                    </a:lnTo>
                    <a:lnTo>
                      <a:pt x="42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b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434280" y="577368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3" h="731">
                    <a:moveTo>
                      <a:pt x="0" y="4"/>
                    </a:moveTo>
                    <a:lnTo>
                      <a:pt x="43" y="0"/>
                    </a:lnTo>
                    <a:lnTo>
                      <a:pt x="43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a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469200" y="5767560"/>
                <a:ext cx="64800" cy="583920"/>
              </a:xfrm>
              <a:custGeom>
                <a:avLst/>
                <a:gdLst/>
                <a:ahLst/>
                <a:rect l="l" t="t" r="r" b="b"/>
                <a:pathLst>
                  <a:path w="82" h="734">
                    <a:moveTo>
                      <a:pt x="0" y="7"/>
                    </a:moveTo>
                    <a:lnTo>
                      <a:pt x="82" y="0"/>
                    </a:lnTo>
                    <a:lnTo>
                      <a:pt x="82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534000" y="5757840"/>
                <a:ext cx="60480" cy="587520"/>
              </a:xfrm>
              <a:custGeom>
                <a:avLst/>
                <a:gdLst/>
                <a:ahLst/>
                <a:rect l="l" t="t" r="r" b="b"/>
                <a:pathLst>
                  <a:path w="76" h="740">
                    <a:moveTo>
                      <a:pt x="0" y="13"/>
                    </a:moveTo>
                    <a:lnTo>
                      <a:pt x="76" y="0"/>
                    </a:lnTo>
                    <a:lnTo>
                      <a:pt x="76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9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534000" y="5764320"/>
                <a:ext cx="30240" cy="581040"/>
              </a:xfrm>
              <a:custGeom>
                <a:avLst/>
                <a:gdLst/>
                <a:ahLst/>
                <a:rect l="l" t="t" r="r" b="b"/>
                <a:pathLst>
                  <a:path w="38" h="733">
                    <a:moveTo>
                      <a:pt x="0" y="6"/>
                    </a:moveTo>
                    <a:lnTo>
                      <a:pt x="38" y="0"/>
                    </a:lnTo>
                    <a:lnTo>
                      <a:pt x="38" y="727"/>
                    </a:lnTo>
                    <a:lnTo>
                      <a:pt x="0" y="73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9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564240" y="5757840"/>
                <a:ext cx="30240" cy="582480"/>
              </a:xfrm>
              <a:custGeom>
                <a:avLst/>
                <a:gdLst/>
                <a:ahLst/>
                <a:rect l="l" t="t" r="r" b="b"/>
                <a:pathLst>
                  <a:path w="38" h="734">
                    <a:moveTo>
                      <a:pt x="0" y="7"/>
                    </a:moveTo>
                    <a:lnTo>
                      <a:pt x="38" y="0"/>
                    </a:lnTo>
                    <a:lnTo>
                      <a:pt x="38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8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594480" y="5748480"/>
                <a:ext cx="58680" cy="587160"/>
              </a:xfrm>
              <a:custGeom>
                <a:avLst/>
                <a:gdLst/>
                <a:ahLst/>
                <a:rect l="l" t="t" r="r" b="b"/>
                <a:pathLst>
                  <a:path w="75" h="740">
                    <a:moveTo>
                      <a:pt x="0" y="13"/>
                    </a:moveTo>
                    <a:lnTo>
                      <a:pt x="75" y="0"/>
                    </a:lnTo>
                    <a:lnTo>
                      <a:pt x="75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7c7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653160" y="5735520"/>
                <a:ext cx="54000" cy="588960"/>
              </a:xfrm>
              <a:custGeom>
                <a:avLst/>
                <a:gdLst/>
                <a:ahLst/>
                <a:rect l="l" t="t" r="r" b="b"/>
                <a:pathLst>
                  <a:path w="67" h="741">
                    <a:moveTo>
                      <a:pt x="0" y="14"/>
                    </a:moveTo>
                    <a:lnTo>
                      <a:pt x="67" y="0"/>
                    </a:lnTo>
                    <a:lnTo>
                      <a:pt x="67" y="727"/>
                    </a:lnTo>
                    <a:lnTo>
                      <a:pt x="0" y="74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6c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653160" y="5743440"/>
                <a:ext cx="17640" cy="581040"/>
              </a:xfrm>
              <a:custGeom>
                <a:avLst/>
                <a:gdLst/>
                <a:ahLst/>
                <a:rect l="l" t="t" r="r" b="b"/>
                <a:pathLst>
                  <a:path w="22" h="732">
                    <a:moveTo>
                      <a:pt x="0" y="5"/>
                    </a:moveTo>
                    <a:lnTo>
                      <a:pt x="22" y="0"/>
                    </a:lnTo>
                    <a:lnTo>
                      <a:pt x="22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6c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670800" y="5740560"/>
                <a:ext cx="19080" cy="579240"/>
              </a:xfrm>
              <a:custGeom>
                <a:avLst/>
                <a:gdLst/>
                <a:ahLst/>
                <a:rect l="l" t="t" r="r" b="b"/>
                <a:pathLst>
                  <a:path w="23" h="731">
                    <a:moveTo>
                      <a:pt x="0" y="4"/>
                    </a:moveTo>
                    <a:lnTo>
                      <a:pt x="23" y="0"/>
                    </a:lnTo>
                    <a:lnTo>
                      <a:pt x="23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5c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689880" y="5735520"/>
                <a:ext cx="17280" cy="582840"/>
              </a:xfrm>
              <a:custGeom>
                <a:avLst/>
                <a:gdLst/>
                <a:ahLst/>
                <a:rect l="l" t="t" r="r" b="b"/>
                <a:pathLst>
                  <a:path w="22" h="732">
                    <a:moveTo>
                      <a:pt x="0" y="5"/>
                    </a:moveTo>
                    <a:lnTo>
                      <a:pt x="22" y="0"/>
                    </a:lnTo>
                    <a:lnTo>
                      <a:pt x="22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4c4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707160" y="5722920"/>
                <a:ext cx="49320" cy="590400"/>
              </a:xfrm>
              <a:custGeom>
                <a:avLst/>
                <a:gdLst/>
                <a:ahLst/>
                <a:rect l="l" t="t" r="r" b="b"/>
                <a:pathLst>
                  <a:path w="64" h="744">
                    <a:moveTo>
                      <a:pt x="0" y="17"/>
                    </a:moveTo>
                    <a:lnTo>
                      <a:pt x="64" y="0"/>
                    </a:lnTo>
                    <a:lnTo>
                      <a:pt x="64" y="727"/>
                    </a:lnTo>
                    <a:lnTo>
                      <a:pt x="0" y="74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4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707160" y="5729400"/>
                <a:ext cx="25560" cy="583920"/>
              </a:xfrm>
              <a:custGeom>
                <a:avLst/>
                <a:gdLst/>
                <a:ahLst/>
                <a:rect l="l" t="t" r="r" b="b"/>
                <a:pathLst>
                  <a:path w="33" h="736">
                    <a:moveTo>
                      <a:pt x="0" y="9"/>
                    </a:moveTo>
                    <a:lnTo>
                      <a:pt x="33" y="0"/>
                    </a:lnTo>
                    <a:lnTo>
                      <a:pt x="33" y="727"/>
                    </a:lnTo>
                    <a:lnTo>
                      <a:pt x="0" y="73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4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732720" y="5722920"/>
                <a:ext cx="23760" cy="582480"/>
              </a:xfrm>
              <a:custGeom>
                <a:avLst/>
                <a:gdLst/>
                <a:ahLst/>
                <a:rect l="l" t="t" r="r" b="b"/>
                <a:pathLst>
                  <a:path w="31" h="735">
                    <a:moveTo>
                      <a:pt x="0" y="8"/>
                    </a:moveTo>
                    <a:lnTo>
                      <a:pt x="31" y="0"/>
                    </a:lnTo>
                    <a:lnTo>
                      <a:pt x="31" y="727"/>
                    </a:lnTo>
                    <a:lnTo>
                      <a:pt x="0" y="73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3c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756480" y="5707080"/>
                <a:ext cx="46080" cy="593640"/>
              </a:xfrm>
              <a:custGeom>
                <a:avLst/>
                <a:gdLst/>
                <a:ahLst/>
                <a:rect l="l" t="t" r="r" b="b"/>
                <a:pathLst>
                  <a:path w="56" h="747">
                    <a:moveTo>
                      <a:pt x="0" y="20"/>
                    </a:moveTo>
                    <a:lnTo>
                      <a:pt x="56" y="0"/>
                    </a:lnTo>
                    <a:lnTo>
                      <a:pt x="56" y="727"/>
                    </a:lnTo>
                    <a:lnTo>
                      <a:pt x="0" y="74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2c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756480" y="5718240"/>
                <a:ext cx="12600" cy="582480"/>
              </a:xfrm>
              <a:custGeom>
                <a:avLst/>
                <a:gdLst/>
                <a:ahLst/>
                <a:rect l="l" t="t" r="r" b="b"/>
                <a:pathLst>
                  <a:path w="14" h="732">
                    <a:moveTo>
                      <a:pt x="0" y="5"/>
                    </a:moveTo>
                    <a:lnTo>
                      <a:pt x="14" y="0"/>
                    </a:lnTo>
                    <a:lnTo>
                      <a:pt x="14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2c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769080" y="5715000"/>
                <a:ext cx="11160" cy="581040"/>
              </a:xfrm>
              <a:custGeom>
                <a:avLst/>
                <a:gdLst/>
                <a:ahLst/>
                <a:rect l="l" t="t" r="r" b="b"/>
                <a:pathLst>
                  <a:path w="15" h="732">
                    <a:moveTo>
                      <a:pt x="0" y="5"/>
                    </a:moveTo>
                    <a:lnTo>
                      <a:pt x="15" y="0"/>
                    </a:lnTo>
                    <a:lnTo>
                      <a:pt x="15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1c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780240" y="5711760"/>
                <a:ext cx="11160" cy="579600"/>
              </a:xfrm>
              <a:custGeom>
                <a:avLst/>
                <a:gdLst/>
                <a:ahLst/>
                <a:rect l="l" t="t" r="r" b="b"/>
                <a:pathLst>
                  <a:path w="14" h="731">
                    <a:moveTo>
                      <a:pt x="0" y="4"/>
                    </a:moveTo>
                    <a:lnTo>
                      <a:pt x="14" y="0"/>
                    </a:lnTo>
                    <a:lnTo>
                      <a:pt x="1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0c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791400" y="5707080"/>
                <a:ext cx="11160" cy="581040"/>
              </a:xfrm>
              <a:custGeom>
                <a:avLst/>
                <a:gdLst/>
                <a:ahLst/>
                <a:rect l="l" t="t" r="r" b="b"/>
                <a:pathLst>
                  <a:path w="13" h="733">
                    <a:moveTo>
                      <a:pt x="0" y="6"/>
                    </a:moveTo>
                    <a:lnTo>
                      <a:pt x="13" y="0"/>
                    </a:lnTo>
                    <a:lnTo>
                      <a:pt x="13" y="727"/>
                    </a:lnTo>
                    <a:lnTo>
                      <a:pt x="0" y="73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fb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802560" y="5691240"/>
                <a:ext cx="41040" cy="593640"/>
              </a:xfrm>
              <a:custGeom>
                <a:avLst/>
                <a:gdLst/>
                <a:ahLst/>
                <a:rect l="l" t="t" r="r" b="b"/>
                <a:pathLst>
                  <a:path w="53" h="747">
                    <a:moveTo>
                      <a:pt x="0" y="20"/>
                    </a:moveTo>
                    <a:lnTo>
                      <a:pt x="53" y="0"/>
                    </a:lnTo>
                    <a:lnTo>
                      <a:pt x="53" y="727"/>
                    </a:lnTo>
                    <a:lnTo>
                      <a:pt x="0" y="74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b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802560" y="5703840"/>
                <a:ext cx="7920" cy="581040"/>
              </a:xfrm>
              <a:custGeom>
                <a:avLst/>
                <a:gdLst/>
                <a:ahLst/>
                <a:rect l="l" t="t" r="r" b="b"/>
                <a:pathLst>
                  <a:path w="11" h="730">
                    <a:moveTo>
                      <a:pt x="0" y="3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810480" y="5702400"/>
                <a:ext cx="7920" cy="579240"/>
              </a:xfrm>
              <a:custGeom>
                <a:avLst/>
                <a:gdLst/>
                <a:ahLst/>
                <a:rect l="l" t="t" r="r" b="b"/>
                <a:pathLst>
                  <a:path w="11" h="731">
                    <a:moveTo>
                      <a:pt x="0" y="4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eb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818400" y="5699160"/>
                <a:ext cx="7920" cy="579240"/>
              </a:xfrm>
              <a:custGeom>
                <a:avLst/>
                <a:gdLst/>
                <a:ahLst/>
                <a:rect l="l" t="t" r="r" b="b"/>
                <a:pathLst>
                  <a:path w="9" h="730">
                    <a:moveTo>
                      <a:pt x="0" y="3"/>
                    </a:moveTo>
                    <a:lnTo>
                      <a:pt x="9" y="0"/>
                    </a:lnTo>
                    <a:lnTo>
                      <a:pt x="9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db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826320" y="5694480"/>
                <a:ext cx="7920" cy="581040"/>
              </a:xfrm>
              <a:custGeom>
                <a:avLst/>
                <a:gdLst/>
                <a:ahLst/>
                <a:rect l="l" t="t" r="r" b="b"/>
                <a:pathLst>
                  <a:path w="11" h="733">
                    <a:moveTo>
                      <a:pt x="0" y="6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cb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834240" y="5691240"/>
                <a:ext cx="9360" cy="581040"/>
              </a:xfrm>
              <a:custGeom>
                <a:avLst/>
                <a:gdLst/>
                <a:ahLst/>
                <a:rect l="l" t="t" r="r" b="b"/>
                <a:pathLst>
                  <a:path w="11" h="731">
                    <a:moveTo>
                      <a:pt x="0" y="4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bb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843600" y="5673600"/>
                <a:ext cx="34920" cy="595440"/>
              </a:xfrm>
              <a:custGeom>
                <a:avLst/>
                <a:gdLst/>
                <a:ahLst/>
                <a:rect l="l" t="t" r="r" b="b"/>
                <a:pathLst>
                  <a:path w="44" h="748">
                    <a:moveTo>
                      <a:pt x="0" y="21"/>
                    </a:moveTo>
                    <a:lnTo>
                      <a:pt x="44" y="0"/>
                    </a:lnTo>
                    <a:lnTo>
                      <a:pt x="44" y="727"/>
                    </a:lnTo>
                    <a:lnTo>
                      <a:pt x="0" y="748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bb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843600" y="5688000"/>
                <a:ext cx="6480" cy="581040"/>
              </a:xfrm>
              <a:custGeom>
                <a:avLst/>
                <a:gdLst/>
                <a:ahLst/>
                <a:rect l="l" t="t" r="r" b="b"/>
                <a:pathLst>
                  <a:path w="7" h="730">
                    <a:moveTo>
                      <a:pt x="0" y="3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b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850080" y="5686560"/>
                <a:ext cx="4680" cy="579240"/>
              </a:xfrm>
              <a:custGeom>
                <a:avLst/>
                <a:gdLst/>
                <a:ahLst/>
                <a:rect l="l" t="t" r="r" b="b"/>
                <a:pathLst>
                  <a:path w="7" h="731">
                    <a:moveTo>
                      <a:pt x="0" y="4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ab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854760" y="5683320"/>
                <a:ext cx="6480" cy="579240"/>
              </a:xfrm>
              <a:custGeom>
                <a:avLst/>
                <a:gdLst/>
                <a:ahLst/>
                <a:rect l="l" t="t" r="r" b="b"/>
                <a:pathLst>
                  <a:path w="8" h="730">
                    <a:moveTo>
                      <a:pt x="0" y="3"/>
                    </a:moveTo>
                    <a:lnTo>
                      <a:pt x="8" y="0"/>
                    </a:lnTo>
                    <a:lnTo>
                      <a:pt x="8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9b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861240" y="5680080"/>
                <a:ext cx="4680" cy="579600"/>
              </a:xfrm>
              <a:custGeom>
                <a:avLst/>
                <a:gdLst/>
                <a:ahLst/>
                <a:rect l="l" t="t" r="r" b="b"/>
                <a:pathLst>
                  <a:path w="7" h="731">
                    <a:moveTo>
                      <a:pt x="0" y="4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8b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865920" y="5676840"/>
                <a:ext cx="6480" cy="579600"/>
              </a:xfrm>
              <a:custGeom>
                <a:avLst/>
                <a:gdLst/>
                <a:ahLst/>
                <a:rect l="l" t="t" r="r" b="b"/>
                <a:pathLst>
                  <a:path w="7" h="731">
                    <a:moveTo>
                      <a:pt x="0" y="4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7b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872400" y="5673600"/>
                <a:ext cx="6120" cy="581040"/>
              </a:xfrm>
              <a:custGeom>
                <a:avLst/>
                <a:gdLst/>
                <a:ahLst/>
                <a:rect l="l" t="t" r="r" b="b"/>
                <a:pathLst>
                  <a:path w="8" h="730">
                    <a:moveTo>
                      <a:pt x="0" y="3"/>
                    </a:moveTo>
                    <a:lnTo>
                      <a:pt x="8" y="0"/>
                    </a:lnTo>
                    <a:lnTo>
                      <a:pt x="8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6b6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878520" y="5656320"/>
                <a:ext cx="30240" cy="595080"/>
              </a:xfrm>
              <a:custGeom>
                <a:avLst/>
                <a:gdLst/>
                <a:ahLst/>
                <a:rect l="l" t="t" r="r" b="b"/>
                <a:pathLst>
                  <a:path w="38" h="751">
                    <a:moveTo>
                      <a:pt x="0" y="24"/>
                    </a:moveTo>
                    <a:lnTo>
                      <a:pt x="38" y="0"/>
                    </a:lnTo>
                    <a:lnTo>
                      <a:pt x="38" y="727"/>
                    </a:lnTo>
                    <a:lnTo>
                      <a:pt x="0" y="75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6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878520" y="567216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5" h="729">
                    <a:moveTo>
                      <a:pt x="0" y="2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881760" y="567072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4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885000" y="5667480"/>
                <a:ext cx="4680" cy="579240"/>
              </a:xfrm>
              <a:custGeom>
                <a:avLst/>
                <a:gdLst/>
                <a:ahLst/>
                <a:rect l="l" t="t" r="r" b="b"/>
                <a:pathLst>
                  <a:path w="5" h="730">
                    <a:moveTo>
                      <a:pt x="0" y="3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4b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889680" y="5665680"/>
                <a:ext cx="3240" cy="5778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2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3b3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892920" y="5662440"/>
                <a:ext cx="4680" cy="579600"/>
              </a:xfrm>
              <a:custGeom>
                <a:avLst/>
                <a:gdLst/>
                <a:ahLst/>
                <a:rect l="l" t="t" r="r" b="b"/>
                <a:pathLst>
                  <a:path w="5" h="731">
                    <a:moveTo>
                      <a:pt x="0" y="4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3b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897600" y="5661000"/>
                <a:ext cx="1800" cy="5796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2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2b2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899400" y="5657760"/>
                <a:ext cx="4680" cy="581040"/>
              </a:xfrm>
              <a:custGeom>
                <a:avLst/>
                <a:gdLst/>
                <a:ahLst/>
                <a:rect l="l" t="t" r="r" b="b"/>
                <a:pathLst>
                  <a:path w="5" h="730">
                    <a:moveTo>
                      <a:pt x="0" y="3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1b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904080" y="5656320"/>
                <a:ext cx="4680" cy="579240"/>
              </a:xfrm>
              <a:custGeom>
                <a:avLst/>
                <a:gdLst/>
                <a:ahLst/>
                <a:rect l="l" t="t" r="r" b="b"/>
                <a:pathLst>
                  <a:path w="6" h="731">
                    <a:moveTo>
                      <a:pt x="0" y="4"/>
                    </a:moveTo>
                    <a:lnTo>
                      <a:pt x="6" y="0"/>
                    </a:lnTo>
                    <a:lnTo>
                      <a:pt x="6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0b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908760" y="5646600"/>
                <a:ext cx="11160" cy="586080"/>
              </a:xfrm>
              <a:custGeom>
                <a:avLst/>
                <a:gdLst/>
                <a:ahLst/>
                <a:rect l="l" t="t" r="r" b="b"/>
                <a:pathLst>
                  <a:path w="14" h="738">
                    <a:moveTo>
                      <a:pt x="0" y="11"/>
                    </a:moveTo>
                    <a:lnTo>
                      <a:pt x="14" y="0"/>
                    </a:lnTo>
                    <a:lnTo>
                      <a:pt x="14" y="727"/>
                    </a:lnTo>
                    <a:lnTo>
                      <a:pt x="0" y="73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b0b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908760" y="5654520"/>
                <a:ext cx="1800" cy="57816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0b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910560" y="5653080"/>
                <a:ext cx="2880" cy="577800"/>
              </a:xfrm>
              <a:custGeom>
                <a:avLst/>
                <a:gdLst/>
                <a:ahLst/>
                <a:rect l="l" t="t" r="r" b="b"/>
                <a:pathLst>
                  <a:path w="3" h="729">
                    <a:moveTo>
                      <a:pt x="0" y="2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fa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913440" y="5651640"/>
                <a:ext cx="1800" cy="577800"/>
              </a:xfrm>
              <a:custGeom>
                <a:avLst/>
                <a:gdLst/>
                <a:ahLst/>
                <a:rect l="l" t="t" r="r" b="b"/>
                <a:pathLst>
                  <a:path w="2" h="728">
                    <a:moveTo>
                      <a:pt x="0" y="1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ea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913440" y="5649840"/>
                <a:ext cx="1800" cy="57780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d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915240" y="5648400"/>
                <a:ext cx="3240" cy="577800"/>
              </a:xfrm>
              <a:custGeom>
                <a:avLst/>
                <a:gdLst/>
                <a:ahLst/>
                <a:rect l="l" t="t" r="r" b="b"/>
                <a:pathLst>
                  <a:path w="3" h="729">
                    <a:moveTo>
                      <a:pt x="0" y="2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c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918480" y="5646600"/>
                <a:ext cx="1440" cy="57816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ba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919920" y="5637240"/>
                <a:ext cx="11160" cy="587520"/>
              </a:xfrm>
              <a:custGeom>
                <a:avLst/>
                <a:gdLst/>
                <a:ahLst/>
                <a:rect l="l" t="t" r="r" b="b"/>
                <a:pathLst>
                  <a:path w="15" h="740">
                    <a:moveTo>
                      <a:pt x="0" y="13"/>
                    </a:moveTo>
                    <a:lnTo>
                      <a:pt x="15" y="0"/>
                    </a:lnTo>
                    <a:lnTo>
                      <a:pt x="15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aa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919920" y="5645160"/>
                <a:ext cx="3240" cy="5796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2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aa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923160" y="5641920"/>
                <a:ext cx="1440" cy="581040"/>
              </a:xfrm>
              <a:custGeom>
                <a:avLst/>
                <a:gdLst/>
                <a:ahLst/>
                <a:rect l="l" t="t" r="r" b="b"/>
                <a:pathLst>
                  <a:path w="2" h="730">
                    <a:moveTo>
                      <a:pt x="0" y="3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8a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924600" y="564048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3" h="729">
                    <a:moveTo>
                      <a:pt x="0" y="2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7a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927840" y="5638680"/>
                <a:ext cx="1440" cy="57960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4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6a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29280" y="5637240"/>
                <a:ext cx="1800" cy="57780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5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931080" y="5626080"/>
                <a:ext cx="11160" cy="587520"/>
              </a:xfrm>
              <a:custGeom>
                <a:avLst/>
                <a:gdLst/>
                <a:ahLst/>
                <a:rect l="l" t="t" r="r" b="b"/>
                <a:pathLst>
                  <a:path w="13" h="739">
                    <a:moveTo>
                      <a:pt x="0" y="12"/>
                    </a:moveTo>
                    <a:lnTo>
                      <a:pt x="13" y="0"/>
                    </a:lnTo>
                    <a:lnTo>
                      <a:pt x="13" y="727"/>
                    </a:lnTo>
                    <a:lnTo>
                      <a:pt x="0" y="73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4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931080" y="5632560"/>
                <a:ext cx="4680" cy="581040"/>
              </a:xfrm>
              <a:custGeom>
                <a:avLst/>
                <a:gdLst/>
                <a:ahLst/>
                <a:rect l="l" t="t" r="r" b="b"/>
                <a:pathLst>
                  <a:path w="5" h="732">
                    <a:moveTo>
                      <a:pt x="0" y="5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4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935760" y="5626080"/>
                <a:ext cx="6480" cy="582480"/>
              </a:xfrm>
              <a:custGeom>
                <a:avLst/>
                <a:gdLst/>
                <a:ahLst/>
                <a:rect l="l" t="t" r="r" b="b"/>
                <a:pathLst>
                  <a:path w="8" h="734">
                    <a:moveTo>
                      <a:pt x="0" y="7"/>
                    </a:moveTo>
                    <a:lnTo>
                      <a:pt x="8" y="0"/>
                    </a:lnTo>
                    <a:lnTo>
                      <a:pt x="8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4a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942240" y="5616720"/>
                <a:ext cx="6120" cy="587160"/>
              </a:xfrm>
              <a:custGeom>
                <a:avLst/>
                <a:gdLst/>
                <a:ahLst/>
                <a:rect l="l" t="t" r="r" b="b"/>
                <a:pathLst>
                  <a:path w="9" h="740">
                    <a:moveTo>
                      <a:pt x="0" y="13"/>
                    </a:moveTo>
                    <a:lnTo>
                      <a:pt x="9" y="0"/>
                    </a:lnTo>
                    <a:lnTo>
                      <a:pt x="9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5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942240" y="5624640"/>
                <a:ext cx="1440" cy="579240"/>
              </a:xfrm>
              <a:custGeom>
                <a:avLst/>
                <a:gdLst/>
                <a:ahLst/>
                <a:rect l="l" t="t" r="r" b="b"/>
                <a:pathLst>
                  <a:path w="1" h="731">
                    <a:moveTo>
                      <a:pt x="0" y="4"/>
                    </a:moveTo>
                    <a:lnTo>
                      <a:pt x="1" y="0"/>
                    </a:lnTo>
                    <a:lnTo>
                      <a:pt x="1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5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943680" y="5621400"/>
                <a:ext cx="180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4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6a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945480" y="5616720"/>
                <a:ext cx="2880" cy="581040"/>
              </a:xfrm>
              <a:custGeom>
                <a:avLst/>
                <a:gdLst/>
                <a:ahLst/>
                <a:rect l="l" t="t" r="r" b="b"/>
                <a:pathLst>
                  <a:path w="4" h="732">
                    <a:moveTo>
                      <a:pt x="0" y="5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7a7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48360" y="5607000"/>
                <a:ext cx="6480" cy="585720"/>
              </a:xfrm>
              <a:custGeom>
                <a:avLst/>
                <a:gdLst/>
                <a:ahLst/>
                <a:rect l="l" t="t" r="r" b="b"/>
                <a:pathLst>
                  <a:path w="7" h="740">
                    <a:moveTo>
                      <a:pt x="0" y="13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9a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948360" y="561348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3" h="731">
                    <a:moveTo>
                      <a:pt x="0" y="4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9a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951600" y="5608800"/>
                <a:ext cx="1800" cy="582480"/>
              </a:xfrm>
              <a:custGeom>
                <a:avLst/>
                <a:gdLst/>
                <a:ahLst/>
                <a:rect l="l" t="t" r="r" b="b"/>
                <a:pathLst>
                  <a:path w="2" h="732">
                    <a:moveTo>
                      <a:pt x="0" y="5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aa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953400" y="5607000"/>
                <a:ext cx="1440" cy="579600"/>
              </a:xfrm>
              <a:custGeom>
                <a:avLst/>
                <a:gdLst/>
                <a:ahLst/>
                <a:rect l="l" t="t" r="r" b="b"/>
                <a:pathLst>
                  <a:path w="2" h="731">
                    <a:moveTo>
                      <a:pt x="0" y="4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ba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954840" y="5595840"/>
                <a:ext cx="4680" cy="587520"/>
              </a:xfrm>
              <a:custGeom>
                <a:avLst/>
                <a:gdLst/>
                <a:ahLst/>
                <a:rect l="l" t="t" r="r" b="b"/>
                <a:pathLst>
                  <a:path w="5" h="739">
                    <a:moveTo>
                      <a:pt x="0" y="12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da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954840" y="5600880"/>
                <a:ext cx="3240" cy="582480"/>
              </a:xfrm>
              <a:custGeom>
                <a:avLst/>
                <a:gdLst/>
                <a:ahLst/>
                <a:rect l="l" t="t" r="r" b="b"/>
                <a:pathLst>
                  <a:path w="4" h="734">
                    <a:moveTo>
                      <a:pt x="0" y="7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da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958080" y="5595840"/>
                <a:ext cx="1440" cy="581040"/>
              </a:xfrm>
              <a:custGeom>
                <a:avLst/>
                <a:gdLst/>
                <a:ahLst/>
                <a:rect l="l" t="t" r="r" b="b"/>
                <a:pathLst>
                  <a:path w="1" h="732">
                    <a:moveTo>
                      <a:pt x="0" y="5"/>
                    </a:moveTo>
                    <a:lnTo>
                      <a:pt x="1" y="0"/>
                    </a:lnTo>
                    <a:lnTo>
                      <a:pt x="1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fa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959520" y="5584680"/>
                <a:ext cx="1800" cy="588960"/>
              </a:xfrm>
              <a:custGeom>
                <a:avLst/>
                <a:gdLst/>
                <a:ahLst/>
                <a:rect l="l" t="t" r="r" b="b"/>
                <a:pathLst>
                  <a:path w="4" h="742">
                    <a:moveTo>
                      <a:pt x="0" y="15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4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b1b1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61320" y="5575320"/>
                <a:ext cx="1440" cy="585720"/>
              </a:xfrm>
              <a:custGeom>
                <a:avLst/>
                <a:gdLst/>
                <a:ahLst/>
                <a:rect l="l" t="t" r="r" b="b"/>
                <a:pathLst>
                  <a:path w="2" h="740">
                    <a:moveTo>
                      <a:pt x="0" y="13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b3b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3000" y="5365800"/>
                <a:ext cx="1409760" cy="417600"/>
              </a:xfrm>
              <a:custGeom>
                <a:avLst/>
                <a:gdLst/>
                <a:ahLst/>
                <a:rect l="l" t="t" r="r" b="b"/>
                <a:pathLst>
                  <a:path w="1776" h="527">
                    <a:moveTo>
                      <a:pt x="887" y="0"/>
                    </a:moveTo>
                    <a:lnTo>
                      <a:pt x="798" y="2"/>
                    </a:lnTo>
                    <a:lnTo>
                      <a:pt x="709" y="5"/>
                    </a:lnTo>
                    <a:lnTo>
                      <a:pt x="623" y="12"/>
                    </a:lnTo>
                    <a:lnTo>
                      <a:pt x="541" y="20"/>
                    </a:lnTo>
                    <a:lnTo>
                      <a:pt x="465" y="31"/>
                    </a:lnTo>
                    <a:lnTo>
                      <a:pt x="390" y="45"/>
                    </a:lnTo>
                    <a:lnTo>
                      <a:pt x="323" y="60"/>
                    </a:lnTo>
                    <a:lnTo>
                      <a:pt x="260" y="76"/>
                    </a:lnTo>
                    <a:lnTo>
                      <a:pt x="203" y="96"/>
                    </a:lnTo>
                    <a:lnTo>
                      <a:pt x="150" y="116"/>
                    </a:lnTo>
                    <a:lnTo>
                      <a:pt x="107" y="138"/>
                    </a:lnTo>
                    <a:lnTo>
                      <a:pt x="69" y="161"/>
                    </a:lnTo>
                    <a:lnTo>
                      <a:pt x="54" y="172"/>
                    </a:lnTo>
                    <a:lnTo>
                      <a:pt x="40" y="185"/>
                    </a:lnTo>
                    <a:lnTo>
                      <a:pt x="27" y="198"/>
                    </a:lnTo>
                    <a:lnTo>
                      <a:pt x="18" y="211"/>
                    </a:lnTo>
                    <a:lnTo>
                      <a:pt x="10" y="223"/>
                    </a:lnTo>
                    <a:lnTo>
                      <a:pt x="5" y="236"/>
                    </a:lnTo>
                    <a:lnTo>
                      <a:pt x="1" y="251"/>
                    </a:lnTo>
                    <a:lnTo>
                      <a:pt x="0" y="263"/>
                    </a:lnTo>
                    <a:lnTo>
                      <a:pt x="1" y="276"/>
                    </a:lnTo>
                    <a:lnTo>
                      <a:pt x="5" y="291"/>
                    </a:lnTo>
                    <a:lnTo>
                      <a:pt x="10" y="303"/>
                    </a:lnTo>
                    <a:lnTo>
                      <a:pt x="18" y="316"/>
                    </a:lnTo>
                    <a:lnTo>
                      <a:pt x="27" y="329"/>
                    </a:lnTo>
                    <a:lnTo>
                      <a:pt x="40" y="341"/>
                    </a:lnTo>
                    <a:lnTo>
                      <a:pt x="54" y="354"/>
                    </a:lnTo>
                    <a:lnTo>
                      <a:pt x="69" y="365"/>
                    </a:lnTo>
                    <a:lnTo>
                      <a:pt x="107" y="389"/>
                    </a:lnTo>
                    <a:lnTo>
                      <a:pt x="150" y="410"/>
                    </a:lnTo>
                    <a:lnTo>
                      <a:pt x="203" y="430"/>
                    </a:lnTo>
                    <a:lnTo>
                      <a:pt x="260" y="450"/>
                    </a:lnTo>
                    <a:lnTo>
                      <a:pt x="323" y="467"/>
                    </a:lnTo>
                    <a:lnTo>
                      <a:pt x="390" y="481"/>
                    </a:lnTo>
                    <a:lnTo>
                      <a:pt x="465" y="494"/>
                    </a:lnTo>
                    <a:lnTo>
                      <a:pt x="541" y="507"/>
                    </a:lnTo>
                    <a:lnTo>
                      <a:pt x="623" y="514"/>
                    </a:lnTo>
                    <a:lnTo>
                      <a:pt x="709" y="521"/>
                    </a:lnTo>
                    <a:lnTo>
                      <a:pt x="798" y="525"/>
                    </a:lnTo>
                    <a:lnTo>
                      <a:pt x="887" y="527"/>
                    </a:lnTo>
                    <a:lnTo>
                      <a:pt x="978" y="525"/>
                    </a:lnTo>
                    <a:lnTo>
                      <a:pt x="1067" y="521"/>
                    </a:lnTo>
                    <a:lnTo>
                      <a:pt x="1152" y="514"/>
                    </a:lnTo>
                    <a:lnTo>
                      <a:pt x="1234" y="507"/>
                    </a:lnTo>
                    <a:lnTo>
                      <a:pt x="1310" y="494"/>
                    </a:lnTo>
                    <a:lnTo>
                      <a:pt x="1385" y="481"/>
                    </a:lnTo>
                    <a:lnTo>
                      <a:pt x="1452" y="467"/>
                    </a:lnTo>
                    <a:lnTo>
                      <a:pt x="1516" y="450"/>
                    </a:lnTo>
                    <a:lnTo>
                      <a:pt x="1572" y="430"/>
                    </a:lnTo>
                    <a:lnTo>
                      <a:pt x="1625" y="410"/>
                    </a:lnTo>
                    <a:lnTo>
                      <a:pt x="1669" y="389"/>
                    </a:lnTo>
                    <a:lnTo>
                      <a:pt x="1707" y="365"/>
                    </a:lnTo>
                    <a:lnTo>
                      <a:pt x="1721" y="354"/>
                    </a:lnTo>
                    <a:lnTo>
                      <a:pt x="1736" y="341"/>
                    </a:lnTo>
                    <a:lnTo>
                      <a:pt x="1749" y="329"/>
                    </a:lnTo>
                    <a:lnTo>
                      <a:pt x="1758" y="316"/>
                    </a:lnTo>
                    <a:lnTo>
                      <a:pt x="1765" y="303"/>
                    </a:lnTo>
                    <a:lnTo>
                      <a:pt x="1770" y="291"/>
                    </a:lnTo>
                    <a:lnTo>
                      <a:pt x="1774" y="276"/>
                    </a:lnTo>
                    <a:lnTo>
                      <a:pt x="1776" y="263"/>
                    </a:lnTo>
                    <a:lnTo>
                      <a:pt x="1774" y="251"/>
                    </a:lnTo>
                    <a:lnTo>
                      <a:pt x="1770" y="236"/>
                    </a:lnTo>
                    <a:lnTo>
                      <a:pt x="1765" y="223"/>
                    </a:lnTo>
                    <a:lnTo>
                      <a:pt x="1758" y="211"/>
                    </a:lnTo>
                    <a:lnTo>
                      <a:pt x="1749" y="198"/>
                    </a:lnTo>
                    <a:lnTo>
                      <a:pt x="1736" y="185"/>
                    </a:lnTo>
                    <a:lnTo>
                      <a:pt x="1721" y="172"/>
                    </a:lnTo>
                    <a:lnTo>
                      <a:pt x="1707" y="161"/>
                    </a:lnTo>
                    <a:lnTo>
                      <a:pt x="1669" y="138"/>
                    </a:lnTo>
                    <a:lnTo>
                      <a:pt x="1625" y="116"/>
                    </a:lnTo>
                    <a:lnTo>
                      <a:pt x="1572" y="96"/>
                    </a:lnTo>
                    <a:lnTo>
                      <a:pt x="1516" y="76"/>
                    </a:lnTo>
                    <a:lnTo>
                      <a:pt x="1452" y="60"/>
                    </a:lnTo>
                    <a:lnTo>
                      <a:pt x="1385" y="45"/>
                    </a:lnTo>
                    <a:lnTo>
                      <a:pt x="1310" y="31"/>
                    </a:lnTo>
                    <a:lnTo>
                      <a:pt x="1234" y="20"/>
                    </a:lnTo>
                    <a:lnTo>
                      <a:pt x="1152" y="12"/>
                    </a:lnTo>
                    <a:lnTo>
                      <a:pt x="1067" y="5"/>
                    </a:lnTo>
                    <a:lnTo>
                      <a:pt x="978" y="2"/>
                    </a:lnTo>
                    <a:lnTo>
                      <a:pt x="887" y="0"/>
                    </a:lnTo>
                    <a:close/>
                  </a:path>
                </a:pathLst>
              </a:custGeom>
              <a:solidFill>
                <a:srgbClr val="96a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5557680" y="5356080"/>
              <a:ext cx="1409760" cy="1001880"/>
              <a:chOff x="5557680" y="5356080"/>
              <a:chExt cx="1409760" cy="1001880"/>
            </a:xfrm>
          </p:grpSpPr>
          <p:sp>
            <p:nvSpPr>
              <p:cNvPr id="1012" name=""/>
              <p:cNvSpPr/>
              <p:nvPr/>
            </p:nvSpPr>
            <p:spPr>
              <a:xfrm>
                <a:off x="5557680" y="5356080"/>
                <a:ext cx="1409760" cy="1001880"/>
              </a:xfrm>
              <a:custGeom>
                <a:avLst/>
                <a:gdLst/>
                <a:ahLst/>
                <a:rect l="l" t="t" r="r" b="b"/>
                <a:pathLst>
                  <a:path w="1776" h="1261">
                    <a:moveTo>
                      <a:pt x="887" y="0"/>
                    </a:moveTo>
                    <a:lnTo>
                      <a:pt x="796" y="2"/>
                    </a:lnTo>
                    <a:lnTo>
                      <a:pt x="709" y="5"/>
                    </a:lnTo>
                    <a:lnTo>
                      <a:pt x="624" y="11"/>
                    </a:lnTo>
                    <a:lnTo>
                      <a:pt x="542" y="20"/>
                    </a:lnTo>
                    <a:lnTo>
                      <a:pt x="465" y="29"/>
                    </a:lnTo>
                    <a:lnTo>
                      <a:pt x="391" y="42"/>
                    </a:lnTo>
                    <a:lnTo>
                      <a:pt x="324" y="56"/>
                    </a:lnTo>
                    <a:lnTo>
                      <a:pt x="260" y="72"/>
                    </a:lnTo>
                    <a:lnTo>
                      <a:pt x="204" y="91"/>
                    </a:lnTo>
                    <a:lnTo>
                      <a:pt x="153" y="109"/>
                    </a:lnTo>
                    <a:lnTo>
                      <a:pt x="107" y="131"/>
                    </a:lnTo>
                    <a:lnTo>
                      <a:pt x="87" y="140"/>
                    </a:lnTo>
                    <a:lnTo>
                      <a:pt x="69" y="152"/>
                    </a:lnTo>
                    <a:lnTo>
                      <a:pt x="55" y="163"/>
                    </a:lnTo>
                    <a:lnTo>
                      <a:pt x="40" y="174"/>
                    </a:lnTo>
                    <a:lnTo>
                      <a:pt x="27" y="187"/>
                    </a:lnTo>
                    <a:lnTo>
                      <a:pt x="18" y="198"/>
                    </a:lnTo>
                    <a:lnTo>
                      <a:pt x="11" y="211"/>
                    </a:lnTo>
                    <a:lnTo>
                      <a:pt x="5" y="223"/>
                    </a:lnTo>
                    <a:lnTo>
                      <a:pt x="2" y="236"/>
                    </a:lnTo>
                    <a:lnTo>
                      <a:pt x="0" y="249"/>
                    </a:lnTo>
                    <a:lnTo>
                      <a:pt x="0" y="1012"/>
                    </a:lnTo>
                    <a:lnTo>
                      <a:pt x="2" y="1025"/>
                    </a:lnTo>
                    <a:lnTo>
                      <a:pt x="5" y="1038"/>
                    </a:lnTo>
                    <a:lnTo>
                      <a:pt x="11" y="1050"/>
                    </a:lnTo>
                    <a:lnTo>
                      <a:pt x="18" y="1063"/>
                    </a:lnTo>
                    <a:lnTo>
                      <a:pt x="27" y="1074"/>
                    </a:lnTo>
                    <a:lnTo>
                      <a:pt x="40" y="1087"/>
                    </a:lnTo>
                    <a:lnTo>
                      <a:pt x="55" y="1098"/>
                    </a:lnTo>
                    <a:lnTo>
                      <a:pt x="69" y="1110"/>
                    </a:lnTo>
                    <a:lnTo>
                      <a:pt x="87" y="1121"/>
                    </a:lnTo>
                    <a:lnTo>
                      <a:pt x="107" y="1130"/>
                    </a:lnTo>
                    <a:lnTo>
                      <a:pt x="153" y="1152"/>
                    </a:lnTo>
                    <a:lnTo>
                      <a:pt x="204" y="1170"/>
                    </a:lnTo>
                    <a:lnTo>
                      <a:pt x="260" y="1188"/>
                    </a:lnTo>
                    <a:lnTo>
                      <a:pt x="324" y="1205"/>
                    </a:lnTo>
                    <a:lnTo>
                      <a:pt x="391" y="1219"/>
                    </a:lnTo>
                    <a:lnTo>
                      <a:pt x="465" y="1232"/>
                    </a:lnTo>
                    <a:lnTo>
                      <a:pt x="542" y="1241"/>
                    </a:lnTo>
                    <a:lnTo>
                      <a:pt x="624" y="1250"/>
                    </a:lnTo>
                    <a:lnTo>
                      <a:pt x="709" y="1256"/>
                    </a:lnTo>
                    <a:lnTo>
                      <a:pt x="796" y="1259"/>
                    </a:lnTo>
                    <a:lnTo>
                      <a:pt x="887" y="1261"/>
                    </a:lnTo>
                    <a:lnTo>
                      <a:pt x="978" y="1259"/>
                    </a:lnTo>
                    <a:lnTo>
                      <a:pt x="1067" y="1256"/>
                    </a:lnTo>
                    <a:lnTo>
                      <a:pt x="1151" y="1250"/>
                    </a:lnTo>
                    <a:lnTo>
                      <a:pt x="1233" y="1241"/>
                    </a:lnTo>
                    <a:lnTo>
                      <a:pt x="1311" y="1232"/>
                    </a:lnTo>
                    <a:lnTo>
                      <a:pt x="1384" y="1219"/>
                    </a:lnTo>
                    <a:lnTo>
                      <a:pt x="1453" y="1205"/>
                    </a:lnTo>
                    <a:lnTo>
                      <a:pt x="1516" y="1188"/>
                    </a:lnTo>
                    <a:lnTo>
                      <a:pt x="1573" y="1170"/>
                    </a:lnTo>
                    <a:lnTo>
                      <a:pt x="1625" y="1152"/>
                    </a:lnTo>
                    <a:lnTo>
                      <a:pt x="1669" y="1130"/>
                    </a:lnTo>
                    <a:lnTo>
                      <a:pt x="1689" y="1121"/>
                    </a:lnTo>
                    <a:lnTo>
                      <a:pt x="1707" y="1110"/>
                    </a:lnTo>
                    <a:lnTo>
                      <a:pt x="1722" y="1098"/>
                    </a:lnTo>
                    <a:lnTo>
                      <a:pt x="1736" y="1087"/>
                    </a:lnTo>
                    <a:lnTo>
                      <a:pt x="1749" y="1074"/>
                    </a:lnTo>
                    <a:lnTo>
                      <a:pt x="1758" y="1063"/>
                    </a:lnTo>
                    <a:lnTo>
                      <a:pt x="1765" y="1050"/>
                    </a:lnTo>
                    <a:lnTo>
                      <a:pt x="1773" y="1038"/>
                    </a:lnTo>
                    <a:lnTo>
                      <a:pt x="1774" y="1025"/>
                    </a:lnTo>
                    <a:lnTo>
                      <a:pt x="1776" y="1012"/>
                    </a:lnTo>
                    <a:lnTo>
                      <a:pt x="1776" y="249"/>
                    </a:lnTo>
                    <a:lnTo>
                      <a:pt x="1774" y="236"/>
                    </a:lnTo>
                    <a:lnTo>
                      <a:pt x="1773" y="223"/>
                    </a:lnTo>
                    <a:lnTo>
                      <a:pt x="1765" y="211"/>
                    </a:lnTo>
                    <a:lnTo>
                      <a:pt x="1758" y="198"/>
                    </a:lnTo>
                    <a:lnTo>
                      <a:pt x="1749" y="187"/>
                    </a:lnTo>
                    <a:lnTo>
                      <a:pt x="1736" y="174"/>
                    </a:lnTo>
                    <a:lnTo>
                      <a:pt x="1722" y="163"/>
                    </a:lnTo>
                    <a:lnTo>
                      <a:pt x="1707" y="152"/>
                    </a:lnTo>
                    <a:lnTo>
                      <a:pt x="1689" y="140"/>
                    </a:lnTo>
                    <a:lnTo>
                      <a:pt x="1669" y="131"/>
                    </a:lnTo>
                    <a:lnTo>
                      <a:pt x="1625" y="109"/>
                    </a:lnTo>
                    <a:lnTo>
                      <a:pt x="1573" y="91"/>
                    </a:lnTo>
                    <a:lnTo>
                      <a:pt x="1516" y="72"/>
                    </a:lnTo>
                    <a:lnTo>
                      <a:pt x="1453" y="56"/>
                    </a:lnTo>
                    <a:lnTo>
                      <a:pt x="1384" y="42"/>
                    </a:lnTo>
                    <a:lnTo>
                      <a:pt x="1311" y="29"/>
                    </a:lnTo>
                    <a:lnTo>
                      <a:pt x="1233" y="20"/>
                    </a:lnTo>
                    <a:lnTo>
                      <a:pt x="1151" y="11"/>
                    </a:lnTo>
                    <a:lnTo>
                      <a:pt x="1067" y="5"/>
                    </a:lnTo>
                    <a:lnTo>
                      <a:pt x="978" y="2"/>
                    </a:lnTo>
                    <a:lnTo>
                      <a:pt x="887" y="0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557680" y="5554800"/>
                <a:ext cx="1409760" cy="195120"/>
              </a:xfrm>
              <a:custGeom>
                <a:avLst/>
                <a:gdLst/>
                <a:ahLst/>
                <a:rect l="l" t="t" r="r" b="b"/>
                <a:pathLst>
                  <a:path w="1776" h="247">
                    <a:moveTo>
                      <a:pt x="0" y="0"/>
                    </a:moveTo>
                    <a:lnTo>
                      <a:pt x="2" y="13"/>
                    </a:lnTo>
                    <a:lnTo>
                      <a:pt x="5" y="25"/>
                    </a:lnTo>
                    <a:lnTo>
                      <a:pt x="11" y="38"/>
                    </a:lnTo>
                    <a:lnTo>
                      <a:pt x="18" y="49"/>
                    </a:lnTo>
                    <a:lnTo>
                      <a:pt x="27" y="62"/>
                    </a:lnTo>
                    <a:lnTo>
                      <a:pt x="40" y="72"/>
                    </a:lnTo>
                    <a:lnTo>
                      <a:pt x="55" y="85"/>
                    </a:lnTo>
                    <a:lnTo>
                      <a:pt x="69" y="96"/>
                    </a:lnTo>
                    <a:lnTo>
                      <a:pt x="87" y="107"/>
                    </a:lnTo>
                    <a:lnTo>
                      <a:pt x="107" y="118"/>
                    </a:lnTo>
                    <a:lnTo>
                      <a:pt x="153" y="138"/>
                    </a:lnTo>
                    <a:lnTo>
                      <a:pt x="204" y="156"/>
                    </a:lnTo>
                    <a:lnTo>
                      <a:pt x="260" y="174"/>
                    </a:lnTo>
                    <a:lnTo>
                      <a:pt x="324" y="191"/>
                    </a:lnTo>
                    <a:lnTo>
                      <a:pt x="391" y="205"/>
                    </a:lnTo>
                    <a:lnTo>
                      <a:pt x="465" y="218"/>
                    </a:lnTo>
                    <a:lnTo>
                      <a:pt x="542" y="227"/>
                    </a:lnTo>
                    <a:lnTo>
                      <a:pt x="624" y="236"/>
                    </a:lnTo>
                    <a:lnTo>
                      <a:pt x="709" y="242"/>
                    </a:lnTo>
                    <a:lnTo>
                      <a:pt x="796" y="245"/>
                    </a:lnTo>
                    <a:lnTo>
                      <a:pt x="887" y="247"/>
                    </a:lnTo>
                    <a:lnTo>
                      <a:pt x="978" y="245"/>
                    </a:lnTo>
                    <a:lnTo>
                      <a:pt x="1067" y="242"/>
                    </a:lnTo>
                    <a:lnTo>
                      <a:pt x="1151" y="236"/>
                    </a:lnTo>
                    <a:lnTo>
                      <a:pt x="1233" y="227"/>
                    </a:lnTo>
                    <a:lnTo>
                      <a:pt x="1311" y="218"/>
                    </a:lnTo>
                    <a:lnTo>
                      <a:pt x="1384" y="205"/>
                    </a:lnTo>
                    <a:lnTo>
                      <a:pt x="1453" y="191"/>
                    </a:lnTo>
                    <a:lnTo>
                      <a:pt x="1516" y="174"/>
                    </a:lnTo>
                    <a:lnTo>
                      <a:pt x="1573" y="156"/>
                    </a:lnTo>
                    <a:lnTo>
                      <a:pt x="1625" y="138"/>
                    </a:lnTo>
                    <a:lnTo>
                      <a:pt x="1669" y="118"/>
                    </a:lnTo>
                    <a:lnTo>
                      <a:pt x="1689" y="107"/>
                    </a:lnTo>
                    <a:lnTo>
                      <a:pt x="1707" y="96"/>
                    </a:lnTo>
                    <a:lnTo>
                      <a:pt x="1722" y="85"/>
                    </a:lnTo>
                    <a:lnTo>
                      <a:pt x="1736" y="72"/>
                    </a:lnTo>
                    <a:lnTo>
                      <a:pt x="1749" y="62"/>
                    </a:lnTo>
                    <a:lnTo>
                      <a:pt x="1758" y="49"/>
                    </a:lnTo>
                    <a:lnTo>
                      <a:pt x="1765" y="38"/>
                    </a:lnTo>
                    <a:lnTo>
                      <a:pt x="1773" y="25"/>
                    </a:lnTo>
                    <a:lnTo>
                      <a:pt x="1774" y="13"/>
                    </a:lnTo>
                    <a:lnTo>
                      <a:pt x="1776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7435800" y="5759280"/>
              <a:ext cx="3175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600680" y="5796000"/>
              <a:ext cx="15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5342040" y="5813280"/>
              <a:ext cx="1946160" cy="596880"/>
              <a:chOff x="5342040" y="5813280"/>
              <a:chExt cx="1946160" cy="596880"/>
            </a:xfrm>
          </p:grpSpPr>
          <p:sp>
            <p:nvSpPr>
              <p:cNvPr id="1017" name=""/>
              <p:cNvSpPr/>
              <p:nvPr/>
            </p:nvSpPr>
            <p:spPr>
              <a:xfrm>
                <a:off x="5342040" y="5813280"/>
                <a:ext cx="1863720" cy="554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188120" y="6323040"/>
                <a:ext cx="100080" cy="87120"/>
              </a:xfrm>
              <a:custGeom>
                <a:avLst/>
                <a:gdLst/>
                <a:ahLst/>
                <a:rect l="l" t="t" r="r" b="b"/>
                <a:pathLst>
                  <a:path w="126" h="109">
                    <a:moveTo>
                      <a:pt x="0" y="109"/>
                    </a:moveTo>
                    <a:lnTo>
                      <a:pt x="126" y="87"/>
                    </a:lnTo>
                    <a:lnTo>
                      <a:pt x="33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5378400" y="5640480"/>
              <a:ext cx="2097000" cy="752040"/>
              <a:chOff x="5378400" y="5640480"/>
              <a:chExt cx="2097000" cy="752040"/>
            </a:xfrm>
          </p:grpSpPr>
          <p:sp>
            <p:nvSpPr>
              <p:cNvPr id="1020" name=""/>
              <p:cNvSpPr/>
              <p:nvPr/>
            </p:nvSpPr>
            <p:spPr>
              <a:xfrm flipV="1">
                <a:off x="5378400" y="5682960"/>
                <a:ext cx="2014560" cy="709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373880" y="5640480"/>
                <a:ext cx="101520" cy="87120"/>
              </a:xfrm>
              <a:custGeom>
                <a:avLst/>
                <a:gdLst/>
                <a:ahLst/>
                <a:rect l="l" t="t" r="r" b="b"/>
                <a:pathLst>
                  <a:path w="127" h="109">
                    <a:moveTo>
                      <a:pt x="38" y="109"/>
                    </a:moveTo>
                    <a:lnTo>
                      <a:pt x="127" y="16"/>
                    </a:lnTo>
                    <a:lnTo>
                      <a:pt x="0" y="0"/>
                    </a:lnTo>
                    <a:lnTo>
                      <a:pt x="38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6208560" y="5086440"/>
              <a:ext cx="90720" cy="982440"/>
              <a:chOff x="6208560" y="5086440"/>
              <a:chExt cx="90720" cy="982440"/>
            </a:xfrm>
          </p:grpSpPr>
          <p:sp>
            <p:nvSpPr>
              <p:cNvPr id="1023" name=""/>
              <p:cNvSpPr/>
              <p:nvPr/>
            </p:nvSpPr>
            <p:spPr>
              <a:xfrm flipV="1">
                <a:off x="6253200" y="5170320"/>
                <a:ext cx="1440" cy="89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208560" y="508644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114" y="113"/>
                    </a:moveTo>
                    <a:lnTo>
                      <a:pt x="58" y="0"/>
                    </a:lnTo>
                    <a:lnTo>
                      <a:pt x="0" y="113"/>
                    </a:lnTo>
                    <a:lnTo>
                      <a:pt x="114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5905440" y="4619520"/>
              <a:ext cx="15350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103080" y="4653000"/>
              <a:ext cx="2901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352200" y="4719600"/>
              <a:ext cx="157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(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538680" y="4746600"/>
              <a:ext cx="15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795360" y="4719600"/>
              <a:ext cx="595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/ 2R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"/>
            <p:cNvGrpSpPr/>
            <p:nvPr/>
          </p:nvGrpSpPr>
          <p:grpSpPr>
            <a:xfrm>
              <a:off x="6272280" y="5973840"/>
              <a:ext cx="1136520" cy="113760"/>
              <a:chOff x="6272280" y="5973840"/>
              <a:chExt cx="1136520" cy="113760"/>
            </a:xfrm>
          </p:grpSpPr>
          <p:sp>
            <p:nvSpPr>
              <p:cNvPr id="1031" name=""/>
              <p:cNvSpPr/>
              <p:nvPr/>
            </p:nvSpPr>
            <p:spPr>
              <a:xfrm flipV="1">
                <a:off x="6272280" y="6013080"/>
                <a:ext cx="1136520" cy="74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16640" y="597384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117" h="114">
                    <a:moveTo>
                      <a:pt x="7" y="114"/>
                    </a:moveTo>
                    <a:lnTo>
                      <a:pt x="117" y="51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7211880" y="6137280"/>
              <a:ext cx="3286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368480" y="6137280"/>
              <a:ext cx="14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194600" y="5430960"/>
              <a:ext cx="3096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278840" y="5286240"/>
              <a:ext cx="142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6010200" y="6095880"/>
              <a:ext cx="255600" cy="250920"/>
              <a:chOff x="6010200" y="6095880"/>
              <a:chExt cx="255600" cy="250920"/>
            </a:xfrm>
          </p:grpSpPr>
          <p:sp>
            <p:nvSpPr>
              <p:cNvPr id="1038" name=""/>
              <p:cNvSpPr/>
              <p:nvPr/>
            </p:nvSpPr>
            <p:spPr>
              <a:xfrm>
                <a:off x="6105600" y="6095880"/>
                <a:ext cx="160200" cy="157320"/>
              </a:xfrm>
              <a:custGeom>
                <a:avLst/>
                <a:gdLst/>
                <a:ahLst/>
                <a:rect l="l" t="t" r="r" b="b"/>
                <a:pathLst>
                  <a:path w="204" h="199">
                    <a:moveTo>
                      <a:pt x="204" y="31"/>
                    </a:moveTo>
                    <a:lnTo>
                      <a:pt x="173" y="0"/>
                    </a:lnTo>
                    <a:lnTo>
                      <a:pt x="0" y="168"/>
                    </a:lnTo>
                    <a:lnTo>
                      <a:pt x="31" y="199"/>
                    </a:lnTo>
                    <a:lnTo>
                      <a:pt x="20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010200" y="6180120"/>
                <a:ext cx="165240" cy="166680"/>
              </a:xfrm>
              <a:custGeom>
                <a:avLst/>
                <a:gdLst/>
                <a:ahLst/>
                <a:rect l="l" t="t" r="r" b="b"/>
                <a:pathLst>
                  <a:path w="209" h="209">
                    <a:moveTo>
                      <a:pt x="71" y="0"/>
                    </a:moveTo>
                    <a:lnTo>
                      <a:pt x="0" y="209"/>
                    </a:lnTo>
                    <a:lnTo>
                      <a:pt x="209" y="141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0" name=""/>
            <p:cNvSpPr/>
            <p:nvPr/>
          </p:nvSpPr>
          <p:spPr>
            <a:xfrm>
              <a:off x="6033960" y="6375240"/>
              <a:ext cx="3430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83000" y="6375240"/>
              <a:ext cx="18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5553000" y="5365800"/>
              <a:ext cx="1409760" cy="995400"/>
              <a:chOff x="5553000" y="5365800"/>
              <a:chExt cx="1409760" cy="995400"/>
            </a:xfrm>
          </p:grpSpPr>
          <p:sp>
            <p:nvSpPr>
              <p:cNvPr id="1043" name=""/>
              <p:cNvSpPr/>
              <p:nvPr/>
            </p:nvSpPr>
            <p:spPr>
              <a:xfrm>
                <a:off x="5553000" y="5575320"/>
                <a:ext cx="1800" cy="585720"/>
              </a:xfrm>
              <a:custGeom>
                <a:avLst/>
                <a:gdLst/>
                <a:ahLst/>
                <a:rect l="l" t="t" r="r" b="b"/>
                <a:pathLst>
                  <a:path w="1" h="740">
                    <a:moveTo>
                      <a:pt x="0" y="0"/>
                    </a:moveTo>
                    <a:lnTo>
                      <a:pt x="1" y="13"/>
                    </a:lnTo>
                    <a:lnTo>
                      <a:pt x="1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92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554800" y="5584680"/>
                <a:ext cx="2880" cy="588960"/>
              </a:xfrm>
              <a:custGeom>
                <a:avLst/>
                <a:gdLst/>
                <a:ahLst/>
                <a:rect l="l" t="t" r="r" b="b"/>
                <a:pathLst>
                  <a:path w="4" h="742">
                    <a:moveTo>
                      <a:pt x="0" y="0"/>
                    </a:moveTo>
                    <a:lnTo>
                      <a:pt x="4" y="15"/>
                    </a:lnTo>
                    <a:lnTo>
                      <a:pt x="4" y="74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557680" y="5595840"/>
                <a:ext cx="5040" cy="587520"/>
              </a:xfrm>
              <a:custGeom>
                <a:avLst/>
                <a:gdLst/>
                <a:ahLst/>
                <a:rect l="l" t="t" r="r" b="b"/>
                <a:pathLst>
                  <a:path w="5" h="739">
                    <a:moveTo>
                      <a:pt x="0" y="0"/>
                    </a:moveTo>
                    <a:lnTo>
                      <a:pt x="5" y="12"/>
                    </a:lnTo>
                    <a:lnTo>
                      <a:pt x="5" y="73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557680" y="5595840"/>
                <a:ext cx="1800" cy="581040"/>
              </a:xfrm>
              <a:custGeom>
                <a:avLst/>
                <a:gdLst/>
                <a:ahLst/>
                <a:rect l="l" t="t" r="r" b="b"/>
                <a:pathLst>
                  <a:path w="2" h="732">
                    <a:moveTo>
                      <a:pt x="0" y="0"/>
                    </a:moveTo>
                    <a:lnTo>
                      <a:pt x="2" y="5"/>
                    </a:lnTo>
                    <a:lnTo>
                      <a:pt x="2" y="73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559480" y="5600880"/>
                <a:ext cx="3240" cy="582480"/>
              </a:xfrm>
              <a:custGeom>
                <a:avLst/>
                <a:gdLst/>
                <a:ahLst/>
                <a:rect l="l" t="t" r="r" b="b"/>
                <a:pathLst>
                  <a:path w="3" h="734">
                    <a:moveTo>
                      <a:pt x="0" y="0"/>
                    </a:moveTo>
                    <a:lnTo>
                      <a:pt x="3" y="7"/>
                    </a:lnTo>
                    <a:lnTo>
                      <a:pt x="3" y="73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562720" y="5607000"/>
                <a:ext cx="4680" cy="585720"/>
              </a:xfrm>
              <a:custGeom>
                <a:avLst/>
                <a:gdLst/>
                <a:ahLst/>
                <a:rect l="l" t="t" r="r" b="b"/>
                <a:pathLst>
                  <a:path w="8" h="740">
                    <a:moveTo>
                      <a:pt x="0" y="0"/>
                    </a:moveTo>
                    <a:lnTo>
                      <a:pt x="8" y="13"/>
                    </a:lnTo>
                    <a:lnTo>
                      <a:pt x="8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562720" y="5607000"/>
                <a:ext cx="1440" cy="579600"/>
              </a:xfrm>
              <a:custGeom>
                <a:avLst/>
                <a:gdLst/>
                <a:ahLst/>
                <a:rect l="l" t="t" r="r" b="b"/>
                <a:pathLst>
                  <a:path w="2" h="731">
                    <a:moveTo>
                      <a:pt x="0" y="0"/>
                    </a:moveTo>
                    <a:lnTo>
                      <a:pt x="2" y="4"/>
                    </a:lnTo>
                    <a:lnTo>
                      <a:pt x="2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564160" y="5608800"/>
                <a:ext cx="1440" cy="582480"/>
              </a:xfrm>
              <a:custGeom>
                <a:avLst/>
                <a:gdLst/>
                <a:ahLst/>
                <a:rect l="l" t="t" r="r" b="b"/>
                <a:pathLst>
                  <a:path w="2" h="732">
                    <a:moveTo>
                      <a:pt x="0" y="0"/>
                    </a:moveTo>
                    <a:lnTo>
                      <a:pt x="2" y="5"/>
                    </a:lnTo>
                    <a:lnTo>
                      <a:pt x="2" y="73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565600" y="5613480"/>
                <a:ext cx="180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ba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567400" y="5616720"/>
                <a:ext cx="7920" cy="587160"/>
              </a:xfrm>
              <a:custGeom>
                <a:avLst/>
                <a:gdLst/>
                <a:ahLst/>
                <a:rect l="l" t="t" r="r" b="b"/>
                <a:pathLst>
                  <a:path w="9" h="740">
                    <a:moveTo>
                      <a:pt x="0" y="0"/>
                    </a:moveTo>
                    <a:lnTo>
                      <a:pt x="9" y="13"/>
                    </a:lnTo>
                    <a:lnTo>
                      <a:pt x="9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567400" y="561672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3" h="732">
                    <a:moveTo>
                      <a:pt x="0" y="0"/>
                    </a:moveTo>
                    <a:lnTo>
                      <a:pt x="3" y="5"/>
                    </a:lnTo>
                    <a:lnTo>
                      <a:pt x="3" y="732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570640" y="562140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b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573880" y="5624640"/>
                <a:ext cx="1440" cy="579240"/>
              </a:xfrm>
              <a:custGeom>
                <a:avLst/>
                <a:gdLst/>
                <a:ahLst/>
                <a:rect l="l" t="t" r="r" b="b"/>
                <a:pathLst>
                  <a:path w="2" h="731">
                    <a:moveTo>
                      <a:pt x="0" y="0"/>
                    </a:moveTo>
                    <a:lnTo>
                      <a:pt x="2" y="4"/>
                    </a:lnTo>
                    <a:lnTo>
                      <a:pt x="2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575320" y="5626080"/>
                <a:ext cx="9360" cy="587520"/>
              </a:xfrm>
              <a:custGeom>
                <a:avLst/>
                <a:gdLst/>
                <a:ahLst/>
                <a:rect l="l" t="t" r="r" b="b"/>
                <a:pathLst>
                  <a:path w="13" h="739">
                    <a:moveTo>
                      <a:pt x="0" y="0"/>
                    </a:moveTo>
                    <a:lnTo>
                      <a:pt x="13" y="12"/>
                    </a:lnTo>
                    <a:lnTo>
                      <a:pt x="13" y="73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575320" y="562608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3" h="730">
                    <a:moveTo>
                      <a:pt x="0" y="0"/>
                    </a:moveTo>
                    <a:lnTo>
                      <a:pt x="3" y="3"/>
                    </a:lnTo>
                    <a:lnTo>
                      <a:pt x="3" y="73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c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578560" y="562932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581800" y="5632560"/>
                <a:ext cx="1440" cy="57780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0"/>
                    </a:moveTo>
                    <a:lnTo>
                      <a:pt x="2" y="2"/>
                    </a:lnTo>
                    <a:lnTo>
                      <a:pt x="2" y="72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c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581800" y="5634000"/>
                <a:ext cx="2880" cy="579600"/>
              </a:xfrm>
              <a:custGeom>
                <a:avLst/>
                <a:gdLst/>
                <a:ahLst/>
                <a:rect l="l" t="t" r="r" b="b"/>
                <a:pathLst>
                  <a:path w="4" h="730">
                    <a:moveTo>
                      <a:pt x="0" y="0"/>
                    </a:moveTo>
                    <a:lnTo>
                      <a:pt x="4" y="3"/>
                    </a:lnTo>
                    <a:lnTo>
                      <a:pt x="4" y="73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c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584680" y="5637240"/>
                <a:ext cx="12960" cy="587520"/>
              </a:xfrm>
              <a:custGeom>
                <a:avLst/>
                <a:gdLst/>
                <a:ahLst/>
                <a:rect l="l" t="t" r="r" b="b"/>
                <a:pathLst>
                  <a:path w="14" h="740">
                    <a:moveTo>
                      <a:pt x="0" y="0"/>
                    </a:moveTo>
                    <a:lnTo>
                      <a:pt x="14" y="13"/>
                    </a:lnTo>
                    <a:lnTo>
                      <a:pt x="14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584680" y="563724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3" h="731">
                    <a:moveTo>
                      <a:pt x="0" y="0"/>
                    </a:moveTo>
                    <a:lnTo>
                      <a:pt x="3" y="4"/>
                    </a:lnTo>
                    <a:lnTo>
                      <a:pt x="3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587920" y="5640480"/>
                <a:ext cx="3240" cy="5778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0"/>
                    </a:moveTo>
                    <a:lnTo>
                      <a:pt x="4" y="2"/>
                    </a:lnTo>
                    <a:lnTo>
                      <a:pt x="4" y="72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7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591160" y="564048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3" h="731">
                    <a:moveTo>
                      <a:pt x="0" y="0"/>
                    </a:moveTo>
                    <a:lnTo>
                      <a:pt x="3" y="3"/>
                    </a:lnTo>
                    <a:lnTo>
                      <a:pt x="3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594400" y="564372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0"/>
                    </a:moveTo>
                    <a:lnTo>
                      <a:pt x="4" y="4"/>
                    </a:lnTo>
                    <a:lnTo>
                      <a:pt x="4" y="731"/>
                    </a:lnTo>
                    <a:lnTo>
                      <a:pt x="0" y="7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9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597640" y="5646600"/>
                <a:ext cx="11160" cy="586080"/>
              </a:xfrm>
              <a:custGeom>
                <a:avLst/>
                <a:gdLst/>
                <a:ahLst/>
                <a:rect l="l" t="t" r="r" b="b"/>
                <a:pathLst>
                  <a:path w="15" h="738">
                    <a:moveTo>
                      <a:pt x="0" y="0"/>
                    </a:moveTo>
                    <a:lnTo>
                      <a:pt x="15" y="11"/>
                    </a:lnTo>
                    <a:lnTo>
                      <a:pt x="15" y="738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597640" y="5646600"/>
                <a:ext cx="3240" cy="579600"/>
              </a:xfrm>
              <a:custGeom>
                <a:avLst/>
                <a:gdLst/>
                <a:ahLst/>
                <a:rect l="l" t="t" r="r" b="b"/>
                <a:pathLst>
                  <a:path w="6" h="731">
                    <a:moveTo>
                      <a:pt x="0" y="0"/>
                    </a:moveTo>
                    <a:lnTo>
                      <a:pt x="6" y="4"/>
                    </a:lnTo>
                    <a:lnTo>
                      <a:pt x="6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600880" y="5649840"/>
                <a:ext cx="2880" cy="579600"/>
              </a:xfrm>
              <a:custGeom>
                <a:avLst/>
                <a:gdLst/>
                <a:ahLst/>
                <a:rect l="l" t="t" r="r" b="b"/>
                <a:pathLst>
                  <a:path w="3" h="730">
                    <a:moveTo>
                      <a:pt x="0" y="0"/>
                    </a:moveTo>
                    <a:lnTo>
                      <a:pt x="3" y="3"/>
                    </a:lnTo>
                    <a:lnTo>
                      <a:pt x="3" y="73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603760" y="5653080"/>
                <a:ext cx="5040" cy="579600"/>
              </a:xfrm>
              <a:custGeom>
                <a:avLst/>
                <a:gdLst/>
                <a:ahLst/>
                <a:rect l="l" t="t" r="r" b="b"/>
                <a:pathLst>
                  <a:path w="6" h="731">
                    <a:moveTo>
                      <a:pt x="0" y="0"/>
                    </a:moveTo>
                    <a:lnTo>
                      <a:pt x="6" y="4"/>
                    </a:lnTo>
                    <a:lnTo>
                      <a:pt x="6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608800" y="5656320"/>
                <a:ext cx="29880" cy="595080"/>
              </a:xfrm>
              <a:custGeom>
                <a:avLst/>
                <a:gdLst/>
                <a:ahLst/>
                <a:rect l="l" t="t" r="r" b="b"/>
                <a:pathLst>
                  <a:path w="38" h="751">
                    <a:moveTo>
                      <a:pt x="0" y="0"/>
                    </a:moveTo>
                    <a:lnTo>
                      <a:pt x="38" y="24"/>
                    </a:lnTo>
                    <a:lnTo>
                      <a:pt x="38" y="75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608800" y="5656320"/>
                <a:ext cx="15840" cy="585720"/>
              </a:xfrm>
              <a:custGeom>
                <a:avLst/>
                <a:gdLst/>
                <a:ahLst/>
                <a:rect l="l" t="t" r="r" b="b"/>
                <a:pathLst>
                  <a:path w="20" h="740">
                    <a:moveTo>
                      <a:pt x="0" y="0"/>
                    </a:moveTo>
                    <a:lnTo>
                      <a:pt x="20" y="13"/>
                    </a:lnTo>
                    <a:lnTo>
                      <a:pt x="20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624640" y="5665680"/>
                <a:ext cx="14040" cy="585720"/>
              </a:xfrm>
              <a:custGeom>
                <a:avLst/>
                <a:gdLst/>
                <a:ahLst/>
                <a:rect l="l" t="t" r="r" b="b"/>
                <a:pathLst>
                  <a:path w="18" h="738">
                    <a:moveTo>
                      <a:pt x="0" y="0"/>
                    </a:moveTo>
                    <a:lnTo>
                      <a:pt x="18" y="11"/>
                    </a:lnTo>
                    <a:lnTo>
                      <a:pt x="18" y="738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638680" y="5673600"/>
                <a:ext cx="34920" cy="595440"/>
              </a:xfrm>
              <a:custGeom>
                <a:avLst/>
                <a:gdLst/>
                <a:ahLst/>
                <a:rect l="l" t="t" r="r" b="b"/>
                <a:pathLst>
                  <a:path w="43" h="748">
                    <a:moveTo>
                      <a:pt x="0" y="0"/>
                    </a:moveTo>
                    <a:lnTo>
                      <a:pt x="43" y="21"/>
                    </a:lnTo>
                    <a:lnTo>
                      <a:pt x="43" y="748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673600" y="5691240"/>
                <a:ext cx="41400" cy="593640"/>
              </a:xfrm>
              <a:custGeom>
                <a:avLst/>
                <a:gdLst/>
                <a:ahLst/>
                <a:rect l="l" t="t" r="r" b="b"/>
                <a:pathLst>
                  <a:path w="53" h="747">
                    <a:moveTo>
                      <a:pt x="0" y="0"/>
                    </a:moveTo>
                    <a:lnTo>
                      <a:pt x="53" y="20"/>
                    </a:lnTo>
                    <a:lnTo>
                      <a:pt x="53" y="747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715000" y="5707080"/>
                <a:ext cx="44280" cy="593640"/>
              </a:xfrm>
              <a:custGeom>
                <a:avLst/>
                <a:gdLst/>
                <a:ahLst/>
                <a:rect l="l" t="t" r="r" b="b"/>
                <a:pathLst>
                  <a:path w="57" h="747">
                    <a:moveTo>
                      <a:pt x="0" y="0"/>
                    </a:moveTo>
                    <a:lnTo>
                      <a:pt x="57" y="20"/>
                    </a:lnTo>
                    <a:lnTo>
                      <a:pt x="57" y="747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759280" y="5722920"/>
                <a:ext cx="51120" cy="590400"/>
              </a:xfrm>
              <a:custGeom>
                <a:avLst/>
                <a:gdLst/>
                <a:ahLst/>
                <a:rect l="l" t="t" r="r" b="b"/>
                <a:pathLst>
                  <a:path w="63" h="744">
                    <a:moveTo>
                      <a:pt x="0" y="0"/>
                    </a:moveTo>
                    <a:lnTo>
                      <a:pt x="63" y="17"/>
                    </a:lnTo>
                    <a:lnTo>
                      <a:pt x="63" y="74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810400" y="5735520"/>
                <a:ext cx="54000" cy="588960"/>
              </a:xfrm>
              <a:custGeom>
                <a:avLst/>
                <a:gdLst/>
                <a:ahLst/>
                <a:rect l="l" t="t" r="r" b="b"/>
                <a:pathLst>
                  <a:path w="67" h="741">
                    <a:moveTo>
                      <a:pt x="0" y="0"/>
                    </a:moveTo>
                    <a:lnTo>
                      <a:pt x="67" y="14"/>
                    </a:lnTo>
                    <a:lnTo>
                      <a:pt x="67" y="74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864400" y="5748480"/>
                <a:ext cx="58680" cy="587160"/>
              </a:xfrm>
              <a:custGeom>
                <a:avLst/>
                <a:gdLst/>
                <a:ahLst/>
                <a:rect l="l" t="t" r="r" b="b"/>
                <a:pathLst>
                  <a:path w="75" h="740">
                    <a:moveTo>
                      <a:pt x="0" y="0"/>
                    </a:moveTo>
                    <a:lnTo>
                      <a:pt x="75" y="13"/>
                    </a:lnTo>
                    <a:lnTo>
                      <a:pt x="75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923080" y="5757840"/>
                <a:ext cx="60120" cy="587520"/>
              </a:xfrm>
              <a:custGeom>
                <a:avLst/>
                <a:gdLst/>
                <a:ahLst/>
                <a:rect l="l" t="t" r="r" b="b"/>
                <a:pathLst>
                  <a:path w="76" h="740">
                    <a:moveTo>
                      <a:pt x="0" y="0"/>
                    </a:moveTo>
                    <a:lnTo>
                      <a:pt x="76" y="13"/>
                    </a:lnTo>
                    <a:lnTo>
                      <a:pt x="76" y="740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983200" y="5767560"/>
                <a:ext cx="65160" cy="583920"/>
              </a:xfrm>
              <a:custGeom>
                <a:avLst/>
                <a:gdLst/>
                <a:ahLst/>
                <a:rect l="l" t="t" r="r" b="b"/>
                <a:pathLst>
                  <a:path w="82" h="734">
                    <a:moveTo>
                      <a:pt x="0" y="0"/>
                    </a:moveTo>
                    <a:lnTo>
                      <a:pt x="82" y="7"/>
                    </a:lnTo>
                    <a:lnTo>
                      <a:pt x="82" y="73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048360" y="5773680"/>
                <a:ext cx="68400" cy="582840"/>
              </a:xfrm>
              <a:custGeom>
                <a:avLst/>
                <a:gdLst/>
                <a:ahLst/>
                <a:rect l="l" t="t" r="r" b="b"/>
                <a:pathLst>
                  <a:path w="86" h="734">
                    <a:moveTo>
                      <a:pt x="0" y="0"/>
                    </a:moveTo>
                    <a:lnTo>
                      <a:pt x="86" y="7"/>
                    </a:lnTo>
                    <a:lnTo>
                      <a:pt x="86" y="734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116760" y="5780160"/>
                <a:ext cx="69840" cy="579240"/>
              </a:xfrm>
              <a:custGeom>
                <a:avLst/>
                <a:gdLst/>
                <a:ahLst/>
                <a:rect l="l" t="t" r="r" b="b"/>
                <a:pathLst>
                  <a:path w="89" h="731">
                    <a:moveTo>
                      <a:pt x="0" y="0"/>
                    </a:moveTo>
                    <a:lnTo>
                      <a:pt x="89" y="4"/>
                    </a:lnTo>
                    <a:lnTo>
                      <a:pt x="89" y="731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186600" y="5781600"/>
                <a:ext cx="71280" cy="579600"/>
              </a:xfrm>
              <a:custGeom>
                <a:avLst/>
                <a:gdLst/>
                <a:ahLst/>
                <a:rect l="l" t="t" r="r" b="b"/>
                <a:pathLst>
                  <a:path w="89" h="729">
                    <a:moveTo>
                      <a:pt x="0" y="0"/>
                    </a:moveTo>
                    <a:lnTo>
                      <a:pt x="89" y="2"/>
                    </a:lnTo>
                    <a:lnTo>
                      <a:pt x="89" y="729"/>
                    </a:lnTo>
                    <a:lnTo>
                      <a:pt x="0" y="7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257880" y="5781600"/>
                <a:ext cx="71640" cy="579600"/>
              </a:xfrm>
              <a:custGeom>
                <a:avLst/>
                <a:gdLst/>
                <a:ahLst/>
                <a:rect l="l" t="t" r="r" b="b"/>
                <a:pathLst>
                  <a:path w="91" h="729">
                    <a:moveTo>
                      <a:pt x="0" y="2"/>
                    </a:moveTo>
                    <a:lnTo>
                      <a:pt x="91" y="0"/>
                    </a:lnTo>
                    <a:lnTo>
                      <a:pt x="91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dc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329520" y="5780160"/>
                <a:ext cx="71280" cy="579240"/>
              </a:xfrm>
              <a:custGeom>
                <a:avLst/>
                <a:gdLst/>
                <a:ahLst/>
                <a:rect l="l" t="t" r="r" b="b"/>
                <a:pathLst>
                  <a:path w="89" h="731">
                    <a:moveTo>
                      <a:pt x="0" y="4"/>
                    </a:moveTo>
                    <a:lnTo>
                      <a:pt x="89" y="0"/>
                    </a:lnTo>
                    <a:lnTo>
                      <a:pt x="89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400800" y="5773680"/>
                <a:ext cx="68400" cy="582840"/>
              </a:xfrm>
              <a:custGeom>
                <a:avLst/>
                <a:gdLst/>
                <a:ahLst/>
                <a:rect l="l" t="t" r="r" b="b"/>
                <a:pathLst>
                  <a:path w="85" h="734">
                    <a:moveTo>
                      <a:pt x="0" y="7"/>
                    </a:moveTo>
                    <a:lnTo>
                      <a:pt x="85" y="0"/>
                    </a:lnTo>
                    <a:lnTo>
                      <a:pt x="85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b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400800" y="5776920"/>
                <a:ext cx="33480" cy="579600"/>
              </a:xfrm>
              <a:custGeom>
                <a:avLst/>
                <a:gdLst/>
                <a:ahLst/>
                <a:rect l="l" t="t" r="r" b="b"/>
                <a:pathLst>
                  <a:path w="42" h="730">
                    <a:moveTo>
                      <a:pt x="0" y="3"/>
                    </a:moveTo>
                    <a:lnTo>
                      <a:pt x="42" y="0"/>
                    </a:lnTo>
                    <a:lnTo>
                      <a:pt x="42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b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434280" y="577368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3" h="731">
                    <a:moveTo>
                      <a:pt x="0" y="4"/>
                    </a:moveTo>
                    <a:lnTo>
                      <a:pt x="43" y="0"/>
                    </a:lnTo>
                    <a:lnTo>
                      <a:pt x="43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a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469200" y="5767560"/>
                <a:ext cx="64800" cy="583920"/>
              </a:xfrm>
              <a:custGeom>
                <a:avLst/>
                <a:gdLst/>
                <a:ahLst/>
                <a:rect l="l" t="t" r="r" b="b"/>
                <a:pathLst>
                  <a:path w="82" h="734">
                    <a:moveTo>
                      <a:pt x="0" y="7"/>
                    </a:moveTo>
                    <a:lnTo>
                      <a:pt x="82" y="0"/>
                    </a:lnTo>
                    <a:lnTo>
                      <a:pt x="82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a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534000" y="5757840"/>
                <a:ext cx="60480" cy="587520"/>
              </a:xfrm>
              <a:custGeom>
                <a:avLst/>
                <a:gdLst/>
                <a:ahLst/>
                <a:rect l="l" t="t" r="r" b="b"/>
                <a:pathLst>
                  <a:path w="76" h="740">
                    <a:moveTo>
                      <a:pt x="0" y="13"/>
                    </a:moveTo>
                    <a:lnTo>
                      <a:pt x="76" y="0"/>
                    </a:lnTo>
                    <a:lnTo>
                      <a:pt x="76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9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534000" y="5764320"/>
                <a:ext cx="30240" cy="581040"/>
              </a:xfrm>
              <a:custGeom>
                <a:avLst/>
                <a:gdLst/>
                <a:ahLst/>
                <a:rect l="l" t="t" r="r" b="b"/>
                <a:pathLst>
                  <a:path w="38" h="733">
                    <a:moveTo>
                      <a:pt x="0" y="6"/>
                    </a:moveTo>
                    <a:lnTo>
                      <a:pt x="38" y="0"/>
                    </a:lnTo>
                    <a:lnTo>
                      <a:pt x="38" y="727"/>
                    </a:lnTo>
                    <a:lnTo>
                      <a:pt x="0" y="73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9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564240" y="5757840"/>
                <a:ext cx="30240" cy="582480"/>
              </a:xfrm>
              <a:custGeom>
                <a:avLst/>
                <a:gdLst/>
                <a:ahLst/>
                <a:rect l="l" t="t" r="r" b="b"/>
                <a:pathLst>
                  <a:path w="38" h="734">
                    <a:moveTo>
                      <a:pt x="0" y="7"/>
                    </a:moveTo>
                    <a:lnTo>
                      <a:pt x="38" y="0"/>
                    </a:lnTo>
                    <a:lnTo>
                      <a:pt x="38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8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594480" y="5748480"/>
                <a:ext cx="58680" cy="587160"/>
              </a:xfrm>
              <a:custGeom>
                <a:avLst/>
                <a:gdLst/>
                <a:ahLst/>
                <a:rect l="l" t="t" r="r" b="b"/>
                <a:pathLst>
                  <a:path w="75" h="740">
                    <a:moveTo>
                      <a:pt x="0" y="13"/>
                    </a:moveTo>
                    <a:lnTo>
                      <a:pt x="75" y="0"/>
                    </a:lnTo>
                    <a:lnTo>
                      <a:pt x="75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7c7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653160" y="5735520"/>
                <a:ext cx="54000" cy="588960"/>
              </a:xfrm>
              <a:custGeom>
                <a:avLst/>
                <a:gdLst/>
                <a:ahLst/>
                <a:rect l="l" t="t" r="r" b="b"/>
                <a:pathLst>
                  <a:path w="67" h="741">
                    <a:moveTo>
                      <a:pt x="0" y="14"/>
                    </a:moveTo>
                    <a:lnTo>
                      <a:pt x="67" y="0"/>
                    </a:lnTo>
                    <a:lnTo>
                      <a:pt x="67" y="727"/>
                    </a:lnTo>
                    <a:lnTo>
                      <a:pt x="0" y="741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6c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653160" y="5743440"/>
                <a:ext cx="17640" cy="581040"/>
              </a:xfrm>
              <a:custGeom>
                <a:avLst/>
                <a:gdLst/>
                <a:ahLst/>
                <a:rect l="l" t="t" r="r" b="b"/>
                <a:pathLst>
                  <a:path w="22" h="732">
                    <a:moveTo>
                      <a:pt x="0" y="5"/>
                    </a:moveTo>
                    <a:lnTo>
                      <a:pt x="22" y="0"/>
                    </a:lnTo>
                    <a:lnTo>
                      <a:pt x="22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6c6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670800" y="5740560"/>
                <a:ext cx="19080" cy="579240"/>
              </a:xfrm>
              <a:custGeom>
                <a:avLst/>
                <a:gdLst/>
                <a:ahLst/>
                <a:rect l="l" t="t" r="r" b="b"/>
                <a:pathLst>
                  <a:path w="23" h="731">
                    <a:moveTo>
                      <a:pt x="0" y="4"/>
                    </a:moveTo>
                    <a:lnTo>
                      <a:pt x="23" y="0"/>
                    </a:lnTo>
                    <a:lnTo>
                      <a:pt x="23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5c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689880" y="5735520"/>
                <a:ext cx="17280" cy="582840"/>
              </a:xfrm>
              <a:custGeom>
                <a:avLst/>
                <a:gdLst/>
                <a:ahLst/>
                <a:rect l="l" t="t" r="r" b="b"/>
                <a:pathLst>
                  <a:path w="22" h="732">
                    <a:moveTo>
                      <a:pt x="0" y="5"/>
                    </a:moveTo>
                    <a:lnTo>
                      <a:pt x="22" y="0"/>
                    </a:lnTo>
                    <a:lnTo>
                      <a:pt x="22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4c4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707160" y="5722920"/>
                <a:ext cx="49320" cy="590400"/>
              </a:xfrm>
              <a:custGeom>
                <a:avLst/>
                <a:gdLst/>
                <a:ahLst/>
                <a:rect l="l" t="t" r="r" b="b"/>
                <a:pathLst>
                  <a:path w="64" h="744">
                    <a:moveTo>
                      <a:pt x="0" y="17"/>
                    </a:moveTo>
                    <a:lnTo>
                      <a:pt x="64" y="0"/>
                    </a:lnTo>
                    <a:lnTo>
                      <a:pt x="64" y="727"/>
                    </a:lnTo>
                    <a:lnTo>
                      <a:pt x="0" y="74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4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707160" y="5729400"/>
                <a:ext cx="25560" cy="583920"/>
              </a:xfrm>
              <a:custGeom>
                <a:avLst/>
                <a:gdLst/>
                <a:ahLst/>
                <a:rect l="l" t="t" r="r" b="b"/>
                <a:pathLst>
                  <a:path w="33" h="736">
                    <a:moveTo>
                      <a:pt x="0" y="9"/>
                    </a:moveTo>
                    <a:lnTo>
                      <a:pt x="33" y="0"/>
                    </a:lnTo>
                    <a:lnTo>
                      <a:pt x="33" y="727"/>
                    </a:lnTo>
                    <a:lnTo>
                      <a:pt x="0" y="736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4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732720" y="5722920"/>
                <a:ext cx="23760" cy="582480"/>
              </a:xfrm>
              <a:custGeom>
                <a:avLst/>
                <a:gdLst/>
                <a:ahLst/>
                <a:rect l="l" t="t" r="r" b="b"/>
                <a:pathLst>
                  <a:path w="31" h="735">
                    <a:moveTo>
                      <a:pt x="0" y="8"/>
                    </a:moveTo>
                    <a:lnTo>
                      <a:pt x="31" y="0"/>
                    </a:lnTo>
                    <a:lnTo>
                      <a:pt x="31" y="727"/>
                    </a:lnTo>
                    <a:lnTo>
                      <a:pt x="0" y="73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3c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756480" y="5707080"/>
                <a:ext cx="46080" cy="593640"/>
              </a:xfrm>
              <a:custGeom>
                <a:avLst/>
                <a:gdLst/>
                <a:ahLst/>
                <a:rect l="l" t="t" r="r" b="b"/>
                <a:pathLst>
                  <a:path w="56" h="747">
                    <a:moveTo>
                      <a:pt x="0" y="20"/>
                    </a:moveTo>
                    <a:lnTo>
                      <a:pt x="56" y="0"/>
                    </a:lnTo>
                    <a:lnTo>
                      <a:pt x="56" y="727"/>
                    </a:lnTo>
                    <a:lnTo>
                      <a:pt x="0" y="74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2c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756480" y="5718240"/>
                <a:ext cx="12600" cy="582480"/>
              </a:xfrm>
              <a:custGeom>
                <a:avLst/>
                <a:gdLst/>
                <a:ahLst/>
                <a:rect l="l" t="t" r="r" b="b"/>
                <a:pathLst>
                  <a:path w="14" h="732">
                    <a:moveTo>
                      <a:pt x="0" y="5"/>
                    </a:moveTo>
                    <a:lnTo>
                      <a:pt x="14" y="0"/>
                    </a:lnTo>
                    <a:lnTo>
                      <a:pt x="14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2c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769080" y="5715000"/>
                <a:ext cx="11160" cy="581040"/>
              </a:xfrm>
              <a:custGeom>
                <a:avLst/>
                <a:gdLst/>
                <a:ahLst/>
                <a:rect l="l" t="t" r="r" b="b"/>
                <a:pathLst>
                  <a:path w="15" h="732">
                    <a:moveTo>
                      <a:pt x="0" y="5"/>
                    </a:moveTo>
                    <a:lnTo>
                      <a:pt x="15" y="0"/>
                    </a:lnTo>
                    <a:lnTo>
                      <a:pt x="15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1c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780240" y="5711760"/>
                <a:ext cx="11160" cy="579600"/>
              </a:xfrm>
              <a:custGeom>
                <a:avLst/>
                <a:gdLst/>
                <a:ahLst/>
                <a:rect l="l" t="t" r="r" b="b"/>
                <a:pathLst>
                  <a:path w="14" h="731">
                    <a:moveTo>
                      <a:pt x="0" y="4"/>
                    </a:moveTo>
                    <a:lnTo>
                      <a:pt x="14" y="0"/>
                    </a:lnTo>
                    <a:lnTo>
                      <a:pt x="1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0c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791400" y="5707080"/>
                <a:ext cx="11160" cy="581040"/>
              </a:xfrm>
              <a:custGeom>
                <a:avLst/>
                <a:gdLst/>
                <a:ahLst/>
                <a:rect l="l" t="t" r="r" b="b"/>
                <a:pathLst>
                  <a:path w="13" h="733">
                    <a:moveTo>
                      <a:pt x="0" y="6"/>
                    </a:moveTo>
                    <a:lnTo>
                      <a:pt x="13" y="0"/>
                    </a:lnTo>
                    <a:lnTo>
                      <a:pt x="13" y="727"/>
                    </a:lnTo>
                    <a:lnTo>
                      <a:pt x="0" y="73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fb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802560" y="5691240"/>
                <a:ext cx="41040" cy="593640"/>
              </a:xfrm>
              <a:custGeom>
                <a:avLst/>
                <a:gdLst/>
                <a:ahLst/>
                <a:rect l="l" t="t" r="r" b="b"/>
                <a:pathLst>
                  <a:path w="53" h="747">
                    <a:moveTo>
                      <a:pt x="0" y="20"/>
                    </a:moveTo>
                    <a:lnTo>
                      <a:pt x="53" y="0"/>
                    </a:lnTo>
                    <a:lnTo>
                      <a:pt x="53" y="727"/>
                    </a:lnTo>
                    <a:lnTo>
                      <a:pt x="0" y="747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b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802560" y="5703840"/>
                <a:ext cx="7920" cy="581040"/>
              </a:xfrm>
              <a:custGeom>
                <a:avLst/>
                <a:gdLst/>
                <a:ahLst/>
                <a:rect l="l" t="t" r="r" b="b"/>
                <a:pathLst>
                  <a:path w="11" h="730">
                    <a:moveTo>
                      <a:pt x="0" y="3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810480" y="5702400"/>
                <a:ext cx="7920" cy="579240"/>
              </a:xfrm>
              <a:custGeom>
                <a:avLst/>
                <a:gdLst/>
                <a:ahLst/>
                <a:rect l="l" t="t" r="r" b="b"/>
                <a:pathLst>
                  <a:path w="11" h="731">
                    <a:moveTo>
                      <a:pt x="0" y="4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eb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818400" y="5699160"/>
                <a:ext cx="7920" cy="579240"/>
              </a:xfrm>
              <a:custGeom>
                <a:avLst/>
                <a:gdLst/>
                <a:ahLst/>
                <a:rect l="l" t="t" r="r" b="b"/>
                <a:pathLst>
                  <a:path w="9" h="730">
                    <a:moveTo>
                      <a:pt x="0" y="3"/>
                    </a:moveTo>
                    <a:lnTo>
                      <a:pt x="9" y="0"/>
                    </a:lnTo>
                    <a:lnTo>
                      <a:pt x="9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db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826320" y="5694480"/>
                <a:ext cx="7920" cy="581040"/>
              </a:xfrm>
              <a:custGeom>
                <a:avLst/>
                <a:gdLst/>
                <a:ahLst/>
                <a:rect l="l" t="t" r="r" b="b"/>
                <a:pathLst>
                  <a:path w="11" h="733">
                    <a:moveTo>
                      <a:pt x="0" y="6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cb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834240" y="5691240"/>
                <a:ext cx="9360" cy="581040"/>
              </a:xfrm>
              <a:custGeom>
                <a:avLst/>
                <a:gdLst/>
                <a:ahLst/>
                <a:rect l="l" t="t" r="r" b="b"/>
                <a:pathLst>
                  <a:path w="11" h="731">
                    <a:moveTo>
                      <a:pt x="0" y="4"/>
                    </a:moveTo>
                    <a:lnTo>
                      <a:pt x="11" y="0"/>
                    </a:lnTo>
                    <a:lnTo>
                      <a:pt x="11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bb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843600" y="5673600"/>
                <a:ext cx="34920" cy="595440"/>
              </a:xfrm>
              <a:custGeom>
                <a:avLst/>
                <a:gdLst/>
                <a:ahLst/>
                <a:rect l="l" t="t" r="r" b="b"/>
                <a:pathLst>
                  <a:path w="44" h="748">
                    <a:moveTo>
                      <a:pt x="0" y="21"/>
                    </a:moveTo>
                    <a:lnTo>
                      <a:pt x="44" y="0"/>
                    </a:lnTo>
                    <a:lnTo>
                      <a:pt x="44" y="727"/>
                    </a:lnTo>
                    <a:lnTo>
                      <a:pt x="0" y="748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bb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843600" y="5688000"/>
                <a:ext cx="6480" cy="581040"/>
              </a:xfrm>
              <a:custGeom>
                <a:avLst/>
                <a:gdLst/>
                <a:ahLst/>
                <a:rect l="l" t="t" r="r" b="b"/>
                <a:pathLst>
                  <a:path w="7" h="730">
                    <a:moveTo>
                      <a:pt x="0" y="3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b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850080" y="5686560"/>
                <a:ext cx="4680" cy="579240"/>
              </a:xfrm>
              <a:custGeom>
                <a:avLst/>
                <a:gdLst/>
                <a:ahLst/>
                <a:rect l="l" t="t" r="r" b="b"/>
                <a:pathLst>
                  <a:path w="7" h="731">
                    <a:moveTo>
                      <a:pt x="0" y="4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ab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854760" y="5683320"/>
                <a:ext cx="6480" cy="579240"/>
              </a:xfrm>
              <a:custGeom>
                <a:avLst/>
                <a:gdLst/>
                <a:ahLst/>
                <a:rect l="l" t="t" r="r" b="b"/>
                <a:pathLst>
                  <a:path w="8" h="730">
                    <a:moveTo>
                      <a:pt x="0" y="3"/>
                    </a:moveTo>
                    <a:lnTo>
                      <a:pt x="8" y="0"/>
                    </a:lnTo>
                    <a:lnTo>
                      <a:pt x="8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9b9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861240" y="5680080"/>
                <a:ext cx="4680" cy="579600"/>
              </a:xfrm>
              <a:custGeom>
                <a:avLst/>
                <a:gdLst/>
                <a:ahLst/>
                <a:rect l="l" t="t" r="r" b="b"/>
                <a:pathLst>
                  <a:path w="7" h="731">
                    <a:moveTo>
                      <a:pt x="0" y="4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8b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865920" y="5676840"/>
                <a:ext cx="6480" cy="579600"/>
              </a:xfrm>
              <a:custGeom>
                <a:avLst/>
                <a:gdLst/>
                <a:ahLst/>
                <a:rect l="l" t="t" r="r" b="b"/>
                <a:pathLst>
                  <a:path w="7" h="731">
                    <a:moveTo>
                      <a:pt x="0" y="4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7b7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872400" y="5673600"/>
                <a:ext cx="6120" cy="581040"/>
              </a:xfrm>
              <a:custGeom>
                <a:avLst/>
                <a:gdLst/>
                <a:ahLst/>
                <a:rect l="l" t="t" r="r" b="b"/>
                <a:pathLst>
                  <a:path w="8" h="730">
                    <a:moveTo>
                      <a:pt x="0" y="3"/>
                    </a:moveTo>
                    <a:lnTo>
                      <a:pt x="8" y="0"/>
                    </a:lnTo>
                    <a:lnTo>
                      <a:pt x="8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6b6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878520" y="5656320"/>
                <a:ext cx="30240" cy="595080"/>
              </a:xfrm>
              <a:custGeom>
                <a:avLst/>
                <a:gdLst/>
                <a:ahLst/>
                <a:rect l="l" t="t" r="r" b="b"/>
                <a:pathLst>
                  <a:path w="38" h="751">
                    <a:moveTo>
                      <a:pt x="0" y="24"/>
                    </a:moveTo>
                    <a:lnTo>
                      <a:pt x="38" y="0"/>
                    </a:lnTo>
                    <a:lnTo>
                      <a:pt x="38" y="727"/>
                    </a:lnTo>
                    <a:lnTo>
                      <a:pt x="0" y="75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6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878520" y="567216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5" h="729">
                    <a:moveTo>
                      <a:pt x="0" y="2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6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881760" y="567072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4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5b5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885000" y="5667480"/>
                <a:ext cx="4680" cy="579240"/>
              </a:xfrm>
              <a:custGeom>
                <a:avLst/>
                <a:gdLst/>
                <a:ahLst/>
                <a:rect l="l" t="t" r="r" b="b"/>
                <a:pathLst>
                  <a:path w="5" h="730">
                    <a:moveTo>
                      <a:pt x="0" y="3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4b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889680" y="5665680"/>
                <a:ext cx="3240" cy="5778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2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3b3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92920" y="5662440"/>
                <a:ext cx="4680" cy="579600"/>
              </a:xfrm>
              <a:custGeom>
                <a:avLst/>
                <a:gdLst/>
                <a:ahLst/>
                <a:rect l="l" t="t" r="r" b="b"/>
                <a:pathLst>
                  <a:path w="5" h="731">
                    <a:moveTo>
                      <a:pt x="0" y="4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3b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97600" y="5661000"/>
                <a:ext cx="1800" cy="5796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2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2b2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899400" y="5657760"/>
                <a:ext cx="4680" cy="581040"/>
              </a:xfrm>
              <a:custGeom>
                <a:avLst/>
                <a:gdLst/>
                <a:ahLst/>
                <a:rect l="l" t="t" r="r" b="b"/>
                <a:pathLst>
                  <a:path w="5" h="730">
                    <a:moveTo>
                      <a:pt x="0" y="3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1b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904080" y="5656320"/>
                <a:ext cx="4680" cy="579240"/>
              </a:xfrm>
              <a:custGeom>
                <a:avLst/>
                <a:gdLst/>
                <a:ahLst/>
                <a:rect l="l" t="t" r="r" b="b"/>
                <a:pathLst>
                  <a:path w="6" h="731">
                    <a:moveTo>
                      <a:pt x="0" y="4"/>
                    </a:moveTo>
                    <a:lnTo>
                      <a:pt x="6" y="0"/>
                    </a:lnTo>
                    <a:lnTo>
                      <a:pt x="6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0b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908760" y="5646600"/>
                <a:ext cx="11160" cy="586080"/>
              </a:xfrm>
              <a:custGeom>
                <a:avLst/>
                <a:gdLst/>
                <a:ahLst/>
                <a:rect l="l" t="t" r="r" b="b"/>
                <a:pathLst>
                  <a:path w="14" h="738">
                    <a:moveTo>
                      <a:pt x="0" y="11"/>
                    </a:moveTo>
                    <a:lnTo>
                      <a:pt x="14" y="0"/>
                    </a:lnTo>
                    <a:lnTo>
                      <a:pt x="14" y="727"/>
                    </a:lnTo>
                    <a:lnTo>
                      <a:pt x="0" y="73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b0b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908760" y="5654520"/>
                <a:ext cx="1800" cy="57816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0b0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910560" y="5653080"/>
                <a:ext cx="2880" cy="577800"/>
              </a:xfrm>
              <a:custGeom>
                <a:avLst/>
                <a:gdLst/>
                <a:ahLst/>
                <a:rect l="l" t="t" r="r" b="b"/>
                <a:pathLst>
                  <a:path w="3" h="729">
                    <a:moveTo>
                      <a:pt x="0" y="2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fa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913440" y="5651640"/>
                <a:ext cx="1800" cy="577800"/>
              </a:xfrm>
              <a:custGeom>
                <a:avLst/>
                <a:gdLst/>
                <a:ahLst/>
                <a:rect l="l" t="t" r="r" b="b"/>
                <a:pathLst>
                  <a:path w="2" h="728">
                    <a:moveTo>
                      <a:pt x="0" y="1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ea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913440" y="5649840"/>
                <a:ext cx="1800" cy="57780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d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915240" y="5648400"/>
                <a:ext cx="3240" cy="577800"/>
              </a:xfrm>
              <a:custGeom>
                <a:avLst/>
                <a:gdLst/>
                <a:ahLst/>
                <a:rect l="l" t="t" r="r" b="b"/>
                <a:pathLst>
                  <a:path w="3" h="729">
                    <a:moveTo>
                      <a:pt x="0" y="2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c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918480" y="5646600"/>
                <a:ext cx="1440" cy="57816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ba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919920" y="5637240"/>
                <a:ext cx="11160" cy="587520"/>
              </a:xfrm>
              <a:custGeom>
                <a:avLst/>
                <a:gdLst/>
                <a:ahLst/>
                <a:rect l="l" t="t" r="r" b="b"/>
                <a:pathLst>
                  <a:path w="15" h="740">
                    <a:moveTo>
                      <a:pt x="0" y="13"/>
                    </a:moveTo>
                    <a:lnTo>
                      <a:pt x="15" y="0"/>
                    </a:lnTo>
                    <a:lnTo>
                      <a:pt x="15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aa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919920" y="5645160"/>
                <a:ext cx="3240" cy="579600"/>
              </a:xfrm>
              <a:custGeom>
                <a:avLst/>
                <a:gdLst/>
                <a:ahLst/>
                <a:rect l="l" t="t" r="r" b="b"/>
                <a:pathLst>
                  <a:path w="4" h="729">
                    <a:moveTo>
                      <a:pt x="0" y="2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aa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923160" y="5641920"/>
                <a:ext cx="1440" cy="581040"/>
              </a:xfrm>
              <a:custGeom>
                <a:avLst/>
                <a:gdLst/>
                <a:ahLst/>
                <a:rect l="l" t="t" r="r" b="b"/>
                <a:pathLst>
                  <a:path w="2" h="730">
                    <a:moveTo>
                      <a:pt x="0" y="3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3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8a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924600" y="564048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3" h="729">
                    <a:moveTo>
                      <a:pt x="0" y="2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7a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927840" y="5638680"/>
                <a:ext cx="1440" cy="57960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4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6a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929280" y="5637240"/>
                <a:ext cx="1800" cy="577800"/>
              </a:xfrm>
              <a:custGeom>
                <a:avLst/>
                <a:gdLst/>
                <a:ahLst/>
                <a:rect l="l" t="t" r="r" b="b"/>
                <a:pathLst>
                  <a:path w="2" h="729">
                    <a:moveTo>
                      <a:pt x="0" y="2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2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5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931080" y="5626080"/>
                <a:ext cx="11160" cy="587520"/>
              </a:xfrm>
              <a:custGeom>
                <a:avLst/>
                <a:gdLst/>
                <a:ahLst/>
                <a:rect l="l" t="t" r="r" b="b"/>
                <a:pathLst>
                  <a:path w="13" h="739">
                    <a:moveTo>
                      <a:pt x="0" y="12"/>
                    </a:moveTo>
                    <a:lnTo>
                      <a:pt x="13" y="0"/>
                    </a:lnTo>
                    <a:lnTo>
                      <a:pt x="13" y="727"/>
                    </a:lnTo>
                    <a:lnTo>
                      <a:pt x="0" y="73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4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931080" y="5632560"/>
                <a:ext cx="4680" cy="581040"/>
              </a:xfrm>
              <a:custGeom>
                <a:avLst/>
                <a:gdLst/>
                <a:ahLst/>
                <a:rect l="l" t="t" r="r" b="b"/>
                <a:pathLst>
                  <a:path w="5" h="732">
                    <a:moveTo>
                      <a:pt x="0" y="5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4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935760" y="5626080"/>
                <a:ext cx="6480" cy="582480"/>
              </a:xfrm>
              <a:custGeom>
                <a:avLst/>
                <a:gdLst/>
                <a:ahLst/>
                <a:rect l="l" t="t" r="r" b="b"/>
                <a:pathLst>
                  <a:path w="8" h="734">
                    <a:moveTo>
                      <a:pt x="0" y="7"/>
                    </a:moveTo>
                    <a:lnTo>
                      <a:pt x="8" y="0"/>
                    </a:lnTo>
                    <a:lnTo>
                      <a:pt x="8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4a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942240" y="5616720"/>
                <a:ext cx="6120" cy="587160"/>
              </a:xfrm>
              <a:custGeom>
                <a:avLst/>
                <a:gdLst/>
                <a:ahLst/>
                <a:rect l="l" t="t" r="r" b="b"/>
                <a:pathLst>
                  <a:path w="9" h="740">
                    <a:moveTo>
                      <a:pt x="0" y="13"/>
                    </a:moveTo>
                    <a:lnTo>
                      <a:pt x="9" y="0"/>
                    </a:lnTo>
                    <a:lnTo>
                      <a:pt x="9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5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942240" y="5624640"/>
                <a:ext cx="1440" cy="579240"/>
              </a:xfrm>
              <a:custGeom>
                <a:avLst/>
                <a:gdLst/>
                <a:ahLst/>
                <a:rect l="l" t="t" r="r" b="b"/>
                <a:pathLst>
                  <a:path w="1" h="731">
                    <a:moveTo>
                      <a:pt x="0" y="4"/>
                    </a:moveTo>
                    <a:lnTo>
                      <a:pt x="1" y="0"/>
                    </a:lnTo>
                    <a:lnTo>
                      <a:pt x="1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5a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943680" y="5621400"/>
                <a:ext cx="1800" cy="579240"/>
              </a:xfrm>
              <a:custGeom>
                <a:avLst/>
                <a:gdLst/>
                <a:ahLst/>
                <a:rect l="l" t="t" r="r" b="b"/>
                <a:pathLst>
                  <a:path w="4" h="731">
                    <a:moveTo>
                      <a:pt x="0" y="4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6a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945480" y="5616720"/>
                <a:ext cx="2880" cy="581040"/>
              </a:xfrm>
              <a:custGeom>
                <a:avLst/>
                <a:gdLst/>
                <a:ahLst/>
                <a:rect l="l" t="t" r="r" b="b"/>
                <a:pathLst>
                  <a:path w="4" h="732">
                    <a:moveTo>
                      <a:pt x="0" y="5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7a7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948360" y="5607000"/>
                <a:ext cx="6480" cy="585720"/>
              </a:xfrm>
              <a:custGeom>
                <a:avLst/>
                <a:gdLst/>
                <a:ahLst/>
                <a:rect l="l" t="t" r="r" b="b"/>
                <a:pathLst>
                  <a:path w="7" h="740">
                    <a:moveTo>
                      <a:pt x="0" y="13"/>
                    </a:moveTo>
                    <a:lnTo>
                      <a:pt x="7" y="0"/>
                    </a:lnTo>
                    <a:lnTo>
                      <a:pt x="7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a9a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948360" y="5613480"/>
                <a:ext cx="3240" cy="579240"/>
              </a:xfrm>
              <a:custGeom>
                <a:avLst/>
                <a:gdLst/>
                <a:ahLst/>
                <a:rect l="l" t="t" r="r" b="b"/>
                <a:pathLst>
                  <a:path w="3" h="731">
                    <a:moveTo>
                      <a:pt x="0" y="4"/>
                    </a:moveTo>
                    <a:lnTo>
                      <a:pt x="3" y="0"/>
                    </a:lnTo>
                    <a:lnTo>
                      <a:pt x="3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9a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951600" y="5608800"/>
                <a:ext cx="1800" cy="582480"/>
              </a:xfrm>
              <a:custGeom>
                <a:avLst/>
                <a:gdLst/>
                <a:ahLst/>
                <a:rect l="l" t="t" r="r" b="b"/>
                <a:pathLst>
                  <a:path w="2" h="732">
                    <a:moveTo>
                      <a:pt x="0" y="5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aaa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953400" y="5607000"/>
                <a:ext cx="1440" cy="579600"/>
              </a:xfrm>
              <a:custGeom>
                <a:avLst/>
                <a:gdLst/>
                <a:ahLst/>
                <a:rect l="l" t="t" r="r" b="b"/>
                <a:pathLst>
                  <a:path w="2" h="731">
                    <a:moveTo>
                      <a:pt x="0" y="4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3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ba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954840" y="5595840"/>
                <a:ext cx="4680" cy="587520"/>
              </a:xfrm>
              <a:custGeom>
                <a:avLst/>
                <a:gdLst/>
                <a:ahLst/>
                <a:rect l="l" t="t" r="r" b="b"/>
                <a:pathLst>
                  <a:path w="5" h="739">
                    <a:moveTo>
                      <a:pt x="0" y="12"/>
                    </a:moveTo>
                    <a:lnTo>
                      <a:pt x="5" y="0"/>
                    </a:lnTo>
                    <a:lnTo>
                      <a:pt x="5" y="727"/>
                    </a:lnTo>
                    <a:lnTo>
                      <a:pt x="0" y="73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da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954840" y="5600880"/>
                <a:ext cx="3240" cy="582480"/>
              </a:xfrm>
              <a:custGeom>
                <a:avLst/>
                <a:gdLst/>
                <a:ahLst/>
                <a:rect l="l" t="t" r="r" b="b"/>
                <a:pathLst>
                  <a:path w="4" h="734">
                    <a:moveTo>
                      <a:pt x="0" y="7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3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dad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958080" y="5595840"/>
                <a:ext cx="1440" cy="581040"/>
              </a:xfrm>
              <a:custGeom>
                <a:avLst/>
                <a:gdLst/>
                <a:ahLst/>
                <a:rect l="l" t="t" r="r" b="b"/>
                <a:pathLst>
                  <a:path w="1" h="732">
                    <a:moveTo>
                      <a:pt x="0" y="5"/>
                    </a:moveTo>
                    <a:lnTo>
                      <a:pt x="1" y="0"/>
                    </a:lnTo>
                    <a:lnTo>
                      <a:pt x="1" y="727"/>
                    </a:lnTo>
                    <a:lnTo>
                      <a:pt x="0" y="73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fa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959520" y="5584680"/>
                <a:ext cx="1800" cy="588960"/>
              </a:xfrm>
              <a:custGeom>
                <a:avLst/>
                <a:gdLst/>
                <a:ahLst/>
                <a:rect l="l" t="t" r="r" b="b"/>
                <a:pathLst>
                  <a:path w="4" h="742">
                    <a:moveTo>
                      <a:pt x="0" y="15"/>
                    </a:moveTo>
                    <a:lnTo>
                      <a:pt x="4" y="0"/>
                    </a:lnTo>
                    <a:lnTo>
                      <a:pt x="4" y="727"/>
                    </a:lnTo>
                    <a:lnTo>
                      <a:pt x="0" y="742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b1b1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961320" y="5575320"/>
                <a:ext cx="1440" cy="585720"/>
              </a:xfrm>
              <a:custGeom>
                <a:avLst/>
                <a:gdLst/>
                <a:ahLst/>
                <a:rect l="l" t="t" r="r" b="b"/>
                <a:pathLst>
                  <a:path w="2" h="740">
                    <a:moveTo>
                      <a:pt x="0" y="13"/>
                    </a:moveTo>
                    <a:lnTo>
                      <a:pt x="2" y="0"/>
                    </a:lnTo>
                    <a:lnTo>
                      <a:pt x="2" y="727"/>
                    </a:lnTo>
                    <a:lnTo>
                      <a:pt x="0" y="74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b3b3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553000" y="5365800"/>
                <a:ext cx="1409760" cy="417600"/>
              </a:xfrm>
              <a:custGeom>
                <a:avLst/>
                <a:gdLst/>
                <a:ahLst/>
                <a:rect l="l" t="t" r="r" b="b"/>
                <a:pathLst>
                  <a:path w="1776" h="527">
                    <a:moveTo>
                      <a:pt x="887" y="0"/>
                    </a:moveTo>
                    <a:lnTo>
                      <a:pt x="798" y="2"/>
                    </a:lnTo>
                    <a:lnTo>
                      <a:pt x="709" y="5"/>
                    </a:lnTo>
                    <a:lnTo>
                      <a:pt x="623" y="12"/>
                    </a:lnTo>
                    <a:lnTo>
                      <a:pt x="541" y="20"/>
                    </a:lnTo>
                    <a:lnTo>
                      <a:pt x="465" y="31"/>
                    </a:lnTo>
                    <a:lnTo>
                      <a:pt x="390" y="45"/>
                    </a:lnTo>
                    <a:lnTo>
                      <a:pt x="323" y="60"/>
                    </a:lnTo>
                    <a:lnTo>
                      <a:pt x="260" y="76"/>
                    </a:lnTo>
                    <a:lnTo>
                      <a:pt x="203" y="96"/>
                    </a:lnTo>
                    <a:lnTo>
                      <a:pt x="150" y="116"/>
                    </a:lnTo>
                    <a:lnTo>
                      <a:pt x="107" y="138"/>
                    </a:lnTo>
                    <a:lnTo>
                      <a:pt x="69" y="161"/>
                    </a:lnTo>
                    <a:lnTo>
                      <a:pt x="54" y="172"/>
                    </a:lnTo>
                    <a:lnTo>
                      <a:pt x="40" y="185"/>
                    </a:lnTo>
                    <a:lnTo>
                      <a:pt x="27" y="198"/>
                    </a:lnTo>
                    <a:lnTo>
                      <a:pt x="18" y="211"/>
                    </a:lnTo>
                    <a:lnTo>
                      <a:pt x="10" y="223"/>
                    </a:lnTo>
                    <a:lnTo>
                      <a:pt x="5" y="236"/>
                    </a:lnTo>
                    <a:lnTo>
                      <a:pt x="1" y="251"/>
                    </a:lnTo>
                    <a:lnTo>
                      <a:pt x="0" y="263"/>
                    </a:lnTo>
                    <a:lnTo>
                      <a:pt x="1" y="276"/>
                    </a:lnTo>
                    <a:lnTo>
                      <a:pt x="5" y="291"/>
                    </a:lnTo>
                    <a:lnTo>
                      <a:pt x="10" y="303"/>
                    </a:lnTo>
                    <a:lnTo>
                      <a:pt x="18" y="316"/>
                    </a:lnTo>
                    <a:lnTo>
                      <a:pt x="27" y="329"/>
                    </a:lnTo>
                    <a:lnTo>
                      <a:pt x="40" y="341"/>
                    </a:lnTo>
                    <a:lnTo>
                      <a:pt x="54" y="354"/>
                    </a:lnTo>
                    <a:lnTo>
                      <a:pt x="69" y="365"/>
                    </a:lnTo>
                    <a:lnTo>
                      <a:pt x="107" y="389"/>
                    </a:lnTo>
                    <a:lnTo>
                      <a:pt x="150" y="410"/>
                    </a:lnTo>
                    <a:lnTo>
                      <a:pt x="203" y="430"/>
                    </a:lnTo>
                    <a:lnTo>
                      <a:pt x="260" y="450"/>
                    </a:lnTo>
                    <a:lnTo>
                      <a:pt x="323" y="467"/>
                    </a:lnTo>
                    <a:lnTo>
                      <a:pt x="390" y="481"/>
                    </a:lnTo>
                    <a:lnTo>
                      <a:pt x="465" y="494"/>
                    </a:lnTo>
                    <a:lnTo>
                      <a:pt x="541" y="507"/>
                    </a:lnTo>
                    <a:lnTo>
                      <a:pt x="623" y="514"/>
                    </a:lnTo>
                    <a:lnTo>
                      <a:pt x="709" y="521"/>
                    </a:lnTo>
                    <a:lnTo>
                      <a:pt x="798" y="525"/>
                    </a:lnTo>
                    <a:lnTo>
                      <a:pt x="887" y="527"/>
                    </a:lnTo>
                    <a:lnTo>
                      <a:pt x="978" y="525"/>
                    </a:lnTo>
                    <a:lnTo>
                      <a:pt x="1067" y="521"/>
                    </a:lnTo>
                    <a:lnTo>
                      <a:pt x="1152" y="514"/>
                    </a:lnTo>
                    <a:lnTo>
                      <a:pt x="1234" y="507"/>
                    </a:lnTo>
                    <a:lnTo>
                      <a:pt x="1310" y="494"/>
                    </a:lnTo>
                    <a:lnTo>
                      <a:pt x="1385" y="481"/>
                    </a:lnTo>
                    <a:lnTo>
                      <a:pt x="1452" y="467"/>
                    </a:lnTo>
                    <a:lnTo>
                      <a:pt x="1516" y="450"/>
                    </a:lnTo>
                    <a:lnTo>
                      <a:pt x="1572" y="430"/>
                    </a:lnTo>
                    <a:lnTo>
                      <a:pt x="1625" y="410"/>
                    </a:lnTo>
                    <a:lnTo>
                      <a:pt x="1669" y="389"/>
                    </a:lnTo>
                    <a:lnTo>
                      <a:pt x="1707" y="365"/>
                    </a:lnTo>
                    <a:lnTo>
                      <a:pt x="1721" y="354"/>
                    </a:lnTo>
                    <a:lnTo>
                      <a:pt x="1736" y="341"/>
                    </a:lnTo>
                    <a:lnTo>
                      <a:pt x="1749" y="329"/>
                    </a:lnTo>
                    <a:lnTo>
                      <a:pt x="1758" y="316"/>
                    </a:lnTo>
                    <a:lnTo>
                      <a:pt x="1765" y="303"/>
                    </a:lnTo>
                    <a:lnTo>
                      <a:pt x="1770" y="291"/>
                    </a:lnTo>
                    <a:lnTo>
                      <a:pt x="1774" y="276"/>
                    </a:lnTo>
                    <a:lnTo>
                      <a:pt x="1776" y="263"/>
                    </a:lnTo>
                    <a:lnTo>
                      <a:pt x="1774" y="251"/>
                    </a:lnTo>
                    <a:lnTo>
                      <a:pt x="1770" y="236"/>
                    </a:lnTo>
                    <a:lnTo>
                      <a:pt x="1765" y="223"/>
                    </a:lnTo>
                    <a:lnTo>
                      <a:pt x="1758" y="211"/>
                    </a:lnTo>
                    <a:lnTo>
                      <a:pt x="1749" y="198"/>
                    </a:lnTo>
                    <a:lnTo>
                      <a:pt x="1736" y="185"/>
                    </a:lnTo>
                    <a:lnTo>
                      <a:pt x="1721" y="172"/>
                    </a:lnTo>
                    <a:lnTo>
                      <a:pt x="1707" y="161"/>
                    </a:lnTo>
                    <a:lnTo>
                      <a:pt x="1669" y="138"/>
                    </a:lnTo>
                    <a:lnTo>
                      <a:pt x="1625" y="116"/>
                    </a:lnTo>
                    <a:lnTo>
                      <a:pt x="1572" y="96"/>
                    </a:lnTo>
                    <a:lnTo>
                      <a:pt x="1516" y="76"/>
                    </a:lnTo>
                    <a:lnTo>
                      <a:pt x="1452" y="60"/>
                    </a:lnTo>
                    <a:lnTo>
                      <a:pt x="1385" y="45"/>
                    </a:lnTo>
                    <a:lnTo>
                      <a:pt x="1310" y="31"/>
                    </a:lnTo>
                    <a:lnTo>
                      <a:pt x="1234" y="20"/>
                    </a:lnTo>
                    <a:lnTo>
                      <a:pt x="1152" y="12"/>
                    </a:lnTo>
                    <a:lnTo>
                      <a:pt x="1067" y="5"/>
                    </a:lnTo>
                    <a:lnTo>
                      <a:pt x="978" y="2"/>
                    </a:lnTo>
                    <a:lnTo>
                      <a:pt x="887" y="0"/>
                    </a:lnTo>
                    <a:close/>
                  </a:path>
                </a:pathLst>
              </a:custGeom>
              <a:solidFill>
                <a:srgbClr val="96a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5557680" y="5356080"/>
              <a:ext cx="1409760" cy="1001880"/>
              <a:chOff x="5557680" y="5356080"/>
              <a:chExt cx="1409760" cy="1001880"/>
            </a:xfrm>
          </p:grpSpPr>
          <p:sp>
            <p:nvSpPr>
              <p:cNvPr id="1159" name=""/>
              <p:cNvSpPr/>
              <p:nvPr/>
            </p:nvSpPr>
            <p:spPr>
              <a:xfrm>
                <a:off x="5557680" y="5356080"/>
                <a:ext cx="1409760" cy="1001880"/>
              </a:xfrm>
              <a:custGeom>
                <a:avLst/>
                <a:gdLst/>
                <a:ahLst/>
                <a:rect l="l" t="t" r="r" b="b"/>
                <a:pathLst>
                  <a:path w="1776" h="1261">
                    <a:moveTo>
                      <a:pt x="887" y="0"/>
                    </a:moveTo>
                    <a:lnTo>
                      <a:pt x="796" y="2"/>
                    </a:lnTo>
                    <a:lnTo>
                      <a:pt x="709" y="5"/>
                    </a:lnTo>
                    <a:lnTo>
                      <a:pt x="624" y="11"/>
                    </a:lnTo>
                    <a:lnTo>
                      <a:pt x="542" y="20"/>
                    </a:lnTo>
                    <a:lnTo>
                      <a:pt x="465" y="29"/>
                    </a:lnTo>
                    <a:lnTo>
                      <a:pt x="391" y="42"/>
                    </a:lnTo>
                    <a:lnTo>
                      <a:pt x="324" y="56"/>
                    </a:lnTo>
                    <a:lnTo>
                      <a:pt x="260" y="72"/>
                    </a:lnTo>
                    <a:lnTo>
                      <a:pt x="204" y="91"/>
                    </a:lnTo>
                    <a:lnTo>
                      <a:pt x="153" y="109"/>
                    </a:lnTo>
                    <a:lnTo>
                      <a:pt x="107" y="131"/>
                    </a:lnTo>
                    <a:lnTo>
                      <a:pt x="87" y="140"/>
                    </a:lnTo>
                    <a:lnTo>
                      <a:pt x="69" y="152"/>
                    </a:lnTo>
                    <a:lnTo>
                      <a:pt x="55" y="163"/>
                    </a:lnTo>
                    <a:lnTo>
                      <a:pt x="40" y="174"/>
                    </a:lnTo>
                    <a:lnTo>
                      <a:pt x="27" y="187"/>
                    </a:lnTo>
                    <a:lnTo>
                      <a:pt x="18" y="198"/>
                    </a:lnTo>
                    <a:lnTo>
                      <a:pt x="11" y="211"/>
                    </a:lnTo>
                    <a:lnTo>
                      <a:pt x="5" y="223"/>
                    </a:lnTo>
                    <a:lnTo>
                      <a:pt x="2" y="236"/>
                    </a:lnTo>
                    <a:lnTo>
                      <a:pt x="0" y="249"/>
                    </a:lnTo>
                    <a:lnTo>
                      <a:pt x="0" y="1012"/>
                    </a:lnTo>
                    <a:lnTo>
                      <a:pt x="2" y="1025"/>
                    </a:lnTo>
                    <a:lnTo>
                      <a:pt x="5" y="1038"/>
                    </a:lnTo>
                    <a:lnTo>
                      <a:pt x="11" y="1050"/>
                    </a:lnTo>
                    <a:lnTo>
                      <a:pt x="18" y="1063"/>
                    </a:lnTo>
                    <a:lnTo>
                      <a:pt x="27" y="1074"/>
                    </a:lnTo>
                    <a:lnTo>
                      <a:pt x="40" y="1087"/>
                    </a:lnTo>
                    <a:lnTo>
                      <a:pt x="55" y="1098"/>
                    </a:lnTo>
                    <a:lnTo>
                      <a:pt x="69" y="1110"/>
                    </a:lnTo>
                    <a:lnTo>
                      <a:pt x="87" y="1121"/>
                    </a:lnTo>
                    <a:lnTo>
                      <a:pt x="107" y="1130"/>
                    </a:lnTo>
                    <a:lnTo>
                      <a:pt x="153" y="1152"/>
                    </a:lnTo>
                    <a:lnTo>
                      <a:pt x="204" y="1170"/>
                    </a:lnTo>
                    <a:lnTo>
                      <a:pt x="260" y="1188"/>
                    </a:lnTo>
                    <a:lnTo>
                      <a:pt x="324" y="1205"/>
                    </a:lnTo>
                    <a:lnTo>
                      <a:pt x="391" y="1219"/>
                    </a:lnTo>
                    <a:lnTo>
                      <a:pt x="465" y="1232"/>
                    </a:lnTo>
                    <a:lnTo>
                      <a:pt x="542" y="1241"/>
                    </a:lnTo>
                    <a:lnTo>
                      <a:pt x="624" y="1250"/>
                    </a:lnTo>
                    <a:lnTo>
                      <a:pt x="709" y="1256"/>
                    </a:lnTo>
                    <a:lnTo>
                      <a:pt x="796" y="1259"/>
                    </a:lnTo>
                    <a:lnTo>
                      <a:pt x="887" y="1261"/>
                    </a:lnTo>
                    <a:lnTo>
                      <a:pt x="978" y="1259"/>
                    </a:lnTo>
                    <a:lnTo>
                      <a:pt x="1067" y="1256"/>
                    </a:lnTo>
                    <a:lnTo>
                      <a:pt x="1151" y="1250"/>
                    </a:lnTo>
                    <a:lnTo>
                      <a:pt x="1233" y="1241"/>
                    </a:lnTo>
                    <a:lnTo>
                      <a:pt x="1311" y="1232"/>
                    </a:lnTo>
                    <a:lnTo>
                      <a:pt x="1384" y="1219"/>
                    </a:lnTo>
                    <a:lnTo>
                      <a:pt x="1453" y="1205"/>
                    </a:lnTo>
                    <a:lnTo>
                      <a:pt x="1516" y="1188"/>
                    </a:lnTo>
                    <a:lnTo>
                      <a:pt x="1573" y="1170"/>
                    </a:lnTo>
                    <a:lnTo>
                      <a:pt x="1625" y="1152"/>
                    </a:lnTo>
                    <a:lnTo>
                      <a:pt x="1669" y="1130"/>
                    </a:lnTo>
                    <a:lnTo>
                      <a:pt x="1689" y="1121"/>
                    </a:lnTo>
                    <a:lnTo>
                      <a:pt x="1707" y="1110"/>
                    </a:lnTo>
                    <a:lnTo>
                      <a:pt x="1722" y="1098"/>
                    </a:lnTo>
                    <a:lnTo>
                      <a:pt x="1736" y="1087"/>
                    </a:lnTo>
                    <a:lnTo>
                      <a:pt x="1749" y="1074"/>
                    </a:lnTo>
                    <a:lnTo>
                      <a:pt x="1758" y="1063"/>
                    </a:lnTo>
                    <a:lnTo>
                      <a:pt x="1765" y="1050"/>
                    </a:lnTo>
                    <a:lnTo>
                      <a:pt x="1773" y="1038"/>
                    </a:lnTo>
                    <a:lnTo>
                      <a:pt x="1774" y="1025"/>
                    </a:lnTo>
                    <a:lnTo>
                      <a:pt x="1776" y="1012"/>
                    </a:lnTo>
                    <a:lnTo>
                      <a:pt x="1776" y="249"/>
                    </a:lnTo>
                    <a:lnTo>
                      <a:pt x="1774" y="236"/>
                    </a:lnTo>
                    <a:lnTo>
                      <a:pt x="1773" y="223"/>
                    </a:lnTo>
                    <a:lnTo>
                      <a:pt x="1765" y="211"/>
                    </a:lnTo>
                    <a:lnTo>
                      <a:pt x="1758" y="198"/>
                    </a:lnTo>
                    <a:lnTo>
                      <a:pt x="1749" y="187"/>
                    </a:lnTo>
                    <a:lnTo>
                      <a:pt x="1736" y="174"/>
                    </a:lnTo>
                    <a:lnTo>
                      <a:pt x="1722" y="163"/>
                    </a:lnTo>
                    <a:lnTo>
                      <a:pt x="1707" y="152"/>
                    </a:lnTo>
                    <a:lnTo>
                      <a:pt x="1689" y="140"/>
                    </a:lnTo>
                    <a:lnTo>
                      <a:pt x="1669" y="131"/>
                    </a:lnTo>
                    <a:lnTo>
                      <a:pt x="1625" y="109"/>
                    </a:lnTo>
                    <a:lnTo>
                      <a:pt x="1573" y="91"/>
                    </a:lnTo>
                    <a:lnTo>
                      <a:pt x="1516" y="72"/>
                    </a:lnTo>
                    <a:lnTo>
                      <a:pt x="1453" y="56"/>
                    </a:lnTo>
                    <a:lnTo>
                      <a:pt x="1384" y="42"/>
                    </a:lnTo>
                    <a:lnTo>
                      <a:pt x="1311" y="29"/>
                    </a:lnTo>
                    <a:lnTo>
                      <a:pt x="1233" y="20"/>
                    </a:lnTo>
                    <a:lnTo>
                      <a:pt x="1151" y="11"/>
                    </a:lnTo>
                    <a:lnTo>
                      <a:pt x="1067" y="5"/>
                    </a:lnTo>
                    <a:lnTo>
                      <a:pt x="978" y="2"/>
                    </a:lnTo>
                    <a:lnTo>
                      <a:pt x="887" y="0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557680" y="5554800"/>
                <a:ext cx="1409760" cy="195120"/>
              </a:xfrm>
              <a:custGeom>
                <a:avLst/>
                <a:gdLst/>
                <a:ahLst/>
                <a:rect l="l" t="t" r="r" b="b"/>
                <a:pathLst>
                  <a:path w="1776" h="247">
                    <a:moveTo>
                      <a:pt x="0" y="0"/>
                    </a:moveTo>
                    <a:lnTo>
                      <a:pt x="2" y="13"/>
                    </a:lnTo>
                    <a:lnTo>
                      <a:pt x="5" y="25"/>
                    </a:lnTo>
                    <a:lnTo>
                      <a:pt x="11" y="38"/>
                    </a:lnTo>
                    <a:lnTo>
                      <a:pt x="18" y="49"/>
                    </a:lnTo>
                    <a:lnTo>
                      <a:pt x="27" y="62"/>
                    </a:lnTo>
                    <a:lnTo>
                      <a:pt x="40" y="72"/>
                    </a:lnTo>
                    <a:lnTo>
                      <a:pt x="55" y="85"/>
                    </a:lnTo>
                    <a:lnTo>
                      <a:pt x="69" y="96"/>
                    </a:lnTo>
                    <a:lnTo>
                      <a:pt x="87" y="107"/>
                    </a:lnTo>
                    <a:lnTo>
                      <a:pt x="107" y="118"/>
                    </a:lnTo>
                    <a:lnTo>
                      <a:pt x="153" y="138"/>
                    </a:lnTo>
                    <a:lnTo>
                      <a:pt x="204" y="156"/>
                    </a:lnTo>
                    <a:lnTo>
                      <a:pt x="260" y="174"/>
                    </a:lnTo>
                    <a:lnTo>
                      <a:pt x="324" y="191"/>
                    </a:lnTo>
                    <a:lnTo>
                      <a:pt x="391" y="205"/>
                    </a:lnTo>
                    <a:lnTo>
                      <a:pt x="465" y="218"/>
                    </a:lnTo>
                    <a:lnTo>
                      <a:pt x="542" y="227"/>
                    </a:lnTo>
                    <a:lnTo>
                      <a:pt x="624" y="236"/>
                    </a:lnTo>
                    <a:lnTo>
                      <a:pt x="709" y="242"/>
                    </a:lnTo>
                    <a:lnTo>
                      <a:pt x="796" y="245"/>
                    </a:lnTo>
                    <a:lnTo>
                      <a:pt x="887" y="247"/>
                    </a:lnTo>
                    <a:lnTo>
                      <a:pt x="978" y="245"/>
                    </a:lnTo>
                    <a:lnTo>
                      <a:pt x="1067" y="242"/>
                    </a:lnTo>
                    <a:lnTo>
                      <a:pt x="1151" y="236"/>
                    </a:lnTo>
                    <a:lnTo>
                      <a:pt x="1233" y="227"/>
                    </a:lnTo>
                    <a:lnTo>
                      <a:pt x="1311" y="218"/>
                    </a:lnTo>
                    <a:lnTo>
                      <a:pt x="1384" y="205"/>
                    </a:lnTo>
                    <a:lnTo>
                      <a:pt x="1453" y="191"/>
                    </a:lnTo>
                    <a:lnTo>
                      <a:pt x="1516" y="174"/>
                    </a:lnTo>
                    <a:lnTo>
                      <a:pt x="1573" y="156"/>
                    </a:lnTo>
                    <a:lnTo>
                      <a:pt x="1625" y="138"/>
                    </a:lnTo>
                    <a:lnTo>
                      <a:pt x="1669" y="118"/>
                    </a:lnTo>
                    <a:lnTo>
                      <a:pt x="1689" y="107"/>
                    </a:lnTo>
                    <a:lnTo>
                      <a:pt x="1707" y="96"/>
                    </a:lnTo>
                    <a:lnTo>
                      <a:pt x="1722" y="85"/>
                    </a:lnTo>
                    <a:lnTo>
                      <a:pt x="1736" y="72"/>
                    </a:lnTo>
                    <a:lnTo>
                      <a:pt x="1749" y="62"/>
                    </a:lnTo>
                    <a:lnTo>
                      <a:pt x="1758" y="49"/>
                    </a:lnTo>
                    <a:lnTo>
                      <a:pt x="1765" y="38"/>
                    </a:lnTo>
                    <a:lnTo>
                      <a:pt x="1773" y="25"/>
                    </a:lnTo>
                    <a:lnTo>
                      <a:pt x="1774" y="13"/>
                    </a:lnTo>
                    <a:lnTo>
                      <a:pt x="1776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1" name=""/>
            <p:cNvSpPr/>
            <p:nvPr/>
          </p:nvSpPr>
          <p:spPr>
            <a:xfrm>
              <a:off x="7435800" y="5759280"/>
              <a:ext cx="3175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00680" y="5796000"/>
              <a:ext cx="15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5342040" y="5813280"/>
              <a:ext cx="1946160" cy="596880"/>
              <a:chOff x="5342040" y="5813280"/>
              <a:chExt cx="1946160" cy="596880"/>
            </a:xfrm>
          </p:grpSpPr>
          <p:sp>
            <p:nvSpPr>
              <p:cNvPr id="1164" name=""/>
              <p:cNvSpPr/>
              <p:nvPr/>
            </p:nvSpPr>
            <p:spPr>
              <a:xfrm>
                <a:off x="5342040" y="5813280"/>
                <a:ext cx="1863720" cy="554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188120" y="6323040"/>
                <a:ext cx="100080" cy="87120"/>
              </a:xfrm>
              <a:custGeom>
                <a:avLst/>
                <a:gdLst/>
                <a:ahLst/>
                <a:rect l="l" t="t" r="r" b="b"/>
                <a:pathLst>
                  <a:path w="126" h="109">
                    <a:moveTo>
                      <a:pt x="0" y="109"/>
                    </a:moveTo>
                    <a:lnTo>
                      <a:pt x="126" y="87"/>
                    </a:lnTo>
                    <a:lnTo>
                      <a:pt x="33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5378400" y="5640480"/>
              <a:ext cx="2097000" cy="752040"/>
              <a:chOff x="5378400" y="5640480"/>
              <a:chExt cx="2097000" cy="752040"/>
            </a:xfrm>
          </p:grpSpPr>
          <p:sp>
            <p:nvSpPr>
              <p:cNvPr id="1167" name=""/>
              <p:cNvSpPr/>
              <p:nvPr/>
            </p:nvSpPr>
            <p:spPr>
              <a:xfrm flipV="1">
                <a:off x="5378400" y="5682960"/>
                <a:ext cx="2014560" cy="709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373880" y="5640480"/>
                <a:ext cx="101520" cy="87120"/>
              </a:xfrm>
              <a:custGeom>
                <a:avLst/>
                <a:gdLst/>
                <a:ahLst/>
                <a:rect l="l" t="t" r="r" b="b"/>
                <a:pathLst>
                  <a:path w="127" h="109">
                    <a:moveTo>
                      <a:pt x="38" y="109"/>
                    </a:moveTo>
                    <a:lnTo>
                      <a:pt x="127" y="16"/>
                    </a:lnTo>
                    <a:lnTo>
                      <a:pt x="0" y="0"/>
                    </a:lnTo>
                    <a:lnTo>
                      <a:pt x="38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6208560" y="5086440"/>
              <a:ext cx="90720" cy="982440"/>
              <a:chOff x="6208560" y="5086440"/>
              <a:chExt cx="90720" cy="982440"/>
            </a:xfrm>
          </p:grpSpPr>
          <p:sp>
            <p:nvSpPr>
              <p:cNvPr id="1170" name=""/>
              <p:cNvSpPr/>
              <p:nvPr/>
            </p:nvSpPr>
            <p:spPr>
              <a:xfrm flipV="1">
                <a:off x="6253200" y="5170320"/>
                <a:ext cx="1440" cy="8985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208560" y="5086440"/>
                <a:ext cx="90720" cy="8892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114" y="113"/>
                    </a:moveTo>
                    <a:lnTo>
                      <a:pt x="58" y="0"/>
                    </a:lnTo>
                    <a:lnTo>
                      <a:pt x="0" y="113"/>
                    </a:lnTo>
                    <a:lnTo>
                      <a:pt x="114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2" name=""/>
            <p:cNvSpPr/>
            <p:nvPr/>
          </p:nvSpPr>
          <p:spPr>
            <a:xfrm>
              <a:off x="5905440" y="4619520"/>
              <a:ext cx="15350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103080" y="4653000"/>
              <a:ext cx="2901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352200" y="4719600"/>
              <a:ext cx="157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(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538680" y="4746600"/>
              <a:ext cx="15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795360" y="4719600"/>
              <a:ext cx="595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/ 2R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7" name=""/>
            <p:cNvGrpSpPr/>
            <p:nvPr/>
          </p:nvGrpSpPr>
          <p:grpSpPr>
            <a:xfrm>
              <a:off x="6272280" y="5973840"/>
              <a:ext cx="1136520" cy="113760"/>
              <a:chOff x="6272280" y="5973840"/>
              <a:chExt cx="1136520" cy="113760"/>
            </a:xfrm>
          </p:grpSpPr>
          <p:sp>
            <p:nvSpPr>
              <p:cNvPr id="1178" name=""/>
              <p:cNvSpPr/>
              <p:nvPr/>
            </p:nvSpPr>
            <p:spPr>
              <a:xfrm flipV="1">
                <a:off x="6272280" y="6013080"/>
                <a:ext cx="1136520" cy="74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316640" y="597384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117" h="114">
                    <a:moveTo>
                      <a:pt x="7" y="114"/>
                    </a:moveTo>
                    <a:lnTo>
                      <a:pt x="117" y="51"/>
                    </a:lnTo>
                    <a:lnTo>
                      <a:pt x="0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0" name=""/>
            <p:cNvSpPr/>
            <p:nvPr/>
          </p:nvSpPr>
          <p:spPr>
            <a:xfrm>
              <a:off x="7211880" y="6137280"/>
              <a:ext cx="3286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368480" y="6137280"/>
              <a:ext cx="14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94600" y="5430960"/>
              <a:ext cx="3096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3" name=""/>
            <p:cNvGrpSpPr/>
            <p:nvPr/>
          </p:nvGrpSpPr>
          <p:grpSpPr>
            <a:xfrm>
              <a:off x="6010200" y="6095880"/>
              <a:ext cx="255600" cy="250920"/>
              <a:chOff x="6010200" y="6095880"/>
              <a:chExt cx="255600" cy="250920"/>
            </a:xfrm>
          </p:grpSpPr>
          <p:sp>
            <p:nvSpPr>
              <p:cNvPr id="1184" name=""/>
              <p:cNvSpPr/>
              <p:nvPr/>
            </p:nvSpPr>
            <p:spPr>
              <a:xfrm>
                <a:off x="6105600" y="6095880"/>
                <a:ext cx="160200" cy="157320"/>
              </a:xfrm>
              <a:custGeom>
                <a:avLst/>
                <a:gdLst/>
                <a:ahLst/>
                <a:rect l="l" t="t" r="r" b="b"/>
                <a:pathLst>
                  <a:path w="204" h="199">
                    <a:moveTo>
                      <a:pt x="204" y="31"/>
                    </a:moveTo>
                    <a:lnTo>
                      <a:pt x="173" y="0"/>
                    </a:lnTo>
                    <a:lnTo>
                      <a:pt x="0" y="168"/>
                    </a:lnTo>
                    <a:lnTo>
                      <a:pt x="31" y="199"/>
                    </a:lnTo>
                    <a:lnTo>
                      <a:pt x="20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010200" y="6180120"/>
                <a:ext cx="165240" cy="166680"/>
              </a:xfrm>
              <a:custGeom>
                <a:avLst/>
                <a:gdLst/>
                <a:ahLst/>
                <a:rect l="l" t="t" r="r" b="b"/>
                <a:pathLst>
                  <a:path w="209" h="209">
                    <a:moveTo>
                      <a:pt x="71" y="0"/>
                    </a:moveTo>
                    <a:lnTo>
                      <a:pt x="0" y="209"/>
                    </a:lnTo>
                    <a:lnTo>
                      <a:pt x="209" y="141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>
              <a:off x="6033960" y="6375240"/>
              <a:ext cx="3430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183000" y="6375240"/>
              <a:ext cx="18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5654520" y="2451240"/>
            <a:ext cx="2827800" cy="1933920"/>
            <a:chOff x="5654520" y="2451240"/>
            <a:chExt cx="2827800" cy="1933920"/>
          </a:xfrm>
        </p:grpSpPr>
        <p:sp>
          <p:nvSpPr>
            <p:cNvPr id="1189" name=""/>
            <p:cNvSpPr/>
            <p:nvPr/>
          </p:nvSpPr>
          <p:spPr>
            <a:xfrm>
              <a:off x="5654520" y="3833640"/>
              <a:ext cx="265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7008840" y="2882880"/>
              <a:ext cx="0" cy="9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167320" y="34592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575120" y="3456000"/>
              <a:ext cx="45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+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486120" y="2451240"/>
              <a:ext cx="106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 x/A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833080" y="3456000"/>
              <a:ext cx="40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-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110280" y="3213000"/>
              <a:ext cx="1701720" cy="634680"/>
            </a:xfrm>
            <a:custGeom>
              <a:avLst/>
              <a:gdLst/>
              <a:ahLst/>
              <a:rect l="l" t="t" r="r" b="b"/>
              <a:pathLst>
                <a:path w="1072" h="400">
                  <a:moveTo>
                    <a:pt x="0" y="384"/>
                  </a:moveTo>
                  <a:lnTo>
                    <a:pt x="568" y="0"/>
                  </a:lnTo>
                  <a:lnTo>
                    <a:pt x="1072" y="40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755400" y="29113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729400" y="3213000"/>
              <a:ext cx="2412720" cy="634680"/>
            </a:xfrm>
            <a:custGeom>
              <a:avLst/>
              <a:gdLst/>
              <a:ahLst/>
              <a:rect l="l" t="t" r="r" b="b"/>
              <a:pathLst>
                <a:path w="1520" h="400">
                  <a:moveTo>
                    <a:pt x="0" y="388"/>
                  </a:moveTo>
                  <a:lnTo>
                    <a:pt x="212" y="392"/>
                  </a:lnTo>
                  <a:lnTo>
                    <a:pt x="812" y="0"/>
                  </a:lnTo>
                  <a:lnTo>
                    <a:pt x="1308" y="400"/>
                  </a:lnTo>
                  <a:lnTo>
                    <a:pt x="1520" y="400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742160" y="3784680"/>
              <a:ext cx="101520" cy="101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021360" y="3784680"/>
              <a:ext cx="101520" cy="101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961320" y="3162240"/>
              <a:ext cx="101520" cy="10116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081840" y="4014720"/>
              <a:ext cx="172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804360" y="3986280"/>
              <a:ext cx="4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2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250920" y="4791240"/>
            <a:ext cx="4143240" cy="1941840"/>
            <a:chOff x="250920" y="4791240"/>
            <a:chExt cx="4143240" cy="1941840"/>
          </a:xfrm>
        </p:grpSpPr>
        <p:sp>
          <p:nvSpPr>
            <p:cNvPr id="1204" name=""/>
            <p:cNvSpPr/>
            <p:nvPr/>
          </p:nvSpPr>
          <p:spPr>
            <a:xfrm flipV="1">
              <a:off x="2284560" y="5187600"/>
              <a:ext cx="0" cy="10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993840" y="584352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320840" y="4791240"/>
              <a:ext cx="205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 - x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/a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997640" y="5219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50920" y="5562720"/>
              <a:ext cx="4083120" cy="696960"/>
            </a:xfrm>
            <a:custGeom>
              <a:avLst/>
              <a:gdLst/>
              <a:ahLst/>
              <a:rect l="l" t="t" r="r" b="b"/>
              <a:pathLst>
                <a:path w="1930" h="385">
                  <a:moveTo>
                    <a:pt x="0" y="385"/>
                  </a:moveTo>
                  <a:lnTo>
                    <a:pt x="202" y="367"/>
                  </a:lnTo>
                  <a:lnTo>
                    <a:pt x="330" y="348"/>
                  </a:lnTo>
                  <a:lnTo>
                    <a:pt x="787" y="47"/>
                  </a:lnTo>
                  <a:lnTo>
                    <a:pt x="942" y="0"/>
                  </a:lnTo>
                  <a:lnTo>
                    <a:pt x="1107" y="65"/>
                  </a:lnTo>
                  <a:lnTo>
                    <a:pt x="1436" y="348"/>
                  </a:lnTo>
                  <a:lnTo>
                    <a:pt x="1573" y="376"/>
                  </a:lnTo>
                  <a:lnTo>
                    <a:pt x="1930" y="385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914560" y="6213600"/>
              <a:ext cx="115920" cy="115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233440" y="5888160"/>
              <a:ext cx="115920" cy="115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230560" y="5505480"/>
              <a:ext cx="115920" cy="11592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689120" y="6411960"/>
              <a:ext cx="114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4520" y="6259680"/>
              <a:ext cx="40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849320" y="5956200"/>
              <a:ext cx="19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747880" y="63104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685880" y="5651640"/>
              <a:ext cx="52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1/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527120" y="6194520"/>
              <a:ext cx="115920" cy="115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380240" y="633420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-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2975040" y="5791320"/>
              <a:ext cx="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7623000" y="938160"/>
            <a:ext cx="1000080" cy="813240"/>
            <a:chOff x="7623000" y="938160"/>
            <a:chExt cx="1000080" cy="813240"/>
          </a:xfrm>
        </p:grpSpPr>
        <p:sp>
          <p:nvSpPr>
            <p:cNvPr id="1221" name=""/>
            <p:cNvSpPr/>
            <p:nvPr/>
          </p:nvSpPr>
          <p:spPr>
            <a:xfrm>
              <a:off x="7623000" y="93816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844040" y="11700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17000" y="590040"/>
            <a:ext cx="879804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ctions d'usage fréquent _ 2   notations  et physionom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41200" y="1252440"/>
            <a:ext cx="8248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rac World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rac centré, Dirac translaté, peigne et brosse de Dir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0" y="2322360"/>
            <a:ext cx="1889640" cy="1736640"/>
            <a:chOff x="0" y="2322360"/>
            <a:chExt cx="1889640" cy="1736640"/>
          </a:xfrm>
        </p:grpSpPr>
        <p:sp>
          <p:nvSpPr>
            <p:cNvPr id="1226" name=""/>
            <p:cNvSpPr/>
            <p:nvPr/>
          </p:nvSpPr>
          <p:spPr>
            <a:xfrm>
              <a:off x="0" y="3346200"/>
              <a:ext cx="164628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31680" y="3209400"/>
              <a:ext cx="1771560" cy="62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771480" y="2728440"/>
              <a:ext cx="0" cy="8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73400" y="2322360"/>
              <a:ext cx="80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,y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588680" y="36907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566000" y="285084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776160" y="3001680"/>
              <a:ext cx="0" cy="571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2192400" y="2255760"/>
            <a:ext cx="1865880" cy="1841400"/>
            <a:chOff x="2192400" y="2255760"/>
            <a:chExt cx="1865880" cy="1841400"/>
          </a:xfrm>
        </p:grpSpPr>
        <p:sp>
          <p:nvSpPr>
            <p:cNvPr id="1234" name=""/>
            <p:cNvSpPr/>
            <p:nvPr/>
          </p:nvSpPr>
          <p:spPr>
            <a:xfrm>
              <a:off x="2327400" y="3389400"/>
              <a:ext cx="164628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>
              <a:off x="2192400" y="3071520"/>
              <a:ext cx="1771920" cy="62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2737080" y="2661840"/>
              <a:ext cx="0" cy="8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457720" y="2255760"/>
              <a:ext cx="12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-a, y-b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482640" y="372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760200" y="30891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3542040" y="2939760"/>
              <a:ext cx="0" cy="57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 flipV="1">
              <a:off x="3041640" y="3358800"/>
              <a:ext cx="539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2955960" y="3447720"/>
              <a:ext cx="69228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968560" y="35416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912400" y="30495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092760" y="3351240"/>
              <a:ext cx="46080" cy="4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116520" y="3598920"/>
              <a:ext cx="46080" cy="4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219240" y="4232160"/>
            <a:ext cx="3816360" cy="2454480"/>
            <a:chOff x="219240" y="4232160"/>
            <a:chExt cx="3816360" cy="2454480"/>
          </a:xfrm>
        </p:grpSpPr>
        <p:sp>
          <p:nvSpPr>
            <p:cNvPr id="1248" name=""/>
            <p:cNvSpPr/>
            <p:nvPr/>
          </p:nvSpPr>
          <p:spPr>
            <a:xfrm>
              <a:off x="219240" y="4232160"/>
              <a:ext cx="3816360" cy="2454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9" name=""/>
                <p:cNvSpPr txBox="1"/>
                <p:nvPr/>
              </p:nvSpPr>
              <p:spPr>
                <a:xfrm>
                  <a:off x="492120" y="4905360"/>
                  <a:ext cx="33354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0" name=""/>
                <p:cNvSpPr txBox="1"/>
                <p:nvPr/>
              </p:nvSpPr>
              <p:spPr>
                <a:xfrm>
                  <a:off x="600120" y="5592960"/>
                  <a:ext cx="322740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1" name=""/>
                <p:cNvSpPr txBox="1"/>
                <p:nvPr/>
              </p:nvSpPr>
              <p:spPr>
                <a:xfrm>
                  <a:off x="771840" y="6121440"/>
                  <a:ext cx="305568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52" name=""/>
            <p:cNvSpPr/>
            <p:nvPr/>
          </p:nvSpPr>
          <p:spPr>
            <a:xfrm>
              <a:off x="871920" y="4232160"/>
              <a:ext cx="27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elations cruci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7040520" y="949320"/>
            <a:ext cx="1000080" cy="812880"/>
            <a:chOff x="7040520" y="949320"/>
            <a:chExt cx="1000080" cy="812880"/>
          </a:xfrm>
        </p:grpSpPr>
        <p:sp>
          <p:nvSpPr>
            <p:cNvPr id="1254" name=""/>
            <p:cNvSpPr/>
            <p:nvPr/>
          </p:nvSpPr>
          <p:spPr>
            <a:xfrm>
              <a:off x="7040520" y="94932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261560" y="11808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5996160" y="2138400"/>
            <a:ext cx="3055680" cy="1827000"/>
            <a:chOff x="5996160" y="2138400"/>
            <a:chExt cx="3055680" cy="1827000"/>
          </a:xfrm>
        </p:grpSpPr>
        <p:grpSp>
          <p:nvGrpSpPr>
            <p:cNvPr id="1257" name=""/>
            <p:cNvGrpSpPr/>
            <p:nvPr/>
          </p:nvGrpSpPr>
          <p:grpSpPr>
            <a:xfrm>
              <a:off x="5996160" y="2138400"/>
              <a:ext cx="2385720" cy="1133640"/>
              <a:chOff x="5996160" y="2138400"/>
              <a:chExt cx="2385720" cy="1133640"/>
            </a:xfrm>
          </p:grpSpPr>
          <p:sp>
            <p:nvSpPr>
              <p:cNvPr id="1258" name=""/>
              <p:cNvSpPr/>
              <p:nvPr/>
            </p:nvSpPr>
            <p:spPr>
              <a:xfrm>
                <a:off x="5996160" y="2966760"/>
                <a:ext cx="22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7176960" y="2414160"/>
                <a:ext cx="0" cy="5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7176960" y="264312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V="1">
                <a:off x="7386480" y="264312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>
                <a:off x="7596360" y="264312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7805880" y="264312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8015400" y="264312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V="1">
                <a:off x="6148440" y="263340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6357960" y="263340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6567480" y="263340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6777000" y="263340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V="1">
                <a:off x="6986520" y="2633400"/>
                <a:ext cx="0" cy="3333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798960" y="2138400"/>
                <a:ext cx="65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II(x/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120520" y="2700360"/>
                <a:ext cx="26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46600" y="2995560"/>
                <a:ext cx="27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48600" y="3071520"/>
                <a:ext cx="218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777000" y="3081240"/>
                <a:ext cx="219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567480" y="2881080"/>
                <a:ext cx="0" cy="34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777000" y="2928960"/>
                <a:ext cx="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77" name=""/>
                <p:cNvSpPr txBox="1"/>
                <p:nvPr/>
              </p:nvSpPr>
              <p:spPr>
                <a:xfrm>
                  <a:off x="6346800" y="3176640"/>
                  <a:ext cx="2705040" cy="78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II</m:t>
                      </m:r>
                      <m:r>
                        <m:t xml:space="preserve">(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p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p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78" name=""/>
          <p:cNvGrpSpPr/>
          <p:nvPr/>
        </p:nvGrpSpPr>
        <p:grpSpPr>
          <a:xfrm>
            <a:off x="4554360" y="3989520"/>
            <a:ext cx="4380120" cy="2868480"/>
            <a:chOff x="4554360" y="3989520"/>
            <a:chExt cx="4380120" cy="2868480"/>
          </a:xfrm>
        </p:grpSpPr>
        <p:grpSp>
          <p:nvGrpSpPr>
            <p:cNvPr id="1279" name=""/>
            <p:cNvGrpSpPr/>
            <p:nvPr/>
          </p:nvGrpSpPr>
          <p:grpSpPr>
            <a:xfrm>
              <a:off x="5513400" y="3989520"/>
              <a:ext cx="2846880" cy="1983960"/>
              <a:chOff x="5513400" y="3989520"/>
              <a:chExt cx="2846880" cy="1983960"/>
            </a:xfrm>
          </p:grpSpPr>
          <p:sp>
            <p:nvSpPr>
              <p:cNvPr id="1280" name=""/>
              <p:cNvSpPr/>
              <p:nvPr/>
            </p:nvSpPr>
            <p:spPr>
              <a:xfrm>
                <a:off x="6485040" y="5294160"/>
                <a:ext cx="1646280" cy="4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V="1">
                <a:off x="5911920" y="4947840"/>
                <a:ext cx="2133360" cy="73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6799320" y="4156920"/>
                <a:ext cx="0" cy="121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814440" y="3989520"/>
                <a:ext cx="118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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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x/p, y/q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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059320" y="560520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041680" y="4603320"/>
                <a:ext cx="29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V="1">
                <a:off x="7632720" y="485388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H="1" flipV="1">
                <a:off x="6703560" y="5177880"/>
                <a:ext cx="1311480" cy="35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V="1">
                <a:off x="6589800" y="5323680"/>
                <a:ext cx="1358640" cy="47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189120" y="555120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099840" y="520200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7070760" y="471096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V="1">
                <a:off x="7337520" y="495864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V="1">
                <a:off x="6794640" y="480672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V="1">
                <a:off x="6499080" y="491148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V="1">
                <a:off x="6127920" y="502524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V="1">
                <a:off x="7289640" y="465444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7051680" y="507348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6708600" y="519732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 flipV="1">
                <a:off x="6303960" y="5415840"/>
                <a:ext cx="1378080" cy="4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 flipV="1">
                <a:off x="5903640" y="5530680"/>
                <a:ext cx="1377720" cy="41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V="1">
                <a:off x="8023320" y="496872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7728120" y="507348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7442280" y="518724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7099200" y="531108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V="1">
                <a:off x="6870600" y="443484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V="1">
                <a:off x="6575400" y="4539600"/>
                <a:ext cx="0" cy="571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V="1">
                <a:off x="6289560" y="465444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5946840" y="4778280"/>
                <a:ext cx="0" cy="5709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V="1">
                <a:off x="5513400" y="5019120"/>
                <a:ext cx="1359000" cy="47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10" name=""/>
                <p:cNvSpPr txBox="1"/>
                <p:nvPr/>
              </p:nvSpPr>
              <p:spPr>
                <a:xfrm>
                  <a:off x="4554360" y="6051600"/>
                  <a:ext cx="43801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II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p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∞</m:t>
                              </m:r>
                            </m:sub>
                            <m:sup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r>
                                <m:t xml:space="preserve">∞</m:t>
                              </m:r>
                            </m:sup>
                            <m:e/>
                          </m:nary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k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q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1280" y="779040"/>
            <a:ext cx="2194200" cy="46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l condu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63840" y="23796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1920" y="1960560"/>
            <a:ext cx="674748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texte science, motivation, but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oite à outils conceptuelle (formalis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dements  théo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incipes opératoires : monde idéa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icultés : monde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20160" y="128412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lef de voute :   H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098960" y="5477040"/>
            <a:ext cx="4576680" cy="1136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076720" y="3249720"/>
            <a:ext cx="720720" cy="614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188120" y="2662200"/>
            <a:ext cx="7207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36640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urierisons à la main_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1440" y="2107800"/>
            <a:ext cx="1914840" cy="684720"/>
            <a:chOff x="1440" y="2107800"/>
            <a:chExt cx="1914840" cy="684720"/>
          </a:xfrm>
        </p:grpSpPr>
        <p:sp>
          <p:nvSpPr>
            <p:cNvPr id="1313" name=""/>
            <p:cNvSpPr/>
            <p:nvPr/>
          </p:nvSpPr>
          <p:spPr>
            <a:xfrm>
              <a:off x="1440" y="2792520"/>
              <a:ext cx="191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63040" y="2332440"/>
              <a:ext cx="6508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890640" y="21078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6" name=""/>
          <p:cNvSpPr/>
          <p:nvPr/>
        </p:nvSpPr>
        <p:spPr>
          <a:xfrm>
            <a:off x="90000" y="131292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o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758600" y="1312920"/>
            <a:ext cx="24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lement de l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758480" y="1312920"/>
            <a:ext cx="3754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tegrale = un point de la 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une composante du spec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6692760" y="2130480"/>
            <a:ext cx="2317680" cy="724320"/>
            <a:chOff x="6692760" y="2130480"/>
            <a:chExt cx="2317680" cy="724320"/>
          </a:xfrm>
        </p:grpSpPr>
        <p:grpSp>
          <p:nvGrpSpPr>
            <p:cNvPr id="1320" name=""/>
            <p:cNvGrpSpPr/>
            <p:nvPr/>
          </p:nvGrpSpPr>
          <p:grpSpPr>
            <a:xfrm>
              <a:off x="6994440" y="2130480"/>
              <a:ext cx="2016000" cy="724320"/>
              <a:chOff x="6994440" y="2130480"/>
              <a:chExt cx="2016000" cy="724320"/>
            </a:xfrm>
          </p:grpSpPr>
          <p:grpSp>
            <p:nvGrpSpPr>
              <p:cNvPr id="1321" name=""/>
              <p:cNvGrpSpPr/>
              <p:nvPr/>
            </p:nvGrpSpPr>
            <p:grpSpPr>
              <a:xfrm>
                <a:off x="6994440" y="2130480"/>
                <a:ext cx="1914480" cy="684000"/>
                <a:chOff x="6994440" y="2130480"/>
                <a:chExt cx="1914480" cy="684000"/>
              </a:xfrm>
            </p:grpSpPr>
            <p:sp>
              <p:nvSpPr>
                <p:cNvPr id="1322" name=""/>
                <p:cNvSpPr/>
                <p:nvPr/>
              </p:nvSpPr>
              <p:spPr>
                <a:xfrm>
                  <a:off x="6994440" y="2814480"/>
                  <a:ext cx="191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flipV="1">
                  <a:off x="7883640" y="2130480"/>
                  <a:ext cx="0" cy="68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7826400" y="2301840"/>
                  <a:ext cx="119160" cy="1317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5" name=""/>
              <p:cNvSpPr/>
              <p:nvPr/>
            </p:nvSpPr>
            <p:spPr>
              <a:xfrm>
                <a:off x="8672760" y="245592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6" name=""/>
            <p:cNvSpPr/>
            <p:nvPr/>
          </p:nvSpPr>
          <p:spPr>
            <a:xfrm>
              <a:off x="6692760" y="237492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1891800" y="2111040"/>
            <a:ext cx="2356200" cy="997560"/>
            <a:chOff x="1891800" y="2111040"/>
            <a:chExt cx="2356200" cy="997560"/>
          </a:xfrm>
        </p:grpSpPr>
        <p:grpSp>
          <p:nvGrpSpPr>
            <p:cNvPr id="1328" name=""/>
            <p:cNvGrpSpPr/>
            <p:nvPr/>
          </p:nvGrpSpPr>
          <p:grpSpPr>
            <a:xfrm>
              <a:off x="2286000" y="2111040"/>
              <a:ext cx="1962000" cy="997560"/>
              <a:chOff x="2286000" y="2111040"/>
              <a:chExt cx="1962000" cy="997560"/>
            </a:xfrm>
          </p:grpSpPr>
          <p:sp>
            <p:nvSpPr>
              <p:cNvPr id="1329" name=""/>
              <p:cNvSpPr/>
              <p:nvPr/>
            </p:nvSpPr>
            <p:spPr>
              <a:xfrm>
                <a:off x="2286000" y="279576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3174840" y="2111040"/>
                <a:ext cx="0" cy="6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333520" y="2332080"/>
                <a:ext cx="158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306240" y="2365200"/>
                <a:ext cx="59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u=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910320" y="270972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"/>
            <p:cNvGrpSpPr/>
            <p:nvPr/>
          </p:nvGrpSpPr>
          <p:grpSpPr>
            <a:xfrm>
              <a:off x="1891800" y="2387520"/>
              <a:ext cx="241560" cy="228600"/>
              <a:chOff x="1891800" y="2387520"/>
              <a:chExt cx="241560" cy="228600"/>
            </a:xfrm>
          </p:grpSpPr>
          <p:sp>
            <p:nvSpPr>
              <p:cNvPr id="1335" name=""/>
              <p:cNvSpPr/>
              <p:nvPr/>
            </p:nvSpPr>
            <p:spPr>
              <a:xfrm>
                <a:off x="1904760" y="238752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>
                <a:off x="1891800" y="238752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7" name=""/>
          <p:cNvGrpSpPr/>
          <p:nvPr/>
        </p:nvGrpSpPr>
        <p:grpSpPr>
          <a:xfrm>
            <a:off x="-3240" y="3032280"/>
            <a:ext cx="4251240" cy="1016280"/>
            <a:chOff x="-3240" y="3032280"/>
            <a:chExt cx="4251240" cy="1016280"/>
          </a:xfrm>
        </p:grpSpPr>
        <p:grpSp>
          <p:nvGrpSpPr>
            <p:cNvPr id="1338" name=""/>
            <p:cNvGrpSpPr/>
            <p:nvPr/>
          </p:nvGrpSpPr>
          <p:grpSpPr>
            <a:xfrm>
              <a:off x="-3240" y="3032280"/>
              <a:ext cx="1914480" cy="684000"/>
              <a:chOff x="-3240" y="3032280"/>
              <a:chExt cx="1914480" cy="684000"/>
            </a:xfrm>
          </p:grpSpPr>
          <p:sp>
            <p:nvSpPr>
              <p:cNvPr id="1339" name=""/>
              <p:cNvSpPr/>
              <p:nvPr/>
            </p:nvSpPr>
            <p:spPr>
              <a:xfrm>
                <a:off x="-3240" y="371628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58000" y="3256560"/>
                <a:ext cx="6505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V="1">
                <a:off x="885600" y="3032280"/>
                <a:ext cx="0" cy="68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2281320" y="3034800"/>
              <a:ext cx="1966680" cy="1013760"/>
              <a:chOff x="2281320" y="3034800"/>
              <a:chExt cx="1966680" cy="1013760"/>
            </a:xfrm>
          </p:grpSpPr>
          <p:sp>
            <p:nvSpPr>
              <p:cNvPr id="1343" name=""/>
              <p:cNvSpPr/>
              <p:nvPr/>
            </p:nvSpPr>
            <p:spPr>
              <a:xfrm>
                <a:off x="2281320" y="371952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3170160" y="3034800"/>
                <a:ext cx="0" cy="6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368440" y="3259080"/>
                <a:ext cx="1592280" cy="295200"/>
              </a:xfrm>
              <a:custGeom>
                <a:avLst/>
                <a:gdLst/>
                <a:ahLst/>
                <a:rect l="l" t="t" r="r" b="b"/>
                <a:pathLst>
                  <a:path w="1003" h="112">
                    <a:moveTo>
                      <a:pt x="0" y="112"/>
                    </a:moveTo>
                    <a:cubicBezTo>
                      <a:pt x="167" y="56"/>
                      <a:pt x="335" y="0"/>
                      <a:pt x="502" y="0"/>
                    </a:cubicBezTo>
                    <a:cubicBezTo>
                      <a:pt x="669" y="0"/>
                      <a:pt x="836" y="56"/>
                      <a:pt x="1003" y="11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910320" y="364968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262320" y="3243240"/>
                <a:ext cx="527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r>
                  <a:rPr b="1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1879200" y="3238560"/>
              <a:ext cx="241560" cy="228600"/>
              <a:chOff x="1879200" y="3238560"/>
              <a:chExt cx="241560" cy="228600"/>
            </a:xfrm>
          </p:grpSpPr>
          <p:sp>
            <p:nvSpPr>
              <p:cNvPr id="1349" name=""/>
              <p:cNvSpPr/>
              <p:nvPr/>
            </p:nvSpPr>
            <p:spPr>
              <a:xfrm>
                <a:off x="1892160" y="323856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1879200" y="323856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1" name=""/>
          <p:cNvGrpSpPr/>
          <p:nvPr/>
        </p:nvGrpSpPr>
        <p:grpSpPr>
          <a:xfrm>
            <a:off x="4356000" y="2081160"/>
            <a:ext cx="2187720" cy="727200"/>
            <a:chOff x="4356000" y="2081160"/>
            <a:chExt cx="2187720" cy="727200"/>
          </a:xfrm>
        </p:grpSpPr>
        <p:grpSp>
          <p:nvGrpSpPr>
            <p:cNvPr id="1352" name=""/>
            <p:cNvGrpSpPr/>
            <p:nvPr/>
          </p:nvGrpSpPr>
          <p:grpSpPr>
            <a:xfrm>
              <a:off x="4629240" y="2123640"/>
              <a:ext cx="1914480" cy="684720"/>
              <a:chOff x="4629240" y="2123640"/>
              <a:chExt cx="1914480" cy="684720"/>
            </a:xfrm>
          </p:grpSpPr>
          <p:sp>
            <p:nvSpPr>
              <p:cNvPr id="1353" name=""/>
              <p:cNvSpPr/>
              <p:nvPr/>
            </p:nvSpPr>
            <p:spPr>
              <a:xfrm>
                <a:off x="4629240" y="280836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191200" y="2347920"/>
                <a:ext cx="650880" cy="460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V="1">
                <a:off x="5518080" y="2123640"/>
                <a:ext cx="0" cy="6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670280" y="2344680"/>
                <a:ext cx="158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7" name=""/>
            <p:cNvSpPr/>
            <p:nvPr/>
          </p:nvSpPr>
          <p:spPr>
            <a:xfrm>
              <a:off x="4356000" y="2081160"/>
              <a:ext cx="27936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4343400" y="3048120"/>
            <a:ext cx="4667040" cy="825480"/>
            <a:chOff x="4343400" y="3048120"/>
            <a:chExt cx="4667040" cy="825480"/>
          </a:xfrm>
        </p:grpSpPr>
        <p:sp>
          <p:nvSpPr>
            <p:cNvPr id="1359" name=""/>
            <p:cNvSpPr/>
            <p:nvPr/>
          </p:nvSpPr>
          <p:spPr>
            <a:xfrm>
              <a:off x="6692760" y="3301920"/>
              <a:ext cx="696960" cy="346320"/>
            </a:xfrm>
            <a:prstGeom prst="rightArrow">
              <a:avLst>
                <a:gd name="adj1" fmla="val 50000"/>
                <a:gd name="adj2" fmla="val 5031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0" name=""/>
            <p:cNvGrpSpPr/>
            <p:nvPr/>
          </p:nvGrpSpPr>
          <p:grpSpPr>
            <a:xfrm>
              <a:off x="4343400" y="3048120"/>
              <a:ext cx="4667040" cy="825480"/>
              <a:chOff x="4343400" y="3048120"/>
              <a:chExt cx="4667040" cy="825480"/>
            </a:xfrm>
          </p:grpSpPr>
          <p:grpSp>
            <p:nvGrpSpPr>
              <p:cNvPr id="1361" name=""/>
              <p:cNvGrpSpPr/>
              <p:nvPr/>
            </p:nvGrpSpPr>
            <p:grpSpPr>
              <a:xfrm>
                <a:off x="4624560" y="3048120"/>
                <a:ext cx="1914480" cy="685800"/>
                <a:chOff x="4624560" y="3048120"/>
                <a:chExt cx="1914480" cy="685800"/>
              </a:xfrm>
            </p:grpSpPr>
            <p:grpSp>
              <p:nvGrpSpPr>
                <p:cNvPr id="1362" name=""/>
                <p:cNvGrpSpPr/>
                <p:nvPr/>
              </p:nvGrpSpPr>
              <p:grpSpPr>
                <a:xfrm>
                  <a:off x="4624560" y="3048120"/>
                  <a:ext cx="1914480" cy="684000"/>
                  <a:chOff x="4624560" y="3048120"/>
                  <a:chExt cx="1914480" cy="684000"/>
                </a:xfrm>
              </p:grpSpPr>
              <p:sp>
                <p:nvSpPr>
                  <p:cNvPr id="1363" name=""/>
                  <p:cNvSpPr/>
                  <p:nvPr/>
                </p:nvSpPr>
                <p:spPr>
                  <a:xfrm>
                    <a:off x="4624560" y="3732120"/>
                    <a:ext cx="1914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5185800" y="3272400"/>
                    <a:ext cx="650520" cy="459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 flipV="1">
                    <a:off x="5513400" y="3048120"/>
                    <a:ext cx="0" cy="68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6" name=""/>
                <p:cNvSpPr/>
                <p:nvPr/>
              </p:nvSpPr>
              <p:spPr>
                <a:xfrm>
                  <a:off x="5194440" y="3340080"/>
                  <a:ext cx="636480" cy="393840"/>
                </a:xfrm>
                <a:custGeom>
                  <a:avLst/>
                  <a:gdLst/>
                  <a:ahLst/>
                  <a:rect l="l" t="t" r="r" b="b"/>
                  <a:pathLst>
                    <a:path w="401" h="248">
                      <a:moveTo>
                        <a:pt x="1" y="3"/>
                      </a:moveTo>
                      <a:lnTo>
                        <a:pt x="0" y="248"/>
                      </a:lnTo>
                      <a:lnTo>
                        <a:pt x="401" y="247"/>
                      </a:lnTo>
                      <a:lnTo>
                        <a:pt x="400" y="0"/>
                      </a:lnTo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5197320" y="3270240"/>
                  <a:ext cx="632160" cy="88920"/>
                </a:xfrm>
                <a:custGeom>
                  <a:avLst/>
                  <a:gdLst/>
                  <a:ahLst/>
                  <a:rect l="l" t="t" r="r" b="b"/>
                  <a:pathLst>
                    <a:path w="398" h="56">
                      <a:moveTo>
                        <a:pt x="0" y="53"/>
                      </a:moveTo>
                      <a:cubicBezTo>
                        <a:pt x="33" y="43"/>
                        <a:pt x="132" y="0"/>
                        <a:pt x="198" y="0"/>
                      </a:cubicBezTo>
                      <a:cubicBezTo>
                        <a:pt x="264" y="0"/>
                        <a:pt x="356" y="44"/>
                        <a:pt x="398" y="56"/>
                      </a:cubicBezTo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4729320" y="3279600"/>
                  <a:ext cx="1592280" cy="295560"/>
                </a:xfrm>
                <a:custGeom>
                  <a:avLst/>
                  <a:gdLst/>
                  <a:ahLst/>
                  <a:rect l="l" t="t" r="r" b="b"/>
                  <a:pathLst>
                    <a:path w="1003" h="112">
                      <a:moveTo>
                        <a:pt x="0" y="112"/>
                      </a:moveTo>
                      <a:cubicBezTo>
                        <a:pt x="167" y="56"/>
                        <a:pt x="335" y="0"/>
                        <a:pt x="502" y="0"/>
                      </a:cubicBezTo>
                      <a:cubicBezTo>
                        <a:pt x="669" y="0"/>
                        <a:pt x="836" y="56"/>
                        <a:pt x="1003" y="112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7004160" y="3068280"/>
                <a:ext cx="1914480" cy="690840"/>
                <a:chOff x="7004160" y="3068280"/>
                <a:chExt cx="1914480" cy="6908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7004160" y="3753000"/>
                  <a:ext cx="1914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flipV="1">
                  <a:off x="7893000" y="3068280"/>
                  <a:ext cx="0" cy="68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7835760" y="3240000"/>
                  <a:ext cx="119160" cy="131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8016840" y="3335400"/>
                  <a:ext cx="119160" cy="1317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8077320" y="3403440"/>
                  <a:ext cx="0" cy="355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5" name=""/>
              <p:cNvSpPr/>
              <p:nvPr/>
            </p:nvSpPr>
            <p:spPr>
              <a:xfrm>
                <a:off x="8672760" y="340848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343400" y="3211560"/>
                <a:ext cx="279360" cy="662040"/>
              </a:xfrm>
              <a:custGeom>
                <a:avLst/>
                <a:gdLst/>
                <a:ahLst/>
                <a:rect l="l" t="t" r="r" b="b"/>
                <a:pathLst>
                  <a:path w="176" h="417">
                    <a:moveTo>
                      <a:pt x="176" y="1"/>
                    </a:moveTo>
                    <a:cubicBezTo>
                      <a:pt x="164" y="10"/>
                      <a:pt x="119" y="0"/>
                      <a:pt x="104" y="57"/>
                    </a:cubicBezTo>
                    <a:cubicBezTo>
                      <a:pt x="89" y="114"/>
                      <a:pt x="105" y="285"/>
                      <a:pt x="88" y="345"/>
                    </a:cubicBezTo>
                    <a:cubicBezTo>
                      <a:pt x="71" y="405"/>
                      <a:pt x="18" y="402"/>
                      <a:pt x="0" y="417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7" name=""/>
          <p:cNvGrpSpPr/>
          <p:nvPr/>
        </p:nvGrpSpPr>
        <p:grpSpPr>
          <a:xfrm>
            <a:off x="-12600" y="5457960"/>
            <a:ext cx="9048600" cy="1114200"/>
            <a:chOff x="-12600" y="5457960"/>
            <a:chExt cx="9048600" cy="1114200"/>
          </a:xfrm>
        </p:grpSpPr>
        <p:grpSp>
          <p:nvGrpSpPr>
            <p:cNvPr id="1378" name=""/>
            <p:cNvGrpSpPr/>
            <p:nvPr/>
          </p:nvGrpSpPr>
          <p:grpSpPr>
            <a:xfrm>
              <a:off x="-12600" y="5457960"/>
              <a:ext cx="1914480" cy="684000"/>
              <a:chOff x="-12600" y="5457960"/>
              <a:chExt cx="1914480" cy="684000"/>
            </a:xfrm>
          </p:grpSpPr>
          <p:sp>
            <p:nvSpPr>
              <p:cNvPr id="1379" name=""/>
              <p:cNvSpPr/>
              <p:nvPr/>
            </p:nvSpPr>
            <p:spPr>
              <a:xfrm>
                <a:off x="-12600" y="614196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48640" y="5682240"/>
                <a:ext cx="6505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876240" y="5457960"/>
                <a:ext cx="0" cy="68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2271600" y="61452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V="1">
              <a:off x="3160800" y="546048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4" name=""/>
            <p:cNvGrpSpPr/>
            <p:nvPr/>
          </p:nvGrpSpPr>
          <p:grpSpPr>
            <a:xfrm>
              <a:off x="4614840" y="5473800"/>
              <a:ext cx="1914480" cy="684000"/>
              <a:chOff x="4614840" y="5473800"/>
              <a:chExt cx="1914480" cy="684000"/>
            </a:xfrm>
          </p:grpSpPr>
          <p:sp>
            <p:nvSpPr>
              <p:cNvPr id="1385" name=""/>
              <p:cNvSpPr/>
              <p:nvPr/>
            </p:nvSpPr>
            <p:spPr>
              <a:xfrm>
                <a:off x="4614840" y="615780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176080" y="5698080"/>
                <a:ext cx="6505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V="1">
                <a:off x="5503680" y="5473800"/>
                <a:ext cx="0" cy="68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8" name=""/>
            <p:cNvSpPr/>
            <p:nvPr/>
          </p:nvSpPr>
          <p:spPr>
            <a:xfrm>
              <a:off x="2593800" y="5613480"/>
              <a:ext cx="106056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930920" y="5587920"/>
              <a:ext cx="110304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181480" y="5686560"/>
              <a:ext cx="638280" cy="885600"/>
            </a:xfrm>
            <a:custGeom>
              <a:avLst/>
              <a:gdLst/>
              <a:ahLst/>
              <a:rect l="l" t="t" r="r" b="b"/>
              <a:pathLst>
                <a:path w="402" h="558">
                  <a:moveTo>
                    <a:pt x="0" y="294"/>
                  </a:moveTo>
                  <a:lnTo>
                    <a:pt x="22" y="432"/>
                  </a:lnTo>
                  <a:lnTo>
                    <a:pt x="42" y="504"/>
                  </a:lnTo>
                  <a:lnTo>
                    <a:pt x="69" y="558"/>
                  </a:lnTo>
                  <a:lnTo>
                    <a:pt x="95" y="554"/>
                  </a:lnTo>
                  <a:lnTo>
                    <a:pt x="113" y="459"/>
                  </a:lnTo>
                  <a:lnTo>
                    <a:pt x="149" y="202"/>
                  </a:lnTo>
                  <a:lnTo>
                    <a:pt x="180" y="33"/>
                  </a:lnTo>
                  <a:lnTo>
                    <a:pt x="209" y="0"/>
                  </a:lnTo>
                  <a:lnTo>
                    <a:pt x="230" y="33"/>
                  </a:lnTo>
                  <a:lnTo>
                    <a:pt x="268" y="192"/>
                  </a:lnTo>
                  <a:lnTo>
                    <a:pt x="282" y="387"/>
                  </a:lnTo>
                  <a:lnTo>
                    <a:pt x="297" y="480"/>
                  </a:lnTo>
                  <a:lnTo>
                    <a:pt x="315" y="547"/>
                  </a:lnTo>
                  <a:lnTo>
                    <a:pt x="339" y="554"/>
                  </a:lnTo>
                  <a:lnTo>
                    <a:pt x="366" y="480"/>
                  </a:lnTo>
                  <a:lnTo>
                    <a:pt x="381" y="423"/>
                  </a:lnTo>
                  <a:lnTo>
                    <a:pt x="402" y="297"/>
                  </a:lnTo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1" name=""/>
            <p:cNvGrpSpPr/>
            <p:nvPr/>
          </p:nvGrpSpPr>
          <p:grpSpPr>
            <a:xfrm>
              <a:off x="7023240" y="5508360"/>
              <a:ext cx="1914480" cy="925920"/>
              <a:chOff x="7023240" y="5508360"/>
              <a:chExt cx="1914480" cy="925920"/>
            </a:xfrm>
          </p:grpSpPr>
          <p:sp>
            <p:nvSpPr>
              <p:cNvPr id="1392" name=""/>
              <p:cNvSpPr/>
              <p:nvPr/>
            </p:nvSpPr>
            <p:spPr>
              <a:xfrm>
                <a:off x="7924680" y="5753160"/>
                <a:ext cx="965160" cy="640080"/>
              </a:xfrm>
              <a:custGeom>
                <a:avLst/>
                <a:gdLst/>
                <a:ahLst/>
                <a:rect l="l" t="t" r="r" b="b"/>
                <a:pathLst>
                  <a:path w="608" h="403">
                    <a:moveTo>
                      <a:pt x="0" y="0"/>
                    </a:moveTo>
                    <a:cubicBezTo>
                      <a:pt x="28" y="12"/>
                      <a:pt x="56" y="24"/>
                      <a:pt x="112" y="72"/>
                    </a:cubicBezTo>
                    <a:cubicBezTo>
                      <a:pt x="168" y="120"/>
                      <a:pt x="268" y="235"/>
                      <a:pt x="336" y="288"/>
                    </a:cubicBezTo>
                    <a:cubicBezTo>
                      <a:pt x="404" y="341"/>
                      <a:pt x="475" y="381"/>
                      <a:pt x="520" y="392"/>
                    </a:cubicBezTo>
                    <a:cubicBezTo>
                      <a:pt x="565" y="403"/>
                      <a:pt x="593" y="355"/>
                      <a:pt x="608" y="352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8724960" y="619740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8102520" y="5842080"/>
                <a:ext cx="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023240" y="619308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7912080" y="5508360"/>
                <a:ext cx="0" cy="6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8655120" y="6302520"/>
                <a:ext cx="118800" cy="131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845480" y="5715360"/>
                <a:ext cx="119160" cy="13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035920" y="5804280"/>
                <a:ext cx="119160" cy="13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8393040" y="6134400"/>
                <a:ext cx="119160" cy="13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8698320" y="57834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85120" y="606276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160800" y="564372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692760" y="566424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5" name=""/>
            <p:cNvGrpSpPr/>
            <p:nvPr/>
          </p:nvGrpSpPr>
          <p:grpSpPr>
            <a:xfrm>
              <a:off x="1854000" y="5715000"/>
              <a:ext cx="241560" cy="228600"/>
              <a:chOff x="1854000" y="5715000"/>
              <a:chExt cx="241560" cy="228600"/>
            </a:xfrm>
          </p:grpSpPr>
          <p:sp>
            <p:nvSpPr>
              <p:cNvPr id="1406" name=""/>
              <p:cNvSpPr/>
              <p:nvPr/>
            </p:nvSpPr>
            <p:spPr>
              <a:xfrm>
                <a:off x="1866960" y="571500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>
                <a:off x="1854000" y="571500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8" name=""/>
            <p:cNvSpPr/>
            <p:nvPr/>
          </p:nvSpPr>
          <p:spPr>
            <a:xfrm>
              <a:off x="4317840" y="5726160"/>
              <a:ext cx="27972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-7920" y="4095360"/>
            <a:ext cx="9018360" cy="1118160"/>
            <a:chOff x="-7920" y="4095360"/>
            <a:chExt cx="9018360" cy="1118160"/>
          </a:xfrm>
        </p:grpSpPr>
        <p:grpSp>
          <p:nvGrpSpPr>
            <p:cNvPr id="1410" name=""/>
            <p:cNvGrpSpPr/>
            <p:nvPr/>
          </p:nvGrpSpPr>
          <p:grpSpPr>
            <a:xfrm>
              <a:off x="-7920" y="4095360"/>
              <a:ext cx="1914480" cy="684720"/>
              <a:chOff x="-7920" y="4095360"/>
              <a:chExt cx="1914480" cy="684720"/>
            </a:xfrm>
          </p:grpSpPr>
          <p:sp>
            <p:nvSpPr>
              <p:cNvPr id="1411" name=""/>
              <p:cNvSpPr/>
              <p:nvPr/>
            </p:nvSpPr>
            <p:spPr>
              <a:xfrm>
                <a:off x="-7920" y="478008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53320" y="4320000"/>
                <a:ext cx="65052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V="1">
                <a:off x="880920" y="4095360"/>
                <a:ext cx="0" cy="6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4" name=""/>
            <p:cNvSpPr/>
            <p:nvPr/>
          </p:nvSpPr>
          <p:spPr>
            <a:xfrm>
              <a:off x="2276640" y="47829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3165480" y="409896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619520" y="47959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181480" y="4335480"/>
              <a:ext cx="650880" cy="46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V="1">
              <a:off x="5508720" y="41112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185920" y="4233960"/>
              <a:ext cx="184140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183280" y="4338720"/>
              <a:ext cx="649080" cy="874800"/>
            </a:xfrm>
            <a:custGeom>
              <a:avLst/>
              <a:gdLst/>
              <a:ahLst/>
              <a:rect l="l" t="t" r="r" b="b"/>
              <a:pathLst>
                <a:path w="409" h="551">
                  <a:moveTo>
                    <a:pt x="0" y="291"/>
                  </a:moveTo>
                  <a:lnTo>
                    <a:pt x="0" y="551"/>
                  </a:lnTo>
                  <a:lnTo>
                    <a:pt x="65" y="430"/>
                  </a:lnTo>
                  <a:lnTo>
                    <a:pt x="121" y="189"/>
                  </a:lnTo>
                  <a:lnTo>
                    <a:pt x="167" y="31"/>
                  </a:lnTo>
                  <a:lnTo>
                    <a:pt x="209" y="0"/>
                  </a:lnTo>
                  <a:lnTo>
                    <a:pt x="241" y="31"/>
                  </a:lnTo>
                  <a:lnTo>
                    <a:pt x="297" y="180"/>
                  </a:lnTo>
                  <a:lnTo>
                    <a:pt x="362" y="449"/>
                  </a:lnTo>
                  <a:lnTo>
                    <a:pt x="409" y="542"/>
                  </a:lnTo>
                  <a:lnTo>
                    <a:pt x="409" y="282"/>
                  </a:lnTo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1" name=""/>
            <p:cNvGrpSpPr/>
            <p:nvPr/>
          </p:nvGrpSpPr>
          <p:grpSpPr>
            <a:xfrm>
              <a:off x="7013520" y="4146120"/>
              <a:ext cx="1914480" cy="722880"/>
              <a:chOff x="7013520" y="4146120"/>
              <a:chExt cx="1914480" cy="722880"/>
            </a:xfrm>
          </p:grpSpPr>
          <p:sp>
            <p:nvSpPr>
              <p:cNvPr id="1422" name=""/>
              <p:cNvSpPr/>
              <p:nvPr/>
            </p:nvSpPr>
            <p:spPr>
              <a:xfrm>
                <a:off x="8102520" y="4483080"/>
                <a:ext cx="0" cy="35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013520" y="4830840"/>
                <a:ext cx="19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V="1">
                <a:off x="7902720" y="4146120"/>
                <a:ext cx="0" cy="6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845480" y="4317840"/>
                <a:ext cx="119160" cy="13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8035920" y="4406760"/>
                <a:ext cx="119160" cy="13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393040" y="4737240"/>
                <a:ext cx="119160" cy="131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8" name=""/>
            <p:cNvSpPr/>
            <p:nvPr/>
          </p:nvSpPr>
          <p:spPr>
            <a:xfrm>
              <a:off x="8672760" y="447516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859560" y="47293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236760" y="427212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692760" y="433080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2" name=""/>
            <p:cNvGrpSpPr/>
            <p:nvPr/>
          </p:nvGrpSpPr>
          <p:grpSpPr>
            <a:xfrm>
              <a:off x="1866600" y="4241880"/>
              <a:ext cx="241560" cy="228600"/>
              <a:chOff x="1866600" y="4241880"/>
              <a:chExt cx="241560" cy="228600"/>
            </a:xfrm>
          </p:grpSpPr>
          <p:sp>
            <p:nvSpPr>
              <p:cNvPr id="1433" name=""/>
              <p:cNvSpPr/>
              <p:nvPr/>
            </p:nvSpPr>
            <p:spPr>
              <a:xfrm>
                <a:off x="1879560" y="424188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H="1">
                <a:off x="1866600" y="4241880"/>
                <a:ext cx="22860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5" name=""/>
            <p:cNvSpPr/>
            <p:nvPr/>
          </p:nvSpPr>
          <p:spPr>
            <a:xfrm>
              <a:off x="4330800" y="4341960"/>
              <a:ext cx="279360" cy="66168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533840" y="4251240"/>
              <a:ext cx="184140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7" name=""/>
          <p:cNvSpPr/>
          <p:nvPr/>
        </p:nvSpPr>
        <p:spPr>
          <a:xfrm>
            <a:off x="4354920" y="644400"/>
            <a:ext cx="393444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rectangle, porte, pu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36226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urierisons à la main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1440" y="2081160"/>
            <a:ext cx="9009000" cy="1027440"/>
            <a:chOff x="1440" y="2081160"/>
            <a:chExt cx="9009000" cy="1027440"/>
          </a:xfrm>
        </p:grpSpPr>
        <p:sp>
          <p:nvSpPr>
            <p:cNvPr id="1440" name=""/>
            <p:cNvSpPr/>
            <p:nvPr/>
          </p:nvSpPr>
          <p:spPr>
            <a:xfrm>
              <a:off x="1440" y="2792520"/>
              <a:ext cx="191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V="1">
              <a:off x="890640" y="21078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994440" y="281448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7883640" y="213048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826400" y="2301840"/>
              <a:ext cx="1191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672760" y="24559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286000" y="27957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V="1">
              <a:off x="3174840" y="21110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333520" y="2332080"/>
              <a:ext cx="158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306240" y="236520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u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910320" y="27097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692760" y="237492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629240" y="28083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5518080" y="21236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670280" y="2344680"/>
              <a:ext cx="15894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905120" y="238752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1891800" y="238752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280040" y="2081160"/>
              <a:ext cx="27936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885960" y="2351160"/>
              <a:ext cx="0" cy="420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5508720" y="2401920"/>
              <a:ext cx="0" cy="420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-3240" y="3032280"/>
            <a:ext cx="9013680" cy="1016280"/>
            <a:chOff x="-3240" y="3032280"/>
            <a:chExt cx="9013680" cy="1016280"/>
          </a:xfrm>
        </p:grpSpPr>
        <p:sp>
          <p:nvSpPr>
            <p:cNvPr id="1461" name=""/>
            <p:cNvSpPr/>
            <p:nvPr/>
          </p:nvSpPr>
          <p:spPr>
            <a:xfrm>
              <a:off x="-3240" y="371628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885960" y="303228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624560" y="37321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5513400" y="304812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729320" y="3279600"/>
              <a:ext cx="1592280" cy="295560"/>
            </a:xfrm>
            <a:custGeom>
              <a:avLst/>
              <a:gdLst/>
              <a:ahLst/>
              <a:rect l="l" t="t" r="r" b="b"/>
              <a:pathLst>
                <a:path w="1003" h="112">
                  <a:moveTo>
                    <a:pt x="0" y="112"/>
                  </a:moveTo>
                  <a:cubicBezTo>
                    <a:pt x="167" y="56"/>
                    <a:pt x="335" y="0"/>
                    <a:pt x="502" y="0"/>
                  </a:cubicBezTo>
                  <a:cubicBezTo>
                    <a:pt x="669" y="0"/>
                    <a:pt x="836" y="56"/>
                    <a:pt x="1003" y="1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004160" y="37530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7893000" y="306828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835760" y="324000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016840" y="3235320"/>
              <a:ext cx="1191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077320" y="340344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672760" y="34084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281320" y="37195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3170160" y="30348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368440" y="3259080"/>
              <a:ext cx="1592280" cy="295200"/>
            </a:xfrm>
            <a:custGeom>
              <a:avLst/>
              <a:gdLst/>
              <a:ahLst/>
              <a:rect l="l" t="t" r="r" b="b"/>
              <a:pathLst>
                <a:path w="1003" h="112">
                  <a:moveTo>
                    <a:pt x="0" y="112"/>
                  </a:moveTo>
                  <a:cubicBezTo>
                    <a:pt x="167" y="56"/>
                    <a:pt x="335" y="0"/>
                    <a:pt x="502" y="0"/>
                  </a:cubicBezTo>
                  <a:cubicBezTo>
                    <a:pt x="669" y="0"/>
                    <a:pt x="836" y="56"/>
                    <a:pt x="1003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910320" y="36496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262320" y="324324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692760" y="3301920"/>
              <a:ext cx="696960" cy="346320"/>
            </a:xfrm>
            <a:prstGeom prst="rightArrow">
              <a:avLst>
                <a:gd name="adj1" fmla="val 50000"/>
                <a:gd name="adj2" fmla="val 5031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892160" y="323856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1879200" y="323856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267080" y="3211560"/>
              <a:ext cx="27936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880920" y="328896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5504040" y="328248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-7920" y="4095360"/>
            <a:ext cx="9018360" cy="1108440"/>
            <a:chOff x="-7920" y="4095360"/>
            <a:chExt cx="9018360" cy="1108440"/>
          </a:xfrm>
        </p:grpSpPr>
        <p:sp>
          <p:nvSpPr>
            <p:cNvPr id="1484" name=""/>
            <p:cNvSpPr/>
            <p:nvPr/>
          </p:nvSpPr>
          <p:spPr>
            <a:xfrm>
              <a:off x="-7920" y="478008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880920" y="409536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276640" y="47829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V="1">
              <a:off x="3165480" y="409896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619520" y="47959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V="1">
              <a:off x="5508720" y="41112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185920" y="4233960"/>
              <a:ext cx="184140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102520" y="448308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013520" y="483084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7902720" y="414612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845480" y="431784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035920" y="431784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393040" y="4317840"/>
              <a:ext cx="1191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461440" y="448308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672760" y="447516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859560" y="47293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236760" y="427212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692760" y="433080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879560" y="424188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>
              <a:off x="1866600" y="424188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254480" y="4341960"/>
              <a:ext cx="279360" cy="66168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533840" y="4251240"/>
              <a:ext cx="184140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890640" y="4341960"/>
              <a:ext cx="0" cy="420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5513400" y="433512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8" name=""/>
          <p:cNvGrpSpPr/>
          <p:nvPr/>
        </p:nvGrpSpPr>
        <p:grpSpPr>
          <a:xfrm>
            <a:off x="-12600" y="5457960"/>
            <a:ext cx="9048600" cy="1108080"/>
            <a:chOff x="-12600" y="5457960"/>
            <a:chExt cx="9048600" cy="1108080"/>
          </a:xfrm>
        </p:grpSpPr>
        <p:sp>
          <p:nvSpPr>
            <p:cNvPr id="1509" name=""/>
            <p:cNvSpPr/>
            <p:nvPr/>
          </p:nvSpPr>
          <p:spPr>
            <a:xfrm>
              <a:off x="7564320" y="5776920"/>
              <a:ext cx="14367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-12600" y="61419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876240" y="545796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271600" y="61452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3160800" y="546048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614840" y="61578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5504040" y="547380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593800" y="5613480"/>
              <a:ext cx="106056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930920" y="5587920"/>
              <a:ext cx="110304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023240" y="61927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7912080" y="550872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655120" y="5719680"/>
              <a:ext cx="1191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845480" y="571968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035920" y="571968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393040" y="571968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98320" y="57834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885120" y="606276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160800" y="564372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92760" y="566424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866960" y="571500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1854000" y="571500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241880" y="5726160"/>
              <a:ext cx="27936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871560" y="575100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5494320" y="5745240"/>
              <a:ext cx="0" cy="420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097840" y="58356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456760" y="58356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717040" y="58230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4768920" y="701640"/>
            <a:ext cx="132984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irac 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90000" y="1401840"/>
            <a:ext cx="8647920" cy="398880"/>
            <a:chOff x="90000" y="1401840"/>
            <a:chExt cx="8647920" cy="398880"/>
          </a:xfrm>
        </p:grpSpPr>
        <p:sp>
          <p:nvSpPr>
            <p:cNvPr id="1538" name=""/>
            <p:cNvSpPr/>
            <p:nvPr/>
          </p:nvSpPr>
          <p:spPr>
            <a:xfrm>
              <a:off x="90000" y="1401840"/>
              <a:ext cx="11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on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772640" y="1401840"/>
              <a:ext cx="24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lement de la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224320" y="1401840"/>
              <a:ext cx="351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ntegrale = un point de la T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28600" y="1785960"/>
              <a:ext cx="827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36226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urierisons à la main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3" name=""/>
          <p:cNvGrpSpPr/>
          <p:nvPr/>
        </p:nvGrpSpPr>
        <p:grpSpPr>
          <a:xfrm>
            <a:off x="1440" y="2081160"/>
            <a:ext cx="9009000" cy="1027440"/>
            <a:chOff x="1440" y="2081160"/>
            <a:chExt cx="9009000" cy="1027440"/>
          </a:xfrm>
        </p:grpSpPr>
        <p:sp>
          <p:nvSpPr>
            <p:cNvPr id="1544" name=""/>
            <p:cNvSpPr/>
            <p:nvPr/>
          </p:nvSpPr>
          <p:spPr>
            <a:xfrm>
              <a:off x="1440" y="2792520"/>
              <a:ext cx="191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V="1">
              <a:off x="890640" y="21078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994440" y="281448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V="1">
              <a:off x="7883640" y="213048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826400" y="2301840"/>
              <a:ext cx="1191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672760" y="24559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286000" y="27957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3174840" y="21110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333520" y="2332080"/>
              <a:ext cx="158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306240" y="2365200"/>
              <a:ext cx="5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u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910320" y="27097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692760" y="237492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629240" y="28083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5518080" y="212364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670280" y="2344680"/>
              <a:ext cx="15894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905120" y="238752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1891800" y="238752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280040" y="2081160"/>
              <a:ext cx="27936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V="1">
              <a:off x="1200240" y="2351160"/>
              <a:ext cx="0" cy="420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5853240" y="2306160"/>
              <a:ext cx="0" cy="5367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-3240" y="3032280"/>
            <a:ext cx="9013680" cy="1016280"/>
            <a:chOff x="-3240" y="3032280"/>
            <a:chExt cx="9013680" cy="1016280"/>
          </a:xfrm>
        </p:grpSpPr>
        <p:sp>
          <p:nvSpPr>
            <p:cNvPr id="1565" name=""/>
            <p:cNvSpPr/>
            <p:nvPr/>
          </p:nvSpPr>
          <p:spPr>
            <a:xfrm>
              <a:off x="-3240" y="371628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885960" y="303228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624560" y="37321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5513400" y="304812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729320" y="3279600"/>
              <a:ext cx="1592280" cy="295560"/>
            </a:xfrm>
            <a:custGeom>
              <a:avLst/>
              <a:gdLst/>
              <a:ahLst/>
              <a:rect l="l" t="t" r="r" b="b"/>
              <a:pathLst>
                <a:path w="1003" h="112">
                  <a:moveTo>
                    <a:pt x="0" y="112"/>
                  </a:moveTo>
                  <a:cubicBezTo>
                    <a:pt x="167" y="56"/>
                    <a:pt x="335" y="0"/>
                    <a:pt x="502" y="0"/>
                  </a:cubicBezTo>
                  <a:cubicBezTo>
                    <a:pt x="669" y="0"/>
                    <a:pt x="836" y="56"/>
                    <a:pt x="1003" y="1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04160" y="37530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>
              <a:off x="7893000" y="306828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835760" y="324000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031240" y="3349800"/>
              <a:ext cx="1191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077320" y="340344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672760" y="34084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81320" y="37195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V="1">
              <a:off x="3170160" y="30348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368440" y="3259080"/>
              <a:ext cx="1592280" cy="295200"/>
            </a:xfrm>
            <a:custGeom>
              <a:avLst/>
              <a:gdLst/>
              <a:ahLst/>
              <a:rect l="l" t="t" r="r" b="b"/>
              <a:pathLst>
                <a:path w="1003" h="112">
                  <a:moveTo>
                    <a:pt x="0" y="112"/>
                  </a:moveTo>
                  <a:cubicBezTo>
                    <a:pt x="167" y="56"/>
                    <a:pt x="335" y="0"/>
                    <a:pt x="502" y="0"/>
                  </a:cubicBezTo>
                  <a:cubicBezTo>
                    <a:pt x="669" y="0"/>
                    <a:pt x="836" y="56"/>
                    <a:pt x="1003" y="1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910320" y="36496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262320" y="324324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692760" y="3301920"/>
              <a:ext cx="696960" cy="346320"/>
            </a:xfrm>
            <a:prstGeom prst="rightArrow">
              <a:avLst>
                <a:gd name="adj1" fmla="val 50000"/>
                <a:gd name="adj2" fmla="val 5031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892160" y="323856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1879200" y="323856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267080" y="3211560"/>
              <a:ext cx="27936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V="1">
              <a:off x="1195560" y="328896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5848200" y="331740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7" name=""/>
          <p:cNvGrpSpPr/>
          <p:nvPr/>
        </p:nvGrpSpPr>
        <p:grpSpPr>
          <a:xfrm>
            <a:off x="-7920" y="4095360"/>
            <a:ext cx="9018360" cy="1140120"/>
            <a:chOff x="-7920" y="4095360"/>
            <a:chExt cx="9018360" cy="1140120"/>
          </a:xfrm>
        </p:grpSpPr>
        <p:sp>
          <p:nvSpPr>
            <p:cNvPr id="1588" name=""/>
            <p:cNvSpPr/>
            <p:nvPr/>
          </p:nvSpPr>
          <p:spPr>
            <a:xfrm>
              <a:off x="-7920" y="478008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880920" y="409536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276640" y="47829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3165480" y="409896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619520" y="47959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5508720" y="411120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185920" y="4233960"/>
              <a:ext cx="184140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102520" y="448308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013520" y="483084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7902720" y="414612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845480" y="431784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8035920" y="443232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335800" y="5103720"/>
              <a:ext cx="11916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404200" y="482616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672760" y="447516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859560" y="47293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236760" y="427212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692760" y="433080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879560" y="424188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1866600" y="424188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254480" y="4341960"/>
              <a:ext cx="279360" cy="66168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533840" y="4251240"/>
              <a:ext cx="184140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1204920" y="4341960"/>
              <a:ext cx="0" cy="420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857920" y="477036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-12600" y="5457960"/>
            <a:ext cx="9113760" cy="1222200"/>
            <a:chOff x="-12600" y="5457960"/>
            <a:chExt cx="9113760" cy="1222200"/>
          </a:xfrm>
        </p:grpSpPr>
        <p:sp>
          <p:nvSpPr>
            <p:cNvPr id="1613" name=""/>
            <p:cNvSpPr/>
            <p:nvPr/>
          </p:nvSpPr>
          <p:spPr>
            <a:xfrm>
              <a:off x="7924680" y="5818320"/>
              <a:ext cx="1176480" cy="844560"/>
            </a:xfrm>
            <a:custGeom>
              <a:avLst/>
              <a:gdLst/>
              <a:ahLst/>
              <a:rect l="l" t="t" r="r" b="b"/>
              <a:pathLst>
                <a:path w="741" h="532">
                  <a:moveTo>
                    <a:pt x="0" y="1"/>
                  </a:moveTo>
                  <a:cubicBezTo>
                    <a:pt x="26" y="0"/>
                    <a:pt x="55" y="5"/>
                    <a:pt x="110" y="93"/>
                  </a:cubicBezTo>
                  <a:cubicBezTo>
                    <a:pt x="165" y="181"/>
                    <a:pt x="259" y="532"/>
                    <a:pt x="329" y="532"/>
                  </a:cubicBezTo>
                  <a:cubicBezTo>
                    <a:pt x="399" y="532"/>
                    <a:pt x="477" y="180"/>
                    <a:pt x="530" y="93"/>
                  </a:cubicBezTo>
                  <a:cubicBezTo>
                    <a:pt x="583" y="6"/>
                    <a:pt x="614" y="7"/>
                    <a:pt x="649" y="10"/>
                  </a:cubicBezTo>
                  <a:cubicBezTo>
                    <a:pt x="684" y="13"/>
                    <a:pt x="722" y="90"/>
                    <a:pt x="741" y="11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-12600" y="614196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876240" y="545796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271600" y="61452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3160800" y="5460480"/>
              <a:ext cx="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614840" y="615780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V="1">
              <a:off x="5504040" y="547380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593800" y="5613480"/>
              <a:ext cx="106056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30920" y="5587920"/>
              <a:ext cx="1103040" cy="952560"/>
            </a:xfrm>
            <a:custGeom>
              <a:avLst/>
              <a:gdLst/>
              <a:ahLst/>
              <a:rect l="l" t="t" r="r" b="b"/>
              <a:pathLst>
                <a:path w="909" h="600">
                  <a:moveTo>
                    <a:pt x="0" y="181"/>
                  </a:moveTo>
                  <a:cubicBezTo>
                    <a:pt x="19" y="163"/>
                    <a:pt x="61" y="0"/>
                    <a:pt x="112" y="70"/>
                  </a:cubicBezTo>
                  <a:cubicBezTo>
                    <a:pt x="163" y="140"/>
                    <a:pt x="245" y="600"/>
                    <a:pt x="307" y="599"/>
                  </a:cubicBezTo>
                  <a:cubicBezTo>
                    <a:pt x="369" y="598"/>
                    <a:pt x="427" y="62"/>
                    <a:pt x="484" y="61"/>
                  </a:cubicBezTo>
                  <a:cubicBezTo>
                    <a:pt x="541" y="60"/>
                    <a:pt x="597" y="587"/>
                    <a:pt x="651" y="590"/>
                  </a:cubicBezTo>
                  <a:cubicBezTo>
                    <a:pt x="705" y="593"/>
                    <a:pt x="764" y="151"/>
                    <a:pt x="807" y="78"/>
                  </a:cubicBezTo>
                  <a:cubicBezTo>
                    <a:pt x="850" y="5"/>
                    <a:pt x="888" y="137"/>
                    <a:pt x="909" y="15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023240" y="6192720"/>
              <a:ext cx="19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7912080" y="5508720"/>
              <a:ext cx="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8712360" y="5948280"/>
              <a:ext cx="118800" cy="13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845480" y="571968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035920" y="587700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364600" y="6548400"/>
              <a:ext cx="1191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698320" y="57834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885120" y="606276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160800" y="5643720"/>
              <a:ext cx="52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692760" y="5664240"/>
              <a:ext cx="696960" cy="345960"/>
            </a:xfrm>
            <a:prstGeom prst="rightArrow">
              <a:avLst>
                <a:gd name="adj1" fmla="val 50000"/>
                <a:gd name="adj2" fmla="val 5036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866960" y="571500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1854000" y="5715000"/>
              <a:ext cx="22860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241880" y="5726160"/>
              <a:ext cx="279360" cy="662040"/>
            </a:xfrm>
            <a:custGeom>
              <a:avLst/>
              <a:gdLst/>
              <a:ahLst/>
              <a:rect l="l" t="t" r="r" b="b"/>
              <a:pathLst>
                <a:path w="176" h="417">
                  <a:moveTo>
                    <a:pt x="176" y="1"/>
                  </a:moveTo>
                  <a:cubicBezTo>
                    <a:pt x="164" y="10"/>
                    <a:pt x="119" y="0"/>
                    <a:pt x="104" y="57"/>
                  </a:cubicBezTo>
                  <a:cubicBezTo>
                    <a:pt x="89" y="114"/>
                    <a:pt x="105" y="285"/>
                    <a:pt x="88" y="345"/>
                  </a:cubicBezTo>
                  <a:cubicBezTo>
                    <a:pt x="71" y="405"/>
                    <a:pt x="18" y="402"/>
                    <a:pt x="0" y="417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1185840" y="5751000"/>
              <a:ext cx="0" cy="4208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097840" y="58356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759880" y="58230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5838840" y="5909760"/>
              <a:ext cx="0" cy="290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5058720" y="739800"/>
            <a:ext cx="240588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irac   décal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90000" y="1401840"/>
            <a:ext cx="8647920" cy="469800"/>
            <a:chOff x="90000" y="1401840"/>
            <a:chExt cx="8647920" cy="469800"/>
          </a:xfrm>
        </p:grpSpPr>
        <p:sp>
          <p:nvSpPr>
            <p:cNvPr id="1641" name=""/>
            <p:cNvSpPr/>
            <p:nvPr/>
          </p:nvSpPr>
          <p:spPr>
            <a:xfrm>
              <a:off x="90000" y="1401840"/>
              <a:ext cx="11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on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758600" y="1401840"/>
              <a:ext cx="24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lement de la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224320" y="1401840"/>
              <a:ext cx="351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integrale = un point de la T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89000" y="1871640"/>
              <a:ext cx="85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461988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F de qqs  fonctions usuelles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6" name=""/>
          <p:cNvGrpSpPr/>
          <p:nvPr/>
        </p:nvGrpSpPr>
        <p:grpSpPr>
          <a:xfrm>
            <a:off x="1743120" y="4915080"/>
            <a:ext cx="3038400" cy="1156320"/>
            <a:chOff x="1743120" y="4915080"/>
            <a:chExt cx="3038400" cy="1156320"/>
          </a:xfrm>
        </p:grpSpPr>
        <p:grpSp>
          <p:nvGrpSpPr>
            <p:cNvPr id="1647" name=""/>
            <p:cNvGrpSpPr/>
            <p:nvPr/>
          </p:nvGrpSpPr>
          <p:grpSpPr>
            <a:xfrm>
              <a:off x="1765080" y="4915080"/>
              <a:ext cx="3016440" cy="1139040"/>
              <a:chOff x="1765080" y="4915080"/>
              <a:chExt cx="3016440" cy="1139040"/>
            </a:xfrm>
          </p:grpSpPr>
          <p:sp>
            <p:nvSpPr>
              <p:cNvPr id="1648" name=""/>
              <p:cNvSpPr/>
              <p:nvPr/>
            </p:nvSpPr>
            <p:spPr>
              <a:xfrm>
                <a:off x="3273480" y="4916160"/>
                <a:ext cx="1508040" cy="1137960"/>
              </a:xfrm>
              <a:custGeom>
                <a:avLst/>
                <a:gdLst/>
                <a:ahLst/>
                <a:rect l="l" t="t" r="r" b="b"/>
                <a:pathLst>
                  <a:path w="399" h="280">
                    <a:moveTo>
                      <a:pt x="0" y="0"/>
                    </a:moveTo>
                    <a:lnTo>
                      <a:pt x="3" y="4"/>
                    </a:lnTo>
                    <a:lnTo>
                      <a:pt x="7" y="17"/>
                    </a:lnTo>
                    <a:lnTo>
                      <a:pt x="11" y="39"/>
                    </a:lnTo>
                    <a:lnTo>
                      <a:pt x="15" y="67"/>
                    </a:lnTo>
                    <a:lnTo>
                      <a:pt x="19" y="99"/>
                    </a:lnTo>
                    <a:lnTo>
                      <a:pt x="23" y="135"/>
                    </a:lnTo>
                    <a:lnTo>
                      <a:pt x="27" y="170"/>
                    </a:lnTo>
                    <a:lnTo>
                      <a:pt x="31" y="204"/>
                    </a:lnTo>
                    <a:lnTo>
                      <a:pt x="35" y="233"/>
                    </a:lnTo>
                    <a:lnTo>
                      <a:pt x="39" y="256"/>
                    </a:lnTo>
                    <a:lnTo>
                      <a:pt x="43" y="272"/>
                    </a:lnTo>
                    <a:lnTo>
                      <a:pt x="47" y="280"/>
                    </a:lnTo>
                    <a:lnTo>
                      <a:pt x="51" y="279"/>
                    </a:lnTo>
                    <a:lnTo>
                      <a:pt x="55" y="269"/>
                    </a:lnTo>
                    <a:lnTo>
                      <a:pt x="59" y="252"/>
                    </a:lnTo>
                    <a:lnTo>
                      <a:pt x="63" y="228"/>
                    </a:lnTo>
                    <a:lnTo>
                      <a:pt x="67" y="199"/>
                    </a:lnTo>
                    <a:lnTo>
                      <a:pt x="71" y="168"/>
                    </a:lnTo>
                    <a:lnTo>
                      <a:pt x="75" y="135"/>
                    </a:lnTo>
                    <a:lnTo>
                      <a:pt x="79" y="104"/>
                    </a:lnTo>
                    <a:lnTo>
                      <a:pt x="83" y="76"/>
                    </a:lnTo>
                    <a:lnTo>
                      <a:pt x="87" y="54"/>
                    </a:lnTo>
                    <a:lnTo>
                      <a:pt x="91" y="37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3" y="31"/>
                    </a:lnTo>
                    <a:lnTo>
                      <a:pt x="107" y="44"/>
                    </a:lnTo>
                    <a:lnTo>
                      <a:pt x="111" y="62"/>
                    </a:lnTo>
                    <a:lnTo>
                      <a:pt x="115" y="85"/>
                    </a:lnTo>
                    <a:lnTo>
                      <a:pt x="119" y="110"/>
                    </a:lnTo>
                    <a:lnTo>
                      <a:pt x="123" y="137"/>
                    </a:lnTo>
                    <a:lnTo>
                      <a:pt x="127" y="163"/>
                    </a:lnTo>
                    <a:lnTo>
                      <a:pt x="131" y="186"/>
                    </a:lnTo>
                    <a:lnTo>
                      <a:pt x="135" y="206"/>
                    </a:lnTo>
                    <a:lnTo>
                      <a:pt x="139" y="221"/>
                    </a:lnTo>
                    <a:lnTo>
                      <a:pt x="143" y="230"/>
                    </a:lnTo>
                    <a:lnTo>
                      <a:pt x="147" y="233"/>
                    </a:lnTo>
                    <a:lnTo>
                      <a:pt x="151" y="231"/>
                    </a:lnTo>
                    <a:lnTo>
                      <a:pt x="155" y="223"/>
                    </a:lnTo>
                    <a:lnTo>
                      <a:pt x="159" y="211"/>
                    </a:lnTo>
                    <a:lnTo>
                      <a:pt x="163" y="195"/>
                    </a:lnTo>
                    <a:lnTo>
                      <a:pt x="167" y="177"/>
                    </a:lnTo>
                    <a:lnTo>
                      <a:pt x="171" y="158"/>
                    </a:lnTo>
                    <a:lnTo>
                      <a:pt x="175" y="139"/>
                    </a:lnTo>
                    <a:lnTo>
                      <a:pt x="179" y="122"/>
                    </a:lnTo>
                    <a:lnTo>
                      <a:pt x="183" y="107"/>
                    </a:lnTo>
                    <a:lnTo>
                      <a:pt x="187" y="96"/>
                    </a:lnTo>
                    <a:lnTo>
                      <a:pt x="191" y="89"/>
                    </a:lnTo>
                    <a:lnTo>
                      <a:pt x="195" y="86"/>
                    </a:lnTo>
                    <a:lnTo>
                      <a:pt x="199" y="86"/>
                    </a:lnTo>
                    <a:lnTo>
                      <a:pt x="203" y="91"/>
                    </a:lnTo>
                    <a:lnTo>
                      <a:pt x="207" y="98"/>
                    </a:lnTo>
                    <a:lnTo>
                      <a:pt x="211" y="107"/>
                    </a:lnTo>
                    <a:lnTo>
                      <a:pt x="215" y="118"/>
                    </a:lnTo>
                    <a:lnTo>
                      <a:pt x="219" y="130"/>
                    </a:lnTo>
                    <a:lnTo>
                      <a:pt x="223" y="141"/>
                    </a:lnTo>
                    <a:lnTo>
                      <a:pt x="227" y="151"/>
                    </a:lnTo>
                    <a:lnTo>
                      <a:pt x="231" y="159"/>
                    </a:lnTo>
                    <a:lnTo>
                      <a:pt x="235" y="166"/>
                    </a:lnTo>
                    <a:lnTo>
                      <a:pt x="239" y="170"/>
                    </a:lnTo>
                    <a:lnTo>
                      <a:pt x="243" y="172"/>
                    </a:lnTo>
                    <a:lnTo>
                      <a:pt x="247" y="171"/>
                    </a:lnTo>
                    <a:lnTo>
                      <a:pt x="251" y="169"/>
                    </a:lnTo>
                    <a:lnTo>
                      <a:pt x="255" y="165"/>
                    </a:lnTo>
                    <a:lnTo>
                      <a:pt x="259" y="161"/>
                    </a:lnTo>
                    <a:lnTo>
                      <a:pt x="263" y="156"/>
                    </a:lnTo>
                    <a:lnTo>
                      <a:pt x="267" y="151"/>
                    </a:lnTo>
                    <a:lnTo>
                      <a:pt x="271" y="146"/>
                    </a:lnTo>
                    <a:lnTo>
                      <a:pt x="275" y="143"/>
                    </a:lnTo>
                    <a:lnTo>
                      <a:pt x="279" y="140"/>
                    </a:lnTo>
                    <a:lnTo>
                      <a:pt x="283" y="138"/>
                    </a:lnTo>
                    <a:lnTo>
                      <a:pt x="287" y="138"/>
                    </a:lnTo>
                    <a:lnTo>
                      <a:pt x="291" y="138"/>
                    </a:lnTo>
                    <a:lnTo>
                      <a:pt x="295" y="139"/>
                    </a:lnTo>
                    <a:lnTo>
                      <a:pt x="299" y="141"/>
                    </a:lnTo>
                    <a:lnTo>
                      <a:pt x="303" y="143"/>
                    </a:lnTo>
                    <a:lnTo>
                      <a:pt x="307" y="144"/>
                    </a:lnTo>
                    <a:lnTo>
                      <a:pt x="311" y="145"/>
                    </a:lnTo>
                    <a:lnTo>
                      <a:pt x="315" y="145"/>
                    </a:lnTo>
                    <a:lnTo>
                      <a:pt x="319" y="145"/>
                    </a:lnTo>
                    <a:lnTo>
                      <a:pt x="323" y="144"/>
                    </a:lnTo>
                    <a:lnTo>
                      <a:pt x="327" y="142"/>
                    </a:lnTo>
                    <a:lnTo>
                      <a:pt x="331" y="140"/>
                    </a:lnTo>
                    <a:lnTo>
                      <a:pt x="335" y="137"/>
                    </a:lnTo>
                    <a:lnTo>
                      <a:pt x="339" y="135"/>
                    </a:lnTo>
                    <a:lnTo>
                      <a:pt x="343" y="133"/>
                    </a:lnTo>
                    <a:lnTo>
                      <a:pt x="347" y="131"/>
                    </a:lnTo>
                    <a:lnTo>
                      <a:pt x="351" y="130"/>
                    </a:lnTo>
                    <a:lnTo>
                      <a:pt x="355" y="130"/>
                    </a:lnTo>
                    <a:lnTo>
                      <a:pt x="359" y="132"/>
                    </a:lnTo>
                    <a:lnTo>
                      <a:pt x="363" y="134"/>
                    </a:lnTo>
                    <a:lnTo>
                      <a:pt x="367" y="137"/>
                    </a:lnTo>
                    <a:lnTo>
                      <a:pt x="371" y="140"/>
                    </a:lnTo>
                    <a:lnTo>
                      <a:pt x="375" y="145"/>
                    </a:lnTo>
                    <a:lnTo>
                      <a:pt x="379" y="149"/>
                    </a:lnTo>
                    <a:lnTo>
                      <a:pt x="383" y="153"/>
                    </a:lnTo>
                    <a:lnTo>
                      <a:pt x="387" y="157"/>
                    </a:lnTo>
                    <a:lnTo>
                      <a:pt x="391" y="160"/>
                    </a:lnTo>
                    <a:lnTo>
                      <a:pt x="395" y="162"/>
                    </a:lnTo>
                    <a:lnTo>
                      <a:pt x="399" y="162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H="1">
                <a:off x="1764720" y="4915080"/>
                <a:ext cx="1506600" cy="1136160"/>
              </a:xfrm>
              <a:custGeom>
                <a:avLst/>
                <a:gdLst/>
                <a:ahLst/>
                <a:rect l="l" t="t" r="r" b="b"/>
                <a:pathLst>
                  <a:path w="399" h="280">
                    <a:moveTo>
                      <a:pt x="0" y="0"/>
                    </a:moveTo>
                    <a:lnTo>
                      <a:pt x="3" y="4"/>
                    </a:lnTo>
                    <a:lnTo>
                      <a:pt x="7" y="17"/>
                    </a:lnTo>
                    <a:lnTo>
                      <a:pt x="11" y="39"/>
                    </a:lnTo>
                    <a:lnTo>
                      <a:pt x="15" y="67"/>
                    </a:lnTo>
                    <a:lnTo>
                      <a:pt x="19" y="99"/>
                    </a:lnTo>
                    <a:lnTo>
                      <a:pt x="23" y="135"/>
                    </a:lnTo>
                    <a:lnTo>
                      <a:pt x="27" y="170"/>
                    </a:lnTo>
                    <a:lnTo>
                      <a:pt x="31" y="204"/>
                    </a:lnTo>
                    <a:lnTo>
                      <a:pt x="35" y="233"/>
                    </a:lnTo>
                    <a:lnTo>
                      <a:pt x="39" y="256"/>
                    </a:lnTo>
                    <a:lnTo>
                      <a:pt x="43" y="272"/>
                    </a:lnTo>
                    <a:lnTo>
                      <a:pt x="47" y="280"/>
                    </a:lnTo>
                    <a:lnTo>
                      <a:pt x="51" y="279"/>
                    </a:lnTo>
                    <a:lnTo>
                      <a:pt x="55" y="269"/>
                    </a:lnTo>
                    <a:lnTo>
                      <a:pt x="59" y="252"/>
                    </a:lnTo>
                    <a:lnTo>
                      <a:pt x="63" y="228"/>
                    </a:lnTo>
                    <a:lnTo>
                      <a:pt x="67" y="199"/>
                    </a:lnTo>
                    <a:lnTo>
                      <a:pt x="71" y="168"/>
                    </a:lnTo>
                    <a:lnTo>
                      <a:pt x="75" y="135"/>
                    </a:lnTo>
                    <a:lnTo>
                      <a:pt x="79" y="104"/>
                    </a:lnTo>
                    <a:lnTo>
                      <a:pt x="83" y="76"/>
                    </a:lnTo>
                    <a:lnTo>
                      <a:pt x="87" y="54"/>
                    </a:lnTo>
                    <a:lnTo>
                      <a:pt x="91" y="37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3" y="31"/>
                    </a:lnTo>
                    <a:lnTo>
                      <a:pt x="107" y="44"/>
                    </a:lnTo>
                    <a:lnTo>
                      <a:pt x="111" y="62"/>
                    </a:lnTo>
                    <a:lnTo>
                      <a:pt x="115" y="85"/>
                    </a:lnTo>
                    <a:lnTo>
                      <a:pt x="119" y="110"/>
                    </a:lnTo>
                    <a:lnTo>
                      <a:pt x="123" y="137"/>
                    </a:lnTo>
                    <a:lnTo>
                      <a:pt x="127" y="163"/>
                    </a:lnTo>
                    <a:lnTo>
                      <a:pt x="131" y="186"/>
                    </a:lnTo>
                    <a:lnTo>
                      <a:pt x="135" y="206"/>
                    </a:lnTo>
                    <a:lnTo>
                      <a:pt x="139" y="221"/>
                    </a:lnTo>
                    <a:lnTo>
                      <a:pt x="143" y="230"/>
                    </a:lnTo>
                    <a:lnTo>
                      <a:pt x="147" y="233"/>
                    </a:lnTo>
                    <a:lnTo>
                      <a:pt x="151" y="231"/>
                    </a:lnTo>
                    <a:lnTo>
                      <a:pt x="155" y="223"/>
                    </a:lnTo>
                    <a:lnTo>
                      <a:pt x="159" y="211"/>
                    </a:lnTo>
                    <a:lnTo>
                      <a:pt x="163" y="195"/>
                    </a:lnTo>
                    <a:lnTo>
                      <a:pt x="167" y="177"/>
                    </a:lnTo>
                    <a:lnTo>
                      <a:pt x="171" y="158"/>
                    </a:lnTo>
                    <a:lnTo>
                      <a:pt x="175" y="139"/>
                    </a:lnTo>
                    <a:lnTo>
                      <a:pt x="179" y="122"/>
                    </a:lnTo>
                    <a:lnTo>
                      <a:pt x="183" y="107"/>
                    </a:lnTo>
                    <a:lnTo>
                      <a:pt x="187" y="96"/>
                    </a:lnTo>
                    <a:lnTo>
                      <a:pt x="191" y="89"/>
                    </a:lnTo>
                    <a:lnTo>
                      <a:pt x="195" y="86"/>
                    </a:lnTo>
                    <a:lnTo>
                      <a:pt x="199" y="86"/>
                    </a:lnTo>
                    <a:lnTo>
                      <a:pt x="203" y="91"/>
                    </a:lnTo>
                    <a:lnTo>
                      <a:pt x="207" y="98"/>
                    </a:lnTo>
                    <a:lnTo>
                      <a:pt x="211" y="107"/>
                    </a:lnTo>
                    <a:lnTo>
                      <a:pt x="215" y="118"/>
                    </a:lnTo>
                    <a:lnTo>
                      <a:pt x="219" y="130"/>
                    </a:lnTo>
                    <a:lnTo>
                      <a:pt x="223" y="141"/>
                    </a:lnTo>
                    <a:lnTo>
                      <a:pt x="227" y="151"/>
                    </a:lnTo>
                    <a:lnTo>
                      <a:pt x="231" y="159"/>
                    </a:lnTo>
                    <a:lnTo>
                      <a:pt x="235" y="166"/>
                    </a:lnTo>
                    <a:lnTo>
                      <a:pt x="239" y="170"/>
                    </a:lnTo>
                    <a:lnTo>
                      <a:pt x="243" y="172"/>
                    </a:lnTo>
                    <a:lnTo>
                      <a:pt x="247" y="171"/>
                    </a:lnTo>
                    <a:lnTo>
                      <a:pt x="251" y="169"/>
                    </a:lnTo>
                    <a:lnTo>
                      <a:pt x="255" y="165"/>
                    </a:lnTo>
                    <a:lnTo>
                      <a:pt x="259" y="161"/>
                    </a:lnTo>
                    <a:lnTo>
                      <a:pt x="263" y="156"/>
                    </a:lnTo>
                    <a:lnTo>
                      <a:pt x="267" y="151"/>
                    </a:lnTo>
                    <a:lnTo>
                      <a:pt x="271" y="146"/>
                    </a:lnTo>
                    <a:lnTo>
                      <a:pt x="275" y="143"/>
                    </a:lnTo>
                    <a:lnTo>
                      <a:pt x="279" y="140"/>
                    </a:lnTo>
                    <a:lnTo>
                      <a:pt x="283" y="138"/>
                    </a:lnTo>
                    <a:lnTo>
                      <a:pt x="287" y="138"/>
                    </a:lnTo>
                    <a:lnTo>
                      <a:pt x="291" y="138"/>
                    </a:lnTo>
                    <a:lnTo>
                      <a:pt x="295" y="139"/>
                    </a:lnTo>
                    <a:lnTo>
                      <a:pt x="299" y="141"/>
                    </a:lnTo>
                    <a:lnTo>
                      <a:pt x="303" y="143"/>
                    </a:lnTo>
                    <a:lnTo>
                      <a:pt x="307" y="144"/>
                    </a:lnTo>
                    <a:lnTo>
                      <a:pt x="311" y="145"/>
                    </a:lnTo>
                    <a:lnTo>
                      <a:pt x="315" y="145"/>
                    </a:lnTo>
                    <a:lnTo>
                      <a:pt x="319" y="145"/>
                    </a:lnTo>
                    <a:lnTo>
                      <a:pt x="323" y="144"/>
                    </a:lnTo>
                    <a:lnTo>
                      <a:pt x="327" y="142"/>
                    </a:lnTo>
                    <a:lnTo>
                      <a:pt x="331" y="140"/>
                    </a:lnTo>
                    <a:lnTo>
                      <a:pt x="335" y="137"/>
                    </a:lnTo>
                    <a:lnTo>
                      <a:pt x="339" y="135"/>
                    </a:lnTo>
                    <a:lnTo>
                      <a:pt x="343" y="133"/>
                    </a:lnTo>
                    <a:lnTo>
                      <a:pt x="347" y="131"/>
                    </a:lnTo>
                    <a:lnTo>
                      <a:pt x="351" y="130"/>
                    </a:lnTo>
                    <a:lnTo>
                      <a:pt x="355" y="130"/>
                    </a:lnTo>
                    <a:lnTo>
                      <a:pt x="359" y="132"/>
                    </a:lnTo>
                    <a:lnTo>
                      <a:pt x="363" y="134"/>
                    </a:lnTo>
                    <a:lnTo>
                      <a:pt x="367" y="137"/>
                    </a:lnTo>
                    <a:lnTo>
                      <a:pt x="371" y="140"/>
                    </a:lnTo>
                    <a:lnTo>
                      <a:pt x="375" y="145"/>
                    </a:lnTo>
                    <a:lnTo>
                      <a:pt x="379" y="149"/>
                    </a:lnTo>
                    <a:lnTo>
                      <a:pt x="383" y="153"/>
                    </a:lnTo>
                    <a:lnTo>
                      <a:pt x="387" y="157"/>
                    </a:lnTo>
                    <a:lnTo>
                      <a:pt x="391" y="160"/>
                    </a:lnTo>
                    <a:lnTo>
                      <a:pt x="395" y="162"/>
                    </a:lnTo>
                    <a:lnTo>
                      <a:pt x="399" y="162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0" name=""/>
            <p:cNvGrpSpPr/>
            <p:nvPr/>
          </p:nvGrpSpPr>
          <p:grpSpPr>
            <a:xfrm>
              <a:off x="1743120" y="5330520"/>
              <a:ext cx="3000240" cy="740880"/>
              <a:chOff x="1743120" y="5330520"/>
              <a:chExt cx="3000240" cy="740880"/>
            </a:xfrm>
          </p:grpSpPr>
          <p:sp>
            <p:nvSpPr>
              <p:cNvPr id="1651" name=""/>
              <p:cNvSpPr/>
              <p:nvPr/>
            </p:nvSpPr>
            <p:spPr>
              <a:xfrm flipV="1">
                <a:off x="3247920" y="5330160"/>
                <a:ext cx="1495440" cy="736200"/>
              </a:xfrm>
              <a:custGeom>
                <a:avLst/>
                <a:gdLst/>
                <a:ahLst/>
                <a:rect l="l" t="t" r="r" b="b"/>
                <a:pathLst>
                  <a:path w="942" h="464">
                    <a:moveTo>
                      <a:pt x="0" y="0"/>
                    </a:moveTo>
                    <a:cubicBezTo>
                      <a:pt x="76" y="8"/>
                      <a:pt x="153" y="17"/>
                      <a:pt x="238" y="55"/>
                    </a:cubicBezTo>
                    <a:cubicBezTo>
                      <a:pt x="323" y="93"/>
                      <a:pt x="410" y="166"/>
                      <a:pt x="512" y="229"/>
                    </a:cubicBezTo>
                    <a:cubicBezTo>
                      <a:pt x="614" y="292"/>
                      <a:pt x="779" y="396"/>
                      <a:pt x="851" y="430"/>
                    </a:cubicBezTo>
                    <a:cubicBezTo>
                      <a:pt x="923" y="464"/>
                      <a:pt x="932" y="447"/>
                      <a:pt x="942" y="430"/>
                    </a:cubicBezTo>
                  </a:path>
                </a:pathLst>
              </a:custGeom>
              <a:noFill/>
              <a:ln w="28440">
                <a:solidFill>
                  <a:srgbClr val="9933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H="1" flipV="1">
                <a:off x="1743120" y="5334840"/>
                <a:ext cx="1495440" cy="736200"/>
              </a:xfrm>
              <a:custGeom>
                <a:avLst/>
                <a:gdLst/>
                <a:ahLst/>
                <a:rect l="l" t="t" r="r" b="b"/>
                <a:pathLst>
                  <a:path w="942" h="464">
                    <a:moveTo>
                      <a:pt x="0" y="0"/>
                    </a:moveTo>
                    <a:cubicBezTo>
                      <a:pt x="76" y="8"/>
                      <a:pt x="153" y="17"/>
                      <a:pt x="238" y="55"/>
                    </a:cubicBezTo>
                    <a:cubicBezTo>
                      <a:pt x="323" y="93"/>
                      <a:pt x="410" y="166"/>
                      <a:pt x="512" y="229"/>
                    </a:cubicBezTo>
                    <a:cubicBezTo>
                      <a:pt x="614" y="292"/>
                      <a:pt x="779" y="396"/>
                      <a:pt x="851" y="430"/>
                    </a:cubicBezTo>
                    <a:cubicBezTo>
                      <a:pt x="923" y="464"/>
                      <a:pt x="932" y="447"/>
                      <a:pt x="942" y="430"/>
                    </a:cubicBezTo>
                  </a:path>
                </a:pathLst>
              </a:custGeom>
              <a:noFill/>
              <a:ln w="28440">
                <a:solidFill>
                  <a:srgbClr val="9933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3" name=""/>
          <p:cNvGrpSpPr/>
          <p:nvPr/>
        </p:nvGrpSpPr>
        <p:grpSpPr>
          <a:xfrm>
            <a:off x="-289080" y="1100160"/>
            <a:ext cx="2229120" cy="4745880"/>
            <a:chOff x="-289080" y="1100160"/>
            <a:chExt cx="2229120" cy="4745880"/>
          </a:xfrm>
        </p:grpSpPr>
        <p:grpSp>
          <p:nvGrpSpPr>
            <p:cNvPr id="1654" name=""/>
            <p:cNvGrpSpPr/>
            <p:nvPr/>
          </p:nvGrpSpPr>
          <p:grpSpPr>
            <a:xfrm>
              <a:off x="-155520" y="1100160"/>
              <a:ext cx="1793520" cy="1643400"/>
              <a:chOff x="-155520" y="1100160"/>
              <a:chExt cx="1793520" cy="1643400"/>
            </a:xfrm>
          </p:grpSpPr>
          <p:sp>
            <p:nvSpPr>
              <p:cNvPr id="1655" name=""/>
              <p:cNvSpPr/>
              <p:nvPr/>
            </p:nvSpPr>
            <p:spPr>
              <a:xfrm>
                <a:off x="-155520" y="2211120"/>
                <a:ext cx="140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23840" y="1608120"/>
                <a:ext cx="824040" cy="603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V="1">
                <a:off x="552600" y="1260000"/>
                <a:ext cx="0" cy="9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99160" y="12888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068120" y="183672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411480" y="234468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09440" y="236520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48000" y="1100160"/>
                <a:ext cx="99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 x/A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-117360" y="1603080"/>
                <a:ext cx="1320840" cy="622440"/>
              </a:xfrm>
              <a:custGeom>
                <a:avLst/>
                <a:gdLst/>
                <a:ahLst/>
                <a:rect l="l" t="t" r="r" b="b"/>
                <a:pathLst>
                  <a:path w="832" h="392">
                    <a:moveTo>
                      <a:pt x="0" y="392"/>
                    </a:moveTo>
                    <a:lnTo>
                      <a:pt x="168" y="392"/>
                    </a:lnTo>
                    <a:lnTo>
                      <a:pt x="168" y="0"/>
                    </a:lnTo>
                    <a:lnTo>
                      <a:pt x="680" y="0"/>
                    </a:lnTo>
                    <a:lnTo>
                      <a:pt x="680" y="384"/>
                    </a:lnTo>
                    <a:lnTo>
                      <a:pt x="832" y="384"/>
                    </a:lnTo>
                  </a:path>
                </a:pathLst>
              </a:custGeom>
              <a:noFill/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04720" y="1552320"/>
                <a:ext cx="101880" cy="101880"/>
              </a:xfrm>
              <a:prstGeom prst="ellips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5" name=""/>
            <p:cNvSpPr/>
            <p:nvPr/>
          </p:nvSpPr>
          <p:spPr>
            <a:xfrm>
              <a:off x="363600" y="280980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-222120" y="5281560"/>
              <a:ext cx="216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7" name=""/>
            <p:cNvGrpSpPr/>
            <p:nvPr/>
          </p:nvGrpSpPr>
          <p:grpSpPr>
            <a:xfrm>
              <a:off x="-289080" y="4205160"/>
              <a:ext cx="2077920" cy="1258560"/>
              <a:chOff x="-289080" y="4205160"/>
              <a:chExt cx="2077920" cy="1258560"/>
            </a:xfrm>
          </p:grpSpPr>
          <p:sp>
            <p:nvSpPr>
              <p:cNvPr id="1668" name=""/>
              <p:cNvSpPr/>
              <p:nvPr/>
            </p:nvSpPr>
            <p:spPr>
              <a:xfrm>
                <a:off x="756360" y="4205160"/>
                <a:ext cx="1032480" cy="1255680"/>
              </a:xfrm>
              <a:custGeom>
                <a:avLst/>
                <a:gdLst/>
                <a:ahLst/>
                <a:rect l="l" t="t" r="r" b="b"/>
                <a:pathLst>
                  <a:path w="396" h="27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  <a:lnTo>
                      <a:pt x="11" y="2"/>
                    </a:lnTo>
                    <a:lnTo>
                      <a:pt x="15" y="4"/>
                    </a:lnTo>
                    <a:lnTo>
                      <a:pt x="19" y="7"/>
                    </a:lnTo>
                    <a:lnTo>
                      <a:pt x="23" y="10"/>
                    </a:lnTo>
                    <a:lnTo>
                      <a:pt x="27" y="14"/>
                    </a:lnTo>
                    <a:lnTo>
                      <a:pt x="31" y="18"/>
                    </a:lnTo>
                    <a:lnTo>
                      <a:pt x="35" y="23"/>
                    </a:lnTo>
                    <a:lnTo>
                      <a:pt x="39" y="28"/>
                    </a:lnTo>
                    <a:lnTo>
                      <a:pt x="43" y="34"/>
                    </a:lnTo>
                    <a:lnTo>
                      <a:pt x="47" y="40"/>
                    </a:lnTo>
                    <a:lnTo>
                      <a:pt x="51" y="47"/>
                    </a:lnTo>
                    <a:lnTo>
                      <a:pt x="55" y="54"/>
                    </a:lnTo>
                    <a:lnTo>
                      <a:pt x="59" y="61"/>
                    </a:lnTo>
                    <a:lnTo>
                      <a:pt x="63" y="69"/>
                    </a:lnTo>
                    <a:lnTo>
                      <a:pt x="67" y="76"/>
                    </a:lnTo>
                    <a:lnTo>
                      <a:pt x="71" y="84"/>
                    </a:lnTo>
                    <a:lnTo>
                      <a:pt x="75" y="93"/>
                    </a:lnTo>
                    <a:lnTo>
                      <a:pt x="79" y="101"/>
                    </a:lnTo>
                    <a:lnTo>
                      <a:pt x="83" y="110"/>
                    </a:lnTo>
                    <a:lnTo>
                      <a:pt x="87" y="118"/>
                    </a:lnTo>
                    <a:lnTo>
                      <a:pt x="91" y="127"/>
                    </a:lnTo>
                    <a:lnTo>
                      <a:pt x="95" y="135"/>
                    </a:lnTo>
                    <a:lnTo>
                      <a:pt x="99" y="144"/>
                    </a:lnTo>
                    <a:lnTo>
                      <a:pt x="102" y="153"/>
                    </a:lnTo>
                    <a:lnTo>
                      <a:pt x="106" y="161"/>
                    </a:lnTo>
                    <a:lnTo>
                      <a:pt x="110" y="169"/>
                    </a:lnTo>
                    <a:lnTo>
                      <a:pt x="114" y="177"/>
                    </a:lnTo>
                    <a:lnTo>
                      <a:pt x="118" y="185"/>
                    </a:lnTo>
                    <a:lnTo>
                      <a:pt x="122" y="193"/>
                    </a:lnTo>
                    <a:lnTo>
                      <a:pt x="126" y="200"/>
                    </a:lnTo>
                    <a:lnTo>
                      <a:pt x="130" y="207"/>
                    </a:lnTo>
                    <a:lnTo>
                      <a:pt x="134" y="214"/>
                    </a:lnTo>
                    <a:lnTo>
                      <a:pt x="138" y="221"/>
                    </a:lnTo>
                    <a:lnTo>
                      <a:pt x="142" y="227"/>
                    </a:lnTo>
                    <a:lnTo>
                      <a:pt x="146" y="233"/>
                    </a:lnTo>
                    <a:lnTo>
                      <a:pt x="150" y="238"/>
                    </a:lnTo>
                    <a:lnTo>
                      <a:pt x="154" y="243"/>
                    </a:lnTo>
                    <a:lnTo>
                      <a:pt x="158" y="247"/>
                    </a:lnTo>
                    <a:lnTo>
                      <a:pt x="162" y="252"/>
                    </a:lnTo>
                    <a:lnTo>
                      <a:pt x="166" y="255"/>
                    </a:lnTo>
                    <a:lnTo>
                      <a:pt x="170" y="259"/>
                    </a:lnTo>
                    <a:lnTo>
                      <a:pt x="174" y="262"/>
                    </a:lnTo>
                    <a:lnTo>
                      <a:pt x="178" y="264"/>
                    </a:lnTo>
                    <a:lnTo>
                      <a:pt x="182" y="266"/>
                    </a:lnTo>
                    <a:lnTo>
                      <a:pt x="186" y="268"/>
                    </a:lnTo>
                    <a:lnTo>
                      <a:pt x="190" y="269"/>
                    </a:lnTo>
                    <a:lnTo>
                      <a:pt x="194" y="270"/>
                    </a:lnTo>
                    <a:lnTo>
                      <a:pt x="198" y="271"/>
                    </a:lnTo>
                    <a:lnTo>
                      <a:pt x="201" y="271"/>
                    </a:lnTo>
                    <a:lnTo>
                      <a:pt x="205" y="271"/>
                    </a:lnTo>
                    <a:lnTo>
                      <a:pt x="209" y="271"/>
                    </a:lnTo>
                    <a:lnTo>
                      <a:pt x="213" y="270"/>
                    </a:lnTo>
                    <a:lnTo>
                      <a:pt x="217" y="269"/>
                    </a:lnTo>
                    <a:lnTo>
                      <a:pt x="221" y="268"/>
                    </a:lnTo>
                    <a:lnTo>
                      <a:pt x="225" y="267"/>
                    </a:lnTo>
                    <a:lnTo>
                      <a:pt x="229" y="265"/>
                    </a:lnTo>
                    <a:lnTo>
                      <a:pt x="233" y="264"/>
                    </a:lnTo>
                    <a:lnTo>
                      <a:pt x="237" y="262"/>
                    </a:lnTo>
                    <a:lnTo>
                      <a:pt x="241" y="260"/>
                    </a:lnTo>
                    <a:lnTo>
                      <a:pt x="245" y="258"/>
                    </a:lnTo>
                    <a:lnTo>
                      <a:pt x="249" y="255"/>
                    </a:lnTo>
                    <a:lnTo>
                      <a:pt x="253" y="253"/>
                    </a:lnTo>
                    <a:lnTo>
                      <a:pt x="257" y="251"/>
                    </a:lnTo>
                    <a:lnTo>
                      <a:pt x="261" y="249"/>
                    </a:lnTo>
                    <a:lnTo>
                      <a:pt x="265" y="246"/>
                    </a:lnTo>
                    <a:lnTo>
                      <a:pt x="269" y="244"/>
                    </a:lnTo>
                    <a:lnTo>
                      <a:pt x="273" y="242"/>
                    </a:lnTo>
                    <a:lnTo>
                      <a:pt x="277" y="240"/>
                    </a:lnTo>
                    <a:lnTo>
                      <a:pt x="281" y="238"/>
                    </a:lnTo>
                    <a:lnTo>
                      <a:pt x="285" y="236"/>
                    </a:lnTo>
                    <a:lnTo>
                      <a:pt x="289" y="234"/>
                    </a:lnTo>
                    <a:lnTo>
                      <a:pt x="293" y="232"/>
                    </a:lnTo>
                    <a:lnTo>
                      <a:pt x="297" y="231"/>
                    </a:lnTo>
                    <a:lnTo>
                      <a:pt x="300" y="229"/>
                    </a:lnTo>
                    <a:lnTo>
                      <a:pt x="304" y="228"/>
                    </a:lnTo>
                    <a:lnTo>
                      <a:pt x="308" y="227"/>
                    </a:lnTo>
                    <a:lnTo>
                      <a:pt x="312" y="226"/>
                    </a:lnTo>
                    <a:lnTo>
                      <a:pt x="316" y="225"/>
                    </a:lnTo>
                    <a:lnTo>
                      <a:pt x="320" y="225"/>
                    </a:lnTo>
                    <a:lnTo>
                      <a:pt x="324" y="224"/>
                    </a:lnTo>
                    <a:lnTo>
                      <a:pt x="328" y="224"/>
                    </a:lnTo>
                    <a:lnTo>
                      <a:pt x="332" y="224"/>
                    </a:lnTo>
                    <a:lnTo>
                      <a:pt x="336" y="224"/>
                    </a:lnTo>
                    <a:lnTo>
                      <a:pt x="340" y="224"/>
                    </a:lnTo>
                    <a:lnTo>
                      <a:pt x="344" y="225"/>
                    </a:lnTo>
                    <a:lnTo>
                      <a:pt x="348" y="225"/>
                    </a:lnTo>
                    <a:lnTo>
                      <a:pt x="352" y="226"/>
                    </a:lnTo>
                    <a:lnTo>
                      <a:pt x="356" y="226"/>
                    </a:lnTo>
                    <a:lnTo>
                      <a:pt x="360" y="227"/>
                    </a:lnTo>
                    <a:lnTo>
                      <a:pt x="364" y="228"/>
                    </a:lnTo>
                    <a:lnTo>
                      <a:pt x="368" y="229"/>
                    </a:lnTo>
                    <a:lnTo>
                      <a:pt x="372" y="230"/>
                    </a:lnTo>
                    <a:lnTo>
                      <a:pt x="376" y="231"/>
                    </a:lnTo>
                    <a:lnTo>
                      <a:pt x="380" y="233"/>
                    </a:lnTo>
                    <a:lnTo>
                      <a:pt x="384" y="234"/>
                    </a:lnTo>
                    <a:lnTo>
                      <a:pt x="388" y="235"/>
                    </a:lnTo>
                    <a:lnTo>
                      <a:pt x="392" y="236"/>
                    </a:lnTo>
                    <a:lnTo>
                      <a:pt x="396" y="237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H="1">
                <a:off x="-289080" y="4208040"/>
                <a:ext cx="1032480" cy="1255680"/>
              </a:xfrm>
              <a:custGeom>
                <a:avLst/>
                <a:gdLst/>
                <a:ahLst/>
                <a:rect l="l" t="t" r="r" b="b"/>
                <a:pathLst>
                  <a:path w="396" h="27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  <a:lnTo>
                      <a:pt x="11" y="2"/>
                    </a:lnTo>
                    <a:lnTo>
                      <a:pt x="15" y="4"/>
                    </a:lnTo>
                    <a:lnTo>
                      <a:pt x="19" y="7"/>
                    </a:lnTo>
                    <a:lnTo>
                      <a:pt x="23" y="10"/>
                    </a:lnTo>
                    <a:lnTo>
                      <a:pt x="27" y="14"/>
                    </a:lnTo>
                    <a:lnTo>
                      <a:pt x="31" y="18"/>
                    </a:lnTo>
                    <a:lnTo>
                      <a:pt x="35" y="23"/>
                    </a:lnTo>
                    <a:lnTo>
                      <a:pt x="39" y="28"/>
                    </a:lnTo>
                    <a:lnTo>
                      <a:pt x="43" y="34"/>
                    </a:lnTo>
                    <a:lnTo>
                      <a:pt x="47" y="40"/>
                    </a:lnTo>
                    <a:lnTo>
                      <a:pt x="51" y="47"/>
                    </a:lnTo>
                    <a:lnTo>
                      <a:pt x="55" y="54"/>
                    </a:lnTo>
                    <a:lnTo>
                      <a:pt x="59" y="61"/>
                    </a:lnTo>
                    <a:lnTo>
                      <a:pt x="63" y="69"/>
                    </a:lnTo>
                    <a:lnTo>
                      <a:pt x="67" y="76"/>
                    </a:lnTo>
                    <a:lnTo>
                      <a:pt x="71" y="84"/>
                    </a:lnTo>
                    <a:lnTo>
                      <a:pt x="75" y="93"/>
                    </a:lnTo>
                    <a:lnTo>
                      <a:pt x="79" y="101"/>
                    </a:lnTo>
                    <a:lnTo>
                      <a:pt x="83" y="110"/>
                    </a:lnTo>
                    <a:lnTo>
                      <a:pt x="87" y="118"/>
                    </a:lnTo>
                    <a:lnTo>
                      <a:pt x="91" y="127"/>
                    </a:lnTo>
                    <a:lnTo>
                      <a:pt x="95" y="135"/>
                    </a:lnTo>
                    <a:lnTo>
                      <a:pt x="99" y="144"/>
                    </a:lnTo>
                    <a:lnTo>
                      <a:pt x="102" y="153"/>
                    </a:lnTo>
                    <a:lnTo>
                      <a:pt x="106" y="161"/>
                    </a:lnTo>
                    <a:lnTo>
                      <a:pt x="110" y="169"/>
                    </a:lnTo>
                    <a:lnTo>
                      <a:pt x="114" y="177"/>
                    </a:lnTo>
                    <a:lnTo>
                      <a:pt x="118" y="185"/>
                    </a:lnTo>
                    <a:lnTo>
                      <a:pt x="122" y="193"/>
                    </a:lnTo>
                    <a:lnTo>
                      <a:pt x="126" y="200"/>
                    </a:lnTo>
                    <a:lnTo>
                      <a:pt x="130" y="207"/>
                    </a:lnTo>
                    <a:lnTo>
                      <a:pt x="134" y="214"/>
                    </a:lnTo>
                    <a:lnTo>
                      <a:pt x="138" y="221"/>
                    </a:lnTo>
                    <a:lnTo>
                      <a:pt x="142" y="227"/>
                    </a:lnTo>
                    <a:lnTo>
                      <a:pt x="146" y="233"/>
                    </a:lnTo>
                    <a:lnTo>
                      <a:pt x="150" y="238"/>
                    </a:lnTo>
                    <a:lnTo>
                      <a:pt x="154" y="243"/>
                    </a:lnTo>
                    <a:lnTo>
                      <a:pt x="158" y="247"/>
                    </a:lnTo>
                    <a:lnTo>
                      <a:pt x="162" y="252"/>
                    </a:lnTo>
                    <a:lnTo>
                      <a:pt x="166" y="255"/>
                    </a:lnTo>
                    <a:lnTo>
                      <a:pt x="170" y="259"/>
                    </a:lnTo>
                    <a:lnTo>
                      <a:pt x="174" y="262"/>
                    </a:lnTo>
                    <a:lnTo>
                      <a:pt x="178" y="264"/>
                    </a:lnTo>
                    <a:lnTo>
                      <a:pt x="182" y="266"/>
                    </a:lnTo>
                    <a:lnTo>
                      <a:pt x="186" y="268"/>
                    </a:lnTo>
                    <a:lnTo>
                      <a:pt x="190" y="269"/>
                    </a:lnTo>
                    <a:lnTo>
                      <a:pt x="194" y="270"/>
                    </a:lnTo>
                    <a:lnTo>
                      <a:pt x="198" y="271"/>
                    </a:lnTo>
                    <a:lnTo>
                      <a:pt x="201" y="271"/>
                    </a:lnTo>
                    <a:lnTo>
                      <a:pt x="205" y="271"/>
                    </a:lnTo>
                    <a:lnTo>
                      <a:pt x="209" y="271"/>
                    </a:lnTo>
                    <a:lnTo>
                      <a:pt x="213" y="270"/>
                    </a:lnTo>
                    <a:lnTo>
                      <a:pt x="217" y="269"/>
                    </a:lnTo>
                    <a:lnTo>
                      <a:pt x="221" y="268"/>
                    </a:lnTo>
                    <a:lnTo>
                      <a:pt x="225" y="267"/>
                    </a:lnTo>
                    <a:lnTo>
                      <a:pt x="229" y="265"/>
                    </a:lnTo>
                    <a:lnTo>
                      <a:pt x="233" y="264"/>
                    </a:lnTo>
                    <a:lnTo>
                      <a:pt x="237" y="262"/>
                    </a:lnTo>
                    <a:lnTo>
                      <a:pt x="241" y="260"/>
                    </a:lnTo>
                    <a:lnTo>
                      <a:pt x="245" y="258"/>
                    </a:lnTo>
                    <a:lnTo>
                      <a:pt x="249" y="255"/>
                    </a:lnTo>
                    <a:lnTo>
                      <a:pt x="253" y="253"/>
                    </a:lnTo>
                    <a:lnTo>
                      <a:pt x="257" y="251"/>
                    </a:lnTo>
                    <a:lnTo>
                      <a:pt x="261" y="249"/>
                    </a:lnTo>
                    <a:lnTo>
                      <a:pt x="265" y="246"/>
                    </a:lnTo>
                    <a:lnTo>
                      <a:pt x="269" y="244"/>
                    </a:lnTo>
                    <a:lnTo>
                      <a:pt x="273" y="242"/>
                    </a:lnTo>
                    <a:lnTo>
                      <a:pt x="277" y="240"/>
                    </a:lnTo>
                    <a:lnTo>
                      <a:pt x="281" y="238"/>
                    </a:lnTo>
                    <a:lnTo>
                      <a:pt x="285" y="236"/>
                    </a:lnTo>
                    <a:lnTo>
                      <a:pt x="289" y="234"/>
                    </a:lnTo>
                    <a:lnTo>
                      <a:pt x="293" y="232"/>
                    </a:lnTo>
                    <a:lnTo>
                      <a:pt x="297" y="231"/>
                    </a:lnTo>
                    <a:lnTo>
                      <a:pt x="300" y="229"/>
                    </a:lnTo>
                    <a:lnTo>
                      <a:pt x="304" y="228"/>
                    </a:lnTo>
                    <a:lnTo>
                      <a:pt x="308" y="227"/>
                    </a:lnTo>
                    <a:lnTo>
                      <a:pt x="312" y="226"/>
                    </a:lnTo>
                    <a:lnTo>
                      <a:pt x="316" y="225"/>
                    </a:lnTo>
                    <a:lnTo>
                      <a:pt x="320" y="225"/>
                    </a:lnTo>
                    <a:lnTo>
                      <a:pt x="324" y="224"/>
                    </a:lnTo>
                    <a:lnTo>
                      <a:pt x="328" y="224"/>
                    </a:lnTo>
                    <a:lnTo>
                      <a:pt x="332" y="224"/>
                    </a:lnTo>
                    <a:lnTo>
                      <a:pt x="336" y="224"/>
                    </a:lnTo>
                    <a:lnTo>
                      <a:pt x="340" y="224"/>
                    </a:lnTo>
                    <a:lnTo>
                      <a:pt x="344" y="225"/>
                    </a:lnTo>
                    <a:lnTo>
                      <a:pt x="348" y="225"/>
                    </a:lnTo>
                    <a:lnTo>
                      <a:pt x="352" y="226"/>
                    </a:lnTo>
                    <a:lnTo>
                      <a:pt x="356" y="226"/>
                    </a:lnTo>
                    <a:lnTo>
                      <a:pt x="360" y="227"/>
                    </a:lnTo>
                    <a:lnTo>
                      <a:pt x="364" y="228"/>
                    </a:lnTo>
                    <a:lnTo>
                      <a:pt x="368" y="229"/>
                    </a:lnTo>
                    <a:lnTo>
                      <a:pt x="372" y="230"/>
                    </a:lnTo>
                    <a:lnTo>
                      <a:pt x="376" y="231"/>
                    </a:lnTo>
                    <a:lnTo>
                      <a:pt x="380" y="233"/>
                    </a:lnTo>
                    <a:lnTo>
                      <a:pt x="384" y="234"/>
                    </a:lnTo>
                    <a:lnTo>
                      <a:pt x="388" y="235"/>
                    </a:lnTo>
                    <a:lnTo>
                      <a:pt x="392" y="236"/>
                    </a:lnTo>
                    <a:lnTo>
                      <a:pt x="396" y="237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0" name=""/>
            <p:cNvSpPr/>
            <p:nvPr/>
          </p:nvSpPr>
          <p:spPr>
            <a:xfrm>
              <a:off x="749160" y="3998880"/>
              <a:ext cx="0" cy="14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21160" y="5386320"/>
              <a:ext cx="66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1/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069920" y="5213520"/>
              <a:ext cx="115920" cy="101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87240" y="4159080"/>
              <a:ext cx="115920" cy="115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4" name=""/>
            <p:cNvGrpSpPr/>
            <p:nvPr/>
          </p:nvGrpSpPr>
          <p:grpSpPr>
            <a:xfrm>
              <a:off x="743760" y="3786120"/>
              <a:ext cx="601920" cy="557640"/>
              <a:chOff x="743760" y="3786120"/>
              <a:chExt cx="601920" cy="557640"/>
            </a:xfrm>
          </p:grpSpPr>
          <p:sp>
            <p:nvSpPr>
              <p:cNvPr id="1675" name=""/>
              <p:cNvSpPr/>
              <p:nvPr/>
            </p:nvSpPr>
            <p:spPr>
              <a:xfrm>
                <a:off x="768600" y="394488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(u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43760" y="378612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^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7" name=""/>
            <p:cNvSpPr/>
            <p:nvPr/>
          </p:nvSpPr>
          <p:spPr>
            <a:xfrm>
              <a:off x="1510560" y="479412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6510240" y="1949400"/>
            <a:ext cx="3254400" cy="4634640"/>
            <a:chOff x="6510240" y="1949400"/>
            <a:chExt cx="3254400" cy="4634640"/>
          </a:xfrm>
        </p:grpSpPr>
        <p:sp>
          <p:nvSpPr>
            <p:cNvPr id="1679" name=""/>
            <p:cNvSpPr/>
            <p:nvPr/>
          </p:nvSpPr>
          <p:spPr>
            <a:xfrm flipV="1">
              <a:off x="8107200" y="2384280"/>
              <a:ext cx="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9451440" y="292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350120" y="1949400"/>
              <a:ext cx="16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( -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.x</a:t>
              </a:r>
              <a:r>
                <a:rPr b="0" lang="fr-FR" sz="1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881480" y="24336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510240" y="2679840"/>
              <a:ext cx="3206880" cy="546120"/>
            </a:xfrm>
            <a:custGeom>
              <a:avLst/>
              <a:gdLst/>
              <a:ahLst/>
              <a:rect l="l" t="t" r="r" b="b"/>
              <a:pathLst>
                <a:path w="1930" h="385">
                  <a:moveTo>
                    <a:pt x="0" y="385"/>
                  </a:moveTo>
                  <a:lnTo>
                    <a:pt x="202" y="367"/>
                  </a:lnTo>
                  <a:lnTo>
                    <a:pt x="330" y="348"/>
                  </a:lnTo>
                  <a:lnTo>
                    <a:pt x="787" y="47"/>
                  </a:lnTo>
                  <a:lnTo>
                    <a:pt x="942" y="0"/>
                  </a:lnTo>
                  <a:lnTo>
                    <a:pt x="1107" y="65"/>
                  </a:lnTo>
                  <a:lnTo>
                    <a:pt x="1436" y="348"/>
                  </a:lnTo>
                  <a:lnTo>
                    <a:pt x="1573" y="376"/>
                  </a:lnTo>
                  <a:lnTo>
                    <a:pt x="1930" y="385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8547120" y="3191040"/>
              <a:ext cx="90360" cy="90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067600" y="2935440"/>
              <a:ext cx="90720" cy="90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064360" y="2633760"/>
              <a:ext cx="92160" cy="9036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585120" y="3225960"/>
              <a:ext cx="317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765920" y="2987640"/>
              <a:ext cx="154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638840" y="274464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1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558200" y="3186000"/>
              <a:ext cx="90360" cy="90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406280" y="3306600"/>
              <a:ext cx="4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-1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7934400" y="5263920"/>
              <a:ext cx="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859960" y="5803920"/>
              <a:ext cx="32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402680" y="4829040"/>
              <a:ext cx="16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exp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( -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. u</a:t>
              </a:r>
              <a:r>
                <a:rPr b="0" lang="fr-FR" sz="1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771680" y="53132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813720" y="5559480"/>
              <a:ext cx="2249280" cy="546120"/>
            </a:xfrm>
            <a:custGeom>
              <a:avLst/>
              <a:gdLst/>
              <a:ahLst/>
              <a:rect l="l" t="t" r="r" b="b"/>
              <a:pathLst>
                <a:path w="1930" h="385">
                  <a:moveTo>
                    <a:pt x="0" y="385"/>
                  </a:moveTo>
                  <a:lnTo>
                    <a:pt x="202" y="367"/>
                  </a:lnTo>
                  <a:lnTo>
                    <a:pt x="330" y="348"/>
                  </a:lnTo>
                  <a:lnTo>
                    <a:pt x="787" y="47"/>
                  </a:lnTo>
                  <a:lnTo>
                    <a:pt x="942" y="0"/>
                  </a:lnTo>
                  <a:lnTo>
                    <a:pt x="1107" y="65"/>
                  </a:lnTo>
                  <a:lnTo>
                    <a:pt x="1436" y="348"/>
                  </a:lnTo>
                  <a:lnTo>
                    <a:pt x="1573" y="376"/>
                  </a:lnTo>
                  <a:lnTo>
                    <a:pt x="1930" y="385"/>
                  </a:ln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242200" y="6070680"/>
              <a:ext cx="63720" cy="90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905600" y="5815080"/>
              <a:ext cx="63720" cy="90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904160" y="5513400"/>
              <a:ext cx="63360" cy="9036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865920" y="6105600"/>
              <a:ext cx="223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694640" y="5867280"/>
              <a:ext cx="10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489800" y="560880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1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548480" y="6066000"/>
              <a:ext cx="63720" cy="90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4" name=""/>
            <p:cNvGrpSpPr/>
            <p:nvPr/>
          </p:nvGrpSpPr>
          <p:grpSpPr>
            <a:xfrm>
              <a:off x="8479440" y="3290760"/>
              <a:ext cx="686880" cy="454680"/>
              <a:chOff x="8479440" y="3290760"/>
              <a:chExt cx="686880" cy="454680"/>
            </a:xfrm>
          </p:grpSpPr>
          <p:sp>
            <p:nvSpPr>
              <p:cNvPr id="1705" name=""/>
              <p:cNvSpPr/>
              <p:nvPr/>
            </p:nvSpPr>
            <p:spPr>
              <a:xfrm>
                <a:off x="8479440" y="329076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/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6" name=""/>
              <p:cNvGrpSpPr/>
              <p:nvPr/>
            </p:nvGrpSpPr>
            <p:grpSpPr>
              <a:xfrm>
                <a:off x="8780400" y="3346560"/>
                <a:ext cx="385920" cy="398880"/>
                <a:chOff x="8780400" y="3346560"/>
                <a:chExt cx="385920" cy="398880"/>
              </a:xfrm>
            </p:grpSpPr>
            <p:sp>
              <p:nvSpPr>
                <p:cNvPr id="1707" name=""/>
                <p:cNvSpPr/>
                <p:nvPr/>
              </p:nvSpPr>
              <p:spPr>
                <a:xfrm>
                  <a:off x="8845560" y="334656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8780400" y="3384360"/>
                  <a:ext cx="283320" cy="226080"/>
                </a:xfrm>
                <a:custGeom>
                  <a:avLst/>
                  <a:gdLst/>
                  <a:ahLst/>
                  <a:rect l="l" t="t" r="r" b="b"/>
                  <a:pathLst>
                    <a:path w="293" h="183">
                      <a:moveTo>
                        <a:pt x="0" y="28"/>
                      </a:moveTo>
                      <a:lnTo>
                        <a:pt x="82" y="183"/>
                      </a:lnTo>
                      <a:lnTo>
                        <a:pt x="146" y="0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9" name=""/>
            <p:cNvGrpSpPr/>
            <p:nvPr/>
          </p:nvGrpSpPr>
          <p:grpSpPr>
            <a:xfrm>
              <a:off x="7804080" y="3370320"/>
              <a:ext cx="385920" cy="398880"/>
              <a:chOff x="7804080" y="3370320"/>
              <a:chExt cx="385920" cy="398880"/>
            </a:xfrm>
          </p:grpSpPr>
          <p:sp>
            <p:nvSpPr>
              <p:cNvPr id="1710" name=""/>
              <p:cNvSpPr/>
              <p:nvPr/>
            </p:nvSpPr>
            <p:spPr>
              <a:xfrm>
                <a:off x="7869240" y="3370320"/>
                <a:ext cx="3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804080" y="3408120"/>
                <a:ext cx="283320" cy="226080"/>
              </a:xfrm>
              <a:custGeom>
                <a:avLst/>
                <a:gdLst/>
                <a:ahLst/>
                <a:rect l="l" t="t" r="r" b="b"/>
                <a:pathLst>
                  <a:path w="293" h="183">
                    <a:moveTo>
                      <a:pt x="0" y="28"/>
                    </a:moveTo>
                    <a:lnTo>
                      <a:pt x="82" y="183"/>
                    </a:lnTo>
                    <a:lnTo>
                      <a:pt x="146" y="0"/>
                    </a:lnTo>
                    <a:lnTo>
                      <a:pt x="293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8060400" y="6129360"/>
              <a:ext cx="686880" cy="454680"/>
              <a:chOff x="8060400" y="6129360"/>
              <a:chExt cx="686880" cy="454680"/>
            </a:xfrm>
          </p:grpSpPr>
          <p:sp>
            <p:nvSpPr>
              <p:cNvPr id="1713" name=""/>
              <p:cNvSpPr/>
              <p:nvPr/>
            </p:nvSpPr>
            <p:spPr>
              <a:xfrm>
                <a:off x="8060400" y="612936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/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4" name=""/>
              <p:cNvGrpSpPr/>
              <p:nvPr/>
            </p:nvGrpSpPr>
            <p:grpSpPr>
              <a:xfrm>
                <a:off x="8361360" y="6185160"/>
                <a:ext cx="385920" cy="398880"/>
                <a:chOff x="8361360" y="6185160"/>
                <a:chExt cx="385920" cy="398880"/>
              </a:xfrm>
            </p:grpSpPr>
            <p:sp>
              <p:nvSpPr>
                <p:cNvPr id="1715" name=""/>
                <p:cNvSpPr/>
                <p:nvPr/>
              </p:nvSpPr>
              <p:spPr>
                <a:xfrm>
                  <a:off x="8426520" y="618516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8361360" y="6222960"/>
                  <a:ext cx="283320" cy="226080"/>
                </a:xfrm>
                <a:custGeom>
                  <a:avLst/>
                  <a:gdLst/>
                  <a:ahLst/>
                  <a:rect l="l" t="t" r="r" b="b"/>
                  <a:pathLst>
                    <a:path w="293" h="183">
                      <a:moveTo>
                        <a:pt x="0" y="28"/>
                      </a:moveTo>
                      <a:lnTo>
                        <a:pt x="82" y="183"/>
                      </a:lnTo>
                      <a:lnTo>
                        <a:pt x="146" y="0"/>
                      </a:lnTo>
                      <a:lnTo>
                        <a:pt x="293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17" name=""/>
            <p:cNvSpPr/>
            <p:nvPr/>
          </p:nvSpPr>
          <p:spPr>
            <a:xfrm>
              <a:off x="7918560" y="380520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4394160" y="1220760"/>
            <a:ext cx="2827800" cy="4858560"/>
            <a:chOff x="4394160" y="1220760"/>
            <a:chExt cx="2827800" cy="4858560"/>
          </a:xfrm>
        </p:grpSpPr>
        <p:grpSp>
          <p:nvGrpSpPr>
            <p:cNvPr id="1719" name=""/>
            <p:cNvGrpSpPr/>
            <p:nvPr/>
          </p:nvGrpSpPr>
          <p:grpSpPr>
            <a:xfrm>
              <a:off x="4394160" y="1220760"/>
              <a:ext cx="2827800" cy="1762200"/>
              <a:chOff x="4394160" y="1220760"/>
              <a:chExt cx="2827800" cy="1762200"/>
            </a:xfrm>
          </p:grpSpPr>
          <p:sp>
            <p:nvSpPr>
              <p:cNvPr id="1720" name=""/>
              <p:cNvSpPr/>
              <p:nvPr/>
            </p:nvSpPr>
            <p:spPr>
              <a:xfrm>
                <a:off x="4394160" y="2603160"/>
                <a:ext cx="265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V="1">
                <a:off x="5748480" y="1652040"/>
                <a:ext cx="0" cy="95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906960" y="22287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359040" y="2584080"/>
                <a:ext cx="489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+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220000" y="1220760"/>
                <a:ext cx="100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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 x/A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4617720" y="2584080"/>
                <a:ext cx="4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-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4849920" y="1982520"/>
                <a:ext cx="1701720" cy="635040"/>
              </a:xfrm>
              <a:custGeom>
                <a:avLst/>
                <a:gdLst/>
                <a:ahLst/>
                <a:rect l="l" t="t" r="r" b="b"/>
                <a:pathLst>
                  <a:path w="1072" h="400">
                    <a:moveTo>
                      <a:pt x="0" y="384"/>
                    </a:moveTo>
                    <a:lnTo>
                      <a:pt x="568" y="0"/>
                    </a:lnTo>
                    <a:lnTo>
                      <a:pt x="1072" y="40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495040" y="16808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4468680" y="1982520"/>
                <a:ext cx="2413080" cy="635040"/>
              </a:xfrm>
              <a:custGeom>
                <a:avLst/>
                <a:gdLst/>
                <a:ahLst/>
                <a:rect l="l" t="t" r="r" b="b"/>
                <a:pathLst>
                  <a:path w="1520" h="400">
                    <a:moveTo>
                      <a:pt x="0" y="388"/>
                    </a:moveTo>
                    <a:lnTo>
                      <a:pt x="212" y="392"/>
                    </a:lnTo>
                    <a:lnTo>
                      <a:pt x="812" y="0"/>
                    </a:lnTo>
                    <a:lnTo>
                      <a:pt x="1308" y="400"/>
                    </a:lnTo>
                    <a:lnTo>
                      <a:pt x="1520" y="400"/>
                    </a:lnTo>
                  </a:path>
                </a:pathLst>
              </a:custGeom>
              <a:noFill/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6481800" y="25542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761000" y="25542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700600" y="1931760"/>
                <a:ext cx="101520" cy="101520"/>
              </a:xfrm>
              <a:prstGeom prst="ellips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2" name=""/>
            <p:cNvSpPr/>
            <p:nvPr/>
          </p:nvSpPr>
          <p:spPr>
            <a:xfrm>
              <a:off x="5592600" y="3124080"/>
              <a:ext cx="486000" cy="976320"/>
            </a:xfrm>
            <a:prstGeom prst="downArrow">
              <a:avLst>
                <a:gd name="adj1" fmla="val 50000"/>
                <a:gd name="adj2" fmla="val 50222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0000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3" name=""/>
            <p:cNvGrpSpPr/>
            <p:nvPr/>
          </p:nvGrpSpPr>
          <p:grpSpPr>
            <a:xfrm>
              <a:off x="4916520" y="4054320"/>
              <a:ext cx="1963440" cy="2025000"/>
              <a:chOff x="4916520" y="4054320"/>
              <a:chExt cx="1963440" cy="2025000"/>
            </a:xfrm>
          </p:grpSpPr>
          <p:sp>
            <p:nvSpPr>
              <p:cNvPr id="1734" name=""/>
              <p:cNvSpPr/>
              <p:nvPr/>
            </p:nvSpPr>
            <p:spPr>
              <a:xfrm>
                <a:off x="5172120" y="4457880"/>
                <a:ext cx="1380960" cy="1133280"/>
              </a:xfrm>
              <a:custGeom>
                <a:avLst/>
                <a:gdLst/>
                <a:ahLst/>
                <a:rect l="l" t="t" r="r" b="b"/>
                <a:pathLst>
                  <a:path w="145" h="119">
                    <a:moveTo>
                      <a:pt x="0" y="114"/>
                    </a:moveTo>
                    <a:lnTo>
                      <a:pt x="1" y="114"/>
                    </a:lnTo>
                    <a:lnTo>
                      <a:pt x="2" y="114"/>
                    </a:lnTo>
                    <a:lnTo>
                      <a:pt x="3" y="115"/>
                    </a:lnTo>
                    <a:lnTo>
                      <a:pt x="4" y="115"/>
                    </a:lnTo>
                    <a:lnTo>
                      <a:pt x="5" y="116"/>
                    </a:lnTo>
                    <a:lnTo>
                      <a:pt x="6" y="117"/>
                    </a:lnTo>
                    <a:lnTo>
                      <a:pt x="7" y="118"/>
                    </a:lnTo>
                    <a:lnTo>
                      <a:pt x="9" y="119"/>
                    </a:lnTo>
                    <a:lnTo>
                      <a:pt x="10" y="118"/>
                    </a:lnTo>
                    <a:lnTo>
                      <a:pt x="11" y="117"/>
                    </a:lnTo>
                    <a:lnTo>
                      <a:pt x="12" y="115"/>
                    </a:lnTo>
                    <a:lnTo>
                      <a:pt x="13" y="114"/>
                    </a:lnTo>
                    <a:lnTo>
                      <a:pt x="14" y="112"/>
                    </a:lnTo>
                    <a:lnTo>
                      <a:pt x="15" y="111"/>
                    </a:lnTo>
                    <a:lnTo>
                      <a:pt x="17" y="109"/>
                    </a:lnTo>
                    <a:lnTo>
                      <a:pt x="18" y="108"/>
                    </a:lnTo>
                    <a:lnTo>
                      <a:pt x="19" y="106"/>
                    </a:lnTo>
                    <a:lnTo>
                      <a:pt x="20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3"/>
                    </a:lnTo>
                    <a:lnTo>
                      <a:pt x="25" y="102"/>
                    </a:lnTo>
                    <a:lnTo>
                      <a:pt x="26" y="102"/>
                    </a:lnTo>
                    <a:lnTo>
                      <a:pt x="27" y="102"/>
                    </a:lnTo>
                    <a:lnTo>
                      <a:pt x="28" y="102"/>
                    </a:lnTo>
                    <a:lnTo>
                      <a:pt x="29" y="103"/>
                    </a:lnTo>
                    <a:lnTo>
                      <a:pt x="30" y="104"/>
                    </a:lnTo>
                    <a:lnTo>
                      <a:pt x="31" y="105"/>
                    </a:lnTo>
                    <a:lnTo>
                      <a:pt x="33" y="107"/>
                    </a:lnTo>
                    <a:lnTo>
                      <a:pt x="34" y="109"/>
                    </a:lnTo>
                    <a:lnTo>
                      <a:pt x="35" y="111"/>
                    </a:lnTo>
                    <a:lnTo>
                      <a:pt x="36" y="114"/>
                    </a:lnTo>
                    <a:lnTo>
                      <a:pt x="37" y="117"/>
                    </a:lnTo>
                    <a:lnTo>
                      <a:pt x="38" y="119"/>
                    </a:lnTo>
                    <a:lnTo>
                      <a:pt x="39" y="115"/>
                    </a:lnTo>
                    <a:lnTo>
                      <a:pt x="41" y="111"/>
                    </a:lnTo>
                    <a:lnTo>
                      <a:pt x="42" y="107"/>
                    </a:lnTo>
                    <a:lnTo>
                      <a:pt x="43" y="103"/>
                    </a:lnTo>
                    <a:lnTo>
                      <a:pt x="44" y="98"/>
                    </a:lnTo>
                    <a:lnTo>
                      <a:pt x="45" y="93"/>
                    </a:lnTo>
                    <a:lnTo>
                      <a:pt x="46" y="88"/>
                    </a:lnTo>
                    <a:lnTo>
                      <a:pt x="47" y="83"/>
                    </a:lnTo>
                    <a:lnTo>
                      <a:pt x="49" y="78"/>
                    </a:lnTo>
                    <a:lnTo>
                      <a:pt x="50" y="72"/>
                    </a:lnTo>
                    <a:lnTo>
                      <a:pt x="51" y="67"/>
                    </a:lnTo>
                    <a:lnTo>
                      <a:pt x="52" y="61"/>
                    </a:lnTo>
                    <a:lnTo>
                      <a:pt x="53" y="56"/>
                    </a:lnTo>
                    <a:lnTo>
                      <a:pt x="54" y="51"/>
                    </a:lnTo>
                    <a:lnTo>
                      <a:pt x="55" y="45"/>
                    </a:lnTo>
                    <a:lnTo>
                      <a:pt x="57" y="40"/>
                    </a:lnTo>
                    <a:lnTo>
                      <a:pt x="58" y="35"/>
                    </a:lnTo>
                    <a:lnTo>
                      <a:pt x="59" y="30"/>
                    </a:lnTo>
                    <a:lnTo>
                      <a:pt x="60" y="26"/>
                    </a:lnTo>
                    <a:lnTo>
                      <a:pt x="61" y="21"/>
                    </a:lnTo>
                    <a:lnTo>
                      <a:pt x="62" y="18"/>
                    </a:lnTo>
                    <a:lnTo>
                      <a:pt x="63" y="14"/>
                    </a:lnTo>
                    <a:lnTo>
                      <a:pt x="65" y="11"/>
                    </a:lnTo>
                    <a:lnTo>
                      <a:pt x="66" y="8"/>
                    </a:lnTo>
                    <a:lnTo>
                      <a:pt x="67" y="5"/>
                    </a:lnTo>
                    <a:lnTo>
                      <a:pt x="68" y="3"/>
                    </a:lnTo>
                    <a:lnTo>
                      <a:pt x="69" y="2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6" y="2"/>
                    </a:lnTo>
                    <a:lnTo>
                      <a:pt x="77" y="3"/>
                    </a:lnTo>
                    <a:lnTo>
                      <a:pt x="78" y="5"/>
                    </a:lnTo>
                    <a:lnTo>
                      <a:pt x="79" y="8"/>
                    </a:lnTo>
                    <a:lnTo>
                      <a:pt x="81" y="11"/>
                    </a:lnTo>
                    <a:lnTo>
                      <a:pt x="82" y="14"/>
                    </a:lnTo>
                    <a:lnTo>
                      <a:pt x="83" y="18"/>
                    </a:lnTo>
                    <a:lnTo>
                      <a:pt x="84" y="21"/>
                    </a:lnTo>
                    <a:lnTo>
                      <a:pt x="85" y="26"/>
                    </a:lnTo>
                    <a:lnTo>
                      <a:pt x="86" y="30"/>
                    </a:lnTo>
                    <a:lnTo>
                      <a:pt x="87" y="35"/>
                    </a:lnTo>
                    <a:lnTo>
                      <a:pt x="89" y="40"/>
                    </a:lnTo>
                    <a:lnTo>
                      <a:pt x="90" y="45"/>
                    </a:lnTo>
                    <a:lnTo>
                      <a:pt x="91" y="51"/>
                    </a:lnTo>
                    <a:lnTo>
                      <a:pt x="92" y="56"/>
                    </a:lnTo>
                    <a:lnTo>
                      <a:pt x="93" y="61"/>
                    </a:lnTo>
                    <a:lnTo>
                      <a:pt x="94" y="67"/>
                    </a:lnTo>
                    <a:lnTo>
                      <a:pt x="95" y="72"/>
                    </a:lnTo>
                    <a:lnTo>
                      <a:pt x="97" y="78"/>
                    </a:lnTo>
                    <a:lnTo>
                      <a:pt x="98" y="83"/>
                    </a:lnTo>
                    <a:lnTo>
                      <a:pt x="99" y="88"/>
                    </a:lnTo>
                    <a:lnTo>
                      <a:pt x="100" y="93"/>
                    </a:lnTo>
                    <a:lnTo>
                      <a:pt x="101" y="98"/>
                    </a:lnTo>
                    <a:lnTo>
                      <a:pt x="102" y="103"/>
                    </a:lnTo>
                    <a:lnTo>
                      <a:pt x="103" y="107"/>
                    </a:lnTo>
                    <a:lnTo>
                      <a:pt x="105" y="111"/>
                    </a:lnTo>
                    <a:lnTo>
                      <a:pt x="106" y="115"/>
                    </a:lnTo>
                    <a:lnTo>
                      <a:pt x="107" y="119"/>
                    </a:lnTo>
                    <a:lnTo>
                      <a:pt x="108" y="117"/>
                    </a:lnTo>
                    <a:lnTo>
                      <a:pt x="109" y="114"/>
                    </a:lnTo>
                    <a:lnTo>
                      <a:pt x="110" y="111"/>
                    </a:lnTo>
                    <a:lnTo>
                      <a:pt x="111" y="109"/>
                    </a:lnTo>
                    <a:lnTo>
                      <a:pt x="113" y="107"/>
                    </a:lnTo>
                    <a:lnTo>
                      <a:pt x="114" y="105"/>
                    </a:lnTo>
                    <a:lnTo>
                      <a:pt x="115" y="104"/>
                    </a:lnTo>
                    <a:lnTo>
                      <a:pt x="116" y="103"/>
                    </a:lnTo>
                    <a:lnTo>
                      <a:pt x="117" y="102"/>
                    </a:lnTo>
                    <a:lnTo>
                      <a:pt x="118" y="102"/>
                    </a:lnTo>
                    <a:lnTo>
                      <a:pt x="119" y="102"/>
                    </a:lnTo>
                    <a:lnTo>
                      <a:pt x="121" y="102"/>
                    </a:lnTo>
                    <a:lnTo>
                      <a:pt x="122" y="103"/>
                    </a:lnTo>
                    <a:lnTo>
                      <a:pt x="123" y="103"/>
                    </a:lnTo>
                    <a:lnTo>
                      <a:pt x="124" y="104"/>
                    </a:lnTo>
                    <a:lnTo>
                      <a:pt x="125" y="105"/>
                    </a:lnTo>
                    <a:lnTo>
                      <a:pt x="126" y="106"/>
                    </a:lnTo>
                    <a:lnTo>
                      <a:pt x="127" y="108"/>
                    </a:lnTo>
                    <a:lnTo>
                      <a:pt x="129" y="109"/>
                    </a:lnTo>
                    <a:lnTo>
                      <a:pt x="130" y="111"/>
                    </a:lnTo>
                    <a:lnTo>
                      <a:pt x="131" y="112"/>
                    </a:lnTo>
                    <a:lnTo>
                      <a:pt x="132" y="114"/>
                    </a:lnTo>
                    <a:lnTo>
                      <a:pt x="133" y="115"/>
                    </a:lnTo>
                    <a:lnTo>
                      <a:pt x="134" y="117"/>
                    </a:lnTo>
                    <a:lnTo>
                      <a:pt x="135" y="118"/>
                    </a:lnTo>
                    <a:lnTo>
                      <a:pt x="137" y="119"/>
                    </a:lnTo>
                    <a:lnTo>
                      <a:pt x="138" y="118"/>
                    </a:lnTo>
                    <a:lnTo>
                      <a:pt x="139" y="117"/>
                    </a:lnTo>
                    <a:lnTo>
                      <a:pt x="140" y="116"/>
                    </a:lnTo>
                    <a:lnTo>
                      <a:pt x="141" y="115"/>
                    </a:lnTo>
                    <a:lnTo>
                      <a:pt x="142" y="115"/>
                    </a:lnTo>
                    <a:lnTo>
                      <a:pt x="143" y="114"/>
                    </a:lnTo>
                    <a:lnTo>
                      <a:pt x="145" y="114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888520" y="5619600"/>
                <a:ext cx="66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1/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124680" y="5546880"/>
                <a:ext cx="1159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916520" y="5591160"/>
                <a:ext cx="193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873760" y="4278240"/>
                <a:ext cx="0" cy="149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9" name=""/>
              <p:cNvGrpSpPr/>
              <p:nvPr/>
            </p:nvGrpSpPr>
            <p:grpSpPr>
              <a:xfrm>
                <a:off x="5945760" y="4054320"/>
                <a:ext cx="602280" cy="557640"/>
                <a:chOff x="5945760" y="4054320"/>
                <a:chExt cx="602280" cy="557640"/>
              </a:xfrm>
            </p:grpSpPr>
            <p:sp>
              <p:nvSpPr>
                <p:cNvPr id="1740" name=""/>
                <p:cNvSpPr/>
                <p:nvPr/>
              </p:nvSpPr>
              <p:spPr>
                <a:xfrm>
                  <a:off x="5970960" y="4213080"/>
                  <a:ext cx="57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f(u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5945760" y="405432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^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2" name=""/>
              <p:cNvSpPr/>
              <p:nvPr/>
            </p:nvSpPr>
            <p:spPr>
              <a:xfrm>
                <a:off x="6542280" y="522288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3" name=""/>
          <p:cNvGrpSpPr/>
          <p:nvPr/>
        </p:nvGrpSpPr>
        <p:grpSpPr>
          <a:xfrm>
            <a:off x="6824520" y="590400"/>
            <a:ext cx="1000080" cy="813240"/>
            <a:chOff x="6824520" y="590400"/>
            <a:chExt cx="1000080" cy="813240"/>
          </a:xfrm>
        </p:grpSpPr>
        <p:sp>
          <p:nvSpPr>
            <p:cNvPr id="1744" name=""/>
            <p:cNvSpPr/>
            <p:nvPr/>
          </p:nvSpPr>
          <p:spPr>
            <a:xfrm>
              <a:off x="6824520" y="59040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045560" y="8222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6" name=""/>
          <p:cNvGrpSpPr/>
          <p:nvPr/>
        </p:nvGrpSpPr>
        <p:grpSpPr>
          <a:xfrm>
            <a:off x="1747800" y="1527120"/>
            <a:ext cx="3062160" cy="4614840"/>
            <a:chOff x="1747800" y="1527120"/>
            <a:chExt cx="3062160" cy="4614840"/>
          </a:xfrm>
        </p:grpSpPr>
        <p:grpSp>
          <p:nvGrpSpPr>
            <p:cNvPr id="1747" name=""/>
            <p:cNvGrpSpPr/>
            <p:nvPr/>
          </p:nvGrpSpPr>
          <p:grpSpPr>
            <a:xfrm>
              <a:off x="1947600" y="1527120"/>
              <a:ext cx="2294640" cy="3016080"/>
              <a:chOff x="1947600" y="1527120"/>
              <a:chExt cx="2294640" cy="3016080"/>
            </a:xfrm>
          </p:grpSpPr>
          <p:grpSp>
            <p:nvGrpSpPr>
              <p:cNvPr id="1748" name=""/>
              <p:cNvGrpSpPr/>
              <p:nvPr/>
            </p:nvGrpSpPr>
            <p:grpSpPr>
              <a:xfrm>
                <a:off x="1947600" y="1527120"/>
                <a:ext cx="2294640" cy="2008440"/>
                <a:chOff x="1947600" y="1527120"/>
                <a:chExt cx="2294640" cy="2008440"/>
              </a:xfrm>
            </p:grpSpPr>
            <p:sp>
              <p:nvSpPr>
                <p:cNvPr id="1749" name=""/>
                <p:cNvSpPr/>
                <p:nvPr/>
              </p:nvSpPr>
              <p:spPr>
                <a:xfrm>
                  <a:off x="2863800" y="2415960"/>
                  <a:ext cx="824040" cy="602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2076480" y="3018960"/>
                  <a:ext cx="20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 flipV="1">
                  <a:off x="2478240" y="2068200"/>
                  <a:ext cx="0" cy="95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2237400" y="20966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3927240" y="2638080"/>
                  <a:ext cx="315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x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3151440" y="3136680"/>
                  <a:ext cx="343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2443320" y="2360160"/>
                  <a:ext cx="101520" cy="101520"/>
                </a:xfrm>
                <a:prstGeom prst="ellipse">
                  <a:avLst/>
                </a:prstGeom>
                <a:solidFill>
                  <a:srgbClr val="cc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2849400" y="3157200"/>
                  <a:ext cx="838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7" name=""/>
                <p:cNvGrpSpPr/>
                <p:nvPr/>
              </p:nvGrpSpPr>
              <p:grpSpPr>
                <a:xfrm>
                  <a:off x="2043000" y="1527120"/>
                  <a:ext cx="1333080" cy="728640"/>
                  <a:chOff x="2043000" y="1527120"/>
                  <a:chExt cx="1333080" cy="728640"/>
                </a:xfrm>
              </p:grpSpPr>
              <p:sp>
                <p:nvSpPr>
                  <p:cNvPr id="1758" name=""/>
                  <p:cNvSpPr/>
                  <p:nvPr/>
                </p:nvSpPr>
                <p:spPr>
                  <a:xfrm>
                    <a:off x="2043000" y="1531440"/>
                    <a:ext cx="1333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</a:t>
                    </a:r>
                    <a:r>
                      <a:rPr b="0" lang="fr-FR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(           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59" name=""/>
                  <p:cNvGrpSpPr/>
                  <p:nvPr/>
                </p:nvGrpSpPr>
                <p:grpSpPr>
                  <a:xfrm>
                    <a:off x="2491920" y="1527120"/>
                    <a:ext cx="693720" cy="728640"/>
                    <a:chOff x="2491920" y="1527120"/>
                    <a:chExt cx="693720" cy="728640"/>
                  </a:xfrm>
                </p:grpSpPr>
                <p:sp>
                  <p:nvSpPr>
                    <p:cNvPr id="1760" name=""/>
                    <p:cNvSpPr/>
                    <p:nvPr/>
                  </p:nvSpPr>
                  <p:spPr>
                    <a:xfrm>
                      <a:off x="2514240" y="1527120"/>
                      <a:ext cx="6714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-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1" name=""/>
                    <p:cNvSpPr/>
                    <p:nvPr/>
                  </p:nvSpPr>
                  <p:spPr>
                    <a:xfrm>
                      <a:off x="2666880" y="1856880"/>
                      <a:ext cx="3438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2" name=""/>
                    <p:cNvSpPr/>
                    <p:nvPr/>
                  </p:nvSpPr>
                  <p:spPr>
                    <a:xfrm>
                      <a:off x="2491920" y="1877760"/>
                      <a:ext cx="6606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63" name=""/>
                <p:cNvSpPr/>
                <p:nvPr/>
              </p:nvSpPr>
              <p:spPr>
                <a:xfrm>
                  <a:off x="3243240" y="2970000"/>
                  <a:ext cx="101520" cy="1011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2994840" y="2609640"/>
                  <a:ext cx="351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 flipH="1">
                  <a:off x="1947600" y="2411280"/>
                  <a:ext cx="1485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2201760" y="2411280"/>
                  <a:ext cx="1727280" cy="621720"/>
                </a:xfrm>
                <a:custGeom>
                  <a:avLst/>
                  <a:gdLst/>
                  <a:ahLst/>
                  <a:rect l="l" t="t" r="r" b="b"/>
                  <a:pathLst>
                    <a:path w="1088" h="392">
                      <a:moveTo>
                        <a:pt x="0" y="383"/>
                      </a:moveTo>
                      <a:lnTo>
                        <a:pt x="424" y="392"/>
                      </a:lnTo>
                      <a:lnTo>
                        <a:pt x="424" y="0"/>
                      </a:lnTo>
                      <a:lnTo>
                        <a:pt x="936" y="0"/>
                      </a:lnTo>
                      <a:lnTo>
                        <a:pt x="936" y="384"/>
                      </a:lnTo>
                      <a:lnTo>
                        <a:pt x="1088" y="384"/>
                      </a:lnTo>
                    </a:path>
                  </a:pathLst>
                </a:custGeom>
                <a:noFill/>
                <a:ln w="2844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7" name=""/>
              <p:cNvSpPr/>
              <p:nvPr/>
            </p:nvSpPr>
            <p:spPr>
              <a:xfrm>
                <a:off x="2911320" y="3566880"/>
                <a:ext cx="486000" cy="976320"/>
              </a:xfrm>
              <a:prstGeom prst="downArrow">
                <a:avLst>
                  <a:gd name="adj1" fmla="val 50000"/>
                  <a:gd name="adj2" fmla="val 5022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00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"/>
            <p:cNvGrpSpPr/>
            <p:nvPr/>
          </p:nvGrpSpPr>
          <p:grpSpPr>
            <a:xfrm>
              <a:off x="1747800" y="4554360"/>
              <a:ext cx="3062160" cy="1587600"/>
              <a:chOff x="1747800" y="4554360"/>
              <a:chExt cx="3062160" cy="1587600"/>
            </a:xfrm>
          </p:grpSpPr>
          <p:grpSp>
            <p:nvGrpSpPr>
              <p:cNvPr id="1769" name=""/>
              <p:cNvGrpSpPr/>
              <p:nvPr/>
            </p:nvGrpSpPr>
            <p:grpSpPr>
              <a:xfrm>
                <a:off x="1747800" y="4554360"/>
                <a:ext cx="3062160" cy="1107720"/>
                <a:chOff x="1747800" y="4554360"/>
                <a:chExt cx="3062160" cy="1107720"/>
              </a:xfrm>
            </p:grpSpPr>
            <p:grpSp>
              <p:nvGrpSpPr>
                <p:cNvPr id="1770" name=""/>
                <p:cNvGrpSpPr/>
                <p:nvPr/>
              </p:nvGrpSpPr>
              <p:grpSpPr>
                <a:xfrm>
                  <a:off x="1787400" y="5497200"/>
                  <a:ext cx="3022560" cy="1800"/>
                  <a:chOff x="1787400" y="5497200"/>
                  <a:chExt cx="3022560" cy="1800"/>
                </a:xfrm>
              </p:grpSpPr>
              <p:sp>
                <p:nvSpPr>
                  <p:cNvPr id="1771" name=""/>
                  <p:cNvSpPr/>
                  <p:nvPr/>
                </p:nvSpPr>
                <p:spPr>
                  <a:xfrm flipH="1">
                    <a:off x="3295800" y="5499000"/>
                    <a:ext cx="1514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1787400" y="5497200"/>
                    <a:ext cx="15145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3" name=""/>
                <p:cNvGrpSpPr/>
                <p:nvPr/>
              </p:nvGrpSpPr>
              <p:grpSpPr>
                <a:xfrm>
                  <a:off x="1747800" y="4921200"/>
                  <a:ext cx="3000240" cy="740880"/>
                  <a:chOff x="1747800" y="4921200"/>
                  <a:chExt cx="3000240" cy="740880"/>
                </a:xfrm>
              </p:grpSpPr>
              <p:sp>
                <p:nvSpPr>
                  <p:cNvPr id="1774" name=""/>
                  <p:cNvSpPr/>
                  <p:nvPr/>
                </p:nvSpPr>
                <p:spPr>
                  <a:xfrm>
                    <a:off x="3252600" y="4925880"/>
                    <a:ext cx="1495440" cy="736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2" h="464">
                        <a:moveTo>
                          <a:pt x="0" y="0"/>
                        </a:moveTo>
                        <a:cubicBezTo>
                          <a:pt x="76" y="8"/>
                          <a:pt x="153" y="17"/>
                          <a:pt x="238" y="55"/>
                        </a:cubicBezTo>
                        <a:cubicBezTo>
                          <a:pt x="323" y="93"/>
                          <a:pt x="410" y="166"/>
                          <a:pt x="512" y="229"/>
                        </a:cubicBezTo>
                        <a:cubicBezTo>
                          <a:pt x="614" y="292"/>
                          <a:pt x="779" y="396"/>
                          <a:pt x="851" y="430"/>
                        </a:cubicBezTo>
                        <a:cubicBezTo>
                          <a:pt x="923" y="464"/>
                          <a:pt x="932" y="447"/>
                          <a:pt x="942" y="430"/>
                        </a:cubicBezTo>
                      </a:path>
                    </a:pathLst>
                  </a:custGeom>
                  <a:noFill/>
                  <a:ln w="28440">
                    <a:solidFill>
                      <a:srgbClr val="9933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 flipH="1">
                    <a:off x="1747800" y="4921200"/>
                    <a:ext cx="1495440" cy="736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2" h="464">
                        <a:moveTo>
                          <a:pt x="0" y="0"/>
                        </a:moveTo>
                        <a:cubicBezTo>
                          <a:pt x="76" y="8"/>
                          <a:pt x="153" y="17"/>
                          <a:pt x="238" y="55"/>
                        </a:cubicBezTo>
                        <a:cubicBezTo>
                          <a:pt x="323" y="93"/>
                          <a:pt x="410" y="166"/>
                          <a:pt x="512" y="229"/>
                        </a:cubicBezTo>
                        <a:cubicBezTo>
                          <a:pt x="614" y="292"/>
                          <a:pt x="779" y="396"/>
                          <a:pt x="851" y="430"/>
                        </a:cubicBezTo>
                        <a:cubicBezTo>
                          <a:pt x="923" y="464"/>
                          <a:pt x="932" y="447"/>
                          <a:pt x="942" y="430"/>
                        </a:cubicBezTo>
                      </a:path>
                    </a:pathLst>
                  </a:custGeom>
                  <a:noFill/>
                  <a:ln w="28440">
                    <a:solidFill>
                      <a:srgbClr val="9933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6" name=""/>
                <p:cNvGrpSpPr/>
                <p:nvPr/>
              </p:nvGrpSpPr>
              <p:grpSpPr>
                <a:xfrm>
                  <a:off x="3989880" y="4554360"/>
                  <a:ext cx="662400" cy="992160"/>
                  <a:chOff x="3989880" y="4554360"/>
                  <a:chExt cx="662400" cy="992160"/>
                </a:xfrm>
              </p:grpSpPr>
              <p:sp>
                <p:nvSpPr>
                  <p:cNvPr id="1777" name=""/>
                  <p:cNvSpPr/>
                  <p:nvPr/>
                </p:nvSpPr>
                <p:spPr>
                  <a:xfrm>
                    <a:off x="3989880" y="4554360"/>
                    <a:ext cx="662400" cy="45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/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4362480" y="5445000"/>
                    <a:ext cx="115920" cy="10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9" name=""/>
                  <p:cNvSpPr/>
                  <p:nvPr/>
                </p:nvSpPr>
                <p:spPr>
                  <a:xfrm>
                    <a:off x="4414680" y="5018040"/>
                    <a:ext cx="0" cy="420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80" name=""/>
              <p:cNvSpPr/>
              <p:nvPr/>
            </p:nvSpPr>
            <p:spPr>
              <a:xfrm flipV="1">
                <a:off x="3265560" y="4719240"/>
                <a:ext cx="0" cy="142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1" name=""/>
          <p:cNvGrpSpPr/>
          <p:nvPr/>
        </p:nvGrpSpPr>
        <p:grpSpPr>
          <a:xfrm>
            <a:off x="3206880" y="5454720"/>
            <a:ext cx="637920" cy="1198080"/>
            <a:chOff x="3206880" y="5454720"/>
            <a:chExt cx="637920" cy="1198080"/>
          </a:xfrm>
        </p:grpSpPr>
        <p:sp>
          <p:nvSpPr>
            <p:cNvPr id="1782" name=""/>
            <p:cNvSpPr/>
            <p:nvPr/>
          </p:nvSpPr>
          <p:spPr>
            <a:xfrm>
              <a:off x="3486240" y="5454720"/>
              <a:ext cx="115920" cy="88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 flipV="1">
              <a:off x="3528720" y="5558400"/>
              <a:ext cx="11160" cy="708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206880" y="6193080"/>
              <a:ext cx="637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1/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5" name="" descr=""/>
          <p:cNvPicPr/>
          <p:nvPr/>
        </p:nvPicPr>
        <p:blipFill>
          <a:blip r:embed="rId1"/>
          <a:stretch/>
        </p:blipFill>
        <p:spPr>
          <a:xfrm>
            <a:off x="-641520" y="2359080"/>
            <a:ext cx="3208680" cy="2841480"/>
          </a:xfrm>
          <a:prstGeom prst="rect">
            <a:avLst/>
          </a:prstGeom>
          <a:ln w="0">
            <a:noFill/>
          </a:ln>
        </p:spPr>
      </p:pic>
      <p:pic>
        <p:nvPicPr>
          <p:cNvPr id="1786" name="" descr=""/>
          <p:cNvPicPr/>
          <p:nvPr/>
        </p:nvPicPr>
        <p:blipFill>
          <a:blip r:embed="rId2"/>
          <a:stretch/>
        </p:blipFill>
        <p:spPr>
          <a:xfrm>
            <a:off x="1743120" y="2760840"/>
            <a:ext cx="2676600" cy="2420640"/>
          </a:xfrm>
          <a:prstGeom prst="rect">
            <a:avLst/>
          </a:prstGeom>
          <a:ln w="0">
            <a:noFill/>
          </a:ln>
        </p:spPr>
      </p:pic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466884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F de qqs  fonctions usuelles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8" name=""/>
          <p:cNvGrpSpPr/>
          <p:nvPr/>
        </p:nvGrpSpPr>
        <p:grpSpPr>
          <a:xfrm>
            <a:off x="5353200" y="495360"/>
            <a:ext cx="2651760" cy="2391480"/>
            <a:chOff x="5353200" y="495360"/>
            <a:chExt cx="2651760" cy="2391480"/>
          </a:xfrm>
        </p:grpSpPr>
        <p:grpSp>
          <p:nvGrpSpPr>
            <p:cNvPr id="1789" name=""/>
            <p:cNvGrpSpPr/>
            <p:nvPr/>
          </p:nvGrpSpPr>
          <p:grpSpPr>
            <a:xfrm>
              <a:off x="5353200" y="495360"/>
              <a:ext cx="2651760" cy="2391480"/>
              <a:chOff x="5353200" y="495360"/>
              <a:chExt cx="2651760" cy="2391480"/>
            </a:xfrm>
          </p:grpSpPr>
          <p:sp>
            <p:nvSpPr>
              <p:cNvPr id="1790" name=""/>
              <p:cNvSpPr/>
              <p:nvPr/>
            </p:nvSpPr>
            <p:spPr>
              <a:xfrm>
                <a:off x="5586480" y="1315800"/>
                <a:ext cx="1551240" cy="46008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591520" y="1306440"/>
                <a:ext cx="1550880" cy="1101240"/>
              </a:xfrm>
              <a:prstGeom prst="can">
                <a:avLst>
                  <a:gd name="adj" fmla="val 3934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656480" y="1749240"/>
                <a:ext cx="34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353200" y="1809720"/>
                <a:ext cx="214164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5394600" y="1631520"/>
                <a:ext cx="2305080" cy="81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V="1">
                <a:off x="6356520" y="1005840"/>
                <a:ext cx="0" cy="108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6035400" y="495360"/>
                <a:ext cx="1564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( 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 / 2R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6377040" y="2028240"/>
                <a:ext cx="125100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419600" y="216504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393320" y="138744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H="1">
                <a:off x="6086520" y="2131920"/>
                <a:ext cx="270000" cy="261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112440" y="2427120"/>
                <a:ext cx="38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2" name=""/>
            <p:cNvSpPr/>
            <p:nvPr/>
          </p:nvSpPr>
          <p:spPr>
            <a:xfrm>
              <a:off x="6014160" y="1257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296040" y="1460520"/>
              <a:ext cx="130320" cy="131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4" name=""/>
          <p:cNvSpPr/>
          <p:nvPr/>
        </p:nvSpPr>
        <p:spPr>
          <a:xfrm>
            <a:off x="3004920" y="1311120"/>
            <a:ext cx="21070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amem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285840" y="5446800"/>
            <a:ext cx="6681600" cy="1284120"/>
            <a:chOff x="285840" y="5446800"/>
            <a:chExt cx="6681600" cy="1284120"/>
          </a:xfrm>
        </p:grpSpPr>
        <mc:AlternateContent>
          <mc:Choice xmlns:a14="http://schemas.microsoft.com/office/drawing/2010/main" Requires="a14">
            <p:sp>
              <p:nvSpPr>
                <p:cNvPr id="1806" name=""/>
                <p:cNvSpPr txBox="1"/>
                <p:nvPr/>
              </p:nvSpPr>
              <p:spPr>
                <a:xfrm>
                  <a:off x="285840" y="5446800"/>
                  <a:ext cx="668160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R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Π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Z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Z</m:t>
                              </m:r>
                            </m:den>
                          </m:f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Jinc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07" name=""/>
            <p:cNvSpPr/>
            <p:nvPr/>
          </p:nvSpPr>
          <p:spPr>
            <a:xfrm>
              <a:off x="397800" y="626436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v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8" name=""/>
                <p:cNvSpPr txBox="1"/>
                <p:nvPr/>
              </p:nvSpPr>
              <p:spPr>
                <a:xfrm>
                  <a:off x="1365120" y="6280200"/>
                  <a:ext cx="180360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R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09" name=""/>
          <p:cNvGrpSpPr/>
          <p:nvPr/>
        </p:nvGrpSpPr>
        <p:grpSpPr>
          <a:xfrm>
            <a:off x="6518160" y="2414520"/>
            <a:ext cx="2599920" cy="2385000"/>
            <a:chOff x="6518160" y="2414520"/>
            <a:chExt cx="2599920" cy="2385000"/>
          </a:xfrm>
        </p:grpSpPr>
        <p:sp>
          <p:nvSpPr>
            <p:cNvPr id="1810" name=""/>
            <p:cNvSpPr/>
            <p:nvPr/>
          </p:nvSpPr>
          <p:spPr>
            <a:xfrm>
              <a:off x="8533080" y="440064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1" name=""/>
            <p:cNvGrpSpPr/>
            <p:nvPr/>
          </p:nvGrpSpPr>
          <p:grpSpPr>
            <a:xfrm>
              <a:off x="6518160" y="2414520"/>
              <a:ext cx="2599920" cy="2363400"/>
              <a:chOff x="6518160" y="2414520"/>
              <a:chExt cx="2599920" cy="2363400"/>
            </a:xfrm>
          </p:grpSpPr>
          <p:grpSp>
            <p:nvGrpSpPr>
              <p:cNvPr id="1812" name=""/>
              <p:cNvGrpSpPr/>
              <p:nvPr/>
            </p:nvGrpSpPr>
            <p:grpSpPr>
              <a:xfrm>
                <a:off x="6518160" y="2982960"/>
                <a:ext cx="2492280" cy="1794960"/>
                <a:chOff x="6518160" y="2982960"/>
                <a:chExt cx="2492280" cy="1794960"/>
              </a:xfrm>
            </p:grpSpPr>
            <p:sp>
              <p:nvSpPr>
                <p:cNvPr id="1813" name=""/>
                <p:cNvSpPr/>
                <p:nvPr/>
              </p:nvSpPr>
              <p:spPr>
                <a:xfrm>
                  <a:off x="6518520" y="4296240"/>
                  <a:ext cx="2887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0.00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6518160" y="3858120"/>
                  <a:ext cx="2246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0.0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518880" y="3420720"/>
                  <a:ext cx="16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0.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6519960" y="2982960"/>
                  <a:ext cx="648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7056360" y="3026520"/>
                  <a:ext cx="1938960" cy="1751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7071840" y="3048480"/>
                  <a:ext cx="1938600" cy="1634400"/>
                </a:xfrm>
                <a:custGeom>
                  <a:avLst/>
                  <a:gdLst/>
                  <a:ahLst/>
                  <a:rect l="l" t="t" r="r" b="b"/>
                  <a:pathLst>
                    <a:path w="130" h="112">
                      <a:moveTo>
                        <a:pt x="0" y="39"/>
                      </a:moveTo>
                      <a:lnTo>
                        <a:pt x="1" y="39"/>
                      </a:lnTo>
                      <a:lnTo>
                        <a:pt x="2" y="40"/>
                      </a:lnTo>
                      <a:lnTo>
                        <a:pt x="3" y="41"/>
                      </a:lnTo>
                      <a:lnTo>
                        <a:pt x="4" y="43"/>
                      </a:lnTo>
                      <a:lnTo>
                        <a:pt x="5" y="46"/>
                      </a:lnTo>
                      <a:lnTo>
                        <a:pt x="6" y="50"/>
                      </a:lnTo>
                      <a:lnTo>
                        <a:pt x="7" y="59"/>
                      </a:lnTo>
                      <a:lnTo>
                        <a:pt x="8" y="112"/>
                      </a:lnTo>
                      <a:lnTo>
                        <a:pt x="9" y="58"/>
                      </a:lnTo>
                      <a:lnTo>
                        <a:pt x="10" y="49"/>
                      </a:lnTo>
                      <a:lnTo>
                        <a:pt x="11" y="43"/>
                      </a:lnTo>
                      <a:lnTo>
                        <a:pt x="12" y="39"/>
                      </a:lnTo>
                      <a:lnTo>
                        <a:pt x="13" y="36"/>
                      </a:lnTo>
                      <a:lnTo>
                        <a:pt x="14" y="33"/>
                      </a:lnTo>
                      <a:lnTo>
                        <a:pt x="15" y="31"/>
                      </a:lnTo>
                      <a:lnTo>
                        <a:pt x="16" y="30"/>
                      </a:lnTo>
                      <a:lnTo>
                        <a:pt x="17" y="28"/>
                      </a:lnTo>
                      <a:lnTo>
                        <a:pt x="18" y="27"/>
                      </a:lnTo>
                      <a:lnTo>
                        <a:pt x="19" y="26"/>
                      </a:lnTo>
                      <a:lnTo>
                        <a:pt x="20" y="26"/>
                      </a:lnTo>
                      <a:lnTo>
                        <a:pt x="21" y="25"/>
                      </a:lnTo>
                      <a:lnTo>
                        <a:pt x="22" y="25"/>
                      </a:lnTo>
                      <a:lnTo>
                        <a:pt x="23" y="25"/>
                      </a:lnTo>
                      <a:lnTo>
                        <a:pt x="24" y="25"/>
                      </a:lnTo>
                      <a:lnTo>
                        <a:pt x="25" y="25"/>
                      </a:lnTo>
                      <a:lnTo>
                        <a:pt x="26" y="25"/>
                      </a:lnTo>
                      <a:lnTo>
                        <a:pt x="27" y="26"/>
                      </a:lnTo>
                      <a:lnTo>
                        <a:pt x="28" y="27"/>
                      </a:lnTo>
                      <a:lnTo>
                        <a:pt x="29" y="29"/>
                      </a:lnTo>
                      <a:lnTo>
                        <a:pt x="30" y="31"/>
                      </a:lnTo>
                      <a:lnTo>
                        <a:pt x="31" y="34"/>
                      </a:lnTo>
                      <a:lnTo>
                        <a:pt x="32" y="39"/>
                      </a:lnTo>
                      <a:lnTo>
                        <a:pt x="33" y="49"/>
                      </a:lnTo>
                      <a:lnTo>
                        <a:pt x="34" y="70"/>
                      </a:lnTo>
                      <a:lnTo>
                        <a:pt x="35" y="43"/>
                      </a:lnTo>
                      <a:lnTo>
                        <a:pt x="36" y="35"/>
                      </a:lnTo>
                      <a:lnTo>
                        <a:pt x="37" y="29"/>
                      </a:lnTo>
                      <a:lnTo>
                        <a:pt x="38" y="25"/>
                      </a:lnTo>
                      <a:lnTo>
                        <a:pt x="39" y="22"/>
                      </a:lnTo>
                      <a:lnTo>
                        <a:pt x="40" y="19"/>
                      </a:lnTo>
                      <a:lnTo>
                        <a:pt x="41" y="17"/>
                      </a:lnTo>
                      <a:lnTo>
                        <a:pt x="42" y="15"/>
                      </a:lnTo>
                      <a:lnTo>
                        <a:pt x="44" y="13"/>
                      </a:lnTo>
                      <a:lnTo>
                        <a:pt x="45" y="12"/>
                      </a:lnTo>
                      <a:lnTo>
                        <a:pt x="46" y="10"/>
                      </a:lnTo>
                      <a:lnTo>
                        <a:pt x="47" y="9"/>
                      </a:lnTo>
                      <a:lnTo>
                        <a:pt x="48" y="8"/>
                      </a:lnTo>
                      <a:lnTo>
                        <a:pt x="49" y="7"/>
                      </a:lnTo>
                      <a:lnTo>
                        <a:pt x="50" y="6"/>
                      </a:lnTo>
                      <a:lnTo>
                        <a:pt x="51" y="5"/>
                      </a:lnTo>
                      <a:lnTo>
                        <a:pt x="52" y="4"/>
                      </a:lnTo>
                      <a:lnTo>
                        <a:pt x="53" y="3"/>
                      </a:lnTo>
                      <a:lnTo>
                        <a:pt x="54" y="3"/>
                      </a:lnTo>
                      <a:lnTo>
                        <a:pt x="55" y="2"/>
                      </a:lnTo>
                      <a:lnTo>
                        <a:pt x="56" y="2"/>
                      </a:lnTo>
                      <a:lnTo>
                        <a:pt x="57" y="1"/>
                      </a:lnTo>
                      <a:lnTo>
                        <a:pt x="58" y="1"/>
                      </a:lnTo>
                      <a:lnTo>
                        <a:pt x="59" y="0"/>
                      </a:lnTo>
                      <a:lnTo>
                        <a:pt x="60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0"/>
                      </a:lnTo>
                      <a:lnTo>
                        <a:pt x="64" y="0"/>
                      </a:lnTo>
                      <a:lnTo>
                        <a:pt x="65" y="0"/>
                      </a:lnTo>
                      <a:lnTo>
                        <a:pt x="66" y="0"/>
                      </a:lnTo>
                      <a:lnTo>
                        <a:pt x="67" y="0"/>
                      </a:lnTo>
                      <a:lnTo>
                        <a:pt x="68" y="0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1" y="0"/>
                      </a:lnTo>
                      <a:lnTo>
                        <a:pt x="72" y="1"/>
                      </a:lnTo>
                      <a:lnTo>
                        <a:pt x="73" y="1"/>
                      </a:lnTo>
                      <a:lnTo>
                        <a:pt x="74" y="2"/>
                      </a:lnTo>
                      <a:lnTo>
                        <a:pt x="75" y="2"/>
                      </a:lnTo>
                      <a:lnTo>
                        <a:pt x="76" y="3"/>
                      </a:lnTo>
                      <a:lnTo>
                        <a:pt x="77" y="3"/>
                      </a:lnTo>
                      <a:lnTo>
                        <a:pt x="78" y="4"/>
                      </a:lnTo>
                      <a:lnTo>
                        <a:pt x="79" y="5"/>
                      </a:lnTo>
                      <a:lnTo>
                        <a:pt x="80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3" y="9"/>
                      </a:lnTo>
                      <a:lnTo>
                        <a:pt x="84" y="10"/>
                      </a:lnTo>
                      <a:lnTo>
                        <a:pt x="85" y="12"/>
                      </a:lnTo>
                      <a:lnTo>
                        <a:pt x="87" y="13"/>
                      </a:lnTo>
                      <a:lnTo>
                        <a:pt x="88" y="15"/>
                      </a:lnTo>
                      <a:lnTo>
                        <a:pt x="89" y="17"/>
                      </a:lnTo>
                      <a:lnTo>
                        <a:pt x="90" y="19"/>
                      </a:lnTo>
                      <a:lnTo>
                        <a:pt x="91" y="22"/>
                      </a:lnTo>
                      <a:lnTo>
                        <a:pt x="92" y="25"/>
                      </a:lnTo>
                      <a:lnTo>
                        <a:pt x="93" y="29"/>
                      </a:lnTo>
                      <a:lnTo>
                        <a:pt x="94" y="35"/>
                      </a:lnTo>
                      <a:lnTo>
                        <a:pt x="95" y="43"/>
                      </a:lnTo>
                      <a:lnTo>
                        <a:pt x="96" y="70"/>
                      </a:lnTo>
                      <a:lnTo>
                        <a:pt x="97" y="49"/>
                      </a:lnTo>
                      <a:lnTo>
                        <a:pt x="98" y="39"/>
                      </a:lnTo>
                      <a:lnTo>
                        <a:pt x="99" y="34"/>
                      </a:lnTo>
                      <a:lnTo>
                        <a:pt x="100" y="31"/>
                      </a:lnTo>
                      <a:lnTo>
                        <a:pt x="101" y="29"/>
                      </a:lnTo>
                      <a:lnTo>
                        <a:pt x="102" y="27"/>
                      </a:lnTo>
                      <a:lnTo>
                        <a:pt x="103" y="26"/>
                      </a:lnTo>
                      <a:lnTo>
                        <a:pt x="104" y="25"/>
                      </a:lnTo>
                      <a:lnTo>
                        <a:pt x="105" y="25"/>
                      </a:lnTo>
                      <a:lnTo>
                        <a:pt x="106" y="25"/>
                      </a:lnTo>
                      <a:lnTo>
                        <a:pt x="107" y="25"/>
                      </a:lnTo>
                      <a:lnTo>
                        <a:pt x="108" y="25"/>
                      </a:lnTo>
                      <a:lnTo>
                        <a:pt x="109" y="25"/>
                      </a:lnTo>
                      <a:lnTo>
                        <a:pt x="110" y="26"/>
                      </a:lnTo>
                      <a:lnTo>
                        <a:pt x="111" y="26"/>
                      </a:lnTo>
                      <a:lnTo>
                        <a:pt x="112" y="27"/>
                      </a:lnTo>
                      <a:lnTo>
                        <a:pt x="113" y="28"/>
                      </a:lnTo>
                      <a:lnTo>
                        <a:pt x="114" y="30"/>
                      </a:lnTo>
                      <a:lnTo>
                        <a:pt x="115" y="31"/>
                      </a:lnTo>
                      <a:lnTo>
                        <a:pt x="116" y="33"/>
                      </a:lnTo>
                      <a:lnTo>
                        <a:pt x="117" y="36"/>
                      </a:lnTo>
                      <a:lnTo>
                        <a:pt x="118" y="39"/>
                      </a:lnTo>
                      <a:lnTo>
                        <a:pt x="119" y="43"/>
                      </a:lnTo>
                      <a:lnTo>
                        <a:pt x="120" y="49"/>
                      </a:lnTo>
                      <a:lnTo>
                        <a:pt x="121" y="58"/>
                      </a:lnTo>
                      <a:lnTo>
                        <a:pt x="122" y="112"/>
                      </a:lnTo>
                      <a:lnTo>
                        <a:pt x="123" y="59"/>
                      </a:lnTo>
                      <a:lnTo>
                        <a:pt x="124" y="50"/>
                      </a:lnTo>
                      <a:lnTo>
                        <a:pt x="125" y="46"/>
                      </a:lnTo>
                      <a:lnTo>
                        <a:pt x="126" y="43"/>
                      </a:lnTo>
                      <a:lnTo>
                        <a:pt x="127" y="41"/>
                      </a:lnTo>
                      <a:lnTo>
                        <a:pt x="128" y="40"/>
                      </a:lnTo>
                      <a:lnTo>
                        <a:pt x="130" y="39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9" name=""/>
              <p:cNvSpPr/>
              <p:nvPr/>
            </p:nvSpPr>
            <p:spPr>
              <a:xfrm>
                <a:off x="8066160" y="2557440"/>
                <a:ext cx="55728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lo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V="1">
                <a:off x="8085240" y="2728440"/>
                <a:ext cx="0" cy="201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402680" y="4775040"/>
                <a:ext cx="1334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2" name=""/>
              <p:cNvGrpSpPr/>
              <p:nvPr/>
            </p:nvGrpSpPr>
            <p:grpSpPr>
              <a:xfrm>
                <a:off x="8516160" y="2414520"/>
                <a:ext cx="601920" cy="557640"/>
                <a:chOff x="8516160" y="2414520"/>
                <a:chExt cx="601920" cy="55764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8541000" y="2573280"/>
                  <a:ext cx="577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f(u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8516160" y="241452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^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25" name=""/>
          <p:cNvGrpSpPr/>
          <p:nvPr/>
        </p:nvGrpSpPr>
        <p:grpSpPr>
          <a:xfrm>
            <a:off x="365040" y="923760"/>
            <a:ext cx="1000080" cy="813240"/>
            <a:chOff x="365040" y="923760"/>
            <a:chExt cx="1000080" cy="813240"/>
          </a:xfrm>
        </p:grpSpPr>
        <p:sp>
          <p:nvSpPr>
            <p:cNvPr id="1826" name=""/>
            <p:cNvSpPr/>
            <p:nvPr/>
          </p:nvSpPr>
          <p:spPr>
            <a:xfrm>
              <a:off x="365040" y="92376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86080" y="11556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4276800" y="2604960"/>
            <a:ext cx="2171880" cy="2699280"/>
            <a:chOff x="4276800" y="2604960"/>
            <a:chExt cx="2171880" cy="2699280"/>
          </a:xfrm>
        </p:grpSpPr>
        <p:sp>
          <p:nvSpPr>
            <p:cNvPr id="1829" name=""/>
            <p:cNvSpPr/>
            <p:nvPr/>
          </p:nvSpPr>
          <p:spPr>
            <a:xfrm>
              <a:off x="4281480" y="3259080"/>
              <a:ext cx="2000160" cy="14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230080" y="490536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1.22 / 2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426280" y="3024360"/>
              <a:ext cx="72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.R</a:t>
              </a:r>
              <a:r>
                <a:rPr b="0" lang="fr-FR" sz="24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5300640" y="2849400"/>
              <a:ext cx="0" cy="182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3" name=""/>
            <p:cNvGrpSpPr/>
            <p:nvPr/>
          </p:nvGrpSpPr>
          <p:grpSpPr>
            <a:xfrm>
              <a:off x="4610880" y="2604960"/>
              <a:ext cx="601920" cy="557640"/>
              <a:chOff x="4610880" y="2604960"/>
              <a:chExt cx="601920" cy="557640"/>
            </a:xfrm>
          </p:grpSpPr>
          <p:sp>
            <p:nvSpPr>
              <p:cNvPr id="1834" name=""/>
              <p:cNvSpPr/>
              <p:nvPr/>
            </p:nvSpPr>
            <p:spPr>
              <a:xfrm>
                <a:off x="4635720" y="276372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(u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10880" y="26049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^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6" name=""/>
            <p:cNvSpPr/>
            <p:nvPr/>
          </p:nvSpPr>
          <p:spPr>
            <a:xfrm>
              <a:off x="4276800" y="3227400"/>
              <a:ext cx="2009880" cy="1631880"/>
            </a:xfrm>
            <a:custGeom>
              <a:avLst/>
              <a:gdLst/>
              <a:ahLst/>
              <a:rect l="l" t="t" r="r" b="b"/>
              <a:pathLst>
                <a:path w="1266" h="1028">
                  <a:moveTo>
                    <a:pt x="0" y="817"/>
                  </a:moveTo>
                  <a:cubicBezTo>
                    <a:pt x="15" y="830"/>
                    <a:pt x="53" y="862"/>
                    <a:pt x="90" y="895"/>
                  </a:cubicBezTo>
                  <a:cubicBezTo>
                    <a:pt x="127" y="928"/>
                    <a:pt x="176" y="1023"/>
                    <a:pt x="222" y="1015"/>
                  </a:cubicBezTo>
                  <a:cubicBezTo>
                    <a:pt x="268" y="1007"/>
                    <a:pt x="296" y="1016"/>
                    <a:pt x="366" y="847"/>
                  </a:cubicBezTo>
                  <a:cubicBezTo>
                    <a:pt x="436" y="678"/>
                    <a:pt x="550" y="0"/>
                    <a:pt x="642" y="1"/>
                  </a:cubicBezTo>
                  <a:cubicBezTo>
                    <a:pt x="734" y="2"/>
                    <a:pt x="849" y="683"/>
                    <a:pt x="918" y="853"/>
                  </a:cubicBezTo>
                  <a:cubicBezTo>
                    <a:pt x="987" y="1023"/>
                    <a:pt x="1008" y="1014"/>
                    <a:pt x="1056" y="1021"/>
                  </a:cubicBezTo>
                  <a:cubicBezTo>
                    <a:pt x="1104" y="1028"/>
                    <a:pt x="1171" y="927"/>
                    <a:pt x="1206" y="895"/>
                  </a:cubicBezTo>
                  <a:cubicBezTo>
                    <a:pt x="1241" y="863"/>
                    <a:pt x="1254" y="843"/>
                    <a:pt x="1266" y="829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678640" y="4584600"/>
              <a:ext cx="17460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229680" y="590040"/>
            <a:ext cx="466884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F de qqs  fonctions usuelles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9" name=""/>
          <p:cNvGrpSpPr/>
          <p:nvPr/>
        </p:nvGrpSpPr>
        <p:grpSpPr>
          <a:xfrm>
            <a:off x="365040" y="923760"/>
            <a:ext cx="1000080" cy="813240"/>
            <a:chOff x="365040" y="923760"/>
            <a:chExt cx="1000080" cy="813240"/>
          </a:xfrm>
        </p:grpSpPr>
        <p:sp>
          <p:nvSpPr>
            <p:cNvPr id="1840" name=""/>
            <p:cNvSpPr/>
            <p:nvPr/>
          </p:nvSpPr>
          <p:spPr>
            <a:xfrm>
              <a:off x="365040" y="92376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86080" y="11556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2" name=""/>
          <p:cNvSpPr/>
          <p:nvPr/>
        </p:nvSpPr>
        <p:spPr>
          <a:xfrm>
            <a:off x="3614400" y="1044720"/>
            <a:ext cx="5461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suelles, mais un brin patholo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F à faire à la main comme  exerc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595440" y="1824120"/>
            <a:ext cx="6271200" cy="648360"/>
            <a:chOff x="595440" y="1824120"/>
            <a:chExt cx="6271200" cy="648360"/>
          </a:xfrm>
        </p:grpSpPr>
        <p:grpSp>
          <p:nvGrpSpPr>
            <p:cNvPr id="1844" name=""/>
            <p:cNvGrpSpPr/>
            <p:nvPr/>
          </p:nvGrpSpPr>
          <p:grpSpPr>
            <a:xfrm>
              <a:off x="595440" y="1922400"/>
              <a:ext cx="2830320" cy="524160"/>
              <a:chOff x="595440" y="1922400"/>
              <a:chExt cx="2830320" cy="524160"/>
            </a:xfrm>
          </p:grpSpPr>
          <p:sp>
            <p:nvSpPr>
              <p:cNvPr id="1845" name=""/>
              <p:cNvSpPr/>
              <p:nvPr/>
            </p:nvSpPr>
            <p:spPr>
              <a:xfrm>
                <a:off x="595440" y="2446560"/>
                <a:ext cx="28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V="1">
                <a:off x="1930320" y="1922400"/>
                <a:ext cx="0" cy="52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7" name=""/>
            <p:cNvSpPr/>
            <p:nvPr/>
          </p:nvSpPr>
          <p:spPr>
            <a:xfrm>
              <a:off x="3153960" y="20638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8" name=""/>
            <p:cNvGrpSpPr/>
            <p:nvPr/>
          </p:nvGrpSpPr>
          <p:grpSpPr>
            <a:xfrm>
              <a:off x="3976560" y="1917720"/>
              <a:ext cx="2830320" cy="524160"/>
              <a:chOff x="3976560" y="1917720"/>
              <a:chExt cx="2830320" cy="524160"/>
            </a:xfrm>
          </p:grpSpPr>
          <p:sp>
            <p:nvSpPr>
              <p:cNvPr id="1849" name=""/>
              <p:cNvSpPr/>
              <p:nvPr/>
            </p:nvSpPr>
            <p:spPr>
              <a:xfrm>
                <a:off x="3976560" y="2441880"/>
                <a:ext cx="28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V="1">
                <a:off x="5311440" y="1917720"/>
                <a:ext cx="0" cy="52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1" name=""/>
            <p:cNvSpPr/>
            <p:nvPr/>
          </p:nvSpPr>
          <p:spPr>
            <a:xfrm>
              <a:off x="6463440" y="2073600"/>
              <a:ext cx="4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23960" y="2178360"/>
              <a:ext cx="2423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5311800" y="211752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21440" y="182412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onst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5" name=""/>
          <p:cNvGrpSpPr/>
          <p:nvPr/>
        </p:nvGrpSpPr>
        <p:grpSpPr>
          <a:xfrm>
            <a:off x="590400" y="2606760"/>
            <a:ext cx="6257880" cy="1070280"/>
            <a:chOff x="590400" y="2606760"/>
            <a:chExt cx="6257880" cy="1070280"/>
          </a:xfrm>
        </p:grpSpPr>
        <p:sp>
          <p:nvSpPr>
            <p:cNvPr id="1856" name=""/>
            <p:cNvSpPr/>
            <p:nvPr/>
          </p:nvSpPr>
          <p:spPr>
            <a:xfrm>
              <a:off x="966600" y="2654280"/>
              <a:ext cx="99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osin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7" name=""/>
            <p:cNvGrpSpPr/>
            <p:nvPr/>
          </p:nvGrpSpPr>
          <p:grpSpPr>
            <a:xfrm>
              <a:off x="590400" y="2732040"/>
              <a:ext cx="2830320" cy="511200"/>
              <a:chOff x="590400" y="2732040"/>
              <a:chExt cx="2830320" cy="511200"/>
            </a:xfrm>
          </p:grpSpPr>
          <p:sp>
            <p:nvSpPr>
              <p:cNvPr id="1858" name=""/>
              <p:cNvSpPr/>
              <p:nvPr/>
            </p:nvSpPr>
            <p:spPr>
              <a:xfrm>
                <a:off x="590400" y="3243240"/>
                <a:ext cx="28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V="1">
                <a:off x="1925280" y="2732040"/>
                <a:ext cx="0" cy="51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0" name=""/>
            <p:cNvSpPr/>
            <p:nvPr/>
          </p:nvSpPr>
          <p:spPr>
            <a:xfrm>
              <a:off x="3149280" y="28828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1" name=""/>
            <p:cNvGrpSpPr/>
            <p:nvPr/>
          </p:nvGrpSpPr>
          <p:grpSpPr>
            <a:xfrm>
              <a:off x="3971880" y="2728800"/>
              <a:ext cx="2830320" cy="509760"/>
              <a:chOff x="3971880" y="2728800"/>
              <a:chExt cx="2830320" cy="509760"/>
            </a:xfrm>
          </p:grpSpPr>
          <p:sp>
            <p:nvSpPr>
              <p:cNvPr id="1862" name=""/>
              <p:cNvSpPr/>
              <p:nvPr/>
            </p:nvSpPr>
            <p:spPr>
              <a:xfrm>
                <a:off x="3971880" y="3238560"/>
                <a:ext cx="28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V="1">
                <a:off x="5306760" y="2728800"/>
                <a:ext cx="0" cy="50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4" name=""/>
            <p:cNvSpPr/>
            <p:nvPr/>
          </p:nvSpPr>
          <p:spPr>
            <a:xfrm>
              <a:off x="6510600" y="28656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>
              <a:off x="5850000" y="2924280"/>
              <a:ext cx="0" cy="295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84080" y="2975040"/>
              <a:ext cx="2205360" cy="501840"/>
            </a:xfrm>
            <a:custGeom>
              <a:avLst/>
              <a:gdLst/>
              <a:ahLst/>
              <a:rect l="l" t="t" r="r" b="b"/>
              <a:pathLst>
                <a:path w="1389" h="387">
                  <a:moveTo>
                    <a:pt x="0" y="210"/>
                  </a:moveTo>
                  <a:cubicBezTo>
                    <a:pt x="29" y="177"/>
                    <a:pt x="117" y="12"/>
                    <a:pt x="164" y="9"/>
                  </a:cubicBezTo>
                  <a:cubicBezTo>
                    <a:pt x="211" y="6"/>
                    <a:pt x="242" y="130"/>
                    <a:pt x="283" y="192"/>
                  </a:cubicBezTo>
                  <a:cubicBezTo>
                    <a:pt x="324" y="254"/>
                    <a:pt x="364" y="381"/>
                    <a:pt x="411" y="384"/>
                  </a:cubicBezTo>
                  <a:cubicBezTo>
                    <a:pt x="458" y="387"/>
                    <a:pt x="515" y="274"/>
                    <a:pt x="567" y="210"/>
                  </a:cubicBezTo>
                  <a:cubicBezTo>
                    <a:pt x="619" y="146"/>
                    <a:pt x="673" y="0"/>
                    <a:pt x="722" y="0"/>
                  </a:cubicBezTo>
                  <a:cubicBezTo>
                    <a:pt x="771" y="0"/>
                    <a:pt x="819" y="149"/>
                    <a:pt x="859" y="210"/>
                  </a:cubicBezTo>
                  <a:cubicBezTo>
                    <a:pt x="899" y="271"/>
                    <a:pt x="919" y="366"/>
                    <a:pt x="960" y="366"/>
                  </a:cubicBezTo>
                  <a:cubicBezTo>
                    <a:pt x="1001" y="366"/>
                    <a:pt x="1056" y="268"/>
                    <a:pt x="1106" y="210"/>
                  </a:cubicBezTo>
                  <a:cubicBezTo>
                    <a:pt x="1156" y="152"/>
                    <a:pt x="1214" y="17"/>
                    <a:pt x="1261" y="18"/>
                  </a:cubicBezTo>
                  <a:cubicBezTo>
                    <a:pt x="1308" y="19"/>
                    <a:pt x="1348" y="119"/>
                    <a:pt x="1389" y="219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4745160" y="2930760"/>
              <a:ext cx="0" cy="296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8" name=""/>
            <p:cNvGrpSpPr/>
            <p:nvPr/>
          </p:nvGrpSpPr>
          <p:grpSpPr>
            <a:xfrm>
              <a:off x="1936800" y="2606760"/>
              <a:ext cx="900000" cy="602280"/>
              <a:chOff x="1936800" y="2606760"/>
              <a:chExt cx="900000" cy="602280"/>
            </a:xfrm>
          </p:grpSpPr>
          <p:sp>
            <p:nvSpPr>
              <p:cNvPr id="1869" name=""/>
              <p:cNvSpPr/>
              <p:nvPr/>
            </p:nvSpPr>
            <p:spPr>
              <a:xfrm>
                <a:off x="1936800" y="2621160"/>
                <a:ext cx="0" cy="37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2832120" y="2606760"/>
                <a:ext cx="0" cy="37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936800" y="2891160"/>
                <a:ext cx="90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71240" y="281016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3" name=""/>
            <p:cNvSpPr/>
            <p:nvPr/>
          </p:nvSpPr>
          <p:spPr>
            <a:xfrm>
              <a:off x="5613120" y="3278160"/>
              <a:ext cx="57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1/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419000" y="3278160"/>
              <a:ext cx="72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- 1/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650880" y="3689280"/>
            <a:ext cx="6249960" cy="1752480"/>
            <a:chOff x="650880" y="3689280"/>
            <a:chExt cx="6249960" cy="1752480"/>
          </a:xfrm>
        </p:grpSpPr>
        <p:grpSp>
          <p:nvGrpSpPr>
            <p:cNvPr id="1876" name=""/>
            <p:cNvGrpSpPr/>
            <p:nvPr/>
          </p:nvGrpSpPr>
          <p:grpSpPr>
            <a:xfrm>
              <a:off x="650880" y="3689280"/>
              <a:ext cx="3089160" cy="1752480"/>
              <a:chOff x="650880" y="3689280"/>
              <a:chExt cx="3089160" cy="1752480"/>
            </a:xfrm>
          </p:grpSpPr>
          <p:sp>
            <p:nvSpPr>
              <p:cNvPr id="1877" name=""/>
              <p:cNvSpPr/>
              <p:nvPr/>
            </p:nvSpPr>
            <p:spPr>
              <a:xfrm rot="6226800">
                <a:off x="1800360" y="3400920"/>
                <a:ext cx="538200" cy="2241360"/>
              </a:xfrm>
              <a:prstGeom prst="can">
                <a:avLst>
                  <a:gd name="adj" fmla="val 16171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650880" y="4170240"/>
                <a:ext cx="2781000" cy="66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V="1">
                <a:off x="1626840" y="4228560"/>
                <a:ext cx="97920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V="1">
                <a:off x="1927080" y="3782520"/>
                <a:ext cx="0" cy="11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439080" y="477648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922680" y="3689280"/>
                <a:ext cx="1060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Re (e</a:t>
                </a:r>
                <a:r>
                  <a:rPr b="0" lang="fr-FR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x,u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)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2325960" y="3911400"/>
                <a:ext cx="1080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Im (e</a:t>
                </a:r>
                <a:r>
                  <a:rPr b="0" lang="fr-FR" sz="1800" spc="-1" strike="noStrike" baseline="-25000">
                    <a:solidFill>
                      <a:srgbClr val="000000"/>
                    </a:solidFill>
                    <a:latin typeface="Comic Sans MS"/>
                  </a:rPr>
                  <a:t>x,u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)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rot="1041600">
                <a:off x="1739160" y="4227480"/>
                <a:ext cx="380880" cy="531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331640" y="4119480"/>
                <a:ext cx="1541160" cy="770040"/>
              </a:xfrm>
              <a:custGeom>
                <a:avLst/>
                <a:gdLst/>
                <a:ahLst/>
                <a:rect l="l" t="t" r="r" b="b"/>
                <a:pathLst>
                  <a:path w="2075" h="1036">
                    <a:moveTo>
                      <a:pt x="0" y="229"/>
                    </a:moveTo>
                    <a:cubicBezTo>
                      <a:pt x="26" y="200"/>
                      <a:pt x="94" y="79"/>
                      <a:pt x="155" y="46"/>
                    </a:cubicBezTo>
                    <a:cubicBezTo>
                      <a:pt x="216" y="13"/>
                      <a:pt x="295" y="0"/>
                      <a:pt x="369" y="31"/>
                    </a:cubicBezTo>
                    <a:cubicBezTo>
                      <a:pt x="443" y="62"/>
                      <a:pt x="545" y="142"/>
                      <a:pt x="598" y="232"/>
                    </a:cubicBezTo>
                    <a:cubicBezTo>
                      <a:pt x="651" y="322"/>
                      <a:pt x="694" y="477"/>
                      <a:pt x="689" y="570"/>
                    </a:cubicBezTo>
                    <a:cubicBezTo>
                      <a:pt x="684" y="663"/>
                      <a:pt x="617" y="760"/>
                      <a:pt x="570" y="790"/>
                    </a:cubicBezTo>
                    <a:cubicBezTo>
                      <a:pt x="523" y="820"/>
                      <a:pt x="450" y="788"/>
                      <a:pt x="406" y="753"/>
                    </a:cubicBezTo>
                    <a:cubicBezTo>
                      <a:pt x="362" y="718"/>
                      <a:pt x="294" y="664"/>
                      <a:pt x="305" y="580"/>
                    </a:cubicBezTo>
                    <a:cubicBezTo>
                      <a:pt x="316" y="496"/>
                      <a:pt x="400" y="322"/>
                      <a:pt x="470" y="250"/>
                    </a:cubicBezTo>
                    <a:cubicBezTo>
                      <a:pt x="540" y="178"/>
                      <a:pt x="647" y="162"/>
                      <a:pt x="726" y="150"/>
                    </a:cubicBezTo>
                    <a:cubicBezTo>
                      <a:pt x="805" y="138"/>
                      <a:pt x="875" y="139"/>
                      <a:pt x="945" y="177"/>
                    </a:cubicBezTo>
                    <a:cubicBezTo>
                      <a:pt x="1015" y="215"/>
                      <a:pt x="1105" y="291"/>
                      <a:pt x="1146" y="378"/>
                    </a:cubicBezTo>
                    <a:cubicBezTo>
                      <a:pt x="1187" y="465"/>
                      <a:pt x="1207" y="613"/>
                      <a:pt x="1192" y="698"/>
                    </a:cubicBezTo>
                    <a:cubicBezTo>
                      <a:pt x="1177" y="783"/>
                      <a:pt x="1108" y="864"/>
                      <a:pt x="1055" y="890"/>
                    </a:cubicBezTo>
                    <a:cubicBezTo>
                      <a:pt x="1002" y="916"/>
                      <a:pt x="903" y="916"/>
                      <a:pt x="872" y="854"/>
                    </a:cubicBezTo>
                    <a:cubicBezTo>
                      <a:pt x="841" y="792"/>
                      <a:pt x="819" y="612"/>
                      <a:pt x="872" y="516"/>
                    </a:cubicBezTo>
                    <a:cubicBezTo>
                      <a:pt x="925" y="420"/>
                      <a:pt x="1088" y="312"/>
                      <a:pt x="1192" y="278"/>
                    </a:cubicBezTo>
                    <a:cubicBezTo>
                      <a:pt x="1296" y="244"/>
                      <a:pt x="1406" y="258"/>
                      <a:pt x="1494" y="314"/>
                    </a:cubicBezTo>
                    <a:cubicBezTo>
                      <a:pt x="1582" y="370"/>
                      <a:pt x="1688" y="530"/>
                      <a:pt x="1722" y="616"/>
                    </a:cubicBezTo>
                    <a:cubicBezTo>
                      <a:pt x="1756" y="702"/>
                      <a:pt x="1725" y="765"/>
                      <a:pt x="1700" y="832"/>
                    </a:cubicBezTo>
                    <a:cubicBezTo>
                      <a:pt x="1675" y="899"/>
                      <a:pt x="1622" y="994"/>
                      <a:pt x="1572" y="1015"/>
                    </a:cubicBezTo>
                    <a:cubicBezTo>
                      <a:pt x="1522" y="1036"/>
                      <a:pt x="1426" y="1025"/>
                      <a:pt x="1399" y="960"/>
                    </a:cubicBezTo>
                    <a:cubicBezTo>
                      <a:pt x="1372" y="895"/>
                      <a:pt x="1359" y="716"/>
                      <a:pt x="1408" y="622"/>
                    </a:cubicBezTo>
                    <a:cubicBezTo>
                      <a:pt x="1457" y="528"/>
                      <a:pt x="1597" y="423"/>
                      <a:pt x="1691" y="393"/>
                    </a:cubicBezTo>
                    <a:cubicBezTo>
                      <a:pt x="1785" y="363"/>
                      <a:pt x="1911" y="396"/>
                      <a:pt x="1975" y="439"/>
                    </a:cubicBezTo>
                    <a:cubicBezTo>
                      <a:pt x="2039" y="482"/>
                      <a:pt x="2054" y="605"/>
                      <a:pt x="2075" y="649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2039760" y="4765680"/>
                <a:ext cx="0" cy="38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442960" y="4851360"/>
                <a:ext cx="0" cy="38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2039760" y="4968720"/>
                <a:ext cx="393120" cy="10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2010600" y="5073480"/>
                <a:ext cx="53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/f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0" name=""/>
            <p:cNvGrpSpPr/>
            <p:nvPr/>
          </p:nvGrpSpPr>
          <p:grpSpPr>
            <a:xfrm>
              <a:off x="4024440" y="4168440"/>
              <a:ext cx="2876400" cy="874440"/>
              <a:chOff x="4024440" y="4168440"/>
              <a:chExt cx="2876400" cy="874440"/>
            </a:xfrm>
          </p:grpSpPr>
          <p:grpSp>
            <p:nvGrpSpPr>
              <p:cNvPr id="1891" name=""/>
              <p:cNvGrpSpPr/>
              <p:nvPr/>
            </p:nvGrpSpPr>
            <p:grpSpPr>
              <a:xfrm>
                <a:off x="4024440" y="4168440"/>
                <a:ext cx="2830320" cy="480240"/>
                <a:chOff x="4024440" y="4168440"/>
                <a:chExt cx="2830320" cy="480240"/>
              </a:xfrm>
            </p:grpSpPr>
            <p:sp>
              <p:nvSpPr>
                <p:cNvPr id="1892" name=""/>
                <p:cNvSpPr/>
                <p:nvPr/>
              </p:nvSpPr>
              <p:spPr>
                <a:xfrm>
                  <a:off x="4024440" y="4648680"/>
                  <a:ext cx="283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 flipV="1">
                  <a:off x="5359320" y="4168440"/>
                  <a:ext cx="0" cy="48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4" name=""/>
              <p:cNvSpPr/>
              <p:nvPr/>
            </p:nvSpPr>
            <p:spPr>
              <a:xfrm>
                <a:off x="6563160" y="435024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5902200" y="4351320"/>
                <a:ext cx="0" cy="27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780160" y="4644000"/>
                <a:ext cx="26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7" name=""/>
          <p:cNvGrpSpPr/>
          <p:nvPr/>
        </p:nvGrpSpPr>
        <p:grpSpPr>
          <a:xfrm>
            <a:off x="743040" y="5394240"/>
            <a:ext cx="6457680" cy="1269000"/>
            <a:chOff x="743040" y="5394240"/>
            <a:chExt cx="6457680" cy="1269000"/>
          </a:xfrm>
        </p:grpSpPr>
        <p:grpSp>
          <p:nvGrpSpPr>
            <p:cNvPr id="1898" name=""/>
            <p:cNvGrpSpPr/>
            <p:nvPr/>
          </p:nvGrpSpPr>
          <p:grpSpPr>
            <a:xfrm>
              <a:off x="743040" y="5394240"/>
              <a:ext cx="2945160" cy="1249920"/>
              <a:chOff x="743040" y="5394240"/>
              <a:chExt cx="2945160" cy="1249920"/>
            </a:xfrm>
          </p:grpSpPr>
          <p:sp>
            <p:nvSpPr>
              <p:cNvPr id="1899" name=""/>
              <p:cNvSpPr/>
              <p:nvPr/>
            </p:nvSpPr>
            <p:spPr>
              <a:xfrm>
                <a:off x="1031760" y="5394240"/>
                <a:ext cx="897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III(x/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0" name=""/>
              <p:cNvGrpSpPr/>
              <p:nvPr/>
            </p:nvGrpSpPr>
            <p:grpSpPr>
              <a:xfrm>
                <a:off x="743040" y="5582880"/>
                <a:ext cx="2830320" cy="624240"/>
                <a:chOff x="743040" y="5582880"/>
                <a:chExt cx="2830320" cy="62424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743040" y="6207120"/>
                  <a:ext cx="283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 flipV="1">
                  <a:off x="2077920" y="5582880"/>
                  <a:ext cx="0" cy="62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3" name=""/>
              <p:cNvSpPr/>
              <p:nvPr/>
            </p:nvSpPr>
            <p:spPr>
              <a:xfrm>
                <a:off x="3373200" y="584820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V="1">
                <a:off x="2620800" y="5849640"/>
                <a:ext cx="0" cy="361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V="1">
                <a:off x="944640" y="5849640"/>
                <a:ext cx="0" cy="361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1496880" y="5849640"/>
                <a:ext cx="0" cy="361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V="1">
                <a:off x="2063880" y="5849640"/>
                <a:ext cx="0" cy="361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V="1">
                <a:off x="3187800" y="5849640"/>
                <a:ext cx="0" cy="361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583640" y="624528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495440" y="6240600"/>
                <a:ext cx="565200" cy="8892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4233960" y="5442120"/>
              <a:ext cx="2966760" cy="1221120"/>
              <a:chOff x="4233960" y="5442120"/>
              <a:chExt cx="2966760" cy="1221120"/>
            </a:xfrm>
          </p:grpSpPr>
          <p:grpSp>
            <p:nvGrpSpPr>
              <p:cNvPr id="1912" name=""/>
              <p:cNvGrpSpPr/>
              <p:nvPr/>
            </p:nvGrpSpPr>
            <p:grpSpPr>
              <a:xfrm>
                <a:off x="4233960" y="5544720"/>
                <a:ext cx="2830320" cy="624240"/>
                <a:chOff x="4233960" y="5544720"/>
                <a:chExt cx="2830320" cy="624240"/>
              </a:xfrm>
            </p:grpSpPr>
            <p:sp>
              <p:nvSpPr>
                <p:cNvPr id="1913" name=""/>
                <p:cNvSpPr/>
                <p:nvPr/>
              </p:nvSpPr>
              <p:spPr>
                <a:xfrm>
                  <a:off x="4233960" y="6168960"/>
                  <a:ext cx="283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 flipV="1">
                  <a:off x="5568840" y="5544720"/>
                  <a:ext cx="0" cy="62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5" name=""/>
              <p:cNvSpPr/>
              <p:nvPr/>
            </p:nvSpPr>
            <p:spPr>
              <a:xfrm>
                <a:off x="6863040" y="578160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5932800" y="6161040"/>
                <a:ext cx="26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4609800" y="5442120"/>
                <a:ext cx="89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III(p.u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V="1">
                <a:off x="5854680" y="581148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V="1">
                <a:off x="4730760" y="581148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V="1">
                <a:off x="5297400" y="581148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6421320" y="581148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6135840" y="580680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V="1">
                <a:off x="4459320" y="580680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V="1">
                <a:off x="5011560" y="580680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V="1">
                <a:off x="5578560" y="580680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V="1">
                <a:off x="6702480" y="5806800"/>
                <a:ext cx="0" cy="36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885920" y="6264360"/>
                <a:ext cx="578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1/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021280" y="6240600"/>
                <a:ext cx="276120" cy="8892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589608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mplication  : on la joue à  2 vari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0" name=""/>
          <p:cNvGrpSpPr/>
          <p:nvPr/>
        </p:nvGrpSpPr>
        <p:grpSpPr>
          <a:xfrm>
            <a:off x="399600" y="1085760"/>
            <a:ext cx="8304840" cy="1362600"/>
            <a:chOff x="399600" y="1085760"/>
            <a:chExt cx="8304840" cy="1362600"/>
          </a:xfrm>
        </p:grpSpPr>
        <p:grpSp>
          <p:nvGrpSpPr>
            <p:cNvPr id="1931" name=""/>
            <p:cNvGrpSpPr/>
            <p:nvPr/>
          </p:nvGrpSpPr>
          <p:grpSpPr>
            <a:xfrm>
              <a:off x="399600" y="1182600"/>
              <a:ext cx="8304840" cy="954000"/>
              <a:chOff x="399600" y="1182600"/>
              <a:chExt cx="8304840" cy="954000"/>
            </a:xfrm>
          </p:grpSpPr>
          <p:sp>
            <p:nvSpPr>
              <p:cNvPr id="1932" name=""/>
              <p:cNvSpPr/>
              <p:nvPr/>
            </p:nvSpPr>
            <p:spPr>
              <a:xfrm>
                <a:off x="399600" y="1352520"/>
                <a:ext cx="3960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signal physique "sympa" :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support borné, pas d'explosion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221000" y="1224000"/>
                <a:ext cx="1656000" cy="91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800680" y="1182600"/>
                <a:ext cx="1046160" cy="93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5" name=""/>
              <p:cNvSpPr/>
              <p:nvPr/>
            </p:nvSpPr>
            <p:spPr>
              <a:xfrm>
                <a:off x="6889680" y="1258920"/>
                <a:ext cx="811440" cy="25704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969320" y="1509840"/>
                <a:ext cx="735120" cy="48708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7" name=""/>
            <p:cNvGrpSpPr/>
            <p:nvPr/>
          </p:nvGrpSpPr>
          <p:grpSpPr>
            <a:xfrm>
              <a:off x="3724200" y="1085760"/>
              <a:ext cx="4970880" cy="1362600"/>
              <a:chOff x="3724200" y="1085760"/>
              <a:chExt cx="4970880" cy="1362600"/>
            </a:xfrm>
          </p:grpSpPr>
          <p:sp>
            <p:nvSpPr>
              <p:cNvPr id="1938" name=""/>
              <p:cNvSpPr/>
              <p:nvPr/>
            </p:nvSpPr>
            <p:spPr>
              <a:xfrm>
                <a:off x="3724200" y="2220840"/>
                <a:ext cx="468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V="1">
                <a:off x="4038480" y="1233360"/>
                <a:ext cx="652680" cy="105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8380080" y="204948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284720" y="108576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2" name=""/>
          <p:cNvGrpSpPr/>
          <p:nvPr/>
        </p:nvGrpSpPr>
        <p:grpSpPr>
          <a:xfrm>
            <a:off x="487440" y="2368440"/>
            <a:ext cx="7996320" cy="4839120"/>
            <a:chOff x="487440" y="2368440"/>
            <a:chExt cx="7996320" cy="4839120"/>
          </a:xfrm>
        </p:grpSpPr>
        <p:sp>
          <p:nvSpPr>
            <p:cNvPr id="1943" name=""/>
            <p:cNvSpPr/>
            <p:nvPr/>
          </p:nvSpPr>
          <p:spPr>
            <a:xfrm>
              <a:off x="6278400" y="2635200"/>
              <a:ext cx="2205360" cy="614520"/>
            </a:xfrm>
            <a:custGeom>
              <a:avLst/>
              <a:gdLst/>
              <a:ahLst/>
              <a:rect l="l" t="t" r="r" b="b"/>
              <a:pathLst>
                <a:path w="1389" h="387">
                  <a:moveTo>
                    <a:pt x="0" y="210"/>
                  </a:moveTo>
                  <a:cubicBezTo>
                    <a:pt x="29" y="177"/>
                    <a:pt x="117" y="12"/>
                    <a:pt x="164" y="9"/>
                  </a:cubicBezTo>
                  <a:cubicBezTo>
                    <a:pt x="211" y="6"/>
                    <a:pt x="242" y="130"/>
                    <a:pt x="283" y="192"/>
                  </a:cubicBezTo>
                  <a:cubicBezTo>
                    <a:pt x="324" y="254"/>
                    <a:pt x="364" y="381"/>
                    <a:pt x="411" y="384"/>
                  </a:cubicBezTo>
                  <a:cubicBezTo>
                    <a:pt x="458" y="387"/>
                    <a:pt x="515" y="274"/>
                    <a:pt x="567" y="210"/>
                  </a:cubicBezTo>
                  <a:cubicBezTo>
                    <a:pt x="619" y="146"/>
                    <a:pt x="673" y="0"/>
                    <a:pt x="722" y="0"/>
                  </a:cubicBezTo>
                  <a:cubicBezTo>
                    <a:pt x="771" y="0"/>
                    <a:pt x="819" y="149"/>
                    <a:pt x="859" y="210"/>
                  </a:cubicBezTo>
                  <a:cubicBezTo>
                    <a:pt x="899" y="271"/>
                    <a:pt x="919" y="366"/>
                    <a:pt x="960" y="366"/>
                  </a:cubicBezTo>
                  <a:cubicBezTo>
                    <a:pt x="1001" y="366"/>
                    <a:pt x="1056" y="268"/>
                    <a:pt x="1106" y="210"/>
                  </a:cubicBezTo>
                  <a:cubicBezTo>
                    <a:pt x="1156" y="152"/>
                    <a:pt x="1214" y="17"/>
                    <a:pt x="1261" y="18"/>
                  </a:cubicBezTo>
                  <a:cubicBezTo>
                    <a:pt x="1308" y="19"/>
                    <a:pt x="1348" y="119"/>
                    <a:pt x="1389" y="219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4" name=""/>
            <p:cNvGrpSpPr/>
            <p:nvPr/>
          </p:nvGrpSpPr>
          <p:grpSpPr>
            <a:xfrm>
              <a:off x="487440" y="2368440"/>
              <a:ext cx="5727960" cy="4839120"/>
              <a:chOff x="487440" y="2368440"/>
              <a:chExt cx="5727960" cy="4839120"/>
            </a:xfrm>
          </p:grpSpPr>
          <p:sp>
            <p:nvSpPr>
              <p:cNvPr id="1945" name=""/>
              <p:cNvSpPr/>
              <p:nvPr/>
            </p:nvSpPr>
            <p:spPr>
              <a:xfrm>
                <a:off x="578520" y="2368440"/>
                <a:ext cx="291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qu'est ce qui change ?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87440" y="2760480"/>
                <a:ext cx="57279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les composantes ne sont plus des "sinusoides"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fonctions complexe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77800" y="3579480"/>
                <a:ext cx="18108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77800" y="5598720"/>
                <a:ext cx="18108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295600" y="644328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0" name=""/>
          <p:cNvGrpSpPr/>
          <p:nvPr/>
        </p:nvGrpSpPr>
        <p:grpSpPr>
          <a:xfrm>
            <a:off x="593640" y="3575160"/>
            <a:ext cx="8224920" cy="3131280"/>
            <a:chOff x="593640" y="3575160"/>
            <a:chExt cx="8224920" cy="3131280"/>
          </a:xfrm>
        </p:grpSpPr>
        <p:grpSp>
          <p:nvGrpSpPr>
            <p:cNvPr id="1951" name=""/>
            <p:cNvGrpSpPr/>
            <p:nvPr/>
          </p:nvGrpSpPr>
          <p:grpSpPr>
            <a:xfrm>
              <a:off x="5635800" y="4020480"/>
              <a:ext cx="3182760" cy="2685960"/>
              <a:chOff x="5635800" y="4020480"/>
              <a:chExt cx="3182760" cy="2685960"/>
            </a:xfrm>
          </p:grpSpPr>
          <p:sp>
            <p:nvSpPr>
              <p:cNvPr id="1952" name=""/>
              <p:cNvSpPr/>
              <p:nvPr/>
            </p:nvSpPr>
            <p:spPr>
              <a:xfrm>
                <a:off x="6496200" y="6092280"/>
                <a:ext cx="2322360" cy="614160"/>
              </a:xfrm>
              <a:custGeom>
                <a:avLst/>
                <a:gdLst/>
                <a:ahLst/>
                <a:rect l="l" t="t" r="r" b="b"/>
                <a:pathLst>
                  <a:path w="1389" h="387">
                    <a:moveTo>
                      <a:pt x="0" y="210"/>
                    </a:moveTo>
                    <a:cubicBezTo>
                      <a:pt x="29" y="177"/>
                      <a:pt x="117" y="12"/>
                      <a:pt x="164" y="9"/>
                    </a:cubicBezTo>
                    <a:cubicBezTo>
                      <a:pt x="211" y="6"/>
                      <a:pt x="242" y="130"/>
                      <a:pt x="283" y="192"/>
                    </a:cubicBezTo>
                    <a:cubicBezTo>
                      <a:pt x="324" y="254"/>
                      <a:pt x="364" y="381"/>
                      <a:pt x="411" y="384"/>
                    </a:cubicBezTo>
                    <a:cubicBezTo>
                      <a:pt x="458" y="387"/>
                      <a:pt x="515" y="274"/>
                      <a:pt x="567" y="210"/>
                    </a:cubicBezTo>
                    <a:cubicBezTo>
                      <a:pt x="619" y="146"/>
                      <a:pt x="673" y="0"/>
                      <a:pt x="722" y="0"/>
                    </a:cubicBezTo>
                    <a:cubicBezTo>
                      <a:pt x="771" y="0"/>
                      <a:pt x="819" y="149"/>
                      <a:pt x="859" y="210"/>
                    </a:cubicBezTo>
                    <a:cubicBezTo>
                      <a:pt x="899" y="271"/>
                      <a:pt x="919" y="366"/>
                      <a:pt x="960" y="366"/>
                    </a:cubicBezTo>
                    <a:cubicBezTo>
                      <a:pt x="1001" y="366"/>
                      <a:pt x="1056" y="268"/>
                      <a:pt x="1106" y="210"/>
                    </a:cubicBezTo>
                    <a:cubicBezTo>
                      <a:pt x="1156" y="152"/>
                      <a:pt x="1214" y="17"/>
                      <a:pt x="1261" y="18"/>
                    </a:cubicBezTo>
                    <a:cubicBezTo>
                      <a:pt x="1308" y="19"/>
                      <a:pt x="1348" y="119"/>
                      <a:pt x="1389" y="219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3" name=""/>
              <p:cNvGrpSpPr/>
              <p:nvPr/>
            </p:nvGrpSpPr>
            <p:grpSpPr>
              <a:xfrm>
                <a:off x="5635800" y="5432040"/>
                <a:ext cx="2199600" cy="667080"/>
                <a:chOff x="5635800" y="5432040"/>
                <a:chExt cx="2199600" cy="66708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5635800" y="5432040"/>
                  <a:ext cx="1103040" cy="614160"/>
                </a:xfrm>
                <a:custGeom>
                  <a:avLst/>
                  <a:gdLst/>
                  <a:ahLst/>
                  <a:rect l="l" t="t" r="r" b="b"/>
                  <a:pathLst>
                    <a:path w="1389" h="387">
                      <a:moveTo>
                        <a:pt x="0" y="210"/>
                      </a:moveTo>
                      <a:cubicBezTo>
                        <a:pt x="29" y="177"/>
                        <a:pt x="117" y="12"/>
                        <a:pt x="164" y="9"/>
                      </a:cubicBezTo>
                      <a:cubicBezTo>
                        <a:pt x="211" y="6"/>
                        <a:pt x="242" y="130"/>
                        <a:pt x="283" y="192"/>
                      </a:cubicBezTo>
                      <a:cubicBezTo>
                        <a:pt x="324" y="254"/>
                        <a:pt x="364" y="381"/>
                        <a:pt x="411" y="384"/>
                      </a:cubicBezTo>
                      <a:cubicBezTo>
                        <a:pt x="458" y="387"/>
                        <a:pt x="515" y="274"/>
                        <a:pt x="567" y="210"/>
                      </a:cubicBezTo>
                      <a:cubicBezTo>
                        <a:pt x="619" y="146"/>
                        <a:pt x="673" y="0"/>
                        <a:pt x="722" y="0"/>
                      </a:cubicBezTo>
                      <a:cubicBezTo>
                        <a:pt x="771" y="0"/>
                        <a:pt x="819" y="149"/>
                        <a:pt x="859" y="210"/>
                      </a:cubicBezTo>
                      <a:cubicBezTo>
                        <a:pt x="899" y="271"/>
                        <a:pt x="919" y="366"/>
                        <a:pt x="960" y="366"/>
                      </a:cubicBezTo>
                      <a:cubicBezTo>
                        <a:pt x="1001" y="366"/>
                        <a:pt x="1056" y="268"/>
                        <a:pt x="1106" y="210"/>
                      </a:cubicBezTo>
                      <a:cubicBezTo>
                        <a:pt x="1156" y="152"/>
                        <a:pt x="1214" y="17"/>
                        <a:pt x="1261" y="18"/>
                      </a:cubicBezTo>
                      <a:cubicBezTo>
                        <a:pt x="1308" y="19"/>
                        <a:pt x="1348" y="119"/>
                        <a:pt x="1389" y="219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 flipV="1">
                  <a:off x="6732360" y="5484960"/>
                  <a:ext cx="1103040" cy="613800"/>
                </a:xfrm>
                <a:custGeom>
                  <a:avLst/>
                  <a:gdLst/>
                  <a:ahLst/>
                  <a:rect l="l" t="t" r="r" b="b"/>
                  <a:pathLst>
                    <a:path w="1389" h="387">
                      <a:moveTo>
                        <a:pt x="0" y="210"/>
                      </a:moveTo>
                      <a:cubicBezTo>
                        <a:pt x="29" y="177"/>
                        <a:pt x="117" y="12"/>
                        <a:pt x="164" y="9"/>
                      </a:cubicBezTo>
                      <a:cubicBezTo>
                        <a:pt x="211" y="6"/>
                        <a:pt x="242" y="130"/>
                        <a:pt x="283" y="192"/>
                      </a:cubicBezTo>
                      <a:cubicBezTo>
                        <a:pt x="324" y="254"/>
                        <a:pt x="364" y="381"/>
                        <a:pt x="411" y="384"/>
                      </a:cubicBezTo>
                      <a:cubicBezTo>
                        <a:pt x="458" y="387"/>
                        <a:pt x="515" y="274"/>
                        <a:pt x="567" y="210"/>
                      </a:cubicBezTo>
                      <a:cubicBezTo>
                        <a:pt x="619" y="146"/>
                        <a:pt x="673" y="0"/>
                        <a:pt x="722" y="0"/>
                      </a:cubicBezTo>
                      <a:cubicBezTo>
                        <a:pt x="771" y="0"/>
                        <a:pt x="819" y="149"/>
                        <a:pt x="859" y="210"/>
                      </a:cubicBezTo>
                      <a:cubicBezTo>
                        <a:pt x="899" y="271"/>
                        <a:pt x="919" y="366"/>
                        <a:pt x="960" y="366"/>
                      </a:cubicBezTo>
                      <a:cubicBezTo>
                        <a:pt x="1001" y="366"/>
                        <a:pt x="1056" y="268"/>
                        <a:pt x="1106" y="210"/>
                      </a:cubicBezTo>
                      <a:cubicBezTo>
                        <a:pt x="1156" y="152"/>
                        <a:pt x="1214" y="17"/>
                        <a:pt x="1261" y="18"/>
                      </a:cubicBezTo>
                      <a:cubicBezTo>
                        <a:pt x="1308" y="19"/>
                        <a:pt x="1348" y="119"/>
                        <a:pt x="1389" y="219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6" name=""/>
              <p:cNvGrpSpPr/>
              <p:nvPr/>
            </p:nvGrpSpPr>
            <p:grpSpPr>
              <a:xfrm>
                <a:off x="5788080" y="4844520"/>
                <a:ext cx="925560" cy="667080"/>
                <a:chOff x="5788080" y="4844520"/>
                <a:chExt cx="925560" cy="667080"/>
              </a:xfrm>
            </p:grpSpPr>
            <p:sp>
              <p:nvSpPr>
                <p:cNvPr id="1957" name=""/>
                <p:cNvSpPr/>
                <p:nvPr/>
              </p:nvSpPr>
              <p:spPr>
                <a:xfrm>
                  <a:off x="5788080" y="4844520"/>
                  <a:ext cx="528480" cy="613800"/>
                </a:xfrm>
                <a:custGeom>
                  <a:avLst/>
                  <a:gdLst/>
                  <a:ahLst/>
                  <a:rect l="l" t="t" r="r" b="b"/>
                  <a:pathLst>
                    <a:path w="1389" h="387">
                      <a:moveTo>
                        <a:pt x="0" y="210"/>
                      </a:moveTo>
                      <a:cubicBezTo>
                        <a:pt x="29" y="177"/>
                        <a:pt x="117" y="12"/>
                        <a:pt x="164" y="9"/>
                      </a:cubicBezTo>
                      <a:cubicBezTo>
                        <a:pt x="211" y="6"/>
                        <a:pt x="242" y="130"/>
                        <a:pt x="283" y="192"/>
                      </a:cubicBezTo>
                      <a:cubicBezTo>
                        <a:pt x="324" y="254"/>
                        <a:pt x="364" y="381"/>
                        <a:pt x="411" y="384"/>
                      </a:cubicBezTo>
                      <a:cubicBezTo>
                        <a:pt x="458" y="387"/>
                        <a:pt x="515" y="274"/>
                        <a:pt x="567" y="210"/>
                      </a:cubicBezTo>
                      <a:cubicBezTo>
                        <a:pt x="619" y="146"/>
                        <a:pt x="673" y="0"/>
                        <a:pt x="722" y="0"/>
                      </a:cubicBezTo>
                      <a:cubicBezTo>
                        <a:pt x="771" y="0"/>
                        <a:pt x="819" y="149"/>
                        <a:pt x="859" y="210"/>
                      </a:cubicBezTo>
                      <a:cubicBezTo>
                        <a:pt x="899" y="271"/>
                        <a:pt x="919" y="366"/>
                        <a:pt x="960" y="366"/>
                      </a:cubicBezTo>
                      <a:cubicBezTo>
                        <a:pt x="1001" y="366"/>
                        <a:pt x="1056" y="268"/>
                        <a:pt x="1106" y="210"/>
                      </a:cubicBezTo>
                      <a:cubicBezTo>
                        <a:pt x="1156" y="152"/>
                        <a:pt x="1214" y="17"/>
                        <a:pt x="1261" y="18"/>
                      </a:cubicBezTo>
                      <a:cubicBezTo>
                        <a:pt x="1308" y="19"/>
                        <a:pt x="1348" y="119"/>
                        <a:pt x="1389" y="219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 flipV="1">
                  <a:off x="6184800" y="4897440"/>
                  <a:ext cx="528840" cy="613800"/>
                </a:xfrm>
                <a:custGeom>
                  <a:avLst/>
                  <a:gdLst/>
                  <a:ahLst/>
                  <a:rect l="l" t="t" r="r" b="b"/>
                  <a:pathLst>
                    <a:path w="1389" h="387">
                      <a:moveTo>
                        <a:pt x="0" y="210"/>
                      </a:moveTo>
                      <a:cubicBezTo>
                        <a:pt x="29" y="177"/>
                        <a:pt x="117" y="12"/>
                        <a:pt x="164" y="9"/>
                      </a:cubicBezTo>
                      <a:cubicBezTo>
                        <a:pt x="211" y="6"/>
                        <a:pt x="242" y="130"/>
                        <a:pt x="283" y="192"/>
                      </a:cubicBezTo>
                      <a:cubicBezTo>
                        <a:pt x="324" y="254"/>
                        <a:pt x="364" y="381"/>
                        <a:pt x="411" y="384"/>
                      </a:cubicBezTo>
                      <a:cubicBezTo>
                        <a:pt x="458" y="387"/>
                        <a:pt x="515" y="274"/>
                        <a:pt x="567" y="210"/>
                      </a:cubicBezTo>
                      <a:cubicBezTo>
                        <a:pt x="619" y="146"/>
                        <a:pt x="673" y="0"/>
                        <a:pt x="722" y="0"/>
                      </a:cubicBezTo>
                      <a:cubicBezTo>
                        <a:pt x="771" y="0"/>
                        <a:pt x="819" y="149"/>
                        <a:pt x="859" y="210"/>
                      </a:cubicBezTo>
                      <a:cubicBezTo>
                        <a:pt x="899" y="271"/>
                        <a:pt x="919" y="366"/>
                        <a:pt x="960" y="366"/>
                      </a:cubicBezTo>
                      <a:cubicBezTo>
                        <a:pt x="1001" y="366"/>
                        <a:pt x="1056" y="268"/>
                        <a:pt x="1106" y="210"/>
                      </a:cubicBezTo>
                      <a:cubicBezTo>
                        <a:pt x="1156" y="152"/>
                        <a:pt x="1214" y="17"/>
                        <a:pt x="1261" y="18"/>
                      </a:cubicBezTo>
                      <a:cubicBezTo>
                        <a:pt x="1308" y="19"/>
                        <a:pt x="1348" y="119"/>
                        <a:pt x="1389" y="219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9" name=""/>
              <p:cNvGrpSpPr/>
              <p:nvPr/>
            </p:nvGrpSpPr>
            <p:grpSpPr>
              <a:xfrm>
                <a:off x="6243480" y="4020480"/>
                <a:ext cx="1403280" cy="815400"/>
                <a:chOff x="6243480" y="4020480"/>
                <a:chExt cx="1403280" cy="815400"/>
              </a:xfrm>
            </p:grpSpPr>
            <p:grpSp>
              <p:nvGrpSpPr>
                <p:cNvPr id="1960" name=""/>
                <p:cNvGrpSpPr/>
                <p:nvPr/>
              </p:nvGrpSpPr>
              <p:grpSpPr>
                <a:xfrm>
                  <a:off x="6914880" y="4020480"/>
                  <a:ext cx="731880" cy="722520"/>
                  <a:chOff x="6914880" y="4020480"/>
                  <a:chExt cx="731880" cy="722520"/>
                </a:xfrm>
              </p:grpSpPr>
              <p:sp>
                <p:nvSpPr>
                  <p:cNvPr id="1961" name=""/>
                  <p:cNvSpPr/>
                  <p:nvPr/>
                </p:nvSpPr>
                <p:spPr>
                  <a:xfrm flipV="1">
                    <a:off x="7257960" y="4020120"/>
                    <a:ext cx="388800" cy="65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9" h="387">
                        <a:moveTo>
                          <a:pt x="0" y="210"/>
                        </a:moveTo>
                        <a:cubicBezTo>
                          <a:pt x="29" y="177"/>
                          <a:pt x="117" y="12"/>
                          <a:pt x="164" y="9"/>
                        </a:cubicBezTo>
                        <a:cubicBezTo>
                          <a:pt x="211" y="6"/>
                          <a:pt x="242" y="130"/>
                          <a:pt x="283" y="192"/>
                        </a:cubicBezTo>
                        <a:cubicBezTo>
                          <a:pt x="324" y="254"/>
                          <a:pt x="364" y="381"/>
                          <a:pt x="411" y="384"/>
                        </a:cubicBezTo>
                        <a:cubicBezTo>
                          <a:pt x="458" y="387"/>
                          <a:pt x="515" y="274"/>
                          <a:pt x="567" y="210"/>
                        </a:cubicBezTo>
                        <a:cubicBezTo>
                          <a:pt x="619" y="146"/>
                          <a:pt x="673" y="0"/>
                          <a:pt x="722" y="0"/>
                        </a:cubicBezTo>
                        <a:cubicBezTo>
                          <a:pt x="771" y="0"/>
                          <a:pt x="819" y="149"/>
                          <a:pt x="859" y="210"/>
                        </a:cubicBezTo>
                        <a:cubicBezTo>
                          <a:pt x="899" y="271"/>
                          <a:pt x="919" y="366"/>
                          <a:pt x="960" y="366"/>
                        </a:cubicBezTo>
                        <a:cubicBezTo>
                          <a:pt x="1001" y="366"/>
                          <a:pt x="1056" y="268"/>
                          <a:pt x="1106" y="210"/>
                        </a:cubicBezTo>
                        <a:cubicBezTo>
                          <a:pt x="1156" y="152"/>
                          <a:pt x="1214" y="17"/>
                          <a:pt x="1261" y="18"/>
                        </a:cubicBezTo>
                        <a:cubicBezTo>
                          <a:pt x="1308" y="19"/>
                          <a:pt x="1348" y="119"/>
                          <a:pt x="1389" y="219"/>
                        </a:cubicBezTo>
                      </a:path>
                    </a:pathLst>
                  </a:custGeom>
                  <a:noFill/>
                  <a:ln w="3816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>
                    <a:off x="6914880" y="4086000"/>
                    <a:ext cx="389160" cy="65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9" h="387">
                        <a:moveTo>
                          <a:pt x="0" y="210"/>
                        </a:moveTo>
                        <a:cubicBezTo>
                          <a:pt x="29" y="177"/>
                          <a:pt x="117" y="12"/>
                          <a:pt x="164" y="9"/>
                        </a:cubicBezTo>
                        <a:cubicBezTo>
                          <a:pt x="211" y="6"/>
                          <a:pt x="242" y="130"/>
                          <a:pt x="283" y="192"/>
                        </a:cubicBezTo>
                        <a:cubicBezTo>
                          <a:pt x="324" y="254"/>
                          <a:pt x="364" y="381"/>
                          <a:pt x="411" y="384"/>
                        </a:cubicBezTo>
                        <a:cubicBezTo>
                          <a:pt x="458" y="387"/>
                          <a:pt x="515" y="274"/>
                          <a:pt x="567" y="210"/>
                        </a:cubicBezTo>
                        <a:cubicBezTo>
                          <a:pt x="619" y="146"/>
                          <a:pt x="673" y="0"/>
                          <a:pt x="722" y="0"/>
                        </a:cubicBezTo>
                        <a:cubicBezTo>
                          <a:pt x="771" y="0"/>
                          <a:pt x="819" y="149"/>
                          <a:pt x="859" y="210"/>
                        </a:cubicBezTo>
                        <a:cubicBezTo>
                          <a:pt x="899" y="271"/>
                          <a:pt x="919" y="366"/>
                          <a:pt x="960" y="366"/>
                        </a:cubicBezTo>
                        <a:cubicBezTo>
                          <a:pt x="1001" y="366"/>
                          <a:pt x="1056" y="268"/>
                          <a:pt x="1106" y="210"/>
                        </a:cubicBezTo>
                        <a:cubicBezTo>
                          <a:pt x="1156" y="152"/>
                          <a:pt x="1214" y="17"/>
                          <a:pt x="1261" y="18"/>
                        </a:cubicBezTo>
                        <a:cubicBezTo>
                          <a:pt x="1308" y="19"/>
                          <a:pt x="1348" y="119"/>
                          <a:pt x="1389" y="219"/>
                        </a:cubicBezTo>
                      </a:path>
                    </a:pathLst>
                  </a:custGeom>
                  <a:noFill/>
                  <a:ln w="3816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3" name=""/>
                <p:cNvGrpSpPr/>
                <p:nvPr/>
              </p:nvGrpSpPr>
              <p:grpSpPr>
                <a:xfrm>
                  <a:off x="6243480" y="4114440"/>
                  <a:ext cx="731880" cy="721440"/>
                  <a:chOff x="6243480" y="4114440"/>
                  <a:chExt cx="731880" cy="721440"/>
                </a:xfrm>
              </p:grpSpPr>
              <p:sp>
                <p:nvSpPr>
                  <p:cNvPr id="1964" name=""/>
                  <p:cNvSpPr/>
                  <p:nvPr/>
                </p:nvSpPr>
                <p:spPr>
                  <a:xfrm flipV="1">
                    <a:off x="6586560" y="4114440"/>
                    <a:ext cx="38880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9" h="387">
                        <a:moveTo>
                          <a:pt x="0" y="210"/>
                        </a:moveTo>
                        <a:cubicBezTo>
                          <a:pt x="29" y="177"/>
                          <a:pt x="117" y="12"/>
                          <a:pt x="164" y="9"/>
                        </a:cubicBezTo>
                        <a:cubicBezTo>
                          <a:pt x="211" y="6"/>
                          <a:pt x="242" y="130"/>
                          <a:pt x="283" y="192"/>
                        </a:cubicBezTo>
                        <a:cubicBezTo>
                          <a:pt x="324" y="254"/>
                          <a:pt x="364" y="381"/>
                          <a:pt x="411" y="384"/>
                        </a:cubicBezTo>
                        <a:cubicBezTo>
                          <a:pt x="458" y="387"/>
                          <a:pt x="515" y="274"/>
                          <a:pt x="567" y="210"/>
                        </a:cubicBezTo>
                        <a:cubicBezTo>
                          <a:pt x="619" y="146"/>
                          <a:pt x="673" y="0"/>
                          <a:pt x="722" y="0"/>
                        </a:cubicBezTo>
                        <a:cubicBezTo>
                          <a:pt x="771" y="0"/>
                          <a:pt x="819" y="149"/>
                          <a:pt x="859" y="210"/>
                        </a:cubicBezTo>
                        <a:cubicBezTo>
                          <a:pt x="899" y="271"/>
                          <a:pt x="919" y="366"/>
                          <a:pt x="960" y="366"/>
                        </a:cubicBezTo>
                        <a:cubicBezTo>
                          <a:pt x="1001" y="366"/>
                          <a:pt x="1056" y="268"/>
                          <a:pt x="1106" y="210"/>
                        </a:cubicBezTo>
                        <a:cubicBezTo>
                          <a:pt x="1156" y="152"/>
                          <a:pt x="1214" y="17"/>
                          <a:pt x="1261" y="18"/>
                        </a:cubicBezTo>
                        <a:cubicBezTo>
                          <a:pt x="1308" y="19"/>
                          <a:pt x="1348" y="119"/>
                          <a:pt x="1389" y="219"/>
                        </a:cubicBezTo>
                      </a:path>
                    </a:pathLst>
                  </a:custGeom>
                  <a:noFill/>
                  <a:ln w="3816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6243480" y="4179240"/>
                    <a:ext cx="38916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9" h="387">
                        <a:moveTo>
                          <a:pt x="0" y="210"/>
                        </a:moveTo>
                        <a:cubicBezTo>
                          <a:pt x="29" y="177"/>
                          <a:pt x="117" y="12"/>
                          <a:pt x="164" y="9"/>
                        </a:cubicBezTo>
                        <a:cubicBezTo>
                          <a:pt x="211" y="6"/>
                          <a:pt x="242" y="130"/>
                          <a:pt x="283" y="192"/>
                        </a:cubicBezTo>
                        <a:cubicBezTo>
                          <a:pt x="324" y="254"/>
                          <a:pt x="364" y="381"/>
                          <a:pt x="411" y="384"/>
                        </a:cubicBezTo>
                        <a:cubicBezTo>
                          <a:pt x="458" y="387"/>
                          <a:pt x="515" y="274"/>
                          <a:pt x="567" y="210"/>
                        </a:cubicBezTo>
                        <a:cubicBezTo>
                          <a:pt x="619" y="146"/>
                          <a:pt x="673" y="0"/>
                          <a:pt x="722" y="0"/>
                        </a:cubicBezTo>
                        <a:cubicBezTo>
                          <a:pt x="771" y="0"/>
                          <a:pt x="819" y="149"/>
                          <a:pt x="859" y="210"/>
                        </a:cubicBezTo>
                        <a:cubicBezTo>
                          <a:pt x="899" y="271"/>
                          <a:pt x="919" y="366"/>
                          <a:pt x="960" y="366"/>
                        </a:cubicBezTo>
                        <a:cubicBezTo>
                          <a:pt x="1001" y="366"/>
                          <a:pt x="1056" y="268"/>
                          <a:pt x="1106" y="210"/>
                        </a:cubicBezTo>
                        <a:cubicBezTo>
                          <a:pt x="1156" y="152"/>
                          <a:pt x="1214" y="17"/>
                          <a:pt x="1261" y="18"/>
                        </a:cubicBezTo>
                        <a:cubicBezTo>
                          <a:pt x="1308" y="19"/>
                          <a:pt x="1348" y="119"/>
                          <a:pt x="1389" y="219"/>
                        </a:cubicBezTo>
                      </a:path>
                    </a:pathLst>
                  </a:custGeom>
                  <a:noFill/>
                  <a:ln w="3816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66" name=""/>
            <p:cNvSpPr/>
            <p:nvPr/>
          </p:nvSpPr>
          <p:spPr>
            <a:xfrm>
              <a:off x="593640" y="3575160"/>
              <a:ext cx="46962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e sont  (fonctions complexes auss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s sortes de tôles ondulé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mais avec des parties negativ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 divers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eriodes, phases et aussi orient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721440" y="4195800"/>
            <a:ext cx="5065200" cy="2645280"/>
            <a:chOff x="721440" y="4195800"/>
            <a:chExt cx="5065200" cy="2645280"/>
          </a:xfrm>
        </p:grpSpPr>
        <p:grpSp>
          <p:nvGrpSpPr>
            <p:cNvPr id="1968" name=""/>
            <p:cNvGrpSpPr/>
            <p:nvPr/>
          </p:nvGrpSpPr>
          <p:grpSpPr>
            <a:xfrm>
              <a:off x="5257440" y="4195800"/>
              <a:ext cx="529200" cy="2645280"/>
              <a:chOff x="5257440" y="4195800"/>
              <a:chExt cx="529200" cy="2645280"/>
            </a:xfrm>
          </p:grpSpPr>
          <p:sp>
            <p:nvSpPr>
              <p:cNvPr id="1969" name=""/>
              <p:cNvSpPr/>
              <p:nvPr/>
            </p:nvSpPr>
            <p:spPr>
              <a:xfrm>
                <a:off x="5262120" y="419580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5257440" y="480528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5266800" y="528624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5276520" y="568152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285880" y="6076800"/>
                <a:ext cx="50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400" spc="-1" strike="noStrike">
                    <a:solidFill>
                      <a:srgbClr val="000000"/>
                    </a:solidFill>
                    <a:latin typeface="Comic Sans MS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4" name=""/>
            <p:cNvSpPr/>
            <p:nvPr/>
          </p:nvSpPr>
          <p:spPr>
            <a:xfrm>
              <a:off x="721440" y="5532480"/>
              <a:ext cx="3710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'objet sera à nouvea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ne somme pondéré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 composantes à 2 vari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347364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eux variables , sui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860640" y="70020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lgebriquement aussi ça change un p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7" name=""/>
          <p:cNvGrpSpPr/>
          <p:nvPr/>
        </p:nvGrpSpPr>
        <p:grpSpPr>
          <a:xfrm>
            <a:off x="333720" y="1104840"/>
            <a:ext cx="7270560" cy="2152440"/>
            <a:chOff x="333720" y="1104840"/>
            <a:chExt cx="7270560" cy="2152440"/>
          </a:xfrm>
        </p:grpSpPr>
        <p:sp>
          <p:nvSpPr>
            <p:cNvPr id="1978" name=""/>
            <p:cNvSpPr/>
            <p:nvPr/>
          </p:nvSpPr>
          <p:spPr>
            <a:xfrm>
              <a:off x="360360" y="1222200"/>
              <a:ext cx="5305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reperage d'un point de l'objet necessit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ux coordonnées (x et y)  ou un vect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9" name=""/>
                <p:cNvSpPr txBox="1"/>
                <p:nvPr/>
              </p:nvSpPr>
              <p:spPr>
                <a:xfrm>
                  <a:off x="5783400" y="1104840"/>
                  <a:ext cx="1049400" cy="102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|</m:t>
                      </m:r>
                      <m:m>
                        <m:mr>
                          <m:e>
                            <m:r>
                              <m:t xml:space="preserve">x</m:t>
                            </m:r>
                          </m:e>
                        </m:mr>
                        <m:mr>
                          <m:e>
                            <m:r>
                              <m:t xml:space="preserve">y</m:t>
                            </m:r>
                          </m:e>
                        </m:mr>
                      </m:m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0" name=""/>
            <p:cNvSpPr/>
            <p:nvPr/>
          </p:nvSpPr>
          <p:spPr>
            <a:xfrm>
              <a:off x="333720" y="2325600"/>
              <a:ext cx="634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 même une frequence nécessite désormais auss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ux valeurs ( </a:t>
              </a:r>
              <a:r>
                <a:rPr b="1" lang="fr-FR" sz="2000" spc="-1" strike="noStrike">
                  <a:solidFill>
                    <a:srgbClr val="ff3300"/>
                  </a:solidFill>
                  <a:latin typeface="Comic Sans MS"/>
                </a:rPr>
                <a:t>orientation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 ou aussi un vecte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1" name=""/>
                <p:cNvSpPr txBox="1"/>
                <p:nvPr/>
              </p:nvSpPr>
              <p:spPr>
                <a:xfrm>
                  <a:off x="6696360" y="2323800"/>
                  <a:ext cx="907920" cy="93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|</m:t>
                      </m:r>
                      <m:m>
                        <m:mr>
                          <m:e>
                            <m:r>
                              <m:t xml:space="preserve">u</m:t>
                            </m:r>
                          </m:e>
                        </m:mr>
                        <m:mr>
                          <m:e>
                            <m:r>
                              <m:t xml:space="preserve">v</m:t>
                            </m:r>
                          </m:e>
                        </m:mr>
                      </m:m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2" name=""/>
          <p:cNvGrpSpPr/>
          <p:nvPr/>
        </p:nvGrpSpPr>
        <p:grpSpPr>
          <a:xfrm>
            <a:off x="446400" y="3152880"/>
            <a:ext cx="8637480" cy="947520"/>
            <a:chOff x="446400" y="3152880"/>
            <a:chExt cx="8637480" cy="947520"/>
          </a:xfrm>
        </p:grpSpPr>
        <p:sp>
          <p:nvSpPr>
            <p:cNvPr id="1983" name=""/>
            <p:cNvSpPr/>
            <p:nvPr/>
          </p:nvSpPr>
          <p:spPr>
            <a:xfrm>
              <a:off x="446400" y="3152880"/>
              <a:ext cx="863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insi une composante de base  s'ecrit (on retrouve un produit scalaire)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4" name=""/>
                <p:cNvSpPr txBox="1"/>
                <p:nvPr/>
              </p:nvSpPr>
              <p:spPr>
                <a:xfrm>
                  <a:off x="676440" y="3700440"/>
                  <a:ext cx="709596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U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[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5" name=""/>
          <p:cNvGrpSpPr/>
          <p:nvPr/>
        </p:nvGrpSpPr>
        <p:grpSpPr>
          <a:xfrm>
            <a:off x="2470320" y="4262400"/>
            <a:ext cx="6001920" cy="2493720"/>
            <a:chOff x="2470320" y="4262400"/>
            <a:chExt cx="6001920" cy="2493720"/>
          </a:xfrm>
        </p:grpSpPr>
        <p:pic>
          <p:nvPicPr>
            <p:cNvPr id="1986" name="new_spat_freq" descr=""/>
            <p:cNvPicPr/>
            <p:nvPr/>
          </p:nvPicPr>
          <p:blipFill>
            <a:blip r:embed="rId1"/>
            <a:stretch/>
          </p:blipFill>
          <p:spPr>
            <a:xfrm>
              <a:off x="2470320" y="4262400"/>
              <a:ext cx="600192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7" name=""/>
            <p:cNvSpPr/>
            <p:nvPr/>
          </p:nvSpPr>
          <p:spPr>
            <a:xfrm flipV="1">
              <a:off x="6714000" y="4980600"/>
              <a:ext cx="368640" cy="809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8" name=""/>
            <p:cNvGrpSpPr/>
            <p:nvPr/>
          </p:nvGrpSpPr>
          <p:grpSpPr>
            <a:xfrm>
              <a:off x="7165440" y="4491720"/>
              <a:ext cx="542520" cy="561960"/>
              <a:chOff x="7165440" y="4491720"/>
              <a:chExt cx="542520" cy="561960"/>
            </a:xfrm>
          </p:grpSpPr>
          <p:sp>
            <p:nvSpPr>
              <p:cNvPr id="1989" name=""/>
              <p:cNvSpPr/>
              <p:nvPr/>
            </p:nvSpPr>
            <p:spPr>
              <a:xfrm>
                <a:off x="7206120" y="4533120"/>
                <a:ext cx="439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ff3300"/>
                    </a:solidFill>
                    <a:latin typeface="Comic Sans MS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165440" y="4491720"/>
                <a:ext cx="5425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1" name=""/>
          <p:cNvSpPr/>
          <p:nvPr/>
        </p:nvSpPr>
        <p:spPr>
          <a:xfrm>
            <a:off x="3643200" y="5764320"/>
            <a:ext cx="507960" cy="622080"/>
          </a:xfrm>
          <a:prstGeom prst="rect">
            <a:avLst/>
          </a:prstGeom>
          <a:noFill/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2409840" y="4950000"/>
            <a:ext cx="1160280" cy="2901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73868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mplement pour composante de base à 2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78280" y="1630440"/>
            <a:ext cx="4074120" cy="32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120" rIns="60120" tIns="24120" bIns="2412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Une tôle ondulée (cosinu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dans l'espace (x,y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un couple de dirac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(TF du cosinu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dans l'espace de Fourie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( plan  (u,v) 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5" name=""/>
          <p:cNvGrpSpPr/>
          <p:nvPr/>
        </p:nvGrpSpPr>
        <p:grpSpPr>
          <a:xfrm>
            <a:off x="4931280" y="2363400"/>
            <a:ext cx="3472560" cy="2811240"/>
            <a:chOff x="4931280" y="2363400"/>
            <a:chExt cx="3472560" cy="2811240"/>
          </a:xfrm>
        </p:grpSpPr>
        <p:sp>
          <p:nvSpPr>
            <p:cNvPr id="1996" name=""/>
            <p:cNvSpPr/>
            <p:nvPr/>
          </p:nvSpPr>
          <p:spPr>
            <a:xfrm>
              <a:off x="5363280" y="2452680"/>
              <a:ext cx="905760" cy="731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363280" y="2451240"/>
              <a:ext cx="907200" cy="734040"/>
            </a:xfrm>
            <a:prstGeom prst="rect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5398200" y="2363400"/>
              <a:ext cx="790200" cy="9097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363280" y="3274920"/>
              <a:ext cx="905760" cy="73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363280" y="3272400"/>
              <a:ext cx="907200" cy="735120"/>
            </a:xfrm>
            <a:prstGeom prst="rect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1" name=""/>
            <p:cNvGrpSpPr/>
            <p:nvPr/>
          </p:nvGrpSpPr>
          <p:grpSpPr>
            <a:xfrm>
              <a:off x="6839640" y="3686040"/>
              <a:ext cx="1359000" cy="88920"/>
              <a:chOff x="6839640" y="3686040"/>
              <a:chExt cx="1359000" cy="88920"/>
            </a:xfrm>
          </p:grpSpPr>
          <p:sp>
            <p:nvSpPr>
              <p:cNvPr id="2002" name=""/>
              <p:cNvSpPr/>
              <p:nvPr/>
            </p:nvSpPr>
            <p:spPr>
              <a:xfrm>
                <a:off x="8036640" y="3686040"/>
                <a:ext cx="162000" cy="88920"/>
              </a:xfrm>
              <a:custGeom>
                <a:avLst/>
                <a:gdLst/>
                <a:ahLst/>
                <a:rect l="l" t="t" r="r" b="b"/>
                <a:pathLst>
                  <a:path w="129" h="71">
                    <a:moveTo>
                      <a:pt x="129" y="30"/>
                    </a:moveTo>
                    <a:lnTo>
                      <a:pt x="0" y="71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2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6839640" y="3723840"/>
                <a:ext cx="1197000" cy="10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4" name=""/>
            <p:cNvGrpSpPr/>
            <p:nvPr/>
          </p:nvGrpSpPr>
          <p:grpSpPr>
            <a:xfrm>
              <a:off x="7350840" y="2953080"/>
              <a:ext cx="92880" cy="1077480"/>
              <a:chOff x="7350840" y="2953080"/>
              <a:chExt cx="92880" cy="1077480"/>
            </a:xfrm>
          </p:grpSpPr>
          <p:sp>
            <p:nvSpPr>
              <p:cNvPr id="2005" name=""/>
              <p:cNvSpPr/>
              <p:nvPr/>
            </p:nvSpPr>
            <p:spPr>
              <a:xfrm>
                <a:off x="7350840" y="2953080"/>
                <a:ext cx="92880" cy="179640"/>
              </a:xfrm>
              <a:custGeom>
                <a:avLst/>
                <a:gdLst/>
                <a:ahLst/>
                <a:rect l="l" t="t" r="r" b="b"/>
                <a:pathLst>
                  <a:path w="74" h="143">
                    <a:moveTo>
                      <a:pt x="37" y="0"/>
                    </a:moveTo>
                    <a:lnTo>
                      <a:pt x="74" y="143"/>
                    </a:lnTo>
                    <a:lnTo>
                      <a:pt x="37" y="143"/>
                    </a:lnTo>
                    <a:lnTo>
                      <a:pt x="0" y="143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7397280" y="3132360"/>
                <a:ext cx="1080" cy="8982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7" name=""/>
            <p:cNvSpPr/>
            <p:nvPr/>
          </p:nvSpPr>
          <p:spPr>
            <a:xfrm>
              <a:off x="7774560" y="3241080"/>
              <a:ext cx="47520" cy="66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960240" y="4178520"/>
              <a:ext cx="60120" cy="540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374800" y="4109400"/>
              <a:ext cx="907200" cy="73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374800" y="4106880"/>
              <a:ext cx="907200" cy="735120"/>
            </a:xfrm>
            <a:prstGeom prst="rect">
              <a:avLst/>
            </a:prstGeom>
            <a:noFill/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1" name=""/>
            <p:cNvGrpSpPr/>
            <p:nvPr/>
          </p:nvGrpSpPr>
          <p:grpSpPr>
            <a:xfrm>
              <a:off x="5491440" y="4095360"/>
              <a:ext cx="663120" cy="757800"/>
              <a:chOff x="5491440" y="4095360"/>
              <a:chExt cx="663120" cy="757800"/>
            </a:xfrm>
          </p:grpSpPr>
          <p:sp>
            <p:nvSpPr>
              <p:cNvPr id="2012" name=""/>
              <p:cNvSpPr/>
              <p:nvPr/>
            </p:nvSpPr>
            <p:spPr>
              <a:xfrm>
                <a:off x="5491440" y="4095360"/>
                <a:ext cx="1080" cy="745200"/>
              </a:xfrm>
              <a:prstGeom prst="line">
                <a:avLst/>
              </a:prstGeom>
              <a:ln w="58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653440" y="4095360"/>
                <a:ext cx="1080" cy="745200"/>
              </a:xfrm>
              <a:prstGeom prst="line">
                <a:avLst/>
              </a:prstGeom>
              <a:ln w="58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816520" y="4095360"/>
                <a:ext cx="1080" cy="745200"/>
              </a:xfrm>
              <a:prstGeom prst="line">
                <a:avLst/>
              </a:prstGeom>
              <a:ln w="58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989680" y="4109040"/>
                <a:ext cx="1080" cy="744120"/>
              </a:xfrm>
              <a:prstGeom prst="line">
                <a:avLst/>
              </a:prstGeom>
              <a:ln w="58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153480" y="4109040"/>
                <a:ext cx="1080" cy="744120"/>
              </a:xfrm>
              <a:prstGeom prst="line">
                <a:avLst/>
              </a:prstGeom>
              <a:ln w="586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7" name=""/>
            <p:cNvSpPr/>
            <p:nvPr/>
          </p:nvSpPr>
          <p:spPr>
            <a:xfrm>
              <a:off x="7181280" y="3690720"/>
              <a:ext cx="47520" cy="66600"/>
            </a:xfrm>
            <a:prstGeom prst="ellipse">
              <a:avLst/>
            </a:prstGeom>
            <a:solidFill>
              <a:srgbClr val="3333cc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7553160" y="3703320"/>
              <a:ext cx="47520" cy="540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367400" y="3703320"/>
              <a:ext cx="60120" cy="540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6990480" y="3274560"/>
              <a:ext cx="789840" cy="911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282000" y="2529360"/>
              <a:ext cx="1533960" cy="617040"/>
            </a:xfrm>
            <a:custGeom>
              <a:avLst/>
              <a:gdLst/>
              <a:ahLst/>
              <a:rect l="l" t="t" r="r" b="b"/>
              <a:pathLst>
                <a:path w="1221" h="491">
                  <a:moveTo>
                    <a:pt x="0" y="0"/>
                  </a:moveTo>
                  <a:lnTo>
                    <a:pt x="1202" y="0"/>
                  </a:lnTo>
                  <a:lnTo>
                    <a:pt x="1193" y="491"/>
                  </a:lnTo>
                  <a:lnTo>
                    <a:pt x="1221" y="215"/>
                  </a:lnTo>
                  <a:lnTo>
                    <a:pt x="1165" y="205"/>
                  </a:lnTo>
                  <a:lnTo>
                    <a:pt x="1193" y="49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269040" y="3376800"/>
              <a:ext cx="1092960" cy="282600"/>
            </a:xfrm>
            <a:custGeom>
              <a:avLst/>
              <a:gdLst/>
              <a:ahLst/>
              <a:rect l="l" t="t" r="r" b="b"/>
              <a:pathLst>
                <a:path w="870" h="225">
                  <a:moveTo>
                    <a:pt x="0" y="0"/>
                  </a:moveTo>
                  <a:lnTo>
                    <a:pt x="759" y="0"/>
                  </a:lnTo>
                  <a:lnTo>
                    <a:pt x="861" y="225"/>
                  </a:lnTo>
                  <a:lnTo>
                    <a:pt x="842" y="133"/>
                  </a:lnTo>
                  <a:lnTo>
                    <a:pt x="815" y="174"/>
                  </a:lnTo>
                  <a:lnTo>
                    <a:pt x="870" y="225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282000" y="3813840"/>
              <a:ext cx="1336320" cy="731520"/>
            </a:xfrm>
            <a:custGeom>
              <a:avLst/>
              <a:gdLst/>
              <a:ahLst/>
              <a:rect l="l" t="t" r="r" b="b"/>
              <a:pathLst>
                <a:path w="1064" h="582">
                  <a:moveTo>
                    <a:pt x="0" y="582"/>
                  </a:moveTo>
                  <a:lnTo>
                    <a:pt x="1064" y="582"/>
                  </a:lnTo>
                  <a:lnTo>
                    <a:pt x="1036" y="0"/>
                  </a:lnTo>
                  <a:lnTo>
                    <a:pt x="1027" y="112"/>
                  </a:lnTo>
                  <a:lnTo>
                    <a:pt x="1054" y="102"/>
                  </a:lnTo>
                  <a:lnTo>
                    <a:pt x="1036" y="1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8227800" y="3568680"/>
              <a:ext cx="176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200360" y="2826000"/>
              <a:ext cx="153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886440" y="4789440"/>
              <a:ext cx="10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329520" y="2826000"/>
              <a:ext cx="57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u1,v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386760" y="3429360"/>
              <a:ext cx="30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0,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375600" y="4223880"/>
              <a:ext cx="573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u2,v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0" name=""/>
            <p:cNvGrpSpPr/>
            <p:nvPr/>
          </p:nvGrpSpPr>
          <p:grpSpPr>
            <a:xfrm>
              <a:off x="4956120" y="4981680"/>
              <a:ext cx="2197440" cy="90360"/>
              <a:chOff x="4956120" y="4981680"/>
              <a:chExt cx="2197440" cy="90360"/>
            </a:xfrm>
          </p:grpSpPr>
          <p:sp>
            <p:nvSpPr>
              <p:cNvPr id="2031" name=""/>
              <p:cNvSpPr/>
              <p:nvPr/>
            </p:nvSpPr>
            <p:spPr>
              <a:xfrm>
                <a:off x="6978960" y="4981680"/>
                <a:ext cx="174600" cy="90360"/>
              </a:xfrm>
              <a:custGeom>
                <a:avLst/>
                <a:gdLst/>
                <a:ahLst/>
                <a:rect l="l" t="t" r="r" b="b"/>
                <a:pathLst>
                  <a:path w="139" h="72">
                    <a:moveTo>
                      <a:pt x="139" y="31"/>
                    </a:moveTo>
                    <a:lnTo>
                      <a:pt x="0" y="72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139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4956120" y="5020200"/>
                <a:ext cx="2022840" cy="10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3" name=""/>
            <p:cNvGrpSpPr/>
            <p:nvPr/>
          </p:nvGrpSpPr>
          <p:grpSpPr>
            <a:xfrm>
              <a:off x="5073120" y="3851640"/>
              <a:ext cx="92880" cy="1323000"/>
              <a:chOff x="5073120" y="3851640"/>
              <a:chExt cx="92880" cy="1323000"/>
            </a:xfrm>
          </p:grpSpPr>
          <p:sp>
            <p:nvSpPr>
              <p:cNvPr id="2034" name=""/>
              <p:cNvSpPr/>
              <p:nvPr/>
            </p:nvSpPr>
            <p:spPr>
              <a:xfrm>
                <a:off x="5073120" y="3851640"/>
                <a:ext cx="92880" cy="179640"/>
              </a:xfrm>
              <a:custGeom>
                <a:avLst/>
                <a:gdLst/>
                <a:ahLst/>
                <a:rect l="l" t="t" r="r" b="b"/>
                <a:pathLst>
                  <a:path w="74" h="143">
                    <a:moveTo>
                      <a:pt x="37" y="0"/>
                    </a:moveTo>
                    <a:lnTo>
                      <a:pt x="74" y="143"/>
                    </a:lnTo>
                    <a:lnTo>
                      <a:pt x="37" y="143"/>
                    </a:lnTo>
                    <a:lnTo>
                      <a:pt x="0" y="143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V="1">
                <a:off x="5119200" y="4031280"/>
                <a:ext cx="1080" cy="1143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6" name=""/>
            <p:cNvSpPr/>
            <p:nvPr/>
          </p:nvSpPr>
          <p:spPr>
            <a:xfrm>
              <a:off x="4931280" y="3698280"/>
              <a:ext cx="124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061400" y="4687560"/>
              <a:ext cx="125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731720" y="3205440"/>
              <a:ext cx="125640" cy="1267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513200" y="3654360"/>
              <a:ext cx="125640" cy="1270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921360" y="4137120"/>
              <a:ext cx="125640" cy="1267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133760" y="3653280"/>
              <a:ext cx="125640" cy="126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2" name=""/>
          <p:cNvSpPr/>
          <p:nvPr/>
        </p:nvSpPr>
        <p:spPr>
          <a:xfrm>
            <a:off x="1422360" y="24955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3" name="" descr=""/>
          <p:cNvPicPr/>
          <p:nvPr/>
        </p:nvPicPr>
        <p:blipFill>
          <a:blip r:embed="rId1"/>
          <a:stretch/>
        </p:blipFill>
        <p:spPr>
          <a:xfrm>
            <a:off x="312840" y="184320"/>
            <a:ext cx="8372520" cy="6849720"/>
          </a:xfrm>
          <a:prstGeom prst="rect">
            <a:avLst/>
          </a:prstGeom>
          <a:ln w="0">
            <a:noFill/>
          </a:ln>
        </p:spPr>
      </p:pic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212400" y="577800"/>
            <a:ext cx="762804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soufflons un peu,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avant d'autres com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640" y="779040"/>
            <a:ext cx="3679920" cy="82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gression le long du 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63840" y="23796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6320" y="1960560"/>
            <a:ext cx="746532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contexte science, motivation, but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boite à outils conceptuelle (formalis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dements  théo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interférométri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, principes : monde idéa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icultés : monde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06480" y="128412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lef de voute : H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5120" y="2162160"/>
            <a:ext cx="7024680" cy="46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214200" y="566640"/>
            <a:ext cx="857736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nouvelle complication !!   convolution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ou produit de convolu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12760" y="113364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xercice préalable : convolution discrè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317520" y="1628640"/>
            <a:ext cx="782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épart  : deux listes de nbres   f  et  g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les décale et on multiplie terme à term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uis on fait la somme de tous les produits obte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résultat h,   est une fonction du décalag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8" name=""/>
          <p:cNvGrpSpPr/>
          <p:nvPr/>
        </p:nvGrpSpPr>
        <p:grpSpPr>
          <a:xfrm>
            <a:off x="390600" y="2584440"/>
            <a:ext cx="8384760" cy="829440"/>
            <a:chOff x="390600" y="2584440"/>
            <a:chExt cx="8384760" cy="829440"/>
          </a:xfrm>
        </p:grpSpPr>
        <p:sp>
          <p:nvSpPr>
            <p:cNvPr id="2049" name=""/>
            <p:cNvSpPr/>
            <p:nvPr/>
          </p:nvSpPr>
          <p:spPr>
            <a:xfrm>
              <a:off x="390600" y="2960640"/>
              <a:ext cx="642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xemple avec f = 0 0 0 1 1 0 0 0 et  g = 0 0 1 1 1 0 0 0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0" name=""/>
            <p:cNvGrpSpPr/>
            <p:nvPr/>
          </p:nvGrpSpPr>
          <p:grpSpPr>
            <a:xfrm>
              <a:off x="7023240" y="2584440"/>
              <a:ext cx="1752120" cy="829440"/>
              <a:chOff x="7023240" y="2584440"/>
              <a:chExt cx="1752120" cy="829440"/>
            </a:xfrm>
          </p:grpSpPr>
          <p:grpSp>
            <p:nvGrpSpPr>
              <p:cNvPr id="2051" name=""/>
              <p:cNvGrpSpPr/>
              <p:nvPr/>
            </p:nvGrpSpPr>
            <p:grpSpPr>
              <a:xfrm>
                <a:off x="7105680" y="2584440"/>
                <a:ext cx="1666800" cy="429120"/>
                <a:chOff x="7105680" y="2584440"/>
                <a:chExt cx="1666800" cy="429120"/>
              </a:xfrm>
            </p:grpSpPr>
            <p:sp>
              <p:nvSpPr>
                <p:cNvPr id="2052" name=""/>
                <p:cNvSpPr/>
                <p:nvPr/>
              </p:nvSpPr>
              <p:spPr>
                <a:xfrm>
                  <a:off x="7113960" y="2584440"/>
                  <a:ext cx="267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3" name=""/>
                <p:cNvGrpSpPr/>
                <p:nvPr/>
              </p:nvGrpSpPr>
              <p:grpSpPr>
                <a:xfrm>
                  <a:off x="7105680" y="2628000"/>
                  <a:ext cx="1666800" cy="385560"/>
                  <a:chOff x="7105680" y="2628000"/>
                  <a:chExt cx="1666800" cy="385560"/>
                </a:xfrm>
              </p:grpSpPr>
              <p:sp>
                <p:nvSpPr>
                  <p:cNvPr id="2054" name=""/>
                  <p:cNvSpPr/>
                  <p:nvPr/>
                </p:nvSpPr>
                <p:spPr>
                  <a:xfrm>
                    <a:off x="7105680" y="295344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 flipV="1">
                    <a:off x="7837560" y="2628000"/>
                    <a:ext cx="0" cy="33300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 flipV="1">
                    <a:off x="8004240" y="2628000"/>
                    <a:ext cx="0" cy="33300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7439040" y="289476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>
                    <a:off x="7277040" y="289476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>
                    <a:off x="8448840" y="289476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>
                    <a:off x="8286840" y="289476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>
                    <a:off x="8110800" y="289476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>
                    <a:off x="7620120" y="289620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63" name=""/>
              <p:cNvGrpSpPr/>
              <p:nvPr/>
            </p:nvGrpSpPr>
            <p:grpSpPr>
              <a:xfrm>
                <a:off x="7023240" y="2931840"/>
                <a:ext cx="1752120" cy="482040"/>
                <a:chOff x="7023240" y="2931840"/>
                <a:chExt cx="1752120" cy="482040"/>
              </a:xfrm>
            </p:grpSpPr>
            <p:sp>
              <p:nvSpPr>
                <p:cNvPr id="2064" name=""/>
                <p:cNvSpPr/>
                <p:nvPr/>
              </p:nvSpPr>
              <p:spPr>
                <a:xfrm>
                  <a:off x="7023240" y="2931840"/>
                  <a:ext cx="337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7108560" y="3355200"/>
                  <a:ext cx="16668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7673760" y="3029400"/>
                  <a:ext cx="0" cy="333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7840440" y="3029400"/>
                  <a:ext cx="0" cy="333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8007120" y="3029400"/>
                  <a:ext cx="0" cy="333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7441920" y="329652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7279920" y="329652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8451360" y="3296520"/>
                  <a:ext cx="11772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8289720" y="329652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8113320" y="3283920"/>
                  <a:ext cx="117720" cy="117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74" name=""/>
          <p:cNvGrpSpPr/>
          <p:nvPr/>
        </p:nvGrpSpPr>
        <p:grpSpPr>
          <a:xfrm>
            <a:off x="3664080" y="4043160"/>
            <a:ext cx="1676160" cy="1787760"/>
            <a:chOff x="3664080" y="4043160"/>
            <a:chExt cx="1676160" cy="1787760"/>
          </a:xfrm>
        </p:grpSpPr>
        <p:sp>
          <p:nvSpPr>
            <p:cNvPr id="2075" name=""/>
            <p:cNvSpPr/>
            <p:nvPr/>
          </p:nvSpPr>
          <p:spPr>
            <a:xfrm>
              <a:off x="4340160" y="4049640"/>
              <a:ext cx="319320" cy="13208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6" name=""/>
            <p:cNvGrpSpPr/>
            <p:nvPr/>
          </p:nvGrpSpPr>
          <p:grpSpPr>
            <a:xfrm>
              <a:off x="3664080" y="4043160"/>
              <a:ext cx="1676160" cy="1787760"/>
              <a:chOff x="3664080" y="4043160"/>
              <a:chExt cx="1676160" cy="1787760"/>
            </a:xfrm>
          </p:grpSpPr>
          <p:sp>
            <p:nvSpPr>
              <p:cNvPr id="2077" name=""/>
              <p:cNvSpPr/>
              <p:nvPr/>
            </p:nvSpPr>
            <p:spPr>
              <a:xfrm>
                <a:off x="4795560" y="5462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8" name=""/>
              <p:cNvGrpSpPr/>
              <p:nvPr/>
            </p:nvGrpSpPr>
            <p:grpSpPr>
              <a:xfrm>
                <a:off x="3664080" y="4043160"/>
                <a:ext cx="1676160" cy="1323360"/>
                <a:chOff x="3664080" y="4043160"/>
                <a:chExt cx="1676160" cy="1323360"/>
              </a:xfrm>
            </p:grpSpPr>
            <p:grpSp>
              <p:nvGrpSpPr>
                <p:cNvPr id="2079" name=""/>
                <p:cNvGrpSpPr/>
                <p:nvPr/>
              </p:nvGrpSpPr>
              <p:grpSpPr>
                <a:xfrm>
                  <a:off x="3664080" y="4043160"/>
                  <a:ext cx="1666800" cy="385560"/>
                  <a:chOff x="3664080" y="4043160"/>
                  <a:chExt cx="1666800" cy="385560"/>
                </a:xfrm>
              </p:grpSpPr>
              <p:sp>
                <p:nvSpPr>
                  <p:cNvPr id="2080" name=""/>
                  <p:cNvSpPr/>
                  <p:nvPr/>
                </p:nvSpPr>
                <p:spPr>
                  <a:xfrm>
                    <a:off x="3664080" y="436860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 flipV="1">
                    <a:off x="4395960" y="4043160"/>
                    <a:ext cx="0" cy="33300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2" name=""/>
                  <p:cNvSpPr/>
                  <p:nvPr/>
                </p:nvSpPr>
                <p:spPr>
                  <a:xfrm flipV="1">
                    <a:off x="4562640" y="4043160"/>
                    <a:ext cx="0" cy="33300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"/>
                  <p:cNvSpPr/>
                  <p:nvPr/>
                </p:nvSpPr>
                <p:spPr>
                  <a:xfrm>
                    <a:off x="3997440" y="430992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>
                    <a:off x="3835440" y="430992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5" name=""/>
                  <p:cNvSpPr/>
                  <p:nvPr/>
                </p:nvSpPr>
                <p:spPr>
                  <a:xfrm>
                    <a:off x="5007240" y="430992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6" name=""/>
                  <p:cNvSpPr/>
                  <p:nvPr/>
                </p:nvSpPr>
                <p:spPr>
                  <a:xfrm>
                    <a:off x="4845240" y="430992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>
                    <a:off x="4669200" y="430992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8" name=""/>
                  <p:cNvSpPr/>
                  <p:nvPr/>
                </p:nvSpPr>
                <p:spPr>
                  <a:xfrm>
                    <a:off x="4178520" y="43113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9" name=""/>
                <p:cNvGrpSpPr/>
                <p:nvPr/>
              </p:nvGrpSpPr>
              <p:grpSpPr>
                <a:xfrm>
                  <a:off x="3673440" y="4981680"/>
                  <a:ext cx="1666800" cy="384840"/>
                  <a:chOff x="3673440" y="4981680"/>
                  <a:chExt cx="1666800" cy="384840"/>
                </a:xfrm>
              </p:grpSpPr>
              <p:sp>
                <p:nvSpPr>
                  <p:cNvPr id="2090" name=""/>
                  <p:cNvSpPr/>
                  <p:nvPr/>
                </p:nvSpPr>
                <p:spPr>
                  <a:xfrm>
                    <a:off x="3673440" y="530640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 flipV="1">
                    <a:off x="4405320" y="4981680"/>
                    <a:ext cx="0" cy="33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2" name=""/>
                  <p:cNvSpPr/>
                  <p:nvPr/>
                </p:nvSpPr>
                <p:spPr>
                  <a:xfrm flipV="1">
                    <a:off x="4572000" y="4981680"/>
                    <a:ext cx="0" cy="33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4006800" y="524772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4" name=""/>
                  <p:cNvSpPr/>
                  <p:nvPr/>
                </p:nvSpPr>
                <p:spPr>
                  <a:xfrm>
                    <a:off x="3844800" y="524772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5" name=""/>
                  <p:cNvSpPr/>
                  <p:nvPr/>
                </p:nvSpPr>
                <p:spPr>
                  <a:xfrm>
                    <a:off x="5016600" y="524772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"/>
                  <p:cNvSpPr/>
                  <p:nvPr/>
                </p:nvSpPr>
                <p:spPr>
                  <a:xfrm>
                    <a:off x="4854600" y="524772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4678560" y="524772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8" name=""/>
                  <p:cNvSpPr/>
                  <p:nvPr/>
                </p:nvSpPr>
                <p:spPr>
                  <a:xfrm>
                    <a:off x="4187880" y="52491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9" name=""/>
                <p:cNvGrpSpPr/>
                <p:nvPr/>
              </p:nvGrpSpPr>
              <p:grpSpPr>
                <a:xfrm>
                  <a:off x="3664080" y="4481280"/>
                  <a:ext cx="1666800" cy="415440"/>
                  <a:chOff x="3664080" y="4481280"/>
                  <a:chExt cx="1666800" cy="415440"/>
                </a:xfrm>
              </p:grpSpPr>
              <p:sp>
                <p:nvSpPr>
                  <p:cNvPr id="2100" name=""/>
                  <p:cNvSpPr/>
                  <p:nvPr/>
                </p:nvSpPr>
                <p:spPr>
                  <a:xfrm>
                    <a:off x="3664080" y="483840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1" name=""/>
                  <p:cNvSpPr/>
                  <p:nvPr/>
                </p:nvSpPr>
                <p:spPr>
                  <a:xfrm flipV="1">
                    <a:off x="4229280" y="448128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2" name=""/>
                  <p:cNvSpPr/>
                  <p:nvPr/>
                </p:nvSpPr>
                <p:spPr>
                  <a:xfrm flipV="1">
                    <a:off x="4395960" y="448128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3" name=""/>
                  <p:cNvSpPr/>
                  <p:nvPr/>
                </p:nvSpPr>
                <p:spPr>
                  <a:xfrm flipV="1">
                    <a:off x="4562640" y="448128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4" name=""/>
                  <p:cNvSpPr/>
                  <p:nvPr/>
                </p:nvSpPr>
                <p:spPr>
                  <a:xfrm>
                    <a:off x="3997440" y="47793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5" name=""/>
                  <p:cNvSpPr/>
                  <p:nvPr/>
                </p:nvSpPr>
                <p:spPr>
                  <a:xfrm>
                    <a:off x="3835440" y="477936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6" name=""/>
                  <p:cNvSpPr/>
                  <p:nvPr/>
                </p:nvSpPr>
                <p:spPr>
                  <a:xfrm>
                    <a:off x="5007240" y="47793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7" name=""/>
                  <p:cNvSpPr/>
                  <p:nvPr/>
                </p:nvSpPr>
                <p:spPr>
                  <a:xfrm>
                    <a:off x="4845240" y="47793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8" name=""/>
                  <p:cNvSpPr/>
                  <p:nvPr/>
                </p:nvSpPr>
                <p:spPr>
                  <a:xfrm>
                    <a:off x="4668840" y="477468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109" name=""/>
          <p:cNvGrpSpPr/>
          <p:nvPr/>
        </p:nvGrpSpPr>
        <p:grpSpPr>
          <a:xfrm>
            <a:off x="1644480" y="4009680"/>
            <a:ext cx="1919520" cy="1821240"/>
            <a:chOff x="1644480" y="4009680"/>
            <a:chExt cx="1919520" cy="1821240"/>
          </a:xfrm>
        </p:grpSpPr>
        <p:sp>
          <p:nvSpPr>
            <p:cNvPr id="2110" name=""/>
            <p:cNvSpPr/>
            <p:nvPr/>
          </p:nvSpPr>
          <p:spPr>
            <a:xfrm>
              <a:off x="2529000" y="4030560"/>
              <a:ext cx="144360" cy="13208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1" name=""/>
            <p:cNvGrpSpPr/>
            <p:nvPr/>
          </p:nvGrpSpPr>
          <p:grpSpPr>
            <a:xfrm>
              <a:off x="1644480" y="4009680"/>
              <a:ext cx="1919520" cy="1821240"/>
              <a:chOff x="1644480" y="4009680"/>
              <a:chExt cx="1919520" cy="1821240"/>
            </a:xfrm>
          </p:grpSpPr>
          <p:sp>
            <p:nvSpPr>
              <p:cNvPr id="2112" name=""/>
              <p:cNvSpPr/>
              <p:nvPr/>
            </p:nvSpPr>
            <p:spPr>
              <a:xfrm>
                <a:off x="1644480" y="4791240"/>
                <a:ext cx="16671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3" name=""/>
              <p:cNvGrpSpPr/>
              <p:nvPr/>
            </p:nvGrpSpPr>
            <p:grpSpPr>
              <a:xfrm>
                <a:off x="1887480" y="4009680"/>
                <a:ext cx="1676520" cy="1821240"/>
                <a:chOff x="1887480" y="4009680"/>
                <a:chExt cx="1676520" cy="1821240"/>
              </a:xfrm>
            </p:grpSpPr>
            <p:sp>
              <p:nvSpPr>
                <p:cNvPr id="2114" name=""/>
                <p:cNvSpPr/>
                <p:nvPr/>
              </p:nvSpPr>
              <p:spPr>
                <a:xfrm>
                  <a:off x="3000960" y="54626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5" name=""/>
                <p:cNvGrpSpPr/>
                <p:nvPr/>
              </p:nvGrpSpPr>
              <p:grpSpPr>
                <a:xfrm>
                  <a:off x="1887480" y="4009680"/>
                  <a:ext cx="1676520" cy="1324080"/>
                  <a:chOff x="1887480" y="4009680"/>
                  <a:chExt cx="1676520" cy="1324080"/>
                </a:xfrm>
              </p:grpSpPr>
              <p:grpSp>
                <p:nvGrpSpPr>
                  <p:cNvPr id="2116" name=""/>
                  <p:cNvGrpSpPr/>
                  <p:nvPr/>
                </p:nvGrpSpPr>
                <p:grpSpPr>
                  <a:xfrm>
                    <a:off x="1887480" y="4009680"/>
                    <a:ext cx="1666800" cy="385560"/>
                    <a:chOff x="1887480" y="4009680"/>
                    <a:chExt cx="1666800" cy="385560"/>
                  </a:xfrm>
                </p:grpSpPr>
                <p:sp>
                  <p:nvSpPr>
                    <p:cNvPr id="2117" name=""/>
                    <p:cNvSpPr/>
                    <p:nvPr/>
                  </p:nvSpPr>
                  <p:spPr>
                    <a:xfrm>
                      <a:off x="1887480" y="4335120"/>
                      <a:ext cx="1666800" cy="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8" name=""/>
                    <p:cNvSpPr/>
                    <p:nvPr/>
                  </p:nvSpPr>
                  <p:spPr>
                    <a:xfrm flipV="1">
                      <a:off x="2619360" y="4009680"/>
                      <a:ext cx="0" cy="33300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9" name=""/>
                    <p:cNvSpPr/>
                    <p:nvPr/>
                  </p:nvSpPr>
                  <p:spPr>
                    <a:xfrm flipV="1">
                      <a:off x="2786040" y="4009680"/>
                      <a:ext cx="0" cy="333000"/>
                    </a:xfrm>
                    <a:prstGeom prst="line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0" name=""/>
                    <p:cNvSpPr/>
                    <p:nvPr/>
                  </p:nvSpPr>
                  <p:spPr>
                    <a:xfrm>
                      <a:off x="2220840" y="4276440"/>
                      <a:ext cx="11772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1" name=""/>
                    <p:cNvSpPr/>
                    <p:nvPr/>
                  </p:nvSpPr>
                  <p:spPr>
                    <a:xfrm>
                      <a:off x="2058840" y="4276440"/>
                      <a:ext cx="11772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2" name=""/>
                    <p:cNvSpPr/>
                    <p:nvPr/>
                  </p:nvSpPr>
                  <p:spPr>
                    <a:xfrm>
                      <a:off x="3230640" y="4276440"/>
                      <a:ext cx="11736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3" name=""/>
                    <p:cNvSpPr/>
                    <p:nvPr/>
                  </p:nvSpPr>
                  <p:spPr>
                    <a:xfrm>
                      <a:off x="3068640" y="4276440"/>
                      <a:ext cx="11736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4" name=""/>
                    <p:cNvSpPr/>
                    <p:nvPr/>
                  </p:nvSpPr>
                  <p:spPr>
                    <a:xfrm>
                      <a:off x="2892600" y="4276440"/>
                      <a:ext cx="11736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5" name=""/>
                    <p:cNvSpPr/>
                    <p:nvPr/>
                  </p:nvSpPr>
                  <p:spPr>
                    <a:xfrm>
                      <a:off x="2401920" y="4277880"/>
                      <a:ext cx="117360" cy="1173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720" bIns="367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26" name=""/>
                  <p:cNvSpPr/>
                  <p:nvPr/>
                </p:nvSpPr>
                <p:spPr>
                  <a:xfrm>
                    <a:off x="1897200" y="527364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7" name=""/>
                  <p:cNvSpPr/>
                  <p:nvPr/>
                </p:nvSpPr>
                <p:spPr>
                  <a:xfrm>
                    <a:off x="2230560" y="52149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8" name=""/>
                  <p:cNvSpPr/>
                  <p:nvPr/>
                </p:nvSpPr>
                <p:spPr>
                  <a:xfrm>
                    <a:off x="2068560" y="52149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>
                    <a:off x="3240000" y="521496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>
                    <a:off x="3078000" y="521496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>
                    <a:off x="2901960" y="521496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>
                    <a:off x="2411280" y="521640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3" name=""/>
                  <p:cNvSpPr/>
                  <p:nvPr/>
                </p:nvSpPr>
                <p:spPr>
                  <a:xfrm flipV="1">
                    <a:off x="2266920" y="443376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4" name=""/>
                  <p:cNvSpPr/>
                  <p:nvPr/>
                </p:nvSpPr>
                <p:spPr>
                  <a:xfrm flipV="1">
                    <a:off x="2433600" y="443376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5" name=""/>
                  <p:cNvSpPr/>
                  <p:nvPr/>
                </p:nvSpPr>
                <p:spPr>
                  <a:xfrm flipV="1">
                    <a:off x="2600280" y="443376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>
                    <a:off x="2035080" y="4732200"/>
                    <a:ext cx="117720" cy="11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>
                    <a:off x="3044880" y="4732200"/>
                    <a:ext cx="117360" cy="11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>
                    <a:off x="2882880" y="4732200"/>
                    <a:ext cx="117360" cy="11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 flipV="1">
                    <a:off x="2614680" y="493380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>
                    <a:off x="2706840" y="472752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>
                    <a:off x="2725560" y="521028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142" name=""/>
          <p:cNvGrpSpPr/>
          <p:nvPr/>
        </p:nvGrpSpPr>
        <p:grpSpPr>
          <a:xfrm>
            <a:off x="-160200" y="4005360"/>
            <a:ext cx="2065320" cy="1825560"/>
            <a:chOff x="-160200" y="4005360"/>
            <a:chExt cx="2065320" cy="1825560"/>
          </a:xfrm>
        </p:grpSpPr>
        <p:sp>
          <p:nvSpPr>
            <p:cNvPr id="2143" name=""/>
            <p:cNvSpPr/>
            <p:nvPr/>
          </p:nvSpPr>
          <p:spPr>
            <a:xfrm>
              <a:off x="1299600" y="5462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4" name=""/>
            <p:cNvGrpSpPr/>
            <p:nvPr/>
          </p:nvGrpSpPr>
          <p:grpSpPr>
            <a:xfrm>
              <a:off x="-160200" y="4005360"/>
              <a:ext cx="2065320" cy="1341360"/>
              <a:chOff x="-160200" y="4005360"/>
              <a:chExt cx="2065320" cy="1341360"/>
            </a:xfrm>
          </p:grpSpPr>
          <p:sp>
            <p:nvSpPr>
              <p:cNvPr id="2145" name=""/>
              <p:cNvSpPr/>
              <p:nvPr/>
            </p:nvSpPr>
            <p:spPr>
              <a:xfrm>
                <a:off x="1787400" y="4732200"/>
                <a:ext cx="11772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168120" y="4330800"/>
                <a:ext cx="16671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V="1">
                <a:off x="900000" y="4005360"/>
                <a:ext cx="0" cy="33336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V="1">
                <a:off x="1066680" y="4005360"/>
                <a:ext cx="0" cy="33336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01480" y="4271760"/>
                <a:ext cx="11772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39840" y="4271760"/>
                <a:ext cx="11736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1511280" y="4271760"/>
                <a:ext cx="11736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1349280" y="4271760"/>
                <a:ext cx="11772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1173240" y="4271760"/>
                <a:ext cx="11736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82560" y="4273560"/>
                <a:ext cx="11772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177840" y="5268960"/>
                <a:ext cx="166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11200" y="521028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49200" y="521028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1521000" y="521028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1359000" y="521028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1182600" y="5210280"/>
                <a:ext cx="11772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692280" y="521172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-160200" y="4786200"/>
                <a:ext cx="16668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V="1">
                <a:off x="404640" y="4429080"/>
                <a:ext cx="0" cy="333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V="1">
                <a:off x="571680" y="4429080"/>
                <a:ext cx="0" cy="333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V="1">
                <a:off x="738360" y="4429080"/>
                <a:ext cx="0" cy="333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173160" y="472752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11160" y="472752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1182600" y="4727520"/>
                <a:ext cx="11772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1020600" y="4727520"/>
                <a:ext cx="11772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844560" y="4722840"/>
                <a:ext cx="1173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1006560" y="5205240"/>
                <a:ext cx="11736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844560" y="5229000"/>
                <a:ext cx="11736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3" name=""/>
          <p:cNvGrpSpPr/>
          <p:nvPr/>
        </p:nvGrpSpPr>
        <p:grpSpPr>
          <a:xfrm>
            <a:off x="5416560" y="4043520"/>
            <a:ext cx="1824120" cy="1787400"/>
            <a:chOff x="5416560" y="4043520"/>
            <a:chExt cx="1824120" cy="1787400"/>
          </a:xfrm>
        </p:grpSpPr>
        <p:sp>
          <p:nvSpPr>
            <p:cNvPr id="2174" name=""/>
            <p:cNvSpPr/>
            <p:nvPr/>
          </p:nvSpPr>
          <p:spPr>
            <a:xfrm>
              <a:off x="6060960" y="4043520"/>
              <a:ext cx="319320" cy="13204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5" name=""/>
            <p:cNvGrpSpPr/>
            <p:nvPr/>
          </p:nvGrpSpPr>
          <p:grpSpPr>
            <a:xfrm>
              <a:off x="5416560" y="4066920"/>
              <a:ext cx="1824120" cy="1764000"/>
              <a:chOff x="5416560" y="4066920"/>
              <a:chExt cx="1824120" cy="1764000"/>
            </a:xfrm>
          </p:grpSpPr>
          <p:sp>
            <p:nvSpPr>
              <p:cNvPr id="2176" name=""/>
              <p:cNvSpPr/>
              <p:nvPr/>
            </p:nvSpPr>
            <p:spPr>
              <a:xfrm>
                <a:off x="6548040" y="5462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7" name=""/>
              <p:cNvGrpSpPr/>
              <p:nvPr/>
            </p:nvGrpSpPr>
            <p:grpSpPr>
              <a:xfrm>
                <a:off x="5416560" y="4066920"/>
                <a:ext cx="1824120" cy="1324080"/>
                <a:chOff x="5416560" y="4066920"/>
                <a:chExt cx="1824120" cy="1324080"/>
              </a:xfrm>
            </p:grpSpPr>
            <p:grpSp>
              <p:nvGrpSpPr>
                <p:cNvPr id="2178" name=""/>
                <p:cNvGrpSpPr/>
                <p:nvPr/>
              </p:nvGrpSpPr>
              <p:grpSpPr>
                <a:xfrm>
                  <a:off x="5416560" y="4066920"/>
                  <a:ext cx="1666800" cy="385560"/>
                  <a:chOff x="5416560" y="4066920"/>
                  <a:chExt cx="1666800" cy="385560"/>
                </a:xfrm>
              </p:grpSpPr>
              <p:sp>
                <p:nvSpPr>
                  <p:cNvPr id="2179" name=""/>
                  <p:cNvSpPr/>
                  <p:nvPr/>
                </p:nvSpPr>
                <p:spPr>
                  <a:xfrm>
                    <a:off x="5416560" y="439236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0" name=""/>
                  <p:cNvSpPr/>
                  <p:nvPr/>
                </p:nvSpPr>
                <p:spPr>
                  <a:xfrm flipV="1">
                    <a:off x="6148440" y="4066920"/>
                    <a:ext cx="0" cy="33300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1" name=""/>
                  <p:cNvSpPr/>
                  <p:nvPr/>
                </p:nvSpPr>
                <p:spPr>
                  <a:xfrm flipV="1">
                    <a:off x="6315120" y="4066920"/>
                    <a:ext cx="0" cy="33300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>
                    <a:off x="5749920" y="433368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3" name=""/>
                  <p:cNvSpPr/>
                  <p:nvPr/>
                </p:nvSpPr>
                <p:spPr>
                  <a:xfrm>
                    <a:off x="5587920" y="4333680"/>
                    <a:ext cx="11772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4" name=""/>
                  <p:cNvSpPr/>
                  <p:nvPr/>
                </p:nvSpPr>
                <p:spPr>
                  <a:xfrm>
                    <a:off x="6759720" y="433368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>
                    <a:off x="6597720" y="433368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6" name=""/>
                  <p:cNvSpPr/>
                  <p:nvPr/>
                </p:nvSpPr>
                <p:spPr>
                  <a:xfrm>
                    <a:off x="6421680" y="4333680"/>
                    <a:ext cx="117360" cy="11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7" name=""/>
                  <p:cNvSpPr/>
                  <p:nvPr/>
                </p:nvSpPr>
                <p:spPr>
                  <a:xfrm>
                    <a:off x="5931000" y="433512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88" name=""/>
                <p:cNvSpPr/>
                <p:nvPr/>
              </p:nvSpPr>
              <p:spPr>
                <a:xfrm>
                  <a:off x="5425920" y="5330880"/>
                  <a:ext cx="1667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 flipV="1">
                  <a:off x="6157800" y="500544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V="1">
                  <a:off x="6324480" y="500544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5759280" y="5272200"/>
                  <a:ext cx="11772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5597640" y="527220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6769080" y="527220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6607080" y="5272200"/>
                  <a:ext cx="11772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6431040" y="527220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5940360" y="5273640"/>
                  <a:ext cx="11772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7" name=""/>
                <p:cNvGrpSpPr/>
                <p:nvPr/>
              </p:nvGrpSpPr>
              <p:grpSpPr>
                <a:xfrm>
                  <a:off x="5573880" y="4505400"/>
                  <a:ext cx="1666800" cy="415440"/>
                  <a:chOff x="5573880" y="4505400"/>
                  <a:chExt cx="1666800" cy="415440"/>
                </a:xfrm>
              </p:grpSpPr>
              <p:sp>
                <p:nvSpPr>
                  <p:cNvPr id="2198" name=""/>
                  <p:cNvSpPr/>
                  <p:nvPr/>
                </p:nvSpPr>
                <p:spPr>
                  <a:xfrm>
                    <a:off x="5573880" y="486252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 flipV="1">
                    <a:off x="6139080" y="450540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 flipV="1">
                    <a:off x="6305760" y="450540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1" name=""/>
                  <p:cNvSpPr/>
                  <p:nvPr/>
                </p:nvSpPr>
                <p:spPr>
                  <a:xfrm flipV="1">
                    <a:off x="6472440" y="450540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>
                    <a:off x="5907240" y="480348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>
                    <a:off x="5745240" y="480348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>
                    <a:off x="6917040" y="480348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6755040" y="480348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6578640" y="479880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207" name=""/>
          <p:cNvGrpSpPr/>
          <p:nvPr/>
        </p:nvGrpSpPr>
        <p:grpSpPr>
          <a:xfrm>
            <a:off x="7155000" y="4037040"/>
            <a:ext cx="1981080" cy="1793880"/>
            <a:chOff x="7155000" y="4037040"/>
            <a:chExt cx="1981080" cy="1793880"/>
          </a:xfrm>
        </p:grpSpPr>
        <p:sp>
          <p:nvSpPr>
            <p:cNvPr id="2208" name=""/>
            <p:cNvSpPr/>
            <p:nvPr/>
          </p:nvSpPr>
          <p:spPr>
            <a:xfrm>
              <a:off x="7996320" y="4037040"/>
              <a:ext cx="144360" cy="13208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9" name=""/>
            <p:cNvGrpSpPr/>
            <p:nvPr/>
          </p:nvGrpSpPr>
          <p:grpSpPr>
            <a:xfrm>
              <a:off x="7155000" y="4076640"/>
              <a:ext cx="1981080" cy="1754280"/>
              <a:chOff x="7155000" y="4076640"/>
              <a:chExt cx="1981080" cy="1754280"/>
            </a:xfrm>
          </p:grpSpPr>
          <p:sp>
            <p:nvSpPr>
              <p:cNvPr id="2210" name=""/>
              <p:cNvSpPr/>
              <p:nvPr/>
            </p:nvSpPr>
            <p:spPr>
              <a:xfrm>
                <a:off x="8268480" y="5462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1" name=""/>
              <p:cNvGrpSpPr/>
              <p:nvPr/>
            </p:nvGrpSpPr>
            <p:grpSpPr>
              <a:xfrm>
                <a:off x="7155000" y="4076640"/>
                <a:ext cx="1981080" cy="1324080"/>
                <a:chOff x="7155000" y="4076640"/>
                <a:chExt cx="1981080" cy="1324080"/>
              </a:xfrm>
            </p:grpSpPr>
            <p:grpSp>
              <p:nvGrpSpPr>
                <p:cNvPr id="2212" name=""/>
                <p:cNvGrpSpPr/>
                <p:nvPr/>
              </p:nvGrpSpPr>
              <p:grpSpPr>
                <a:xfrm>
                  <a:off x="7155000" y="4076640"/>
                  <a:ext cx="1666800" cy="385920"/>
                  <a:chOff x="7155000" y="4076640"/>
                  <a:chExt cx="1666800" cy="385920"/>
                </a:xfrm>
              </p:grpSpPr>
              <p:sp>
                <p:nvSpPr>
                  <p:cNvPr id="2213" name=""/>
                  <p:cNvSpPr/>
                  <p:nvPr/>
                </p:nvSpPr>
                <p:spPr>
                  <a:xfrm>
                    <a:off x="7155000" y="440208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4" name=""/>
                  <p:cNvSpPr/>
                  <p:nvPr/>
                </p:nvSpPr>
                <p:spPr>
                  <a:xfrm flipV="1">
                    <a:off x="7886880" y="407664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 flipV="1">
                    <a:off x="8053560" y="407664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33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>
                    <a:off x="7488360" y="434340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>
                    <a:off x="7326360" y="434340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8498160" y="434340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>
                    <a:off x="8336160" y="434340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8160120" y="434340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>
                    <a:off x="7669440" y="4344840"/>
                    <a:ext cx="117360" cy="117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2" name=""/>
                <p:cNvSpPr/>
                <p:nvPr/>
              </p:nvSpPr>
              <p:spPr>
                <a:xfrm>
                  <a:off x="7164360" y="5340240"/>
                  <a:ext cx="1666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 flipV="1">
                  <a:off x="8062920" y="5014800"/>
                  <a:ext cx="0" cy="333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>
                  <a:off x="7497720" y="528156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7335720" y="5281560"/>
                  <a:ext cx="11772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>
                  <a:off x="8507520" y="528156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8345520" y="528156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8169120" y="5281560"/>
                  <a:ext cx="11772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>
                  <a:off x="7678800" y="5283000"/>
                  <a:ext cx="117360" cy="1177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0" name=""/>
                <p:cNvGrpSpPr/>
                <p:nvPr/>
              </p:nvGrpSpPr>
              <p:grpSpPr>
                <a:xfrm>
                  <a:off x="7469280" y="4514760"/>
                  <a:ext cx="1666800" cy="415440"/>
                  <a:chOff x="7469280" y="4514760"/>
                  <a:chExt cx="1666800" cy="415440"/>
                </a:xfrm>
              </p:grpSpPr>
              <p:sp>
                <p:nvSpPr>
                  <p:cNvPr id="2231" name=""/>
                  <p:cNvSpPr/>
                  <p:nvPr/>
                </p:nvSpPr>
                <p:spPr>
                  <a:xfrm>
                    <a:off x="7469280" y="4871880"/>
                    <a:ext cx="166680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 flipV="1">
                    <a:off x="8034480" y="451476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 flipV="1">
                    <a:off x="8201160" y="451476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 flipV="1">
                    <a:off x="8367840" y="4514760"/>
                    <a:ext cx="0" cy="33336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>
                    <a:off x="7802640" y="481284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7640640" y="481284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8812440" y="481284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8650440" y="4812840"/>
                    <a:ext cx="1173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8474040" y="4808160"/>
                    <a:ext cx="11772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40" name=""/>
                <p:cNvSpPr/>
                <p:nvPr/>
              </p:nvSpPr>
              <p:spPr>
                <a:xfrm>
                  <a:off x="7859880" y="5278320"/>
                  <a:ext cx="1173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41" name=""/>
          <p:cNvGrpSpPr/>
          <p:nvPr/>
        </p:nvGrpSpPr>
        <p:grpSpPr>
          <a:xfrm>
            <a:off x="-19800" y="3522600"/>
            <a:ext cx="7892280" cy="2379240"/>
            <a:chOff x="-19800" y="3522600"/>
            <a:chExt cx="7892280" cy="2379240"/>
          </a:xfrm>
        </p:grpSpPr>
        <p:sp>
          <p:nvSpPr>
            <p:cNvPr id="2242" name=""/>
            <p:cNvSpPr/>
            <p:nvPr/>
          </p:nvSpPr>
          <p:spPr>
            <a:xfrm>
              <a:off x="-3960" y="5321160"/>
              <a:ext cx="142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som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des  produ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3" name=""/>
            <p:cNvGrpSpPr/>
            <p:nvPr/>
          </p:nvGrpSpPr>
          <p:grpSpPr>
            <a:xfrm>
              <a:off x="-19800" y="3522600"/>
              <a:ext cx="7892280" cy="368280"/>
              <a:chOff x="-19800" y="3522600"/>
              <a:chExt cx="7892280" cy="368280"/>
            </a:xfrm>
          </p:grpSpPr>
          <p:sp>
            <p:nvSpPr>
              <p:cNvPr id="2244" name=""/>
              <p:cNvSpPr/>
              <p:nvPr/>
            </p:nvSpPr>
            <p:spPr>
              <a:xfrm>
                <a:off x="-19800" y="3522600"/>
                <a:ext cx="120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decalage 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534680" y="3522600"/>
                <a:ext cx="38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2481840" y="3522600"/>
                <a:ext cx="38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323960" y="35226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6026760" y="35226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560720" y="35226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0" name=""/>
          <p:cNvGrpSpPr/>
          <p:nvPr/>
        </p:nvGrpSpPr>
        <p:grpSpPr>
          <a:xfrm>
            <a:off x="1871640" y="5805360"/>
            <a:ext cx="5197320" cy="1052640"/>
            <a:chOff x="1871640" y="5805360"/>
            <a:chExt cx="5197320" cy="1052640"/>
          </a:xfrm>
        </p:grpSpPr>
        <p:sp>
          <p:nvSpPr>
            <p:cNvPr id="2251" name=""/>
            <p:cNvSpPr/>
            <p:nvPr/>
          </p:nvSpPr>
          <p:spPr>
            <a:xfrm>
              <a:off x="4107960" y="5999040"/>
              <a:ext cx="6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h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334040" y="6708600"/>
              <a:ext cx="19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V="1">
              <a:off x="4995720" y="6235560"/>
              <a:ext cx="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V="1">
              <a:off x="5191200" y="587052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V="1">
              <a:off x="5572080" y="6235560"/>
              <a:ext cx="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724280" y="6627960"/>
              <a:ext cx="138240" cy="16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533840" y="6627960"/>
              <a:ext cx="138240" cy="16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07240" y="6627960"/>
              <a:ext cx="137880" cy="16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718240" y="6627960"/>
              <a:ext cx="137880" cy="16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V="1">
              <a:off x="5405400" y="588168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107040" y="619920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178360" y="6191280"/>
              <a:ext cx="174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résultat 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871640" y="5805360"/>
              <a:ext cx="5197320" cy="105264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63388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volution_2     on joue avec des fo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5" name=""/>
          <p:cNvGrpSpPr/>
          <p:nvPr/>
        </p:nvGrpSpPr>
        <p:grpSpPr>
          <a:xfrm>
            <a:off x="322920" y="5613480"/>
            <a:ext cx="8277480" cy="1225800"/>
            <a:chOff x="322920" y="5613480"/>
            <a:chExt cx="8277480" cy="1225800"/>
          </a:xfrm>
        </p:grpSpPr>
        <p:sp>
          <p:nvSpPr>
            <p:cNvPr id="2266" name=""/>
            <p:cNvSpPr/>
            <p:nvPr/>
          </p:nvSpPr>
          <p:spPr>
            <a:xfrm>
              <a:off x="322920" y="5613480"/>
              <a:ext cx="5720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mais pourquoi toutes ces acrobaties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076280" y="6135480"/>
              <a:ext cx="4524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'est un outil mathematique cour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en verra une utilisation bientô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8" name=""/>
          <p:cNvSpPr/>
          <p:nvPr/>
        </p:nvSpPr>
        <p:spPr>
          <a:xfrm>
            <a:off x="425520" y="1436760"/>
            <a:ext cx="593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art de deux fonctions   f(t) et g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retourne l'une et on la translate (décalage 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fait leur produit f(t).g(x-t) et on integre sur "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9" name=""/>
          <p:cNvGrpSpPr/>
          <p:nvPr/>
        </p:nvGrpSpPr>
        <p:grpSpPr>
          <a:xfrm>
            <a:off x="6926400" y="662040"/>
            <a:ext cx="1000080" cy="812880"/>
            <a:chOff x="6926400" y="662040"/>
            <a:chExt cx="1000080" cy="812880"/>
          </a:xfrm>
        </p:grpSpPr>
        <p:sp>
          <p:nvSpPr>
            <p:cNvPr id="2270" name=""/>
            <p:cNvSpPr/>
            <p:nvPr/>
          </p:nvSpPr>
          <p:spPr>
            <a:xfrm>
              <a:off x="6926400" y="6620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147440" y="8935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2" name=""/>
          <p:cNvGrpSpPr/>
          <p:nvPr/>
        </p:nvGrpSpPr>
        <p:grpSpPr>
          <a:xfrm>
            <a:off x="212760" y="2616120"/>
            <a:ext cx="8416440" cy="2017800"/>
            <a:chOff x="212760" y="2616120"/>
            <a:chExt cx="8416440" cy="2017800"/>
          </a:xfrm>
        </p:grpSpPr>
        <p:sp>
          <p:nvSpPr>
            <p:cNvPr id="2273" name=""/>
            <p:cNvSpPr/>
            <p:nvPr/>
          </p:nvSpPr>
          <p:spPr>
            <a:xfrm>
              <a:off x="2610000" y="3533760"/>
              <a:ext cx="323640" cy="666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481720" y="3571920"/>
              <a:ext cx="323640" cy="666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928920" y="3279600"/>
              <a:ext cx="1700280" cy="368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retour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921280" y="3440160"/>
              <a:ext cx="973080" cy="347760"/>
            </a:xfrm>
            <a:custGeom>
              <a:avLst/>
              <a:gdLst/>
              <a:ahLst/>
              <a:rect l="l" t="t" r="r" b="b"/>
              <a:pathLst>
                <a:path w="613" h="219">
                  <a:moveTo>
                    <a:pt x="613" y="0"/>
                  </a:moveTo>
                  <a:lnTo>
                    <a:pt x="0" y="0"/>
                  </a:lnTo>
                  <a:lnTo>
                    <a:pt x="9" y="219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12760" y="2616120"/>
              <a:ext cx="8291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fabrique ainsi une fonction h(x) appelée "produit de convolution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t </a:t>
              </a: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dont la variable est le décalage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8" name=""/>
                <p:cNvSpPr txBox="1"/>
                <p:nvPr/>
              </p:nvSpPr>
              <p:spPr>
                <a:xfrm>
                  <a:off x="2255760" y="3135240"/>
                  <a:ext cx="4789440" cy="14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9" name=""/>
          <p:cNvGrpSpPr/>
          <p:nvPr/>
        </p:nvGrpSpPr>
        <p:grpSpPr>
          <a:xfrm>
            <a:off x="329400" y="4451400"/>
            <a:ext cx="8703360" cy="1216080"/>
            <a:chOff x="329400" y="4451400"/>
            <a:chExt cx="8703360" cy="1216080"/>
          </a:xfrm>
        </p:grpSpPr>
        <p:sp>
          <p:nvSpPr>
            <p:cNvPr id="2280" name=""/>
            <p:cNvSpPr/>
            <p:nvPr/>
          </p:nvSpPr>
          <p:spPr>
            <a:xfrm>
              <a:off x="329400" y="4451400"/>
              <a:ext cx="513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notation consacrée (et pas très heureus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1" name=""/>
                <p:cNvSpPr txBox="1"/>
                <p:nvPr/>
              </p:nvSpPr>
              <p:spPr>
                <a:xfrm>
                  <a:off x="4300560" y="4478400"/>
                  <a:ext cx="4732200" cy="11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∗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385920" y="676440"/>
            <a:ext cx="36590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volution_3,   en "liv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111960" y="2039760"/>
            <a:ext cx="1022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x =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x = 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x = x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x = x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x &lt;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4" name=""/>
          <p:cNvGrpSpPr/>
          <p:nvPr/>
        </p:nvGrpSpPr>
        <p:grpSpPr>
          <a:xfrm>
            <a:off x="896760" y="2339640"/>
            <a:ext cx="4338720" cy="549720"/>
            <a:chOff x="896760" y="2339640"/>
            <a:chExt cx="4338720" cy="549720"/>
          </a:xfrm>
        </p:grpSpPr>
        <p:grpSp>
          <p:nvGrpSpPr>
            <p:cNvPr id="2285" name=""/>
            <p:cNvGrpSpPr/>
            <p:nvPr/>
          </p:nvGrpSpPr>
          <p:grpSpPr>
            <a:xfrm>
              <a:off x="896760" y="2339640"/>
              <a:ext cx="4241880" cy="549720"/>
              <a:chOff x="896760" y="2339640"/>
              <a:chExt cx="4241880" cy="549720"/>
            </a:xfrm>
          </p:grpSpPr>
          <p:grpSp>
            <p:nvGrpSpPr>
              <p:cNvPr id="2286" name=""/>
              <p:cNvGrpSpPr/>
              <p:nvPr/>
            </p:nvGrpSpPr>
            <p:grpSpPr>
              <a:xfrm>
                <a:off x="896760" y="2339640"/>
                <a:ext cx="1930320" cy="520920"/>
                <a:chOff x="896760" y="2339640"/>
                <a:chExt cx="1930320" cy="520920"/>
              </a:xfrm>
            </p:grpSpPr>
            <p:sp>
              <p:nvSpPr>
                <p:cNvPr id="2287" name=""/>
                <p:cNvSpPr/>
                <p:nvPr/>
              </p:nvSpPr>
              <p:spPr>
                <a:xfrm>
                  <a:off x="896760" y="2860560"/>
                  <a:ext cx="193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 flipV="1">
                  <a:off x="1709640" y="2339640"/>
                  <a:ext cx="0" cy="50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9" name=""/>
              <p:cNvSpPr/>
              <p:nvPr/>
            </p:nvSpPr>
            <p:spPr>
              <a:xfrm>
                <a:off x="1874880" y="2454120"/>
                <a:ext cx="533520" cy="406440"/>
              </a:xfrm>
              <a:custGeom>
                <a:avLst/>
                <a:gdLst/>
                <a:ahLst/>
                <a:rect l="l" t="t" r="r" b="b"/>
                <a:pathLst>
                  <a:path w="336" h="256">
                    <a:moveTo>
                      <a:pt x="0" y="256"/>
                    </a:moveTo>
                    <a:lnTo>
                      <a:pt x="0" y="0"/>
                    </a:lnTo>
                    <a:lnTo>
                      <a:pt x="336" y="0"/>
                    </a:lnTo>
                    <a:lnTo>
                      <a:pt x="336" y="248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2660760" y="2521080"/>
                <a:ext cx="26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1" name=""/>
              <p:cNvGrpSpPr/>
              <p:nvPr/>
            </p:nvGrpSpPr>
            <p:grpSpPr>
              <a:xfrm>
                <a:off x="3208320" y="2339640"/>
                <a:ext cx="1930320" cy="520920"/>
                <a:chOff x="3208320" y="2339640"/>
                <a:chExt cx="1930320" cy="520920"/>
              </a:xfrm>
            </p:grpSpPr>
            <p:sp>
              <p:nvSpPr>
                <p:cNvPr id="2292" name=""/>
                <p:cNvSpPr/>
                <p:nvPr/>
              </p:nvSpPr>
              <p:spPr>
                <a:xfrm>
                  <a:off x="3208320" y="2860560"/>
                  <a:ext cx="193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 flipV="1">
                  <a:off x="4020840" y="2339640"/>
                  <a:ext cx="0" cy="50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4" name=""/>
              <p:cNvSpPr/>
              <p:nvPr/>
            </p:nvSpPr>
            <p:spPr>
              <a:xfrm flipH="1">
                <a:off x="3359160" y="2533680"/>
                <a:ext cx="812880" cy="342720"/>
              </a:xfrm>
              <a:custGeom>
                <a:avLst/>
                <a:gdLst/>
                <a:ahLst/>
                <a:rect l="l" t="t" r="r" b="b"/>
                <a:pathLst>
                  <a:path w="512" h="216">
                    <a:moveTo>
                      <a:pt x="0" y="200"/>
                    </a:moveTo>
                    <a:lnTo>
                      <a:pt x="0" y="0"/>
                    </a:lnTo>
                    <a:lnTo>
                      <a:pt x="512" y="216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5" name=""/>
            <p:cNvSpPr/>
            <p:nvPr/>
          </p:nvSpPr>
          <p:spPr>
            <a:xfrm>
              <a:off x="4972320" y="252108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5261040" y="2335320"/>
            <a:ext cx="3688200" cy="549000"/>
            <a:chOff x="5261040" y="2335320"/>
            <a:chExt cx="3688200" cy="549000"/>
          </a:xfrm>
        </p:grpSpPr>
        <p:sp>
          <p:nvSpPr>
            <p:cNvPr id="2297" name=""/>
            <p:cNvSpPr/>
            <p:nvPr/>
          </p:nvSpPr>
          <p:spPr>
            <a:xfrm>
              <a:off x="7024680" y="251604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786280" y="2460600"/>
              <a:ext cx="533520" cy="40644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780160" y="2544840"/>
              <a:ext cx="401400" cy="314280"/>
            </a:xfrm>
            <a:custGeom>
              <a:avLst/>
              <a:gdLst/>
              <a:ahLst/>
              <a:rect l="l" t="t" r="r" b="b"/>
              <a:pathLst>
                <a:path w="253" h="198">
                  <a:moveTo>
                    <a:pt x="1" y="194"/>
                  </a:moveTo>
                  <a:lnTo>
                    <a:pt x="0" y="109"/>
                  </a:lnTo>
                  <a:lnTo>
                    <a:pt x="253" y="0"/>
                  </a:lnTo>
                  <a:lnTo>
                    <a:pt x="253" y="198"/>
                  </a:lnTo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H="1">
              <a:off x="5368320" y="2522520"/>
              <a:ext cx="812520" cy="34308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1" name=""/>
            <p:cNvGrpSpPr/>
            <p:nvPr/>
          </p:nvGrpSpPr>
          <p:grpSpPr>
            <a:xfrm>
              <a:off x="5261040" y="2335320"/>
              <a:ext cx="1930320" cy="520560"/>
              <a:chOff x="5261040" y="2335320"/>
              <a:chExt cx="1930320" cy="520560"/>
            </a:xfrm>
          </p:grpSpPr>
          <p:sp>
            <p:nvSpPr>
              <p:cNvPr id="2302" name=""/>
              <p:cNvSpPr/>
              <p:nvPr/>
            </p:nvSpPr>
            <p:spPr>
              <a:xfrm>
                <a:off x="5261040" y="285588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flipV="1">
                <a:off x="6073560" y="233532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4" name=""/>
            <p:cNvGrpSpPr/>
            <p:nvPr/>
          </p:nvGrpSpPr>
          <p:grpSpPr>
            <a:xfrm>
              <a:off x="6934320" y="2341080"/>
              <a:ext cx="1930320" cy="521280"/>
              <a:chOff x="6934320" y="2341080"/>
              <a:chExt cx="1930320" cy="521280"/>
            </a:xfrm>
          </p:grpSpPr>
          <p:sp>
            <p:nvSpPr>
              <p:cNvPr id="2305" name=""/>
              <p:cNvSpPr/>
              <p:nvPr/>
            </p:nvSpPr>
            <p:spPr>
              <a:xfrm>
                <a:off x="6934320" y="286236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V="1">
                <a:off x="7746840" y="234108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7" name=""/>
            <p:cNvSpPr/>
            <p:nvPr/>
          </p:nvSpPr>
          <p:spPr>
            <a:xfrm>
              <a:off x="8648280" y="24512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707240" y="259704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9" name=""/>
          <p:cNvGrpSpPr/>
          <p:nvPr/>
        </p:nvGrpSpPr>
        <p:grpSpPr>
          <a:xfrm>
            <a:off x="906480" y="3144960"/>
            <a:ext cx="8052120" cy="553680"/>
            <a:chOff x="906480" y="3144960"/>
            <a:chExt cx="8052120" cy="553680"/>
          </a:xfrm>
        </p:grpSpPr>
        <p:grpSp>
          <p:nvGrpSpPr>
            <p:cNvPr id="2310" name=""/>
            <p:cNvGrpSpPr/>
            <p:nvPr/>
          </p:nvGrpSpPr>
          <p:grpSpPr>
            <a:xfrm>
              <a:off x="906480" y="3149640"/>
              <a:ext cx="1930320" cy="520200"/>
              <a:chOff x="906480" y="3149640"/>
              <a:chExt cx="1930320" cy="520200"/>
            </a:xfrm>
          </p:grpSpPr>
          <p:sp>
            <p:nvSpPr>
              <p:cNvPr id="2311" name=""/>
              <p:cNvSpPr/>
              <p:nvPr/>
            </p:nvSpPr>
            <p:spPr>
              <a:xfrm>
                <a:off x="906480" y="366984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1719360" y="314964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3" name=""/>
            <p:cNvSpPr/>
            <p:nvPr/>
          </p:nvSpPr>
          <p:spPr>
            <a:xfrm>
              <a:off x="1884240" y="3263760"/>
              <a:ext cx="533520" cy="40608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670120" y="333036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5" name=""/>
            <p:cNvGrpSpPr/>
            <p:nvPr/>
          </p:nvGrpSpPr>
          <p:grpSpPr>
            <a:xfrm>
              <a:off x="3218040" y="3149640"/>
              <a:ext cx="1930320" cy="520200"/>
              <a:chOff x="3218040" y="3149640"/>
              <a:chExt cx="1930320" cy="520200"/>
            </a:xfrm>
          </p:grpSpPr>
          <p:sp>
            <p:nvSpPr>
              <p:cNvPr id="2316" name=""/>
              <p:cNvSpPr/>
              <p:nvPr/>
            </p:nvSpPr>
            <p:spPr>
              <a:xfrm>
                <a:off x="3218040" y="366984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flipV="1">
                <a:off x="4030560" y="314964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8" name=""/>
            <p:cNvSpPr/>
            <p:nvPr/>
          </p:nvSpPr>
          <p:spPr>
            <a:xfrm flipH="1">
              <a:off x="3511440" y="3343320"/>
              <a:ext cx="812880" cy="34236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981680" y="333036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034400" y="332568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788080" y="3351240"/>
              <a:ext cx="546120" cy="315360"/>
            </a:xfrm>
            <a:custGeom>
              <a:avLst/>
              <a:gdLst/>
              <a:ahLst/>
              <a:rect l="l" t="t" r="r" b="b"/>
              <a:pathLst>
                <a:path w="344" h="199">
                  <a:moveTo>
                    <a:pt x="0" y="196"/>
                  </a:moveTo>
                  <a:lnTo>
                    <a:pt x="4" y="144"/>
                  </a:lnTo>
                  <a:lnTo>
                    <a:pt x="344" y="0"/>
                  </a:lnTo>
                  <a:lnTo>
                    <a:pt x="338" y="199"/>
                  </a:lnTo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H="1">
              <a:off x="5578560" y="3332160"/>
              <a:ext cx="812880" cy="34236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3" name=""/>
            <p:cNvGrpSpPr/>
            <p:nvPr/>
          </p:nvGrpSpPr>
          <p:grpSpPr>
            <a:xfrm>
              <a:off x="5270400" y="3144960"/>
              <a:ext cx="1930680" cy="520560"/>
              <a:chOff x="5270400" y="3144960"/>
              <a:chExt cx="1930680" cy="520560"/>
            </a:xfrm>
          </p:grpSpPr>
          <p:sp>
            <p:nvSpPr>
              <p:cNvPr id="2324" name=""/>
              <p:cNvSpPr/>
              <p:nvPr/>
            </p:nvSpPr>
            <p:spPr>
              <a:xfrm>
                <a:off x="5270400" y="3665520"/>
                <a:ext cx="193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V="1">
                <a:off x="6083280" y="314496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6943680" y="3150720"/>
              <a:ext cx="1930320" cy="520560"/>
              <a:chOff x="6943680" y="3150720"/>
              <a:chExt cx="1930320" cy="520560"/>
            </a:xfrm>
          </p:grpSpPr>
          <p:sp>
            <p:nvSpPr>
              <p:cNvPr id="2327" name=""/>
              <p:cNvSpPr/>
              <p:nvPr/>
            </p:nvSpPr>
            <p:spPr>
              <a:xfrm>
                <a:off x="6943680" y="367128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V="1">
                <a:off x="7756200" y="3150720"/>
                <a:ext cx="0" cy="50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9" name=""/>
            <p:cNvSpPr/>
            <p:nvPr/>
          </p:nvSpPr>
          <p:spPr>
            <a:xfrm>
              <a:off x="8657640" y="32605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716960" y="3406680"/>
              <a:ext cx="115920" cy="885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796000" y="3270240"/>
              <a:ext cx="533520" cy="40608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7945560" y="3311280"/>
              <a:ext cx="115920" cy="885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3" name=""/>
          <p:cNvGrpSpPr/>
          <p:nvPr/>
        </p:nvGrpSpPr>
        <p:grpSpPr>
          <a:xfrm>
            <a:off x="896760" y="3825360"/>
            <a:ext cx="8061840" cy="2137320"/>
            <a:chOff x="896760" y="3825360"/>
            <a:chExt cx="8061840" cy="2137320"/>
          </a:xfrm>
        </p:grpSpPr>
        <p:sp>
          <p:nvSpPr>
            <p:cNvPr id="2334" name=""/>
            <p:cNvSpPr/>
            <p:nvPr/>
          </p:nvSpPr>
          <p:spPr>
            <a:xfrm>
              <a:off x="7321680" y="5595840"/>
              <a:ext cx="1110960" cy="336600"/>
            </a:xfrm>
            <a:custGeom>
              <a:avLst/>
              <a:gdLst/>
              <a:ahLst/>
              <a:rect l="l" t="t" r="r" b="b"/>
              <a:pathLst>
                <a:path w="700" h="212">
                  <a:moveTo>
                    <a:pt x="700" y="208"/>
                  </a:moveTo>
                  <a:lnTo>
                    <a:pt x="428" y="0"/>
                  </a:lnTo>
                  <a:lnTo>
                    <a:pt x="0" y="212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5" name=""/>
            <p:cNvGrpSpPr/>
            <p:nvPr/>
          </p:nvGrpSpPr>
          <p:grpSpPr>
            <a:xfrm>
              <a:off x="901800" y="3830400"/>
              <a:ext cx="1930320" cy="520920"/>
              <a:chOff x="901800" y="3830400"/>
              <a:chExt cx="1930320" cy="520920"/>
            </a:xfrm>
          </p:grpSpPr>
          <p:sp>
            <p:nvSpPr>
              <p:cNvPr id="2336" name=""/>
              <p:cNvSpPr/>
              <p:nvPr/>
            </p:nvSpPr>
            <p:spPr>
              <a:xfrm>
                <a:off x="901800" y="435132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V="1">
                <a:off x="1714680" y="383040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8" name=""/>
            <p:cNvSpPr/>
            <p:nvPr/>
          </p:nvSpPr>
          <p:spPr>
            <a:xfrm>
              <a:off x="1879560" y="3944880"/>
              <a:ext cx="533520" cy="40644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665440" y="401148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0" name=""/>
            <p:cNvGrpSpPr/>
            <p:nvPr/>
          </p:nvGrpSpPr>
          <p:grpSpPr>
            <a:xfrm>
              <a:off x="3213000" y="3830400"/>
              <a:ext cx="1930320" cy="520920"/>
              <a:chOff x="3213000" y="3830400"/>
              <a:chExt cx="1930320" cy="520920"/>
            </a:xfrm>
          </p:grpSpPr>
          <p:sp>
            <p:nvSpPr>
              <p:cNvPr id="2341" name=""/>
              <p:cNvSpPr/>
              <p:nvPr/>
            </p:nvSpPr>
            <p:spPr>
              <a:xfrm>
                <a:off x="3213000" y="435132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V="1">
                <a:off x="4025520" y="383040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3" name=""/>
            <p:cNvSpPr/>
            <p:nvPr/>
          </p:nvSpPr>
          <p:spPr>
            <a:xfrm flipH="1">
              <a:off x="3763800" y="4024440"/>
              <a:ext cx="812880" cy="34272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977000" y="401148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029720" y="400680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934240" y="4173480"/>
              <a:ext cx="388800" cy="171360"/>
            </a:xfrm>
            <a:custGeom>
              <a:avLst/>
              <a:gdLst/>
              <a:ahLst/>
              <a:rect l="l" t="t" r="r" b="b"/>
              <a:pathLst>
                <a:path w="245" h="108">
                  <a:moveTo>
                    <a:pt x="0" y="108"/>
                  </a:moveTo>
                  <a:lnTo>
                    <a:pt x="245" y="0"/>
                  </a:lnTo>
                  <a:lnTo>
                    <a:pt x="236" y="104"/>
                  </a:lnTo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5830920" y="4013280"/>
              <a:ext cx="812880" cy="34272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8" name=""/>
            <p:cNvGrpSpPr/>
            <p:nvPr/>
          </p:nvGrpSpPr>
          <p:grpSpPr>
            <a:xfrm>
              <a:off x="5265720" y="3825360"/>
              <a:ext cx="1930320" cy="521280"/>
              <a:chOff x="5265720" y="3825360"/>
              <a:chExt cx="1930320" cy="521280"/>
            </a:xfrm>
          </p:grpSpPr>
          <p:sp>
            <p:nvSpPr>
              <p:cNvPr id="2349" name=""/>
              <p:cNvSpPr/>
              <p:nvPr/>
            </p:nvSpPr>
            <p:spPr>
              <a:xfrm>
                <a:off x="5265720" y="434664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flipV="1">
                <a:off x="6078240" y="382536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1" name=""/>
            <p:cNvGrpSpPr/>
            <p:nvPr/>
          </p:nvGrpSpPr>
          <p:grpSpPr>
            <a:xfrm>
              <a:off x="6939000" y="3832200"/>
              <a:ext cx="1930320" cy="520560"/>
              <a:chOff x="6939000" y="3832200"/>
              <a:chExt cx="1930320" cy="520560"/>
            </a:xfrm>
          </p:grpSpPr>
          <p:sp>
            <p:nvSpPr>
              <p:cNvPr id="2352" name=""/>
              <p:cNvSpPr/>
              <p:nvPr/>
            </p:nvSpPr>
            <p:spPr>
              <a:xfrm>
                <a:off x="6939000" y="435276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flipV="1">
                <a:off x="7751520" y="383220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4" name=""/>
            <p:cNvSpPr/>
            <p:nvPr/>
          </p:nvSpPr>
          <p:spPr>
            <a:xfrm>
              <a:off x="8652960" y="3941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711920" y="408780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791320" y="3951360"/>
              <a:ext cx="533160" cy="40644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7940520" y="399240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175600" y="414504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9" name=""/>
            <p:cNvGrpSpPr/>
            <p:nvPr/>
          </p:nvGrpSpPr>
          <p:grpSpPr>
            <a:xfrm>
              <a:off x="896760" y="4554360"/>
              <a:ext cx="1930320" cy="520920"/>
              <a:chOff x="896760" y="4554360"/>
              <a:chExt cx="1930320" cy="520920"/>
            </a:xfrm>
          </p:grpSpPr>
          <p:sp>
            <p:nvSpPr>
              <p:cNvPr id="2360" name=""/>
              <p:cNvSpPr/>
              <p:nvPr/>
            </p:nvSpPr>
            <p:spPr>
              <a:xfrm>
                <a:off x="896760" y="507528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V="1">
                <a:off x="1709640" y="4554360"/>
                <a:ext cx="0" cy="50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2" name=""/>
            <p:cNvSpPr/>
            <p:nvPr/>
          </p:nvSpPr>
          <p:spPr>
            <a:xfrm>
              <a:off x="1874880" y="4668840"/>
              <a:ext cx="533520" cy="40644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660760" y="473544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4" name=""/>
            <p:cNvGrpSpPr/>
            <p:nvPr/>
          </p:nvGrpSpPr>
          <p:grpSpPr>
            <a:xfrm>
              <a:off x="3208320" y="4554360"/>
              <a:ext cx="1930320" cy="520920"/>
              <a:chOff x="3208320" y="4554360"/>
              <a:chExt cx="1930320" cy="520920"/>
            </a:xfrm>
          </p:grpSpPr>
          <p:sp>
            <p:nvSpPr>
              <p:cNvPr id="2365" name=""/>
              <p:cNvSpPr/>
              <p:nvPr/>
            </p:nvSpPr>
            <p:spPr>
              <a:xfrm>
                <a:off x="3208320" y="507528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flipV="1">
                <a:off x="4020840" y="4554360"/>
                <a:ext cx="0" cy="50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7" name=""/>
            <p:cNvSpPr/>
            <p:nvPr/>
          </p:nvSpPr>
          <p:spPr>
            <a:xfrm flipH="1">
              <a:off x="4173480" y="4748040"/>
              <a:ext cx="812880" cy="34308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972320" y="473544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024680" y="473076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>
              <a:off x="6239880" y="4737240"/>
              <a:ext cx="812520" cy="34272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1" name=""/>
            <p:cNvGrpSpPr/>
            <p:nvPr/>
          </p:nvGrpSpPr>
          <p:grpSpPr>
            <a:xfrm>
              <a:off x="5261040" y="4549320"/>
              <a:ext cx="1930320" cy="521280"/>
              <a:chOff x="5261040" y="4549320"/>
              <a:chExt cx="1930320" cy="521280"/>
            </a:xfrm>
          </p:grpSpPr>
          <p:sp>
            <p:nvSpPr>
              <p:cNvPr id="2372" name=""/>
              <p:cNvSpPr/>
              <p:nvPr/>
            </p:nvSpPr>
            <p:spPr>
              <a:xfrm>
                <a:off x="5261040" y="507060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V="1">
                <a:off x="6073560" y="454932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6934320" y="4556160"/>
              <a:ext cx="1930320" cy="520560"/>
              <a:chOff x="6934320" y="4556160"/>
              <a:chExt cx="1930320" cy="520560"/>
            </a:xfrm>
          </p:grpSpPr>
          <p:sp>
            <p:nvSpPr>
              <p:cNvPr id="2375" name=""/>
              <p:cNvSpPr/>
              <p:nvPr/>
            </p:nvSpPr>
            <p:spPr>
              <a:xfrm>
                <a:off x="6934320" y="507672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V="1">
                <a:off x="7746840" y="455616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7" name=""/>
            <p:cNvSpPr/>
            <p:nvPr/>
          </p:nvSpPr>
          <p:spPr>
            <a:xfrm>
              <a:off x="8648280" y="46656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707240" y="481176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786280" y="4675320"/>
              <a:ext cx="533520" cy="40644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935840" y="471636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8142120" y="486900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366040" y="502128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3" name=""/>
            <p:cNvGrpSpPr/>
            <p:nvPr/>
          </p:nvGrpSpPr>
          <p:grpSpPr>
            <a:xfrm>
              <a:off x="906480" y="5406840"/>
              <a:ext cx="1930320" cy="520920"/>
              <a:chOff x="906480" y="5406840"/>
              <a:chExt cx="1930320" cy="520920"/>
            </a:xfrm>
          </p:grpSpPr>
          <p:sp>
            <p:nvSpPr>
              <p:cNvPr id="2384" name=""/>
              <p:cNvSpPr/>
              <p:nvPr/>
            </p:nvSpPr>
            <p:spPr>
              <a:xfrm>
                <a:off x="906480" y="592776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V="1">
                <a:off x="1719360" y="540684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6" name=""/>
            <p:cNvSpPr/>
            <p:nvPr/>
          </p:nvSpPr>
          <p:spPr>
            <a:xfrm>
              <a:off x="1884240" y="5521320"/>
              <a:ext cx="533520" cy="40644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670120" y="558792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8" name=""/>
            <p:cNvGrpSpPr/>
            <p:nvPr/>
          </p:nvGrpSpPr>
          <p:grpSpPr>
            <a:xfrm>
              <a:off x="3218040" y="5406840"/>
              <a:ext cx="1930320" cy="520920"/>
              <a:chOff x="3218040" y="5406840"/>
              <a:chExt cx="1930320" cy="520920"/>
            </a:xfrm>
          </p:grpSpPr>
          <p:sp>
            <p:nvSpPr>
              <p:cNvPr id="2389" name=""/>
              <p:cNvSpPr/>
              <p:nvPr/>
            </p:nvSpPr>
            <p:spPr>
              <a:xfrm>
                <a:off x="3218040" y="592776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V="1">
                <a:off x="4030560" y="540684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1" name=""/>
            <p:cNvSpPr/>
            <p:nvPr/>
          </p:nvSpPr>
          <p:spPr>
            <a:xfrm flipH="1">
              <a:off x="3054240" y="5600880"/>
              <a:ext cx="812880" cy="34272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981680" y="558792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034400" y="5583240"/>
              <a:ext cx="2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>
              <a:off x="5121360" y="5589720"/>
              <a:ext cx="812880" cy="342720"/>
            </a:xfrm>
            <a:custGeom>
              <a:avLst/>
              <a:gdLst/>
              <a:ahLst/>
              <a:rect l="l" t="t" r="r" b="b"/>
              <a:pathLst>
                <a:path w="512" h="216">
                  <a:moveTo>
                    <a:pt x="0" y="200"/>
                  </a:moveTo>
                  <a:lnTo>
                    <a:pt x="0" y="0"/>
                  </a:lnTo>
                  <a:lnTo>
                    <a:pt x="512" y="21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5" name=""/>
            <p:cNvGrpSpPr/>
            <p:nvPr/>
          </p:nvGrpSpPr>
          <p:grpSpPr>
            <a:xfrm>
              <a:off x="5270400" y="5401800"/>
              <a:ext cx="1930680" cy="521280"/>
              <a:chOff x="5270400" y="5401800"/>
              <a:chExt cx="1930680" cy="521280"/>
            </a:xfrm>
          </p:grpSpPr>
          <p:sp>
            <p:nvSpPr>
              <p:cNvPr id="2396" name=""/>
              <p:cNvSpPr/>
              <p:nvPr/>
            </p:nvSpPr>
            <p:spPr>
              <a:xfrm>
                <a:off x="5270400" y="5923080"/>
                <a:ext cx="193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6083280" y="540180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8" name=""/>
            <p:cNvGrpSpPr/>
            <p:nvPr/>
          </p:nvGrpSpPr>
          <p:grpSpPr>
            <a:xfrm>
              <a:off x="6943680" y="5408640"/>
              <a:ext cx="1930320" cy="520560"/>
              <a:chOff x="6943680" y="5408640"/>
              <a:chExt cx="1930320" cy="520560"/>
            </a:xfrm>
          </p:grpSpPr>
          <p:sp>
            <p:nvSpPr>
              <p:cNvPr id="2399" name=""/>
              <p:cNvSpPr/>
              <p:nvPr/>
            </p:nvSpPr>
            <p:spPr>
              <a:xfrm>
                <a:off x="6943680" y="592920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V="1">
                <a:off x="7756200" y="5408640"/>
                <a:ext cx="0" cy="50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1" name=""/>
            <p:cNvSpPr/>
            <p:nvPr/>
          </p:nvSpPr>
          <p:spPr>
            <a:xfrm>
              <a:off x="8657640" y="5518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716960" y="566424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796000" y="5527800"/>
              <a:ext cx="533520" cy="406440"/>
            </a:xfrm>
            <a:custGeom>
              <a:avLst/>
              <a:gdLst/>
              <a:ahLst/>
              <a:rect l="l" t="t" r="r" b="b"/>
              <a:pathLst>
                <a:path w="336" h="256">
                  <a:moveTo>
                    <a:pt x="0" y="25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248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945560" y="556884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151840" y="572148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375760" y="587376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797440" y="5589720"/>
              <a:ext cx="133560" cy="336240"/>
            </a:xfrm>
            <a:custGeom>
              <a:avLst/>
              <a:gdLst/>
              <a:ahLst/>
              <a:rect l="l" t="t" r="r" b="b"/>
              <a:pathLst>
                <a:path w="84" h="212">
                  <a:moveTo>
                    <a:pt x="84" y="212"/>
                  </a:moveTo>
                  <a:lnTo>
                    <a:pt x="84" y="0"/>
                  </a:lnTo>
                  <a:lnTo>
                    <a:pt x="4" y="36"/>
                  </a:lnTo>
                  <a:lnTo>
                    <a:pt x="0" y="212"/>
                  </a:lnTo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469280" y="5791320"/>
              <a:ext cx="115920" cy="8892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9" name=""/>
          <p:cNvSpPr/>
          <p:nvPr/>
        </p:nvSpPr>
        <p:spPr>
          <a:xfrm>
            <a:off x="259200" y="6345360"/>
            <a:ext cx="8417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eeling resultant : convolution attenue la raideur des  bords :   li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0" name=""/>
          <p:cNvGrpSpPr/>
          <p:nvPr/>
        </p:nvGrpSpPr>
        <p:grpSpPr>
          <a:xfrm>
            <a:off x="119520" y="1854360"/>
            <a:ext cx="8006040" cy="398880"/>
            <a:chOff x="119520" y="1854360"/>
            <a:chExt cx="8006040" cy="398880"/>
          </a:xfrm>
        </p:grpSpPr>
        <p:sp>
          <p:nvSpPr>
            <p:cNvPr id="2411" name=""/>
            <p:cNvSpPr/>
            <p:nvPr/>
          </p:nvSpPr>
          <p:spPr>
            <a:xfrm>
              <a:off x="1455480" y="1854360"/>
              <a:ext cx="51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574080" y="185436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g(x -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447880" y="1854360"/>
              <a:ext cx="126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(t).g(x -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501320" y="185436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h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19520" y="185436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écal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6" name=""/>
          <p:cNvGrpSpPr/>
          <p:nvPr/>
        </p:nvGrpSpPr>
        <p:grpSpPr>
          <a:xfrm>
            <a:off x="4062240" y="760320"/>
            <a:ext cx="4811760" cy="912960"/>
            <a:chOff x="4062240" y="760320"/>
            <a:chExt cx="4811760" cy="912960"/>
          </a:xfrm>
        </p:grpSpPr>
        <p:grpSp>
          <p:nvGrpSpPr>
            <p:cNvPr id="2417" name=""/>
            <p:cNvGrpSpPr/>
            <p:nvPr/>
          </p:nvGrpSpPr>
          <p:grpSpPr>
            <a:xfrm>
              <a:off x="4535640" y="760320"/>
              <a:ext cx="4338360" cy="912960"/>
              <a:chOff x="4535640" y="760320"/>
              <a:chExt cx="4338360" cy="912960"/>
            </a:xfrm>
          </p:grpSpPr>
          <p:sp>
            <p:nvSpPr>
              <p:cNvPr id="2418" name=""/>
              <p:cNvSpPr/>
              <p:nvPr/>
            </p:nvSpPr>
            <p:spPr>
              <a:xfrm>
                <a:off x="4535640" y="1644480"/>
                <a:ext cx="19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V="1">
                <a:off x="5348520" y="112356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513400" y="1238400"/>
                <a:ext cx="533520" cy="406080"/>
              </a:xfrm>
              <a:custGeom>
                <a:avLst/>
                <a:gdLst/>
                <a:ahLst/>
                <a:rect l="l" t="t" r="r" b="b"/>
                <a:pathLst>
                  <a:path w="336" h="256">
                    <a:moveTo>
                      <a:pt x="0" y="256"/>
                    </a:moveTo>
                    <a:lnTo>
                      <a:pt x="0" y="0"/>
                    </a:lnTo>
                    <a:lnTo>
                      <a:pt x="336" y="0"/>
                    </a:lnTo>
                    <a:lnTo>
                      <a:pt x="336" y="248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6299280" y="1305000"/>
                <a:ext cx="26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094000" y="760320"/>
                <a:ext cx="51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(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6846840" y="1644480"/>
                <a:ext cx="193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V="1">
                <a:off x="7659720" y="1123560"/>
                <a:ext cx="0" cy="50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540560" y="1317600"/>
                <a:ext cx="812880" cy="343080"/>
              </a:xfrm>
              <a:custGeom>
                <a:avLst/>
                <a:gdLst/>
                <a:ahLst/>
                <a:rect l="l" t="t" r="r" b="b"/>
                <a:pathLst>
                  <a:path w="512" h="216">
                    <a:moveTo>
                      <a:pt x="0" y="200"/>
                    </a:moveTo>
                    <a:lnTo>
                      <a:pt x="0" y="0"/>
                    </a:lnTo>
                    <a:lnTo>
                      <a:pt x="512" y="216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8610840" y="1305000"/>
                <a:ext cx="26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373880" y="760320"/>
                <a:ext cx="58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g(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8" name=""/>
            <p:cNvSpPr/>
            <p:nvPr/>
          </p:nvSpPr>
          <p:spPr>
            <a:xfrm>
              <a:off x="4062240" y="123660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é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9183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volution_3   travaux pra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0" name=""/>
          <p:cNvGrpSpPr/>
          <p:nvPr/>
        </p:nvGrpSpPr>
        <p:grpSpPr>
          <a:xfrm>
            <a:off x="735120" y="1085760"/>
            <a:ext cx="7956720" cy="1446840"/>
            <a:chOff x="735120" y="1085760"/>
            <a:chExt cx="7956720" cy="1446840"/>
          </a:xfrm>
        </p:grpSpPr>
        <p:sp>
          <p:nvSpPr>
            <p:cNvPr id="2431" name=""/>
            <p:cNvSpPr/>
            <p:nvPr/>
          </p:nvSpPr>
          <p:spPr>
            <a:xfrm>
              <a:off x="735120" y="2055960"/>
              <a:ext cx="18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V="1">
              <a:off x="1687680" y="127332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2472840" y="168264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1122120" y="1085760"/>
              <a:ext cx="51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315960" y="109368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g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125120" y="112068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h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573880" y="2050920"/>
              <a:ext cx="29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V="1">
              <a:off x="7083360" y="126828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376840" y="16779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0" name=""/>
            <p:cNvGrpSpPr/>
            <p:nvPr/>
          </p:nvGrpSpPr>
          <p:grpSpPr>
            <a:xfrm>
              <a:off x="1106640" y="1785960"/>
              <a:ext cx="1152360" cy="274680"/>
              <a:chOff x="1106640" y="1785960"/>
              <a:chExt cx="1152360" cy="274680"/>
            </a:xfrm>
          </p:grpSpPr>
          <p:sp>
            <p:nvSpPr>
              <p:cNvPr id="2441" name=""/>
              <p:cNvSpPr/>
              <p:nvPr/>
            </p:nvSpPr>
            <p:spPr>
              <a:xfrm>
                <a:off x="1106640" y="1785960"/>
                <a:ext cx="218880" cy="27468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2040120" y="1785960"/>
                <a:ext cx="218880" cy="27468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3" name=""/>
            <p:cNvSpPr/>
            <p:nvPr/>
          </p:nvSpPr>
          <p:spPr>
            <a:xfrm>
              <a:off x="2987640" y="2050920"/>
              <a:ext cx="18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V="1">
              <a:off x="3940200" y="126828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725360" y="167796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6" name=""/>
            <p:cNvGrpSpPr/>
            <p:nvPr/>
          </p:nvGrpSpPr>
          <p:grpSpPr>
            <a:xfrm>
              <a:off x="3359160" y="1781280"/>
              <a:ext cx="1152360" cy="274680"/>
              <a:chOff x="3359160" y="1781280"/>
              <a:chExt cx="1152360" cy="274680"/>
            </a:xfrm>
          </p:grpSpPr>
          <p:sp>
            <p:nvSpPr>
              <p:cNvPr id="2447" name=""/>
              <p:cNvSpPr/>
              <p:nvPr/>
            </p:nvSpPr>
            <p:spPr>
              <a:xfrm>
                <a:off x="3359160" y="1781280"/>
                <a:ext cx="218880" cy="27468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292640" y="1781280"/>
                <a:ext cx="218880" cy="27468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9" name=""/>
            <p:cNvSpPr/>
            <p:nvPr/>
          </p:nvSpPr>
          <p:spPr>
            <a:xfrm>
              <a:off x="5873760" y="1766880"/>
              <a:ext cx="479520" cy="289080"/>
            </a:xfrm>
            <a:custGeom>
              <a:avLst/>
              <a:gdLst/>
              <a:ahLst/>
              <a:rect l="l" t="t" r="r" b="b"/>
              <a:pathLst>
                <a:path w="302" h="182">
                  <a:moveTo>
                    <a:pt x="0" y="173"/>
                  </a:moveTo>
                  <a:lnTo>
                    <a:pt x="155" y="0"/>
                  </a:lnTo>
                  <a:lnTo>
                    <a:pt x="302" y="18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0" name=""/>
            <p:cNvGrpSpPr/>
            <p:nvPr/>
          </p:nvGrpSpPr>
          <p:grpSpPr>
            <a:xfrm>
              <a:off x="6518160" y="1763640"/>
              <a:ext cx="1152360" cy="274680"/>
              <a:chOff x="6518160" y="1763640"/>
              <a:chExt cx="1152360" cy="274680"/>
            </a:xfrm>
          </p:grpSpPr>
          <p:sp>
            <p:nvSpPr>
              <p:cNvPr id="2451" name=""/>
              <p:cNvSpPr/>
              <p:nvPr/>
            </p:nvSpPr>
            <p:spPr>
              <a:xfrm>
                <a:off x="6518160" y="1763640"/>
                <a:ext cx="218880" cy="27468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19080">
                <a:solidFill>
                  <a:srgbClr val="3333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451640" y="1763640"/>
                <a:ext cx="218880" cy="27468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19080">
                <a:solidFill>
                  <a:srgbClr val="3333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3" name=""/>
            <p:cNvSpPr/>
            <p:nvPr/>
          </p:nvSpPr>
          <p:spPr>
            <a:xfrm>
              <a:off x="6854760" y="1457280"/>
              <a:ext cx="479520" cy="593640"/>
            </a:xfrm>
            <a:custGeom>
              <a:avLst/>
              <a:gdLst/>
              <a:ahLst/>
              <a:rect l="l" t="t" r="r" b="b"/>
              <a:pathLst>
                <a:path w="302" h="182">
                  <a:moveTo>
                    <a:pt x="0" y="173"/>
                  </a:moveTo>
                  <a:lnTo>
                    <a:pt x="155" y="0"/>
                  </a:lnTo>
                  <a:lnTo>
                    <a:pt x="302" y="18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821720" y="1771560"/>
              <a:ext cx="479160" cy="289080"/>
            </a:xfrm>
            <a:custGeom>
              <a:avLst/>
              <a:gdLst/>
              <a:ahLst/>
              <a:rect l="l" t="t" r="r" b="b"/>
              <a:pathLst>
                <a:path w="302" h="182">
                  <a:moveTo>
                    <a:pt x="0" y="173"/>
                  </a:moveTo>
                  <a:lnTo>
                    <a:pt x="155" y="0"/>
                  </a:lnTo>
                  <a:lnTo>
                    <a:pt x="302" y="18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204920" y="2160720"/>
              <a:ext cx="9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447920" y="213372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486240" y="2155680"/>
              <a:ext cx="9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729240" y="212868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110280" y="2151000"/>
              <a:ext cx="9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353280" y="21240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120080" y="2160720"/>
              <a:ext cx="9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363080" y="213372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3" name=""/>
          <p:cNvGrpSpPr/>
          <p:nvPr/>
        </p:nvGrpSpPr>
        <p:grpSpPr>
          <a:xfrm>
            <a:off x="735120" y="2557440"/>
            <a:ext cx="7956720" cy="1373760"/>
            <a:chOff x="735120" y="2557440"/>
            <a:chExt cx="7956720" cy="1373760"/>
          </a:xfrm>
        </p:grpSpPr>
        <p:sp>
          <p:nvSpPr>
            <p:cNvPr id="2464" name=""/>
            <p:cNvSpPr/>
            <p:nvPr/>
          </p:nvSpPr>
          <p:spPr>
            <a:xfrm>
              <a:off x="735120" y="3527280"/>
              <a:ext cx="18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1687680" y="274464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472840" y="315432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1122120" y="2557440"/>
              <a:ext cx="51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3315960" y="256536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g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7125120" y="259236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h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573880" y="3522600"/>
              <a:ext cx="29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V="1">
              <a:off x="7083360" y="273996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8376840" y="31496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463760" y="3257640"/>
              <a:ext cx="465120" cy="274680"/>
            </a:xfrm>
            <a:custGeom>
              <a:avLst/>
              <a:gdLst/>
              <a:ahLst/>
              <a:rect l="l" t="t" r="r" b="b"/>
              <a:pathLst>
                <a:path w="320" h="301">
                  <a:moveTo>
                    <a:pt x="0" y="292"/>
                  </a:moveTo>
                  <a:lnTo>
                    <a:pt x="0" y="0"/>
                  </a:lnTo>
                  <a:lnTo>
                    <a:pt x="320" y="0"/>
                  </a:lnTo>
                  <a:lnTo>
                    <a:pt x="320" y="301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987640" y="3522600"/>
              <a:ext cx="185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V="1">
              <a:off x="3940200" y="2739960"/>
              <a:ext cx="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725360" y="314964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3970440" y="36320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3998880" y="35323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132680" y="362412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161120" y="35244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4094280" y="3181320"/>
              <a:ext cx="536400" cy="349200"/>
            </a:xfrm>
            <a:custGeom>
              <a:avLst/>
              <a:gdLst/>
              <a:ahLst/>
              <a:rect l="l" t="t" r="r" b="b"/>
              <a:pathLst>
                <a:path w="146" h="220">
                  <a:moveTo>
                    <a:pt x="0" y="220"/>
                  </a:moveTo>
                  <a:lnTo>
                    <a:pt x="82" y="0"/>
                  </a:lnTo>
                  <a:lnTo>
                    <a:pt x="146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937200" y="3267000"/>
              <a:ext cx="1162080" cy="263520"/>
            </a:xfrm>
            <a:custGeom>
              <a:avLst/>
              <a:gdLst/>
              <a:ahLst/>
              <a:rect l="l" t="t" r="r" b="b"/>
              <a:pathLst>
                <a:path w="732" h="166">
                  <a:moveTo>
                    <a:pt x="0" y="166"/>
                  </a:moveTo>
                  <a:lnTo>
                    <a:pt x="221" y="0"/>
                  </a:lnTo>
                  <a:lnTo>
                    <a:pt x="514" y="0"/>
                  </a:lnTo>
                  <a:lnTo>
                    <a:pt x="732" y="1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3" name=""/>
          <p:cNvGrpSpPr/>
          <p:nvPr/>
        </p:nvGrpSpPr>
        <p:grpSpPr>
          <a:xfrm>
            <a:off x="717480" y="4044960"/>
            <a:ext cx="8340840" cy="1977480"/>
            <a:chOff x="717480" y="4044960"/>
            <a:chExt cx="8340840" cy="1977480"/>
          </a:xfrm>
        </p:grpSpPr>
        <p:grpSp>
          <p:nvGrpSpPr>
            <p:cNvPr id="2484" name=""/>
            <p:cNvGrpSpPr/>
            <p:nvPr/>
          </p:nvGrpSpPr>
          <p:grpSpPr>
            <a:xfrm>
              <a:off x="717480" y="4044960"/>
              <a:ext cx="8340840" cy="1532160"/>
              <a:chOff x="717480" y="4044960"/>
              <a:chExt cx="8340840" cy="1532160"/>
            </a:xfrm>
          </p:grpSpPr>
          <p:sp>
            <p:nvSpPr>
              <p:cNvPr id="2485" name=""/>
              <p:cNvSpPr/>
              <p:nvPr/>
            </p:nvSpPr>
            <p:spPr>
              <a:xfrm>
                <a:off x="717480" y="5173560"/>
                <a:ext cx="18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V="1">
                <a:off x="1670040" y="4390560"/>
                <a:ext cx="0" cy="78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2455560" y="4800240"/>
                <a:ext cx="27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1136520" y="4089240"/>
                <a:ext cx="123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(t) =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3328920" y="4044960"/>
                <a:ext cx="165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g(t) =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t – a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140240" y="4124160"/>
                <a:ext cx="191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h(x) =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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x – a)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599080" y="5168520"/>
                <a:ext cx="298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V="1">
                <a:off x="7108920" y="4385520"/>
                <a:ext cx="0" cy="78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8402400" y="47955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1474920" y="4903560"/>
                <a:ext cx="379440" cy="25992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2970360" y="5168520"/>
                <a:ext cx="185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V="1">
                <a:off x="3922560" y="4385520"/>
                <a:ext cx="0" cy="78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4708080" y="4795560"/>
                <a:ext cx="27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3952800" y="5278320"/>
                <a:ext cx="42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3981600" y="517824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V="1">
                <a:off x="4343400" y="4847760"/>
                <a:ext cx="0" cy="304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342200" y="4898880"/>
                <a:ext cx="379440" cy="259920"/>
              </a:xfrm>
              <a:custGeom>
                <a:avLst/>
                <a:gdLst/>
                <a:ahLst/>
                <a:rect l="l" t="t" r="r" b="b"/>
                <a:pathLst>
                  <a:path w="320" h="301">
                    <a:moveTo>
                      <a:pt x="0" y="292"/>
                    </a:moveTo>
                    <a:lnTo>
                      <a:pt x="0" y="0"/>
                    </a:lnTo>
                    <a:lnTo>
                      <a:pt x="320" y="0"/>
                    </a:lnTo>
                    <a:lnTo>
                      <a:pt x="320" y="301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157880" y="5270400"/>
                <a:ext cx="42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186680" y="517032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04" name=""/>
                <p:cNvSpPr txBox="1"/>
                <p:nvPr/>
              </p:nvSpPr>
              <p:spPr>
                <a:xfrm>
                  <a:off x="2001960" y="5468760"/>
                  <a:ext cx="5052960" cy="55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∗</m:t>
                      </m:r>
                      <m:r>
                        <m:t xml:space="preserve"> </m:t>
                      </m:r>
                      <m:r>
                        <m:t xml:space="preserve">δ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Π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74376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volution_4    on le fait aussi avec deux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6" name=""/>
          <p:cNvGrpSpPr/>
          <p:nvPr/>
        </p:nvGrpSpPr>
        <p:grpSpPr>
          <a:xfrm>
            <a:off x="206280" y="2684520"/>
            <a:ext cx="8302680" cy="1985040"/>
            <a:chOff x="206280" y="2684520"/>
            <a:chExt cx="8302680" cy="1985040"/>
          </a:xfrm>
        </p:grpSpPr>
        <p:sp>
          <p:nvSpPr>
            <p:cNvPr id="2507" name=""/>
            <p:cNvSpPr/>
            <p:nvPr/>
          </p:nvSpPr>
          <p:spPr>
            <a:xfrm>
              <a:off x="452160" y="268452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illus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8" name=""/>
            <p:cNvGrpSpPr/>
            <p:nvPr/>
          </p:nvGrpSpPr>
          <p:grpSpPr>
            <a:xfrm>
              <a:off x="206280" y="3094200"/>
              <a:ext cx="8302680" cy="1575360"/>
              <a:chOff x="206280" y="3094200"/>
              <a:chExt cx="8302680" cy="1575360"/>
            </a:xfrm>
          </p:grpSpPr>
          <p:pic>
            <p:nvPicPr>
              <p:cNvPr id="25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11440" y="3309480"/>
                <a:ext cx="641520" cy="105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10" name=""/>
              <p:cNvGrpSpPr/>
              <p:nvPr/>
            </p:nvGrpSpPr>
            <p:grpSpPr>
              <a:xfrm>
                <a:off x="2984760" y="3771360"/>
                <a:ext cx="352440" cy="352800"/>
                <a:chOff x="2984760" y="3771360"/>
                <a:chExt cx="352440" cy="352800"/>
              </a:xfrm>
            </p:grpSpPr>
            <p:grpSp>
              <p:nvGrpSpPr>
                <p:cNvPr id="2511" name=""/>
                <p:cNvGrpSpPr/>
                <p:nvPr/>
              </p:nvGrpSpPr>
              <p:grpSpPr>
                <a:xfrm>
                  <a:off x="3015720" y="3809880"/>
                  <a:ext cx="260280" cy="254880"/>
                  <a:chOff x="3015720" y="3809880"/>
                  <a:chExt cx="260280" cy="254880"/>
                </a:xfrm>
              </p:grpSpPr>
              <p:sp>
                <p:nvSpPr>
                  <p:cNvPr id="2512" name=""/>
                  <p:cNvSpPr/>
                  <p:nvPr/>
                </p:nvSpPr>
                <p:spPr>
                  <a:xfrm>
                    <a:off x="3026520" y="3809880"/>
                    <a:ext cx="249480" cy="249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3" name=""/>
                  <p:cNvSpPr/>
                  <p:nvPr/>
                </p:nvSpPr>
                <p:spPr>
                  <a:xfrm flipH="1">
                    <a:off x="3015720" y="3815280"/>
                    <a:ext cx="249480" cy="249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4" name=""/>
                <p:cNvGrpSpPr/>
                <p:nvPr/>
              </p:nvGrpSpPr>
              <p:grpSpPr>
                <a:xfrm>
                  <a:off x="2984760" y="3771360"/>
                  <a:ext cx="352440" cy="352800"/>
                  <a:chOff x="2984760" y="3771360"/>
                  <a:chExt cx="352440" cy="352800"/>
                </a:xfrm>
              </p:grpSpPr>
              <p:sp>
                <p:nvSpPr>
                  <p:cNvPr id="2515" name=""/>
                  <p:cNvSpPr/>
                  <p:nvPr/>
                </p:nvSpPr>
                <p:spPr>
                  <a:xfrm>
                    <a:off x="2984760" y="3935520"/>
                    <a:ext cx="352440" cy="21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6" name=""/>
                  <p:cNvSpPr/>
                  <p:nvPr/>
                </p:nvSpPr>
                <p:spPr>
                  <a:xfrm flipH="1">
                    <a:off x="3155400" y="3771360"/>
                    <a:ext cx="2880" cy="3528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17" name=""/>
              <p:cNvSpPr/>
              <p:nvPr/>
            </p:nvSpPr>
            <p:spPr>
              <a:xfrm>
                <a:off x="4591080" y="3682800"/>
                <a:ext cx="976320" cy="485280"/>
              </a:xfrm>
              <a:prstGeom prst="rightArrow">
                <a:avLst>
                  <a:gd name="adj1" fmla="val 50000"/>
                  <a:gd name="adj2" fmla="val 50297"/>
                </a:avLst>
              </a:prstGeom>
              <a:gradFill rotWithShape="0">
                <a:gsLst>
                  <a:gs pos="0">
                    <a:srgbClr val="66ff33"/>
                  </a:gs>
                  <a:gs pos="100000">
                    <a:srgbClr val="6666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8" name=""/>
              <p:cNvGrpSpPr/>
              <p:nvPr/>
            </p:nvGrpSpPr>
            <p:grpSpPr>
              <a:xfrm>
                <a:off x="5479920" y="3159000"/>
                <a:ext cx="3029040" cy="1510560"/>
                <a:chOff x="5479920" y="3159000"/>
                <a:chExt cx="3029040" cy="1510560"/>
              </a:xfrm>
            </p:grpSpPr>
            <p:sp>
              <p:nvSpPr>
                <p:cNvPr id="2519" name=""/>
                <p:cNvSpPr/>
                <p:nvPr/>
              </p:nvSpPr>
              <p:spPr>
                <a:xfrm flipV="1">
                  <a:off x="7728120" y="3376440"/>
                  <a:ext cx="0" cy="5644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 flipV="1">
                  <a:off x="7112160" y="4020840"/>
                  <a:ext cx="0" cy="290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 flipV="1">
                  <a:off x="6808680" y="3371040"/>
                  <a:ext cx="0" cy="564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 flipV="1">
                  <a:off x="6291360" y="3159000"/>
                  <a:ext cx="0" cy="12031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52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027840" y="3187440"/>
                  <a:ext cx="566640" cy="1186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451640" y="3390480"/>
                  <a:ext cx="567000" cy="547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29560" y="4011120"/>
                  <a:ext cx="566640" cy="301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26" name=""/>
                <p:cNvSpPr/>
                <p:nvPr/>
              </p:nvSpPr>
              <p:spPr>
                <a:xfrm>
                  <a:off x="5479920" y="3187440"/>
                  <a:ext cx="3029040" cy="1482120"/>
                </a:xfrm>
                <a:prstGeom prst="parallelogram">
                  <a:avLst>
                    <a:gd name="adj" fmla="val 51093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52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559560" y="3382560"/>
                  <a:ext cx="566640" cy="547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28" name=""/>
              <p:cNvGrpSpPr/>
              <p:nvPr/>
            </p:nvGrpSpPr>
            <p:grpSpPr>
              <a:xfrm>
                <a:off x="206280" y="3094200"/>
                <a:ext cx="3029040" cy="1482120"/>
                <a:chOff x="206280" y="3094200"/>
                <a:chExt cx="3029040" cy="1482120"/>
              </a:xfrm>
            </p:grpSpPr>
            <p:sp>
              <p:nvSpPr>
                <p:cNvPr id="2529" name=""/>
                <p:cNvSpPr/>
                <p:nvPr/>
              </p:nvSpPr>
              <p:spPr>
                <a:xfrm flipV="1">
                  <a:off x="2511360" y="3398040"/>
                  <a:ext cx="0" cy="564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 flipV="1">
                  <a:off x="1895400" y="4043160"/>
                  <a:ext cx="0" cy="290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flipV="1">
                  <a:off x="1592280" y="3393360"/>
                  <a:ext cx="0" cy="5648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flipV="1">
                  <a:off x="1074600" y="3180960"/>
                  <a:ext cx="0" cy="12031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206280" y="3094200"/>
                  <a:ext cx="3029040" cy="1482120"/>
                </a:xfrm>
                <a:prstGeom prst="parallelogram">
                  <a:avLst>
                    <a:gd name="adj" fmla="val 51093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34" name=""/>
          <p:cNvGrpSpPr/>
          <p:nvPr/>
        </p:nvGrpSpPr>
        <p:grpSpPr>
          <a:xfrm>
            <a:off x="708840" y="4950000"/>
            <a:ext cx="7551000" cy="2038320"/>
            <a:chOff x="708840" y="4950000"/>
            <a:chExt cx="7551000" cy="2038320"/>
          </a:xfrm>
        </p:grpSpPr>
        <p:sp>
          <p:nvSpPr>
            <p:cNvPr id="2535" name=""/>
            <p:cNvSpPr/>
            <p:nvPr/>
          </p:nvSpPr>
          <p:spPr>
            <a:xfrm>
              <a:off x="708840" y="5184720"/>
              <a:ext cx="1992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ça rappell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quelque chose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y reviend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6" name=""/>
            <p:cNvGrpSpPr/>
            <p:nvPr/>
          </p:nvGrpSpPr>
          <p:grpSpPr>
            <a:xfrm>
              <a:off x="3422520" y="4950000"/>
              <a:ext cx="4837320" cy="2038320"/>
              <a:chOff x="3422520" y="4950000"/>
              <a:chExt cx="4837320" cy="2038320"/>
            </a:xfrm>
          </p:grpSpPr>
          <p:sp>
            <p:nvSpPr>
              <p:cNvPr id="2537" name=""/>
              <p:cNvSpPr/>
              <p:nvPr/>
            </p:nvSpPr>
            <p:spPr>
              <a:xfrm>
                <a:off x="5992920" y="5830920"/>
                <a:ext cx="2265120" cy="1155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991120" y="5829480"/>
                <a:ext cx="2268720" cy="1158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6221520" y="6059520"/>
                <a:ext cx="500040" cy="200160"/>
              </a:xfrm>
              <a:prstGeom prst="ellipse">
                <a:avLst/>
              </a:prstGeom>
              <a:solidFill>
                <a:srgbClr val="6666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6221520" y="6059520"/>
                <a:ext cx="500040" cy="200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7440480" y="626904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7439040" y="6269040"/>
                <a:ext cx="41400" cy="414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7489800" y="6308640"/>
                <a:ext cx="39600" cy="39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7489800" y="6308640"/>
                <a:ext cx="41400" cy="414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7440480" y="636912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7439040" y="6369120"/>
                <a:ext cx="41400" cy="39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7370640" y="6249960"/>
                <a:ext cx="209520" cy="20808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7369200" y="6248520"/>
                <a:ext cx="210960" cy="210960"/>
              </a:xfrm>
              <a:prstGeom prst="ellipse">
                <a:avLst/>
              </a:prstGeom>
              <a:solidFill>
                <a:srgbClr val="6666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6670800" y="6588000"/>
                <a:ext cx="220680" cy="219240"/>
              </a:xfrm>
              <a:prstGeom prst="ellipse">
                <a:avLst/>
              </a:prstGeom>
              <a:solidFill>
                <a:srgbClr val="6666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6670800" y="6588000"/>
                <a:ext cx="220680" cy="2206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6346800" y="5291280"/>
                <a:ext cx="1015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Comic Sans MS"/>
                  </a:rPr>
                  <a:t>résultat de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337080" y="5530680"/>
                <a:ext cx="1119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Comic Sans MS"/>
                  </a:rPr>
                  <a:t>l'exploration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424320" y="5276880"/>
                <a:ext cx="2265120" cy="1155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422520" y="5276880"/>
                <a:ext cx="2268720" cy="1157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5" name=""/>
              <p:cNvGrpSpPr/>
              <p:nvPr/>
            </p:nvGrpSpPr>
            <p:grpSpPr>
              <a:xfrm>
                <a:off x="3652920" y="5526000"/>
                <a:ext cx="1309680" cy="638280"/>
                <a:chOff x="3652920" y="5526000"/>
                <a:chExt cx="1309680" cy="638280"/>
              </a:xfrm>
            </p:grpSpPr>
            <p:sp>
              <p:nvSpPr>
                <p:cNvPr id="2556" name=""/>
                <p:cNvSpPr/>
                <p:nvPr/>
              </p:nvSpPr>
              <p:spPr>
                <a:xfrm>
                  <a:off x="3652920" y="5526000"/>
                  <a:ext cx="369720" cy="8100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3652920" y="5526000"/>
                  <a:ext cx="369720" cy="8100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4871880" y="5716440"/>
                  <a:ext cx="39960" cy="3960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4870440" y="5715000"/>
                  <a:ext cx="41400" cy="4104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4921200" y="5756040"/>
                  <a:ext cx="39600" cy="3996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4921200" y="5754600"/>
                  <a:ext cx="41400" cy="4140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4871880" y="5814720"/>
                  <a:ext cx="39960" cy="3996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4870440" y="5814720"/>
                  <a:ext cx="41400" cy="4140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4141800" y="6084720"/>
                  <a:ext cx="90360" cy="7956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4141800" y="6084720"/>
                  <a:ext cx="90360" cy="7956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6" name=""/>
              <p:cNvSpPr/>
              <p:nvPr/>
            </p:nvSpPr>
            <p:spPr>
              <a:xfrm>
                <a:off x="3556080" y="4950000"/>
                <a:ext cx="1312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Comic Sans MS"/>
                  </a:rPr>
                  <a:t>ciel à  explore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4530600" y="6135840"/>
                <a:ext cx="1554120" cy="61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5138640" y="6480000"/>
                <a:ext cx="198360" cy="18756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5138640" y="6480000"/>
                <a:ext cx="200160" cy="18900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4637880" y="6165720"/>
                <a:ext cx="1278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500" spc="-1" strike="noStrike">
                    <a:solidFill>
                      <a:srgbClr val="000000"/>
                    </a:solidFill>
                    <a:latin typeface="Comic Sans MS"/>
                  </a:rPr>
                  <a:t>lobe d'analys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545000" y="6149880"/>
                <a:ext cx="1535040" cy="592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2" name=""/>
          <p:cNvGrpSpPr/>
          <p:nvPr/>
        </p:nvGrpSpPr>
        <p:grpSpPr>
          <a:xfrm>
            <a:off x="548640" y="1190520"/>
            <a:ext cx="7719120" cy="1617840"/>
            <a:chOff x="548640" y="1190520"/>
            <a:chExt cx="7719120" cy="1617840"/>
          </a:xfrm>
        </p:grpSpPr>
        <p:sp>
          <p:nvSpPr>
            <p:cNvPr id="2573" name=""/>
            <p:cNvSpPr/>
            <p:nvPr/>
          </p:nvSpPr>
          <p:spPr>
            <a:xfrm>
              <a:off x="548640" y="1190520"/>
              <a:ext cx="647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acteurs : f(t,z)  et  g(t,z)    décalages :   x et y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4" name=""/>
            <p:cNvGrpSpPr/>
            <p:nvPr/>
          </p:nvGrpSpPr>
          <p:grpSpPr>
            <a:xfrm>
              <a:off x="1093680" y="1685880"/>
              <a:ext cx="7174080" cy="1122480"/>
              <a:chOff x="1093680" y="1685880"/>
              <a:chExt cx="7174080" cy="1122480"/>
            </a:xfrm>
          </p:grpSpPr>
          <p:sp>
            <p:nvSpPr>
              <p:cNvPr id="2575" name=""/>
              <p:cNvSpPr/>
              <p:nvPr/>
            </p:nvSpPr>
            <p:spPr>
              <a:xfrm>
                <a:off x="6051600" y="1863720"/>
                <a:ext cx="231840" cy="623880"/>
              </a:xfrm>
              <a:prstGeom prst="rect">
                <a:avLst/>
              </a:pr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832440" y="1859040"/>
                <a:ext cx="231840" cy="623880"/>
              </a:xfrm>
              <a:prstGeom prst="rect">
                <a:avLst/>
              </a:pr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1428840" y="1868400"/>
                <a:ext cx="538200" cy="623880"/>
              </a:xfrm>
              <a:prstGeom prst="rect">
                <a:avLst/>
              </a:pr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2523960" y="1863720"/>
                <a:ext cx="538200" cy="623880"/>
              </a:xfrm>
              <a:prstGeom prst="rect">
                <a:avLst/>
              </a:pr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79" name=""/>
                  <p:cNvSpPr txBox="1"/>
                  <p:nvPr/>
                </p:nvSpPr>
                <p:spPr>
                  <a:xfrm>
                    <a:off x="1093680" y="1685880"/>
                    <a:ext cx="7174080" cy="1122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∗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∞</m:t>
                            </m:r>
                          </m:sup>
                          <m:e/>
                        </m:nary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  <m:r>
                              <m:t xml:space="preserve"> 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y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580" name=""/>
          <p:cNvGrpSpPr/>
          <p:nvPr/>
        </p:nvGrpSpPr>
        <p:grpSpPr>
          <a:xfrm>
            <a:off x="7840800" y="676440"/>
            <a:ext cx="1000080" cy="812880"/>
            <a:chOff x="7840800" y="676440"/>
            <a:chExt cx="1000080" cy="812880"/>
          </a:xfrm>
        </p:grpSpPr>
        <p:sp>
          <p:nvSpPr>
            <p:cNvPr id="2581" name=""/>
            <p:cNvSpPr/>
            <p:nvPr/>
          </p:nvSpPr>
          <p:spPr>
            <a:xfrm>
              <a:off x="7840800" y="6764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8061840" y="9079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37735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heoremes outils pour 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366840" y="1784520"/>
            <a:ext cx="2811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ranslation de f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gmnt d'éch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n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uto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arseval (rayleig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5" name=""/>
              <p:cNvSpPr txBox="1"/>
              <p:nvPr/>
            </p:nvSpPr>
            <p:spPr>
              <a:xfrm>
                <a:off x="4357800" y="2104920"/>
                <a:ext cx="40543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6" name=""/>
              <p:cNvSpPr txBox="1"/>
              <p:nvPr/>
            </p:nvSpPr>
            <p:spPr>
              <a:xfrm>
                <a:off x="5568840" y="2631960"/>
                <a:ext cx="28432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7" name=""/>
              <p:cNvSpPr txBox="1"/>
              <p:nvPr/>
            </p:nvSpPr>
            <p:spPr>
              <a:xfrm>
                <a:off x="4727520" y="4027320"/>
                <a:ext cx="368460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8" name=""/>
              <p:cNvSpPr txBox="1"/>
              <p:nvPr/>
            </p:nvSpPr>
            <p:spPr>
              <a:xfrm>
                <a:off x="5168880" y="4659480"/>
                <a:ext cx="32432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⊗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9" name=""/>
              <p:cNvSpPr txBox="1"/>
              <p:nvPr/>
            </p:nvSpPr>
            <p:spPr>
              <a:xfrm>
                <a:off x="3325680" y="5707080"/>
                <a:ext cx="50770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590" name=""/>
          <p:cNvGrpSpPr/>
          <p:nvPr/>
        </p:nvGrpSpPr>
        <p:grpSpPr>
          <a:xfrm>
            <a:off x="217440" y="2046240"/>
            <a:ext cx="8578800" cy="1611360"/>
            <a:chOff x="217440" y="2046240"/>
            <a:chExt cx="8578800" cy="1611360"/>
          </a:xfrm>
        </p:grpSpPr>
        <p:sp>
          <p:nvSpPr>
            <p:cNvPr id="2591" name=""/>
            <p:cNvSpPr/>
            <p:nvPr/>
          </p:nvSpPr>
          <p:spPr>
            <a:xfrm>
              <a:off x="217440" y="2046240"/>
              <a:ext cx="8578800" cy="16113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890000" y="3270240"/>
              <a:ext cx="300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cc"/>
                  </a:solidFill>
                  <a:latin typeface="Comic Sans MS"/>
                </a:rPr>
                <a:t>déjà pratiqués sans le d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3" name=""/>
          <p:cNvGrpSpPr/>
          <p:nvPr/>
        </p:nvGrpSpPr>
        <p:grpSpPr>
          <a:xfrm>
            <a:off x="212760" y="3811680"/>
            <a:ext cx="8578800" cy="1662120"/>
            <a:chOff x="212760" y="3811680"/>
            <a:chExt cx="8578800" cy="1662120"/>
          </a:xfrm>
        </p:grpSpPr>
        <p:sp>
          <p:nvSpPr>
            <p:cNvPr id="2594" name=""/>
            <p:cNvSpPr/>
            <p:nvPr/>
          </p:nvSpPr>
          <p:spPr>
            <a:xfrm>
              <a:off x="212760" y="3811680"/>
              <a:ext cx="8578800" cy="16556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000520" y="5105520"/>
              <a:ext cx="32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Comic Sans MS"/>
                </a:rPr>
                <a:t>super important grave mé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6" name=""/>
          <p:cNvGrpSpPr/>
          <p:nvPr/>
        </p:nvGrpSpPr>
        <p:grpSpPr>
          <a:xfrm>
            <a:off x="2369160" y="879480"/>
            <a:ext cx="5799960" cy="900000"/>
            <a:chOff x="2369160" y="879480"/>
            <a:chExt cx="5799960" cy="900000"/>
          </a:xfrm>
        </p:grpSpPr>
        <p:sp>
          <p:nvSpPr>
            <p:cNvPr id="2597" name=""/>
            <p:cNvSpPr/>
            <p:nvPr/>
          </p:nvSpPr>
          <p:spPr>
            <a:xfrm>
              <a:off x="2369160" y="1217520"/>
              <a:ext cx="256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point de départ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8" name=""/>
                <p:cNvSpPr txBox="1"/>
                <p:nvPr/>
              </p:nvSpPr>
              <p:spPr>
                <a:xfrm>
                  <a:off x="4869000" y="1058760"/>
                  <a:ext cx="330012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99" name=""/>
            <p:cNvSpPr/>
            <p:nvPr/>
          </p:nvSpPr>
          <p:spPr>
            <a:xfrm>
              <a:off x="6360480" y="879480"/>
              <a:ext cx="56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T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0" name=""/>
          <p:cNvGrpSpPr/>
          <p:nvPr/>
        </p:nvGrpSpPr>
        <p:grpSpPr>
          <a:xfrm>
            <a:off x="5025960" y="210960"/>
            <a:ext cx="1000080" cy="813240"/>
            <a:chOff x="5025960" y="210960"/>
            <a:chExt cx="1000080" cy="813240"/>
          </a:xfrm>
        </p:grpSpPr>
        <p:sp>
          <p:nvSpPr>
            <p:cNvPr id="2601" name=""/>
            <p:cNvSpPr/>
            <p:nvPr/>
          </p:nvSpPr>
          <p:spPr>
            <a:xfrm>
              <a:off x="5025960" y="21096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247000" y="4428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1434960" y="1301400"/>
            <a:ext cx="457056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spectre spatial,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fréquences spati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2462040" y="3828960"/>
            <a:ext cx="42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(un retour sur)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et un cran plus l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227160" y="611280"/>
            <a:ext cx="4022640" cy="358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txBody>
          <a:bodyPr lIns="60120" rIns="60120" tIns="24120" bIns="2412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tour sur fréquences,  spec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230400" y="1062000"/>
            <a:ext cx="8626320" cy="88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0120" rIns="60120" tIns="24120" bIns="2412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100" spc="-1" strike="noStrike">
                <a:solidFill>
                  <a:srgbClr val="3333cc"/>
                </a:solidFill>
                <a:latin typeface="Comic Sans MS"/>
              </a:rPr>
              <a:t>un signal physique peut être décr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100" spc="-1" strike="noStrike">
                <a:solidFill>
                  <a:srgbClr val="3333cc"/>
                </a:solidFill>
                <a:latin typeface="Comic Sans MS"/>
              </a:rPr>
              <a:t>comme la somme pondérée de plusieurs sinusoides ( Fourier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100" spc="-1" strike="noStrike">
                <a:solidFill>
                  <a:srgbClr val="3333cc"/>
                </a:solidFill>
                <a:latin typeface="Comic Sans MS"/>
              </a:rPr>
              <a:t>la pondération des termes de cette somme est le SPECTRE du signa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7" name=""/>
          <p:cNvGrpSpPr/>
          <p:nvPr/>
        </p:nvGrpSpPr>
        <p:grpSpPr>
          <a:xfrm>
            <a:off x="2111040" y="3662280"/>
            <a:ext cx="5584320" cy="1108440"/>
            <a:chOff x="2111040" y="3662280"/>
            <a:chExt cx="5584320" cy="1108440"/>
          </a:xfrm>
        </p:grpSpPr>
        <p:sp>
          <p:nvSpPr>
            <p:cNvPr id="2608" name=""/>
            <p:cNvSpPr/>
            <p:nvPr/>
          </p:nvSpPr>
          <p:spPr>
            <a:xfrm>
              <a:off x="2111040" y="3662280"/>
              <a:ext cx="16038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4120" bIns="2412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quelconqu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Comic Sans MS"/>
                </a:rPr>
                <a:t>spectre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Comic Sans MS"/>
                </a:rPr>
                <a:t>continu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4432320" y="4129200"/>
              <a:ext cx="276120" cy="511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4432320" y="4130640"/>
              <a:ext cx="274680" cy="506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4370400" y="4124160"/>
              <a:ext cx="276120" cy="511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370400" y="4127400"/>
              <a:ext cx="276120" cy="506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280040" y="4145040"/>
              <a:ext cx="338040" cy="477720"/>
            </a:xfrm>
            <a:custGeom>
              <a:avLst/>
              <a:gdLst/>
              <a:ahLst/>
              <a:rect l="l" t="t" r="r" b="b"/>
              <a:pathLst>
                <a:path w="266" h="376">
                  <a:moveTo>
                    <a:pt x="0" y="0"/>
                  </a:moveTo>
                  <a:lnTo>
                    <a:pt x="177" y="0"/>
                  </a:lnTo>
                  <a:lnTo>
                    <a:pt x="208" y="13"/>
                  </a:lnTo>
                  <a:lnTo>
                    <a:pt x="248" y="68"/>
                  </a:lnTo>
                  <a:lnTo>
                    <a:pt x="266" y="159"/>
                  </a:lnTo>
                  <a:lnTo>
                    <a:pt x="261" y="253"/>
                  </a:lnTo>
                  <a:lnTo>
                    <a:pt x="235" y="321"/>
                  </a:lnTo>
                  <a:lnTo>
                    <a:pt x="204" y="363"/>
                  </a:lnTo>
                  <a:lnTo>
                    <a:pt x="173" y="376"/>
                  </a:lnTo>
                  <a:lnTo>
                    <a:pt x="9" y="37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290840" y="4152960"/>
              <a:ext cx="338400" cy="479520"/>
            </a:xfrm>
            <a:custGeom>
              <a:avLst/>
              <a:gdLst/>
              <a:ahLst/>
              <a:rect l="l" t="t" r="r" b="b"/>
              <a:pathLst>
                <a:path w="266" h="377">
                  <a:moveTo>
                    <a:pt x="0" y="0"/>
                  </a:moveTo>
                  <a:lnTo>
                    <a:pt x="177" y="0"/>
                  </a:lnTo>
                  <a:lnTo>
                    <a:pt x="208" y="13"/>
                  </a:lnTo>
                  <a:lnTo>
                    <a:pt x="248" y="69"/>
                  </a:lnTo>
                  <a:lnTo>
                    <a:pt x="266" y="159"/>
                  </a:lnTo>
                  <a:lnTo>
                    <a:pt x="261" y="253"/>
                  </a:lnTo>
                  <a:lnTo>
                    <a:pt x="235" y="322"/>
                  </a:lnTo>
                  <a:lnTo>
                    <a:pt x="204" y="364"/>
                  </a:lnTo>
                  <a:lnTo>
                    <a:pt x="173" y="377"/>
                  </a:lnTo>
                  <a:lnTo>
                    <a:pt x="9" y="37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087800" y="4129200"/>
              <a:ext cx="276120" cy="511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087800" y="4130640"/>
              <a:ext cx="276120" cy="506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025880" y="4124160"/>
              <a:ext cx="276120" cy="511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027320" y="4127400"/>
              <a:ext cx="274680" cy="506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9" name=""/>
            <p:cNvGrpSpPr/>
            <p:nvPr/>
          </p:nvGrpSpPr>
          <p:grpSpPr>
            <a:xfrm>
              <a:off x="4218120" y="4189320"/>
              <a:ext cx="499680" cy="432000"/>
              <a:chOff x="4218120" y="4189320"/>
              <a:chExt cx="499680" cy="432000"/>
            </a:xfrm>
          </p:grpSpPr>
          <p:sp>
            <p:nvSpPr>
              <p:cNvPr id="2620" name=""/>
              <p:cNvSpPr/>
              <p:nvPr/>
            </p:nvSpPr>
            <p:spPr>
              <a:xfrm>
                <a:off x="4240800" y="4189320"/>
                <a:ext cx="443880" cy="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4273920" y="4338360"/>
                <a:ext cx="443880" cy="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4268880" y="4491000"/>
                <a:ext cx="44388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4218120" y="4619880"/>
                <a:ext cx="438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4" name=""/>
            <p:cNvSpPr/>
            <p:nvPr/>
          </p:nvSpPr>
          <p:spPr>
            <a:xfrm>
              <a:off x="4076640" y="4152960"/>
              <a:ext cx="130320" cy="476280"/>
            </a:xfrm>
            <a:custGeom>
              <a:avLst/>
              <a:gdLst/>
              <a:ahLst/>
              <a:rect l="l" t="t" r="r" b="b"/>
              <a:pathLst>
                <a:path w="102" h="374">
                  <a:moveTo>
                    <a:pt x="71" y="0"/>
                  </a:moveTo>
                  <a:lnTo>
                    <a:pt x="36" y="39"/>
                  </a:lnTo>
                  <a:lnTo>
                    <a:pt x="9" y="91"/>
                  </a:lnTo>
                  <a:lnTo>
                    <a:pt x="0" y="159"/>
                  </a:lnTo>
                  <a:lnTo>
                    <a:pt x="0" y="218"/>
                  </a:lnTo>
                  <a:lnTo>
                    <a:pt x="14" y="279"/>
                  </a:lnTo>
                  <a:lnTo>
                    <a:pt x="36" y="328"/>
                  </a:lnTo>
                  <a:lnTo>
                    <a:pt x="62" y="361"/>
                  </a:lnTo>
                  <a:lnTo>
                    <a:pt x="102" y="37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841920" y="4302000"/>
              <a:ext cx="134640" cy="1112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841920" y="4305240"/>
              <a:ext cx="134640" cy="104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835440" y="4264200"/>
              <a:ext cx="135000" cy="50760"/>
            </a:xfrm>
            <a:custGeom>
              <a:avLst/>
              <a:gdLst/>
              <a:ahLst/>
              <a:rect l="l" t="t" r="r" b="b"/>
              <a:pathLst>
                <a:path w="106" h="39">
                  <a:moveTo>
                    <a:pt x="80" y="39"/>
                  </a:moveTo>
                  <a:lnTo>
                    <a:pt x="106" y="3"/>
                  </a:lnTo>
                  <a:lnTo>
                    <a:pt x="62" y="13"/>
                  </a:lnTo>
                  <a:lnTo>
                    <a:pt x="22" y="0"/>
                  </a:lnTo>
                  <a:lnTo>
                    <a:pt x="0" y="26"/>
                  </a:lnTo>
                  <a:lnTo>
                    <a:pt x="40" y="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851280" y="4103640"/>
              <a:ext cx="50760" cy="173160"/>
            </a:xfrm>
            <a:custGeom>
              <a:avLst/>
              <a:gdLst/>
              <a:ahLst/>
              <a:rect l="l" t="t" r="r" b="b"/>
              <a:pathLst>
                <a:path w="40" h="137">
                  <a:moveTo>
                    <a:pt x="40" y="127"/>
                  </a:moveTo>
                  <a:lnTo>
                    <a:pt x="31" y="0"/>
                  </a:lnTo>
                  <a:lnTo>
                    <a:pt x="0" y="7"/>
                  </a:lnTo>
                  <a:lnTo>
                    <a:pt x="36" y="137"/>
                  </a:lnTo>
                  <a:lnTo>
                    <a:pt x="4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863880" y="4111560"/>
              <a:ext cx="50760" cy="173160"/>
            </a:xfrm>
            <a:custGeom>
              <a:avLst/>
              <a:gdLst/>
              <a:ahLst/>
              <a:rect l="l" t="t" r="r" b="b"/>
              <a:pathLst>
                <a:path w="40" h="136">
                  <a:moveTo>
                    <a:pt x="40" y="127"/>
                  </a:moveTo>
                  <a:lnTo>
                    <a:pt x="31" y="0"/>
                  </a:lnTo>
                  <a:lnTo>
                    <a:pt x="0" y="6"/>
                  </a:lnTo>
                  <a:lnTo>
                    <a:pt x="36" y="13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020120" y="3863880"/>
              <a:ext cx="128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mic Sans MS"/>
                </a:rPr>
                <a:t>Schboump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1" name=""/>
            <p:cNvGrpSpPr/>
            <p:nvPr/>
          </p:nvGrpSpPr>
          <p:grpSpPr>
            <a:xfrm>
              <a:off x="5272200" y="4054320"/>
              <a:ext cx="2423160" cy="567720"/>
              <a:chOff x="5272200" y="4054320"/>
              <a:chExt cx="2423160" cy="567720"/>
            </a:xfrm>
          </p:grpSpPr>
          <p:grpSp>
            <p:nvGrpSpPr>
              <p:cNvPr id="2632" name=""/>
              <p:cNvGrpSpPr/>
              <p:nvPr/>
            </p:nvGrpSpPr>
            <p:grpSpPr>
              <a:xfrm>
                <a:off x="5272200" y="4054320"/>
                <a:ext cx="1045440" cy="556560"/>
                <a:chOff x="5272200" y="4054320"/>
                <a:chExt cx="1045440" cy="556560"/>
              </a:xfrm>
            </p:grpSpPr>
            <p:grpSp>
              <p:nvGrpSpPr>
                <p:cNvPr id="2633" name=""/>
                <p:cNvGrpSpPr/>
                <p:nvPr/>
              </p:nvGrpSpPr>
              <p:grpSpPr>
                <a:xfrm>
                  <a:off x="5272200" y="4536000"/>
                  <a:ext cx="1045440" cy="25200"/>
                  <a:chOff x="5272200" y="4536000"/>
                  <a:chExt cx="1045440" cy="25200"/>
                </a:xfrm>
              </p:grpSpPr>
              <p:sp>
                <p:nvSpPr>
                  <p:cNvPr id="2634" name=""/>
                  <p:cNvSpPr/>
                  <p:nvPr/>
                </p:nvSpPr>
                <p:spPr>
                  <a:xfrm>
                    <a:off x="6250680" y="4536000"/>
                    <a:ext cx="669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0">
                        <a:moveTo>
                          <a:pt x="53" y="10"/>
                        </a:moveTo>
                        <a:lnTo>
                          <a:pt x="0" y="2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53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>
                    <a:off x="5272200" y="4548600"/>
                    <a:ext cx="978480" cy="10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6" name=""/>
                <p:cNvGrpSpPr/>
                <p:nvPr/>
              </p:nvGrpSpPr>
              <p:grpSpPr>
                <a:xfrm>
                  <a:off x="5418360" y="4054320"/>
                  <a:ext cx="32760" cy="556560"/>
                  <a:chOff x="5418360" y="4054320"/>
                  <a:chExt cx="32760" cy="556560"/>
                </a:xfrm>
              </p:grpSpPr>
              <p:sp>
                <p:nvSpPr>
                  <p:cNvPr id="2637" name=""/>
                  <p:cNvSpPr/>
                  <p:nvPr/>
                </p:nvSpPr>
                <p:spPr>
                  <a:xfrm>
                    <a:off x="5418360" y="4054320"/>
                    <a:ext cx="327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8">
                        <a:moveTo>
                          <a:pt x="13" y="0"/>
                        </a:moveTo>
                        <a:lnTo>
                          <a:pt x="26" y="38"/>
                        </a:lnTo>
                        <a:lnTo>
                          <a:pt x="13" y="38"/>
                        </a:lnTo>
                        <a:lnTo>
                          <a:pt x="0" y="38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8" name=""/>
                  <p:cNvSpPr/>
                  <p:nvPr/>
                </p:nvSpPr>
                <p:spPr>
                  <a:xfrm flipV="1">
                    <a:off x="5434560" y="4102560"/>
                    <a:ext cx="1440" cy="5083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39" name=""/>
              <p:cNvGrpSpPr/>
              <p:nvPr/>
            </p:nvGrpSpPr>
            <p:grpSpPr>
              <a:xfrm>
                <a:off x="6648840" y="4065840"/>
                <a:ext cx="1046520" cy="556200"/>
                <a:chOff x="6648840" y="4065840"/>
                <a:chExt cx="1046520" cy="556200"/>
              </a:xfrm>
            </p:grpSpPr>
            <p:grpSp>
              <p:nvGrpSpPr>
                <p:cNvPr id="2640" name=""/>
                <p:cNvGrpSpPr/>
                <p:nvPr/>
              </p:nvGrpSpPr>
              <p:grpSpPr>
                <a:xfrm>
                  <a:off x="6648840" y="4548960"/>
                  <a:ext cx="1046520" cy="24120"/>
                  <a:chOff x="6648840" y="4548960"/>
                  <a:chExt cx="1046520" cy="24120"/>
                </a:xfrm>
              </p:grpSpPr>
              <p:sp>
                <p:nvSpPr>
                  <p:cNvPr id="2641" name=""/>
                  <p:cNvSpPr/>
                  <p:nvPr/>
                </p:nvSpPr>
                <p:spPr>
                  <a:xfrm>
                    <a:off x="7628040" y="4548960"/>
                    <a:ext cx="6732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">
                        <a:moveTo>
                          <a:pt x="53" y="10"/>
                        </a:moveTo>
                        <a:lnTo>
                          <a:pt x="0" y="19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53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>
                    <a:off x="6648840" y="4561560"/>
                    <a:ext cx="979200" cy="10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3" name=""/>
                <p:cNvGrpSpPr/>
                <p:nvPr/>
              </p:nvGrpSpPr>
              <p:grpSpPr>
                <a:xfrm>
                  <a:off x="6795000" y="4065840"/>
                  <a:ext cx="34200" cy="556200"/>
                  <a:chOff x="6795000" y="4065840"/>
                  <a:chExt cx="34200" cy="556200"/>
                </a:xfrm>
              </p:grpSpPr>
              <p:sp>
                <p:nvSpPr>
                  <p:cNvPr id="2644" name=""/>
                  <p:cNvSpPr/>
                  <p:nvPr/>
                </p:nvSpPr>
                <p:spPr>
                  <a:xfrm>
                    <a:off x="6795000" y="4065840"/>
                    <a:ext cx="342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9">
                        <a:moveTo>
                          <a:pt x="13" y="0"/>
                        </a:moveTo>
                        <a:lnTo>
                          <a:pt x="27" y="39"/>
                        </a:lnTo>
                        <a:lnTo>
                          <a:pt x="13" y="39"/>
                        </a:lnTo>
                        <a:lnTo>
                          <a:pt x="0" y="39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5" name=""/>
                  <p:cNvSpPr/>
                  <p:nvPr/>
                </p:nvSpPr>
                <p:spPr>
                  <a:xfrm flipV="1">
                    <a:off x="6811200" y="4114800"/>
                    <a:ext cx="1440" cy="5072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46" name=""/>
              <p:cNvSpPr/>
              <p:nvPr/>
            </p:nvSpPr>
            <p:spPr>
              <a:xfrm>
                <a:off x="5517720" y="4065840"/>
                <a:ext cx="591480" cy="486720"/>
              </a:xfrm>
              <a:custGeom>
                <a:avLst/>
                <a:gdLst/>
                <a:ahLst/>
                <a:rect l="l" t="t" r="r" b="b"/>
                <a:pathLst>
                  <a:path w="465" h="383">
                    <a:moveTo>
                      <a:pt x="0" y="383"/>
                    </a:moveTo>
                    <a:lnTo>
                      <a:pt x="22" y="0"/>
                    </a:lnTo>
                    <a:lnTo>
                      <a:pt x="45" y="302"/>
                    </a:lnTo>
                    <a:lnTo>
                      <a:pt x="67" y="133"/>
                    </a:lnTo>
                    <a:lnTo>
                      <a:pt x="98" y="338"/>
                    </a:lnTo>
                    <a:lnTo>
                      <a:pt x="111" y="221"/>
                    </a:lnTo>
                    <a:lnTo>
                      <a:pt x="124" y="296"/>
                    </a:lnTo>
                    <a:lnTo>
                      <a:pt x="146" y="247"/>
                    </a:lnTo>
                    <a:lnTo>
                      <a:pt x="160" y="364"/>
                    </a:lnTo>
                    <a:lnTo>
                      <a:pt x="182" y="289"/>
                    </a:lnTo>
                    <a:lnTo>
                      <a:pt x="208" y="364"/>
                    </a:lnTo>
                    <a:lnTo>
                      <a:pt x="217" y="234"/>
                    </a:lnTo>
                    <a:lnTo>
                      <a:pt x="239" y="357"/>
                    </a:lnTo>
                    <a:lnTo>
                      <a:pt x="261" y="289"/>
                    </a:lnTo>
                    <a:lnTo>
                      <a:pt x="275" y="347"/>
                    </a:lnTo>
                    <a:lnTo>
                      <a:pt x="292" y="250"/>
                    </a:lnTo>
                    <a:lnTo>
                      <a:pt x="310" y="305"/>
                    </a:lnTo>
                    <a:lnTo>
                      <a:pt x="328" y="276"/>
                    </a:lnTo>
                    <a:lnTo>
                      <a:pt x="345" y="367"/>
                    </a:lnTo>
                    <a:lnTo>
                      <a:pt x="359" y="309"/>
                    </a:lnTo>
                    <a:lnTo>
                      <a:pt x="385" y="354"/>
                    </a:lnTo>
                    <a:lnTo>
                      <a:pt x="407" y="315"/>
                    </a:lnTo>
                    <a:lnTo>
                      <a:pt x="434" y="370"/>
                    </a:lnTo>
                    <a:lnTo>
                      <a:pt x="451" y="344"/>
                    </a:lnTo>
                    <a:lnTo>
                      <a:pt x="465" y="37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6834600" y="4247640"/>
                <a:ext cx="585000" cy="308520"/>
              </a:xfrm>
              <a:custGeom>
                <a:avLst/>
                <a:gdLst/>
                <a:ahLst/>
                <a:rect l="l" t="t" r="r" b="b"/>
                <a:pathLst>
                  <a:path w="460" h="243">
                    <a:moveTo>
                      <a:pt x="0" y="243"/>
                    </a:moveTo>
                    <a:lnTo>
                      <a:pt x="5" y="0"/>
                    </a:lnTo>
                    <a:lnTo>
                      <a:pt x="120" y="29"/>
                    </a:lnTo>
                    <a:lnTo>
                      <a:pt x="243" y="114"/>
                    </a:lnTo>
                    <a:lnTo>
                      <a:pt x="372" y="204"/>
                    </a:lnTo>
                    <a:lnTo>
                      <a:pt x="460" y="243"/>
                    </a:lnTo>
                    <a:lnTo>
                      <a:pt x="0" y="243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846120" y="4256640"/>
                <a:ext cx="585000" cy="308520"/>
              </a:xfrm>
              <a:custGeom>
                <a:avLst/>
                <a:gdLst/>
                <a:ahLst/>
                <a:rect l="l" t="t" r="r" b="b"/>
                <a:pathLst>
                  <a:path w="460" h="243">
                    <a:moveTo>
                      <a:pt x="0" y="243"/>
                    </a:moveTo>
                    <a:lnTo>
                      <a:pt x="4" y="0"/>
                    </a:lnTo>
                    <a:lnTo>
                      <a:pt x="119" y="29"/>
                    </a:lnTo>
                    <a:lnTo>
                      <a:pt x="243" y="113"/>
                    </a:lnTo>
                    <a:lnTo>
                      <a:pt x="371" y="204"/>
                    </a:lnTo>
                    <a:lnTo>
                      <a:pt x="460" y="243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6829560" y="4190040"/>
                <a:ext cx="393120" cy="288360"/>
              </a:xfrm>
              <a:custGeom>
                <a:avLst/>
                <a:gdLst/>
                <a:ahLst/>
                <a:rect l="l" t="t" r="r" b="b"/>
                <a:pathLst>
                  <a:path w="309" h="227">
                    <a:moveTo>
                      <a:pt x="0" y="39"/>
                    </a:moveTo>
                    <a:lnTo>
                      <a:pt x="22" y="126"/>
                    </a:lnTo>
                    <a:lnTo>
                      <a:pt x="31" y="48"/>
                    </a:lnTo>
                    <a:lnTo>
                      <a:pt x="53" y="152"/>
                    </a:lnTo>
                    <a:lnTo>
                      <a:pt x="62" y="0"/>
                    </a:lnTo>
                    <a:lnTo>
                      <a:pt x="84" y="227"/>
                    </a:lnTo>
                    <a:lnTo>
                      <a:pt x="115" y="13"/>
                    </a:lnTo>
                    <a:lnTo>
                      <a:pt x="124" y="152"/>
                    </a:lnTo>
                    <a:lnTo>
                      <a:pt x="154" y="48"/>
                    </a:lnTo>
                    <a:lnTo>
                      <a:pt x="163" y="152"/>
                    </a:lnTo>
                    <a:lnTo>
                      <a:pt x="194" y="61"/>
                    </a:lnTo>
                    <a:lnTo>
                      <a:pt x="208" y="113"/>
                    </a:lnTo>
                    <a:lnTo>
                      <a:pt x="216" y="74"/>
                    </a:lnTo>
                    <a:lnTo>
                      <a:pt x="239" y="48"/>
                    </a:lnTo>
                    <a:lnTo>
                      <a:pt x="239" y="162"/>
                    </a:lnTo>
                    <a:lnTo>
                      <a:pt x="256" y="126"/>
                    </a:lnTo>
                    <a:lnTo>
                      <a:pt x="256" y="188"/>
                    </a:lnTo>
                    <a:lnTo>
                      <a:pt x="278" y="113"/>
                    </a:lnTo>
                    <a:lnTo>
                      <a:pt x="309" y="227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240680" y="4442040"/>
                <a:ext cx="146160" cy="106920"/>
              </a:xfrm>
              <a:custGeom>
                <a:avLst/>
                <a:gdLst/>
                <a:ahLst/>
                <a:rect l="l" t="t" r="r" b="b"/>
                <a:pathLst>
                  <a:path w="115" h="84">
                    <a:moveTo>
                      <a:pt x="0" y="38"/>
                    </a:moveTo>
                    <a:lnTo>
                      <a:pt x="26" y="0"/>
                    </a:lnTo>
                    <a:lnTo>
                      <a:pt x="53" y="77"/>
                    </a:lnTo>
                    <a:lnTo>
                      <a:pt x="70" y="38"/>
                    </a:lnTo>
                    <a:lnTo>
                      <a:pt x="70" y="77"/>
                    </a:lnTo>
                    <a:lnTo>
                      <a:pt x="88" y="64"/>
                    </a:lnTo>
                    <a:lnTo>
                      <a:pt x="115" y="8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1" name=""/>
            <p:cNvSpPr/>
            <p:nvPr/>
          </p:nvSpPr>
          <p:spPr>
            <a:xfrm>
              <a:off x="3808440" y="3776760"/>
              <a:ext cx="3882960" cy="947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2" name=""/>
          <p:cNvGrpSpPr/>
          <p:nvPr/>
        </p:nvGrpSpPr>
        <p:grpSpPr>
          <a:xfrm>
            <a:off x="2165400" y="2038320"/>
            <a:ext cx="5506920" cy="1643040"/>
            <a:chOff x="2165400" y="2038320"/>
            <a:chExt cx="5506920" cy="1643040"/>
          </a:xfrm>
        </p:grpSpPr>
        <p:sp>
          <p:nvSpPr>
            <p:cNvPr id="2653" name=""/>
            <p:cNvSpPr/>
            <p:nvPr/>
          </p:nvSpPr>
          <p:spPr>
            <a:xfrm>
              <a:off x="2165400" y="2205000"/>
              <a:ext cx="148968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4120" bIns="2412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Comic Sans MS"/>
                </a:rPr>
                <a:t>périodiqu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Comic Sans MS"/>
                </a:rPr>
                <a:t>spectre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7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Comic Sans MS"/>
                </a:rPr>
                <a:t>discre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789360" y="2038320"/>
              <a:ext cx="3882960" cy="1643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210200" y="2435400"/>
              <a:ext cx="152280" cy="27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208400" y="2435400"/>
              <a:ext cx="155520" cy="277560"/>
            </a:xfrm>
            <a:prstGeom prst="rect">
              <a:avLst/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191120" y="2316240"/>
              <a:ext cx="210960" cy="96840"/>
            </a:xfrm>
            <a:custGeom>
              <a:avLst/>
              <a:gdLst/>
              <a:ahLst/>
              <a:rect l="l" t="t" r="r" b="b"/>
              <a:pathLst>
                <a:path w="166" h="76">
                  <a:moveTo>
                    <a:pt x="0" y="76"/>
                  </a:moveTo>
                  <a:lnTo>
                    <a:pt x="166" y="76"/>
                  </a:lnTo>
                  <a:lnTo>
                    <a:pt x="85" y="0"/>
                  </a:lnTo>
                  <a:lnTo>
                    <a:pt x="0" y="76"/>
                  </a:lnTo>
                  <a:close/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062240" y="2478240"/>
              <a:ext cx="220680" cy="47520"/>
            </a:xfrm>
            <a:custGeom>
              <a:avLst/>
              <a:gdLst/>
              <a:ahLst/>
              <a:rect l="l" t="t" r="r" b="b"/>
              <a:pathLst>
                <a:path w="174" h="37">
                  <a:moveTo>
                    <a:pt x="174" y="0"/>
                  </a:moveTo>
                  <a:lnTo>
                    <a:pt x="159" y="17"/>
                  </a:lnTo>
                  <a:lnTo>
                    <a:pt x="77" y="37"/>
                  </a:lnTo>
                  <a:lnTo>
                    <a:pt x="0" y="13"/>
                  </a:lnTo>
                  <a:lnTo>
                    <a:pt x="0" y="1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027320" y="2457360"/>
              <a:ext cx="59040" cy="50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027320" y="2457360"/>
              <a:ext cx="590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051440" y="2500200"/>
              <a:ext cx="1440" cy="4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383000" y="2273400"/>
              <a:ext cx="314280" cy="162000"/>
            </a:xfrm>
            <a:custGeom>
              <a:avLst/>
              <a:gdLst/>
              <a:ahLst/>
              <a:rect l="l" t="t" r="r" b="b"/>
              <a:pathLst>
                <a:path w="248" h="127">
                  <a:moveTo>
                    <a:pt x="54" y="110"/>
                  </a:moveTo>
                  <a:lnTo>
                    <a:pt x="77" y="51"/>
                  </a:lnTo>
                  <a:lnTo>
                    <a:pt x="120" y="55"/>
                  </a:lnTo>
                  <a:lnTo>
                    <a:pt x="124" y="4"/>
                  </a:lnTo>
                  <a:lnTo>
                    <a:pt x="205" y="0"/>
                  </a:lnTo>
                  <a:lnTo>
                    <a:pt x="248" y="24"/>
                  </a:lnTo>
                  <a:lnTo>
                    <a:pt x="236" y="75"/>
                  </a:lnTo>
                  <a:lnTo>
                    <a:pt x="135" y="82"/>
                  </a:lnTo>
                  <a:lnTo>
                    <a:pt x="97" y="92"/>
                  </a:lnTo>
                  <a:lnTo>
                    <a:pt x="35" y="120"/>
                  </a:lnTo>
                  <a:lnTo>
                    <a:pt x="0" y="127"/>
                  </a:lnTo>
                  <a:lnTo>
                    <a:pt x="35" y="89"/>
                  </a:lnTo>
                  <a:lnTo>
                    <a:pt x="66" y="89"/>
                  </a:lnTo>
                  <a:lnTo>
                    <a:pt x="54" y="11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56120" y="2104920"/>
              <a:ext cx="867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Comic Sans MS"/>
                </a:rPr>
                <a:t>VOOOO....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243320" y="2451240"/>
              <a:ext cx="55800" cy="48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243320" y="2451240"/>
              <a:ext cx="55800" cy="48960"/>
            </a:xfrm>
            <a:prstGeom prst="ellipse">
              <a:avLst/>
            </a:prstGeom>
            <a:noFill/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6" name=""/>
            <p:cNvGrpSpPr/>
            <p:nvPr/>
          </p:nvGrpSpPr>
          <p:grpSpPr>
            <a:xfrm>
              <a:off x="5165640" y="2139840"/>
              <a:ext cx="2257920" cy="720000"/>
              <a:chOff x="5165640" y="2139840"/>
              <a:chExt cx="2257920" cy="720000"/>
            </a:xfrm>
          </p:grpSpPr>
          <p:grpSp>
            <p:nvGrpSpPr>
              <p:cNvPr id="2667" name=""/>
              <p:cNvGrpSpPr/>
              <p:nvPr/>
            </p:nvGrpSpPr>
            <p:grpSpPr>
              <a:xfrm>
                <a:off x="5204880" y="2269440"/>
                <a:ext cx="921600" cy="590400"/>
                <a:chOff x="5204880" y="2269440"/>
                <a:chExt cx="921600" cy="590400"/>
              </a:xfrm>
            </p:grpSpPr>
            <p:grpSp>
              <p:nvGrpSpPr>
                <p:cNvPr id="2668" name=""/>
                <p:cNvGrpSpPr/>
                <p:nvPr/>
              </p:nvGrpSpPr>
              <p:grpSpPr>
                <a:xfrm>
                  <a:off x="5204880" y="2772360"/>
                  <a:ext cx="921600" cy="35280"/>
                  <a:chOff x="5204880" y="2772360"/>
                  <a:chExt cx="921600" cy="35280"/>
                </a:xfrm>
              </p:grpSpPr>
              <p:sp>
                <p:nvSpPr>
                  <p:cNvPr id="2669" name=""/>
                  <p:cNvSpPr/>
                  <p:nvPr/>
                </p:nvSpPr>
                <p:spPr>
                  <a:xfrm>
                    <a:off x="6042600" y="2772360"/>
                    <a:ext cx="838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28">
                        <a:moveTo>
                          <a:pt x="66" y="14"/>
                        </a:moveTo>
                        <a:lnTo>
                          <a:pt x="0" y="28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66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>
                    <a:off x="5204880" y="2790000"/>
                    <a:ext cx="84312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1" name=""/>
                <p:cNvGrpSpPr/>
                <p:nvPr/>
              </p:nvGrpSpPr>
              <p:grpSpPr>
                <a:xfrm>
                  <a:off x="5333400" y="2269440"/>
                  <a:ext cx="39240" cy="590400"/>
                  <a:chOff x="5333400" y="2269440"/>
                  <a:chExt cx="39240" cy="590400"/>
                </a:xfrm>
              </p:grpSpPr>
              <p:sp>
                <p:nvSpPr>
                  <p:cNvPr id="2672" name=""/>
                  <p:cNvSpPr/>
                  <p:nvPr/>
                </p:nvSpPr>
                <p:spPr>
                  <a:xfrm>
                    <a:off x="5333400" y="2269440"/>
                    <a:ext cx="3924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8">
                        <a:moveTo>
                          <a:pt x="15" y="0"/>
                        </a:moveTo>
                        <a:lnTo>
                          <a:pt x="31" y="58"/>
                        </a:lnTo>
                        <a:lnTo>
                          <a:pt x="15" y="58"/>
                        </a:lnTo>
                        <a:lnTo>
                          <a:pt x="0" y="58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 flipV="1">
                    <a:off x="5352120" y="2337840"/>
                    <a:ext cx="1080" cy="522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74" name=""/>
              <p:cNvSpPr/>
              <p:nvPr/>
            </p:nvSpPr>
            <p:spPr>
              <a:xfrm>
                <a:off x="5434200" y="2139840"/>
                <a:ext cx="498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Comic Sans MS"/>
                  </a:rPr>
                  <a:t>A( t)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6102000" y="2561760"/>
                <a:ext cx="1058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5199840" y="2603520"/>
                <a:ext cx="8136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77" name=""/>
              <p:cNvGrpSpPr/>
              <p:nvPr/>
            </p:nvGrpSpPr>
            <p:grpSpPr>
              <a:xfrm>
                <a:off x="6487200" y="2269440"/>
                <a:ext cx="922680" cy="590400"/>
                <a:chOff x="6487200" y="2269440"/>
                <a:chExt cx="922680" cy="590400"/>
              </a:xfrm>
            </p:grpSpPr>
            <p:grpSp>
              <p:nvGrpSpPr>
                <p:cNvPr id="2678" name=""/>
                <p:cNvGrpSpPr/>
                <p:nvPr/>
              </p:nvGrpSpPr>
              <p:grpSpPr>
                <a:xfrm>
                  <a:off x="6487200" y="2772360"/>
                  <a:ext cx="922680" cy="35280"/>
                  <a:chOff x="6487200" y="2772360"/>
                  <a:chExt cx="922680" cy="35280"/>
                </a:xfrm>
              </p:grpSpPr>
              <p:sp>
                <p:nvSpPr>
                  <p:cNvPr id="2679" name=""/>
                  <p:cNvSpPr/>
                  <p:nvPr/>
                </p:nvSpPr>
                <p:spPr>
                  <a:xfrm>
                    <a:off x="7326000" y="2772360"/>
                    <a:ext cx="8388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28">
                        <a:moveTo>
                          <a:pt x="66" y="14"/>
                        </a:moveTo>
                        <a:lnTo>
                          <a:pt x="0" y="28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66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0" name=""/>
                  <p:cNvSpPr/>
                  <p:nvPr/>
                </p:nvSpPr>
                <p:spPr>
                  <a:xfrm>
                    <a:off x="6487200" y="2790000"/>
                    <a:ext cx="84420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1" name=""/>
                <p:cNvGrpSpPr/>
                <p:nvPr/>
              </p:nvGrpSpPr>
              <p:grpSpPr>
                <a:xfrm>
                  <a:off x="6615360" y="2269440"/>
                  <a:ext cx="39240" cy="590400"/>
                  <a:chOff x="6615360" y="2269440"/>
                  <a:chExt cx="39240" cy="590400"/>
                </a:xfrm>
              </p:grpSpPr>
              <p:sp>
                <p:nvSpPr>
                  <p:cNvPr id="2682" name=""/>
                  <p:cNvSpPr/>
                  <p:nvPr/>
                </p:nvSpPr>
                <p:spPr>
                  <a:xfrm>
                    <a:off x="6615360" y="2269440"/>
                    <a:ext cx="3924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8">
                        <a:moveTo>
                          <a:pt x="15" y="0"/>
                        </a:moveTo>
                        <a:lnTo>
                          <a:pt x="31" y="58"/>
                        </a:lnTo>
                        <a:lnTo>
                          <a:pt x="15" y="58"/>
                        </a:lnTo>
                        <a:lnTo>
                          <a:pt x="0" y="58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3" name=""/>
                  <p:cNvSpPr/>
                  <p:nvPr/>
                </p:nvSpPr>
                <p:spPr>
                  <a:xfrm flipV="1">
                    <a:off x="6634440" y="2337840"/>
                    <a:ext cx="1080" cy="522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84" name=""/>
              <p:cNvGrpSpPr/>
              <p:nvPr/>
            </p:nvGrpSpPr>
            <p:grpSpPr>
              <a:xfrm>
                <a:off x="6936480" y="2533680"/>
                <a:ext cx="58320" cy="251640"/>
                <a:chOff x="6936480" y="2533680"/>
                <a:chExt cx="58320" cy="251640"/>
              </a:xfrm>
            </p:grpSpPr>
            <p:sp>
              <p:nvSpPr>
                <p:cNvPr id="2685" name=""/>
                <p:cNvSpPr/>
                <p:nvPr/>
              </p:nvSpPr>
              <p:spPr>
                <a:xfrm>
                  <a:off x="6936480" y="2533680"/>
                  <a:ext cx="58320" cy="104040"/>
                </a:xfrm>
                <a:custGeom>
                  <a:avLst/>
                  <a:gdLst/>
                  <a:ahLst/>
                  <a:rect l="l" t="t" r="r" b="b"/>
                  <a:pathLst>
                    <a:path w="46" h="82">
                      <a:moveTo>
                        <a:pt x="23" y="0"/>
                      </a:moveTo>
                      <a:lnTo>
                        <a:pt x="46" y="82"/>
                      </a:lnTo>
                      <a:lnTo>
                        <a:pt x="23" y="82"/>
                      </a:lnTo>
                      <a:lnTo>
                        <a:pt x="0" y="8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flipV="1">
                  <a:off x="6965280" y="2629080"/>
                  <a:ext cx="1080" cy="1562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7" name=""/>
              <p:cNvSpPr/>
              <p:nvPr/>
            </p:nvSpPr>
            <p:spPr>
              <a:xfrm>
                <a:off x="6820200" y="2152440"/>
                <a:ext cx="5781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Comic Sans MS"/>
                  </a:rPr>
                  <a:t>S ( f )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329960" y="2561760"/>
                <a:ext cx="93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5165640" y="2546640"/>
                <a:ext cx="842760" cy="112680"/>
              </a:xfrm>
              <a:custGeom>
                <a:avLst/>
                <a:gdLst/>
                <a:ahLst/>
                <a:rect l="l" t="t" r="r" b="b"/>
                <a:pathLst>
                  <a:path w="662" h="89">
                    <a:moveTo>
                      <a:pt x="0" y="38"/>
                    </a:moveTo>
                    <a:lnTo>
                      <a:pt x="4" y="31"/>
                    </a:lnTo>
                    <a:lnTo>
                      <a:pt x="11" y="24"/>
                    </a:lnTo>
                    <a:lnTo>
                      <a:pt x="15" y="18"/>
                    </a:lnTo>
                    <a:lnTo>
                      <a:pt x="23" y="11"/>
                    </a:lnTo>
                    <a:lnTo>
                      <a:pt x="27" y="7"/>
                    </a:lnTo>
                    <a:lnTo>
                      <a:pt x="35" y="4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54" y="0"/>
                    </a:lnTo>
                    <a:lnTo>
                      <a:pt x="58" y="0"/>
                    </a:lnTo>
                    <a:lnTo>
                      <a:pt x="62" y="4"/>
                    </a:lnTo>
                    <a:lnTo>
                      <a:pt x="70" y="7"/>
                    </a:lnTo>
                    <a:lnTo>
                      <a:pt x="73" y="11"/>
                    </a:lnTo>
                    <a:lnTo>
                      <a:pt x="81" y="21"/>
                    </a:lnTo>
                    <a:lnTo>
                      <a:pt x="85" y="24"/>
                    </a:lnTo>
                    <a:lnTo>
                      <a:pt x="89" y="35"/>
                    </a:lnTo>
                    <a:lnTo>
                      <a:pt x="93" y="41"/>
                    </a:lnTo>
                    <a:lnTo>
                      <a:pt x="97" y="48"/>
                    </a:lnTo>
                    <a:lnTo>
                      <a:pt x="101" y="59"/>
                    </a:lnTo>
                    <a:lnTo>
                      <a:pt x="104" y="65"/>
                    </a:lnTo>
                    <a:lnTo>
                      <a:pt x="108" y="69"/>
                    </a:lnTo>
                    <a:lnTo>
                      <a:pt x="112" y="76"/>
                    </a:lnTo>
                    <a:lnTo>
                      <a:pt x="116" y="79"/>
                    </a:lnTo>
                    <a:lnTo>
                      <a:pt x="120" y="83"/>
                    </a:lnTo>
                    <a:lnTo>
                      <a:pt x="132" y="86"/>
                    </a:lnTo>
                    <a:lnTo>
                      <a:pt x="135" y="86"/>
                    </a:lnTo>
                    <a:lnTo>
                      <a:pt x="143" y="83"/>
                    </a:lnTo>
                    <a:lnTo>
                      <a:pt x="151" y="79"/>
                    </a:lnTo>
                    <a:lnTo>
                      <a:pt x="159" y="72"/>
                    </a:lnTo>
                    <a:lnTo>
                      <a:pt x="163" y="69"/>
                    </a:lnTo>
                    <a:lnTo>
                      <a:pt x="170" y="59"/>
                    </a:lnTo>
                    <a:lnTo>
                      <a:pt x="174" y="52"/>
                    </a:lnTo>
                    <a:lnTo>
                      <a:pt x="178" y="45"/>
                    </a:lnTo>
                    <a:lnTo>
                      <a:pt x="182" y="38"/>
                    </a:lnTo>
                    <a:lnTo>
                      <a:pt x="186" y="31"/>
                    </a:lnTo>
                    <a:lnTo>
                      <a:pt x="193" y="21"/>
                    </a:lnTo>
                    <a:lnTo>
                      <a:pt x="197" y="18"/>
                    </a:lnTo>
                    <a:lnTo>
                      <a:pt x="205" y="11"/>
                    </a:lnTo>
                    <a:lnTo>
                      <a:pt x="213" y="7"/>
                    </a:lnTo>
                    <a:lnTo>
                      <a:pt x="221" y="4"/>
                    </a:lnTo>
                    <a:lnTo>
                      <a:pt x="224" y="4"/>
                    </a:lnTo>
                    <a:lnTo>
                      <a:pt x="232" y="7"/>
                    </a:lnTo>
                    <a:lnTo>
                      <a:pt x="236" y="11"/>
                    </a:lnTo>
                    <a:lnTo>
                      <a:pt x="244" y="14"/>
                    </a:lnTo>
                    <a:lnTo>
                      <a:pt x="248" y="21"/>
                    </a:lnTo>
                    <a:lnTo>
                      <a:pt x="252" y="28"/>
                    </a:lnTo>
                    <a:lnTo>
                      <a:pt x="255" y="31"/>
                    </a:lnTo>
                    <a:lnTo>
                      <a:pt x="259" y="41"/>
                    </a:lnTo>
                    <a:lnTo>
                      <a:pt x="263" y="48"/>
                    </a:lnTo>
                    <a:lnTo>
                      <a:pt x="267" y="55"/>
                    </a:lnTo>
                    <a:lnTo>
                      <a:pt x="271" y="65"/>
                    </a:lnTo>
                    <a:lnTo>
                      <a:pt x="275" y="69"/>
                    </a:lnTo>
                    <a:lnTo>
                      <a:pt x="279" y="76"/>
                    </a:lnTo>
                    <a:lnTo>
                      <a:pt x="286" y="83"/>
                    </a:lnTo>
                    <a:lnTo>
                      <a:pt x="294" y="86"/>
                    </a:lnTo>
                    <a:lnTo>
                      <a:pt x="298" y="89"/>
                    </a:lnTo>
                    <a:lnTo>
                      <a:pt x="302" y="89"/>
                    </a:lnTo>
                    <a:lnTo>
                      <a:pt x="306" y="89"/>
                    </a:lnTo>
                    <a:lnTo>
                      <a:pt x="310" y="89"/>
                    </a:lnTo>
                    <a:lnTo>
                      <a:pt x="314" y="86"/>
                    </a:lnTo>
                    <a:lnTo>
                      <a:pt x="321" y="83"/>
                    </a:lnTo>
                    <a:lnTo>
                      <a:pt x="329" y="76"/>
                    </a:lnTo>
                    <a:lnTo>
                      <a:pt x="333" y="72"/>
                    </a:lnTo>
                    <a:lnTo>
                      <a:pt x="341" y="62"/>
                    </a:lnTo>
                    <a:lnTo>
                      <a:pt x="345" y="55"/>
                    </a:lnTo>
                    <a:lnTo>
                      <a:pt x="348" y="48"/>
                    </a:lnTo>
                    <a:lnTo>
                      <a:pt x="352" y="41"/>
                    </a:lnTo>
                    <a:lnTo>
                      <a:pt x="356" y="35"/>
                    </a:lnTo>
                    <a:lnTo>
                      <a:pt x="364" y="24"/>
                    </a:lnTo>
                    <a:lnTo>
                      <a:pt x="368" y="21"/>
                    </a:lnTo>
                    <a:lnTo>
                      <a:pt x="376" y="11"/>
                    </a:lnTo>
                    <a:lnTo>
                      <a:pt x="379" y="7"/>
                    </a:lnTo>
                    <a:lnTo>
                      <a:pt x="383" y="7"/>
                    </a:lnTo>
                    <a:lnTo>
                      <a:pt x="391" y="4"/>
                    </a:lnTo>
                    <a:lnTo>
                      <a:pt x="399" y="4"/>
                    </a:lnTo>
                    <a:lnTo>
                      <a:pt x="407" y="7"/>
                    </a:lnTo>
                    <a:lnTo>
                      <a:pt x="410" y="11"/>
                    </a:lnTo>
                    <a:lnTo>
                      <a:pt x="414" y="18"/>
                    </a:lnTo>
                    <a:lnTo>
                      <a:pt x="418" y="18"/>
                    </a:lnTo>
                    <a:lnTo>
                      <a:pt x="422" y="28"/>
                    </a:lnTo>
                    <a:lnTo>
                      <a:pt x="426" y="35"/>
                    </a:lnTo>
                    <a:lnTo>
                      <a:pt x="430" y="41"/>
                    </a:lnTo>
                    <a:lnTo>
                      <a:pt x="434" y="48"/>
                    </a:lnTo>
                    <a:lnTo>
                      <a:pt x="438" y="59"/>
                    </a:lnTo>
                    <a:lnTo>
                      <a:pt x="441" y="65"/>
                    </a:lnTo>
                    <a:lnTo>
                      <a:pt x="445" y="72"/>
                    </a:lnTo>
                    <a:lnTo>
                      <a:pt x="449" y="76"/>
                    </a:lnTo>
                    <a:lnTo>
                      <a:pt x="453" y="79"/>
                    </a:lnTo>
                    <a:lnTo>
                      <a:pt x="457" y="83"/>
                    </a:lnTo>
                    <a:lnTo>
                      <a:pt x="461" y="83"/>
                    </a:lnTo>
                    <a:lnTo>
                      <a:pt x="465" y="83"/>
                    </a:lnTo>
                    <a:lnTo>
                      <a:pt x="469" y="83"/>
                    </a:lnTo>
                    <a:lnTo>
                      <a:pt x="472" y="79"/>
                    </a:lnTo>
                    <a:lnTo>
                      <a:pt x="476" y="76"/>
                    </a:lnTo>
                    <a:lnTo>
                      <a:pt x="484" y="69"/>
                    </a:lnTo>
                    <a:lnTo>
                      <a:pt x="488" y="62"/>
                    </a:lnTo>
                    <a:lnTo>
                      <a:pt x="492" y="59"/>
                    </a:lnTo>
                    <a:lnTo>
                      <a:pt x="496" y="48"/>
                    </a:lnTo>
                    <a:lnTo>
                      <a:pt x="500" y="41"/>
                    </a:lnTo>
                    <a:lnTo>
                      <a:pt x="503" y="35"/>
                    </a:lnTo>
                    <a:lnTo>
                      <a:pt x="507" y="28"/>
                    </a:lnTo>
                    <a:lnTo>
                      <a:pt x="511" y="21"/>
                    </a:lnTo>
                    <a:lnTo>
                      <a:pt x="515" y="18"/>
                    </a:lnTo>
                    <a:lnTo>
                      <a:pt x="523" y="7"/>
                    </a:lnTo>
                    <a:lnTo>
                      <a:pt x="527" y="4"/>
                    </a:lnTo>
                    <a:lnTo>
                      <a:pt x="534" y="4"/>
                    </a:lnTo>
                    <a:lnTo>
                      <a:pt x="538" y="4"/>
                    </a:lnTo>
                    <a:lnTo>
                      <a:pt x="546" y="4"/>
                    </a:lnTo>
                    <a:lnTo>
                      <a:pt x="550" y="7"/>
                    </a:lnTo>
                    <a:lnTo>
                      <a:pt x="554" y="11"/>
                    </a:lnTo>
                    <a:lnTo>
                      <a:pt x="558" y="14"/>
                    </a:lnTo>
                    <a:lnTo>
                      <a:pt x="562" y="18"/>
                    </a:lnTo>
                    <a:lnTo>
                      <a:pt x="565" y="28"/>
                    </a:lnTo>
                    <a:lnTo>
                      <a:pt x="569" y="35"/>
                    </a:lnTo>
                    <a:lnTo>
                      <a:pt x="573" y="41"/>
                    </a:lnTo>
                    <a:lnTo>
                      <a:pt x="577" y="48"/>
                    </a:lnTo>
                    <a:lnTo>
                      <a:pt x="581" y="55"/>
                    </a:lnTo>
                    <a:lnTo>
                      <a:pt x="585" y="65"/>
                    </a:lnTo>
                    <a:lnTo>
                      <a:pt x="589" y="69"/>
                    </a:lnTo>
                    <a:lnTo>
                      <a:pt x="593" y="72"/>
                    </a:lnTo>
                    <a:lnTo>
                      <a:pt x="596" y="76"/>
                    </a:lnTo>
                    <a:lnTo>
                      <a:pt x="604" y="79"/>
                    </a:lnTo>
                    <a:lnTo>
                      <a:pt x="608" y="79"/>
                    </a:lnTo>
                    <a:lnTo>
                      <a:pt x="612" y="79"/>
                    </a:lnTo>
                    <a:lnTo>
                      <a:pt x="620" y="76"/>
                    </a:lnTo>
                    <a:lnTo>
                      <a:pt x="624" y="76"/>
                    </a:lnTo>
                    <a:lnTo>
                      <a:pt x="635" y="69"/>
                    </a:lnTo>
                    <a:lnTo>
                      <a:pt x="635" y="65"/>
                    </a:lnTo>
                    <a:lnTo>
                      <a:pt x="643" y="59"/>
                    </a:lnTo>
                    <a:lnTo>
                      <a:pt x="651" y="52"/>
                    </a:lnTo>
                    <a:lnTo>
                      <a:pt x="658" y="41"/>
                    </a:lnTo>
                    <a:lnTo>
                      <a:pt x="662" y="3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0" name=""/>
              <p:cNvGrpSpPr/>
              <p:nvPr/>
            </p:nvGrpSpPr>
            <p:grpSpPr>
              <a:xfrm>
                <a:off x="6605280" y="2438280"/>
                <a:ext cx="59760" cy="364320"/>
                <a:chOff x="6605280" y="2438280"/>
                <a:chExt cx="59760" cy="364320"/>
              </a:xfrm>
            </p:grpSpPr>
            <p:sp>
              <p:nvSpPr>
                <p:cNvPr id="2691" name=""/>
                <p:cNvSpPr/>
                <p:nvPr/>
              </p:nvSpPr>
              <p:spPr>
                <a:xfrm>
                  <a:off x="6605280" y="2438280"/>
                  <a:ext cx="59760" cy="104040"/>
                </a:xfrm>
                <a:custGeom>
                  <a:avLst/>
                  <a:gdLst/>
                  <a:ahLst/>
                  <a:rect l="l" t="t" r="r" b="b"/>
                  <a:pathLst>
                    <a:path w="47" h="82">
                      <a:moveTo>
                        <a:pt x="23" y="0"/>
                      </a:moveTo>
                      <a:lnTo>
                        <a:pt x="47" y="82"/>
                      </a:lnTo>
                      <a:lnTo>
                        <a:pt x="23" y="82"/>
                      </a:lnTo>
                      <a:lnTo>
                        <a:pt x="0" y="8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 flipV="1">
                  <a:off x="6634440" y="2533320"/>
                  <a:ext cx="1080" cy="2692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3" name=""/>
            <p:cNvGrpSpPr/>
            <p:nvPr/>
          </p:nvGrpSpPr>
          <p:grpSpPr>
            <a:xfrm>
              <a:off x="5348160" y="2970360"/>
              <a:ext cx="2064600" cy="599040"/>
              <a:chOff x="5348160" y="2970360"/>
              <a:chExt cx="2064600" cy="599040"/>
            </a:xfrm>
          </p:grpSpPr>
          <p:grpSp>
            <p:nvGrpSpPr>
              <p:cNvPr id="2694" name=""/>
              <p:cNvGrpSpPr/>
              <p:nvPr/>
            </p:nvGrpSpPr>
            <p:grpSpPr>
              <a:xfrm>
                <a:off x="5437080" y="3187440"/>
                <a:ext cx="699480" cy="229320"/>
                <a:chOff x="5437080" y="3187440"/>
                <a:chExt cx="699480" cy="229320"/>
              </a:xfrm>
            </p:grpSpPr>
            <p:sp>
              <p:nvSpPr>
                <p:cNvPr id="2695" name=""/>
                <p:cNvSpPr/>
                <p:nvPr/>
              </p:nvSpPr>
              <p:spPr>
                <a:xfrm>
                  <a:off x="5437080" y="3191040"/>
                  <a:ext cx="349920" cy="225720"/>
                </a:xfrm>
                <a:custGeom>
                  <a:avLst/>
                  <a:gdLst/>
                  <a:ahLst/>
                  <a:rect l="l" t="t" r="r" b="b"/>
                  <a:pathLst>
                    <a:path w="275" h="178">
                      <a:moveTo>
                        <a:pt x="0" y="86"/>
                      </a:moveTo>
                      <a:lnTo>
                        <a:pt x="4" y="82"/>
                      </a:lnTo>
                      <a:lnTo>
                        <a:pt x="4" y="79"/>
                      </a:lnTo>
                      <a:lnTo>
                        <a:pt x="8" y="79"/>
                      </a:lnTo>
                      <a:lnTo>
                        <a:pt x="11" y="82"/>
                      </a:lnTo>
                      <a:lnTo>
                        <a:pt x="15" y="89"/>
                      </a:lnTo>
                      <a:lnTo>
                        <a:pt x="15" y="96"/>
                      </a:lnTo>
                      <a:lnTo>
                        <a:pt x="15" y="99"/>
                      </a:lnTo>
                      <a:lnTo>
                        <a:pt x="15" y="103"/>
                      </a:lnTo>
                      <a:lnTo>
                        <a:pt x="19" y="110"/>
                      </a:lnTo>
                      <a:lnTo>
                        <a:pt x="19" y="113"/>
                      </a:lnTo>
                      <a:lnTo>
                        <a:pt x="23" y="110"/>
                      </a:lnTo>
                      <a:lnTo>
                        <a:pt x="27" y="99"/>
                      </a:lnTo>
                      <a:lnTo>
                        <a:pt x="27" y="93"/>
                      </a:lnTo>
                      <a:lnTo>
                        <a:pt x="31" y="79"/>
                      </a:lnTo>
                      <a:lnTo>
                        <a:pt x="31" y="72"/>
                      </a:lnTo>
                      <a:lnTo>
                        <a:pt x="31" y="69"/>
                      </a:lnTo>
                      <a:lnTo>
                        <a:pt x="35" y="58"/>
                      </a:lnTo>
                      <a:lnTo>
                        <a:pt x="35" y="55"/>
                      </a:lnTo>
                      <a:lnTo>
                        <a:pt x="39" y="48"/>
                      </a:lnTo>
                      <a:lnTo>
                        <a:pt x="39" y="52"/>
                      </a:lnTo>
                      <a:lnTo>
                        <a:pt x="39" y="48"/>
                      </a:lnTo>
                      <a:lnTo>
                        <a:pt x="42" y="48"/>
                      </a:lnTo>
                      <a:lnTo>
                        <a:pt x="46" y="55"/>
                      </a:lnTo>
                      <a:lnTo>
                        <a:pt x="46" y="62"/>
                      </a:lnTo>
                      <a:lnTo>
                        <a:pt x="50" y="72"/>
                      </a:lnTo>
                      <a:lnTo>
                        <a:pt x="50" y="79"/>
                      </a:lnTo>
                      <a:lnTo>
                        <a:pt x="50" y="89"/>
                      </a:lnTo>
                      <a:lnTo>
                        <a:pt x="54" y="103"/>
                      </a:lnTo>
                      <a:lnTo>
                        <a:pt x="54" y="106"/>
                      </a:lnTo>
                      <a:lnTo>
                        <a:pt x="54" y="110"/>
                      </a:lnTo>
                      <a:lnTo>
                        <a:pt x="54" y="120"/>
                      </a:lnTo>
                      <a:lnTo>
                        <a:pt x="58" y="130"/>
                      </a:lnTo>
                      <a:lnTo>
                        <a:pt x="58" y="137"/>
                      </a:lnTo>
                      <a:lnTo>
                        <a:pt x="62" y="144"/>
                      </a:lnTo>
                      <a:lnTo>
                        <a:pt x="66" y="137"/>
                      </a:lnTo>
                      <a:lnTo>
                        <a:pt x="66" y="130"/>
                      </a:lnTo>
                      <a:lnTo>
                        <a:pt x="70" y="120"/>
                      </a:lnTo>
                      <a:lnTo>
                        <a:pt x="70" y="113"/>
                      </a:lnTo>
                      <a:lnTo>
                        <a:pt x="73" y="96"/>
                      </a:lnTo>
                      <a:lnTo>
                        <a:pt x="73" y="86"/>
                      </a:lnTo>
                      <a:lnTo>
                        <a:pt x="77" y="69"/>
                      </a:lnTo>
                      <a:lnTo>
                        <a:pt x="77" y="62"/>
                      </a:lnTo>
                      <a:lnTo>
                        <a:pt x="77" y="55"/>
                      </a:lnTo>
                      <a:lnTo>
                        <a:pt x="81" y="38"/>
                      </a:lnTo>
                      <a:lnTo>
                        <a:pt x="81" y="28"/>
                      </a:lnTo>
                      <a:lnTo>
                        <a:pt x="85" y="14"/>
                      </a:lnTo>
                      <a:lnTo>
                        <a:pt x="85" y="11"/>
                      </a:lnTo>
                      <a:lnTo>
                        <a:pt x="89" y="0"/>
                      </a:lnTo>
                      <a:lnTo>
                        <a:pt x="93" y="4"/>
                      </a:lnTo>
                      <a:lnTo>
                        <a:pt x="97" y="14"/>
                      </a:lnTo>
                      <a:lnTo>
                        <a:pt x="97" y="17"/>
                      </a:lnTo>
                      <a:lnTo>
                        <a:pt x="101" y="34"/>
                      </a:lnTo>
                      <a:lnTo>
                        <a:pt x="101" y="45"/>
                      </a:lnTo>
                      <a:lnTo>
                        <a:pt x="101" y="58"/>
                      </a:lnTo>
                      <a:lnTo>
                        <a:pt x="104" y="79"/>
                      </a:lnTo>
                      <a:lnTo>
                        <a:pt x="104" y="89"/>
                      </a:lnTo>
                      <a:lnTo>
                        <a:pt x="104" y="99"/>
                      </a:lnTo>
                      <a:lnTo>
                        <a:pt x="104" y="116"/>
                      </a:lnTo>
                      <a:lnTo>
                        <a:pt x="108" y="134"/>
                      </a:lnTo>
                      <a:lnTo>
                        <a:pt x="108" y="147"/>
                      </a:lnTo>
                      <a:lnTo>
                        <a:pt x="108" y="154"/>
                      </a:lnTo>
                      <a:lnTo>
                        <a:pt x="112" y="168"/>
                      </a:lnTo>
                      <a:lnTo>
                        <a:pt x="112" y="175"/>
                      </a:lnTo>
                      <a:lnTo>
                        <a:pt x="116" y="178"/>
                      </a:lnTo>
                      <a:lnTo>
                        <a:pt x="120" y="175"/>
                      </a:lnTo>
                      <a:lnTo>
                        <a:pt x="116" y="175"/>
                      </a:lnTo>
                      <a:lnTo>
                        <a:pt x="120" y="164"/>
                      </a:lnTo>
                      <a:lnTo>
                        <a:pt x="120" y="161"/>
                      </a:lnTo>
                      <a:lnTo>
                        <a:pt x="124" y="147"/>
                      </a:lnTo>
                      <a:lnTo>
                        <a:pt x="124" y="137"/>
                      </a:lnTo>
                      <a:lnTo>
                        <a:pt x="128" y="116"/>
                      </a:lnTo>
                      <a:lnTo>
                        <a:pt x="128" y="110"/>
                      </a:lnTo>
                      <a:lnTo>
                        <a:pt x="128" y="103"/>
                      </a:lnTo>
                      <a:lnTo>
                        <a:pt x="132" y="82"/>
                      </a:lnTo>
                      <a:lnTo>
                        <a:pt x="132" y="69"/>
                      </a:lnTo>
                      <a:lnTo>
                        <a:pt x="132" y="62"/>
                      </a:lnTo>
                      <a:lnTo>
                        <a:pt x="135" y="48"/>
                      </a:lnTo>
                      <a:lnTo>
                        <a:pt x="135" y="41"/>
                      </a:lnTo>
                      <a:lnTo>
                        <a:pt x="135" y="34"/>
                      </a:lnTo>
                      <a:lnTo>
                        <a:pt x="139" y="28"/>
                      </a:lnTo>
                      <a:lnTo>
                        <a:pt x="143" y="31"/>
                      </a:lnTo>
                      <a:lnTo>
                        <a:pt x="147" y="38"/>
                      </a:lnTo>
                      <a:lnTo>
                        <a:pt x="147" y="45"/>
                      </a:lnTo>
                      <a:lnTo>
                        <a:pt x="147" y="52"/>
                      </a:lnTo>
                      <a:lnTo>
                        <a:pt x="151" y="69"/>
                      </a:lnTo>
                      <a:lnTo>
                        <a:pt x="151" y="72"/>
                      </a:lnTo>
                      <a:lnTo>
                        <a:pt x="151" y="79"/>
                      </a:lnTo>
                      <a:lnTo>
                        <a:pt x="151" y="89"/>
                      </a:lnTo>
                      <a:lnTo>
                        <a:pt x="155" y="103"/>
                      </a:lnTo>
                      <a:lnTo>
                        <a:pt x="155" y="113"/>
                      </a:lnTo>
                      <a:lnTo>
                        <a:pt x="155" y="116"/>
                      </a:lnTo>
                      <a:lnTo>
                        <a:pt x="155" y="123"/>
                      </a:lnTo>
                      <a:lnTo>
                        <a:pt x="159" y="134"/>
                      </a:lnTo>
                      <a:lnTo>
                        <a:pt x="159" y="137"/>
                      </a:lnTo>
                      <a:lnTo>
                        <a:pt x="163" y="137"/>
                      </a:lnTo>
                      <a:lnTo>
                        <a:pt x="166" y="130"/>
                      </a:lnTo>
                      <a:lnTo>
                        <a:pt x="166" y="127"/>
                      </a:lnTo>
                      <a:lnTo>
                        <a:pt x="166" y="120"/>
                      </a:lnTo>
                      <a:lnTo>
                        <a:pt x="170" y="110"/>
                      </a:lnTo>
                      <a:lnTo>
                        <a:pt x="170" y="106"/>
                      </a:lnTo>
                      <a:lnTo>
                        <a:pt x="170" y="103"/>
                      </a:lnTo>
                      <a:lnTo>
                        <a:pt x="174" y="93"/>
                      </a:lnTo>
                      <a:lnTo>
                        <a:pt x="174" y="86"/>
                      </a:lnTo>
                      <a:lnTo>
                        <a:pt x="174" y="82"/>
                      </a:lnTo>
                      <a:lnTo>
                        <a:pt x="178" y="72"/>
                      </a:lnTo>
                      <a:lnTo>
                        <a:pt x="178" y="69"/>
                      </a:lnTo>
                      <a:lnTo>
                        <a:pt x="178" y="72"/>
                      </a:lnTo>
                      <a:lnTo>
                        <a:pt x="182" y="65"/>
                      </a:lnTo>
                      <a:lnTo>
                        <a:pt x="178" y="69"/>
                      </a:lnTo>
                      <a:lnTo>
                        <a:pt x="186" y="69"/>
                      </a:lnTo>
                      <a:lnTo>
                        <a:pt x="186" y="72"/>
                      </a:lnTo>
                      <a:lnTo>
                        <a:pt x="186" y="75"/>
                      </a:lnTo>
                      <a:lnTo>
                        <a:pt x="186" y="82"/>
                      </a:lnTo>
                      <a:lnTo>
                        <a:pt x="190" y="93"/>
                      </a:lnTo>
                      <a:lnTo>
                        <a:pt x="190" y="99"/>
                      </a:lnTo>
                      <a:lnTo>
                        <a:pt x="190" y="103"/>
                      </a:lnTo>
                      <a:lnTo>
                        <a:pt x="190" y="106"/>
                      </a:lnTo>
                      <a:lnTo>
                        <a:pt x="194" y="116"/>
                      </a:lnTo>
                      <a:lnTo>
                        <a:pt x="194" y="123"/>
                      </a:lnTo>
                      <a:lnTo>
                        <a:pt x="194" y="127"/>
                      </a:lnTo>
                      <a:lnTo>
                        <a:pt x="197" y="134"/>
                      </a:lnTo>
                      <a:lnTo>
                        <a:pt x="201" y="137"/>
                      </a:lnTo>
                      <a:lnTo>
                        <a:pt x="205" y="130"/>
                      </a:lnTo>
                      <a:lnTo>
                        <a:pt x="205" y="127"/>
                      </a:lnTo>
                      <a:lnTo>
                        <a:pt x="209" y="116"/>
                      </a:lnTo>
                      <a:lnTo>
                        <a:pt x="209" y="113"/>
                      </a:lnTo>
                      <a:lnTo>
                        <a:pt x="209" y="103"/>
                      </a:lnTo>
                      <a:lnTo>
                        <a:pt x="213" y="89"/>
                      </a:lnTo>
                      <a:lnTo>
                        <a:pt x="213" y="86"/>
                      </a:lnTo>
                      <a:lnTo>
                        <a:pt x="213" y="82"/>
                      </a:lnTo>
                      <a:lnTo>
                        <a:pt x="217" y="69"/>
                      </a:lnTo>
                      <a:lnTo>
                        <a:pt x="217" y="62"/>
                      </a:lnTo>
                      <a:lnTo>
                        <a:pt x="221" y="52"/>
                      </a:lnTo>
                      <a:lnTo>
                        <a:pt x="221" y="48"/>
                      </a:lnTo>
                      <a:lnTo>
                        <a:pt x="225" y="38"/>
                      </a:lnTo>
                      <a:lnTo>
                        <a:pt x="225" y="34"/>
                      </a:lnTo>
                      <a:lnTo>
                        <a:pt x="232" y="34"/>
                      </a:lnTo>
                      <a:lnTo>
                        <a:pt x="228" y="34"/>
                      </a:lnTo>
                      <a:lnTo>
                        <a:pt x="232" y="41"/>
                      </a:lnTo>
                      <a:lnTo>
                        <a:pt x="232" y="48"/>
                      </a:lnTo>
                      <a:lnTo>
                        <a:pt x="236" y="58"/>
                      </a:lnTo>
                      <a:lnTo>
                        <a:pt x="236" y="65"/>
                      </a:lnTo>
                      <a:lnTo>
                        <a:pt x="236" y="69"/>
                      </a:lnTo>
                      <a:lnTo>
                        <a:pt x="236" y="72"/>
                      </a:lnTo>
                      <a:lnTo>
                        <a:pt x="240" y="86"/>
                      </a:lnTo>
                      <a:lnTo>
                        <a:pt x="240" y="93"/>
                      </a:lnTo>
                      <a:lnTo>
                        <a:pt x="240" y="96"/>
                      </a:lnTo>
                      <a:lnTo>
                        <a:pt x="244" y="106"/>
                      </a:lnTo>
                      <a:lnTo>
                        <a:pt x="244" y="110"/>
                      </a:lnTo>
                      <a:lnTo>
                        <a:pt x="248" y="116"/>
                      </a:lnTo>
                      <a:lnTo>
                        <a:pt x="248" y="120"/>
                      </a:lnTo>
                      <a:lnTo>
                        <a:pt x="248" y="116"/>
                      </a:lnTo>
                      <a:lnTo>
                        <a:pt x="252" y="120"/>
                      </a:lnTo>
                      <a:lnTo>
                        <a:pt x="248" y="120"/>
                      </a:lnTo>
                      <a:lnTo>
                        <a:pt x="252" y="116"/>
                      </a:lnTo>
                      <a:lnTo>
                        <a:pt x="256" y="110"/>
                      </a:lnTo>
                      <a:lnTo>
                        <a:pt x="256" y="103"/>
                      </a:lnTo>
                      <a:lnTo>
                        <a:pt x="256" y="99"/>
                      </a:lnTo>
                      <a:lnTo>
                        <a:pt x="259" y="89"/>
                      </a:lnTo>
                      <a:lnTo>
                        <a:pt x="259" y="86"/>
                      </a:lnTo>
                      <a:lnTo>
                        <a:pt x="263" y="79"/>
                      </a:lnTo>
                      <a:lnTo>
                        <a:pt x="267" y="75"/>
                      </a:lnTo>
                      <a:lnTo>
                        <a:pt x="271" y="75"/>
                      </a:lnTo>
                      <a:lnTo>
                        <a:pt x="271" y="79"/>
                      </a:lnTo>
                      <a:lnTo>
                        <a:pt x="275" y="86"/>
                      </a:lnTo>
                    </a:path>
                  </a:pathLst>
                </a:custGeom>
                <a:noFill/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5787000" y="3187440"/>
                  <a:ext cx="349560" cy="225720"/>
                </a:xfrm>
                <a:custGeom>
                  <a:avLst/>
                  <a:gdLst/>
                  <a:ahLst/>
                  <a:rect l="l" t="t" r="r" b="b"/>
                  <a:pathLst>
                    <a:path w="275" h="178">
                      <a:moveTo>
                        <a:pt x="0" y="92"/>
                      </a:moveTo>
                      <a:lnTo>
                        <a:pt x="4" y="96"/>
                      </a:lnTo>
                      <a:lnTo>
                        <a:pt x="4" y="99"/>
                      </a:lnTo>
                      <a:lnTo>
                        <a:pt x="12" y="99"/>
                      </a:lnTo>
                      <a:lnTo>
                        <a:pt x="8" y="99"/>
                      </a:lnTo>
                      <a:lnTo>
                        <a:pt x="12" y="96"/>
                      </a:lnTo>
                      <a:lnTo>
                        <a:pt x="15" y="89"/>
                      </a:lnTo>
                      <a:lnTo>
                        <a:pt x="15" y="82"/>
                      </a:lnTo>
                      <a:lnTo>
                        <a:pt x="15" y="78"/>
                      </a:lnTo>
                      <a:lnTo>
                        <a:pt x="15" y="75"/>
                      </a:lnTo>
                      <a:lnTo>
                        <a:pt x="19" y="68"/>
                      </a:lnTo>
                      <a:lnTo>
                        <a:pt x="23" y="68"/>
                      </a:lnTo>
                      <a:lnTo>
                        <a:pt x="27" y="78"/>
                      </a:lnTo>
                      <a:lnTo>
                        <a:pt x="27" y="85"/>
                      </a:lnTo>
                      <a:lnTo>
                        <a:pt x="31" y="99"/>
                      </a:lnTo>
                      <a:lnTo>
                        <a:pt x="31" y="106"/>
                      </a:lnTo>
                      <a:lnTo>
                        <a:pt x="31" y="109"/>
                      </a:lnTo>
                      <a:lnTo>
                        <a:pt x="35" y="119"/>
                      </a:lnTo>
                      <a:lnTo>
                        <a:pt x="35" y="123"/>
                      </a:lnTo>
                      <a:lnTo>
                        <a:pt x="39" y="130"/>
                      </a:lnTo>
                      <a:lnTo>
                        <a:pt x="39" y="126"/>
                      </a:lnTo>
                      <a:lnTo>
                        <a:pt x="39" y="130"/>
                      </a:lnTo>
                      <a:lnTo>
                        <a:pt x="43" y="130"/>
                      </a:lnTo>
                      <a:lnTo>
                        <a:pt x="46" y="123"/>
                      </a:lnTo>
                      <a:lnTo>
                        <a:pt x="46" y="116"/>
                      </a:lnTo>
                      <a:lnTo>
                        <a:pt x="50" y="106"/>
                      </a:lnTo>
                      <a:lnTo>
                        <a:pt x="50" y="99"/>
                      </a:lnTo>
                      <a:lnTo>
                        <a:pt x="50" y="89"/>
                      </a:lnTo>
                      <a:lnTo>
                        <a:pt x="54" y="75"/>
                      </a:lnTo>
                      <a:lnTo>
                        <a:pt x="54" y="72"/>
                      </a:lnTo>
                      <a:lnTo>
                        <a:pt x="54" y="68"/>
                      </a:lnTo>
                      <a:lnTo>
                        <a:pt x="54" y="58"/>
                      </a:lnTo>
                      <a:lnTo>
                        <a:pt x="58" y="44"/>
                      </a:lnTo>
                      <a:lnTo>
                        <a:pt x="58" y="37"/>
                      </a:lnTo>
                      <a:lnTo>
                        <a:pt x="62" y="31"/>
                      </a:lnTo>
                      <a:lnTo>
                        <a:pt x="58" y="34"/>
                      </a:lnTo>
                      <a:lnTo>
                        <a:pt x="66" y="34"/>
                      </a:lnTo>
                      <a:lnTo>
                        <a:pt x="66" y="37"/>
                      </a:lnTo>
                      <a:lnTo>
                        <a:pt x="66" y="41"/>
                      </a:lnTo>
                      <a:lnTo>
                        <a:pt x="66" y="44"/>
                      </a:lnTo>
                      <a:lnTo>
                        <a:pt x="70" y="58"/>
                      </a:lnTo>
                      <a:lnTo>
                        <a:pt x="70" y="65"/>
                      </a:lnTo>
                      <a:lnTo>
                        <a:pt x="74" y="78"/>
                      </a:lnTo>
                      <a:lnTo>
                        <a:pt x="74" y="89"/>
                      </a:lnTo>
                      <a:lnTo>
                        <a:pt x="77" y="109"/>
                      </a:lnTo>
                      <a:lnTo>
                        <a:pt x="77" y="116"/>
                      </a:lnTo>
                      <a:lnTo>
                        <a:pt x="77" y="123"/>
                      </a:lnTo>
                      <a:lnTo>
                        <a:pt x="81" y="140"/>
                      </a:lnTo>
                      <a:lnTo>
                        <a:pt x="81" y="150"/>
                      </a:lnTo>
                      <a:lnTo>
                        <a:pt x="85" y="164"/>
                      </a:lnTo>
                      <a:lnTo>
                        <a:pt x="85" y="167"/>
                      </a:lnTo>
                      <a:lnTo>
                        <a:pt x="89" y="178"/>
                      </a:lnTo>
                      <a:lnTo>
                        <a:pt x="93" y="174"/>
                      </a:lnTo>
                      <a:lnTo>
                        <a:pt x="97" y="164"/>
                      </a:lnTo>
                      <a:lnTo>
                        <a:pt x="97" y="160"/>
                      </a:lnTo>
                      <a:lnTo>
                        <a:pt x="101" y="143"/>
                      </a:lnTo>
                      <a:lnTo>
                        <a:pt x="101" y="133"/>
                      </a:lnTo>
                      <a:lnTo>
                        <a:pt x="101" y="119"/>
                      </a:lnTo>
                      <a:lnTo>
                        <a:pt x="105" y="99"/>
                      </a:lnTo>
                      <a:lnTo>
                        <a:pt x="105" y="89"/>
                      </a:lnTo>
                      <a:lnTo>
                        <a:pt x="105" y="78"/>
                      </a:lnTo>
                      <a:lnTo>
                        <a:pt x="105" y="61"/>
                      </a:lnTo>
                      <a:lnTo>
                        <a:pt x="108" y="44"/>
                      </a:lnTo>
                      <a:lnTo>
                        <a:pt x="108" y="31"/>
                      </a:lnTo>
                      <a:lnTo>
                        <a:pt x="108" y="24"/>
                      </a:lnTo>
                      <a:lnTo>
                        <a:pt x="112" y="10"/>
                      </a:lnTo>
                      <a:lnTo>
                        <a:pt x="112" y="3"/>
                      </a:lnTo>
                      <a:lnTo>
                        <a:pt x="116" y="0"/>
                      </a:lnTo>
                      <a:lnTo>
                        <a:pt x="120" y="3"/>
                      </a:lnTo>
                      <a:lnTo>
                        <a:pt x="116" y="3"/>
                      </a:lnTo>
                      <a:lnTo>
                        <a:pt x="120" y="14"/>
                      </a:lnTo>
                      <a:lnTo>
                        <a:pt x="120" y="17"/>
                      </a:lnTo>
                      <a:lnTo>
                        <a:pt x="124" y="31"/>
                      </a:lnTo>
                      <a:lnTo>
                        <a:pt x="124" y="41"/>
                      </a:lnTo>
                      <a:lnTo>
                        <a:pt x="128" y="61"/>
                      </a:lnTo>
                      <a:lnTo>
                        <a:pt x="128" y="68"/>
                      </a:lnTo>
                      <a:lnTo>
                        <a:pt x="128" y="75"/>
                      </a:lnTo>
                      <a:lnTo>
                        <a:pt x="132" y="96"/>
                      </a:lnTo>
                      <a:lnTo>
                        <a:pt x="132" y="109"/>
                      </a:lnTo>
                      <a:lnTo>
                        <a:pt x="132" y="116"/>
                      </a:lnTo>
                      <a:lnTo>
                        <a:pt x="136" y="130"/>
                      </a:lnTo>
                      <a:lnTo>
                        <a:pt x="136" y="137"/>
                      </a:lnTo>
                      <a:lnTo>
                        <a:pt x="136" y="143"/>
                      </a:lnTo>
                      <a:lnTo>
                        <a:pt x="139" y="150"/>
                      </a:lnTo>
                      <a:lnTo>
                        <a:pt x="143" y="147"/>
                      </a:lnTo>
                      <a:lnTo>
                        <a:pt x="147" y="140"/>
                      </a:lnTo>
                      <a:lnTo>
                        <a:pt x="147" y="133"/>
                      </a:lnTo>
                      <a:lnTo>
                        <a:pt x="147" y="126"/>
                      </a:lnTo>
                      <a:lnTo>
                        <a:pt x="151" y="109"/>
                      </a:lnTo>
                      <a:lnTo>
                        <a:pt x="151" y="106"/>
                      </a:lnTo>
                      <a:lnTo>
                        <a:pt x="151" y="99"/>
                      </a:lnTo>
                      <a:lnTo>
                        <a:pt x="151" y="89"/>
                      </a:lnTo>
                      <a:lnTo>
                        <a:pt x="155" y="75"/>
                      </a:lnTo>
                      <a:lnTo>
                        <a:pt x="155" y="65"/>
                      </a:lnTo>
                      <a:lnTo>
                        <a:pt x="155" y="61"/>
                      </a:lnTo>
                      <a:lnTo>
                        <a:pt x="155" y="55"/>
                      </a:lnTo>
                      <a:lnTo>
                        <a:pt x="159" y="44"/>
                      </a:lnTo>
                      <a:lnTo>
                        <a:pt x="159" y="41"/>
                      </a:lnTo>
                      <a:lnTo>
                        <a:pt x="163" y="41"/>
                      </a:lnTo>
                      <a:lnTo>
                        <a:pt x="167" y="48"/>
                      </a:lnTo>
                      <a:lnTo>
                        <a:pt x="167" y="51"/>
                      </a:lnTo>
                      <a:lnTo>
                        <a:pt x="167" y="58"/>
                      </a:lnTo>
                      <a:lnTo>
                        <a:pt x="170" y="68"/>
                      </a:lnTo>
                      <a:lnTo>
                        <a:pt x="170" y="72"/>
                      </a:lnTo>
                      <a:lnTo>
                        <a:pt x="170" y="75"/>
                      </a:lnTo>
                      <a:lnTo>
                        <a:pt x="174" y="85"/>
                      </a:lnTo>
                      <a:lnTo>
                        <a:pt x="174" y="92"/>
                      </a:lnTo>
                      <a:lnTo>
                        <a:pt x="174" y="96"/>
                      </a:lnTo>
                      <a:lnTo>
                        <a:pt x="178" y="102"/>
                      </a:lnTo>
                      <a:lnTo>
                        <a:pt x="178" y="106"/>
                      </a:lnTo>
                      <a:lnTo>
                        <a:pt x="182" y="109"/>
                      </a:lnTo>
                      <a:lnTo>
                        <a:pt x="186" y="102"/>
                      </a:lnTo>
                      <a:lnTo>
                        <a:pt x="186" y="99"/>
                      </a:lnTo>
                      <a:lnTo>
                        <a:pt x="186" y="92"/>
                      </a:lnTo>
                      <a:lnTo>
                        <a:pt x="190" y="82"/>
                      </a:lnTo>
                      <a:lnTo>
                        <a:pt x="190" y="75"/>
                      </a:lnTo>
                      <a:lnTo>
                        <a:pt x="190" y="72"/>
                      </a:lnTo>
                      <a:lnTo>
                        <a:pt x="190" y="68"/>
                      </a:lnTo>
                      <a:lnTo>
                        <a:pt x="194" y="58"/>
                      </a:lnTo>
                      <a:lnTo>
                        <a:pt x="194" y="51"/>
                      </a:lnTo>
                      <a:lnTo>
                        <a:pt x="198" y="41"/>
                      </a:lnTo>
                      <a:lnTo>
                        <a:pt x="198" y="44"/>
                      </a:lnTo>
                      <a:lnTo>
                        <a:pt x="198" y="41"/>
                      </a:lnTo>
                      <a:lnTo>
                        <a:pt x="201" y="41"/>
                      </a:lnTo>
                      <a:lnTo>
                        <a:pt x="205" y="44"/>
                      </a:lnTo>
                      <a:lnTo>
                        <a:pt x="205" y="51"/>
                      </a:lnTo>
                      <a:lnTo>
                        <a:pt x="209" y="61"/>
                      </a:lnTo>
                      <a:lnTo>
                        <a:pt x="209" y="65"/>
                      </a:lnTo>
                      <a:lnTo>
                        <a:pt x="209" y="75"/>
                      </a:lnTo>
                      <a:lnTo>
                        <a:pt x="213" y="89"/>
                      </a:lnTo>
                      <a:lnTo>
                        <a:pt x="213" y="92"/>
                      </a:lnTo>
                      <a:lnTo>
                        <a:pt x="213" y="96"/>
                      </a:lnTo>
                      <a:lnTo>
                        <a:pt x="217" y="109"/>
                      </a:lnTo>
                      <a:lnTo>
                        <a:pt x="217" y="116"/>
                      </a:lnTo>
                      <a:lnTo>
                        <a:pt x="221" y="126"/>
                      </a:lnTo>
                      <a:lnTo>
                        <a:pt x="221" y="130"/>
                      </a:lnTo>
                      <a:lnTo>
                        <a:pt x="225" y="137"/>
                      </a:lnTo>
                      <a:lnTo>
                        <a:pt x="225" y="140"/>
                      </a:lnTo>
                      <a:lnTo>
                        <a:pt x="229" y="143"/>
                      </a:lnTo>
                      <a:lnTo>
                        <a:pt x="232" y="137"/>
                      </a:lnTo>
                      <a:lnTo>
                        <a:pt x="232" y="130"/>
                      </a:lnTo>
                      <a:lnTo>
                        <a:pt x="236" y="119"/>
                      </a:lnTo>
                      <a:lnTo>
                        <a:pt x="236" y="113"/>
                      </a:lnTo>
                      <a:lnTo>
                        <a:pt x="236" y="109"/>
                      </a:lnTo>
                      <a:lnTo>
                        <a:pt x="236" y="106"/>
                      </a:lnTo>
                      <a:lnTo>
                        <a:pt x="240" y="92"/>
                      </a:lnTo>
                      <a:lnTo>
                        <a:pt x="240" y="85"/>
                      </a:lnTo>
                      <a:lnTo>
                        <a:pt x="240" y="82"/>
                      </a:lnTo>
                      <a:lnTo>
                        <a:pt x="244" y="72"/>
                      </a:lnTo>
                      <a:lnTo>
                        <a:pt x="244" y="68"/>
                      </a:lnTo>
                      <a:lnTo>
                        <a:pt x="248" y="61"/>
                      </a:lnTo>
                      <a:lnTo>
                        <a:pt x="248" y="58"/>
                      </a:lnTo>
                      <a:lnTo>
                        <a:pt x="252" y="58"/>
                      </a:lnTo>
                      <a:lnTo>
                        <a:pt x="252" y="61"/>
                      </a:lnTo>
                      <a:lnTo>
                        <a:pt x="256" y="68"/>
                      </a:lnTo>
                      <a:lnTo>
                        <a:pt x="256" y="72"/>
                      </a:lnTo>
                      <a:lnTo>
                        <a:pt x="256" y="75"/>
                      </a:lnTo>
                      <a:lnTo>
                        <a:pt x="259" y="89"/>
                      </a:lnTo>
                      <a:lnTo>
                        <a:pt x="259" y="92"/>
                      </a:lnTo>
                      <a:lnTo>
                        <a:pt x="263" y="99"/>
                      </a:lnTo>
                      <a:lnTo>
                        <a:pt x="271" y="99"/>
                      </a:lnTo>
                      <a:lnTo>
                        <a:pt x="271" y="96"/>
                      </a:lnTo>
                      <a:lnTo>
                        <a:pt x="275" y="92"/>
                      </a:lnTo>
                      <a:lnTo>
                        <a:pt x="275" y="89"/>
                      </a:lnTo>
                    </a:path>
                  </a:pathLst>
                </a:custGeom>
                <a:noFill/>
                <a:ln w="237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7" name=""/>
              <p:cNvGrpSpPr/>
              <p:nvPr/>
            </p:nvGrpSpPr>
            <p:grpSpPr>
              <a:xfrm>
                <a:off x="5348160" y="3473280"/>
                <a:ext cx="921960" cy="35640"/>
                <a:chOff x="5348160" y="3473280"/>
                <a:chExt cx="921960" cy="35640"/>
              </a:xfrm>
            </p:grpSpPr>
            <p:sp>
              <p:nvSpPr>
                <p:cNvPr id="2698" name=""/>
                <p:cNvSpPr/>
                <p:nvPr/>
              </p:nvSpPr>
              <p:spPr>
                <a:xfrm>
                  <a:off x="6186240" y="3473280"/>
                  <a:ext cx="83880" cy="35640"/>
                </a:xfrm>
                <a:custGeom>
                  <a:avLst/>
                  <a:gdLst/>
                  <a:ahLst/>
                  <a:rect l="l" t="t" r="r" b="b"/>
                  <a:pathLst>
                    <a:path w="66" h="28">
                      <a:moveTo>
                        <a:pt x="66" y="14"/>
                      </a:moveTo>
                      <a:lnTo>
                        <a:pt x="0" y="28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66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5348160" y="3490920"/>
                  <a:ext cx="84348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0" name=""/>
              <p:cNvGrpSpPr/>
              <p:nvPr/>
            </p:nvGrpSpPr>
            <p:grpSpPr>
              <a:xfrm>
                <a:off x="5476680" y="2970360"/>
                <a:ext cx="39240" cy="590040"/>
                <a:chOff x="5476680" y="2970360"/>
                <a:chExt cx="39240" cy="590040"/>
              </a:xfrm>
            </p:grpSpPr>
            <p:sp>
              <p:nvSpPr>
                <p:cNvPr id="2701" name=""/>
                <p:cNvSpPr/>
                <p:nvPr/>
              </p:nvSpPr>
              <p:spPr>
                <a:xfrm>
                  <a:off x="5476680" y="2970360"/>
                  <a:ext cx="39240" cy="73440"/>
                </a:xfrm>
                <a:custGeom>
                  <a:avLst/>
                  <a:gdLst/>
                  <a:ahLst/>
                  <a:rect l="l" t="t" r="r" b="b"/>
                  <a:pathLst>
                    <a:path w="31" h="58">
                      <a:moveTo>
                        <a:pt x="15" y="0"/>
                      </a:moveTo>
                      <a:lnTo>
                        <a:pt x="31" y="58"/>
                      </a:lnTo>
                      <a:lnTo>
                        <a:pt x="15" y="58"/>
                      </a:lnTo>
                      <a:lnTo>
                        <a:pt x="0" y="5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 flipV="1">
                  <a:off x="5495400" y="3039480"/>
                  <a:ext cx="1080" cy="520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3" name=""/>
              <p:cNvSpPr/>
              <p:nvPr/>
            </p:nvSpPr>
            <p:spPr>
              <a:xfrm>
                <a:off x="5358240" y="3300480"/>
                <a:ext cx="94644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4" name=""/>
              <p:cNvGrpSpPr/>
              <p:nvPr/>
            </p:nvGrpSpPr>
            <p:grpSpPr>
              <a:xfrm>
                <a:off x="6492240" y="3478680"/>
                <a:ext cx="920520" cy="39240"/>
                <a:chOff x="6492240" y="3478680"/>
                <a:chExt cx="920520" cy="39240"/>
              </a:xfrm>
            </p:grpSpPr>
            <p:sp>
              <p:nvSpPr>
                <p:cNvPr id="2705" name=""/>
                <p:cNvSpPr/>
                <p:nvPr/>
              </p:nvSpPr>
              <p:spPr>
                <a:xfrm>
                  <a:off x="7330320" y="3478680"/>
                  <a:ext cx="82440" cy="39240"/>
                </a:xfrm>
                <a:custGeom>
                  <a:avLst/>
                  <a:gdLst/>
                  <a:ahLst/>
                  <a:rect l="l" t="t" r="r" b="b"/>
                  <a:pathLst>
                    <a:path w="65" h="31">
                      <a:moveTo>
                        <a:pt x="65" y="17"/>
                      </a:moveTo>
                      <a:lnTo>
                        <a:pt x="0" y="31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65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6492240" y="3499920"/>
                  <a:ext cx="84204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7" name=""/>
              <p:cNvGrpSpPr/>
              <p:nvPr/>
            </p:nvGrpSpPr>
            <p:grpSpPr>
              <a:xfrm>
                <a:off x="6615360" y="2979000"/>
                <a:ext cx="44640" cy="590400"/>
                <a:chOff x="6615360" y="2979000"/>
                <a:chExt cx="44640" cy="590400"/>
              </a:xfrm>
            </p:grpSpPr>
            <p:sp>
              <p:nvSpPr>
                <p:cNvPr id="2708" name=""/>
                <p:cNvSpPr/>
                <p:nvPr/>
              </p:nvSpPr>
              <p:spPr>
                <a:xfrm>
                  <a:off x="6615360" y="2979000"/>
                  <a:ext cx="44640" cy="73440"/>
                </a:xfrm>
                <a:custGeom>
                  <a:avLst/>
                  <a:gdLst/>
                  <a:ahLst/>
                  <a:rect l="l" t="t" r="r" b="b"/>
                  <a:pathLst>
                    <a:path w="35" h="58">
                      <a:moveTo>
                        <a:pt x="19" y="0"/>
                      </a:moveTo>
                      <a:lnTo>
                        <a:pt x="35" y="58"/>
                      </a:lnTo>
                      <a:lnTo>
                        <a:pt x="19" y="58"/>
                      </a:lnTo>
                      <a:lnTo>
                        <a:pt x="0" y="5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 flipV="1">
                  <a:off x="6639480" y="3047400"/>
                  <a:ext cx="1440" cy="522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0" name=""/>
              <p:cNvGrpSpPr/>
              <p:nvPr/>
            </p:nvGrpSpPr>
            <p:grpSpPr>
              <a:xfrm>
                <a:off x="6802560" y="3261240"/>
                <a:ext cx="58320" cy="250560"/>
                <a:chOff x="6802560" y="3261240"/>
                <a:chExt cx="58320" cy="250560"/>
              </a:xfrm>
            </p:grpSpPr>
            <p:sp>
              <p:nvSpPr>
                <p:cNvPr id="2711" name=""/>
                <p:cNvSpPr/>
                <p:nvPr/>
              </p:nvSpPr>
              <p:spPr>
                <a:xfrm>
                  <a:off x="6802560" y="3261240"/>
                  <a:ext cx="58320" cy="103680"/>
                </a:xfrm>
                <a:custGeom>
                  <a:avLst/>
                  <a:gdLst/>
                  <a:ahLst/>
                  <a:rect l="l" t="t" r="r" b="b"/>
                  <a:pathLst>
                    <a:path w="46" h="82">
                      <a:moveTo>
                        <a:pt x="23" y="0"/>
                      </a:moveTo>
                      <a:lnTo>
                        <a:pt x="46" y="82"/>
                      </a:lnTo>
                      <a:lnTo>
                        <a:pt x="23" y="82"/>
                      </a:lnTo>
                      <a:lnTo>
                        <a:pt x="0" y="8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 flipV="1">
                  <a:off x="6831360" y="3355920"/>
                  <a:ext cx="1080" cy="1558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3" name=""/>
              <p:cNvGrpSpPr/>
              <p:nvPr/>
            </p:nvGrpSpPr>
            <p:grpSpPr>
              <a:xfrm>
                <a:off x="6610680" y="3148200"/>
                <a:ext cx="58320" cy="364320"/>
                <a:chOff x="6610680" y="3148200"/>
                <a:chExt cx="58320" cy="364320"/>
              </a:xfrm>
            </p:grpSpPr>
            <p:sp>
              <p:nvSpPr>
                <p:cNvPr id="2714" name=""/>
                <p:cNvSpPr/>
                <p:nvPr/>
              </p:nvSpPr>
              <p:spPr>
                <a:xfrm>
                  <a:off x="6610680" y="3148200"/>
                  <a:ext cx="58320" cy="104040"/>
                </a:xfrm>
                <a:custGeom>
                  <a:avLst/>
                  <a:gdLst/>
                  <a:ahLst/>
                  <a:rect l="l" t="t" r="r" b="b"/>
                  <a:pathLst>
                    <a:path w="46" h="82">
                      <a:moveTo>
                        <a:pt x="23" y="0"/>
                      </a:moveTo>
                      <a:lnTo>
                        <a:pt x="46" y="82"/>
                      </a:lnTo>
                      <a:lnTo>
                        <a:pt x="23" y="82"/>
                      </a:lnTo>
                      <a:lnTo>
                        <a:pt x="0" y="8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 flipV="1">
                  <a:off x="6639480" y="3243240"/>
                  <a:ext cx="1080" cy="2692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6" name=""/>
              <p:cNvGrpSpPr/>
              <p:nvPr/>
            </p:nvGrpSpPr>
            <p:grpSpPr>
              <a:xfrm>
                <a:off x="7094160" y="3317400"/>
                <a:ext cx="57960" cy="191520"/>
                <a:chOff x="7094160" y="3317400"/>
                <a:chExt cx="57960" cy="191520"/>
              </a:xfrm>
            </p:grpSpPr>
            <p:sp>
              <p:nvSpPr>
                <p:cNvPr id="2717" name=""/>
                <p:cNvSpPr/>
                <p:nvPr/>
              </p:nvSpPr>
              <p:spPr>
                <a:xfrm>
                  <a:off x="7094160" y="3317400"/>
                  <a:ext cx="57960" cy="104040"/>
                </a:xfrm>
                <a:custGeom>
                  <a:avLst/>
                  <a:gdLst/>
                  <a:ahLst/>
                  <a:rect l="l" t="t" r="r" b="b"/>
                  <a:pathLst>
                    <a:path w="46" h="82">
                      <a:moveTo>
                        <a:pt x="23" y="0"/>
                      </a:moveTo>
                      <a:lnTo>
                        <a:pt x="46" y="82"/>
                      </a:lnTo>
                      <a:lnTo>
                        <a:pt x="23" y="82"/>
                      </a:lnTo>
                      <a:lnTo>
                        <a:pt x="0" y="8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 flipV="1">
                  <a:off x="7122960" y="3413880"/>
                  <a:ext cx="1080" cy="950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9" name=""/>
              <p:cNvGrpSpPr/>
              <p:nvPr/>
            </p:nvGrpSpPr>
            <p:grpSpPr>
              <a:xfrm>
                <a:off x="7197120" y="3234600"/>
                <a:ext cx="58320" cy="277920"/>
                <a:chOff x="7197120" y="3234600"/>
                <a:chExt cx="58320" cy="277920"/>
              </a:xfrm>
            </p:grpSpPr>
            <p:sp>
              <p:nvSpPr>
                <p:cNvPr id="2720" name=""/>
                <p:cNvSpPr/>
                <p:nvPr/>
              </p:nvSpPr>
              <p:spPr>
                <a:xfrm>
                  <a:off x="7197120" y="3234600"/>
                  <a:ext cx="58320" cy="104040"/>
                </a:xfrm>
                <a:custGeom>
                  <a:avLst/>
                  <a:gdLst/>
                  <a:ahLst/>
                  <a:rect l="l" t="t" r="r" b="b"/>
                  <a:pathLst>
                    <a:path w="46" h="82">
                      <a:moveTo>
                        <a:pt x="23" y="0"/>
                      </a:moveTo>
                      <a:lnTo>
                        <a:pt x="46" y="79"/>
                      </a:lnTo>
                      <a:lnTo>
                        <a:pt x="23" y="79"/>
                      </a:lnTo>
                      <a:lnTo>
                        <a:pt x="0" y="8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 flipH="1" flipV="1">
                  <a:off x="7227000" y="3326040"/>
                  <a:ext cx="9720" cy="18648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2" name=""/>
              <p:cNvGrpSpPr/>
              <p:nvPr/>
            </p:nvGrpSpPr>
            <p:grpSpPr>
              <a:xfrm>
                <a:off x="6950160" y="3365280"/>
                <a:ext cx="59400" cy="146880"/>
                <a:chOff x="6950160" y="3365280"/>
                <a:chExt cx="59400" cy="146880"/>
              </a:xfrm>
            </p:grpSpPr>
            <p:sp>
              <p:nvSpPr>
                <p:cNvPr id="2723" name=""/>
                <p:cNvSpPr/>
                <p:nvPr/>
              </p:nvSpPr>
              <p:spPr>
                <a:xfrm>
                  <a:off x="6950160" y="3365280"/>
                  <a:ext cx="59400" cy="107640"/>
                </a:xfrm>
                <a:custGeom>
                  <a:avLst/>
                  <a:gdLst/>
                  <a:ahLst/>
                  <a:rect l="l" t="t" r="r" b="b"/>
                  <a:pathLst>
                    <a:path w="47" h="85">
                      <a:moveTo>
                        <a:pt x="16" y="0"/>
                      </a:moveTo>
                      <a:lnTo>
                        <a:pt x="47" y="82"/>
                      </a:lnTo>
                      <a:lnTo>
                        <a:pt x="23" y="82"/>
                      </a:lnTo>
                      <a:lnTo>
                        <a:pt x="0" y="8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 flipV="1">
                  <a:off x="6979320" y="3460320"/>
                  <a:ext cx="1080" cy="518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5" name=""/>
            <p:cNvGrpSpPr/>
            <p:nvPr/>
          </p:nvGrpSpPr>
          <p:grpSpPr>
            <a:xfrm>
              <a:off x="4095720" y="3003480"/>
              <a:ext cx="434880" cy="556920"/>
              <a:chOff x="4095720" y="3003480"/>
              <a:chExt cx="434880" cy="556920"/>
            </a:xfrm>
          </p:grpSpPr>
          <p:sp>
            <p:nvSpPr>
              <p:cNvPr id="2726" name=""/>
              <p:cNvSpPr/>
              <p:nvPr/>
            </p:nvSpPr>
            <p:spPr>
              <a:xfrm>
                <a:off x="4282920" y="3003480"/>
                <a:ext cx="70200" cy="6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4282920" y="3003480"/>
                <a:ext cx="70200" cy="60840"/>
              </a:xfrm>
              <a:prstGeom prst="rect">
                <a:avLst/>
              </a:prstGeom>
              <a:noFill/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4095720" y="3386160"/>
                <a:ext cx="434880" cy="174240"/>
              </a:xfrm>
              <a:custGeom>
                <a:avLst/>
                <a:gdLst/>
                <a:ahLst/>
                <a:rect l="l" t="t" r="r" b="b"/>
                <a:pathLst>
                  <a:path w="341" h="137">
                    <a:moveTo>
                      <a:pt x="16" y="103"/>
                    </a:moveTo>
                    <a:lnTo>
                      <a:pt x="93" y="0"/>
                    </a:lnTo>
                    <a:lnTo>
                      <a:pt x="271" y="0"/>
                    </a:lnTo>
                    <a:lnTo>
                      <a:pt x="341" y="137"/>
                    </a:lnTo>
                    <a:lnTo>
                      <a:pt x="318" y="137"/>
                    </a:lnTo>
                    <a:lnTo>
                      <a:pt x="256" y="55"/>
                    </a:lnTo>
                    <a:lnTo>
                      <a:pt x="116" y="55"/>
                    </a:lnTo>
                    <a:lnTo>
                      <a:pt x="31" y="116"/>
                    </a:lnTo>
                    <a:lnTo>
                      <a:pt x="0" y="116"/>
                    </a:lnTo>
                    <a:lnTo>
                      <a:pt x="16" y="103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4116240" y="3177720"/>
                <a:ext cx="384840" cy="33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4114800" y="3177720"/>
                <a:ext cx="387720" cy="338400"/>
              </a:xfrm>
              <a:prstGeom prst="ellipse">
                <a:avLst/>
              </a:prstGeom>
              <a:noFill/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4174920" y="3046680"/>
                <a:ext cx="297000" cy="105480"/>
              </a:xfrm>
              <a:custGeom>
                <a:avLst/>
                <a:gdLst/>
                <a:ahLst/>
                <a:rect l="l" t="t" r="r" b="b"/>
                <a:pathLst>
                  <a:path w="233" h="83">
                    <a:moveTo>
                      <a:pt x="8" y="83"/>
                    </a:moveTo>
                    <a:lnTo>
                      <a:pt x="233" y="83"/>
                    </a:lnTo>
                    <a:lnTo>
                      <a:pt x="202" y="28"/>
                    </a:lnTo>
                    <a:lnTo>
                      <a:pt x="140" y="0"/>
                    </a:lnTo>
                    <a:lnTo>
                      <a:pt x="85" y="0"/>
                    </a:lnTo>
                    <a:lnTo>
                      <a:pt x="16" y="35"/>
                    </a:lnTo>
                    <a:lnTo>
                      <a:pt x="0" y="83"/>
                    </a:lnTo>
                    <a:lnTo>
                      <a:pt x="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4185000" y="3055680"/>
                <a:ext cx="295560" cy="104040"/>
              </a:xfrm>
              <a:custGeom>
                <a:avLst/>
                <a:gdLst/>
                <a:ahLst/>
                <a:rect l="l" t="t" r="r" b="b"/>
                <a:pathLst>
                  <a:path w="232" h="82">
                    <a:moveTo>
                      <a:pt x="8" y="82"/>
                    </a:moveTo>
                    <a:lnTo>
                      <a:pt x="232" y="82"/>
                    </a:lnTo>
                    <a:lnTo>
                      <a:pt x="201" y="28"/>
                    </a:lnTo>
                    <a:lnTo>
                      <a:pt x="139" y="0"/>
                    </a:lnTo>
                    <a:lnTo>
                      <a:pt x="85" y="0"/>
                    </a:lnTo>
                    <a:lnTo>
                      <a:pt x="15" y="35"/>
                    </a:lnTo>
                    <a:lnTo>
                      <a:pt x="0" y="8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4234680" y="3238920"/>
                <a:ext cx="78840" cy="217440"/>
              </a:xfrm>
              <a:custGeom>
                <a:avLst/>
                <a:gdLst/>
                <a:ahLst/>
                <a:rect l="l" t="t" r="r" b="b"/>
                <a:pathLst>
                  <a:path w="62" h="171">
                    <a:moveTo>
                      <a:pt x="62" y="0"/>
                    </a:moveTo>
                    <a:lnTo>
                      <a:pt x="62" y="102"/>
                    </a:lnTo>
                    <a:lnTo>
                      <a:pt x="0" y="17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4" name=""/>
            <p:cNvSpPr/>
            <p:nvPr/>
          </p:nvSpPr>
          <p:spPr>
            <a:xfrm>
              <a:off x="4377240" y="2874960"/>
              <a:ext cx="87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Comic Sans MS"/>
                </a:rPr>
                <a:t>Driiiiiiii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5" name=""/>
          <p:cNvGrpSpPr/>
          <p:nvPr/>
        </p:nvGrpSpPr>
        <p:grpSpPr>
          <a:xfrm>
            <a:off x="274680" y="4792680"/>
            <a:ext cx="8869320" cy="2047320"/>
            <a:chOff x="274680" y="4792680"/>
            <a:chExt cx="8869320" cy="2047320"/>
          </a:xfrm>
        </p:grpSpPr>
        <p:sp>
          <p:nvSpPr>
            <p:cNvPr id="2736" name=""/>
            <p:cNvSpPr/>
            <p:nvPr/>
          </p:nvSpPr>
          <p:spPr>
            <a:xfrm>
              <a:off x="274680" y="4792680"/>
              <a:ext cx="886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cc"/>
                  </a:solidFill>
                  <a:latin typeface="Comic Sans MS"/>
                </a:rPr>
                <a:t>pour signal très localisé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: il faut beaucoup de sinusoides et des hautes frequenc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alors :     </a:t>
              </a:r>
              <a:r>
                <a:rPr b="0" lang="fr-FR" sz="1800" spc="-1" strike="noStrike">
                  <a:solidFill>
                    <a:srgbClr val="3333cc"/>
                  </a:solidFill>
                  <a:latin typeface="Comic Sans MS"/>
                </a:rPr>
                <a:t>spectre continu  et très étend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7" name=""/>
            <p:cNvGrpSpPr/>
            <p:nvPr/>
          </p:nvGrpSpPr>
          <p:grpSpPr>
            <a:xfrm>
              <a:off x="757080" y="5627520"/>
              <a:ext cx="4516560" cy="1212480"/>
              <a:chOff x="757080" y="5627520"/>
              <a:chExt cx="4516560" cy="1212480"/>
            </a:xfrm>
          </p:grpSpPr>
          <p:grpSp>
            <p:nvGrpSpPr>
              <p:cNvPr id="2738" name=""/>
              <p:cNvGrpSpPr/>
              <p:nvPr/>
            </p:nvGrpSpPr>
            <p:grpSpPr>
              <a:xfrm>
                <a:off x="757080" y="5826240"/>
                <a:ext cx="799920" cy="974160"/>
                <a:chOff x="757080" y="5826240"/>
                <a:chExt cx="799920" cy="974160"/>
              </a:xfrm>
            </p:grpSpPr>
            <p:sp>
              <p:nvSpPr>
                <p:cNvPr id="2739" name=""/>
                <p:cNvSpPr/>
                <p:nvPr/>
              </p:nvSpPr>
              <p:spPr>
                <a:xfrm>
                  <a:off x="1049040" y="6216480"/>
                  <a:ext cx="493560" cy="564840"/>
                </a:xfrm>
                <a:custGeom>
                  <a:avLst/>
                  <a:gdLst/>
                  <a:ahLst/>
                  <a:rect l="l" t="t" r="r" b="b"/>
                  <a:pathLst>
                    <a:path w="311" h="356">
                      <a:moveTo>
                        <a:pt x="66" y="0"/>
                      </a:moveTo>
                      <a:lnTo>
                        <a:pt x="22" y="27"/>
                      </a:lnTo>
                      <a:lnTo>
                        <a:pt x="0" y="89"/>
                      </a:lnTo>
                      <a:lnTo>
                        <a:pt x="0" y="156"/>
                      </a:lnTo>
                      <a:lnTo>
                        <a:pt x="26" y="167"/>
                      </a:lnTo>
                      <a:lnTo>
                        <a:pt x="57" y="139"/>
                      </a:lnTo>
                      <a:lnTo>
                        <a:pt x="74" y="94"/>
                      </a:lnTo>
                      <a:lnTo>
                        <a:pt x="83" y="33"/>
                      </a:lnTo>
                      <a:lnTo>
                        <a:pt x="66" y="5"/>
                      </a:lnTo>
                      <a:lnTo>
                        <a:pt x="144" y="111"/>
                      </a:lnTo>
                      <a:lnTo>
                        <a:pt x="201" y="161"/>
                      </a:lnTo>
                      <a:lnTo>
                        <a:pt x="302" y="206"/>
                      </a:lnTo>
                      <a:lnTo>
                        <a:pt x="311" y="262"/>
                      </a:lnTo>
                      <a:lnTo>
                        <a:pt x="285" y="323"/>
                      </a:lnTo>
                      <a:lnTo>
                        <a:pt x="232" y="356"/>
                      </a:lnTo>
                      <a:lnTo>
                        <a:pt x="144" y="289"/>
                      </a:lnTo>
                      <a:lnTo>
                        <a:pt x="66" y="234"/>
                      </a:lnTo>
                      <a:lnTo>
                        <a:pt x="4" y="156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1063440" y="6233760"/>
                  <a:ext cx="493560" cy="566640"/>
                </a:xfrm>
                <a:custGeom>
                  <a:avLst/>
                  <a:gdLst/>
                  <a:ahLst/>
                  <a:rect l="l" t="t" r="r" b="b"/>
                  <a:pathLst>
                    <a:path w="311" h="357">
                      <a:moveTo>
                        <a:pt x="65" y="0"/>
                      </a:moveTo>
                      <a:lnTo>
                        <a:pt x="22" y="28"/>
                      </a:lnTo>
                      <a:lnTo>
                        <a:pt x="0" y="89"/>
                      </a:lnTo>
                      <a:lnTo>
                        <a:pt x="0" y="156"/>
                      </a:lnTo>
                      <a:lnTo>
                        <a:pt x="26" y="167"/>
                      </a:lnTo>
                      <a:lnTo>
                        <a:pt x="57" y="139"/>
                      </a:lnTo>
                      <a:lnTo>
                        <a:pt x="74" y="95"/>
                      </a:lnTo>
                      <a:lnTo>
                        <a:pt x="83" y="33"/>
                      </a:lnTo>
                      <a:lnTo>
                        <a:pt x="65" y="5"/>
                      </a:lnTo>
                      <a:lnTo>
                        <a:pt x="144" y="111"/>
                      </a:lnTo>
                      <a:lnTo>
                        <a:pt x="201" y="161"/>
                      </a:lnTo>
                      <a:lnTo>
                        <a:pt x="302" y="206"/>
                      </a:lnTo>
                      <a:lnTo>
                        <a:pt x="311" y="262"/>
                      </a:lnTo>
                      <a:lnTo>
                        <a:pt x="284" y="323"/>
                      </a:lnTo>
                      <a:lnTo>
                        <a:pt x="232" y="357"/>
                      </a:lnTo>
                      <a:lnTo>
                        <a:pt x="144" y="290"/>
                      </a:lnTo>
                      <a:lnTo>
                        <a:pt x="65" y="234"/>
                      </a:lnTo>
                      <a:lnTo>
                        <a:pt x="4" y="156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999720" y="6224400"/>
                  <a:ext cx="111240" cy="132840"/>
                </a:xfrm>
                <a:custGeom>
                  <a:avLst/>
                  <a:gdLst/>
                  <a:ahLst/>
                  <a:rect l="l" t="t" r="r" b="b"/>
                  <a:pathLst>
                    <a:path w="70" h="84">
                      <a:moveTo>
                        <a:pt x="70" y="84"/>
                      </a:moveTo>
                      <a:lnTo>
                        <a:pt x="0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757080" y="5826240"/>
                  <a:ext cx="250560" cy="487080"/>
                </a:xfrm>
                <a:custGeom>
                  <a:avLst/>
                  <a:gdLst/>
                  <a:ahLst/>
                  <a:rect l="l" t="t" r="r" b="b"/>
                  <a:pathLst>
                    <a:path w="158" h="307">
                      <a:moveTo>
                        <a:pt x="96" y="162"/>
                      </a:moveTo>
                      <a:lnTo>
                        <a:pt x="92" y="0"/>
                      </a:lnTo>
                      <a:lnTo>
                        <a:pt x="79" y="134"/>
                      </a:lnTo>
                      <a:lnTo>
                        <a:pt x="22" y="39"/>
                      </a:lnTo>
                      <a:lnTo>
                        <a:pt x="70" y="168"/>
                      </a:lnTo>
                      <a:lnTo>
                        <a:pt x="0" y="134"/>
                      </a:lnTo>
                      <a:lnTo>
                        <a:pt x="66" y="195"/>
                      </a:lnTo>
                      <a:lnTo>
                        <a:pt x="9" y="273"/>
                      </a:lnTo>
                      <a:lnTo>
                        <a:pt x="79" y="218"/>
                      </a:lnTo>
                      <a:lnTo>
                        <a:pt x="75" y="307"/>
                      </a:lnTo>
                      <a:lnTo>
                        <a:pt x="88" y="207"/>
                      </a:lnTo>
                      <a:lnTo>
                        <a:pt x="140" y="301"/>
                      </a:lnTo>
                      <a:lnTo>
                        <a:pt x="105" y="195"/>
                      </a:lnTo>
                      <a:lnTo>
                        <a:pt x="158" y="162"/>
                      </a:lnTo>
                      <a:lnTo>
                        <a:pt x="105" y="162"/>
                      </a:lnTo>
                      <a:lnTo>
                        <a:pt x="131" y="95"/>
                      </a:lnTo>
                      <a:lnTo>
                        <a:pt x="88" y="145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3" name=""/>
              <p:cNvSpPr/>
              <p:nvPr/>
            </p:nvSpPr>
            <p:spPr>
              <a:xfrm>
                <a:off x="1195200" y="5853240"/>
                <a:ext cx="88164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500" spc="-1" strike="noStrike">
                    <a:solidFill>
                      <a:srgbClr val="000000"/>
                    </a:solidFill>
                    <a:latin typeface="Times New Roman"/>
                  </a:rPr>
                  <a:t>FLAK</a:t>
                </a:r>
                <a:endParaRPr b="0" lang="en-US" sz="2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4" name=""/>
              <p:cNvGrpSpPr/>
              <p:nvPr/>
            </p:nvGrpSpPr>
            <p:grpSpPr>
              <a:xfrm>
                <a:off x="2138400" y="5627520"/>
                <a:ext cx="1292040" cy="1195200"/>
                <a:chOff x="2138400" y="5627520"/>
                <a:chExt cx="1292040" cy="1195200"/>
              </a:xfrm>
            </p:grpSpPr>
            <p:grpSp>
              <p:nvGrpSpPr>
                <p:cNvPr id="2745" name=""/>
                <p:cNvGrpSpPr/>
                <p:nvPr/>
              </p:nvGrpSpPr>
              <p:grpSpPr>
                <a:xfrm>
                  <a:off x="2138400" y="6662880"/>
                  <a:ext cx="1292040" cy="54000"/>
                  <a:chOff x="2138400" y="6662880"/>
                  <a:chExt cx="1292040" cy="54000"/>
                </a:xfrm>
              </p:grpSpPr>
              <p:sp>
                <p:nvSpPr>
                  <p:cNvPr id="2746" name=""/>
                  <p:cNvSpPr/>
                  <p:nvPr/>
                </p:nvSpPr>
                <p:spPr>
                  <a:xfrm>
                    <a:off x="3348000" y="6662880"/>
                    <a:ext cx="824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4">
                        <a:moveTo>
                          <a:pt x="52" y="17"/>
                        </a:moveTo>
                        <a:lnTo>
                          <a:pt x="0" y="34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lnTo>
                          <a:pt x="52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7" name=""/>
                  <p:cNvSpPr/>
                  <p:nvPr/>
                </p:nvSpPr>
                <p:spPr>
                  <a:xfrm>
                    <a:off x="2138400" y="6689880"/>
                    <a:ext cx="120960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8" name=""/>
                <p:cNvGrpSpPr/>
                <p:nvPr/>
              </p:nvGrpSpPr>
              <p:grpSpPr>
                <a:xfrm>
                  <a:off x="2319480" y="5627520"/>
                  <a:ext cx="41040" cy="1195200"/>
                  <a:chOff x="2319480" y="5627520"/>
                  <a:chExt cx="41040" cy="1195200"/>
                </a:xfrm>
              </p:grpSpPr>
              <p:sp>
                <p:nvSpPr>
                  <p:cNvPr id="2749" name=""/>
                  <p:cNvSpPr/>
                  <p:nvPr/>
                </p:nvSpPr>
                <p:spPr>
                  <a:xfrm>
                    <a:off x="2319480" y="5627520"/>
                    <a:ext cx="4104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67">
                        <a:moveTo>
                          <a:pt x="13" y="0"/>
                        </a:moveTo>
                        <a:lnTo>
                          <a:pt x="26" y="67"/>
                        </a:lnTo>
                        <a:lnTo>
                          <a:pt x="13" y="67"/>
                        </a:lnTo>
                        <a:lnTo>
                          <a:pt x="0" y="67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0" name=""/>
                  <p:cNvSpPr/>
                  <p:nvPr/>
                </p:nvSpPr>
                <p:spPr>
                  <a:xfrm flipV="1">
                    <a:off x="2340000" y="5733720"/>
                    <a:ext cx="1440" cy="1089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1" name=""/>
              <p:cNvGrpSpPr/>
              <p:nvPr/>
            </p:nvGrpSpPr>
            <p:grpSpPr>
              <a:xfrm>
                <a:off x="3932280" y="5645160"/>
                <a:ext cx="1292040" cy="1194840"/>
                <a:chOff x="3932280" y="5645160"/>
                <a:chExt cx="1292040" cy="1194840"/>
              </a:xfrm>
            </p:grpSpPr>
            <p:grpSp>
              <p:nvGrpSpPr>
                <p:cNvPr id="2752" name=""/>
                <p:cNvGrpSpPr/>
                <p:nvPr/>
              </p:nvGrpSpPr>
              <p:grpSpPr>
                <a:xfrm>
                  <a:off x="3932280" y="6681960"/>
                  <a:ext cx="1292040" cy="52200"/>
                  <a:chOff x="3932280" y="6681960"/>
                  <a:chExt cx="1292040" cy="52200"/>
                </a:xfrm>
              </p:grpSpPr>
              <p:sp>
                <p:nvSpPr>
                  <p:cNvPr id="2753" name=""/>
                  <p:cNvSpPr/>
                  <p:nvPr/>
                </p:nvSpPr>
                <p:spPr>
                  <a:xfrm>
                    <a:off x="5140440" y="6681960"/>
                    <a:ext cx="838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33">
                        <a:moveTo>
                          <a:pt x="53" y="16"/>
                        </a:moveTo>
                        <a:lnTo>
                          <a:pt x="0" y="33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53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4" name=""/>
                  <p:cNvSpPr/>
                  <p:nvPr/>
                </p:nvSpPr>
                <p:spPr>
                  <a:xfrm>
                    <a:off x="3932280" y="6707160"/>
                    <a:ext cx="120816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5" name=""/>
                <p:cNvGrpSpPr/>
                <p:nvPr/>
              </p:nvGrpSpPr>
              <p:grpSpPr>
                <a:xfrm>
                  <a:off x="4111560" y="5645160"/>
                  <a:ext cx="42840" cy="1194840"/>
                  <a:chOff x="4111560" y="5645160"/>
                  <a:chExt cx="42840" cy="1194840"/>
                </a:xfrm>
              </p:grpSpPr>
              <p:sp>
                <p:nvSpPr>
                  <p:cNvPr id="2756" name=""/>
                  <p:cNvSpPr/>
                  <p:nvPr/>
                </p:nvSpPr>
                <p:spPr>
                  <a:xfrm>
                    <a:off x="4111560" y="5645160"/>
                    <a:ext cx="4284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67">
                        <a:moveTo>
                          <a:pt x="14" y="0"/>
                        </a:moveTo>
                        <a:lnTo>
                          <a:pt x="27" y="67"/>
                        </a:lnTo>
                        <a:lnTo>
                          <a:pt x="14" y="67"/>
                        </a:lnTo>
                        <a:lnTo>
                          <a:pt x="0" y="67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7" name=""/>
                  <p:cNvSpPr/>
                  <p:nvPr/>
                </p:nvSpPr>
                <p:spPr>
                  <a:xfrm flipV="1">
                    <a:off x="4133880" y="5751000"/>
                    <a:ext cx="1440" cy="1089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58" name=""/>
              <p:cNvSpPr/>
              <p:nvPr/>
            </p:nvSpPr>
            <p:spPr>
              <a:xfrm>
                <a:off x="2603520" y="6168960"/>
                <a:ext cx="85680" cy="520920"/>
              </a:xfrm>
              <a:custGeom>
                <a:avLst/>
                <a:gdLst/>
                <a:ahLst/>
                <a:rect l="l" t="t" r="r" b="b"/>
                <a:pathLst>
                  <a:path w="27" h="424">
                    <a:moveTo>
                      <a:pt x="0" y="424"/>
                    </a:moveTo>
                    <a:lnTo>
                      <a:pt x="0" y="0"/>
                    </a:lnTo>
                    <a:lnTo>
                      <a:pt x="18" y="301"/>
                    </a:lnTo>
                    <a:lnTo>
                      <a:pt x="27" y="413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4146480" y="6043680"/>
                <a:ext cx="1112760" cy="673200"/>
              </a:xfrm>
              <a:custGeom>
                <a:avLst/>
                <a:gdLst/>
                <a:ahLst/>
                <a:rect l="l" t="t" r="r" b="b"/>
                <a:pathLst>
                  <a:path w="701" h="424">
                    <a:moveTo>
                      <a:pt x="0" y="424"/>
                    </a:moveTo>
                    <a:lnTo>
                      <a:pt x="5" y="0"/>
                    </a:lnTo>
                    <a:lnTo>
                      <a:pt x="259" y="73"/>
                    </a:lnTo>
                    <a:lnTo>
                      <a:pt x="482" y="145"/>
                    </a:lnTo>
                    <a:lnTo>
                      <a:pt x="640" y="257"/>
                    </a:lnTo>
                    <a:lnTo>
                      <a:pt x="696" y="290"/>
                    </a:lnTo>
                    <a:lnTo>
                      <a:pt x="701" y="424"/>
                    </a:lnTo>
                    <a:lnTo>
                      <a:pt x="0" y="424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4154400" y="6053040"/>
                <a:ext cx="1111320" cy="671760"/>
              </a:xfrm>
              <a:custGeom>
                <a:avLst/>
                <a:gdLst/>
                <a:ahLst/>
                <a:rect l="l" t="t" r="r" b="b"/>
                <a:pathLst>
                  <a:path w="700" h="423">
                    <a:moveTo>
                      <a:pt x="0" y="423"/>
                    </a:moveTo>
                    <a:lnTo>
                      <a:pt x="4" y="0"/>
                    </a:lnTo>
                    <a:lnTo>
                      <a:pt x="258" y="72"/>
                    </a:lnTo>
                    <a:lnTo>
                      <a:pt x="481" y="145"/>
                    </a:lnTo>
                    <a:lnTo>
                      <a:pt x="639" y="256"/>
                    </a:lnTo>
                    <a:lnTo>
                      <a:pt x="696" y="290"/>
                    </a:lnTo>
                    <a:lnTo>
                      <a:pt x="700" y="423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4160880" y="6060960"/>
                <a:ext cx="514440" cy="160560"/>
              </a:xfrm>
              <a:custGeom>
                <a:avLst/>
                <a:gdLst/>
                <a:ahLst/>
                <a:rect l="l" t="t" r="r" b="b"/>
                <a:pathLst>
                  <a:path w="324" h="101">
                    <a:moveTo>
                      <a:pt x="0" y="17"/>
                    </a:moveTo>
                    <a:lnTo>
                      <a:pt x="22" y="56"/>
                    </a:lnTo>
                    <a:lnTo>
                      <a:pt x="31" y="23"/>
                    </a:lnTo>
                    <a:lnTo>
                      <a:pt x="53" y="67"/>
                    </a:lnTo>
                    <a:lnTo>
                      <a:pt x="66" y="0"/>
                    </a:lnTo>
                    <a:lnTo>
                      <a:pt x="88" y="101"/>
                    </a:lnTo>
                    <a:lnTo>
                      <a:pt x="118" y="6"/>
                    </a:lnTo>
                    <a:lnTo>
                      <a:pt x="131" y="67"/>
                    </a:lnTo>
                    <a:lnTo>
                      <a:pt x="162" y="23"/>
                    </a:lnTo>
                    <a:lnTo>
                      <a:pt x="171" y="67"/>
                    </a:lnTo>
                    <a:lnTo>
                      <a:pt x="206" y="28"/>
                    </a:lnTo>
                    <a:lnTo>
                      <a:pt x="215" y="50"/>
                    </a:lnTo>
                    <a:lnTo>
                      <a:pt x="228" y="34"/>
                    </a:lnTo>
                    <a:lnTo>
                      <a:pt x="250" y="23"/>
                    </a:lnTo>
                    <a:lnTo>
                      <a:pt x="250" y="73"/>
                    </a:lnTo>
                    <a:lnTo>
                      <a:pt x="272" y="56"/>
                    </a:lnTo>
                    <a:lnTo>
                      <a:pt x="272" y="84"/>
                    </a:lnTo>
                    <a:lnTo>
                      <a:pt x="293" y="50"/>
                    </a:lnTo>
                    <a:lnTo>
                      <a:pt x="324" y="101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4675320" y="6184800"/>
                <a:ext cx="458640" cy="266760"/>
              </a:xfrm>
              <a:custGeom>
                <a:avLst/>
                <a:gdLst/>
                <a:ahLst/>
                <a:rect l="l" t="t" r="r" b="b"/>
                <a:pathLst>
                  <a:path w="289" h="168">
                    <a:moveTo>
                      <a:pt x="0" y="39"/>
                    </a:moveTo>
                    <a:lnTo>
                      <a:pt x="26" y="0"/>
                    </a:lnTo>
                    <a:lnTo>
                      <a:pt x="48" y="73"/>
                    </a:lnTo>
                    <a:lnTo>
                      <a:pt x="70" y="6"/>
                    </a:lnTo>
                    <a:lnTo>
                      <a:pt x="83" y="73"/>
                    </a:lnTo>
                    <a:lnTo>
                      <a:pt x="110" y="56"/>
                    </a:lnTo>
                    <a:lnTo>
                      <a:pt x="123" y="78"/>
                    </a:lnTo>
                    <a:lnTo>
                      <a:pt x="145" y="112"/>
                    </a:lnTo>
                    <a:lnTo>
                      <a:pt x="166" y="51"/>
                    </a:lnTo>
                    <a:lnTo>
                      <a:pt x="171" y="95"/>
                    </a:lnTo>
                    <a:lnTo>
                      <a:pt x="184" y="78"/>
                    </a:lnTo>
                    <a:lnTo>
                      <a:pt x="202" y="145"/>
                    </a:lnTo>
                    <a:lnTo>
                      <a:pt x="232" y="90"/>
                    </a:lnTo>
                    <a:lnTo>
                      <a:pt x="254" y="168"/>
                    </a:lnTo>
                    <a:lnTo>
                      <a:pt x="263" y="117"/>
                    </a:lnTo>
                    <a:lnTo>
                      <a:pt x="267" y="162"/>
                    </a:lnTo>
                    <a:lnTo>
                      <a:pt x="280" y="145"/>
                    </a:lnTo>
                    <a:lnTo>
                      <a:pt x="289" y="151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 flipH="1">
                <a:off x="5259240" y="6504120"/>
                <a:ext cx="14400" cy="1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64" name=""/>
          <p:cNvGrpSpPr/>
          <p:nvPr/>
        </p:nvGrpSpPr>
        <p:grpSpPr>
          <a:xfrm>
            <a:off x="5603760" y="5121360"/>
            <a:ext cx="3192480" cy="1517400"/>
            <a:chOff x="5603760" y="5121360"/>
            <a:chExt cx="3192480" cy="1517400"/>
          </a:xfrm>
        </p:grpSpPr>
        <p:pic>
          <p:nvPicPr>
            <p:cNvPr id="2765" name="" descr=""/>
            <p:cNvPicPr/>
            <p:nvPr/>
          </p:nvPicPr>
          <p:blipFill>
            <a:blip r:embed="rId8"/>
            <a:stretch/>
          </p:blipFill>
          <p:spPr>
            <a:xfrm>
              <a:off x="5603760" y="5121360"/>
              <a:ext cx="31924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6" name=""/>
            <p:cNvSpPr/>
            <p:nvPr/>
          </p:nvSpPr>
          <p:spPr>
            <a:xfrm>
              <a:off x="6036840" y="6118200"/>
              <a:ext cx="2709000" cy="520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cas limite Dira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377640" y="1298160"/>
            <a:ext cx="8986680" cy="1451160"/>
          </a:xfrm>
          <a:prstGeom prst="rect">
            <a:avLst/>
          </a:prstGeom>
          <a:noFill/>
          <a:ln w="0">
            <a:noFill/>
          </a:ln>
        </p:spPr>
        <p:txBody>
          <a:bodyPr lIns="60120" rIns="60120" tIns="24120" bIns="241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gnal sonore :  fréquences temporelles (1 / temps )</a:t>
            </a:r>
            <a:br>
              <a:rPr sz="2000"/>
            </a:b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stribution spatiale d'intensité  :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réquences spatiales ( 1 / longueur 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requences angulaires ( 1/ang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77080" y="3894120"/>
            <a:ext cx="4775400" cy="64980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120" rIns="60120" tIns="24120" bIns="2412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image commode déjà vue  :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tole ondulée  (avec parties négativ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9" name=""/>
          <p:cNvGrpSpPr/>
          <p:nvPr/>
        </p:nvGrpSpPr>
        <p:grpSpPr>
          <a:xfrm>
            <a:off x="5647680" y="3325680"/>
            <a:ext cx="2908080" cy="1612080"/>
            <a:chOff x="5647680" y="3325680"/>
            <a:chExt cx="2908080" cy="1612080"/>
          </a:xfrm>
        </p:grpSpPr>
        <p:grpSp>
          <p:nvGrpSpPr>
            <p:cNvPr id="2770" name=""/>
            <p:cNvGrpSpPr/>
            <p:nvPr/>
          </p:nvGrpSpPr>
          <p:grpSpPr>
            <a:xfrm>
              <a:off x="5693040" y="3325680"/>
              <a:ext cx="1221840" cy="612360"/>
              <a:chOff x="5693040" y="3325680"/>
              <a:chExt cx="1221840" cy="612360"/>
            </a:xfrm>
          </p:grpSpPr>
          <p:sp>
            <p:nvSpPr>
              <p:cNvPr id="2771" name=""/>
              <p:cNvSpPr/>
              <p:nvPr/>
            </p:nvSpPr>
            <p:spPr>
              <a:xfrm>
                <a:off x="5832720" y="3676680"/>
                <a:ext cx="1071000" cy="261360"/>
              </a:xfrm>
              <a:custGeom>
                <a:avLst/>
                <a:gdLst/>
                <a:ahLst/>
                <a:rect l="l" t="t" r="r" b="b"/>
                <a:pathLst>
                  <a:path w="1126" h="275">
                    <a:moveTo>
                      <a:pt x="0" y="140"/>
                    </a:moveTo>
                    <a:lnTo>
                      <a:pt x="8" y="156"/>
                    </a:lnTo>
                    <a:lnTo>
                      <a:pt x="20" y="185"/>
                    </a:lnTo>
                    <a:lnTo>
                      <a:pt x="33" y="209"/>
                    </a:lnTo>
                    <a:lnTo>
                      <a:pt x="45" y="226"/>
                    </a:lnTo>
                    <a:lnTo>
                      <a:pt x="57" y="242"/>
                    </a:lnTo>
                    <a:lnTo>
                      <a:pt x="69" y="255"/>
                    </a:lnTo>
                    <a:lnTo>
                      <a:pt x="82" y="263"/>
                    </a:lnTo>
                    <a:lnTo>
                      <a:pt x="94" y="267"/>
                    </a:lnTo>
                    <a:lnTo>
                      <a:pt x="106" y="263"/>
                    </a:lnTo>
                    <a:lnTo>
                      <a:pt x="118" y="259"/>
                    </a:lnTo>
                    <a:lnTo>
                      <a:pt x="126" y="250"/>
                    </a:lnTo>
                    <a:lnTo>
                      <a:pt x="135" y="242"/>
                    </a:lnTo>
                    <a:lnTo>
                      <a:pt x="147" y="222"/>
                    </a:lnTo>
                    <a:lnTo>
                      <a:pt x="155" y="205"/>
                    </a:lnTo>
                    <a:lnTo>
                      <a:pt x="167" y="177"/>
                    </a:lnTo>
                    <a:lnTo>
                      <a:pt x="175" y="148"/>
                    </a:lnTo>
                    <a:lnTo>
                      <a:pt x="180" y="131"/>
                    </a:lnTo>
                    <a:lnTo>
                      <a:pt x="184" y="115"/>
                    </a:lnTo>
                    <a:lnTo>
                      <a:pt x="196" y="82"/>
                    </a:lnTo>
                    <a:lnTo>
                      <a:pt x="204" y="57"/>
                    </a:lnTo>
                    <a:lnTo>
                      <a:pt x="212" y="41"/>
                    </a:lnTo>
                    <a:lnTo>
                      <a:pt x="224" y="21"/>
                    </a:lnTo>
                    <a:lnTo>
                      <a:pt x="233" y="8"/>
                    </a:lnTo>
                    <a:lnTo>
                      <a:pt x="241" y="4"/>
                    </a:lnTo>
                    <a:lnTo>
                      <a:pt x="249" y="0"/>
                    </a:lnTo>
                    <a:lnTo>
                      <a:pt x="257" y="0"/>
                    </a:lnTo>
                    <a:lnTo>
                      <a:pt x="269" y="4"/>
                    </a:lnTo>
                    <a:lnTo>
                      <a:pt x="281" y="12"/>
                    </a:lnTo>
                    <a:lnTo>
                      <a:pt x="286" y="21"/>
                    </a:lnTo>
                    <a:lnTo>
                      <a:pt x="294" y="37"/>
                    </a:lnTo>
                    <a:lnTo>
                      <a:pt x="306" y="62"/>
                    </a:lnTo>
                    <a:lnTo>
                      <a:pt x="314" y="86"/>
                    </a:lnTo>
                    <a:lnTo>
                      <a:pt x="322" y="115"/>
                    </a:lnTo>
                    <a:lnTo>
                      <a:pt x="326" y="127"/>
                    </a:lnTo>
                    <a:lnTo>
                      <a:pt x="330" y="140"/>
                    </a:lnTo>
                    <a:lnTo>
                      <a:pt x="339" y="168"/>
                    </a:lnTo>
                    <a:lnTo>
                      <a:pt x="347" y="193"/>
                    </a:lnTo>
                    <a:lnTo>
                      <a:pt x="355" y="213"/>
                    </a:lnTo>
                    <a:lnTo>
                      <a:pt x="367" y="234"/>
                    </a:lnTo>
                    <a:lnTo>
                      <a:pt x="375" y="246"/>
                    </a:lnTo>
                    <a:lnTo>
                      <a:pt x="379" y="250"/>
                    </a:lnTo>
                    <a:lnTo>
                      <a:pt x="387" y="255"/>
                    </a:lnTo>
                    <a:lnTo>
                      <a:pt x="400" y="255"/>
                    </a:lnTo>
                    <a:lnTo>
                      <a:pt x="412" y="250"/>
                    </a:lnTo>
                    <a:lnTo>
                      <a:pt x="416" y="246"/>
                    </a:lnTo>
                    <a:lnTo>
                      <a:pt x="424" y="234"/>
                    </a:lnTo>
                    <a:lnTo>
                      <a:pt x="436" y="213"/>
                    </a:lnTo>
                    <a:lnTo>
                      <a:pt x="445" y="197"/>
                    </a:lnTo>
                    <a:lnTo>
                      <a:pt x="453" y="172"/>
                    </a:lnTo>
                    <a:lnTo>
                      <a:pt x="461" y="144"/>
                    </a:lnTo>
                    <a:lnTo>
                      <a:pt x="465" y="131"/>
                    </a:lnTo>
                    <a:lnTo>
                      <a:pt x="469" y="119"/>
                    </a:lnTo>
                    <a:lnTo>
                      <a:pt x="477" y="90"/>
                    </a:lnTo>
                    <a:lnTo>
                      <a:pt x="485" y="66"/>
                    </a:lnTo>
                    <a:lnTo>
                      <a:pt x="494" y="49"/>
                    </a:lnTo>
                    <a:lnTo>
                      <a:pt x="506" y="29"/>
                    </a:lnTo>
                    <a:lnTo>
                      <a:pt x="514" y="16"/>
                    </a:lnTo>
                    <a:lnTo>
                      <a:pt x="522" y="8"/>
                    </a:lnTo>
                    <a:lnTo>
                      <a:pt x="526" y="8"/>
                    </a:lnTo>
                    <a:lnTo>
                      <a:pt x="538" y="8"/>
                    </a:lnTo>
                    <a:lnTo>
                      <a:pt x="547" y="8"/>
                    </a:lnTo>
                    <a:lnTo>
                      <a:pt x="555" y="16"/>
                    </a:lnTo>
                    <a:lnTo>
                      <a:pt x="563" y="29"/>
                    </a:lnTo>
                    <a:lnTo>
                      <a:pt x="575" y="49"/>
                    </a:lnTo>
                    <a:lnTo>
                      <a:pt x="583" y="66"/>
                    </a:lnTo>
                    <a:lnTo>
                      <a:pt x="591" y="90"/>
                    </a:lnTo>
                    <a:lnTo>
                      <a:pt x="600" y="119"/>
                    </a:lnTo>
                    <a:lnTo>
                      <a:pt x="604" y="131"/>
                    </a:lnTo>
                    <a:lnTo>
                      <a:pt x="608" y="144"/>
                    </a:lnTo>
                    <a:lnTo>
                      <a:pt x="616" y="172"/>
                    </a:lnTo>
                    <a:lnTo>
                      <a:pt x="624" y="197"/>
                    </a:lnTo>
                    <a:lnTo>
                      <a:pt x="632" y="218"/>
                    </a:lnTo>
                    <a:lnTo>
                      <a:pt x="640" y="234"/>
                    </a:lnTo>
                    <a:lnTo>
                      <a:pt x="653" y="246"/>
                    </a:lnTo>
                    <a:lnTo>
                      <a:pt x="657" y="255"/>
                    </a:lnTo>
                    <a:lnTo>
                      <a:pt x="665" y="259"/>
                    </a:lnTo>
                    <a:lnTo>
                      <a:pt x="673" y="259"/>
                    </a:lnTo>
                    <a:lnTo>
                      <a:pt x="681" y="259"/>
                    </a:lnTo>
                    <a:lnTo>
                      <a:pt x="689" y="250"/>
                    </a:lnTo>
                    <a:lnTo>
                      <a:pt x="702" y="238"/>
                    </a:lnTo>
                    <a:lnTo>
                      <a:pt x="710" y="222"/>
                    </a:lnTo>
                    <a:lnTo>
                      <a:pt x="718" y="205"/>
                    </a:lnTo>
                    <a:lnTo>
                      <a:pt x="726" y="181"/>
                    </a:lnTo>
                    <a:lnTo>
                      <a:pt x="734" y="160"/>
                    </a:lnTo>
                    <a:lnTo>
                      <a:pt x="738" y="144"/>
                    </a:lnTo>
                    <a:lnTo>
                      <a:pt x="742" y="131"/>
                    </a:lnTo>
                    <a:lnTo>
                      <a:pt x="750" y="107"/>
                    </a:lnTo>
                    <a:lnTo>
                      <a:pt x="759" y="82"/>
                    </a:lnTo>
                    <a:lnTo>
                      <a:pt x="767" y="66"/>
                    </a:lnTo>
                    <a:lnTo>
                      <a:pt x="779" y="49"/>
                    </a:lnTo>
                    <a:lnTo>
                      <a:pt x="787" y="37"/>
                    </a:lnTo>
                    <a:lnTo>
                      <a:pt x="791" y="33"/>
                    </a:lnTo>
                    <a:lnTo>
                      <a:pt x="799" y="29"/>
                    </a:lnTo>
                    <a:lnTo>
                      <a:pt x="812" y="29"/>
                    </a:lnTo>
                    <a:lnTo>
                      <a:pt x="820" y="33"/>
                    </a:lnTo>
                    <a:lnTo>
                      <a:pt x="828" y="41"/>
                    </a:lnTo>
                    <a:lnTo>
                      <a:pt x="836" y="49"/>
                    </a:lnTo>
                    <a:lnTo>
                      <a:pt x="848" y="70"/>
                    </a:lnTo>
                    <a:lnTo>
                      <a:pt x="856" y="90"/>
                    </a:lnTo>
                    <a:lnTo>
                      <a:pt x="865" y="111"/>
                    </a:lnTo>
                    <a:lnTo>
                      <a:pt x="873" y="140"/>
                    </a:lnTo>
                    <a:lnTo>
                      <a:pt x="877" y="152"/>
                    </a:lnTo>
                    <a:lnTo>
                      <a:pt x="881" y="164"/>
                    </a:lnTo>
                    <a:lnTo>
                      <a:pt x="889" y="193"/>
                    </a:lnTo>
                    <a:lnTo>
                      <a:pt x="897" y="213"/>
                    </a:lnTo>
                    <a:lnTo>
                      <a:pt x="905" y="234"/>
                    </a:lnTo>
                    <a:lnTo>
                      <a:pt x="914" y="250"/>
                    </a:lnTo>
                    <a:lnTo>
                      <a:pt x="922" y="259"/>
                    </a:lnTo>
                    <a:lnTo>
                      <a:pt x="934" y="271"/>
                    </a:lnTo>
                    <a:lnTo>
                      <a:pt x="942" y="275"/>
                    </a:lnTo>
                    <a:lnTo>
                      <a:pt x="946" y="275"/>
                    </a:lnTo>
                    <a:lnTo>
                      <a:pt x="958" y="271"/>
                    </a:lnTo>
                    <a:lnTo>
                      <a:pt x="963" y="267"/>
                    </a:lnTo>
                    <a:lnTo>
                      <a:pt x="971" y="255"/>
                    </a:lnTo>
                    <a:lnTo>
                      <a:pt x="979" y="238"/>
                    </a:lnTo>
                    <a:lnTo>
                      <a:pt x="987" y="222"/>
                    </a:lnTo>
                    <a:lnTo>
                      <a:pt x="991" y="201"/>
                    </a:lnTo>
                    <a:lnTo>
                      <a:pt x="999" y="177"/>
                    </a:lnTo>
                    <a:lnTo>
                      <a:pt x="1003" y="160"/>
                    </a:lnTo>
                    <a:lnTo>
                      <a:pt x="1007" y="144"/>
                    </a:lnTo>
                    <a:lnTo>
                      <a:pt x="1016" y="119"/>
                    </a:lnTo>
                    <a:lnTo>
                      <a:pt x="1020" y="99"/>
                    </a:lnTo>
                    <a:lnTo>
                      <a:pt x="1028" y="78"/>
                    </a:lnTo>
                    <a:lnTo>
                      <a:pt x="1036" y="66"/>
                    </a:lnTo>
                    <a:lnTo>
                      <a:pt x="1044" y="49"/>
                    </a:lnTo>
                    <a:lnTo>
                      <a:pt x="1052" y="41"/>
                    </a:lnTo>
                    <a:lnTo>
                      <a:pt x="1056" y="41"/>
                    </a:lnTo>
                    <a:lnTo>
                      <a:pt x="1069" y="37"/>
                    </a:lnTo>
                    <a:lnTo>
                      <a:pt x="1073" y="41"/>
                    </a:lnTo>
                    <a:lnTo>
                      <a:pt x="1085" y="49"/>
                    </a:lnTo>
                    <a:lnTo>
                      <a:pt x="1089" y="57"/>
                    </a:lnTo>
                    <a:lnTo>
                      <a:pt x="1097" y="70"/>
                    </a:lnTo>
                    <a:lnTo>
                      <a:pt x="1105" y="90"/>
                    </a:lnTo>
                    <a:lnTo>
                      <a:pt x="1113" y="111"/>
                    </a:lnTo>
                    <a:lnTo>
                      <a:pt x="1122" y="140"/>
                    </a:lnTo>
                    <a:lnTo>
                      <a:pt x="1126" y="152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5696640" y="3325680"/>
                <a:ext cx="1071000" cy="265320"/>
              </a:xfrm>
              <a:custGeom>
                <a:avLst/>
                <a:gdLst/>
                <a:ahLst/>
                <a:rect l="l" t="t" r="r" b="b"/>
                <a:pathLst>
                  <a:path w="1126" h="279">
                    <a:moveTo>
                      <a:pt x="0" y="143"/>
                    </a:moveTo>
                    <a:lnTo>
                      <a:pt x="8" y="160"/>
                    </a:lnTo>
                    <a:lnTo>
                      <a:pt x="21" y="188"/>
                    </a:lnTo>
                    <a:lnTo>
                      <a:pt x="33" y="213"/>
                    </a:lnTo>
                    <a:lnTo>
                      <a:pt x="45" y="229"/>
                    </a:lnTo>
                    <a:lnTo>
                      <a:pt x="57" y="246"/>
                    </a:lnTo>
                    <a:lnTo>
                      <a:pt x="70" y="258"/>
                    </a:lnTo>
                    <a:lnTo>
                      <a:pt x="82" y="266"/>
                    </a:lnTo>
                    <a:lnTo>
                      <a:pt x="94" y="270"/>
                    </a:lnTo>
                    <a:lnTo>
                      <a:pt x="106" y="266"/>
                    </a:lnTo>
                    <a:lnTo>
                      <a:pt x="119" y="262"/>
                    </a:lnTo>
                    <a:lnTo>
                      <a:pt x="127" y="254"/>
                    </a:lnTo>
                    <a:lnTo>
                      <a:pt x="135" y="246"/>
                    </a:lnTo>
                    <a:lnTo>
                      <a:pt x="147" y="225"/>
                    </a:lnTo>
                    <a:lnTo>
                      <a:pt x="155" y="209"/>
                    </a:lnTo>
                    <a:lnTo>
                      <a:pt x="168" y="180"/>
                    </a:lnTo>
                    <a:lnTo>
                      <a:pt x="176" y="151"/>
                    </a:lnTo>
                    <a:lnTo>
                      <a:pt x="180" y="135"/>
                    </a:lnTo>
                    <a:lnTo>
                      <a:pt x="184" y="119"/>
                    </a:lnTo>
                    <a:lnTo>
                      <a:pt x="192" y="90"/>
                    </a:lnTo>
                    <a:lnTo>
                      <a:pt x="204" y="61"/>
                    </a:lnTo>
                    <a:lnTo>
                      <a:pt x="212" y="41"/>
                    </a:lnTo>
                    <a:lnTo>
                      <a:pt x="221" y="28"/>
                    </a:lnTo>
                    <a:lnTo>
                      <a:pt x="229" y="16"/>
                    </a:lnTo>
                    <a:lnTo>
                      <a:pt x="237" y="8"/>
                    </a:lnTo>
                    <a:lnTo>
                      <a:pt x="245" y="4"/>
                    </a:lnTo>
                    <a:lnTo>
                      <a:pt x="261" y="0"/>
                    </a:lnTo>
                    <a:lnTo>
                      <a:pt x="265" y="4"/>
                    </a:lnTo>
                    <a:lnTo>
                      <a:pt x="274" y="12"/>
                    </a:lnTo>
                    <a:lnTo>
                      <a:pt x="286" y="24"/>
                    </a:lnTo>
                    <a:lnTo>
                      <a:pt x="294" y="37"/>
                    </a:lnTo>
                    <a:lnTo>
                      <a:pt x="302" y="57"/>
                    </a:lnTo>
                    <a:lnTo>
                      <a:pt x="314" y="86"/>
                    </a:lnTo>
                    <a:lnTo>
                      <a:pt x="323" y="115"/>
                    </a:lnTo>
                    <a:lnTo>
                      <a:pt x="327" y="127"/>
                    </a:lnTo>
                    <a:lnTo>
                      <a:pt x="331" y="139"/>
                    </a:lnTo>
                    <a:lnTo>
                      <a:pt x="339" y="168"/>
                    </a:lnTo>
                    <a:lnTo>
                      <a:pt x="347" y="193"/>
                    </a:lnTo>
                    <a:lnTo>
                      <a:pt x="355" y="213"/>
                    </a:lnTo>
                    <a:lnTo>
                      <a:pt x="367" y="234"/>
                    </a:lnTo>
                    <a:lnTo>
                      <a:pt x="376" y="246"/>
                    </a:lnTo>
                    <a:lnTo>
                      <a:pt x="384" y="254"/>
                    </a:lnTo>
                    <a:lnTo>
                      <a:pt x="392" y="258"/>
                    </a:lnTo>
                    <a:lnTo>
                      <a:pt x="400" y="258"/>
                    </a:lnTo>
                    <a:lnTo>
                      <a:pt x="412" y="254"/>
                    </a:lnTo>
                    <a:lnTo>
                      <a:pt x="420" y="246"/>
                    </a:lnTo>
                    <a:lnTo>
                      <a:pt x="424" y="238"/>
                    </a:lnTo>
                    <a:lnTo>
                      <a:pt x="437" y="217"/>
                    </a:lnTo>
                    <a:lnTo>
                      <a:pt x="445" y="201"/>
                    </a:lnTo>
                    <a:lnTo>
                      <a:pt x="453" y="176"/>
                    </a:lnTo>
                    <a:lnTo>
                      <a:pt x="461" y="147"/>
                    </a:lnTo>
                    <a:lnTo>
                      <a:pt x="465" y="135"/>
                    </a:lnTo>
                    <a:lnTo>
                      <a:pt x="469" y="123"/>
                    </a:lnTo>
                    <a:lnTo>
                      <a:pt x="477" y="94"/>
                    </a:lnTo>
                    <a:lnTo>
                      <a:pt x="486" y="69"/>
                    </a:lnTo>
                    <a:lnTo>
                      <a:pt x="494" y="53"/>
                    </a:lnTo>
                    <a:lnTo>
                      <a:pt x="506" y="32"/>
                    </a:lnTo>
                    <a:lnTo>
                      <a:pt x="514" y="20"/>
                    </a:lnTo>
                    <a:lnTo>
                      <a:pt x="522" y="12"/>
                    </a:lnTo>
                    <a:lnTo>
                      <a:pt x="526" y="12"/>
                    </a:lnTo>
                    <a:lnTo>
                      <a:pt x="539" y="12"/>
                    </a:lnTo>
                    <a:lnTo>
                      <a:pt x="547" y="12"/>
                    </a:lnTo>
                    <a:lnTo>
                      <a:pt x="555" y="20"/>
                    </a:lnTo>
                    <a:lnTo>
                      <a:pt x="563" y="32"/>
                    </a:lnTo>
                    <a:lnTo>
                      <a:pt x="575" y="53"/>
                    </a:lnTo>
                    <a:lnTo>
                      <a:pt x="584" y="69"/>
                    </a:lnTo>
                    <a:lnTo>
                      <a:pt x="592" y="94"/>
                    </a:lnTo>
                    <a:lnTo>
                      <a:pt x="600" y="123"/>
                    </a:lnTo>
                    <a:lnTo>
                      <a:pt x="604" y="135"/>
                    </a:lnTo>
                    <a:lnTo>
                      <a:pt x="608" y="147"/>
                    </a:lnTo>
                    <a:lnTo>
                      <a:pt x="616" y="176"/>
                    </a:lnTo>
                    <a:lnTo>
                      <a:pt x="624" y="201"/>
                    </a:lnTo>
                    <a:lnTo>
                      <a:pt x="632" y="221"/>
                    </a:lnTo>
                    <a:lnTo>
                      <a:pt x="641" y="238"/>
                    </a:lnTo>
                    <a:lnTo>
                      <a:pt x="653" y="250"/>
                    </a:lnTo>
                    <a:lnTo>
                      <a:pt x="657" y="258"/>
                    </a:lnTo>
                    <a:lnTo>
                      <a:pt x="665" y="262"/>
                    </a:lnTo>
                    <a:lnTo>
                      <a:pt x="673" y="262"/>
                    </a:lnTo>
                    <a:lnTo>
                      <a:pt x="681" y="262"/>
                    </a:lnTo>
                    <a:lnTo>
                      <a:pt x="690" y="254"/>
                    </a:lnTo>
                    <a:lnTo>
                      <a:pt x="702" y="242"/>
                    </a:lnTo>
                    <a:lnTo>
                      <a:pt x="710" y="225"/>
                    </a:lnTo>
                    <a:lnTo>
                      <a:pt x="718" y="209"/>
                    </a:lnTo>
                    <a:lnTo>
                      <a:pt x="726" y="184"/>
                    </a:lnTo>
                    <a:lnTo>
                      <a:pt x="734" y="164"/>
                    </a:lnTo>
                    <a:lnTo>
                      <a:pt x="738" y="147"/>
                    </a:lnTo>
                    <a:lnTo>
                      <a:pt x="743" y="131"/>
                    </a:lnTo>
                    <a:lnTo>
                      <a:pt x="751" y="110"/>
                    </a:lnTo>
                    <a:lnTo>
                      <a:pt x="759" y="86"/>
                    </a:lnTo>
                    <a:lnTo>
                      <a:pt x="767" y="69"/>
                    </a:lnTo>
                    <a:lnTo>
                      <a:pt x="775" y="53"/>
                    </a:lnTo>
                    <a:lnTo>
                      <a:pt x="783" y="45"/>
                    </a:lnTo>
                    <a:lnTo>
                      <a:pt x="791" y="37"/>
                    </a:lnTo>
                    <a:lnTo>
                      <a:pt x="800" y="32"/>
                    </a:lnTo>
                    <a:lnTo>
                      <a:pt x="808" y="32"/>
                    </a:lnTo>
                    <a:lnTo>
                      <a:pt x="816" y="37"/>
                    </a:lnTo>
                    <a:lnTo>
                      <a:pt x="824" y="45"/>
                    </a:lnTo>
                    <a:lnTo>
                      <a:pt x="836" y="53"/>
                    </a:lnTo>
                    <a:lnTo>
                      <a:pt x="845" y="69"/>
                    </a:lnTo>
                    <a:lnTo>
                      <a:pt x="853" y="90"/>
                    </a:lnTo>
                    <a:lnTo>
                      <a:pt x="865" y="115"/>
                    </a:lnTo>
                    <a:lnTo>
                      <a:pt x="873" y="143"/>
                    </a:lnTo>
                    <a:lnTo>
                      <a:pt x="877" y="156"/>
                    </a:lnTo>
                    <a:lnTo>
                      <a:pt x="881" y="168"/>
                    </a:lnTo>
                    <a:lnTo>
                      <a:pt x="889" y="197"/>
                    </a:lnTo>
                    <a:lnTo>
                      <a:pt x="898" y="217"/>
                    </a:lnTo>
                    <a:lnTo>
                      <a:pt x="906" y="238"/>
                    </a:lnTo>
                    <a:lnTo>
                      <a:pt x="914" y="254"/>
                    </a:lnTo>
                    <a:lnTo>
                      <a:pt x="922" y="262"/>
                    </a:lnTo>
                    <a:lnTo>
                      <a:pt x="934" y="275"/>
                    </a:lnTo>
                    <a:lnTo>
                      <a:pt x="942" y="279"/>
                    </a:lnTo>
                    <a:lnTo>
                      <a:pt x="946" y="279"/>
                    </a:lnTo>
                    <a:lnTo>
                      <a:pt x="959" y="275"/>
                    </a:lnTo>
                    <a:lnTo>
                      <a:pt x="963" y="270"/>
                    </a:lnTo>
                    <a:lnTo>
                      <a:pt x="971" y="258"/>
                    </a:lnTo>
                    <a:lnTo>
                      <a:pt x="979" y="242"/>
                    </a:lnTo>
                    <a:lnTo>
                      <a:pt x="987" y="225"/>
                    </a:lnTo>
                    <a:lnTo>
                      <a:pt x="991" y="205"/>
                    </a:lnTo>
                    <a:lnTo>
                      <a:pt x="999" y="180"/>
                    </a:lnTo>
                    <a:lnTo>
                      <a:pt x="1004" y="164"/>
                    </a:lnTo>
                    <a:lnTo>
                      <a:pt x="1008" y="147"/>
                    </a:lnTo>
                    <a:lnTo>
                      <a:pt x="1016" y="123"/>
                    </a:lnTo>
                    <a:lnTo>
                      <a:pt x="1020" y="102"/>
                    </a:lnTo>
                    <a:lnTo>
                      <a:pt x="1028" y="82"/>
                    </a:lnTo>
                    <a:lnTo>
                      <a:pt x="1036" y="69"/>
                    </a:lnTo>
                    <a:lnTo>
                      <a:pt x="1044" y="53"/>
                    </a:lnTo>
                    <a:lnTo>
                      <a:pt x="1052" y="45"/>
                    </a:lnTo>
                    <a:lnTo>
                      <a:pt x="1057" y="45"/>
                    </a:lnTo>
                    <a:lnTo>
                      <a:pt x="1069" y="41"/>
                    </a:lnTo>
                    <a:lnTo>
                      <a:pt x="1073" y="45"/>
                    </a:lnTo>
                    <a:lnTo>
                      <a:pt x="1085" y="53"/>
                    </a:lnTo>
                    <a:lnTo>
                      <a:pt x="1089" y="61"/>
                    </a:lnTo>
                    <a:lnTo>
                      <a:pt x="1097" y="73"/>
                    </a:lnTo>
                    <a:lnTo>
                      <a:pt x="1106" y="94"/>
                    </a:lnTo>
                    <a:lnTo>
                      <a:pt x="1114" y="115"/>
                    </a:lnTo>
                    <a:lnTo>
                      <a:pt x="1122" y="143"/>
                    </a:lnTo>
                    <a:lnTo>
                      <a:pt x="1126" y="156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5778360" y="3333240"/>
                <a:ext cx="271080" cy="585720"/>
              </a:xfrm>
              <a:custGeom>
                <a:avLst/>
                <a:gdLst/>
                <a:ahLst/>
                <a:rect l="l" t="t" r="r" b="b"/>
                <a:pathLst>
                  <a:path w="285" h="616">
                    <a:moveTo>
                      <a:pt x="0" y="254"/>
                    </a:moveTo>
                    <a:lnTo>
                      <a:pt x="155" y="616"/>
                    </a:lnTo>
                    <a:lnTo>
                      <a:pt x="188" y="599"/>
                    </a:lnTo>
                    <a:lnTo>
                      <a:pt x="228" y="492"/>
                    </a:lnTo>
                    <a:lnTo>
                      <a:pt x="253" y="402"/>
                    </a:lnTo>
                    <a:lnTo>
                      <a:pt x="285" y="377"/>
                    </a:lnTo>
                    <a:lnTo>
                      <a:pt x="147" y="0"/>
                    </a:lnTo>
                    <a:lnTo>
                      <a:pt x="114" y="65"/>
                    </a:lnTo>
                    <a:lnTo>
                      <a:pt x="73" y="197"/>
                    </a:lnTo>
                    <a:lnTo>
                      <a:pt x="41" y="246"/>
                    </a:lnTo>
                    <a:lnTo>
                      <a:pt x="0" y="254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6054120" y="3336840"/>
                <a:ext cx="271080" cy="585720"/>
              </a:xfrm>
              <a:custGeom>
                <a:avLst/>
                <a:gdLst/>
                <a:ahLst/>
                <a:rect l="l" t="t" r="r" b="b"/>
                <a:pathLst>
                  <a:path w="285" h="616">
                    <a:moveTo>
                      <a:pt x="0" y="254"/>
                    </a:moveTo>
                    <a:lnTo>
                      <a:pt x="154" y="616"/>
                    </a:lnTo>
                    <a:lnTo>
                      <a:pt x="187" y="599"/>
                    </a:lnTo>
                    <a:lnTo>
                      <a:pt x="228" y="492"/>
                    </a:lnTo>
                    <a:lnTo>
                      <a:pt x="252" y="402"/>
                    </a:lnTo>
                    <a:lnTo>
                      <a:pt x="285" y="378"/>
                    </a:lnTo>
                    <a:lnTo>
                      <a:pt x="146" y="0"/>
                    </a:lnTo>
                    <a:lnTo>
                      <a:pt x="114" y="66"/>
                    </a:lnTo>
                    <a:lnTo>
                      <a:pt x="73" y="197"/>
                    </a:lnTo>
                    <a:lnTo>
                      <a:pt x="40" y="246"/>
                    </a:lnTo>
                    <a:lnTo>
                      <a:pt x="0" y="25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6344280" y="3348360"/>
                <a:ext cx="225360" cy="578160"/>
              </a:xfrm>
              <a:custGeom>
                <a:avLst/>
                <a:gdLst/>
                <a:ahLst/>
                <a:rect l="l" t="t" r="r" b="b"/>
                <a:pathLst>
                  <a:path w="237" h="608">
                    <a:moveTo>
                      <a:pt x="0" y="251"/>
                    </a:moveTo>
                    <a:lnTo>
                      <a:pt x="127" y="608"/>
                    </a:lnTo>
                    <a:lnTo>
                      <a:pt x="155" y="591"/>
                    </a:lnTo>
                    <a:lnTo>
                      <a:pt x="188" y="485"/>
                    </a:lnTo>
                    <a:lnTo>
                      <a:pt x="208" y="398"/>
                    </a:lnTo>
                    <a:lnTo>
                      <a:pt x="237" y="374"/>
                    </a:lnTo>
                    <a:lnTo>
                      <a:pt x="123" y="0"/>
                    </a:lnTo>
                    <a:lnTo>
                      <a:pt x="94" y="66"/>
                    </a:lnTo>
                    <a:lnTo>
                      <a:pt x="62" y="193"/>
                    </a:lnTo>
                    <a:lnTo>
                      <a:pt x="33" y="242"/>
                    </a:lnTo>
                    <a:lnTo>
                      <a:pt x="0" y="251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581160" y="3360960"/>
                <a:ext cx="240480" cy="569520"/>
              </a:xfrm>
              <a:custGeom>
                <a:avLst/>
                <a:gdLst/>
                <a:ahLst/>
                <a:rect l="l" t="t" r="r" b="b"/>
                <a:pathLst>
                  <a:path w="253" h="599">
                    <a:moveTo>
                      <a:pt x="0" y="246"/>
                    </a:moveTo>
                    <a:lnTo>
                      <a:pt x="135" y="599"/>
                    </a:lnTo>
                    <a:lnTo>
                      <a:pt x="163" y="582"/>
                    </a:lnTo>
                    <a:lnTo>
                      <a:pt x="200" y="476"/>
                    </a:lnTo>
                    <a:lnTo>
                      <a:pt x="224" y="389"/>
                    </a:lnTo>
                    <a:lnTo>
                      <a:pt x="253" y="365"/>
                    </a:lnTo>
                    <a:lnTo>
                      <a:pt x="131" y="0"/>
                    </a:lnTo>
                    <a:lnTo>
                      <a:pt x="98" y="61"/>
                    </a:lnTo>
                    <a:lnTo>
                      <a:pt x="65" y="188"/>
                    </a:lnTo>
                    <a:lnTo>
                      <a:pt x="37" y="238"/>
                    </a:lnTo>
                    <a:lnTo>
                      <a:pt x="0" y="246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693040" y="3457800"/>
                <a:ext cx="147240" cy="374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764040" y="3465360"/>
                <a:ext cx="108360" cy="27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 flipV="1">
                <a:off x="6840720" y="3730680"/>
                <a:ext cx="70200" cy="10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979960" y="3379680"/>
                <a:ext cx="124560" cy="32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239880" y="3376080"/>
                <a:ext cx="124560" cy="32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508080" y="3403440"/>
                <a:ext cx="123480" cy="31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767640" y="3468960"/>
                <a:ext cx="147240" cy="375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4" name=""/>
            <p:cNvGrpSpPr/>
            <p:nvPr/>
          </p:nvGrpSpPr>
          <p:grpSpPr>
            <a:xfrm>
              <a:off x="5875560" y="3949560"/>
              <a:ext cx="942120" cy="300240"/>
              <a:chOff x="5875560" y="3949560"/>
              <a:chExt cx="942120" cy="300240"/>
            </a:xfrm>
          </p:grpSpPr>
          <p:grpSp>
            <p:nvGrpSpPr>
              <p:cNvPr id="2785" name=""/>
              <p:cNvGrpSpPr/>
              <p:nvPr/>
            </p:nvGrpSpPr>
            <p:grpSpPr>
              <a:xfrm>
                <a:off x="5875560" y="3949560"/>
                <a:ext cx="507960" cy="296280"/>
                <a:chOff x="5875560" y="3949560"/>
                <a:chExt cx="507960" cy="296280"/>
              </a:xfrm>
            </p:grpSpPr>
            <p:sp>
              <p:nvSpPr>
                <p:cNvPr id="2786" name=""/>
                <p:cNvSpPr/>
                <p:nvPr/>
              </p:nvSpPr>
              <p:spPr>
                <a:xfrm>
                  <a:off x="5929920" y="4117680"/>
                  <a:ext cx="442080" cy="128160"/>
                </a:xfrm>
                <a:custGeom>
                  <a:avLst/>
                  <a:gdLst/>
                  <a:ahLst/>
                  <a:rect l="l" t="t" r="r" b="b"/>
                  <a:pathLst>
                    <a:path w="465" h="135">
                      <a:moveTo>
                        <a:pt x="0" y="70"/>
                      </a:moveTo>
                      <a:lnTo>
                        <a:pt x="4" y="78"/>
                      </a:lnTo>
                      <a:lnTo>
                        <a:pt x="8" y="90"/>
                      </a:lnTo>
                      <a:lnTo>
                        <a:pt x="12" y="98"/>
                      </a:lnTo>
                      <a:lnTo>
                        <a:pt x="20" y="115"/>
                      </a:lnTo>
                      <a:lnTo>
                        <a:pt x="24" y="123"/>
                      </a:lnTo>
                      <a:lnTo>
                        <a:pt x="29" y="123"/>
                      </a:lnTo>
                      <a:lnTo>
                        <a:pt x="33" y="127"/>
                      </a:lnTo>
                      <a:lnTo>
                        <a:pt x="41" y="131"/>
                      </a:lnTo>
                      <a:lnTo>
                        <a:pt x="53" y="127"/>
                      </a:lnTo>
                      <a:lnTo>
                        <a:pt x="57" y="123"/>
                      </a:lnTo>
                      <a:lnTo>
                        <a:pt x="57" y="119"/>
                      </a:lnTo>
                      <a:lnTo>
                        <a:pt x="61" y="111"/>
                      </a:lnTo>
                      <a:lnTo>
                        <a:pt x="65" y="103"/>
                      </a:lnTo>
                      <a:lnTo>
                        <a:pt x="69" y="90"/>
                      </a:lnTo>
                      <a:lnTo>
                        <a:pt x="78" y="70"/>
                      </a:lnTo>
                      <a:lnTo>
                        <a:pt x="78" y="66"/>
                      </a:lnTo>
                      <a:lnTo>
                        <a:pt x="78" y="61"/>
                      </a:lnTo>
                      <a:lnTo>
                        <a:pt x="82" y="45"/>
                      </a:lnTo>
                      <a:lnTo>
                        <a:pt x="86" y="33"/>
                      </a:lnTo>
                      <a:lnTo>
                        <a:pt x="90" y="25"/>
                      </a:lnTo>
                      <a:lnTo>
                        <a:pt x="94" y="12"/>
                      </a:lnTo>
                      <a:lnTo>
                        <a:pt x="98" y="4"/>
                      </a:lnTo>
                      <a:lnTo>
                        <a:pt x="102" y="0"/>
                      </a:lnTo>
                      <a:lnTo>
                        <a:pt x="106" y="0"/>
                      </a:lnTo>
                      <a:lnTo>
                        <a:pt x="110" y="0"/>
                      </a:lnTo>
                      <a:lnTo>
                        <a:pt x="114" y="4"/>
                      </a:lnTo>
                      <a:lnTo>
                        <a:pt x="118" y="8"/>
                      </a:lnTo>
                      <a:lnTo>
                        <a:pt x="122" y="20"/>
                      </a:lnTo>
                      <a:lnTo>
                        <a:pt x="126" y="33"/>
                      </a:lnTo>
                      <a:lnTo>
                        <a:pt x="131" y="41"/>
                      </a:lnTo>
                      <a:lnTo>
                        <a:pt x="135" y="57"/>
                      </a:lnTo>
                      <a:lnTo>
                        <a:pt x="135" y="61"/>
                      </a:lnTo>
                      <a:lnTo>
                        <a:pt x="135" y="66"/>
                      </a:lnTo>
                      <a:lnTo>
                        <a:pt x="139" y="82"/>
                      </a:lnTo>
                      <a:lnTo>
                        <a:pt x="143" y="90"/>
                      </a:lnTo>
                      <a:lnTo>
                        <a:pt x="147" y="103"/>
                      </a:lnTo>
                      <a:lnTo>
                        <a:pt x="151" y="115"/>
                      </a:lnTo>
                      <a:lnTo>
                        <a:pt x="155" y="119"/>
                      </a:lnTo>
                      <a:lnTo>
                        <a:pt x="159" y="123"/>
                      </a:lnTo>
                      <a:lnTo>
                        <a:pt x="163" y="123"/>
                      </a:lnTo>
                      <a:lnTo>
                        <a:pt x="167" y="123"/>
                      </a:lnTo>
                      <a:lnTo>
                        <a:pt x="175" y="119"/>
                      </a:lnTo>
                      <a:lnTo>
                        <a:pt x="175" y="115"/>
                      </a:lnTo>
                      <a:lnTo>
                        <a:pt x="179" y="103"/>
                      </a:lnTo>
                      <a:lnTo>
                        <a:pt x="184" y="94"/>
                      </a:lnTo>
                      <a:lnTo>
                        <a:pt x="188" y="82"/>
                      </a:lnTo>
                      <a:lnTo>
                        <a:pt x="192" y="70"/>
                      </a:lnTo>
                      <a:lnTo>
                        <a:pt x="192" y="66"/>
                      </a:lnTo>
                      <a:lnTo>
                        <a:pt x="192" y="61"/>
                      </a:lnTo>
                      <a:lnTo>
                        <a:pt x="196" y="45"/>
                      </a:lnTo>
                      <a:lnTo>
                        <a:pt x="200" y="37"/>
                      </a:lnTo>
                      <a:lnTo>
                        <a:pt x="204" y="25"/>
                      </a:lnTo>
                      <a:lnTo>
                        <a:pt x="208" y="12"/>
                      </a:lnTo>
                      <a:lnTo>
                        <a:pt x="212" y="8"/>
                      </a:lnTo>
                      <a:lnTo>
                        <a:pt x="216" y="4"/>
                      </a:lnTo>
                      <a:lnTo>
                        <a:pt x="220" y="4"/>
                      </a:lnTo>
                      <a:lnTo>
                        <a:pt x="224" y="4"/>
                      </a:lnTo>
                      <a:lnTo>
                        <a:pt x="228" y="8"/>
                      </a:lnTo>
                      <a:lnTo>
                        <a:pt x="232" y="12"/>
                      </a:lnTo>
                      <a:lnTo>
                        <a:pt x="237" y="25"/>
                      </a:lnTo>
                      <a:lnTo>
                        <a:pt x="241" y="37"/>
                      </a:lnTo>
                      <a:lnTo>
                        <a:pt x="245" y="45"/>
                      </a:lnTo>
                      <a:lnTo>
                        <a:pt x="249" y="61"/>
                      </a:lnTo>
                      <a:lnTo>
                        <a:pt x="249" y="66"/>
                      </a:lnTo>
                      <a:lnTo>
                        <a:pt x="253" y="74"/>
                      </a:lnTo>
                      <a:lnTo>
                        <a:pt x="253" y="82"/>
                      </a:lnTo>
                      <a:lnTo>
                        <a:pt x="257" y="94"/>
                      </a:lnTo>
                      <a:lnTo>
                        <a:pt x="261" y="107"/>
                      </a:lnTo>
                      <a:lnTo>
                        <a:pt x="265" y="111"/>
                      </a:lnTo>
                      <a:lnTo>
                        <a:pt x="269" y="119"/>
                      </a:lnTo>
                      <a:lnTo>
                        <a:pt x="273" y="123"/>
                      </a:lnTo>
                      <a:lnTo>
                        <a:pt x="281" y="127"/>
                      </a:lnTo>
                      <a:lnTo>
                        <a:pt x="285" y="123"/>
                      </a:lnTo>
                      <a:lnTo>
                        <a:pt x="290" y="119"/>
                      </a:lnTo>
                      <a:lnTo>
                        <a:pt x="294" y="111"/>
                      </a:lnTo>
                      <a:lnTo>
                        <a:pt x="298" y="103"/>
                      </a:lnTo>
                      <a:lnTo>
                        <a:pt x="302" y="86"/>
                      </a:lnTo>
                      <a:lnTo>
                        <a:pt x="306" y="74"/>
                      </a:lnTo>
                      <a:lnTo>
                        <a:pt x="306" y="70"/>
                      </a:lnTo>
                      <a:lnTo>
                        <a:pt x="306" y="66"/>
                      </a:lnTo>
                      <a:lnTo>
                        <a:pt x="310" y="53"/>
                      </a:lnTo>
                      <a:lnTo>
                        <a:pt x="314" y="41"/>
                      </a:lnTo>
                      <a:lnTo>
                        <a:pt x="318" y="33"/>
                      </a:lnTo>
                      <a:lnTo>
                        <a:pt x="322" y="25"/>
                      </a:lnTo>
                      <a:lnTo>
                        <a:pt x="326" y="16"/>
                      </a:lnTo>
                      <a:lnTo>
                        <a:pt x="330" y="16"/>
                      </a:lnTo>
                      <a:lnTo>
                        <a:pt x="339" y="16"/>
                      </a:lnTo>
                      <a:lnTo>
                        <a:pt x="343" y="20"/>
                      </a:lnTo>
                      <a:lnTo>
                        <a:pt x="347" y="25"/>
                      </a:lnTo>
                      <a:lnTo>
                        <a:pt x="351" y="37"/>
                      </a:lnTo>
                      <a:lnTo>
                        <a:pt x="355" y="45"/>
                      </a:lnTo>
                      <a:lnTo>
                        <a:pt x="359" y="57"/>
                      </a:lnTo>
                      <a:lnTo>
                        <a:pt x="363" y="70"/>
                      </a:lnTo>
                      <a:lnTo>
                        <a:pt x="363" y="74"/>
                      </a:lnTo>
                      <a:lnTo>
                        <a:pt x="363" y="78"/>
                      </a:lnTo>
                      <a:lnTo>
                        <a:pt x="367" y="90"/>
                      </a:lnTo>
                      <a:lnTo>
                        <a:pt x="371" y="103"/>
                      </a:lnTo>
                      <a:lnTo>
                        <a:pt x="375" y="115"/>
                      </a:lnTo>
                      <a:lnTo>
                        <a:pt x="379" y="123"/>
                      </a:lnTo>
                      <a:lnTo>
                        <a:pt x="383" y="131"/>
                      </a:lnTo>
                      <a:lnTo>
                        <a:pt x="387" y="135"/>
                      </a:lnTo>
                      <a:lnTo>
                        <a:pt x="392" y="135"/>
                      </a:lnTo>
                      <a:lnTo>
                        <a:pt x="396" y="135"/>
                      </a:lnTo>
                      <a:lnTo>
                        <a:pt x="396" y="131"/>
                      </a:lnTo>
                      <a:lnTo>
                        <a:pt x="400" y="127"/>
                      </a:lnTo>
                      <a:lnTo>
                        <a:pt x="404" y="123"/>
                      </a:lnTo>
                      <a:lnTo>
                        <a:pt x="404" y="119"/>
                      </a:lnTo>
                      <a:lnTo>
                        <a:pt x="408" y="111"/>
                      </a:lnTo>
                      <a:lnTo>
                        <a:pt x="412" y="94"/>
                      </a:lnTo>
                      <a:lnTo>
                        <a:pt x="416" y="82"/>
                      </a:lnTo>
                      <a:lnTo>
                        <a:pt x="416" y="78"/>
                      </a:lnTo>
                      <a:lnTo>
                        <a:pt x="416" y="74"/>
                      </a:lnTo>
                      <a:lnTo>
                        <a:pt x="420" y="61"/>
                      </a:lnTo>
                      <a:lnTo>
                        <a:pt x="424" y="45"/>
                      </a:lnTo>
                      <a:lnTo>
                        <a:pt x="428" y="37"/>
                      </a:lnTo>
                      <a:lnTo>
                        <a:pt x="428" y="33"/>
                      </a:lnTo>
                      <a:lnTo>
                        <a:pt x="432" y="29"/>
                      </a:lnTo>
                      <a:lnTo>
                        <a:pt x="436" y="20"/>
                      </a:lnTo>
                      <a:lnTo>
                        <a:pt x="440" y="20"/>
                      </a:lnTo>
                      <a:lnTo>
                        <a:pt x="445" y="20"/>
                      </a:lnTo>
                      <a:lnTo>
                        <a:pt x="449" y="25"/>
                      </a:lnTo>
                      <a:lnTo>
                        <a:pt x="453" y="33"/>
                      </a:lnTo>
                      <a:lnTo>
                        <a:pt x="457" y="41"/>
                      </a:lnTo>
                      <a:lnTo>
                        <a:pt x="461" y="57"/>
                      </a:lnTo>
                      <a:lnTo>
                        <a:pt x="465" y="70"/>
                      </a:lnTo>
                      <a:lnTo>
                        <a:pt x="465" y="74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5875560" y="3949560"/>
                  <a:ext cx="442440" cy="129240"/>
                </a:xfrm>
                <a:custGeom>
                  <a:avLst/>
                  <a:gdLst/>
                  <a:ahLst/>
                  <a:rect l="l" t="t" r="r" b="b"/>
                  <a:pathLst>
                    <a:path w="465" h="136">
                      <a:moveTo>
                        <a:pt x="0" y="66"/>
                      </a:moveTo>
                      <a:lnTo>
                        <a:pt x="4" y="74"/>
                      </a:lnTo>
                      <a:lnTo>
                        <a:pt x="8" y="87"/>
                      </a:lnTo>
                      <a:lnTo>
                        <a:pt x="12" y="99"/>
                      </a:lnTo>
                      <a:lnTo>
                        <a:pt x="20" y="111"/>
                      </a:lnTo>
                      <a:lnTo>
                        <a:pt x="24" y="119"/>
                      </a:lnTo>
                      <a:lnTo>
                        <a:pt x="28" y="124"/>
                      </a:lnTo>
                      <a:lnTo>
                        <a:pt x="33" y="128"/>
                      </a:lnTo>
                      <a:lnTo>
                        <a:pt x="41" y="132"/>
                      </a:lnTo>
                      <a:lnTo>
                        <a:pt x="49" y="128"/>
                      </a:lnTo>
                      <a:lnTo>
                        <a:pt x="53" y="124"/>
                      </a:lnTo>
                      <a:lnTo>
                        <a:pt x="57" y="115"/>
                      </a:lnTo>
                      <a:lnTo>
                        <a:pt x="61" y="107"/>
                      </a:lnTo>
                      <a:lnTo>
                        <a:pt x="65" y="99"/>
                      </a:lnTo>
                      <a:lnTo>
                        <a:pt x="69" y="87"/>
                      </a:lnTo>
                      <a:lnTo>
                        <a:pt x="73" y="70"/>
                      </a:lnTo>
                      <a:lnTo>
                        <a:pt x="73" y="66"/>
                      </a:lnTo>
                      <a:lnTo>
                        <a:pt x="77" y="58"/>
                      </a:lnTo>
                      <a:lnTo>
                        <a:pt x="77" y="46"/>
                      </a:lnTo>
                      <a:lnTo>
                        <a:pt x="81" y="33"/>
                      </a:lnTo>
                      <a:lnTo>
                        <a:pt x="86" y="25"/>
                      </a:lnTo>
                      <a:lnTo>
                        <a:pt x="90" y="17"/>
                      </a:lnTo>
                      <a:lnTo>
                        <a:pt x="94" y="9"/>
                      </a:lnTo>
                      <a:lnTo>
                        <a:pt x="98" y="4"/>
                      </a:lnTo>
                      <a:lnTo>
                        <a:pt x="106" y="0"/>
                      </a:lnTo>
                      <a:lnTo>
                        <a:pt x="110" y="0"/>
                      </a:lnTo>
                      <a:lnTo>
                        <a:pt x="114" y="4"/>
                      </a:lnTo>
                      <a:lnTo>
                        <a:pt x="118" y="9"/>
                      </a:lnTo>
                      <a:lnTo>
                        <a:pt x="118" y="13"/>
                      </a:lnTo>
                      <a:lnTo>
                        <a:pt x="122" y="21"/>
                      </a:lnTo>
                      <a:lnTo>
                        <a:pt x="126" y="33"/>
                      </a:lnTo>
                      <a:lnTo>
                        <a:pt x="130" y="41"/>
                      </a:lnTo>
                      <a:lnTo>
                        <a:pt x="135" y="58"/>
                      </a:lnTo>
                      <a:lnTo>
                        <a:pt x="135" y="62"/>
                      </a:lnTo>
                      <a:lnTo>
                        <a:pt x="135" y="66"/>
                      </a:lnTo>
                      <a:lnTo>
                        <a:pt x="139" y="82"/>
                      </a:lnTo>
                      <a:lnTo>
                        <a:pt x="143" y="91"/>
                      </a:lnTo>
                      <a:lnTo>
                        <a:pt x="147" y="103"/>
                      </a:lnTo>
                      <a:lnTo>
                        <a:pt x="151" y="115"/>
                      </a:lnTo>
                      <a:lnTo>
                        <a:pt x="155" y="119"/>
                      </a:lnTo>
                      <a:lnTo>
                        <a:pt x="159" y="124"/>
                      </a:lnTo>
                      <a:lnTo>
                        <a:pt x="163" y="124"/>
                      </a:lnTo>
                      <a:lnTo>
                        <a:pt x="167" y="124"/>
                      </a:lnTo>
                      <a:lnTo>
                        <a:pt x="175" y="119"/>
                      </a:lnTo>
                      <a:lnTo>
                        <a:pt x="175" y="115"/>
                      </a:lnTo>
                      <a:lnTo>
                        <a:pt x="179" y="103"/>
                      </a:lnTo>
                      <a:lnTo>
                        <a:pt x="183" y="95"/>
                      </a:lnTo>
                      <a:lnTo>
                        <a:pt x="188" y="82"/>
                      </a:lnTo>
                      <a:lnTo>
                        <a:pt x="192" y="70"/>
                      </a:lnTo>
                      <a:lnTo>
                        <a:pt x="192" y="66"/>
                      </a:lnTo>
                      <a:lnTo>
                        <a:pt x="192" y="62"/>
                      </a:lnTo>
                      <a:lnTo>
                        <a:pt x="196" y="46"/>
                      </a:lnTo>
                      <a:lnTo>
                        <a:pt x="200" y="37"/>
                      </a:lnTo>
                      <a:lnTo>
                        <a:pt x="204" y="25"/>
                      </a:lnTo>
                      <a:lnTo>
                        <a:pt x="208" y="13"/>
                      </a:lnTo>
                      <a:lnTo>
                        <a:pt x="212" y="9"/>
                      </a:lnTo>
                      <a:lnTo>
                        <a:pt x="216" y="4"/>
                      </a:lnTo>
                      <a:lnTo>
                        <a:pt x="220" y="4"/>
                      </a:lnTo>
                      <a:lnTo>
                        <a:pt x="224" y="4"/>
                      </a:lnTo>
                      <a:lnTo>
                        <a:pt x="228" y="9"/>
                      </a:lnTo>
                      <a:lnTo>
                        <a:pt x="232" y="13"/>
                      </a:lnTo>
                      <a:lnTo>
                        <a:pt x="236" y="25"/>
                      </a:lnTo>
                      <a:lnTo>
                        <a:pt x="241" y="37"/>
                      </a:lnTo>
                      <a:lnTo>
                        <a:pt x="245" y="46"/>
                      </a:lnTo>
                      <a:lnTo>
                        <a:pt x="249" y="62"/>
                      </a:lnTo>
                      <a:lnTo>
                        <a:pt x="249" y="66"/>
                      </a:lnTo>
                      <a:lnTo>
                        <a:pt x="249" y="70"/>
                      </a:lnTo>
                      <a:lnTo>
                        <a:pt x="253" y="82"/>
                      </a:lnTo>
                      <a:lnTo>
                        <a:pt x="257" y="95"/>
                      </a:lnTo>
                      <a:lnTo>
                        <a:pt x="261" y="107"/>
                      </a:lnTo>
                      <a:lnTo>
                        <a:pt x="265" y="115"/>
                      </a:lnTo>
                      <a:lnTo>
                        <a:pt x="269" y="124"/>
                      </a:lnTo>
                      <a:lnTo>
                        <a:pt x="273" y="128"/>
                      </a:lnTo>
                      <a:lnTo>
                        <a:pt x="277" y="128"/>
                      </a:lnTo>
                      <a:lnTo>
                        <a:pt x="281" y="128"/>
                      </a:lnTo>
                      <a:lnTo>
                        <a:pt x="285" y="124"/>
                      </a:lnTo>
                      <a:lnTo>
                        <a:pt x="289" y="119"/>
                      </a:lnTo>
                      <a:lnTo>
                        <a:pt x="294" y="107"/>
                      </a:lnTo>
                      <a:lnTo>
                        <a:pt x="298" y="99"/>
                      </a:lnTo>
                      <a:lnTo>
                        <a:pt x="302" y="87"/>
                      </a:lnTo>
                      <a:lnTo>
                        <a:pt x="306" y="74"/>
                      </a:lnTo>
                      <a:lnTo>
                        <a:pt x="306" y="70"/>
                      </a:lnTo>
                      <a:lnTo>
                        <a:pt x="306" y="66"/>
                      </a:lnTo>
                      <a:lnTo>
                        <a:pt x="310" y="54"/>
                      </a:lnTo>
                      <a:lnTo>
                        <a:pt x="314" y="37"/>
                      </a:lnTo>
                      <a:lnTo>
                        <a:pt x="318" y="29"/>
                      </a:lnTo>
                      <a:lnTo>
                        <a:pt x="318" y="25"/>
                      </a:lnTo>
                      <a:lnTo>
                        <a:pt x="322" y="21"/>
                      </a:lnTo>
                      <a:lnTo>
                        <a:pt x="326" y="17"/>
                      </a:lnTo>
                      <a:lnTo>
                        <a:pt x="330" y="13"/>
                      </a:lnTo>
                      <a:lnTo>
                        <a:pt x="338" y="17"/>
                      </a:lnTo>
                      <a:lnTo>
                        <a:pt x="342" y="25"/>
                      </a:lnTo>
                      <a:lnTo>
                        <a:pt x="347" y="33"/>
                      </a:lnTo>
                      <a:lnTo>
                        <a:pt x="351" y="46"/>
                      </a:lnTo>
                      <a:lnTo>
                        <a:pt x="355" y="58"/>
                      </a:lnTo>
                      <a:lnTo>
                        <a:pt x="359" y="70"/>
                      </a:lnTo>
                      <a:lnTo>
                        <a:pt x="359" y="74"/>
                      </a:lnTo>
                      <a:lnTo>
                        <a:pt x="359" y="78"/>
                      </a:lnTo>
                      <a:lnTo>
                        <a:pt x="363" y="91"/>
                      </a:lnTo>
                      <a:lnTo>
                        <a:pt x="367" y="103"/>
                      </a:lnTo>
                      <a:lnTo>
                        <a:pt x="371" y="115"/>
                      </a:lnTo>
                      <a:lnTo>
                        <a:pt x="375" y="124"/>
                      </a:lnTo>
                      <a:lnTo>
                        <a:pt x="379" y="132"/>
                      </a:lnTo>
                      <a:lnTo>
                        <a:pt x="383" y="136"/>
                      </a:lnTo>
                      <a:lnTo>
                        <a:pt x="387" y="136"/>
                      </a:lnTo>
                      <a:lnTo>
                        <a:pt x="391" y="136"/>
                      </a:lnTo>
                      <a:lnTo>
                        <a:pt x="391" y="132"/>
                      </a:lnTo>
                      <a:lnTo>
                        <a:pt x="396" y="128"/>
                      </a:lnTo>
                      <a:lnTo>
                        <a:pt x="400" y="124"/>
                      </a:lnTo>
                      <a:lnTo>
                        <a:pt x="400" y="119"/>
                      </a:lnTo>
                      <a:lnTo>
                        <a:pt x="404" y="111"/>
                      </a:lnTo>
                      <a:lnTo>
                        <a:pt x="408" y="95"/>
                      </a:lnTo>
                      <a:lnTo>
                        <a:pt x="412" y="82"/>
                      </a:lnTo>
                      <a:lnTo>
                        <a:pt x="412" y="78"/>
                      </a:lnTo>
                      <a:lnTo>
                        <a:pt x="412" y="74"/>
                      </a:lnTo>
                      <a:lnTo>
                        <a:pt x="416" y="62"/>
                      </a:lnTo>
                      <a:lnTo>
                        <a:pt x="420" y="46"/>
                      </a:lnTo>
                      <a:lnTo>
                        <a:pt x="424" y="37"/>
                      </a:lnTo>
                      <a:lnTo>
                        <a:pt x="424" y="33"/>
                      </a:lnTo>
                      <a:lnTo>
                        <a:pt x="428" y="29"/>
                      </a:lnTo>
                      <a:lnTo>
                        <a:pt x="432" y="25"/>
                      </a:lnTo>
                      <a:lnTo>
                        <a:pt x="432" y="21"/>
                      </a:lnTo>
                      <a:lnTo>
                        <a:pt x="436" y="21"/>
                      </a:lnTo>
                      <a:lnTo>
                        <a:pt x="440" y="21"/>
                      </a:lnTo>
                      <a:lnTo>
                        <a:pt x="449" y="25"/>
                      </a:lnTo>
                      <a:lnTo>
                        <a:pt x="449" y="29"/>
                      </a:lnTo>
                      <a:lnTo>
                        <a:pt x="453" y="37"/>
                      </a:lnTo>
                      <a:lnTo>
                        <a:pt x="457" y="46"/>
                      </a:lnTo>
                      <a:lnTo>
                        <a:pt x="461" y="58"/>
                      </a:lnTo>
                      <a:lnTo>
                        <a:pt x="465" y="70"/>
                      </a:lnTo>
                      <a:lnTo>
                        <a:pt x="465" y="74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5910480" y="3953160"/>
                  <a:ext cx="112320" cy="281160"/>
                </a:xfrm>
                <a:custGeom>
                  <a:avLst/>
                  <a:gdLst/>
                  <a:ahLst/>
                  <a:rect l="l" t="t" r="r" b="b"/>
                  <a:pathLst>
                    <a:path w="118" h="296">
                      <a:moveTo>
                        <a:pt x="0" y="124"/>
                      </a:moveTo>
                      <a:lnTo>
                        <a:pt x="61" y="296"/>
                      </a:lnTo>
                      <a:lnTo>
                        <a:pt x="77" y="288"/>
                      </a:lnTo>
                      <a:lnTo>
                        <a:pt x="93" y="239"/>
                      </a:lnTo>
                      <a:lnTo>
                        <a:pt x="102" y="193"/>
                      </a:lnTo>
                      <a:lnTo>
                        <a:pt x="118" y="181"/>
                      </a:lnTo>
                      <a:lnTo>
                        <a:pt x="61" y="0"/>
                      </a:lnTo>
                      <a:lnTo>
                        <a:pt x="44" y="29"/>
                      </a:lnTo>
                      <a:lnTo>
                        <a:pt x="28" y="95"/>
                      </a:lnTo>
                      <a:lnTo>
                        <a:pt x="16" y="12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6022800" y="3953160"/>
                  <a:ext cx="111960" cy="285120"/>
                </a:xfrm>
                <a:custGeom>
                  <a:avLst/>
                  <a:gdLst/>
                  <a:ahLst/>
                  <a:rect l="l" t="t" r="r" b="b"/>
                  <a:pathLst>
                    <a:path w="118" h="300">
                      <a:moveTo>
                        <a:pt x="0" y="124"/>
                      </a:moveTo>
                      <a:lnTo>
                        <a:pt x="65" y="300"/>
                      </a:lnTo>
                      <a:lnTo>
                        <a:pt x="77" y="292"/>
                      </a:lnTo>
                      <a:lnTo>
                        <a:pt x="94" y="239"/>
                      </a:lnTo>
                      <a:lnTo>
                        <a:pt x="102" y="198"/>
                      </a:lnTo>
                      <a:lnTo>
                        <a:pt x="118" y="185"/>
                      </a:lnTo>
                      <a:lnTo>
                        <a:pt x="61" y="0"/>
                      </a:lnTo>
                      <a:lnTo>
                        <a:pt x="45" y="33"/>
                      </a:lnTo>
                      <a:lnTo>
                        <a:pt x="28" y="95"/>
                      </a:lnTo>
                      <a:lnTo>
                        <a:pt x="16" y="12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6142680" y="3961800"/>
                  <a:ext cx="92880" cy="276480"/>
                </a:xfrm>
                <a:custGeom>
                  <a:avLst/>
                  <a:gdLst/>
                  <a:ahLst/>
                  <a:rect l="l" t="t" r="r" b="b"/>
                  <a:pathLst>
                    <a:path w="98" h="291">
                      <a:moveTo>
                        <a:pt x="0" y="119"/>
                      </a:moveTo>
                      <a:lnTo>
                        <a:pt x="53" y="291"/>
                      </a:lnTo>
                      <a:lnTo>
                        <a:pt x="61" y="283"/>
                      </a:lnTo>
                      <a:lnTo>
                        <a:pt x="78" y="234"/>
                      </a:lnTo>
                      <a:lnTo>
                        <a:pt x="86" y="189"/>
                      </a:lnTo>
                      <a:lnTo>
                        <a:pt x="98" y="176"/>
                      </a:lnTo>
                      <a:lnTo>
                        <a:pt x="49" y="0"/>
                      </a:lnTo>
                      <a:lnTo>
                        <a:pt x="37" y="28"/>
                      </a:lnTo>
                      <a:lnTo>
                        <a:pt x="25" y="90"/>
                      </a:lnTo>
                      <a:lnTo>
                        <a:pt x="13" y="115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6239880" y="3965400"/>
                  <a:ext cx="96840" cy="276480"/>
                </a:xfrm>
                <a:custGeom>
                  <a:avLst/>
                  <a:gdLst/>
                  <a:ahLst/>
                  <a:rect l="l" t="t" r="r" b="b"/>
                  <a:pathLst>
                    <a:path w="102" h="291">
                      <a:moveTo>
                        <a:pt x="0" y="119"/>
                      </a:moveTo>
                      <a:lnTo>
                        <a:pt x="57" y="291"/>
                      </a:lnTo>
                      <a:lnTo>
                        <a:pt x="70" y="283"/>
                      </a:lnTo>
                      <a:lnTo>
                        <a:pt x="82" y="230"/>
                      </a:lnTo>
                      <a:lnTo>
                        <a:pt x="90" y="189"/>
                      </a:lnTo>
                      <a:lnTo>
                        <a:pt x="102" y="176"/>
                      </a:lnTo>
                      <a:lnTo>
                        <a:pt x="53" y="0"/>
                      </a:lnTo>
                      <a:lnTo>
                        <a:pt x="41" y="29"/>
                      </a:lnTo>
                      <a:lnTo>
                        <a:pt x="25" y="90"/>
                      </a:lnTo>
                      <a:lnTo>
                        <a:pt x="13" y="115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5879160" y="4016160"/>
                  <a:ext cx="57960" cy="183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6321600" y="4019760"/>
                  <a:ext cx="42840" cy="132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flipH="1" flipV="1">
                  <a:off x="6352560" y="4149000"/>
                  <a:ext cx="26280" cy="50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5995440" y="3980880"/>
                  <a:ext cx="54000" cy="151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6104880" y="3976920"/>
                  <a:ext cx="50400" cy="155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6213240" y="3988440"/>
                  <a:ext cx="50040" cy="156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6321600" y="4023720"/>
                  <a:ext cx="61920" cy="17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9" name=""/>
              <p:cNvGrpSpPr/>
              <p:nvPr/>
            </p:nvGrpSpPr>
            <p:grpSpPr>
              <a:xfrm>
                <a:off x="6310080" y="3953160"/>
                <a:ext cx="507600" cy="296640"/>
                <a:chOff x="6310080" y="3953160"/>
                <a:chExt cx="507600" cy="296640"/>
              </a:xfrm>
            </p:grpSpPr>
            <p:sp>
              <p:nvSpPr>
                <p:cNvPr id="2800" name=""/>
                <p:cNvSpPr/>
                <p:nvPr/>
              </p:nvSpPr>
              <p:spPr>
                <a:xfrm>
                  <a:off x="6364440" y="4121280"/>
                  <a:ext cx="442080" cy="128520"/>
                </a:xfrm>
                <a:custGeom>
                  <a:avLst/>
                  <a:gdLst/>
                  <a:ahLst/>
                  <a:rect l="l" t="t" r="r" b="b"/>
                  <a:pathLst>
                    <a:path w="465" h="135">
                      <a:moveTo>
                        <a:pt x="0" y="66"/>
                      </a:moveTo>
                      <a:lnTo>
                        <a:pt x="4" y="74"/>
                      </a:lnTo>
                      <a:lnTo>
                        <a:pt x="8" y="86"/>
                      </a:lnTo>
                      <a:lnTo>
                        <a:pt x="12" y="99"/>
                      </a:lnTo>
                      <a:lnTo>
                        <a:pt x="20" y="111"/>
                      </a:lnTo>
                      <a:lnTo>
                        <a:pt x="24" y="119"/>
                      </a:lnTo>
                      <a:lnTo>
                        <a:pt x="28" y="123"/>
                      </a:lnTo>
                      <a:lnTo>
                        <a:pt x="32" y="127"/>
                      </a:lnTo>
                      <a:lnTo>
                        <a:pt x="41" y="131"/>
                      </a:lnTo>
                      <a:lnTo>
                        <a:pt x="53" y="127"/>
                      </a:lnTo>
                      <a:lnTo>
                        <a:pt x="57" y="123"/>
                      </a:lnTo>
                      <a:lnTo>
                        <a:pt x="57" y="119"/>
                      </a:lnTo>
                      <a:lnTo>
                        <a:pt x="61" y="111"/>
                      </a:lnTo>
                      <a:lnTo>
                        <a:pt x="65" y="103"/>
                      </a:lnTo>
                      <a:lnTo>
                        <a:pt x="69" y="90"/>
                      </a:lnTo>
                      <a:lnTo>
                        <a:pt x="77" y="70"/>
                      </a:lnTo>
                      <a:lnTo>
                        <a:pt x="77" y="66"/>
                      </a:lnTo>
                      <a:lnTo>
                        <a:pt x="77" y="62"/>
                      </a:lnTo>
                      <a:lnTo>
                        <a:pt x="81" y="45"/>
                      </a:lnTo>
                      <a:lnTo>
                        <a:pt x="85" y="33"/>
                      </a:lnTo>
                      <a:lnTo>
                        <a:pt x="89" y="25"/>
                      </a:lnTo>
                      <a:lnTo>
                        <a:pt x="94" y="12"/>
                      </a:lnTo>
                      <a:lnTo>
                        <a:pt x="98" y="4"/>
                      </a:lnTo>
                      <a:lnTo>
                        <a:pt x="102" y="0"/>
                      </a:lnTo>
                      <a:lnTo>
                        <a:pt x="106" y="0"/>
                      </a:lnTo>
                      <a:lnTo>
                        <a:pt x="110" y="0"/>
                      </a:lnTo>
                      <a:lnTo>
                        <a:pt x="114" y="4"/>
                      </a:lnTo>
                      <a:lnTo>
                        <a:pt x="118" y="8"/>
                      </a:lnTo>
                      <a:lnTo>
                        <a:pt x="122" y="21"/>
                      </a:lnTo>
                      <a:lnTo>
                        <a:pt x="126" y="33"/>
                      </a:lnTo>
                      <a:lnTo>
                        <a:pt x="130" y="41"/>
                      </a:lnTo>
                      <a:lnTo>
                        <a:pt x="134" y="57"/>
                      </a:lnTo>
                      <a:lnTo>
                        <a:pt x="134" y="62"/>
                      </a:lnTo>
                      <a:lnTo>
                        <a:pt x="134" y="66"/>
                      </a:lnTo>
                      <a:lnTo>
                        <a:pt x="138" y="82"/>
                      </a:lnTo>
                      <a:lnTo>
                        <a:pt x="143" y="90"/>
                      </a:lnTo>
                      <a:lnTo>
                        <a:pt x="147" y="103"/>
                      </a:lnTo>
                      <a:lnTo>
                        <a:pt x="151" y="115"/>
                      </a:lnTo>
                      <a:lnTo>
                        <a:pt x="155" y="119"/>
                      </a:lnTo>
                      <a:lnTo>
                        <a:pt x="159" y="123"/>
                      </a:lnTo>
                      <a:lnTo>
                        <a:pt x="163" y="123"/>
                      </a:lnTo>
                      <a:lnTo>
                        <a:pt x="167" y="123"/>
                      </a:lnTo>
                      <a:lnTo>
                        <a:pt x="175" y="119"/>
                      </a:lnTo>
                      <a:lnTo>
                        <a:pt x="175" y="115"/>
                      </a:lnTo>
                      <a:lnTo>
                        <a:pt x="179" y="103"/>
                      </a:lnTo>
                      <a:lnTo>
                        <a:pt x="183" y="94"/>
                      </a:lnTo>
                      <a:lnTo>
                        <a:pt x="187" y="82"/>
                      </a:lnTo>
                      <a:lnTo>
                        <a:pt x="191" y="70"/>
                      </a:lnTo>
                      <a:lnTo>
                        <a:pt x="191" y="66"/>
                      </a:lnTo>
                      <a:lnTo>
                        <a:pt x="191" y="62"/>
                      </a:lnTo>
                      <a:lnTo>
                        <a:pt x="196" y="45"/>
                      </a:lnTo>
                      <a:lnTo>
                        <a:pt x="200" y="37"/>
                      </a:lnTo>
                      <a:lnTo>
                        <a:pt x="204" y="25"/>
                      </a:lnTo>
                      <a:lnTo>
                        <a:pt x="208" y="12"/>
                      </a:lnTo>
                      <a:lnTo>
                        <a:pt x="212" y="8"/>
                      </a:lnTo>
                      <a:lnTo>
                        <a:pt x="216" y="4"/>
                      </a:lnTo>
                      <a:lnTo>
                        <a:pt x="220" y="4"/>
                      </a:lnTo>
                      <a:lnTo>
                        <a:pt x="224" y="4"/>
                      </a:lnTo>
                      <a:lnTo>
                        <a:pt x="228" y="8"/>
                      </a:lnTo>
                      <a:lnTo>
                        <a:pt x="232" y="12"/>
                      </a:lnTo>
                      <a:lnTo>
                        <a:pt x="236" y="25"/>
                      </a:lnTo>
                      <a:lnTo>
                        <a:pt x="240" y="37"/>
                      </a:lnTo>
                      <a:lnTo>
                        <a:pt x="244" y="45"/>
                      </a:lnTo>
                      <a:lnTo>
                        <a:pt x="249" y="62"/>
                      </a:lnTo>
                      <a:lnTo>
                        <a:pt x="249" y="66"/>
                      </a:lnTo>
                      <a:lnTo>
                        <a:pt x="253" y="74"/>
                      </a:lnTo>
                      <a:lnTo>
                        <a:pt x="253" y="82"/>
                      </a:lnTo>
                      <a:lnTo>
                        <a:pt x="257" y="94"/>
                      </a:lnTo>
                      <a:lnTo>
                        <a:pt x="261" y="107"/>
                      </a:lnTo>
                      <a:lnTo>
                        <a:pt x="265" y="111"/>
                      </a:lnTo>
                      <a:lnTo>
                        <a:pt x="269" y="119"/>
                      </a:lnTo>
                      <a:lnTo>
                        <a:pt x="273" y="123"/>
                      </a:lnTo>
                      <a:lnTo>
                        <a:pt x="281" y="127"/>
                      </a:lnTo>
                      <a:lnTo>
                        <a:pt x="285" y="123"/>
                      </a:lnTo>
                      <a:lnTo>
                        <a:pt x="289" y="119"/>
                      </a:lnTo>
                      <a:lnTo>
                        <a:pt x="293" y="111"/>
                      </a:lnTo>
                      <a:lnTo>
                        <a:pt x="297" y="103"/>
                      </a:lnTo>
                      <a:lnTo>
                        <a:pt x="302" y="86"/>
                      </a:lnTo>
                      <a:lnTo>
                        <a:pt x="306" y="74"/>
                      </a:lnTo>
                      <a:lnTo>
                        <a:pt x="306" y="70"/>
                      </a:lnTo>
                      <a:lnTo>
                        <a:pt x="306" y="66"/>
                      </a:lnTo>
                      <a:lnTo>
                        <a:pt x="310" y="53"/>
                      </a:lnTo>
                      <a:lnTo>
                        <a:pt x="314" y="41"/>
                      </a:lnTo>
                      <a:lnTo>
                        <a:pt x="318" y="33"/>
                      </a:lnTo>
                      <a:lnTo>
                        <a:pt x="322" y="21"/>
                      </a:lnTo>
                      <a:lnTo>
                        <a:pt x="326" y="16"/>
                      </a:lnTo>
                      <a:lnTo>
                        <a:pt x="334" y="12"/>
                      </a:lnTo>
                      <a:lnTo>
                        <a:pt x="342" y="16"/>
                      </a:lnTo>
                      <a:lnTo>
                        <a:pt x="346" y="25"/>
                      </a:lnTo>
                      <a:lnTo>
                        <a:pt x="350" y="33"/>
                      </a:lnTo>
                      <a:lnTo>
                        <a:pt x="355" y="45"/>
                      </a:lnTo>
                      <a:lnTo>
                        <a:pt x="359" y="57"/>
                      </a:lnTo>
                      <a:lnTo>
                        <a:pt x="363" y="70"/>
                      </a:lnTo>
                      <a:lnTo>
                        <a:pt x="363" y="74"/>
                      </a:lnTo>
                      <a:lnTo>
                        <a:pt x="363" y="78"/>
                      </a:lnTo>
                      <a:lnTo>
                        <a:pt x="367" y="90"/>
                      </a:lnTo>
                      <a:lnTo>
                        <a:pt x="371" y="103"/>
                      </a:lnTo>
                      <a:lnTo>
                        <a:pt x="375" y="115"/>
                      </a:lnTo>
                      <a:lnTo>
                        <a:pt x="379" y="123"/>
                      </a:lnTo>
                      <a:lnTo>
                        <a:pt x="383" y="131"/>
                      </a:lnTo>
                      <a:lnTo>
                        <a:pt x="387" y="135"/>
                      </a:lnTo>
                      <a:lnTo>
                        <a:pt x="391" y="135"/>
                      </a:lnTo>
                      <a:lnTo>
                        <a:pt x="395" y="135"/>
                      </a:lnTo>
                      <a:lnTo>
                        <a:pt x="395" y="131"/>
                      </a:lnTo>
                      <a:lnTo>
                        <a:pt x="399" y="127"/>
                      </a:lnTo>
                      <a:lnTo>
                        <a:pt x="404" y="123"/>
                      </a:lnTo>
                      <a:lnTo>
                        <a:pt x="404" y="119"/>
                      </a:lnTo>
                      <a:lnTo>
                        <a:pt x="408" y="111"/>
                      </a:lnTo>
                      <a:lnTo>
                        <a:pt x="412" y="94"/>
                      </a:lnTo>
                      <a:lnTo>
                        <a:pt x="416" y="82"/>
                      </a:lnTo>
                      <a:lnTo>
                        <a:pt x="416" y="78"/>
                      </a:lnTo>
                      <a:lnTo>
                        <a:pt x="416" y="74"/>
                      </a:lnTo>
                      <a:lnTo>
                        <a:pt x="420" y="62"/>
                      </a:lnTo>
                      <a:lnTo>
                        <a:pt x="424" y="45"/>
                      </a:lnTo>
                      <a:lnTo>
                        <a:pt x="428" y="37"/>
                      </a:lnTo>
                      <a:lnTo>
                        <a:pt x="428" y="33"/>
                      </a:lnTo>
                      <a:lnTo>
                        <a:pt x="432" y="29"/>
                      </a:lnTo>
                      <a:lnTo>
                        <a:pt x="436" y="21"/>
                      </a:lnTo>
                      <a:lnTo>
                        <a:pt x="440" y="21"/>
                      </a:lnTo>
                      <a:lnTo>
                        <a:pt x="444" y="21"/>
                      </a:lnTo>
                      <a:lnTo>
                        <a:pt x="448" y="25"/>
                      </a:lnTo>
                      <a:lnTo>
                        <a:pt x="452" y="33"/>
                      </a:lnTo>
                      <a:lnTo>
                        <a:pt x="457" y="41"/>
                      </a:lnTo>
                      <a:lnTo>
                        <a:pt x="461" y="57"/>
                      </a:lnTo>
                      <a:lnTo>
                        <a:pt x="465" y="70"/>
                      </a:lnTo>
                      <a:lnTo>
                        <a:pt x="465" y="74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6310080" y="3953160"/>
                  <a:ext cx="442440" cy="129240"/>
                </a:xfrm>
                <a:custGeom>
                  <a:avLst/>
                  <a:gdLst/>
                  <a:ahLst/>
                  <a:rect l="l" t="t" r="r" b="b"/>
                  <a:pathLst>
                    <a:path w="465" h="136">
                      <a:moveTo>
                        <a:pt x="0" y="66"/>
                      </a:moveTo>
                      <a:lnTo>
                        <a:pt x="4" y="74"/>
                      </a:lnTo>
                      <a:lnTo>
                        <a:pt x="8" y="87"/>
                      </a:lnTo>
                      <a:lnTo>
                        <a:pt x="12" y="99"/>
                      </a:lnTo>
                      <a:lnTo>
                        <a:pt x="20" y="111"/>
                      </a:lnTo>
                      <a:lnTo>
                        <a:pt x="24" y="120"/>
                      </a:lnTo>
                      <a:lnTo>
                        <a:pt x="28" y="124"/>
                      </a:lnTo>
                      <a:lnTo>
                        <a:pt x="32" y="128"/>
                      </a:lnTo>
                      <a:lnTo>
                        <a:pt x="40" y="132"/>
                      </a:lnTo>
                      <a:lnTo>
                        <a:pt x="49" y="128"/>
                      </a:lnTo>
                      <a:lnTo>
                        <a:pt x="53" y="124"/>
                      </a:lnTo>
                      <a:lnTo>
                        <a:pt x="57" y="115"/>
                      </a:lnTo>
                      <a:lnTo>
                        <a:pt x="61" y="107"/>
                      </a:lnTo>
                      <a:lnTo>
                        <a:pt x="65" y="99"/>
                      </a:lnTo>
                      <a:lnTo>
                        <a:pt x="69" y="87"/>
                      </a:lnTo>
                      <a:lnTo>
                        <a:pt x="73" y="70"/>
                      </a:lnTo>
                      <a:lnTo>
                        <a:pt x="73" y="66"/>
                      </a:lnTo>
                      <a:lnTo>
                        <a:pt x="77" y="58"/>
                      </a:lnTo>
                      <a:lnTo>
                        <a:pt x="77" y="46"/>
                      </a:lnTo>
                      <a:lnTo>
                        <a:pt x="81" y="33"/>
                      </a:lnTo>
                      <a:lnTo>
                        <a:pt x="85" y="25"/>
                      </a:lnTo>
                      <a:lnTo>
                        <a:pt x="89" y="17"/>
                      </a:lnTo>
                      <a:lnTo>
                        <a:pt x="93" y="9"/>
                      </a:lnTo>
                      <a:lnTo>
                        <a:pt x="98" y="5"/>
                      </a:lnTo>
                      <a:lnTo>
                        <a:pt x="106" y="0"/>
                      </a:lnTo>
                      <a:lnTo>
                        <a:pt x="110" y="0"/>
                      </a:lnTo>
                      <a:lnTo>
                        <a:pt x="114" y="5"/>
                      </a:lnTo>
                      <a:lnTo>
                        <a:pt x="118" y="9"/>
                      </a:lnTo>
                      <a:lnTo>
                        <a:pt x="118" y="13"/>
                      </a:lnTo>
                      <a:lnTo>
                        <a:pt x="122" y="21"/>
                      </a:lnTo>
                      <a:lnTo>
                        <a:pt x="126" y="33"/>
                      </a:lnTo>
                      <a:lnTo>
                        <a:pt x="130" y="42"/>
                      </a:lnTo>
                      <a:lnTo>
                        <a:pt x="134" y="58"/>
                      </a:lnTo>
                      <a:lnTo>
                        <a:pt x="134" y="62"/>
                      </a:lnTo>
                      <a:lnTo>
                        <a:pt x="134" y="66"/>
                      </a:lnTo>
                      <a:lnTo>
                        <a:pt x="138" y="83"/>
                      </a:lnTo>
                      <a:lnTo>
                        <a:pt x="142" y="91"/>
                      </a:lnTo>
                      <a:lnTo>
                        <a:pt x="146" y="103"/>
                      </a:lnTo>
                      <a:lnTo>
                        <a:pt x="151" y="115"/>
                      </a:lnTo>
                      <a:lnTo>
                        <a:pt x="155" y="120"/>
                      </a:lnTo>
                      <a:lnTo>
                        <a:pt x="159" y="124"/>
                      </a:lnTo>
                      <a:lnTo>
                        <a:pt x="163" y="124"/>
                      </a:lnTo>
                      <a:lnTo>
                        <a:pt x="167" y="124"/>
                      </a:lnTo>
                      <a:lnTo>
                        <a:pt x="175" y="120"/>
                      </a:lnTo>
                      <a:lnTo>
                        <a:pt x="175" y="115"/>
                      </a:lnTo>
                      <a:lnTo>
                        <a:pt x="179" y="103"/>
                      </a:lnTo>
                      <a:lnTo>
                        <a:pt x="183" y="95"/>
                      </a:lnTo>
                      <a:lnTo>
                        <a:pt x="187" y="83"/>
                      </a:lnTo>
                      <a:lnTo>
                        <a:pt x="191" y="70"/>
                      </a:lnTo>
                      <a:lnTo>
                        <a:pt x="191" y="66"/>
                      </a:lnTo>
                      <a:lnTo>
                        <a:pt x="191" y="62"/>
                      </a:lnTo>
                      <a:lnTo>
                        <a:pt x="195" y="46"/>
                      </a:lnTo>
                      <a:lnTo>
                        <a:pt x="200" y="37"/>
                      </a:lnTo>
                      <a:lnTo>
                        <a:pt x="204" y="25"/>
                      </a:lnTo>
                      <a:lnTo>
                        <a:pt x="208" y="13"/>
                      </a:lnTo>
                      <a:lnTo>
                        <a:pt x="212" y="9"/>
                      </a:lnTo>
                      <a:lnTo>
                        <a:pt x="216" y="5"/>
                      </a:lnTo>
                      <a:lnTo>
                        <a:pt x="220" y="5"/>
                      </a:lnTo>
                      <a:lnTo>
                        <a:pt x="224" y="5"/>
                      </a:lnTo>
                      <a:lnTo>
                        <a:pt x="228" y="9"/>
                      </a:lnTo>
                      <a:lnTo>
                        <a:pt x="232" y="13"/>
                      </a:lnTo>
                      <a:lnTo>
                        <a:pt x="236" y="25"/>
                      </a:lnTo>
                      <a:lnTo>
                        <a:pt x="240" y="37"/>
                      </a:lnTo>
                      <a:lnTo>
                        <a:pt x="244" y="46"/>
                      </a:lnTo>
                      <a:lnTo>
                        <a:pt x="248" y="62"/>
                      </a:lnTo>
                      <a:lnTo>
                        <a:pt x="248" y="66"/>
                      </a:lnTo>
                      <a:lnTo>
                        <a:pt x="248" y="70"/>
                      </a:lnTo>
                      <a:lnTo>
                        <a:pt x="253" y="83"/>
                      </a:lnTo>
                      <a:lnTo>
                        <a:pt x="257" y="95"/>
                      </a:lnTo>
                      <a:lnTo>
                        <a:pt x="261" y="107"/>
                      </a:lnTo>
                      <a:lnTo>
                        <a:pt x="265" y="115"/>
                      </a:lnTo>
                      <a:lnTo>
                        <a:pt x="269" y="124"/>
                      </a:lnTo>
                      <a:lnTo>
                        <a:pt x="273" y="128"/>
                      </a:lnTo>
                      <a:lnTo>
                        <a:pt x="277" y="128"/>
                      </a:lnTo>
                      <a:lnTo>
                        <a:pt x="281" y="128"/>
                      </a:lnTo>
                      <a:lnTo>
                        <a:pt x="285" y="124"/>
                      </a:lnTo>
                      <a:lnTo>
                        <a:pt x="289" y="120"/>
                      </a:lnTo>
                      <a:lnTo>
                        <a:pt x="293" y="107"/>
                      </a:lnTo>
                      <a:lnTo>
                        <a:pt x="297" y="99"/>
                      </a:lnTo>
                      <a:lnTo>
                        <a:pt x="301" y="87"/>
                      </a:lnTo>
                      <a:lnTo>
                        <a:pt x="306" y="74"/>
                      </a:lnTo>
                      <a:lnTo>
                        <a:pt x="306" y="70"/>
                      </a:lnTo>
                      <a:lnTo>
                        <a:pt x="306" y="66"/>
                      </a:lnTo>
                      <a:lnTo>
                        <a:pt x="310" y="54"/>
                      </a:lnTo>
                      <a:lnTo>
                        <a:pt x="314" y="37"/>
                      </a:lnTo>
                      <a:lnTo>
                        <a:pt x="318" y="29"/>
                      </a:lnTo>
                      <a:lnTo>
                        <a:pt x="318" y="25"/>
                      </a:lnTo>
                      <a:lnTo>
                        <a:pt x="322" y="21"/>
                      </a:lnTo>
                      <a:lnTo>
                        <a:pt x="326" y="17"/>
                      </a:lnTo>
                      <a:lnTo>
                        <a:pt x="330" y="13"/>
                      </a:lnTo>
                      <a:lnTo>
                        <a:pt x="338" y="17"/>
                      </a:lnTo>
                      <a:lnTo>
                        <a:pt x="342" y="25"/>
                      </a:lnTo>
                      <a:lnTo>
                        <a:pt x="346" y="33"/>
                      </a:lnTo>
                      <a:lnTo>
                        <a:pt x="350" y="46"/>
                      </a:lnTo>
                      <a:lnTo>
                        <a:pt x="354" y="58"/>
                      </a:lnTo>
                      <a:lnTo>
                        <a:pt x="359" y="70"/>
                      </a:lnTo>
                      <a:lnTo>
                        <a:pt x="359" y="74"/>
                      </a:lnTo>
                      <a:lnTo>
                        <a:pt x="359" y="78"/>
                      </a:lnTo>
                      <a:lnTo>
                        <a:pt x="363" y="91"/>
                      </a:lnTo>
                      <a:lnTo>
                        <a:pt x="367" y="103"/>
                      </a:lnTo>
                      <a:lnTo>
                        <a:pt x="371" y="115"/>
                      </a:lnTo>
                      <a:lnTo>
                        <a:pt x="375" y="124"/>
                      </a:lnTo>
                      <a:lnTo>
                        <a:pt x="379" y="132"/>
                      </a:lnTo>
                      <a:lnTo>
                        <a:pt x="383" y="136"/>
                      </a:lnTo>
                      <a:lnTo>
                        <a:pt x="387" y="136"/>
                      </a:lnTo>
                      <a:lnTo>
                        <a:pt x="391" y="136"/>
                      </a:lnTo>
                      <a:lnTo>
                        <a:pt x="391" y="132"/>
                      </a:lnTo>
                      <a:lnTo>
                        <a:pt x="395" y="128"/>
                      </a:lnTo>
                      <a:lnTo>
                        <a:pt x="399" y="124"/>
                      </a:lnTo>
                      <a:lnTo>
                        <a:pt x="399" y="120"/>
                      </a:lnTo>
                      <a:lnTo>
                        <a:pt x="403" y="111"/>
                      </a:lnTo>
                      <a:lnTo>
                        <a:pt x="407" y="95"/>
                      </a:lnTo>
                      <a:lnTo>
                        <a:pt x="412" y="83"/>
                      </a:lnTo>
                      <a:lnTo>
                        <a:pt x="412" y="78"/>
                      </a:lnTo>
                      <a:lnTo>
                        <a:pt x="412" y="74"/>
                      </a:lnTo>
                      <a:lnTo>
                        <a:pt x="416" y="62"/>
                      </a:lnTo>
                      <a:lnTo>
                        <a:pt x="420" y="46"/>
                      </a:lnTo>
                      <a:lnTo>
                        <a:pt x="424" y="37"/>
                      </a:lnTo>
                      <a:lnTo>
                        <a:pt x="424" y="33"/>
                      </a:lnTo>
                      <a:lnTo>
                        <a:pt x="428" y="29"/>
                      </a:lnTo>
                      <a:lnTo>
                        <a:pt x="432" y="25"/>
                      </a:lnTo>
                      <a:lnTo>
                        <a:pt x="432" y="21"/>
                      </a:lnTo>
                      <a:lnTo>
                        <a:pt x="436" y="21"/>
                      </a:lnTo>
                      <a:lnTo>
                        <a:pt x="440" y="21"/>
                      </a:lnTo>
                      <a:lnTo>
                        <a:pt x="448" y="25"/>
                      </a:lnTo>
                      <a:lnTo>
                        <a:pt x="448" y="29"/>
                      </a:lnTo>
                      <a:lnTo>
                        <a:pt x="452" y="37"/>
                      </a:lnTo>
                      <a:lnTo>
                        <a:pt x="456" y="46"/>
                      </a:lnTo>
                      <a:lnTo>
                        <a:pt x="461" y="58"/>
                      </a:lnTo>
                      <a:lnTo>
                        <a:pt x="465" y="70"/>
                      </a:lnTo>
                      <a:lnTo>
                        <a:pt x="465" y="74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6344280" y="3957840"/>
                  <a:ext cx="113040" cy="280440"/>
                </a:xfrm>
                <a:custGeom>
                  <a:avLst/>
                  <a:gdLst/>
                  <a:ahLst/>
                  <a:rect l="l" t="t" r="r" b="b"/>
                  <a:pathLst>
                    <a:path w="119" h="295">
                      <a:moveTo>
                        <a:pt x="0" y="123"/>
                      </a:moveTo>
                      <a:lnTo>
                        <a:pt x="62" y="295"/>
                      </a:lnTo>
                      <a:lnTo>
                        <a:pt x="78" y="287"/>
                      </a:lnTo>
                      <a:lnTo>
                        <a:pt x="94" y="238"/>
                      </a:lnTo>
                      <a:lnTo>
                        <a:pt x="102" y="193"/>
                      </a:lnTo>
                      <a:lnTo>
                        <a:pt x="119" y="180"/>
                      </a:lnTo>
                      <a:lnTo>
                        <a:pt x="62" y="0"/>
                      </a:lnTo>
                      <a:lnTo>
                        <a:pt x="45" y="28"/>
                      </a:lnTo>
                      <a:lnTo>
                        <a:pt x="29" y="94"/>
                      </a:lnTo>
                      <a:lnTo>
                        <a:pt x="17" y="119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6457320" y="3957840"/>
                  <a:ext cx="111960" cy="284040"/>
                </a:xfrm>
                <a:custGeom>
                  <a:avLst/>
                  <a:gdLst/>
                  <a:ahLst/>
                  <a:rect l="l" t="t" r="r" b="b"/>
                  <a:pathLst>
                    <a:path w="118" h="299">
                      <a:moveTo>
                        <a:pt x="0" y="123"/>
                      </a:moveTo>
                      <a:lnTo>
                        <a:pt x="65" y="299"/>
                      </a:lnTo>
                      <a:lnTo>
                        <a:pt x="77" y="291"/>
                      </a:lnTo>
                      <a:lnTo>
                        <a:pt x="93" y="238"/>
                      </a:lnTo>
                      <a:lnTo>
                        <a:pt x="102" y="193"/>
                      </a:lnTo>
                      <a:lnTo>
                        <a:pt x="118" y="184"/>
                      </a:lnTo>
                      <a:lnTo>
                        <a:pt x="61" y="0"/>
                      </a:lnTo>
                      <a:lnTo>
                        <a:pt x="45" y="32"/>
                      </a:lnTo>
                      <a:lnTo>
                        <a:pt x="28" y="94"/>
                      </a:lnTo>
                      <a:lnTo>
                        <a:pt x="16" y="119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6577560" y="3961440"/>
                  <a:ext cx="92880" cy="280080"/>
                </a:xfrm>
                <a:custGeom>
                  <a:avLst/>
                  <a:gdLst/>
                  <a:ahLst/>
                  <a:rect l="l" t="t" r="r" b="b"/>
                  <a:pathLst>
                    <a:path w="98" h="295">
                      <a:moveTo>
                        <a:pt x="0" y="123"/>
                      </a:moveTo>
                      <a:lnTo>
                        <a:pt x="53" y="295"/>
                      </a:lnTo>
                      <a:lnTo>
                        <a:pt x="61" y="287"/>
                      </a:lnTo>
                      <a:lnTo>
                        <a:pt x="78" y="238"/>
                      </a:lnTo>
                      <a:lnTo>
                        <a:pt x="86" y="193"/>
                      </a:lnTo>
                      <a:lnTo>
                        <a:pt x="98" y="180"/>
                      </a:lnTo>
                      <a:lnTo>
                        <a:pt x="49" y="0"/>
                      </a:lnTo>
                      <a:lnTo>
                        <a:pt x="37" y="33"/>
                      </a:lnTo>
                      <a:lnTo>
                        <a:pt x="25" y="94"/>
                      </a:lnTo>
                      <a:lnTo>
                        <a:pt x="12" y="119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6674400" y="3969000"/>
                  <a:ext cx="96840" cy="272520"/>
                </a:xfrm>
                <a:custGeom>
                  <a:avLst/>
                  <a:gdLst/>
                  <a:ahLst/>
                  <a:rect l="l" t="t" r="r" b="b"/>
                  <a:pathLst>
                    <a:path w="102" h="287">
                      <a:moveTo>
                        <a:pt x="0" y="119"/>
                      </a:moveTo>
                      <a:lnTo>
                        <a:pt x="57" y="287"/>
                      </a:lnTo>
                      <a:lnTo>
                        <a:pt x="69" y="283"/>
                      </a:lnTo>
                      <a:lnTo>
                        <a:pt x="82" y="230"/>
                      </a:lnTo>
                      <a:lnTo>
                        <a:pt x="90" y="189"/>
                      </a:lnTo>
                      <a:lnTo>
                        <a:pt x="102" y="176"/>
                      </a:lnTo>
                      <a:lnTo>
                        <a:pt x="53" y="0"/>
                      </a:lnTo>
                      <a:lnTo>
                        <a:pt x="41" y="29"/>
                      </a:lnTo>
                      <a:lnTo>
                        <a:pt x="24" y="90"/>
                      </a:lnTo>
                      <a:lnTo>
                        <a:pt x="12" y="115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6313680" y="4019760"/>
                  <a:ext cx="57960" cy="183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6756120" y="4023360"/>
                  <a:ext cx="42480" cy="133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 flipH="1" flipV="1">
                  <a:off x="6786720" y="4152600"/>
                  <a:ext cx="27360" cy="50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6429960" y="3980520"/>
                  <a:ext cx="50400" cy="155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6538320" y="3980520"/>
                  <a:ext cx="50040" cy="155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6646680" y="3992760"/>
                  <a:ext cx="50400" cy="155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6756120" y="4023360"/>
                  <a:ext cx="61560" cy="183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13" name=""/>
            <p:cNvGrpSpPr/>
            <p:nvPr/>
          </p:nvGrpSpPr>
          <p:grpSpPr>
            <a:xfrm>
              <a:off x="5972400" y="4297680"/>
              <a:ext cx="821160" cy="158760"/>
              <a:chOff x="5972400" y="4297680"/>
              <a:chExt cx="821160" cy="158760"/>
            </a:xfrm>
          </p:grpSpPr>
          <p:grpSp>
            <p:nvGrpSpPr>
              <p:cNvPr id="2814" name=""/>
              <p:cNvGrpSpPr/>
              <p:nvPr/>
            </p:nvGrpSpPr>
            <p:grpSpPr>
              <a:xfrm>
                <a:off x="5972400" y="4297680"/>
                <a:ext cx="422280" cy="147960"/>
                <a:chOff x="5972400" y="4297680"/>
                <a:chExt cx="422280" cy="147960"/>
              </a:xfrm>
            </p:grpSpPr>
            <p:grpSp>
              <p:nvGrpSpPr>
                <p:cNvPr id="2815" name=""/>
                <p:cNvGrpSpPr/>
                <p:nvPr/>
              </p:nvGrpSpPr>
              <p:grpSpPr>
                <a:xfrm>
                  <a:off x="5972400" y="4297680"/>
                  <a:ext cx="227880" cy="147960"/>
                  <a:chOff x="5972400" y="4297680"/>
                  <a:chExt cx="227880" cy="147960"/>
                </a:xfrm>
              </p:grpSpPr>
              <p:sp>
                <p:nvSpPr>
                  <p:cNvPr id="2816" name=""/>
                  <p:cNvSpPr/>
                  <p:nvPr/>
                </p:nvSpPr>
                <p:spPr>
                  <a:xfrm>
                    <a:off x="5995080" y="4383000"/>
                    <a:ext cx="1976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66">
                        <a:moveTo>
                          <a:pt x="0" y="33"/>
                        </a:moveTo>
                        <a:lnTo>
                          <a:pt x="4" y="41"/>
                        </a:lnTo>
                        <a:lnTo>
                          <a:pt x="9" y="53"/>
                        </a:lnTo>
                        <a:lnTo>
                          <a:pt x="13" y="62"/>
                        </a:lnTo>
                        <a:lnTo>
                          <a:pt x="17" y="62"/>
                        </a:lnTo>
                        <a:lnTo>
                          <a:pt x="21" y="62"/>
                        </a:lnTo>
                        <a:lnTo>
                          <a:pt x="25" y="57"/>
                        </a:lnTo>
                        <a:lnTo>
                          <a:pt x="29" y="49"/>
                        </a:lnTo>
                        <a:lnTo>
                          <a:pt x="33" y="37"/>
                        </a:lnTo>
                        <a:lnTo>
                          <a:pt x="33" y="29"/>
                        </a:lnTo>
                        <a:lnTo>
                          <a:pt x="37" y="21"/>
                        </a:lnTo>
                        <a:lnTo>
                          <a:pt x="37" y="12"/>
                        </a:lnTo>
                        <a:lnTo>
                          <a:pt x="41" y="4"/>
                        </a:lnTo>
                        <a:lnTo>
                          <a:pt x="45" y="0"/>
                        </a:lnTo>
                        <a:lnTo>
                          <a:pt x="49" y="0"/>
                        </a:lnTo>
                        <a:lnTo>
                          <a:pt x="53" y="0"/>
                        </a:lnTo>
                        <a:lnTo>
                          <a:pt x="57" y="12"/>
                        </a:lnTo>
                        <a:lnTo>
                          <a:pt x="62" y="25"/>
                        </a:lnTo>
                        <a:lnTo>
                          <a:pt x="62" y="29"/>
                        </a:lnTo>
                        <a:lnTo>
                          <a:pt x="62" y="33"/>
                        </a:lnTo>
                        <a:lnTo>
                          <a:pt x="66" y="45"/>
                        </a:lnTo>
                        <a:lnTo>
                          <a:pt x="70" y="57"/>
                        </a:lnTo>
                        <a:lnTo>
                          <a:pt x="74" y="62"/>
                        </a:lnTo>
                        <a:lnTo>
                          <a:pt x="78" y="57"/>
                        </a:lnTo>
                        <a:lnTo>
                          <a:pt x="82" y="45"/>
                        </a:lnTo>
                        <a:lnTo>
                          <a:pt x="86" y="33"/>
                        </a:lnTo>
                        <a:lnTo>
                          <a:pt x="86" y="29"/>
                        </a:lnTo>
                        <a:lnTo>
                          <a:pt x="86" y="25"/>
                        </a:lnTo>
                        <a:lnTo>
                          <a:pt x="90" y="12"/>
                        </a:lnTo>
                        <a:lnTo>
                          <a:pt x="94" y="0"/>
                        </a:lnTo>
                        <a:lnTo>
                          <a:pt x="98" y="0"/>
                        </a:lnTo>
                        <a:lnTo>
                          <a:pt x="102" y="0"/>
                        </a:lnTo>
                        <a:lnTo>
                          <a:pt x="106" y="12"/>
                        </a:lnTo>
                        <a:lnTo>
                          <a:pt x="110" y="25"/>
                        </a:lnTo>
                        <a:lnTo>
                          <a:pt x="110" y="29"/>
                        </a:lnTo>
                        <a:lnTo>
                          <a:pt x="115" y="37"/>
                        </a:lnTo>
                        <a:lnTo>
                          <a:pt x="115" y="45"/>
                        </a:lnTo>
                        <a:lnTo>
                          <a:pt x="119" y="53"/>
                        </a:lnTo>
                        <a:lnTo>
                          <a:pt x="123" y="57"/>
                        </a:lnTo>
                        <a:lnTo>
                          <a:pt x="131" y="62"/>
                        </a:lnTo>
                        <a:lnTo>
                          <a:pt x="135" y="57"/>
                        </a:lnTo>
                        <a:lnTo>
                          <a:pt x="135" y="49"/>
                        </a:lnTo>
                        <a:lnTo>
                          <a:pt x="139" y="37"/>
                        </a:lnTo>
                        <a:lnTo>
                          <a:pt x="139" y="33"/>
                        </a:lnTo>
                        <a:lnTo>
                          <a:pt x="139" y="29"/>
                        </a:lnTo>
                        <a:lnTo>
                          <a:pt x="143" y="16"/>
                        </a:lnTo>
                        <a:lnTo>
                          <a:pt x="147" y="8"/>
                        </a:lnTo>
                        <a:lnTo>
                          <a:pt x="155" y="8"/>
                        </a:lnTo>
                        <a:lnTo>
                          <a:pt x="159" y="21"/>
                        </a:lnTo>
                        <a:lnTo>
                          <a:pt x="163" y="33"/>
                        </a:lnTo>
                        <a:lnTo>
                          <a:pt x="163" y="37"/>
                        </a:lnTo>
                        <a:lnTo>
                          <a:pt x="163" y="41"/>
                        </a:lnTo>
                        <a:lnTo>
                          <a:pt x="168" y="53"/>
                        </a:lnTo>
                        <a:lnTo>
                          <a:pt x="172" y="66"/>
                        </a:lnTo>
                        <a:lnTo>
                          <a:pt x="176" y="66"/>
                        </a:lnTo>
                        <a:lnTo>
                          <a:pt x="180" y="62"/>
                        </a:lnTo>
                        <a:lnTo>
                          <a:pt x="180" y="57"/>
                        </a:lnTo>
                        <a:lnTo>
                          <a:pt x="184" y="41"/>
                        </a:lnTo>
                        <a:lnTo>
                          <a:pt x="184" y="37"/>
                        </a:lnTo>
                        <a:lnTo>
                          <a:pt x="184" y="33"/>
                        </a:lnTo>
                        <a:lnTo>
                          <a:pt x="188" y="21"/>
                        </a:lnTo>
                        <a:lnTo>
                          <a:pt x="192" y="8"/>
                        </a:lnTo>
                        <a:lnTo>
                          <a:pt x="196" y="8"/>
                        </a:lnTo>
                        <a:lnTo>
                          <a:pt x="200" y="8"/>
                        </a:lnTo>
                        <a:lnTo>
                          <a:pt x="204" y="21"/>
                        </a:lnTo>
                        <a:lnTo>
                          <a:pt x="208" y="33"/>
                        </a:lnTo>
                        <a:lnTo>
                          <a:pt x="208" y="37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7" name=""/>
                  <p:cNvSpPr/>
                  <p:nvPr/>
                </p:nvSpPr>
                <p:spPr>
                  <a:xfrm>
                    <a:off x="5972400" y="4297680"/>
                    <a:ext cx="1976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69">
                        <a:moveTo>
                          <a:pt x="0" y="37"/>
                        </a:moveTo>
                        <a:lnTo>
                          <a:pt x="4" y="45"/>
                        </a:lnTo>
                        <a:lnTo>
                          <a:pt x="8" y="57"/>
                        </a:lnTo>
                        <a:lnTo>
                          <a:pt x="12" y="65"/>
                        </a:lnTo>
                        <a:lnTo>
                          <a:pt x="16" y="65"/>
                        </a:lnTo>
                        <a:lnTo>
                          <a:pt x="24" y="57"/>
                        </a:lnTo>
                        <a:lnTo>
                          <a:pt x="28" y="49"/>
                        </a:lnTo>
                        <a:lnTo>
                          <a:pt x="33" y="37"/>
                        </a:lnTo>
                        <a:lnTo>
                          <a:pt x="33" y="33"/>
                        </a:lnTo>
                        <a:lnTo>
                          <a:pt x="33" y="28"/>
                        </a:lnTo>
                        <a:lnTo>
                          <a:pt x="37" y="16"/>
                        </a:lnTo>
                        <a:lnTo>
                          <a:pt x="41" y="4"/>
                        </a:lnTo>
                        <a:lnTo>
                          <a:pt x="45" y="0"/>
                        </a:lnTo>
                        <a:lnTo>
                          <a:pt x="45" y="4"/>
                        </a:lnTo>
                        <a:lnTo>
                          <a:pt x="49" y="4"/>
                        </a:lnTo>
                        <a:lnTo>
                          <a:pt x="53" y="16"/>
                        </a:lnTo>
                        <a:lnTo>
                          <a:pt x="57" y="28"/>
                        </a:lnTo>
                        <a:lnTo>
                          <a:pt x="57" y="33"/>
                        </a:lnTo>
                        <a:lnTo>
                          <a:pt x="57" y="37"/>
                        </a:lnTo>
                        <a:lnTo>
                          <a:pt x="61" y="49"/>
                        </a:lnTo>
                        <a:lnTo>
                          <a:pt x="65" y="61"/>
                        </a:lnTo>
                        <a:lnTo>
                          <a:pt x="69" y="65"/>
                        </a:lnTo>
                        <a:lnTo>
                          <a:pt x="77" y="57"/>
                        </a:lnTo>
                        <a:lnTo>
                          <a:pt x="81" y="49"/>
                        </a:lnTo>
                        <a:lnTo>
                          <a:pt x="86" y="37"/>
                        </a:lnTo>
                        <a:lnTo>
                          <a:pt x="86" y="33"/>
                        </a:lnTo>
                        <a:lnTo>
                          <a:pt x="86" y="28"/>
                        </a:lnTo>
                        <a:lnTo>
                          <a:pt x="90" y="16"/>
                        </a:lnTo>
                        <a:lnTo>
                          <a:pt x="94" y="4"/>
                        </a:lnTo>
                        <a:lnTo>
                          <a:pt x="98" y="4"/>
                        </a:lnTo>
                        <a:lnTo>
                          <a:pt x="102" y="4"/>
                        </a:lnTo>
                        <a:lnTo>
                          <a:pt x="106" y="16"/>
                        </a:lnTo>
                        <a:lnTo>
                          <a:pt x="110" y="28"/>
                        </a:lnTo>
                        <a:lnTo>
                          <a:pt x="110" y="33"/>
                        </a:lnTo>
                        <a:lnTo>
                          <a:pt x="110" y="37"/>
                        </a:lnTo>
                        <a:lnTo>
                          <a:pt x="114" y="49"/>
                        </a:lnTo>
                        <a:lnTo>
                          <a:pt x="118" y="61"/>
                        </a:lnTo>
                        <a:lnTo>
                          <a:pt x="122" y="65"/>
                        </a:lnTo>
                        <a:lnTo>
                          <a:pt x="126" y="65"/>
                        </a:lnTo>
                        <a:lnTo>
                          <a:pt x="130" y="53"/>
                        </a:lnTo>
                        <a:lnTo>
                          <a:pt x="134" y="41"/>
                        </a:lnTo>
                        <a:lnTo>
                          <a:pt x="134" y="37"/>
                        </a:lnTo>
                        <a:lnTo>
                          <a:pt x="134" y="33"/>
                        </a:lnTo>
                        <a:lnTo>
                          <a:pt x="139" y="20"/>
                        </a:lnTo>
                        <a:lnTo>
                          <a:pt x="143" y="8"/>
                        </a:lnTo>
                        <a:lnTo>
                          <a:pt x="147" y="8"/>
                        </a:lnTo>
                        <a:lnTo>
                          <a:pt x="151" y="8"/>
                        </a:lnTo>
                        <a:lnTo>
                          <a:pt x="155" y="20"/>
                        </a:lnTo>
                        <a:lnTo>
                          <a:pt x="159" y="33"/>
                        </a:lnTo>
                        <a:lnTo>
                          <a:pt x="159" y="37"/>
                        </a:lnTo>
                        <a:lnTo>
                          <a:pt x="159" y="41"/>
                        </a:lnTo>
                        <a:lnTo>
                          <a:pt x="163" y="53"/>
                        </a:lnTo>
                        <a:lnTo>
                          <a:pt x="167" y="65"/>
                        </a:lnTo>
                        <a:lnTo>
                          <a:pt x="171" y="69"/>
                        </a:lnTo>
                        <a:lnTo>
                          <a:pt x="171" y="65"/>
                        </a:lnTo>
                        <a:lnTo>
                          <a:pt x="175" y="65"/>
                        </a:lnTo>
                        <a:lnTo>
                          <a:pt x="179" y="57"/>
                        </a:lnTo>
                        <a:lnTo>
                          <a:pt x="183" y="45"/>
                        </a:lnTo>
                        <a:lnTo>
                          <a:pt x="183" y="41"/>
                        </a:lnTo>
                        <a:lnTo>
                          <a:pt x="183" y="37"/>
                        </a:lnTo>
                        <a:lnTo>
                          <a:pt x="187" y="24"/>
                        </a:lnTo>
                        <a:lnTo>
                          <a:pt x="192" y="12"/>
                        </a:lnTo>
                        <a:lnTo>
                          <a:pt x="196" y="8"/>
                        </a:lnTo>
                        <a:lnTo>
                          <a:pt x="196" y="12"/>
                        </a:lnTo>
                        <a:lnTo>
                          <a:pt x="200" y="12"/>
                        </a:lnTo>
                        <a:lnTo>
                          <a:pt x="204" y="20"/>
                        </a:lnTo>
                        <a:lnTo>
                          <a:pt x="208" y="33"/>
                        </a:lnTo>
                        <a:lnTo>
                          <a:pt x="208" y="37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8" name=""/>
                  <p:cNvSpPr/>
                  <p:nvPr/>
                </p:nvSpPr>
                <p:spPr>
                  <a:xfrm>
                    <a:off x="5983560" y="4301280"/>
                    <a:ext cx="5040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8">
                        <a:moveTo>
                          <a:pt x="0" y="61"/>
                        </a:moveTo>
                        <a:lnTo>
                          <a:pt x="29" y="148"/>
                        </a:lnTo>
                        <a:lnTo>
                          <a:pt x="37" y="143"/>
                        </a:lnTo>
                        <a:lnTo>
                          <a:pt x="45" y="115"/>
                        </a:lnTo>
                        <a:lnTo>
                          <a:pt x="49" y="94"/>
                        </a:lnTo>
                        <a:lnTo>
                          <a:pt x="53" y="90"/>
                        </a:lnTo>
                        <a:lnTo>
                          <a:pt x="29" y="0"/>
                        </a:lnTo>
                        <a:lnTo>
                          <a:pt x="25" y="16"/>
                        </a:lnTo>
                        <a:lnTo>
                          <a:pt x="16" y="45"/>
                        </a:lnTo>
                        <a:lnTo>
                          <a:pt x="8" y="57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9" name=""/>
                  <p:cNvSpPr/>
                  <p:nvPr/>
                </p:nvSpPr>
                <p:spPr>
                  <a:xfrm>
                    <a:off x="6037920" y="4301280"/>
                    <a:ext cx="4644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48">
                        <a:moveTo>
                          <a:pt x="0" y="61"/>
                        </a:moveTo>
                        <a:lnTo>
                          <a:pt x="29" y="148"/>
                        </a:lnTo>
                        <a:lnTo>
                          <a:pt x="33" y="143"/>
                        </a:lnTo>
                        <a:lnTo>
                          <a:pt x="41" y="119"/>
                        </a:lnTo>
                        <a:lnTo>
                          <a:pt x="45" y="94"/>
                        </a:lnTo>
                        <a:lnTo>
                          <a:pt x="49" y="90"/>
                        </a:lnTo>
                        <a:lnTo>
                          <a:pt x="25" y="0"/>
                        </a:lnTo>
                        <a:lnTo>
                          <a:pt x="21" y="16"/>
                        </a:lnTo>
                        <a:lnTo>
                          <a:pt x="12" y="45"/>
                        </a:lnTo>
                        <a:lnTo>
                          <a:pt x="4" y="57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0" name=""/>
                  <p:cNvSpPr/>
                  <p:nvPr/>
                </p:nvSpPr>
                <p:spPr>
                  <a:xfrm>
                    <a:off x="6088320" y="4304880"/>
                    <a:ext cx="424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4">
                        <a:moveTo>
                          <a:pt x="0" y="57"/>
                        </a:moveTo>
                        <a:lnTo>
                          <a:pt x="25" y="144"/>
                        </a:lnTo>
                        <a:lnTo>
                          <a:pt x="29" y="139"/>
                        </a:lnTo>
                        <a:lnTo>
                          <a:pt x="37" y="115"/>
                        </a:lnTo>
                        <a:lnTo>
                          <a:pt x="41" y="94"/>
                        </a:lnTo>
                        <a:lnTo>
                          <a:pt x="45" y="86"/>
                        </a:lnTo>
                        <a:lnTo>
                          <a:pt x="25" y="0"/>
                        </a:lnTo>
                        <a:lnTo>
                          <a:pt x="21" y="12"/>
                        </a:lnTo>
                        <a:lnTo>
                          <a:pt x="12" y="45"/>
                        </a:lnTo>
                        <a:lnTo>
                          <a:pt x="8" y="57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1" name=""/>
                  <p:cNvSpPr/>
                  <p:nvPr/>
                </p:nvSpPr>
                <p:spPr>
                  <a:xfrm>
                    <a:off x="6135120" y="4304880"/>
                    <a:ext cx="424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4">
                        <a:moveTo>
                          <a:pt x="0" y="61"/>
                        </a:moveTo>
                        <a:lnTo>
                          <a:pt x="25" y="144"/>
                        </a:lnTo>
                        <a:lnTo>
                          <a:pt x="29" y="139"/>
                        </a:lnTo>
                        <a:lnTo>
                          <a:pt x="37" y="115"/>
                        </a:lnTo>
                        <a:lnTo>
                          <a:pt x="41" y="94"/>
                        </a:lnTo>
                        <a:lnTo>
                          <a:pt x="45" y="90"/>
                        </a:lnTo>
                        <a:lnTo>
                          <a:pt x="25" y="0"/>
                        </a:lnTo>
                        <a:lnTo>
                          <a:pt x="16" y="16"/>
                        </a:lnTo>
                        <a:lnTo>
                          <a:pt x="12" y="45"/>
                        </a:lnTo>
                        <a:lnTo>
                          <a:pt x="4" y="57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blipFill rotWithShape="0">
                    <a:blip r:embed="rId1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2" name=""/>
                  <p:cNvSpPr/>
                  <p:nvPr/>
                </p:nvSpPr>
                <p:spPr>
                  <a:xfrm>
                    <a:off x="5976000" y="4336560"/>
                    <a:ext cx="27360" cy="88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3" name=""/>
                  <p:cNvSpPr/>
                  <p:nvPr/>
                </p:nvSpPr>
                <p:spPr>
                  <a:xfrm>
                    <a:off x="6174000" y="4336560"/>
                    <a:ext cx="18720" cy="66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4" name=""/>
                  <p:cNvSpPr/>
                  <p:nvPr/>
                </p:nvSpPr>
                <p:spPr>
                  <a:xfrm flipH="1" flipV="1">
                    <a:off x="6188760" y="4403160"/>
                    <a:ext cx="11160" cy="223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5" name=""/>
                  <p:cNvSpPr/>
                  <p:nvPr/>
                </p:nvSpPr>
                <p:spPr>
                  <a:xfrm>
                    <a:off x="6030360" y="4316400"/>
                    <a:ext cx="23400" cy="77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6" name=""/>
                  <p:cNvSpPr/>
                  <p:nvPr/>
                </p:nvSpPr>
                <p:spPr>
                  <a:xfrm>
                    <a:off x="6076800" y="4316400"/>
                    <a:ext cx="22680" cy="73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7" name=""/>
                  <p:cNvSpPr/>
                  <p:nvPr/>
                </p:nvSpPr>
                <p:spPr>
                  <a:xfrm>
                    <a:off x="6127560" y="4324320"/>
                    <a:ext cx="22680" cy="73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8" name=""/>
                  <p:cNvSpPr/>
                  <p:nvPr/>
                </p:nvSpPr>
                <p:spPr>
                  <a:xfrm>
                    <a:off x="6174000" y="4340160"/>
                    <a:ext cx="26280" cy="88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9" name=""/>
                <p:cNvGrpSpPr/>
                <p:nvPr/>
              </p:nvGrpSpPr>
              <p:grpSpPr>
                <a:xfrm>
                  <a:off x="6166440" y="4297680"/>
                  <a:ext cx="228240" cy="147960"/>
                  <a:chOff x="6166440" y="4297680"/>
                  <a:chExt cx="228240" cy="147960"/>
                </a:xfrm>
              </p:grpSpPr>
              <p:sp>
                <p:nvSpPr>
                  <p:cNvPr id="2830" name=""/>
                  <p:cNvSpPr/>
                  <p:nvPr/>
                </p:nvSpPr>
                <p:spPr>
                  <a:xfrm>
                    <a:off x="6188760" y="4383000"/>
                    <a:ext cx="19800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66">
                        <a:moveTo>
                          <a:pt x="0" y="33"/>
                        </a:moveTo>
                        <a:lnTo>
                          <a:pt x="4" y="41"/>
                        </a:lnTo>
                        <a:lnTo>
                          <a:pt x="8" y="53"/>
                        </a:lnTo>
                        <a:lnTo>
                          <a:pt x="12" y="62"/>
                        </a:lnTo>
                        <a:lnTo>
                          <a:pt x="17" y="66"/>
                        </a:lnTo>
                        <a:lnTo>
                          <a:pt x="21" y="66"/>
                        </a:lnTo>
                        <a:lnTo>
                          <a:pt x="21" y="62"/>
                        </a:lnTo>
                        <a:lnTo>
                          <a:pt x="29" y="49"/>
                        </a:lnTo>
                        <a:lnTo>
                          <a:pt x="33" y="37"/>
                        </a:lnTo>
                        <a:lnTo>
                          <a:pt x="33" y="33"/>
                        </a:lnTo>
                        <a:lnTo>
                          <a:pt x="37" y="25"/>
                        </a:lnTo>
                        <a:lnTo>
                          <a:pt x="37" y="16"/>
                        </a:lnTo>
                        <a:lnTo>
                          <a:pt x="41" y="8"/>
                        </a:lnTo>
                        <a:lnTo>
                          <a:pt x="45" y="4"/>
                        </a:lnTo>
                        <a:lnTo>
                          <a:pt x="53" y="0"/>
                        </a:lnTo>
                        <a:lnTo>
                          <a:pt x="57" y="4"/>
                        </a:lnTo>
                        <a:lnTo>
                          <a:pt x="57" y="12"/>
                        </a:lnTo>
                        <a:lnTo>
                          <a:pt x="61" y="25"/>
                        </a:lnTo>
                        <a:lnTo>
                          <a:pt x="61" y="29"/>
                        </a:lnTo>
                        <a:lnTo>
                          <a:pt x="61" y="33"/>
                        </a:lnTo>
                        <a:lnTo>
                          <a:pt x="66" y="45"/>
                        </a:lnTo>
                        <a:lnTo>
                          <a:pt x="70" y="57"/>
                        </a:lnTo>
                        <a:lnTo>
                          <a:pt x="74" y="62"/>
                        </a:lnTo>
                        <a:lnTo>
                          <a:pt x="78" y="62"/>
                        </a:lnTo>
                        <a:lnTo>
                          <a:pt x="82" y="49"/>
                        </a:lnTo>
                        <a:lnTo>
                          <a:pt x="86" y="37"/>
                        </a:lnTo>
                        <a:lnTo>
                          <a:pt x="86" y="33"/>
                        </a:lnTo>
                        <a:lnTo>
                          <a:pt x="86" y="29"/>
                        </a:lnTo>
                        <a:lnTo>
                          <a:pt x="90" y="16"/>
                        </a:lnTo>
                        <a:lnTo>
                          <a:pt x="94" y="4"/>
                        </a:lnTo>
                        <a:lnTo>
                          <a:pt x="98" y="0"/>
                        </a:lnTo>
                        <a:lnTo>
                          <a:pt x="98" y="4"/>
                        </a:lnTo>
                        <a:lnTo>
                          <a:pt x="106" y="8"/>
                        </a:lnTo>
                        <a:lnTo>
                          <a:pt x="110" y="16"/>
                        </a:lnTo>
                        <a:lnTo>
                          <a:pt x="114" y="29"/>
                        </a:lnTo>
                        <a:lnTo>
                          <a:pt x="114" y="33"/>
                        </a:lnTo>
                        <a:lnTo>
                          <a:pt x="114" y="37"/>
                        </a:lnTo>
                        <a:lnTo>
                          <a:pt x="119" y="49"/>
                        </a:lnTo>
                        <a:lnTo>
                          <a:pt x="123" y="62"/>
                        </a:lnTo>
                        <a:lnTo>
                          <a:pt x="127" y="66"/>
                        </a:lnTo>
                        <a:lnTo>
                          <a:pt x="127" y="62"/>
                        </a:lnTo>
                        <a:lnTo>
                          <a:pt x="131" y="62"/>
                        </a:lnTo>
                        <a:lnTo>
                          <a:pt x="135" y="53"/>
                        </a:lnTo>
                        <a:lnTo>
                          <a:pt x="139" y="41"/>
                        </a:lnTo>
                        <a:lnTo>
                          <a:pt x="139" y="37"/>
                        </a:lnTo>
                        <a:lnTo>
                          <a:pt x="139" y="33"/>
                        </a:lnTo>
                        <a:lnTo>
                          <a:pt x="143" y="21"/>
                        </a:lnTo>
                        <a:lnTo>
                          <a:pt x="147" y="8"/>
                        </a:lnTo>
                        <a:lnTo>
                          <a:pt x="151" y="8"/>
                        </a:lnTo>
                        <a:lnTo>
                          <a:pt x="155" y="8"/>
                        </a:lnTo>
                        <a:lnTo>
                          <a:pt x="159" y="21"/>
                        </a:lnTo>
                        <a:lnTo>
                          <a:pt x="163" y="33"/>
                        </a:lnTo>
                        <a:lnTo>
                          <a:pt x="163" y="37"/>
                        </a:lnTo>
                        <a:lnTo>
                          <a:pt x="163" y="41"/>
                        </a:lnTo>
                        <a:lnTo>
                          <a:pt x="167" y="53"/>
                        </a:lnTo>
                        <a:lnTo>
                          <a:pt x="172" y="66"/>
                        </a:lnTo>
                        <a:lnTo>
                          <a:pt x="176" y="66"/>
                        </a:lnTo>
                        <a:lnTo>
                          <a:pt x="180" y="66"/>
                        </a:lnTo>
                        <a:lnTo>
                          <a:pt x="184" y="53"/>
                        </a:lnTo>
                        <a:lnTo>
                          <a:pt x="188" y="41"/>
                        </a:lnTo>
                        <a:lnTo>
                          <a:pt x="188" y="37"/>
                        </a:lnTo>
                        <a:lnTo>
                          <a:pt x="188" y="33"/>
                        </a:lnTo>
                        <a:lnTo>
                          <a:pt x="192" y="16"/>
                        </a:lnTo>
                        <a:lnTo>
                          <a:pt x="196" y="8"/>
                        </a:lnTo>
                        <a:lnTo>
                          <a:pt x="196" y="12"/>
                        </a:lnTo>
                        <a:lnTo>
                          <a:pt x="200" y="12"/>
                        </a:lnTo>
                        <a:lnTo>
                          <a:pt x="204" y="21"/>
                        </a:lnTo>
                        <a:lnTo>
                          <a:pt x="208" y="33"/>
                        </a:lnTo>
                        <a:lnTo>
                          <a:pt x="208" y="37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1" name=""/>
                  <p:cNvSpPr/>
                  <p:nvPr/>
                </p:nvSpPr>
                <p:spPr>
                  <a:xfrm>
                    <a:off x="6166440" y="4297680"/>
                    <a:ext cx="1976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69">
                        <a:moveTo>
                          <a:pt x="0" y="37"/>
                        </a:moveTo>
                        <a:lnTo>
                          <a:pt x="4" y="45"/>
                        </a:lnTo>
                        <a:lnTo>
                          <a:pt x="8" y="57"/>
                        </a:lnTo>
                        <a:lnTo>
                          <a:pt x="12" y="65"/>
                        </a:lnTo>
                        <a:lnTo>
                          <a:pt x="16" y="69"/>
                        </a:lnTo>
                        <a:lnTo>
                          <a:pt x="20" y="69"/>
                        </a:lnTo>
                        <a:lnTo>
                          <a:pt x="20" y="65"/>
                        </a:lnTo>
                        <a:lnTo>
                          <a:pt x="28" y="53"/>
                        </a:lnTo>
                        <a:lnTo>
                          <a:pt x="32" y="41"/>
                        </a:lnTo>
                        <a:lnTo>
                          <a:pt x="32" y="37"/>
                        </a:lnTo>
                        <a:lnTo>
                          <a:pt x="32" y="28"/>
                        </a:lnTo>
                        <a:lnTo>
                          <a:pt x="36" y="16"/>
                        </a:lnTo>
                        <a:lnTo>
                          <a:pt x="41" y="4"/>
                        </a:lnTo>
                        <a:lnTo>
                          <a:pt x="45" y="0"/>
                        </a:lnTo>
                        <a:lnTo>
                          <a:pt x="45" y="4"/>
                        </a:lnTo>
                        <a:lnTo>
                          <a:pt x="49" y="4"/>
                        </a:lnTo>
                        <a:lnTo>
                          <a:pt x="53" y="16"/>
                        </a:lnTo>
                        <a:lnTo>
                          <a:pt x="57" y="28"/>
                        </a:lnTo>
                        <a:lnTo>
                          <a:pt x="57" y="33"/>
                        </a:lnTo>
                        <a:lnTo>
                          <a:pt x="61" y="41"/>
                        </a:lnTo>
                        <a:lnTo>
                          <a:pt x="61" y="49"/>
                        </a:lnTo>
                        <a:lnTo>
                          <a:pt x="65" y="57"/>
                        </a:lnTo>
                        <a:lnTo>
                          <a:pt x="69" y="61"/>
                        </a:lnTo>
                        <a:lnTo>
                          <a:pt x="77" y="65"/>
                        </a:lnTo>
                        <a:lnTo>
                          <a:pt x="81" y="61"/>
                        </a:lnTo>
                        <a:lnTo>
                          <a:pt x="81" y="53"/>
                        </a:lnTo>
                        <a:lnTo>
                          <a:pt x="85" y="41"/>
                        </a:lnTo>
                        <a:lnTo>
                          <a:pt x="85" y="37"/>
                        </a:lnTo>
                        <a:lnTo>
                          <a:pt x="85" y="33"/>
                        </a:lnTo>
                        <a:lnTo>
                          <a:pt x="90" y="20"/>
                        </a:lnTo>
                        <a:lnTo>
                          <a:pt x="94" y="8"/>
                        </a:lnTo>
                        <a:lnTo>
                          <a:pt x="98" y="4"/>
                        </a:lnTo>
                        <a:lnTo>
                          <a:pt x="98" y="8"/>
                        </a:lnTo>
                        <a:lnTo>
                          <a:pt x="102" y="8"/>
                        </a:lnTo>
                        <a:lnTo>
                          <a:pt x="106" y="20"/>
                        </a:lnTo>
                        <a:lnTo>
                          <a:pt x="110" y="33"/>
                        </a:lnTo>
                        <a:lnTo>
                          <a:pt x="110" y="37"/>
                        </a:lnTo>
                        <a:lnTo>
                          <a:pt x="110" y="41"/>
                        </a:lnTo>
                        <a:lnTo>
                          <a:pt x="114" y="53"/>
                        </a:lnTo>
                        <a:lnTo>
                          <a:pt x="118" y="65"/>
                        </a:lnTo>
                        <a:lnTo>
                          <a:pt x="122" y="65"/>
                        </a:lnTo>
                        <a:lnTo>
                          <a:pt x="126" y="65"/>
                        </a:lnTo>
                        <a:lnTo>
                          <a:pt x="130" y="53"/>
                        </a:lnTo>
                        <a:lnTo>
                          <a:pt x="134" y="41"/>
                        </a:lnTo>
                        <a:lnTo>
                          <a:pt x="134" y="37"/>
                        </a:lnTo>
                        <a:lnTo>
                          <a:pt x="134" y="33"/>
                        </a:lnTo>
                        <a:lnTo>
                          <a:pt x="138" y="20"/>
                        </a:lnTo>
                        <a:lnTo>
                          <a:pt x="143" y="12"/>
                        </a:lnTo>
                        <a:lnTo>
                          <a:pt x="151" y="12"/>
                        </a:lnTo>
                        <a:lnTo>
                          <a:pt x="155" y="24"/>
                        </a:lnTo>
                        <a:lnTo>
                          <a:pt x="159" y="37"/>
                        </a:lnTo>
                        <a:lnTo>
                          <a:pt x="159" y="41"/>
                        </a:lnTo>
                        <a:lnTo>
                          <a:pt x="163" y="49"/>
                        </a:lnTo>
                        <a:lnTo>
                          <a:pt x="163" y="57"/>
                        </a:lnTo>
                        <a:lnTo>
                          <a:pt x="167" y="65"/>
                        </a:lnTo>
                        <a:lnTo>
                          <a:pt x="171" y="69"/>
                        </a:lnTo>
                        <a:lnTo>
                          <a:pt x="175" y="69"/>
                        </a:lnTo>
                        <a:lnTo>
                          <a:pt x="179" y="65"/>
                        </a:lnTo>
                        <a:lnTo>
                          <a:pt x="179" y="61"/>
                        </a:lnTo>
                        <a:lnTo>
                          <a:pt x="183" y="45"/>
                        </a:lnTo>
                        <a:lnTo>
                          <a:pt x="183" y="41"/>
                        </a:lnTo>
                        <a:lnTo>
                          <a:pt x="183" y="37"/>
                        </a:lnTo>
                        <a:lnTo>
                          <a:pt x="187" y="24"/>
                        </a:lnTo>
                        <a:lnTo>
                          <a:pt x="191" y="12"/>
                        </a:lnTo>
                        <a:lnTo>
                          <a:pt x="196" y="12"/>
                        </a:lnTo>
                        <a:lnTo>
                          <a:pt x="200" y="12"/>
                        </a:lnTo>
                        <a:lnTo>
                          <a:pt x="204" y="24"/>
                        </a:lnTo>
                        <a:lnTo>
                          <a:pt x="208" y="37"/>
                        </a:lnTo>
                        <a:lnTo>
                          <a:pt x="208" y="41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2" name=""/>
                  <p:cNvSpPr/>
                  <p:nvPr/>
                </p:nvSpPr>
                <p:spPr>
                  <a:xfrm>
                    <a:off x="6181200" y="4301280"/>
                    <a:ext cx="5040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8">
                        <a:moveTo>
                          <a:pt x="0" y="61"/>
                        </a:moveTo>
                        <a:lnTo>
                          <a:pt x="29" y="148"/>
                        </a:lnTo>
                        <a:lnTo>
                          <a:pt x="33" y="143"/>
                        </a:lnTo>
                        <a:lnTo>
                          <a:pt x="41" y="119"/>
                        </a:lnTo>
                        <a:lnTo>
                          <a:pt x="45" y="98"/>
                        </a:lnTo>
                        <a:lnTo>
                          <a:pt x="53" y="90"/>
                        </a:lnTo>
                        <a:lnTo>
                          <a:pt x="25" y="0"/>
                        </a:lnTo>
                        <a:lnTo>
                          <a:pt x="20" y="16"/>
                        </a:lnTo>
                        <a:lnTo>
                          <a:pt x="12" y="49"/>
                        </a:lnTo>
                        <a:lnTo>
                          <a:pt x="8" y="61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blipFill rotWithShape="0">
                    <a:blip r:embed="rId1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3" name=""/>
                  <p:cNvSpPr/>
                  <p:nvPr/>
                </p:nvSpPr>
                <p:spPr>
                  <a:xfrm>
                    <a:off x="6231960" y="4301280"/>
                    <a:ext cx="5040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8">
                        <a:moveTo>
                          <a:pt x="0" y="61"/>
                        </a:moveTo>
                        <a:lnTo>
                          <a:pt x="29" y="148"/>
                        </a:lnTo>
                        <a:lnTo>
                          <a:pt x="33" y="143"/>
                        </a:lnTo>
                        <a:lnTo>
                          <a:pt x="41" y="119"/>
                        </a:lnTo>
                        <a:lnTo>
                          <a:pt x="45" y="98"/>
                        </a:lnTo>
                        <a:lnTo>
                          <a:pt x="53" y="90"/>
                        </a:lnTo>
                        <a:lnTo>
                          <a:pt x="25" y="0"/>
                        </a:lnTo>
                        <a:lnTo>
                          <a:pt x="21" y="16"/>
                        </a:lnTo>
                        <a:lnTo>
                          <a:pt x="12" y="49"/>
                        </a:lnTo>
                        <a:lnTo>
                          <a:pt x="8" y="61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blipFill rotWithShape="0">
                    <a:blip r:embed="rId1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>
                    <a:off x="6285960" y="4304880"/>
                    <a:ext cx="388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4">
                        <a:moveTo>
                          <a:pt x="0" y="61"/>
                        </a:moveTo>
                        <a:lnTo>
                          <a:pt x="21" y="144"/>
                        </a:lnTo>
                        <a:lnTo>
                          <a:pt x="29" y="144"/>
                        </a:lnTo>
                        <a:lnTo>
                          <a:pt x="33" y="115"/>
                        </a:lnTo>
                        <a:lnTo>
                          <a:pt x="37" y="94"/>
                        </a:lnTo>
                        <a:lnTo>
                          <a:pt x="41" y="90"/>
                        </a:lnTo>
                        <a:lnTo>
                          <a:pt x="21" y="0"/>
                        </a:lnTo>
                        <a:lnTo>
                          <a:pt x="17" y="16"/>
                        </a:lnTo>
                        <a:lnTo>
                          <a:pt x="8" y="45"/>
                        </a:lnTo>
                        <a:lnTo>
                          <a:pt x="4" y="57"/>
                        </a:lnTo>
                        <a:lnTo>
                          <a:pt x="0" y="61"/>
                        </a:lnTo>
                        <a:close/>
                      </a:path>
                    </a:pathLst>
                  </a:custGeom>
                  <a:blipFill rotWithShape="0">
                    <a:blip r:embed="rId1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5" name=""/>
                  <p:cNvSpPr/>
                  <p:nvPr/>
                </p:nvSpPr>
                <p:spPr>
                  <a:xfrm>
                    <a:off x="6329160" y="4308840"/>
                    <a:ext cx="424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4">
                        <a:moveTo>
                          <a:pt x="0" y="57"/>
                        </a:moveTo>
                        <a:lnTo>
                          <a:pt x="25" y="144"/>
                        </a:lnTo>
                        <a:lnTo>
                          <a:pt x="29" y="140"/>
                        </a:lnTo>
                        <a:lnTo>
                          <a:pt x="37" y="115"/>
                        </a:lnTo>
                        <a:lnTo>
                          <a:pt x="41" y="94"/>
                        </a:lnTo>
                        <a:lnTo>
                          <a:pt x="45" y="86"/>
                        </a:lnTo>
                        <a:lnTo>
                          <a:pt x="25" y="0"/>
                        </a:lnTo>
                        <a:lnTo>
                          <a:pt x="16" y="12"/>
                        </a:lnTo>
                        <a:lnTo>
                          <a:pt x="12" y="45"/>
                        </a:lnTo>
                        <a:lnTo>
                          <a:pt x="4" y="57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blipFill rotWithShape="0">
                    <a:blip r:embed="rId2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6" name=""/>
                  <p:cNvSpPr/>
                  <p:nvPr/>
                </p:nvSpPr>
                <p:spPr>
                  <a:xfrm>
                    <a:off x="6170040" y="4336560"/>
                    <a:ext cx="26640" cy="88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7" name=""/>
                  <p:cNvSpPr/>
                  <p:nvPr/>
                </p:nvSpPr>
                <p:spPr>
                  <a:xfrm>
                    <a:off x="6368040" y="4340160"/>
                    <a:ext cx="19080" cy="66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8" name=""/>
                  <p:cNvSpPr/>
                  <p:nvPr/>
                </p:nvSpPr>
                <p:spPr>
                  <a:xfrm flipH="1" flipV="1">
                    <a:off x="6382800" y="4403160"/>
                    <a:ext cx="11160" cy="223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9" name=""/>
                  <p:cNvSpPr/>
                  <p:nvPr/>
                </p:nvSpPr>
                <p:spPr>
                  <a:xfrm>
                    <a:off x="6224400" y="4320360"/>
                    <a:ext cx="22320" cy="73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0" name=""/>
                  <p:cNvSpPr/>
                  <p:nvPr/>
                </p:nvSpPr>
                <p:spPr>
                  <a:xfrm>
                    <a:off x="6270840" y="4316400"/>
                    <a:ext cx="22320" cy="77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1" name=""/>
                  <p:cNvSpPr/>
                  <p:nvPr/>
                </p:nvSpPr>
                <p:spPr>
                  <a:xfrm>
                    <a:off x="6321240" y="4324320"/>
                    <a:ext cx="22680" cy="78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2" name=""/>
                  <p:cNvSpPr/>
                  <p:nvPr/>
                </p:nvSpPr>
                <p:spPr>
                  <a:xfrm>
                    <a:off x="6368040" y="4340160"/>
                    <a:ext cx="26640" cy="88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43" name=""/>
              <p:cNvGrpSpPr/>
              <p:nvPr/>
            </p:nvGrpSpPr>
            <p:grpSpPr>
              <a:xfrm>
                <a:off x="6368040" y="4304880"/>
                <a:ext cx="425520" cy="151560"/>
                <a:chOff x="6368040" y="4304880"/>
                <a:chExt cx="425520" cy="151560"/>
              </a:xfrm>
            </p:grpSpPr>
            <p:grpSp>
              <p:nvGrpSpPr>
                <p:cNvPr id="2844" name=""/>
                <p:cNvGrpSpPr/>
                <p:nvPr/>
              </p:nvGrpSpPr>
              <p:grpSpPr>
                <a:xfrm>
                  <a:off x="6368040" y="4304880"/>
                  <a:ext cx="228240" cy="151560"/>
                  <a:chOff x="6368040" y="4304880"/>
                  <a:chExt cx="228240" cy="151560"/>
                </a:xfrm>
              </p:grpSpPr>
              <p:sp>
                <p:nvSpPr>
                  <p:cNvPr id="2845" name=""/>
                  <p:cNvSpPr/>
                  <p:nvPr/>
                </p:nvSpPr>
                <p:spPr>
                  <a:xfrm>
                    <a:off x="6390720" y="4390200"/>
                    <a:ext cx="1976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70">
                        <a:moveTo>
                          <a:pt x="0" y="33"/>
                        </a:moveTo>
                        <a:lnTo>
                          <a:pt x="4" y="41"/>
                        </a:lnTo>
                        <a:lnTo>
                          <a:pt x="8" y="54"/>
                        </a:lnTo>
                        <a:lnTo>
                          <a:pt x="13" y="62"/>
                        </a:lnTo>
                        <a:lnTo>
                          <a:pt x="17" y="66"/>
                        </a:lnTo>
                        <a:lnTo>
                          <a:pt x="21" y="66"/>
                        </a:lnTo>
                        <a:lnTo>
                          <a:pt x="21" y="62"/>
                        </a:lnTo>
                        <a:lnTo>
                          <a:pt x="29" y="49"/>
                        </a:lnTo>
                        <a:lnTo>
                          <a:pt x="33" y="37"/>
                        </a:lnTo>
                        <a:lnTo>
                          <a:pt x="33" y="33"/>
                        </a:lnTo>
                        <a:lnTo>
                          <a:pt x="37" y="25"/>
                        </a:lnTo>
                        <a:lnTo>
                          <a:pt x="37" y="17"/>
                        </a:lnTo>
                        <a:lnTo>
                          <a:pt x="41" y="8"/>
                        </a:lnTo>
                        <a:lnTo>
                          <a:pt x="45" y="4"/>
                        </a:lnTo>
                        <a:lnTo>
                          <a:pt x="49" y="4"/>
                        </a:lnTo>
                        <a:lnTo>
                          <a:pt x="53" y="4"/>
                        </a:lnTo>
                        <a:lnTo>
                          <a:pt x="57" y="17"/>
                        </a:lnTo>
                        <a:lnTo>
                          <a:pt x="61" y="29"/>
                        </a:lnTo>
                        <a:lnTo>
                          <a:pt x="61" y="33"/>
                        </a:lnTo>
                        <a:lnTo>
                          <a:pt x="61" y="37"/>
                        </a:lnTo>
                        <a:lnTo>
                          <a:pt x="66" y="49"/>
                        </a:lnTo>
                        <a:lnTo>
                          <a:pt x="70" y="62"/>
                        </a:lnTo>
                        <a:lnTo>
                          <a:pt x="74" y="62"/>
                        </a:lnTo>
                        <a:lnTo>
                          <a:pt x="78" y="62"/>
                        </a:lnTo>
                        <a:lnTo>
                          <a:pt x="82" y="49"/>
                        </a:lnTo>
                        <a:lnTo>
                          <a:pt x="86" y="37"/>
                        </a:lnTo>
                        <a:lnTo>
                          <a:pt x="86" y="33"/>
                        </a:lnTo>
                        <a:lnTo>
                          <a:pt x="86" y="29"/>
                        </a:lnTo>
                        <a:lnTo>
                          <a:pt x="90" y="17"/>
                        </a:lnTo>
                        <a:lnTo>
                          <a:pt x="94" y="4"/>
                        </a:lnTo>
                        <a:lnTo>
                          <a:pt x="98" y="0"/>
                        </a:lnTo>
                        <a:lnTo>
                          <a:pt x="98" y="4"/>
                        </a:lnTo>
                        <a:lnTo>
                          <a:pt x="102" y="4"/>
                        </a:lnTo>
                        <a:lnTo>
                          <a:pt x="106" y="17"/>
                        </a:lnTo>
                        <a:lnTo>
                          <a:pt x="110" y="29"/>
                        </a:lnTo>
                        <a:lnTo>
                          <a:pt x="110" y="33"/>
                        </a:lnTo>
                        <a:lnTo>
                          <a:pt x="115" y="41"/>
                        </a:lnTo>
                        <a:lnTo>
                          <a:pt x="115" y="49"/>
                        </a:lnTo>
                        <a:lnTo>
                          <a:pt x="119" y="58"/>
                        </a:lnTo>
                        <a:lnTo>
                          <a:pt x="123" y="62"/>
                        </a:lnTo>
                        <a:lnTo>
                          <a:pt x="127" y="62"/>
                        </a:lnTo>
                        <a:lnTo>
                          <a:pt x="131" y="62"/>
                        </a:lnTo>
                        <a:lnTo>
                          <a:pt x="135" y="54"/>
                        </a:lnTo>
                        <a:lnTo>
                          <a:pt x="139" y="41"/>
                        </a:lnTo>
                        <a:lnTo>
                          <a:pt x="139" y="37"/>
                        </a:lnTo>
                        <a:lnTo>
                          <a:pt x="139" y="33"/>
                        </a:lnTo>
                        <a:lnTo>
                          <a:pt x="143" y="21"/>
                        </a:lnTo>
                        <a:lnTo>
                          <a:pt x="147" y="8"/>
                        </a:lnTo>
                        <a:lnTo>
                          <a:pt x="151" y="8"/>
                        </a:lnTo>
                        <a:lnTo>
                          <a:pt x="155" y="8"/>
                        </a:lnTo>
                        <a:lnTo>
                          <a:pt x="159" y="21"/>
                        </a:lnTo>
                        <a:lnTo>
                          <a:pt x="163" y="33"/>
                        </a:lnTo>
                        <a:lnTo>
                          <a:pt x="163" y="37"/>
                        </a:lnTo>
                        <a:lnTo>
                          <a:pt x="163" y="41"/>
                        </a:lnTo>
                        <a:lnTo>
                          <a:pt x="168" y="54"/>
                        </a:lnTo>
                        <a:lnTo>
                          <a:pt x="172" y="66"/>
                        </a:lnTo>
                        <a:lnTo>
                          <a:pt x="176" y="70"/>
                        </a:lnTo>
                        <a:lnTo>
                          <a:pt x="176" y="66"/>
                        </a:lnTo>
                        <a:lnTo>
                          <a:pt x="180" y="66"/>
                        </a:lnTo>
                        <a:lnTo>
                          <a:pt x="184" y="58"/>
                        </a:lnTo>
                        <a:lnTo>
                          <a:pt x="188" y="45"/>
                        </a:lnTo>
                        <a:lnTo>
                          <a:pt x="188" y="41"/>
                        </a:lnTo>
                        <a:lnTo>
                          <a:pt x="188" y="37"/>
                        </a:lnTo>
                        <a:lnTo>
                          <a:pt x="192" y="21"/>
                        </a:lnTo>
                        <a:lnTo>
                          <a:pt x="192" y="17"/>
                        </a:lnTo>
                        <a:lnTo>
                          <a:pt x="196" y="8"/>
                        </a:lnTo>
                        <a:lnTo>
                          <a:pt x="196" y="13"/>
                        </a:lnTo>
                        <a:lnTo>
                          <a:pt x="200" y="13"/>
                        </a:lnTo>
                        <a:lnTo>
                          <a:pt x="204" y="21"/>
                        </a:lnTo>
                        <a:lnTo>
                          <a:pt x="208" y="33"/>
                        </a:lnTo>
                        <a:lnTo>
                          <a:pt x="208" y="37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>
                    <a:off x="6368040" y="4304880"/>
                    <a:ext cx="1976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70">
                        <a:moveTo>
                          <a:pt x="0" y="37"/>
                        </a:moveTo>
                        <a:lnTo>
                          <a:pt x="4" y="45"/>
                        </a:lnTo>
                        <a:lnTo>
                          <a:pt x="8" y="57"/>
                        </a:lnTo>
                        <a:lnTo>
                          <a:pt x="12" y="66"/>
                        </a:lnTo>
                        <a:lnTo>
                          <a:pt x="16" y="70"/>
                        </a:lnTo>
                        <a:lnTo>
                          <a:pt x="20" y="66"/>
                        </a:lnTo>
                        <a:lnTo>
                          <a:pt x="28" y="53"/>
                        </a:lnTo>
                        <a:lnTo>
                          <a:pt x="32" y="41"/>
                        </a:lnTo>
                        <a:lnTo>
                          <a:pt x="32" y="37"/>
                        </a:lnTo>
                        <a:lnTo>
                          <a:pt x="32" y="29"/>
                        </a:lnTo>
                        <a:lnTo>
                          <a:pt x="37" y="16"/>
                        </a:lnTo>
                        <a:lnTo>
                          <a:pt x="41" y="4"/>
                        </a:lnTo>
                        <a:lnTo>
                          <a:pt x="45" y="0"/>
                        </a:lnTo>
                        <a:lnTo>
                          <a:pt x="45" y="4"/>
                        </a:lnTo>
                        <a:lnTo>
                          <a:pt x="49" y="4"/>
                        </a:lnTo>
                        <a:lnTo>
                          <a:pt x="53" y="16"/>
                        </a:lnTo>
                        <a:lnTo>
                          <a:pt x="57" y="29"/>
                        </a:lnTo>
                        <a:lnTo>
                          <a:pt x="57" y="33"/>
                        </a:lnTo>
                        <a:lnTo>
                          <a:pt x="57" y="37"/>
                        </a:lnTo>
                        <a:lnTo>
                          <a:pt x="61" y="49"/>
                        </a:lnTo>
                        <a:lnTo>
                          <a:pt x="65" y="61"/>
                        </a:lnTo>
                        <a:lnTo>
                          <a:pt x="69" y="66"/>
                        </a:lnTo>
                        <a:lnTo>
                          <a:pt x="73" y="66"/>
                        </a:lnTo>
                        <a:lnTo>
                          <a:pt x="77" y="61"/>
                        </a:lnTo>
                        <a:lnTo>
                          <a:pt x="81" y="53"/>
                        </a:lnTo>
                        <a:lnTo>
                          <a:pt x="85" y="41"/>
                        </a:lnTo>
                        <a:lnTo>
                          <a:pt x="85" y="37"/>
                        </a:lnTo>
                        <a:lnTo>
                          <a:pt x="85" y="33"/>
                        </a:lnTo>
                        <a:lnTo>
                          <a:pt x="90" y="20"/>
                        </a:lnTo>
                        <a:lnTo>
                          <a:pt x="94" y="8"/>
                        </a:lnTo>
                        <a:lnTo>
                          <a:pt x="98" y="4"/>
                        </a:lnTo>
                        <a:lnTo>
                          <a:pt x="98" y="8"/>
                        </a:lnTo>
                        <a:lnTo>
                          <a:pt x="102" y="8"/>
                        </a:lnTo>
                        <a:lnTo>
                          <a:pt x="106" y="20"/>
                        </a:lnTo>
                        <a:lnTo>
                          <a:pt x="110" y="33"/>
                        </a:lnTo>
                        <a:lnTo>
                          <a:pt x="110" y="37"/>
                        </a:lnTo>
                        <a:lnTo>
                          <a:pt x="110" y="41"/>
                        </a:lnTo>
                        <a:lnTo>
                          <a:pt x="114" y="53"/>
                        </a:lnTo>
                        <a:lnTo>
                          <a:pt x="118" y="66"/>
                        </a:lnTo>
                        <a:lnTo>
                          <a:pt x="122" y="66"/>
                        </a:lnTo>
                        <a:lnTo>
                          <a:pt x="126" y="66"/>
                        </a:lnTo>
                        <a:lnTo>
                          <a:pt x="130" y="53"/>
                        </a:lnTo>
                        <a:lnTo>
                          <a:pt x="134" y="41"/>
                        </a:lnTo>
                        <a:lnTo>
                          <a:pt x="134" y="37"/>
                        </a:lnTo>
                        <a:lnTo>
                          <a:pt x="134" y="33"/>
                        </a:lnTo>
                        <a:lnTo>
                          <a:pt x="139" y="20"/>
                        </a:lnTo>
                        <a:lnTo>
                          <a:pt x="143" y="12"/>
                        </a:lnTo>
                        <a:lnTo>
                          <a:pt x="151" y="12"/>
                        </a:lnTo>
                        <a:lnTo>
                          <a:pt x="155" y="25"/>
                        </a:lnTo>
                        <a:lnTo>
                          <a:pt x="159" y="37"/>
                        </a:lnTo>
                        <a:lnTo>
                          <a:pt x="159" y="41"/>
                        </a:lnTo>
                        <a:lnTo>
                          <a:pt x="159" y="45"/>
                        </a:lnTo>
                        <a:lnTo>
                          <a:pt x="163" y="57"/>
                        </a:lnTo>
                        <a:lnTo>
                          <a:pt x="167" y="70"/>
                        </a:lnTo>
                        <a:lnTo>
                          <a:pt x="171" y="70"/>
                        </a:lnTo>
                        <a:lnTo>
                          <a:pt x="175" y="70"/>
                        </a:lnTo>
                        <a:lnTo>
                          <a:pt x="179" y="57"/>
                        </a:lnTo>
                        <a:lnTo>
                          <a:pt x="183" y="45"/>
                        </a:lnTo>
                        <a:lnTo>
                          <a:pt x="183" y="41"/>
                        </a:lnTo>
                        <a:lnTo>
                          <a:pt x="183" y="37"/>
                        </a:lnTo>
                        <a:lnTo>
                          <a:pt x="187" y="25"/>
                        </a:lnTo>
                        <a:lnTo>
                          <a:pt x="192" y="12"/>
                        </a:lnTo>
                        <a:lnTo>
                          <a:pt x="196" y="12"/>
                        </a:lnTo>
                        <a:lnTo>
                          <a:pt x="200" y="12"/>
                        </a:lnTo>
                        <a:lnTo>
                          <a:pt x="204" y="25"/>
                        </a:lnTo>
                        <a:lnTo>
                          <a:pt x="208" y="37"/>
                        </a:lnTo>
                        <a:lnTo>
                          <a:pt x="208" y="41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7" name=""/>
                  <p:cNvSpPr/>
                  <p:nvPr/>
                </p:nvSpPr>
                <p:spPr>
                  <a:xfrm>
                    <a:off x="6379200" y="4308480"/>
                    <a:ext cx="504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8">
                        <a:moveTo>
                          <a:pt x="0" y="62"/>
                        </a:moveTo>
                        <a:lnTo>
                          <a:pt x="33" y="148"/>
                        </a:lnTo>
                        <a:lnTo>
                          <a:pt x="37" y="144"/>
                        </a:lnTo>
                        <a:lnTo>
                          <a:pt x="45" y="119"/>
                        </a:lnTo>
                        <a:lnTo>
                          <a:pt x="49" y="99"/>
                        </a:lnTo>
                        <a:lnTo>
                          <a:pt x="53" y="90"/>
                        </a:lnTo>
                        <a:lnTo>
                          <a:pt x="29" y="0"/>
                        </a:lnTo>
                        <a:lnTo>
                          <a:pt x="25" y="16"/>
                        </a:lnTo>
                        <a:lnTo>
                          <a:pt x="16" y="49"/>
                        </a:lnTo>
                        <a:lnTo>
                          <a:pt x="8" y="62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blipFill rotWithShape="0">
                    <a:blip r:embed="rId2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8" name=""/>
                  <p:cNvSpPr/>
                  <p:nvPr/>
                </p:nvSpPr>
                <p:spPr>
                  <a:xfrm>
                    <a:off x="6433560" y="4308480"/>
                    <a:ext cx="5004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8">
                        <a:moveTo>
                          <a:pt x="0" y="62"/>
                        </a:moveTo>
                        <a:lnTo>
                          <a:pt x="29" y="148"/>
                        </a:lnTo>
                        <a:lnTo>
                          <a:pt x="33" y="144"/>
                        </a:lnTo>
                        <a:lnTo>
                          <a:pt x="41" y="119"/>
                        </a:lnTo>
                        <a:lnTo>
                          <a:pt x="45" y="99"/>
                        </a:lnTo>
                        <a:lnTo>
                          <a:pt x="53" y="90"/>
                        </a:lnTo>
                        <a:lnTo>
                          <a:pt x="25" y="0"/>
                        </a:lnTo>
                        <a:lnTo>
                          <a:pt x="21" y="16"/>
                        </a:lnTo>
                        <a:lnTo>
                          <a:pt x="12" y="49"/>
                        </a:lnTo>
                        <a:lnTo>
                          <a:pt x="4" y="62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blipFill rotWithShape="0">
                    <a:blip r:embed="rId2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>
                    <a:off x="6483960" y="4312440"/>
                    <a:ext cx="4284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8">
                        <a:moveTo>
                          <a:pt x="0" y="62"/>
                        </a:moveTo>
                        <a:lnTo>
                          <a:pt x="25" y="148"/>
                        </a:lnTo>
                        <a:lnTo>
                          <a:pt x="29" y="144"/>
                        </a:lnTo>
                        <a:lnTo>
                          <a:pt x="37" y="115"/>
                        </a:lnTo>
                        <a:lnTo>
                          <a:pt x="41" y="95"/>
                        </a:lnTo>
                        <a:lnTo>
                          <a:pt x="45" y="90"/>
                        </a:lnTo>
                        <a:lnTo>
                          <a:pt x="25" y="0"/>
                        </a:lnTo>
                        <a:lnTo>
                          <a:pt x="21" y="17"/>
                        </a:lnTo>
                        <a:lnTo>
                          <a:pt x="12" y="45"/>
                        </a:lnTo>
                        <a:lnTo>
                          <a:pt x="8" y="58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blipFill rotWithShape="0">
                    <a:blip r:embed="rId2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0" name=""/>
                  <p:cNvSpPr/>
                  <p:nvPr/>
                </p:nvSpPr>
                <p:spPr>
                  <a:xfrm>
                    <a:off x="6530400" y="4316040"/>
                    <a:ext cx="428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4">
                        <a:moveTo>
                          <a:pt x="0" y="58"/>
                        </a:moveTo>
                        <a:lnTo>
                          <a:pt x="25" y="144"/>
                        </a:lnTo>
                        <a:lnTo>
                          <a:pt x="29" y="140"/>
                        </a:lnTo>
                        <a:lnTo>
                          <a:pt x="37" y="115"/>
                        </a:lnTo>
                        <a:lnTo>
                          <a:pt x="41" y="95"/>
                        </a:lnTo>
                        <a:lnTo>
                          <a:pt x="45" y="86"/>
                        </a:lnTo>
                        <a:lnTo>
                          <a:pt x="25" y="0"/>
                        </a:lnTo>
                        <a:lnTo>
                          <a:pt x="16" y="17"/>
                        </a:lnTo>
                        <a:lnTo>
                          <a:pt x="12" y="45"/>
                        </a:lnTo>
                        <a:lnTo>
                          <a:pt x="4" y="5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blipFill rotWithShape="0">
                    <a:blip r:embed="rId2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1" name=""/>
                  <p:cNvSpPr/>
                  <p:nvPr/>
                </p:nvSpPr>
                <p:spPr>
                  <a:xfrm>
                    <a:off x="6371640" y="4343760"/>
                    <a:ext cx="26640" cy="89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2" name=""/>
                  <p:cNvSpPr/>
                  <p:nvPr/>
                </p:nvSpPr>
                <p:spPr>
                  <a:xfrm>
                    <a:off x="6569640" y="4347720"/>
                    <a:ext cx="18720" cy="66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3" name=""/>
                  <p:cNvSpPr/>
                  <p:nvPr/>
                </p:nvSpPr>
                <p:spPr>
                  <a:xfrm flipH="1" flipV="1">
                    <a:off x="6584400" y="4410000"/>
                    <a:ext cx="11160" cy="226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4" name=""/>
                  <p:cNvSpPr/>
                  <p:nvPr/>
                </p:nvSpPr>
                <p:spPr>
                  <a:xfrm>
                    <a:off x="6426000" y="4328640"/>
                    <a:ext cx="22680" cy="73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5" name=""/>
                  <p:cNvSpPr/>
                  <p:nvPr/>
                </p:nvSpPr>
                <p:spPr>
                  <a:xfrm>
                    <a:off x="6472440" y="4323960"/>
                    <a:ext cx="22680" cy="784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6" name=""/>
                  <p:cNvSpPr/>
                  <p:nvPr/>
                </p:nvSpPr>
                <p:spPr>
                  <a:xfrm>
                    <a:off x="6522840" y="4332240"/>
                    <a:ext cx="22680" cy="77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7" name=""/>
                  <p:cNvSpPr/>
                  <p:nvPr/>
                </p:nvSpPr>
                <p:spPr>
                  <a:xfrm>
                    <a:off x="6569640" y="4347720"/>
                    <a:ext cx="26640" cy="88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8" name=""/>
                <p:cNvGrpSpPr/>
                <p:nvPr/>
              </p:nvGrpSpPr>
              <p:grpSpPr>
                <a:xfrm>
                  <a:off x="6562080" y="4308480"/>
                  <a:ext cx="231480" cy="147600"/>
                  <a:chOff x="6562080" y="4308480"/>
                  <a:chExt cx="231480" cy="147600"/>
                </a:xfrm>
              </p:grpSpPr>
              <p:sp>
                <p:nvSpPr>
                  <p:cNvPr id="2859" name=""/>
                  <p:cNvSpPr/>
                  <p:nvPr/>
                </p:nvSpPr>
                <p:spPr>
                  <a:xfrm>
                    <a:off x="6584760" y="4389840"/>
                    <a:ext cx="1976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70">
                        <a:moveTo>
                          <a:pt x="0" y="37"/>
                        </a:moveTo>
                        <a:lnTo>
                          <a:pt x="4" y="45"/>
                        </a:lnTo>
                        <a:lnTo>
                          <a:pt x="8" y="58"/>
                        </a:lnTo>
                        <a:lnTo>
                          <a:pt x="12" y="62"/>
                        </a:lnTo>
                        <a:lnTo>
                          <a:pt x="17" y="66"/>
                        </a:lnTo>
                        <a:lnTo>
                          <a:pt x="25" y="66"/>
                        </a:lnTo>
                        <a:lnTo>
                          <a:pt x="29" y="62"/>
                        </a:lnTo>
                        <a:lnTo>
                          <a:pt x="29" y="58"/>
                        </a:lnTo>
                        <a:lnTo>
                          <a:pt x="37" y="41"/>
                        </a:lnTo>
                        <a:lnTo>
                          <a:pt x="37" y="33"/>
                        </a:lnTo>
                        <a:lnTo>
                          <a:pt x="37" y="29"/>
                        </a:lnTo>
                        <a:lnTo>
                          <a:pt x="41" y="17"/>
                        </a:lnTo>
                        <a:lnTo>
                          <a:pt x="45" y="4"/>
                        </a:lnTo>
                        <a:lnTo>
                          <a:pt x="49" y="0"/>
                        </a:lnTo>
                        <a:lnTo>
                          <a:pt x="49" y="4"/>
                        </a:lnTo>
                        <a:lnTo>
                          <a:pt x="53" y="4"/>
                        </a:lnTo>
                        <a:lnTo>
                          <a:pt x="57" y="17"/>
                        </a:lnTo>
                        <a:lnTo>
                          <a:pt x="61" y="29"/>
                        </a:lnTo>
                        <a:lnTo>
                          <a:pt x="61" y="33"/>
                        </a:lnTo>
                        <a:lnTo>
                          <a:pt x="61" y="37"/>
                        </a:lnTo>
                        <a:lnTo>
                          <a:pt x="65" y="49"/>
                        </a:lnTo>
                        <a:lnTo>
                          <a:pt x="70" y="62"/>
                        </a:lnTo>
                        <a:lnTo>
                          <a:pt x="74" y="66"/>
                        </a:lnTo>
                        <a:lnTo>
                          <a:pt x="78" y="62"/>
                        </a:lnTo>
                        <a:lnTo>
                          <a:pt x="82" y="49"/>
                        </a:lnTo>
                        <a:lnTo>
                          <a:pt x="86" y="37"/>
                        </a:lnTo>
                        <a:lnTo>
                          <a:pt x="86" y="33"/>
                        </a:lnTo>
                        <a:lnTo>
                          <a:pt x="90" y="25"/>
                        </a:lnTo>
                        <a:lnTo>
                          <a:pt x="90" y="17"/>
                        </a:lnTo>
                        <a:lnTo>
                          <a:pt x="94" y="8"/>
                        </a:lnTo>
                        <a:lnTo>
                          <a:pt x="98" y="4"/>
                        </a:lnTo>
                        <a:lnTo>
                          <a:pt x="102" y="4"/>
                        </a:lnTo>
                        <a:lnTo>
                          <a:pt x="106" y="4"/>
                        </a:lnTo>
                        <a:lnTo>
                          <a:pt x="110" y="17"/>
                        </a:lnTo>
                        <a:lnTo>
                          <a:pt x="114" y="29"/>
                        </a:lnTo>
                        <a:lnTo>
                          <a:pt x="114" y="33"/>
                        </a:lnTo>
                        <a:lnTo>
                          <a:pt x="114" y="37"/>
                        </a:lnTo>
                        <a:lnTo>
                          <a:pt x="118" y="49"/>
                        </a:lnTo>
                        <a:lnTo>
                          <a:pt x="123" y="62"/>
                        </a:lnTo>
                        <a:lnTo>
                          <a:pt x="127" y="66"/>
                        </a:lnTo>
                        <a:lnTo>
                          <a:pt x="131" y="66"/>
                        </a:lnTo>
                        <a:lnTo>
                          <a:pt x="135" y="54"/>
                        </a:lnTo>
                        <a:lnTo>
                          <a:pt x="139" y="41"/>
                        </a:lnTo>
                        <a:lnTo>
                          <a:pt x="139" y="37"/>
                        </a:lnTo>
                        <a:lnTo>
                          <a:pt x="139" y="33"/>
                        </a:lnTo>
                        <a:lnTo>
                          <a:pt x="143" y="21"/>
                        </a:lnTo>
                        <a:lnTo>
                          <a:pt x="147" y="8"/>
                        </a:lnTo>
                        <a:lnTo>
                          <a:pt x="151" y="8"/>
                        </a:lnTo>
                        <a:lnTo>
                          <a:pt x="155" y="13"/>
                        </a:lnTo>
                        <a:lnTo>
                          <a:pt x="159" y="25"/>
                        </a:lnTo>
                        <a:lnTo>
                          <a:pt x="163" y="37"/>
                        </a:lnTo>
                        <a:lnTo>
                          <a:pt x="163" y="41"/>
                        </a:lnTo>
                        <a:lnTo>
                          <a:pt x="163" y="45"/>
                        </a:lnTo>
                        <a:lnTo>
                          <a:pt x="167" y="58"/>
                        </a:lnTo>
                        <a:lnTo>
                          <a:pt x="172" y="70"/>
                        </a:lnTo>
                        <a:lnTo>
                          <a:pt x="176" y="70"/>
                        </a:lnTo>
                        <a:lnTo>
                          <a:pt x="180" y="70"/>
                        </a:lnTo>
                        <a:lnTo>
                          <a:pt x="184" y="58"/>
                        </a:lnTo>
                        <a:lnTo>
                          <a:pt x="188" y="45"/>
                        </a:lnTo>
                        <a:lnTo>
                          <a:pt x="188" y="41"/>
                        </a:lnTo>
                        <a:lnTo>
                          <a:pt x="188" y="37"/>
                        </a:lnTo>
                        <a:lnTo>
                          <a:pt x="192" y="21"/>
                        </a:lnTo>
                        <a:lnTo>
                          <a:pt x="192" y="17"/>
                        </a:lnTo>
                        <a:lnTo>
                          <a:pt x="196" y="13"/>
                        </a:lnTo>
                        <a:lnTo>
                          <a:pt x="200" y="13"/>
                        </a:lnTo>
                        <a:lnTo>
                          <a:pt x="204" y="25"/>
                        </a:lnTo>
                        <a:lnTo>
                          <a:pt x="208" y="37"/>
                        </a:lnTo>
                        <a:lnTo>
                          <a:pt x="208" y="41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>
                    <a:off x="6562080" y="4308480"/>
                    <a:ext cx="1976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66">
                        <a:moveTo>
                          <a:pt x="0" y="33"/>
                        </a:moveTo>
                        <a:lnTo>
                          <a:pt x="4" y="41"/>
                        </a:lnTo>
                        <a:lnTo>
                          <a:pt x="8" y="53"/>
                        </a:lnTo>
                        <a:lnTo>
                          <a:pt x="12" y="62"/>
                        </a:lnTo>
                        <a:lnTo>
                          <a:pt x="16" y="66"/>
                        </a:lnTo>
                        <a:lnTo>
                          <a:pt x="20" y="66"/>
                        </a:lnTo>
                        <a:lnTo>
                          <a:pt x="20" y="62"/>
                        </a:lnTo>
                        <a:lnTo>
                          <a:pt x="28" y="49"/>
                        </a:lnTo>
                        <a:lnTo>
                          <a:pt x="32" y="37"/>
                        </a:lnTo>
                        <a:lnTo>
                          <a:pt x="32" y="33"/>
                        </a:lnTo>
                        <a:lnTo>
                          <a:pt x="32" y="29"/>
                        </a:lnTo>
                        <a:lnTo>
                          <a:pt x="36" y="16"/>
                        </a:lnTo>
                        <a:lnTo>
                          <a:pt x="41" y="4"/>
                        </a:lnTo>
                        <a:lnTo>
                          <a:pt x="45" y="0"/>
                        </a:lnTo>
                        <a:lnTo>
                          <a:pt x="45" y="4"/>
                        </a:lnTo>
                        <a:lnTo>
                          <a:pt x="53" y="8"/>
                        </a:lnTo>
                        <a:lnTo>
                          <a:pt x="57" y="16"/>
                        </a:lnTo>
                        <a:lnTo>
                          <a:pt x="61" y="29"/>
                        </a:lnTo>
                        <a:lnTo>
                          <a:pt x="61" y="33"/>
                        </a:lnTo>
                        <a:lnTo>
                          <a:pt x="61" y="37"/>
                        </a:lnTo>
                        <a:lnTo>
                          <a:pt x="65" y="49"/>
                        </a:lnTo>
                        <a:lnTo>
                          <a:pt x="69" y="62"/>
                        </a:lnTo>
                        <a:lnTo>
                          <a:pt x="73" y="66"/>
                        </a:lnTo>
                        <a:lnTo>
                          <a:pt x="77" y="62"/>
                        </a:lnTo>
                        <a:lnTo>
                          <a:pt x="81" y="49"/>
                        </a:lnTo>
                        <a:lnTo>
                          <a:pt x="85" y="37"/>
                        </a:lnTo>
                        <a:lnTo>
                          <a:pt x="85" y="33"/>
                        </a:lnTo>
                        <a:lnTo>
                          <a:pt x="85" y="29"/>
                        </a:lnTo>
                        <a:lnTo>
                          <a:pt x="89" y="16"/>
                        </a:lnTo>
                        <a:lnTo>
                          <a:pt x="94" y="4"/>
                        </a:lnTo>
                        <a:lnTo>
                          <a:pt x="98" y="4"/>
                        </a:lnTo>
                        <a:lnTo>
                          <a:pt x="102" y="4"/>
                        </a:lnTo>
                        <a:lnTo>
                          <a:pt x="106" y="16"/>
                        </a:lnTo>
                        <a:lnTo>
                          <a:pt x="110" y="29"/>
                        </a:lnTo>
                        <a:lnTo>
                          <a:pt x="110" y="33"/>
                        </a:lnTo>
                        <a:lnTo>
                          <a:pt x="110" y="37"/>
                        </a:lnTo>
                        <a:lnTo>
                          <a:pt x="114" y="49"/>
                        </a:lnTo>
                        <a:lnTo>
                          <a:pt x="118" y="62"/>
                        </a:lnTo>
                        <a:lnTo>
                          <a:pt x="122" y="66"/>
                        </a:lnTo>
                        <a:lnTo>
                          <a:pt x="126" y="66"/>
                        </a:lnTo>
                        <a:lnTo>
                          <a:pt x="130" y="53"/>
                        </a:lnTo>
                        <a:lnTo>
                          <a:pt x="134" y="41"/>
                        </a:lnTo>
                        <a:lnTo>
                          <a:pt x="134" y="37"/>
                        </a:lnTo>
                        <a:lnTo>
                          <a:pt x="134" y="33"/>
                        </a:lnTo>
                        <a:lnTo>
                          <a:pt x="138" y="21"/>
                        </a:lnTo>
                        <a:lnTo>
                          <a:pt x="142" y="8"/>
                        </a:lnTo>
                        <a:lnTo>
                          <a:pt x="147" y="8"/>
                        </a:lnTo>
                        <a:lnTo>
                          <a:pt x="151" y="8"/>
                        </a:lnTo>
                        <a:lnTo>
                          <a:pt x="155" y="21"/>
                        </a:lnTo>
                        <a:lnTo>
                          <a:pt x="159" y="33"/>
                        </a:lnTo>
                        <a:lnTo>
                          <a:pt x="159" y="37"/>
                        </a:lnTo>
                        <a:lnTo>
                          <a:pt x="163" y="45"/>
                        </a:lnTo>
                        <a:lnTo>
                          <a:pt x="163" y="53"/>
                        </a:lnTo>
                        <a:lnTo>
                          <a:pt x="167" y="62"/>
                        </a:lnTo>
                        <a:lnTo>
                          <a:pt x="171" y="66"/>
                        </a:lnTo>
                        <a:lnTo>
                          <a:pt x="179" y="62"/>
                        </a:lnTo>
                        <a:lnTo>
                          <a:pt x="183" y="45"/>
                        </a:lnTo>
                        <a:lnTo>
                          <a:pt x="183" y="41"/>
                        </a:lnTo>
                        <a:lnTo>
                          <a:pt x="183" y="37"/>
                        </a:lnTo>
                        <a:lnTo>
                          <a:pt x="187" y="25"/>
                        </a:lnTo>
                        <a:lnTo>
                          <a:pt x="191" y="12"/>
                        </a:lnTo>
                        <a:lnTo>
                          <a:pt x="196" y="8"/>
                        </a:lnTo>
                        <a:lnTo>
                          <a:pt x="196" y="12"/>
                        </a:lnTo>
                        <a:lnTo>
                          <a:pt x="200" y="12"/>
                        </a:lnTo>
                        <a:lnTo>
                          <a:pt x="204" y="21"/>
                        </a:lnTo>
                        <a:lnTo>
                          <a:pt x="208" y="33"/>
                        </a:lnTo>
                        <a:lnTo>
                          <a:pt x="208" y="37"/>
                        </a:ln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>
                    <a:off x="6577200" y="4312080"/>
                    <a:ext cx="5004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8">
                        <a:moveTo>
                          <a:pt x="0" y="58"/>
                        </a:moveTo>
                        <a:lnTo>
                          <a:pt x="29" y="148"/>
                        </a:lnTo>
                        <a:lnTo>
                          <a:pt x="33" y="144"/>
                        </a:lnTo>
                        <a:lnTo>
                          <a:pt x="41" y="115"/>
                        </a:lnTo>
                        <a:lnTo>
                          <a:pt x="45" y="95"/>
                        </a:lnTo>
                        <a:lnTo>
                          <a:pt x="53" y="90"/>
                        </a:lnTo>
                        <a:lnTo>
                          <a:pt x="25" y="0"/>
                        </a:lnTo>
                        <a:lnTo>
                          <a:pt x="20" y="17"/>
                        </a:lnTo>
                        <a:lnTo>
                          <a:pt x="12" y="45"/>
                        </a:lnTo>
                        <a:lnTo>
                          <a:pt x="8" y="5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blipFill rotWithShape="0">
                    <a:blip r:embed="rId2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2" name=""/>
                  <p:cNvSpPr/>
                  <p:nvPr/>
                </p:nvSpPr>
                <p:spPr>
                  <a:xfrm>
                    <a:off x="6627600" y="4312080"/>
                    <a:ext cx="5040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8">
                        <a:moveTo>
                          <a:pt x="0" y="62"/>
                        </a:moveTo>
                        <a:lnTo>
                          <a:pt x="29" y="148"/>
                        </a:lnTo>
                        <a:lnTo>
                          <a:pt x="33" y="144"/>
                        </a:lnTo>
                        <a:lnTo>
                          <a:pt x="41" y="119"/>
                        </a:lnTo>
                        <a:lnTo>
                          <a:pt x="45" y="95"/>
                        </a:lnTo>
                        <a:lnTo>
                          <a:pt x="53" y="90"/>
                        </a:lnTo>
                        <a:lnTo>
                          <a:pt x="25" y="0"/>
                        </a:lnTo>
                        <a:lnTo>
                          <a:pt x="20" y="17"/>
                        </a:lnTo>
                        <a:lnTo>
                          <a:pt x="12" y="45"/>
                        </a:lnTo>
                        <a:lnTo>
                          <a:pt x="8" y="58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blipFill rotWithShape="0">
                    <a:blip r:embed="rId2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3" name=""/>
                  <p:cNvSpPr/>
                  <p:nvPr/>
                </p:nvSpPr>
                <p:spPr>
                  <a:xfrm>
                    <a:off x="6681600" y="4315680"/>
                    <a:ext cx="3852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44">
                        <a:moveTo>
                          <a:pt x="0" y="58"/>
                        </a:moveTo>
                        <a:lnTo>
                          <a:pt x="21" y="144"/>
                        </a:lnTo>
                        <a:lnTo>
                          <a:pt x="29" y="140"/>
                        </a:lnTo>
                        <a:lnTo>
                          <a:pt x="33" y="115"/>
                        </a:lnTo>
                        <a:lnTo>
                          <a:pt x="37" y="95"/>
                        </a:lnTo>
                        <a:lnTo>
                          <a:pt x="41" y="86"/>
                        </a:lnTo>
                        <a:lnTo>
                          <a:pt x="21" y="0"/>
                        </a:lnTo>
                        <a:lnTo>
                          <a:pt x="16" y="13"/>
                        </a:lnTo>
                        <a:lnTo>
                          <a:pt x="8" y="45"/>
                        </a:lnTo>
                        <a:lnTo>
                          <a:pt x="4" y="58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blipFill rotWithShape="0">
                    <a:blip r:embed="rId2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4" name=""/>
                  <p:cNvSpPr/>
                  <p:nvPr/>
                </p:nvSpPr>
                <p:spPr>
                  <a:xfrm>
                    <a:off x="6724440" y="4315680"/>
                    <a:ext cx="424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44">
                        <a:moveTo>
                          <a:pt x="0" y="62"/>
                        </a:moveTo>
                        <a:lnTo>
                          <a:pt x="25" y="144"/>
                        </a:lnTo>
                        <a:lnTo>
                          <a:pt x="29" y="140"/>
                        </a:lnTo>
                        <a:lnTo>
                          <a:pt x="37" y="115"/>
                        </a:lnTo>
                        <a:lnTo>
                          <a:pt x="41" y="95"/>
                        </a:lnTo>
                        <a:lnTo>
                          <a:pt x="45" y="91"/>
                        </a:lnTo>
                        <a:lnTo>
                          <a:pt x="25" y="0"/>
                        </a:lnTo>
                        <a:lnTo>
                          <a:pt x="16" y="17"/>
                        </a:lnTo>
                        <a:lnTo>
                          <a:pt x="12" y="45"/>
                        </a:lnTo>
                        <a:lnTo>
                          <a:pt x="8" y="58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blipFill rotWithShape="0">
                    <a:blip r:embed="rId2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5" name=""/>
                  <p:cNvSpPr/>
                  <p:nvPr/>
                </p:nvSpPr>
                <p:spPr>
                  <a:xfrm>
                    <a:off x="6565680" y="4347360"/>
                    <a:ext cx="26280" cy="88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6" name=""/>
                  <p:cNvSpPr/>
                  <p:nvPr/>
                </p:nvSpPr>
                <p:spPr>
                  <a:xfrm>
                    <a:off x="6763320" y="4347360"/>
                    <a:ext cx="22680" cy="662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7" name=""/>
                  <p:cNvSpPr/>
                  <p:nvPr/>
                </p:nvSpPr>
                <p:spPr>
                  <a:xfrm flipH="1" flipV="1">
                    <a:off x="6778080" y="4413960"/>
                    <a:ext cx="11160" cy="223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8" name=""/>
                  <p:cNvSpPr/>
                  <p:nvPr/>
                </p:nvSpPr>
                <p:spPr>
                  <a:xfrm>
                    <a:off x="6620040" y="4328280"/>
                    <a:ext cx="22680" cy="77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9" name=""/>
                  <p:cNvSpPr/>
                  <p:nvPr/>
                </p:nvSpPr>
                <p:spPr>
                  <a:xfrm>
                    <a:off x="6666480" y="4328280"/>
                    <a:ext cx="22680" cy="73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0" name=""/>
                  <p:cNvSpPr/>
                  <p:nvPr/>
                </p:nvSpPr>
                <p:spPr>
                  <a:xfrm>
                    <a:off x="6716880" y="4331880"/>
                    <a:ext cx="22680" cy="77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1" name=""/>
                  <p:cNvSpPr/>
                  <p:nvPr/>
                </p:nvSpPr>
                <p:spPr>
                  <a:xfrm>
                    <a:off x="6763320" y="4350960"/>
                    <a:ext cx="30240" cy="84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72" name=""/>
            <p:cNvGrpSpPr/>
            <p:nvPr/>
          </p:nvGrpSpPr>
          <p:grpSpPr>
            <a:xfrm>
              <a:off x="7535520" y="3602520"/>
              <a:ext cx="1020240" cy="745200"/>
              <a:chOff x="7535520" y="3602520"/>
              <a:chExt cx="1020240" cy="745200"/>
            </a:xfrm>
          </p:grpSpPr>
          <p:sp>
            <p:nvSpPr>
              <p:cNvPr id="2873" name=""/>
              <p:cNvSpPr/>
              <p:nvPr/>
            </p:nvSpPr>
            <p:spPr>
              <a:xfrm>
                <a:off x="7535520" y="3602520"/>
                <a:ext cx="892080" cy="421200"/>
              </a:xfrm>
              <a:custGeom>
                <a:avLst/>
                <a:gdLst/>
                <a:ahLst/>
                <a:rect l="l" t="t" r="r" b="b"/>
                <a:pathLst>
                  <a:path w="938" h="443">
                    <a:moveTo>
                      <a:pt x="0" y="443"/>
                    </a:moveTo>
                    <a:lnTo>
                      <a:pt x="221" y="443"/>
                    </a:lnTo>
                    <a:lnTo>
                      <a:pt x="302" y="419"/>
                    </a:lnTo>
                    <a:lnTo>
                      <a:pt x="318" y="378"/>
                    </a:lnTo>
                    <a:lnTo>
                      <a:pt x="343" y="49"/>
                    </a:lnTo>
                    <a:lnTo>
                      <a:pt x="376" y="16"/>
                    </a:lnTo>
                    <a:lnTo>
                      <a:pt x="433" y="0"/>
                    </a:lnTo>
                    <a:lnTo>
                      <a:pt x="604" y="8"/>
                    </a:lnTo>
                    <a:lnTo>
                      <a:pt x="645" y="41"/>
                    </a:lnTo>
                    <a:lnTo>
                      <a:pt x="653" y="82"/>
                    </a:lnTo>
                    <a:lnTo>
                      <a:pt x="653" y="353"/>
                    </a:lnTo>
                    <a:lnTo>
                      <a:pt x="669" y="394"/>
                    </a:lnTo>
                    <a:lnTo>
                      <a:pt x="767" y="435"/>
                    </a:lnTo>
                    <a:lnTo>
                      <a:pt x="857" y="435"/>
                    </a:lnTo>
                    <a:lnTo>
                      <a:pt x="938" y="435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8128800" y="3613680"/>
                <a:ext cx="139680" cy="35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656120" y="3918960"/>
                <a:ext cx="892080" cy="421200"/>
              </a:xfrm>
              <a:custGeom>
                <a:avLst/>
                <a:gdLst/>
                <a:ahLst/>
                <a:rect l="l" t="t" r="r" b="b"/>
                <a:pathLst>
                  <a:path w="938" h="443">
                    <a:moveTo>
                      <a:pt x="0" y="443"/>
                    </a:moveTo>
                    <a:lnTo>
                      <a:pt x="220" y="443"/>
                    </a:lnTo>
                    <a:lnTo>
                      <a:pt x="302" y="418"/>
                    </a:lnTo>
                    <a:lnTo>
                      <a:pt x="318" y="377"/>
                    </a:lnTo>
                    <a:lnTo>
                      <a:pt x="342" y="49"/>
                    </a:lnTo>
                    <a:lnTo>
                      <a:pt x="375" y="16"/>
                    </a:lnTo>
                    <a:lnTo>
                      <a:pt x="432" y="0"/>
                    </a:lnTo>
                    <a:lnTo>
                      <a:pt x="603" y="8"/>
                    </a:lnTo>
                    <a:lnTo>
                      <a:pt x="644" y="41"/>
                    </a:lnTo>
                    <a:lnTo>
                      <a:pt x="652" y="82"/>
                    </a:lnTo>
                    <a:lnTo>
                      <a:pt x="652" y="353"/>
                    </a:lnTo>
                    <a:lnTo>
                      <a:pt x="669" y="394"/>
                    </a:lnTo>
                    <a:lnTo>
                      <a:pt x="766" y="435"/>
                    </a:lnTo>
                    <a:lnTo>
                      <a:pt x="856" y="435"/>
                    </a:lnTo>
                    <a:lnTo>
                      <a:pt x="938" y="435"/>
                    </a:lnTo>
                    <a:lnTo>
                      <a:pt x="0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7663680" y="3926520"/>
                <a:ext cx="892080" cy="421200"/>
              </a:xfrm>
              <a:custGeom>
                <a:avLst/>
                <a:gdLst/>
                <a:ahLst/>
                <a:rect l="l" t="t" r="r" b="b"/>
                <a:pathLst>
                  <a:path w="938" h="443">
                    <a:moveTo>
                      <a:pt x="0" y="443"/>
                    </a:moveTo>
                    <a:lnTo>
                      <a:pt x="220" y="443"/>
                    </a:lnTo>
                    <a:lnTo>
                      <a:pt x="302" y="418"/>
                    </a:lnTo>
                    <a:lnTo>
                      <a:pt x="318" y="377"/>
                    </a:lnTo>
                    <a:lnTo>
                      <a:pt x="343" y="49"/>
                    </a:lnTo>
                    <a:lnTo>
                      <a:pt x="375" y="16"/>
                    </a:lnTo>
                    <a:lnTo>
                      <a:pt x="432" y="0"/>
                    </a:lnTo>
                    <a:lnTo>
                      <a:pt x="604" y="8"/>
                    </a:lnTo>
                    <a:lnTo>
                      <a:pt x="644" y="41"/>
                    </a:lnTo>
                    <a:lnTo>
                      <a:pt x="652" y="82"/>
                    </a:lnTo>
                    <a:lnTo>
                      <a:pt x="652" y="353"/>
                    </a:lnTo>
                    <a:lnTo>
                      <a:pt x="669" y="394"/>
                    </a:lnTo>
                    <a:lnTo>
                      <a:pt x="767" y="435"/>
                    </a:lnTo>
                    <a:lnTo>
                      <a:pt x="856" y="435"/>
                    </a:lnTo>
                    <a:lnTo>
                      <a:pt x="938" y="435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833960" y="3708000"/>
                <a:ext cx="124200" cy="586080"/>
              </a:xfrm>
              <a:custGeom>
                <a:avLst/>
                <a:gdLst/>
                <a:ahLst/>
                <a:rect l="l" t="t" r="r" b="b"/>
                <a:pathLst>
                  <a:path w="131" h="616">
                    <a:moveTo>
                      <a:pt x="33" y="33"/>
                    </a:moveTo>
                    <a:lnTo>
                      <a:pt x="131" y="345"/>
                    </a:lnTo>
                    <a:lnTo>
                      <a:pt x="110" y="575"/>
                    </a:lnTo>
                    <a:lnTo>
                      <a:pt x="94" y="616"/>
                    </a:lnTo>
                    <a:lnTo>
                      <a:pt x="0" y="295"/>
                    </a:lnTo>
                    <a:lnTo>
                      <a:pt x="13" y="279"/>
                    </a:lnTo>
                    <a:lnTo>
                      <a:pt x="21" y="0"/>
                    </a:lnTo>
                    <a:lnTo>
                      <a:pt x="33" y="33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8012880" y="3606120"/>
                <a:ext cx="216720" cy="296640"/>
              </a:xfrm>
              <a:custGeom>
                <a:avLst/>
                <a:gdLst/>
                <a:ahLst/>
                <a:rect l="l" t="t" r="r" b="b"/>
                <a:pathLst>
                  <a:path w="228" h="312">
                    <a:moveTo>
                      <a:pt x="98" y="8"/>
                    </a:moveTo>
                    <a:lnTo>
                      <a:pt x="228" y="312"/>
                    </a:lnTo>
                    <a:lnTo>
                      <a:pt x="130" y="312"/>
                    </a:lnTo>
                    <a:lnTo>
                      <a:pt x="0" y="0"/>
                    </a:lnTo>
                    <a:lnTo>
                      <a:pt x="90" y="17"/>
                    </a:lnTo>
                    <a:lnTo>
                      <a:pt x="9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9" name=""/>
            <p:cNvGrpSpPr/>
            <p:nvPr/>
          </p:nvGrpSpPr>
          <p:grpSpPr>
            <a:xfrm>
              <a:off x="6135120" y="4598280"/>
              <a:ext cx="354600" cy="47160"/>
              <a:chOff x="6135120" y="4598280"/>
              <a:chExt cx="354600" cy="47160"/>
            </a:xfrm>
          </p:grpSpPr>
          <p:sp>
            <p:nvSpPr>
              <p:cNvPr id="2880" name=""/>
              <p:cNvSpPr/>
              <p:nvPr/>
            </p:nvSpPr>
            <p:spPr>
              <a:xfrm>
                <a:off x="6135120" y="4598280"/>
                <a:ext cx="5004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6135120" y="4598280"/>
                <a:ext cx="50040" cy="47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6211800" y="4598280"/>
                <a:ext cx="4572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6211800" y="4598280"/>
                <a:ext cx="45720" cy="47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6439680" y="4598280"/>
                <a:ext cx="5004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6439680" y="4598280"/>
                <a:ext cx="50040" cy="47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289920" y="4598280"/>
                <a:ext cx="4572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289920" y="4598280"/>
                <a:ext cx="45720" cy="47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6366960" y="4598280"/>
                <a:ext cx="4572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6366960" y="4598280"/>
                <a:ext cx="45720" cy="47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0" name=""/>
            <p:cNvSpPr/>
            <p:nvPr/>
          </p:nvSpPr>
          <p:spPr>
            <a:xfrm>
              <a:off x="5647680" y="4373640"/>
              <a:ext cx="2689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700" spc="-1" strike="noStrike">
                  <a:solidFill>
                    <a:srgbClr val="ff3300"/>
                  </a:solidFill>
                  <a:latin typeface="Comic Sans MS"/>
                </a:rPr>
                <a:t>+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5659920" y="4071240"/>
              <a:ext cx="2689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700" spc="-1" strike="noStrike">
                  <a:solidFill>
                    <a:srgbClr val="ff3300"/>
                  </a:solidFill>
                  <a:latin typeface="Comic Sans MS"/>
                </a:rPr>
                <a:t>+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5654880" y="3742920"/>
              <a:ext cx="26892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700" spc="-1" strike="noStrike">
                  <a:solidFill>
                    <a:srgbClr val="ff3300"/>
                  </a:solidFill>
                  <a:latin typeface="Comic Sans MS"/>
                </a:rPr>
                <a:t>+</a:t>
              </a:r>
              <a:endParaRPr b="0" lang="en-US" sz="3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7058880" y="3980880"/>
              <a:ext cx="364320" cy="242280"/>
            </a:xfrm>
            <a:custGeom>
              <a:avLst/>
              <a:gdLst/>
              <a:ahLst/>
              <a:rect l="l" t="t" r="r" b="b"/>
              <a:pathLst>
                <a:path w="383" h="255">
                  <a:moveTo>
                    <a:pt x="16" y="58"/>
                  </a:moveTo>
                  <a:lnTo>
                    <a:pt x="204" y="58"/>
                  </a:lnTo>
                  <a:lnTo>
                    <a:pt x="204" y="0"/>
                  </a:lnTo>
                  <a:lnTo>
                    <a:pt x="383" y="140"/>
                  </a:lnTo>
                  <a:lnTo>
                    <a:pt x="204" y="255"/>
                  </a:lnTo>
                  <a:lnTo>
                    <a:pt x="204" y="197"/>
                  </a:lnTo>
                  <a:lnTo>
                    <a:pt x="0" y="197"/>
                  </a:lnTo>
                  <a:lnTo>
                    <a:pt x="0" y="5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4" name=""/>
          <p:cNvSpPr/>
          <p:nvPr/>
        </p:nvSpPr>
        <p:spPr>
          <a:xfrm>
            <a:off x="470520" y="5213520"/>
            <a:ext cx="8248680" cy="703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vaux pratiqu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 y a dans la salle de magnifiques fréquences spatiales, trouvez le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383040" y="604800"/>
            <a:ext cx="39070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tour sur fréquences spat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6" name="" descr=""/>
          <p:cNvPicPr/>
          <p:nvPr/>
        </p:nvPicPr>
        <p:blipFill>
          <a:blip r:embed="rId30"/>
          <a:stretch/>
        </p:blipFill>
        <p:spPr>
          <a:xfrm>
            <a:off x="6373800" y="1663560"/>
            <a:ext cx="571680" cy="927360"/>
          </a:xfrm>
          <a:prstGeom prst="rect">
            <a:avLst/>
          </a:prstGeom>
          <a:ln w="0">
            <a:noFill/>
          </a:ln>
        </p:spPr>
      </p:pic>
      <p:pic>
        <p:nvPicPr>
          <p:cNvPr id="2897" name="" descr=""/>
          <p:cNvPicPr/>
          <p:nvPr/>
        </p:nvPicPr>
        <p:blipFill>
          <a:blip r:embed="rId31"/>
          <a:stretch/>
        </p:blipFill>
        <p:spPr>
          <a:xfrm>
            <a:off x="7199280" y="1494000"/>
            <a:ext cx="1562040" cy="110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7047000" cy="528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ncore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requences spatiales, travaux pratiques (su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-32040" y="1328760"/>
            <a:ext cx="8230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120" rIns="60120" tIns="24120" bIns="2412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omic Sans MS"/>
              </a:rPr>
              <a:t>tôle ondulée dans l'espace (x,y) --&gt; un couple de diracs  dans plan  (u,v) 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0" name=""/>
          <p:cNvGrpSpPr/>
          <p:nvPr/>
        </p:nvGrpSpPr>
        <p:grpSpPr>
          <a:xfrm>
            <a:off x="176040" y="1766880"/>
            <a:ext cx="6672240" cy="776160"/>
            <a:chOff x="176040" y="1766880"/>
            <a:chExt cx="6672240" cy="776160"/>
          </a:xfrm>
        </p:grpSpPr>
        <p:grpSp>
          <p:nvGrpSpPr>
            <p:cNvPr id="2901" name=""/>
            <p:cNvGrpSpPr/>
            <p:nvPr/>
          </p:nvGrpSpPr>
          <p:grpSpPr>
            <a:xfrm>
              <a:off x="176040" y="1766880"/>
              <a:ext cx="3373200" cy="776160"/>
              <a:chOff x="176040" y="1766880"/>
              <a:chExt cx="3373200" cy="776160"/>
            </a:xfrm>
          </p:grpSpPr>
          <p:sp>
            <p:nvSpPr>
              <p:cNvPr id="2902" name=""/>
              <p:cNvSpPr/>
              <p:nvPr/>
            </p:nvSpPr>
            <p:spPr>
              <a:xfrm>
                <a:off x="176040" y="1766880"/>
                <a:ext cx="3237840" cy="472680"/>
              </a:xfrm>
              <a:custGeom>
                <a:avLst/>
                <a:gdLst/>
                <a:ahLst/>
                <a:rect l="l" t="t" r="r" b="b"/>
                <a:pathLst>
                  <a:path w="2934" h="429">
                    <a:moveTo>
                      <a:pt x="420" y="429"/>
                    </a:moveTo>
                    <a:lnTo>
                      <a:pt x="2934" y="429"/>
                    </a:lnTo>
                    <a:lnTo>
                      <a:pt x="2477" y="0"/>
                    </a:lnTo>
                    <a:lnTo>
                      <a:pt x="0" y="18"/>
                    </a:lnTo>
                    <a:lnTo>
                      <a:pt x="420" y="429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629640" y="2065320"/>
                <a:ext cx="2734200" cy="381240"/>
              </a:xfrm>
              <a:custGeom>
                <a:avLst/>
                <a:gdLst/>
                <a:ahLst/>
                <a:rect l="l" t="t" r="r" b="b"/>
                <a:pathLst>
                  <a:path w="2478" h="346">
                    <a:moveTo>
                      <a:pt x="0" y="195"/>
                    </a:moveTo>
                    <a:cubicBezTo>
                      <a:pt x="27" y="165"/>
                      <a:pt x="99" y="0"/>
                      <a:pt x="174" y="23"/>
                    </a:cubicBezTo>
                    <a:cubicBezTo>
                      <a:pt x="249" y="46"/>
                      <a:pt x="354" y="330"/>
                      <a:pt x="448" y="335"/>
                    </a:cubicBezTo>
                    <a:cubicBezTo>
                      <a:pt x="542" y="340"/>
                      <a:pt x="651" y="52"/>
                      <a:pt x="741" y="52"/>
                    </a:cubicBezTo>
                    <a:cubicBezTo>
                      <a:pt x="831" y="52"/>
                      <a:pt x="903" y="334"/>
                      <a:pt x="987" y="335"/>
                    </a:cubicBezTo>
                    <a:cubicBezTo>
                      <a:pt x="1071" y="336"/>
                      <a:pt x="1158" y="59"/>
                      <a:pt x="1243" y="61"/>
                    </a:cubicBezTo>
                    <a:cubicBezTo>
                      <a:pt x="1328" y="63"/>
                      <a:pt x="1414" y="346"/>
                      <a:pt x="1499" y="345"/>
                    </a:cubicBezTo>
                    <a:cubicBezTo>
                      <a:pt x="1584" y="344"/>
                      <a:pt x="1664" y="54"/>
                      <a:pt x="1755" y="52"/>
                    </a:cubicBezTo>
                    <a:cubicBezTo>
                      <a:pt x="1846" y="50"/>
                      <a:pt x="1952" y="335"/>
                      <a:pt x="2048" y="335"/>
                    </a:cubicBezTo>
                    <a:cubicBezTo>
                      <a:pt x="2144" y="335"/>
                      <a:pt x="2259" y="73"/>
                      <a:pt x="2331" y="50"/>
                    </a:cubicBezTo>
                    <a:cubicBezTo>
                      <a:pt x="2403" y="27"/>
                      <a:pt x="2448" y="165"/>
                      <a:pt x="2478" y="195"/>
                    </a:cubicBezTo>
                  </a:path>
                </a:pathLst>
              </a:custGeom>
              <a:solidFill>
                <a:srgbClr val="3399ff"/>
              </a:solidFill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4" name=""/>
              <p:cNvGrpSpPr/>
              <p:nvPr/>
            </p:nvGrpSpPr>
            <p:grpSpPr>
              <a:xfrm>
                <a:off x="663480" y="1887120"/>
                <a:ext cx="2885760" cy="655920"/>
                <a:chOff x="663480" y="1887120"/>
                <a:chExt cx="2885760" cy="655920"/>
              </a:xfrm>
            </p:grpSpPr>
            <p:sp>
              <p:nvSpPr>
                <p:cNvPr id="2905" name=""/>
                <p:cNvSpPr/>
                <p:nvPr/>
              </p:nvSpPr>
              <p:spPr>
                <a:xfrm>
                  <a:off x="663480" y="2275200"/>
                  <a:ext cx="2885760" cy="720"/>
                </a:xfrm>
                <a:custGeom>
                  <a:avLst/>
                  <a:gdLst/>
                  <a:ahLst/>
                  <a:rect l="l" t="t" r="r" b="b"/>
                  <a:pathLst>
                    <a:path w="2615" h="1">
                      <a:moveTo>
                        <a:pt x="0" y="0"/>
                      </a:moveTo>
                      <a:lnTo>
                        <a:pt x="2615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flipV="1">
                  <a:off x="2012040" y="1887120"/>
                  <a:ext cx="0" cy="65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07" name=""/>
            <p:cNvSpPr/>
            <p:nvPr/>
          </p:nvSpPr>
          <p:spPr>
            <a:xfrm>
              <a:off x="3439800" y="19256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8" name=""/>
            <p:cNvGrpSpPr/>
            <p:nvPr/>
          </p:nvGrpSpPr>
          <p:grpSpPr>
            <a:xfrm>
              <a:off x="3971880" y="1785600"/>
              <a:ext cx="2876400" cy="535680"/>
              <a:chOff x="3971880" y="1785600"/>
              <a:chExt cx="2876400" cy="535680"/>
            </a:xfrm>
          </p:grpSpPr>
          <p:grpSp>
            <p:nvGrpSpPr>
              <p:cNvPr id="2909" name=""/>
              <p:cNvGrpSpPr/>
              <p:nvPr/>
            </p:nvGrpSpPr>
            <p:grpSpPr>
              <a:xfrm>
                <a:off x="3971880" y="1785600"/>
                <a:ext cx="2830320" cy="509760"/>
                <a:chOff x="3971880" y="1785600"/>
                <a:chExt cx="2830320" cy="509760"/>
              </a:xfrm>
            </p:grpSpPr>
            <p:sp>
              <p:nvSpPr>
                <p:cNvPr id="2910" name=""/>
                <p:cNvSpPr/>
                <p:nvPr/>
              </p:nvSpPr>
              <p:spPr>
                <a:xfrm>
                  <a:off x="3971880" y="2295360"/>
                  <a:ext cx="283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 flipV="1">
                  <a:off x="5306760" y="1785600"/>
                  <a:ext cx="0" cy="50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2" name=""/>
              <p:cNvSpPr/>
              <p:nvPr/>
            </p:nvSpPr>
            <p:spPr>
              <a:xfrm>
                <a:off x="6510600" y="192240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5850000" y="1980720"/>
                <a:ext cx="0" cy="294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4745160" y="1987200"/>
                <a:ext cx="0" cy="296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5" name=""/>
          <p:cNvGrpSpPr/>
          <p:nvPr/>
        </p:nvGrpSpPr>
        <p:grpSpPr>
          <a:xfrm>
            <a:off x="406440" y="2382480"/>
            <a:ext cx="6465600" cy="920880"/>
            <a:chOff x="406440" y="2382480"/>
            <a:chExt cx="6465600" cy="920880"/>
          </a:xfrm>
        </p:grpSpPr>
        <p:grpSp>
          <p:nvGrpSpPr>
            <p:cNvPr id="2916" name=""/>
            <p:cNvGrpSpPr/>
            <p:nvPr/>
          </p:nvGrpSpPr>
          <p:grpSpPr>
            <a:xfrm>
              <a:off x="406440" y="2598480"/>
              <a:ext cx="3165480" cy="704880"/>
              <a:chOff x="406440" y="2598480"/>
              <a:chExt cx="3165480" cy="704880"/>
            </a:xfrm>
          </p:grpSpPr>
          <p:sp>
            <p:nvSpPr>
              <p:cNvPr id="2917" name=""/>
              <p:cNvSpPr/>
              <p:nvPr/>
            </p:nvSpPr>
            <p:spPr>
              <a:xfrm>
                <a:off x="406440" y="2738160"/>
                <a:ext cx="3165480" cy="500040"/>
              </a:xfrm>
              <a:custGeom>
                <a:avLst/>
                <a:gdLst/>
                <a:ahLst/>
                <a:rect l="l" t="t" r="r" b="b"/>
                <a:pathLst>
                  <a:path w="3067" h="411">
                    <a:moveTo>
                      <a:pt x="420" y="411"/>
                    </a:moveTo>
                    <a:lnTo>
                      <a:pt x="3067" y="407"/>
                    </a:lnTo>
                    <a:lnTo>
                      <a:pt x="2683" y="4"/>
                    </a:lnTo>
                    <a:lnTo>
                      <a:pt x="0" y="0"/>
                    </a:lnTo>
                    <a:lnTo>
                      <a:pt x="420" y="411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1104840" y="3143160"/>
                <a:ext cx="19321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1047600" y="2997000"/>
                <a:ext cx="2019600" cy="252360"/>
              </a:xfrm>
              <a:custGeom>
                <a:avLst/>
                <a:gdLst/>
                <a:ahLst/>
                <a:rect l="l" t="t" r="r" b="b"/>
                <a:pathLst>
                  <a:path w="2588" h="326">
                    <a:moveTo>
                      <a:pt x="0" y="299"/>
                    </a:moveTo>
                    <a:cubicBezTo>
                      <a:pt x="39" y="250"/>
                      <a:pt x="157" y="0"/>
                      <a:pt x="243" y="3"/>
                    </a:cubicBezTo>
                    <a:cubicBezTo>
                      <a:pt x="329" y="6"/>
                      <a:pt x="423" y="310"/>
                      <a:pt x="517" y="315"/>
                    </a:cubicBezTo>
                    <a:cubicBezTo>
                      <a:pt x="611" y="320"/>
                      <a:pt x="720" y="32"/>
                      <a:pt x="810" y="32"/>
                    </a:cubicBezTo>
                    <a:cubicBezTo>
                      <a:pt x="900" y="32"/>
                      <a:pt x="972" y="314"/>
                      <a:pt x="1056" y="315"/>
                    </a:cubicBezTo>
                    <a:cubicBezTo>
                      <a:pt x="1140" y="316"/>
                      <a:pt x="1227" y="39"/>
                      <a:pt x="1312" y="41"/>
                    </a:cubicBezTo>
                    <a:cubicBezTo>
                      <a:pt x="1397" y="43"/>
                      <a:pt x="1483" y="326"/>
                      <a:pt x="1568" y="325"/>
                    </a:cubicBezTo>
                    <a:cubicBezTo>
                      <a:pt x="1653" y="324"/>
                      <a:pt x="1733" y="34"/>
                      <a:pt x="1824" y="32"/>
                    </a:cubicBezTo>
                    <a:cubicBezTo>
                      <a:pt x="1915" y="30"/>
                      <a:pt x="2021" y="315"/>
                      <a:pt x="2117" y="315"/>
                    </a:cubicBezTo>
                    <a:cubicBezTo>
                      <a:pt x="2213" y="315"/>
                      <a:pt x="2322" y="33"/>
                      <a:pt x="2400" y="30"/>
                    </a:cubicBezTo>
                    <a:cubicBezTo>
                      <a:pt x="2478" y="27"/>
                      <a:pt x="2549" y="243"/>
                      <a:pt x="2588" y="299"/>
                    </a:cubicBezTo>
                  </a:path>
                </a:pathLst>
              </a:custGeom>
              <a:solidFill>
                <a:srgbClr val="3399ff"/>
              </a:solidFill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1176480" y="3243240"/>
                <a:ext cx="2144520" cy="360"/>
              </a:xfrm>
              <a:custGeom>
                <a:avLst/>
                <a:gdLst/>
                <a:ahLst/>
                <a:rect l="l" t="t" r="r" b="b"/>
                <a:pathLst>
                  <a:path w="2751" h="1">
                    <a:moveTo>
                      <a:pt x="0" y="0"/>
                    </a:moveTo>
                    <a:lnTo>
                      <a:pt x="2751" y="1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2065320" y="2598480"/>
                <a:ext cx="0" cy="70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1187280" y="3138480"/>
                <a:ext cx="1932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3" name=""/>
            <p:cNvGrpSpPr/>
            <p:nvPr/>
          </p:nvGrpSpPr>
          <p:grpSpPr>
            <a:xfrm>
              <a:off x="3995640" y="2382480"/>
              <a:ext cx="2876400" cy="767520"/>
              <a:chOff x="3995640" y="2382480"/>
              <a:chExt cx="2876400" cy="767520"/>
            </a:xfrm>
          </p:grpSpPr>
          <p:sp>
            <p:nvSpPr>
              <p:cNvPr id="2924" name=""/>
              <p:cNvSpPr/>
              <p:nvPr/>
            </p:nvSpPr>
            <p:spPr>
              <a:xfrm>
                <a:off x="3995640" y="3124080"/>
                <a:ext cx="28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5330520" y="2382480"/>
                <a:ext cx="0" cy="74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6534360" y="275112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5873400" y="2809800"/>
                <a:ext cx="1800" cy="295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4768560" y="2815560"/>
                <a:ext cx="1800" cy="297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5325840" y="2514600"/>
                <a:ext cx="3240" cy="5997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0" name=""/>
            <p:cNvSpPr/>
            <p:nvPr/>
          </p:nvSpPr>
          <p:spPr>
            <a:xfrm>
              <a:off x="3177720" y="287784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1" name=""/>
          <p:cNvGrpSpPr/>
          <p:nvPr/>
        </p:nvGrpSpPr>
        <p:grpSpPr>
          <a:xfrm>
            <a:off x="189000" y="3285720"/>
            <a:ext cx="8507160" cy="1450080"/>
            <a:chOff x="189000" y="3285720"/>
            <a:chExt cx="8507160" cy="1450080"/>
          </a:xfrm>
        </p:grpSpPr>
        <p:grpSp>
          <p:nvGrpSpPr>
            <p:cNvPr id="2932" name=""/>
            <p:cNvGrpSpPr/>
            <p:nvPr/>
          </p:nvGrpSpPr>
          <p:grpSpPr>
            <a:xfrm>
              <a:off x="189000" y="3492360"/>
              <a:ext cx="4587480" cy="1243440"/>
              <a:chOff x="189000" y="3492360"/>
              <a:chExt cx="4587480" cy="1243440"/>
            </a:xfrm>
          </p:grpSpPr>
          <p:grpSp>
            <p:nvGrpSpPr>
              <p:cNvPr id="2933" name=""/>
              <p:cNvGrpSpPr/>
              <p:nvPr/>
            </p:nvGrpSpPr>
            <p:grpSpPr>
              <a:xfrm>
                <a:off x="189000" y="3706920"/>
                <a:ext cx="4238280" cy="445320"/>
                <a:chOff x="189000" y="3706920"/>
                <a:chExt cx="4238280" cy="445320"/>
              </a:xfrm>
            </p:grpSpPr>
            <p:sp>
              <p:nvSpPr>
                <p:cNvPr id="2934" name=""/>
                <p:cNvSpPr/>
                <p:nvPr/>
              </p:nvSpPr>
              <p:spPr>
                <a:xfrm>
                  <a:off x="189000" y="4150440"/>
                  <a:ext cx="4238280" cy="1800"/>
                </a:xfrm>
                <a:custGeom>
                  <a:avLst/>
                  <a:gdLst/>
                  <a:ahLst/>
                  <a:rect l="l" t="t" r="r" b="b"/>
                  <a:pathLst>
                    <a:path w="2615" h="1">
                      <a:moveTo>
                        <a:pt x="0" y="0"/>
                      </a:moveTo>
                      <a:lnTo>
                        <a:pt x="2615" y="0"/>
                      </a:lnTo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2876400" y="3706920"/>
                  <a:ext cx="1111680" cy="445320"/>
                </a:xfrm>
                <a:custGeom>
                  <a:avLst/>
                  <a:gdLst/>
                  <a:ahLst/>
                  <a:rect l="l" t="t" r="r" b="b"/>
                  <a:pathLst>
                    <a:path w="686" h="275">
                      <a:moveTo>
                        <a:pt x="0" y="275"/>
                      </a:moveTo>
                      <a:lnTo>
                        <a:pt x="219" y="275"/>
                      </a:lnTo>
                      <a:lnTo>
                        <a:pt x="219" y="0"/>
                      </a:lnTo>
                      <a:lnTo>
                        <a:pt x="466" y="0"/>
                      </a:lnTo>
                      <a:lnTo>
                        <a:pt x="466" y="275"/>
                      </a:lnTo>
                      <a:lnTo>
                        <a:pt x="686" y="275"/>
                      </a:lnTo>
                    </a:path>
                  </a:pathLst>
                </a:custGeom>
                <a:solidFill>
                  <a:srgbClr val="ff99cc"/>
                </a:solidFill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2035080" y="3706920"/>
                  <a:ext cx="1111680" cy="445320"/>
                </a:xfrm>
                <a:custGeom>
                  <a:avLst/>
                  <a:gdLst/>
                  <a:ahLst/>
                  <a:rect l="l" t="t" r="r" b="b"/>
                  <a:pathLst>
                    <a:path w="686" h="275">
                      <a:moveTo>
                        <a:pt x="0" y="275"/>
                      </a:moveTo>
                      <a:lnTo>
                        <a:pt x="219" y="275"/>
                      </a:lnTo>
                      <a:lnTo>
                        <a:pt x="219" y="0"/>
                      </a:lnTo>
                      <a:lnTo>
                        <a:pt x="466" y="0"/>
                      </a:lnTo>
                      <a:lnTo>
                        <a:pt x="466" y="275"/>
                      </a:lnTo>
                      <a:lnTo>
                        <a:pt x="686" y="275"/>
                      </a:lnTo>
                    </a:path>
                  </a:pathLst>
                </a:custGeom>
                <a:solidFill>
                  <a:srgbClr val="ff99cc"/>
                </a:solidFill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1193760" y="3706920"/>
                  <a:ext cx="1111680" cy="445320"/>
                </a:xfrm>
                <a:custGeom>
                  <a:avLst/>
                  <a:gdLst/>
                  <a:ahLst/>
                  <a:rect l="l" t="t" r="r" b="b"/>
                  <a:pathLst>
                    <a:path w="686" h="275">
                      <a:moveTo>
                        <a:pt x="0" y="275"/>
                      </a:moveTo>
                      <a:lnTo>
                        <a:pt x="219" y="275"/>
                      </a:lnTo>
                      <a:lnTo>
                        <a:pt x="219" y="0"/>
                      </a:lnTo>
                      <a:lnTo>
                        <a:pt x="466" y="0"/>
                      </a:lnTo>
                      <a:lnTo>
                        <a:pt x="466" y="275"/>
                      </a:lnTo>
                      <a:lnTo>
                        <a:pt x="686" y="275"/>
                      </a:lnTo>
                    </a:path>
                  </a:pathLst>
                </a:custGeom>
                <a:solidFill>
                  <a:srgbClr val="ff99cc"/>
                </a:solidFill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352800" y="3706920"/>
                  <a:ext cx="1111680" cy="445320"/>
                </a:xfrm>
                <a:custGeom>
                  <a:avLst/>
                  <a:gdLst/>
                  <a:ahLst/>
                  <a:rect l="l" t="t" r="r" b="b"/>
                  <a:pathLst>
                    <a:path w="686" h="275">
                      <a:moveTo>
                        <a:pt x="0" y="275"/>
                      </a:moveTo>
                      <a:lnTo>
                        <a:pt x="219" y="275"/>
                      </a:lnTo>
                      <a:lnTo>
                        <a:pt x="219" y="0"/>
                      </a:lnTo>
                      <a:lnTo>
                        <a:pt x="466" y="0"/>
                      </a:lnTo>
                      <a:lnTo>
                        <a:pt x="466" y="275"/>
                      </a:lnTo>
                      <a:lnTo>
                        <a:pt x="686" y="275"/>
                      </a:lnTo>
                    </a:path>
                  </a:pathLst>
                </a:custGeom>
                <a:solidFill>
                  <a:srgbClr val="ff99cc"/>
                </a:solidFill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9" name=""/>
              <p:cNvGrpSpPr/>
              <p:nvPr/>
            </p:nvGrpSpPr>
            <p:grpSpPr>
              <a:xfrm>
                <a:off x="2576520" y="4133880"/>
                <a:ext cx="900000" cy="601920"/>
                <a:chOff x="2576520" y="4133880"/>
                <a:chExt cx="900000" cy="601920"/>
              </a:xfrm>
            </p:grpSpPr>
            <p:sp>
              <p:nvSpPr>
                <p:cNvPr id="2940" name=""/>
                <p:cNvSpPr/>
                <p:nvPr/>
              </p:nvSpPr>
              <p:spPr>
                <a:xfrm>
                  <a:off x="2576520" y="4147920"/>
                  <a:ext cx="0" cy="37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3471840" y="4133880"/>
                  <a:ext cx="0" cy="37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2576520" y="4417920"/>
                  <a:ext cx="90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2910960" y="4336920"/>
                  <a:ext cx="337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4" name=""/>
              <p:cNvSpPr/>
              <p:nvPr/>
            </p:nvSpPr>
            <p:spPr>
              <a:xfrm>
                <a:off x="4295520" y="375912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5" name=""/>
              <p:cNvGrpSpPr/>
              <p:nvPr/>
            </p:nvGrpSpPr>
            <p:grpSpPr>
              <a:xfrm>
                <a:off x="1065240" y="3492360"/>
                <a:ext cx="3711240" cy="704520"/>
                <a:chOff x="1065240" y="3492360"/>
                <a:chExt cx="3711240" cy="704520"/>
              </a:xfrm>
            </p:grpSpPr>
            <p:sp>
              <p:nvSpPr>
                <p:cNvPr id="2946" name=""/>
                <p:cNvSpPr/>
                <p:nvPr/>
              </p:nvSpPr>
              <p:spPr>
                <a:xfrm>
                  <a:off x="1065240" y="4136760"/>
                  <a:ext cx="3711240" cy="360"/>
                </a:xfrm>
                <a:custGeom>
                  <a:avLst/>
                  <a:gdLst/>
                  <a:ahLst/>
                  <a:rect l="l" t="t" r="r" b="b"/>
                  <a:pathLst>
                    <a:path w="2751" h="1">
                      <a:moveTo>
                        <a:pt x="0" y="0"/>
                      </a:moveTo>
                      <a:lnTo>
                        <a:pt x="2751" y="1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 flipV="1">
                  <a:off x="2603160" y="3492360"/>
                  <a:ext cx="0" cy="704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8" name=""/>
              <p:cNvSpPr/>
              <p:nvPr/>
            </p:nvSpPr>
            <p:spPr>
              <a:xfrm>
                <a:off x="1589400" y="420228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9" name=""/>
            <p:cNvSpPr/>
            <p:nvPr/>
          </p:nvSpPr>
          <p:spPr>
            <a:xfrm>
              <a:off x="5079960" y="4143600"/>
              <a:ext cx="3452760" cy="1440"/>
            </a:xfrm>
            <a:custGeom>
              <a:avLst/>
              <a:gdLst/>
              <a:ahLst/>
              <a:rect l="l" t="t" r="r" b="b"/>
              <a:pathLst>
                <a:path w="2175" h="1">
                  <a:moveTo>
                    <a:pt x="0" y="0"/>
                  </a:moveTo>
                  <a:lnTo>
                    <a:pt x="217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6807240" y="3285720"/>
              <a:ext cx="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8358480" y="37674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2" name=""/>
            <p:cNvGrpSpPr/>
            <p:nvPr/>
          </p:nvGrpSpPr>
          <p:grpSpPr>
            <a:xfrm>
              <a:off x="5302080" y="3483000"/>
              <a:ext cx="3029040" cy="1003320"/>
              <a:chOff x="5302080" y="3483000"/>
              <a:chExt cx="3029040" cy="1003320"/>
            </a:xfrm>
          </p:grpSpPr>
          <p:sp>
            <p:nvSpPr>
              <p:cNvPr id="2953" name=""/>
              <p:cNvSpPr/>
              <p:nvPr/>
            </p:nvSpPr>
            <p:spPr>
              <a:xfrm>
                <a:off x="6807240" y="3487680"/>
                <a:ext cx="1523880" cy="998640"/>
              </a:xfrm>
              <a:custGeom>
                <a:avLst/>
                <a:gdLst/>
                <a:ahLst/>
                <a:rect l="l" t="t" r="r" b="b"/>
                <a:pathLst>
                  <a:path w="960" h="629">
                    <a:moveTo>
                      <a:pt x="0" y="29"/>
                    </a:moveTo>
                    <a:cubicBezTo>
                      <a:pt x="26" y="40"/>
                      <a:pt x="68" y="0"/>
                      <a:pt x="155" y="93"/>
                    </a:cubicBezTo>
                    <a:cubicBezTo>
                      <a:pt x="242" y="186"/>
                      <a:pt x="404" y="543"/>
                      <a:pt x="521" y="586"/>
                    </a:cubicBezTo>
                    <a:cubicBezTo>
                      <a:pt x="638" y="629"/>
                      <a:pt x="786" y="376"/>
                      <a:pt x="859" y="349"/>
                    </a:cubicBezTo>
                    <a:cubicBezTo>
                      <a:pt x="932" y="322"/>
                      <a:pt x="939" y="407"/>
                      <a:pt x="960" y="422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H="1">
                <a:off x="5302080" y="3483000"/>
                <a:ext cx="1524240" cy="998640"/>
              </a:xfrm>
              <a:custGeom>
                <a:avLst/>
                <a:gdLst/>
                <a:ahLst/>
                <a:rect l="l" t="t" r="r" b="b"/>
                <a:pathLst>
                  <a:path w="960" h="629">
                    <a:moveTo>
                      <a:pt x="0" y="29"/>
                    </a:moveTo>
                    <a:cubicBezTo>
                      <a:pt x="26" y="40"/>
                      <a:pt x="68" y="0"/>
                      <a:pt x="155" y="93"/>
                    </a:cubicBezTo>
                    <a:cubicBezTo>
                      <a:pt x="242" y="186"/>
                      <a:pt x="404" y="543"/>
                      <a:pt x="521" y="586"/>
                    </a:cubicBezTo>
                    <a:cubicBezTo>
                      <a:pt x="638" y="629"/>
                      <a:pt x="786" y="376"/>
                      <a:pt x="859" y="349"/>
                    </a:cubicBezTo>
                    <a:cubicBezTo>
                      <a:pt x="932" y="322"/>
                      <a:pt x="939" y="407"/>
                      <a:pt x="960" y="422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5" name=""/>
            <p:cNvSpPr/>
            <p:nvPr/>
          </p:nvSpPr>
          <p:spPr>
            <a:xfrm>
              <a:off x="7208280" y="3691080"/>
              <a:ext cx="5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1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7315200" y="4070520"/>
              <a:ext cx="130320" cy="129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V="1">
              <a:off x="6807240" y="3504960"/>
              <a:ext cx="0" cy="638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V="1">
              <a:off x="7116840" y="3703680"/>
              <a:ext cx="0" cy="433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 flipV="1">
              <a:off x="6469200" y="3716280"/>
              <a:ext cx="0" cy="433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 flipH="1">
              <a:off x="6121440" y="4148280"/>
              <a:ext cx="14400" cy="214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 flipH="1">
              <a:off x="7488000" y="4137120"/>
              <a:ext cx="14040" cy="214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751360" y="4127760"/>
              <a:ext cx="0" cy="230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920000" y="4124520"/>
              <a:ext cx="0" cy="230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6752880" y="418320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1/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053120" y="4094280"/>
              <a:ext cx="130320" cy="130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6" name=""/>
          <p:cNvSpPr/>
          <p:nvPr/>
        </p:nvSpPr>
        <p:spPr>
          <a:xfrm>
            <a:off x="3600" y="4686480"/>
            <a:ext cx="17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algèbre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1646280" y="5216400"/>
                <a:ext cx="25066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ll</m:t>
                    </m:r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3316320" y="5854680"/>
                <a:ext cx="51991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÷</m:t>
                    </m:r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  <m:r>
                      <m:t xml:space="preserve">(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ll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u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ll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69" name=""/>
          <p:cNvGrpSpPr/>
          <p:nvPr/>
        </p:nvGrpSpPr>
        <p:grpSpPr>
          <a:xfrm>
            <a:off x="4430880" y="4551480"/>
            <a:ext cx="1000080" cy="812880"/>
            <a:chOff x="4430880" y="4551480"/>
            <a:chExt cx="1000080" cy="812880"/>
          </a:xfrm>
        </p:grpSpPr>
        <p:sp>
          <p:nvSpPr>
            <p:cNvPr id="2970" name=""/>
            <p:cNvSpPr/>
            <p:nvPr/>
          </p:nvSpPr>
          <p:spPr>
            <a:xfrm>
              <a:off x="4430880" y="455148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651920" y="47829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723600"/>
            <a:ext cx="6305400" cy="7642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contexte et motiv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83080" y="1868400"/>
            <a:ext cx="6752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Haute Résolution Angulaire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(H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09720" y="2930400"/>
            <a:ext cx="1011240" cy="1689120"/>
            <a:chOff x="1809720" y="2930400"/>
            <a:chExt cx="1011240" cy="1689120"/>
          </a:xfrm>
        </p:grpSpPr>
        <p:grpSp>
          <p:nvGrpSpPr>
            <p:cNvPr id="97" name=""/>
            <p:cNvGrpSpPr/>
            <p:nvPr/>
          </p:nvGrpSpPr>
          <p:grpSpPr>
            <a:xfrm>
              <a:off x="1930320" y="3832200"/>
              <a:ext cx="754200" cy="370080"/>
              <a:chOff x="1930320" y="3832200"/>
              <a:chExt cx="754200" cy="370080"/>
            </a:xfrm>
          </p:grpSpPr>
          <p:sp>
            <p:nvSpPr>
              <p:cNvPr id="98" name=""/>
              <p:cNvSpPr/>
              <p:nvPr/>
            </p:nvSpPr>
            <p:spPr>
              <a:xfrm>
                <a:off x="2290680" y="4056120"/>
                <a:ext cx="187560" cy="81000"/>
              </a:xfrm>
              <a:prstGeom prst="roundRect">
                <a:avLst>
                  <a:gd name="adj" fmla="val 27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90680" y="4057560"/>
                <a:ext cx="187560" cy="77760"/>
              </a:xfrm>
              <a:prstGeom prst="roundRect">
                <a:avLst>
                  <a:gd name="adj" fmla="val 207144"/>
                </a:avLst>
              </a:prstGeom>
              <a:solidFill>
                <a:srgbClr val="ffffff"/>
              </a:solidFill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90680" y="3976560"/>
                <a:ext cx="222480" cy="79560"/>
              </a:xfrm>
              <a:prstGeom prst="roundRect">
                <a:avLst>
                  <a:gd name="adj" fmla="val 27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90680" y="3978360"/>
                <a:ext cx="222480" cy="77760"/>
              </a:xfrm>
              <a:prstGeom prst="roundRect">
                <a:avLst>
                  <a:gd name="adj" fmla="val 207144"/>
                </a:avLst>
              </a:prstGeom>
              <a:solidFill>
                <a:srgbClr val="ffffff"/>
              </a:solidFill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73400" y="3895560"/>
                <a:ext cx="411120" cy="81000"/>
              </a:xfrm>
              <a:prstGeom prst="roundRect">
                <a:avLst>
                  <a:gd name="adj" fmla="val 27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273400" y="3897360"/>
                <a:ext cx="411120" cy="77760"/>
              </a:xfrm>
              <a:prstGeom prst="roundRect">
                <a:avLst>
                  <a:gd name="adj" fmla="val 207144"/>
                </a:avLst>
              </a:prstGeom>
              <a:solidFill>
                <a:srgbClr val="ffffff"/>
              </a:solidFill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255760" y="4121280"/>
                <a:ext cx="154080" cy="81000"/>
              </a:xfrm>
              <a:prstGeom prst="roundRect">
                <a:avLst>
                  <a:gd name="adj" fmla="val 27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255760" y="4122720"/>
                <a:ext cx="154080" cy="77760"/>
              </a:xfrm>
              <a:prstGeom prst="roundRect">
                <a:avLst>
                  <a:gd name="adj" fmla="val 207144"/>
                </a:avLst>
              </a:prstGeom>
              <a:solidFill>
                <a:srgbClr val="ffffff"/>
              </a:solidFill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30320" y="3879720"/>
                <a:ext cx="325440" cy="304920"/>
              </a:xfrm>
              <a:custGeom>
                <a:avLst/>
                <a:gdLst/>
                <a:ahLst/>
                <a:rect l="l" t="t" r="r" b="b"/>
                <a:pathLst>
                  <a:path w="205" h="192">
                    <a:moveTo>
                      <a:pt x="97" y="0"/>
                    </a:moveTo>
                    <a:lnTo>
                      <a:pt x="0" y="61"/>
                    </a:lnTo>
                    <a:lnTo>
                      <a:pt x="0" y="162"/>
                    </a:lnTo>
                    <a:lnTo>
                      <a:pt x="65" y="192"/>
                    </a:lnTo>
                    <a:lnTo>
                      <a:pt x="205" y="192"/>
                    </a:lnTo>
                  </a:path>
                </a:pathLst>
              </a:custGeom>
              <a:solidFill>
                <a:srgbClr val="ffffff"/>
              </a:solidFill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49480" y="3832200"/>
                <a:ext cx="274680" cy="176400"/>
              </a:xfrm>
              <a:custGeom>
                <a:avLst/>
                <a:gdLst/>
                <a:ahLst/>
                <a:rect l="l" t="t" r="r" b="b"/>
                <a:pathLst>
                  <a:path w="173" h="111">
                    <a:moveTo>
                      <a:pt x="119" y="30"/>
                    </a:moveTo>
                    <a:lnTo>
                      <a:pt x="65" y="0"/>
                    </a:lnTo>
                    <a:lnTo>
                      <a:pt x="22" y="20"/>
                    </a:lnTo>
                    <a:lnTo>
                      <a:pt x="0" y="40"/>
                    </a:lnTo>
                    <a:lnTo>
                      <a:pt x="0" y="81"/>
                    </a:lnTo>
                    <a:lnTo>
                      <a:pt x="22" y="91"/>
                    </a:lnTo>
                    <a:lnTo>
                      <a:pt x="65" y="101"/>
                    </a:lnTo>
                    <a:lnTo>
                      <a:pt x="108" y="91"/>
                    </a:lnTo>
                    <a:lnTo>
                      <a:pt x="108" y="101"/>
                    </a:lnTo>
                    <a:lnTo>
                      <a:pt x="141" y="111"/>
                    </a:lnTo>
                    <a:lnTo>
                      <a:pt x="162" y="91"/>
                    </a:lnTo>
                    <a:lnTo>
                      <a:pt x="173" y="60"/>
                    </a:lnTo>
                    <a:lnTo>
                      <a:pt x="141" y="40"/>
                    </a:lnTo>
                    <a:lnTo>
                      <a:pt x="98" y="20"/>
                    </a:lnTo>
                    <a:lnTo>
                      <a:pt x="65" y="0"/>
                    </a:lnTo>
                    <a:lnTo>
                      <a:pt x="119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066760" y="3848040"/>
                <a:ext cx="274680" cy="176400"/>
              </a:xfrm>
              <a:custGeom>
                <a:avLst/>
                <a:gdLst/>
                <a:ahLst/>
                <a:rect l="l" t="t" r="r" b="b"/>
                <a:pathLst>
                  <a:path w="173" h="111">
                    <a:moveTo>
                      <a:pt x="119" y="30"/>
                    </a:moveTo>
                    <a:lnTo>
                      <a:pt x="65" y="0"/>
                    </a:lnTo>
                    <a:lnTo>
                      <a:pt x="22" y="20"/>
                    </a:lnTo>
                    <a:lnTo>
                      <a:pt x="0" y="40"/>
                    </a:lnTo>
                    <a:lnTo>
                      <a:pt x="0" y="81"/>
                    </a:lnTo>
                    <a:lnTo>
                      <a:pt x="22" y="91"/>
                    </a:lnTo>
                    <a:lnTo>
                      <a:pt x="65" y="101"/>
                    </a:lnTo>
                    <a:lnTo>
                      <a:pt x="108" y="91"/>
                    </a:lnTo>
                    <a:lnTo>
                      <a:pt x="108" y="101"/>
                    </a:lnTo>
                    <a:lnTo>
                      <a:pt x="141" y="111"/>
                    </a:lnTo>
                    <a:lnTo>
                      <a:pt x="162" y="91"/>
                    </a:lnTo>
                    <a:lnTo>
                      <a:pt x="173" y="60"/>
                    </a:lnTo>
                    <a:lnTo>
                      <a:pt x="141" y="40"/>
                    </a:lnTo>
                    <a:lnTo>
                      <a:pt x="97" y="20"/>
                    </a:lnTo>
                    <a:lnTo>
                      <a:pt x="65" y="0"/>
                    </a:lnTo>
                  </a:path>
                </a:pathLst>
              </a:custGeom>
              <a:solidFill>
                <a:srgbClr val="ffffff"/>
              </a:solidFill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809720" y="4362480"/>
              <a:ext cx="874800" cy="225360"/>
              <a:chOff x="1809720" y="4362480"/>
              <a:chExt cx="874800" cy="225360"/>
            </a:xfrm>
          </p:grpSpPr>
          <p:sp>
            <p:nvSpPr>
              <p:cNvPr id="110" name=""/>
              <p:cNvSpPr/>
              <p:nvPr/>
            </p:nvSpPr>
            <p:spPr>
              <a:xfrm>
                <a:off x="1809720" y="4459320"/>
                <a:ext cx="138240" cy="111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809720" y="4459320"/>
                <a:ext cx="138240" cy="128520"/>
              </a:xfrm>
              <a:custGeom>
                <a:avLst/>
                <a:gdLst/>
                <a:ahLst/>
                <a:rect l="l" t="t" r="r" b="b"/>
                <a:pathLst>
                  <a:path w="87" h="81">
                    <a:moveTo>
                      <a:pt x="65" y="0"/>
                    </a:moveTo>
                    <a:lnTo>
                      <a:pt x="65" y="0"/>
                    </a:lnTo>
                    <a:lnTo>
                      <a:pt x="44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2" y="10"/>
                    </a:lnTo>
                    <a:lnTo>
                      <a:pt x="11" y="20"/>
                    </a:lnTo>
                    <a:lnTo>
                      <a:pt x="0" y="30"/>
                    </a:lnTo>
                    <a:lnTo>
                      <a:pt x="11" y="40"/>
                    </a:lnTo>
                    <a:lnTo>
                      <a:pt x="11" y="50"/>
                    </a:lnTo>
                    <a:lnTo>
                      <a:pt x="11" y="60"/>
                    </a:lnTo>
                    <a:lnTo>
                      <a:pt x="22" y="70"/>
                    </a:lnTo>
                    <a:lnTo>
                      <a:pt x="22" y="70"/>
                    </a:lnTo>
                    <a:lnTo>
                      <a:pt x="33" y="81"/>
                    </a:lnTo>
                    <a:lnTo>
                      <a:pt x="44" y="81"/>
                    </a:lnTo>
                    <a:lnTo>
                      <a:pt x="54" y="70"/>
                    </a:lnTo>
                    <a:lnTo>
                      <a:pt x="65" y="70"/>
                    </a:lnTo>
                    <a:lnTo>
                      <a:pt x="76" y="60"/>
                    </a:lnTo>
                    <a:lnTo>
                      <a:pt x="76" y="50"/>
                    </a:lnTo>
                    <a:lnTo>
                      <a:pt x="76" y="50"/>
                    </a:lnTo>
                    <a:lnTo>
                      <a:pt x="87" y="30"/>
                    </a:lnTo>
                    <a:lnTo>
                      <a:pt x="87" y="20"/>
                    </a:lnTo>
                    <a:lnTo>
                      <a:pt x="87" y="10"/>
                    </a:lnTo>
                    <a:lnTo>
                      <a:pt x="76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809720" y="4459320"/>
                <a:ext cx="138240" cy="128520"/>
              </a:xfrm>
              <a:custGeom>
                <a:avLst/>
                <a:gdLst/>
                <a:ahLst/>
                <a:rect l="l" t="t" r="r" b="b"/>
                <a:pathLst>
                  <a:path w="87" h="81">
                    <a:moveTo>
                      <a:pt x="65" y="0"/>
                    </a:moveTo>
                    <a:lnTo>
                      <a:pt x="65" y="0"/>
                    </a:lnTo>
                    <a:lnTo>
                      <a:pt x="44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2" y="10"/>
                    </a:lnTo>
                    <a:lnTo>
                      <a:pt x="11" y="20"/>
                    </a:lnTo>
                    <a:lnTo>
                      <a:pt x="0" y="30"/>
                    </a:lnTo>
                    <a:lnTo>
                      <a:pt x="11" y="40"/>
                    </a:lnTo>
                    <a:lnTo>
                      <a:pt x="11" y="50"/>
                    </a:lnTo>
                    <a:lnTo>
                      <a:pt x="11" y="60"/>
                    </a:lnTo>
                    <a:lnTo>
                      <a:pt x="22" y="70"/>
                    </a:lnTo>
                    <a:lnTo>
                      <a:pt x="22" y="70"/>
                    </a:lnTo>
                    <a:lnTo>
                      <a:pt x="33" y="81"/>
                    </a:lnTo>
                    <a:lnTo>
                      <a:pt x="44" y="81"/>
                    </a:lnTo>
                    <a:lnTo>
                      <a:pt x="54" y="70"/>
                    </a:lnTo>
                    <a:lnTo>
                      <a:pt x="65" y="70"/>
                    </a:lnTo>
                    <a:lnTo>
                      <a:pt x="76" y="60"/>
                    </a:lnTo>
                    <a:lnTo>
                      <a:pt x="76" y="50"/>
                    </a:lnTo>
                    <a:lnTo>
                      <a:pt x="76" y="50"/>
                    </a:lnTo>
                    <a:lnTo>
                      <a:pt x="87" y="30"/>
                    </a:lnTo>
                    <a:lnTo>
                      <a:pt x="87" y="20"/>
                    </a:lnTo>
                    <a:lnTo>
                      <a:pt x="87" y="10"/>
                    </a:lnTo>
                    <a:lnTo>
                      <a:pt x="76" y="0"/>
                    </a:lnTo>
                    <a:lnTo>
                      <a:pt x="65" y="0"/>
                    </a:lnTo>
                    <a:close/>
                  </a:path>
                </a:pathLst>
              </a:custGeom>
              <a:noFill/>
              <a:ln w="349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1930320" y="4362480"/>
                <a:ext cx="754200" cy="149040"/>
                <a:chOff x="1930320" y="4362480"/>
                <a:chExt cx="754200" cy="1490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392200" y="4362480"/>
                  <a:ext cx="292320" cy="128520"/>
                </a:xfrm>
                <a:custGeom>
                  <a:avLst/>
                  <a:gdLst/>
                  <a:ahLst/>
                  <a:rect l="l" t="t" r="r" b="b"/>
                  <a:pathLst>
                    <a:path w="184" h="81">
                      <a:moveTo>
                        <a:pt x="184" y="10"/>
                      </a:moveTo>
                      <a:lnTo>
                        <a:pt x="0" y="0"/>
                      </a:lnTo>
                      <a:lnTo>
                        <a:pt x="11" y="40"/>
                      </a:lnTo>
                      <a:lnTo>
                        <a:pt x="11" y="81"/>
                      </a:lnTo>
                      <a:lnTo>
                        <a:pt x="18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V="1">
                  <a:off x="1930320" y="4425840"/>
                  <a:ext cx="496800" cy="85680"/>
                </a:xfrm>
                <a:prstGeom prst="line">
                  <a:avLst/>
                </a:prstGeom>
                <a:ln w="349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" name=""/>
            <p:cNvSpPr/>
            <p:nvPr/>
          </p:nvSpPr>
          <p:spPr>
            <a:xfrm>
              <a:off x="1879560" y="3156120"/>
              <a:ext cx="822240" cy="434880"/>
            </a:xfrm>
            <a:custGeom>
              <a:avLst/>
              <a:gdLst/>
              <a:ahLst/>
              <a:rect l="l" t="t" r="r" b="b"/>
              <a:pathLst>
                <a:path w="518" h="274">
                  <a:moveTo>
                    <a:pt x="151" y="51"/>
                  </a:moveTo>
                  <a:lnTo>
                    <a:pt x="237" y="31"/>
                  </a:lnTo>
                  <a:lnTo>
                    <a:pt x="291" y="20"/>
                  </a:lnTo>
                  <a:lnTo>
                    <a:pt x="367" y="0"/>
                  </a:lnTo>
                  <a:lnTo>
                    <a:pt x="442" y="31"/>
                  </a:lnTo>
                  <a:lnTo>
                    <a:pt x="507" y="101"/>
                  </a:lnTo>
                  <a:lnTo>
                    <a:pt x="518" y="162"/>
                  </a:lnTo>
                  <a:lnTo>
                    <a:pt x="507" y="213"/>
                  </a:lnTo>
                  <a:lnTo>
                    <a:pt x="453" y="274"/>
                  </a:lnTo>
                  <a:lnTo>
                    <a:pt x="377" y="264"/>
                  </a:lnTo>
                  <a:lnTo>
                    <a:pt x="313" y="253"/>
                  </a:lnTo>
                  <a:lnTo>
                    <a:pt x="302" y="203"/>
                  </a:lnTo>
                  <a:lnTo>
                    <a:pt x="334" y="152"/>
                  </a:lnTo>
                  <a:lnTo>
                    <a:pt x="313" y="193"/>
                  </a:lnTo>
                  <a:lnTo>
                    <a:pt x="248" y="213"/>
                  </a:lnTo>
                  <a:lnTo>
                    <a:pt x="140" y="162"/>
                  </a:lnTo>
                  <a:lnTo>
                    <a:pt x="142" y="161"/>
                  </a:lnTo>
                  <a:lnTo>
                    <a:pt x="21" y="233"/>
                  </a:lnTo>
                  <a:lnTo>
                    <a:pt x="0" y="203"/>
                  </a:lnTo>
                  <a:lnTo>
                    <a:pt x="10" y="193"/>
                  </a:lnTo>
                  <a:lnTo>
                    <a:pt x="10" y="172"/>
                  </a:lnTo>
                  <a:lnTo>
                    <a:pt x="10" y="142"/>
                  </a:lnTo>
                  <a:lnTo>
                    <a:pt x="10" y="122"/>
                  </a:lnTo>
                  <a:lnTo>
                    <a:pt x="0" y="91"/>
                  </a:lnTo>
                  <a:lnTo>
                    <a:pt x="0" y="81"/>
                  </a:lnTo>
                  <a:lnTo>
                    <a:pt x="0" y="61"/>
                  </a:lnTo>
                  <a:lnTo>
                    <a:pt x="86" y="61"/>
                  </a:lnTo>
                  <a:lnTo>
                    <a:pt x="151" y="51"/>
                  </a:lnTo>
                  <a:close/>
                </a:path>
              </a:pathLst>
            </a:custGeom>
            <a:solidFill>
              <a:srgbClr val="ffffff"/>
            </a:solidFill>
            <a:ln w="68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49480" y="3268800"/>
              <a:ext cx="69840" cy="16020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44" y="0"/>
                  </a:moveTo>
                  <a:lnTo>
                    <a:pt x="44" y="91"/>
                  </a:lnTo>
                  <a:lnTo>
                    <a:pt x="0" y="101"/>
                  </a:lnTo>
                  <a:lnTo>
                    <a:pt x="0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5000" y="3333600"/>
              <a:ext cx="187200" cy="95400"/>
            </a:xfrm>
            <a:custGeom>
              <a:avLst/>
              <a:gdLst/>
              <a:ahLst/>
              <a:rect l="l" t="t" r="r" b="b"/>
              <a:pathLst>
                <a:path w="118" h="60">
                  <a:moveTo>
                    <a:pt x="118" y="60"/>
                  </a:moveTo>
                  <a:lnTo>
                    <a:pt x="118" y="10"/>
                  </a:lnTo>
                  <a:lnTo>
                    <a:pt x="54" y="0"/>
                  </a:lnTo>
                  <a:lnTo>
                    <a:pt x="0" y="10"/>
                  </a:lnTo>
                  <a:lnTo>
                    <a:pt x="1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38480" y="3365640"/>
              <a:ext cx="188640" cy="96840"/>
            </a:xfrm>
            <a:custGeom>
              <a:avLst/>
              <a:gdLst/>
              <a:ahLst/>
              <a:rect l="l" t="t" r="r" b="b"/>
              <a:pathLst>
                <a:path w="119" h="61">
                  <a:moveTo>
                    <a:pt x="119" y="61"/>
                  </a:moveTo>
                  <a:lnTo>
                    <a:pt x="119" y="10"/>
                  </a:lnTo>
                  <a:lnTo>
                    <a:pt x="54" y="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w="68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52560" y="2930400"/>
              <a:ext cx="68400" cy="1689120"/>
            </a:xfrm>
            <a:custGeom>
              <a:avLst/>
              <a:gdLst/>
              <a:ahLst/>
              <a:rect l="l" t="t" r="r" b="b"/>
              <a:pathLst>
                <a:path w="43" h="1064">
                  <a:moveTo>
                    <a:pt x="0" y="0"/>
                  </a:moveTo>
                  <a:lnTo>
                    <a:pt x="43" y="61"/>
                  </a:lnTo>
                  <a:lnTo>
                    <a:pt x="0" y="122"/>
                  </a:lnTo>
                  <a:lnTo>
                    <a:pt x="43" y="183"/>
                  </a:lnTo>
                  <a:lnTo>
                    <a:pt x="0" y="233"/>
                  </a:lnTo>
                  <a:lnTo>
                    <a:pt x="43" y="284"/>
                  </a:lnTo>
                  <a:lnTo>
                    <a:pt x="0" y="345"/>
                  </a:lnTo>
                  <a:lnTo>
                    <a:pt x="43" y="395"/>
                  </a:lnTo>
                  <a:lnTo>
                    <a:pt x="0" y="446"/>
                  </a:lnTo>
                  <a:lnTo>
                    <a:pt x="43" y="497"/>
                  </a:lnTo>
                  <a:lnTo>
                    <a:pt x="0" y="547"/>
                  </a:lnTo>
                  <a:lnTo>
                    <a:pt x="43" y="598"/>
                  </a:lnTo>
                  <a:lnTo>
                    <a:pt x="0" y="659"/>
                  </a:lnTo>
                  <a:lnTo>
                    <a:pt x="43" y="709"/>
                  </a:lnTo>
                  <a:lnTo>
                    <a:pt x="0" y="770"/>
                  </a:lnTo>
                  <a:lnTo>
                    <a:pt x="32" y="831"/>
                  </a:lnTo>
                  <a:lnTo>
                    <a:pt x="0" y="861"/>
                  </a:lnTo>
                  <a:lnTo>
                    <a:pt x="32" y="942"/>
                  </a:lnTo>
                  <a:lnTo>
                    <a:pt x="0" y="1003"/>
                  </a:lnTo>
                  <a:lnTo>
                    <a:pt x="32" y="1064"/>
                  </a:lnTo>
                </a:path>
              </a:pathLst>
            </a:custGeom>
            <a:noFill/>
            <a:ln w="34920">
              <a:solidFill>
                <a:srgbClr val="ffffff"/>
              </a:solidFill>
              <a:round/>
            </a:ln>
            <a:effectLst>
              <a:outerShdw dist="45929" dir="3371122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205080" y="3047760"/>
            <a:ext cx="2370240" cy="1671840"/>
            <a:chOff x="3205080" y="3047760"/>
            <a:chExt cx="2370240" cy="1671840"/>
          </a:xfrm>
        </p:grpSpPr>
        <p:grpSp>
          <p:nvGrpSpPr>
            <p:cNvPr id="122" name=""/>
            <p:cNvGrpSpPr/>
            <p:nvPr/>
          </p:nvGrpSpPr>
          <p:grpSpPr>
            <a:xfrm>
              <a:off x="3513240" y="4121280"/>
              <a:ext cx="687240" cy="596880"/>
              <a:chOff x="3513240" y="4121280"/>
              <a:chExt cx="687240" cy="596880"/>
            </a:xfrm>
          </p:grpSpPr>
          <p:sp>
            <p:nvSpPr>
              <p:cNvPr id="123" name=""/>
              <p:cNvSpPr/>
              <p:nvPr/>
            </p:nvSpPr>
            <p:spPr>
              <a:xfrm>
                <a:off x="3557520" y="4538520"/>
                <a:ext cx="496800" cy="163800"/>
              </a:xfrm>
              <a:custGeom>
                <a:avLst/>
                <a:gdLst/>
                <a:ahLst/>
                <a:rect l="l" t="t" r="r" b="b"/>
                <a:pathLst>
                  <a:path w="313" h="103">
                    <a:moveTo>
                      <a:pt x="27" y="103"/>
                    </a:moveTo>
                    <a:lnTo>
                      <a:pt x="9" y="37"/>
                    </a:lnTo>
                    <a:lnTo>
                      <a:pt x="101" y="37"/>
                    </a:lnTo>
                    <a:lnTo>
                      <a:pt x="313" y="0"/>
                    </a:lnTo>
                    <a:lnTo>
                      <a:pt x="285" y="103"/>
                    </a:lnTo>
                    <a:lnTo>
                      <a:pt x="0" y="103"/>
                    </a:lnTo>
                    <a:lnTo>
                      <a:pt x="27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571920" y="4552920"/>
                <a:ext cx="496800" cy="165240"/>
              </a:xfrm>
              <a:custGeom>
                <a:avLst/>
                <a:gdLst/>
                <a:ahLst/>
                <a:rect l="l" t="t" r="r" b="b"/>
                <a:pathLst>
                  <a:path w="313" h="104">
                    <a:moveTo>
                      <a:pt x="27" y="104"/>
                    </a:moveTo>
                    <a:lnTo>
                      <a:pt x="9" y="38"/>
                    </a:lnTo>
                    <a:lnTo>
                      <a:pt x="101" y="38"/>
                    </a:lnTo>
                    <a:lnTo>
                      <a:pt x="313" y="0"/>
                    </a:lnTo>
                    <a:lnTo>
                      <a:pt x="285" y="104"/>
                    </a:lnTo>
                    <a:lnTo>
                      <a:pt x="0" y="104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19600" y="4121280"/>
                <a:ext cx="380880" cy="417240"/>
              </a:xfrm>
              <a:custGeom>
                <a:avLst/>
                <a:gdLst/>
                <a:ahLst/>
                <a:rect l="l" t="t" r="r" b="b"/>
                <a:pathLst>
                  <a:path w="240" h="263">
                    <a:moveTo>
                      <a:pt x="240" y="263"/>
                    </a:moveTo>
                    <a:lnTo>
                      <a:pt x="0" y="0"/>
                    </a:lnTo>
                    <a:lnTo>
                      <a:pt x="56" y="225"/>
                    </a:lnTo>
                    <a:lnTo>
                      <a:pt x="240" y="263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13240" y="4121280"/>
                <a:ext cx="306360" cy="431640"/>
              </a:xfrm>
              <a:custGeom>
                <a:avLst/>
                <a:gdLst/>
                <a:ahLst/>
                <a:rect l="l" t="t" r="r" b="b"/>
                <a:pathLst>
                  <a:path w="193" h="272">
                    <a:moveTo>
                      <a:pt x="184" y="254"/>
                    </a:moveTo>
                    <a:lnTo>
                      <a:pt x="184" y="75"/>
                    </a:lnTo>
                    <a:lnTo>
                      <a:pt x="46" y="0"/>
                    </a:lnTo>
                    <a:lnTo>
                      <a:pt x="0" y="254"/>
                    </a:lnTo>
                    <a:lnTo>
                      <a:pt x="193" y="272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205080" y="4718160"/>
              <a:ext cx="203364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08400" y="4702320"/>
              <a:ext cx="1360440" cy="1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37080" y="3465360"/>
              <a:ext cx="189000" cy="208080"/>
            </a:xfrm>
            <a:custGeom>
              <a:avLst/>
              <a:gdLst/>
              <a:ahLst/>
              <a:rect l="l" t="t" r="r" b="b"/>
              <a:pathLst>
                <a:path w="119" h="131">
                  <a:moveTo>
                    <a:pt x="64" y="0"/>
                  </a:moveTo>
                  <a:lnTo>
                    <a:pt x="73" y="47"/>
                  </a:lnTo>
                  <a:lnTo>
                    <a:pt x="119" y="47"/>
                  </a:lnTo>
                  <a:lnTo>
                    <a:pt x="73" y="65"/>
                  </a:lnTo>
                  <a:lnTo>
                    <a:pt x="83" y="131"/>
                  </a:lnTo>
                  <a:lnTo>
                    <a:pt x="46" y="84"/>
                  </a:lnTo>
                  <a:lnTo>
                    <a:pt x="9" y="112"/>
                  </a:lnTo>
                  <a:lnTo>
                    <a:pt x="27" y="65"/>
                  </a:lnTo>
                  <a:lnTo>
                    <a:pt x="0" y="28"/>
                  </a:lnTo>
                  <a:lnTo>
                    <a:pt x="46" y="37"/>
                  </a:lnTo>
                  <a:lnTo>
                    <a:pt x="64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19840" y="3867120"/>
              <a:ext cx="174600" cy="179280"/>
            </a:xfrm>
            <a:custGeom>
              <a:avLst/>
              <a:gdLst/>
              <a:ahLst/>
              <a:rect l="l" t="t" r="r" b="b"/>
              <a:pathLst>
                <a:path w="110" h="113">
                  <a:moveTo>
                    <a:pt x="55" y="0"/>
                  </a:moveTo>
                  <a:lnTo>
                    <a:pt x="64" y="38"/>
                  </a:lnTo>
                  <a:lnTo>
                    <a:pt x="110" y="38"/>
                  </a:lnTo>
                  <a:lnTo>
                    <a:pt x="73" y="57"/>
                  </a:lnTo>
                  <a:lnTo>
                    <a:pt x="83" y="113"/>
                  </a:lnTo>
                  <a:lnTo>
                    <a:pt x="46" y="75"/>
                  </a:lnTo>
                  <a:lnTo>
                    <a:pt x="9" y="94"/>
                  </a:lnTo>
                  <a:lnTo>
                    <a:pt x="27" y="57"/>
                  </a:lnTo>
                  <a:lnTo>
                    <a:pt x="0" y="28"/>
                  </a:lnTo>
                  <a:lnTo>
                    <a:pt x="46" y="28"/>
                  </a:lnTo>
                  <a:lnTo>
                    <a:pt x="55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863880" y="3047760"/>
              <a:ext cx="1184400" cy="14302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881520" y="3705120"/>
              <a:ext cx="1693800" cy="7732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337040" y="5027760"/>
            <a:ext cx="1640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ré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64120" y="5027760"/>
            <a:ext cx="1544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ang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70960" y="4427640"/>
            <a:ext cx="25138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haute ?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Comic Sans MS"/>
              </a:rPr>
              <a:t>on va vo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232920" y="720720"/>
            <a:ext cx="7110360" cy="721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60120" rIns="60120" tIns="24120" bIns="2412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réquences spatiales, suite des travaux pra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3" name=""/>
          <p:cNvGrpSpPr/>
          <p:nvPr/>
        </p:nvGrpSpPr>
        <p:grpSpPr>
          <a:xfrm>
            <a:off x="559440" y="1886040"/>
            <a:ext cx="8376480" cy="1591200"/>
            <a:chOff x="559440" y="1886040"/>
            <a:chExt cx="8376480" cy="1591200"/>
          </a:xfrm>
        </p:grpSpPr>
        <p:sp>
          <p:nvSpPr>
            <p:cNvPr id="2974" name=""/>
            <p:cNvSpPr/>
            <p:nvPr/>
          </p:nvSpPr>
          <p:spPr>
            <a:xfrm>
              <a:off x="559440" y="2081520"/>
              <a:ext cx="2559240" cy="9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120" rIns="60120" tIns="24120" bIns="241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2500" spc="-1" strike="noStrike">
                  <a:solidFill>
                    <a:srgbClr val="000000"/>
                  </a:solidFill>
                  <a:latin typeface="Comic Sans MS"/>
                </a:rPr>
                <a:t>Zèbre =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2500" spc="-1" strike="noStrike">
                  <a:solidFill>
                    <a:srgbClr val="000000"/>
                  </a:solidFill>
                  <a:latin typeface="Comic Sans MS"/>
                </a:rPr>
                <a:t>cheval + grill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22160"/>
                  <a:tab algn="l" pos="1444680"/>
                  <a:tab algn="l" pos="2166840"/>
                  <a:tab algn="l" pos="2889360"/>
                  <a:tab algn="l" pos="3611520"/>
                  <a:tab algn="l" pos="4334040"/>
                  <a:tab algn="l" pos="5056200"/>
                  <a:tab algn="l" pos="5778360"/>
                  <a:tab algn="l" pos="6500880"/>
                  <a:tab algn="l" pos="7223040"/>
                  <a:tab algn="l" pos="7945560"/>
                  <a:tab algn="l" pos="8667720"/>
                  <a:tab algn="l" pos="9390240"/>
                  <a:tab algn="l" pos="10112400"/>
                  <a:tab algn="l" pos="1083456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Comic Sans MS"/>
                </a:rPr>
                <a:t>( grosse freq spatiale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5" name=""/>
            <p:cNvGrpSpPr/>
            <p:nvPr/>
          </p:nvGrpSpPr>
          <p:grpSpPr>
            <a:xfrm>
              <a:off x="5670720" y="2311560"/>
              <a:ext cx="1490400" cy="1015920"/>
              <a:chOff x="5670720" y="2311560"/>
              <a:chExt cx="1490400" cy="1015920"/>
            </a:xfrm>
          </p:grpSpPr>
          <p:grpSp>
            <p:nvGrpSpPr>
              <p:cNvPr id="2976" name=""/>
              <p:cNvGrpSpPr/>
              <p:nvPr/>
            </p:nvGrpSpPr>
            <p:grpSpPr>
              <a:xfrm>
                <a:off x="5670720" y="2648160"/>
                <a:ext cx="1490400" cy="679320"/>
                <a:chOff x="5670720" y="2648160"/>
                <a:chExt cx="1490400" cy="679320"/>
              </a:xfrm>
            </p:grpSpPr>
            <p:sp>
              <p:nvSpPr>
                <p:cNvPr id="2977" name=""/>
                <p:cNvSpPr/>
                <p:nvPr/>
              </p:nvSpPr>
              <p:spPr>
                <a:xfrm>
                  <a:off x="5670720" y="2654280"/>
                  <a:ext cx="1490400" cy="673200"/>
                </a:xfrm>
                <a:custGeom>
                  <a:avLst/>
                  <a:gdLst/>
                  <a:ahLst/>
                  <a:rect l="l" t="t" r="r" b="b"/>
                  <a:pathLst>
                    <a:path w="939" h="424">
                      <a:moveTo>
                        <a:pt x="207" y="51"/>
                      </a:moveTo>
                      <a:lnTo>
                        <a:pt x="0" y="148"/>
                      </a:lnTo>
                      <a:lnTo>
                        <a:pt x="584" y="424"/>
                      </a:lnTo>
                      <a:lnTo>
                        <a:pt x="939" y="240"/>
                      </a:lnTo>
                      <a:lnTo>
                        <a:pt x="306" y="0"/>
                      </a:lnTo>
                      <a:lnTo>
                        <a:pt x="0" y="148"/>
                      </a:lnTo>
                      <a:lnTo>
                        <a:pt x="207" y="5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5670720" y="2654280"/>
                  <a:ext cx="1490400" cy="673200"/>
                </a:xfrm>
                <a:custGeom>
                  <a:avLst/>
                  <a:gdLst/>
                  <a:ahLst/>
                  <a:rect l="l" t="t" r="r" b="b"/>
                  <a:pathLst>
                    <a:path w="939" h="424">
                      <a:moveTo>
                        <a:pt x="207" y="51"/>
                      </a:moveTo>
                      <a:lnTo>
                        <a:pt x="0" y="148"/>
                      </a:lnTo>
                      <a:lnTo>
                        <a:pt x="584" y="424"/>
                      </a:lnTo>
                      <a:lnTo>
                        <a:pt x="939" y="240"/>
                      </a:lnTo>
                      <a:lnTo>
                        <a:pt x="306" y="0"/>
                      </a:lnTo>
                      <a:lnTo>
                        <a:pt x="0" y="148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9" name=""/>
                <p:cNvGrpSpPr/>
                <p:nvPr/>
              </p:nvGrpSpPr>
              <p:grpSpPr>
                <a:xfrm>
                  <a:off x="5896080" y="2648160"/>
                  <a:ext cx="1047240" cy="577800"/>
                  <a:chOff x="5896080" y="2648160"/>
                  <a:chExt cx="1047240" cy="577800"/>
                </a:xfrm>
              </p:grpSpPr>
              <p:sp>
                <p:nvSpPr>
                  <p:cNvPr id="2980" name=""/>
                  <p:cNvSpPr/>
                  <p:nvPr/>
                </p:nvSpPr>
                <p:spPr>
                  <a:xfrm>
                    <a:off x="6276960" y="2648160"/>
                    <a:ext cx="650880" cy="40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253">
                        <a:moveTo>
                          <a:pt x="410" y="253"/>
                        </a:moveTo>
                        <a:lnTo>
                          <a:pt x="371" y="184"/>
                        </a:lnTo>
                        <a:lnTo>
                          <a:pt x="328" y="216"/>
                        </a:lnTo>
                        <a:lnTo>
                          <a:pt x="295" y="147"/>
                        </a:lnTo>
                        <a:lnTo>
                          <a:pt x="257" y="188"/>
                        </a:lnTo>
                        <a:lnTo>
                          <a:pt x="229" y="119"/>
                        </a:lnTo>
                        <a:lnTo>
                          <a:pt x="186" y="152"/>
                        </a:lnTo>
                        <a:lnTo>
                          <a:pt x="175" y="92"/>
                        </a:lnTo>
                        <a:lnTo>
                          <a:pt x="131" y="133"/>
                        </a:lnTo>
                        <a:lnTo>
                          <a:pt x="109" y="64"/>
                        </a:lnTo>
                        <a:lnTo>
                          <a:pt x="82" y="101"/>
                        </a:lnTo>
                        <a:lnTo>
                          <a:pt x="60" y="23"/>
                        </a:lnTo>
                        <a:lnTo>
                          <a:pt x="22" y="60"/>
                        </a:lnTo>
                        <a:lnTo>
                          <a:pt x="0" y="0"/>
                        </a:lnTo>
                        <a:lnTo>
                          <a:pt x="6" y="13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1" name=""/>
                  <p:cNvSpPr/>
                  <p:nvPr/>
                </p:nvSpPr>
                <p:spPr>
                  <a:xfrm>
                    <a:off x="5896080" y="2830680"/>
                    <a:ext cx="658800" cy="39528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249">
                        <a:moveTo>
                          <a:pt x="415" y="249"/>
                        </a:moveTo>
                        <a:lnTo>
                          <a:pt x="371" y="179"/>
                        </a:lnTo>
                        <a:lnTo>
                          <a:pt x="333" y="216"/>
                        </a:lnTo>
                        <a:lnTo>
                          <a:pt x="295" y="147"/>
                        </a:lnTo>
                        <a:lnTo>
                          <a:pt x="262" y="184"/>
                        </a:lnTo>
                        <a:lnTo>
                          <a:pt x="235" y="115"/>
                        </a:lnTo>
                        <a:lnTo>
                          <a:pt x="191" y="152"/>
                        </a:lnTo>
                        <a:lnTo>
                          <a:pt x="175" y="87"/>
                        </a:lnTo>
                        <a:lnTo>
                          <a:pt x="136" y="133"/>
                        </a:lnTo>
                        <a:lnTo>
                          <a:pt x="115" y="64"/>
                        </a:lnTo>
                        <a:lnTo>
                          <a:pt x="87" y="97"/>
                        </a:lnTo>
                        <a:lnTo>
                          <a:pt x="65" y="18"/>
                        </a:lnTo>
                        <a:lnTo>
                          <a:pt x="22" y="60"/>
                        </a:lnTo>
                        <a:lnTo>
                          <a:pt x="0" y="0"/>
                        </a:lnTo>
                        <a:lnTo>
                          <a:pt x="11" y="9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2" name=""/>
                  <p:cNvSpPr/>
                  <p:nvPr/>
                </p:nvSpPr>
                <p:spPr>
                  <a:xfrm flipH="1">
                    <a:off x="6544800" y="3041640"/>
                    <a:ext cx="398520" cy="1666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3" name=""/>
                  <p:cNvSpPr/>
                  <p:nvPr/>
                </p:nvSpPr>
                <p:spPr>
                  <a:xfrm flipH="1">
                    <a:off x="5913000" y="2654280"/>
                    <a:ext cx="373320" cy="1828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4" name=""/>
                  <p:cNvSpPr/>
                  <p:nvPr/>
                </p:nvSpPr>
                <p:spPr>
                  <a:xfrm flipH="1">
                    <a:off x="5990760" y="2668680"/>
                    <a:ext cx="373320" cy="18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5" name=""/>
                  <p:cNvSpPr/>
                  <p:nvPr/>
                </p:nvSpPr>
                <p:spPr>
                  <a:xfrm flipH="1">
                    <a:off x="6068880" y="2743200"/>
                    <a:ext cx="370080" cy="173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6" name=""/>
                  <p:cNvSpPr/>
                  <p:nvPr/>
                </p:nvSpPr>
                <p:spPr>
                  <a:xfrm flipH="1">
                    <a:off x="6146280" y="2808360"/>
                    <a:ext cx="381240" cy="1810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7" name=""/>
                  <p:cNvSpPr/>
                  <p:nvPr/>
                </p:nvSpPr>
                <p:spPr>
                  <a:xfrm flipH="1">
                    <a:off x="6251400" y="2853000"/>
                    <a:ext cx="368640" cy="1807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8" name=""/>
                  <p:cNvSpPr/>
                  <p:nvPr/>
                </p:nvSpPr>
                <p:spPr>
                  <a:xfrm flipH="1">
                    <a:off x="6354720" y="2903760"/>
                    <a:ext cx="370080" cy="172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9" name=""/>
                  <p:cNvSpPr/>
                  <p:nvPr/>
                </p:nvSpPr>
                <p:spPr>
                  <a:xfrm flipH="1">
                    <a:off x="6450120" y="2946600"/>
                    <a:ext cx="380880" cy="182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90" name=""/>
              <p:cNvGrpSpPr/>
              <p:nvPr/>
            </p:nvGrpSpPr>
            <p:grpSpPr>
              <a:xfrm>
                <a:off x="5878440" y="2362320"/>
                <a:ext cx="1074960" cy="511200"/>
                <a:chOff x="5878440" y="2362320"/>
                <a:chExt cx="1074960" cy="511200"/>
              </a:xfrm>
            </p:grpSpPr>
            <p:sp>
              <p:nvSpPr>
                <p:cNvPr id="2991" name=""/>
                <p:cNvSpPr/>
                <p:nvPr/>
              </p:nvSpPr>
              <p:spPr>
                <a:xfrm>
                  <a:off x="5878440" y="2362320"/>
                  <a:ext cx="1074960" cy="511200"/>
                </a:xfrm>
                <a:custGeom>
                  <a:avLst/>
                  <a:gdLst/>
                  <a:ahLst/>
                  <a:rect l="l" t="t" r="r" b="b"/>
                  <a:pathLst>
                    <a:path w="677" h="322">
                      <a:moveTo>
                        <a:pt x="0" y="184"/>
                      </a:moveTo>
                      <a:lnTo>
                        <a:pt x="382" y="0"/>
                      </a:lnTo>
                      <a:lnTo>
                        <a:pt x="677" y="115"/>
                      </a:lnTo>
                      <a:lnTo>
                        <a:pt x="284" y="322"/>
                      </a:lnTo>
                      <a:lnTo>
                        <a:pt x="0" y="18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2" name=""/>
                <p:cNvGrpSpPr/>
                <p:nvPr/>
              </p:nvGrpSpPr>
              <p:grpSpPr>
                <a:xfrm>
                  <a:off x="6068880" y="2443320"/>
                  <a:ext cx="736560" cy="350640"/>
                  <a:chOff x="6068880" y="2443320"/>
                  <a:chExt cx="736560" cy="350640"/>
                </a:xfrm>
              </p:grpSpPr>
              <p:sp>
                <p:nvSpPr>
                  <p:cNvPr id="2993" name=""/>
                  <p:cNvSpPr/>
                  <p:nvPr/>
                </p:nvSpPr>
                <p:spPr>
                  <a:xfrm>
                    <a:off x="6068880" y="2443320"/>
                    <a:ext cx="4683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5" h="152">
                        <a:moveTo>
                          <a:pt x="0" y="152"/>
                        </a:moveTo>
                        <a:lnTo>
                          <a:pt x="33" y="110"/>
                        </a:lnTo>
                        <a:lnTo>
                          <a:pt x="60" y="129"/>
                        </a:lnTo>
                        <a:lnTo>
                          <a:pt x="87" y="87"/>
                        </a:lnTo>
                        <a:lnTo>
                          <a:pt x="109" y="115"/>
                        </a:lnTo>
                        <a:lnTo>
                          <a:pt x="131" y="69"/>
                        </a:lnTo>
                        <a:lnTo>
                          <a:pt x="158" y="92"/>
                        </a:lnTo>
                        <a:lnTo>
                          <a:pt x="169" y="55"/>
                        </a:lnTo>
                        <a:lnTo>
                          <a:pt x="202" y="78"/>
                        </a:lnTo>
                        <a:lnTo>
                          <a:pt x="213" y="36"/>
                        </a:lnTo>
                        <a:lnTo>
                          <a:pt x="235" y="60"/>
                        </a:lnTo>
                        <a:lnTo>
                          <a:pt x="251" y="9"/>
                        </a:lnTo>
                        <a:lnTo>
                          <a:pt x="278" y="36"/>
                        </a:lnTo>
                        <a:lnTo>
                          <a:pt x="295" y="0"/>
                        </a:lnTo>
                        <a:lnTo>
                          <a:pt x="289" y="4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4" name=""/>
                  <p:cNvSpPr/>
                  <p:nvPr/>
                </p:nvSpPr>
                <p:spPr>
                  <a:xfrm>
                    <a:off x="6337440" y="2552760"/>
                    <a:ext cx="46800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5" h="152">
                        <a:moveTo>
                          <a:pt x="0" y="152"/>
                        </a:moveTo>
                        <a:lnTo>
                          <a:pt x="33" y="110"/>
                        </a:lnTo>
                        <a:lnTo>
                          <a:pt x="60" y="129"/>
                        </a:lnTo>
                        <a:lnTo>
                          <a:pt x="88" y="87"/>
                        </a:lnTo>
                        <a:lnTo>
                          <a:pt x="109" y="110"/>
                        </a:lnTo>
                        <a:lnTo>
                          <a:pt x="131" y="69"/>
                        </a:lnTo>
                        <a:lnTo>
                          <a:pt x="159" y="92"/>
                        </a:lnTo>
                        <a:lnTo>
                          <a:pt x="170" y="50"/>
                        </a:lnTo>
                        <a:lnTo>
                          <a:pt x="197" y="78"/>
                        </a:lnTo>
                        <a:lnTo>
                          <a:pt x="213" y="37"/>
                        </a:lnTo>
                        <a:lnTo>
                          <a:pt x="235" y="60"/>
                        </a:lnTo>
                        <a:lnTo>
                          <a:pt x="246" y="9"/>
                        </a:lnTo>
                        <a:lnTo>
                          <a:pt x="279" y="37"/>
                        </a:lnTo>
                        <a:lnTo>
                          <a:pt x="295" y="0"/>
                        </a:lnTo>
                        <a:lnTo>
                          <a:pt x="290" y="4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5" name=""/>
                  <p:cNvSpPr/>
                  <p:nvPr/>
                </p:nvSpPr>
                <p:spPr>
                  <a:xfrm>
                    <a:off x="6068880" y="2676600"/>
                    <a:ext cx="277920" cy="1094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6" name=""/>
                  <p:cNvSpPr/>
                  <p:nvPr/>
                </p:nvSpPr>
                <p:spPr>
                  <a:xfrm>
                    <a:off x="6531120" y="2443320"/>
                    <a:ext cx="266400" cy="1080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7" name=""/>
                  <p:cNvSpPr/>
                  <p:nvPr/>
                </p:nvSpPr>
                <p:spPr>
                  <a:xfrm>
                    <a:off x="6477120" y="2457720"/>
                    <a:ext cx="258480" cy="1076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8" name=""/>
                  <p:cNvSpPr/>
                  <p:nvPr/>
                </p:nvSpPr>
                <p:spPr>
                  <a:xfrm>
                    <a:off x="6418440" y="2494080"/>
                    <a:ext cx="266400" cy="1080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9" name=""/>
                  <p:cNvSpPr/>
                  <p:nvPr/>
                </p:nvSpPr>
                <p:spPr>
                  <a:xfrm>
                    <a:off x="6367320" y="2538720"/>
                    <a:ext cx="255600" cy="1076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0" name=""/>
                  <p:cNvSpPr/>
                  <p:nvPr/>
                </p:nvSpPr>
                <p:spPr>
                  <a:xfrm>
                    <a:off x="6286680" y="2567160"/>
                    <a:ext cx="268200" cy="1080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1" name=""/>
                  <p:cNvSpPr/>
                  <p:nvPr/>
                </p:nvSpPr>
                <p:spPr>
                  <a:xfrm>
                    <a:off x="6216480" y="2595600"/>
                    <a:ext cx="268560" cy="109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2" name=""/>
                  <p:cNvSpPr/>
                  <p:nvPr/>
                </p:nvSpPr>
                <p:spPr>
                  <a:xfrm>
                    <a:off x="6146640" y="2625840"/>
                    <a:ext cx="260640" cy="1094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03" name=""/>
              <p:cNvGrpSpPr/>
              <p:nvPr/>
            </p:nvGrpSpPr>
            <p:grpSpPr>
              <a:xfrm>
                <a:off x="5826240" y="2311560"/>
                <a:ext cx="1187280" cy="284040"/>
                <a:chOff x="5826240" y="2311560"/>
                <a:chExt cx="1187280" cy="284040"/>
              </a:xfrm>
            </p:grpSpPr>
            <p:sp>
              <p:nvSpPr>
                <p:cNvPr id="3004" name=""/>
                <p:cNvSpPr/>
                <p:nvPr/>
              </p:nvSpPr>
              <p:spPr>
                <a:xfrm>
                  <a:off x="5826240" y="2311560"/>
                  <a:ext cx="1187280" cy="284040"/>
                </a:xfrm>
                <a:custGeom>
                  <a:avLst/>
                  <a:gdLst/>
                  <a:ahLst/>
                  <a:rect l="l" t="t" r="r" b="b"/>
                  <a:pathLst>
                    <a:path w="748" h="179">
                      <a:moveTo>
                        <a:pt x="0" y="161"/>
                      </a:moveTo>
                      <a:lnTo>
                        <a:pt x="552" y="179"/>
                      </a:lnTo>
                      <a:lnTo>
                        <a:pt x="748" y="18"/>
                      </a:lnTo>
                      <a:lnTo>
                        <a:pt x="262" y="0"/>
                      </a:lnTo>
                      <a:lnTo>
                        <a:pt x="0" y="16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05" name=""/>
                <p:cNvGrpSpPr/>
                <p:nvPr/>
              </p:nvGrpSpPr>
              <p:grpSpPr>
                <a:xfrm>
                  <a:off x="6060960" y="2384640"/>
                  <a:ext cx="822600" cy="174600"/>
                  <a:chOff x="6060960" y="2384640"/>
                  <a:chExt cx="822600" cy="174600"/>
                </a:xfrm>
              </p:grpSpPr>
              <p:sp>
                <p:nvSpPr>
                  <p:cNvPr id="3006" name=""/>
                  <p:cNvSpPr/>
                  <p:nvPr/>
                </p:nvSpPr>
                <p:spPr>
                  <a:xfrm>
                    <a:off x="6078600" y="2500560"/>
                    <a:ext cx="5443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33">
                        <a:moveTo>
                          <a:pt x="0" y="19"/>
                        </a:moveTo>
                        <a:lnTo>
                          <a:pt x="38" y="33"/>
                        </a:lnTo>
                        <a:lnTo>
                          <a:pt x="65" y="10"/>
                        </a:lnTo>
                        <a:lnTo>
                          <a:pt x="103" y="28"/>
                        </a:lnTo>
                        <a:lnTo>
                          <a:pt x="125" y="10"/>
                        </a:lnTo>
                        <a:lnTo>
                          <a:pt x="152" y="28"/>
                        </a:lnTo>
                        <a:lnTo>
                          <a:pt x="180" y="5"/>
                        </a:lnTo>
                        <a:lnTo>
                          <a:pt x="202" y="24"/>
                        </a:lnTo>
                        <a:lnTo>
                          <a:pt x="229" y="0"/>
                        </a:lnTo>
                        <a:lnTo>
                          <a:pt x="251" y="19"/>
                        </a:lnTo>
                        <a:lnTo>
                          <a:pt x="267" y="0"/>
                        </a:lnTo>
                        <a:lnTo>
                          <a:pt x="294" y="28"/>
                        </a:lnTo>
                        <a:lnTo>
                          <a:pt x="322" y="5"/>
                        </a:lnTo>
                        <a:lnTo>
                          <a:pt x="343" y="19"/>
                        </a:lnTo>
                        <a:lnTo>
                          <a:pt x="338" y="19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7" name=""/>
                  <p:cNvSpPr/>
                  <p:nvPr/>
                </p:nvSpPr>
                <p:spPr>
                  <a:xfrm>
                    <a:off x="6329520" y="2384640"/>
                    <a:ext cx="5461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4" h="32">
                        <a:moveTo>
                          <a:pt x="0" y="14"/>
                        </a:moveTo>
                        <a:lnTo>
                          <a:pt x="38" y="32"/>
                        </a:lnTo>
                        <a:lnTo>
                          <a:pt x="65" y="9"/>
                        </a:lnTo>
                        <a:lnTo>
                          <a:pt x="104" y="27"/>
                        </a:lnTo>
                        <a:lnTo>
                          <a:pt x="125" y="4"/>
                        </a:lnTo>
                        <a:lnTo>
                          <a:pt x="153" y="23"/>
                        </a:lnTo>
                        <a:lnTo>
                          <a:pt x="180" y="4"/>
                        </a:lnTo>
                        <a:lnTo>
                          <a:pt x="202" y="23"/>
                        </a:lnTo>
                        <a:lnTo>
                          <a:pt x="229" y="0"/>
                        </a:lnTo>
                        <a:lnTo>
                          <a:pt x="251" y="18"/>
                        </a:lnTo>
                        <a:lnTo>
                          <a:pt x="267" y="0"/>
                        </a:lnTo>
                        <a:lnTo>
                          <a:pt x="295" y="23"/>
                        </a:lnTo>
                        <a:lnTo>
                          <a:pt x="322" y="0"/>
                        </a:lnTo>
                        <a:lnTo>
                          <a:pt x="344" y="18"/>
                        </a:lnTo>
                        <a:lnTo>
                          <a:pt x="338" y="14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8" name=""/>
                  <p:cNvSpPr/>
                  <p:nvPr/>
                </p:nvSpPr>
                <p:spPr>
                  <a:xfrm flipV="1">
                    <a:off x="6060960" y="2392560"/>
                    <a:ext cx="268560" cy="1238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9" name=""/>
                  <p:cNvSpPr/>
                  <p:nvPr/>
                </p:nvSpPr>
                <p:spPr>
                  <a:xfrm flipV="1">
                    <a:off x="6632640" y="2428920"/>
                    <a:ext cx="250920" cy="1238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0" name=""/>
                  <p:cNvSpPr/>
                  <p:nvPr/>
                </p:nvSpPr>
                <p:spPr>
                  <a:xfrm flipV="1">
                    <a:off x="6566040" y="2436840"/>
                    <a:ext cx="249120" cy="1224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1" name=""/>
                  <p:cNvSpPr/>
                  <p:nvPr/>
                </p:nvSpPr>
                <p:spPr>
                  <a:xfrm flipV="1">
                    <a:off x="6494400" y="2422440"/>
                    <a:ext cx="250920" cy="1220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2" name=""/>
                  <p:cNvSpPr/>
                  <p:nvPr/>
                </p:nvSpPr>
                <p:spPr>
                  <a:xfrm flipV="1">
                    <a:off x="6418440" y="2414520"/>
                    <a:ext cx="249120" cy="1155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3" name=""/>
                  <p:cNvSpPr/>
                  <p:nvPr/>
                </p:nvSpPr>
                <p:spPr>
                  <a:xfrm flipV="1">
                    <a:off x="6332400" y="2415960"/>
                    <a:ext cx="257400" cy="1141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4" name=""/>
                  <p:cNvSpPr/>
                  <p:nvPr/>
                </p:nvSpPr>
                <p:spPr>
                  <a:xfrm flipV="1">
                    <a:off x="6254640" y="2415960"/>
                    <a:ext cx="247680" cy="1141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5" name=""/>
                  <p:cNvSpPr/>
                  <p:nvPr/>
                </p:nvSpPr>
                <p:spPr>
                  <a:xfrm flipV="1">
                    <a:off x="6164280" y="2406600"/>
                    <a:ext cx="250920" cy="1234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016" name=""/>
            <p:cNvGrpSpPr/>
            <p:nvPr/>
          </p:nvGrpSpPr>
          <p:grpSpPr>
            <a:xfrm>
              <a:off x="7211880" y="1986120"/>
              <a:ext cx="1724040" cy="1491120"/>
              <a:chOff x="7211880" y="1986120"/>
              <a:chExt cx="1724040" cy="1491120"/>
            </a:xfrm>
          </p:grpSpPr>
          <p:sp>
            <p:nvSpPr>
              <p:cNvPr id="3017" name=""/>
              <p:cNvSpPr/>
              <p:nvPr/>
            </p:nvSpPr>
            <p:spPr>
              <a:xfrm>
                <a:off x="7211880" y="2860920"/>
                <a:ext cx="145404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7850160" y="2205000"/>
                <a:ext cx="0" cy="84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831080" y="1986120"/>
                <a:ext cx="83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Z(u,v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20" name=""/>
              <p:cNvGrpSpPr/>
              <p:nvPr/>
            </p:nvGrpSpPr>
            <p:grpSpPr>
              <a:xfrm>
                <a:off x="7283520" y="2586240"/>
                <a:ext cx="1177560" cy="743760"/>
                <a:chOff x="7283520" y="2586240"/>
                <a:chExt cx="1177560" cy="743760"/>
              </a:xfrm>
            </p:grpSpPr>
            <p:sp>
              <p:nvSpPr>
                <p:cNvPr id="3021" name=""/>
                <p:cNvSpPr/>
                <p:nvPr/>
              </p:nvSpPr>
              <p:spPr>
                <a:xfrm flipV="1">
                  <a:off x="7283520" y="2709720"/>
                  <a:ext cx="1115640" cy="62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7345440" y="2586240"/>
                  <a:ext cx="1115640" cy="673560"/>
                </a:xfrm>
                <a:custGeom>
                  <a:avLst/>
                  <a:gdLst/>
                  <a:ahLst/>
                  <a:rect l="l" t="t" r="r" b="b"/>
                  <a:pathLst>
                    <a:path w="1152" h="695">
                      <a:moveTo>
                        <a:pt x="412" y="45"/>
                      </a:moveTo>
                      <a:lnTo>
                        <a:pt x="613" y="0"/>
                      </a:lnTo>
                      <a:lnTo>
                        <a:pt x="713" y="146"/>
                      </a:lnTo>
                      <a:lnTo>
                        <a:pt x="896" y="146"/>
                      </a:lnTo>
                      <a:lnTo>
                        <a:pt x="942" y="292"/>
                      </a:lnTo>
                      <a:lnTo>
                        <a:pt x="1143" y="356"/>
                      </a:lnTo>
                      <a:lnTo>
                        <a:pt x="1152" y="521"/>
                      </a:lnTo>
                      <a:lnTo>
                        <a:pt x="851" y="676"/>
                      </a:lnTo>
                      <a:lnTo>
                        <a:pt x="439" y="695"/>
                      </a:lnTo>
                      <a:lnTo>
                        <a:pt x="55" y="512"/>
                      </a:lnTo>
                      <a:lnTo>
                        <a:pt x="0" y="365"/>
                      </a:lnTo>
                      <a:lnTo>
                        <a:pt x="110" y="228"/>
                      </a:lnTo>
                      <a:lnTo>
                        <a:pt x="311" y="219"/>
                      </a:lnTo>
                      <a:lnTo>
                        <a:pt x="412" y="4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cc"/>
                    </a:gs>
                    <a:gs pos="100000">
                      <a:srgbClr val="6699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7948080" y="2763360"/>
                  <a:ext cx="283680" cy="229680"/>
                </a:xfrm>
                <a:custGeom>
                  <a:avLst/>
                  <a:gdLst/>
                  <a:ahLst/>
                  <a:rect l="l" t="t" r="r" b="b"/>
                  <a:pathLst>
                    <a:path w="293" h="237">
                      <a:moveTo>
                        <a:pt x="293" y="82"/>
                      </a:moveTo>
                      <a:lnTo>
                        <a:pt x="165" y="27"/>
                      </a:lnTo>
                      <a:lnTo>
                        <a:pt x="0" y="0"/>
                      </a:lnTo>
                      <a:lnTo>
                        <a:pt x="9" y="228"/>
                      </a:lnTo>
                      <a:lnTo>
                        <a:pt x="183" y="237"/>
                      </a:lnTo>
                      <a:lnTo>
                        <a:pt x="201" y="146"/>
                      </a:lnTo>
                      <a:lnTo>
                        <a:pt x="293" y="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7832880" y="2612160"/>
                  <a:ext cx="141120" cy="168480"/>
                </a:xfrm>
                <a:custGeom>
                  <a:avLst/>
                  <a:gdLst/>
                  <a:ahLst/>
                  <a:rect l="l" t="t" r="r" b="b"/>
                  <a:pathLst>
                    <a:path w="146" h="174">
                      <a:moveTo>
                        <a:pt x="146" y="110"/>
                      </a:moveTo>
                      <a:lnTo>
                        <a:pt x="82" y="0"/>
                      </a:lnTo>
                      <a:lnTo>
                        <a:pt x="0" y="73"/>
                      </a:lnTo>
                      <a:lnTo>
                        <a:pt x="0" y="174"/>
                      </a:lnTo>
                      <a:lnTo>
                        <a:pt x="146" y="11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7522920" y="2754000"/>
                  <a:ext cx="814320" cy="337320"/>
                </a:xfrm>
                <a:custGeom>
                  <a:avLst/>
                  <a:gdLst/>
                  <a:ahLst/>
                  <a:rect l="l" t="t" r="r" b="b"/>
                  <a:pathLst>
                    <a:path w="841" h="348">
                      <a:moveTo>
                        <a:pt x="768" y="128"/>
                      </a:moveTo>
                      <a:lnTo>
                        <a:pt x="841" y="202"/>
                      </a:lnTo>
                      <a:lnTo>
                        <a:pt x="841" y="284"/>
                      </a:lnTo>
                      <a:lnTo>
                        <a:pt x="567" y="339"/>
                      </a:lnTo>
                      <a:lnTo>
                        <a:pt x="265" y="348"/>
                      </a:lnTo>
                      <a:lnTo>
                        <a:pt x="46" y="256"/>
                      </a:lnTo>
                      <a:lnTo>
                        <a:pt x="0" y="138"/>
                      </a:lnTo>
                      <a:lnTo>
                        <a:pt x="110" y="64"/>
                      </a:lnTo>
                      <a:lnTo>
                        <a:pt x="16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8178480" y="2896200"/>
                  <a:ext cx="141120" cy="132480"/>
                </a:xfrm>
                <a:custGeom>
                  <a:avLst/>
                  <a:gdLst/>
                  <a:ahLst/>
                  <a:rect l="l" t="t" r="r" b="b"/>
                  <a:pathLst>
                    <a:path w="146" h="137">
                      <a:moveTo>
                        <a:pt x="0" y="109"/>
                      </a:moveTo>
                      <a:lnTo>
                        <a:pt x="73" y="0"/>
                      </a:lnTo>
                      <a:lnTo>
                        <a:pt x="146" y="45"/>
                      </a:lnTo>
                      <a:lnTo>
                        <a:pt x="128" y="137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7" name=""/>
              <p:cNvSpPr/>
              <p:nvPr/>
            </p:nvSpPr>
            <p:spPr>
              <a:xfrm>
                <a:off x="8598240" y="307836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8131680" y="236088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8488440" y="2576520"/>
                <a:ext cx="0" cy="60336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7323120" y="2288880"/>
                <a:ext cx="0" cy="60156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1" name=""/>
            <p:cNvGrpSpPr/>
            <p:nvPr/>
          </p:nvGrpSpPr>
          <p:grpSpPr>
            <a:xfrm>
              <a:off x="4152960" y="1886040"/>
              <a:ext cx="1448280" cy="1360080"/>
              <a:chOff x="4152960" y="1886040"/>
              <a:chExt cx="1448280" cy="1360080"/>
            </a:xfrm>
          </p:grpSpPr>
          <p:grpSp>
            <p:nvGrpSpPr>
              <p:cNvPr id="3032" name=""/>
              <p:cNvGrpSpPr/>
              <p:nvPr/>
            </p:nvGrpSpPr>
            <p:grpSpPr>
              <a:xfrm>
                <a:off x="4152960" y="2084400"/>
                <a:ext cx="1344600" cy="1161720"/>
                <a:chOff x="4152960" y="2084400"/>
                <a:chExt cx="1344600" cy="1161720"/>
              </a:xfrm>
            </p:grpSpPr>
            <p:sp>
              <p:nvSpPr>
                <p:cNvPr id="3033" name=""/>
                <p:cNvSpPr/>
                <p:nvPr/>
              </p:nvSpPr>
              <p:spPr>
                <a:xfrm>
                  <a:off x="4344840" y="2340000"/>
                  <a:ext cx="917640" cy="746280"/>
                </a:xfrm>
                <a:custGeom>
                  <a:avLst/>
                  <a:gdLst/>
                  <a:ahLst/>
                  <a:rect l="l" t="t" r="r" b="b"/>
                  <a:pathLst>
                    <a:path w="578" h="470">
                      <a:moveTo>
                        <a:pt x="0" y="134"/>
                      </a:moveTo>
                      <a:lnTo>
                        <a:pt x="38" y="88"/>
                      </a:lnTo>
                      <a:lnTo>
                        <a:pt x="38" y="65"/>
                      </a:lnTo>
                      <a:lnTo>
                        <a:pt x="81" y="28"/>
                      </a:lnTo>
                      <a:lnTo>
                        <a:pt x="92" y="0"/>
                      </a:lnTo>
                      <a:lnTo>
                        <a:pt x="234" y="143"/>
                      </a:lnTo>
                      <a:lnTo>
                        <a:pt x="349" y="166"/>
                      </a:lnTo>
                      <a:lnTo>
                        <a:pt x="469" y="143"/>
                      </a:lnTo>
                      <a:lnTo>
                        <a:pt x="529" y="184"/>
                      </a:lnTo>
                      <a:lnTo>
                        <a:pt x="578" y="313"/>
                      </a:lnTo>
                      <a:lnTo>
                        <a:pt x="529" y="309"/>
                      </a:lnTo>
                      <a:lnTo>
                        <a:pt x="502" y="217"/>
                      </a:lnTo>
                      <a:lnTo>
                        <a:pt x="502" y="290"/>
                      </a:lnTo>
                      <a:lnTo>
                        <a:pt x="475" y="346"/>
                      </a:lnTo>
                      <a:lnTo>
                        <a:pt x="464" y="387"/>
                      </a:lnTo>
                      <a:lnTo>
                        <a:pt x="431" y="442"/>
                      </a:lnTo>
                      <a:lnTo>
                        <a:pt x="436" y="470"/>
                      </a:lnTo>
                      <a:lnTo>
                        <a:pt x="398" y="465"/>
                      </a:lnTo>
                      <a:lnTo>
                        <a:pt x="420" y="429"/>
                      </a:lnTo>
                      <a:lnTo>
                        <a:pt x="431" y="369"/>
                      </a:lnTo>
                      <a:lnTo>
                        <a:pt x="382" y="295"/>
                      </a:lnTo>
                      <a:lnTo>
                        <a:pt x="322" y="313"/>
                      </a:lnTo>
                      <a:lnTo>
                        <a:pt x="262" y="313"/>
                      </a:lnTo>
                      <a:lnTo>
                        <a:pt x="262" y="346"/>
                      </a:lnTo>
                      <a:lnTo>
                        <a:pt x="251" y="382"/>
                      </a:lnTo>
                      <a:lnTo>
                        <a:pt x="251" y="429"/>
                      </a:lnTo>
                      <a:lnTo>
                        <a:pt x="256" y="465"/>
                      </a:lnTo>
                      <a:lnTo>
                        <a:pt x="213" y="465"/>
                      </a:lnTo>
                      <a:lnTo>
                        <a:pt x="223" y="438"/>
                      </a:lnTo>
                      <a:lnTo>
                        <a:pt x="229" y="387"/>
                      </a:lnTo>
                      <a:lnTo>
                        <a:pt x="223" y="373"/>
                      </a:lnTo>
                      <a:lnTo>
                        <a:pt x="229" y="359"/>
                      </a:lnTo>
                      <a:lnTo>
                        <a:pt x="174" y="295"/>
                      </a:lnTo>
                      <a:lnTo>
                        <a:pt x="152" y="212"/>
                      </a:lnTo>
                      <a:lnTo>
                        <a:pt x="109" y="101"/>
                      </a:lnTo>
                      <a:lnTo>
                        <a:pt x="71" y="125"/>
                      </a:lnTo>
                      <a:lnTo>
                        <a:pt x="21" y="152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4" name=""/>
                <p:cNvGrpSpPr/>
                <p:nvPr/>
              </p:nvGrpSpPr>
              <p:grpSpPr>
                <a:xfrm>
                  <a:off x="4578480" y="2443320"/>
                  <a:ext cx="554040" cy="474480"/>
                  <a:chOff x="4578480" y="2443320"/>
                  <a:chExt cx="554040" cy="474480"/>
                </a:xfrm>
              </p:grpSpPr>
              <p:sp>
                <p:nvSpPr>
                  <p:cNvPr id="3035" name=""/>
                  <p:cNvSpPr/>
                  <p:nvPr/>
                </p:nvSpPr>
                <p:spPr>
                  <a:xfrm>
                    <a:off x="4578480" y="2443320"/>
                    <a:ext cx="3492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29">
                        <a:moveTo>
                          <a:pt x="0" y="0"/>
                        </a:moveTo>
                        <a:lnTo>
                          <a:pt x="22" y="78"/>
                        </a:lnTo>
                        <a:lnTo>
                          <a:pt x="11" y="129"/>
                        </a:lnTo>
                        <a:lnTo>
                          <a:pt x="5" y="129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6" name=""/>
                  <p:cNvSpPr/>
                  <p:nvPr/>
                </p:nvSpPr>
                <p:spPr>
                  <a:xfrm>
                    <a:off x="4613400" y="2508480"/>
                    <a:ext cx="5220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61">
                        <a:moveTo>
                          <a:pt x="16" y="0"/>
                        </a:moveTo>
                        <a:lnTo>
                          <a:pt x="33" y="88"/>
                        </a:lnTo>
                        <a:lnTo>
                          <a:pt x="5" y="161"/>
                        </a:lnTo>
                        <a:lnTo>
                          <a:pt x="0" y="161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7" name=""/>
                  <p:cNvSpPr/>
                  <p:nvPr/>
                </p:nvSpPr>
                <p:spPr>
                  <a:xfrm>
                    <a:off x="4648320" y="2544840"/>
                    <a:ext cx="60120" cy="3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89">
                        <a:moveTo>
                          <a:pt x="22" y="0"/>
                        </a:moveTo>
                        <a:lnTo>
                          <a:pt x="38" y="97"/>
                        </a:lnTo>
                        <a:lnTo>
                          <a:pt x="5" y="171"/>
                        </a:lnTo>
                        <a:lnTo>
                          <a:pt x="0" y="189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8" name=""/>
                  <p:cNvSpPr/>
                  <p:nvPr/>
                </p:nvSpPr>
                <p:spPr>
                  <a:xfrm>
                    <a:off x="4708440" y="2589480"/>
                    <a:ext cx="42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93">
                        <a:moveTo>
                          <a:pt x="11" y="0"/>
                        </a:moveTo>
                        <a:lnTo>
                          <a:pt x="27" y="83"/>
                        </a:lnTo>
                        <a:lnTo>
                          <a:pt x="5" y="161"/>
                        </a:lnTo>
                        <a:lnTo>
                          <a:pt x="0" y="193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9" name=""/>
                  <p:cNvSpPr/>
                  <p:nvPr/>
                </p:nvSpPr>
                <p:spPr>
                  <a:xfrm>
                    <a:off x="4778280" y="2603520"/>
                    <a:ext cx="1584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52">
                        <a:moveTo>
                          <a:pt x="0" y="0"/>
                        </a:moveTo>
                        <a:lnTo>
                          <a:pt x="10" y="88"/>
                        </a:lnTo>
                        <a:lnTo>
                          <a:pt x="0" y="152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0" name=""/>
                  <p:cNvSpPr/>
                  <p:nvPr/>
                </p:nvSpPr>
                <p:spPr>
                  <a:xfrm>
                    <a:off x="4821120" y="2603520"/>
                    <a:ext cx="1764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52">
                        <a:moveTo>
                          <a:pt x="0" y="0"/>
                        </a:moveTo>
                        <a:lnTo>
                          <a:pt x="11" y="88"/>
                        </a:lnTo>
                        <a:lnTo>
                          <a:pt x="5" y="152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1" name=""/>
                  <p:cNvSpPr/>
                  <p:nvPr/>
                </p:nvSpPr>
                <p:spPr>
                  <a:xfrm>
                    <a:off x="4863960" y="2611440"/>
                    <a:ext cx="17640" cy="23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47">
                        <a:moveTo>
                          <a:pt x="6" y="0"/>
                        </a:moveTo>
                        <a:lnTo>
                          <a:pt x="11" y="96"/>
                        </a:lnTo>
                        <a:lnTo>
                          <a:pt x="0" y="147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2" name=""/>
                  <p:cNvSpPr/>
                  <p:nvPr/>
                </p:nvSpPr>
                <p:spPr>
                  <a:xfrm>
                    <a:off x="4906800" y="2611440"/>
                    <a:ext cx="27000" cy="22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42">
                        <a:moveTo>
                          <a:pt x="6" y="0"/>
                        </a:moveTo>
                        <a:lnTo>
                          <a:pt x="17" y="59"/>
                        </a:lnTo>
                        <a:lnTo>
                          <a:pt x="0" y="142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3" name=""/>
                  <p:cNvSpPr/>
                  <p:nvPr/>
                </p:nvSpPr>
                <p:spPr>
                  <a:xfrm>
                    <a:off x="4951440" y="2611440"/>
                    <a:ext cx="2520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33">
                        <a:moveTo>
                          <a:pt x="5" y="0"/>
                        </a:moveTo>
                        <a:lnTo>
                          <a:pt x="16" y="73"/>
                        </a:lnTo>
                        <a:lnTo>
                          <a:pt x="0" y="133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4" name=""/>
                  <p:cNvSpPr/>
                  <p:nvPr/>
                </p:nvSpPr>
                <p:spPr>
                  <a:xfrm>
                    <a:off x="4994280" y="2603520"/>
                    <a:ext cx="3492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80">
                        <a:moveTo>
                          <a:pt x="0" y="0"/>
                        </a:moveTo>
                        <a:lnTo>
                          <a:pt x="22" y="120"/>
                        </a:lnTo>
                        <a:lnTo>
                          <a:pt x="6" y="180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5" name=""/>
                  <p:cNvSpPr/>
                  <p:nvPr/>
                </p:nvSpPr>
                <p:spPr>
                  <a:xfrm>
                    <a:off x="5037120" y="2595600"/>
                    <a:ext cx="2700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3">
                        <a:moveTo>
                          <a:pt x="0" y="0"/>
                        </a:moveTo>
                        <a:lnTo>
                          <a:pt x="17" y="83"/>
                        </a:lnTo>
                        <a:lnTo>
                          <a:pt x="17" y="148"/>
                        </a:lnTo>
                        <a:lnTo>
                          <a:pt x="0" y="203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6" name=""/>
                  <p:cNvSpPr/>
                  <p:nvPr/>
                </p:nvSpPr>
                <p:spPr>
                  <a:xfrm>
                    <a:off x="5081760" y="2589480"/>
                    <a:ext cx="2520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75">
                        <a:moveTo>
                          <a:pt x="0" y="0"/>
                        </a:moveTo>
                        <a:lnTo>
                          <a:pt x="11" y="115"/>
                        </a:lnTo>
                        <a:lnTo>
                          <a:pt x="16" y="175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7" name=""/>
                  <p:cNvSpPr/>
                  <p:nvPr/>
                </p:nvSpPr>
                <p:spPr>
                  <a:xfrm>
                    <a:off x="5106960" y="2603520"/>
                    <a:ext cx="2556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38">
                        <a:moveTo>
                          <a:pt x="0" y="0"/>
                        </a:moveTo>
                        <a:lnTo>
                          <a:pt x="16" y="64"/>
                        </a:lnTo>
                        <a:lnTo>
                          <a:pt x="16" y="138"/>
                        </a:lnTo>
                      </a:path>
                    </a:pathLst>
                  </a:custGeom>
                  <a:noFill/>
                  <a:ln w="176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8" name=""/>
                <p:cNvGrpSpPr/>
                <p:nvPr/>
              </p:nvGrpSpPr>
              <p:grpSpPr>
                <a:xfrm>
                  <a:off x="4232160" y="2084400"/>
                  <a:ext cx="77760" cy="1161720"/>
                  <a:chOff x="4232160" y="2084400"/>
                  <a:chExt cx="77760" cy="1161720"/>
                </a:xfrm>
              </p:grpSpPr>
              <p:sp>
                <p:nvSpPr>
                  <p:cNvPr id="3049" name=""/>
                  <p:cNvSpPr/>
                  <p:nvPr/>
                </p:nvSpPr>
                <p:spPr>
                  <a:xfrm>
                    <a:off x="4232160" y="2084400"/>
                    <a:ext cx="7776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78">
                        <a:moveTo>
                          <a:pt x="21" y="0"/>
                        </a:moveTo>
                        <a:lnTo>
                          <a:pt x="49" y="78"/>
                        </a:lnTo>
                        <a:lnTo>
                          <a:pt x="21" y="78"/>
                        </a:lnTo>
                        <a:lnTo>
                          <a:pt x="0" y="78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0" name=""/>
                  <p:cNvSpPr/>
                  <p:nvPr/>
                </p:nvSpPr>
                <p:spPr>
                  <a:xfrm flipV="1">
                    <a:off x="4265640" y="2201760"/>
                    <a:ext cx="1440" cy="1044360"/>
                  </a:xfrm>
                  <a:prstGeom prst="line">
                    <a:avLst/>
                  </a:prstGeom>
                  <a:ln w="176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1" name=""/>
                <p:cNvGrpSpPr/>
                <p:nvPr/>
              </p:nvGrpSpPr>
              <p:grpSpPr>
                <a:xfrm>
                  <a:off x="4152960" y="3122640"/>
                  <a:ext cx="1344600" cy="58680"/>
                  <a:chOff x="4152960" y="3122640"/>
                  <a:chExt cx="1344600" cy="58680"/>
                </a:xfrm>
              </p:grpSpPr>
              <p:sp>
                <p:nvSpPr>
                  <p:cNvPr id="3052" name=""/>
                  <p:cNvSpPr/>
                  <p:nvPr/>
                </p:nvSpPr>
                <p:spPr>
                  <a:xfrm>
                    <a:off x="5349960" y="3122640"/>
                    <a:ext cx="14760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37">
                        <a:moveTo>
                          <a:pt x="93" y="18"/>
                        </a:moveTo>
                        <a:lnTo>
                          <a:pt x="0" y="37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lnTo>
                          <a:pt x="93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3" name=""/>
                  <p:cNvSpPr/>
                  <p:nvPr/>
                </p:nvSpPr>
                <p:spPr>
                  <a:xfrm>
                    <a:off x="4152960" y="3151440"/>
                    <a:ext cx="1204920" cy="1440"/>
                  </a:xfrm>
                  <a:prstGeom prst="line">
                    <a:avLst/>
                  </a:prstGeom>
                  <a:ln w="176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54" name=""/>
              <p:cNvSpPr/>
              <p:nvPr/>
            </p:nvSpPr>
            <p:spPr>
              <a:xfrm>
                <a:off x="5300280" y="277812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287240" y="1886040"/>
                <a:ext cx="29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56" name=""/>
          <p:cNvSpPr/>
          <p:nvPr/>
        </p:nvSpPr>
        <p:spPr>
          <a:xfrm>
            <a:off x="411480" y="4673520"/>
            <a:ext cx="3705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eval de cirq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eval + quadr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double crénea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je rajoute les fré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qu'il f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7" name=""/>
          <p:cNvGrpSpPr/>
          <p:nvPr/>
        </p:nvGrpSpPr>
        <p:grpSpPr>
          <a:xfrm>
            <a:off x="4213080" y="4745160"/>
            <a:ext cx="3411720" cy="1906920"/>
            <a:chOff x="4213080" y="4745160"/>
            <a:chExt cx="3411720" cy="1906920"/>
          </a:xfrm>
        </p:grpSpPr>
        <p:sp>
          <p:nvSpPr>
            <p:cNvPr id="3058" name=""/>
            <p:cNvSpPr/>
            <p:nvPr/>
          </p:nvSpPr>
          <p:spPr>
            <a:xfrm>
              <a:off x="6707160" y="5589720"/>
              <a:ext cx="917640" cy="803160"/>
            </a:xfrm>
            <a:custGeom>
              <a:avLst/>
              <a:gdLst/>
              <a:ahLst/>
              <a:rect l="l" t="t" r="r" b="b"/>
              <a:pathLst>
                <a:path w="578" h="506">
                  <a:moveTo>
                    <a:pt x="0" y="147"/>
                  </a:moveTo>
                  <a:lnTo>
                    <a:pt x="38" y="92"/>
                  </a:lnTo>
                  <a:lnTo>
                    <a:pt x="38" y="69"/>
                  </a:lnTo>
                  <a:lnTo>
                    <a:pt x="81" y="32"/>
                  </a:lnTo>
                  <a:lnTo>
                    <a:pt x="92" y="0"/>
                  </a:lnTo>
                  <a:lnTo>
                    <a:pt x="234" y="156"/>
                  </a:lnTo>
                  <a:lnTo>
                    <a:pt x="349" y="179"/>
                  </a:lnTo>
                  <a:lnTo>
                    <a:pt x="469" y="156"/>
                  </a:lnTo>
                  <a:lnTo>
                    <a:pt x="529" y="198"/>
                  </a:lnTo>
                  <a:lnTo>
                    <a:pt x="578" y="341"/>
                  </a:lnTo>
                  <a:lnTo>
                    <a:pt x="529" y="331"/>
                  </a:lnTo>
                  <a:lnTo>
                    <a:pt x="502" y="235"/>
                  </a:lnTo>
                  <a:lnTo>
                    <a:pt x="502" y="313"/>
                  </a:lnTo>
                  <a:lnTo>
                    <a:pt x="475" y="373"/>
                  </a:lnTo>
                  <a:lnTo>
                    <a:pt x="464" y="419"/>
                  </a:lnTo>
                  <a:lnTo>
                    <a:pt x="431" y="479"/>
                  </a:lnTo>
                  <a:lnTo>
                    <a:pt x="436" y="506"/>
                  </a:lnTo>
                  <a:lnTo>
                    <a:pt x="398" y="502"/>
                  </a:lnTo>
                  <a:lnTo>
                    <a:pt x="420" y="460"/>
                  </a:lnTo>
                  <a:lnTo>
                    <a:pt x="431" y="400"/>
                  </a:lnTo>
                  <a:lnTo>
                    <a:pt x="382" y="318"/>
                  </a:lnTo>
                  <a:lnTo>
                    <a:pt x="322" y="336"/>
                  </a:lnTo>
                  <a:lnTo>
                    <a:pt x="262" y="336"/>
                  </a:lnTo>
                  <a:lnTo>
                    <a:pt x="262" y="373"/>
                  </a:lnTo>
                  <a:lnTo>
                    <a:pt x="251" y="414"/>
                  </a:lnTo>
                  <a:lnTo>
                    <a:pt x="251" y="460"/>
                  </a:lnTo>
                  <a:lnTo>
                    <a:pt x="256" y="502"/>
                  </a:lnTo>
                  <a:lnTo>
                    <a:pt x="212" y="497"/>
                  </a:lnTo>
                  <a:lnTo>
                    <a:pt x="223" y="470"/>
                  </a:lnTo>
                  <a:lnTo>
                    <a:pt x="229" y="419"/>
                  </a:lnTo>
                  <a:lnTo>
                    <a:pt x="223" y="400"/>
                  </a:lnTo>
                  <a:lnTo>
                    <a:pt x="229" y="387"/>
                  </a:lnTo>
                  <a:lnTo>
                    <a:pt x="174" y="318"/>
                  </a:lnTo>
                  <a:lnTo>
                    <a:pt x="152" y="230"/>
                  </a:lnTo>
                  <a:lnTo>
                    <a:pt x="109" y="110"/>
                  </a:lnTo>
                  <a:lnTo>
                    <a:pt x="71" y="133"/>
                  </a:lnTo>
                  <a:lnTo>
                    <a:pt x="21" y="161"/>
                  </a:lnTo>
                  <a:lnTo>
                    <a:pt x="0" y="147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9" name=""/>
            <p:cNvGrpSpPr/>
            <p:nvPr/>
          </p:nvGrpSpPr>
          <p:grpSpPr>
            <a:xfrm>
              <a:off x="4213080" y="4745160"/>
              <a:ext cx="2331000" cy="1906920"/>
              <a:chOff x="4213080" y="4745160"/>
              <a:chExt cx="2331000" cy="1906920"/>
            </a:xfrm>
          </p:grpSpPr>
          <p:sp>
            <p:nvSpPr>
              <p:cNvPr id="3060" name=""/>
              <p:cNvSpPr/>
              <p:nvPr/>
            </p:nvSpPr>
            <p:spPr>
              <a:xfrm>
                <a:off x="5111640" y="4745160"/>
                <a:ext cx="83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Z(u,v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4387680" y="5613480"/>
                <a:ext cx="1541520" cy="928080"/>
              </a:xfrm>
              <a:custGeom>
                <a:avLst/>
                <a:gdLst/>
                <a:ahLst/>
                <a:rect l="l" t="t" r="r" b="b"/>
                <a:pathLst>
                  <a:path w="1152" h="695">
                    <a:moveTo>
                      <a:pt x="412" y="45"/>
                    </a:moveTo>
                    <a:lnTo>
                      <a:pt x="613" y="0"/>
                    </a:lnTo>
                    <a:lnTo>
                      <a:pt x="713" y="146"/>
                    </a:lnTo>
                    <a:lnTo>
                      <a:pt x="896" y="146"/>
                    </a:lnTo>
                    <a:lnTo>
                      <a:pt x="942" y="292"/>
                    </a:lnTo>
                    <a:lnTo>
                      <a:pt x="1143" y="356"/>
                    </a:lnTo>
                    <a:lnTo>
                      <a:pt x="1152" y="521"/>
                    </a:lnTo>
                    <a:lnTo>
                      <a:pt x="851" y="676"/>
                    </a:lnTo>
                    <a:lnTo>
                      <a:pt x="439" y="695"/>
                    </a:lnTo>
                    <a:lnTo>
                      <a:pt x="55" y="512"/>
                    </a:lnTo>
                    <a:lnTo>
                      <a:pt x="0" y="365"/>
                    </a:lnTo>
                    <a:lnTo>
                      <a:pt x="110" y="228"/>
                    </a:lnTo>
                    <a:lnTo>
                      <a:pt x="311" y="219"/>
                    </a:lnTo>
                    <a:lnTo>
                      <a:pt x="412" y="4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6699ff"/>
                  </a:gs>
                </a:gsLst>
                <a:lin ang="10800000"/>
              </a:gra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5279760" y="5819760"/>
                <a:ext cx="390600" cy="313920"/>
              </a:xfrm>
              <a:custGeom>
                <a:avLst/>
                <a:gdLst/>
                <a:ahLst/>
                <a:rect l="l" t="t" r="r" b="b"/>
                <a:pathLst>
                  <a:path w="293" h="237">
                    <a:moveTo>
                      <a:pt x="293" y="82"/>
                    </a:moveTo>
                    <a:lnTo>
                      <a:pt x="165" y="27"/>
                    </a:lnTo>
                    <a:lnTo>
                      <a:pt x="0" y="0"/>
                    </a:lnTo>
                    <a:lnTo>
                      <a:pt x="9" y="228"/>
                    </a:lnTo>
                    <a:lnTo>
                      <a:pt x="183" y="237"/>
                    </a:lnTo>
                    <a:lnTo>
                      <a:pt x="201" y="146"/>
                    </a:lnTo>
                    <a:lnTo>
                      <a:pt x="293" y="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121000" y="5608440"/>
                <a:ext cx="193680" cy="234720"/>
              </a:xfrm>
              <a:custGeom>
                <a:avLst/>
                <a:gdLst/>
                <a:ahLst/>
                <a:rect l="l" t="t" r="r" b="b"/>
                <a:pathLst>
                  <a:path w="146" h="174">
                    <a:moveTo>
                      <a:pt x="146" y="110"/>
                    </a:moveTo>
                    <a:lnTo>
                      <a:pt x="82" y="0"/>
                    </a:lnTo>
                    <a:lnTo>
                      <a:pt x="0" y="73"/>
                    </a:lnTo>
                    <a:lnTo>
                      <a:pt x="0" y="174"/>
                    </a:lnTo>
                    <a:lnTo>
                      <a:pt x="146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4692600" y="5805360"/>
                <a:ext cx="1125360" cy="464760"/>
              </a:xfrm>
              <a:custGeom>
                <a:avLst/>
                <a:gdLst/>
                <a:ahLst/>
                <a:rect l="l" t="t" r="r" b="b"/>
                <a:pathLst>
                  <a:path w="841" h="348">
                    <a:moveTo>
                      <a:pt x="768" y="128"/>
                    </a:moveTo>
                    <a:lnTo>
                      <a:pt x="841" y="202"/>
                    </a:lnTo>
                    <a:lnTo>
                      <a:pt x="841" y="284"/>
                    </a:lnTo>
                    <a:lnTo>
                      <a:pt x="567" y="339"/>
                    </a:lnTo>
                    <a:lnTo>
                      <a:pt x="265" y="348"/>
                    </a:lnTo>
                    <a:lnTo>
                      <a:pt x="46" y="256"/>
                    </a:lnTo>
                    <a:lnTo>
                      <a:pt x="0" y="138"/>
                    </a:lnTo>
                    <a:lnTo>
                      <a:pt x="110" y="64"/>
                    </a:lnTo>
                    <a:lnTo>
                      <a:pt x="16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597280" y="6000840"/>
                <a:ext cx="195480" cy="183600"/>
              </a:xfrm>
              <a:custGeom>
                <a:avLst/>
                <a:gdLst/>
                <a:ahLst/>
                <a:rect l="l" t="t" r="r" b="b"/>
                <a:pathLst>
                  <a:path w="146" h="137">
                    <a:moveTo>
                      <a:pt x="0" y="109"/>
                    </a:moveTo>
                    <a:lnTo>
                      <a:pt x="73" y="0"/>
                    </a:lnTo>
                    <a:lnTo>
                      <a:pt x="146" y="45"/>
                    </a:lnTo>
                    <a:lnTo>
                      <a:pt x="128" y="137"/>
                    </a:lnTo>
                    <a:lnTo>
                      <a:pt x="0" y="1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5144760" y="4854600"/>
                <a:ext cx="0" cy="135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6206400" y="625320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926320" y="545472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263840" y="5952960"/>
                <a:ext cx="2006640" cy="50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379760" y="5694120"/>
                <a:ext cx="1643040" cy="904680"/>
              </a:xfrm>
              <a:custGeom>
                <a:avLst/>
                <a:gdLst/>
                <a:ahLst/>
                <a:rect l="l" t="t" r="r" b="b"/>
                <a:pathLst>
                  <a:path w="1035" h="570">
                    <a:moveTo>
                      <a:pt x="0" y="570"/>
                    </a:moveTo>
                    <a:lnTo>
                      <a:pt x="103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4984560" y="5522760"/>
                <a:ext cx="0" cy="731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5294160" y="5433840"/>
                <a:ext cx="0" cy="731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565600" y="5914800"/>
                <a:ext cx="0" cy="25848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4875120" y="6297480"/>
                <a:ext cx="0" cy="25848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75" name=""/>
              <p:cNvGrpSpPr/>
              <p:nvPr/>
            </p:nvGrpSpPr>
            <p:grpSpPr>
              <a:xfrm>
                <a:off x="4404960" y="5062320"/>
                <a:ext cx="1455480" cy="1470960"/>
                <a:chOff x="4404960" y="5062320"/>
                <a:chExt cx="1455480" cy="1470960"/>
              </a:xfrm>
            </p:grpSpPr>
            <p:sp>
              <p:nvSpPr>
                <p:cNvPr id="3076" name=""/>
                <p:cNvSpPr/>
                <p:nvPr/>
              </p:nvSpPr>
              <p:spPr>
                <a:xfrm flipV="1">
                  <a:off x="5424480" y="5527080"/>
                  <a:ext cx="0" cy="7322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 flipV="1">
                  <a:off x="4885200" y="5371560"/>
                  <a:ext cx="0" cy="7322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5623920" y="6274800"/>
                  <a:ext cx="0" cy="2584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4611240" y="6024600"/>
                  <a:ext cx="0" cy="2584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 flipV="1">
                  <a:off x="5141520" y="5062320"/>
                  <a:ext cx="0" cy="10872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 flipV="1">
                  <a:off x="4404960" y="5737320"/>
                  <a:ext cx="0" cy="245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 flipV="1">
                  <a:off x="5860440" y="6105600"/>
                  <a:ext cx="0" cy="2455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3" name=""/>
              <p:cNvSpPr/>
              <p:nvPr/>
            </p:nvSpPr>
            <p:spPr>
              <a:xfrm flipV="1">
                <a:off x="4713120" y="6141960"/>
                <a:ext cx="0" cy="244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V="1">
                <a:off x="5686200" y="5607000"/>
                <a:ext cx="0" cy="244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4213080" y="5073480"/>
                <a:ext cx="1919160" cy="1552320"/>
              </a:xfrm>
              <a:custGeom>
                <a:avLst/>
                <a:gdLst/>
                <a:ahLst/>
                <a:rect l="l" t="t" r="r" b="b"/>
                <a:pathLst>
                  <a:path w="876" h="708">
                    <a:moveTo>
                      <a:pt x="0" y="455"/>
                    </a:moveTo>
                    <a:cubicBezTo>
                      <a:pt x="7" y="448"/>
                      <a:pt x="25" y="440"/>
                      <a:pt x="40" y="415"/>
                    </a:cubicBezTo>
                    <a:cubicBezTo>
                      <a:pt x="55" y="390"/>
                      <a:pt x="67" y="282"/>
                      <a:pt x="92" y="307"/>
                    </a:cubicBezTo>
                    <a:cubicBezTo>
                      <a:pt x="117" y="332"/>
                      <a:pt x="157" y="590"/>
                      <a:pt x="192" y="563"/>
                    </a:cubicBezTo>
                    <a:cubicBezTo>
                      <a:pt x="227" y="536"/>
                      <a:pt x="269" y="236"/>
                      <a:pt x="300" y="147"/>
                    </a:cubicBezTo>
                    <a:cubicBezTo>
                      <a:pt x="331" y="58"/>
                      <a:pt x="351" y="50"/>
                      <a:pt x="380" y="31"/>
                    </a:cubicBezTo>
                    <a:cubicBezTo>
                      <a:pt x="409" y="12"/>
                      <a:pt x="442" y="0"/>
                      <a:pt x="472" y="31"/>
                    </a:cubicBezTo>
                    <a:cubicBezTo>
                      <a:pt x="502" y="62"/>
                      <a:pt x="532" y="114"/>
                      <a:pt x="560" y="219"/>
                    </a:cubicBezTo>
                    <a:cubicBezTo>
                      <a:pt x="588" y="324"/>
                      <a:pt x="607" y="618"/>
                      <a:pt x="640" y="663"/>
                    </a:cubicBezTo>
                    <a:cubicBezTo>
                      <a:pt x="673" y="708"/>
                      <a:pt x="727" y="502"/>
                      <a:pt x="756" y="491"/>
                    </a:cubicBezTo>
                    <a:cubicBezTo>
                      <a:pt x="785" y="480"/>
                      <a:pt x="796" y="564"/>
                      <a:pt x="816" y="595"/>
                    </a:cubicBezTo>
                    <a:cubicBezTo>
                      <a:pt x="836" y="626"/>
                      <a:pt x="866" y="665"/>
                      <a:pt x="876" y="67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4514760" y="5073480"/>
                <a:ext cx="1365120" cy="1577880"/>
              </a:xfrm>
              <a:custGeom>
                <a:avLst/>
                <a:gdLst/>
                <a:ahLst/>
                <a:rect l="l" t="t" r="r" b="b"/>
                <a:pathLst>
                  <a:path w="860" h="994">
                    <a:moveTo>
                      <a:pt x="0" y="921"/>
                    </a:moveTo>
                    <a:cubicBezTo>
                      <a:pt x="7" y="924"/>
                      <a:pt x="21" y="978"/>
                      <a:pt x="44" y="941"/>
                    </a:cubicBezTo>
                    <a:cubicBezTo>
                      <a:pt x="67" y="904"/>
                      <a:pt x="105" y="699"/>
                      <a:pt x="136" y="697"/>
                    </a:cubicBezTo>
                    <a:cubicBezTo>
                      <a:pt x="167" y="695"/>
                      <a:pt x="202" y="994"/>
                      <a:pt x="228" y="929"/>
                    </a:cubicBezTo>
                    <a:cubicBezTo>
                      <a:pt x="254" y="864"/>
                      <a:pt x="272" y="452"/>
                      <a:pt x="292" y="309"/>
                    </a:cubicBezTo>
                    <a:cubicBezTo>
                      <a:pt x="312" y="166"/>
                      <a:pt x="324" y="119"/>
                      <a:pt x="348" y="73"/>
                    </a:cubicBezTo>
                    <a:cubicBezTo>
                      <a:pt x="372" y="27"/>
                      <a:pt x="409" y="0"/>
                      <a:pt x="436" y="29"/>
                    </a:cubicBezTo>
                    <a:cubicBezTo>
                      <a:pt x="463" y="58"/>
                      <a:pt x="470" y="140"/>
                      <a:pt x="508" y="249"/>
                    </a:cubicBezTo>
                    <a:cubicBezTo>
                      <a:pt x="546" y="358"/>
                      <a:pt x="625" y="668"/>
                      <a:pt x="664" y="685"/>
                    </a:cubicBezTo>
                    <a:cubicBezTo>
                      <a:pt x="703" y="702"/>
                      <a:pt x="714" y="383"/>
                      <a:pt x="740" y="353"/>
                    </a:cubicBezTo>
                    <a:cubicBezTo>
                      <a:pt x="766" y="323"/>
                      <a:pt x="800" y="490"/>
                      <a:pt x="820" y="505"/>
                    </a:cubicBezTo>
                    <a:cubicBezTo>
                      <a:pt x="840" y="520"/>
                      <a:pt x="852" y="458"/>
                      <a:pt x="860" y="445"/>
                    </a:cubicBezTo>
                  </a:path>
                </a:pathLst>
              </a:custGeom>
              <a:noFill/>
              <a:ln w="19080">
                <a:solidFill>
                  <a:srgbClr val="ff99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87" name=""/>
          <p:cNvSpPr/>
          <p:nvPr/>
        </p:nvSpPr>
        <p:spPr>
          <a:xfrm>
            <a:off x="224280" y="1255680"/>
            <a:ext cx="694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hanger votre zèbre  en cheval de ci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8" name=""/>
          <p:cNvGrpSpPr/>
          <p:nvPr/>
        </p:nvGrpSpPr>
        <p:grpSpPr>
          <a:xfrm>
            <a:off x="548640" y="3191040"/>
            <a:ext cx="6709320" cy="1490760"/>
            <a:chOff x="548640" y="3191040"/>
            <a:chExt cx="6709320" cy="1490760"/>
          </a:xfrm>
        </p:grpSpPr>
        <p:sp>
          <p:nvSpPr>
            <p:cNvPr id="3089" name=""/>
            <p:cNvSpPr/>
            <p:nvPr/>
          </p:nvSpPr>
          <p:spPr>
            <a:xfrm>
              <a:off x="6340320" y="3755880"/>
              <a:ext cx="917640" cy="803520"/>
            </a:xfrm>
            <a:custGeom>
              <a:avLst/>
              <a:gdLst/>
              <a:ahLst/>
              <a:rect l="l" t="t" r="r" b="b"/>
              <a:pathLst>
                <a:path w="578" h="506">
                  <a:moveTo>
                    <a:pt x="0" y="147"/>
                  </a:moveTo>
                  <a:lnTo>
                    <a:pt x="43" y="92"/>
                  </a:lnTo>
                  <a:lnTo>
                    <a:pt x="43" y="69"/>
                  </a:lnTo>
                  <a:lnTo>
                    <a:pt x="81" y="32"/>
                  </a:lnTo>
                  <a:lnTo>
                    <a:pt x="92" y="0"/>
                  </a:lnTo>
                  <a:lnTo>
                    <a:pt x="240" y="156"/>
                  </a:lnTo>
                  <a:lnTo>
                    <a:pt x="354" y="179"/>
                  </a:lnTo>
                  <a:lnTo>
                    <a:pt x="469" y="156"/>
                  </a:lnTo>
                  <a:lnTo>
                    <a:pt x="529" y="198"/>
                  </a:lnTo>
                  <a:lnTo>
                    <a:pt x="578" y="340"/>
                  </a:lnTo>
                  <a:lnTo>
                    <a:pt x="529" y="331"/>
                  </a:lnTo>
                  <a:lnTo>
                    <a:pt x="502" y="235"/>
                  </a:lnTo>
                  <a:lnTo>
                    <a:pt x="507" y="313"/>
                  </a:lnTo>
                  <a:lnTo>
                    <a:pt x="475" y="373"/>
                  </a:lnTo>
                  <a:lnTo>
                    <a:pt x="464" y="419"/>
                  </a:lnTo>
                  <a:lnTo>
                    <a:pt x="436" y="479"/>
                  </a:lnTo>
                  <a:lnTo>
                    <a:pt x="436" y="506"/>
                  </a:lnTo>
                  <a:lnTo>
                    <a:pt x="398" y="502"/>
                  </a:lnTo>
                  <a:lnTo>
                    <a:pt x="420" y="460"/>
                  </a:lnTo>
                  <a:lnTo>
                    <a:pt x="431" y="400"/>
                  </a:lnTo>
                  <a:lnTo>
                    <a:pt x="382" y="317"/>
                  </a:lnTo>
                  <a:lnTo>
                    <a:pt x="322" y="336"/>
                  </a:lnTo>
                  <a:lnTo>
                    <a:pt x="267" y="336"/>
                  </a:lnTo>
                  <a:lnTo>
                    <a:pt x="267" y="373"/>
                  </a:lnTo>
                  <a:lnTo>
                    <a:pt x="251" y="414"/>
                  </a:lnTo>
                  <a:lnTo>
                    <a:pt x="251" y="460"/>
                  </a:lnTo>
                  <a:lnTo>
                    <a:pt x="256" y="502"/>
                  </a:lnTo>
                  <a:lnTo>
                    <a:pt x="212" y="502"/>
                  </a:lnTo>
                  <a:lnTo>
                    <a:pt x="223" y="474"/>
                  </a:lnTo>
                  <a:lnTo>
                    <a:pt x="229" y="419"/>
                  </a:lnTo>
                  <a:lnTo>
                    <a:pt x="223" y="405"/>
                  </a:lnTo>
                  <a:lnTo>
                    <a:pt x="229" y="391"/>
                  </a:lnTo>
                  <a:lnTo>
                    <a:pt x="174" y="317"/>
                  </a:lnTo>
                  <a:lnTo>
                    <a:pt x="152" y="230"/>
                  </a:lnTo>
                  <a:lnTo>
                    <a:pt x="114" y="110"/>
                  </a:lnTo>
                  <a:lnTo>
                    <a:pt x="71" y="138"/>
                  </a:lnTo>
                  <a:lnTo>
                    <a:pt x="21" y="165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0" name=""/>
            <p:cNvGrpSpPr/>
            <p:nvPr/>
          </p:nvGrpSpPr>
          <p:grpSpPr>
            <a:xfrm>
              <a:off x="4173480" y="3191040"/>
              <a:ext cx="1724040" cy="1490760"/>
              <a:chOff x="4173480" y="3191040"/>
              <a:chExt cx="1724040" cy="1490760"/>
            </a:xfrm>
          </p:grpSpPr>
          <p:sp>
            <p:nvSpPr>
              <p:cNvPr id="3091" name=""/>
              <p:cNvSpPr/>
              <p:nvPr/>
            </p:nvSpPr>
            <p:spPr>
              <a:xfrm>
                <a:off x="4173480" y="4065480"/>
                <a:ext cx="145404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 flipV="1">
                <a:off x="4811760" y="3409920"/>
                <a:ext cx="0" cy="84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4795920" y="3191040"/>
                <a:ext cx="82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S(u,v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4" name=""/>
              <p:cNvGrpSpPr/>
              <p:nvPr/>
            </p:nvGrpSpPr>
            <p:grpSpPr>
              <a:xfrm>
                <a:off x="4245120" y="3790800"/>
                <a:ext cx="1177560" cy="743760"/>
                <a:chOff x="4245120" y="3790800"/>
                <a:chExt cx="1177560" cy="743760"/>
              </a:xfrm>
            </p:grpSpPr>
            <p:sp>
              <p:nvSpPr>
                <p:cNvPr id="3095" name=""/>
                <p:cNvSpPr/>
                <p:nvPr/>
              </p:nvSpPr>
              <p:spPr>
                <a:xfrm flipV="1">
                  <a:off x="4245120" y="3914280"/>
                  <a:ext cx="1115640" cy="620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4307040" y="3790800"/>
                  <a:ext cx="1115640" cy="673200"/>
                </a:xfrm>
                <a:custGeom>
                  <a:avLst/>
                  <a:gdLst/>
                  <a:ahLst/>
                  <a:rect l="l" t="t" r="r" b="b"/>
                  <a:pathLst>
                    <a:path w="1152" h="695">
                      <a:moveTo>
                        <a:pt x="412" y="45"/>
                      </a:moveTo>
                      <a:lnTo>
                        <a:pt x="613" y="0"/>
                      </a:lnTo>
                      <a:lnTo>
                        <a:pt x="713" y="146"/>
                      </a:lnTo>
                      <a:lnTo>
                        <a:pt x="896" y="146"/>
                      </a:lnTo>
                      <a:lnTo>
                        <a:pt x="942" y="292"/>
                      </a:lnTo>
                      <a:lnTo>
                        <a:pt x="1143" y="356"/>
                      </a:lnTo>
                      <a:lnTo>
                        <a:pt x="1152" y="521"/>
                      </a:lnTo>
                      <a:lnTo>
                        <a:pt x="851" y="676"/>
                      </a:lnTo>
                      <a:lnTo>
                        <a:pt x="439" y="695"/>
                      </a:lnTo>
                      <a:lnTo>
                        <a:pt x="55" y="512"/>
                      </a:lnTo>
                      <a:lnTo>
                        <a:pt x="0" y="365"/>
                      </a:lnTo>
                      <a:lnTo>
                        <a:pt x="110" y="228"/>
                      </a:lnTo>
                      <a:lnTo>
                        <a:pt x="311" y="219"/>
                      </a:lnTo>
                      <a:lnTo>
                        <a:pt x="412" y="4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cc"/>
                    </a:gs>
                    <a:gs pos="100000">
                      <a:srgbClr val="6699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>
                  <a:off x="4909680" y="3967920"/>
                  <a:ext cx="283680" cy="229680"/>
                </a:xfrm>
                <a:custGeom>
                  <a:avLst/>
                  <a:gdLst/>
                  <a:ahLst/>
                  <a:rect l="l" t="t" r="r" b="b"/>
                  <a:pathLst>
                    <a:path w="293" h="237">
                      <a:moveTo>
                        <a:pt x="293" y="82"/>
                      </a:moveTo>
                      <a:lnTo>
                        <a:pt x="165" y="27"/>
                      </a:lnTo>
                      <a:lnTo>
                        <a:pt x="0" y="0"/>
                      </a:lnTo>
                      <a:lnTo>
                        <a:pt x="9" y="228"/>
                      </a:lnTo>
                      <a:lnTo>
                        <a:pt x="183" y="237"/>
                      </a:lnTo>
                      <a:lnTo>
                        <a:pt x="201" y="146"/>
                      </a:lnTo>
                      <a:lnTo>
                        <a:pt x="293" y="8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4794480" y="3816720"/>
                  <a:ext cx="141120" cy="168480"/>
                </a:xfrm>
                <a:custGeom>
                  <a:avLst/>
                  <a:gdLst/>
                  <a:ahLst/>
                  <a:rect l="l" t="t" r="r" b="b"/>
                  <a:pathLst>
                    <a:path w="146" h="174">
                      <a:moveTo>
                        <a:pt x="146" y="110"/>
                      </a:moveTo>
                      <a:lnTo>
                        <a:pt x="82" y="0"/>
                      </a:lnTo>
                      <a:lnTo>
                        <a:pt x="0" y="73"/>
                      </a:lnTo>
                      <a:lnTo>
                        <a:pt x="0" y="174"/>
                      </a:lnTo>
                      <a:lnTo>
                        <a:pt x="146" y="11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4484520" y="3958200"/>
                  <a:ext cx="814320" cy="336960"/>
                </a:xfrm>
                <a:custGeom>
                  <a:avLst/>
                  <a:gdLst/>
                  <a:ahLst/>
                  <a:rect l="l" t="t" r="r" b="b"/>
                  <a:pathLst>
                    <a:path w="841" h="348">
                      <a:moveTo>
                        <a:pt x="768" y="128"/>
                      </a:moveTo>
                      <a:lnTo>
                        <a:pt x="841" y="202"/>
                      </a:lnTo>
                      <a:lnTo>
                        <a:pt x="841" y="284"/>
                      </a:lnTo>
                      <a:lnTo>
                        <a:pt x="567" y="339"/>
                      </a:lnTo>
                      <a:lnTo>
                        <a:pt x="265" y="348"/>
                      </a:lnTo>
                      <a:lnTo>
                        <a:pt x="46" y="256"/>
                      </a:lnTo>
                      <a:lnTo>
                        <a:pt x="0" y="138"/>
                      </a:lnTo>
                      <a:lnTo>
                        <a:pt x="110" y="64"/>
                      </a:lnTo>
                      <a:lnTo>
                        <a:pt x="16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5140080" y="4100760"/>
                  <a:ext cx="141120" cy="132480"/>
                </a:xfrm>
                <a:custGeom>
                  <a:avLst/>
                  <a:gdLst/>
                  <a:ahLst/>
                  <a:rect l="l" t="t" r="r" b="b"/>
                  <a:pathLst>
                    <a:path w="146" h="137">
                      <a:moveTo>
                        <a:pt x="0" y="109"/>
                      </a:moveTo>
                      <a:lnTo>
                        <a:pt x="73" y="0"/>
                      </a:lnTo>
                      <a:lnTo>
                        <a:pt x="146" y="45"/>
                      </a:lnTo>
                      <a:lnTo>
                        <a:pt x="128" y="137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1" name=""/>
              <p:cNvSpPr/>
              <p:nvPr/>
            </p:nvSpPr>
            <p:spPr>
              <a:xfrm>
                <a:off x="5559840" y="428292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093280" y="356544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3" name=""/>
            <p:cNvSpPr/>
            <p:nvPr/>
          </p:nvSpPr>
          <p:spPr>
            <a:xfrm>
              <a:off x="548640" y="377352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j'enlève la gri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221760" y="678960"/>
            <a:ext cx="724860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xemples de distributions spatiales et de spectres spati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380880" y="2124000"/>
            <a:ext cx="18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6" name=""/>
          <p:cNvGrpSpPr/>
          <p:nvPr/>
        </p:nvGrpSpPr>
        <p:grpSpPr>
          <a:xfrm>
            <a:off x="2243160" y="2832120"/>
            <a:ext cx="6374880" cy="3744360"/>
            <a:chOff x="2243160" y="2832120"/>
            <a:chExt cx="6374880" cy="3744360"/>
          </a:xfrm>
        </p:grpSpPr>
        <p:pic>
          <p:nvPicPr>
            <p:cNvPr id="3107" name="" descr=""/>
            <p:cNvPicPr/>
            <p:nvPr/>
          </p:nvPicPr>
          <p:blipFill>
            <a:blip r:embed="rId1"/>
            <a:stretch/>
          </p:blipFill>
          <p:spPr>
            <a:xfrm>
              <a:off x="2257200" y="3174840"/>
              <a:ext cx="1666800" cy="177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8" name="" descr=""/>
            <p:cNvPicPr/>
            <p:nvPr/>
          </p:nvPicPr>
          <p:blipFill>
            <a:blip r:embed="rId2"/>
            <a:stretch/>
          </p:blipFill>
          <p:spPr>
            <a:xfrm>
              <a:off x="3578040" y="3227400"/>
              <a:ext cx="1190520" cy="123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9" name="" descr=""/>
            <p:cNvPicPr/>
            <p:nvPr/>
          </p:nvPicPr>
          <p:blipFill>
            <a:blip r:embed="rId3"/>
            <a:stretch/>
          </p:blipFill>
          <p:spPr>
            <a:xfrm>
              <a:off x="5713920" y="3319560"/>
              <a:ext cx="1734840" cy="16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0" name="" descr=""/>
            <p:cNvPicPr/>
            <p:nvPr/>
          </p:nvPicPr>
          <p:blipFill>
            <a:blip r:embed="rId4"/>
            <a:stretch/>
          </p:blipFill>
          <p:spPr>
            <a:xfrm>
              <a:off x="7229160" y="3377520"/>
              <a:ext cx="1154880" cy="129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1" name="" descr=""/>
            <p:cNvPicPr/>
            <p:nvPr/>
          </p:nvPicPr>
          <p:blipFill>
            <a:blip r:embed="rId5"/>
            <a:stretch/>
          </p:blipFill>
          <p:spPr>
            <a:xfrm>
              <a:off x="2282400" y="4745520"/>
              <a:ext cx="1666800" cy="177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2" name="" descr=""/>
            <p:cNvPicPr/>
            <p:nvPr/>
          </p:nvPicPr>
          <p:blipFill>
            <a:blip r:embed="rId6"/>
            <a:stretch/>
          </p:blipFill>
          <p:spPr>
            <a:xfrm>
              <a:off x="3641760" y="4785120"/>
              <a:ext cx="1190520" cy="123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3" name="" descr=""/>
            <p:cNvPicPr/>
            <p:nvPr/>
          </p:nvPicPr>
          <p:blipFill>
            <a:blip r:embed="rId7"/>
            <a:stretch/>
          </p:blipFill>
          <p:spPr>
            <a:xfrm>
              <a:off x="5753880" y="4916880"/>
              <a:ext cx="1734480" cy="16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4" name="" descr=""/>
            <p:cNvPicPr/>
            <p:nvPr/>
          </p:nvPicPr>
          <p:blipFill>
            <a:blip r:embed="rId8"/>
            <a:stretch/>
          </p:blipFill>
          <p:spPr>
            <a:xfrm>
              <a:off x="7179480" y="4884480"/>
              <a:ext cx="1232640" cy="131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5" name=""/>
            <p:cNvSpPr/>
            <p:nvPr/>
          </p:nvSpPr>
          <p:spPr>
            <a:xfrm>
              <a:off x="2489400" y="2832120"/>
              <a:ext cx="16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istribu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927400" y="2871360"/>
              <a:ext cx="231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pectres (modu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243160" y="2843280"/>
              <a:ext cx="2860200" cy="372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757840" y="2853000"/>
              <a:ext cx="2860200" cy="372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9" name=""/>
          <p:cNvSpPr/>
          <p:nvPr/>
        </p:nvSpPr>
        <p:spPr>
          <a:xfrm>
            <a:off x="428148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275040" y="1214280"/>
            <a:ext cx="393120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stribution spatiale de l'objet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1" name=""/>
              <p:cNvSpPr txBox="1"/>
              <p:nvPr/>
            </p:nvSpPr>
            <p:spPr>
              <a:xfrm>
                <a:off x="2246400" y="1530360"/>
                <a:ext cx="11890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2" name=""/>
              <p:cNvSpPr txBox="1"/>
              <p:nvPr/>
            </p:nvSpPr>
            <p:spPr>
              <a:xfrm>
                <a:off x="4165560" y="1166760"/>
                <a:ext cx="29559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u</m:t>
                    </m:r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3" name=""/>
          <p:cNvSpPr/>
          <p:nvPr/>
        </p:nvSpPr>
        <p:spPr>
          <a:xfrm>
            <a:off x="184320" y="2021040"/>
            <a:ext cx="6706440" cy="703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attention : le spectre spatial est une fonction comple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ici on montre seulement le module du spectre spa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215640" y="156996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pectre spa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221760" y="750600"/>
            <a:ext cx="393228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pectre spatial, exemples,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6" name=""/>
          <p:cNvGrpSpPr/>
          <p:nvPr/>
        </p:nvGrpSpPr>
        <p:grpSpPr>
          <a:xfrm>
            <a:off x="952560" y="1739880"/>
            <a:ext cx="7394040" cy="4303800"/>
            <a:chOff x="952560" y="1739880"/>
            <a:chExt cx="7394040" cy="4303800"/>
          </a:xfrm>
        </p:grpSpPr>
        <p:sp>
          <p:nvSpPr>
            <p:cNvPr id="3127" name=""/>
            <p:cNvSpPr/>
            <p:nvPr/>
          </p:nvSpPr>
          <p:spPr>
            <a:xfrm>
              <a:off x="952560" y="2495520"/>
              <a:ext cx="1807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28" name="" descr=""/>
            <p:cNvPicPr/>
            <p:nvPr/>
          </p:nvPicPr>
          <p:blipFill>
            <a:blip r:embed="rId1"/>
            <a:stretch/>
          </p:blipFill>
          <p:spPr>
            <a:xfrm>
              <a:off x="1382400" y="1982880"/>
              <a:ext cx="1866600" cy="19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9" name="" descr=""/>
            <p:cNvPicPr/>
            <p:nvPr/>
          </p:nvPicPr>
          <p:blipFill>
            <a:blip r:embed="rId2"/>
            <a:stretch/>
          </p:blipFill>
          <p:spPr>
            <a:xfrm>
              <a:off x="2990520" y="1970280"/>
              <a:ext cx="1333440" cy="13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0" name="" descr=""/>
            <p:cNvPicPr/>
            <p:nvPr/>
          </p:nvPicPr>
          <p:blipFill>
            <a:blip r:embed="rId3"/>
            <a:stretch/>
          </p:blipFill>
          <p:spPr>
            <a:xfrm>
              <a:off x="5125680" y="2071800"/>
              <a:ext cx="2447640" cy="23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1" name="" descr=""/>
            <p:cNvPicPr/>
            <p:nvPr/>
          </p:nvPicPr>
          <p:blipFill>
            <a:blip r:embed="rId4"/>
            <a:stretch/>
          </p:blipFill>
          <p:spPr>
            <a:xfrm>
              <a:off x="6854760" y="2225880"/>
              <a:ext cx="1404360" cy="14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2" name="" descr=""/>
            <p:cNvPicPr/>
            <p:nvPr/>
          </p:nvPicPr>
          <p:blipFill>
            <a:blip r:embed="rId5"/>
            <a:stretch/>
          </p:blipFill>
          <p:spPr>
            <a:xfrm>
              <a:off x="1366560" y="4098960"/>
              <a:ext cx="1866600" cy="18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3" name="" descr=""/>
            <p:cNvPicPr/>
            <p:nvPr/>
          </p:nvPicPr>
          <p:blipFill>
            <a:blip r:embed="rId6"/>
            <a:stretch/>
          </p:blipFill>
          <p:spPr>
            <a:xfrm>
              <a:off x="5143320" y="3878280"/>
              <a:ext cx="2288880" cy="21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4" name="" descr=""/>
            <p:cNvPicPr/>
            <p:nvPr/>
          </p:nvPicPr>
          <p:blipFill>
            <a:blip r:embed="rId7"/>
            <a:stretch/>
          </p:blipFill>
          <p:spPr>
            <a:xfrm>
              <a:off x="2947680" y="4064040"/>
              <a:ext cx="1361880" cy="141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5" name="" descr=""/>
            <p:cNvPicPr/>
            <p:nvPr/>
          </p:nvPicPr>
          <p:blipFill>
            <a:blip r:embed="rId8"/>
            <a:stretch/>
          </p:blipFill>
          <p:spPr>
            <a:xfrm>
              <a:off x="6833880" y="4059360"/>
              <a:ext cx="1481040" cy="16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6" name=""/>
            <p:cNvSpPr/>
            <p:nvPr/>
          </p:nvSpPr>
          <p:spPr>
            <a:xfrm>
              <a:off x="1481400" y="1739880"/>
              <a:ext cx="16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istribu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5334120" y="1784520"/>
              <a:ext cx="231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pectres (modu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1206360" y="1752480"/>
              <a:ext cx="3203280" cy="4170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5143320" y="1778040"/>
              <a:ext cx="3203280" cy="4170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222120" y="593280"/>
            <a:ext cx="5035680" cy="406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pectre spatial , exemples, suite de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1" name=""/>
          <p:cNvGrpSpPr/>
          <p:nvPr/>
        </p:nvGrpSpPr>
        <p:grpSpPr>
          <a:xfrm>
            <a:off x="635040" y="1068480"/>
            <a:ext cx="7140600" cy="5408640"/>
            <a:chOff x="635040" y="1068480"/>
            <a:chExt cx="7140600" cy="5408640"/>
          </a:xfrm>
        </p:grpSpPr>
        <p:sp>
          <p:nvSpPr>
            <p:cNvPr id="3142" name=""/>
            <p:cNvSpPr/>
            <p:nvPr/>
          </p:nvSpPr>
          <p:spPr>
            <a:xfrm>
              <a:off x="635040" y="1081080"/>
              <a:ext cx="3203640" cy="534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572000" y="1106640"/>
              <a:ext cx="3203640" cy="534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44" name="" descr=""/>
            <p:cNvPicPr/>
            <p:nvPr/>
          </p:nvPicPr>
          <p:blipFill>
            <a:blip r:embed="rId1"/>
            <a:stretch/>
          </p:blipFill>
          <p:spPr>
            <a:xfrm>
              <a:off x="866880" y="1227240"/>
              <a:ext cx="1595160" cy="17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5" name="" descr=""/>
            <p:cNvPicPr/>
            <p:nvPr/>
          </p:nvPicPr>
          <p:blipFill>
            <a:blip r:embed="rId2"/>
            <a:stretch/>
          </p:blipFill>
          <p:spPr>
            <a:xfrm>
              <a:off x="2376360" y="1314720"/>
              <a:ext cx="1333800" cy="13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6" name="" descr=""/>
            <p:cNvPicPr/>
            <p:nvPr/>
          </p:nvPicPr>
          <p:blipFill>
            <a:blip r:embed="rId3"/>
            <a:stretch/>
          </p:blipFill>
          <p:spPr>
            <a:xfrm>
              <a:off x="4600440" y="1389240"/>
              <a:ext cx="1943280" cy="17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7" name="" descr=""/>
            <p:cNvPicPr/>
            <p:nvPr/>
          </p:nvPicPr>
          <p:blipFill>
            <a:blip r:embed="rId4"/>
            <a:stretch/>
          </p:blipFill>
          <p:spPr>
            <a:xfrm>
              <a:off x="6276960" y="1498680"/>
              <a:ext cx="1365120" cy="154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8" name="" descr=""/>
            <p:cNvPicPr/>
            <p:nvPr/>
          </p:nvPicPr>
          <p:blipFill>
            <a:blip r:embed="rId5"/>
            <a:stretch/>
          </p:blipFill>
          <p:spPr>
            <a:xfrm>
              <a:off x="765000" y="4376880"/>
              <a:ext cx="1866960" cy="19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9" name="" descr=""/>
            <p:cNvPicPr/>
            <p:nvPr/>
          </p:nvPicPr>
          <p:blipFill>
            <a:blip r:embed="rId6"/>
            <a:stretch/>
          </p:blipFill>
          <p:spPr>
            <a:xfrm>
              <a:off x="2344680" y="4451400"/>
              <a:ext cx="1333440" cy="138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0" name="" descr=""/>
            <p:cNvPicPr/>
            <p:nvPr/>
          </p:nvPicPr>
          <p:blipFill>
            <a:blip r:embed="rId7"/>
            <a:stretch/>
          </p:blipFill>
          <p:spPr>
            <a:xfrm>
              <a:off x="4724280" y="4610160"/>
              <a:ext cx="1943280" cy="18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1" name="" descr=""/>
            <p:cNvPicPr/>
            <p:nvPr/>
          </p:nvPicPr>
          <p:blipFill>
            <a:blip r:embed="rId8"/>
            <a:stretch/>
          </p:blipFill>
          <p:spPr>
            <a:xfrm>
              <a:off x="6289560" y="4646880"/>
              <a:ext cx="1403640" cy="18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2" name=""/>
            <p:cNvSpPr/>
            <p:nvPr/>
          </p:nvSpPr>
          <p:spPr>
            <a:xfrm>
              <a:off x="910440" y="1068480"/>
              <a:ext cx="16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istribu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4762800" y="1113120"/>
              <a:ext cx="231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pectres (modu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54" name="" descr=""/>
            <p:cNvPicPr/>
            <p:nvPr/>
          </p:nvPicPr>
          <p:blipFill>
            <a:blip r:embed="rId9"/>
            <a:stretch/>
          </p:blipFill>
          <p:spPr>
            <a:xfrm>
              <a:off x="754200" y="2494080"/>
              <a:ext cx="1866600" cy="19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5" name="" descr=""/>
            <p:cNvPicPr/>
            <p:nvPr/>
          </p:nvPicPr>
          <p:blipFill>
            <a:blip r:embed="rId10"/>
            <a:stretch/>
          </p:blipFill>
          <p:spPr>
            <a:xfrm>
              <a:off x="2363760" y="2670480"/>
              <a:ext cx="1333440" cy="13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6" name="" descr=""/>
            <p:cNvPicPr/>
            <p:nvPr/>
          </p:nvPicPr>
          <p:blipFill>
            <a:blip r:embed="rId11"/>
            <a:stretch/>
          </p:blipFill>
          <p:spPr>
            <a:xfrm>
              <a:off x="4572000" y="3046680"/>
              <a:ext cx="1943280" cy="18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7" name="" descr=""/>
            <p:cNvPicPr/>
            <p:nvPr/>
          </p:nvPicPr>
          <p:blipFill>
            <a:blip r:embed="rId12"/>
            <a:stretch/>
          </p:blipFill>
          <p:spPr>
            <a:xfrm>
              <a:off x="6280200" y="3098880"/>
              <a:ext cx="1423800" cy="16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8" name=""/>
          <p:cNvSpPr/>
          <p:nvPr/>
        </p:nvSpPr>
        <p:spPr>
          <a:xfrm>
            <a:off x="312840" y="6035760"/>
            <a:ext cx="580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n peut reprendre tout ça et rempl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"distribution" par "sourc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257040" y="650880"/>
            <a:ext cx="4445280" cy="466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vivre dans l'espace de Fo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474120" y="1481040"/>
            <a:ext cx="156924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4282560" y="1511280"/>
            <a:ext cx="219708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spectre (mo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360360" y="1422360"/>
            <a:ext cx="3478320" cy="507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4224240" y="1433520"/>
            <a:ext cx="4738680" cy="507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642600" y="2109960"/>
            <a:ext cx="184032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upport étro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4402800" y="2109960"/>
            <a:ext cx="180396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upport 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609840" y="2652840"/>
            <a:ext cx="15584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mposit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4394880" y="2652840"/>
            <a:ext cx="14274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633600" y="5646600"/>
            <a:ext cx="1563120" cy="398880"/>
          </a:xfrm>
          <a:prstGeom prst="rect">
            <a:avLst/>
          </a:prstGeom>
          <a:solidFill>
            <a:srgbClr val="ff8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ssymét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4425840" y="5646600"/>
            <a:ext cx="4335480" cy="703800"/>
          </a:xfrm>
          <a:prstGeom prst="rect">
            <a:avLst/>
          </a:prstGeom>
          <a:solidFill>
            <a:srgbClr val="ff89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d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présence de franges, effet de ph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2772000" y="6280200"/>
            <a:ext cx="19011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y reviend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633240" y="4205160"/>
            <a:ext cx="30686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bords raides, angles v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666360" y="3247920"/>
            <a:ext cx="2183400" cy="398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 étroit + B 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4425840" y="3247920"/>
            <a:ext cx="4156200" cy="703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^A large, ^B étroit mais ce n'est pas toujours une simple so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4433760" y="4205160"/>
            <a:ext cx="38293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autes fréquences à fort po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603720" y="4929120"/>
            <a:ext cx="3047400" cy="398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orme douce ("smooth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4391640" y="4929120"/>
            <a:ext cx="4578840" cy="398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autes fréquences moins présen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272880" y="678960"/>
            <a:ext cx="14716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mages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2738520" y="625320"/>
            <a:ext cx="273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omic Sans MS"/>
              </a:rPr>
              <a:t>IMA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9" name="2nd2002small" descr=""/>
          <p:cNvPicPr/>
          <p:nvPr/>
        </p:nvPicPr>
        <p:blipFill>
          <a:blip r:embed="rId1"/>
          <a:stretch/>
        </p:blipFill>
        <p:spPr>
          <a:xfrm>
            <a:off x="2665440" y="1555920"/>
            <a:ext cx="1555560" cy="1131840"/>
          </a:xfrm>
          <a:prstGeom prst="rect">
            <a:avLst/>
          </a:prstGeom>
          <a:ln w="0">
            <a:noFill/>
          </a:ln>
        </p:spPr>
      </p:pic>
      <p:pic>
        <p:nvPicPr>
          <p:cNvPr id="3180" name="2002-24-a-small_web" descr=""/>
          <p:cNvPicPr/>
          <p:nvPr/>
        </p:nvPicPr>
        <p:blipFill>
          <a:blip r:embed="rId2"/>
          <a:stretch/>
        </p:blipFill>
        <p:spPr>
          <a:xfrm>
            <a:off x="4356000" y="1562040"/>
            <a:ext cx="1123920" cy="1123920"/>
          </a:xfrm>
          <a:prstGeom prst="rect">
            <a:avLst/>
          </a:prstGeom>
          <a:ln w="0">
            <a:noFill/>
          </a:ln>
        </p:spPr>
      </p:pic>
      <p:pic>
        <p:nvPicPr>
          <p:cNvPr id="3181" name="puybareau_4" descr=""/>
          <p:cNvPicPr/>
          <p:nvPr/>
        </p:nvPicPr>
        <p:blipFill>
          <a:blip r:embed="rId3"/>
          <a:stretch/>
        </p:blipFill>
        <p:spPr>
          <a:xfrm>
            <a:off x="7238880" y="1538280"/>
            <a:ext cx="1414440" cy="1182600"/>
          </a:xfrm>
          <a:prstGeom prst="rect">
            <a:avLst/>
          </a:prstGeom>
          <a:ln w="0">
            <a:noFill/>
          </a:ln>
        </p:spPr>
      </p:pic>
      <p:sp>
        <p:nvSpPr>
          <p:cNvPr id="3182" name=""/>
          <p:cNvSpPr/>
          <p:nvPr/>
        </p:nvSpPr>
        <p:spPr>
          <a:xfrm>
            <a:off x="360000" y="3068640"/>
            <a:ext cx="8382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entons une définition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représentation plus ou moins fidèle (plus ou moins détaillé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'un "objet",  représentation formée par une distribution d'ener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pportée par la lumi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plus ou moins détaillé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, ça concerne la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résolutio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e l'im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distribution d'énergi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 , ça concer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énergie lumineuse collectée par un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capteur bi-dimensionnel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pix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restituée comme un tableau de val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lustration tout de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3" name="hyperioncas" descr=""/>
          <p:cNvPicPr/>
          <p:nvPr/>
        </p:nvPicPr>
        <p:blipFill>
          <a:blip r:embed="rId4"/>
          <a:stretch/>
        </p:blipFill>
        <p:spPr>
          <a:xfrm>
            <a:off x="436680" y="1558800"/>
            <a:ext cx="2081160" cy="1082880"/>
          </a:xfrm>
          <a:prstGeom prst="rect">
            <a:avLst/>
          </a:prstGeom>
          <a:ln w="0">
            <a:noFill/>
          </a:ln>
        </p:spPr>
      </p:pic>
      <p:pic>
        <p:nvPicPr>
          <p:cNvPr id="3184" name="bonnington" descr=""/>
          <p:cNvPicPr/>
          <p:nvPr/>
        </p:nvPicPr>
        <p:blipFill>
          <a:blip r:embed="rId5"/>
          <a:stretch/>
        </p:blipFill>
        <p:spPr>
          <a:xfrm>
            <a:off x="5594400" y="1560600"/>
            <a:ext cx="1609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241200" y="547560"/>
            <a:ext cx="8197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mages_2 :   image &amp; vision, image &amp; cap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6" name=""/>
          <p:cNvGrpSpPr/>
          <p:nvPr/>
        </p:nvGrpSpPr>
        <p:grpSpPr>
          <a:xfrm>
            <a:off x="762120" y="5364000"/>
            <a:ext cx="6331680" cy="866160"/>
            <a:chOff x="762120" y="5364000"/>
            <a:chExt cx="6331680" cy="866160"/>
          </a:xfrm>
        </p:grpSpPr>
        <p:grpSp>
          <p:nvGrpSpPr>
            <p:cNvPr id="3187" name=""/>
            <p:cNvGrpSpPr/>
            <p:nvPr/>
          </p:nvGrpSpPr>
          <p:grpSpPr>
            <a:xfrm>
              <a:off x="762120" y="5364000"/>
              <a:ext cx="3674160" cy="866160"/>
              <a:chOff x="762120" y="5364000"/>
              <a:chExt cx="3674160" cy="866160"/>
            </a:xfrm>
          </p:grpSpPr>
          <p:sp>
            <p:nvSpPr>
              <p:cNvPr id="3188" name=""/>
              <p:cNvSpPr/>
              <p:nvPr/>
            </p:nvSpPr>
            <p:spPr>
              <a:xfrm>
                <a:off x="3331800" y="5517720"/>
                <a:ext cx="1104480" cy="433440"/>
              </a:xfrm>
              <a:custGeom>
                <a:avLst/>
                <a:gdLst/>
                <a:ahLst/>
                <a:rect l="l" t="t" r="r" b="b"/>
                <a:pathLst>
                  <a:path w="808" h="248">
                    <a:moveTo>
                      <a:pt x="0" y="0"/>
                    </a:moveTo>
                    <a:lnTo>
                      <a:pt x="808" y="160"/>
                    </a:lnTo>
                    <a:lnTo>
                      <a:pt x="0" y="248"/>
                    </a:lnTo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89" name=""/>
              <p:cNvGrpSpPr/>
              <p:nvPr/>
            </p:nvGrpSpPr>
            <p:grpSpPr>
              <a:xfrm>
                <a:off x="762120" y="5531400"/>
                <a:ext cx="1792800" cy="446760"/>
                <a:chOff x="762120" y="5531400"/>
                <a:chExt cx="1792800" cy="446760"/>
              </a:xfrm>
            </p:grpSpPr>
            <p:sp>
              <p:nvSpPr>
                <p:cNvPr id="3190" name=""/>
                <p:cNvSpPr/>
                <p:nvPr/>
              </p:nvSpPr>
              <p:spPr>
                <a:xfrm>
                  <a:off x="762120" y="5712840"/>
                  <a:ext cx="76320" cy="81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>
                  <a:off x="838440" y="5531400"/>
                  <a:ext cx="1716480" cy="446760"/>
                </a:xfrm>
                <a:custGeom>
                  <a:avLst/>
                  <a:gdLst/>
                  <a:ahLst/>
                  <a:rect l="l" t="t" r="r" b="b"/>
                  <a:pathLst>
                    <a:path w="1256" h="256">
                      <a:moveTo>
                        <a:pt x="1256" y="0"/>
                      </a:moveTo>
                      <a:lnTo>
                        <a:pt x="0" y="128"/>
                      </a:lnTo>
                      <a:lnTo>
                        <a:pt x="1256" y="256"/>
                      </a:lnTo>
                    </a:path>
                  </a:pathLst>
                </a:custGeom>
                <a:solidFill>
                  <a:srgbClr val="ff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2" name=""/>
              <p:cNvSpPr/>
              <p:nvPr/>
            </p:nvSpPr>
            <p:spPr>
              <a:xfrm>
                <a:off x="2664720" y="5364000"/>
                <a:ext cx="809280" cy="866160"/>
              </a:xfrm>
              <a:prstGeom prst="rect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0066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2511720" y="5517720"/>
                <a:ext cx="120240" cy="475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4" name=""/>
            <p:cNvGrpSpPr/>
            <p:nvPr/>
          </p:nvGrpSpPr>
          <p:grpSpPr>
            <a:xfrm>
              <a:off x="4469400" y="5364000"/>
              <a:ext cx="2624400" cy="809640"/>
              <a:chOff x="4469400" y="5364000"/>
              <a:chExt cx="2624400" cy="809640"/>
            </a:xfrm>
          </p:grpSpPr>
          <p:grpSp>
            <p:nvGrpSpPr>
              <p:cNvPr id="3195" name=""/>
              <p:cNvGrpSpPr/>
              <p:nvPr/>
            </p:nvGrpSpPr>
            <p:grpSpPr>
              <a:xfrm>
                <a:off x="4573080" y="5433840"/>
                <a:ext cx="1131120" cy="726120"/>
                <a:chOff x="4573080" y="5433840"/>
                <a:chExt cx="1131120" cy="726120"/>
              </a:xfrm>
            </p:grpSpPr>
            <p:sp>
              <p:nvSpPr>
                <p:cNvPr id="3196" name=""/>
                <p:cNvSpPr/>
                <p:nvPr/>
              </p:nvSpPr>
              <p:spPr>
                <a:xfrm>
                  <a:off x="4573080" y="5433840"/>
                  <a:ext cx="1098720" cy="726120"/>
                </a:xfrm>
                <a:custGeom>
                  <a:avLst/>
                  <a:gdLst/>
                  <a:ahLst/>
                  <a:rect l="l" t="t" r="r" b="b"/>
                  <a:pathLst>
                    <a:path w="804" h="416">
                      <a:moveTo>
                        <a:pt x="4" y="0"/>
                      </a:moveTo>
                      <a:cubicBezTo>
                        <a:pt x="2" y="28"/>
                        <a:pt x="0" y="57"/>
                        <a:pt x="36" y="80"/>
                      </a:cubicBezTo>
                      <a:cubicBezTo>
                        <a:pt x="72" y="103"/>
                        <a:pt x="107" y="125"/>
                        <a:pt x="220" y="136"/>
                      </a:cubicBezTo>
                      <a:cubicBezTo>
                        <a:pt x="333" y="147"/>
                        <a:pt x="628" y="136"/>
                        <a:pt x="716" y="144"/>
                      </a:cubicBezTo>
                      <a:cubicBezTo>
                        <a:pt x="804" y="152"/>
                        <a:pt x="793" y="177"/>
                        <a:pt x="748" y="184"/>
                      </a:cubicBezTo>
                      <a:cubicBezTo>
                        <a:pt x="703" y="191"/>
                        <a:pt x="545" y="179"/>
                        <a:pt x="444" y="184"/>
                      </a:cubicBezTo>
                      <a:cubicBezTo>
                        <a:pt x="343" y="189"/>
                        <a:pt x="208" y="196"/>
                        <a:pt x="140" y="216"/>
                      </a:cubicBezTo>
                      <a:cubicBezTo>
                        <a:pt x="72" y="236"/>
                        <a:pt x="56" y="271"/>
                        <a:pt x="36" y="304"/>
                      </a:cubicBezTo>
                      <a:cubicBezTo>
                        <a:pt x="16" y="337"/>
                        <a:pt x="18" y="376"/>
                        <a:pt x="20" y="41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4595040" y="5601240"/>
                  <a:ext cx="1098360" cy="321120"/>
                </a:xfrm>
                <a:custGeom>
                  <a:avLst/>
                  <a:gdLst/>
                  <a:ahLst/>
                  <a:rect l="l" t="t" r="r" b="b"/>
                  <a:pathLst>
                    <a:path w="804" h="416">
                      <a:moveTo>
                        <a:pt x="4" y="0"/>
                      </a:moveTo>
                      <a:cubicBezTo>
                        <a:pt x="2" y="28"/>
                        <a:pt x="0" y="57"/>
                        <a:pt x="36" y="80"/>
                      </a:cubicBezTo>
                      <a:cubicBezTo>
                        <a:pt x="72" y="103"/>
                        <a:pt x="107" y="125"/>
                        <a:pt x="220" y="136"/>
                      </a:cubicBezTo>
                      <a:cubicBezTo>
                        <a:pt x="333" y="147"/>
                        <a:pt x="628" y="136"/>
                        <a:pt x="716" y="144"/>
                      </a:cubicBezTo>
                      <a:cubicBezTo>
                        <a:pt x="804" y="152"/>
                        <a:pt x="793" y="177"/>
                        <a:pt x="748" y="184"/>
                      </a:cubicBezTo>
                      <a:cubicBezTo>
                        <a:pt x="703" y="191"/>
                        <a:pt x="545" y="179"/>
                        <a:pt x="444" y="184"/>
                      </a:cubicBezTo>
                      <a:cubicBezTo>
                        <a:pt x="343" y="189"/>
                        <a:pt x="208" y="196"/>
                        <a:pt x="140" y="216"/>
                      </a:cubicBezTo>
                      <a:cubicBezTo>
                        <a:pt x="72" y="236"/>
                        <a:pt x="56" y="271"/>
                        <a:pt x="36" y="304"/>
                      </a:cubicBezTo>
                      <a:cubicBezTo>
                        <a:pt x="16" y="337"/>
                        <a:pt x="18" y="376"/>
                        <a:pt x="20" y="41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4605840" y="5671080"/>
                  <a:ext cx="1098360" cy="167760"/>
                </a:xfrm>
                <a:custGeom>
                  <a:avLst/>
                  <a:gdLst/>
                  <a:ahLst/>
                  <a:rect l="l" t="t" r="r" b="b"/>
                  <a:pathLst>
                    <a:path w="804" h="416">
                      <a:moveTo>
                        <a:pt x="4" y="0"/>
                      </a:moveTo>
                      <a:cubicBezTo>
                        <a:pt x="2" y="28"/>
                        <a:pt x="0" y="57"/>
                        <a:pt x="36" y="80"/>
                      </a:cubicBezTo>
                      <a:cubicBezTo>
                        <a:pt x="72" y="103"/>
                        <a:pt x="107" y="125"/>
                        <a:pt x="220" y="136"/>
                      </a:cubicBezTo>
                      <a:cubicBezTo>
                        <a:pt x="333" y="147"/>
                        <a:pt x="628" y="136"/>
                        <a:pt x="716" y="144"/>
                      </a:cubicBezTo>
                      <a:cubicBezTo>
                        <a:pt x="804" y="152"/>
                        <a:pt x="793" y="177"/>
                        <a:pt x="748" y="184"/>
                      </a:cubicBezTo>
                      <a:cubicBezTo>
                        <a:pt x="703" y="191"/>
                        <a:pt x="545" y="179"/>
                        <a:pt x="444" y="184"/>
                      </a:cubicBezTo>
                      <a:cubicBezTo>
                        <a:pt x="343" y="189"/>
                        <a:pt x="208" y="196"/>
                        <a:pt x="140" y="216"/>
                      </a:cubicBezTo>
                      <a:cubicBezTo>
                        <a:pt x="72" y="236"/>
                        <a:pt x="56" y="271"/>
                        <a:pt x="36" y="304"/>
                      </a:cubicBezTo>
                      <a:cubicBezTo>
                        <a:pt x="16" y="337"/>
                        <a:pt x="18" y="376"/>
                        <a:pt x="20" y="41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9" name=""/>
              <p:cNvSpPr/>
              <p:nvPr/>
            </p:nvSpPr>
            <p:spPr>
              <a:xfrm>
                <a:off x="5376960" y="5475600"/>
                <a:ext cx="568800" cy="433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5945760" y="5699520"/>
                <a:ext cx="294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1" name=""/>
              <p:cNvGrpSpPr/>
              <p:nvPr/>
            </p:nvGrpSpPr>
            <p:grpSpPr>
              <a:xfrm>
                <a:off x="4469400" y="5377680"/>
                <a:ext cx="131040" cy="795960"/>
                <a:chOff x="4469400" y="5377680"/>
                <a:chExt cx="131040" cy="795960"/>
              </a:xfrm>
            </p:grpSpPr>
            <p:grpSp>
              <p:nvGrpSpPr>
                <p:cNvPr id="3202" name=""/>
                <p:cNvGrpSpPr/>
                <p:nvPr/>
              </p:nvGrpSpPr>
              <p:grpSpPr>
                <a:xfrm>
                  <a:off x="4469400" y="5377680"/>
                  <a:ext cx="120240" cy="795960"/>
                  <a:chOff x="4469400" y="5377680"/>
                  <a:chExt cx="120240" cy="795960"/>
                </a:xfrm>
              </p:grpSpPr>
              <p:sp>
                <p:nvSpPr>
                  <p:cNvPr id="3203" name=""/>
                  <p:cNvSpPr/>
                  <p:nvPr/>
                </p:nvSpPr>
                <p:spPr>
                  <a:xfrm>
                    <a:off x="4469400" y="5377680"/>
                    <a:ext cx="116640" cy="7959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04" name=""/>
                  <p:cNvGrpSpPr/>
                  <p:nvPr/>
                </p:nvGrpSpPr>
                <p:grpSpPr>
                  <a:xfrm>
                    <a:off x="4469400" y="5483520"/>
                    <a:ext cx="120240" cy="583560"/>
                    <a:chOff x="4469400" y="5483520"/>
                    <a:chExt cx="120240" cy="583560"/>
                  </a:xfrm>
                </p:grpSpPr>
                <p:sp>
                  <p:nvSpPr>
                    <p:cNvPr id="3205" name=""/>
                    <p:cNvSpPr/>
                    <p:nvPr/>
                  </p:nvSpPr>
                  <p:spPr>
                    <a:xfrm>
                      <a:off x="4469400" y="5483520"/>
                      <a:ext cx="12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6" name=""/>
                    <p:cNvSpPr/>
                    <p:nvPr/>
                  </p:nvSpPr>
                  <p:spPr>
                    <a:xfrm>
                      <a:off x="4469400" y="5600160"/>
                      <a:ext cx="12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7" name=""/>
                    <p:cNvSpPr/>
                    <p:nvPr/>
                  </p:nvSpPr>
                  <p:spPr>
                    <a:xfrm>
                      <a:off x="4469400" y="5716800"/>
                      <a:ext cx="12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8" name=""/>
                    <p:cNvSpPr/>
                    <p:nvPr/>
                  </p:nvSpPr>
                  <p:spPr>
                    <a:xfrm>
                      <a:off x="4469400" y="5833440"/>
                      <a:ext cx="12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9" name=""/>
                    <p:cNvSpPr/>
                    <p:nvPr/>
                  </p:nvSpPr>
                  <p:spPr>
                    <a:xfrm>
                      <a:off x="4469400" y="5950440"/>
                      <a:ext cx="12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0" name=""/>
                    <p:cNvSpPr/>
                    <p:nvPr/>
                  </p:nvSpPr>
                  <p:spPr>
                    <a:xfrm>
                      <a:off x="4469400" y="6067080"/>
                      <a:ext cx="12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211" name=""/>
                <p:cNvSpPr/>
                <p:nvPr/>
              </p:nvSpPr>
              <p:spPr>
                <a:xfrm>
                  <a:off x="4480200" y="5699160"/>
                  <a:ext cx="120240" cy="13968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2" name=""/>
              <p:cNvSpPr/>
              <p:nvPr/>
            </p:nvSpPr>
            <p:spPr>
              <a:xfrm>
                <a:off x="6230160" y="5364000"/>
                <a:ext cx="863640" cy="698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3" name=""/>
              <p:cNvGrpSpPr/>
              <p:nvPr/>
            </p:nvGrpSpPr>
            <p:grpSpPr>
              <a:xfrm>
                <a:off x="6393960" y="5433840"/>
                <a:ext cx="535680" cy="599760"/>
                <a:chOff x="6393960" y="5433840"/>
                <a:chExt cx="535680" cy="599760"/>
              </a:xfrm>
            </p:grpSpPr>
            <p:sp>
              <p:nvSpPr>
                <p:cNvPr id="3214" name=""/>
                <p:cNvSpPr/>
                <p:nvPr/>
              </p:nvSpPr>
              <p:spPr>
                <a:xfrm>
                  <a:off x="6393960" y="5433840"/>
                  <a:ext cx="535680" cy="530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5" name=""/>
                <p:cNvGrpSpPr/>
                <p:nvPr/>
              </p:nvGrpSpPr>
              <p:grpSpPr>
                <a:xfrm>
                  <a:off x="6426720" y="5433840"/>
                  <a:ext cx="458640" cy="530280"/>
                  <a:chOff x="6426720" y="5433840"/>
                  <a:chExt cx="458640" cy="530280"/>
                </a:xfrm>
              </p:grpSpPr>
              <p:sp>
                <p:nvSpPr>
                  <p:cNvPr id="3216" name=""/>
                  <p:cNvSpPr/>
                  <p:nvPr/>
                </p:nvSpPr>
                <p:spPr>
                  <a:xfrm>
                    <a:off x="642672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7" name=""/>
                  <p:cNvSpPr/>
                  <p:nvPr/>
                </p:nvSpPr>
                <p:spPr>
                  <a:xfrm>
                    <a:off x="649224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8" name=""/>
                  <p:cNvSpPr/>
                  <p:nvPr/>
                </p:nvSpPr>
                <p:spPr>
                  <a:xfrm>
                    <a:off x="655776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9" name=""/>
                  <p:cNvSpPr/>
                  <p:nvPr/>
                </p:nvSpPr>
                <p:spPr>
                  <a:xfrm>
                    <a:off x="662292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0" name=""/>
                  <p:cNvSpPr/>
                  <p:nvPr/>
                </p:nvSpPr>
                <p:spPr>
                  <a:xfrm>
                    <a:off x="668880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1" name=""/>
                  <p:cNvSpPr/>
                  <p:nvPr/>
                </p:nvSpPr>
                <p:spPr>
                  <a:xfrm>
                    <a:off x="675432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2" name=""/>
                  <p:cNvSpPr/>
                  <p:nvPr/>
                </p:nvSpPr>
                <p:spPr>
                  <a:xfrm>
                    <a:off x="681948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3" name=""/>
                  <p:cNvSpPr/>
                  <p:nvPr/>
                </p:nvSpPr>
                <p:spPr>
                  <a:xfrm>
                    <a:off x="6885360" y="5433840"/>
                    <a:ext cx="0" cy="530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4" name=""/>
                <p:cNvGrpSpPr/>
                <p:nvPr/>
              </p:nvGrpSpPr>
              <p:grpSpPr>
                <a:xfrm>
                  <a:off x="6415920" y="5447520"/>
                  <a:ext cx="502200" cy="586080"/>
                  <a:chOff x="6415920" y="5447520"/>
                  <a:chExt cx="502200" cy="586080"/>
                </a:xfrm>
              </p:grpSpPr>
              <p:sp>
                <p:nvSpPr>
                  <p:cNvPr id="3225" name=""/>
                  <p:cNvSpPr/>
                  <p:nvPr/>
                </p:nvSpPr>
                <p:spPr>
                  <a:xfrm>
                    <a:off x="6415920" y="603360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6" name=""/>
                  <p:cNvSpPr/>
                  <p:nvPr/>
                </p:nvSpPr>
                <p:spPr>
                  <a:xfrm>
                    <a:off x="6415920" y="594972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7" name=""/>
                  <p:cNvSpPr/>
                  <p:nvPr/>
                </p:nvSpPr>
                <p:spPr>
                  <a:xfrm>
                    <a:off x="6415920" y="586584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8" name=""/>
                  <p:cNvSpPr/>
                  <p:nvPr/>
                </p:nvSpPr>
                <p:spPr>
                  <a:xfrm>
                    <a:off x="6415920" y="578268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9" name=""/>
                  <p:cNvSpPr/>
                  <p:nvPr/>
                </p:nvSpPr>
                <p:spPr>
                  <a:xfrm>
                    <a:off x="6415920" y="569880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0" name=""/>
                  <p:cNvSpPr/>
                  <p:nvPr/>
                </p:nvSpPr>
                <p:spPr>
                  <a:xfrm>
                    <a:off x="6415920" y="561492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1" name=""/>
                  <p:cNvSpPr/>
                  <p:nvPr/>
                </p:nvSpPr>
                <p:spPr>
                  <a:xfrm>
                    <a:off x="6415920" y="553140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2" name=""/>
                  <p:cNvSpPr/>
                  <p:nvPr/>
                </p:nvSpPr>
                <p:spPr>
                  <a:xfrm>
                    <a:off x="6415920" y="5447520"/>
                    <a:ext cx="50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33" name=""/>
                <p:cNvSpPr/>
                <p:nvPr/>
              </p:nvSpPr>
              <p:spPr>
                <a:xfrm>
                  <a:off x="6688800" y="5685120"/>
                  <a:ext cx="64440" cy="817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34" name=""/>
          <p:cNvGrpSpPr/>
          <p:nvPr/>
        </p:nvGrpSpPr>
        <p:grpSpPr>
          <a:xfrm>
            <a:off x="3394080" y="2405160"/>
            <a:ext cx="5616720" cy="2693880"/>
            <a:chOff x="3394080" y="2405160"/>
            <a:chExt cx="5616720" cy="2693880"/>
          </a:xfrm>
        </p:grpSpPr>
        <p:sp>
          <p:nvSpPr>
            <p:cNvPr id="3235" name=""/>
            <p:cNvSpPr/>
            <p:nvPr/>
          </p:nvSpPr>
          <p:spPr>
            <a:xfrm>
              <a:off x="3394080" y="3313080"/>
              <a:ext cx="4511520" cy="1785960"/>
            </a:xfrm>
            <a:custGeom>
              <a:avLst/>
              <a:gdLst/>
              <a:ahLst/>
              <a:rect l="l" t="t" r="r" b="b"/>
              <a:pathLst>
                <a:path w="4572" h="1809">
                  <a:moveTo>
                    <a:pt x="4572" y="991"/>
                  </a:moveTo>
                  <a:lnTo>
                    <a:pt x="4518" y="646"/>
                  </a:lnTo>
                  <a:lnTo>
                    <a:pt x="4418" y="546"/>
                  </a:lnTo>
                  <a:lnTo>
                    <a:pt x="164" y="1809"/>
                  </a:lnTo>
                  <a:lnTo>
                    <a:pt x="45" y="1518"/>
                  </a:lnTo>
                  <a:lnTo>
                    <a:pt x="0" y="1118"/>
                  </a:lnTo>
                  <a:lnTo>
                    <a:pt x="18" y="527"/>
                  </a:lnTo>
                  <a:lnTo>
                    <a:pt x="127" y="182"/>
                  </a:lnTo>
                  <a:lnTo>
                    <a:pt x="200" y="0"/>
                  </a:lnTo>
                  <a:lnTo>
                    <a:pt x="4481" y="1264"/>
                  </a:lnTo>
                </a:path>
              </a:pathLst>
            </a:custGeom>
            <a:solidFill>
              <a:srgbClr val="ffff66"/>
            </a:solidFill>
            <a:ln w="9360">
              <a:solidFill>
                <a:srgbClr val="cce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6485040" y="3524400"/>
              <a:ext cx="1452600" cy="13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6456240" y="3929040"/>
              <a:ext cx="260640" cy="4507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7353360" y="3787560"/>
              <a:ext cx="482040" cy="79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116" y="2040"/>
                  </a:moveTo>
                  <a:arcTo wR="10800" hR="10800" stAng="-3252539" swAng="6610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7116" y="2040"/>
                  </a:moveTo>
                  <a:arcTo wR="10800" hR="10800" stAng="-3252539" swAng="6610272"/>
                </a:path>
              </a:pathLst>
            </a:custGeom>
            <a:noFill/>
            <a:ln w="7632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728120" y="3319560"/>
              <a:ext cx="760320" cy="841320"/>
            </a:xfrm>
            <a:custGeom>
              <a:avLst/>
              <a:gdLst/>
              <a:ahLst/>
              <a:rect l="l" t="t" r="r" b="b"/>
              <a:pathLst>
                <a:path w="771" h="853">
                  <a:moveTo>
                    <a:pt x="0" y="491"/>
                  </a:moveTo>
                  <a:cubicBezTo>
                    <a:pt x="46" y="568"/>
                    <a:pt x="93" y="646"/>
                    <a:pt x="182" y="691"/>
                  </a:cubicBezTo>
                  <a:cubicBezTo>
                    <a:pt x="271" y="736"/>
                    <a:pt x="444" y="853"/>
                    <a:pt x="536" y="764"/>
                  </a:cubicBezTo>
                  <a:cubicBezTo>
                    <a:pt x="628" y="675"/>
                    <a:pt x="701" y="282"/>
                    <a:pt x="736" y="155"/>
                  </a:cubicBezTo>
                  <a:cubicBezTo>
                    <a:pt x="771" y="28"/>
                    <a:pt x="758" y="14"/>
                    <a:pt x="7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763040" y="3373560"/>
              <a:ext cx="771480" cy="1066680"/>
            </a:xfrm>
            <a:custGeom>
              <a:avLst/>
              <a:gdLst/>
              <a:ahLst/>
              <a:rect l="l" t="t" r="r" b="b"/>
              <a:pathLst>
                <a:path w="782" h="1081">
                  <a:moveTo>
                    <a:pt x="0" y="1081"/>
                  </a:moveTo>
                  <a:cubicBezTo>
                    <a:pt x="47" y="1040"/>
                    <a:pt x="188" y="892"/>
                    <a:pt x="282" y="836"/>
                  </a:cubicBezTo>
                  <a:cubicBezTo>
                    <a:pt x="376" y="780"/>
                    <a:pt x="487" y="854"/>
                    <a:pt x="564" y="745"/>
                  </a:cubicBezTo>
                  <a:cubicBezTo>
                    <a:pt x="641" y="636"/>
                    <a:pt x="710" y="305"/>
                    <a:pt x="746" y="181"/>
                  </a:cubicBezTo>
                  <a:cubicBezTo>
                    <a:pt x="782" y="57"/>
                    <a:pt x="775" y="38"/>
                    <a:pt x="78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41" name="joconde" descr=""/>
            <p:cNvPicPr/>
            <p:nvPr/>
          </p:nvPicPr>
          <p:blipFill>
            <a:blip r:embed="rId1"/>
            <a:stretch/>
          </p:blipFill>
          <p:spPr>
            <a:xfrm>
              <a:off x="3552840" y="3925800"/>
              <a:ext cx="72216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2" name="" descr=""/>
            <p:cNvPicPr/>
            <p:nvPr/>
          </p:nvPicPr>
          <p:blipFill>
            <a:blip r:embed="rId2"/>
            <a:stretch/>
          </p:blipFill>
          <p:spPr>
            <a:xfrm>
              <a:off x="7515360" y="3835440"/>
              <a:ext cx="26028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3" name=""/>
            <p:cNvSpPr/>
            <p:nvPr/>
          </p:nvSpPr>
          <p:spPr>
            <a:xfrm>
              <a:off x="4259160" y="3930480"/>
              <a:ext cx="3284640" cy="447840"/>
            </a:xfrm>
            <a:custGeom>
              <a:avLst/>
              <a:gdLst/>
              <a:ahLst/>
              <a:rect l="l" t="t" r="r" b="b"/>
              <a:pathLst>
                <a:path w="3327" h="454">
                  <a:moveTo>
                    <a:pt x="0" y="9"/>
                  </a:moveTo>
                  <a:lnTo>
                    <a:pt x="2363" y="454"/>
                  </a:lnTo>
                  <a:lnTo>
                    <a:pt x="3327" y="236"/>
                  </a:lnTo>
                  <a:lnTo>
                    <a:pt x="2354" y="0"/>
                  </a:lnTo>
                  <a:lnTo>
                    <a:pt x="18" y="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160880" y="3262320"/>
              <a:ext cx="528480" cy="3747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5" name=""/>
            <p:cNvGrpSpPr/>
            <p:nvPr/>
          </p:nvGrpSpPr>
          <p:grpSpPr>
            <a:xfrm>
              <a:off x="7736040" y="2405160"/>
              <a:ext cx="1274760" cy="968400"/>
              <a:chOff x="7736040" y="2405160"/>
              <a:chExt cx="1274760" cy="968400"/>
            </a:xfrm>
          </p:grpSpPr>
          <p:sp>
            <p:nvSpPr>
              <p:cNvPr id="3246" name=""/>
              <p:cNvSpPr/>
              <p:nvPr/>
            </p:nvSpPr>
            <p:spPr>
              <a:xfrm>
                <a:off x="7736040" y="2405160"/>
                <a:ext cx="1274760" cy="968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7985520" y="2584440"/>
                <a:ext cx="596880" cy="693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 flipV="1">
                <a:off x="8209440" y="2930400"/>
                <a:ext cx="83880" cy="7128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249" name="joconde" descr=""/>
              <p:cNvPicPr/>
              <p:nvPr/>
            </p:nvPicPr>
            <p:blipFill>
              <a:blip r:embed="rId3"/>
              <a:stretch/>
            </p:blipFill>
            <p:spPr>
              <a:xfrm>
                <a:off x="7987320" y="2717280"/>
                <a:ext cx="41076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0" name=""/>
              <p:cNvSpPr/>
              <p:nvPr/>
            </p:nvSpPr>
            <p:spPr>
              <a:xfrm>
                <a:off x="8287200" y="2586240"/>
                <a:ext cx="299880" cy="141480"/>
              </a:xfrm>
              <a:custGeom>
                <a:avLst/>
                <a:gdLst/>
                <a:ahLst/>
                <a:rect l="l" t="t" r="r" b="b"/>
                <a:pathLst>
                  <a:path w="197" h="93">
                    <a:moveTo>
                      <a:pt x="0" y="6"/>
                    </a:moveTo>
                    <a:lnTo>
                      <a:pt x="197" y="93"/>
                    </a:lnTo>
                    <a:lnTo>
                      <a:pt x="18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1" name=""/>
            <p:cNvSpPr/>
            <p:nvPr/>
          </p:nvSpPr>
          <p:spPr>
            <a:xfrm>
              <a:off x="4168800" y="3637080"/>
              <a:ext cx="3422520" cy="745920"/>
            </a:xfrm>
            <a:custGeom>
              <a:avLst/>
              <a:gdLst/>
              <a:ahLst/>
              <a:rect l="l" t="t" r="r" b="b"/>
              <a:pathLst>
                <a:path w="3468" h="756">
                  <a:moveTo>
                    <a:pt x="0" y="0"/>
                  </a:moveTo>
                  <a:lnTo>
                    <a:pt x="2460" y="306"/>
                  </a:lnTo>
                  <a:lnTo>
                    <a:pt x="3468" y="744"/>
                  </a:lnTo>
                  <a:lnTo>
                    <a:pt x="2454" y="75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7397640" y="4397400"/>
              <a:ext cx="185760" cy="71280"/>
            </a:xfrm>
            <a:custGeom>
              <a:avLst/>
              <a:gdLst/>
              <a:ahLst/>
              <a:rect l="l" t="t" r="r" b="b"/>
              <a:pathLst>
                <a:path w="306" h="108">
                  <a:moveTo>
                    <a:pt x="0" y="0"/>
                  </a:moveTo>
                  <a:lnTo>
                    <a:pt x="306" y="0"/>
                  </a:lnTo>
                  <a:lnTo>
                    <a:pt x="306" y="1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7405560" y="4387680"/>
              <a:ext cx="169920" cy="12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511880" y="4183200"/>
              <a:ext cx="8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cha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de v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5" name=""/>
          <p:cNvGrpSpPr/>
          <p:nvPr/>
        </p:nvGrpSpPr>
        <p:grpSpPr>
          <a:xfrm>
            <a:off x="209520" y="1814400"/>
            <a:ext cx="7111800" cy="1160640"/>
            <a:chOff x="209520" y="1814400"/>
            <a:chExt cx="7111800" cy="1160640"/>
          </a:xfrm>
        </p:grpSpPr>
        <p:sp>
          <p:nvSpPr>
            <p:cNvPr id="3256" name=""/>
            <p:cNvSpPr/>
            <p:nvPr/>
          </p:nvSpPr>
          <p:spPr>
            <a:xfrm>
              <a:off x="3409920" y="2073240"/>
              <a:ext cx="1668240" cy="544320"/>
            </a:xfrm>
            <a:custGeom>
              <a:avLst/>
              <a:gdLst/>
              <a:ahLst/>
              <a:rect l="l" t="t" r="r" b="b"/>
              <a:pathLst>
                <a:path w="1051" h="343">
                  <a:moveTo>
                    <a:pt x="0" y="0"/>
                  </a:moveTo>
                  <a:cubicBezTo>
                    <a:pt x="0" y="12"/>
                    <a:pt x="0" y="25"/>
                    <a:pt x="40" y="40"/>
                  </a:cubicBezTo>
                  <a:cubicBezTo>
                    <a:pt x="80" y="55"/>
                    <a:pt x="163" y="87"/>
                    <a:pt x="240" y="88"/>
                  </a:cubicBezTo>
                  <a:cubicBezTo>
                    <a:pt x="317" y="89"/>
                    <a:pt x="385" y="59"/>
                    <a:pt x="504" y="48"/>
                  </a:cubicBezTo>
                  <a:cubicBezTo>
                    <a:pt x="623" y="37"/>
                    <a:pt x="869" y="12"/>
                    <a:pt x="952" y="24"/>
                  </a:cubicBezTo>
                  <a:cubicBezTo>
                    <a:pt x="1035" y="36"/>
                    <a:pt x="1051" y="104"/>
                    <a:pt x="1000" y="120"/>
                  </a:cubicBezTo>
                  <a:cubicBezTo>
                    <a:pt x="949" y="136"/>
                    <a:pt x="780" y="111"/>
                    <a:pt x="648" y="120"/>
                  </a:cubicBezTo>
                  <a:cubicBezTo>
                    <a:pt x="516" y="129"/>
                    <a:pt x="311" y="140"/>
                    <a:pt x="208" y="176"/>
                  </a:cubicBezTo>
                  <a:cubicBezTo>
                    <a:pt x="105" y="212"/>
                    <a:pt x="48" y="329"/>
                    <a:pt x="32" y="336"/>
                  </a:cubicBezTo>
                  <a:cubicBezTo>
                    <a:pt x="16" y="343"/>
                    <a:pt x="88" y="245"/>
                    <a:pt x="112" y="216"/>
                  </a:cubicBezTo>
                  <a:cubicBezTo>
                    <a:pt x="136" y="187"/>
                    <a:pt x="111" y="179"/>
                    <a:pt x="176" y="160"/>
                  </a:cubicBezTo>
                  <a:cubicBezTo>
                    <a:pt x="241" y="141"/>
                    <a:pt x="412" y="113"/>
                    <a:pt x="504" y="104"/>
                  </a:cubicBezTo>
                  <a:cubicBezTo>
                    <a:pt x="596" y="95"/>
                    <a:pt x="641" y="107"/>
                    <a:pt x="728" y="104"/>
                  </a:cubicBezTo>
                  <a:cubicBezTo>
                    <a:pt x="815" y="101"/>
                    <a:pt x="1004" y="95"/>
                    <a:pt x="1024" y="88"/>
                  </a:cubicBezTo>
                  <a:cubicBezTo>
                    <a:pt x="1044" y="81"/>
                    <a:pt x="921" y="67"/>
                    <a:pt x="848" y="64"/>
                  </a:cubicBezTo>
                  <a:cubicBezTo>
                    <a:pt x="775" y="61"/>
                    <a:pt x="680" y="65"/>
                    <a:pt x="584" y="72"/>
                  </a:cubicBezTo>
                  <a:cubicBezTo>
                    <a:pt x="488" y="79"/>
                    <a:pt x="352" y="92"/>
                    <a:pt x="272" y="104"/>
                  </a:cubicBezTo>
                  <a:cubicBezTo>
                    <a:pt x="192" y="116"/>
                    <a:pt x="140" y="129"/>
                    <a:pt x="104" y="144"/>
                  </a:cubicBezTo>
                  <a:cubicBezTo>
                    <a:pt x="68" y="159"/>
                    <a:pt x="65" y="203"/>
                    <a:pt x="56" y="192"/>
                  </a:cubicBezTo>
                  <a:cubicBezTo>
                    <a:pt x="47" y="181"/>
                    <a:pt x="28" y="95"/>
                    <a:pt x="48" y="80"/>
                  </a:cubicBezTo>
                  <a:cubicBezTo>
                    <a:pt x="68" y="65"/>
                    <a:pt x="112" y="99"/>
                    <a:pt x="176" y="104"/>
                  </a:cubicBezTo>
                  <a:cubicBezTo>
                    <a:pt x="240" y="109"/>
                    <a:pt x="327" y="115"/>
                    <a:pt x="432" y="112"/>
                  </a:cubicBezTo>
                  <a:cubicBezTo>
                    <a:pt x="537" y="109"/>
                    <a:pt x="713" y="92"/>
                    <a:pt x="808" y="88"/>
                  </a:cubicBezTo>
                  <a:cubicBezTo>
                    <a:pt x="903" y="84"/>
                    <a:pt x="971" y="89"/>
                    <a:pt x="1000" y="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7" name=""/>
            <p:cNvGrpSpPr/>
            <p:nvPr/>
          </p:nvGrpSpPr>
          <p:grpSpPr>
            <a:xfrm>
              <a:off x="209520" y="2136600"/>
              <a:ext cx="2082600" cy="406440"/>
              <a:chOff x="209520" y="2136600"/>
              <a:chExt cx="2082600" cy="406440"/>
            </a:xfrm>
          </p:grpSpPr>
          <p:sp>
            <p:nvSpPr>
              <p:cNvPr id="3258" name=""/>
              <p:cNvSpPr/>
              <p:nvPr/>
            </p:nvSpPr>
            <p:spPr>
              <a:xfrm>
                <a:off x="209520" y="2301840"/>
                <a:ext cx="88920" cy="74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298440" y="2136600"/>
                <a:ext cx="1993680" cy="406440"/>
              </a:xfrm>
              <a:custGeom>
                <a:avLst/>
                <a:gdLst/>
                <a:ahLst/>
                <a:rect l="l" t="t" r="r" b="b"/>
                <a:pathLst>
                  <a:path w="1256" h="256">
                    <a:moveTo>
                      <a:pt x="1256" y="0"/>
                    </a:moveTo>
                    <a:lnTo>
                      <a:pt x="0" y="128"/>
                    </a:lnTo>
                    <a:lnTo>
                      <a:pt x="1256" y="256"/>
                    </a:lnTo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0" name=""/>
            <p:cNvGrpSpPr/>
            <p:nvPr/>
          </p:nvGrpSpPr>
          <p:grpSpPr>
            <a:xfrm>
              <a:off x="2246040" y="1814400"/>
              <a:ext cx="1233360" cy="1160640"/>
              <a:chOff x="2246040" y="1814400"/>
              <a:chExt cx="1233360" cy="1160640"/>
            </a:xfrm>
          </p:grpSpPr>
          <p:sp>
            <p:nvSpPr>
              <p:cNvPr id="3261" name=""/>
              <p:cNvSpPr/>
              <p:nvPr/>
            </p:nvSpPr>
            <p:spPr>
              <a:xfrm>
                <a:off x="2269800" y="1814400"/>
                <a:ext cx="1209600" cy="1160640"/>
              </a:xfrm>
              <a:prstGeom prst="ellipse">
                <a:avLst/>
              </a:prstGeom>
              <a:gradFill rotWithShape="0">
                <a:gsLst>
                  <a:gs pos="0">
                    <a:srgbClr val="66ffff"/>
                  </a:gs>
                  <a:gs pos="100000">
                    <a:srgbClr val="0066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2995560" y="2034720"/>
                <a:ext cx="399240" cy="66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116" y="2040"/>
                    </a:moveTo>
                    <a:arcTo wR="10800" hR="10800" stAng="-3252539" swAng="661027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116" y="2040"/>
                    </a:moveTo>
                    <a:arcTo wR="10800" hR="10800" stAng="-3252539" swAng="6610272"/>
                  </a:path>
                </a:pathLst>
              </a:custGeom>
              <a:noFill/>
              <a:ln w="76320">
                <a:solidFill>
                  <a:srgbClr val="33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3358800" y="2365560"/>
                <a:ext cx="76320" cy="101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2381040" y="2149560"/>
                <a:ext cx="952200" cy="393840"/>
              </a:xfrm>
              <a:custGeom>
                <a:avLst/>
                <a:gdLst/>
                <a:ahLst/>
                <a:rect l="l" t="t" r="r" b="b"/>
                <a:pathLst>
                  <a:path w="808" h="248">
                    <a:moveTo>
                      <a:pt x="0" y="0"/>
                    </a:moveTo>
                    <a:lnTo>
                      <a:pt x="808" y="160"/>
                    </a:lnTo>
                    <a:lnTo>
                      <a:pt x="0" y="248"/>
                    </a:lnTo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2246040" y="2151000"/>
                <a:ext cx="216000" cy="3780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50000">
                    <a:srgbClr val="ffffff"/>
                  </a:gs>
                  <a:gs pos="100000">
                    <a:srgbClr val="cc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6" name=""/>
            <p:cNvGrpSpPr/>
            <p:nvPr/>
          </p:nvGrpSpPr>
          <p:grpSpPr>
            <a:xfrm>
              <a:off x="4870080" y="1870200"/>
              <a:ext cx="2451240" cy="863280"/>
              <a:chOff x="4870080" y="1870200"/>
              <a:chExt cx="2451240" cy="863280"/>
            </a:xfrm>
          </p:grpSpPr>
          <p:sp>
            <p:nvSpPr>
              <p:cNvPr id="3267" name=""/>
              <p:cNvSpPr/>
              <p:nvPr/>
            </p:nvSpPr>
            <p:spPr>
              <a:xfrm>
                <a:off x="4870080" y="1870200"/>
                <a:ext cx="2451240" cy="86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6445080" y="1996920"/>
                <a:ext cx="787320" cy="635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9" name=""/>
              <p:cNvGrpSpPr/>
              <p:nvPr/>
            </p:nvGrpSpPr>
            <p:grpSpPr>
              <a:xfrm>
                <a:off x="6521400" y="2035080"/>
                <a:ext cx="622080" cy="545400"/>
                <a:chOff x="6521400" y="2035080"/>
                <a:chExt cx="622080" cy="545400"/>
              </a:xfrm>
            </p:grpSpPr>
            <p:sp>
              <p:nvSpPr>
                <p:cNvPr id="3270" name=""/>
                <p:cNvSpPr/>
                <p:nvPr/>
              </p:nvSpPr>
              <p:spPr>
                <a:xfrm>
                  <a:off x="6521400" y="2035080"/>
                  <a:ext cx="622080" cy="48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71" name=""/>
                <p:cNvGrpSpPr/>
                <p:nvPr/>
              </p:nvGrpSpPr>
              <p:grpSpPr>
                <a:xfrm>
                  <a:off x="6559200" y="2035080"/>
                  <a:ext cx="532800" cy="482400"/>
                  <a:chOff x="6559200" y="2035080"/>
                  <a:chExt cx="532800" cy="482400"/>
                </a:xfrm>
              </p:grpSpPr>
              <p:sp>
                <p:nvSpPr>
                  <p:cNvPr id="3272" name=""/>
                  <p:cNvSpPr/>
                  <p:nvPr/>
                </p:nvSpPr>
                <p:spPr>
                  <a:xfrm>
                    <a:off x="655920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3" name=""/>
                  <p:cNvSpPr/>
                  <p:nvPr/>
                </p:nvSpPr>
                <p:spPr>
                  <a:xfrm>
                    <a:off x="663516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4" name=""/>
                  <p:cNvSpPr/>
                  <p:nvPr/>
                </p:nvSpPr>
                <p:spPr>
                  <a:xfrm>
                    <a:off x="671148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5" name=""/>
                  <p:cNvSpPr/>
                  <p:nvPr/>
                </p:nvSpPr>
                <p:spPr>
                  <a:xfrm>
                    <a:off x="678744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6" name=""/>
                  <p:cNvSpPr/>
                  <p:nvPr/>
                </p:nvSpPr>
                <p:spPr>
                  <a:xfrm>
                    <a:off x="686340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7" name=""/>
                  <p:cNvSpPr/>
                  <p:nvPr/>
                </p:nvSpPr>
                <p:spPr>
                  <a:xfrm>
                    <a:off x="693972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8" name=""/>
                  <p:cNvSpPr/>
                  <p:nvPr/>
                </p:nvSpPr>
                <p:spPr>
                  <a:xfrm>
                    <a:off x="701568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9" name=""/>
                  <p:cNvSpPr/>
                  <p:nvPr/>
                </p:nvSpPr>
                <p:spPr>
                  <a:xfrm>
                    <a:off x="7092000" y="2035080"/>
                    <a:ext cx="0" cy="482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80" name=""/>
                <p:cNvGrpSpPr/>
                <p:nvPr/>
              </p:nvGrpSpPr>
              <p:grpSpPr>
                <a:xfrm>
                  <a:off x="6546600" y="2047320"/>
                  <a:ext cx="583200" cy="533160"/>
                  <a:chOff x="6546600" y="2047320"/>
                  <a:chExt cx="583200" cy="533160"/>
                </a:xfrm>
              </p:grpSpPr>
              <p:sp>
                <p:nvSpPr>
                  <p:cNvPr id="3281" name=""/>
                  <p:cNvSpPr/>
                  <p:nvPr/>
                </p:nvSpPr>
                <p:spPr>
                  <a:xfrm>
                    <a:off x="6546600" y="258048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2" name=""/>
                  <p:cNvSpPr/>
                  <p:nvPr/>
                </p:nvSpPr>
                <p:spPr>
                  <a:xfrm>
                    <a:off x="6546600" y="250452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3" name=""/>
                  <p:cNvSpPr/>
                  <p:nvPr/>
                </p:nvSpPr>
                <p:spPr>
                  <a:xfrm>
                    <a:off x="6546600" y="242820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4" name=""/>
                  <p:cNvSpPr/>
                  <p:nvPr/>
                </p:nvSpPr>
                <p:spPr>
                  <a:xfrm>
                    <a:off x="6546600" y="235224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5" name=""/>
                  <p:cNvSpPr/>
                  <p:nvPr/>
                </p:nvSpPr>
                <p:spPr>
                  <a:xfrm>
                    <a:off x="6546600" y="227592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6" name=""/>
                  <p:cNvSpPr/>
                  <p:nvPr/>
                </p:nvSpPr>
                <p:spPr>
                  <a:xfrm>
                    <a:off x="6546600" y="219960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7" name=""/>
                  <p:cNvSpPr/>
                  <p:nvPr/>
                </p:nvSpPr>
                <p:spPr>
                  <a:xfrm>
                    <a:off x="6546600" y="212364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8" name=""/>
                  <p:cNvSpPr/>
                  <p:nvPr/>
                </p:nvSpPr>
                <p:spPr>
                  <a:xfrm>
                    <a:off x="6546600" y="2047320"/>
                    <a:ext cx="583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89" name=""/>
                <p:cNvSpPr/>
                <p:nvPr/>
              </p:nvSpPr>
              <p:spPr>
                <a:xfrm>
                  <a:off x="6863760" y="2263680"/>
                  <a:ext cx="74520" cy="745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0" name=""/>
              <p:cNvSpPr/>
              <p:nvPr/>
            </p:nvSpPr>
            <p:spPr>
              <a:xfrm>
                <a:off x="5014080" y="2020680"/>
                <a:ext cx="1368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Times New Roman"/>
                  </a:rPr>
                  <a:t>cerveau  et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Times New Roman"/>
                  </a:rPr>
                  <a:t>image menta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1" name=""/>
          <p:cNvSpPr/>
          <p:nvPr/>
        </p:nvSpPr>
        <p:spPr>
          <a:xfrm>
            <a:off x="339840" y="1109520"/>
            <a:ext cx="80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stribution  2-dim  d'energie collectee et restituee par un cap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"/>
          <p:cNvSpPr/>
          <p:nvPr/>
        </p:nvSpPr>
        <p:spPr>
          <a:xfrm>
            <a:off x="144720" y="1368360"/>
            <a:ext cx="5098680" cy="100872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mage : ensemble de "pixel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stituant une distribution homothé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 "pixels" de l'obj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3" name=""/>
          <p:cNvGrpSpPr/>
          <p:nvPr/>
        </p:nvGrpSpPr>
        <p:grpSpPr>
          <a:xfrm>
            <a:off x="6343560" y="1585800"/>
            <a:ext cx="2782800" cy="1490760"/>
            <a:chOff x="6343560" y="1585800"/>
            <a:chExt cx="2782800" cy="1490760"/>
          </a:xfrm>
        </p:grpSpPr>
        <p:grpSp>
          <p:nvGrpSpPr>
            <p:cNvPr id="3294" name=""/>
            <p:cNvGrpSpPr/>
            <p:nvPr/>
          </p:nvGrpSpPr>
          <p:grpSpPr>
            <a:xfrm>
              <a:off x="7662960" y="1585800"/>
              <a:ext cx="1463400" cy="1490760"/>
              <a:chOff x="7662960" y="1585800"/>
              <a:chExt cx="1463400" cy="1490760"/>
            </a:xfrm>
          </p:grpSpPr>
          <p:pic>
            <p:nvPicPr>
              <p:cNvPr id="329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62960" y="1585800"/>
                <a:ext cx="1461960" cy="1486800"/>
              </a:xfrm>
              <a:prstGeom prst="rect">
                <a:avLst/>
              </a:prstGeom>
              <a:ln w="6480">
                <a:solidFill>
                  <a:srgbClr val="ffff00"/>
                </a:solidFill>
                <a:miter/>
              </a:ln>
            </p:spPr>
          </p:pic>
          <p:grpSp>
            <p:nvGrpSpPr>
              <p:cNvPr id="3296" name=""/>
              <p:cNvGrpSpPr/>
              <p:nvPr/>
            </p:nvGrpSpPr>
            <p:grpSpPr>
              <a:xfrm>
                <a:off x="7716240" y="1604520"/>
                <a:ext cx="1410120" cy="1472040"/>
                <a:chOff x="7716240" y="1604520"/>
                <a:chExt cx="1410120" cy="1472040"/>
              </a:xfrm>
            </p:grpSpPr>
            <p:sp>
              <p:nvSpPr>
                <p:cNvPr id="3297" name=""/>
                <p:cNvSpPr/>
                <p:nvPr/>
              </p:nvSpPr>
              <p:spPr>
                <a:xfrm>
                  <a:off x="77162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>
                  <a:off x="77630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>
                  <a:off x="78098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785700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790416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>
                  <a:off x="795096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799812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4" name=""/>
                <p:cNvSpPr/>
                <p:nvPr/>
              </p:nvSpPr>
              <p:spPr>
                <a:xfrm>
                  <a:off x="804528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5" name=""/>
                <p:cNvSpPr/>
                <p:nvPr/>
              </p:nvSpPr>
              <p:spPr>
                <a:xfrm>
                  <a:off x="809208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>
                  <a:off x="81392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7" name=""/>
                <p:cNvSpPr/>
                <p:nvPr/>
              </p:nvSpPr>
              <p:spPr>
                <a:xfrm>
                  <a:off x="81860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8" name=""/>
                <p:cNvSpPr/>
                <p:nvPr/>
              </p:nvSpPr>
              <p:spPr>
                <a:xfrm>
                  <a:off x="823320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>
                  <a:off x="828036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0" name=""/>
                <p:cNvSpPr/>
                <p:nvPr/>
              </p:nvSpPr>
              <p:spPr>
                <a:xfrm>
                  <a:off x="832716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1" name=""/>
                <p:cNvSpPr/>
                <p:nvPr/>
              </p:nvSpPr>
              <p:spPr>
                <a:xfrm>
                  <a:off x="837432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>
                  <a:off x="842112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3" name=""/>
                <p:cNvSpPr/>
                <p:nvPr/>
              </p:nvSpPr>
              <p:spPr>
                <a:xfrm>
                  <a:off x="846828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4" name=""/>
                <p:cNvSpPr/>
                <p:nvPr/>
              </p:nvSpPr>
              <p:spPr>
                <a:xfrm>
                  <a:off x="851508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>
                  <a:off x="85622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6" name=""/>
                <p:cNvSpPr/>
                <p:nvPr/>
              </p:nvSpPr>
              <p:spPr>
                <a:xfrm>
                  <a:off x="860940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7" name=""/>
                <p:cNvSpPr/>
                <p:nvPr/>
              </p:nvSpPr>
              <p:spPr>
                <a:xfrm>
                  <a:off x="865620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>
                  <a:off x="870336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>
                  <a:off x="875016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0" name=""/>
                <p:cNvSpPr/>
                <p:nvPr/>
              </p:nvSpPr>
              <p:spPr>
                <a:xfrm>
                  <a:off x="879732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>
                  <a:off x="884448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2" name=""/>
                <p:cNvSpPr/>
                <p:nvPr/>
              </p:nvSpPr>
              <p:spPr>
                <a:xfrm>
                  <a:off x="889128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3" name=""/>
                <p:cNvSpPr/>
                <p:nvPr/>
              </p:nvSpPr>
              <p:spPr>
                <a:xfrm>
                  <a:off x="89384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>
                  <a:off x="898524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5" name=""/>
                <p:cNvSpPr/>
                <p:nvPr/>
              </p:nvSpPr>
              <p:spPr>
                <a:xfrm>
                  <a:off x="903240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6" name=""/>
                <p:cNvSpPr/>
                <p:nvPr/>
              </p:nvSpPr>
              <p:spPr>
                <a:xfrm>
                  <a:off x="907920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>
                  <a:off x="9126360" y="1604520"/>
                  <a:ext cx="0" cy="1472040"/>
                </a:xfrm>
                <a:prstGeom prst="line">
                  <a:avLst/>
                </a:prstGeom>
                <a:ln w="64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8" name=""/>
              <p:cNvSpPr/>
              <p:nvPr/>
            </p:nvSpPr>
            <p:spPr>
              <a:xfrm>
                <a:off x="7677000" y="165204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7677000" y="169632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7677000" y="174024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7677000" y="17841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7677000" y="182844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7677000" y="18723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677000" y="19162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677000" y="19605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677000" y="20044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677000" y="20487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677000" y="20926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7677000" y="213660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7677000" y="21808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7677000" y="222480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7677000" y="22690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7677000" y="231300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7677000" y="235692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7677000" y="240120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7677000" y="244512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7677000" y="248904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7677000" y="253332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7677000" y="257724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7677000" y="26211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7677000" y="266544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7677000" y="27093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7677000" y="275364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7677000" y="27975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7677000" y="28414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7677000" y="28857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7677000" y="29296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7677000" y="297396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677000" y="3017880"/>
                <a:ext cx="1445400" cy="0"/>
              </a:xfrm>
              <a:prstGeom prst="line">
                <a:avLst/>
              </a:prstGeom>
              <a:ln w="64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0" name=""/>
            <p:cNvGrpSpPr/>
            <p:nvPr/>
          </p:nvGrpSpPr>
          <p:grpSpPr>
            <a:xfrm>
              <a:off x="6343560" y="1601640"/>
              <a:ext cx="1231920" cy="1466640"/>
              <a:chOff x="6343560" y="1601640"/>
              <a:chExt cx="1231920" cy="1466640"/>
            </a:xfrm>
          </p:grpSpPr>
          <p:pic>
            <p:nvPicPr>
              <p:cNvPr id="3361" name="joc_nb" descr=""/>
              <p:cNvPicPr/>
              <p:nvPr/>
            </p:nvPicPr>
            <p:blipFill>
              <a:blip r:embed="rId2"/>
              <a:stretch/>
            </p:blipFill>
            <p:spPr>
              <a:xfrm>
                <a:off x="6373800" y="1608840"/>
                <a:ext cx="1194840" cy="1459440"/>
              </a:xfrm>
              <a:prstGeom prst="rect">
                <a:avLst/>
              </a:prstGeom>
              <a:ln w="9360">
                <a:solidFill>
                  <a:srgbClr val="0066ff"/>
                </a:solidFill>
                <a:miter/>
              </a:ln>
            </p:spPr>
          </p:pic>
          <p:grpSp>
            <p:nvGrpSpPr>
              <p:cNvPr id="3362" name=""/>
              <p:cNvGrpSpPr/>
              <p:nvPr/>
            </p:nvGrpSpPr>
            <p:grpSpPr>
              <a:xfrm>
                <a:off x="6343560" y="1601640"/>
                <a:ext cx="1216440" cy="1433160"/>
                <a:chOff x="6343560" y="1601640"/>
                <a:chExt cx="1216440" cy="1433160"/>
              </a:xfrm>
            </p:grpSpPr>
            <p:sp>
              <p:nvSpPr>
                <p:cNvPr id="3363" name=""/>
                <p:cNvSpPr/>
                <p:nvPr/>
              </p:nvSpPr>
              <p:spPr>
                <a:xfrm>
                  <a:off x="6358680" y="1601640"/>
                  <a:ext cx="119340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4" name=""/>
                <p:cNvSpPr/>
                <p:nvPr/>
              </p:nvSpPr>
              <p:spPr>
                <a:xfrm>
                  <a:off x="6343560" y="160164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5" name=""/>
                <p:cNvSpPr/>
                <p:nvPr/>
              </p:nvSpPr>
              <p:spPr>
                <a:xfrm>
                  <a:off x="6343560" y="166104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6" name=""/>
                <p:cNvSpPr/>
                <p:nvPr/>
              </p:nvSpPr>
              <p:spPr>
                <a:xfrm>
                  <a:off x="6343560" y="172080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7" name=""/>
                <p:cNvSpPr/>
                <p:nvPr/>
              </p:nvSpPr>
              <p:spPr>
                <a:xfrm>
                  <a:off x="6343560" y="178056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8" name=""/>
                <p:cNvSpPr/>
                <p:nvPr/>
              </p:nvSpPr>
              <p:spPr>
                <a:xfrm>
                  <a:off x="6343560" y="184032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>
                  <a:off x="6343560" y="190008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6343560" y="195984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1" name=""/>
                <p:cNvSpPr/>
                <p:nvPr/>
              </p:nvSpPr>
              <p:spPr>
                <a:xfrm>
                  <a:off x="6343560" y="201960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2" name=""/>
                <p:cNvSpPr/>
                <p:nvPr/>
              </p:nvSpPr>
              <p:spPr>
                <a:xfrm>
                  <a:off x="6343560" y="207936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>
                  <a:off x="6343560" y="213912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4" name=""/>
                <p:cNvSpPr/>
                <p:nvPr/>
              </p:nvSpPr>
              <p:spPr>
                <a:xfrm>
                  <a:off x="6343560" y="219852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"/>
                <p:cNvSpPr/>
                <p:nvPr/>
              </p:nvSpPr>
              <p:spPr>
                <a:xfrm>
                  <a:off x="6343560" y="225828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6" name=""/>
                <p:cNvSpPr/>
                <p:nvPr/>
              </p:nvSpPr>
              <p:spPr>
                <a:xfrm>
                  <a:off x="6343560" y="231840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7" name=""/>
                <p:cNvSpPr/>
                <p:nvPr/>
              </p:nvSpPr>
              <p:spPr>
                <a:xfrm>
                  <a:off x="6343560" y="237780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>
                  <a:off x="6343560" y="243756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>
                  <a:off x="6343560" y="249732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>
                  <a:off x="6343560" y="255708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>
                  <a:off x="6343560" y="261684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6343560" y="267660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3" name=""/>
                <p:cNvSpPr/>
                <p:nvPr/>
              </p:nvSpPr>
              <p:spPr>
                <a:xfrm>
                  <a:off x="6343560" y="273600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>
                  <a:off x="6343560" y="279576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>
                  <a:off x="6343560" y="285588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>
                  <a:off x="6343560" y="291528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6343560" y="297504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6343560" y="3034800"/>
                  <a:ext cx="1216440" cy="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9" name=""/>
              <p:cNvGrpSpPr/>
              <p:nvPr/>
            </p:nvGrpSpPr>
            <p:grpSpPr>
              <a:xfrm>
                <a:off x="6343560" y="1608840"/>
                <a:ext cx="1231920" cy="1433160"/>
                <a:chOff x="6343560" y="1608840"/>
                <a:chExt cx="1231920" cy="1433160"/>
              </a:xfrm>
            </p:grpSpPr>
            <p:sp>
              <p:nvSpPr>
                <p:cNvPr id="3390" name=""/>
                <p:cNvSpPr/>
                <p:nvPr/>
              </p:nvSpPr>
              <p:spPr>
                <a:xfrm>
                  <a:off x="63435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>
                  <a:off x="641160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>
                  <a:off x="64803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>
                  <a:off x="65487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4" name=""/>
                <p:cNvSpPr/>
                <p:nvPr/>
              </p:nvSpPr>
              <p:spPr>
                <a:xfrm>
                  <a:off x="66171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5" name=""/>
                <p:cNvSpPr/>
                <p:nvPr/>
              </p:nvSpPr>
              <p:spPr>
                <a:xfrm>
                  <a:off x="66855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>
                  <a:off x="67539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>
                  <a:off x="68223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8" name=""/>
                <p:cNvSpPr/>
                <p:nvPr/>
              </p:nvSpPr>
              <p:spPr>
                <a:xfrm>
                  <a:off x="68911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"/>
                <p:cNvSpPr/>
                <p:nvPr/>
              </p:nvSpPr>
              <p:spPr>
                <a:xfrm>
                  <a:off x="695916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0" name=""/>
                <p:cNvSpPr/>
                <p:nvPr/>
              </p:nvSpPr>
              <p:spPr>
                <a:xfrm>
                  <a:off x="70279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>
                  <a:off x="70963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71647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>
                  <a:off x="72331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"/>
                <p:cNvSpPr/>
                <p:nvPr/>
              </p:nvSpPr>
              <p:spPr>
                <a:xfrm>
                  <a:off x="73015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>
                  <a:off x="73699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6" name=""/>
                <p:cNvSpPr/>
                <p:nvPr/>
              </p:nvSpPr>
              <p:spPr>
                <a:xfrm>
                  <a:off x="743868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7" name=""/>
                <p:cNvSpPr/>
                <p:nvPr/>
              </p:nvSpPr>
              <p:spPr>
                <a:xfrm>
                  <a:off x="750672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8" name=""/>
                <p:cNvSpPr/>
                <p:nvPr/>
              </p:nvSpPr>
              <p:spPr>
                <a:xfrm>
                  <a:off x="7575480" y="1608840"/>
                  <a:ext cx="0" cy="1433160"/>
                </a:xfrm>
                <a:prstGeom prst="line">
                  <a:avLst/>
                </a:prstGeom>
                <a:ln w="93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09" name="PlaceHolder 1"/>
          <p:cNvSpPr>
            <a:spLocks noGrp="1"/>
          </p:cNvSpPr>
          <p:nvPr>
            <p:ph type="title"/>
          </p:nvPr>
        </p:nvSpPr>
        <p:spPr>
          <a:xfrm>
            <a:off x="318600" y="609480"/>
            <a:ext cx="5537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mages_3 :  tableau de nomb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210960" y="2627280"/>
            <a:ext cx="674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cerveau ( ou l'ordinate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çoit un ensemble de nomb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'il sait ranger en un tableau reproduis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disposition des capteurs de la rétine ou de la camé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638360" y="4073400"/>
            <a:ext cx="501336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 affectant un motif à chaque nombre (exemple :  0 blanc, 1 noir) le cerveau fabrique une distribution de pixels et l'enregistr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c'est cette distribution                  que nous appelons                  image v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495000" y="4167360"/>
            <a:ext cx="895320" cy="15541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0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111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111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001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001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0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3" name=""/>
          <p:cNvGrpSpPr/>
          <p:nvPr/>
        </p:nvGrpSpPr>
        <p:grpSpPr>
          <a:xfrm>
            <a:off x="3693960" y="4181400"/>
            <a:ext cx="5097600" cy="2129040"/>
            <a:chOff x="3693960" y="4181400"/>
            <a:chExt cx="5097600" cy="2129040"/>
          </a:xfrm>
        </p:grpSpPr>
        <p:sp>
          <p:nvSpPr>
            <p:cNvPr id="3414" name=""/>
            <p:cNvSpPr/>
            <p:nvPr/>
          </p:nvSpPr>
          <p:spPr>
            <a:xfrm>
              <a:off x="3693960" y="5092560"/>
              <a:ext cx="2932200" cy="486000"/>
            </a:xfrm>
            <a:prstGeom prst="rightArrow">
              <a:avLst>
                <a:gd name="adj1" fmla="val 55556"/>
                <a:gd name="adj2" fmla="val 126756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5" name=""/>
            <p:cNvGrpSpPr/>
            <p:nvPr/>
          </p:nvGrpSpPr>
          <p:grpSpPr>
            <a:xfrm>
              <a:off x="6792840" y="4181400"/>
              <a:ext cx="1998720" cy="2129040"/>
              <a:chOff x="6792840" y="4181400"/>
              <a:chExt cx="1998720" cy="2129040"/>
            </a:xfrm>
          </p:grpSpPr>
          <p:grpSp>
            <p:nvGrpSpPr>
              <p:cNvPr id="3416" name=""/>
              <p:cNvGrpSpPr/>
              <p:nvPr/>
            </p:nvGrpSpPr>
            <p:grpSpPr>
              <a:xfrm>
                <a:off x="6792840" y="4181400"/>
                <a:ext cx="1997280" cy="2129040"/>
                <a:chOff x="6792840" y="4181400"/>
                <a:chExt cx="1997280" cy="2129040"/>
              </a:xfrm>
            </p:grpSpPr>
            <p:sp>
              <p:nvSpPr>
                <p:cNvPr id="3417" name=""/>
                <p:cNvSpPr/>
                <p:nvPr/>
              </p:nvSpPr>
              <p:spPr>
                <a:xfrm>
                  <a:off x="6807240" y="447984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8" name=""/>
                <p:cNvSpPr/>
                <p:nvPr/>
              </p:nvSpPr>
              <p:spPr>
                <a:xfrm>
                  <a:off x="7099200" y="447984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>
                  <a:off x="7373880" y="447984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>
                  <a:off x="7666200" y="4479840"/>
                  <a:ext cx="28224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1" name=""/>
                <p:cNvSpPr/>
                <p:nvPr/>
              </p:nvSpPr>
              <p:spPr>
                <a:xfrm>
                  <a:off x="7940520" y="447984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>
                  <a:off x="8232840" y="447984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>
                  <a:off x="8507520" y="447984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>
                  <a:off x="6807240" y="4772160"/>
                  <a:ext cx="282600" cy="29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>
                  <a:off x="7099200" y="4772160"/>
                  <a:ext cx="282600" cy="29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>
                  <a:off x="7373880" y="4772160"/>
                  <a:ext cx="282600" cy="29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7" name=""/>
                <p:cNvSpPr/>
                <p:nvPr/>
              </p:nvSpPr>
              <p:spPr>
                <a:xfrm>
                  <a:off x="7666200" y="4772160"/>
                  <a:ext cx="282240" cy="299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>
                  <a:off x="7940520" y="4772160"/>
                  <a:ext cx="282600" cy="29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8232840" y="4772160"/>
                  <a:ext cx="282600" cy="29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0" name=""/>
                <p:cNvSpPr/>
                <p:nvPr/>
              </p:nvSpPr>
              <p:spPr>
                <a:xfrm>
                  <a:off x="8507520" y="4772160"/>
                  <a:ext cx="282600" cy="2998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>
                  <a:off x="6807240" y="50814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>
                  <a:off x="7099200" y="50814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>
                  <a:off x="7373880" y="50814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7666200" y="5081400"/>
                  <a:ext cx="28224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7940520" y="50814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6" name=""/>
                <p:cNvSpPr/>
                <p:nvPr/>
              </p:nvSpPr>
              <p:spPr>
                <a:xfrm>
                  <a:off x="8232840" y="50814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7" name=""/>
                <p:cNvSpPr/>
                <p:nvPr/>
              </p:nvSpPr>
              <p:spPr>
                <a:xfrm>
                  <a:off x="8507520" y="50814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6807240" y="53910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>
                  <a:off x="7099200" y="53910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0" name=""/>
                <p:cNvSpPr/>
                <p:nvPr/>
              </p:nvSpPr>
              <p:spPr>
                <a:xfrm>
                  <a:off x="7373880" y="53910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>
                  <a:off x="7666200" y="5391000"/>
                  <a:ext cx="28224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2" name=""/>
                <p:cNvSpPr/>
                <p:nvPr/>
              </p:nvSpPr>
              <p:spPr>
                <a:xfrm>
                  <a:off x="7940520" y="53910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>
                  <a:off x="8232840" y="53910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>
                  <a:off x="8507520" y="53910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>
                  <a:off x="6807240" y="57006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>
                  <a:off x="7099200" y="57006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7" name=""/>
                <p:cNvSpPr/>
                <p:nvPr/>
              </p:nvSpPr>
              <p:spPr>
                <a:xfrm>
                  <a:off x="7373880" y="57006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>
                  <a:off x="7666200" y="5700600"/>
                  <a:ext cx="28224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>
                  <a:off x="7940520" y="5700600"/>
                  <a:ext cx="282600" cy="300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>
                  <a:off x="8232840" y="57006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1" name=""/>
                <p:cNvSpPr/>
                <p:nvPr/>
              </p:nvSpPr>
              <p:spPr>
                <a:xfrm>
                  <a:off x="8507520" y="57006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6807240" y="60102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>
                  <a:off x="7099200" y="60102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>
                  <a:off x="7373880" y="60102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>
                  <a:off x="7666200" y="6010200"/>
                  <a:ext cx="28224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>
                  <a:off x="7940520" y="60102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7" name=""/>
                <p:cNvSpPr/>
                <p:nvPr/>
              </p:nvSpPr>
              <p:spPr>
                <a:xfrm>
                  <a:off x="8232840" y="60102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8" name=""/>
                <p:cNvSpPr/>
                <p:nvPr/>
              </p:nvSpPr>
              <p:spPr>
                <a:xfrm>
                  <a:off x="8507520" y="60102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9" name=""/>
                <p:cNvSpPr/>
                <p:nvPr/>
              </p:nvSpPr>
              <p:spPr>
                <a:xfrm>
                  <a:off x="6792840" y="41814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"/>
                <p:cNvSpPr/>
                <p:nvPr/>
              </p:nvSpPr>
              <p:spPr>
                <a:xfrm>
                  <a:off x="7085160" y="41814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>
                  <a:off x="7359480" y="41814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>
                  <a:off x="7651800" y="41814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>
                  <a:off x="7926480" y="41814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4" name=""/>
                <p:cNvSpPr/>
                <p:nvPr/>
              </p:nvSpPr>
              <p:spPr>
                <a:xfrm>
                  <a:off x="8218440" y="41814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8493120" y="4181400"/>
                  <a:ext cx="282600" cy="300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6" name=""/>
              <p:cNvSpPr/>
              <p:nvPr/>
            </p:nvSpPr>
            <p:spPr>
              <a:xfrm>
                <a:off x="6829560" y="4183200"/>
                <a:ext cx="1962000" cy="2124000"/>
              </a:xfrm>
              <a:prstGeom prst="rect">
                <a:avLst/>
              </a:prstGeom>
              <a:noFill/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467" name="" descr=""/>
          <p:cNvPicPr/>
          <p:nvPr/>
        </p:nvPicPr>
        <p:blipFill>
          <a:blip r:embed="rId3"/>
          <a:stretch/>
        </p:blipFill>
        <p:spPr>
          <a:xfrm>
            <a:off x="8218440" y="3894120"/>
            <a:ext cx="712800" cy="6494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51087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mages_4   résolution et ré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9" name=""/>
          <p:cNvGrpSpPr/>
          <p:nvPr/>
        </p:nvGrpSpPr>
        <p:grpSpPr>
          <a:xfrm>
            <a:off x="385920" y="1249200"/>
            <a:ext cx="8003880" cy="1117800"/>
            <a:chOff x="385920" y="1249200"/>
            <a:chExt cx="8003880" cy="1117800"/>
          </a:xfrm>
        </p:grpSpPr>
        <p:grpSp>
          <p:nvGrpSpPr>
            <p:cNvPr id="3470" name=""/>
            <p:cNvGrpSpPr/>
            <p:nvPr/>
          </p:nvGrpSpPr>
          <p:grpSpPr>
            <a:xfrm>
              <a:off x="7227720" y="1249200"/>
              <a:ext cx="1162080" cy="1117800"/>
              <a:chOff x="7227720" y="1249200"/>
              <a:chExt cx="1162080" cy="1117800"/>
            </a:xfrm>
          </p:grpSpPr>
          <p:grpSp>
            <p:nvGrpSpPr>
              <p:cNvPr id="3471" name=""/>
              <p:cNvGrpSpPr/>
              <p:nvPr/>
            </p:nvGrpSpPr>
            <p:grpSpPr>
              <a:xfrm>
                <a:off x="7227720" y="1256040"/>
                <a:ext cx="1162080" cy="1110960"/>
                <a:chOff x="7227720" y="1256040"/>
                <a:chExt cx="1162080" cy="1110960"/>
              </a:xfrm>
            </p:grpSpPr>
            <p:sp>
              <p:nvSpPr>
                <p:cNvPr id="3472" name=""/>
                <p:cNvSpPr/>
                <p:nvPr/>
              </p:nvSpPr>
              <p:spPr>
                <a:xfrm>
                  <a:off x="727164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722772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732060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736704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741348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745992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>
                  <a:off x="750672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>
                  <a:off x="755316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759960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>
                  <a:off x="764604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>
                  <a:off x="769248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>
                  <a:off x="773892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778536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783180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787860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>
                  <a:off x="792504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>
                  <a:off x="797148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>
                  <a:off x="801792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806436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811080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2" name=""/>
                <p:cNvSpPr/>
                <p:nvPr/>
              </p:nvSpPr>
              <p:spPr>
                <a:xfrm>
                  <a:off x="815724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3" name=""/>
                <p:cNvSpPr/>
                <p:nvPr/>
              </p:nvSpPr>
              <p:spPr>
                <a:xfrm>
                  <a:off x="820404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4" name=""/>
                <p:cNvSpPr/>
                <p:nvPr/>
              </p:nvSpPr>
              <p:spPr>
                <a:xfrm>
                  <a:off x="825012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5" name=""/>
                <p:cNvSpPr/>
                <p:nvPr/>
              </p:nvSpPr>
              <p:spPr>
                <a:xfrm>
                  <a:off x="829692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6" name=""/>
                <p:cNvSpPr/>
                <p:nvPr/>
              </p:nvSpPr>
              <p:spPr>
                <a:xfrm>
                  <a:off x="834336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7" name=""/>
                <p:cNvSpPr/>
                <p:nvPr/>
              </p:nvSpPr>
              <p:spPr>
                <a:xfrm>
                  <a:off x="8389800" y="1256040"/>
                  <a:ext cx="0" cy="1110960"/>
                </a:xfrm>
                <a:prstGeom prst="line">
                  <a:avLst/>
                </a:prstGeom>
                <a:ln w="64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8" name=""/>
              <p:cNvSpPr/>
              <p:nvPr/>
            </p:nvSpPr>
            <p:spPr>
              <a:xfrm flipH="1">
                <a:off x="7235280" y="129312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 flipH="1">
                <a:off x="7235280" y="124920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 flipH="1">
                <a:off x="7235280" y="134172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 flipH="1">
                <a:off x="7235280" y="138852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 flipH="1">
                <a:off x="7235280" y="143460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 flipH="1">
                <a:off x="7235280" y="148140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 flipH="1">
                <a:off x="7235280" y="152748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 flipH="1">
                <a:off x="7235280" y="157428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 flipH="1">
                <a:off x="7235280" y="162072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 flipH="1">
                <a:off x="7235280" y="166716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 flipH="1">
                <a:off x="7235280" y="171360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 flipH="1">
                <a:off x="7235280" y="176004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 flipH="1">
                <a:off x="7235280" y="180648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 flipH="1">
                <a:off x="7235280" y="185292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 flipH="1">
                <a:off x="7235280" y="189936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 flipH="1">
                <a:off x="7235280" y="194580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 flipH="1">
                <a:off x="7235280" y="199224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 flipH="1">
                <a:off x="7235280" y="203868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 flipH="1">
                <a:off x="7235280" y="208512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 flipH="1">
                <a:off x="7235280" y="213156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 flipH="1">
                <a:off x="7235280" y="217800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 flipH="1">
                <a:off x="7235280" y="222444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 flipH="1">
                <a:off x="7235280" y="227088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 flipH="1">
                <a:off x="7235280" y="231732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 flipH="1">
                <a:off x="7235280" y="2363760"/>
                <a:ext cx="1154160" cy="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3" name=""/>
            <p:cNvSpPr/>
            <p:nvPr/>
          </p:nvSpPr>
          <p:spPr>
            <a:xfrm>
              <a:off x="385920" y="1351080"/>
              <a:ext cx="669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résolution du capteur : N1*N2 pixels ou encore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 microns par pixels      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on parle ici de période spati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4" name=""/>
          <p:cNvGrpSpPr/>
          <p:nvPr/>
        </p:nvGrpSpPr>
        <p:grpSpPr>
          <a:xfrm>
            <a:off x="3917880" y="2698920"/>
            <a:ext cx="5102280" cy="3894120"/>
            <a:chOff x="3917880" y="2698920"/>
            <a:chExt cx="5102280" cy="3894120"/>
          </a:xfrm>
        </p:grpSpPr>
        <p:pic>
          <p:nvPicPr>
            <p:cNvPr id="3525" name="" descr=""/>
            <p:cNvPicPr/>
            <p:nvPr/>
          </p:nvPicPr>
          <p:blipFill>
            <a:blip r:embed="rId1"/>
            <a:stretch/>
          </p:blipFill>
          <p:spPr>
            <a:xfrm>
              <a:off x="7773840" y="3516480"/>
              <a:ext cx="1190880" cy="101268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3526" name="galaxy_ngc1232" descr=""/>
            <p:cNvPicPr/>
            <p:nvPr/>
          </p:nvPicPr>
          <p:blipFill>
            <a:blip r:embed="rId2"/>
            <a:stretch/>
          </p:blipFill>
          <p:spPr>
            <a:xfrm>
              <a:off x="3917880" y="3497400"/>
              <a:ext cx="1312920" cy="1270080"/>
            </a:xfrm>
            <a:prstGeom prst="rect">
              <a:avLst/>
            </a:prstGeom>
            <a:ln w="9360">
              <a:solidFill>
                <a:srgbClr val="9933ff"/>
              </a:solidFill>
              <a:miter/>
            </a:ln>
          </p:spPr>
        </p:pic>
        <p:pic>
          <p:nvPicPr>
            <p:cNvPr id="3527" name="" descr=""/>
            <p:cNvPicPr/>
            <p:nvPr/>
          </p:nvPicPr>
          <p:blipFill>
            <a:blip r:embed="rId3"/>
            <a:stretch/>
          </p:blipFill>
          <p:spPr>
            <a:xfrm>
              <a:off x="4641840" y="2698920"/>
              <a:ext cx="4378320" cy="389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8" name=""/>
          <p:cNvSpPr/>
          <p:nvPr/>
        </p:nvSpPr>
        <p:spPr>
          <a:xfrm>
            <a:off x="19800" y="2333520"/>
            <a:ext cx="8596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e qui compte pour l'astronome, ce so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es pixels sur l'objet,  autrement dit la résolution angula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et fréquences spatio-angulaires associé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58680" y="4782960"/>
            <a:ext cx="512136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lle ne dépend pas seulement du cap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lle dépend aussi de l'instru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des conditions d'ob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n pixel sur l'objet peut couvri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lusieurs pixels du détec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69739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mages_5  , energie lumineuse !   parlons lum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5119560" y="223344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404640" y="1297080"/>
            <a:ext cx="77202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umiere :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ayons, ondes , photons, quantons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ayons :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optique geome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sition et grandeur des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berration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cé de rayons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   logiciels Zemax, Asap, Apilux, Oslo, 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ndes :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amplitude complexe</a:t>
            </a:r>
            <a:r>
              <a:rPr b="0" lang="fr-FR" sz="2400" spc="-1" strike="noStrike">
                <a:solidFill>
                  <a:srgbClr val="ff3300"/>
                </a:solidFill>
                <a:latin typeface="Comic Sans MS"/>
              </a:rPr>
              <a:t>,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propag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diffraction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, interferences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optique de fo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accède à l'aspect détaillé de l'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hotons, quantons :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mission,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coh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087640" cy="406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cience et H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5080" y="1195560"/>
            <a:ext cx="8451360" cy="1374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but :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ieux connaître la </a:t>
            </a: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morphologi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es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 décrivant leur </a:t>
            </a: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distribution d'intensité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ur le c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vec une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finesse d'analys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revelant leurs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2000" spc="-1" strike="noStrike">
                <a:solidFill>
                  <a:srgbClr val="6600ff"/>
                </a:solidFill>
                <a:latin typeface="Comic Sans MS"/>
              </a:rPr>
              <a:t>ou au moins en déterminant certains de leurs paramè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23800" y="3019320"/>
            <a:ext cx="8167680" cy="3581640"/>
            <a:chOff x="523800" y="3019320"/>
            <a:chExt cx="8167680" cy="3581640"/>
          </a:xfrm>
        </p:grpSpPr>
        <p:sp>
          <p:nvSpPr>
            <p:cNvPr id="139" name=""/>
            <p:cNvSpPr/>
            <p:nvPr/>
          </p:nvSpPr>
          <p:spPr>
            <a:xfrm>
              <a:off x="523800" y="3019320"/>
              <a:ext cx="6880320" cy="32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xemples et gradation des beso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étoiles doubles :  séparation angulai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iamètres angulai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assombrissement centre-bord : structure radi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multiplicité : nombre de composants, dispos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atmosphère étendue : structure radiale, onde de ch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matière circumstellaire : étendue,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objets compliqués ( Miras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7047000" y="3121200"/>
              <a:ext cx="1644480" cy="3479760"/>
              <a:chOff x="7047000" y="3121200"/>
              <a:chExt cx="1644480" cy="3479760"/>
            </a:xfrm>
          </p:grpSpPr>
          <p:sp>
            <p:nvSpPr>
              <p:cNvPr id="141" name=""/>
              <p:cNvSpPr/>
              <p:nvPr/>
            </p:nvSpPr>
            <p:spPr>
              <a:xfrm>
                <a:off x="8308800" y="3428640"/>
                <a:ext cx="1274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560" bIns="2556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047000" y="3121200"/>
                <a:ext cx="164448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364880" y="5444640"/>
                <a:ext cx="1007640" cy="115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7736400" y="4256280"/>
                <a:ext cx="0" cy="912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82407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géométrique_ 1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sition et grandeur : tracé de rayons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4" name=""/>
          <p:cNvGrpSpPr/>
          <p:nvPr/>
        </p:nvGrpSpPr>
        <p:grpSpPr>
          <a:xfrm>
            <a:off x="349200" y="1135080"/>
            <a:ext cx="7797960" cy="2029680"/>
            <a:chOff x="349200" y="1135080"/>
            <a:chExt cx="7797960" cy="2029680"/>
          </a:xfrm>
        </p:grpSpPr>
        <p:grpSp>
          <p:nvGrpSpPr>
            <p:cNvPr id="3535" name=""/>
            <p:cNvGrpSpPr/>
            <p:nvPr/>
          </p:nvGrpSpPr>
          <p:grpSpPr>
            <a:xfrm>
              <a:off x="506520" y="1976400"/>
              <a:ext cx="3065040" cy="1085400"/>
              <a:chOff x="506520" y="1976400"/>
              <a:chExt cx="3065040" cy="1085400"/>
            </a:xfrm>
          </p:grpSpPr>
          <p:sp>
            <p:nvSpPr>
              <p:cNvPr id="3536" name=""/>
              <p:cNvSpPr/>
              <p:nvPr/>
            </p:nvSpPr>
            <p:spPr>
              <a:xfrm>
                <a:off x="1961280" y="2151720"/>
                <a:ext cx="138960" cy="91008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558720" y="2313360"/>
                <a:ext cx="1464120" cy="2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2022840" y="2313360"/>
                <a:ext cx="1261440" cy="3672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2474280" y="2044440"/>
                <a:ext cx="784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1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2022840" y="2010240"/>
                <a:ext cx="219240" cy="100080"/>
              </a:xfrm>
              <a:custGeom>
                <a:avLst/>
                <a:gdLst/>
                <a:ahLst/>
                <a:rect l="l" t="t" r="r" b="b"/>
                <a:pathLst>
                  <a:path w="96" h="44">
                    <a:moveTo>
                      <a:pt x="0" y="22"/>
                    </a:moveTo>
                    <a:lnTo>
                      <a:pt x="96" y="0"/>
                    </a:lnTo>
                    <a:lnTo>
                      <a:pt x="96" y="22"/>
                    </a:lnTo>
                    <a:lnTo>
                      <a:pt x="96" y="4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2761920" y="2010240"/>
                <a:ext cx="202680" cy="1000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89" y="22"/>
                    </a:moveTo>
                    <a:lnTo>
                      <a:pt x="0" y="44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8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2242080" y="2060640"/>
                <a:ext cx="5194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3368880" y="2530080"/>
                <a:ext cx="202680" cy="100080"/>
              </a:xfrm>
              <a:custGeom>
                <a:avLst/>
                <a:gdLst/>
                <a:ahLst/>
                <a:rect l="l" t="t" r="r" b="b"/>
                <a:pathLst>
                  <a:path w="89" h="44">
                    <a:moveTo>
                      <a:pt x="89" y="22"/>
                    </a:moveTo>
                    <a:lnTo>
                      <a:pt x="0" y="44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8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506520" y="2580480"/>
                <a:ext cx="2862360" cy="25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912240" y="2060640"/>
                <a:ext cx="1917720" cy="8895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1287360" y="2562120"/>
                <a:ext cx="447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centre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1286280" y="27648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optiq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2029680" y="2571120"/>
                <a:ext cx="54720" cy="52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2949480" y="1976400"/>
                <a:ext cx="1800" cy="7041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4260960" y="1854360"/>
              <a:ext cx="3886200" cy="1310400"/>
              <a:chOff x="4260960" y="1854360"/>
              <a:chExt cx="3886200" cy="1310400"/>
            </a:xfrm>
          </p:grpSpPr>
          <p:sp>
            <p:nvSpPr>
              <p:cNvPr id="3551" name=""/>
              <p:cNvSpPr/>
              <p:nvPr/>
            </p:nvSpPr>
            <p:spPr>
              <a:xfrm>
                <a:off x="6026040" y="2131920"/>
                <a:ext cx="135000" cy="917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50000">
                    <a:srgbClr val="ffffff"/>
                  </a:gs>
                  <a:gs pos="100000">
                    <a:srgbClr val="ccccff"/>
                  </a:gs>
                </a:gsLst>
                <a:lin ang="5400000"/>
              </a:gra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4614840" y="2293920"/>
                <a:ext cx="3227400" cy="746280"/>
              </a:xfrm>
              <a:custGeom>
                <a:avLst/>
                <a:gdLst/>
                <a:ahLst/>
                <a:rect l="l" t="t" r="r" b="b"/>
                <a:pathLst>
                  <a:path w="2033" h="470">
                    <a:moveTo>
                      <a:pt x="0" y="0"/>
                    </a:moveTo>
                    <a:lnTo>
                      <a:pt x="926" y="0"/>
                    </a:lnTo>
                    <a:lnTo>
                      <a:pt x="2033" y="470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3" name=""/>
              <p:cNvGrpSpPr/>
              <p:nvPr/>
            </p:nvGrpSpPr>
            <p:grpSpPr>
              <a:xfrm>
                <a:off x="4260960" y="2514600"/>
                <a:ext cx="3886200" cy="119160"/>
                <a:chOff x="4260960" y="2514600"/>
                <a:chExt cx="3886200" cy="119160"/>
              </a:xfrm>
            </p:grpSpPr>
            <p:sp>
              <p:nvSpPr>
                <p:cNvPr id="3554" name=""/>
                <p:cNvSpPr/>
                <p:nvPr/>
              </p:nvSpPr>
              <p:spPr>
                <a:xfrm>
                  <a:off x="7944120" y="2514600"/>
                  <a:ext cx="203040" cy="119160"/>
                </a:xfrm>
                <a:custGeom>
                  <a:avLst/>
                  <a:gdLst/>
                  <a:ahLst/>
                  <a:rect l="l" t="t" r="r" b="b"/>
                  <a:pathLst>
                    <a:path w="128" h="75">
                      <a:moveTo>
                        <a:pt x="128" y="43"/>
                      </a:moveTo>
                      <a:lnTo>
                        <a:pt x="0" y="75"/>
                      </a:lnTo>
                      <a:lnTo>
                        <a:pt x="0" y="43"/>
                      </a:lnTo>
                      <a:lnTo>
                        <a:pt x="0" y="0"/>
                      </a:lnTo>
                      <a:lnTo>
                        <a:pt x="128" y="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5" name=""/>
                <p:cNvSpPr/>
                <p:nvPr/>
              </p:nvSpPr>
              <p:spPr>
                <a:xfrm>
                  <a:off x="4260960" y="2583000"/>
                  <a:ext cx="3683160" cy="1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56" name=""/>
              <p:cNvSpPr/>
              <p:nvPr/>
            </p:nvSpPr>
            <p:spPr>
              <a:xfrm>
                <a:off x="4683240" y="2293920"/>
                <a:ext cx="3074760" cy="6112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4656240" y="2268360"/>
                <a:ext cx="85680" cy="684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8" name=""/>
              <p:cNvGrpSpPr/>
              <p:nvPr/>
            </p:nvGrpSpPr>
            <p:grpSpPr>
              <a:xfrm>
                <a:off x="4699080" y="1854360"/>
                <a:ext cx="372600" cy="439560"/>
                <a:chOff x="4699080" y="1854360"/>
                <a:chExt cx="372600" cy="439560"/>
              </a:xfrm>
            </p:grpSpPr>
            <p:sp>
              <p:nvSpPr>
                <p:cNvPr id="3559" name=""/>
                <p:cNvSpPr/>
                <p:nvPr/>
              </p:nvSpPr>
              <p:spPr>
                <a:xfrm>
                  <a:off x="4884480" y="1854360"/>
                  <a:ext cx="187200" cy="203040"/>
                </a:xfrm>
                <a:custGeom>
                  <a:avLst/>
                  <a:gdLst/>
                  <a:ahLst/>
                  <a:rect l="l" t="t" r="r" b="b"/>
                  <a:pathLst>
                    <a:path w="118" h="128">
                      <a:moveTo>
                        <a:pt x="118" y="0"/>
                      </a:moveTo>
                      <a:lnTo>
                        <a:pt x="54" y="128"/>
                      </a:lnTo>
                      <a:lnTo>
                        <a:pt x="32" y="106"/>
                      </a:lnTo>
                      <a:lnTo>
                        <a:pt x="0" y="85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0" name=""/>
                <p:cNvSpPr/>
                <p:nvPr/>
              </p:nvSpPr>
              <p:spPr>
                <a:xfrm flipV="1">
                  <a:off x="4699080" y="2022480"/>
                  <a:ext cx="236160" cy="271440"/>
                </a:xfrm>
                <a:prstGeom prst="line">
                  <a:avLst/>
                </a:prstGeom>
                <a:ln w="176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1" name=""/>
              <p:cNvGrpSpPr/>
              <p:nvPr/>
            </p:nvGrpSpPr>
            <p:grpSpPr>
              <a:xfrm>
                <a:off x="4683240" y="2057400"/>
                <a:ext cx="523800" cy="236160"/>
                <a:chOff x="4683240" y="2057400"/>
                <a:chExt cx="523800" cy="236160"/>
              </a:xfrm>
            </p:grpSpPr>
            <p:sp>
              <p:nvSpPr>
                <p:cNvPr id="3562" name=""/>
                <p:cNvSpPr/>
                <p:nvPr/>
              </p:nvSpPr>
              <p:spPr>
                <a:xfrm>
                  <a:off x="4986360" y="2057400"/>
                  <a:ext cx="220680" cy="135000"/>
                </a:xfrm>
                <a:custGeom>
                  <a:avLst/>
                  <a:gdLst/>
                  <a:ahLst/>
                  <a:rect l="l" t="t" r="r" b="b"/>
                  <a:pathLst>
                    <a:path w="139" h="85">
                      <a:moveTo>
                        <a:pt x="139" y="0"/>
                      </a:moveTo>
                      <a:lnTo>
                        <a:pt x="32" y="85"/>
                      </a:lnTo>
                      <a:lnTo>
                        <a:pt x="22" y="53"/>
                      </a:lnTo>
                      <a:lnTo>
                        <a:pt x="0" y="21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3" name=""/>
                <p:cNvSpPr/>
                <p:nvPr/>
              </p:nvSpPr>
              <p:spPr>
                <a:xfrm flipV="1">
                  <a:off x="4683240" y="2141280"/>
                  <a:ext cx="338040" cy="152280"/>
                </a:xfrm>
                <a:prstGeom prst="line">
                  <a:avLst/>
                </a:prstGeom>
                <a:ln w="176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4" name=""/>
              <p:cNvGrpSpPr/>
              <p:nvPr/>
            </p:nvGrpSpPr>
            <p:grpSpPr>
              <a:xfrm>
                <a:off x="4699080" y="2293920"/>
                <a:ext cx="406440" cy="271440"/>
                <a:chOff x="4699080" y="2293920"/>
                <a:chExt cx="406440" cy="271440"/>
              </a:xfrm>
            </p:grpSpPr>
            <p:sp>
              <p:nvSpPr>
                <p:cNvPr id="3565" name=""/>
                <p:cNvSpPr/>
                <p:nvPr/>
              </p:nvSpPr>
              <p:spPr>
                <a:xfrm>
                  <a:off x="4902480" y="2413080"/>
                  <a:ext cx="203040" cy="152280"/>
                </a:xfrm>
                <a:custGeom>
                  <a:avLst/>
                  <a:gdLst/>
                  <a:ahLst/>
                  <a:rect l="l" t="t" r="r" b="b"/>
                  <a:pathLst>
                    <a:path w="128" h="96">
                      <a:moveTo>
                        <a:pt x="128" y="96"/>
                      </a:moveTo>
                      <a:lnTo>
                        <a:pt x="0" y="53"/>
                      </a:lnTo>
                      <a:lnTo>
                        <a:pt x="21" y="21"/>
                      </a:lnTo>
                      <a:lnTo>
                        <a:pt x="32" y="0"/>
                      </a:lnTo>
                      <a:lnTo>
                        <a:pt x="128" y="96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6" name=""/>
                <p:cNvSpPr/>
                <p:nvPr/>
              </p:nvSpPr>
              <p:spPr>
                <a:xfrm>
                  <a:off x="4699080" y="2293920"/>
                  <a:ext cx="236520" cy="152280"/>
                </a:xfrm>
                <a:prstGeom prst="line">
                  <a:avLst/>
                </a:prstGeom>
                <a:ln w="176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7" name=""/>
              <p:cNvSpPr/>
              <p:nvPr/>
            </p:nvSpPr>
            <p:spPr>
              <a:xfrm>
                <a:off x="7292880" y="2793960"/>
                <a:ext cx="68400" cy="684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68" name=""/>
              <p:cNvGrpSpPr/>
              <p:nvPr/>
            </p:nvGrpSpPr>
            <p:grpSpPr>
              <a:xfrm>
                <a:off x="4716360" y="2243160"/>
                <a:ext cx="625320" cy="101520"/>
                <a:chOff x="4716360" y="2243160"/>
                <a:chExt cx="625320" cy="101520"/>
              </a:xfrm>
            </p:grpSpPr>
            <p:sp>
              <p:nvSpPr>
                <p:cNvPr id="3569" name=""/>
                <p:cNvSpPr/>
                <p:nvPr/>
              </p:nvSpPr>
              <p:spPr>
                <a:xfrm>
                  <a:off x="5121000" y="2243160"/>
                  <a:ext cx="220680" cy="101520"/>
                </a:xfrm>
                <a:custGeom>
                  <a:avLst/>
                  <a:gdLst/>
                  <a:ahLst/>
                  <a:rect l="l" t="t" r="r" b="b"/>
                  <a:pathLst>
                    <a:path w="139" h="64">
                      <a:moveTo>
                        <a:pt x="139" y="32"/>
                      </a:moveTo>
                      <a:lnTo>
                        <a:pt x="0" y="64"/>
                      </a:lnTo>
                      <a:lnTo>
                        <a:pt x="0" y="32"/>
                      </a:lnTo>
                      <a:lnTo>
                        <a:pt x="0" y="0"/>
                      </a:lnTo>
                      <a:lnTo>
                        <a:pt x="139" y="3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0" name=""/>
                <p:cNvSpPr/>
                <p:nvPr/>
              </p:nvSpPr>
              <p:spPr>
                <a:xfrm>
                  <a:off x="4716360" y="2293920"/>
                  <a:ext cx="404640" cy="1440"/>
                </a:xfrm>
                <a:prstGeom prst="line">
                  <a:avLst/>
                </a:prstGeom>
                <a:ln w="176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1" name=""/>
              <p:cNvGrpSpPr/>
              <p:nvPr/>
            </p:nvGrpSpPr>
            <p:grpSpPr>
              <a:xfrm>
                <a:off x="4699080" y="2293920"/>
                <a:ext cx="777960" cy="169920"/>
                <a:chOff x="4699080" y="2293920"/>
                <a:chExt cx="777960" cy="169920"/>
              </a:xfrm>
            </p:grpSpPr>
            <p:sp>
              <p:nvSpPr>
                <p:cNvPr id="3572" name=""/>
                <p:cNvSpPr/>
                <p:nvPr/>
              </p:nvSpPr>
              <p:spPr>
                <a:xfrm>
                  <a:off x="5257800" y="2362320"/>
                  <a:ext cx="219240" cy="101520"/>
                </a:xfrm>
                <a:custGeom>
                  <a:avLst/>
                  <a:gdLst/>
                  <a:ahLst/>
                  <a:rect l="l" t="t" r="r" b="b"/>
                  <a:pathLst>
                    <a:path w="138" h="64">
                      <a:moveTo>
                        <a:pt x="138" y="53"/>
                      </a:moveTo>
                      <a:lnTo>
                        <a:pt x="0" y="64"/>
                      </a:lnTo>
                      <a:lnTo>
                        <a:pt x="10" y="32"/>
                      </a:lnTo>
                      <a:lnTo>
                        <a:pt x="21" y="0"/>
                      </a:lnTo>
                      <a:lnTo>
                        <a:pt x="138" y="53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3" name=""/>
                <p:cNvSpPr/>
                <p:nvPr/>
              </p:nvSpPr>
              <p:spPr>
                <a:xfrm>
                  <a:off x="4699080" y="2293920"/>
                  <a:ext cx="574920" cy="119160"/>
                </a:xfrm>
                <a:prstGeom prst="line">
                  <a:avLst/>
                </a:prstGeom>
                <a:ln w="176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4" name=""/>
              <p:cNvSpPr/>
              <p:nvPr/>
            </p:nvSpPr>
            <p:spPr>
              <a:xfrm>
                <a:off x="4665600" y="2430360"/>
                <a:ext cx="1800" cy="507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7318440" y="2395440"/>
                <a:ext cx="1440" cy="3733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76" name=""/>
              <p:cNvGrpSpPr/>
              <p:nvPr/>
            </p:nvGrpSpPr>
            <p:grpSpPr>
              <a:xfrm>
                <a:off x="4683240" y="2836800"/>
                <a:ext cx="1434600" cy="101520"/>
                <a:chOff x="4683240" y="2836800"/>
                <a:chExt cx="1434600" cy="101520"/>
              </a:xfrm>
            </p:grpSpPr>
            <p:sp>
              <p:nvSpPr>
                <p:cNvPr id="3577" name=""/>
                <p:cNvSpPr/>
                <p:nvPr/>
              </p:nvSpPr>
              <p:spPr>
                <a:xfrm>
                  <a:off x="4683240" y="2836800"/>
                  <a:ext cx="201240" cy="101520"/>
                </a:xfrm>
                <a:custGeom>
                  <a:avLst/>
                  <a:gdLst/>
                  <a:ahLst/>
                  <a:rect l="l" t="t" r="r" b="b"/>
                  <a:pathLst>
                    <a:path w="127" h="64">
                      <a:moveTo>
                        <a:pt x="0" y="32"/>
                      </a:moveTo>
                      <a:lnTo>
                        <a:pt x="127" y="0"/>
                      </a:lnTo>
                      <a:lnTo>
                        <a:pt x="127" y="32"/>
                      </a:lnTo>
                      <a:lnTo>
                        <a:pt x="127" y="6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8" name=""/>
                <p:cNvSpPr/>
                <p:nvPr/>
              </p:nvSpPr>
              <p:spPr>
                <a:xfrm>
                  <a:off x="5916600" y="2836800"/>
                  <a:ext cx="201240" cy="101520"/>
                </a:xfrm>
                <a:custGeom>
                  <a:avLst/>
                  <a:gdLst/>
                  <a:ahLst/>
                  <a:rect l="l" t="t" r="r" b="b"/>
                  <a:pathLst>
                    <a:path w="127" h="64">
                      <a:moveTo>
                        <a:pt x="127" y="32"/>
                      </a:moveTo>
                      <a:lnTo>
                        <a:pt x="0" y="64"/>
                      </a:lnTo>
                      <a:lnTo>
                        <a:pt x="0" y="32"/>
                      </a:lnTo>
                      <a:lnTo>
                        <a:pt x="0" y="0"/>
                      </a:lnTo>
                      <a:lnTo>
                        <a:pt x="127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9" name=""/>
                <p:cNvSpPr/>
                <p:nvPr/>
              </p:nvSpPr>
              <p:spPr>
                <a:xfrm>
                  <a:off x="4884480" y="2887560"/>
                  <a:ext cx="1031760" cy="180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0" name=""/>
              <p:cNvGrpSpPr/>
              <p:nvPr/>
            </p:nvGrpSpPr>
            <p:grpSpPr>
              <a:xfrm>
                <a:off x="6068880" y="2836800"/>
                <a:ext cx="1249200" cy="101520"/>
                <a:chOff x="6068880" y="2836800"/>
                <a:chExt cx="1249200" cy="101520"/>
              </a:xfrm>
            </p:grpSpPr>
            <p:sp>
              <p:nvSpPr>
                <p:cNvPr id="3581" name=""/>
                <p:cNvSpPr/>
                <p:nvPr/>
              </p:nvSpPr>
              <p:spPr>
                <a:xfrm>
                  <a:off x="6068880" y="2836800"/>
                  <a:ext cx="201600" cy="101520"/>
                </a:xfrm>
                <a:custGeom>
                  <a:avLst/>
                  <a:gdLst/>
                  <a:ahLst/>
                  <a:rect l="l" t="t" r="r" b="b"/>
                  <a:pathLst>
                    <a:path w="127" h="64">
                      <a:moveTo>
                        <a:pt x="0" y="32"/>
                      </a:moveTo>
                      <a:lnTo>
                        <a:pt x="127" y="0"/>
                      </a:lnTo>
                      <a:lnTo>
                        <a:pt x="127" y="32"/>
                      </a:lnTo>
                      <a:lnTo>
                        <a:pt x="127" y="64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2" name=""/>
                <p:cNvSpPr/>
                <p:nvPr/>
              </p:nvSpPr>
              <p:spPr>
                <a:xfrm>
                  <a:off x="7115040" y="2836800"/>
                  <a:ext cx="203040" cy="101520"/>
                </a:xfrm>
                <a:custGeom>
                  <a:avLst/>
                  <a:gdLst/>
                  <a:ahLst/>
                  <a:rect l="l" t="t" r="r" b="b"/>
                  <a:pathLst>
                    <a:path w="128" h="64">
                      <a:moveTo>
                        <a:pt x="128" y="32"/>
                      </a:moveTo>
                      <a:lnTo>
                        <a:pt x="0" y="64"/>
                      </a:lnTo>
                      <a:lnTo>
                        <a:pt x="0" y="32"/>
                      </a:lnTo>
                      <a:lnTo>
                        <a:pt x="0" y="0"/>
                      </a:lnTo>
                      <a:lnTo>
                        <a:pt x="128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3" name=""/>
                <p:cNvSpPr/>
                <p:nvPr/>
              </p:nvSpPr>
              <p:spPr>
                <a:xfrm>
                  <a:off x="6270480" y="2887560"/>
                  <a:ext cx="844560" cy="180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4" name=""/>
              <p:cNvSpPr/>
              <p:nvPr/>
            </p:nvSpPr>
            <p:spPr>
              <a:xfrm>
                <a:off x="5299920" y="2870280"/>
                <a:ext cx="12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6684840" y="2870280"/>
                <a:ext cx="171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p'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4410360" y="1938240"/>
                <a:ext cx="48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obj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7323120" y="2921040"/>
                <a:ext cx="595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ima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8" name=""/>
            <p:cNvSpPr/>
            <p:nvPr/>
          </p:nvSpPr>
          <p:spPr>
            <a:xfrm>
              <a:off x="349200" y="1135080"/>
              <a:ext cx="654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armi les rayons issus de l'objet (sourc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ertains, remarquables, suffisent à construire l'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9" name=""/>
          <p:cNvGrpSpPr/>
          <p:nvPr/>
        </p:nvGrpSpPr>
        <p:grpSpPr>
          <a:xfrm>
            <a:off x="469800" y="4997520"/>
            <a:ext cx="6802560" cy="1774800"/>
            <a:chOff x="469800" y="4997520"/>
            <a:chExt cx="6802560" cy="1774800"/>
          </a:xfrm>
        </p:grpSpPr>
        <p:sp>
          <p:nvSpPr>
            <p:cNvPr id="3590" name=""/>
            <p:cNvSpPr/>
            <p:nvPr/>
          </p:nvSpPr>
          <p:spPr>
            <a:xfrm>
              <a:off x="469800" y="4997520"/>
              <a:ext cx="6802560" cy="177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1" name=""/>
            <p:cNvGrpSpPr/>
            <p:nvPr/>
          </p:nvGrpSpPr>
          <p:grpSpPr>
            <a:xfrm>
              <a:off x="659520" y="5194440"/>
              <a:ext cx="6437160" cy="1540080"/>
              <a:chOff x="659520" y="5194440"/>
              <a:chExt cx="6437160" cy="1540080"/>
            </a:xfrm>
          </p:grpSpPr>
          <p:grpSp>
            <p:nvGrpSpPr>
              <p:cNvPr id="3592" name=""/>
              <p:cNvGrpSpPr/>
              <p:nvPr/>
            </p:nvGrpSpPr>
            <p:grpSpPr>
              <a:xfrm>
                <a:off x="787320" y="6045120"/>
                <a:ext cx="4417560" cy="135000"/>
                <a:chOff x="787320" y="6045120"/>
                <a:chExt cx="4417560" cy="135000"/>
              </a:xfrm>
            </p:grpSpPr>
            <p:sp>
              <p:nvSpPr>
                <p:cNvPr id="3593" name=""/>
                <p:cNvSpPr/>
                <p:nvPr/>
              </p:nvSpPr>
              <p:spPr>
                <a:xfrm>
                  <a:off x="4955400" y="6045120"/>
                  <a:ext cx="249480" cy="135000"/>
                </a:xfrm>
                <a:custGeom>
                  <a:avLst/>
                  <a:gdLst/>
                  <a:ahLst/>
                  <a:rect l="l" t="t" r="r" b="b"/>
                  <a:pathLst>
                    <a:path w="192" h="104">
                      <a:moveTo>
                        <a:pt x="192" y="59"/>
                      </a:moveTo>
                      <a:lnTo>
                        <a:pt x="0" y="104"/>
                      </a:lnTo>
                      <a:lnTo>
                        <a:pt x="0" y="59"/>
                      </a:lnTo>
                      <a:lnTo>
                        <a:pt x="0" y="0"/>
                      </a:lnTo>
                      <a:lnTo>
                        <a:pt x="192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4" name=""/>
                <p:cNvSpPr/>
                <p:nvPr/>
              </p:nvSpPr>
              <p:spPr>
                <a:xfrm>
                  <a:off x="787320" y="6121440"/>
                  <a:ext cx="4168080" cy="1440"/>
                </a:xfrm>
                <a:prstGeom prst="line">
                  <a:avLst/>
                </a:prstGeom>
                <a:ln w="23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95" name=""/>
              <p:cNvSpPr/>
              <p:nvPr/>
            </p:nvSpPr>
            <p:spPr>
              <a:xfrm>
                <a:off x="2139840" y="5767560"/>
                <a:ext cx="96840" cy="690480"/>
              </a:xfrm>
              <a:prstGeom prst="ellipse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3657600" y="5958000"/>
                <a:ext cx="96840" cy="328680"/>
              </a:xfrm>
              <a:prstGeom prst="ellipse">
                <a:avLst/>
              </a:prstGeom>
              <a:solidFill>
                <a:srgbClr val="ffffff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60960" y="5354640"/>
                <a:ext cx="743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objet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659520" y="5584680"/>
                <a:ext cx="932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à l'infin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4544280" y="6199200"/>
                <a:ext cx="878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image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4596480" y="6429240"/>
                <a:ext cx="932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à l'infin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1093680" y="5872320"/>
                <a:ext cx="3803760" cy="365040"/>
              </a:xfrm>
              <a:custGeom>
                <a:avLst/>
                <a:gdLst/>
                <a:ahLst/>
                <a:rect l="l" t="t" r="r" b="b"/>
                <a:pathLst>
                  <a:path w="2926" h="281">
                    <a:moveTo>
                      <a:pt x="0" y="0"/>
                    </a:moveTo>
                    <a:lnTo>
                      <a:pt x="843" y="0"/>
                    </a:lnTo>
                    <a:lnTo>
                      <a:pt x="2010" y="281"/>
                    </a:lnTo>
                    <a:lnTo>
                      <a:pt x="2926" y="28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1074600" y="5987880"/>
                <a:ext cx="3803760" cy="365400"/>
              </a:xfrm>
              <a:custGeom>
                <a:avLst/>
                <a:gdLst/>
                <a:ahLst/>
                <a:rect l="l" t="t" r="r" b="b"/>
                <a:pathLst>
                  <a:path w="2927" h="281">
                    <a:moveTo>
                      <a:pt x="0" y="281"/>
                    </a:moveTo>
                    <a:lnTo>
                      <a:pt x="843" y="281"/>
                    </a:lnTo>
                    <a:lnTo>
                      <a:pt x="1996" y="0"/>
                    </a:lnTo>
                    <a:lnTo>
                      <a:pt x="2927" y="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2615760" y="6276960"/>
                <a:ext cx="234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3344400" y="6276960"/>
                <a:ext cx="234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f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1923480" y="5194440"/>
                <a:ext cx="517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montage fréquent : systeme afoc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6" name=""/>
          <p:cNvGrpSpPr/>
          <p:nvPr/>
        </p:nvGrpSpPr>
        <p:grpSpPr>
          <a:xfrm>
            <a:off x="285840" y="3282840"/>
            <a:ext cx="8699760" cy="1332000"/>
            <a:chOff x="285840" y="3282840"/>
            <a:chExt cx="8699760" cy="1332000"/>
          </a:xfrm>
        </p:grpSpPr>
        <p:grpSp>
          <p:nvGrpSpPr>
            <p:cNvPr id="3607" name=""/>
            <p:cNvGrpSpPr/>
            <p:nvPr/>
          </p:nvGrpSpPr>
          <p:grpSpPr>
            <a:xfrm>
              <a:off x="285840" y="3282840"/>
              <a:ext cx="4271400" cy="1231920"/>
              <a:chOff x="285840" y="3282840"/>
              <a:chExt cx="4271400" cy="1231920"/>
            </a:xfrm>
          </p:grpSpPr>
          <p:sp>
            <p:nvSpPr>
              <p:cNvPr id="3608" name=""/>
              <p:cNvSpPr/>
              <p:nvPr/>
            </p:nvSpPr>
            <p:spPr>
              <a:xfrm>
                <a:off x="2227320" y="3498480"/>
                <a:ext cx="147240" cy="1016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676080" y="3659040"/>
                <a:ext cx="2916000" cy="771480"/>
              </a:xfrm>
              <a:custGeom>
                <a:avLst/>
                <a:gdLst/>
                <a:ahLst/>
                <a:rect l="l" t="t" r="r" b="b"/>
                <a:pathLst>
                  <a:path w="1837" h="486">
                    <a:moveTo>
                      <a:pt x="0" y="0"/>
                    </a:moveTo>
                    <a:lnTo>
                      <a:pt x="1018" y="0"/>
                    </a:lnTo>
                    <a:lnTo>
                      <a:pt x="1837" y="48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10" name=""/>
              <p:cNvGrpSpPr/>
              <p:nvPr/>
            </p:nvGrpSpPr>
            <p:grpSpPr>
              <a:xfrm>
                <a:off x="285840" y="3922560"/>
                <a:ext cx="4271400" cy="131760"/>
                <a:chOff x="285840" y="3922560"/>
                <a:chExt cx="4271400" cy="131760"/>
              </a:xfrm>
            </p:grpSpPr>
            <p:sp>
              <p:nvSpPr>
                <p:cNvPr id="3611" name=""/>
                <p:cNvSpPr/>
                <p:nvPr/>
              </p:nvSpPr>
              <p:spPr>
                <a:xfrm>
                  <a:off x="4335120" y="3922560"/>
                  <a:ext cx="222120" cy="131760"/>
                </a:xfrm>
                <a:custGeom>
                  <a:avLst/>
                  <a:gdLst/>
                  <a:ahLst/>
                  <a:rect l="l" t="t" r="r" b="b"/>
                  <a:pathLst>
                    <a:path w="140" h="83">
                      <a:moveTo>
                        <a:pt x="140" y="35"/>
                      </a:moveTo>
                      <a:lnTo>
                        <a:pt x="0" y="83"/>
                      </a:lnTo>
                      <a:lnTo>
                        <a:pt x="0" y="35"/>
                      </a:lnTo>
                      <a:lnTo>
                        <a:pt x="0" y="0"/>
                      </a:lnTo>
                      <a:lnTo>
                        <a:pt x="14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2" name=""/>
                <p:cNvSpPr/>
                <p:nvPr/>
              </p:nvSpPr>
              <p:spPr>
                <a:xfrm>
                  <a:off x="285840" y="3978360"/>
                  <a:ext cx="404928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3" name=""/>
              <p:cNvSpPr/>
              <p:nvPr/>
            </p:nvSpPr>
            <p:spPr>
              <a:xfrm>
                <a:off x="750600" y="3659040"/>
                <a:ext cx="3379680" cy="695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647640" y="3687480"/>
                <a:ext cx="93240" cy="676440"/>
              </a:xfrm>
              <a:prstGeom prst="ellipse">
                <a:avLst/>
              </a:prstGeom>
              <a:solidFill>
                <a:srgbClr val="3333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3062160" y="3819240"/>
                <a:ext cx="93240" cy="318960"/>
              </a:xfrm>
              <a:prstGeom prst="ellipse">
                <a:avLst/>
              </a:prstGeom>
              <a:solidFill>
                <a:srgbClr val="3333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411480" y="3282840"/>
                <a:ext cx="550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obj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592000" y="4222440"/>
                <a:ext cx="671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im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3180600" y="3639960"/>
                <a:ext cx="192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d'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449280" y="362088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0" name=""/>
            <p:cNvSpPr/>
            <p:nvPr/>
          </p:nvSpPr>
          <p:spPr>
            <a:xfrm>
              <a:off x="4866840" y="3484440"/>
              <a:ext cx="4118760" cy="1130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n résumé, formules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1/p +1/p' = 1/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= d'/d = grandiss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78123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géométrique_2  plans "image" , plans "pupille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>
            <a:off x="333360" y="1071720"/>
            <a:ext cx="54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xemple : marche des rayons dans un af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3" name=""/>
          <p:cNvGrpSpPr/>
          <p:nvPr/>
        </p:nvGrpSpPr>
        <p:grpSpPr>
          <a:xfrm>
            <a:off x="0" y="1471680"/>
            <a:ext cx="9144000" cy="1933560"/>
            <a:chOff x="0" y="1471680"/>
            <a:chExt cx="9144000" cy="1933560"/>
          </a:xfrm>
        </p:grpSpPr>
        <p:sp>
          <p:nvSpPr>
            <p:cNvPr id="3624" name=""/>
            <p:cNvSpPr/>
            <p:nvPr/>
          </p:nvSpPr>
          <p:spPr>
            <a:xfrm>
              <a:off x="1208160" y="2219400"/>
              <a:ext cx="6153120" cy="1037880"/>
            </a:xfrm>
            <a:custGeom>
              <a:avLst/>
              <a:gdLst/>
              <a:ahLst/>
              <a:rect l="l" t="t" r="r" b="b"/>
              <a:pathLst>
                <a:path w="3876" h="654">
                  <a:moveTo>
                    <a:pt x="354" y="0"/>
                  </a:moveTo>
                  <a:lnTo>
                    <a:pt x="1466" y="218"/>
                  </a:lnTo>
                  <a:lnTo>
                    <a:pt x="2797" y="654"/>
                  </a:lnTo>
                  <a:lnTo>
                    <a:pt x="3876" y="168"/>
                  </a:lnTo>
                  <a:lnTo>
                    <a:pt x="3808" y="67"/>
                  </a:lnTo>
                  <a:lnTo>
                    <a:pt x="2797" y="536"/>
                  </a:lnTo>
                  <a:lnTo>
                    <a:pt x="1466" y="503"/>
                  </a:lnTo>
                  <a:lnTo>
                    <a:pt x="0" y="268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1258920" y="2232000"/>
              <a:ext cx="6153120" cy="1038240"/>
            </a:xfrm>
            <a:custGeom>
              <a:avLst/>
              <a:gdLst/>
              <a:ahLst/>
              <a:rect l="l" t="t" r="r" b="b"/>
              <a:pathLst>
                <a:path w="3876" h="654">
                  <a:moveTo>
                    <a:pt x="354" y="0"/>
                  </a:moveTo>
                  <a:lnTo>
                    <a:pt x="1466" y="218"/>
                  </a:lnTo>
                  <a:lnTo>
                    <a:pt x="2797" y="654"/>
                  </a:lnTo>
                  <a:lnTo>
                    <a:pt x="3876" y="168"/>
                  </a:lnTo>
                  <a:lnTo>
                    <a:pt x="3808" y="67"/>
                  </a:lnTo>
                  <a:lnTo>
                    <a:pt x="2797" y="536"/>
                  </a:lnTo>
                  <a:lnTo>
                    <a:pt x="1466" y="503"/>
                  </a:lnTo>
                  <a:lnTo>
                    <a:pt x="0" y="268"/>
                  </a:lnTo>
                </a:path>
              </a:pathLst>
            </a:custGeom>
            <a:noFill/>
            <a:ln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6" name=""/>
            <p:cNvGrpSpPr/>
            <p:nvPr/>
          </p:nvGrpSpPr>
          <p:grpSpPr>
            <a:xfrm>
              <a:off x="1017720" y="2711520"/>
              <a:ext cx="6813000" cy="175680"/>
              <a:chOff x="1017720" y="2711520"/>
              <a:chExt cx="6813000" cy="175680"/>
            </a:xfrm>
          </p:grpSpPr>
          <p:sp>
            <p:nvSpPr>
              <p:cNvPr id="3627" name=""/>
              <p:cNvSpPr/>
              <p:nvPr/>
            </p:nvSpPr>
            <p:spPr>
              <a:xfrm>
                <a:off x="7446240" y="2711520"/>
                <a:ext cx="384480" cy="175680"/>
              </a:xfrm>
              <a:custGeom>
                <a:avLst/>
                <a:gdLst/>
                <a:ahLst/>
                <a:rect l="l" t="t" r="r" b="b"/>
                <a:pathLst>
                  <a:path w="219" h="100">
                    <a:moveTo>
                      <a:pt x="219" y="50"/>
                    </a:moveTo>
                    <a:lnTo>
                      <a:pt x="0" y="100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219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1017720" y="2799000"/>
                <a:ext cx="6428520" cy="1440"/>
              </a:xfrm>
              <a:prstGeom prst="line">
                <a:avLst/>
              </a:prstGeom>
              <a:ln w="27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9" name=""/>
            <p:cNvSpPr/>
            <p:nvPr/>
          </p:nvSpPr>
          <p:spPr>
            <a:xfrm>
              <a:off x="3517920" y="2324160"/>
              <a:ext cx="135000" cy="958680"/>
            </a:xfrm>
            <a:prstGeom prst="ellipse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5657760" y="2538360"/>
              <a:ext cx="135000" cy="453960"/>
            </a:xfrm>
            <a:prstGeom prst="ellipse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597360" y="1471680"/>
              <a:ext cx="13341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Comic Sans MS"/>
                </a:rPr>
                <a:t>image à l'infin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Comic Sans MS"/>
                </a:rPr>
                <a:t>hors d'axe par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988400" y="1636560"/>
              <a:ext cx="1746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463200" y="1833480"/>
              <a:ext cx="348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000000"/>
                  </a:solidFill>
                  <a:latin typeface="Comic Sans MS"/>
                </a:rPr>
                <a:t>L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628240" y="1992240"/>
              <a:ext cx="348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000000"/>
                  </a:solidFill>
                  <a:latin typeface="Comic Sans MS"/>
                </a:rPr>
                <a:t>L2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1255680" y="2414520"/>
              <a:ext cx="3589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5724360" y="2127240"/>
              <a:ext cx="27000" cy="1278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1963800" y="2512800"/>
              <a:ext cx="81000" cy="292320"/>
            </a:xfrm>
            <a:custGeom>
              <a:avLst/>
              <a:gdLst/>
              <a:ahLst/>
              <a:rect l="l" t="t" r="r" b="b"/>
              <a:pathLst>
                <a:path w="51" h="184">
                  <a:moveTo>
                    <a:pt x="51" y="0"/>
                  </a:moveTo>
                  <a:lnTo>
                    <a:pt x="34" y="33"/>
                  </a:lnTo>
                  <a:lnTo>
                    <a:pt x="17" y="67"/>
                  </a:lnTo>
                  <a:lnTo>
                    <a:pt x="0" y="117"/>
                  </a:lnTo>
                  <a:lnTo>
                    <a:pt x="0" y="167"/>
                  </a:lnTo>
                  <a:lnTo>
                    <a:pt x="0" y="184"/>
                  </a:lnTo>
                </a:path>
              </a:pathLst>
            </a:custGeom>
            <a:noFill/>
            <a:ln w="54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7074000" y="2232000"/>
              <a:ext cx="241200" cy="585720"/>
            </a:xfrm>
            <a:custGeom>
              <a:avLst/>
              <a:gdLst/>
              <a:ahLst/>
              <a:rect l="l" t="t" r="r" b="b"/>
              <a:pathLst>
                <a:path w="152" h="369">
                  <a:moveTo>
                    <a:pt x="0" y="0"/>
                  </a:moveTo>
                  <a:lnTo>
                    <a:pt x="101" y="134"/>
                  </a:lnTo>
                  <a:lnTo>
                    <a:pt x="152" y="285"/>
                  </a:lnTo>
                  <a:lnTo>
                    <a:pt x="152" y="369"/>
                  </a:lnTo>
                </a:path>
              </a:pathLst>
            </a:custGeom>
            <a:noFill/>
            <a:ln w="54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 flipH="1" flipV="1">
              <a:off x="1257120" y="2403000"/>
              <a:ext cx="4895640" cy="8780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 flipV="1">
              <a:off x="4485240" y="1989360"/>
              <a:ext cx="3042720" cy="1333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5022720" y="2603520"/>
              <a:ext cx="0" cy="75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2" name=""/>
            <p:cNvGrpSpPr/>
            <p:nvPr/>
          </p:nvGrpSpPr>
          <p:grpSpPr>
            <a:xfrm>
              <a:off x="256320" y="1474560"/>
              <a:ext cx="1856520" cy="580680"/>
              <a:chOff x="256320" y="1474560"/>
              <a:chExt cx="1856520" cy="580680"/>
            </a:xfrm>
          </p:grpSpPr>
          <p:sp>
            <p:nvSpPr>
              <p:cNvPr id="3643" name=""/>
              <p:cNvSpPr/>
              <p:nvPr/>
            </p:nvSpPr>
            <p:spPr>
              <a:xfrm>
                <a:off x="1944360" y="1688760"/>
                <a:ext cx="1684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256320" y="1474560"/>
                <a:ext cx="1598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objet à l'infini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hors d'axe pa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5" name=""/>
            <p:cNvSpPr/>
            <p:nvPr/>
          </p:nvSpPr>
          <p:spPr>
            <a:xfrm rot="913200">
              <a:off x="1006200" y="2050560"/>
              <a:ext cx="250920" cy="569880"/>
            </a:xfrm>
            <a:custGeom>
              <a:avLst/>
              <a:gdLst>
                <a:gd name="textAreaLeft" fmla="*/ 160200 w 250920"/>
                <a:gd name="textAreaRight" fmla="*/ 251280 w 250920"/>
                <a:gd name="textAreaTop" fmla="*/ 14760 h 569880"/>
                <a:gd name="textAreaBottom" fmla="*/ 555120 h 56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3"/>
                    <a:pt x="10800" y="1805"/>
                  </a:cubicBezTo>
                  <a:lnTo>
                    <a:pt x="10800" y="9026"/>
                  </a:lnTo>
                  <a:cubicBezTo>
                    <a:pt x="10800" y="9929"/>
                    <a:pt x="5400" y="10831"/>
                    <a:pt x="0" y="10831"/>
                  </a:cubicBezTo>
                  <a:cubicBezTo>
                    <a:pt x="5400" y="10831"/>
                    <a:pt x="10800" y="11734"/>
                    <a:pt x="10800" y="12636"/>
                  </a:cubicBezTo>
                  <a:lnTo>
                    <a:pt x="10800" y="19795"/>
                  </a:lnTo>
                  <a:cubicBezTo>
                    <a:pt x="10800" y="2069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711360" y="2171520"/>
              <a:ext cx="301320" cy="228600"/>
            </a:xfrm>
            <a:prstGeom prst="star5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4876920" y="2933640"/>
              <a:ext cx="301680" cy="228600"/>
            </a:xfrm>
            <a:prstGeom prst="star5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7338960" y="2184480"/>
              <a:ext cx="1746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4144680" y="2239920"/>
              <a:ext cx="151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lan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0" name=""/>
            <p:cNvGrpSpPr/>
            <p:nvPr/>
          </p:nvGrpSpPr>
          <p:grpSpPr>
            <a:xfrm>
              <a:off x="7748640" y="2184480"/>
              <a:ext cx="1395360" cy="485640"/>
              <a:chOff x="7748640" y="2184480"/>
              <a:chExt cx="1395360" cy="485640"/>
            </a:xfrm>
          </p:grpSpPr>
          <p:sp>
            <p:nvSpPr>
              <p:cNvPr id="3651" name=""/>
              <p:cNvSpPr/>
              <p:nvPr/>
            </p:nvSpPr>
            <p:spPr>
              <a:xfrm flipH="1">
                <a:off x="7748640" y="2184480"/>
                <a:ext cx="1395360" cy="485640"/>
              </a:xfrm>
              <a:prstGeom prst="leftArrow">
                <a:avLst>
                  <a:gd name="adj1" fmla="val 50000"/>
                  <a:gd name="adj2" fmla="val 71831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7762320" y="2249280"/>
                <a:ext cx="1244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plan ima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3" name=""/>
            <p:cNvGrpSpPr/>
            <p:nvPr/>
          </p:nvGrpSpPr>
          <p:grpSpPr>
            <a:xfrm>
              <a:off x="0" y="2692440"/>
              <a:ext cx="1411560" cy="485640"/>
              <a:chOff x="0" y="2692440"/>
              <a:chExt cx="1411560" cy="485640"/>
            </a:xfrm>
          </p:grpSpPr>
          <p:sp>
            <p:nvSpPr>
              <p:cNvPr id="3654" name=""/>
              <p:cNvSpPr/>
              <p:nvPr/>
            </p:nvSpPr>
            <p:spPr>
              <a:xfrm>
                <a:off x="0" y="2692440"/>
                <a:ext cx="1395360" cy="485640"/>
              </a:xfrm>
              <a:prstGeom prst="leftArrow">
                <a:avLst>
                  <a:gd name="adj1" fmla="val 50000"/>
                  <a:gd name="adj2" fmla="val 71831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167040" y="2757240"/>
                <a:ext cx="1244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plan ima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56" name=""/>
          <p:cNvSpPr/>
          <p:nvPr/>
        </p:nvSpPr>
        <p:spPr>
          <a:xfrm>
            <a:off x="442080" y="3495600"/>
            <a:ext cx="781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orsque le hors d'axe varie, on trouve une section de faisc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mmune à tous les faisceaux : cette section positionne un plan pupi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7" name=""/>
          <p:cNvGrpSpPr/>
          <p:nvPr/>
        </p:nvGrpSpPr>
        <p:grpSpPr>
          <a:xfrm>
            <a:off x="-363960" y="4192560"/>
            <a:ext cx="5713200" cy="1982520"/>
            <a:chOff x="-363960" y="4192560"/>
            <a:chExt cx="5713200" cy="1982520"/>
          </a:xfrm>
        </p:grpSpPr>
        <p:sp>
          <p:nvSpPr>
            <p:cNvPr id="3658" name=""/>
            <p:cNvSpPr/>
            <p:nvPr/>
          </p:nvSpPr>
          <p:spPr>
            <a:xfrm>
              <a:off x="-363600" y="4860720"/>
              <a:ext cx="4625640" cy="927000"/>
            </a:xfrm>
            <a:custGeom>
              <a:avLst/>
              <a:gdLst/>
              <a:ahLst/>
              <a:rect l="l" t="t" r="r" b="b"/>
              <a:pathLst>
                <a:path w="2914" h="584">
                  <a:moveTo>
                    <a:pt x="242" y="584"/>
                  </a:moveTo>
                  <a:lnTo>
                    <a:pt x="1107" y="406"/>
                  </a:lnTo>
                  <a:lnTo>
                    <a:pt x="2112" y="0"/>
                  </a:lnTo>
                  <a:lnTo>
                    <a:pt x="2914" y="355"/>
                  </a:lnTo>
                  <a:lnTo>
                    <a:pt x="2850" y="470"/>
                  </a:lnTo>
                  <a:lnTo>
                    <a:pt x="2100" y="140"/>
                  </a:lnTo>
                  <a:lnTo>
                    <a:pt x="1107" y="89"/>
                  </a:lnTo>
                  <a:lnTo>
                    <a:pt x="0" y="305"/>
                  </a:lnTo>
                  <a:lnTo>
                    <a:pt x="242" y="58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 flipV="1">
              <a:off x="20520" y="5505480"/>
              <a:ext cx="1373040" cy="282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 flipV="1">
              <a:off x="1393560" y="4860360"/>
              <a:ext cx="1595520" cy="644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2989080" y="4860720"/>
              <a:ext cx="1272960" cy="5637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 flipH="1">
              <a:off x="4160520" y="5424480"/>
              <a:ext cx="101520" cy="1825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 flipH="1" flipV="1">
              <a:off x="2969640" y="5082840"/>
              <a:ext cx="1190520" cy="523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 flipH="1" flipV="1">
              <a:off x="1393200" y="5001840"/>
              <a:ext cx="157644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 flipH="1">
              <a:off x="-363960" y="5002200"/>
              <a:ext cx="1757160" cy="342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9600" y="4719600"/>
              <a:ext cx="1353960" cy="2826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1393560" y="5002200"/>
              <a:ext cx="1595520" cy="6444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 flipV="1">
              <a:off x="2989080" y="5101560"/>
              <a:ext cx="1293840" cy="5446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 flipH="1" flipV="1">
              <a:off x="4160520" y="4921200"/>
              <a:ext cx="122400" cy="18072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H="1">
              <a:off x="2989080" y="4921200"/>
              <a:ext cx="1171440" cy="50328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 flipH="1">
              <a:off x="1413720" y="5424480"/>
              <a:ext cx="1575000" cy="810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 flipH="1" flipV="1">
              <a:off x="-344880" y="5182920"/>
              <a:ext cx="1758960" cy="32256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4322520" y="5182920"/>
              <a:ext cx="243000" cy="141480"/>
            </a:xfrm>
            <a:custGeom>
              <a:avLst/>
              <a:gdLst/>
              <a:ahLst/>
              <a:rect l="l" t="t" r="r" b="b"/>
              <a:pathLst>
                <a:path w="153" h="89">
                  <a:moveTo>
                    <a:pt x="153" y="51"/>
                  </a:moveTo>
                  <a:lnTo>
                    <a:pt x="0" y="89"/>
                  </a:lnTo>
                  <a:lnTo>
                    <a:pt x="0" y="51"/>
                  </a:lnTo>
                  <a:lnTo>
                    <a:pt x="0" y="0"/>
                  </a:lnTo>
                  <a:lnTo>
                    <a:pt x="153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-81360" y="5263920"/>
              <a:ext cx="440388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1342800" y="4890960"/>
              <a:ext cx="122400" cy="72540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2938320" y="5092560"/>
              <a:ext cx="102960" cy="343080"/>
            </a:xfrm>
            <a:prstGeom prst="ellipse">
              <a:avLst/>
            </a:prstGeom>
            <a:solidFill>
              <a:srgbClr val="ffffff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1280520" y="4519440"/>
              <a:ext cx="264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Comic Sans MS"/>
                </a:rPr>
                <a:t>L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2916360" y="4640040"/>
              <a:ext cx="264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900" spc="-1" strike="noStrike">
                  <a:solidFill>
                    <a:srgbClr val="000000"/>
                  </a:solidFill>
                  <a:latin typeface="Comic Sans MS"/>
                </a:rPr>
                <a:t>L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2989080" y="4981320"/>
              <a:ext cx="20520" cy="966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3636720" y="4881600"/>
              <a:ext cx="1440" cy="1168200"/>
            </a:xfrm>
            <a:prstGeom prst="line">
              <a:avLst/>
            </a:prstGeom>
            <a:ln w="205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3580560" y="5806800"/>
              <a:ext cx="1768680" cy="368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lan pupille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1401480" y="4856040"/>
              <a:ext cx="1800" cy="1168560"/>
            </a:xfrm>
            <a:prstGeom prst="line">
              <a:avLst/>
            </a:prstGeom>
            <a:ln w="205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1363320" y="5781600"/>
              <a:ext cx="1768680" cy="368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lan pupille P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flipV="1">
              <a:off x="2511360" y="4698360"/>
              <a:ext cx="0" cy="939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1902240" y="4192560"/>
              <a:ext cx="775080" cy="5806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pla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im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2396880" y="4940280"/>
              <a:ext cx="235080" cy="177840"/>
            </a:xfrm>
            <a:prstGeom prst="star5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2396880" y="5346720"/>
              <a:ext cx="235080" cy="177480"/>
            </a:xfrm>
            <a:prstGeom prst="star5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8" name=""/>
          <p:cNvSpPr/>
          <p:nvPr/>
        </p:nvSpPr>
        <p:spPr>
          <a:xfrm>
            <a:off x="5827680" y="4362480"/>
            <a:ext cx="3316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autre façon de d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lan pupi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variant vis à 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u bascul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s faisc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1283400" y="6291360"/>
            <a:ext cx="436428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1 est l'image de P0 donnée par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345600" y="590400"/>
            <a:ext cx="6286680" cy="100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étails obtenus  avec optique géometrique (Zemax)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stribution d'impacts de rayons : spot diagra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5119560" y="223344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333360" y="5460840"/>
            <a:ext cx="823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a du détail (aberrations), mais l'optique géomét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e donne pas accès de façon fondamentale (phys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 détail des im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6426000" y="6062760"/>
            <a:ext cx="24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pourquoi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4" name=""/>
          <p:cNvGrpSpPr/>
          <p:nvPr/>
        </p:nvGrpSpPr>
        <p:grpSpPr>
          <a:xfrm>
            <a:off x="190440" y="1558800"/>
            <a:ext cx="8267760" cy="1290600"/>
            <a:chOff x="190440" y="1558800"/>
            <a:chExt cx="8267760" cy="1290600"/>
          </a:xfrm>
        </p:grpSpPr>
        <p:grpSp>
          <p:nvGrpSpPr>
            <p:cNvPr id="3695" name=""/>
            <p:cNvGrpSpPr/>
            <p:nvPr/>
          </p:nvGrpSpPr>
          <p:grpSpPr>
            <a:xfrm>
              <a:off x="190440" y="1558800"/>
              <a:ext cx="8267760" cy="1290600"/>
              <a:chOff x="190440" y="1558800"/>
              <a:chExt cx="8267760" cy="1290600"/>
            </a:xfrm>
          </p:grpSpPr>
          <p:pic>
            <p:nvPicPr>
              <p:cNvPr id="3696" name="aurelie_1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440" y="1558800"/>
                <a:ext cx="5533920" cy="1290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97" name=""/>
              <p:cNvGrpSpPr/>
              <p:nvPr/>
            </p:nvGrpSpPr>
            <p:grpSpPr>
              <a:xfrm>
                <a:off x="5834160" y="1681200"/>
                <a:ext cx="2624040" cy="811080"/>
                <a:chOff x="5834160" y="1681200"/>
                <a:chExt cx="2624040" cy="811080"/>
              </a:xfrm>
            </p:grpSpPr>
            <p:pic>
              <p:nvPicPr>
                <p:cNvPr id="369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34160" y="1681200"/>
                  <a:ext cx="2624040" cy="8110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699" name=""/>
                <p:cNvGrpSpPr/>
                <p:nvPr/>
              </p:nvGrpSpPr>
              <p:grpSpPr>
                <a:xfrm>
                  <a:off x="5937120" y="1727280"/>
                  <a:ext cx="217440" cy="743040"/>
                  <a:chOff x="5937120" y="1727280"/>
                  <a:chExt cx="217440" cy="743040"/>
                </a:xfrm>
              </p:grpSpPr>
              <p:sp>
                <p:nvSpPr>
                  <p:cNvPr id="3700" name=""/>
                  <p:cNvSpPr/>
                  <p:nvPr/>
                </p:nvSpPr>
                <p:spPr>
                  <a:xfrm>
                    <a:off x="5975280" y="1758960"/>
                    <a:ext cx="111240" cy="704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444">
                        <a:moveTo>
                          <a:pt x="12" y="0"/>
                        </a:moveTo>
                        <a:cubicBezTo>
                          <a:pt x="41" y="69"/>
                          <a:pt x="70" y="138"/>
                          <a:pt x="68" y="212"/>
                        </a:cubicBezTo>
                        <a:cubicBezTo>
                          <a:pt x="66" y="286"/>
                          <a:pt x="11" y="406"/>
                          <a:pt x="0" y="444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1" name=""/>
                  <p:cNvSpPr/>
                  <p:nvPr/>
                </p:nvSpPr>
                <p:spPr>
                  <a:xfrm>
                    <a:off x="5937120" y="1727280"/>
                    <a:ext cx="38160" cy="74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68">
                        <a:moveTo>
                          <a:pt x="24" y="468"/>
                        </a:moveTo>
                        <a:cubicBezTo>
                          <a:pt x="12" y="383"/>
                          <a:pt x="0" y="298"/>
                          <a:pt x="0" y="220"/>
                        </a:cubicBezTo>
                        <a:cubicBezTo>
                          <a:pt x="0" y="142"/>
                          <a:pt x="12" y="71"/>
                          <a:pt x="24" y="0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2" name=""/>
                  <p:cNvSpPr/>
                  <p:nvPr/>
                </p:nvSpPr>
                <p:spPr>
                  <a:xfrm>
                    <a:off x="6108840" y="1739880"/>
                    <a:ext cx="45720" cy="73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60">
                        <a:moveTo>
                          <a:pt x="0" y="0"/>
                        </a:moveTo>
                        <a:cubicBezTo>
                          <a:pt x="13" y="73"/>
                          <a:pt x="27" y="147"/>
                          <a:pt x="28" y="224"/>
                        </a:cubicBezTo>
                        <a:cubicBezTo>
                          <a:pt x="29" y="301"/>
                          <a:pt x="16" y="380"/>
                          <a:pt x="4" y="460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3" name=""/>
                  <p:cNvSpPr/>
                  <p:nvPr/>
                </p:nvSpPr>
                <p:spPr>
                  <a:xfrm>
                    <a:off x="5981760" y="1746360"/>
                    <a:ext cx="127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4" name=""/>
                  <p:cNvSpPr/>
                  <p:nvPr/>
                </p:nvSpPr>
                <p:spPr>
                  <a:xfrm>
                    <a:off x="5987880" y="2444760"/>
                    <a:ext cx="1270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05" name=""/>
                <p:cNvSpPr/>
                <p:nvPr/>
              </p:nvSpPr>
              <p:spPr>
                <a:xfrm>
                  <a:off x="5956200" y="1860480"/>
                  <a:ext cx="2451240" cy="469800"/>
                </a:xfrm>
                <a:custGeom>
                  <a:avLst/>
                  <a:gdLst/>
                  <a:ahLst/>
                  <a:rect l="l" t="t" r="r" b="b"/>
                  <a:pathLst>
                    <a:path w="1544" h="296">
                      <a:moveTo>
                        <a:pt x="0" y="4"/>
                      </a:moveTo>
                      <a:lnTo>
                        <a:pt x="112" y="0"/>
                      </a:lnTo>
                      <a:lnTo>
                        <a:pt x="1544" y="148"/>
                      </a:lnTo>
                      <a:lnTo>
                        <a:pt x="104" y="296"/>
                      </a:lnTo>
                      <a:lnTo>
                        <a:pt x="0" y="296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06" name=""/>
            <p:cNvSpPr/>
            <p:nvPr/>
          </p:nvSpPr>
          <p:spPr>
            <a:xfrm>
              <a:off x="5378400" y="1631880"/>
              <a:ext cx="0" cy="74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 rot="16200000">
              <a:off x="5268240" y="1876680"/>
              <a:ext cx="549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40 </a:t>
              </a:r>
              <a:r>
                <a:rPr b="0" lang="fr-FR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8" name=""/>
          <p:cNvGrpSpPr/>
          <p:nvPr/>
        </p:nvGrpSpPr>
        <p:grpSpPr>
          <a:xfrm>
            <a:off x="81000" y="2822400"/>
            <a:ext cx="7554960" cy="1273320"/>
            <a:chOff x="81000" y="2822400"/>
            <a:chExt cx="7554960" cy="1273320"/>
          </a:xfrm>
        </p:grpSpPr>
        <p:grpSp>
          <p:nvGrpSpPr>
            <p:cNvPr id="3709" name=""/>
            <p:cNvGrpSpPr/>
            <p:nvPr/>
          </p:nvGrpSpPr>
          <p:grpSpPr>
            <a:xfrm>
              <a:off x="81000" y="2822400"/>
              <a:ext cx="7554960" cy="1273320"/>
              <a:chOff x="81000" y="2822400"/>
              <a:chExt cx="7554960" cy="1273320"/>
            </a:xfrm>
          </p:grpSpPr>
          <p:grpSp>
            <p:nvGrpSpPr>
              <p:cNvPr id="3710" name=""/>
              <p:cNvGrpSpPr/>
              <p:nvPr/>
            </p:nvGrpSpPr>
            <p:grpSpPr>
              <a:xfrm>
                <a:off x="81000" y="2822400"/>
                <a:ext cx="5659200" cy="1273320"/>
                <a:chOff x="81000" y="2822400"/>
                <a:chExt cx="5659200" cy="1273320"/>
              </a:xfrm>
            </p:grpSpPr>
            <p:pic>
              <p:nvPicPr>
                <p:cNvPr id="371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1000" y="2822400"/>
                  <a:ext cx="5638680" cy="1047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160" y="3743280"/>
                  <a:ext cx="564804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13" name=""/>
              <p:cNvGrpSpPr/>
              <p:nvPr/>
            </p:nvGrpSpPr>
            <p:grpSpPr>
              <a:xfrm>
                <a:off x="5929200" y="2943000"/>
                <a:ext cx="1706760" cy="987480"/>
                <a:chOff x="5929200" y="2943000"/>
                <a:chExt cx="1706760" cy="987480"/>
              </a:xfrm>
            </p:grpSpPr>
            <p:pic>
              <p:nvPicPr>
                <p:cNvPr id="371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929200" y="2943000"/>
                  <a:ext cx="1706760" cy="98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15" name=""/>
                <p:cNvSpPr/>
                <p:nvPr/>
              </p:nvSpPr>
              <p:spPr>
                <a:xfrm>
                  <a:off x="6132600" y="3017880"/>
                  <a:ext cx="0" cy="850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6" name=""/>
                <p:cNvSpPr/>
                <p:nvPr/>
              </p:nvSpPr>
              <p:spPr>
                <a:xfrm>
                  <a:off x="6132600" y="3049560"/>
                  <a:ext cx="1441440" cy="768240"/>
                </a:xfrm>
                <a:custGeom>
                  <a:avLst/>
                  <a:gdLst/>
                  <a:ahLst/>
                  <a:rect l="l" t="t" r="r" b="b"/>
                  <a:pathLst>
                    <a:path w="908" h="484">
                      <a:moveTo>
                        <a:pt x="0" y="0"/>
                      </a:moveTo>
                      <a:lnTo>
                        <a:pt x="908" y="240"/>
                      </a:lnTo>
                      <a:lnTo>
                        <a:pt x="0" y="48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17" name=""/>
                <p:cNvGrpSpPr/>
                <p:nvPr/>
              </p:nvGrpSpPr>
              <p:grpSpPr>
                <a:xfrm>
                  <a:off x="5999040" y="3004920"/>
                  <a:ext cx="203400" cy="876240"/>
                  <a:chOff x="5999040" y="3004920"/>
                  <a:chExt cx="203400" cy="876240"/>
                </a:xfrm>
              </p:grpSpPr>
              <p:sp>
                <p:nvSpPr>
                  <p:cNvPr id="3718" name=""/>
                  <p:cNvSpPr/>
                  <p:nvPr/>
                </p:nvSpPr>
                <p:spPr>
                  <a:xfrm>
                    <a:off x="5999040" y="3004920"/>
                    <a:ext cx="140040" cy="8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552">
                        <a:moveTo>
                          <a:pt x="88" y="0"/>
                        </a:moveTo>
                        <a:cubicBezTo>
                          <a:pt x="77" y="23"/>
                          <a:pt x="39" y="91"/>
                          <a:pt x="24" y="136"/>
                        </a:cubicBezTo>
                        <a:cubicBezTo>
                          <a:pt x="9" y="181"/>
                          <a:pt x="0" y="221"/>
                          <a:pt x="0" y="268"/>
                        </a:cubicBezTo>
                        <a:cubicBezTo>
                          <a:pt x="0" y="315"/>
                          <a:pt x="11" y="369"/>
                          <a:pt x="24" y="416"/>
                        </a:cubicBezTo>
                        <a:cubicBezTo>
                          <a:pt x="37" y="463"/>
                          <a:pt x="68" y="524"/>
                          <a:pt x="80" y="552"/>
                        </a:cubicBezTo>
                      </a:path>
                    </a:pathLst>
                  </a:custGeom>
                  <a:solidFill>
                    <a:srgbClr val="cccc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9" name=""/>
                  <p:cNvSpPr/>
                  <p:nvPr/>
                </p:nvSpPr>
                <p:spPr>
                  <a:xfrm>
                    <a:off x="6132600" y="3017880"/>
                    <a:ext cx="69840" cy="857160"/>
                  </a:xfrm>
                  <a:prstGeom prst="rect">
                    <a:avLst/>
                  </a:prstGeom>
                  <a:solidFill>
                    <a:srgbClr val="cccc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720" name=""/>
            <p:cNvGrpSpPr/>
            <p:nvPr/>
          </p:nvGrpSpPr>
          <p:grpSpPr>
            <a:xfrm>
              <a:off x="5486400" y="2984400"/>
              <a:ext cx="279720" cy="749520"/>
              <a:chOff x="5486400" y="2984400"/>
              <a:chExt cx="279720" cy="749520"/>
            </a:xfrm>
          </p:grpSpPr>
          <p:sp>
            <p:nvSpPr>
              <p:cNvPr id="3721" name=""/>
              <p:cNvSpPr/>
              <p:nvPr/>
            </p:nvSpPr>
            <p:spPr>
              <a:xfrm rot="16200000">
                <a:off x="5296680" y="3236760"/>
                <a:ext cx="69264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Comic Sans MS"/>
                  </a:rPr>
                  <a:t>1000 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fr-FR" sz="1000" spc="-1" strike="noStrike">
                    <a:solidFill>
                      <a:srgbClr val="000000"/>
                    </a:solidFill>
                    <a:latin typeface="Comic Sans MS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5486400" y="2984400"/>
                <a:ext cx="0" cy="74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23" name=""/>
          <p:cNvGrpSpPr/>
          <p:nvPr/>
        </p:nvGrpSpPr>
        <p:grpSpPr>
          <a:xfrm>
            <a:off x="96840" y="3914640"/>
            <a:ext cx="7481880" cy="1146240"/>
            <a:chOff x="96840" y="3914640"/>
            <a:chExt cx="7481880" cy="1146240"/>
          </a:xfrm>
        </p:grpSpPr>
        <p:grpSp>
          <p:nvGrpSpPr>
            <p:cNvPr id="3724" name=""/>
            <p:cNvGrpSpPr/>
            <p:nvPr/>
          </p:nvGrpSpPr>
          <p:grpSpPr>
            <a:xfrm>
              <a:off x="96840" y="3914640"/>
              <a:ext cx="7481880" cy="1146240"/>
              <a:chOff x="96840" y="3914640"/>
              <a:chExt cx="7481880" cy="1146240"/>
            </a:xfrm>
          </p:grpSpPr>
          <p:grpSp>
            <p:nvGrpSpPr>
              <p:cNvPr id="3725" name=""/>
              <p:cNvGrpSpPr/>
              <p:nvPr/>
            </p:nvGrpSpPr>
            <p:grpSpPr>
              <a:xfrm>
                <a:off x="96840" y="3914640"/>
                <a:ext cx="5684760" cy="1130040"/>
                <a:chOff x="96840" y="3914640"/>
                <a:chExt cx="5684760" cy="1130040"/>
              </a:xfrm>
            </p:grpSpPr>
            <p:pic>
              <p:nvPicPr>
                <p:cNvPr id="372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3200" y="3914640"/>
                  <a:ext cx="5648400" cy="96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6840" y="4654440"/>
                  <a:ext cx="5657760" cy="390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728" name=""/>
              <p:cNvGrpSpPr/>
              <p:nvPr/>
            </p:nvGrpSpPr>
            <p:grpSpPr>
              <a:xfrm>
                <a:off x="6019920" y="4120920"/>
                <a:ext cx="1558800" cy="939960"/>
                <a:chOff x="6019920" y="4120920"/>
                <a:chExt cx="1558800" cy="939960"/>
              </a:xfrm>
            </p:grpSpPr>
            <p:pic>
              <p:nvPicPr>
                <p:cNvPr id="372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019920" y="4120920"/>
                  <a:ext cx="1558800" cy="9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730" name=""/>
                <p:cNvGrpSpPr/>
                <p:nvPr/>
              </p:nvGrpSpPr>
              <p:grpSpPr>
                <a:xfrm>
                  <a:off x="6090840" y="4140000"/>
                  <a:ext cx="203400" cy="876240"/>
                  <a:chOff x="6090840" y="4140000"/>
                  <a:chExt cx="203400" cy="876240"/>
                </a:xfrm>
              </p:grpSpPr>
              <p:sp>
                <p:nvSpPr>
                  <p:cNvPr id="3731" name=""/>
                  <p:cNvSpPr/>
                  <p:nvPr/>
                </p:nvSpPr>
                <p:spPr>
                  <a:xfrm flipH="1">
                    <a:off x="6153840" y="4140000"/>
                    <a:ext cx="140040" cy="8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552">
                        <a:moveTo>
                          <a:pt x="88" y="0"/>
                        </a:moveTo>
                        <a:cubicBezTo>
                          <a:pt x="77" y="23"/>
                          <a:pt x="39" y="91"/>
                          <a:pt x="24" y="136"/>
                        </a:cubicBezTo>
                        <a:cubicBezTo>
                          <a:pt x="9" y="181"/>
                          <a:pt x="0" y="221"/>
                          <a:pt x="0" y="268"/>
                        </a:cubicBezTo>
                        <a:cubicBezTo>
                          <a:pt x="0" y="315"/>
                          <a:pt x="11" y="369"/>
                          <a:pt x="24" y="416"/>
                        </a:cubicBezTo>
                        <a:cubicBezTo>
                          <a:pt x="37" y="463"/>
                          <a:pt x="68" y="524"/>
                          <a:pt x="80" y="552"/>
                        </a:cubicBezTo>
                      </a:path>
                    </a:pathLst>
                  </a:custGeom>
                  <a:solidFill>
                    <a:srgbClr val="ccccff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2" name=""/>
                  <p:cNvSpPr/>
                  <p:nvPr/>
                </p:nvSpPr>
                <p:spPr>
                  <a:xfrm flipH="1">
                    <a:off x="6090840" y="4152960"/>
                    <a:ext cx="69840" cy="857160"/>
                  </a:xfrm>
                  <a:prstGeom prst="rect">
                    <a:avLst/>
                  </a:prstGeom>
                  <a:solidFill>
                    <a:srgbClr val="cccc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33" name=""/>
                <p:cNvSpPr/>
                <p:nvPr/>
              </p:nvSpPr>
              <p:spPr>
                <a:xfrm>
                  <a:off x="6192720" y="4203720"/>
                  <a:ext cx="1339920" cy="761760"/>
                </a:xfrm>
                <a:custGeom>
                  <a:avLst/>
                  <a:gdLst/>
                  <a:ahLst/>
                  <a:rect l="l" t="t" r="r" b="b"/>
                  <a:pathLst>
                    <a:path w="844" h="480">
                      <a:moveTo>
                        <a:pt x="0" y="0"/>
                      </a:moveTo>
                      <a:lnTo>
                        <a:pt x="844" y="276"/>
                      </a:lnTo>
                      <a:lnTo>
                        <a:pt x="844" y="204"/>
                      </a:lnTo>
                      <a:lnTo>
                        <a:pt x="12" y="48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"/>
                <p:cNvSpPr/>
                <p:nvPr/>
              </p:nvSpPr>
              <p:spPr>
                <a:xfrm>
                  <a:off x="6281640" y="4539960"/>
                  <a:ext cx="1251000" cy="101880"/>
                </a:xfrm>
                <a:custGeom>
                  <a:avLst/>
                  <a:gdLst/>
                  <a:ahLst/>
                  <a:rect l="l" t="t" r="r" b="b"/>
                  <a:pathLst>
                    <a:path w="788" h="64">
                      <a:moveTo>
                        <a:pt x="8" y="0"/>
                      </a:moveTo>
                      <a:lnTo>
                        <a:pt x="788" y="28"/>
                      </a:lnTo>
                      <a:lnTo>
                        <a:pt x="0" y="64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35" name=""/>
            <p:cNvSpPr/>
            <p:nvPr/>
          </p:nvSpPr>
          <p:spPr>
            <a:xfrm rot="16200000">
              <a:off x="5322600" y="4256280"/>
              <a:ext cx="764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10000 </a:t>
              </a:r>
              <a:r>
                <a:rPr b="0" lang="fr-FR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5549760" y="4025880"/>
              <a:ext cx="0" cy="74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7" name="corse_diffraction_crop_ter_ligh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8600"/>
          </a:xfrm>
          <a:prstGeom prst="rect">
            <a:avLst/>
          </a:prstGeom>
          <a:ln w="0">
            <a:noFill/>
          </a:ln>
        </p:spPr>
      </p:pic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433080" y="603360"/>
            <a:ext cx="78073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diffraction_1  l'optique géométrique ne restitue pas </a:t>
            </a:r>
            <a:br>
              <a:rPr sz="2400"/>
            </a:b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   l'aspect détaillé des images. Pourquoi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70200" y="1309680"/>
            <a:ext cx="3760560" cy="916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00"/>
                </a:solidFill>
                <a:latin typeface="Comic Sans MS"/>
              </a:rPr>
              <a:t>parce que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21510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raction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3467160" y="2401560"/>
            <a:ext cx="2420640" cy="1073160"/>
            <a:chOff x="3467160" y="2401560"/>
            <a:chExt cx="2420640" cy="1073160"/>
          </a:xfrm>
        </p:grpSpPr>
        <p:sp>
          <p:nvSpPr>
            <p:cNvPr id="3742" name=""/>
            <p:cNvSpPr/>
            <p:nvPr/>
          </p:nvSpPr>
          <p:spPr>
            <a:xfrm rot="20997000">
              <a:off x="4016880" y="2543040"/>
              <a:ext cx="487800" cy="7336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3" name=""/>
            <p:cNvGrpSpPr/>
            <p:nvPr/>
          </p:nvGrpSpPr>
          <p:grpSpPr>
            <a:xfrm>
              <a:off x="5018760" y="2655000"/>
              <a:ext cx="869040" cy="819720"/>
              <a:chOff x="5018760" y="2655000"/>
              <a:chExt cx="869040" cy="819720"/>
            </a:xfrm>
          </p:grpSpPr>
          <p:pic>
            <p:nvPicPr>
              <p:cNvPr id="37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02280" y="2688480"/>
                <a:ext cx="785520" cy="78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5" name=""/>
              <p:cNvSpPr/>
              <p:nvPr/>
            </p:nvSpPr>
            <p:spPr>
              <a:xfrm flipV="1">
                <a:off x="5361840" y="2655000"/>
                <a:ext cx="0" cy="78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 flipV="1">
                <a:off x="5018760" y="3017160"/>
                <a:ext cx="68796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7" name=""/>
            <p:cNvSpPr/>
            <p:nvPr/>
          </p:nvSpPr>
          <p:spPr>
            <a:xfrm flipH="1" flipV="1">
              <a:off x="3467160" y="2819880"/>
              <a:ext cx="190008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035600" y="2490120"/>
              <a:ext cx="433800" cy="84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V="1">
              <a:off x="4256640" y="2401560"/>
              <a:ext cx="0" cy="10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 flipV="1">
              <a:off x="3942720" y="2874600"/>
              <a:ext cx="67824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4269600" y="2565360"/>
              <a:ext cx="1097280" cy="703440"/>
            </a:xfrm>
            <a:custGeom>
              <a:avLst/>
              <a:gdLst/>
              <a:ahLst/>
              <a:rect l="l" t="t" r="r" b="b"/>
              <a:pathLst>
                <a:path w="2011" h="1289">
                  <a:moveTo>
                    <a:pt x="36" y="0"/>
                  </a:moveTo>
                  <a:lnTo>
                    <a:pt x="2011" y="887"/>
                  </a:lnTo>
                  <a:lnTo>
                    <a:pt x="0" y="128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2" name=""/>
          <p:cNvSpPr/>
          <p:nvPr/>
        </p:nvSpPr>
        <p:spPr>
          <a:xfrm>
            <a:off x="480960" y="1171440"/>
            <a:ext cx="841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ur l'optique géométrique (stigmatique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'image d'un point est un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300024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4" name=""/>
          <p:cNvGrpSpPr/>
          <p:nvPr/>
        </p:nvGrpSpPr>
        <p:grpSpPr>
          <a:xfrm>
            <a:off x="5137200" y="1011240"/>
            <a:ext cx="3234960" cy="822240"/>
            <a:chOff x="5137200" y="1011240"/>
            <a:chExt cx="3234960" cy="822240"/>
          </a:xfrm>
        </p:grpSpPr>
        <p:sp>
          <p:nvSpPr>
            <p:cNvPr id="3755" name=""/>
            <p:cNvSpPr/>
            <p:nvPr/>
          </p:nvSpPr>
          <p:spPr>
            <a:xfrm>
              <a:off x="5370480" y="1197000"/>
              <a:ext cx="883800" cy="547560"/>
            </a:xfrm>
            <a:custGeom>
              <a:avLst/>
              <a:gdLst/>
              <a:ahLst/>
              <a:rect l="l" t="t" r="r" b="b"/>
              <a:pathLst>
                <a:path w="1671" h="1034">
                  <a:moveTo>
                    <a:pt x="1671" y="0"/>
                  </a:moveTo>
                  <a:lnTo>
                    <a:pt x="0" y="552"/>
                  </a:lnTo>
                  <a:lnTo>
                    <a:pt x="1631" y="103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5370480" y="1263600"/>
              <a:ext cx="867960" cy="434880"/>
            </a:xfrm>
            <a:custGeom>
              <a:avLst/>
              <a:gdLst/>
              <a:ahLst/>
              <a:rect l="l" t="t" r="r" b="b"/>
              <a:pathLst>
                <a:path w="1640" h="823">
                  <a:moveTo>
                    <a:pt x="1640" y="0"/>
                  </a:moveTo>
                  <a:lnTo>
                    <a:pt x="0" y="440"/>
                  </a:lnTo>
                  <a:lnTo>
                    <a:pt x="1601" y="82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5370480" y="1332000"/>
              <a:ext cx="867960" cy="307800"/>
            </a:xfrm>
            <a:custGeom>
              <a:avLst/>
              <a:gdLst/>
              <a:ahLst/>
              <a:rect l="l" t="t" r="r" b="b"/>
              <a:pathLst>
                <a:path w="1640" h="584">
                  <a:moveTo>
                    <a:pt x="1640" y="0"/>
                  </a:moveTo>
                  <a:lnTo>
                    <a:pt x="0" y="312"/>
                  </a:lnTo>
                  <a:lnTo>
                    <a:pt x="1601" y="58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5370480" y="1400040"/>
              <a:ext cx="879120" cy="181080"/>
            </a:xfrm>
            <a:custGeom>
              <a:avLst/>
              <a:gdLst/>
              <a:ahLst/>
              <a:rect l="l" t="t" r="r" b="b"/>
              <a:pathLst>
                <a:path w="1660" h="343">
                  <a:moveTo>
                    <a:pt x="1660" y="0"/>
                  </a:moveTo>
                  <a:lnTo>
                    <a:pt x="0" y="183"/>
                  </a:lnTo>
                  <a:lnTo>
                    <a:pt x="1620" y="34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5370480" y="1447920"/>
              <a:ext cx="852120" cy="85680"/>
            </a:xfrm>
            <a:custGeom>
              <a:avLst/>
              <a:gdLst/>
              <a:ahLst/>
              <a:rect l="l" t="t" r="r" b="b"/>
              <a:pathLst>
                <a:path w="1611" h="162">
                  <a:moveTo>
                    <a:pt x="1611" y="0"/>
                  </a:moveTo>
                  <a:lnTo>
                    <a:pt x="0" y="86"/>
                  </a:lnTo>
                  <a:lnTo>
                    <a:pt x="1571" y="16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5222520" y="1335240"/>
              <a:ext cx="139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5269680" y="1362240"/>
              <a:ext cx="8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2" name=""/>
            <p:cNvGrpSpPr/>
            <p:nvPr/>
          </p:nvGrpSpPr>
          <p:grpSpPr>
            <a:xfrm>
              <a:off x="5137200" y="1476360"/>
              <a:ext cx="3135240" cy="39600"/>
              <a:chOff x="5137200" y="1476360"/>
              <a:chExt cx="3135240" cy="39600"/>
            </a:xfrm>
          </p:grpSpPr>
          <p:sp>
            <p:nvSpPr>
              <p:cNvPr id="3763" name=""/>
              <p:cNvSpPr/>
              <p:nvPr/>
            </p:nvSpPr>
            <p:spPr>
              <a:xfrm>
                <a:off x="5137200" y="1495440"/>
                <a:ext cx="3135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8234280" y="147636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74" h="75">
                    <a:moveTo>
                      <a:pt x="0" y="75"/>
                    </a:moveTo>
                    <a:lnTo>
                      <a:pt x="74" y="3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5" name=""/>
            <p:cNvGrpSpPr/>
            <p:nvPr/>
          </p:nvGrpSpPr>
          <p:grpSpPr>
            <a:xfrm>
              <a:off x="6751440" y="1332000"/>
              <a:ext cx="1391760" cy="303120"/>
              <a:chOff x="6751440" y="1332000"/>
              <a:chExt cx="1391760" cy="303120"/>
            </a:xfrm>
          </p:grpSpPr>
          <p:sp>
            <p:nvSpPr>
              <p:cNvPr id="3766" name=""/>
              <p:cNvSpPr/>
              <p:nvPr/>
            </p:nvSpPr>
            <p:spPr>
              <a:xfrm>
                <a:off x="6751440" y="1332000"/>
                <a:ext cx="1391760" cy="303120"/>
              </a:xfrm>
              <a:custGeom>
                <a:avLst/>
                <a:gdLst/>
                <a:ahLst/>
                <a:rect l="l" t="t" r="r" b="b"/>
                <a:pathLst>
                  <a:path w="2632" h="572">
                    <a:moveTo>
                      <a:pt x="0" y="0"/>
                    </a:moveTo>
                    <a:lnTo>
                      <a:pt x="2632" y="305"/>
                    </a:lnTo>
                    <a:lnTo>
                      <a:pt x="64" y="57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6776640" y="1368360"/>
                <a:ext cx="1366200" cy="241560"/>
              </a:xfrm>
              <a:custGeom>
                <a:avLst/>
                <a:gdLst/>
                <a:ahLst/>
                <a:rect l="l" t="t" r="r" b="b"/>
                <a:pathLst>
                  <a:path w="2583" h="456">
                    <a:moveTo>
                      <a:pt x="0" y="0"/>
                    </a:moveTo>
                    <a:lnTo>
                      <a:pt x="2583" y="243"/>
                    </a:lnTo>
                    <a:lnTo>
                      <a:pt x="62" y="45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6776640" y="1406520"/>
                <a:ext cx="1366200" cy="169920"/>
              </a:xfrm>
              <a:custGeom>
                <a:avLst/>
                <a:gdLst/>
                <a:ahLst/>
                <a:rect l="l" t="t" r="r" b="b"/>
                <a:pathLst>
                  <a:path w="2583" h="323">
                    <a:moveTo>
                      <a:pt x="0" y="0"/>
                    </a:moveTo>
                    <a:lnTo>
                      <a:pt x="2583" y="172"/>
                    </a:lnTo>
                    <a:lnTo>
                      <a:pt x="62" y="32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6760440" y="1442880"/>
                <a:ext cx="1382400" cy="101880"/>
              </a:xfrm>
              <a:custGeom>
                <a:avLst/>
                <a:gdLst/>
                <a:ahLst/>
                <a:rect l="l" t="t" r="r" b="b"/>
                <a:pathLst>
                  <a:path w="2615" h="190">
                    <a:moveTo>
                      <a:pt x="0" y="0"/>
                    </a:moveTo>
                    <a:lnTo>
                      <a:pt x="2615" y="101"/>
                    </a:lnTo>
                    <a:lnTo>
                      <a:pt x="62" y="19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6801840" y="1469880"/>
                <a:ext cx="1341000" cy="49320"/>
              </a:xfrm>
              <a:custGeom>
                <a:avLst/>
                <a:gdLst/>
                <a:ahLst/>
                <a:rect l="l" t="t" r="r" b="b"/>
                <a:pathLst>
                  <a:path w="2537" h="91">
                    <a:moveTo>
                      <a:pt x="0" y="0"/>
                    </a:moveTo>
                    <a:lnTo>
                      <a:pt x="2537" y="49"/>
                    </a:lnTo>
                    <a:lnTo>
                      <a:pt x="61" y="9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1" name=""/>
            <p:cNvSpPr/>
            <p:nvPr/>
          </p:nvSpPr>
          <p:spPr>
            <a:xfrm>
              <a:off x="8073720" y="1287360"/>
              <a:ext cx="1616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8132760" y="13129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S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7908840" y="1536840"/>
              <a:ext cx="3646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7923240" y="1562040"/>
              <a:ext cx="448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5" name=""/>
            <p:cNvGrpSpPr/>
            <p:nvPr/>
          </p:nvGrpSpPr>
          <p:grpSpPr>
            <a:xfrm>
              <a:off x="6215040" y="1011240"/>
              <a:ext cx="893160" cy="822240"/>
              <a:chOff x="6215040" y="1011240"/>
              <a:chExt cx="893160" cy="822240"/>
            </a:xfrm>
          </p:grpSpPr>
          <p:sp>
            <p:nvSpPr>
              <p:cNvPr id="3776" name=""/>
              <p:cNvSpPr/>
              <p:nvPr/>
            </p:nvSpPr>
            <p:spPr>
              <a:xfrm>
                <a:off x="6215040" y="1011240"/>
                <a:ext cx="888480" cy="82224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6438240" y="1243080"/>
                <a:ext cx="4903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6474960" y="1270080"/>
                <a:ext cx="633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systè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6455160" y="1413000"/>
                <a:ext cx="556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ptiq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0" name=""/>
            <p:cNvSpPr/>
            <p:nvPr/>
          </p:nvSpPr>
          <p:spPr>
            <a:xfrm>
              <a:off x="5243400" y="1554120"/>
              <a:ext cx="31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5287680" y="1579680"/>
              <a:ext cx="36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obj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2" name=""/>
          <p:cNvSpPr/>
          <p:nvPr/>
        </p:nvSpPr>
        <p:spPr>
          <a:xfrm>
            <a:off x="536040" y="2048040"/>
            <a:ext cx="4772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'experience montre que ce n'est pas le 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561240" y="3456000"/>
            <a:ext cx="73497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cause en est la nature ondulatoire de la lum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et la diffr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tin :  diffractare /  éparpi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4" name=""/>
          <p:cNvGrpSpPr/>
          <p:nvPr/>
        </p:nvGrpSpPr>
        <p:grpSpPr>
          <a:xfrm>
            <a:off x="893880" y="4994280"/>
            <a:ext cx="8086320" cy="1373040"/>
            <a:chOff x="893880" y="4994280"/>
            <a:chExt cx="8086320" cy="1373040"/>
          </a:xfrm>
        </p:grpSpPr>
        <p:grpSp>
          <p:nvGrpSpPr>
            <p:cNvPr id="3785" name=""/>
            <p:cNvGrpSpPr/>
            <p:nvPr/>
          </p:nvGrpSpPr>
          <p:grpSpPr>
            <a:xfrm>
              <a:off x="8186760" y="5587920"/>
              <a:ext cx="793440" cy="779400"/>
              <a:chOff x="8186760" y="5587920"/>
              <a:chExt cx="793440" cy="779400"/>
            </a:xfrm>
          </p:grpSpPr>
          <p:sp>
            <p:nvSpPr>
              <p:cNvPr id="3786" name=""/>
              <p:cNvSpPr/>
              <p:nvPr/>
            </p:nvSpPr>
            <p:spPr>
              <a:xfrm>
                <a:off x="8186760" y="5587920"/>
                <a:ext cx="793440" cy="7794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8283600" y="5699160"/>
                <a:ext cx="561960" cy="563400"/>
              </a:xfrm>
              <a:prstGeom prst="ellipse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8" name=""/>
            <p:cNvGrpSpPr/>
            <p:nvPr/>
          </p:nvGrpSpPr>
          <p:grpSpPr>
            <a:xfrm>
              <a:off x="893880" y="4994280"/>
              <a:ext cx="1535040" cy="736560"/>
              <a:chOff x="893880" y="4994280"/>
              <a:chExt cx="1535040" cy="736560"/>
            </a:xfrm>
          </p:grpSpPr>
          <p:sp>
            <p:nvSpPr>
              <p:cNvPr id="3789" name=""/>
              <p:cNvSpPr/>
              <p:nvPr/>
            </p:nvSpPr>
            <p:spPr>
              <a:xfrm>
                <a:off x="893880" y="5198040"/>
                <a:ext cx="674280" cy="31752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1568160" y="5045760"/>
                <a:ext cx="0" cy="590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1568160" y="5247000"/>
                <a:ext cx="853920" cy="21636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1568160" y="5254920"/>
                <a:ext cx="0" cy="192960"/>
              </a:xfrm>
              <a:prstGeom prst="line">
                <a:avLst/>
              </a:prstGeom>
              <a:ln w="7632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2428920" y="4994280"/>
                <a:ext cx="0" cy="73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4" name=""/>
            <p:cNvGrpSpPr/>
            <p:nvPr/>
          </p:nvGrpSpPr>
          <p:grpSpPr>
            <a:xfrm>
              <a:off x="3673440" y="5037120"/>
              <a:ext cx="1535040" cy="736560"/>
              <a:chOff x="3673440" y="5037120"/>
              <a:chExt cx="1535040" cy="736560"/>
            </a:xfrm>
          </p:grpSpPr>
          <p:sp>
            <p:nvSpPr>
              <p:cNvPr id="3795" name=""/>
              <p:cNvSpPr/>
              <p:nvPr/>
            </p:nvSpPr>
            <p:spPr>
              <a:xfrm>
                <a:off x="3673440" y="5240880"/>
                <a:ext cx="674640" cy="31752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4348080" y="5088600"/>
                <a:ext cx="0" cy="590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4348080" y="5340240"/>
                <a:ext cx="853920" cy="10800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4341240" y="5340960"/>
                <a:ext cx="0" cy="106560"/>
              </a:xfrm>
              <a:prstGeom prst="line">
                <a:avLst/>
              </a:prstGeom>
              <a:ln w="7632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5208480" y="5037120"/>
                <a:ext cx="0" cy="73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0" name=""/>
            <p:cNvGrpSpPr/>
            <p:nvPr/>
          </p:nvGrpSpPr>
          <p:grpSpPr>
            <a:xfrm>
              <a:off x="6513480" y="5037120"/>
              <a:ext cx="1577880" cy="736560"/>
              <a:chOff x="6513480" y="5037120"/>
              <a:chExt cx="1577880" cy="736560"/>
            </a:xfrm>
          </p:grpSpPr>
          <p:sp>
            <p:nvSpPr>
              <p:cNvPr id="3801" name=""/>
              <p:cNvSpPr/>
              <p:nvPr/>
            </p:nvSpPr>
            <p:spPr>
              <a:xfrm>
                <a:off x="6513480" y="5241960"/>
                <a:ext cx="674640" cy="31752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7188120" y="5087880"/>
                <a:ext cx="0" cy="590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7182000" y="5362560"/>
                <a:ext cx="1440" cy="34920"/>
              </a:xfrm>
              <a:custGeom>
                <a:avLst/>
                <a:gdLst/>
                <a:ahLst/>
                <a:rect l="l" t="t" r="r" b="b"/>
                <a:pathLst>
                  <a:path w="2" h="39">
                    <a:moveTo>
                      <a:pt x="2" y="0"/>
                    </a:moveTo>
                    <a:lnTo>
                      <a:pt x="0" y="39"/>
                    </a:lnTo>
                  </a:path>
                </a:pathLst>
              </a:custGeom>
              <a:noFill/>
              <a:ln w="76320">
                <a:solidFill>
                  <a:srgbClr val="cc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8091360" y="5037120"/>
                <a:ext cx="0" cy="73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 rot="5400000">
                <a:off x="7314480" y="4953600"/>
                <a:ext cx="690480" cy="860400"/>
              </a:xfrm>
              <a:custGeom>
                <a:avLst/>
                <a:gdLst>
                  <a:gd name="textAreaLeft" fmla="*/ 234720 w 690480"/>
                  <a:gd name="textAreaRight" fmla="*/ 455760 w 690480"/>
                  <a:gd name="textAreaTop" fmla="*/ 292680 h 860400"/>
                  <a:gd name="textAreaBottom" fmla="*/ 567720 h 860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1521" y="21600"/>
                    </a:lnTo>
                    <a:lnTo>
                      <a:pt x="10079" y="216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6" name=""/>
            <p:cNvGrpSpPr/>
            <p:nvPr/>
          </p:nvGrpSpPr>
          <p:grpSpPr>
            <a:xfrm>
              <a:off x="5321160" y="5576760"/>
              <a:ext cx="793800" cy="779400"/>
              <a:chOff x="5321160" y="5576760"/>
              <a:chExt cx="793800" cy="779400"/>
            </a:xfrm>
          </p:grpSpPr>
          <p:sp>
            <p:nvSpPr>
              <p:cNvPr id="3807" name=""/>
              <p:cNvSpPr/>
              <p:nvPr/>
            </p:nvSpPr>
            <p:spPr>
              <a:xfrm>
                <a:off x="5321160" y="5576760"/>
                <a:ext cx="793800" cy="7794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5656320" y="5914800"/>
                <a:ext cx="129960" cy="115920"/>
              </a:xfrm>
              <a:prstGeom prst="ellipse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9" name=""/>
            <p:cNvGrpSpPr/>
            <p:nvPr/>
          </p:nvGrpSpPr>
          <p:grpSpPr>
            <a:xfrm>
              <a:off x="2516040" y="5483160"/>
              <a:ext cx="793800" cy="779400"/>
              <a:chOff x="2516040" y="5483160"/>
              <a:chExt cx="793800" cy="779400"/>
            </a:xfrm>
          </p:grpSpPr>
          <p:sp>
            <p:nvSpPr>
              <p:cNvPr id="3810" name=""/>
              <p:cNvSpPr/>
              <p:nvPr/>
            </p:nvSpPr>
            <p:spPr>
              <a:xfrm>
                <a:off x="2516040" y="5483160"/>
                <a:ext cx="793800" cy="779400"/>
              </a:xfrm>
              <a:prstGeom prst="rect">
                <a:avLst/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2784600" y="5759280"/>
                <a:ext cx="203040" cy="201600"/>
              </a:xfrm>
              <a:prstGeom prst="ellipse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2" name=""/>
            <p:cNvGrpSpPr/>
            <p:nvPr/>
          </p:nvGrpSpPr>
          <p:grpSpPr>
            <a:xfrm>
              <a:off x="4048200" y="5751360"/>
              <a:ext cx="576360" cy="592200"/>
              <a:chOff x="4048200" y="5751360"/>
              <a:chExt cx="576360" cy="592200"/>
            </a:xfrm>
          </p:grpSpPr>
          <p:sp>
            <p:nvSpPr>
              <p:cNvPr id="3813" name=""/>
              <p:cNvSpPr/>
              <p:nvPr/>
            </p:nvSpPr>
            <p:spPr>
              <a:xfrm>
                <a:off x="4048200" y="5751360"/>
                <a:ext cx="576360" cy="592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4272120" y="5945040"/>
                <a:ext cx="129960" cy="130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5" name=""/>
            <p:cNvGrpSpPr/>
            <p:nvPr/>
          </p:nvGrpSpPr>
          <p:grpSpPr>
            <a:xfrm>
              <a:off x="6870600" y="5759280"/>
              <a:ext cx="576360" cy="592200"/>
              <a:chOff x="6870600" y="5759280"/>
              <a:chExt cx="576360" cy="592200"/>
            </a:xfrm>
          </p:grpSpPr>
          <p:sp>
            <p:nvSpPr>
              <p:cNvPr id="3816" name=""/>
              <p:cNvSpPr/>
              <p:nvPr/>
            </p:nvSpPr>
            <p:spPr>
              <a:xfrm>
                <a:off x="6870600" y="5759280"/>
                <a:ext cx="576360" cy="592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7128000" y="5989680"/>
                <a:ext cx="7452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8" name=""/>
            <p:cNvGrpSpPr/>
            <p:nvPr/>
          </p:nvGrpSpPr>
          <p:grpSpPr>
            <a:xfrm>
              <a:off x="1255680" y="5715000"/>
              <a:ext cx="576360" cy="591840"/>
              <a:chOff x="1255680" y="5715000"/>
              <a:chExt cx="576360" cy="591840"/>
            </a:xfrm>
          </p:grpSpPr>
          <p:sp>
            <p:nvSpPr>
              <p:cNvPr id="3819" name=""/>
              <p:cNvSpPr/>
              <p:nvPr/>
            </p:nvSpPr>
            <p:spPr>
              <a:xfrm>
                <a:off x="1255680" y="5715000"/>
                <a:ext cx="576360" cy="591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1434960" y="5891040"/>
                <a:ext cx="216000" cy="23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821" name="" descr=""/>
          <p:cNvPicPr/>
          <p:nvPr/>
        </p:nvPicPr>
        <p:blipFill>
          <a:blip r:embed="rId2"/>
          <a:stretch/>
        </p:blipFill>
        <p:spPr>
          <a:xfrm>
            <a:off x="6624720" y="2517840"/>
            <a:ext cx="8571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576756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raction_3   image d'un point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410040" y="1236600"/>
            <a:ext cx="834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energie lumineuse n'est plus transportée le long d'un ray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is plutôt par une série de vagues  (sinuso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urs crètes forment  le front d'onde (rayons sur la normale au fr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4" name=""/>
          <p:cNvGrpSpPr/>
          <p:nvPr/>
        </p:nvGrpSpPr>
        <p:grpSpPr>
          <a:xfrm>
            <a:off x="340560" y="3672000"/>
            <a:ext cx="8289000" cy="2901960"/>
            <a:chOff x="340560" y="3672000"/>
            <a:chExt cx="8289000" cy="2901960"/>
          </a:xfrm>
        </p:grpSpPr>
        <p:grpSp>
          <p:nvGrpSpPr>
            <p:cNvPr id="3825" name=""/>
            <p:cNvGrpSpPr/>
            <p:nvPr/>
          </p:nvGrpSpPr>
          <p:grpSpPr>
            <a:xfrm>
              <a:off x="662040" y="5100480"/>
              <a:ext cx="5290920" cy="1473480"/>
              <a:chOff x="662040" y="5100480"/>
              <a:chExt cx="5290920" cy="1473480"/>
            </a:xfrm>
          </p:grpSpPr>
          <p:sp>
            <p:nvSpPr>
              <p:cNvPr id="3826" name=""/>
              <p:cNvSpPr/>
              <p:nvPr/>
            </p:nvSpPr>
            <p:spPr>
              <a:xfrm>
                <a:off x="662040" y="5100480"/>
                <a:ext cx="4316400" cy="14734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662040" y="5299200"/>
                <a:ext cx="1465200" cy="1044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 rot="5400000">
                <a:off x="2431080" y="5074200"/>
                <a:ext cx="1035000" cy="148752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29" name=""/>
              <p:cNvGrpSpPr/>
              <p:nvPr/>
            </p:nvGrpSpPr>
            <p:grpSpPr>
              <a:xfrm>
                <a:off x="3629160" y="5499000"/>
                <a:ext cx="955440" cy="598320"/>
                <a:chOff x="3629160" y="5499000"/>
                <a:chExt cx="955440" cy="598320"/>
              </a:xfrm>
            </p:grpSpPr>
            <p:sp>
              <p:nvSpPr>
                <p:cNvPr id="3830" name=""/>
                <p:cNvSpPr/>
                <p:nvPr/>
              </p:nvSpPr>
              <p:spPr>
                <a:xfrm>
                  <a:off x="3629160" y="5770440"/>
                  <a:ext cx="955440" cy="326880"/>
                </a:xfrm>
                <a:custGeom>
                  <a:avLst/>
                  <a:gdLst/>
                  <a:ahLst/>
                  <a:rect l="l" t="t" r="r" b="b"/>
                  <a:pathLst>
                    <a:path w="789" h="271">
                      <a:moveTo>
                        <a:pt x="61" y="6"/>
                      </a:moveTo>
                      <a:cubicBezTo>
                        <a:pt x="62" y="45"/>
                        <a:pt x="65" y="209"/>
                        <a:pt x="67" y="240"/>
                      </a:cubicBezTo>
                      <a:cubicBezTo>
                        <a:pt x="69" y="271"/>
                        <a:pt x="53" y="207"/>
                        <a:pt x="74" y="191"/>
                      </a:cubicBezTo>
                      <a:cubicBezTo>
                        <a:pt x="95" y="175"/>
                        <a:pt x="191" y="161"/>
                        <a:pt x="192" y="146"/>
                      </a:cubicBezTo>
                      <a:cubicBezTo>
                        <a:pt x="193" y="131"/>
                        <a:pt x="0" y="119"/>
                        <a:pt x="82" y="102"/>
                      </a:cubicBezTo>
                      <a:cubicBezTo>
                        <a:pt x="164" y="85"/>
                        <a:pt x="577" y="63"/>
                        <a:pt x="683" y="46"/>
                      </a:cubicBezTo>
                      <a:cubicBezTo>
                        <a:pt x="789" y="29"/>
                        <a:pt x="756" y="15"/>
                        <a:pt x="720" y="0"/>
                      </a:cubicBez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1" name=""/>
                <p:cNvSpPr/>
                <p:nvPr/>
              </p:nvSpPr>
              <p:spPr>
                <a:xfrm flipV="1">
                  <a:off x="3629160" y="5499000"/>
                  <a:ext cx="955440" cy="321120"/>
                </a:xfrm>
                <a:custGeom>
                  <a:avLst/>
                  <a:gdLst/>
                  <a:ahLst/>
                  <a:rect l="l" t="t" r="r" b="b"/>
                  <a:pathLst>
                    <a:path w="789" h="266">
                      <a:moveTo>
                        <a:pt x="64" y="33"/>
                      </a:moveTo>
                      <a:cubicBezTo>
                        <a:pt x="65" y="67"/>
                        <a:pt x="65" y="214"/>
                        <a:pt x="67" y="240"/>
                      </a:cubicBezTo>
                      <a:cubicBezTo>
                        <a:pt x="69" y="266"/>
                        <a:pt x="53" y="207"/>
                        <a:pt x="74" y="191"/>
                      </a:cubicBezTo>
                      <a:cubicBezTo>
                        <a:pt x="95" y="175"/>
                        <a:pt x="191" y="161"/>
                        <a:pt x="192" y="146"/>
                      </a:cubicBezTo>
                      <a:cubicBezTo>
                        <a:pt x="193" y="131"/>
                        <a:pt x="0" y="119"/>
                        <a:pt x="82" y="102"/>
                      </a:cubicBezTo>
                      <a:cubicBezTo>
                        <a:pt x="164" y="85"/>
                        <a:pt x="577" y="63"/>
                        <a:pt x="683" y="46"/>
                      </a:cubicBezTo>
                      <a:cubicBezTo>
                        <a:pt x="789" y="29"/>
                        <a:pt x="756" y="15"/>
                        <a:pt x="720" y="0"/>
                      </a:cubicBez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2" name=""/>
              <p:cNvSpPr/>
              <p:nvPr/>
            </p:nvSpPr>
            <p:spPr>
              <a:xfrm>
                <a:off x="2093760" y="5124600"/>
                <a:ext cx="198720" cy="142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cccc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33" name=""/>
              <p:cNvGrpSpPr/>
              <p:nvPr/>
            </p:nvGrpSpPr>
            <p:grpSpPr>
              <a:xfrm>
                <a:off x="3700440" y="5386320"/>
                <a:ext cx="1286280" cy="893160"/>
                <a:chOff x="3700440" y="5386320"/>
                <a:chExt cx="1286280" cy="893160"/>
              </a:xfrm>
            </p:grpSpPr>
            <p:sp>
              <p:nvSpPr>
                <p:cNvPr id="3834" name=""/>
                <p:cNvSpPr/>
                <p:nvPr/>
              </p:nvSpPr>
              <p:spPr>
                <a:xfrm>
                  <a:off x="3769560" y="5880600"/>
                  <a:ext cx="1217160" cy="39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ffffff"/>
                      </a:solidFill>
                      <a:latin typeface="Comic Sans MS"/>
                    </a:rPr>
                    <a:t>intensit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5" name=""/>
                <p:cNvSpPr/>
                <p:nvPr/>
              </p:nvSpPr>
              <p:spPr>
                <a:xfrm flipV="1">
                  <a:off x="3700440" y="5386320"/>
                  <a:ext cx="0" cy="8568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6" name=""/>
                <p:cNvSpPr/>
                <p:nvPr/>
              </p:nvSpPr>
              <p:spPr>
                <a:xfrm>
                  <a:off x="3700440" y="5808240"/>
                  <a:ext cx="1032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7" name=""/>
              <p:cNvGrpSpPr/>
              <p:nvPr/>
            </p:nvGrpSpPr>
            <p:grpSpPr>
              <a:xfrm>
                <a:off x="5051520" y="5442120"/>
                <a:ext cx="901440" cy="792000"/>
                <a:chOff x="5051520" y="5442120"/>
                <a:chExt cx="901440" cy="792000"/>
              </a:xfrm>
            </p:grpSpPr>
            <p:sp>
              <p:nvSpPr>
                <p:cNvPr id="3838" name=""/>
                <p:cNvSpPr/>
                <p:nvPr/>
              </p:nvSpPr>
              <p:spPr>
                <a:xfrm>
                  <a:off x="5051520" y="5442120"/>
                  <a:ext cx="901440" cy="792000"/>
                </a:xfrm>
                <a:prstGeom prst="rect">
                  <a:avLst/>
                </a:prstGeom>
                <a:solidFill>
                  <a:srgbClr val="00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39" name=""/>
                <p:cNvGrpSpPr/>
                <p:nvPr/>
              </p:nvGrpSpPr>
              <p:grpSpPr>
                <a:xfrm>
                  <a:off x="5225760" y="5527800"/>
                  <a:ext cx="617040" cy="602280"/>
                  <a:chOff x="5225760" y="5527800"/>
                  <a:chExt cx="617040" cy="602280"/>
                </a:xfrm>
              </p:grpSpPr>
              <p:sp>
                <p:nvSpPr>
                  <p:cNvPr id="3840" name=""/>
                  <p:cNvSpPr/>
                  <p:nvPr/>
                </p:nvSpPr>
                <p:spPr>
                  <a:xfrm>
                    <a:off x="5381640" y="5683320"/>
                    <a:ext cx="307080" cy="297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1" name=""/>
                  <p:cNvSpPr/>
                  <p:nvPr/>
                </p:nvSpPr>
                <p:spPr>
                  <a:xfrm>
                    <a:off x="5294520" y="5596560"/>
                    <a:ext cx="482760" cy="471600"/>
                  </a:xfrm>
                  <a:prstGeom prst="ellipse">
                    <a:avLst/>
                  </a:prstGeom>
                  <a:noFill/>
                  <a:ln w="5724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2" name=""/>
                  <p:cNvSpPr/>
                  <p:nvPr/>
                </p:nvSpPr>
                <p:spPr>
                  <a:xfrm>
                    <a:off x="5225760" y="5527800"/>
                    <a:ext cx="617040" cy="60228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3843" name="" descr=""/>
            <p:cNvPicPr/>
            <p:nvPr/>
          </p:nvPicPr>
          <p:blipFill>
            <a:blip r:embed="rId1"/>
            <a:stretch/>
          </p:blipFill>
          <p:spPr>
            <a:xfrm>
              <a:off x="6343560" y="4170240"/>
              <a:ext cx="22860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4" name=""/>
            <p:cNvSpPr/>
            <p:nvPr/>
          </p:nvSpPr>
          <p:spPr>
            <a:xfrm>
              <a:off x="340560" y="3672000"/>
              <a:ext cx="75765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à la différence de ce qu'on attend avec le modèle des rayons 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u foyer d'une lentille on ne trouve pas un poi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mais une tache de forme particulière (sorte de sombrer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tache d'Airy (astronome royal, 18..?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5" name=""/>
          <p:cNvGrpSpPr/>
          <p:nvPr/>
        </p:nvGrpSpPr>
        <p:grpSpPr>
          <a:xfrm>
            <a:off x="674640" y="1985400"/>
            <a:ext cx="8277840" cy="1856520"/>
            <a:chOff x="674640" y="1985400"/>
            <a:chExt cx="8277840" cy="1856520"/>
          </a:xfrm>
        </p:grpSpPr>
        <p:grpSp>
          <p:nvGrpSpPr>
            <p:cNvPr id="3846" name=""/>
            <p:cNvGrpSpPr/>
            <p:nvPr/>
          </p:nvGrpSpPr>
          <p:grpSpPr>
            <a:xfrm>
              <a:off x="674640" y="1985400"/>
              <a:ext cx="3048120" cy="1730880"/>
              <a:chOff x="674640" y="1985400"/>
              <a:chExt cx="3048120" cy="1730880"/>
            </a:xfrm>
          </p:grpSpPr>
          <p:sp>
            <p:nvSpPr>
              <p:cNvPr id="3847" name=""/>
              <p:cNvSpPr/>
              <p:nvPr/>
            </p:nvSpPr>
            <p:spPr>
              <a:xfrm>
                <a:off x="889200" y="2652120"/>
                <a:ext cx="1155600" cy="351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2031120" y="2481480"/>
                <a:ext cx="0" cy="652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2034360" y="2785680"/>
                <a:ext cx="2160" cy="38880"/>
              </a:xfrm>
              <a:custGeom>
                <a:avLst/>
                <a:gdLst/>
                <a:ahLst/>
                <a:rect l="l" t="t" r="r" b="b"/>
                <a:pathLst>
                  <a:path w="2" h="39">
                    <a:moveTo>
                      <a:pt x="2" y="0"/>
                    </a:moveTo>
                    <a:lnTo>
                      <a:pt x="0" y="39"/>
                    </a:lnTo>
                  </a:path>
                </a:pathLst>
              </a:custGeom>
              <a:noFill/>
              <a:ln w="76320">
                <a:solidFill>
                  <a:srgbClr val="cc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699840" y="270180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687240" y="285408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674640" y="3006360"/>
                <a:ext cx="107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1969920" y="2455920"/>
                <a:ext cx="1638360" cy="748800"/>
              </a:xfrm>
              <a:custGeom>
                <a:avLst/>
                <a:gdLst/>
                <a:ahLst/>
                <a:rect l="l" t="t" r="r" b="b"/>
                <a:pathLst>
                  <a:path w="1548" h="768">
                    <a:moveTo>
                      <a:pt x="72" y="348"/>
                    </a:moveTo>
                    <a:lnTo>
                      <a:pt x="1452" y="0"/>
                    </a:lnTo>
                    <a:lnTo>
                      <a:pt x="1536" y="228"/>
                    </a:lnTo>
                    <a:lnTo>
                      <a:pt x="1548" y="480"/>
                    </a:lnTo>
                    <a:lnTo>
                      <a:pt x="1488" y="768"/>
                    </a:lnTo>
                    <a:lnTo>
                      <a:pt x="0" y="37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flipV="1">
                <a:off x="2122200" y="2479320"/>
                <a:ext cx="1536840" cy="32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 flipV="1">
                <a:off x="2147760" y="2701800"/>
                <a:ext cx="157500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2134800" y="2830680"/>
                <a:ext cx="1485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2084040" y="2842560"/>
                <a:ext cx="1320840" cy="32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1449360" y="2388240"/>
                <a:ext cx="1218600" cy="91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53" y="3834"/>
                    </a:moveTo>
                    <a:arcTo wR="10800" hR="10800" stAng="-2409990" swAng="45440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53" y="3834"/>
                    </a:moveTo>
                    <a:arcTo wR="10800" hR="10800" stAng="-2409990" swAng="4544097"/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1168920" y="2191320"/>
                <a:ext cx="1728360" cy="1293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53" y="3834"/>
                    </a:moveTo>
                    <a:arcTo wR="10800" hR="10800" stAng="-2409990" swAng="45440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53" y="3834"/>
                    </a:moveTo>
                    <a:arcTo wR="10800" hR="10800" stAng="-2409990" swAng="4544097"/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851400" y="1985400"/>
                <a:ext cx="2313000" cy="1730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53" y="3834"/>
                    </a:moveTo>
                    <a:arcTo wR="10800" hR="10800" stAng="-2409990" swAng="45440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53" y="3834"/>
                    </a:moveTo>
                    <a:arcTo wR="10800" hR="10800" stAng="-2409990" swAng="4544097"/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1334880" y="2502720"/>
                <a:ext cx="0" cy="67860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1487160" y="2502720"/>
                <a:ext cx="0" cy="67860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1157040" y="2502720"/>
                <a:ext cx="0" cy="67860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979200" y="2502720"/>
                <a:ext cx="0" cy="67860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5" name=""/>
            <p:cNvGrpSpPr/>
            <p:nvPr/>
          </p:nvGrpSpPr>
          <p:grpSpPr>
            <a:xfrm>
              <a:off x="4175280" y="2017800"/>
              <a:ext cx="4110120" cy="1824120"/>
              <a:chOff x="4175280" y="2017800"/>
              <a:chExt cx="4110120" cy="1824120"/>
            </a:xfrm>
          </p:grpSpPr>
          <p:sp>
            <p:nvSpPr>
              <p:cNvPr id="3866" name=""/>
              <p:cNvSpPr/>
              <p:nvPr/>
            </p:nvSpPr>
            <p:spPr>
              <a:xfrm>
                <a:off x="4450680" y="2548080"/>
                <a:ext cx="1122120" cy="665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4175280" y="2799720"/>
                <a:ext cx="1800" cy="40680"/>
              </a:xfrm>
              <a:custGeom>
                <a:avLst/>
                <a:gdLst/>
                <a:ahLst/>
                <a:rect l="l" t="t" r="r" b="b"/>
                <a:pathLst>
                  <a:path w="2" h="39">
                    <a:moveTo>
                      <a:pt x="2" y="0"/>
                    </a:moveTo>
                    <a:lnTo>
                      <a:pt x="0" y="39"/>
                    </a:lnTo>
                  </a:path>
                </a:pathLst>
              </a:custGeom>
              <a:noFill/>
              <a:ln w="76320">
                <a:solidFill>
                  <a:srgbClr val="cc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4425120" y="2711520"/>
                <a:ext cx="104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4437360" y="2921040"/>
                <a:ext cx="104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449600" y="3130560"/>
                <a:ext cx="104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 flipH="1">
                <a:off x="5522040" y="2538720"/>
                <a:ext cx="1590840" cy="677880"/>
              </a:xfrm>
              <a:custGeom>
                <a:avLst/>
                <a:gdLst/>
                <a:ahLst/>
                <a:rect l="l" t="t" r="r" b="b"/>
                <a:pathLst>
                  <a:path w="1548" h="768">
                    <a:moveTo>
                      <a:pt x="72" y="348"/>
                    </a:moveTo>
                    <a:lnTo>
                      <a:pt x="1452" y="0"/>
                    </a:lnTo>
                    <a:lnTo>
                      <a:pt x="1536" y="228"/>
                    </a:lnTo>
                    <a:lnTo>
                      <a:pt x="1548" y="480"/>
                    </a:lnTo>
                    <a:lnTo>
                      <a:pt x="1488" y="768"/>
                    </a:lnTo>
                    <a:lnTo>
                      <a:pt x="0" y="372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flipH="1" flipV="1">
                <a:off x="5695200" y="2637360"/>
                <a:ext cx="2183040" cy="38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 flipH="1" flipV="1">
                <a:off x="5694840" y="2846880"/>
                <a:ext cx="223236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 flipH="1">
                <a:off x="5535000" y="2698920"/>
                <a:ext cx="2257200" cy="44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flipH="1">
                <a:off x="6521040" y="2442240"/>
                <a:ext cx="1183320" cy="96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53" y="3834"/>
                    </a:moveTo>
                    <a:arcTo wR="10800" hR="10800" stAng="-2409990" swAng="45440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53" y="3834"/>
                    </a:moveTo>
                    <a:arcTo wR="10800" hR="10800" stAng="-2409990" swAng="4544097"/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 flipH="1">
                <a:off x="6298200" y="2234880"/>
                <a:ext cx="1678680" cy="136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53" y="3834"/>
                    </a:moveTo>
                    <a:arcTo wR="10800" hR="10800" stAng="-2409990" swAng="45440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53" y="3834"/>
                    </a:moveTo>
                    <a:arcTo wR="10800" hR="10800" stAng="-2409990" swAng="4544097"/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 flipH="1">
                <a:off x="6039720" y="2017800"/>
                <a:ext cx="2245680" cy="182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53" y="3834"/>
                    </a:moveTo>
                    <a:arcTo wR="10800" hR="10800" stAng="-2409990" swAng="45440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53" y="3834"/>
                    </a:moveTo>
                    <a:arcTo wR="10800" hR="10800" stAng="-2409990" swAng="4544097"/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4856760" y="2501640"/>
                <a:ext cx="0" cy="71496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708800" y="2501640"/>
                <a:ext cx="0" cy="71496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5029200" y="2501640"/>
                <a:ext cx="0" cy="71496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5202000" y="2501640"/>
                <a:ext cx="0" cy="71496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5473440" y="2440080"/>
                <a:ext cx="196920" cy="986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6398640" y="2392560"/>
                <a:ext cx="1183320" cy="96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53" y="3834"/>
                    </a:moveTo>
                    <a:arcTo wR="10800" hR="10800" stAng="-2409990" swAng="45440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53" y="3834"/>
                    </a:moveTo>
                    <a:arcTo wR="10800" hR="10800" stAng="-2409990" swAng="4544097"/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4" name=""/>
            <p:cNvSpPr/>
            <p:nvPr/>
          </p:nvSpPr>
          <p:spPr>
            <a:xfrm>
              <a:off x="4451040" y="3321000"/>
              <a:ext cx="45014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omic Sans MS"/>
                </a:rPr>
                <a:t>remarque : et pourquoi ici ça converge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601524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modele ondulatoire : amplitude complex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254160" y="1136520"/>
            <a:ext cx="66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opagation du champ, de S (source) à P (observ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7" name=""/>
          <p:cNvGrpSpPr/>
          <p:nvPr/>
        </p:nvGrpSpPr>
        <p:grpSpPr>
          <a:xfrm>
            <a:off x="5613480" y="1512720"/>
            <a:ext cx="3359880" cy="1263600"/>
            <a:chOff x="5613480" y="1512720"/>
            <a:chExt cx="3359880" cy="1263600"/>
          </a:xfrm>
        </p:grpSpPr>
        <p:sp>
          <p:nvSpPr>
            <p:cNvPr id="3888" name=""/>
            <p:cNvSpPr/>
            <p:nvPr/>
          </p:nvSpPr>
          <p:spPr>
            <a:xfrm>
              <a:off x="5787360" y="15379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5613480" y="2209680"/>
              <a:ext cx="3279600" cy="56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 flipV="1">
              <a:off x="5742000" y="2034720"/>
              <a:ext cx="84312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 flipV="1">
              <a:off x="6078600" y="1701360"/>
              <a:ext cx="0" cy="9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6503400" y="17935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8684280" y="24015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720040" y="182520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5" name=""/>
            <p:cNvGrpSpPr/>
            <p:nvPr/>
          </p:nvGrpSpPr>
          <p:grpSpPr>
            <a:xfrm>
              <a:off x="8059680" y="1512720"/>
              <a:ext cx="898560" cy="977760"/>
              <a:chOff x="8059680" y="1512720"/>
              <a:chExt cx="898560" cy="977760"/>
            </a:xfrm>
          </p:grpSpPr>
          <p:sp>
            <p:nvSpPr>
              <p:cNvPr id="3896" name=""/>
              <p:cNvSpPr/>
              <p:nvPr/>
            </p:nvSpPr>
            <p:spPr>
              <a:xfrm>
                <a:off x="8777160" y="2033280"/>
                <a:ext cx="181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8059680" y="1600200"/>
                <a:ext cx="3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8" name=""/>
              <p:cNvGrpSpPr/>
              <p:nvPr/>
            </p:nvGrpSpPr>
            <p:grpSpPr>
              <a:xfrm>
                <a:off x="8438760" y="1512720"/>
                <a:ext cx="322920" cy="801720"/>
                <a:chOff x="8438760" y="1512720"/>
                <a:chExt cx="322920" cy="801720"/>
              </a:xfrm>
            </p:grpSpPr>
            <p:sp>
              <p:nvSpPr>
                <p:cNvPr id="3899" name=""/>
                <p:cNvSpPr/>
                <p:nvPr/>
              </p:nvSpPr>
              <p:spPr>
                <a:xfrm>
                  <a:off x="8451360" y="1726920"/>
                  <a:ext cx="310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>
                  <a:off x="8438760" y="151272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>
                  <a:off x="8443440" y="1946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Z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2" name=""/>
              <p:cNvSpPr/>
              <p:nvPr/>
            </p:nvSpPr>
            <p:spPr>
              <a:xfrm>
                <a:off x="8418600" y="1628640"/>
                <a:ext cx="0" cy="79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3" name=""/>
            <p:cNvSpPr/>
            <p:nvPr/>
          </p:nvSpPr>
          <p:spPr>
            <a:xfrm>
              <a:off x="8096400" y="2079360"/>
              <a:ext cx="101520" cy="1159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6033960" y="2217600"/>
              <a:ext cx="101880" cy="11556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 flipV="1">
              <a:off x="6121440" y="2138040"/>
              <a:ext cx="1974960" cy="1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6993000" y="1836360"/>
              <a:ext cx="8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r(S,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7" name=""/>
          <p:cNvSpPr/>
          <p:nvPr/>
        </p:nvSpPr>
        <p:spPr>
          <a:xfrm>
            <a:off x="434160" y="1630440"/>
            <a:ext cx="501804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t) = A.cos( 2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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) = Re[A.exp( 2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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)]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réfère manipuler   A.exp( 2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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8" name=""/>
          <p:cNvGrpSpPr/>
          <p:nvPr/>
        </p:nvGrpSpPr>
        <p:grpSpPr>
          <a:xfrm>
            <a:off x="6432480" y="360360"/>
            <a:ext cx="1000080" cy="812880"/>
            <a:chOff x="6432480" y="360360"/>
            <a:chExt cx="1000080" cy="812880"/>
          </a:xfrm>
        </p:grpSpPr>
        <p:sp>
          <p:nvSpPr>
            <p:cNvPr id="3909" name=""/>
            <p:cNvSpPr/>
            <p:nvPr/>
          </p:nvSpPr>
          <p:spPr>
            <a:xfrm>
              <a:off x="6432480" y="36036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6653520" y="5918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1" name=""/>
          <p:cNvGrpSpPr/>
          <p:nvPr/>
        </p:nvGrpSpPr>
        <p:grpSpPr>
          <a:xfrm>
            <a:off x="189000" y="4295880"/>
            <a:ext cx="8606880" cy="1745640"/>
            <a:chOff x="189000" y="4295880"/>
            <a:chExt cx="8606880" cy="1745640"/>
          </a:xfrm>
        </p:grpSpPr>
        <p:sp>
          <p:nvSpPr>
            <p:cNvPr id="3912" name=""/>
            <p:cNvSpPr/>
            <p:nvPr/>
          </p:nvSpPr>
          <p:spPr>
            <a:xfrm>
              <a:off x="189000" y="4295880"/>
              <a:ext cx="7498800" cy="149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ce qui intéresse la formation des  images c'est le front d'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lors pour décrire l'onde on ne garde que la partie spati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ar c'est 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r(S,P) ou r(x,y,z)  qui décrit la forme du front d'o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x,y,z) = A.exp( 2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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1046160" y="5288040"/>
              <a:ext cx="3468600" cy="6174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4754880" y="5460840"/>
              <a:ext cx="404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A : distribution spatio-spectro_angulai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P en W/(m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r>
                <a:rPr b="0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m.ster), E en  J/(m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r>
                <a:rPr b="0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m.st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5" name=""/>
          <p:cNvGrpSpPr/>
          <p:nvPr/>
        </p:nvGrpSpPr>
        <p:grpSpPr>
          <a:xfrm>
            <a:off x="316080" y="2757600"/>
            <a:ext cx="8827920" cy="1467720"/>
            <a:chOff x="316080" y="2757600"/>
            <a:chExt cx="8827920" cy="1467720"/>
          </a:xfrm>
        </p:grpSpPr>
        <p:grpSp>
          <p:nvGrpSpPr>
            <p:cNvPr id="3916" name=""/>
            <p:cNvGrpSpPr/>
            <p:nvPr/>
          </p:nvGrpSpPr>
          <p:grpSpPr>
            <a:xfrm>
              <a:off x="316080" y="2757600"/>
              <a:ext cx="8827920" cy="899280"/>
              <a:chOff x="316080" y="2757600"/>
              <a:chExt cx="8827920" cy="899280"/>
            </a:xfrm>
          </p:grpSpPr>
          <p:sp>
            <p:nvSpPr>
              <p:cNvPr id="3917" name=""/>
              <p:cNvSpPr/>
              <p:nvPr/>
            </p:nvSpPr>
            <p:spPr>
              <a:xfrm>
                <a:off x="316080" y="2757600"/>
                <a:ext cx="8827920" cy="49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V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t) =</a:t>
                </a:r>
                <a:r>
                  <a:rPr b="0" lang="fr-FR" sz="2000" spc="-1" strike="noStrike">
                    <a:solidFill>
                      <a:srgbClr val="3333cc"/>
                    </a:solidFill>
                    <a:latin typeface="Comic Sans MS"/>
                  </a:rPr>
                  <a:t> la même chose mais décalée dans le temps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= A.exp( 2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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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-</a:t>
                </a:r>
                <a:r>
                  <a:rPr b="0" lang="fr-FR" sz="2000" spc="-1" strike="noStrike">
                    <a:solidFill>
                      <a:srgbClr val="ff3300"/>
                    </a:solidFill>
                    <a:latin typeface="Comic Sans MS"/>
                  </a:rPr>
                  <a:t>t</a:t>
                </a:r>
                <a:r>
                  <a:rPr b="0" lang="fr-FR" sz="2000" spc="-1" strike="noStrike" baseline="-25000">
                    <a:solidFill>
                      <a:srgbClr val="ff3300"/>
                    </a:solidFill>
                    <a:latin typeface="Comic Sans MS"/>
                  </a:rPr>
                  <a:t>0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))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6517800" y="3216240"/>
                <a:ext cx="2566080" cy="44064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dans le vide   t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0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= r/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9" name=""/>
            <p:cNvSpPr/>
            <p:nvPr/>
          </p:nvSpPr>
          <p:spPr>
            <a:xfrm>
              <a:off x="579600" y="3429000"/>
              <a:ext cx="658440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ar suite, on écr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t,x,y,z) = A.exp( 2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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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- r/c)) = A.exp( 2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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 -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0" name=""/>
          <p:cNvSpPr/>
          <p:nvPr/>
        </p:nvSpPr>
        <p:spPr>
          <a:xfrm>
            <a:off x="-30240" y="6016680"/>
            <a:ext cx="902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ot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uissance transportée P = l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ergie recueillie pendant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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 = P.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213840" y="590040"/>
            <a:ext cx="72867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llustration : front d'onde, phase, chemin op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2" name=""/>
          <p:cNvGrpSpPr/>
          <p:nvPr/>
        </p:nvGrpSpPr>
        <p:grpSpPr>
          <a:xfrm>
            <a:off x="479160" y="901800"/>
            <a:ext cx="8351280" cy="2091600"/>
            <a:chOff x="479160" y="901800"/>
            <a:chExt cx="8351280" cy="2091600"/>
          </a:xfrm>
        </p:grpSpPr>
        <p:sp>
          <p:nvSpPr>
            <p:cNvPr id="3923" name=""/>
            <p:cNvSpPr/>
            <p:nvPr/>
          </p:nvSpPr>
          <p:spPr>
            <a:xfrm>
              <a:off x="479160" y="1395360"/>
              <a:ext cx="206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onde sphér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4" name=""/>
            <p:cNvGrpSpPr/>
            <p:nvPr/>
          </p:nvGrpSpPr>
          <p:grpSpPr>
            <a:xfrm>
              <a:off x="2183040" y="901800"/>
              <a:ext cx="3105360" cy="2091600"/>
              <a:chOff x="2183040" y="901800"/>
              <a:chExt cx="3105360" cy="2091600"/>
            </a:xfrm>
          </p:grpSpPr>
          <p:sp>
            <p:nvSpPr>
              <p:cNvPr id="3925" name=""/>
              <p:cNvSpPr/>
              <p:nvPr/>
            </p:nvSpPr>
            <p:spPr>
              <a:xfrm>
                <a:off x="3208320" y="1165320"/>
                <a:ext cx="47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x,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26" name=""/>
              <p:cNvGrpSpPr/>
              <p:nvPr/>
            </p:nvGrpSpPr>
            <p:grpSpPr>
              <a:xfrm>
                <a:off x="2183040" y="901800"/>
                <a:ext cx="3105360" cy="2091600"/>
                <a:chOff x="2183040" y="901800"/>
                <a:chExt cx="3105360" cy="2091600"/>
              </a:xfrm>
            </p:grpSpPr>
            <p:sp>
              <p:nvSpPr>
                <p:cNvPr id="3927" name=""/>
                <p:cNvSpPr/>
                <p:nvPr/>
              </p:nvSpPr>
              <p:spPr>
                <a:xfrm>
                  <a:off x="2901960" y="1922400"/>
                  <a:ext cx="208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8" name=""/>
                <p:cNvSpPr/>
                <p:nvPr/>
              </p:nvSpPr>
              <p:spPr>
                <a:xfrm flipV="1">
                  <a:off x="3217680" y="1380600"/>
                  <a:ext cx="0" cy="784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9" name=""/>
                <p:cNvSpPr/>
                <p:nvPr/>
              </p:nvSpPr>
              <p:spPr>
                <a:xfrm>
                  <a:off x="4999320" y="1812600"/>
                  <a:ext cx="289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z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0" name=""/>
                <p:cNvSpPr/>
                <p:nvPr/>
              </p:nvSpPr>
              <p:spPr>
                <a:xfrm>
                  <a:off x="2183040" y="901800"/>
                  <a:ext cx="2089800" cy="209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70" y="4639"/>
                      </a:moveTo>
                      <a:arcTo wR="10800" hR="10800" stAng="-2086891" swAng="27468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70" y="4639"/>
                      </a:moveTo>
                      <a:arcTo wR="10800" hR="10800" stAng="-2086891" swAng="2746881"/>
                    </a:path>
                  </a:pathLst>
                </a:cu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1" name=""/>
                <p:cNvSpPr/>
                <p:nvPr/>
              </p:nvSpPr>
              <p:spPr>
                <a:xfrm flipV="1">
                  <a:off x="3217680" y="1577520"/>
                  <a:ext cx="957960" cy="370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32" name=""/>
            <p:cNvSpPr/>
            <p:nvPr/>
          </p:nvSpPr>
          <p:spPr>
            <a:xfrm>
              <a:off x="5764680" y="1355760"/>
              <a:ext cx="30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(x,y,z) = x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+y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+z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3" name=""/>
          <p:cNvGrpSpPr/>
          <p:nvPr/>
        </p:nvGrpSpPr>
        <p:grpSpPr>
          <a:xfrm>
            <a:off x="7535880" y="272880"/>
            <a:ext cx="1000080" cy="813240"/>
            <a:chOff x="7535880" y="272880"/>
            <a:chExt cx="1000080" cy="813240"/>
          </a:xfrm>
        </p:grpSpPr>
        <p:sp>
          <p:nvSpPr>
            <p:cNvPr id="3934" name=""/>
            <p:cNvSpPr/>
            <p:nvPr/>
          </p:nvSpPr>
          <p:spPr>
            <a:xfrm>
              <a:off x="7535880" y="27288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7756920" y="5047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6" name=""/>
          <p:cNvGrpSpPr/>
          <p:nvPr/>
        </p:nvGrpSpPr>
        <p:grpSpPr>
          <a:xfrm>
            <a:off x="-707760" y="2129400"/>
            <a:ext cx="9079560" cy="2223000"/>
            <a:chOff x="-707760" y="2129400"/>
            <a:chExt cx="9079560" cy="2223000"/>
          </a:xfrm>
        </p:grpSpPr>
        <p:sp>
          <p:nvSpPr>
            <p:cNvPr id="3937" name=""/>
            <p:cNvSpPr/>
            <p:nvPr/>
          </p:nvSpPr>
          <p:spPr>
            <a:xfrm>
              <a:off x="527040" y="2274840"/>
              <a:ext cx="492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onde plane  (source ponctuelle à l'infin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22400" y="3246480"/>
              <a:ext cx="59356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 flipV="1">
              <a:off x="487440" y="2841480"/>
              <a:ext cx="0" cy="83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475920" y="269388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x,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5725080" y="291312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-707760" y="2129400"/>
              <a:ext cx="2412360" cy="222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76" y="7182"/>
                  </a:moveTo>
                  <a:arcTo wR="10800" hR="10800" stAng="-1174359" swAng="2306155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76" y="7182"/>
                  </a:moveTo>
                  <a:arcTo wR="10800" hR="10800" stAng="-1174359" swAng="2306155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flipV="1">
              <a:off x="487440" y="3065400"/>
              <a:ext cx="118116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4" name=""/>
            <p:cNvGrpSpPr/>
            <p:nvPr/>
          </p:nvGrpSpPr>
          <p:grpSpPr>
            <a:xfrm>
              <a:off x="2622240" y="2884320"/>
              <a:ext cx="990720" cy="777600"/>
              <a:chOff x="2622240" y="2884320"/>
              <a:chExt cx="990720" cy="777600"/>
            </a:xfrm>
          </p:grpSpPr>
          <p:sp>
            <p:nvSpPr>
              <p:cNvPr id="3945" name=""/>
              <p:cNvSpPr/>
              <p:nvPr/>
            </p:nvSpPr>
            <p:spPr>
              <a:xfrm>
                <a:off x="2675880" y="3057480"/>
                <a:ext cx="904320" cy="546120"/>
              </a:xfrm>
              <a:prstGeom prst="parallelogram">
                <a:avLst>
                  <a:gd name="adj" fmla="val 4139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 flipH="1">
                <a:off x="2622240" y="2897280"/>
                <a:ext cx="312840" cy="76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 flipH="1">
                <a:off x="3299040" y="2884320"/>
                <a:ext cx="313920" cy="76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8" name=""/>
            <p:cNvSpPr/>
            <p:nvPr/>
          </p:nvSpPr>
          <p:spPr>
            <a:xfrm>
              <a:off x="3639960" y="3013200"/>
              <a:ext cx="150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5159520" y="2827440"/>
              <a:ext cx="0" cy="695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6496560" y="2771640"/>
              <a:ext cx="187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fr-FR" sz="2800" spc="-1" strike="noStrike" baseline="30000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(x,y,z) = 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1" name=""/>
          <p:cNvGrpSpPr/>
          <p:nvPr/>
        </p:nvGrpSpPr>
        <p:grpSpPr>
          <a:xfrm>
            <a:off x="424800" y="3738600"/>
            <a:ext cx="8460720" cy="1096200"/>
            <a:chOff x="424800" y="3738600"/>
            <a:chExt cx="8460720" cy="1096200"/>
          </a:xfrm>
        </p:grpSpPr>
        <p:sp>
          <p:nvSpPr>
            <p:cNvPr id="3952" name=""/>
            <p:cNvSpPr/>
            <p:nvPr/>
          </p:nvSpPr>
          <p:spPr>
            <a:xfrm>
              <a:off x="491040" y="4281480"/>
              <a:ext cx="27561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V = A.exp(2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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t – </a:t>
              </a:r>
              <a:r>
                <a:rPr b="1" lang="fr-FR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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3718080" y="3768840"/>
              <a:ext cx="3088440" cy="5205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ans le vide</a:t>
              </a: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= 2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. r/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3654360" y="4375080"/>
              <a:ext cx="523116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ans un milieu d'indice "n",  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= 2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. n.r/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424800" y="3738600"/>
              <a:ext cx="24238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phase de l'onde   </a:t>
              </a:r>
              <a:r>
                <a:rPr b="1" lang="fr-FR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6" name=""/>
          <p:cNvGrpSpPr/>
          <p:nvPr/>
        </p:nvGrpSpPr>
        <p:grpSpPr>
          <a:xfrm>
            <a:off x="313560" y="5241960"/>
            <a:ext cx="8199360" cy="1063440"/>
            <a:chOff x="313560" y="5241960"/>
            <a:chExt cx="8199360" cy="1063440"/>
          </a:xfrm>
        </p:grpSpPr>
        <p:sp>
          <p:nvSpPr>
            <p:cNvPr id="3957" name=""/>
            <p:cNvSpPr/>
            <p:nvPr/>
          </p:nvSpPr>
          <p:spPr>
            <a:xfrm>
              <a:off x="313560" y="5241960"/>
              <a:ext cx="759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forme du front d'onde est donnée par "n.r", chemin opt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416520" y="5784840"/>
              <a:ext cx="809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les fronts d'onde sont des surfaces "équiphase"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7196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uite illustration :  front d'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236160" y="2805120"/>
            <a:ext cx="510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surfaces onde plus ou moins "cabossée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560880" y="1222200"/>
            <a:ext cx="777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fluence du milieu traversé ( géométrie et indice de réfrac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2" name=""/>
          <p:cNvGrpSpPr/>
          <p:nvPr/>
        </p:nvGrpSpPr>
        <p:grpSpPr>
          <a:xfrm>
            <a:off x="1055520" y="2868480"/>
            <a:ext cx="3675600" cy="2144160"/>
            <a:chOff x="1055520" y="2868480"/>
            <a:chExt cx="3675600" cy="2144160"/>
          </a:xfrm>
        </p:grpSpPr>
        <p:sp>
          <p:nvSpPr>
            <p:cNvPr id="3963" name=""/>
            <p:cNvSpPr/>
            <p:nvPr/>
          </p:nvSpPr>
          <p:spPr>
            <a:xfrm>
              <a:off x="1083960" y="36669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1074600" y="3838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064880" y="40096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1055520" y="41810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1703160" y="3381480"/>
              <a:ext cx="0" cy="1009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517480" y="3676320"/>
              <a:ext cx="131292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 flipV="1">
              <a:off x="2489040" y="3901680"/>
              <a:ext cx="13428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177640" y="3527280"/>
              <a:ext cx="189000" cy="75348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50000">
                  <a:srgbClr val="ffffff"/>
                </a:gs>
                <a:gs pos="100000">
                  <a:srgbClr val="99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 flipH="1">
              <a:off x="2581920" y="2868480"/>
              <a:ext cx="2148840" cy="214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67" y="5424"/>
                  </a:moveTo>
                  <a:arcTo wR="10800" hR="10800" stAng="-1791105" swAng="35316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67" y="5424"/>
                  </a:moveTo>
                  <a:arcTo wR="10800" hR="10800" stAng="-1791105" swAng="3531607"/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598480" y="3843000"/>
              <a:ext cx="134316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 flipV="1">
              <a:off x="2607840" y="3952440"/>
              <a:ext cx="13575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4" name=""/>
          <p:cNvGrpSpPr/>
          <p:nvPr/>
        </p:nvGrpSpPr>
        <p:grpSpPr>
          <a:xfrm>
            <a:off x="5186520" y="3359160"/>
            <a:ext cx="2736720" cy="1009800"/>
            <a:chOff x="5186520" y="3359160"/>
            <a:chExt cx="2736720" cy="1009800"/>
          </a:xfrm>
        </p:grpSpPr>
        <p:sp>
          <p:nvSpPr>
            <p:cNvPr id="3975" name=""/>
            <p:cNvSpPr/>
            <p:nvPr/>
          </p:nvSpPr>
          <p:spPr>
            <a:xfrm>
              <a:off x="5214960" y="36450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5205600" y="38163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5195880" y="39877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5186520" y="41594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5834160" y="3359160"/>
              <a:ext cx="0" cy="1009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6834240" y="3654360"/>
              <a:ext cx="99396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 flipV="1">
              <a:off x="6805800" y="4009680"/>
              <a:ext cx="96516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6680520" y="3505320"/>
              <a:ext cx="188640" cy="75384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50000">
                  <a:srgbClr val="ffffff"/>
                </a:gs>
                <a:gs pos="100000">
                  <a:srgbClr val="99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6357960" y="3360600"/>
              <a:ext cx="287640" cy="1000440"/>
            </a:xfrm>
            <a:custGeom>
              <a:avLst/>
              <a:gdLst/>
              <a:ahLst/>
              <a:rect l="l" t="t" r="r" b="b"/>
              <a:pathLst>
                <a:path w="501" h="1161">
                  <a:moveTo>
                    <a:pt x="218" y="123"/>
                  </a:moveTo>
                  <a:cubicBezTo>
                    <a:pt x="274" y="178"/>
                    <a:pt x="467" y="258"/>
                    <a:pt x="484" y="343"/>
                  </a:cubicBezTo>
                  <a:cubicBezTo>
                    <a:pt x="501" y="428"/>
                    <a:pt x="328" y="556"/>
                    <a:pt x="319" y="635"/>
                  </a:cubicBezTo>
                  <a:cubicBezTo>
                    <a:pt x="310" y="714"/>
                    <a:pt x="412" y="765"/>
                    <a:pt x="429" y="818"/>
                  </a:cubicBezTo>
                  <a:cubicBezTo>
                    <a:pt x="446" y="871"/>
                    <a:pt x="441" y="900"/>
                    <a:pt x="420" y="955"/>
                  </a:cubicBezTo>
                  <a:cubicBezTo>
                    <a:pt x="399" y="1010"/>
                    <a:pt x="339" y="1133"/>
                    <a:pt x="301" y="1147"/>
                  </a:cubicBezTo>
                  <a:cubicBezTo>
                    <a:pt x="263" y="1161"/>
                    <a:pt x="199" y="1064"/>
                    <a:pt x="191" y="1038"/>
                  </a:cubicBezTo>
                  <a:cubicBezTo>
                    <a:pt x="183" y="1012"/>
                    <a:pt x="269" y="1029"/>
                    <a:pt x="255" y="992"/>
                  </a:cubicBezTo>
                  <a:cubicBezTo>
                    <a:pt x="241" y="955"/>
                    <a:pt x="120" y="868"/>
                    <a:pt x="109" y="818"/>
                  </a:cubicBezTo>
                  <a:cubicBezTo>
                    <a:pt x="98" y="768"/>
                    <a:pt x="196" y="742"/>
                    <a:pt x="191" y="690"/>
                  </a:cubicBezTo>
                  <a:cubicBezTo>
                    <a:pt x="186" y="638"/>
                    <a:pt x="82" y="559"/>
                    <a:pt x="81" y="507"/>
                  </a:cubicBezTo>
                  <a:cubicBezTo>
                    <a:pt x="80" y="455"/>
                    <a:pt x="173" y="409"/>
                    <a:pt x="182" y="379"/>
                  </a:cubicBezTo>
                  <a:cubicBezTo>
                    <a:pt x="191" y="349"/>
                    <a:pt x="165" y="352"/>
                    <a:pt x="136" y="325"/>
                  </a:cubicBezTo>
                  <a:cubicBezTo>
                    <a:pt x="107" y="298"/>
                    <a:pt x="16" y="261"/>
                    <a:pt x="8" y="215"/>
                  </a:cubicBezTo>
                  <a:cubicBezTo>
                    <a:pt x="0" y="169"/>
                    <a:pt x="67" y="84"/>
                    <a:pt x="90" y="50"/>
                  </a:cubicBezTo>
                  <a:cubicBezTo>
                    <a:pt x="113" y="16"/>
                    <a:pt x="125" y="0"/>
                    <a:pt x="145" y="14"/>
                  </a:cubicBezTo>
                  <a:cubicBezTo>
                    <a:pt x="165" y="28"/>
                    <a:pt x="162" y="68"/>
                    <a:pt x="218" y="123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6986880" y="3807000"/>
              <a:ext cx="906480" cy="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 flipV="1">
              <a:off x="6944040" y="3944880"/>
              <a:ext cx="97920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6981840" y="3651120"/>
              <a:ext cx="92088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 flipH="1">
              <a:off x="7043040" y="3541680"/>
              <a:ext cx="150840" cy="682560"/>
            </a:xfrm>
            <a:custGeom>
              <a:avLst/>
              <a:gdLst/>
              <a:ahLst/>
              <a:rect l="l" t="t" r="r" b="b"/>
              <a:pathLst>
                <a:path w="95" h="430">
                  <a:moveTo>
                    <a:pt x="44" y="0"/>
                  </a:moveTo>
                  <a:cubicBezTo>
                    <a:pt x="52" y="15"/>
                    <a:pt x="95" y="62"/>
                    <a:pt x="89" y="92"/>
                  </a:cubicBezTo>
                  <a:cubicBezTo>
                    <a:pt x="83" y="122"/>
                    <a:pt x="14" y="159"/>
                    <a:pt x="7" y="183"/>
                  </a:cubicBezTo>
                  <a:cubicBezTo>
                    <a:pt x="0" y="207"/>
                    <a:pt x="44" y="218"/>
                    <a:pt x="44" y="238"/>
                  </a:cubicBezTo>
                  <a:cubicBezTo>
                    <a:pt x="44" y="258"/>
                    <a:pt x="4" y="270"/>
                    <a:pt x="7" y="302"/>
                  </a:cubicBezTo>
                  <a:cubicBezTo>
                    <a:pt x="10" y="334"/>
                    <a:pt x="51" y="403"/>
                    <a:pt x="62" y="43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8" name=""/>
          <p:cNvSpPr/>
          <p:nvPr/>
        </p:nvSpPr>
        <p:spPr>
          <a:xfrm>
            <a:off x="1455840" y="449892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4925520" y="444816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mage aber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665280" y="5126040"/>
            <a:ext cx="7806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amplitude complexe, et en particulier r(x,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ermet de vehiculer dans les calculs  la forme du front d'onde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surtout ses écarts par rapport  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e surface d'onde idéale : plane ou sphé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ce qui gouverne les aberrations et la qualité de l'im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1" name=""/>
          <p:cNvGrpSpPr/>
          <p:nvPr/>
        </p:nvGrpSpPr>
        <p:grpSpPr>
          <a:xfrm>
            <a:off x="363600" y="1650960"/>
            <a:ext cx="2743200" cy="1009800"/>
            <a:chOff x="363600" y="1650960"/>
            <a:chExt cx="2743200" cy="1009800"/>
          </a:xfrm>
        </p:grpSpPr>
        <p:grpSp>
          <p:nvGrpSpPr>
            <p:cNvPr id="3992" name=""/>
            <p:cNvGrpSpPr/>
            <p:nvPr/>
          </p:nvGrpSpPr>
          <p:grpSpPr>
            <a:xfrm>
              <a:off x="363600" y="1650960"/>
              <a:ext cx="2743200" cy="1009800"/>
              <a:chOff x="363600" y="1650960"/>
              <a:chExt cx="2743200" cy="1009800"/>
            </a:xfrm>
          </p:grpSpPr>
          <p:sp>
            <p:nvSpPr>
              <p:cNvPr id="3993" name=""/>
              <p:cNvSpPr/>
              <p:nvPr/>
            </p:nvSpPr>
            <p:spPr>
              <a:xfrm>
                <a:off x="1495440" y="1708200"/>
                <a:ext cx="382680" cy="927000"/>
              </a:xfrm>
              <a:custGeom>
                <a:avLst/>
                <a:gdLst/>
                <a:ahLst/>
                <a:rect l="l" t="t" r="r" b="b"/>
                <a:pathLst>
                  <a:path w="241" h="584">
                    <a:moveTo>
                      <a:pt x="205" y="0"/>
                    </a:moveTo>
                    <a:lnTo>
                      <a:pt x="205" y="126"/>
                    </a:lnTo>
                    <a:lnTo>
                      <a:pt x="241" y="126"/>
                    </a:lnTo>
                    <a:lnTo>
                      <a:pt x="241" y="342"/>
                    </a:lnTo>
                    <a:lnTo>
                      <a:pt x="121" y="342"/>
                    </a:lnTo>
                    <a:lnTo>
                      <a:pt x="121" y="582"/>
                    </a:lnTo>
                    <a:lnTo>
                      <a:pt x="0" y="584"/>
                    </a:lnTo>
                    <a:lnTo>
                      <a:pt x="1" y="0"/>
                    </a:lnTo>
                    <a:lnTo>
                      <a:pt x="205" y="0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392040" y="193680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382680" y="210816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372960" y="227952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363600" y="245124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1011240" y="1650960"/>
                <a:ext cx="0" cy="10098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2039760" y="1946160"/>
                <a:ext cx="10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2030400" y="211788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2021040" y="228924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2011320" y="246060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2382840" y="1679400"/>
                <a:ext cx="142920" cy="962280"/>
              </a:xfrm>
              <a:custGeom>
                <a:avLst/>
                <a:gdLst/>
                <a:ahLst/>
                <a:rect l="l" t="t" r="r" b="b"/>
                <a:pathLst>
                  <a:path w="90" h="606">
                    <a:moveTo>
                      <a:pt x="36" y="0"/>
                    </a:moveTo>
                    <a:lnTo>
                      <a:pt x="36" y="126"/>
                    </a:lnTo>
                    <a:lnTo>
                      <a:pt x="0" y="126"/>
                    </a:lnTo>
                    <a:lnTo>
                      <a:pt x="0" y="366"/>
                    </a:lnTo>
                    <a:lnTo>
                      <a:pt x="90" y="366"/>
                    </a:lnTo>
                    <a:lnTo>
                      <a:pt x="90" y="606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4" name=""/>
            <p:cNvSpPr/>
            <p:nvPr/>
          </p:nvSpPr>
          <p:spPr>
            <a:xfrm>
              <a:off x="392040" y="19368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382680" y="21081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372960" y="22795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363600" y="24512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1011240" y="1650960"/>
              <a:ext cx="0" cy="1009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9" name=""/>
          <p:cNvGrpSpPr/>
          <p:nvPr/>
        </p:nvGrpSpPr>
        <p:grpSpPr>
          <a:xfrm>
            <a:off x="3970440" y="1527120"/>
            <a:ext cx="3477600" cy="1262880"/>
            <a:chOff x="3970440" y="1527120"/>
            <a:chExt cx="3477600" cy="1262880"/>
          </a:xfrm>
        </p:grpSpPr>
        <p:sp>
          <p:nvSpPr>
            <p:cNvPr id="4010" name=""/>
            <p:cNvSpPr/>
            <p:nvPr/>
          </p:nvSpPr>
          <p:spPr>
            <a:xfrm>
              <a:off x="5089680" y="1611360"/>
              <a:ext cx="493560" cy="3189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5089680" y="1935000"/>
              <a:ext cx="493560" cy="319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5089680" y="2244600"/>
              <a:ext cx="493560" cy="3193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3998880" y="18129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3989520" y="1984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3979800" y="21556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3970440" y="23274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4618080" y="1527120"/>
              <a:ext cx="0" cy="1009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5681520" y="18144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5672160" y="19861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5662440" y="21574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5653080" y="23288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5877000" y="1609560"/>
              <a:ext cx="257040" cy="952560"/>
            </a:xfrm>
            <a:custGeom>
              <a:avLst/>
              <a:gdLst/>
              <a:ahLst/>
              <a:rect l="l" t="t" r="r" b="b"/>
              <a:pathLst>
                <a:path w="162" h="600">
                  <a:moveTo>
                    <a:pt x="162" y="0"/>
                  </a:moveTo>
                  <a:lnTo>
                    <a:pt x="162" y="204"/>
                  </a:lnTo>
                  <a:lnTo>
                    <a:pt x="84" y="204"/>
                  </a:lnTo>
                  <a:lnTo>
                    <a:pt x="84" y="396"/>
                  </a:lnTo>
                  <a:lnTo>
                    <a:pt x="0" y="396"/>
                  </a:lnTo>
                  <a:lnTo>
                    <a:pt x="0" y="60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6350760" y="2384280"/>
              <a:ext cx="109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&lt;n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&lt;n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5142600" y="1565280"/>
              <a:ext cx="39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5164920" y="1860480"/>
              <a:ext cx="39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5184000" y="2174760"/>
              <a:ext cx="39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53384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raction, images et Four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5119560" y="223344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330480" y="1349280"/>
            <a:ext cx="8494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iffraction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distrib d'ampl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nergie = module carré ampl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mage = distrib energie  E(x,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eut aussi l'exprimer en nbre de 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as très frequ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a distribution d'ampl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s'exprime par une 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e que décrit l'optique de Fou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566200" cy="825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rphologie ???   quelques exemples  relatifs aux éto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51000" y="124452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68520" y="149868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51000" y="107784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757520" y="2379600"/>
            <a:ext cx="5333760" cy="4032360"/>
            <a:chOff x="1757520" y="2379600"/>
            <a:chExt cx="5333760" cy="40323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1757520" y="2379600"/>
              <a:ext cx="5333760" cy="40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891160" y="2442600"/>
              <a:ext cx="877680" cy="8816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57520" y="2442600"/>
              <a:ext cx="881640" cy="881640"/>
            </a:xfrm>
            <a:prstGeom prst="ellipse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025160" y="2379600"/>
              <a:ext cx="877320" cy="881280"/>
              <a:chOff x="4025160" y="2379600"/>
              <a:chExt cx="877320" cy="881280"/>
            </a:xfrm>
          </p:grpSpPr>
          <p:sp>
            <p:nvSpPr>
              <p:cNvPr id="154" name=""/>
              <p:cNvSpPr/>
              <p:nvPr/>
            </p:nvSpPr>
            <p:spPr>
              <a:xfrm>
                <a:off x="4025160" y="2379600"/>
                <a:ext cx="877320" cy="88128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4417920" y="2985120"/>
                <a:ext cx="326520" cy="155520"/>
                <a:chOff x="4417920" y="2985120"/>
                <a:chExt cx="326520" cy="1555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4417920" y="3024360"/>
                  <a:ext cx="78480" cy="90360"/>
                </a:xfrm>
                <a:custGeom>
                  <a:avLst/>
                  <a:gdLst/>
                  <a:ahLst/>
                  <a:rect l="l" t="t" r="r" b="b"/>
                  <a:pathLst>
                    <a:path w="48" h="55">
                      <a:moveTo>
                        <a:pt x="0" y="55"/>
                      </a:moveTo>
                      <a:lnTo>
                        <a:pt x="8" y="0"/>
                      </a:lnTo>
                      <a:lnTo>
                        <a:pt x="48" y="32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417920" y="3024360"/>
                  <a:ext cx="78480" cy="90360"/>
                </a:xfrm>
                <a:custGeom>
                  <a:avLst/>
                  <a:gdLst/>
                  <a:ahLst/>
                  <a:rect l="l" t="t" r="r" b="b"/>
                  <a:pathLst>
                    <a:path w="48" h="55">
                      <a:moveTo>
                        <a:pt x="0" y="55"/>
                      </a:moveTo>
                      <a:lnTo>
                        <a:pt x="8" y="0"/>
                      </a:lnTo>
                      <a:lnTo>
                        <a:pt x="48" y="32"/>
                      </a:lnTo>
                    </a:path>
                  </a:pathLst>
                </a:custGeom>
                <a:solidFill>
                  <a:srgbClr val="cc66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562280" y="3050640"/>
                  <a:ext cx="118080" cy="90000"/>
                </a:xfrm>
                <a:custGeom>
                  <a:avLst/>
                  <a:gdLst/>
                  <a:ahLst/>
                  <a:rect l="l" t="t" r="r" b="b"/>
                  <a:pathLst>
                    <a:path w="72" h="55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24" y="16"/>
                      </a:lnTo>
                      <a:lnTo>
                        <a:pt x="40" y="16"/>
                      </a:lnTo>
                      <a:lnTo>
                        <a:pt x="48" y="16"/>
                      </a:lnTo>
                      <a:lnTo>
                        <a:pt x="56" y="16"/>
                      </a:lnTo>
                      <a:lnTo>
                        <a:pt x="64" y="24"/>
                      </a:lnTo>
                      <a:lnTo>
                        <a:pt x="64" y="24"/>
                      </a:lnTo>
                      <a:lnTo>
                        <a:pt x="64" y="24"/>
                      </a:lnTo>
                      <a:lnTo>
                        <a:pt x="72" y="31"/>
                      </a:lnTo>
                      <a:lnTo>
                        <a:pt x="72" y="31"/>
                      </a:lnTo>
                      <a:lnTo>
                        <a:pt x="64" y="39"/>
                      </a:lnTo>
                      <a:lnTo>
                        <a:pt x="64" y="39"/>
                      </a:lnTo>
                      <a:lnTo>
                        <a:pt x="56" y="47"/>
                      </a:lnTo>
                      <a:lnTo>
                        <a:pt x="56" y="47"/>
                      </a:lnTo>
                      <a:lnTo>
                        <a:pt x="48" y="39"/>
                      </a:lnTo>
                      <a:lnTo>
                        <a:pt x="48" y="39"/>
                      </a:lnTo>
                      <a:lnTo>
                        <a:pt x="48" y="39"/>
                      </a:lnTo>
                      <a:lnTo>
                        <a:pt x="40" y="39"/>
                      </a:lnTo>
                      <a:lnTo>
                        <a:pt x="32" y="47"/>
                      </a:lnTo>
                      <a:lnTo>
                        <a:pt x="32" y="47"/>
                      </a:lnTo>
                      <a:lnTo>
                        <a:pt x="24" y="55"/>
                      </a:lnTo>
                      <a:lnTo>
                        <a:pt x="24" y="55"/>
                      </a:lnTo>
                      <a:lnTo>
                        <a:pt x="16" y="55"/>
                      </a:lnTo>
                      <a:lnTo>
                        <a:pt x="16" y="55"/>
                      </a:lnTo>
                      <a:lnTo>
                        <a:pt x="24" y="47"/>
                      </a:lnTo>
                      <a:lnTo>
                        <a:pt x="24" y="47"/>
                      </a:lnTo>
                      <a:lnTo>
                        <a:pt x="24" y="39"/>
                      </a:lnTo>
                      <a:lnTo>
                        <a:pt x="24" y="39"/>
                      </a:lnTo>
                      <a:lnTo>
                        <a:pt x="24" y="31"/>
                      </a:lnTo>
                      <a:lnTo>
                        <a:pt x="16" y="31"/>
                      </a:lnTo>
                      <a:lnTo>
                        <a:pt x="8" y="39"/>
                      </a:lnTo>
                      <a:lnTo>
                        <a:pt x="16" y="39"/>
                      </a:lnTo>
                      <a:lnTo>
                        <a:pt x="16" y="31"/>
                      </a:lnTo>
                      <a:lnTo>
                        <a:pt x="16" y="31"/>
                      </a:lnTo>
                      <a:lnTo>
                        <a:pt x="8" y="24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680360" y="2985120"/>
                  <a:ext cx="64080" cy="78840"/>
                </a:xfrm>
                <a:custGeom>
                  <a:avLst/>
                  <a:gdLst/>
                  <a:ahLst/>
                  <a:rect l="l" t="t" r="r" b="b"/>
                  <a:pathLst>
                    <a:path w="39" h="48">
                      <a:moveTo>
                        <a:pt x="0" y="40"/>
                      </a:move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15" y="40"/>
                      </a:lnTo>
                      <a:lnTo>
                        <a:pt x="15" y="40"/>
                      </a:lnTo>
                      <a:lnTo>
                        <a:pt x="15" y="40"/>
                      </a:lnTo>
                      <a:lnTo>
                        <a:pt x="23" y="40"/>
                      </a:lnTo>
                      <a:lnTo>
                        <a:pt x="31" y="40"/>
                      </a:lnTo>
                      <a:lnTo>
                        <a:pt x="31" y="40"/>
                      </a:lnTo>
                      <a:lnTo>
                        <a:pt x="39" y="32"/>
                      </a:lnTo>
                      <a:lnTo>
                        <a:pt x="39" y="32"/>
                      </a:lnTo>
                      <a:lnTo>
                        <a:pt x="39" y="24"/>
                      </a:lnTo>
                      <a:lnTo>
                        <a:pt x="39" y="16"/>
                      </a:lnTo>
                      <a:lnTo>
                        <a:pt x="39" y="16"/>
                      </a:lnTo>
                      <a:lnTo>
                        <a:pt x="31" y="16"/>
                      </a:lnTo>
                      <a:lnTo>
                        <a:pt x="31" y="16"/>
                      </a:lnTo>
                      <a:lnTo>
                        <a:pt x="31" y="16"/>
                      </a:lnTo>
                      <a:lnTo>
                        <a:pt x="31" y="16"/>
                      </a:lnTo>
                      <a:lnTo>
                        <a:pt x="23" y="16"/>
                      </a:lnTo>
                      <a:lnTo>
                        <a:pt x="23" y="16"/>
                      </a:lnTo>
                      <a:lnTo>
                        <a:pt x="23" y="8"/>
                      </a:lnTo>
                      <a:lnTo>
                        <a:pt x="15" y="0"/>
                      </a:lnTo>
                      <a:lnTo>
                        <a:pt x="7" y="8"/>
                      </a:lnTo>
                      <a:lnTo>
                        <a:pt x="15" y="8"/>
                      </a:lnTo>
                      <a:lnTo>
                        <a:pt x="15" y="8"/>
                      </a:lnTo>
                      <a:lnTo>
                        <a:pt x="15" y="16"/>
                      </a:lnTo>
                      <a:lnTo>
                        <a:pt x="15" y="24"/>
                      </a:lnTo>
                      <a:lnTo>
                        <a:pt x="15" y="24"/>
                      </a:lnTo>
                      <a:lnTo>
                        <a:pt x="7" y="24"/>
                      </a:lnTo>
                      <a:lnTo>
                        <a:pt x="7" y="24"/>
                      </a:lnTo>
                      <a:lnTo>
                        <a:pt x="7" y="24"/>
                      </a:lnTo>
                      <a:lnTo>
                        <a:pt x="7" y="24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680360" y="2985120"/>
                  <a:ext cx="64080" cy="78840"/>
                </a:xfrm>
                <a:custGeom>
                  <a:avLst/>
                  <a:gdLst/>
                  <a:ahLst/>
                  <a:rect l="l" t="t" r="r" b="b"/>
                  <a:pathLst>
                    <a:path w="39" h="48">
                      <a:moveTo>
                        <a:pt x="0" y="40"/>
                      </a:moveTo>
                      <a:lnTo>
                        <a:pt x="7" y="48"/>
                      </a:lnTo>
                      <a:lnTo>
                        <a:pt x="15" y="40"/>
                      </a:lnTo>
                      <a:lnTo>
                        <a:pt x="23" y="40"/>
                      </a:lnTo>
                      <a:lnTo>
                        <a:pt x="31" y="40"/>
                      </a:lnTo>
                      <a:lnTo>
                        <a:pt x="39" y="32"/>
                      </a:lnTo>
                      <a:lnTo>
                        <a:pt x="39" y="24"/>
                      </a:lnTo>
                      <a:lnTo>
                        <a:pt x="39" y="16"/>
                      </a:lnTo>
                      <a:lnTo>
                        <a:pt x="31" y="16"/>
                      </a:lnTo>
                      <a:lnTo>
                        <a:pt x="23" y="16"/>
                      </a:lnTo>
                      <a:lnTo>
                        <a:pt x="23" y="8"/>
                      </a:lnTo>
                      <a:lnTo>
                        <a:pt x="15" y="0"/>
                      </a:lnTo>
                      <a:lnTo>
                        <a:pt x="7" y="8"/>
                      </a:lnTo>
                      <a:lnTo>
                        <a:pt x="15" y="8"/>
                      </a:lnTo>
                      <a:lnTo>
                        <a:pt x="15" y="16"/>
                      </a:lnTo>
                      <a:lnTo>
                        <a:pt x="15" y="24"/>
                      </a:lnTo>
                      <a:lnTo>
                        <a:pt x="7" y="24"/>
                      </a:lnTo>
                      <a:lnTo>
                        <a:pt x="7" y="32"/>
                      </a:lnTo>
                      <a:lnTo>
                        <a:pt x="0" y="32"/>
                      </a:lnTo>
                    </a:path>
                  </a:pathLst>
                </a:custGeom>
                <a:solidFill>
                  <a:srgbClr val="cc66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" name=""/>
              <p:cNvSpPr/>
              <p:nvPr/>
            </p:nvSpPr>
            <p:spPr>
              <a:xfrm>
                <a:off x="4116960" y="2820960"/>
                <a:ext cx="105120" cy="116280"/>
              </a:xfrm>
              <a:custGeom>
                <a:avLst/>
                <a:gdLst/>
                <a:ahLst/>
                <a:rect l="l" t="t" r="r" b="b"/>
                <a:pathLst>
                  <a:path w="64" h="71">
                    <a:moveTo>
                      <a:pt x="8" y="0"/>
                    </a:moveTo>
                    <a:lnTo>
                      <a:pt x="16" y="8"/>
                    </a:lnTo>
                    <a:lnTo>
                      <a:pt x="24" y="16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40" y="23"/>
                    </a:lnTo>
                    <a:lnTo>
                      <a:pt x="48" y="23"/>
                    </a:lnTo>
                    <a:lnTo>
                      <a:pt x="64" y="31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47"/>
                    </a:lnTo>
                    <a:lnTo>
                      <a:pt x="64" y="55"/>
                    </a:lnTo>
                    <a:lnTo>
                      <a:pt x="64" y="55"/>
                    </a:lnTo>
                    <a:lnTo>
                      <a:pt x="56" y="55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55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71"/>
                    </a:lnTo>
                    <a:lnTo>
                      <a:pt x="40" y="55"/>
                    </a:lnTo>
                    <a:lnTo>
                      <a:pt x="40" y="55"/>
                    </a:lnTo>
                    <a:lnTo>
                      <a:pt x="48" y="39"/>
                    </a:lnTo>
                    <a:lnTo>
                      <a:pt x="48" y="39"/>
                    </a:lnTo>
                    <a:lnTo>
                      <a:pt x="48" y="39"/>
                    </a:lnTo>
                    <a:lnTo>
                      <a:pt x="32" y="39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16" y="39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0" y="23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116960" y="2820960"/>
                <a:ext cx="105120" cy="116280"/>
              </a:xfrm>
              <a:custGeom>
                <a:avLst/>
                <a:gdLst/>
                <a:ahLst/>
                <a:rect l="l" t="t" r="r" b="b"/>
                <a:pathLst>
                  <a:path w="64" h="71">
                    <a:moveTo>
                      <a:pt x="8" y="0"/>
                    </a:moveTo>
                    <a:lnTo>
                      <a:pt x="16" y="8"/>
                    </a:lnTo>
                    <a:lnTo>
                      <a:pt x="24" y="16"/>
                    </a:lnTo>
                    <a:lnTo>
                      <a:pt x="32" y="23"/>
                    </a:lnTo>
                    <a:lnTo>
                      <a:pt x="40" y="23"/>
                    </a:lnTo>
                    <a:lnTo>
                      <a:pt x="48" y="23"/>
                    </a:lnTo>
                    <a:lnTo>
                      <a:pt x="64" y="31"/>
                    </a:lnTo>
                    <a:lnTo>
                      <a:pt x="64" y="39"/>
                    </a:lnTo>
                    <a:lnTo>
                      <a:pt x="64" y="47"/>
                    </a:lnTo>
                    <a:lnTo>
                      <a:pt x="64" y="55"/>
                    </a:lnTo>
                    <a:lnTo>
                      <a:pt x="56" y="55"/>
                    </a:lnTo>
                    <a:lnTo>
                      <a:pt x="48" y="63"/>
                    </a:lnTo>
                    <a:lnTo>
                      <a:pt x="48" y="55"/>
                    </a:lnTo>
                    <a:lnTo>
                      <a:pt x="40" y="63"/>
                    </a:lnTo>
                    <a:lnTo>
                      <a:pt x="40" y="71"/>
                    </a:lnTo>
                    <a:lnTo>
                      <a:pt x="40" y="55"/>
                    </a:lnTo>
                    <a:lnTo>
                      <a:pt x="48" y="39"/>
                    </a:lnTo>
                    <a:lnTo>
                      <a:pt x="32" y="39"/>
                    </a:lnTo>
                    <a:lnTo>
                      <a:pt x="24" y="47"/>
                    </a:lnTo>
                    <a:lnTo>
                      <a:pt x="16" y="55"/>
                    </a:lnTo>
                    <a:lnTo>
                      <a:pt x="8" y="55"/>
                    </a:lnTo>
                    <a:lnTo>
                      <a:pt x="8" y="47"/>
                    </a:lnTo>
                    <a:lnTo>
                      <a:pt x="16" y="39"/>
                    </a:lnTo>
                    <a:lnTo>
                      <a:pt x="16" y="31"/>
                    </a:lnTo>
                    <a:lnTo>
                      <a:pt x="16" y="23"/>
                    </a:lnTo>
                    <a:lnTo>
                      <a:pt x="8" y="23"/>
                    </a:lnTo>
                    <a:lnTo>
                      <a:pt x="0" y="23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cc66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" name=""/>
          <p:cNvSpPr/>
          <p:nvPr/>
        </p:nvSpPr>
        <p:spPr>
          <a:xfrm>
            <a:off x="368640" y="212868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s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unifor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2680" y="174636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s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assomb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66000" y="2287440"/>
            <a:ext cx="94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bin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9720" y="1709640"/>
            <a:ext cx="180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motif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hotosphér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0000" y="343692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co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0560" y="360216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symbio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10920" y="52992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mi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77800" y="4224240"/>
            <a:ext cx="127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sques  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envelop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3300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780840" y="2750760"/>
            <a:ext cx="7016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omic Sans MS"/>
              </a:rPr>
              <a:t>attention : prise de tête  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51688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de Fourier_1    fond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213480" y="3363840"/>
            <a:ext cx="843624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principe de Huyghens Fresnel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haque point Q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'une distribution  d'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émet une onde sphér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es ondes sphér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e sont pas forcément en phase   mais elles sont toutes synchrones 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urs différences de phase se conservent au cours du tem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257040" y="1231920"/>
            <a:ext cx="8431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amplitude complex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 cours de la propagation la phase aug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roportionnellement au trajet parcou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la phase vieilli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vecteur champ dessine une hél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4" name=""/>
          <p:cNvGrpSpPr/>
          <p:nvPr/>
        </p:nvGrpSpPr>
        <p:grpSpPr>
          <a:xfrm>
            <a:off x="5964120" y="880920"/>
            <a:ext cx="3138840" cy="2231640"/>
            <a:chOff x="5964120" y="880920"/>
            <a:chExt cx="3138840" cy="2231640"/>
          </a:xfrm>
        </p:grpSpPr>
        <p:sp>
          <p:nvSpPr>
            <p:cNvPr id="4035" name=""/>
            <p:cNvSpPr/>
            <p:nvPr/>
          </p:nvSpPr>
          <p:spPr>
            <a:xfrm>
              <a:off x="6068880" y="1960560"/>
              <a:ext cx="278136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6" name=""/>
            <p:cNvGrpSpPr/>
            <p:nvPr/>
          </p:nvGrpSpPr>
          <p:grpSpPr>
            <a:xfrm>
              <a:off x="6602400" y="1436400"/>
              <a:ext cx="1036440" cy="1191960"/>
              <a:chOff x="6602400" y="1436400"/>
              <a:chExt cx="1036440" cy="1191960"/>
            </a:xfrm>
          </p:grpSpPr>
          <p:sp>
            <p:nvSpPr>
              <p:cNvPr id="4037" name=""/>
              <p:cNvSpPr/>
              <p:nvPr/>
            </p:nvSpPr>
            <p:spPr>
              <a:xfrm flipV="1">
                <a:off x="6602400" y="1908000"/>
                <a:ext cx="1036440" cy="37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 flipV="1">
                <a:off x="6919920" y="1436400"/>
                <a:ext cx="0" cy="11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9" name=""/>
            <p:cNvSpPr/>
            <p:nvPr/>
          </p:nvSpPr>
          <p:spPr>
            <a:xfrm>
              <a:off x="6760800" y="880920"/>
              <a:ext cx="9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Re (</a:t>
              </a: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8222760" y="2627280"/>
              <a:ext cx="88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r(x,y,z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5964120" y="1552680"/>
              <a:ext cx="2428920" cy="1218960"/>
            </a:xfrm>
            <a:custGeom>
              <a:avLst/>
              <a:gdLst/>
              <a:ahLst/>
              <a:rect l="l" t="t" r="r" b="b"/>
              <a:pathLst>
                <a:path w="1530" h="768">
                  <a:moveTo>
                    <a:pt x="0" y="170"/>
                  </a:moveTo>
                  <a:cubicBezTo>
                    <a:pt x="19" y="148"/>
                    <a:pt x="70" y="59"/>
                    <a:pt x="115" y="34"/>
                  </a:cubicBezTo>
                  <a:cubicBezTo>
                    <a:pt x="160" y="10"/>
                    <a:pt x="219" y="0"/>
                    <a:pt x="274" y="23"/>
                  </a:cubicBezTo>
                  <a:cubicBezTo>
                    <a:pt x="328" y="46"/>
                    <a:pt x="404" y="105"/>
                    <a:pt x="443" y="172"/>
                  </a:cubicBezTo>
                  <a:cubicBezTo>
                    <a:pt x="483" y="239"/>
                    <a:pt x="514" y="354"/>
                    <a:pt x="511" y="423"/>
                  </a:cubicBezTo>
                  <a:cubicBezTo>
                    <a:pt x="507" y="491"/>
                    <a:pt x="457" y="563"/>
                    <a:pt x="422" y="586"/>
                  </a:cubicBezTo>
                  <a:cubicBezTo>
                    <a:pt x="388" y="608"/>
                    <a:pt x="334" y="584"/>
                    <a:pt x="301" y="558"/>
                  </a:cubicBezTo>
                  <a:cubicBezTo>
                    <a:pt x="268" y="532"/>
                    <a:pt x="218" y="492"/>
                    <a:pt x="226" y="430"/>
                  </a:cubicBezTo>
                  <a:cubicBezTo>
                    <a:pt x="234" y="368"/>
                    <a:pt x="296" y="239"/>
                    <a:pt x="348" y="185"/>
                  </a:cubicBezTo>
                  <a:cubicBezTo>
                    <a:pt x="400" y="132"/>
                    <a:pt x="480" y="120"/>
                    <a:pt x="538" y="111"/>
                  </a:cubicBezTo>
                  <a:cubicBezTo>
                    <a:pt x="597" y="102"/>
                    <a:pt x="649" y="103"/>
                    <a:pt x="700" y="131"/>
                  </a:cubicBezTo>
                  <a:cubicBezTo>
                    <a:pt x="752" y="159"/>
                    <a:pt x="819" y="216"/>
                    <a:pt x="849" y="280"/>
                  </a:cubicBezTo>
                  <a:cubicBezTo>
                    <a:pt x="880" y="345"/>
                    <a:pt x="895" y="454"/>
                    <a:pt x="884" y="517"/>
                  </a:cubicBezTo>
                  <a:cubicBezTo>
                    <a:pt x="872" y="580"/>
                    <a:pt x="821" y="640"/>
                    <a:pt x="782" y="660"/>
                  </a:cubicBezTo>
                  <a:cubicBezTo>
                    <a:pt x="743" y="679"/>
                    <a:pt x="669" y="679"/>
                    <a:pt x="646" y="633"/>
                  </a:cubicBezTo>
                  <a:cubicBezTo>
                    <a:pt x="623" y="587"/>
                    <a:pt x="607" y="454"/>
                    <a:pt x="646" y="383"/>
                  </a:cubicBezTo>
                  <a:cubicBezTo>
                    <a:pt x="686" y="311"/>
                    <a:pt x="806" y="231"/>
                    <a:pt x="884" y="206"/>
                  </a:cubicBezTo>
                  <a:cubicBezTo>
                    <a:pt x="961" y="181"/>
                    <a:pt x="1042" y="191"/>
                    <a:pt x="1107" y="233"/>
                  </a:cubicBezTo>
                  <a:cubicBezTo>
                    <a:pt x="1173" y="274"/>
                    <a:pt x="1251" y="393"/>
                    <a:pt x="1276" y="457"/>
                  </a:cubicBezTo>
                  <a:cubicBezTo>
                    <a:pt x="1302" y="520"/>
                    <a:pt x="1279" y="567"/>
                    <a:pt x="1260" y="617"/>
                  </a:cubicBezTo>
                  <a:cubicBezTo>
                    <a:pt x="1242" y="666"/>
                    <a:pt x="1202" y="737"/>
                    <a:pt x="1165" y="752"/>
                  </a:cubicBezTo>
                  <a:cubicBezTo>
                    <a:pt x="1128" y="768"/>
                    <a:pt x="1057" y="760"/>
                    <a:pt x="1037" y="712"/>
                  </a:cubicBezTo>
                  <a:cubicBezTo>
                    <a:pt x="1017" y="663"/>
                    <a:pt x="1007" y="531"/>
                    <a:pt x="1044" y="461"/>
                  </a:cubicBezTo>
                  <a:cubicBezTo>
                    <a:pt x="1080" y="391"/>
                    <a:pt x="1184" y="314"/>
                    <a:pt x="1253" y="291"/>
                  </a:cubicBezTo>
                  <a:cubicBezTo>
                    <a:pt x="1323" y="269"/>
                    <a:pt x="1418" y="299"/>
                    <a:pt x="1464" y="325"/>
                  </a:cubicBezTo>
                  <a:cubicBezTo>
                    <a:pt x="1510" y="351"/>
                    <a:pt x="1530" y="386"/>
                    <a:pt x="1528" y="444"/>
                  </a:cubicBezTo>
                  <a:cubicBezTo>
                    <a:pt x="1526" y="502"/>
                    <a:pt x="1470" y="625"/>
                    <a:pt x="1455" y="673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2" name=""/>
            <p:cNvGrpSpPr/>
            <p:nvPr/>
          </p:nvGrpSpPr>
          <p:grpSpPr>
            <a:xfrm>
              <a:off x="6879600" y="2427120"/>
              <a:ext cx="453240" cy="685440"/>
              <a:chOff x="6879600" y="2427120"/>
              <a:chExt cx="453240" cy="685440"/>
            </a:xfrm>
          </p:grpSpPr>
          <p:sp>
            <p:nvSpPr>
              <p:cNvPr id="4043" name=""/>
              <p:cNvSpPr/>
              <p:nvPr/>
            </p:nvSpPr>
            <p:spPr>
              <a:xfrm>
                <a:off x="6929640" y="2427120"/>
                <a:ext cx="0" cy="3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7332840" y="2513160"/>
                <a:ext cx="0" cy="38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6929640" y="2630520"/>
                <a:ext cx="393480" cy="10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6879600" y="2652840"/>
                <a:ext cx="40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7" name=""/>
            <p:cNvSpPr/>
            <p:nvPr/>
          </p:nvSpPr>
          <p:spPr>
            <a:xfrm>
              <a:off x="7428600" y="13525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Im (</a:t>
              </a: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 flipV="1">
              <a:off x="7781760" y="2172960"/>
              <a:ext cx="73836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7608600" y="2058480"/>
              <a:ext cx="492480" cy="65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694" y="1750"/>
                  </a:moveTo>
                  <a:arcTo wR="10800" hR="10800" stAng="-3415633" swAng="24334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6694" y="1750"/>
                  </a:moveTo>
                  <a:arcTo wR="10800" hR="10800" stAng="-3415633" swAng="2433430"/>
                </a:path>
              </a:pathLst>
            </a:cu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 flipV="1">
              <a:off x="7842240" y="1941480"/>
              <a:ext cx="262080" cy="44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1" name=""/>
          <p:cNvGrpSpPr/>
          <p:nvPr/>
        </p:nvGrpSpPr>
        <p:grpSpPr>
          <a:xfrm>
            <a:off x="4668840" y="2000160"/>
            <a:ext cx="1732320" cy="1773000"/>
            <a:chOff x="4668840" y="2000160"/>
            <a:chExt cx="1732320" cy="1773000"/>
          </a:xfrm>
        </p:grpSpPr>
        <p:sp>
          <p:nvSpPr>
            <p:cNvPr id="4052" name=""/>
            <p:cNvSpPr/>
            <p:nvPr/>
          </p:nvSpPr>
          <p:spPr>
            <a:xfrm>
              <a:off x="4849920" y="2394000"/>
              <a:ext cx="1150920" cy="115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 flipV="1">
              <a:off x="5427720" y="2147760"/>
              <a:ext cx="0" cy="162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5540760" y="2000160"/>
              <a:ext cx="42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5067360" y="2622960"/>
              <a:ext cx="720360" cy="71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26" y="994"/>
                  </a:moveTo>
                  <a:arcTo wR="10800" hR="10800" stAng="-3913569" swAng="3913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26" y="994"/>
                  </a:moveTo>
                  <a:arcTo wR="10800" hR="10800" stAng="-3913569" swAng="3913569"/>
                </a:path>
              </a:pathLst>
            </a:cu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 flipV="1">
              <a:off x="5427720" y="2454480"/>
              <a:ext cx="276120" cy="55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4668840" y="2976480"/>
              <a:ext cx="158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5714640" y="25830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ph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9" name=""/>
          <p:cNvGrpSpPr/>
          <p:nvPr/>
        </p:nvGrpSpPr>
        <p:grpSpPr>
          <a:xfrm>
            <a:off x="6141960" y="3278160"/>
            <a:ext cx="2895840" cy="1635840"/>
            <a:chOff x="6141960" y="3278160"/>
            <a:chExt cx="2895840" cy="1635840"/>
          </a:xfrm>
        </p:grpSpPr>
        <p:sp>
          <p:nvSpPr>
            <p:cNvPr id="4060" name=""/>
            <p:cNvSpPr/>
            <p:nvPr/>
          </p:nvSpPr>
          <p:spPr>
            <a:xfrm>
              <a:off x="6141960" y="4190760"/>
              <a:ext cx="283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 flipV="1">
              <a:off x="6985080" y="3508200"/>
              <a:ext cx="0" cy="11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6940440" y="3781080"/>
              <a:ext cx="88920" cy="889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6940440" y="3976560"/>
              <a:ext cx="88920" cy="889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6940440" y="4314600"/>
              <a:ext cx="88920" cy="889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8607600" y="3552480"/>
              <a:ext cx="88560" cy="8892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6" name=""/>
            <p:cNvGrpSpPr/>
            <p:nvPr/>
          </p:nvGrpSpPr>
          <p:grpSpPr>
            <a:xfrm>
              <a:off x="6456240" y="3344400"/>
              <a:ext cx="1050840" cy="1049040"/>
              <a:chOff x="6456240" y="3344400"/>
              <a:chExt cx="1050840" cy="1049040"/>
            </a:xfrm>
          </p:grpSpPr>
          <p:sp>
            <p:nvSpPr>
              <p:cNvPr id="4067" name=""/>
              <p:cNvSpPr/>
              <p:nvPr/>
            </p:nvSpPr>
            <p:spPr>
              <a:xfrm>
                <a:off x="6792840" y="3659040"/>
                <a:ext cx="37764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6710400" y="3569400"/>
                <a:ext cx="568080" cy="56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6621840" y="3475080"/>
                <a:ext cx="770760" cy="76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6456240" y="3344400"/>
                <a:ext cx="1050840" cy="1049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1" name=""/>
            <p:cNvGrpSpPr/>
            <p:nvPr/>
          </p:nvGrpSpPr>
          <p:grpSpPr>
            <a:xfrm>
              <a:off x="6437160" y="3528720"/>
              <a:ext cx="1050840" cy="1049040"/>
              <a:chOff x="6437160" y="3528720"/>
              <a:chExt cx="1050840" cy="1049040"/>
            </a:xfrm>
          </p:grpSpPr>
          <p:sp>
            <p:nvSpPr>
              <p:cNvPr id="4072" name=""/>
              <p:cNvSpPr/>
              <p:nvPr/>
            </p:nvSpPr>
            <p:spPr>
              <a:xfrm>
                <a:off x="6773760" y="3843360"/>
                <a:ext cx="37764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6691320" y="3753720"/>
                <a:ext cx="568080" cy="56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6602760" y="3659400"/>
                <a:ext cx="770760" cy="76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6437160" y="3528720"/>
                <a:ext cx="1050840" cy="1049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6" name=""/>
            <p:cNvGrpSpPr/>
            <p:nvPr/>
          </p:nvGrpSpPr>
          <p:grpSpPr>
            <a:xfrm>
              <a:off x="6456240" y="3864960"/>
              <a:ext cx="1050840" cy="1049040"/>
              <a:chOff x="6456240" y="3864960"/>
              <a:chExt cx="1050840" cy="1049040"/>
            </a:xfrm>
          </p:grpSpPr>
          <p:sp>
            <p:nvSpPr>
              <p:cNvPr id="4077" name=""/>
              <p:cNvSpPr/>
              <p:nvPr/>
            </p:nvSpPr>
            <p:spPr>
              <a:xfrm>
                <a:off x="6792840" y="4179600"/>
                <a:ext cx="37764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6710400" y="4089960"/>
                <a:ext cx="568080" cy="56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6621840" y="3995640"/>
                <a:ext cx="770760" cy="76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6456240" y="3864960"/>
                <a:ext cx="1050840" cy="1049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419" y="2266"/>
                    </a:moveTo>
                    <a:arcTo wR="10800" hR="10800" stAng="-3132248" swAng="5633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419" y="2266"/>
                    </a:moveTo>
                    <a:arcTo wR="10800" hR="10800" stAng="-3132248" swAng="5633189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1" name=""/>
            <p:cNvSpPr/>
            <p:nvPr/>
          </p:nvSpPr>
          <p:spPr>
            <a:xfrm flipV="1">
              <a:off x="6993000" y="3733560"/>
              <a:ext cx="1384200" cy="62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 flipV="1">
              <a:off x="6993000" y="3663720"/>
              <a:ext cx="144144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 flipV="1">
              <a:off x="6986520" y="3625560"/>
              <a:ext cx="149868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434280" y="4103640"/>
              <a:ext cx="52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423120" y="3444840"/>
              <a:ext cx="512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8672760" y="32781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7936200" y="3736800"/>
              <a:ext cx="41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7647120" y="3278160"/>
              <a:ext cx="401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9" name=""/>
          <p:cNvSpPr/>
          <p:nvPr/>
        </p:nvSpPr>
        <p:spPr>
          <a:xfrm>
            <a:off x="160200" y="5427720"/>
            <a:ext cx="9004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'onde reçue en un point P distant, est la somme de ces ondes sphér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addition des amplitudes complex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ont la phase porte le trajet parcouru de Q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à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55771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de Fourier_2 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345960" y="1104840"/>
            <a:ext cx="87980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Comic Sans MS"/>
              </a:rPr>
              <a:t>point clef         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(il exprime le principe de H-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naissant la 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distributio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'amplitude dans le plan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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je peux calculer la distribution d'amplitu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 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chaque point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u plan x,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2" name=""/>
          <p:cNvGrpSpPr/>
          <p:nvPr/>
        </p:nvGrpSpPr>
        <p:grpSpPr>
          <a:xfrm>
            <a:off x="6723000" y="401760"/>
            <a:ext cx="1000080" cy="812880"/>
            <a:chOff x="6723000" y="401760"/>
            <a:chExt cx="1000080" cy="812880"/>
          </a:xfrm>
        </p:grpSpPr>
        <p:sp>
          <p:nvSpPr>
            <p:cNvPr id="4093" name=""/>
            <p:cNvSpPr/>
            <p:nvPr/>
          </p:nvSpPr>
          <p:spPr>
            <a:xfrm>
              <a:off x="6723000" y="40176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6944040" y="6332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5" name=""/>
          <p:cNvGrpSpPr/>
          <p:nvPr/>
        </p:nvGrpSpPr>
        <p:grpSpPr>
          <a:xfrm>
            <a:off x="4761000" y="1855800"/>
            <a:ext cx="4167360" cy="2166480"/>
            <a:chOff x="4761000" y="1855800"/>
            <a:chExt cx="4167360" cy="2166480"/>
          </a:xfrm>
        </p:grpSpPr>
        <p:grpSp>
          <p:nvGrpSpPr>
            <p:cNvPr id="4096" name=""/>
            <p:cNvGrpSpPr/>
            <p:nvPr/>
          </p:nvGrpSpPr>
          <p:grpSpPr>
            <a:xfrm>
              <a:off x="7121520" y="2299680"/>
              <a:ext cx="1295280" cy="1722600"/>
              <a:chOff x="7121520" y="2299680"/>
              <a:chExt cx="1295280" cy="1722600"/>
            </a:xfrm>
          </p:grpSpPr>
          <p:sp>
            <p:nvSpPr>
              <p:cNvPr id="4097" name=""/>
              <p:cNvSpPr/>
              <p:nvPr/>
            </p:nvSpPr>
            <p:spPr>
              <a:xfrm flipH="1" rot="5400000">
                <a:off x="6907680" y="2513160"/>
                <a:ext cx="1722600" cy="1295280"/>
              </a:xfrm>
              <a:prstGeom prst="parallelogram">
                <a:avLst>
                  <a:gd name="adj" fmla="val 33248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 flipV="1">
                <a:off x="7173720" y="3120480"/>
                <a:ext cx="11559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 flipV="1">
                <a:off x="7796160" y="2562120"/>
                <a:ext cx="0" cy="10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0" name=""/>
            <p:cNvGrpSpPr/>
            <p:nvPr/>
          </p:nvGrpSpPr>
          <p:grpSpPr>
            <a:xfrm>
              <a:off x="4761000" y="1855800"/>
              <a:ext cx="4167360" cy="1824120"/>
              <a:chOff x="4761000" y="1855800"/>
              <a:chExt cx="4167360" cy="1824120"/>
            </a:xfrm>
          </p:grpSpPr>
          <p:sp>
            <p:nvSpPr>
              <p:cNvPr id="4101" name=""/>
              <p:cNvSpPr/>
              <p:nvPr/>
            </p:nvSpPr>
            <p:spPr>
              <a:xfrm flipH="1" rot="5400000">
                <a:off x="5117400" y="2069280"/>
                <a:ext cx="1722240" cy="1295280"/>
              </a:xfrm>
              <a:prstGeom prst="parallelogram">
                <a:avLst>
                  <a:gd name="adj" fmla="val 33241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4761000" y="2549520"/>
                <a:ext cx="3898800" cy="9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8628840" y="3278160"/>
                <a:ext cx="29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7795440" y="238896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8170560" y="30495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5978520" y="187308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6359400" y="2266920"/>
                <a:ext cx="33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7491240" y="3578040"/>
                <a:ext cx="101520" cy="101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5543280" y="2274840"/>
                <a:ext cx="857520" cy="974520"/>
              </a:xfrm>
              <a:custGeom>
                <a:avLst/>
                <a:gdLst/>
                <a:ahLst/>
                <a:rect l="l" t="t" r="r" b="b"/>
                <a:pathLst>
                  <a:path w="540" h="614">
                    <a:moveTo>
                      <a:pt x="139" y="125"/>
                    </a:moveTo>
                    <a:cubicBezTo>
                      <a:pt x="176" y="97"/>
                      <a:pt x="284" y="10"/>
                      <a:pt x="347" y="5"/>
                    </a:cubicBezTo>
                    <a:cubicBezTo>
                      <a:pt x="410" y="0"/>
                      <a:pt x="490" y="16"/>
                      <a:pt x="515" y="93"/>
                    </a:cubicBezTo>
                    <a:cubicBezTo>
                      <a:pt x="540" y="170"/>
                      <a:pt x="539" y="384"/>
                      <a:pt x="499" y="469"/>
                    </a:cubicBezTo>
                    <a:cubicBezTo>
                      <a:pt x="459" y="554"/>
                      <a:pt x="354" y="596"/>
                      <a:pt x="275" y="605"/>
                    </a:cubicBezTo>
                    <a:cubicBezTo>
                      <a:pt x="196" y="614"/>
                      <a:pt x="54" y="580"/>
                      <a:pt x="27" y="525"/>
                    </a:cubicBezTo>
                    <a:cubicBezTo>
                      <a:pt x="0" y="470"/>
                      <a:pt x="99" y="335"/>
                      <a:pt x="115" y="277"/>
                    </a:cubicBezTo>
                    <a:cubicBezTo>
                      <a:pt x="131" y="219"/>
                      <a:pt x="116" y="201"/>
                      <a:pt x="123" y="173"/>
                    </a:cubicBezTo>
                    <a:cubicBezTo>
                      <a:pt x="130" y="145"/>
                      <a:pt x="102" y="153"/>
                      <a:pt x="139" y="125"/>
                    </a:cubicBezTo>
                    <a:close/>
                  </a:path>
                </a:pathLst>
              </a:custGeom>
              <a:solidFill>
                <a:srgbClr val="ccec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10" name=""/>
              <p:cNvGrpSpPr/>
              <p:nvPr/>
            </p:nvGrpSpPr>
            <p:grpSpPr>
              <a:xfrm>
                <a:off x="5763960" y="2371680"/>
                <a:ext cx="1714680" cy="1244520"/>
                <a:chOff x="5763960" y="2371680"/>
                <a:chExt cx="1714680" cy="1244520"/>
              </a:xfrm>
            </p:grpSpPr>
            <p:sp>
              <p:nvSpPr>
                <p:cNvPr id="4111" name=""/>
                <p:cNvSpPr/>
                <p:nvPr/>
              </p:nvSpPr>
              <p:spPr>
                <a:xfrm>
                  <a:off x="6246720" y="2422440"/>
                  <a:ext cx="1231920" cy="1143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2" name=""/>
                <p:cNvSpPr/>
                <p:nvPr/>
              </p:nvSpPr>
              <p:spPr>
                <a:xfrm>
                  <a:off x="6081480" y="2663640"/>
                  <a:ext cx="1270080" cy="851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3" name=""/>
                <p:cNvSpPr/>
                <p:nvPr/>
              </p:nvSpPr>
              <p:spPr>
                <a:xfrm>
                  <a:off x="6119640" y="3070080"/>
                  <a:ext cx="133344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4" name=""/>
                <p:cNvSpPr/>
                <p:nvPr/>
              </p:nvSpPr>
              <p:spPr>
                <a:xfrm>
                  <a:off x="5827680" y="3095640"/>
                  <a:ext cx="1536480" cy="52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5" name=""/>
                <p:cNvSpPr/>
                <p:nvPr/>
              </p:nvSpPr>
              <p:spPr>
                <a:xfrm>
                  <a:off x="5891040" y="2676600"/>
                  <a:ext cx="1257480" cy="74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6" name=""/>
                <p:cNvGrpSpPr/>
                <p:nvPr/>
              </p:nvGrpSpPr>
              <p:grpSpPr>
                <a:xfrm>
                  <a:off x="5763960" y="2371680"/>
                  <a:ext cx="520920" cy="787320"/>
                  <a:chOff x="5763960" y="2371680"/>
                  <a:chExt cx="520920" cy="787320"/>
                </a:xfrm>
              </p:grpSpPr>
              <p:sp>
                <p:nvSpPr>
                  <p:cNvPr id="4117" name=""/>
                  <p:cNvSpPr/>
                  <p:nvPr/>
                </p:nvSpPr>
                <p:spPr>
                  <a:xfrm>
                    <a:off x="6183360" y="2371680"/>
                    <a:ext cx="101520" cy="10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8" name=""/>
                  <p:cNvSpPr/>
                  <p:nvPr/>
                </p:nvSpPr>
                <p:spPr>
                  <a:xfrm>
                    <a:off x="5840280" y="2816280"/>
                    <a:ext cx="101520" cy="10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9" name=""/>
                  <p:cNvSpPr/>
                  <p:nvPr/>
                </p:nvSpPr>
                <p:spPr>
                  <a:xfrm>
                    <a:off x="6018120" y="2587680"/>
                    <a:ext cx="101520" cy="10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0" name=""/>
                  <p:cNvSpPr/>
                  <p:nvPr/>
                </p:nvSpPr>
                <p:spPr>
                  <a:xfrm>
                    <a:off x="6056280" y="2994120"/>
                    <a:ext cx="101520" cy="10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1" name=""/>
                  <p:cNvSpPr/>
                  <p:nvPr/>
                </p:nvSpPr>
                <p:spPr>
                  <a:xfrm>
                    <a:off x="5763960" y="3057480"/>
                    <a:ext cx="101880" cy="10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2" name=""/>
                  <p:cNvSpPr/>
                  <p:nvPr/>
                </p:nvSpPr>
                <p:spPr>
                  <a:xfrm>
                    <a:off x="5852880" y="2612880"/>
                    <a:ext cx="101880" cy="10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23" name=""/>
              <p:cNvSpPr/>
              <p:nvPr/>
            </p:nvSpPr>
            <p:spPr>
              <a:xfrm flipV="1">
                <a:off x="5383080" y="2676600"/>
                <a:ext cx="115560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 flipV="1">
                <a:off x="6005520" y="2117520"/>
                <a:ext cx="0" cy="1028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25" name=""/>
          <p:cNvGrpSpPr/>
          <p:nvPr/>
        </p:nvGrpSpPr>
        <p:grpSpPr>
          <a:xfrm>
            <a:off x="369000" y="2830680"/>
            <a:ext cx="8581320" cy="3465360"/>
            <a:chOff x="369000" y="2830680"/>
            <a:chExt cx="8581320" cy="3465360"/>
          </a:xfrm>
        </p:grpSpPr>
        <p:grpSp>
          <p:nvGrpSpPr>
            <p:cNvPr id="4126" name=""/>
            <p:cNvGrpSpPr/>
            <p:nvPr/>
          </p:nvGrpSpPr>
          <p:grpSpPr>
            <a:xfrm>
              <a:off x="5792760" y="4307040"/>
              <a:ext cx="3157560" cy="1989000"/>
              <a:chOff x="5792760" y="4307040"/>
              <a:chExt cx="3157560" cy="1989000"/>
            </a:xfrm>
          </p:grpSpPr>
          <p:grpSp>
            <p:nvGrpSpPr>
              <p:cNvPr id="4127" name=""/>
              <p:cNvGrpSpPr/>
              <p:nvPr/>
            </p:nvGrpSpPr>
            <p:grpSpPr>
              <a:xfrm>
                <a:off x="6051600" y="5411880"/>
                <a:ext cx="2898720" cy="102600"/>
                <a:chOff x="6051600" y="5411880"/>
                <a:chExt cx="2898720" cy="102600"/>
              </a:xfrm>
            </p:grpSpPr>
            <p:sp>
              <p:nvSpPr>
                <p:cNvPr id="4128" name=""/>
                <p:cNvSpPr/>
                <p:nvPr/>
              </p:nvSpPr>
              <p:spPr>
                <a:xfrm>
                  <a:off x="8750520" y="5411880"/>
                  <a:ext cx="199800" cy="102600"/>
                </a:xfrm>
                <a:custGeom>
                  <a:avLst/>
                  <a:gdLst/>
                  <a:ahLst/>
                  <a:rect l="l" t="t" r="r" b="b"/>
                  <a:pathLst>
                    <a:path w="126" h="65">
                      <a:moveTo>
                        <a:pt x="126" y="33"/>
                      </a:moveTo>
                      <a:lnTo>
                        <a:pt x="0" y="65"/>
                      </a:lnTo>
                      <a:lnTo>
                        <a:pt x="0" y="33"/>
                      </a:lnTo>
                      <a:lnTo>
                        <a:pt x="0" y="0"/>
                      </a:lnTo>
                      <a:lnTo>
                        <a:pt x="126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9" name=""/>
                <p:cNvSpPr/>
                <p:nvPr/>
              </p:nvSpPr>
              <p:spPr>
                <a:xfrm>
                  <a:off x="6051600" y="5463360"/>
                  <a:ext cx="269892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0" name=""/>
              <p:cNvGrpSpPr/>
              <p:nvPr/>
            </p:nvGrpSpPr>
            <p:grpSpPr>
              <a:xfrm>
                <a:off x="8166240" y="4465440"/>
                <a:ext cx="100080" cy="1547640"/>
                <a:chOff x="8166240" y="4465440"/>
                <a:chExt cx="100080" cy="1547640"/>
              </a:xfrm>
            </p:grpSpPr>
            <p:sp>
              <p:nvSpPr>
                <p:cNvPr id="4131" name=""/>
                <p:cNvSpPr/>
                <p:nvPr/>
              </p:nvSpPr>
              <p:spPr>
                <a:xfrm>
                  <a:off x="8166240" y="4465440"/>
                  <a:ext cx="100080" cy="206280"/>
                </a:xfrm>
                <a:custGeom>
                  <a:avLst/>
                  <a:gdLst/>
                  <a:ahLst/>
                  <a:rect l="l" t="t" r="r" b="b"/>
                  <a:pathLst>
                    <a:path w="63" h="130">
                      <a:moveTo>
                        <a:pt x="32" y="0"/>
                      </a:moveTo>
                      <a:lnTo>
                        <a:pt x="63" y="130"/>
                      </a:lnTo>
                      <a:lnTo>
                        <a:pt x="32" y="130"/>
                      </a:lnTo>
                      <a:lnTo>
                        <a:pt x="0" y="13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2" name=""/>
                <p:cNvSpPr/>
                <p:nvPr/>
              </p:nvSpPr>
              <p:spPr>
                <a:xfrm flipV="1">
                  <a:off x="8217000" y="4671720"/>
                  <a:ext cx="1440" cy="1341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33" name=""/>
              <p:cNvSpPr/>
              <p:nvPr/>
            </p:nvSpPr>
            <p:spPr>
              <a:xfrm>
                <a:off x="8315280" y="4356000"/>
                <a:ext cx="366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Comic Sans MS"/>
                  </a:rPr>
                  <a:t>x,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8772840" y="5048280"/>
                <a:ext cx="150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6333840" y="4311720"/>
                <a:ext cx="412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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6151680" y="4913280"/>
                <a:ext cx="82440" cy="85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6150240" y="4911840"/>
                <a:ext cx="85680" cy="8856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8166240" y="5600520"/>
                <a:ext cx="100080" cy="85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8166240" y="5599080"/>
                <a:ext cx="101520" cy="88560"/>
              </a:xfrm>
              <a:prstGeom prst="ellipse">
                <a:avLst/>
              </a:prstGeom>
              <a:noFill/>
              <a:ln w="33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0" name=""/>
              <p:cNvGrpSpPr/>
              <p:nvPr/>
            </p:nvGrpSpPr>
            <p:grpSpPr>
              <a:xfrm>
                <a:off x="6234120" y="4964040"/>
                <a:ext cx="1898640" cy="653400"/>
                <a:chOff x="6234120" y="4964040"/>
                <a:chExt cx="1898640" cy="653400"/>
              </a:xfrm>
            </p:grpSpPr>
            <p:sp>
              <p:nvSpPr>
                <p:cNvPr id="4141" name=""/>
                <p:cNvSpPr/>
                <p:nvPr/>
              </p:nvSpPr>
              <p:spPr>
                <a:xfrm>
                  <a:off x="7934400" y="5497200"/>
                  <a:ext cx="198360" cy="120240"/>
                </a:xfrm>
                <a:custGeom>
                  <a:avLst/>
                  <a:gdLst/>
                  <a:ahLst/>
                  <a:rect l="l" t="t" r="r" b="b"/>
                  <a:pathLst>
                    <a:path w="125" h="76">
                      <a:moveTo>
                        <a:pt x="125" y="76"/>
                      </a:moveTo>
                      <a:lnTo>
                        <a:pt x="0" y="65"/>
                      </a:lnTo>
                      <a:lnTo>
                        <a:pt x="10" y="33"/>
                      </a:lnTo>
                      <a:lnTo>
                        <a:pt x="20" y="0"/>
                      </a:lnTo>
                      <a:lnTo>
                        <a:pt x="125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2" name=""/>
                <p:cNvSpPr/>
                <p:nvPr/>
              </p:nvSpPr>
              <p:spPr>
                <a:xfrm>
                  <a:off x="6234120" y="4964040"/>
                  <a:ext cx="1716120" cy="5839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3" name=""/>
              <p:cNvSpPr/>
              <p:nvPr/>
            </p:nvSpPr>
            <p:spPr>
              <a:xfrm>
                <a:off x="6771240" y="4816440"/>
                <a:ext cx="1379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Comic Sans MS"/>
                  </a:rPr>
                  <a:t>r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</a:t>
                </a:r>
                <a:r>
                  <a:rPr b="1" lang="fr-FR" sz="1600" spc="-1" strike="noStrike">
                    <a:solidFill>
                      <a:srgbClr val="000000"/>
                    </a:solidFill>
                    <a:latin typeface="Comic Sans MS"/>
                  </a:rPr>
                  <a:t>x,y 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4" name=""/>
              <p:cNvGrpSpPr/>
              <p:nvPr/>
            </p:nvGrpSpPr>
            <p:grpSpPr>
              <a:xfrm>
                <a:off x="6201000" y="5807160"/>
                <a:ext cx="1998720" cy="51840"/>
                <a:chOff x="6201000" y="5807160"/>
                <a:chExt cx="1998720" cy="51840"/>
              </a:xfrm>
            </p:grpSpPr>
            <p:sp>
              <p:nvSpPr>
                <p:cNvPr id="4145" name=""/>
                <p:cNvSpPr/>
                <p:nvPr/>
              </p:nvSpPr>
              <p:spPr>
                <a:xfrm>
                  <a:off x="6201000" y="5807160"/>
                  <a:ext cx="100080" cy="51840"/>
                </a:xfrm>
                <a:custGeom>
                  <a:avLst/>
                  <a:gdLst/>
                  <a:ahLst/>
                  <a:rect l="l" t="t" r="r" b="b"/>
                  <a:pathLst>
                    <a:path w="63" h="33">
                      <a:moveTo>
                        <a:pt x="0" y="11"/>
                      </a:moveTo>
                      <a:lnTo>
                        <a:pt x="63" y="0"/>
                      </a:lnTo>
                      <a:lnTo>
                        <a:pt x="63" y="11"/>
                      </a:lnTo>
                      <a:lnTo>
                        <a:pt x="63" y="3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6" name=""/>
                <p:cNvSpPr/>
                <p:nvPr/>
              </p:nvSpPr>
              <p:spPr>
                <a:xfrm>
                  <a:off x="8099640" y="5807160"/>
                  <a:ext cx="100080" cy="51840"/>
                </a:xfrm>
                <a:custGeom>
                  <a:avLst/>
                  <a:gdLst/>
                  <a:ahLst/>
                  <a:rect l="l" t="t" r="r" b="b"/>
                  <a:pathLst>
                    <a:path w="63" h="33">
                      <a:moveTo>
                        <a:pt x="63" y="11"/>
                      </a:moveTo>
                      <a:lnTo>
                        <a:pt x="0" y="33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6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7" name=""/>
                <p:cNvSpPr/>
                <p:nvPr/>
              </p:nvSpPr>
              <p:spPr>
                <a:xfrm>
                  <a:off x="6301080" y="5824080"/>
                  <a:ext cx="179856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8" name=""/>
              <p:cNvSpPr/>
              <p:nvPr/>
            </p:nvSpPr>
            <p:spPr>
              <a:xfrm>
                <a:off x="7162560" y="5560920"/>
                <a:ext cx="145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5846040" y="4871880"/>
                <a:ext cx="2901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8337240" y="5618160"/>
                <a:ext cx="185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 flipV="1">
                <a:off x="6208920" y="4501800"/>
                <a:ext cx="0" cy="149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5792760" y="4307040"/>
                <a:ext cx="565200" cy="1989000"/>
              </a:xfrm>
              <a:prstGeom prst="rect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7913880" y="5235480"/>
                <a:ext cx="639720" cy="767880"/>
              </a:xfrm>
              <a:prstGeom prst="rect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4" name=""/>
            <p:cNvGrpSpPr/>
            <p:nvPr/>
          </p:nvGrpSpPr>
          <p:grpSpPr>
            <a:xfrm>
              <a:off x="369000" y="2830680"/>
              <a:ext cx="5029920" cy="2157120"/>
              <a:chOff x="369000" y="2830680"/>
              <a:chExt cx="5029920" cy="2157120"/>
            </a:xfrm>
          </p:grpSpPr>
          <p:grpSp>
            <p:nvGrpSpPr>
              <p:cNvPr id="4155" name=""/>
              <p:cNvGrpSpPr/>
              <p:nvPr/>
            </p:nvGrpSpPr>
            <p:grpSpPr>
              <a:xfrm>
                <a:off x="384120" y="4219560"/>
                <a:ext cx="4560840" cy="768240"/>
                <a:chOff x="384120" y="4219560"/>
                <a:chExt cx="4560840" cy="7682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156" name=""/>
                    <p:cNvSpPr txBox="1"/>
                    <p:nvPr/>
                  </p:nvSpPr>
                  <p:spPr>
                    <a:xfrm>
                      <a:off x="465120" y="4265640"/>
                      <a:ext cx="4479840" cy="6825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ψ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</m:e>
                          </m:nary>
                          <m:r>
                            <m:t xml:space="preserve">ψ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chemin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157" name=""/>
                <p:cNvSpPr/>
                <p:nvPr/>
              </p:nvSpPr>
              <p:spPr>
                <a:xfrm>
                  <a:off x="1706400" y="4316400"/>
                  <a:ext cx="3208680" cy="638280"/>
                </a:xfrm>
                <a:prstGeom prst="rect">
                  <a:avLst/>
                </a:prstGeom>
                <a:noFill/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8" name=""/>
                <p:cNvSpPr/>
                <p:nvPr/>
              </p:nvSpPr>
              <p:spPr>
                <a:xfrm>
                  <a:off x="384120" y="4219560"/>
                  <a:ext cx="711360" cy="768240"/>
                </a:xfrm>
                <a:prstGeom prst="rect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9" name=""/>
              <p:cNvSpPr/>
              <p:nvPr/>
            </p:nvSpPr>
            <p:spPr>
              <a:xfrm>
                <a:off x="369000" y="2830680"/>
                <a:ext cx="5029920" cy="13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et comment je fais ça 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en sommant les amplitude reçues en 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chacune portant le chemin r qui dépend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des Q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n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(d'où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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et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) et de P (d'où x et y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60" name=""/>
          <p:cNvGrpSpPr/>
          <p:nvPr/>
        </p:nvGrpSpPr>
        <p:grpSpPr>
          <a:xfrm>
            <a:off x="246960" y="5164200"/>
            <a:ext cx="5039280" cy="1504800"/>
            <a:chOff x="246960" y="5164200"/>
            <a:chExt cx="5039280" cy="1504800"/>
          </a:xfrm>
        </p:grpSpPr>
        <p:grpSp>
          <p:nvGrpSpPr>
            <p:cNvPr id="4161" name=""/>
            <p:cNvGrpSpPr/>
            <p:nvPr/>
          </p:nvGrpSpPr>
          <p:grpSpPr>
            <a:xfrm>
              <a:off x="263520" y="5883480"/>
              <a:ext cx="5022720" cy="785520"/>
              <a:chOff x="263520" y="5883480"/>
              <a:chExt cx="5022720" cy="785520"/>
            </a:xfrm>
          </p:grpSpPr>
          <mc:AlternateContent>
            <mc:Choice xmlns:a14="http://schemas.microsoft.com/office/drawing/2010/main" Requires="a14">
              <p:sp>
                <p:nvSpPr>
                  <p:cNvPr id="4162" name=""/>
                  <p:cNvSpPr txBox="1"/>
                  <p:nvPr/>
                </p:nvSpPr>
                <p:spPr>
                  <a:xfrm>
                    <a:off x="263520" y="6125040"/>
                    <a:ext cx="5022720" cy="54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eqAr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</m:eqAr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dξ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η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63" name=""/>
              <p:cNvSpPr/>
              <p:nvPr/>
            </p:nvSpPr>
            <p:spPr>
              <a:xfrm>
                <a:off x="2242080" y="5883480"/>
                <a:ext cx="452520" cy="325800"/>
              </a:xfrm>
              <a:prstGeom prst="downArrow">
                <a:avLst>
                  <a:gd name="adj1" fmla="val 49676"/>
                  <a:gd name="adj2" fmla="val 43921"/>
                </a:avLst>
              </a:prstGeom>
              <a:gradFill rotWithShape="0">
                <a:gsLst>
                  <a:gs pos="0">
                    <a:srgbClr val="3399ff"/>
                  </a:gs>
                  <a:gs pos="100000">
                    <a:srgbClr val="3333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4" name=""/>
            <p:cNvSpPr/>
            <p:nvPr/>
          </p:nvSpPr>
          <p:spPr>
            <a:xfrm>
              <a:off x="246960" y="5164200"/>
              <a:ext cx="436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e qui, pour une distribu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ontinue en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et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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e traduit pa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272520" y="649440"/>
            <a:ext cx="6659640" cy="466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de Fourier_3    convolution et Fo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6" name=""/>
          <p:cNvGrpSpPr/>
          <p:nvPr/>
        </p:nvGrpSpPr>
        <p:grpSpPr>
          <a:xfrm>
            <a:off x="7027920" y="271440"/>
            <a:ext cx="1000080" cy="812880"/>
            <a:chOff x="7027920" y="271440"/>
            <a:chExt cx="1000080" cy="812880"/>
          </a:xfrm>
        </p:grpSpPr>
        <p:sp>
          <p:nvSpPr>
            <p:cNvPr id="4167" name=""/>
            <p:cNvSpPr/>
            <p:nvPr/>
          </p:nvSpPr>
          <p:spPr>
            <a:xfrm>
              <a:off x="7027920" y="2714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7248960" y="5029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9" name=""/>
          <p:cNvGrpSpPr/>
          <p:nvPr/>
        </p:nvGrpSpPr>
        <p:grpSpPr>
          <a:xfrm>
            <a:off x="316800" y="2733840"/>
            <a:ext cx="8827200" cy="1544400"/>
            <a:chOff x="316800" y="2733840"/>
            <a:chExt cx="8827200" cy="1544400"/>
          </a:xfrm>
        </p:grpSpPr>
        <p:sp>
          <p:nvSpPr>
            <p:cNvPr id="4170" name=""/>
            <p:cNvSpPr/>
            <p:nvPr/>
          </p:nvSpPr>
          <p:spPr>
            <a:xfrm>
              <a:off x="316800" y="2733840"/>
              <a:ext cx="588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horrible mais, architecture connue ou reconn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17680" y="3165480"/>
              <a:ext cx="862632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mplitude arrivée = coeff . [</a:t>
              </a: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000" spc="-1" strike="noStrike">
                  <a:solidFill>
                    <a:srgbClr val="ff3300"/>
                  </a:solidFill>
                  <a:latin typeface="Comic Sans MS"/>
                </a:rPr>
                <a:t>convolution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: amplitude départ </a:t>
              </a:r>
              <a:r>
                <a:rPr b="0" lang="fr-FR" sz="2800" spc="-1" strike="noStrike" baseline="-25000">
                  <a:solidFill>
                    <a:srgbClr val="000000"/>
                  </a:solidFill>
                  <a:latin typeface="Comic Sans MS"/>
                </a:rPr>
                <a:t>*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ropag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x,y)    </a:t>
              </a:r>
              <a:r>
                <a:rPr b="1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    [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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onvoluée avec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fonction de 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1" lang="fr-FR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t  de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</a:t>
              </a:r>
              <a:r>
                <a:rPr b="1" lang="fr-FR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2" name=""/>
          <p:cNvGrpSpPr/>
          <p:nvPr/>
        </p:nvGrpSpPr>
        <p:grpSpPr>
          <a:xfrm>
            <a:off x="516960" y="4241880"/>
            <a:ext cx="7718400" cy="2330280"/>
            <a:chOff x="516960" y="4241880"/>
            <a:chExt cx="7718400" cy="2330280"/>
          </a:xfrm>
        </p:grpSpPr>
        <p:sp>
          <p:nvSpPr>
            <p:cNvPr id="4173" name=""/>
            <p:cNvSpPr/>
            <p:nvPr/>
          </p:nvSpPr>
          <p:spPr>
            <a:xfrm>
              <a:off x="516960" y="4241880"/>
              <a:ext cx="771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t aussi, encore après algèbre, </a:t>
              </a:r>
              <a:r>
                <a:rPr b="1" lang="fr-FR" sz="2000" spc="-1" strike="noStrike">
                  <a:solidFill>
                    <a:srgbClr val="3333cc"/>
                  </a:solidFill>
                  <a:latin typeface="Comic Sans MS"/>
                </a:rPr>
                <a:t>autre architecture  reconnue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74" name=""/>
                <p:cNvSpPr txBox="1"/>
                <p:nvPr/>
              </p:nvSpPr>
              <p:spPr>
                <a:xfrm>
                  <a:off x="596880" y="4687920"/>
                  <a:ext cx="721044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∝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ξ</m:t>
                              </m:r>
                              <m:r>
                                <m:t xml:space="preserve">,</m:t>
                              </m:r>
                              <m:r>
                                <m:t xml:space="preserve">η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f>
                                    <m:num>
                                      <m:r>
                                        <m:t xml:space="preserve">π</m:t>
                                      </m:r>
                                    </m:num>
                                    <m:den>
                                      <m:r>
                                        <m:t xml:space="preserve">λ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d</m:t>
                                      </m:r>
                                    </m:den>
                                  </m:f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 </m:t>
                                  </m:r>
                                  <m:sSup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 </m:t>
                                  </m:r>
                                  <m:sSup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x</m:t>
                                  </m:r>
                                </m:num>
                                <m:den>
                                  <m:r>
                                    <m:t xml:space="preserve">d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f>
                                <m:num>
                                  <m:r>
                                    <m:t xml:space="preserve">ξ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r>
                                    <m:t xml:space="preserve">y</m:t>
                                  </m:r>
                                </m:num>
                                <m:den>
                                  <m:r>
                                    <m:t xml:space="preserve">d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f>
                                <m:num>
                                  <m:r>
                                    <m:t xml:space="preserve">η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ξ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η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5" name=""/>
                <p:cNvSpPr txBox="1"/>
                <p:nvPr/>
              </p:nvSpPr>
              <p:spPr>
                <a:xfrm>
                  <a:off x="720720" y="6064200"/>
                  <a:ext cx="702792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∝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ξ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η</m:t>
                              </m:r>
                              <m:r>
                                <m:t xml:space="preserve"> 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u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ξ</m:t>
                              </m:r>
                              <m:r>
                                <m:t xml:space="preserve"> </m:t>
                              </m:r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r>
                                <m:t xml:space="preserve">v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η</m:t>
                              </m:r>
                              <m:r>
                                <m:t xml:space="preserve"> 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ξ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η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4176" name=""/>
            <p:cNvSpPr/>
            <p:nvPr/>
          </p:nvSpPr>
          <p:spPr>
            <a:xfrm>
              <a:off x="732600" y="5530680"/>
              <a:ext cx="708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33cc"/>
                  </a:solidFill>
                  <a:latin typeface="Comic Sans MS"/>
                </a:rPr>
                <a:t>c'est du Fourier ! 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    (d'où le nom, bien sûr)   avec u,v = x,y /(</a:t>
              </a:r>
              <a:r>
                <a:rPr b="0" lang="fr-F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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7" name=""/>
          <p:cNvGrpSpPr/>
          <p:nvPr/>
        </p:nvGrpSpPr>
        <p:grpSpPr>
          <a:xfrm>
            <a:off x="7440480" y="538200"/>
            <a:ext cx="1000080" cy="812880"/>
            <a:chOff x="7440480" y="538200"/>
            <a:chExt cx="1000080" cy="812880"/>
          </a:xfrm>
        </p:grpSpPr>
        <p:sp>
          <p:nvSpPr>
            <p:cNvPr id="4178" name=""/>
            <p:cNvSpPr/>
            <p:nvPr/>
          </p:nvSpPr>
          <p:spPr>
            <a:xfrm>
              <a:off x="7440480" y="53820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7661520" y="76968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0" name=""/>
          <p:cNvGrpSpPr/>
          <p:nvPr/>
        </p:nvGrpSpPr>
        <p:grpSpPr>
          <a:xfrm>
            <a:off x="7883640" y="950760"/>
            <a:ext cx="1000080" cy="813240"/>
            <a:chOff x="7883640" y="950760"/>
            <a:chExt cx="1000080" cy="813240"/>
          </a:xfrm>
        </p:grpSpPr>
        <p:sp>
          <p:nvSpPr>
            <p:cNvPr id="4181" name=""/>
            <p:cNvSpPr/>
            <p:nvPr/>
          </p:nvSpPr>
          <p:spPr>
            <a:xfrm>
              <a:off x="7883640" y="95076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8104680" y="11826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3" name=""/>
          <p:cNvGrpSpPr/>
          <p:nvPr/>
        </p:nvGrpSpPr>
        <p:grpSpPr>
          <a:xfrm>
            <a:off x="168120" y="1170000"/>
            <a:ext cx="8239320" cy="1645560"/>
            <a:chOff x="168120" y="1170000"/>
            <a:chExt cx="8239320" cy="1645560"/>
          </a:xfrm>
        </p:grpSpPr>
        <p:sp>
          <p:nvSpPr>
            <p:cNvPr id="4184" name=""/>
            <p:cNvSpPr/>
            <p:nvPr/>
          </p:nvSpPr>
          <p:spPr>
            <a:xfrm>
              <a:off x="168120" y="1170000"/>
              <a:ext cx="8072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près approximations et algèbre 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(Fresnel, Pythagore, Kirchhoff-Helmholtz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5" name=""/>
            <p:cNvGrpSpPr/>
            <p:nvPr/>
          </p:nvGrpSpPr>
          <p:grpSpPr>
            <a:xfrm>
              <a:off x="228600" y="1673280"/>
              <a:ext cx="8178840" cy="1142280"/>
              <a:chOff x="228600" y="1673280"/>
              <a:chExt cx="8178840" cy="1142280"/>
            </a:xfrm>
          </p:grpSpPr>
          <p:grpSp>
            <p:nvGrpSpPr>
              <p:cNvPr id="4186" name=""/>
              <p:cNvGrpSpPr/>
              <p:nvPr/>
            </p:nvGrpSpPr>
            <p:grpSpPr>
              <a:xfrm>
                <a:off x="228600" y="1673280"/>
                <a:ext cx="8178840" cy="917640"/>
                <a:chOff x="228600" y="1673280"/>
                <a:chExt cx="8178840" cy="9176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187" name=""/>
                    <p:cNvSpPr txBox="1"/>
                    <p:nvPr/>
                  </p:nvSpPr>
                  <p:spPr>
                    <a:xfrm>
                      <a:off x="365040" y="1673280"/>
                      <a:ext cx="6840720" cy="895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π</m:t>
                                      </m:r>
                                    </m:num>
                                    <m:den>
                                      <m:r>
                                        <m:t xml:space="preserve">λ</m:t>
                                      </m:r>
                                    </m:den>
                                  </m:f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d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λ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d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ξ</m:t>
                              </m:r>
                              <m:r>
                                <m:t xml:space="preserve">,</m:t>
                              </m:r>
                              <m:r>
                                <m:t xml:space="preserve">η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π</m:t>
                                      </m:r>
                                    </m:num>
                                    <m:den>
                                      <m:r>
                                        <m:t xml:space="preserve">λ</m:t>
                                      </m:r>
                                    </m:den>
                                  </m:f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[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ξ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η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]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dξ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dη</m:t>
                              </m:r>
                            </m:e>
                          </m:nary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188" name=""/>
                <p:cNvSpPr/>
                <p:nvPr/>
              </p:nvSpPr>
              <p:spPr>
                <a:xfrm>
                  <a:off x="228600" y="1676520"/>
                  <a:ext cx="8178840" cy="91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89" name=""/>
              <p:cNvSpPr/>
              <p:nvPr/>
            </p:nvSpPr>
            <p:spPr>
              <a:xfrm>
                <a:off x="4909680" y="2478240"/>
                <a:ext cx="3044160" cy="337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horrible !  juste pour le friss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0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612936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au secours !!    ça veut dire quoi tout ça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527760" y="126216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ituation standard et simplifi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129960" y="4227480"/>
            <a:ext cx="810396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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= amplitude sortant du diaphrag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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= (amplitude incidente) x (transmission diaphragm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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= (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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 x (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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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mplitude dans le plan f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Symbol"/>
                <a:ea typeface="Symbol"/>
              </a:rPr>
              <a:t></a:t>
            </a:r>
            <a:r>
              <a:rPr b="1" lang="fr-FR" sz="24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fr-FR" sz="2400" spc="-1" strike="noStrike">
                <a:solidFill>
                  <a:srgbClr val="3333cc"/>
                </a:solidFill>
                <a:latin typeface="Symbol"/>
                <a:ea typeface="Symbol"/>
              </a:rPr>
              <a:t></a:t>
            </a:r>
            <a:r>
              <a:rPr b="1" lang="fr-FR" sz="2400" spc="-1" strike="noStrike">
                <a:solidFill>
                  <a:srgbClr val="3333cc"/>
                </a:solidFill>
                <a:latin typeface="Comic Sans MS"/>
              </a:rPr>
              <a:t>x,y</a:t>
            </a:r>
            <a:r>
              <a:rPr b="1" lang="fr-FR" sz="2400" spc="-1" strike="noStrike">
                <a:solidFill>
                  <a:srgbClr val="3333cc"/>
                </a:solidFill>
                <a:latin typeface="Symbol"/>
                <a:ea typeface="Symbol"/>
              </a:rPr>
              <a:t></a:t>
            </a:r>
            <a:r>
              <a:rPr b="1" lang="fr-FR" sz="2800" spc="-1" strike="noStrike">
                <a:solidFill>
                  <a:srgbClr val="3333cc"/>
                </a:solidFill>
                <a:latin typeface="Symbol"/>
                <a:ea typeface="Symbol"/>
              </a:rPr>
              <a:t></a:t>
            </a:r>
            <a:r>
              <a:rPr b="0" lang="fr-FR" sz="24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0" lang="fr-FR" sz="2400" spc="-1" strike="noStrike">
                <a:solidFill>
                  <a:srgbClr val="3333cc"/>
                </a:solidFill>
                <a:latin typeface="Comic Sans MS"/>
              </a:rPr>
              <a:t>TF  de A(</a:t>
            </a:r>
            <a:r>
              <a:rPr b="0" lang="fr-FR" sz="2400" spc="-1" strike="noStrike">
                <a:solidFill>
                  <a:srgbClr val="3333cc"/>
                </a:solidFill>
                <a:latin typeface="Symbol"/>
                <a:ea typeface="Symbol"/>
              </a:rPr>
              <a:t></a:t>
            </a:r>
            <a:r>
              <a:rPr b="0" lang="fr-FR" sz="2400" spc="-1" strike="noStrike">
                <a:solidFill>
                  <a:srgbClr val="3333cc"/>
                </a:solidFill>
                <a:latin typeface="Comic Sans MS"/>
              </a:rPr>
              <a:t>),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vec les variables u = x/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  et u = y/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3" name=""/>
          <p:cNvGrpSpPr/>
          <p:nvPr/>
        </p:nvGrpSpPr>
        <p:grpSpPr>
          <a:xfrm>
            <a:off x="7883640" y="950760"/>
            <a:ext cx="1000080" cy="813240"/>
            <a:chOff x="7883640" y="950760"/>
            <a:chExt cx="1000080" cy="813240"/>
          </a:xfrm>
        </p:grpSpPr>
        <p:sp>
          <p:nvSpPr>
            <p:cNvPr id="4194" name=""/>
            <p:cNvSpPr/>
            <p:nvPr/>
          </p:nvSpPr>
          <p:spPr>
            <a:xfrm>
              <a:off x="7883640" y="95076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8104680" y="11826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6" name=""/>
          <p:cNvGrpSpPr/>
          <p:nvPr/>
        </p:nvGrpSpPr>
        <p:grpSpPr>
          <a:xfrm>
            <a:off x="395280" y="1714680"/>
            <a:ext cx="8492040" cy="2391480"/>
            <a:chOff x="395280" y="1714680"/>
            <a:chExt cx="8492040" cy="2391480"/>
          </a:xfrm>
        </p:grpSpPr>
        <p:grpSp>
          <p:nvGrpSpPr>
            <p:cNvPr id="4197" name=""/>
            <p:cNvGrpSpPr/>
            <p:nvPr/>
          </p:nvGrpSpPr>
          <p:grpSpPr>
            <a:xfrm>
              <a:off x="395280" y="1714680"/>
              <a:ext cx="8492040" cy="2391480"/>
              <a:chOff x="395280" y="1714680"/>
              <a:chExt cx="8492040" cy="2391480"/>
            </a:xfrm>
          </p:grpSpPr>
          <p:sp>
            <p:nvSpPr>
              <p:cNvPr id="4198" name=""/>
              <p:cNvSpPr/>
              <p:nvPr/>
            </p:nvSpPr>
            <p:spPr>
              <a:xfrm>
                <a:off x="2266560" y="2522520"/>
                <a:ext cx="2877840" cy="741240"/>
              </a:xfrm>
              <a:custGeom>
                <a:avLst/>
                <a:gdLst/>
                <a:ahLst/>
                <a:rect l="l" t="t" r="r" b="b"/>
                <a:pathLst>
                  <a:path w="1813" h="467">
                    <a:moveTo>
                      <a:pt x="0" y="0"/>
                    </a:moveTo>
                    <a:lnTo>
                      <a:pt x="174" y="0"/>
                    </a:lnTo>
                    <a:lnTo>
                      <a:pt x="1813" y="221"/>
                    </a:lnTo>
                    <a:lnTo>
                      <a:pt x="174" y="467"/>
                    </a:lnTo>
                    <a:lnTo>
                      <a:pt x="55" y="467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395280" y="2233440"/>
                <a:ext cx="1741320" cy="12481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2122200" y="2208240"/>
                <a:ext cx="120240" cy="134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2339640" y="2170080"/>
                <a:ext cx="188640" cy="14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2122200" y="2519280"/>
                <a:ext cx="145800" cy="739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466560" y="2879640"/>
                <a:ext cx="608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1141200" y="3429000"/>
                <a:ext cx="1326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6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</a:t>
                </a:r>
                <a:r>
                  <a:rPr b="0" lang="fr-FR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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6563160" y="2490840"/>
                <a:ext cx="348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 flipV="1">
                <a:off x="5097240" y="1949400"/>
                <a:ext cx="0" cy="161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5112360" y="1832040"/>
                <a:ext cx="644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x,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 flipV="1">
                <a:off x="2533320" y="1901880"/>
                <a:ext cx="0" cy="19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2532960" y="1714680"/>
                <a:ext cx="659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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2528640" y="3611520"/>
                <a:ext cx="258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3803040" y="313992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2325240" y="1957320"/>
                <a:ext cx="0" cy="20750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5372280" y="3457440"/>
                <a:ext cx="351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</a:t>
                </a:r>
                <a:r>
                  <a:rPr b="1" lang="fr-FR" sz="3200" spc="-1" strike="noStrike" baseline="-25000">
                    <a:solidFill>
                      <a:srgbClr val="3333cc"/>
                    </a:solidFill>
                    <a:latin typeface="Comic Sans MS"/>
                  </a:rPr>
                  <a:t>F</a:t>
                </a:r>
                <a:r>
                  <a:rPr b="0" lang="fr-FR" sz="2800" spc="-1" strike="noStrike">
                    <a:solidFill>
                      <a:srgbClr val="3333cc"/>
                    </a:solidFill>
                    <a:latin typeface="Comic Sans MS"/>
                  </a:rPr>
                  <a:t>(x,y) = A (</a:t>
                </a:r>
                <a:r>
                  <a:rPr b="0" lang="fr-FR" sz="2000" spc="-1" strike="noStrike">
                    <a:solidFill>
                      <a:srgbClr val="3333cc"/>
                    </a:solidFill>
                    <a:latin typeface="Comic Sans MS"/>
                  </a:rPr>
                  <a:t>x/</a:t>
                </a:r>
                <a:r>
                  <a:rPr b="0" lang="fr-FR" sz="2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2000" spc="-1" strike="noStrike">
                    <a:solidFill>
                      <a:srgbClr val="3333cc"/>
                    </a:solidFill>
                    <a:latin typeface="Comic Sans MS"/>
                  </a:rPr>
                  <a:t>.F</a:t>
                </a:r>
                <a:r>
                  <a:rPr b="0" lang="fr-FR" sz="2800" spc="-1" strike="noStrike">
                    <a:solidFill>
                      <a:srgbClr val="3333cc"/>
                    </a:solidFill>
                    <a:latin typeface="Comic Sans MS"/>
                  </a:rPr>
                  <a:t>, </a:t>
                </a:r>
                <a:r>
                  <a:rPr b="0" lang="fr-FR" sz="2000" spc="-1" strike="noStrike">
                    <a:solidFill>
                      <a:srgbClr val="3333cc"/>
                    </a:solidFill>
                    <a:latin typeface="Comic Sans MS"/>
                  </a:rPr>
                  <a:t>x/</a:t>
                </a:r>
                <a:r>
                  <a:rPr b="0" lang="fr-FR" sz="2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2000" spc="-1" strike="noStrike">
                    <a:solidFill>
                      <a:srgbClr val="3333cc"/>
                    </a:solidFill>
                    <a:latin typeface="Comic Sans MS"/>
                  </a:rPr>
                  <a:t>.F</a:t>
                </a:r>
                <a:r>
                  <a:rPr b="0" lang="fr-FR" sz="2800" spc="-1" strike="noStrike">
                    <a:solidFill>
                      <a:srgbClr val="3333cc"/>
                    </a:solidFill>
                    <a:latin typeface="Comic Sans MS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 flipV="1">
                <a:off x="5125680" y="2276640"/>
                <a:ext cx="0" cy="1698480"/>
              </a:xfrm>
              <a:prstGeom prst="line">
                <a:avLst/>
              </a:prstGeom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5" name=""/>
            <p:cNvSpPr/>
            <p:nvPr/>
          </p:nvSpPr>
          <p:spPr>
            <a:xfrm>
              <a:off x="6840720" y="3389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50562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de Fourier _ illustration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365400" y="1425600"/>
            <a:ext cx="36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de plane incidente on-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8" name=""/>
          <p:cNvGrpSpPr/>
          <p:nvPr/>
        </p:nvGrpSpPr>
        <p:grpSpPr>
          <a:xfrm>
            <a:off x="7174080" y="284040"/>
            <a:ext cx="1000080" cy="813240"/>
            <a:chOff x="7174080" y="284040"/>
            <a:chExt cx="1000080" cy="813240"/>
          </a:xfrm>
        </p:grpSpPr>
        <p:sp>
          <p:nvSpPr>
            <p:cNvPr id="4219" name=""/>
            <p:cNvSpPr/>
            <p:nvPr/>
          </p:nvSpPr>
          <p:spPr>
            <a:xfrm>
              <a:off x="7174080" y="28404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7395120" y="51588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1" name=""/>
          <p:cNvGrpSpPr/>
          <p:nvPr/>
        </p:nvGrpSpPr>
        <p:grpSpPr>
          <a:xfrm>
            <a:off x="4797360" y="1249200"/>
            <a:ext cx="3567240" cy="1290960"/>
            <a:chOff x="4797360" y="1249200"/>
            <a:chExt cx="3567240" cy="1290960"/>
          </a:xfrm>
        </p:grpSpPr>
        <p:pic>
          <p:nvPicPr>
            <p:cNvPr id="4222" name="" descr=""/>
            <p:cNvPicPr/>
            <p:nvPr/>
          </p:nvPicPr>
          <p:blipFill>
            <a:blip r:embed="rId1"/>
            <a:stretch/>
          </p:blipFill>
          <p:spPr>
            <a:xfrm>
              <a:off x="4797360" y="1249200"/>
              <a:ext cx="3567240" cy="12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3" name=""/>
            <p:cNvSpPr/>
            <p:nvPr/>
          </p:nvSpPr>
          <p:spPr>
            <a:xfrm flipV="1">
              <a:off x="5037120" y="143820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5051520" y="164160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5051520" y="179388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5051520" y="194616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5051520" y="2098800"/>
              <a:ext cx="2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8" name=""/>
          <p:cNvSpPr/>
          <p:nvPr/>
        </p:nvSpPr>
        <p:spPr>
          <a:xfrm>
            <a:off x="2720160" y="181296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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9" name="" descr=""/>
          <p:cNvPicPr/>
          <p:nvPr/>
        </p:nvPicPr>
        <p:blipFill>
          <a:blip r:embed="rId2"/>
          <a:stretch/>
        </p:blipFill>
        <p:spPr>
          <a:xfrm>
            <a:off x="3960720" y="3659040"/>
            <a:ext cx="1046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230" name=""/>
          <p:cNvGrpSpPr/>
          <p:nvPr/>
        </p:nvGrpSpPr>
        <p:grpSpPr>
          <a:xfrm>
            <a:off x="504720" y="2743200"/>
            <a:ext cx="8369280" cy="2703240"/>
            <a:chOff x="504720" y="2743200"/>
            <a:chExt cx="8369280" cy="2703240"/>
          </a:xfrm>
        </p:grpSpPr>
        <p:sp>
          <p:nvSpPr>
            <p:cNvPr id="4231" name=""/>
            <p:cNvSpPr/>
            <p:nvPr/>
          </p:nvSpPr>
          <p:spPr>
            <a:xfrm>
              <a:off x="504720" y="2743200"/>
              <a:ext cx="8369280" cy="27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ransmission :  camembert rayon R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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/2R)   avec  </a:t>
              </a: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1" lang="fr-FR" sz="2400" spc="-1" strike="noStrike">
                  <a:solidFill>
                    <a:srgbClr val="000000"/>
                  </a:solidFill>
                  <a:latin typeface="Comic Sans MS"/>
                </a:rPr>
                <a:t> =  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1" lang="fr-FR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</a:t>
              </a:r>
              <a:r>
                <a:rPr b="1" lang="fr-FR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mplitude plan focal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</a:t>
              </a:r>
              <a:r>
                <a:rPr b="0" lang="fr-FR" sz="2800" spc="-1" strike="noStrike">
                  <a:solidFill>
                    <a:srgbClr val="3333cc"/>
                  </a:solidFill>
                  <a:latin typeface="Comic Sans MS"/>
                </a:rPr>
                <a:t>x,y</a:t>
              </a:r>
              <a:r>
                <a:rPr b="0" lang="fr-FR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</a:t>
              </a:r>
              <a:r>
                <a:rPr b="1" lang="fr-FR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</a:t>
              </a:r>
              <a:r>
                <a:rPr b="0" lang="fr-FR" sz="2800" spc="-1" strike="noStrike">
                  <a:solidFill>
                    <a:srgbClr val="3333cc"/>
                  </a:solidFill>
                  <a:latin typeface="Comic Sans MS"/>
                </a:rPr>
                <a:t>2.J</a:t>
              </a:r>
              <a:r>
                <a:rPr b="0" lang="fr-FR" sz="2800" spc="-1" strike="noStrike" baseline="-25000">
                  <a:solidFill>
                    <a:srgbClr val="3333cc"/>
                  </a:solidFill>
                  <a:latin typeface="Comic Sans MS"/>
                </a:rPr>
                <a:t>1</a:t>
              </a:r>
              <a:r>
                <a:rPr b="0" lang="fr-FR" sz="2800" spc="-1" strike="noStrike">
                  <a:solidFill>
                    <a:srgbClr val="3333cc"/>
                  </a:solidFill>
                  <a:latin typeface="Comic Sans MS"/>
                </a:rPr>
                <a:t> (</a:t>
              </a:r>
              <a:r>
                <a:rPr b="0" lang="fr-FR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</a:t>
              </a:r>
              <a:r>
                <a:rPr b="1" lang="fr-FR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</a:t>
              </a:r>
              <a:r>
                <a:rPr b="0" lang="fr-FR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</a:t>
              </a:r>
              <a:r>
                <a:rPr b="0" lang="fr-FR" sz="2800" spc="-1" strike="noStrike">
                  <a:solidFill>
                    <a:srgbClr val="3333cc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avec                 Z = </a:t>
              </a:r>
              <a:r>
                <a:rPr b="0" lang="fr-FR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</a:t>
              </a: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.2R.q  et   q =    x</a:t>
              </a:r>
              <a:r>
                <a:rPr b="0" lang="fr-FR" sz="2400" spc="-1" strike="noStrike" baseline="30000">
                  <a:solidFill>
                    <a:srgbClr val="3333cc"/>
                  </a:solidFill>
                  <a:latin typeface="Comic Sans MS"/>
                </a:rPr>
                <a:t>2</a:t>
              </a: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+y</a:t>
              </a:r>
              <a:r>
                <a:rPr b="0" lang="fr-FR" sz="2400" spc="-1" strike="noStrike" baseline="30000">
                  <a:solidFill>
                    <a:srgbClr val="3333cc"/>
                  </a:solidFill>
                  <a:latin typeface="Comic Sans MS"/>
                </a:rPr>
                <a:t>2  </a:t>
              </a: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/</a:t>
              </a:r>
              <a:r>
                <a:rPr b="0" lang="fr-FR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</a:t>
              </a: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F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5451480" y="4917960"/>
              <a:ext cx="946080" cy="493920"/>
            </a:xfrm>
            <a:custGeom>
              <a:avLst/>
              <a:gdLst/>
              <a:ahLst/>
              <a:rect l="l" t="t" r="r" b="b"/>
              <a:pathLst>
                <a:path w="741" h="375">
                  <a:moveTo>
                    <a:pt x="0" y="92"/>
                  </a:moveTo>
                  <a:lnTo>
                    <a:pt x="71" y="375"/>
                  </a:lnTo>
                  <a:lnTo>
                    <a:pt x="163" y="0"/>
                  </a:lnTo>
                  <a:lnTo>
                    <a:pt x="741" y="0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33" name="" descr=""/>
          <p:cNvPicPr/>
          <p:nvPr/>
        </p:nvPicPr>
        <p:blipFill>
          <a:blip r:embed="rId3"/>
          <a:stretch/>
        </p:blipFill>
        <p:spPr>
          <a:xfrm>
            <a:off x="6618240" y="2695680"/>
            <a:ext cx="1870200" cy="1682640"/>
          </a:xfrm>
          <a:prstGeom prst="rect">
            <a:avLst/>
          </a:prstGeom>
          <a:ln w="0">
            <a:noFill/>
          </a:ln>
        </p:spPr>
      </p:pic>
      <p:sp>
        <p:nvSpPr>
          <p:cNvPr id="4234" name=""/>
          <p:cNvSpPr/>
          <p:nvPr/>
        </p:nvSpPr>
        <p:spPr>
          <a:xfrm>
            <a:off x="685080" y="5784840"/>
            <a:ext cx="773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ntensité  (Airy pattern):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I(q) = l </a:t>
            </a:r>
            <a:r>
              <a:rPr b="0" lang="fr-FR" sz="2800" spc="-1" strike="noStrike">
                <a:solidFill>
                  <a:srgbClr val="3333cc"/>
                </a:solidFill>
                <a:latin typeface="Symbol"/>
                <a:ea typeface="Symbol"/>
              </a:rPr>
              <a:t>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r>
              <a:rPr b="0" lang="fr-FR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.R</a:t>
            </a:r>
            <a:r>
              <a:rPr b="0" lang="fr-FR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. [2. J1(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.2R.q ) /(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.2R.q )]</a:t>
            </a:r>
            <a:r>
              <a:rPr b="0" lang="fr-FR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3301920" y="3081240"/>
            <a:ext cx="946080" cy="493920"/>
          </a:xfrm>
          <a:custGeom>
            <a:avLst/>
            <a:gdLst/>
            <a:ahLst/>
            <a:rect l="l" t="t" r="r" b="b"/>
            <a:pathLst>
              <a:path w="741" h="375">
                <a:moveTo>
                  <a:pt x="0" y="92"/>
                </a:moveTo>
                <a:lnTo>
                  <a:pt x="71" y="375"/>
                </a:lnTo>
                <a:lnTo>
                  <a:pt x="163" y="0"/>
                </a:lnTo>
                <a:lnTo>
                  <a:pt x="741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490860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fourier  : phenome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7" name=""/>
          <p:cNvGrpSpPr/>
          <p:nvPr/>
        </p:nvGrpSpPr>
        <p:grpSpPr>
          <a:xfrm>
            <a:off x="353520" y="1031760"/>
            <a:ext cx="7895160" cy="2709000"/>
            <a:chOff x="353520" y="1031760"/>
            <a:chExt cx="7895160" cy="2709000"/>
          </a:xfrm>
        </p:grpSpPr>
        <p:grpSp>
          <p:nvGrpSpPr>
            <p:cNvPr id="4238" name=""/>
            <p:cNvGrpSpPr/>
            <p:nvPr/>
          </p:nvGrpSpPr>
          <p:grpSpPr>
            <a:xfrm>
              <a:off x="4681440" y="1031760"/>
              <a:ext cx="3567240" cy="1290600"/>
              <a:chOff x="4681440" y="1031760"/>
              <a:chExt cx="3567240" cy="1290600"/>
            </a:xfrm>
          </p:grpSpPr>
          <p:pic>
            <p:nvPicPr>
              <p:cNvPr id="42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81440" y="1031760"/>
                <a:ext cx="3567240" cy="12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0" name=""/>
              <p:cNvSpPr/>
              <p:nvPr/>
            </p:nvSpPr>
            <p:spPr>
              <a:xfrm flipV="1">
                <a:off x="4921200" y="1220040"/>
                <a:ext cx="0" cy="91404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4935600" y="1423800"/>
                <a:ext cx="260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4935600" y="1576080"/>
                <a:ext cx="260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4935600" y="1728360"/>
                <a:ext cx="260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4935600" y="1881000"/>
                <a:ext cx="260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5" name=""/>
            <p:cNvSpPr/>
            <p:nvPr/>
          </p:nvSpPr>
          <p:spPr>
            <a:xfrm>
              <a:off x="353520" y="2427120"/>
              <a:ext cx="77803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 augmente, le support de Â s'élargit  (proportionnellement à F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ugmente, le support de Â s'élargit  (proportionnellement à 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 doit courir plus loin pour que Â  atteigne une valeur donn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6" name=""/>
            <p:cNvGrpSpPr/>
            <p:nvPr/>
          </p:nvGrpSpPr>
          <p:grpSpPr>
            <a:xfrm>
              <a:off x="551520" y="1285920"/>
              <a:ext cx="3515040" cy="732960"/>
              <a:chOff x="551520" y="1285920"/>
              <a:chExt cx="3515040" cy="732960"/>
            </a:xfrm>
          </p:grpSpPr>
          <p:sp>
            <p:nvSpPr>
              <p:cNvPr id="4247" name=""/>
              <p:cNvSpPr/>
              <p:nvPr/>
            </p:nvSpPr>
            <p:spPr>
              <a:xfrm>
                <a:off x="551520" y="1370160"/>
                <a:ext cx="351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fr-FR" sz="3200" spc="-1" strike="noStrike" baseline="-25000">
                    <a:solidFill>
                      <a:srgbClr val="000000"/>
                    </a:solidFill>
                    <a:latin typeface="Comic Sans MS"/>
                  </a:rPr>
                  <a:t>F</a:t>
                </a: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(x,y) = A (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/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.F</a:t>
                </a: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,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x/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.F</a:t>
                </a: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2030760" y="12859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Comic Sans MS"/>
                  </a:rPr>
                  <a:t>^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49" name=""/>
          <p:cNvGrpSpPr/>
          <p:nvPr/>
        </p:nvGrpSpPr>
        <p:grpSpPr>
          <a:xfrm>
            <a:off x="289080" y="3871800"/>
            <a:ext cx="8326440" cy="2783520"/>
            <a:chOff x="289080" y="3871800"/>
            <a:chExt cx="8326440" cy="2783520"/>
          </a:xfrm>
        </p:grpSpPr>
        <p:grpSp>
          <p:nvGrpSpPr>
            <p:cNvPr id="4250" name=""/>
            <p:cNvGrpSpPr/>
            <p:nvPr/>
          </p:nvGrpSpPr>
          <p:grpSpPr>
            <a:xfrm>
              <a:off x="646200" y="3871800"/>
              <a:ext cx="7969320" cy="2626200"/>
              <a:chOff x="646200" y="3871800"/>
              <a:chExt cx="7969320" cy="2626200"/>
            </a:xfrm>
          </p:grpSpPr>
          <p:sp>
            <p:nvSpPr>
              <p:cNvPr id="4251" name=""/>
              <p:cNvSpPr/>
              <p:nvPr/>
            </p:nvSpPr>
            <p:spPr>
              <a:xfrm>
                <a:off x="646200" y="3903840"/>
                <a:ext cx="7969320" cy="259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exemple avec  le Jinc de Z   où  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Comic Sans MS"/>
                  </a:rPr>
                  <a:t>Z = 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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Comic Sans MS"/>
                  </a:rPr>
                  <a:t>.2R.q  et   q =    x</a:t>
                </a:r>
                <a:r>
                  <a:rPr b="0" lang="fr-FR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2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Comic Sans MS"/>
                  </a:rPr>
                  <a:t>+y</a:t>
                </a:r>
                <a:r>
                  <a:rPr b="0" lang="fr-FR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2  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Comic Sans MS"/>
                  </a:rPr>
                  <a:t>/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Comic Sans MS"/>
                  </a:rPr>
                  <a:t>F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le premier zero est à Z= 3.83    (c'est comme ça , c'est les math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à quelle distance de l'origin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se trouve le premier zero 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7012080" y="3871800"/>
                <a:ext cx="946080" cy="493920"/>
              </a:xfrm>
              <a:custGeom>
                <a:avLst/>
                <a:gdLst/>
                <a:ahLst/>
                <a:rect l="l" t="t" r="r" b="b"/>
                <a:pathLst>
                  <a:path w="741" h="375">
                    <a:moveTo>
                      <a:pt x="0" y="92"/>
                    </a:moveTo>
                    <a:lnTo>
                      <a:pt x="71" y="375"/>
                    </a:lnTo>
                    <a:lnTo>
                      <a:pt x="163" y="0"/>
                    </a:lnTo>
                    <a:lnTo>
                      <a:pt x="741" y="0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253" name=""/>
                <p:cNvSpPr txBox="1"/>
                <p:nvPr/>
              </p:nvSpPr>
              <p:spPr>
                <a:xfrm>
                  <a:off x="289080" y="5724360"/>
                  <a:ext cx="4235400" cy="77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3</m:t>
                          </m:r>
                        </m:num>
                        <m:den>
                          <m:r>
                            <m:t xml:space="preserve">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R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3</m:t>
                          </m:r>
                        </m:num>
                        <m:den>
                          <m:r>
                            <m:t xml:space="preserve">π</m:t>
                          </m:r>
                        </m:den>
                      </m:f>
                      <m:r>
                        <m:t xml:space="preserve"> 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R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4254" name=""/>
            <p:cNvGrpSpPr/>
            <p:nvPr/>
          </p:nvGrpSpPr>
          <p:grpSpPr>
            <a:xfrm>
              <a:off x="6716880" y="4830840"/>
              <a:ext cx="1546200" cy="1824480"/>
              <a:chOff x="6716880" y="4830840"/>
              <a:chExt cx="1546200" cy="1824480"/>
            </a:xfrm>
          </p:grpSpPr>
          <p:sp>
            <p:nvSpPr>
              <p:cNvPr id="4255" name=""/>
              <p:cNvSpPr/>
              <p:nvPr/>
            </p:nvSpPr>
            <p:spPr>
              <a:xfrm>
                <a:off x="6719760" y="5405400"/>
                <a:ext cx="1249560" cy="87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7378200" y="6348240"/>
                <a:ext cx="53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3.8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 flipV="1">
                <a:off x="7356600" y="5149800"/>
                <a:ext cx="0" cy="113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58" name=""/>
              <p:cNvGrpSpPr/>
              <p:nvPr/>
            </p:nvGrpSpPr>
            <p:grpSpPr>
              <a:xfrm>
                <a:off x="6867360" y="4830840"/>
                <a:ext cx="812880" cy="437040"/>
                <a:chOff x="6867360" y="4830840"/>
                <a:chExt cx="812880" cy="437040"/>
              </a:xfrm>
            </p:grpSpPr>
            <p:sp>
              <p:nvSpPr>
                <p:cNvPr id="4259" name=""/>
                <p:cNvSpPr/>
                <p:nvPr/>
              </p:nvSpPr>
              <p:spPr>
                <a:xfrm>
                  <a:off x="6932520" y="4930560"/>
                  <a:ext cx="747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Comic Sans MS"/>
                    </a:rPr>
                    <a:t>Jinc(Z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0" name=""/>
                <p:cNvSpPr/>
                <p:nvPr/>
              </p:nvSpPr>
              <p:spPr>
                <a:xfrm>
                  <a:off x="6867360" y="4830840"/>
                  <a:ext cx="1807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61" name=""/>
              <p:cNvSpPr/>
              <p:nvPr/>
            </p:nvSpPr>
            <p:spPr>
              <a:xfrm>
                <a:off x="6716880" y="5386320"/>
                <a:ext cx="1255680" cy="1019160"/>
              </a:xfrm>
              <a:custGeom>
                <a:avLst/>
                <a:gdLst/>
                <a:ahLst/>
                <a:rect l="l" t="t" r="r" b="b"/>
                <a:pathLst>
                  <a:path w="1266" h="1028">
                    <a:moveTo>
                      <a:pt x="0" y="817"/>
                    </a:moveTo>
                    <a:cubicBezTo>
                      <a:pt x="15" y="830"/>
                      <a:pt x="53" y="862"/>
                      <a:pt x="90" y="895"/>
                    </a:cubicBezTo>
                    <a:cubicBezTo>
                      <a:pt x="127" y="928"/>
                      <a:pt x="176" y="1023"/>
                      <a:pt x="222" y="1015"/>
                    </a:cubicBezTo>
                    <a:cubicBezTo>
                      <a:pt x="268" y="1007"/>
                      <a:pt x="296" y="1016"/>
                      <a:pt x="366" y="847"/>
                    </a:cubicBezTo>
                    <a:cubicBezTo>
                      <a:pt x="436" y="678"/>
                      <a:pt x="550" y="0"/>
                      <a:pt x="642" y="1"/>
                    </a:cubicBezTo>
                    <a:cubicBezTo>
                      <a:pt x="734" y="2"/>
                      <a:pt x="849" y="683"/>
                      <a:pt x="918" y="853"/>
                    </a:cubicBezTo>
                    <a:cubicBezTo>
                      <a:pt x="987" y="1023"/>
                      <a:pt x="1008" y="1014"/>
                      <a:pt x="1056" y="1021"/>
                    </a:cubicBezTo>
                    <a:cubicBezTo>
                      <a:pt x="1104" y="1028"/>
                      <a:pt x="1171" y="927"/>
                      <a:pt x="1206" y="895"/>
                    </a:cubicBezTo>
                    <a:cubicBezTo>
                      <a:pt x="1241" y="863"/>
                      <a:pt x="1254" y="843"/>
                      <a:pt x="1266" y="829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7593120" y="6234120"/>
                <a:ext cx="108000" cy="88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7951320" y="60372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64" name=""/>
          <p:cNvGrpSpPr/>
          <p:nvPr/>
        </p:nvGrpSpPr>
        <p:grpSpPr>
          <a:xfrm>
            <a:off x="7478640" y="439560"/>
            <a:ext cx="898560" cy="789480"/>
            <a:chOff x="7478640" y="439560"/>
            <a:chExt cx="898560" cy="789480"/>
          </a:xfrm>
        </p:grpSpPr>
        <p:sp>
          <p:nvSpPr>
            <p:cNvPr id="4265" name=""/>
            <p:cNvSpPr/>
            <p:nvPr/>
          </p:nvSpPr>
          <p:spPr>
            <a:xfrm>
              <a:off x="7478640" y="439560"/>
              <a:ext cx="898560" cy="703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7675200" y="6476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510552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optique de Fourier _ illustration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8" name=""/>
          <p:cNvGrpSpPr/>
          <p:nvPr/>
        </p:nvGrpSpPr>
        <p:grpSpPr>
          <a:xfrm>
            <a:off x="353520" y="623880"/>
            <a:ext cx="9298080" cy="2766240"/>
            <a:chOff x="353520" y="623880"/>
            <a:chExt cx="9298080" cy="2766240"/>
          </a:xfrm>
        </p:grpSpPr>
        <p:sp>
          <p:nvSpPr>
            <p:cNvPr id="4269" name=""/>
            <p:cNvSpPr/>
            <p:nvPr/>
          </p:nvSpPr>
          <p:spPr>
            <a:xfrm>
              <a:off x="353520" y="1146240"/>
              <a:ext cx="59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très important :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de plane incidente off-ax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0" name=""/>
            <p:cNvGrpSpPr/>
            <p:nvPr/>
          </p:nvGrpSpPr>
          <p:grpSpPr>
            <a:xfrm>
              <a:off x="6116400" y="623880"/>
              <a:ext cx="3535200" cy="2766240"/>
              <a:chOff x="6116400" y="623880"/>
              <a:chExt cx="3535200" cy="2766240"/>
            </a:xfrm>
          </p:grpSpPr>
          <p:sp>
            <p:nvSpPr>
              <p:cNvPr id="4271" name=""/>
              <p:cNvSpPr/>
              <p:nvPr/>
            </p:nvSpPr>
            <p:spPr>
              <a:xfrm rot="564600">
                <a:off x="6551280" y="1378080"/>
                <a:ext cx="1741680" cy="102384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8332920" y="1407960"/>
                <a:ext cx="189000" cy="14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6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 flipV="1">
                <a:off x="8526600" y="1139760"/>
                <a:ext cx="0" cy="194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 flipH="1">
                <a:off x="8157960" y="1216800"/>
                <a:ext cx="243360" cy="20606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 flipH="1">
                <a:off x="7127280" y="867240"/>
                <a:ext cx="2523960" cy="2522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29" y="8397"/>
                    </a:moveTo>
                    <a:arcTo wR="10800" hR="10800" stAng="-771517" swAng="7715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29" y="8397"/>
                    </a:moveTo>
                    <a:arcTo wR="10800" hR="10800" stAng="-771517" swAng="77151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 flipH="1">
                <a:off x="6341760" y="2090880"/>
                <a:ext cx="246708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 flipH="1" flipV="1">
                <a:off x="6116400" y="1617480"/>
                <a:ext cx="2909880" cy="62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6573960" y="1625760"/>
                <a:ext cx="40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 flipH="1">
                <a:off x="6408720" y="820080"/>
                <a:ext cx="243360" cy="20602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6602400" y="1365120"/>
                <a:ext cx="39240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6554880" y="1603440"/>
                <a:ext cx="39204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6507360" y="2212920"/>
                <a:ext cx="39204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6459480" y="2365200"/>
                <a:ext cx="39240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8367840" y="623880"/>
                <a:ext cx="659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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85" name=""/>
          <p:cNvGrpSpPr/>
          <p:nvPr/>
        </p:nvGrpSpPr>
        <p:grpSpPr>
          <a:xfrm>
            <a:off x="5450040" y="2770200"/>
            <a:ext cx="3736440" cy="2180520"/>
            <a:chOff x="5450040" y="2770200"/>
            <a:chExt cx="3736440" cy="2180520"/>
          </a:xfrm>
        </p:grpSpPr>
        <p:sp>
          <p:nvSpPr>
            <p:cNvPr id="4286" name=""/>
            <p:cNvSpPr/>
            <p:nvPr/>
          </p:nvSpPr>
          <p:spPr>
            <a:xfrm>
              <a:off x="8551080" y="3189600"/>
              <a:ext cx="156600" cy="837360"/>
            </a:xfrm>
            <a:custGeom>
              <a:avLst/>
              <a:gdLst/>
              <a:ahLst/>
              <a:rect l="l" t="t" r="r" b="b"/>
              <a:pathLst>
                <a:path w="64" h="649">
                  <a:moveTo>
                    <a:pt x="0" y="18"/>
                  </a:moveTo>
                  <a:lnTo>
                    <a:pt x="9" y="649"/>
                  </a:lnTo>
                  <a:lnTo>
                    <a:pt x="6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5450040" y="4046760"/>
              <a:ext cx="373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V="1">
              <a:off x="8565120" y="3140280"/>
              <a:ext cx="0" cy="156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8146440" y="2770200"/>
              <a:ext cx="3560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5517360" y="3619080"/>
              <a:ext cx="3544560" cy="50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5659920" y="3658680"/>
              <a:ext cx="2907000" cy="388080"/>
            </a:xfrm>
            <a:custGeom>
              <a:avLst/>
              <a:gdLst/>
              <a:ahLst/>
              <a:rect l="l" t="t" r="r" b="b"/>
              <a:pathLst>
                <a:path w="2331" h="247">
                  <a:moveTo>
                    <a:pt x="55" y="0"/>
                  </a:moveTo>
                  <a:lnTo>
                    <a:pt x="2331" y="247"/>
                  </a:lnTo>
                  <a:lnTo>
                    <a:pt x="36" y="238"/>
                  </a:lnTo>
                  <a:lnTo>
                    <a:pt x="0" y="174"/>
                  </a:lnTo>
                  <a:lnTo>
                    <a:pt x="9" y="6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5778360" y="35953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8565120" y="3421080"/>
              <a:ext cx="91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 flipV="1">
              <a:off x="6679080" y="2994120"/>
              <a:ext cx="231480" cy="174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 flipV="1">
              <a:off x="7539840" y="3100320"/>
              <a:ext cx="233280" cy="174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 flipV="1">
              <a:off x="8448120" y="3207240"/>
              <a:ext cx="233640" cy="174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7" name=""/>
          <p:cNvGrpSpPr/>
          <p:nvPr/>
        </p:nvGrpSpPr>
        <p:grpSpPr>
          <a:xfrm>
            <a:off x="326880" y="4240080"/>
            <a:ext cx="8663400" cy="2870280"/>
            <a:chOff x="326880" y="4240080"/>
            <a:chExt cx="8663400" cy="2870280"/>
          </a:xfrm>
        </p:grpSpPr>
        <p:sp>
          <p:nvSpPr>
            <p:cNvPr id="4298" name=""/>
            <p:cNvSpPr/>
            <p:nvPr/>
          </p:nvSpPr>
          <p:spPr>
            <a:xfrm>
              <a:off x="326880" y="4240080"/>
              <a:ext cx="7902720" cy="17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près algèbre (Dirac) : </a:t>
              </a:r>
              <a:r>
                <a:rPr b="1" lang="fr-FR" sz="2000" spc="-1" strike="noStrike">
                  <a:solidFill>
                    <a:srgbClr val="3333cc"/>
                  </a:solidFill>
                  <a:latin typeface="Comic Sans MS"/>
                </a:rPr>
                <a:t>intensité  = (Airy pattern décalé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I(x) = l 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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 </a:t>
              </a:r>
              <a:r>
                <a:rPr b="0" lang="fr-FR" sz="2400" spc="-1" strike="noStrike" baseline="30000">
                  <a:solidFill>
                    <a:srgbClr val="000000"/>
                  </a:solidFill>
                  <a:latin typeface="Comic Sans MS"/>
                </a:rPr>
                <a:t>2 </a:t>
              </a:r>
              <a:r>
                <a:rPr b="0" lang="fr-FR" sz="4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fr-FR" sz="3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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/F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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= I(x/F -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simple translation selon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9" name=""/>
            <p:cNvGrpSpPr/>
            <p:nvPr/>
          </p:nvGrpSpPr>
          <p:grpSpPr>
            <a:xfrm>
              <a:off x="2943360" y="5050080"/>
              <a:ext cx="6046920" cy="2060280"/>
              <a:chOff x="2943360" y="5050080"/>
              <a:chExt cx="6046920" cy="2060280"/>
            </a:xfrm>
          </p:grpSpPr>
          <p:sp>
            <p:nvSpPr>
              <p:cNvPr id="4300" name=""/>
              <p:cNvSpPr/>
              <p:nvPr/>
            </p:nvSpPr>
            <p:spPr>
              <a:xfrm>
                <a:off x="2943360" y="6119640"/>
                <a:ext cx="1181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</a:t>
                </a:r>
                <a:r>
                  <a:rPr b="0" lang="fr-FR" sz="24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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1" name=""/>
              <p:cNvGrpSpPr/>
              <p:nvPr/>
            </p:nvGrpSpPr>
            <p:grpSpPr>
              <a:xfrm>
                <a:off x="3438360" y="5050080"/>
                <a:ext cx="5551920" cy="2060280"/>
                <a:chOff x="3438360" y="5050080"/>
                <a:chExt cx="5551920" cy="2060280"/>
              </a:xfrm>
            </p:grpSpPr>
            <p:grpSp>
              <p:nvGrpSpPr>
                <p:cNvPr id="4302" name=""/>
                <p:cNvGrpSpPr/>
                <p:nvPr/>
              </p:nvGrpSpPr>
              <p:grpSpPr>
                <a:xfrm>
                  <a:off x="3438360" y="5050080"/>
                  <a:ext cx="5551920" cy="2060280"/>
                  <a:chOff x="3438360" y="5050080"/>
                  <a:chExt cx="5551920" cy="2060280"/>
                </a:xfrm>
              </p:grpSpPr>
              <p:sp>
                <p:nvSpPr>
                  <p:cNvPr id="4303" name=""/>
                  <p:cNvSpPr/>
                  <p:nvPr/>
                </p:nvSpPr>
                <p:spPr>
                  <a:xfrm>
                    <a:off x="8187120" y="5724000"/>
                    <a:ext cx="324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z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4" name=""/>
                  <p:cNvSpPr/>
                  <p:nvPr/>
                </p:nvSpPr>
                <p:spPr>
                  <a:xfrm>
                    <a:off x="7699680" y="5255640"/>
                    <a:ext cx="5799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x,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5" name=""/>
                  <p:cNvSpPr/>
                  <p:nvPr/>
                </p:nvSpPr>
                <p:spPr>
                  <a:xfrm>
                    <a:off x="5592960" y="5160960"/>
                    <a:ext cx="592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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06" name=""/>
                  <p:cNvGrpSpPr/>
                  <p:nvPr/>
                </p:nvGrpSpPr>
                <p:grpSpPr>
                  <a:xfrm>
                    <a:off x="3438360" y="5050080"/>
                    <a:ext cx="4972680" cy="2060280"/>
                    <a:chOff x="3438360" y="5050080"/>
                    <a:chExt cx="4972680" cy="2060280"/>
                  </a:xfrm>
                </p:grpSpPr>
                <p:sp>
                  <p:nvSpPr>
                    <p:cNvPr id="4307" name=""/>
                    <p:cNvSpPr/>
                    <p:nvPr/>
                  </p:nvSpPr>
                  <p:spPr>
                    <a:xfrm>
                      <a:off x="5373360" y="5779440"/>
                      <a:ext cx="2340360" cy="66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3" h="514">
                          <a:moveTo>
                            <a:pt x="0" y="0"/>
                          </a:moveTo>
                          <a:lnTo>
                            <a:pt x="174" y="0"/>
                          </a:lnTo>
                          <a:lnTo>
                            <a:pt x="1803" y="514"/>
                          </a:lnTo>
                          <a:lnTo>
                            <a:pt x="174" y="467"/>
                          </a:lnTo>
                          <a:lnTo>
                            <a:pt x="55" y="467"/>
                          </a:lnTo>
                        </a:path>
                      </a:pathLst>
                    </a:cu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8" name=""/>
                    <p:cNvSpPr/>
                    <p:nvPr/>
                  </p:nvSpPr>
                  <p:spPr>
                    <a:xfrm rot="682800">
                      <a:off x="3893400" y="5466960"/>
                      <a:ext cx="1423440" cy="837000"/>
                    </a:xfrm>
                    <a:prstGeom prst="rect">
                      <a:avLst/>
                    </a:prstGeom>
                    <a:solidFill>
                      <a:srgbClr val="ff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9" name=""/>
                    <p:cNvSpPr/>
                    <p:nvPr/>
                  </p:nvSpPr>
                  <p:spPr>
                    <a:xfrm>
                      <a:off x="5255640" y="5522400"/>
                      <a:ext cx="98280" cy="1103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0" name=""/>
                    <p:cNvSpPr/>
                    <p:nvPr/>
                  </p:nvSpPr>
                  <p:spPr>
                    <a:xfrm>
                      <a:off x="5433120" y="5491440"/>
                      <a:ext cx="154080" cy="1186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6699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1" name=""/>
                    <p:cNvSpPr/>
                    <p:nvPr/>
                  </p:nvSpPr>
                  <p:spPr>
                    <a:xfrm>
                      <a:off x="5255640" y="5776920"/>
                      <a:ext cx="119160" cy="6044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2" name=""/>
                    <p:cNvSpPr/>
                    <p:nvPr/>
                  </p:nvSpPr>
                  <p:spPr>
                    <a:xfrm>
                      <a:off x="3438360" y="6071760"/>
                      <a:ext cx="4972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3" name=""/>
                    <p:cNvSpPr/>
                    <p:nvPr/>
                  </p:nvSpPr>
                  <p:spPr>
                    <a:xfrm flipV="1">
                      <a:off x="7687800" y="5310360"/>
                      <a:ext cx="0" cy="1317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4" name=""/>
                    <p:cNvSpPr/>
                    <p:nvPr/>
                  </p:nvSpPr>
                  <p:spPr>
                    <a:xfrm flipV="1">
                      <a:off x="5591520" y="5271840"/>
                      <a:ext cx="0" cy="1590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5" name=""/>
                    <p:cNvSpPr/>
                    <p:nvPr/>
                  </p:nvSpPr>
                  <p:spPr>
                    <a:xfrm flipH="1">
                      <a:off x="5302080" y="5333760"/>
                      <a:ext cx="175320" cy="1686960"/>
                    </a:xfrm>
                    <a:prstGeom prst="line">
                      <a:avLst/>
                    </a:prstGeom>
                    <a:ln w="38160">
                      <a:solidFill>
                        <a:srgbClr val="33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6" name=""/>
                    <p:cNvSpPr/>
                    <p:nvPr/>
                  </p:nvSpPr>
                  <p:spPr>
                    <a:xfrm flipV="1">
                      <a:off x="7711200" y="5578200"/>
                      <a:ext cx="0" cy="1388520"/>
                    </a:xfrm>
                    <a:prstGeom prst="line">
                      <a:avLst/>
                    </a:prstGeom>
                    <a:ln w="38160">
                      <a:solidFill>
                        <a:srgbClr val="66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7" name=""/>
                    <p:cNvSpPr/>
                    <p:nvPr/>
                  </p:nvSpPr>
                  <p:spPr>
                    <a:xfrm flipH="1" flipV="1">
                      <a:off x="3573360" y="5686920"/>
                      <a:ext cx="4141440" cy="782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318" name=""/>
                    <p:cNvGrpSpPr/>
                    <p:nvPr/>
                  </p:nvGrpSpPr>
                  <p:grpSpPr>
                    <a:xfrm>
                      <a:off x="7690320" y="6184440"/>
                      <a:ext cx="556560" cy="606960"/>
                      <a:chOff x="7690320" y="6184440"/>
                      <a:chExt cx="556560" cy="606960"/>
                    </a:xfrm>
                  </p:grpSpPr>
                  <p:sp>
                    <p:nvSpPr>
                      <p:cNvPr id="4319" name=""/>
                      <p:cNvSpPr/>
                      <p:nvPr/>
                    </p:nvSpPr>
                    <p:spPr>
                      <a:xfrm>
                        <a:off x="7690320" y="6459840"/>
                        <a:ext cx="556560" cy="33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9" h="271">
                            <a:moveTo>
                              <a:pt x="61" y="6"/>
                            </a:moveTo>
                            <a:cubicBezTo>
                              <a:pt x="62" y="45"/>
                              <a:pt x="65" y="209"/>
                              <a:pt x="67" y="240"/>
                            </a:cubicBezTo>
                            <a:cubicBezTo>
                              <a:pt x="69" y="271"/>
                              <a:pt x="53" y="207"/>
                              <a:pt x="74" y="191"/>
                            </a:cubicBezTo>
                            <a:cubicBezTo>
                              <a:pt x="95" y="175"/>
                              <a:pt x="191" y="161"/>
                              <a:pt x="192" y="146"/>
                            </a:cubicBezTo>
                            <a:cubicBezTo>
                              <a:pt x="193" y="131"/>
                              <a:pt x="0" y="119"/>
                              <a:pt x="82" y="102"/>
                            </a:cubicBezTo>
                            <a:cubicBezTo>
                              <a:pt x="164" y="85"/>
                              <a:pt x="577" y="63"/>
                              <a:pt x="683" y="46"/>
                            </a:cubicBezTo>
                            <a:cubicBezTo>
                              <a:pt x="789" y="29"/>
                              <a:pt x="756" y="15"/>
                              <a:pt x="720" y="0"/>
                            </a:cubicBezTo>
                          </a:path>
                        </a:pathLst>
                      </a:cu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20" name=""/>
                      <p:cNvSpPr/>
                      <p:nvPr/>
                    </p:nvSpPr>
                    <p:spPr>
                      <a:xfrm flipV="1">
                        <a:off x="7690320" y="6184440"/>
                        <a:ext cx="556560" cy="32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9" h="266">
                            <a:moveTo>
                              <a:pt x="64" y="33"/>
                            </a:moveTo>
                            <a:cubicBezTo>
                              <a:pt x="65" y="67"/>
                              <a:pt x="65" y="214"/>
                              <a:pt x="67" y="240"/>
                            </a:cubicBezTo>
                            <a:cubicBezTo>
                              <a:pt x="69" y="266"/>
                              <a:pt x="53" y="207"/>
                              <a:pt x="74" y="191"/>
                            </a:cubicBezTo>
                            <a:cubicBezTo>
                              <a:pt x="95" y="175"/>
                              <a:pt x="191" y="161"/>
                              <a:pt x="192" y="146"/>
                            </a:cubicBezTo>
                            <a:cubicBezTo>
                              <a:pt x="193" y="131"/>
                              <a:pt x="0" y="119"/>
                              <a:pt x="82" y="102"/>
                            </a:cubicBezTo>
                            <a:cubicBezTo>
                              <a:pt x="164" y="85"/>
                              <a:pt x="577" y="63"/>
                              <a:pt x="683" y="46"/>
                            </a:cubicBezTo>
                            <a:cubicBezTo>
                              <a:pt x="789" y="29"/>
                              <a:pt x="756" y="15"/>
                              <a:pt x="720" y="0"/>
                            </a:cubicBezTo>
                          </a:path>
                        </a:pathLst>
                      </a:cu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21" name=""/>
                    <p:cNvSpPr/>
                    <p:nvPr/>
                  </p:nvSpPr>
                  <p:spPr>
                    <a:xfrm flipH="1">
                      <a:off x="4447440" y="5050080"/>
                      <a:ext cx="2062440" cy="206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329" y="8397"/>
                          </a:moveTo>
                          <a:arcTo wR="10800" hR="10800" stAng="-771517" swAng="77151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329" y="8397"/>
                          </a:moveTo>
                          <a:arcTo wR="10800" hR="10800" stAng="-771517" swAng="771517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22" name=""/>
                  <p:cNvSpPr/>
                  <p:nvPr/>
                </p:nvSpPr>
                <p:spPr>
                  <a:xfrm>
                    <a:off x="8201160" y="6430320"/>
                    <a:ext cx="789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</a:t>
                    </a:r>
                    <a:r>
                      <a:rPr b="0" lang="fr-FR" sz="1800" spc="-1" strike="noStrike">
                        <a:solidFill>
                          <a:srgbClr val="000000"/>
                        </a:solidFill>
                        <a:latin typeface="Comic Sans MS"/>
                      </a:rPr>
                      <a:t>x,y</a:t>
                    </a:r>
                    <a:r>
                      <a:rPr b="0" lang="fr-FR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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23" name=""/>
                <p:cNvSpPr/>
                <p:nvPr/>
              </p:nvSpPr>
              <p:spPr>
                <a:xfrm>
                  <a:off x="3929040" y="565452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324" name=""/>
          <p:cNvGrpSpPr/>
          <p:nvPr/>
        </p:nvGrpSpPr>
        <p:grpSpPr>
          <a:xfrm>
            <a:off x="332280" y="1727280"/>
            <a:ext cx="6018480" cy="2428200"/>
            <a:chOff x="332280" y="1727280"/>
            <a:chExt cx="6018480" cy="2428200"/>
          </a:xfrm>
        </p:grpSpPr>
        <mc:AlternateContent>
          <mc:Choice xmlns:a14="http://schemas.microsoft.com/office/drawing/2010/main" Requires="a14">
            <p:sp>
              <p:nvSpPr>
                <p:cNvPr id="4325" name=""/>
                <p:cNvSpPr txBox="1"/>
                <p:nvPr/>
              </p:nvSpPr>
              <p:spPr>
                <a:xfrm>
                  <a:off x="411120" y="2475000"/>
                  <a:ext cx="500868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(</m:t>
                      </m:r>
                      <m:r>
                        <m:t xml:space="preserve">ξ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che</m:t>
                      </m:r>
                      <m:r>
                        <m:rPr>
                          <m:lit/>
                          <m:nor/>
                        </m:rPr>
                        <m:t xml:space="preserve">min_</m:t>
                      </m:r>
                      <m:r>
                        <m:rPr>
                          <m:lit/>
                          <m:nor/>
                        </m:rPr>
                        <m:t xml:space="preserve">opt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ξ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26" name=""/>
            <p:cNvSpPr/>
            <p:nvPr/>
          </p:nvSpPr>
          <p:spPr>
            <a:xfrm>
              <a:off x="332280" y="1727280"/>
              <a:ext cx="44218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hase en "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" = phase liée à l'inclinais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e la surf d'onde (plan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437040" y="3238560"/>
              <a:ext cx="5913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à un instant "t", le front d'onde arrivant aux 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positif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est plus "jeune" que le front arrivant au cent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il porte un retard de phase (d'où signe "moins"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153216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api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9" name="crail_low_res" descr=""/>
          <p:cNvPicPr/>
          <p:nvPr/>
        </p:nvPicPr>
        <p:blipFill>
          <a:blip r:embed="rId1"/>
          <a:stretch/>
        </p:blipFill>
        <p:spPr>
          <a:xfrm>
            <a:off x="0" y="0"/>
            <a:ext cx="10429920" cy="6953400"/>
          </a:xfrm>
          <a:prstGeom prst="rect">
            <a:avLst/>
          </a:prstGeom>
          <a:ln w="0">
            <a:noFill/>
          </a:ln>
        </p:spPr>
      </p:pic>
      <p:sp>
        <p:nvSpPr>
          <p:cNvPr id="4330" name=""/>
          <p:cNvSpPr/>
          <p:nvPr/>
        </p:nvSpPr>
        <p:spPr>
          <a:xfrm>
            <a:off x="804600" y="5673600"/>
            <a:ext cx="32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besoin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récupérer un peu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27576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ltrage linéair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2" name=""/>
          <p:cNvGrpSpPr/>
          <p:nvPr/>
        </p:nvGrpSpPr>
        <p:grpSpPr>
          <a:xfrm>
            <a:off x="650520" y="1120680"/>
            <a:ext cx="8398800" cy="2354760"/>
            <a:chOff x="650520" y="1120680"/>
            <a:chExt cx="8398800" cy="2354760"/>
          </a:xfrm>
        </p:grpSpPr>
        <p:grpSp>
          <p:nvGrpSpPr>
            <p:cNvPr id="4333" name=""/>
            <p:cNvGrpSpPr/>
            <p:nvPr/>
          </p:nvGrpSpPr>
          <p:grpSpPr>
            <a:xfrm>
              <a:off x="1852560" y="1120680"/>
              <a:ext cx="7196760" cy="1449360"/>
              <a:chOff x="1852560" y="1120680"/>
              <a:chExt cx="7196760" cy="1449360"/>
            </a:xfrm>
          </p:grpSpPr>
          <p:grpSp>
            <p:nvGrpSpPr>
              <p:cNvPr id="4334" name=""/>
              <p:cNvGrpSpPr/>
              <p:nvPr/>
            </p:nvGrpSpPr>
            <p:grpSpPr>
              <a:xfrm>
                <a:off x="1857240" y="1120680"/>
                <a:ext cx="6102360" cy="707760"/>
                <a:chOff x="1857240" y="1120680"/>
                <a:chExt cx="6102360" cy="707760"/>
              </a:xfrm>
            </p:grpSpPr>
            <p:sp>
              <p:nvSpPr>
                <p:cNvPr id="4335" name=""/>
                <p:cNvSpPr/>
                <p:nvPr/>
              </p:nvSpPr>
              <p:spPr>
                <a:xfrm>
                  <a:off x="1857240" y="1495080"/>
                  <a:ext cx="2279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6" name=""/>
                <p:cNvSpPr/>
                <p:nvPr/>
              </p:nvSpPr>
              <p:spPr>
                <a:xfrm>
                  <a:off x="5680080" y="1495080"/>
                  <a:ext cx="227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7" name=""/>
                <p:cNvSpPr/>
                <p:nvPr/>
              </p:nvSpPr>
              <p:spPr>
                <a:xfrm>
                  <a:off x="4138560" y="1161720"/>
                  <a:ext cx="1451160" cy="66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8" name=""/>
                <p:cNvSpPr/>
                <p:nvPr/>
              </p:nvSpPr>
              <p:spPr>
                <a:xfrm>
                  <a:off x="4152960" y="1333440"/>
                  <a:ext cx="1290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syst. phys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9" name=""/>
                <p:cNvSpPr/>
                <p:nvPr/>
              </p:nvSpPr>
              <p:spPr>
                <a:xfrm>
                  <a:off x="2028240" y="1141200"/>
                  <a:ext cx="15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signal entre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0" name=""/>
                <p:cNvSpPr/>
                <p:nvPr/>
              </p:nvSpPr>
              <p:spPr>
                <a:xfrm>
                  <a:off x="5977440" y="1120680"/>
                  <a:ext cx="1492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signal sort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1" name=""/>
              <p:cNvGrpSpPr/>
              <p:nvPr/>
            </p:nvGrpSpPr>
            <p:grpSpPr>
              <a:xfrm>
                <a:off x="1852560" y="1892160"/>
                <a:ext cx="7196760" cy="677880"/>
                <a:chOff x="1852560" y="1892160"/>
                <a:chExt cx="7196760" cy="677880"/>
              </a:xfrm>
            </p:grpSpPr>
            <p:sp>
              <p:nvSpPr>
                <p:cNvPr id="4342" name=""/>
                <p:cNvSpPr/>
                <p:nvPr/>
              </p:nvSpPr>
              <p:spPr>
                <a:xfrm>
                  <a:off x="1852560" y="2236680"/>
                  <a:ext cx="2279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3" name=""/>
                <p:cNvSpPr/>
                <p:nvPr/>
              </p:nvSpPr>
              <p:spPr>
                <a:xfrm>
                  <a:off x="5689440" y="2236680"/>
                  <a:ext cx="2279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4" name=""/>
                <p:cNvSpPr/>
                <p:nvPr/>
              </p:nvSpPr>
              <p:spPr>
                <a:xfrm>
                  <a:off x="4133880" y="1903320"/>
                  <a:ext cx="1465200" cy="66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5" name=""/>
                <p:cNvSpPr/>
                <p:nvPr/>
              </p:nvSpPr>
              <p:spPr>
                <a:xfrm>
                  <a:off x="2077920" y="1892160"/>
                  <a:ext cx="1465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entree "</a:t>
                  </a:r>
                  <a:r>
                    <a:rPr b="0" lang="fr-FR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</a:t>
                  </a: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(t)"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6" name=""/>
                <p:cNvSpPr/>
                <p:nvPr/>
              </p:nvSpPr>
              <p:spPr>
                <a:xfrm>
                  <a:off x="5735160" y="1892160"/>
                  <a:ext cx="3314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reponse impulsionnelle "h(t)"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7" name=""/>
                <p:cNvSpPr/>
                <p:nvPr/>
              </p:nvSpPr>
              <p:spPr>
                <a:xfrm>
                  <a:off x="4189320" y="2070000"/>
                  <a:ext cx="1290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syst. phys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48" name=""/>
            <p:cNvGrpSpPr/>
            <p:nvPr/>
          </p:nvGrpSpPr>
          <p:grpSpPr>
            <a:xfrm>
              <a:off x="650520" y="2771640"/>
              <a:ext cx="8196840" cy="703800"/>
              <a:chOff x="650520" y="2771640"/>
              <a:chExt cx="8196840" cy="703800"/>
            </a:xfrm>
          </p:grpSpPr>
          <p:sp>
            <p:nvSpPr>
              <p:cNvPr id="4349" name=""/>
              <p:cNvSpPr/>
              <p:nvPr/>
            </p:nvSpPr>
            <p:spPr>
              <a:xfrm>
                <a:off x="650520" y="2958840"/>
                <a:ext cx="320436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syst. phys. = filtre linéai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4079880" y="2966760"/>
                <a:ext cx="909720" cy="414360"/>
              </a:xfrm>
              <a:prstGeom prst="leftRightArrow">
                <a:avLst>
                  <a:gd name="adj1" fmla="val 21843"/>
                  <a:gd name="adj2" fmla="val 41328"/>
                </a:avLst>
              </a:prstGeom>
              <a:solidFill>
                <a:srgbClr val="99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5146200" y="2771640"/>
                <a:ext cx="3701160" cy="703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niveau sortie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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niveau entre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h invariant par transl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2" name=""/>
          <p:cNvSpPr/>
          <p:nvPr/>
        </p:nvSpPr>
        <p:spPr>
          <a:xfrm>
            <a:off x="561960" y="4937040"/>
            <a:ext cx="8182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 ces propriétés , il résulte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r un filtre dit "linéaire" la relation "entrée-sortie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'exprime par  un produit de  con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va voir ça d'abord avec l'algè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3" name=""/>
          <p:cNvGrpSpPr/>
          <p:nvPr/>
        </p:nvGrpSpPr>
        <p:grpSpPr>
          <a:xfrm>
            <a:off x="149760" y="3644640"/>
            <a:ext cx="8673840" cy="1007280"/>
            <a:chOff x="149760" y="3644640"/>
            <a:chExt cx="8673840" cy="1007280"/>
          </a:xfrm>
        </p:grpSpPr>
        <p:grpSp>
          <p:nvGrpSpPr>
            <p:cNvPr id="4354" name=""/>
            <p:cNvGrpSpPr/>
            <p:nvPr/>
          </p:nvGrpSpPr>
          <p:grpSpPr>
            <a:xfrm>
              <a:off x="149760" y="3644640"/>
              <a:ext cx="8673840" cy="892440"/>
              <a:chOff x="149760" y="3644640"/>
              <a:chExt cx="8673840" cy="892440"/>
            </a:xfrm>
          </p:grpSpPr>
          <p:sp>
            <p:nvSpPr>
              <p:cNvPr id="4355" name=""/>
              <p:cNvSpPr/>
              <p:nvPr/>
            </p:nvSpPr>
            <p:spPr>
              <a:xfrm>
                <a:off x="149760" y="3817800"/>
                <a:ext cx="236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6600ff"/>
                    </a:solidFill>
                    <a:latin typeface="Comic Sans MS"/>
                  </a:rPr>
                  <a:t>exemple tempor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6" name=""/>
              <p:cNvGrpSpPr/>
              <p:nvPr/>
            </p:nvGrpSpPr>
            <p:grpSpPr>
              <a:xfrm>
                <a:off x="4321080" y="3865320"/>
                <a:ext cx="2105280" cy="671760"/>
                <a:chOff x="4321080" y="3865320"/>
                <a:chExt cx="2105280" cy="671760"/>
              </a:xfrm>
            </p:grpSpPr>
            <p:sp>
              <p:nvSpPr>
                <p:cNvPr id="4357" name=""/>
                <p:cNvSpPr/>
                <p:nvPr/>
              </p:nvSpPr>
              <p:spPr>
                <a:xfrm>
                  <a:off x="4321080" y="3870360"/>
                  <a:ext cx="2105280" cy="66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8" name=""/>
                <p:cNvSpPr/>
                <p:nvPr/>
              </p:nvSpPr>
              <p:spPr>
                <a:xfrm>
                  <a:off x="4365720" y="4037040"/>
                  <a:ext cx="1474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filtre : h(t) =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9" name=""/>
                <p:cNvSpPr/>
                <p:nvPr/>
              </p:nvSpPr>
              <p:spPr>
                <a:xfrm>
                  <a:off x="5878440" y="3865320"/>
                  <a:ext cx="349200" cy="39708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0" name=""/>
                <p:cNvSpPr/>
                <p:nvPr/>
              </p:nvSpPr>
              <p:spPr>
                <a:xfrm>
                  <a:off x="5805360" y="4263840"/>
                  <a:ext cx="53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1" name=""/>
              <p:cNvGrpSpPr/>
              <p:nvPr/>
            </p:nvGrpSpPr>
            <p:grpSpPr>
              <a:xfrm>
                <a:off x="2395440" y="3644640"/>
                <a:ext cx="1935360" cy="559080"/>
                <a:chOff x="2395440" y="3644640"/>
                <a:chExt cx="1935360" cy="559080"/>
              </a:xfrm>
            </p:grpSpPr>
            <p:sp>
              <p:nvSpPr>
                <p:cNvPr id="4362" name=""/>
                <p:cNvSpPr/>
                <p:nvPr/>
              </p:nvSpPr>
              <p:spPr>
                <a:xfrm>
                  <a:off x="2395440" y="4203720"/>
                  <a:ext cx="1481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3" name=""/>
                <p:cNvSpPr/>
                <p:nvPr/>
              </p:nvSpPr>
              <p:spPr>
                <a:xfrm flipV="1">
                  <a:off x="2760480" y="3924000"/>
                  <a:ext cx="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4" name=""/>
                <p:cNvSpPr/>
                <p:nvPr/>
              </p:nvSpPr>
              <p:spPr>
                <a:xfrm flipV="1">
                  <a:off x="2941560" y="3924000"/>
                  <a:ext cx="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5" name=""/>
                <p:cNvSpPr/>
                <p:nvPr/>
              </p:nvSpPr>
              <p:spPr>
                <a:xfrm flipV="1">
                  <a:off x="3465360" y="3644640"/>
                  <a:ext cx="0" cy="55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6" name=""/>
                <p:cNvSpPr/>
                <p:nvPr/>
              </p:nvSpPr>
              <p:spPr>
                <a:xfrm>
                  <a:off x="3551040" y="3851280"/>
                  <a:ext cx="779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Comic Sans MS"/>
                    </a:rPr>
                    <a:t>temp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7" name=""/>
              <p:cNvGrpSpPr/>
              <p:nvPr/>
            </p:nvGrpSpPr>
            <p:grpSpPr>
              <a:xfrm>
                <a:off x="6434280" y="3654000"/>
                <a:ext cx="2389320" cy="557640"/>
                <a:chOff x="6434280" y="3654000"/>
                <a:chExt cx="2389320" cy="557640"/>
              </a:xfrm>
            </p:grpSpPr>
            <p:sp>
              <p:nvSpPr>
                <p:cNvPr id="4368" name=""/>
                <p:cNvSpPr/>
                <p:nvPr/>
              </p:nvSpPr>
              <p:spPr>
                <a:xfrm>
                  <a:off x="6434280" y="4203720"/>
                  <a:ext cx="227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 flipV="1">
                  <a:off x="6942240" y="3918960"/>
                  <a:ext cx="0" cy="274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 flipV="1">
                  <a:off x="7122960" y="3933360"/>
                  <a:ext cx="0" cy="274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 flipV="1">
                  <a:off x="7647120" y="3654000"/>
                  <a:ext cx="0" cy="55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 flipH="1">
                  <a:off x="6588000" y="3919320"/>
                  <a:ext cx="349200" cy="28116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 flipH="1">
                  <a:off x="6783480" y="3930480"/>
                  <a:ext cx="349200" cy="28116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 flipH="1">
                  <a:off x="7292880" y="3736800"/>
                  <a:ext cx="349200" cy="47016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>
                  <a:off x="8043840" y="3816360"/>
                  <a:ext cx="7797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Comic Sans MS"/>
                    </a:rPr>
                    <a:t>temp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76" name=""/>
            <p:cNvSpPr/>
            <p:nvPr/>
          </p:nvSpPr>
          <p:spPr>
            <a:xfrm>
              <a:off x="689760" y="4253040"/>
              <a:ext cx="318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ranslation :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t) --&gt;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t -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6400" y="709560"/>
            <a:ext cx="5987880" cy="55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inesse d'analyse d'une image , lobe d'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51000" y="1244520"/>
            <a:ext cx="2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68520" y="149868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14360" y="1289160"/>
            <a:ext cx="2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0280" y="1517760"/>
            <a:ext cx="88837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port vers le ciel de l'image obtenue pour une source ponctu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dit aussi : fonction d'étalement ou encore Point Spread Function (PSF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821120" y="2527200"/>
            <a:ext cx="2874960" cy="111132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1114560" y="2179800"/>
            <a:ext cx="2932920" cy="1838520"/>
            <a:chOff x="1114560" y="2179800"/>
            <a:chExt cx="2932920" cy="1838520"/>
          </a:xfrm>
        </p:grpSpPr>
        <p:sp>
          <p:nvSpPr>
            <p:cNvPr id="178" name=""/>
            <p:cNvSpPr/>
            <p:nvPr/>
          </p:nvSpPr>
          <p:spPr>
            <a:xfrm>
              <a:off x="2741760" y="2847960"/>
              <a:ext cx="114120" cy="496800"/>
            </a:xfrm>
            <a:prstGeom prst="ellipse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63840" y="2987640"/>
              <a:ext cx="2017800" cy="217440"/>
            </a:xfrm>
            <a:custGeom>
              <a:avLst/>
              <a:gdLst/>
              <a:ahLst/>
              <a:rect l="l" t="t" r="r" b="b"/>
              <a:pathLst>
                <a:path w="1271" h="137">
                  <a:moveTo>
                    <a:pt x="51" y="0"/>
                  </a:moveTo>
                  <a:lnTo>
                    <a:pt x="1271" y="108"/>
                  </a:lnTo>
                  <a:lnTo>
                    <a:pt x="1271" y="15"/>
                  </a:lnTo>
                  <a:lnTo>
                    <a:pt x="46" y="137"/>
                  </a:lnTo>
                  <a:lnTo>
                    <a:pt x="10" y="113"/>
                  </a:lnTo>
                  <a:lnTo>
                    <a:pt x="0" y="73"/>
                  </a:lnTo>
                  <a:lnTo>
                    <a:pt x="10" y="29"/>
                  </a:lnTo>
                  <a:lnTo>
                    <a:pt x="30" y="10"/>
                  </a:lnTo>
                  <a:lnTo>
                    <a:pt x="61" y="5"/>
                  </a:lnTo>
                  <a:lnTo>
                    <a:pt x="51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63840" y="2987640"/>
              <a:ext cx="2017800" cy="217440"/>
            </a:xfrm>
            <a:custGeom>
              <a:avLst/>
              <a:gdLst/>
              <a:ahLst/>
              <a:rect l="l" t="t" r="r" b="b"/>
              <a:pathLst>
                <a:path w="1271" h="137">
                  <a:moveTo>
                    <a:pt x="51" y="0"/>
                  </a:moveTo>
                  <a:lnTo>
                    <a:pt x="1271" y="108"/>
                  </a:lnTo>
                  <a:lnTo>
                    <a:pt x="1271" y="15"/>
                  </a:lnTo>
                  <a:lnTo>
                    <a:pt x="46" y="137"/>
                  </a:lnTo>
                  <a:lnTo>
                    <a:pt x="10" y="113"/>
                  </a:lnTo>
                  <a:lnTo>
                    <a:pt x="0" y="73"/>
                  </a:lnTo>
                  <a:lnTo>
                    <a:pt x="10" y="29"/>
                  </a:lnTo>
                  <a:lnTo>
                    <a:pt x="30" y="10"/>
                  </a:lnTo>
                  <a:lnTo>
                    <a:pt x="61" y="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557880" y="2708280"/>
              <a:ext cx="47520" cy="682560"/>
              <a:chOff x="3557880" y="2708280"/>
              <a:chExt cx="47520" cy="682560"/>
            </a:xfrm>
          </p:grpSpPr>
          <p:sp>
            <p:nvSpPr>
              <p:cNvPr id="182" name=""/>
              <p:cNvSpPr/>
              <p:nvPr/>
            </p:nvSpPr>
            <p:spPr>
              <a:xfrm>
                <a:off x="3557880" y="2708280"/>
                <a:ext cx="47520" cy="93600"/>
              </a:xfrm>
              <a:custGeom>
                <a:avLst/>
                <a:gdLst/>
                <a:ahLst/>
                <a:rect l="l" t="t" r="r" b="b"/>
                <a:pathLst>
                  <a:path w="30" h="59">
                    <a:moveTo>
                      <a:pt x="15" y="0"/>
                    </a:moveTo>
                    <a:lnTo>
                      <a:pt x="30" y="59"/>
                    </a:lnTo>
                    <a:lnTo>
                      <a:pt x="15" y="59"/>
                    </a:lnTo>
                    <a:lnTo>
                      <a:pt x="0" y="59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3581640" y="2801880"/>
                <a:ext cx="1440" cy="588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597480" y="2917800"/>
              <a:ext cx="266760" cy="318960"/>
            </a:xfrm>
            <a:custGeom>
              <a:avLst/>
              <a:gdLst/>
              <a:ahLst/>
              <a:rect l="l" t="t" r="r" b="b"/>
              <a:pathLst>
                <a:path w="168" h="201">
                  <a:moveTo>
                    <a:pt x="0" y="0"/>
                  </a:moveTo>
                  <a:lnTo>
                    <a:pt x="0" y="10"/>
                  </a:lnTo>
                  <a:lnTo>
                    <a:pt x="0" y="20"/>
                  </a:lnTo>
                  <a:lnTo>
                    <a:pt x="5" y="29"/>
                  </a:lnTo>
                  <a:lnTo>
                    <a:pt x="11" y="39"/>
                  </a:lnTo>
                  <a:lnTo>
                    <a:pt x="16" y="44"/>
                  </a:lnTo>
                  <a:lnTo>
                    <a:pt x="16" y="54"/>
                  </a:lnTo>
                  <a:lnTo>
                    <a:pt x="11" y="59"/>
                  </a:lnTo>
                  <a:lnTo>
                    <a:pt x="5" y="64"/>
                  </a:lnTo>
                  <a:lnTo>
                    <a:pt x="5" y="69"/>
                  </a:lnTo>
                  <a:lnTo>
                    <a:pt x="11" y="69"/>
                  </a:lnTo>
                  <a:lnTo>
                    <a:pt x="21" y="73"/>
                  </a:lnTo>
                  <a:lnTo>
                    <a:pt x="36" y="78"/>
                  </a:lnTo>
                  <a:lnTo>
                    <a:pt x="51" y="83"/>
                  </a:lnTo>
                  <a:lnTo>
                    <a:pt x="66" y="88"/>
                  </a:lnTo>
                  <a:lnTo>
                    <a:pt x="77" y="88"/>
                  </a:lnTo>
                  <a:lnTo>
                    <a:pt x="87" y="88"/>
                  </a:lnTo>
                  <a:lnTo>
                    <a:pt x="102" y="93"/>
                  </a:lnTo>
                  <a:lnTo>
                    <a:pt x="122" y="98"/>
                  </a:lnTo>
                  <a:lnTo>
                    <a:pt x="133" y="98"/>
                  </a:lnTo>
                  <a:lnTo>
                    <a:pt x="148" y="103"/>
                  </a:lnTo>
                  <a:lnTo>
                    <a:pt x="153" y="103"/>
                  </a:lnTo>
                  <a:lnTo>
                    <a:pt x="163" y="108"/>
                  </a:lnTo>
                  <a:lnTo>
                    <a:pt x="168" y="108"/>
                  </a:lnTo>
                  <a:lnTo>
                    <a:pt x="168" y="113"/>
                  </a:lnTo>
                  <a:lnTo>
                    <a:pt x="168" y="122"/>
                  </a:lnTo>
                  <a:lnTo>
                    <a:pt x="163" y="122"/>
                  </a:lnTo>
                  <a:lnTo>
                    <a:pt x="158" y="122"/>
                  </a:lnTo>
                  <a:lnTo>
                    <a:pt x="148" y="127"/>
                  </a:lnTo>
                  <a:lnTo>
                    <a:pt x="143" y="127"/>
                  </a:lnTo>
                  <a:lnTo>
                    <a:pt x="133" y="127"/>
                  </a:lnTo>
                  <a:lnTo>
                    <a:pt x="112" y="132"/>
                  </a:lnTo>
                  <a:lnTo>
                    <a:pt x="102" y="132"/>
                  </a:lnTo>
                  <a:lnTo>
                    <a:pt x="82" y="137"/>
                  </a:lnTo>
                  <a:lnTo>
                    <a:pt x="72" y="137"/>
                  </a:lnTo>
                  <a:lnTo>
                    <a:pt x="61" y="137"/>
                  </a:lnTo>
                  <a:lnTo>
                    <a:pt x="41" y="142"/>
                  </a:lnTo>
                  <a:lnTo>
                    <a:pt x="31" y="142"/>
                  </a:lnTo>
                  <a:lnTo>
                    <a:pt x="16" y="147"/>
                  </a:lnTo>
                  <a:lnTo>
                    <a:pt x="11" y="147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5" y="157"/>
                  </a:lnTo>
                  <a:lnTo>
                    <a:pt x="11" y="161"/>
                  </a:lnTo>
                  <a:lnTo>
                    <a:pt x="16" y="166"/>
                  </a:lnTo>
                  <a:lnTo>
                    <a:pt x="16" y="171"/>
                  </a:lnTo>
                  <a:lnTo>
                    <a:pt x="11" y="176"/>
                  </a:lnTo>
                  <a:lnTo>
                    <a:pt x="5" y="181"/>
                  </a:lnTo>
                  <a:lnTo>
                    <a:pt x="0" y="196"/>
                  </a:lnTo>
                  <a:lnTo>
                    <a:pt x="0" y="20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362240" y="3065400"/>
              <a:ext cx="2219400" cy="46080"/>
              <a:chOff x="1362240" y="3065400"/>
              <a:chExt cx="2219400" cy="46080"/>
            </a:xfrm>
          </p:grpSpPr>
          <p:sp>
            <p:nvSpPr>
              <p:cNvPr id="186" name=""/>
              <p:cNvSpPr/>
              <p:nvPr/>
            </p:nvSpPr>
            <p:spPr>
              <a:xfrm>
                <a:off x="1362240" y="3065400"/>
                <a:ext cx="96840" cy="46080"/>
              </a:xfrm>
              <a:custGeom>
                <a:avLst/>
                <a:gdLst/>
                <a:ahLst/>
                <a:rect l="l" t="t" r="r" b="b"/>
                <a:pathLst>
                  <a:path w="61" h="29">
                    <a:moveTo>
                      <a:pt x="0" y="15"/>
                    </a:moveTo>
                    <a:lnTo>
                      <a:pt x="61" y="0"/>
                    </a:lnTo>
                    <a:lnTo>
                      <a:pt x="61" y="15"/>
                    </a:lnTo>
                    <a:lnTo>
                      <a:pt x="61" y="2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1459080" y="3089160"/>
                <a:ext cx="2122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114560" y="2183040"/>
              <a:ext cx="307800" cy="183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375" y="19481"/>
                  </a:moveTo>
                  <a:arcTo wR="10800" hR="10800" stAng="7590221" swAng="684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4375" y="19481"/>
                  </a:moveTo>
                  <a:arcTo wR="10800" hR="10800" stAng="7590221" swAng="6841120"/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44800" y="2529000"/>
              <a:ext cx="217440" cy="195120"/>
            </a:xfrm>
            <a:custGeom>
              <a:avLst/>
              <a:gdLst/>
              <a:ahLst/>
              <a:rect l="l" t="t" r="r" b="b"/>
              <a:pathLst>
                <a:path w="137" h="123">
                  <a:moveTo>
                    <a:pt x="10" y="0"/>
                  </a:moveTo>
                  <a:lnTo>
                    <a:pt x="0" y="35"/>
                  </a:lnTo>
                  <a:lnTo>
                    <a:pt x="137" y="44"/>
                  </a:lnTo>
                  <a:lnTo>
                    <a:pt x="0" y="59"/>
                  </a:lnTo>
                  <a:lnTo>
                    <a:pt x="5" y="79"/>
                  </a:lnTo>
                  <a:lnTo>
                    <a:pt x="66" y="79"/>
                  </a:lnTo>
                  <a:lnTo>
                    <a:pt x="5" y="93"/>
                  </a:lnTo>
                  <a:lnTo>
                    <a:pt x="0" y="12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35080" y="3274920"/>
              <a:ext cx="154080" cy="459000"/>
            </a:xfrm>
            <a:custGeom>
              <a:avLst/>
              <a:gdLst/>
              <a:ahLst/>
              <a:rect l="l" t="t" r="r" b="b"/>
              <a:pathLst>
                <a:path w="97" h="289">
                  <a:moveTo>
                    <a:pt x="0" y="0"/>
                  </a:moveTo>
                  <a:lnTo>
                    <a:pt x="6" y="39"/>
                  </a:lnTo>
                  <a:lnTo>
                    <a:pt x="36" y="59"/>
                  </a:lnTo>
                  <a:lnTo>
                    <a:pt x="51" y="88"/>
                  </a:lnTo>
                  <a:lnTo>
                    <a:pt x="82" y="108"/>
                  </a:lnTo>
                  <a:lnTo>
                    <a:pt x="56" y="117"/>
                  </a:lnTo>
                  <a:lnTo>
                    <a:pt x="61" y="137"/>
                  </a:lnTo>
                  <a:lnTo>
                    <a:pt x="97" y="152"/>
                  </a:lnTo>
                  <a:lnTo>
                    <a:pt x="61" y="171"/>
                  </a:lnTo>
                  <a:lnTo>
                    <a:pt x="56" y="220"/>
                  </a:lnTo>
                  <a:lnTo>
                    <a:pt x="31" y="254"/>
                  </a:lnTo>
                  <a:lnTo>
                    <a:pt x="16" y="28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9080" y="2855880"/>
              <a:ext cx="2130480" cy="473040"/>
            </a:xfrm>
            <a:custGeom>
              <a:avLst/>
              <a:gdLst/>
              <a:ahLst/>
              <a:rect l="l" t="t" r="r" b="b"/>
              <a:pathLst>
                <a:path w="1342" h="298">
                  <a:moveTo>
                    <a:pt x="5" y="0"/>
                  </a:moveTo>
                  <a:lnTo>
                    <a:pt x="839" y="0"/>
                  </a:lnTo>
                  <a:lnTo>
                    <a:pt x="1342" y="152"/>
                  </a:lnTo>
                  <a:lnTo>
                    <a:pt x="839" y="298"/>
                  </a:lnTo>
                  <a:lnTo>
                    <a:pt x="0" y="298"/>
                  </a:lnTo>
                </a:path>
              </a:pathLst>
            </a:custGeom>
            <a:noFill/>
            <a:ln w="792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57520" y="2801880"/>
              <a:ext cx="120600" cy="100080"/>
            </a:xfrm>
            <a:custGeom>
              <a:avLst/>
              <a:gdLst/>
              <a:ahLst/>
              <a:rect l="l" t="t" r="r" b="b"/>
              <a:pathLst>
                <a:path w="76" h="63">
                  <a:moveTo>
                    <a:pt x="0" y="63"/>
                  </a:moveTo>
                  <a:lnTo>
                    <a:pt x="0" y="0"/>
                  </a:lnTo>
                  <a:lnTo>
                    <a:pt x="76" y="34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57520" y="2801880"/>
              <a:ext cx="120600" cy="100080"/>
            </a:xfrm>
            <a:custGeom>
              <a:avLst/>
              <a:gdLst/>
              <a:ahLst/>
              <a:rect l="l" t="t" r="r" b="b"/>
              <a:pathLst>
                <a:path w="76" h="63">
                  <a:moveTo>
                    <a:pt x="0" y="63"/>
                  </a:moveTo>
                  <a:lnTo>
                    <a:pt x="0" y="0"/>
                  </a:lnTo>
                  <a:lnTo>
                    <a:pt x="76" y="34"/>
                  </a:lnTo>
                  <a:lnTo>
                    <a:pt x="0" y="5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57520" y="3282840"/>
              <a:ext cx="120600" cy="101880"/>
            </a:xfrm>
            <a:custGeom>
              <a:avLst/>
              <a:gdLst/>
              <a:ahLst/>
              <a:rect l="l" t="t" r="r" b="b"/>
              <a:pathLst>
                <a:path w="76" h="64">
                  <a:moveTo>
                    <a:pt x="0" y="64"/>
                  </a:moveTo>
                  <a:lnTo>
                    <a:pt x="0" y="0"/>
                  </a:lnTo>
                  <a:lnTo>
                    <a:pt x="76" y="3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57520" y="3282840"/>
              <a:ext cx="120600" cy="101880"/>
            </a:xfrm>
            <a:custGeom>
              <a:avLst/>
              <a:gdLst/>
              <a:ahLst/>
              <a:rect l="l" t="t" r="r" b="b"/>
              <a:pathLst>
                <a:path w="76" h="64">
                  <a:moveTo>
                    <a:pt x="0" y="64"/>
                  </a:moveTo>
                  <a:lnTo>
                    <a:pt x="0" y="0"/>
                  </a:lnTo>
                  <a:lnTo>
                    <a:pt x="76" y="34"/>
                  </a:lnTo>
                  <a:lnTo>
                    <a:pt x="0" y="5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19240" y="3089160"/>
              <a:ext cx="209520" cy="14400"/>
            </a:xfrm>
            <a:custGeom>
              <a:avLst/>
              <a:gdLst/>
              <a:ahLst/>
              <a:rect l="l" t="t" r="r" b="b"/>
              <a:pathLst>
                <a:path w="132" h="9">
                  <a:moveTo>
                    <a:pt x="0" y="0"/>
                  </a:moveTo>
                  <a:lnTo>
                    <a:pt x="132" y="5"/>
                  </a:lnTo>
                  <a:lnTo>
                    <a:pt x="0" y="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64320" y="2179800"/>
              <a:ext cx="27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Times New Roman"/>
                </a:rPr>
                <a:t>cie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42840" y="2630520"/>
              <a:ext cx="404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Times New Roman"/>
                </a:rPr>
                <a:t>foy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80120" y="3352680"/>
              <a:ext cx="70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Times New Roman"/>
                </a:rPr>
                <a:t>télescop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50560" y="4132440"/>
            <a:ext cx="4341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illustration au niveau du vé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14360" y="1289160"/>
            <a:ext cx="2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991120" y="5500800"/>
            <a:ext cx="2268720" cy="1158840"/>
            <a:chOff x="5991120" y="5500800"/>
            <a:chExt cx="2268720" cy="1158840"/>
          </a:xfrm>
        </p:grpSpPr>
        <p:sp>
          <p:nvSpPr>
            <p:cNvPr id="203" name=""/>
            <p:cNvSpPr/>
            <p:nvPr/>
          </p:nvSpPr>
          <p:spPr>
            <a:xfrm>
              <a:off x="5992920" y="5502600"/>
              <a:ext cx="2265120" cy="11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91120" y="5500800"/>
              <a:ext cx="2268720" cy="11588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21520" y="5731200"/>
              <a:ext cx="500040" cy="1998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21520" y="5731200"/>
              <a:ext cx="500040" cy="199800"/>
            </a:xfrm>
            <a:prstGeom prst="ellipse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40480" y="5940720"/>
              <a:ext cx="396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39040" y="5940720"/>
              <a:ext cx="41040" cy="41040"/>
            </a:xfrm>
            <a:prstGeom prst="ellipse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89800" y="5980320"/>
              <a:ext cx="3960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89800" y="5980320"/>
              <a:ext cx="41400" cy="41400"/>
            </a:xfrm>
            <a:prstGeom prst="ellipse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40480" y="6040440"/>
              <a:ext cx="39600" cy="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39040" y="6040440"/>
              <a:ext cx="41040" cy="39960"/>
            </a:xfrm>
            <a:prstGeom prst="ellipse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70640" y="5921640"/>
              <a:ext cx="209520" cy="2077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69200" y="5919840"/>
              <a:ext cx="210960" cy="211320"/>
            </a:xfrm>
            <a:prstGeom prst="ellipse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70800" y="6259680"/>
              <a:ext cx="220320" cy="2192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70800" y="6259680"/>
              <a:ext cx="220320" cy="220680"/>
            </a:xfrm>
            <a:prstGeom prst="ellipse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353280" y="4962600"/>
            <a:ext cx="1280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omic Sans MS"/>
              </a:rPr>
              <a:t>résultat de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38520" y="5202360"/>
            <a:ext cx="1418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omic Sans MS"/>
              </a:rPr>
              <a:t>l'explor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422520" y="4948200"/>
            <a:ext cx="2268720" cy="1157040"/>
            <a:chOff x="3422520" y="4948200"/>
            <a:chExt cx="2268720" cy="1157040"/>
          </a:xfrm>
        </p:grpSpPr>
        <p:sp>
          <p:nvSpPr>
            <p:cNvPr id="220" name=""/>
            <p:cNvSpPr/>
            <p:nvPr/>
          </p:nvSpPr>
          <p:spPr>
            <a:xfrm>
              <a:off x="3424320" y="4948200"/>
              <a:ext cx="2265120" cy="11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22520" y="4948200"/>
              <a:ext cx="2268720" cy="11570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652920" y="5197320"/>
              <a:ext cx="1309680" cy="638280"/>
              <a:chOff x="3652920" y="5197320"/>
              <a:chExt cx="1309680" cy="638280"/>
            </a:xfrm>
          </p:grpSpPr>
          <p:sp>
            <p:nvSpPr>
              <p:cNvPr id="223" name=""/>
              <p:cNvSpPr/>
              <p:nvPr/>
            </p:nvSpPr>
            <p:spPr>
              <a:xfrm>
                <a:off x="3652920" y="5197320"/>
                <a:ext cx="369720" cy="81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652920" y="5197320"/>
                <a:ext cx="369720" cy="81000"/>
              </a:xfrm>
              <a:prstGeom prst="ellipse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71880" y="538776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70440" y="5386320"/>
                <a:ext cx="41400" cy="41040"/>
              </a:xfrm>
              <a:prstGeom prst="ellipse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21200" y="5427360"/>
                <a:ext cx="3960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21200" y="5425920"/>
                <a:ext cx="41400" cy="41400"/>
              </a:xfrm>
              <a:prstGeom prst="ellipse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71880" y="548604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870440" y="5486040"/>
                <a:ext cx="41400" cy="41400"/>
              </a:xfrm>
              <a:prstGeom prst="ellipse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1800" y="5756040"/>
                <a:ext cx="90360" cy="79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41800" y="5756040"/>
                <a:ext cx="90360" cy="79560"/>
              </a:xfrm>
              <a:prstGeom prst="ellipse">
                <a:avLst/>
              </a:prstGeom>
              <a:noFill/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3560760" y="4549680"/>
            <a:ext cx="1654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omic Sans MS"/>
              </a:rPr>
              <a:t>ciel à  explor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30600" y="5807160"/>
            <a:ext cx="1554120" cy="6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8640" y="6151680"/>
            <a:ext cx="198360" cy="1872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38640" y="6151680"/>
            <a:ext cx="200160" cy="188640"/>
          </a:xfrm>
          <a:prstGeom prst="ellipse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37160" y="5837400"/>
            <a:ext cx="161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omic Sans MS"/>
              </a:rPr>
              <a:t>lobe d'analys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45000" y="5821200"/>
            <a:ext cx="1535040" cy="5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117000" y="590040"/>
            <a:ext cx="280692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ltrage linéaire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8" name=""/>
          <p:cNvGrpSpPr/>
          <p:nvPr/>
        </p:nvGrpSpPr>
        <p:grpSpPr>
          <a:xfrm>
            <a:off x="6561000" y="252360"/>
            <a:ext cx="1000080" cy="813240"/>
            <a:chOff x="6561000" y="252360"/>
            <a:chExt cx="1000080" cy="813240"/>
          </a:xfrm>
        </p:grpSpPr>
        <p:sp>
          <p:nvSpPr>
            <p:cNvPr id="4379" name=""/>
            <p:cNvSpPr/>
            <p:nvPr/>
          </p:nvSpPr>
          <p:spPr>
            <a:xfrm>
              <a:off x="6561000" y="25236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6782040" y="4842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1" name=""/>
          <p:cNvSpPr/>
          <p:nvPr/>
        </p:nvSpPr>
        <p:spPr>
          <a:xfrm>
            <a:off x="179280" y="1181160"/>
            <a:ext cx="877608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rquoi la relation entrée-sortie s'exprime-t-elle par une convolution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2" name=""/>
          <p:cNvGrpSpPr/>
          <p:nvPr/>
        </p:nvGrpSpPr>
        <p:grpSpPr>
          <a:xfrm>
            <a:off x="5138640" y="1666800"/>
            <a:ext cx="3523680" cy="1448640"/>
            <a:chOff x="5138640" y="1666800"/>
            <a:chExt cx="3523680" cy="1448640"/>
          </a:xfrm>
        </p:grpSpPr>
        <p:sp>
          <p:nvSpPr>
            <p:cNvPr id="4383" name=""/>
            <p:cNvSpPr/>
            <p:nvPr/>
          </p:nvSpPr>
          <p:spPr>
            <a:xfrm>
              <a:off x="5209560" y="1666800"/>
              <a:ext cx="155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réponse sort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4" name=""/>
            <p:cNvGrpSpPr/>
            <p:nvPr/>
          </p:nvGrpSpPr>
          <p:grpSpPr>
            <a:xfrm>
              <a:off x="5138640" y="1928520"/>
              <a:ext cx="3523680" cy="1186920"/>
              <a:chOff x="5138640" y="1928520"/>
              <a:chExt cx="3523680" cy="1186920"/>
            </a:xfrm>
          </p:grpSpPr>
          <p:sp>
            <p:nvSpPr>
              <p:cNvPr id="4385" name=""/>
              <p:cNvSpPr/>
              <p:nvPr/>
            </p:nvSpPr>
            <p:spPr>
              <a:xfrm>
                <a:off x="7955640" y="2747520"/>
                <a:ext cx="70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temp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86" name=""/>
              <p:cNvGrpSpPr/>
              <p:nvPr/>
            </p:nvGrpSpPr>
            <p:grpSpPr>
              <a:xfrm>
                <a:off x="5138640" y="1928520"/>
                <a:ext cx="3273480" cy="1186920"/>
                <a:chOff x="5138640" y="1928520"/>
                <a:chExt cx="3273480" cy="1186920"/>
              </a:xfrm>
            </p:grpSpPr>
            <p:sp>
              <p:nvSpPr>
                <p:cNvPr id="4387" name=""/>
                <p:cNvSpPr/>
                <p:nvPr/>
              </p:nvSpPr>
              <p:spPr>
                <a:xfrm>
                  <a:off x="5138640" y="1934640"/>
                  <a:ext cx="2670480" cy="1179000"/>
                </a:xfrm>
                <a:custGeom>
                  <a:avLst/>
                  <a:gdLst/>
                  <a:ahLst/>
                  <a:rect l="l" t="t" r="r" b="b"/>
                  <a:pathLst>
                    <a:path w="1682" h="743">
                      <a:moveTo>
                        <a:pt x="1682" y="704"/>
                      </a:moveTo>
                      <a:cubicBezTo>
                        <a:pt x="1667" y="574"/>
                        <a:pt x="1645" y="432"/>
                        <a:pt x="1618" y="411"/>
                      </a:cubicBezTo>
                      <a:cubicBezTo>
                        <a:pt x="1591" y="390"/>
                        <a:pt x="1547" y="623"/>
                        <a:pt x="1517" y="576"/>
                      </a:cubicBezTo>
                      <a:cubicBezTo>
                        <a:pt x="1487" y="529"/>
                        <a:pt x="1471" y="139"/>
                        <a:pt x="1435" y="128"/>
                      </a:cubicBezTo>
                      <a:cubicBezTo>
                        <a:pt x="1399" y="117"/>
                        <a:pt x="1330" y="500"/>
                        <a:pt x="1298" y="512"/>
                      </a:cubicBezTo>
                      <a:cubicBezTo>
                        <a:pt x="1266" y="524"/>
                        <a:pt x="1275" y="190"/>
                        <a:pt x="1243" y="201"/>
                      </a:cubicBezTo>
                      <a:cubicBezTo>
                        <a:pt x="1211" y="212"/>
                        <a:pt x="1138" y="535"/>
                        <a:pt x="1106" y="576"/>
                      </a:cubicBezTo>
                      <a:cubicBezTo>
                        <a:pt x="1074" y="617"/>
                        <a:pt x="1078" y="448"/>
                        <a:pt x="1051" y="448"/>
                      </a:cubicBezTo>
                      <a:cubicBezTo>
                        <a:pt x="1024" y="448"/>
                        <a:pt x="971" y="648"/>
                        <a:pt x="941" y="576"/>
                      </a:cubicBezTo>
                      <a:cubicBezTo>
                        <a:pt x="911" y="504"/>
                        <a:pt x="903" y="36"/>
                        <a:pt x="868" y="18"/>
                      </a:cubicBezTo>
                      <a:cubicBezTo>
                        <a:pt x="833" y="0"/>
                        <a:pt x="763" y="394"/>
                        <a:pt x="731" y="466"/>
                      </a:cubicBezTo>
                      <a:cubicBezTo>
                        <a:pt x="699" y="538"/>
                        <a:pt x="711" y="416"/>
                        <a:pt x="676" y="448"/>
                      </a:cubicBezTo>
                      <a:cubicBezTo>
                        <a:pt x="641" y="480"/>
                        <a:pt x="551" y="638"/>
                        <a:pt x="521" y="658"/>
                      </a:cubicBezTo>
                      <a:cubicBezTo>
                        <a:pt x="491" y="678"/>
                        <a:pt x="505" y="603"/>
                        <a:pt x="493" y="566"/>
                      </a:cubicBezTo>
                      <a:cubicBezTo>
                        <a:pt x="481" y="529"/>
                        <a:pt x="479" y="417"/>
                        <a:pt x="448" y="438"/>
                      </a:cubicBezTo>
                      <a:cubicBezTo>
                        <a:pt x="417" y="459"/>
                        <a:pt x="385" y="645"/>
                        <a:pt x="310" y="694"/>
                      </a:cubicBezTo>
                      <a:cubicBezTo>
                        <a:pt x="235" y="743"/>
                        <a:pt x="52" y="726"/>
                        <a:pt x="0" y="731"/>
                      </a:cubicBezTo>
                    </a:path>
                  </a:pathLst>
                </a:custGeom>
                <a:solidFill>
                  <a:srgbClr val="ccffff"/>
                </a:solidFill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8" name=""/>
                <p:cNvSpPr/>
                <p:nvPr/>
              </p:nvSpPr>
              <p:spPr>
                <a:xfrm flipH="1">
                  <a:off x="5187960" y="3106080"/>
                  <a:ext cx="322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9" name=""/>
                <p:cNvSpPr/>
                <p:nvPr/>
              </p:nvSpPr>
              <p:spPr>
                <a:xfrm flipV="1">
                  <a:off x="7699320" y="262332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0" name=""/>
                <p:cNvSpPr/>
                <p:nvPr/>
              </p:nvSpPr>
              <p:spPr>
                <a:xfrm flipV="1">
                  <a:off x="7399440" y="2003040"/>
                  <a:ext cx="0" cy="109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1" name=""/>
                <p:cNvSpPr/>
                <p:nvPr/>
              </p:nvSpPr>
              <p:spPr>
                <a:xfrm flipV="1">
                  <a:off x="7099560" y="2231640"/>
                  <a:ext cx="0" cy="848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2" name=""/>
                <p:cNvSpPr/>
                <p:nvPr/>
              </p:nvSpPr>
              <p:spPr>
                <a:xfrm flipV="1">
                  <a:off x="6799320" y="2647080"/>
                  <a:ext cx="0" cy="45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3" name=""/>
                <p:cNvSpPr/>
                <p:nvPr/>
              </p:nvSpPr>
              <p:spPr>
                <a:xfrm flipV="1">
                  <a:off x="6497640" y="1995120"/>
                  <a:ext cx="0" cy="109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4" name=""/>
                <p:cNvSpPr/>
                <p:nvPr/>
              </p:nvSpPr>
              <p:spPr>
                <a:xfrm flipV="1">
                  <a:off x="6197760" y="2642400"/>
                  <a:ext cx="0" cy="45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5" name=""/>
                <p:cNvSpPr/>
                <p:nvPr/>
              </p:nvSpPr>
              <p:spPr>
                <a:xfrm flipV="1">
                  <a:off x="5851440" y="264528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6" name=""/>
                <p:cNvSpPr/>
                <p:nvPr/>
              </p:nvSpPr>
              <p:spPr>
                <a:xfrm>
                  <a:off x="7134480" y="2609280"/>
                  <a:ext cx="652320" cy="49176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noFill/>
                <a:ln w="28440">
                  <a:solidFill>
                    <a:srgbClr val="cc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7" name=""/>
                <p:cNvSpPr/>
                <p:nvPr/>
              </p:nvSpPr>
              <p:spPr>
                <a:xfrm>
                  <a:off x="6842160" y="2174400"/>
                  <a:ext cx="652680" cy="92664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ff99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8" name=""/>
                <p:cNvSpPr/>
                <p:nvPr/>
              </p:nvSpPr>
              <p:spPr>
                <a:xfrm>
                  <a:off x="6524640" y="2175840"/>
                  <a:ext cx="652680" cy="92664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noFill/>
                <a:ln w="28440">
                  <a:solidFill>
                    <a:srgbClr val="cc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9" name=""/>
                <p:cNvSpPr/>
                <p:nvPr/>
              </p:nvSpPr>
              <p:spPr>
                <a:xfrm>
                  <a:off x="6234120" y="2625120"/>
                  <a:ext cx="652680" cy="47736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noFill/>
                <a:ln w="9360">
                  <a:solidFill>
                    <a:srgbClr val="cc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0" name=""/>
                <p:cNvSpPr/>
                <p:nvPr/>
              </p:nvSpPr>
              <p:spPr>
                <a:xfrm>
                  <a:off x="5945400" y="1928520"/>
                  <a:ext cx="652320" cy="115848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noFill/>
                <a:ln w="28440">
                  <a:solidFill>
                    <a:srgbClr val="cc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1" name=""/>
                <p:cNvSpPr/>
                <p:nvPr/>
              </p:nvSpPr>
              <p:spPr>
                <a:xfrm>
                  <a:off x="5624640" y="2625120"/>
                  <a:ext cx="652320" cy="49032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noFill/>
                <a:ln w="28440">
                  <a:solidFill>
                    <a:srgbClr val="cc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2" name=""/>
                <p:cNvSpPr/>
                <p:nvPr/>
              </p:nvSpPr>
              <p:spPr>
                <a:xfrm>
                  <a:off x="5276880" y="2594880"/>
                  <a:ext cx="652680" cy="50616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03" name=""/>
          <p:cNvGrpSpPr/>
          <p:nvPr/>
        </p:nvGrpSpPr>
        <p:grpSpPr>
          <a:xfrm>
            <a:off x="184320" y="1666800"/>
            <a:ext cx="4415400" cy="1802520"/>
            <a:chOff x="184320" y="1666800"/>
            <a:chExt cx="4415400" cy="1802520"/>
          </a:xfrm>
        </p:grpSpPr>
        <p:grpSp>
          <p:nvGrpSpPr>
            <p:cNvPr id="4404" name=""/>
            <p:cNvGrpSpPr/>
            <p:nvPr/>
          </p:nvGrpSpPr>
          <p:grpSpPr>
            <a:xfrm>
              <a:off x="184320" y="1666800"/>
              <a:ext cx="3050640" cy="1802520"/>
              <a:chOff x="184320" y="1666800"/>
              <a:chExt cx="3050640" cy="1802520"/>
            </a:xfrm>
          </p:grpSpPr>
          <p:sp>
            <p:nvSpPr>
              <p:cNvPr id="4405" name=""/>
              <p:cNvSpPr/>
              <p:nvPr/>
            </p:nvSpPr>
            <p:spPr>
              <a:xfrm>
                <a:off x="901800" y="1666800"/>
                <a:ext cx="1424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signal entré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06" name=""/>
              <p:cNvGrpSpPr/>
              <p:nvPr/>
            </p:nvGrpSpPr>
            <p:grpSpPr>
              <a:xfrm>
                <a:off x="184320" y="1958760"/>
                <a:ext cx="3050640" cy="1510560"/>
                <a:chOff x="184320" y="1958760"/>
                <a:chExt cx="3050640" cy="1510560"/>
              </a:xfrm>
            </p:grpSpPr>
            <p:sp>
              <p:nvSpPr>
                <p:cNvPr id="4407" name=""/>
                <p:cNvSpPr/>
                <p:nvPr/>
              </p:nvSpPr>
              <p:spPr>
                <a:xfrm>
                  <a:off x="184320" y="3070080"/>
                  <a:ext cx="290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8" name=""/>
                <p:cNvSpPr/>
                <p:nvPr/>
              </p:nvSpPr>
              <p:spPr>
                <a:xfrm flipV="1">
                  <a:off x="2375280" y="2587320"/>
                  <a:ext cx="0" cy="4572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9" name=""/>
                <p:cNvSpPr/>
                <p:nvPr/>
              </p:nvSpPr>
              <p:spPr>
                <a:xfrm flipV="1">
                  <a:off x="2075040" y="1966680"/>
                  <a:ext cx="0" cy="1098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0" name=""/>
                <p:cNvSpPr/>
                <p:nvPr/>
              </p:nvSpPr>
              <p:spPr>
                <a:xfrm flipV="1">
                  <a:off x="1775160" y="2194920"/>
                  <a:ext cx="0" cy="8492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1" name=""/>
                <p:cNvSpPr/>
                <p:nvPr/>
              </p:nvSpPr>
              <p:spPr>
                <a:xfrm flipV="1">
                  <a:off x="1474920" y="2611440"/>
                  <a:ext cx="0" cy="45864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2" name=""/>
                <p:cNvSpPr/>
                <p:nvPr/>
              </p:nvSpPr>
              <p:spPr>
                <a:xfrm flipV="1">
                  <a:off x="1173240" y="1958760"/>
                  <a:ext cx="0" cy="10987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3" name=""/>
                <p:cNvSpPr/>
                <p:nvPr/>
              </p:nvSpPr>
              <p:spPr>
                <a:xfrm flipV="1">
                  <a:off x="873360" y="2606040"/>
                  <a:ext cx="0" cy="4590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4" name=""/>
                <p:cNvSpPr/>
                <p:nvPr/>
              </p:nvSpPr>
              <p:spPr>
                <a:xfrm flipV="1">
                  <a:off x="527400" y="2609640"/>
                  <a:ext cx="0" cy="4572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5" name=""/>
                <p:cNvSpPr/>
                <p:nvPr/>
              </p:nvSpPr>
              <p:spPr>
                <a:xfrm>
                  <a:off x="2528280" y="2752560"/>
                  <a:ext cx="70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temp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6" name=""/>
                <p:cNvSpPr/>
                <p:nvPr/>
              </p:nvSpPr>
              <p:spPr>
                <a:xfrm>
                  <a:off x="1001520" y="3028680"/>
                  <a:ext cx="3513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7" name=""/>
                <p:cNvSpPr/>
                <p:nvPr/>
              </p:nvSpPr>
              <p:spPr>
                <a:xfrm>
                  <a:off x="1361520" y="3028680"/>
                  <a:ext cx="5191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+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8" name=""/>
                <p:cNvSpPr/>
                <p:nvPr/>
              </p:nvSpPr>
              <p:spPr>
                <a:xfrm>
                  <a:off x="2196720" y="3028680"/>
                  <a:ext cx="5266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+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9" name=""/>
                <p:cNvSpPr/>
                <p:nvPr/>
              </p:nvSpPr>
              <p:spPr>
                <a:xfrm>
                  <a:off x="745200" y="2001600"/>
                  <a:ext cx="4230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0" name=""/>
                <p:cNvSpPr/>
                <p:nvPr/>
              </p:nvSpPr>
              <p:spPr>
                <a:xfrm>
                  <a:off x="1206720" y="2276280"/>
                  <a:ext cx="5907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+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1" name=""/>
                <p:cNvSpPr/>
                <p:nvPr/>
              </p:nvSpPr>
              <p:spPr>
                <a:xfrm>
                  <a:off x="2159280" y="2222280"/>
                  <a:ext cx="5983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+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22" name=""/>
            <p:cNvGrpSpPr/>
            <p:nvPr/>
          </p:nvGrpSpPr>
          <p:grpSpPr>
            <a:xfrm>
              <a:off x="3436920" y="1666800"/>
              <a:ext cx="1162800" cy="1427040"/>
              <a:chOff x="3436920" y="1666800"/>
              <a:chExt cx="1162800" cy="1427040"/>
            </a:xfrm>
          </p:grpSpPr>
          <p:grpSp>
            <p:nvGrpSpPr>
              <p:cNvPr id="4423" name=""/>
              <p:cNvGrpSpPr/>
              <p:nvPr/>
            </p:nvGrpSpPr>
            <p:grpSpPr>
              <a:xfrm>
                <a:off x="3436920" y="2179440"/>
                <a:ext cx="1131840" cy="914400"/>
                <a:chOff x="3436920" y="2179440"/>
                <a:chExt cx="1131840" cy="914400"/>
              </a:xfrm>
            </p:grpSpPr>
            <p:sp>
              <p:nvSpPr>
                <p:cNvPr id="4424" name=""/>
                <p:cNvSpPr/>
                <p:nvPr/>
              </p:nvSpPr>
              <p:spPr>
                <a:xfrm>
                  <a:off x="3509640" y="2225160"/>
                  <a:ext cx="652320" cy="868680"/>
                </a:xfrm>
                <a:custGeom>
                  <a:avLst/>
                  <a:gdLst/>
                  <a:ahLst/>
                  <a:rect l="l" t="t" r="r" b="b"/>
                  <a:pathLst>
                    <a:path w="411" h="547">
                      <a:moveTo>
                        <a:pt x="411" y="538"/>
                      </a:moveTo>
                      <a:cubicBezTo>
                        <a:pt x="397" y="286"/>
                        <a:pt x="384" y="34"/>
                        <a:pt x="357" y="17"/>
                      </a:cubicBezTo>
                      <a:cubicBezTo>
                        <a:pt x="330" y="0"/>
                        <a:pt x="306" y="349"/>
                        <a:pt x="247" y="437"/>
                      </a:cubicBezTo>
                      <a:cubicBezTo>
                        <a:pt x="188" y="525"/>
                        <a:pt x="94" y="536"/>
                        <a:pt x="0" y="547"/>
                      </a:cubicBezTo>
                    </a:path>
                  </a:pathLst>
                </a:custGeom>
                <a:noFill/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5" name=""/>
                <p:cNvSpPr/>
                <p:nvPr/>
              </p:nvSpPr>
              <p:spPr>
                <a:xfrm>
                  <a:off x="3436920" y="3080880"/>
                  <a:ext cx="1131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6" name=""/>
                <p:cNvSpPr/>
                <p:nvPr/>
              </p:nvSpPr>
              <p:spPr>
                <a:xfrm flipV="1">
                  <a:off x="4176360" y="2179440"/>
                  <a:ext cx="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7" name=""/>
              <p:cNvSpPr/>
              <p:nvPr/>
            </p:nvSpPr>
            <p:spPr>
              <a:xfrm>
                <a:off x="3600720" y="1666800"/>
                <a:ext cx="99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filtre h(t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28" name=""/>
          <p:cNvGrpSpPr/>
          <p:nvPr/>
        </p:nvGrpSpPr>
        <p:grpSpPr>
          <a:xfrm>
            <a:off x="62280" y="5388120"/>
            <a:ext cx="8629560" cy="1673280"/>
            <a:chOff x="62280" y="5388120"/>
            <a:chExt cx="8629560" cy="1673280"/>
          </a:xfrm>
        </p:grpSpPr>
        <p:sp>
          <p:nvSpPr>
            <p:cNvPr id="4429" name=""/>
            <p:cNvSpPr/>
            <p:nvPr/>
          </p:nvSpPr>
          <p:spPr>
            <a:xfrm>
              <a:off x="5445000" y="6068880"/>
              <a:ext cx="3246840" cy="992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'où la relation entrée-sort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r(t) = s(t) </a:t>
              </a:r>
              <a:r>
                <a:rPr b="0" lang="fr-FR" sz="3600" spc="-1" strike="noStrike" baseline="-25000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h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2280" y="5388120"/>
              <a:ext cx="74368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le signal en entrée s(t) peut être continu, alors les "k" discre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sont remplacés par la variable 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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et l'on reconnait une convolution: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31" name=""/>
                <p:cNvSpPr txBox="1"/>
                <p:nvPr/>
              </p:nvSpPr>
              <p:spPr>
                <a:xfrm>
                  <a:off x="1598760" y="6059520"/>
                  <a:ext cx="346392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32" name=""/>
          <p:cNvGrpSpPr/>
          <p:nvPr/>
        </p:nvGrpSpPr>
        <p:grpSpPr>
          <a:xfrm>
            <a:off x="357120" y="3624120"/>
            <a:ext cx="8594640" cy="1659960"/>
            <a:chOff x="357120" y="3624120"/>
            <a:chExt cx="8594640" cy="1659960"/>
          </a:xfrm>
        </p:grpSpPr>
        <p:sp>
          <p:nvSpPr>
            <p:cNvPr id="4433" name=""/>
            <p:cNvSpPr/>
            <p:nvPr/>
          </p:nvSpPr>
          <p:spPr>
            <a:xfrm>
              <a:off x="357120" y="4367160"/>
              <a:ext cx="8594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our chaque dirac en entrée, la réponse est une fonction (étalement du dirac)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les réponses successives se chevauchent 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réent une nouvelle fonction qui est la réponse globale du filt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4" name=""/>
            <p:cNvGrpSpPr/>
            <p:nvPr/>
          </p:nvGrpSpPr>
          <p:grpSpPr>
            <a:xfrm>
              <a:off x="357120" y="3624120"/>
              <a:ext cx="7886880" cy="714600"/>
              <a:chOff x="357120" y="3624120"/>
              <a:chExt cx="7886880" cy="714600"/>
            </a:xfrm>
          </p:grpSpPr>
          <mc:AlternateContent>
            <mc:Choice xmlns:a14="http://schemas.microsoft.com/office/drawing/2010/main" Requires="a14">
              <p:sp>
                <p:nvSpPr>
                  <p:cNvPr id="4435" name=""/>
                  <p:cNvSpPr txBox="1"/>
                  <p:nvPr/>
                </p:nvSpPr>
                <p:spPr>
                  <a:xfrm>
                    <a:off x="357120" y="3624120"/>
                    <a:ext cx="2905200" cy="714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)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436" name=""/>
                  <p:cNvSpPr txBox="1"/>
                  <p:nvPr/>
                </p:nvSpPr>
                <p:spPr>
                  <a:xfrm>
                    <a:off x="5429160" y="3624120"/>
                    <a:ext cx="2814840" cy="698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)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37" name=""/>
              <p:cNvSpPr/>
              <p:nvPr/>
            </p:nvSpPr>
            <p:spPr>
              <a:xfrm>
                <a:off x="4062960" y="3624120"/>
                <a:ext cx="58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h(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38" name=""/>
          <p:cNvGrpSpPr/>
          <p:nvPr/>
        </p:nvGrpSpPr>
        <p:grpSpPr>
          <a:xfrm>
            <a:off x="130320" y="3541680"/>
            <a:ext cx="8288280" cy="2771640"/>
            <a:chOff x="130320" y="3541680"/>
            <a:chExt cx="8288280" cy="2771640"/>
          </a:xfrm>
        </p:grpSpPr>
        <p:sp>
          <p:nvSpPr>
            <p:cNvPr id="4439" name=""/>
            <p:cNvSpPr/>
            <p:nvPr/>
          </p:nvSpPr>
          <p:spPr>
            <a:xfrm>
              <a:off x="5283360" y="3541680"/>
              <a:ext cx="3135240" cy="7682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130320" y="4137120"/>
              <a:ext cx="5167080" cy="2176200"/>
            </a:xfrm>
            <a:custGeom>
              <a:avLst/>
              <a:gdLst/>
              <a:ahLst/>
              <a:rect l="l" t="t" r="r" b="b"/>
              <a:pathLst>
                <a:path w="3255" h="1371">
                  <a:moveTo>
                    <a:pt x="3255" y="0"/>
                  </a:moveTo>
                  <a:lnTo>
                    <a:pt x="0" y="0"/>
                  </a:lnTo>
                  <a:lnTo>
                    <a:pt x="0" y="1371"/>
                  </a:lnTo>
                  <a:lnTo>
                    <a:pt x="915" y="13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280692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ltrage linéaire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>
            <a:off x="687600" y="3560760"/>
            <a:ext cx="38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ranslation :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x,y) --&gt;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x-a, y-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3" name=""/>
          <p:cNvGrpSpPr/>
          <p:nvPr/>
        </p:nvGrpSpPr>
        <p:grpSpPr>
          <a:xfrm>
            <a:off x="480600" y="2592360"/>
            <a:ext cx="8485560" cy="2507040"/>
            <a:chOff x="480600" y="2592360"/>
            <a:chExt cx="8485560" cy="2507040"/>
          </a:xfrm>
        </p:grpSpPr>
        <p:grpSp>
          <p:nvGrpSpPr>
            <p:cNvPr id="4444" name=""/>
            <p:cNvGrpSpPr/>
            <p:nvPr/>
          </p:nvGrpSpPr>
          <p:grpSpPr>
            <a:xfrm>
              <a:off x="480600" y="2592360"/>
              <a:ext cx="8485560" cy="1255680"/>
              <a:chOff x="480600" y="2592360"/>
              <a:chExt cx="8485560" cy="1255680"/>
            </a:xfrm>
          </p:grpSpPr>
          <p:sp>
            <p:nvSpPr>
              <p:cNvPr id="4445" name=""/>
              <p:cNvSpPr/>
              <p:nvPr/>
            </p:nvSpPr>
            <p:spPr>
              <a:xfrm>
                <a:off x="6686640" y="3246480"/>
                <a:ext cx="227952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4573440" y="2913120"/>
                <a:ext cx="2105280" cy="666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4675680" y="3079800"/>
                <a:ext cx="100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h(x,y) =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480600" y="2975040"/>
                <a:ext cx="21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6600ff"/>
                    </a:solidFill>
                    <a:latin typeface="Comic Sans MS"/>
                  </a:rPr>
                  <a:t>spatio-angulai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5626080" y="3306600"/>
                <a:ext cx="78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5803920" y="2957400"/>
                <a:ext cx="353880" cy="389160"/>
              </a:xfrm>
              <a:custGeom>
                <a:avLst/>
                <a:gdLst/>
                <a:ahLst/>
                <a:rect l="l" t="t" r="r" b="b"/>
                <a:pathLst>
                  <a:path w="300" h="321">
                    <a:moveTo>
                      <a:pt x="0" y="285"/>
                    </a:moveTo>
                    <a:cubicBezTo>
                      <a:pt x="8" y="285"/>
                      <a:pt x="34" y="295"/>
                      <a:pt x="46" y="284"/>
                    </a:cubicBezTo>
                    <a:cubicBezTo>
                      <a:pt x="58" y="273"/>
                      <a:pt x="62" y="220"/>
                      <a:pt x="74" y="220"/>
                    </a:cubicBezTo>
                    <a:cubicBezTo>
                      <a:pt x="86" y="220"/>
                      <a:pt x="105" y="321"/>
                      <a:pt x="119" y="284"/>
                    </a:cubicBezTo>
                    <a:cubicBezTo>
                      <a:pt x="133" y="247"/>
                      <a:pt x="144" y="0"/>
                      <a:pt x="156" y="0"/>
                    </a:cubicBezTo>
                    <a:cubicBezTo>
                      <a:pt x="168" y="0"/>
                      <a:pt x="179" y="243"/>
                      <a:pt x="192" y="281"/>
                    </a:cubicBezTo>
                    <a:cubicBezTo>
                      <a:pt x="205" y="319"/>
                      <a:pt x="220" y="228"/>
                      <a:pt x="232" y="229"/>
                    </a:cubicBezTo>
                    <a:cubicBezTo>
                      <a:pt x="244" y="230"/>
                      <a:pt x="253" y="275"/>
                      <a:pt x="264" y="285"/>
                    </a:cubicBezTo>
                    <a:cubicBezTo>
                      <a:pt x="275" y="295"/>
                      <a:pt x="293" y="288"/>
                      <a:pt x="300" y="28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2997360" y="3098880"/>
                <a:ext cx="1562040" cy="304560"/>
              </a:xfrm>
              <a:custGeom>
                <a:avLst/>
                <a:gdLst/>
                <a:ahLst/>
                <a:rect l="l" t="t" r="r" b="b"/>
                <a:pathLst>
                  <a:path w="728" h="272">
                    <a:moveTo>
                      <a:pt x="0" y="0"/>
                    </a:moveTo>
                    <a:lnTo>
                      <a:pt x="712" y="0"/>
                    </a:lnTo>
                    <a:lnTo>
                      <a:pt x="728" y="272"/>
                    </a:lnTo>
                    <a:lnTo>
                      <a:pt x="0" y="272"/>
                    </a:lnTo>
                  </a:path>
                </a:pathLst>
              </a:custGeom>
              <a:noFill/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 rot="5400000">
                <a:off x="8209800" y="2912760"/>
                <a:ext cx="354240" cy="630360"/>
              </a:xfrm>
              <a:custGeom>
                <a:avLst/>
                <a:gdLst/>
                <a:ahLst/>
                <a:rect l="l" t="t" r="r" b="b"/>
                <a:pathLst>
                  <a:path w="300" h="321">
                    <a:moveTo>
                      <a:pt x="0" y="285"/>
                    </a:moveTo>
                    <a:cubicBezTo>
                      <a:pt x="8" y="285"/>
                      <a:pt x="34" y="295"/>
                      <a:pt x="46" y="284"/>
                    </a:cubicBezTo>
                    <a:cubicBezTo>
                      <a:pt x="58" y="273"/>
                      <a:pt x="62" y="220"/>
                      <a:pt x="74" y="220"/>
                    </a:cubicBezTo>
                    <a:cubicBezTo>
                      <a:pt x="86" y="220"/>
                      <a:pt x="105" y="321"/>
                      <a:pt x="119" y="284"/>
                    </a:cubicBezTo>
                    <a:cubicBezTo>
                      <a:pt x="133" y="247"/>
                      <a:pt x="144" y="0"/>
                      <a:pt x="156" y="0"/>
                    </a:cubicBezTo>
                    <a:cubicBezTo>
                      <a:pt x="168" y="0"/>
                      <a:pt x="179" y="243"/>
                      <a:pt x="192" y="281"/>
                    </a:cubicBezTo>
                    <a:cubicBezTo>
                      <a:pt x="205" y="319"/>
                      <a:pt x="220" y="228"/>
                      <a:pt x="232" y="229"/>
                    </a:cubicBezTo>
                    <a:cubicBezTo>
                      <a:pt x="244" y="230"/>
                      <a:pt x="253" y="275"/>
                      <a:pt x="264" y="285"/>
                    </a:cubicBezTo>
                    <a:cubicBezTo>
                      <a:pt x="275" y="295"/>
                      <a:pt x="293" y="288"/>
                      <a:pt x="300" y="289"/>
                    </a:cubicBez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 rot="970800">
                <a:off x="3054240" y="2890440"/>
                <a:ext cx="1562040" cy="304920"/>
              </a:xfrm>
              <a:custGeom>
                <a:avLst/>
                <a:gdLst/>
                <a:ahLst/>
                <a:rect l="l" t="t" r="r" b="b"/>
                <a:pathLst>
                  <a:path w="736" h="192">
                    <a:moveTo>
                      <a:pt x="0" y="0"/>
                    </a:moveTo>
                    <a:lnTo>
                      <a:pt x="720" y="0"/>
                    </a:lnTo>
                    <a:lnTo>
                      <a:pt x="736" y="192"/>
                    </a:lnTo>
                    <a:lnTo>
                      <a:pt x="8" y="192"/>
                    </a:lnTo>
                  </a:path>
                </a:pathLst>
              </a:custGeom>
              <a:noFill/>
              <a:ln w="936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2832120" y="3035160"/>
                <a:ext cx="139680" cy="406440"/>
              </a:xfrm>
              <a:custGeom>
                <a:avLst/>
                <a:gdLst>
                  <a:gd name="textAreaLeft" fmla="*/ 89280 w 139680"/>
                  <a:gd name="textAreaRight" fmla="*/ 140040 w 139680"/>
                  <a:gd name="textAreaTop" fmla="*/ 10440 h 406440"/>
                  <a:gd name="textAreaBottom" fmla="*/ 3960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 rot="910800">
                <a:off x="2908080" y="2603520"/>
                <a:ext cx="139680" cy="406440"/>
              </a:xfrm>
              <a:custGeom>
                <a:avLst/>
                <a:gdLst>
                  <a:gd name="textAreaLeft" fmla="*/ 89280 w 139680"/>
                  <a:gd name="textAreaRight" fmla="*/ 140040 w 139680"/>
                  <a:gd name="textAreaTop" fmla="*/ 10440 h 406440"/>
                  <a:gd name="textAreaBottom" fmla="*/ 396000 h 40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6667560" y="3098880"/>
                <a:ext cx="1498680" cy="304560"/>
              </a:xfrm>
              <a:custGeom>
                <a:avLst/>
                <a:gdLst/>
                <a:ahLst/>
                <a:rect l="l" t="t" r="r" b="b"/>
                <a:pathLst>
                  <a:path w="944" h="192">
                    <a:moveTo>
                      <a:pt x="0" y="0"/>
                    </a:moveTo>
                    <a:lnTo>
                      <a:pt x="944" y="96"/>
                    </a:lnTo>
                    <a:lnTo>
                      <a:pt x="0" y="192"/>
                    </a:lnTo>
                  </a:path>
                </a:pathLst>
              </a:custGeom>
              <a:noFill/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6615000" y="3109680"/>
                <a:ext cx="1474920" cy="420840"/>
              </a:xfrm>
              <a:custGeom>
                <a:avLst/>
                <a:gdLst/>
                <a:ahLst/>
                <a:rect l="l" t="t" r="r" b="b"/>
                <a:pathLst>
                  <a:path w="929" h="265">
                    <a:moveTo>
                      <a:pt x="43" y="0"/>
                    </a:moveTo>
                    <a:lnTo>
                      <a:pt x="929" y="265"/>
                    </a:lnTo>
                    <a:lnTo>
                      <a:pt x="0" y="188"/>
                    </a:lnTo>
                  </a:path>
                </a:pathLst>
              </a:custGeom>
              <a:noFill/>
              <a:ln w="936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 flipV="1">
                <a:off x="8128080" y="2870280"/>
                <a:ext cx="0" cy="9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2666880" y="2654280"/>
                <a:ext cx="177840" cy="165240"/>
              </a:xfrm>
              <a:prstGeom prst="sun">
                <a:avLst>
                  <a:gd name="adj" fmla="val 25000"/>
                </a:avLst>
              </a:prstGeom>
              <a:solidFill>
                <a:srgbClr val="6600ff"/>
              </a:solidFill>
              <a:ln w="9360">
                <a:solidFill>
                  <a:srgbClr val="66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2629080" y="3149640"/>
                <a:ext cx="177480" cy="164880"/>
              </a:xfrm>
              <a:prstGeom prst="sun">
                <a:avLst>
                  <a:gd name="adj" fmla="val 25000"/>
                </a:avLst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 rot="5400000">
                <a:off x="8064360" y="3402000"/>
                <a:ext cx="354240" cy="287280"/>
              </a:xfrm>
              <a:custGeom>
                <a:avLst/>
                <a:gdLst/>
                <a:ahLst/>
                <a:rect l="l" t="t" r="r" b="b"/>
                <a:pathLst>
                  <a:path w="300" h="321">
                    <a:moveTo>
                      <a:pt x="0" y="285"/>
                    </a:moveTo>
                    <a:cubicBezTo>
                      <a:pt x="8" y="285"/>
                      <a:pt x="34" y="295"/>
                      <a:pt x="46" y="284"/>
                    </a:cubicBezTo>
                    <a:cubicBezTo>
                      <a:pt x="58" y="273"/>
                      <a:pt x="62" y="220"/>
                      <a:pt x="74" y="220"/>
                    </a:cubicBezTo>
                    <a:cubicBezTo>
                      <a:pt x="86" y="220"/>
                      <a:pt x="105" y="321"/>
                      <a:pt x="119" y="284"/>
                    </a:cubicBezTo>
                    <a:cubicBezTo>
                      <a:pt x="133" y="247"/>
                      <a:pt x="144" y="0"/>
                      <a:pt x="156" y="0"/>
                    </a:cubicBezTo>
                    <a:cubicBezTo>
                      <a:pt x="168" y="0"/>
                      <a:pt x="179" y="243"/>
                      <a:pt x="192" y="281"/>
                    </a:cubicBezTo>
                    <a:cubicBezTo>
                      <a:pt x="205" y="319"/>
                      <a:pt x="220" y="228"/>
                      <a:pt x="232" y="229"/>
                    </a:cubicBezTo>
                    <a:cubicBezTo>
                      <a:pt x="244" y="230"/>
                      <a:pt x="253" y="275"/>
                      <a:pt x="264" y="285"/>
                    </a:cubicBezTo>
                    <a:cubicBezTo>
                      <a:pt x="275" y="295"/>
                      <a:pt x="293" y="288"/>
                      <a:pt x="300" y="289"/>
                    </a:cubicBezTo>
                  </a:path>
                </a:pathLst>
              </a:custGeom>
              <a:solidFill>
                <a:srgbClr val="3399ff"/>
              </a:solidFill>
              <a:ln w="93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2994120" y="3246480"/>
                <a:ext cx="150480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4478400" y="2995560"/>
                <a:ext cx="174600" cy="465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6576840" y="3002040"/>
                <a:ext cx="174960" cy="465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5" name=""/>
            <p:cNvSpPr/>
            <p:nvPr/>
          </p:nvSpPr>
          <p:spPr>
            <a:xfrm>
              <a:off x="4673520" y="3876840"/>
              <a:ext cx="410220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relation objet-im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I(x,y) = O(x,y) </a:t>
              </a:r>
              <a:r>
                <a:rPr b="0" lang="fr-FR" sz="4400" spc="-1" strike="noStrike" baseline="-25000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 h(x,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6" name=""/>
          <p:cNvGrpSpPr/>
          <p:nvPr/>
        </p:nvGrpSpPr>
        <p:grpSpPr>
          <a:xfrm>
            <a:off x="332640" y="849240"/>
            <a:ext cx="8853120" cy="1835640"/>
            <a:chOff x="332640" y="849240"/>
            <a:chExt cx="8853120" cy="1835640"/>
          </a:xfrm>
        </p:grpSpPr>
        <p:grpSp>
          <p:nvGrpSpPr>
            <p:cNvPr id="4467" name=""/>
            <p:cNvGrpSpPr/>
            <p:nvPr/>
          </p:nvGrpSpPr>
          <p:grpSpPr>
            <a:xfrm>
              <a:off x="332640" y="923400"/>
              <a:ext cx="8853120" cy="1761480"/>
              <a:chOff x="332640" y="923400"/>
              <a:chExt cx="8853120" cy="1761480"/>
            </a:xfrm>
          </p:grpSpPr>
          <p:sp>
            <p:nvSpPr>
              <p:cNvPr id="4468" name=""/>
              <p:cNvSpPr/>
              <p:nvPr/>
            </p:nvSpPr>
            <p:spPr>
              <a:xfrm>
                <a:off x="332640" y="1211400"/>
                <a:ext cx="127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6600ff"/>
                    </a:solidFill>
                    <a:latin typeface="Comic Sans MS"/>
                  </a:rPr>
                  <a:t>tempor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69" name=""/>
              <p:cNvGrpSpPr/>
              <p:nvPr/>
            </p:nvGrpSpPr>
            <p:grpSpPr>
              <a:xfrm>
                <a:off x="2843280" y="923400"/>
                <a:ext cx="5946480" cy="892800"/>
                <a:chOff x="2843280" y="923400"/>
                <a:chExt cx="5946480" cy="892800"/>
              </a:xfrm>
            </p:grpSpPr>
            <p:sp>
              <p:nvSpPr>
                <p:cNvPr id="4470" name=""/>
                <p:cNvSpPr/>
                <p:nvPr/>
              </p:nvSpPr>
              <p:spPr>
                <a:xfrm>
                  <a:off x="2843280" y="1482840"/>
                  <a:ext cx="1481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1" name=""/>
                <p:cNvSpPr/>
                <p:nvPr/>
              </p:nvSpPr>
              <p:spPr>
                <a:xfrm>
                  <a:off x="6510240" y="1482840"/>
                  <a:ext cx="2279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2" name=""/>
                <p:cNvSpPr/>
                <p:nvPr/>
              </p:nvSpPr>
              <p:spPr>
                <a:xfrm>
                  <a:off x="4397400" y="1149480"/>
                  <a:ext cx="2104920" cy="66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3" name=""/>
                <p:cNvSpPr/>
                <p:nvPr/>
              </p:nvSpPr>
              <p:spPr>
                <a:xfrm>
                  <a:off x="4441680" y="1316160"/>
                  <a:ext cx="1474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filtre : h(t) =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4" name=""/>
                <p:cNvSpPr/>
                <p:nvPr/>
              </p:nvSpPr>
              <p:spPr>
                <a:xfrm flipV="1">
                  <a:off x="3208320" y="1202760"/>
                  <a:ext cx="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5" name=""/>
                <p:cNvSpPr/>
                <p:nvPr/>
              </p:nvSpPr>
              <p:spPr>
                <a:xfrm flipV="1">
                  <a:off x="3389040" y="1202760"/>
                  <a:ext cx="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6" name=""/>
                <p:cNvSpPr/>
                <p:nvPr/>
              </p:nvSpPr>
              <p:spPr>
                <a:xfrm flipV="1">
                  <a:off x="3913200" y="923400"/>
                  <a:ext cx="0" cy="55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7" name=""/>
                <p:cNvSpPr/>
                <p:nvPr/>
              </p:nvSpPr>
              <p:spPr>
                <a:xfrm>
                  <a:off x="5954760" y="1144440"/>
                  <a:ext cx="349200" cy="39708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8" name=""/>
                <p:cNvSpPr/>
                <p:nvPr/>
              </p:nvSpPr>
              <p:spPr>
                <a:xfrm>
                  <a:off x="5881680" y="1542960"/>
                  <a:ext cx="538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9" name=""/>
                <p:cNvSpPr/>
                <p:nvPr/>
              </p:nvSpPr>
              <p:spPr>
                <a:xfrm flipV="1">
                  <a:off x="7018200" y="1198080"/>
                  <a:ext cx="0" cy="274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0" name=""/>
                <p:cNvSpPr/>
                <p:nvPr/>
              </p:nvSpPr>
              <p:spPr>
                <a:xfrm flipV="1">
                  <a:off x="7199280" y="1212480"/>
                  <a:ext cx="0" cy="274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1" name=""/>
                <p:cNvSpPr/>
                <p:nvPr/>
              </p:nvSpPr>
              <p:spPr>
                <a:xfrm flipV="1">
                  <a:off x="7723080" y="933120"/>
                  <a:ext cx="0" cy="55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2" name=""/>
                <p:cNvSpPr/>
                <p:nvPr/>
              </p:nvSpPr>
              <p:spPr>
                <a:xfrm flipH="1">
                  <a:off x="6664320" y="1198440"/>
                  <a:ext cx="349200" cy="28116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3" name=""/>
                <p:cNvSpPr/>
                <p:nvPr/>
              </p:nvSpPr>
              <p:spPr>
                <a:xfrm flipH="1">
                  <a:off x="6859440" y="1209600"/>
                  <a:ext cx="349200" cy="28116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4" name=""/>
                <p:cNvSpPr/>
                <p:nvPr/>
              </p:nvSpPr>
              <p:spPr>
                <a:xfrm flipH="1">
                  <a:off x="7369200" y="1015920"/>
                  <a:ext cx="349200" cy="469800"/>
                </a:xfrm>
                <a:custGeom>
                  <a:avLst/>
                  <a:gdLst/>
                  <a:ahLst/>
                  <a:rect l="l" t="t" r="r" b="b"/>
                  <a:pathLst>
                    <a:path w="320" h="324">
                      <a:moveTo>
                        <a:pt x="0" y="324"/>
                      </a:moveTo>
                      <a:cubicBezTo>
                        <a:pt x="3" y="176"/>
                        <a:pt x="7" y="28"/>
                        <a:pt x="28" y="14"/>
                      </a:cubicBezTo>
                      <a:cubicBezTo>
                        <a:pt x="49" y="0"/>
                        <a:pt x="79" y="190"/>
                        <a:pt x="128" y="242"/>
                      </a:cubicBezTo>
                      <a:cubicBezTo>
                        <a:pt x="177" y="294"/>
                        <a:pt x="248" y="309"/>
                        <a:pt x="320" y="324"/>
                      </a:cubicBezTo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5" name=""/>
              <p:cNvSpPr/>
              <p:nvPr/>
            </p:nvSpPr>
            <p:spPr>
              <a:xfrm>
                <a:off x="497880" y="1590480"/>
                <a:ext cx="318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ranslation :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t) --&gt;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t -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6717600" y="1692360"/>
                <a:ext cx="2468160" cy="99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relation entrée-sorti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r(t) = s(t) </a:t>
                </a:r>
                <a:r>
                  <a:rPr b="0" lang="fr-FR" sz="3600" spc="-1" strike="noStrike" baseline="-25000">
                    <a:solidFill>
                      <a:srgbClr val="000000"/>
                    </a:solidFill>
                    <a:latin typeface="Comic Sans MS"/>
                  </a:rPr>
                  <a:t>*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 h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7" name=""/>
            <p:cNvSpPr/>
            <p:nvPr/>
          </p:nvSpPr>
          <p:spPr>
            <a:xfrm>
              <a:off x="7782480" y="914400"/>
              <a:ext cx="45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r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3414600" y="8492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s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9" name=""/>
          <p:cNvSpPr/>
          <p:nvPr/>
        </p:nvSpPr>
        <p:spPr>
          <a:xfrm>
            <a:off x="476280" y="2130480"/>
            <a:ext cx="26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et en optiqu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0" name=""/>
          <p:cNvGrpSpPr/>
          <p:nvPr/>
        </p:nvGrpSpPr>
        <p:grpSpPr>
          <a:xfrm>
            <a:off x="321480" y="4627440"/>
            <a:ext cx="8539920" cy="2100960"/>
            <a:chOff x="321480" y="4627440"/>
            <a:chExt cx="8539920" cy="2100960"/>
          </a:xfrm>
        </p:grpSpPr>
        <p:sp>
          <p:nvSpPr>
            <p:cNvPr id="4491" name=""/>
            <p:cNvSpPr/>
            <p:nvPr/>
          </p:nvSpPr>
          <p:spPr>
            <a:xfrm>
              <a:off x="321480" y="4627440"/>
              <a:ext cx="420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retrouve des choses familiè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2" name=""/>
            <p:cNvGrpSpPr/>
            <p:nvPr/>
          </p:nvGrpSpPr>
          <p:grpSpPr>
            <a:xfrm>
              <a:off x="3273480" y="5089680"/>
              <a:ext cx="1596960" cy="981000"/>
              <a:chOff x="3273480" y="5089680"/>
              <a:chExt cx="1596960" cy="981000"/>
            </a:xfrm>
          </p:grpSpPr>
          <p:sp>
            <p:nvSpPr>
              <p:cNvPr id="4493" name=""/>
              <p:cNvSpPr/>
              <p:nvPr/>
            </p:nvSpPr>
            <p:spPr>
              <a:xfrm>
                <a:off x="3273480" y="5089680"/>
                <a:ext cx="1596960" cy="981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3440160" y="5192640"/>
                <a:ext cx="500040" cy="200160"/>
              </a:xfrm>
              <a:prstGeom prst="ellipse">
                <a:avLst/>
              </a:prstGeom>
              <a:solidFill>
                <a:srgbClr val="6666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3440160" y="5192640"/>
                <a:ext cx="500040" cy="2001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4659120" y="540216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4657680" y="5402160"/>
                <a:ext cx="41400" cy="414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4708440" y="5442120"/>
                <a:ext cx="39600" cy="39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4708440" y="5442120"/>
                <a:ext cx="41400" cy="410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4659120" y="550224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4657680" y="5502240"/>
                <a:ext cx="41400" cy="39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4589280" y="5383080"/>
                <a:ext cx="209520" cy="20808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4587840" y="5381640"/>
                <a:ext cx="210960" cy="211320"/>
              </a:xfrm>
              <a:prstGeom prst="ellipse">
                <a:avLst/>
              </a:prstGeom>
              <a:solidFill>
                <a:srgbClr val="6666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3889440" y="5721480"/>
                <a:ext cx="220680" cy="218880"/>
              </a:xfrm>
              <a:prstGeom prst="ellipse">
                <a:avLst/>
              </a:prstGeom>
              <a:solidFill>
                <a:srgbClr val="6666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3889440" y="5721480"/>
                <a:ext cx="220680" cy="2206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6" name=""/>
            <p:cNvSpPr/>
            <p:nvPr/>
          </p:nvSpPr>
          <p:spPr>
            <a:xfrm>
              <a:off x="5735520" y="5095800"/>
              <a:ext cx="1541520" cy="1015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7" name=""/>
            <p:cNvGrpSpPr/>
            <p:nvPr/>
          </p:nvGrpSpPr>
          <p:grpSpPr>
            <a:xfrm>
              <a:off x="5837400" y="5281560"/>
              <a:ext cx="1309680" cy="638280"/>
              <a:chOff x="5837400" y="5281560"/>
              <a:chExt cx="1309680" cy="638280"/>
            </a:xfrm>
          </p:grpSpPr>
          <p:sp>
            <p:nvSpPr>
              <p:cNvPr id="4508" name=""/>
              <p:cNvSpPr/>
              <p:nvPr/>
            </p:nvSpPr>
            <p:spPr>
              <a:xfrm>
                <a:off x="5837400" y="5281560"/>
                <a:ext cx="369720" cy="810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5837400" y="5281560"/>
                <a:ext cx="369720" cy="810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7056360" y="5472000"/>
                <a:ext cx="39960" cy="396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7054920" y="5470560"/>
                <a:ext cx="41400" cy="4104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7105680" y="5511600"/>
                <a:ext cx="39600" cy="399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7105680" y="5510160"/>
                <a:ext cx="41400" cy="414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7056360" y="5570280"/>
                <a:ext cx="39960" cy="399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7054920" y="5570280"/>
                <a:ext cx="41400" cy="414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6326280" y="5840280"/>
                <a:ext cx="90360" cy="795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6326280" y="5840280"/>
                <a:ext cx="90360" cy="795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8" name=""/>
            <p:cNvGrpSpPr/>
            <p:nvPr/>
          </p:nvGrpSpPr>
          <p:grpSpPr>
            <a:xfrm>
              <a:off x="8088480" y="5384880"/>
              <a:ext cx="772920" cy="592200"/>
              <a:chOff x="8088480" y="5384880"/>
              <a:chExt cx="772920" cy="592200"/>
            </a:xfrm>
          </p:grpSpPr>
          <p:sp>
            <p:nvSpPr>
              <p:cNvPr id="4519" name=""/>
              <p:cNvSpPr/>
              <p:nvPr/>
            </p:nvSpPr>
            <p:spPr>
              <a:xfrm>
                <a:off x="8377200" y="5613480"/>
                <a:ext cx="198360" cy="1872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8377200" y="5613480"/>
                <a:ext cx="200160" cy="18900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8088480" y="5384880"/>
                <a:ext cx="772920" cy="592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8280360" y="5511960"/>
                <a:ext cx="381240" cy="380880"/>
              </a:xfrm>
              <a:prstGeom prst="ellipse">
                <a:avLst/>
              </a:prstGeom>
              <a:noFill/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3" name=""/>
            <p:cNvGrpSpPr/>
            <p:nvPr/>
          </p:nvGrpSpPr>
          <p:grpSpPr>
            <a:xfrm>
              <a:off x="7607160" y="5524560"/>
              <a:ext cx="304560" cy="291960"/>
              <a:chOff x="7607160" y="5524560"/>
              <a:chExt cx="304560" cy="291960"/>
            </a:xfrm>
          </p:grpSpPr>
          <p:sp>
            <p:nvSpPr>
              <p:cNvPr id="4524" name=""/>
              <p:cNvSpPr/>
              <p:nvPr/>
            </p:nvSpPr>
            <p:spPr>
              <a:xfrm flipH="1">
                <a:off x="7657920" y="5549760"/>
                <a:ext cx="241200" cy="24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7657920" y="5574960"/>
                <a:ext cx="24120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7607160" y="56894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7759440" y="5524560"/>
                <a:ext cx="0" cy="29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8" name=""/>
            <p:cNvGrpSpPr/>
            <p:nvPr/>
          </p:nvGrpSpPr>
          <p:grpSpPr>
            <a:xfrm>
              <a:off x="5130720" y="5511960"/>
              <a:ext cx="406440" cy="152280"/>
              <a:chOff x="5130720" y="5511960"/>
              <a:chExt cx="406440" cy="152280"/>
            </a:xfrm>
          </p:grpSpPr>
          <p:sp>
            <p:nvSpPr>
              <p:cNvPr id="4529" name=""/>
              <p:cNvSpPr/>
              <p:nvPr/>
            </p:nvSpPr>
            <p:spPr>
              <a:xfrm>
                <a:off x="5130720" y="5511960"/>
                <a:ext cx="406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5130720" y="5664240"/>
                <a:ext cx="406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1" name=""/>
            <p:cNvSpPr/>
            <p:nvPr/>
          </p:nvSpPr>
          <p:spPr>
            <a:xfrm>
              <a:off x="333360" y="6024600"/>
              <a:ext cx="6872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note : dans la réponse des détails sont perd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a perdu des hautes fréquences,  on a filtré-passe-b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493416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eux remarques impor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"/>
          <p:cNvSpPr/>
          <p:nvPr/>
        </p:nvSpPr>
        <p:spPr>
          <a:xfrm>
            <a:off x="-6120" y="1544760"/>
            <a:ext cx="63576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marque 1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relation objet-image ne suppose r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ur la forme de la pup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lle peut être diluée (domaine non connex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"/>
          <p:cNvSpPr/>
          <p:nvPr/>
        </p:nvSpPr>
        <p:spPr>
          <a:xfrm>
            <a:off x="52920" y="3114720"/>
            <a:ext cx="7371000" cy="2594160"/>
          </a:xfrm>
          <a:prstGeom prst="rect">
            <a:avLst/>
          </a:prstGeom>
          <a:noFill/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remarque 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convolution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dans la relation objet-image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impl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e la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reponse impulsionnelle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(reponse à un dir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st 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invariante par translation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décalage hors d'ax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i tel n'est pas le cas, la relation de con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'est pas val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ne devrait pas parler de fonction de transf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523440" y="5997600"/>
            <a:ext cx="56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s'arrangera toutefois pour pouvoir décr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mment sont transmises les frequences spati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6" name=""/>
          <p:cNvGrpSpPr/>
          <p:nvPr/>
        </p:nvGrpSpPr>
        <p:grpSpPr>
          <a:xfrm>
            <a:off x="4967280" y="639360"/>
            <a:ext cx="4167720" cy="2167200"/>
            <a:chOff x="4967280" y="639360"/>
            <a:chExt cx="4167720" cy="2167200"/>
          </a:xfrm>
        </p:grpSpPr>
        <p:grpSp>
          <p:nvGrpSpPr>
            <p:cNvPr id="4537" name=""/>
            <p:cNvGrpSpPr/>
            <p:nvPr/>
          </p:nvGrpSpPr>
          <p:grpSpPr>
            <a:xfrm>
              <a:off x="7327800" y="1084320"/>
              <a:ext cx="1295280" cy="1722240"/>
              <a:chOff x="7327800" y="1084320"/>
              <a:chExt cx="1295280" cy="1722240"/>
            </a:xfrm>
          </p:grpSpPr>
          <p:sp>
            <p:nvSpPr>
              <p:cNvPr id="4538" name=""/>
              <p:cNvSpPr/>
              <p:nvPr/>
            </p:nvSpPr>
            <p:spPr>
              <a:xfrm flipH="1" rot="5400000">
                <a:off x="7114320" y="1297800"/>
                <a:ext cx="1722240" cy="1295280"/>
              </a:xfrm>
              <a:prstGeom prst="parallelogram">
                <a:avLst>
                  <a:gd name="adj" fmla="val 33241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 flipV="1">
                <a:off x="7380000" y="1904760"/>
                <a:ext cx="115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 flipV="1">
                <a:off x="8002440" y="1345680"/>
                <a:ext cx="0" cy="102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41" name=""/>
            <p:cNvSpPr/>
            <p:nvPr/>
          </p:nvSpPr>
          <p:spPr>
            <a:xfrm flipH="1" rot="5400000">
              <a:off x="5323320" y="852840"/>
              <a:ext cx="1722600" cy="1295280"/>
            </a:xfrm>
            <a:prstGeom prst="parallelogram">
              <a:avLst>
                <a:gd name="adj" fmla="val 3324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4967280" y="1333440"/>
              <a:ext cx="3898800" cy="9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8835480" y="2062080"/>
              <a:ext cx="2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8002080" y="117324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8376840" y="183348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6184800" y="6573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6566040" y="1050840"/>
              <a:ext cx="33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7697880" y="2362320"/>
              <a:ext cx="101520" cy="101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6453360" y="1206360"/>
              <a:ext cx="1231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6288120" y="1447920"/>
              <a:ext cx="127008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6326280" y="1854360"/>
              <a:ext cx="13334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6033960" y="1879560"/>
              <a:ext cx="1536840" cy="52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6097680" y="1460520"/>
              <a:ext cx="1257120" cy="74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 flipV="1">
              <a:off x="5589720" y="1460520"/>
              <a:ext cx="115560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 flipV="1">
              <a:off x="6211800" y="901440"/>
              <a:ext cx="0" cy="1028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5952960" y="1039680"/>
              <a:ext cx="638280" cy="507960"/>
            </a:xfrm>
            <a:custGeom>
              <a:avLst/>
              <a:gdLst/>
              <a:ahLst/>
              <a:rect l="l" t="t" r="r" b="b"/>
              <a:pathLst>
                <a:path w="402" h="320">
                  <a:moveTo>
                    <a:pt x="181" y="140"/>
                  </a:moveTo>
                  <a:cubicBezTo>
                    <a:pt x="210" y="118"/>
                    <a:pt x="230" y="28"/>
                    <a:pt x="265" y="14"/>
                  </a:cubicBezTo>
                  <a:cubicBezTo>
                    <a:pt x="300" y="0"/>
                    <a:pt x="384" y="25"/>
                    <a:pt x="393" y="58"/>
                  </a:cubicBezTo>
                  <a:cubicBezTo>
                    <a:pt x="402" y="91"/>
                    <a:pt x="349" y="172"/>
                    <a:pt x="319" y="214"/>
                  </a:cubicBezTo>
                  <a:cubicBezTo>
                    <a:pt x="289" y="256"/>
                    <a:pt x="260" y="302"/>
                    <a:pt x="210" y="311"/>
                  </a:cubicBezTo>
                  <a:cubicBezTo>
                    <a:pt x="160" y="320"/>
                    <a:pt x="41" y="298"/>
                    <a:pt x="21" y="271"/>
                  </a:cubicBezTo>
                  <a:cubicBezTo>
                    <a:pt x="0" y="244"/>
                    <a:pt x="61" y="171"/>
                    <a:pt x="88" y="149"/>
                  </a:cubicBezTo>
                  <a:cubicBezTo>
                    <a:pt x="115" y="127"/>
                    <a:pt x="152" y="162"/>
                    <a:pt x="181" y="140"/>
                  </a:cubicBezTo>
                  <a:close/>
                </a:path>
              </a:pathLst>
            </a:custGeom>
            <a:solidFill>
              <a:srgbClr val="ccec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5865840" y="1528920"/>
              <a:ext cx="588960" cy="519120"/>
            </a:xfrm>
            <a:custGeom>
              <a:avLst/>
              <a:gdLst/>
              <a:ahLst/>
              <a:rect l="l" t="t" r="r" b="b"/>
              <a:pathLst>
                <a:path w="371" h="327">
                  <a:moveTo>
                    <a:pt x="29" y="72"/>
                  </a:moveTo>
                  <a:cubicBezTo>
                    <a:pt x="57" y="58"/>
                    <a:pt x="134" y="0"/>
                    <a:pt x="188" y="12"/>
                  </a:cubicBezTo>
                  <a:cubicBezTo>
                    <a:pt x="242" y="24"/>
                    <a:pt x="339" y="95"/>
                    <a:pt x="355" y="143"/>
                  </a:cubicBezTo>
                  <a:cubicBezTo>
                    <a:pt x="371" y="191"/>
                    <a:pt x="319" y="271"/>
                    <a:pt x="282" y="299"/>
                  </a:cubicBezTo>
                  <a:cubicBezTo>
                    <a:pt x="245" y="327"/>
                    <a:pt x="169" y="312"/>
                    <a:pt x="133" y="309"/>
                  </a:cubicBezTo>
                  <a:cubicBezTo>
                    <a:pt x="97" y="306"/>
                    <a:pt x="84" y="297"/>
                    <a:pt x="63" y="280"/>
                  </a:cubicBezTo>
                  <a:cubicBezTo>
                    <a:pt x="42" y="263"/>
                    <a:pt x="16" y="238"/>
                    <a:pt x="8" y="207"/>
                  </a:cubicBezTo>
                  <a:cubicBezTo>
                    <a:pt x="0" y="176"/>
                    <a:pt x="14" y="117"/>
                    <a:pt x="17" y="95"/>
                  </a:cubicBezTo>
                  <a:cubicBezTo>
                    <a:pt x="20" y="73"/>
                    <a:pt x="1" y="86"/>
                    <a:pt x="29" y="72"/>
                  </a:cubicBezTo>
                  <a:close/>
                </a:path>
              </a:pathLst>
            </a:custGeom>
            <a:solidFill>
              <a:srgbClr val="ccec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8" name=""/>
            <p:cNvGrpSpPr/>
            <p:nvPr/>
          </p:nvGrpSpPr>
          <p:grpSpPr>
            <a:xfrm>
              <a:off x="5970600" y="1155600"/>
              <a:ext cx="520200" cy="787320"/>
              <a:chOff x="5970600" y="1155600"/>
              <a:chExt cx="520200" cy="787320"/>
            </a:xfrm>
          </p:grpSpPr>
          <p:sp>
            <p:nvSpPr>
              <p:cNvPr id="4559" name=""/>
              <p:cNvSpPr/>
              <p:nvPr/>
            </p:nvSpPr>
            <p:spPr>
              <a:xfrm>
                <a:off x="6389640" y="1155600"/>
                <a:ext cx="10116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6046560" y="1600200"/>
                <a:ext cx="10116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6224400" y="1371600"/>
                <a:ext cx="10116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6262560" y="1778040"/>
                <a:ext cx="10116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5970600" y="18414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6059160" y="13968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611208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iltrage linéaire_4     encore du Fourier !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341280" y="1138320"/>
            <a:ext cx="88027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elation objet-image     </a:t>
            </a:r>
            <a:r>
              <a:rPr b="1" lang="fr-FR" sz="1800" spc="-1" strike="noStrike">
                <a:solidFill>
                  <a:srgbClr val="3333cc"/>
                </a:solidFill>
                <a:latin typeface="Comic Sans MS"/>
              </a:rPr>
              <a:t> I(x,y) = O(x,y) </a:t>
            </a:r>
            <a:r>
              <a:rPr b="1" lang="fr-FR" sz="3600" spc="-1" strike="noStrike" baseline="-25000">
                <a:solidFill>
                  <a:srgbClr val="3333cc"/>
                </a:solidFill>
                <a:latin typeface="Comic Sans MS"/>
              </a:rPr>
              <a:t>*</a:t>
            </a:r>
            <a:r>
              <a:rPr b="1" lang="fr-FR" sz="1800" spc="-1" strike="noStrike">
                <a:solidFill>
                  <a:srgbClr val="3333cc"/>
                </a:solidFill>
                <a:latin typeface="Comic Sans MS"/>
              </a:rPr>
              <a:t> h(x,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escription de l'image dans l'espace des coor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 optique h(x,y) = Point Spread Function  (fonction d'étalement, Airy patter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7" name=""/>
          <p:cNvGrpSpPr/>
          <p:nvPr/>
        </p:nvGrpSpPr>
        <p:grpSpPr>
          <a:xfrm>
            <a:off x="615600" y="5021280"/>
            <a:ext cx="8229600" cy="1293480"/>
            <a:chOff x="615600" y="5021280"/>
            <a:chExt cx="8229600" cy="1293480"/>
          </a:xfrm>
        </p:grpSpPr>
        <mc:AlternateContent>
          <mc:Choice xmlns:a14="http://schemas.microsoft.com/office/drawing/2010/main" Requires="a14">
            <p:sp>
              <p:nvSpPr>
                <p:cNvPr id="4568" name=""/>
                <p:cNvSpPr txBox="1"/>
                <p:nvPr/>
              </p:nvSpPr>
              <p:spPr>
                <a:xfrm>
                  <a:off x="768240" y="5462280"/>
                  <a:ext cx="48546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I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O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h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O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,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69" name=""/>
            <p:cNvSpPr/>
            <p:nvPr/>
          </p:nvSpPr>
          <p:spPr>
            <a:xfrm>
              <a:off x="730440" y="5794200"/>
              <a:ext cx="811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3333cc"/>
                  </a:solidFill>
                  <a:latin typeface="Comic Sans MS"/>
                </a:rPr>
                <a:t>T(u,v) = fonction de transfert = TF de la réponse impulsionnel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615600" y="5021280"/>
              <a:ext cx="70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scription dans l'espace des frequences :  un coup de T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1" name=""/>
          <p:cNvGrpSpPr/>
          <p:nvPr/>
        </p:nvGrpSpPr>
        <p:grpSpPr>
          <a:xfrm>
            <a:off x="761760" y="2395440"/>
            <a:ext cx="7773840" cy="2394000"/>
            <a:chOff x="761760" y="2395440"/>
            <a:chExt cx="7773840" cy="2394000"/>
          </a:xfrm>
        </p:grpSpPr>
        <p:pic>
          <p:nvPicPr>
            <p:cNvPr id="4572" name="" descr=""/>
            <p:cNvPicPr/>
            <p:nvPr/>
          </p:nvPicPr>
          <p:blipFill>
            <a:blip r:embed="rId1"/>
            <a:stretch/>
          </p:blipFill>
          <p:spPr>
            <a:xfrm>
              <a:off x="3127320" y="3243240"/>
              <a:ext cx="1546200" cy="154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73" name=""/>
            <p:cNvGrpSpPr/>
            <p:nvPr/>
          </p:nvGrpSpPr>
          <p:grpSpPr>
            <a:xfrm>
              <a:off x="761760" y="2395440"/>
              <a:ext cx="3937320" cy="1235160"/>
              <a:chOff x="761760" y="2395440"/>
              <a:chExt cx="3937320" cy="1235160"/>
            </a:xfrm>
          </p:grpSpPr>
          <p:sp>
            <p:nvSpPr>
              <p:cNvPr id="4574" name=""/>
              <p:cNvSpPr/>
              <p:nvPr/>
            </p:nvSpPr>
            <p:spPr>
              <a:xfrm>
                <a:off x="3778200" y="2395440"/>
                <a:ext cx="650880" cy="595440"/>
              </a:xfrm>
              <a:custGeom>
                <a:avLst/>
                <a:gdLst/>
                <a:ahLst/>
                <a:rect l="l" t="t" r="r" b="b"/>
                <a:pathLst>
                  <a:path w="410" h="375">
                    <a:moveTo>
                      <a:pt x="53" y="0"/>
                    </a:moveTo>
                    <a:cubicBezTo>
                      <a:pt x="53" y="10"/>
                      <a:pt x="49" y="42"/>
                      <a:pt x="54" y="58"/>
                    </a:cubicBezTo>
                    <a:cubicBezTo>
                      <a:pt x="59" y="74"/>
                      <a:pt x="81" y="83"/>
                      <a:pt x="81" y="98"/>
                    </a:cubicBezTo>
                    <a:cubicBezTo>
                      <a:pt x="81" y="113"/>
                      <a:pt x="0" y="133"/>
                      <a:pt x="54" y="149"/>
                    </a:cubicBezTo>
                    <a:cubicBezTo>
                      <a:pt x="108" y="165"/>
                      <a:pt x="400" y="181"/>
                      <a:pt x="405" y="195"/>
                    </a:cubicBezTo>
                    <a:cubicBezTo>
                      <a:pt x="410" y="209"/>
                      <a:pt x="146" y="230"/>
                      <a:pt x="87" y="236"/>
                    </a:cubicBezTo>
                    <a:cubicBezTo>
                      <a:pt x="28" y="242"/>
                      <a:pt x="50" y="225"/>
                      <a:pt x="48" y="233"/>
                    </a:cubicBezTo>
                    <a:cubicBezTo>
                      <a:pt x="46" y="241"/>
                      <a:pt x="75" y="269"/>
                      <a:pt x="75" y="284"/>
                    </a:cubicBezTo>
                    <a:cubicBezTo>
                      <a:pt x="75" y="299"/>
                      <a:pt x="49" y="311"/>
                      <a:pt x="45" y="326"/>
                    </a:cubicBezTo>
                    <a:cubicBezTo>
                      <a:pt x="41" y="341"/>
                      <a:pt x="48" y="365"/>
                      <a:pt x="48" y="375"/>
                    </a:cubicBezTo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75" name=""/>
              <p:cNvGrpSpPr/>
              <p:nvPr/>
            </p:nvGrpSpPr>
            <p:grpSpPr>
              <a:xfrm>
                <a:off x="761760" y="2416320"/>
                <a:ext cx="3937320" cy="1214280"/>
                <a:chOff x="761760" y="2416320"/>
                <a:chExt cx="3937320" cy="1214280"/>
              </a:xfrm>
            </p:grpSpPr>
            <p:sp>
              <p:nvSpPr>
                <p:cNvPr id="4576" name=""/>
                <p:cNvSpPr/>
                <p:nvPr/>
              </p:nvSpPr>
              <p:spPr>
                <a:xfrm>
                  <a:off x="3832920" y="2416320"/>
                  <a:ext cx="287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Comic Sans MS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7" name=""/>
                <p:cNvSpPr/>
                <p:nvPr/>
              </p:nvSpPr>
              <p:spPr>
                <a:xfrm>
                  <a:off x="1009800" y="3003480"/>
                  <a:ext cx="368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8" name=""/>
                <p:cNvSpPr/>
                <p:nvPr/>
              </p:nvSpPr>
              <p:spPr>
                <a:xfrm>
                  <a:off x="2400480" y="2855880"/>
                  <a:ext cx="1498320" cy="304920"/>
                </a:xfrm>
                <a:custGeom>
                  <a:avLst/>
                  <a:gdLst/>
                  <a:ahLst/>
                  <a:rect l="l" t="t" r="r" b="b"/>
                  <a:pathLst>
                    <a:path w="944" h="192">
                      <a:moveTo>
                        <a:pt x="0" y="0"/>
                      </a:moveTo>
                      <a:lnTo>
                        <a:pt x="944" y="96"/>
                      </a:lnTo>
                      <a:lnTo>
                        <a:pt x="0" y="192"/>
                      </a:lnTo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9" name=""/>
                <p:cNvSpPr/>
                <p:nvPr/>
              </p:nvSpPr>
              <p:spPr>
                <a:xfrm flipV="1">
                  <a:off x="3860640" y="2513160"/>
                  <a:ext cx="0" cy="97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0" name=""/>
                <p:cNvSpPr/>
                <p:nvPr/>
              </p:nvSpPr>
              <p:spPr>
                <a:xfrm>
                  <a:off x="888840" y="2855880"/>
                  <a:ext cx="1498680" cy="304920"/>
                </a:xfrm>
                <a:custGeom>
                  <a:avLst/>
                  <a:gdLst/>
                  <a:ahLst/>
                  <a:rect l="l" t="t" r="r" b="b"/>
                  <a:pathLst>
                    <a:path w="944" h="192">
                      <a:moveTo>
                        <a:pt x="0" y="0"/>
                      </a:moveTo>
                      <a:lnTo>
                        <a:pt x="944" y="0"/>
                      </a:lnTo>
                      <a:lnTo>
                        <a:pt x="944" y="192"/>
                      </a:lnTo>
                      <a:lnTo>
                        <a:pt x="0" y="192"/>
                      </a:lnTo>
                    </a:path>
                  </a:pathLst>
                </a:custGeom>
                <a:noFill/>
                <a:ln w="93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1" name=""/>
                <p:cNvSpPr/>
                <p:nvPr/>
              </p:nvSpPr>
              <p:spPr>
                <a:xfrm>
                  <a:off x="2309760" y="2759040"/>
                  <a:ext cx="174600" cy="465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2" name=""/>
                <p:cNvSpPr/>
                <p:nvPr/>
              </p:nvSpPr>
              <p:spPr>
                <a:xfrm>
                  <a:off x="2378880" y="2541600"/>
                  <a:ext cx="569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P(</a:t>
                  </a:r>
                  <a:r>
                    <a:rPr b="0" lang="fr-FR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</a:t>
                  </a: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3" name=""/>
                <p:cNvSpPr/>
                <p:nvPr/>
              </p:nvSpPr>
              <p:spPr>
                <a:xfrm>
                  <a:off x="3085560" y="3092400"/>
                  <a:ext cx="33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omic Sans MS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4" name=""/>
                <p:cNvSpPr/>
                <p:nvPr/>
              </p:nvSpPr>
              <p:spPr>
                <a:xfrm>
                  <a:off x="2413080" y="3452760"/>
                  <a:ext cx="1434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5" name=""/>
                <p:cNvSpPr/>
                <p:nvPr/>
              </p:nvSpPr>
              <p:spPr>
                <a:xfrm flipH="1">
                  <a:off x="761760" y="2703600"/>
                  <a:ext cx="3098520" cy="63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6" name=""/>
                <p:cNvSpPr/>
                <p:nvPr/>
              </p:nvSpPr>
              <p:spPr>
                <a:xfrm>
                  <a:off x="1498680" y="3008160"/>
                  <a:ext cx="914400" cy="190800"/>
                </a:xfrm>
                <a:custGeom>
                  <a:avLst/>
                  <a:gdLst/>
                  <a:ahLst/>
                  <a:rect l="l" t="t" r="r" b="b"/>
                  <a:pathLst>
                    <a:path w="576" h="120">
                      <a:moveTo>
                        <a:pt x="0" y="0"/>
                      </a:moveTo>
                      <a:lnTo>
                        <a:pt x="576" y="0"/>
                      </a:lnTo>
                      <a:lnTo>
                        <a:pt x="16" y="120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cc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7" name=""/>
                <p:cNvSpPr/>
                <p:nvPr/>
              </p:nvSpPr>
              <p:spPr>
                <a:xfrm>
                  <a:off x="1535040" y="300528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8" name=""/>
                <p:cNvSpPr/>
                <p:nvPr/>
              </p:nvSpPr>
              <p:spPr>
                <a:xfrm flipV="1">
                  <a:off x="2400480" y="2475000"/>
                  <a:ext cx="0" cy="115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89" name=""/>
            <p:cNvGrpSpPr/>
            <p:nvPr/>
          </p:nvGrpSpPr>
          <p:grpSpPr>
            <a:xfrm>
              <a:off x="4838760" y="2548080"/>
              <a:ext cx="3696840" cy="2039400"/>
              <a:chOff x="4838760" y="2548080"/>
              <a:chExt cx="3696840" cy="2039400"/>
            </a:xfrm>
          </p:grpSpPr>
          <p:sp>
            <p:nvSpPr>
              <p:cNvPr id="4590" name=""/>
              <p:cNvSpPr/>
              <p:nvPr/>
            </p:nvSpPr>
            <p:spPr>
              <a:xfrm>
                <a:off x="4838760" y="2548080"/>
                <a:ext cx="759600" cy="2039400"/>
              </a:xfrm>
              <a:custGeom>
                <a:avLst/>
                <a:gdLst/>
                <a:ahLst/>
                <a:rect l="l" t="t" r="r" b="b"/>
                <a:pathLst>
                  <a:path w="736" h="1968">
                    <a:moveTo>
                      <a:pt x="0" y="600"/>
                    </a:moveTo>
                    <a:lnTo>
                      <a:pt x="736" y="0"/>
                    </a:lnTo>
                    <a:lnTo>
                      <a:pt x="736" y="1320"/>
                    </a:lnTo>
                    <a:lnTo>
                      <a:pt x="32" y="1968"/>
                    </a:lnTo>
                    <a:lnTo>
                      <a:pt x="0" y="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 flipH="1">
                <a:off x="5004720" y="3643200"/>
                <a:ext cx="1119240" cy="26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 flipH="1">
                <a:off x="5217480" y="3529080"/>
                <a:ext cx="123912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5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055720" y="2928240"/>
                <a:ext cx="479880" cy="48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4" name=""/>
              <p:cNvSpPr/>
              <p:nvPr/>
            </p:nvSpPr>
            <p:spPr>
              <a:xfrm>
                <a:off x="6150600" y="3076200"/>
                <a:ext cx="921960" cy="919800"/>
              </a:xfrm>
              <a:prstGeom prst="cube">
                <a:avLst>
                  <a:gd name="adj" fmla="val 3647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 flipH="1">
                <a:off x="6930000" y="3529080"/>
                <a:ext cx="124092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6" name=""/>
              <p:cNvGrpSpPr/>
              <p:nvPr/>
            </p:nvGrpSpPr>
            <p:grpSpPr>
              <a:xfrm>
                <a:off x="4907520" y="2959560"/>
                <a:ext cx="608400" cy="1106280"/>
                <a:chOff x="4907520" y="2959560"/>
                <a:chExt cx="608400" cy="1106280"/>
              </a:xfrm>
            </p:grpSpPr>
            <p:sp>
              <p:nvSpPr>
                <p:cNvPr id="4597" name=""/>
                <p:cNvSpPr/>
                <p:nvPr/>
              </p:nvSpPr>
              <p:spPr>
                <a:xfrm flipV="1">
                  <a:off x="4907520" y="3219480"/>
                  <a:ext cx="608400" cy="58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8" name=""/>
                <p:cNvSpPr/>
                <p:nvPr/>
              </p:nvSpPr>
              <p:spPr>
                <a:xfrm flipV="1">
                  <a:off x="5206680" y="2959560"/>
                  <a:ext cx="0" cy="110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59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757280" y="3419280"/>
                <a:ext cx="509400" cy="481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00" name=""/>
              <p:cNvGrpSpPr/>
              <p:nvPr/>
            </p:nvGrpSpPr>
            <p:grpSpPr>
              <a:xfrm>
                <a:off x="7729560" y="2959560"/>
                <a:ext cx="608040" cy="1106280"/>
                <a:chOff x="7729560" y="2959560"/>
                <a:chExt cx="608040" cy="1106280"/>
              </a:xfrm>
            </p:grpSpPr>
            <p:sp>
              <p:nvSpPr>
                <p:cNvPr id="4601" name=""/>
                <p:cNvSpPr/>
                <p:nvPr/>
              </p:nvSpPr>
              <p:spPr>
                <a:xfrm flipV="1">
                  <a:off x="7729560" y="3219480"/>
                  <a:ext cx="608040" cy="58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2" name=""/>
                <p:cNvSpPr/>
                <p:nvPr/>
              </p:nvSpPr>
              <p:spPr>
                <a:xfrm flipV="1">
                  <a:off x="8028720" y="2959560"/>
                  <a:ext cx="0" cy="110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3" name=""/>
              <p:cNvSpPr/>
              <p:nvPr/>
            </p:nvSpPr>
            <p:spPr>
              <a:xfrm>
                <a:off x="6854400" y="3393000"/>
                <a:ext cx="124560" cy="27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 flipH="1">
                <a:off x="6912000" y="3182400"/>
                <a:ext cx="1203840" cy="27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6889320" y="3549960"/>
                <a:ext cx="1022760" cy="10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5342760" y="3402360"/>
                <a:ext cx="875160" cy="8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7" name=""/>
              <p:cNvGrpSpPr/>
              <p:nvPr/>
            </p:nvGrpSpPr>
            <p:grpSpPr>
              <a:xfrm>
                <a:off x="4924440" y="3413880"/>
                <a:ext cx="838800" cy="519840"/>
                <a:chOff x="4924440" y="3413880"/>
                <a:chExt cx="838800" cy="519840"/>
              </a:xfrm>
            </p:grpSpPr>
            <p:sp>
              <p:nvSpPr>
                <p:cNvPr id="4608" name=""/>
                <p:cNvSpPr/>
                <p:nvPr/>
              </p:nvSpPr>
              <p:spPr>
                <a:xfrm>
                  <a:off x="4924440" y="3933720"/>
                  <a:ext cx="4579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9" name=""/>
                <p:cNvSpPr/>
                <p:nvPr/>
              </p:nvSpPr>
              <p:spPr>
                <a:xfrm>
                  <a:off x="5303160" y="3413880"/>
                  <a:ext cx="46008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0" name=""/>
              <p:cNvSpPr/>
              <p:nvPr/>
            </p:nvSpPr>
            <p:spPr>
              <a:xfrm>
                <a:off x="7714440" y="2590560"/>
                <a:ext cx="660960" cy="1766880"/>
              </a:xfrm>
              <a:custGeom>
                <a:avLst/>
                <a:gdLst/>
                <a:ahLst/>
                <a:rect l="l" t="t" r="r" b="b"/>
                <a:pathLst>
                  <a:path w="736" h="1968">
                    <a:moveTo>
                      <a:pt x="0" y="600"/>
                    </a:moveTo>
                    <a:lnTo>
                      <a:pt x="736" y="0"/>
                    </a:lnTo>
                    <a:lnTo>
                      <a:pt x="736" y="1320"/>
                    </a:lnTo>
                    <a:lnTo>
                      <a:pt x="32" y="1968"/>
                    </a:lnTo>
                    <a:lnTo>
                      <a:pt x="0" y="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6199920" y="3391200"/>
                <a:ext cx="50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sy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op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2" name=""/>
          <p:cNvGrpSpPr/>
          <p:nvPr/>
        </p:nvGrpSpPr>
        <p:grpSpPr>
          <a:xfrm>
            <a:off x="7840800" y="676440"/>
            <a:ext cx="1000080" cy="812880"/>
            <a:chOff x="7840800" y="676440"/>
            <a:chExt cx="1000080" cy="812880"/>
          </a:xfrm>
        </p:grpSpPr>
        <p:sp>
          <p:nvSpPr>
            <p:cNvPr id="4613" name=""/>
            <p:cNvSpPr/>
            <p:nvPr/>
          </p:nvSpPr>
          <p:spPr>
            <a:xfrm>
              <a:off x="7840800" y="6764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8061840" y="9079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5" name=""/>
          <p:cNvGrpSpPr/>
          <p:nvPr/>
        </p:nvGrpSpPr>
        <p:grpSpPr>
          <a:xfrm>
            <a:off x="5776920" y="2241720"/>
            <a:ext cx="3070080" cy="1444320"/>
            <a:chOff x="5776920" y="2241720"/>
            <a:chExt cx="3070080" cy="1444320"/>
          </a:xfrm>
        </p:grpSpPr>
        <p:pic>
          <p:nvPicPr>
            <p:cNvPr id="4616" name="" descr=""/>
            <p:cNvPicPr/>
            <p:nvPr/>
          </p:nvPicPr>
          <p:blipFill>
            <a:blip r:embed="rId1"/>
            <a:stretch/>
          </p:blipFill>
          <p:spPr>
            <a:xfrm>
              <a:off x="5776920" y="2241720"/>
              <a:ext cx="1444680" cy="14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7" name="" descr=""/>
            <p:cNvPicPr/>
            <p:nvPr/>
          </p:nvPicPr>
          <p:blipFill>
            <a:blip r:embed="rId2"/>
            <a:stretch/>
          </p:blipFill>
          <p:spPr>
            <a:xfrm>
              <a:off x="7659720" y="2738160"/>
              <a:ext cx="812880" cy="72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8" name=""/>
            <p:cNvSpPr/>
            <p:nvPr/>
          </p:nvSpPr>
          <p:spPr>
            <a:xfrm>
              <a:off x="7286760" y="306504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7286760" y="316044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7648560" y="2760480"/>
              <a:ext cx="0" cy="75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8497800" y="2760480"/>
              <a:ext cx="0" cy="75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8520120" y="2617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3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35910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ction de transfert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"/>
          <p:cNvSpPr/>
          <p:nvPr/>
        </p:nvSpPr>
        <p:spPr>
          <a:xfrm>
            <a:off x="3519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5" name=""/>
          <p:cNvSpPr/>
          <p:nvPr/>
        </p:nvSpPr>
        <p:spPr>
          <a:xfrm>
            <a:off x="405288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"/>
          <p:cNvSpPr/>
          <p:nvPr/>
        </p:nvSpPr>
        <p:spPr>
          <a:xfrm>
            <a:off x="390996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"/>
          <p:cNvSpPr/>
          <p:nvPr/>
        </p:nvSpPr>
        <p:spPr>
          <a:xfrm>
            <a:off x="343368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"/>
          <p:cNvSpPr/>
          <p:nvPr/>
        </p:nvSpPr>
        <p:spPr>
          <a:xfrm>
            <a:off x="30337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9" name=""/>
          <p:cNvSpPr/>
          <p:nvPr/>
        </p:nvSpPr>
        <p:spPr>
          <a:xfrm>
            <a:off x="215640" y="1373040"/>
            <a:ext cx="86983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lle indique comment les fréquences sont transmises par l'instr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lle a la même forme que l'autocorrélation de la pupille d'entr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is les variables ne sont pas les mêmes  (longueurs et frèq. spatio-angulai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ptique de Fourier :   PSF =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F(pupille)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fr-FR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fonct. de transfert = TF(PSF) = TF(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F(pupille)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fr-FR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e qui nous ramène (en gros) à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fonct. de transfert = pupille </a:t>
            </a:r>
            <a:r>
              <a:rPr b="0" lang="fr-FR" sz="2000" spc="-1" strike="noStrike">
                <a:solidFill>
                  <a:srgbClr val="3333cc"/>
                </a:solidFill>
                <a:latin typeface="Symbol"/>
                <a:ea typeface="Symbol"/>
              </a:rPr>
              <a:t>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 pupille    (Parseval-Rayleig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elescope ==&gt;    pupille 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, autocorrelation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0" name=""/>
          <p:cNvSpPr/>
          <p:nvPr/>
        </p:nvSpPr>
        <p:spPr>
          <a:xfrm>
            <a:off x="1754280" y="538020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66"/>
                </a:solidFill>
                <a:latin typeface="Comic Sans MS"/>
              </a:rPr>
              <a:t>spectre objet (sour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1" name=""/>
          <p:cNvSpPr/>
          <p:nvPr/>
        </p:nvSpPr>
        <p:spPr>
          <a:xfrm>
            <a:off x="1775160" y="5813280"/>
            <a:ext cx="2402640" cy="368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onction de transf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2" name=""/>
          <p:cNvSpPr/>
          <p:nvPr/>
        </p:nvSpPr>
        <p:spPr>
          <a:xfrm>
            <a:off x="1532880" y="6216480"/>
            <a:ext cx="2841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99ff"/>
                </a:solidFill>
                <a:latin typeface="Comic Sans MS"/>
              </a:rPr>
              <a:t>spectre image (transm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3" name=""/>
          <p:cNvSpPr/>
          <p:nvPr/>
        </p:nvSpPr>
        <p:spPr>
          <a:xfrm>
            <a:off x="4386240" y="6350040"/>
            <a:ext cx="34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4" name=""/>
          <p:cNvSpPr/>
          <p:nvPr/>
        </p:nvSpPr>
        <p:spPr>
          <a:xfrm flipV="1">
            <a:off x="5954760" y="5368680"/>
            <a:ext cx="0" cy="98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>
            <a:off x="7179840" y="591336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req sp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6" name=""/>
          <p:cNvGrpSpPr/>
          <p:nvPr/>
        </p:nvGrpSpPr>
        <p:grpSpPr>
          <a:xfrm>
            <a:off x="4362120" y="5594400"/>
            <a:ext cx="3165840" cy="755640"/>
            <a:chOff x="4362120" y="5594400"/>
            <a:chExt cx="3165840" cy="755640"/>
          </a:xfrm>
        </p:grpSpPr>
        <p:sp>
          <p:nvSpPr>
            <p:cNvPr id="4637" name=""/>
            <p:cNvSpPr/>
            <p:nvPr/>
          </p:nvSpPr>
          <p:spPr>
            <a:xfrm>
              <a:off x="5940360" y="5600880"/>
              <a:ext cx="1587600" cy="749160"/>
            </a:xfrm>
            <a:custGeom>
              <a:avLst/>
              <a:gdLst/>
              <a:ahLst/>
              <a:rect l="l" t="t" r="r" b="b"/>
              <a:pathLst>
                <a:path w="1000" h="472">
                  <a:moveTo>
                    <a:pt x="0" y="0"/>
                  </a:moveTo>
                  <a:cubicBezTo>
                    <a:pt x="92" y="24"/>
                    <a:pt x="184" y="49"/>
                    <a:pt x="263" y="90"/>
                  </a:cubicBezTo>
                  <a:cubicBezTo>
                    <a:pt x="342" y="131"/>
                    <a:pt x="407" y="201"/>
                    <a:pt x="472" y="245"/>
                  </a:cubicBezTo>
                  <a:cubicBezTo>
                    <a:pt x="537" y="289"/>
                    <a:pt x="602" y="325"/>
                    <a:pt x="654" y="354"/>
                  </a:cubicBezTo>
                  <a:cubicBezTo>
                    <a:pt x="706" y="383"/>
                    <a:pt x="735" y="400"/>
                    <a:pt x="781" y="418"/>
                  </a:cubicBezTo>
                  <a:cubicBezTo>
                    <a:pt x="827" y="436"/>
                    <a:pt x="891" y="454"/>
                    <a:pt x="927" y="463"/>
                  </a:cubicBezTo>
                  <a:cubicBezTo>
                    <a:pt x="963" y="472"/>
                    <a:pt x="981" y="472"/>
                    <a:pt x="1000" y="472"/>
                  </a:cubicBezTo>
                </a:path>
              </a:pathLst>
            </a:custGeom>
            <a:noFill/>
            <a:ln w="572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 flipH="1">
              <a:off x="4361760" y="5594400"/>
              <a:ext cx="1587240" cy="749160"/>
            </a:xfrm>
            <a:custGeom>
              <a:avLst/>
              <a:gdLst/>
              <a:ahLst/>
              <a:rect l="l" t="t" r="r" b="b"/>
              <a:pathLst>
                <a:path w="1000" h="472">
                  <a:moveTo>
                    <a:pt x="0" y="0"/>
                  </a:moveTo>
                  <a:cubicBezTo>
                    <a:pt x="92" y="24"/>
                    <a:pt x="184" y="49"/>
                    <a:pt x="263" y="90"/>
                  </a:cubicBezTo>
                  <a:cubicBezTo>
                    <a:pt x="342" y="131"/>
                    <a:pt x="407" y="201"/>
                    <a:pt x="472" y="245"/>
                  </a:cubicBezTo>
                  <a:cubicBezTo>
                    <a:pt x="537" y="289"/>
                    <a:pt x="602" y="325"/>
                    <a:pt x="654" y="354"/>
                  </a:cubicBezTo>
                  <a:cubicBezTo>
                    <a:pt x="706" y="383"/>
                    <a:pt x="735" y="400"/>
                    <a:pt x="781" y="418"/>
                  </a:cubicBezTo>
                  <a:cubicBezTo>
                    <a:pt x="827" y="436"/>
                    <a:pt x="891" y="454"/>
                    <a:pt x="927" y="463"/>
                  </a:cubicBezTo>
                  <a:cubicBezTo>
                    <a:pt x="963" y="472"/>
                    <a:pt x="981" y="472"/>
                    <a:pt x="1000" y="472"/>
                  </a:cubicBezTo>
                </a:path>
              </a:pathLst>
            </a:custGeom>
            <a:noFill/>
            <a:ln w="572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9" name=""/>
          <p:cNvSpPr/>
          <p:nvPr/>
        </p:nvSpPr>
        <p:spPr>
          <a:xfrm>
            <a:off x="5457960" y="5584680"/>
            <a:ext cx="1057320" cy="77004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0" name=""/>
          <p:cNvGrpSpPr/>
          <p:nvPr/>
        </p:nvGrpSpPr>
        <p:grpSpPr>
          <a:xfrm>
            <a:off x="5275440" y="5629320"/>
            <a:ext cx="1362600" cy="777960"/>
            <a:chOff x="5275440" y="5629320"/>
            <a:chExt cx="1362600" cy="777960"/>
          </a:xfrm>
        </p:grpSpPr>
        <p:sp>
          <p:nvSpPr>
            <p:cNvPr id="4641" name=""/>
            <p:cNvSpPr/>
            <p:nvPr/>
          </p:nvSpPr>
          <p:spPr>
            <a:xfrm>
              <a:off x="5275440" y="5634000"/>
              <a:ext cx="668160" cy="773280"/>
            </a:xfrm>
            <a:custGeom>
              <a:avLst/>
              <a:gdLst/>
              <a:ahLst/>
              <a:rect l="l" t="t" r="r" b="b"/>
              <a:pathLst>
                <a:path w="421" h="487">
                  <a:moveTo>
                    <a:pt x="421" y="0"/>
                  </a:moveTo>
                  <a:cubicBezTo>
                    <a:pt x="407" y="7"/>
                    <a:pt x="369" y="5"/>
                    <a:pt x="337" y="42"/>
                  </a:cubicBezTo>
                  <a:cubicBezTo>
                    <a:pt x="305" y="79"/>
                    <a:pt x="267" y="156"/>
                    <a:pt x="228" y="224"/>
                  </a:cubicBezTo>
                  <a:cubicBezTo>
                    <a:pt x="189" y="292"/>
                    <a:pt x="138" y="409"/>
                    <a:pt x="100" y="448"/>
                  </a:cubicBezTo>
                  <a:cubicBezTo>
                    <a:pt x="62" y="487"/>
                    <a:pt x="21" y="455"/>
                    <a:pt x="0" y="457"/>
                  </a:cubicBezTo>
                </a:path>
              </a:pathLst>
            </a:custGeom>
            <a:noFill/>
            <a:ln w="57240">
              <a:solidFill>
                <a:srgbClr val="3399ff"/>
              </a:solidFill>
              <a:round/>
            </a:ln>
            <a:effectLst>
              <a:outerShdw dist="56832" dir="16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 flipH="1">
              <a:off x="5969880" y="5629320"/>
              <a:ext cx="667800" cy="772920"/>
            </a:xfrm>
            <a:custGeom>
              <a:avLst/>
              <a:gdLst/>
              <a:ahLst/>
              <a:rect l="l" t="t" r="r" b="b"/>
              <a:pathLst>
                <a:path w="421" h="487">
                  <a:moveTo>
                    <a:pt x="421" y="0"/>
                  </a:moveTo>
                  <a:cubicBezTo>
                    <a:pt x="407" y="7"/>
                    <a:pt x="369" y="5"/>
                    <a:pt x="337" y="42"/>
                  </a:cubicBezTo>
                  <a:cubicBezTo>
                    <a:pt x="305" y="79"/>
                    <a:pt x="267" y="156"/>
                    <a:pt x="228" y="224"/>
                  </a:cubicBezTo>
                  <a:cubicBezTo>
                    <a:pt x="189" y="292"/>
                    <a:pt x="138" y="409"/>
                    <a:pt x="100" y="448"/>
                  </a:cubicBezTo>
                  <a:cubicBezTo>
                    <a:pt x="62" y="487"/>
                    <a:pt x="21" y="455"/>
                    <a:pt x="0" y="457"/>
                  </a:cubicBezTo>
                </a:path>
              </a:pathLst>
            </a:custGeom>
            <a:noFill/>
            <a:ln w="57240">
              <a:solidFill>
                <a:srgbClr val="3399ff"/>
              </a:solidFill>
              <a:round/>
            </a:ln>
            <a:effectLst>
              <a:outerShdw dist="56832" dir="16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3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755352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onction de transfert _2   on s'en sert  comment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>
            <a:off x="374040" y="123660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xemple à 1 variable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5" name=""/>
          <p:cNvGrpSpPr/>
          <p:nvPr/>
        </p:nvGrpSpPr>
        <p:grpSpPr>
          <a:xfrm>
            <a:off x="288000" y="3618000"/>
            <a:ext cx="8516160" cy="2071440"/>
            <a:chOff x="288000" y="3618000"/>
            <a:chExt cx="8516160" cy="2071440"/>
          </a:xfrm>
        </p:grpSpPr>
        <p:sp>
          <p:nvSpPr>
            <p:cNvPr id="4646" name=""/>
            <p:cNvSpPr/>
            <p:nvPr/>
          </p:nvSpPr>
          <p:spPr>
            <a:xfrm>
              <a:off x="406800" y="3618000"/>
              <a:ext cx="4683600" cy="7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24480" bIns="244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exo : quelle fréquence spatiale de l'obj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sera transmise avec un gain 0.5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pour un télescope de 10 m, utilisé à 5 µm ?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288000" y="4578480"/>
              <a:ext cx="53406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24480" bIns="24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réponse  : D/2</a:t>
              </a:r>
              <a:r>
                <a:rPr b="1" lang="fr-FR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</a:t>
              </a: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1million.   Un million de quoi ?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de</a:t>
              </a:r>
              <a:r>
                <a:rPr b="0" lang="fr-FR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cycles / radian , on dit aussi rad</a:t>
              </a:r>
              <a:r>
                <a:rPr b="1" lang="fr-FR" sz="17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8" name=""/>
            <p:cNvGrpSpPr/>
            <p:nvPr/>
          </p:nvGrpSpPr>
          <p:grpSpPr>
            <a:xfrm>
              <a:off x="5564160" y="4549680"/>
              <a:ext cx="3240000" cy="1139760"/>
              <a:chOff x="5564160" y="4549680"/>
              <a:chExt cx="3240000" cy="1139760"/>
            </a:xfrm>
          </p:grpSpPr>
          <p:sp>
            <p:nvSpPr>
              <p:cNvPr id="4649" name=""/>
              <p:cNvSpPr/>
              <p:nvPr/>
            </p:nvSpPr>
            <p:spPr>
              <a:xfrm flipV="1">
                <a:off x="7049160" y="4549680"/>
                <a:ext cx="0" cy="78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5564160" y="5330880"/>
                <a:ext cx="32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6041160" y="4800240"/>
                <a:ext cx="2058840" cy="530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6715800" y="465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8434440" y="4896360"/>
                <a:ext cx="36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7842240" y="4928760"/>
                <a:ext cx="51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D/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7984080" y="5274000"/>
                <a:ext cx="110880" cy="91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7038360" y="5083200"/>
                <a:ext cx="475560" cy="268560"/>
              </a:xfrm>
              <a:custGeom>
                <a:avLst/>
                <a:gdLst/>
                <a:ahLst/>
                <a:rect l="l" t="t" r="r" b="b"/>
                <a:pathLst>
                  <a:path w="274" h="165">
                    <a:moveTo>
                      <a:pt x="0" y="0"/>
                    </a:moveTo>
                    <a:lnTo>
                      <a:pt x="274" y="0"/>
                    </a:lnTo>
                    <a:lnTo>
                      <a:pt x="274" y="110"/>
                    </a:lnTo>
                    <a:lnTo>
                      <a:pt x="274" y="165"/>
                    </a:lnTo>
                  </a:path>
                </a:pathLst>
              </a:custGeom>
              <a:noFill/>
              <a:ln w="28440">
                <a:solidFill>
                  <a:srgbClr val="3399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7443000" y="5278680"/>
                <a:ext cx="110880" cy="910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7189200" y="5352120"/>
                <a:ext cx="63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D/2</a:t>
                </a:r>
                <a:r>
                  <a:rPr b="0" lang="fr-F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9" name=""/>
          <p:cNvGrpSpPr/>
          <p:nvPr/>
        </p:nvGrpSpPr>
        <p:grpSpPr>
          <a:xfrm>
            <a:off x="390600" y="1090440"/>
            <a:ext cx="8697240" cy="1667520"/>
            <a:chOff x="390600" y="1090440"/>
            <a:chExt cx="8697240" cy="1667520"/>
          </a:xfrm>
        </p:grpSpPr>
        <mc:AlternateContent>
          <mc:Choice xmlns:a14="http://schemas.microsoft.com/office/drawing/2010/main" Requires="a14">
            <p:sp>
              <p:nvSpPr>
                <p:cNvPr id="4660" name=""/>
                <p:cNvSpPr txBox="1"/>
                <p:nvPr/>
              </p:nvSpPr>
              <p:spPr>
                <a:xfrm>
                  <a:off x="390600" y="1663560"/>
                  <a:ext cx="150336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ξ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Π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ξ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61" name=""/>
                <p:cNvSpPr txBox="1"/>
                <p:nvPr/>
              </p:nvSpPr>
              <p:spPr>
                <a:xfrm>
                  <a:off x="2171880" y="1539720"/>
                  <a:ext cx="199224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SF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 </m:t>
                              </m:r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Π</m:t>
                                  </m:r>
                                </m:e>
                              </m:acc>
                              <m:r>
                                <m:t xml:space="preserve">(</m:t>
                              </m:r>
                              <m:f>
                                <m:num>
                                  <m:r>
                                    <m:t xml:space="preserve">D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4662" name="" descr=""/>
            <p:cNvPicPr/>
            <p:nvPr/>
          </p:nvPicPr>
          <p:blipFill>
            <a:blip r:embed="rId1"/>
            <a:stretch/>
          </p:blipFill>
          <p:spPr>
            <a:xfrm>
              <a:off x="5672160" y="1158840"/>
              <a:ext cx="1633680" cy="148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63" name=""/>
            <p:cNvGrpSpPr/>
            <p:nvPr/>
          </p:nvGrpSpPr>
          <p:grpSpPr>
            <a:xfrm>
              <a:off x="4179960" y="1116000"/>
              <a:ext cx="1787040" cy="1126080"/>
              <a:chOff x="4179960" y="1116000"/>
              <a:chExt cx="1787040" cy="1126080"/>
            </a:xfrm>
          </p:grpSpPr>
          <p:sp>
            <p:nvSpPr>
              <p:cNvPr id="4664" name=""/>
              <p:cNvSpPr/>
              <p:nvPr/>
            </p:nvSpPr>
            <p:spPr>
              <a:xfrm>
                <a:off x="4179960" y="2227320"/>
                <a:ext cx="140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4459680" y="1623960"/>
                <a:ext cx="823680" cy="60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 flipV="1">
                <a:off x="4888080" y="1276200"/>
                <a:ext cx="0" cy="9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4634640" y="13050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5396400" y="1843200"/>
                <a:ext cx="30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4734360" y="1832040"/>
                <a:ext cx="3664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4445280" y="185256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4962960" y="1116000"/>
                <a:ext cx="100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 </a:t>
                </a:r>
                <a:r>
                  <a:rPr b="1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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/D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4218120" y="1619280"/>
                <a:ext cx="1320840" cy="622080"/>
              </a:xfrm>
              <a:custGeom>
                <a:avLst/>
                <a:gdLst/>
                <a:ahLst/>
                <a:rect l="l" t="t" r="r" b="b"/>
                <a:pathLst>
                  <a:path w="832" h="392">
                    <a:moveTo>
                      <a:pt x="0" y="392"/>
                    </a:moveTo>
                    <a:lnTo>
                      <a:pt x="168" y="392"/>
                    </a:lnTo>
                    <a:lnTo>
                      <a:pt x="168" y="0"/>
                    </a:lnTo>
                    <a:lnTo>
                      <a:pt x="680" y="0"/>
                    </a:lnTo>
                    <a:lnTo>
                      <a:pt x="680" y="384"/>
                    </a:lnTo>
                    <a:lnTo>
                      <a:pt x="832" y="384"/>
                    </a:lnTo>
                  </a:path>
                </a:pathLst>
              </a:custGeom>
              <a:noFill/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4840560" y="1568520"/>
                <a:ext cx="101520" cy="101520"/>
              </a:xfrm>
              <a:prstGeom prst="ellips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4" name=""/>
            <p:cNvGrpSpPr/>
            <p:nvPr/>
          </p:nvGrpSpPr>
          <p:grpSpPr>
            <a:xfrm>
              <a:off x="7253280" y="1090440"/>
              <a:ext cx="1834560" cy="1667520"/>
              <a:chOff x="7253280" y="1090440"/>
              <a:chExt cx="1834560" cy="1667520"/>
            </a:xfrm>
          </p:grpSpPr>
          <p:sp>
            <p:nvSpPr>
              <p:cNvPr id="4675" name=""/>
              <p:cNvSpPr/>
              <p:nvPr/>
            </p:nvSpPr>
            <p:spPr>
              <a:xfrm>
                <a:off x="7461360" y="1366920"/>
                <a:ext cx="1122120" cy="920520"/>
              </a:xfrm>
              <a:custGeom>
                <a:avLst/>
                <a:gdLst/>
                <a:ahLst/>
                <a:rect l="l" t="t" r="r" b="b"/>
                <a:pathLst>
                  <a:path w="145" h="119">
                    <a:moveTo>
                      <a:pt x="0" y="114"/>
                    </a:moveTo>
                    <a:lnTo>
                      <a:pt x="1" y="114"/>
                    </a:lnTo>
                    <a:lnTo>
                      <a:pt x="2" y="114"/>
                    </a:lnTo>
                    <a:lnTo>
                      <a:pt x="3" y="115"/>
                    </a:lnTo>
                    <a:lnTo>
                      <a:pt x="4" y="115"/>
                    </a:lnTo>
                    <a:lnTo>
                      <a:pt x="5" y="116"/>
                    </a:lnTo>
                    <a:lnTo>
                      <a:pt x="6" y="117"/>
                    </a:lnTo>
                    <a:lnTo>
                      <a:pt x="7" y="118"/>
                    </a:lnTo>
                    <a:lnTo>
                      <a:pt x="9" y="119"/>
                    </a:lnTo>
                    <a:lnTo>
                      <a:pt x="10" y="118"/>
                    </a:lnTo>
                    <a:lnTo>
                      <a:pt x="11" y="117"/>
                    </a:lnTo>
                    <a:lnTo>
                      <a:pt x="12" y="115"/>
                    </a:lnTo>
                    <a:lnTo>
                      <a:pt x="13" y="114"/>
                    </a:lnTo>
                    <a:lnTo>
                      <a:pt x="14" y="112"/>
                    </a:lnTo>
                    <a:lnTo>
                      <a:pt x="15" y="111"/>
                    </a:lnTo>
                    <a:lnTo>
                      <a:pt x="17" y="109"/>
                    </a:lnTo>
                    <a:lnTo>
                      <a:pt x="18" y="108"/>
                    </a:lnTo>
                    <a:lnTo>
                      <a:pt x="19" y="106"/>
                    </a:lnTo>
                    <a:lnTo>
                      <a:pt x="20" y="105"/>
                    </a:lnTo>
                    <a:lnTo>
                      <a:pt x="21" y="104"/>
                    </a:lnTo>
                    <a:lnTo>
                      <a:pt x="22" y="103"/>
                    </a:lnTo>
                    <a:lnTo>
                      <a:pt x="23" y="103"/>
                    </a:lnTo>
                    <a:lnTo>
                      <a:pt x="25" y="102"/>
                    </a:lnTo>
                    <a:lnTo>
                      <a:pt x="26" y="102"/>
                    </a:lnTo>
                    <a:lnTo>
                      <a:pt x="27" y="102"/>
                    </a:lnTo>
                    <a:lnTo>
                      <a:pt x="28" y="102"/>
                    </a:lnTo>
                    <a:lnTo>
                      <a:pt x="29" y="103"/>
                    </a:lnTo>
                    <a:lnTo>
                      <a:pt x="30" y="104"/>
                    </a:lnTo>
                    <a:lnTo>
                      <a:pt x="31" y="105"/>
                    </a:lnTo>
                    <a:lnTo>
                      <a:pt x="33" y="107"/>
                    </a:lnTo>
                    <a:lnTo>
                      <a:pt x="34" y="109"/>
                    </a:lnTo>
                    <a:lnTo>
                      <a:pt x="35" y="111"/>
                    </a:lnTo>
                    <a:lnTo>
                      <a:pt x="36" y="114"/>
                    </a:lnTo>
                    <a:lnTo>
                      <a:pt x="37" y="117"/>
                    </a:lnTo>
                    <a:lnTo>
                      <a:pt x="38" y="119"/>
                    </a:lnTo>
                    <a:lnTo>
                      <a:pt x="39" y="115"/>
                    </a:lnTo>
                    <a:lnTo>
                      <a:pt x="41" y="111"/>
                    </a:lnTo>
                    <a:lnTo>
                      <a:pt x="42" y="107"/>
                    </a:lnTo>
                    <a:lnTo>
                      <a:pt x="43" y="103"/>
                    </a:lnTo>
                    <a:lnTo>
                      <a:pt x="44" y="98"/>
                    </a:lnTo>
                    <a:lnTo>
                      <a:pt x="45" y="93"/>
                    </a:lnTo>
                    <a:lnTo>
                      <a:pt x="46" y="88"/>
                    </a:lnTo>
                    <a:lnTo>
                      <a:pt x="47" y="83"/>
                    </a:lnTo>
                    <a:lnTo>
                      <a:pt x="49" y="78"/>
                    </a:lnTo>
                    <a:lnTo>
                      <a:pt x="50" y="72"/>
                    </a:lnTo>
                    <a:lnTo>
                      <a:pt x="51" y="67"/>
                    </a:lnTo>
                    <a:lnTo>
                      <a:pt x="52" y="61"/>
                    </a:lnTo>
                    <a:lnTo>
                      <a:pt x="53" y="56"/>
                    </a:lnTo>
                    <a:lnTo>
                      <a:pt x="54" y="51"/>
                    </a:lnTo>
                    <a:lnTo>
                      <a:pt x="55" y="45"/>
                    </a:lnTo>
                    <a:lnTo>
                      <a:pt x="57" y="40"/>
                    </a:lnTo>
                    <a:lnTo>
                      <a:pt x="58" y="35"/>
                    </a:lnTo>
                    <a:lnTo>
                      <a:pt x="59" y="30"/>
                    </a:lnTo>
                    <a:lnTo>
                      <a:pt x="60" y="26"/>
                    </a:lnTo>
                    <a:lnTo>
                      <a:pt x="61" y="21"/>
                    </a:lnTo>
                    <a:lnTo>
                      <a:pt x="62" y="18"/>
                    </a:lnTo>
                    <a:lnTo>
                      <a:pt x="63" y="14"/>
                    </a:lnTo>
                    <a:lnTo>
                      <a:pt x="65" y="11"/>
                    </a:lnTo>
                    <a:lnTo>
                      <a:pt x="66" y="8"/>
                    </a:lnTo>
                    <a:lnTo>
                      <a:pt x="67" y="5"/>
                    </a:lnTo>
                    <a:lnTo>
                      <a:pt x="68" y="3"/>
                    </a:lnTo>
                    <a:lnTo>
                      <a:pt x="69" y="2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6" y="2"/>
                    </a:lnTo>
                    <a:lnTo>
                      <a:pt x="77" y="3"/>
                    </a:lnTo>
                    <a:lnTo>
                      <a:pt x="78" y="5"/>
                    </a:lnTo>
                    <a:lnTo>
                      <a:pt x="79" y="8"/>
                    </a:lnTo>
                    <a:lnTo>
                      <a:pt x="81" y="11"/>
                    </a:lnTo>
                    <a:lnTo>
                      <a:pt x="82" y="14"/>
                    </a:lnTo>
                    <a:lnTo>
                      <a:pt x="83" y="18"/>
                    </a:lnTo>
                    <a:lnTo>
                      <a:pt x="84" y="21"/>
                    </a:lnTo>
                    <a:lnTo>
                      <a:pt x="85" y="26"/>
                    </a:lnTo>
                    <a:lnTo>
                      <a:pt x="86" y="30"/>
                    </a:lnTo>
                    <a:lnTo>
                      <a:pt x="87" y="35"/>
                    </a:lnTo>
                    <a:lnTo>
                      <a:pt x="89" y="40"/>
                    </a:lnTo>
                    <a:lnTo>
                      <a:pt x="90" y="45"/>
                    </a:lnTo>
                    <a:lnTo>
                      <a:pt x="91" y="51"/>
                    </a:lnTo>
                    <a:lnTo>
                      <a:pt x="92" y="56"/>
                    </a:lnTo>
                    <a:lnTo>
                      <a:pt x="93" y="61"/>
                    </a:lnTo>
                    <a:lnTo>
                      <a:pt x="94" y="67"/>
                    </a:lnTo>
                    <a:lnTo>
                      <a:pt x="95" y="72"/>
                    </a:lnTo>
                    <a:lnTo>
                      <a:pt x="97" y="78"/>
                    </a:lnTo>
                    <a:lnTo>
                      <a:pt x="98" y="83"/>
                    </a:lnTo>
                    <a:lnTo>
                      <a:pt x="99" y="88"/>
                    </a:lnTo>
                    <a:lnTo>
                      <a:pt x="100" y="93"/>
                    </a:lnTo>
                    <a:lnTo>
                      <a:pt x="101" y="98"/>
                    </a:lnTo>
                    <a:lnTo>
                      <a:pt x="102" y="103"/>
                    </a:lnTo>
                    <a:lnTo>
                      <a:pt x="103" y="107"/>
                    </a:lnTo>
                    <a:lnTo>
                      <a:pt x="105" y="111"/>
                    </a:lnTo>
                    <a:lnTo>
                      <a:pt x="106" y="115"/>
                    </a:lnTo>
                    <a:lnTo>
                      <a:pt x="107" y="119"/>
                    </a:lnTo>
                    <a:lnTo>
                      <a:pt x="108" y="117"/>
                    </a:lnTo>
                    <a:lnTo>
                      <a:pt x="109" y="114"/>
                    </a:lnTo>
                    <a:lnTo>
                      <a:pt x="110" y="111"/>
                    </a:lnTo>
                    <a:lnTo>
                      <a:pt x="111" y="109"/>
                    </a:lnTo>
                    <a:lnTo>
                      <a:pt x="113" y="107"/>
                    </a:lnTo>
                    <a:lnTo>
                      <a:pt x="114" y="105"/>
                    </a:lnTo>
                    <a:lnTo>
                      <a:pt x="115" y="104"/>
                    </a:lnTo>
                    <a:lnTo>
                      <a:pt x="116" y="103"/>
                    </a:lnTo>
                    <a:lnTo>
                      <a:pt x="117" y="102"/>
                    </a:lnTo>
                    <a:lnTo>
                      <a:pt x="118" y="102"/>
                    </a:lnTo>
                    <a:lnTo>
                      <a:pt x="119" y="102"/>
                    </a:lnTo>
                    <a:lnTo>
                      <a:pt x="121" y="102"/>
                    </a:lnTo>
                    <a:lnTo>
                      <a:pt x="122" y="103"/>
                    </a:lnTo>
                    <a:lnTo>
                      <a:pt x="123" y="103"/>
                    </a:lnTo>
                    <a:lnTo>
                      <a:pt x="124" y="104"/>
                    </a:lnTo>
                    <a:lnTo>
                      <a:pt x="125" y="105"/>
                    </a:lnTo>
                    <a:lnTo>
                      <a:pt x="126" y="106"/>
                    </a:lnTo>
                    <a:lnTo>
                      <a:pt x="127" y="108"/>
                    </a:lnTo>
                    <a:lnTo>
                      <a:pt x="129" y="109"/>
                    </a:lnTo>
                    <a:lnTo>
                      <a:pt x="130" y="111"/>
                    </a:lnTo>
                    <a:lnTo>
                      <a:pt x="131" y="112"/>
                    </a:lnTo>
                    <a:lnTo>
                      <a:pt x="132" y="114"/>
                    </a:lnTo>
                    <a:lnTo>
                      <a:pt x="133" y="115"/>
                    </a:lnTo>
                    <a:lnTo>
                      <a:pt x="134" y="117"/>
                    </a:lnTo>
                    <a:lnTo>
                      <a:pt x="135" y="118"/>
                    </a:lnTo>
                    <a:lnTo>
                      <a:pt x="137" y="119"/>
                    </a:lnTo>
                    <a:lnTo>
                      <a:pt x="138" y="118"/>
                    </a:lnTo>
                    <a:lnTo>
                      <a:pt x="139" y="117"/>
                    </a:lnTo>
                    <a:lnTo>
                      <a:pt x="140" y="116"/>
                    </a:lnTo>
                    <a:lnTo>
                      <a:pt x="141" y="115"/>
                    </a:lnTo>
                    <a:lnTo>
                      <a:pt x="142" y="115"/>
                    </a:lnTo>
                    <a:lnTo>
                      <a:pt x="143" y="114"/>
                    </a:lnTo>
                    <a:lnTo>
                      <a:pt x="145" y="114"/>
                    </a:ln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8045640" y="2359080"/>
                <a:ext cx="60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/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8236080" y="2251080"/>
                <a:ext cx="93600" cy="82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7253280" y="2287440"/>
                <a:ext cx="1568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8031240" y="1220760"/>
                <a:ext cx="0" cy="121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8109720" y="1176480"/>
                <a:ext cx="978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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(u)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l</a:t>
                </a:r>
                <a:r>
                  <a:rPr b="0" lang="fr-FR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8207640" y="1090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^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8585280" y="19191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83" name=""/>
          <p:cNvGrpSpPr/>
          <p:nvPr/>
        </p:nvGrpSpPr>
        <p:grpSpPr>
          <a:xfrm>
            <a:off x="447840" y="2341440"/>
            <a:ext cx="8405640" cy="1951200"/>
            <a:chOff x="447840" y="2341440"/>
            <a:chExt cx="8405640" cy="1951200"/>
          </a:xfrm>
        </p:grpSpPr>
        <p:grpSp>
          <p:nvGrpSpPr>
            <p:cNvPr id="4684" name=""/>
            <p:cNvGrpSpPr/>
            <p:nvPr/>
          </p:nvGrpSpPr>
          <p:grpSpPr>
            <a:xfrm>
              <a:off x="6183360" y="2341440"/>
              <a:ext cx="2670120" cy="1951200"/>
              <a:chOff x="6183360" y="2341440"/>
              <a:chExt cx="2670120" cy="1951200"/>
            </a:xfrm>
          </p:grpSpPr>
          <p:grpSp>
            <p:nvGrpSpPr>
              <p:cNvPr id="4685" name=""/>
              <p:cNvGrpSpPr/>
              <p:nvPr/>
            </p:nvGrpSpPr>
            <p:grpSpPr>
              <a:xfrm>
                <a:off x="6183360" y="2862360"/>
                <a:ext cx="2670120" cy="1430280"/>
                <a:chOff x="6183360" y="2862360"/>
                <a:chExt cx="2670120" cy="1430280"/>
              </a:xfrm>
            </p:grpSpPr>
            <p:sp>
              <p:nvSpPr>
                <p:cNvPr id="4686" name=""/>
                <p:cNvSpPr/>
                <p:nvPr/>
              </p:nvSpPr>
              <p:spPr>
                <a:xfrm>
                  <a:off x="6183360" y="2887560"/>
                  <a:ext cx="2670120" cy="13651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7" name=""/>
                <p:cNvGrpSpPr/>
                <p:nvPr/>
              </p:nvGrpSpPr>
              <p:grpSpPr>
                <a:xfrm>
                  <a:off x="6310440" y="2862360"/>
                  <a:ext cx="2400480" cy="1430280"/>
                  <a:chOff x="6310440" y="2862360"/>
                  <a:chExt cx="2400480" cy="1430280"/>
                </a:xfrm>
              </p:grpSpPr>
              <p:sp>
                <p:nvSpPr>
                  <p:cNvPr id="4688" name=""/>
                  <p:cNvSpPr/>
                  <p:nvPr/>
                </p:nvSpPr>
                <p:spPr>
                  <a:xfrm>
                    <a:off x="6310440" y="3931560"/>
                    <a:ext cx="2169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9" name=""/>
                  <p:cNvSpPr/>
                  <p:nvPr/>
                </p:nvSpPr>
                <p:spPr>
                  <a:xfrm flipV="1">
                    <a:off x="7418520" y="3153960"/>
                    <a:ext cx="0" cy="777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0" name=""/>
                  <p:cNvSpPr/>
                  <p:nvPr/>
                </p:nvSpPr>
                <p:spPr>
                  <a:xfrm>
                    <a:off x="8350920" y="3664440"/>
                    <a:ext cx="305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u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1" name=""/>
                  <p:cNvSpPr/>
                  <p:nvPr/>
                </p:nvSpPr>
                <p:spPr>
                  <a:xfrm>
                    <a:off x="7923600" y="3953880"/>
                    <a:ext cx="630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+D/</a:t>
                    </a: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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2" name=""/>
                  <p:cNvSpPr/>
                  <p:nvPr/>
                </p:nvSpPr>
                <p:spPr>
                  <a:xfrm>
                    <a:off x="6869160" y="2862360"/>
                    <a:ext cx="184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</a:t>
                    </a: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u</a:t>
                    </a: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</a:t>
                    </a:r>
                    <a:r>
                      <a:rPr b="0" lang="fr-FR" sz="18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</a:t>
                    </a: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(</a:t>
                    </a:r>
                    <a:r>
                      <a:rPr b="1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1" lang="fr-FR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</a:t>
                    </a: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u/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3" name=""/>
                  <p:cNvSpPr/>
                  <p:nvPr/>
                </p:nvSpPr>
                <p:spPr>
                  <a:xfrm>
                    <a:off x="6497280" y="3955320"/>
                    <a:ext cx="5799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-D/</a:t>
                    </a:r>
                    <a:r>
                      <a:rPr b="0" lang="fr-FR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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4" name=""/>
                  <p:cNvSpPr/>
                  <p:nvPr/>
                </p:nvSpPr>
                <p:spPr>
                  <a:xfrm>
                    <a:off x="6683040" y="3423960"/>
                    <a:ext cx="139212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2" h="400">
                        <a:moveTo>
                          <a:pt x="0" y="384"/>
                        </a:moveTo>
                        <a:lnTo>
                          <a:pt x="568" y="0"/>
                        </a:lnTo>
                        <a:lnTo>
                          <a:pt x="1072" y="40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5" name=""/>
                  <p:cNvSpPr/>
                  <p:nvPr/>
                </p:nvSpPr>
                <p:spPr>
                  <a:xfrm>
                    <a:off x="7210800" y="3217680"/>
                    <a:ext cx="282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6" name=""/>
                  <p:cNvSpPr/>
                  <p:nvPr/>
                </p:nvSpPr>
                <p:spPr>
                  <a:xfrm>
                    <a:off x="6371280" y="3423960"/>
                    <a:ext cx="197424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20" h="400">
                        <a:moveTo>
                          <a:pt x="0" y="388"/>
                        </a:moveTo>
                        <a:lnTo>
                          <a:pt x="212" y="392"/>
                        </a:lnTo>
                        <a:lnTo>
                          <a:pt x="812" y="0"/>
                        </a:lnTo>
                        <a:lnTo>
                          <a:pt x="1308" y="400"/>
                        </a:lnTo>
                        <a:lnTo>
                          <a:pt x="1520" y="400"/>
                        </a:lnTo>
                      </a:path>
                    </a:pathLst>
                  </a:custGeom>
                  <a:noFill/>
                  <a:ln w="2844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7" name=""/>
                  <p:cNvSpPr/>
                  <p:nvPr/>
                </p:nvSpPr>
                <p:spPr>
                  <a:xfrm>
                    <a:off x="8018640" y="3891600"/>
                    <a:ext cx="82800" cy="82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8" name=""/>
                  <p:cNvSpPr/>
                  <p:nvPr/>
                </p:nvSpPr>
                <p:spPr>
                  <a:xfrm>
                    <a:off x="6610320" y="3891600"/>
                    <a:ext cx="82800" cy="82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9" name=""/>
                  <p:cNvSpPr/>
                  <p:nvPr/>
                </p:nvSpPr>
                <p:spPr>
                  <a:xfrm>
                    <a:off x="7379280" y="3382560"/>
                    <a:ext cx="82800" cy="82800"/>
                  </a:xfrm>
                  <a:prstGeom prst="ellipse">
                    <a:avLst/>
                  </a:prstGeom>
                  <a:solidFill>
                    <a:srgbClr val="cccc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240" bIns="122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700" name=""/>
              <p:cNvSpPr/>
              <p:nvPr/>
            </p:nvSpPr>
            <p:spPr>
              <a:xfrm>
                <a:off x="7769160" y="2341440"/>
                <a:ext cx="254160" cy="511200"/>
              </a:xfrm>
              <a:prstGeom prst="downArrow">
                <a:avLst>
                  <a:gd name="adj1" fmla="val 50000"/>
                  <a:gd name="adj2" fmla="val 50283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00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1" name=""/>
            <p:cNvGrpSpPr/>
            <p:nvPr/>
          </p:nvGrpSpPr>
          <p:grpSpPr>
            <a:xfrm>
              <a:off x="447840" y="2616120"/>
              <a:ext cx="5487840" cy="797040"/>
              <a:chOff x="447840" y="2616120"/>
              <a:chExt cx="5487840" cy="797040"/>
            </a:xfrm>
          </p:grpSpPr>
          <mc:AlternateContent>
            <mc:Choice xmlns:a14="http://schemas.microsoft.com/office/drawing/2010/main" Requires="a14">
              <p:sp>
                <p:nvSpPr>
                  <p:cNvPr id="4702" name=""/>
                  <p:cNvSpPr txBox="1"/>
                  <p:nvPr/>
                </p:nvSpPr>
                <p:spPr>
                  <a:xfrm>
                    <a:off x="3892680" y="2616120"/>
                    <a:ext cx="2043000" cy="79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03" name=""/>
              <p:cNvSpPr/>
              <p:nvPr/>
            </p:nvSpPr>
            <p:spPr>
              <a:xfrm>
                <a:off x="447840" y="2833560"/>
                <a:ext cx="2315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(u) = TF de la PS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 rot="16200000">
                <a:off x="3292560" y="2739960"/>
                <a:ext cx="254160" cy="511200"/>
              </a:xfrm>
              <a:prstGeom prst="downArrow">
                <a:avLst>
                  <a:gd name="adj1" fmla="val 50000"/>
                  <a:gd name="adj2" fmla="val 50283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00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5" name=""/>
          <p:cNvGrpSpPr/>
          <p:nvPr/>
        </p:nvGrpSpPr>
        <p:grpSpPr>
          <a:xfrm>
            <a:off x="444960" y="5494320"/>
            <a:ext cx="7094880" cy="1279080"/>
            <a:chOff x="444960" y="5494320"/>
            <a:chExt cx="7094880" cy="1279080"/>
          </a:xfrm>
        </p:grpSpPr>
        <p:sp>
          <p:nvSpPr>
            <p:cNvPr id="4706" name=""/>
            <p:cNvSpPr/>
            <p:nvPr/>
          </p:nvSpPr>
          <p:spPr>
            <a:xfrm>
              <a:off x="495000" y="5494320"/>
              <a:ext cx="4072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24480" bIns="244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c'est quoi cette histoire de radian</a:t>
              </a:r>
              <a:r>
                <a:rPr b="1" lang="fr-FR" sz="17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  ?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38360"/>
                  <a:tab algn="l" pos="1476360"/>
                  <a:tab algn="l" pos="2214720"/>
                  <a:tab algn="l" pos="2952720"/>
                  <a:tab algn="l" pos="3691080"/>
                  <a:tab algn="l" pos="4429080"/>
                  <a:tab algn="l" pos="5167440"/>
                  <a:tab algn="l" pos="5905440"/>
                  <a:tab algn="l" pos="6643800"/>
                  <a:tab algn="l" pos="7381800"/>
                  <a:tab algn="l" pos="8120160"/>
                  <a:tab algn="l" pos="8858160"/>
                  <a:tab algn="l" pos="9596520"/>
                  <a:tab algn="l" pos="103345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Comic Sans MS"/>
                </a:rPr>
                <a:t>et quel rapport avec la pupille ?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444960" y="6130800"/>
              <a:ext cx="7094880" cy="642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pupille diamètre D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lobe :  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/D   angle en radian, frequence u = 1/lobe  en rad</a:t>
              </a:r>
              <a:r>
                <a:rPr b="0" lang="fr-FR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= D/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8" name=""/>
          <p:cNvGrpSpPr/>
          <p:nvPr/>
        </p:nvGrpSpPr>
        <p:grpSpPr>
          <a:xfrm>
            <a:off x="6462720" y="-179280"/>
            <a:ext cx="1000080" cy="812880"/>
            <a:chOff x="6462720" y="-179280"/>
            <a:chExt cx="1000080" cy="812880"/>
          </a:xfrm>
        </p:grpSpPr>
        <p:sp>
          <p:nvSpPr>
            <p:cNvPr id="4709" name=""/>
            <p:cNvSpPr/>
            <p:nvPr/>
          </p:nvSpPr>
          <p:spPr>
            <a:xfrm>
              <a:off x="6462720" y="-17928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6683760" y="522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345960" y="590040"/>
            <a:ext cx="153216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hapi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2" name="" descr=""/>
          <p:cNvPicPr/>
          <p:nvPr/>
        </p:nvPicPr>
        <p:blipFill>
          <a:blip r:embed="rId1"/>
          <a:stretch/>
        </p:blipFill>
        <p:spPr>
          <a:xfrm>
            <a:off x="-117360" y="0"/>
            <a:ext cx="9261360" cy="6946920"/>
          </a:xfrm>
          <a:prstGeom prst="rect">
            <a:avLst/>
          </a:prstGeom>
          <a:ln w="0">
            <a:noFill/>
          </a:ln>
        </p:spPr>
      </p:pic>
      <p:sp>
        <p:nvSpPr>
          <p:cNvPr id="4713" name=""/>
          <p:cNvSpPr/>
          <p:nvPr/>
        </p:nvSpPr>
        <p:spPr>
          <a:xfrm>
            <a:off x="374760" y="704880"/>
            <a:ext cx="1931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détente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PlaceHolder 1"/>
          <p:cNvSpPr>
            <a:spLocks noGrp="1"/>
          </p:cNvSpPr>
          <p:nvPr>
            <p:ph type="title"/>
          </p:nvPr>
        </p:nvSpPr>
        <p:spPr>
          <a:xfrm>
            <a:off x="431640" y="779040"/>
            <a:ext cx="3679920" cy="82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progression le long du f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5" name=""/>
          <p:cNvSpPr/>
          <p:nvPr/>
        </p:nvSpPr>
        <p:spPr>
          <a:xfrm>
            <a:off x="1563840" y="2379600"/>
            <a:ext cx="1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6" name=""/>
          <p:cNvSpPr/>
          <p:nvPr/>
        </p:nvSpPr>
        <p:spPr>
          <a:xfrm>
            <a:off x="436320" y="1960560"/>
            <a:ext cx="746532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contexte science, motivation, but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boite à outils ( notations, formalis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fondements  théor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interférométrie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, principes : monde idéal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buClr>
                <a:srgbClr val="000000"/>
              </a:buClr>
              <a:buSzPct val="1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difficultés : monde 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7" name=""/>
          <p:cNvSpPr/>
          <p:nvPr/>
        </p:nvSpPr>
        <p:spPr>
          <a:xfrm>
            <a:off x="2706480" y="128412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lef de voute : H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8" name=""/>
          <p:cNvSpPr/>
          <p:nvPr/>
        </p:nvSpPr>
        <p:spPr>
          <a:xfrm>
            <a:off x="465120" y="3348000"/>
            <a:ext cx="7024680" cy="46512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PlaceHolder 1"/>
          <p:cNvSpPr>
            <a:spLocks noGrp="1"/>
          </p:cNvSpPr>
          <p:nvPr>
            <p:ph type="title"/>
          </p:nvPr>
        </p:nvSpPr>
        <p:spPr>
          <a:xfrm>
            <a:off x="309240" y="520200"/>
            <a:ext cx="789156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hérence_1  détection et nouveau modèle ondu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0" name=""/>
          <p:cNvGrpSpPr/>
          <p:nvPr/>
        </p:nvGrpSpPr>
        <p:grpSpPr>
          <a:xfrm>
            <a:off x="372960" y="1184400"/>
            <a:ext cx="7713000" cy="2258280"/>
            <a:chOff x="372960" y="1184400"/>
            <a:chExt cx="7713000" cy="2258280"/>
          </a:xfrm>
        </p:grpSpPr>
        <p:sp>
          <p:nvSpPr>
            <p:cNvPr id="4721" name=""/>
            <p:cNvSpPr/>
            <p:nvPr/>
          </p:nvSpPr>
          <p:spPr>
            <a:xfrm>
              <a:off x="372960" y="1184400"/>
              <a:ext cx="7476120" cy="22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étection du rayonn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détection quadratique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(domaine optique et IR) d'un champ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'est l'opération 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&lt;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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</a:t>
              </a:r>
              <a:r>
                <a:rPr b="1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&gt;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= signal de sortie = Intensité I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vec &lt;  &gt; pour </a:t>
              </a: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moyenne statist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moyenne réalisée en fait su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le </a:t>
              </a:r>
              <a:r>
                <a:rPr b="0" lang="fr-FR" sz="1800" spc="-1" strike="noStrike">
                  <a:solidFill>
                    <a:srgbClr val="ff3300"/>
                  </a:solidFill>
                  <a:latin typeface="Comic Sans MS"/>
                </a:rPr>
                <a:t>temps d'intégration du détec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2" name=""/>
            <p:cNvGrpSpPr/>
            <p:nvPr/>
          </p:nvGrpSpPr>
          <p:grpSpPr>
            <a:xfrm>
              <a:off x="5487840" y="2293920"/>
              <a:ext cx="2598120" cy="863280"/>
              <a:chOff x="5487840" y="2293920"/>
              <a:chExt cx="2598120" cy="863280"/>
            </a:xfrm>
          </p:grpSpPr>
          <p:grpSp>
            <p:nvGrpSpPr>
              <p:cNvPr id="4723" name=""/>
              <p:cNvGrpSpPr/>
              <p:nvPr/>
            </p:nvGrpSpPr>
            <p:grpSpPr>
              <a:xfrm>
                <a:off x="5487840" y="2293920"/>
                <a:ext cx="2479680" cy="863280"/>
                <a:chOff x="5487840" y="2293920"/>
                <a:chExt cx="2479680" cy="863280"/>
              </a:xfrm>
            </p:grpSpPr>
            <p:sp>
              <p:nvSpPr>
                <p:cNvPr id="4724" name=""/>
                <p:cNvSpPr/>
                <p:nvPr/>
              </p:nvSpPr>
              <p:spPr>
                <a:xfrm>
                  <a:off x="5487840" y="2779560"/>
                  <a:ext cx="887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5" name=""/>
                <p:cNvSpPr/>
                <p:nvPr/>
              </p:nvSpPr>
              <p:spPr>
                <a:xfrm>
                  <a:off x="5649120" y="2293920"/>
                  <a:ext cx="455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1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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6" name=""/>
                <p:cNvSpPr/>
                <p:nvPr/>
              </p:nvSpPr>
              <p:spPr>
                <a:xfrm>
                  <a:off x="6384600" y="2504880"/>
                  <a:ext cx="262080" cy="5079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50760" dir="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7" name=""/>
                <p:cNvSpPr/>
                <p:nvPr/>
              </p:nvSpPr>
              <p:spPr>
                <a:xfrm>
                  <a:off x="6530760" y="3012840"/>
                  <a:ext cx="1436760" cy="144360"/>
                </a:xfrm>
                <a:custGeom>
                  <a:avLst/>
                  <a:gdLst/>
                  <a:ahLst/>
                  <a:rect l="l" t="t" r="r" b="b"/>
                  <a:pathLst>
                    <a:path w="905" h="91">
                      <a:moveTo>
                        <a:pt x="0" y="0"/>
                      </a:moveTo>
                      <a:lnTo>
                        <a:pt x="0" y="91"/>
                      </a:lnTo>
                      <a:lnTo>
                        <a:pt x="905" y="91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8" name=""/>
              <p:cNvSpPr/>
              <p:nvPr/>
            </p:nvSpPr>
            <p:spPr>
              <a:xfrm>
                <a:off x="6902640" y="2673360"/>
                <a:ext cx="118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&lt;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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</a:t>
                </a:r>
                <a:r>
                  <a:rPr b="0" lang="fr-FR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 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&g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29" name=""/>
          <p:cNvGrpSpPr/>
          <p:nvPr/>
        </p:nvGrpSpPr>
        <p:grpSpPr>
          <a:xfrm>
            <a:off x="7956720" y="907920"/>
            <a:ext cx="1000080" cy="813240"/>
            <a:chOff x="7956720" y="907920"/>
            <a:chExt cx="1000080" cy="813240"/>
          </a:xfrm>
        </p:grpSpPr>
        <p:sp>
          <p:nvSpPr>
            <p:cNvPr id="4730" name=""/>
            <p:cNvSpPr/>
            <p:nvPr/>
          </p:nvSpPr>
          <p:spPr>
            <a:xfrm>
              <a:off x="7956720" y="90792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8177760" y="113976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2" name=""/>
          <p:cNvGrpSpPr/>
          <p:nvPr/>
        </p:nvGrpSpPr>
        <p:grpSpPr>
          <a:xfrm>
            <a:off x="422280" y="3403440"/>
            <a:ext cx="6626160" cy="2961360"/>
            <a:chOff x="422280" y="3403440"/>
            <a:chExt cx="6626160" cy="2961360"/>
          </a:xfrm>
        </p:grpSpPr>
        <p:grpSp>
          <p:nvGrpSpPr>
            <p:cNvPr id="4733" name=""/>
            <p:cNvGrpSpPr/>
            <p:nvPr/>
          </p:nvGrpSpPr>
          <p:grpSpPr>
            <a:xfrm>
              <a:off x="422280" y="4917960"/>
              <a:ext cx="6626160" cy="1446840"/>
              <a:chOff x="422280" y="4917960"/>
              <a:chExt cx="6626160" cy="1446840"/>
            </a:xfrm>
          </p:grpSpPr>
          <p:sp>
            <p:nvSpPr>
              <p:cNvPr id="4734" name=""/>
              <p:cNvSpPr/>
              <p:nvPr/>
            </p:nvSpPr>
            <p:spPr>
              <a:xfrm>
                <a:off x="2779920" y="4917960"/>
                <a:ext cx="1191960" cy="66852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4421160" y="4934160"/>
                <a:ext cx="2627280" cy="680760"/>
              </a:xfrm>
              <a:prstGeom prst="rect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3184560" y="5661000"/>
                <a:ext cx="1310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erme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d'énergi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4964400" y="5627880"/>
                <a:ext cx="1858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erm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d'interfére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738" name=""/>
                  <p:cNvSpPr txBox="1"/>
                  <p:nvPr/>
                </p:nvSpPr>
                <p:spPr>
                  <a:xfrm>
                    <a:off x="422280" y="4938840"/>
                    <a:ext cx="660420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ψ</m:t>
                        </m:r>
                        <m:sSub>
                          <m:e>
                            <m:r>
                              <m:t xml:space="preserve">∗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739" name=""/>
                <p:cNvSpPr txBox="1"/>
                <p:nvPr/>
              </p:nvSpPr>
              <p:spPr>
                <a:xfrm>
                  <a:off x="528480" y="4284720"/>
                  <a:ext cx="601524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&lt;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&lt;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(</m:t>
                      </m:r>
                      <m:r>
                        <m:t xml:space="preserve"> </m:t>
                      </m:r>
                      <m:r>
                        <m:t xml:space="preserve">&lt;</m:t>
                      </m:r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ψ</m:t>
                      </m:r>
                      <m:sSub>
                        <m:e>
                          <m:r>
                            <m:t xml:space="preserve">∗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40" name=""/>
            <p:cNvSpPr/>
            <p:nvPr/>
          </p:nvSpPr>
          <p:spPr>
            <a:xfrm>
              <a:off x="518400" y="3403440"/>
              <a:ext cx="505008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cas particulier :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 deux champs ,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et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reçus simultanément sur le détecteu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1" name="PlaceHolder 1"/>
          <p:cNvSpPr>
            <a:spLocks noGrp="1"/>
          </p:cNvSpPr>
          <p:nvPr>
            <p:ph type="title"/>
          </p:nvPr>
        </p:nvSpPr>
        <p:spPr>
          <a:xfrm>
            <a:off x="309600" y="520200"/>
            <a:ext cx="643248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hérence_2     définition &amp; nouveau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2" name=""/>
          <p:cNvSpPr/>
          <p:nvPr/>
        </p:nvSpPr>
        <p:spPr>
          <a:xfrm>
            <a:off x="315360" y="1324080"/>
            <a:ext cx="8730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cohé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notion mutuelle : cohérence de ceci avec c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xemple : cohérence de deux champs elm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r deux champs elm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cohérence = aptitude à former des interférences observables (durab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3" name=""/>
          <p:cNvGrpSpPr/>
          <p:nvPr/>
        </p:nvGrpSpPr>
        <p:grpSpPr>
          <a:xfrm>
            <a:off x="216000" y="4417920"/>
            <a:ext cx="8197560" cy="2176920"/>
            <a:chOff x="216000" y="4417920"/>
            <a:chExt cx="8197560" cy="2176920"/>
          </a:xfrm>
        </p:grpSpPr>
        <p:sp>
          <p:nvSpPr>
            <p:cNvPr id="4744" name=""/>
            <p:cNvSpPr/>
            <p:nvPr/>
          </p:nvSpPr>
          <p:spPr>
            <a:xfrm>
              <a:off x="216000" y="4417920"/>
              <a:ext cx="809640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Comic Sans MS"/>
                </a:rPr>
                <a:t>un modèle à caractère aléatoire est necessaire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(date, phase, pola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succession de trains d'onde amortis avec (entre autr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date d'émission et phase à l'origine aléatoi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5" name=""/>
            <p:cNvGrpSpPr/>
            <p:nvPr/>
          </p:nvGrpSpPr>
          <p:grpSpPr>
            <a:xfrm>
              <a:off x="566640" y="5357880"/>
              <a:ext cx="7846920" cy="810360"/>
              <a:chOff x="566640" y="5357880"/>
              <a:chExt cx="7846920" cy="810360"/>
            </a:xfrm>
          </p:grpSpPr>
          <p:sp>
            <p:nvSpPr>
              <p:cNvPr id="4746" name=""/>
              <p:cNvSpPr/>
              <p:nvPr/>
            </p:nvSpPr>
            <p:spPr>
              <a:xfrm>
                <a:off x="7503480" y="5465880"/>
                <a:ext cx="85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temp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47" name=""/>
              <p:cNvGrpSpPr/>
              <p:nvPr/>
            </p:nvGrpSpPr>
            <p:grpSpPr>
              <a:xfrm>
                <a:off x="566640" y="5357880"/>
                <a:ext cx="7846920" cy="810360"/>
                <a:chOff x="566640" y="5357880"/>
                <a:chExt cx="7846920" cy="810360"/>
              </a:xfrm>
            </p:grpSpPr>
            <p:sp>
              <p:nvSpPr>
                <p:cNvPr id="4748" name=""/>
                <p:cNvSpPr/>
                <p:nvPr/>
              </p:nvSpPr>
              <p:spPr>
                <a:xfrm>
                  <a:off x="566640" y="5808600"/>
                  <a:ext cx="7846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9" name=""/>
                <p:cNvSpPr/>
                <p:nvPr/>
              </p:nvSpPr>
              <p:spPr>
                <a:xfrm>
                  <a:off x="833040" y="5389560"/>
                  <a:ext cx="1312920" cy="740520"/>
                </a:xfrm>
                <a:custGeom>
                  <a:avLst/>
                  <a:gdLst/>
                  <a:ahLst/>
                  <a:rect l="l" t="t" r="r" b="b"/>
                  <a:pathLst>
                    <a:path w="763" h="688">
                      <a:moveTo>
                        <a:pt x="0" y="398"/>
                      </a:moveTo>
                      <a:cubicBezTo>
                        <a:pt x="29" y="199"/>
                        <a:pt x="59" y="0"/>
                        <a:pt x="91" y="44"/>
                      </a:cubicBezTo>
                      <a:cubicBezTo>
                        <a:pt x="123" y="88"/>
                        <a:pt x="158" y="636"/>
                        <a:pt x="191" y="662"/>
                      </a:cubicBezTo>
                      <a:cubicBezTo>
                        <a:pt x="224" y="688"/>
                        <a:pt x="262" y="213"/>
                        <a:pt x="291" y="198"/>
                      </a:cubicBezTo>
                      <a:cubicBezTo>
                        <a:pt x="320" y="183"/>
                        <a:pt x="337" y="556"/>
                        <a:pt x="363" y="571"/>
                      </a:cubicBezTo>
                      <a:cubicBezTo>
                        <a:pt x="389" y="586"/>
                        <a:pt x="422" y="297"/>
                        <a:pt x="445" y="289"/>
                      </a:cubicBezTo>
                      <a:cubicBezTo>
                        <a:pt x="468" y="281"/>
                        <a:pt x="479" y="519"/>
                        <a:pt x="500" y="525"/>
                      </a:cubicBezTo>
                      <a:cubicBezTo>
                        <a:pt x="521" y="531"/>
                        <a:pt x="553" y="332"/>
                        <a:pt x="573" y="325"/>
                      </a:cubicBezTo>
                      <a:cubicBezTo>
                        <a:pt x="593" y="318"/>
                        <a:pt x="600" y="469"/>
                        <a:pt x="618" y="480"/>
                      </a:cubicBezTo>
                      <a:cubicBezTo>
                        <a:pt x="636" y="491"/>
                        <a:pt x="658" y="401"/>
                        <a:pt x="682" y="389"/>
                      </a:cubicBezTo>
                      <a:cubicBezTo>
                        <a:pt x="706" y="377"/>
                        <a:pt x="734" y="392"/>
                        <a:pt x="763" y="40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0" name=""/>
                <p:cNvSpPr/>
                <p:nvPr/>
              </p:nvSpPr>
              <p:spPr>
                <a:xfrm>
                  <a:off x="2489760" y="5437800"/>
                  <a:ext cx="1370160" cy="730440"/>
                </a:xfrm>
                <a:custGeom>
                  <a:avLst/>
                  <a:gdLst/>
                  <a:ahLst/>
                  <a:rect l="l" t="t" r="r" b="b"/>
                  <a:pathLst>
                    <a:path w="796" h="678">
                      <a:moveTo>
                        <a:pt x="0" y="208"/>
                      </a:moveTo>
                      <a:cubicBezTo>
                        <a:pt x="12" y="281"/>
                        <a:pt x="43" y="678"/>
                        <a:pt x="64" y="644"/>
                      </a:cubicBezTo>
                      <a:cubicBezTo>
                        <a:pt x="85" y="610"/>
                        <a:pt x="97" y="8"/>
                        <a:pt x="124" y="4"/>
                      </a:cubicBezTo>
                      <a:cubicBezTo>
                        <a:pt x="151" y="0"/>
                        <a:pt x="191" y="596"/>
                        <a:pt x="224" y="622"/>
                      </a:cubicBezTo>
                      <a:cubicBezTo>
                        <a:pt x="257" y="648"/>
                        <a:pt x="295" y="173"/>
                        <a:pt x="324" y="158"/>
                      </a:cubicBezTo>
                      <a:cubicBezTo>
                        <a:pt x="353" y="143"/>
                        <a:pt x="370" y="516"/>
                        <a:pt x="396" y="531"/>
                      </a:cubicBezTo>
                      <a:cubicBezTo>
                        <a:pt x="422" y="546"/>
                        <a:pt x="455" y="257"/>
                        <a:pt x="478" y="249"/>
                      </a:cubicBezTo>
                      <a:cubicBezTo>
                        <a:pt x="501" y="241"/>
                        <a:pt x="512" y="479"/>
                        <a:pt x="533" y="485"/>
                      </a:cubicBezTo>
                      <a:cubicBezTo>
                        <a:pt x="554" y="491"/>
                        <a:pt x="586" y="292"/>
                        <a:pt x="606" y="285"/>
                      </a:cubicBezTo>
                      <a:cubicBezTo>
                        <a:pt x="626" y="278"/>
                        <a:pt x="633" y="429"/>
                        <a:pt x="651" y="440"/>
                      </a:cubicBezTo>
                      <a:cubicBezTo>
                        <a:pt x="669" y="451"/>
                        <a:pt x="691" y="361"/>
                        <a:pt x="715" y="349"/>
                      </a:cubicBezTo>
                      <a:cubicBezTo>
                        <a:pt x="739" y="337"/>
                        <a:pt x="767" y="352"/>
                        <a:pt x="796" y="367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1" name=""/>
                <p:cNvSpPr/>
                <p:nvPr/>
              </p:nvSpPr>
              <p:spPr>
                <a:xfrm>
                  <a:off x="3840840" y="5357880"/>
                  <a:ext cx="1204920" cy="774720"/>
                </a:xfrm>
                <a:custGeom>
                  <a:avLst/>
                  <a:gdLst/>
                  <a:ahLst/>
                  <a:rect l="l" t="t" r="r" b="b"/>
                  <a:pathLst>
                    <a:path w="701" h="719">
                      <a:moveTo>
                        <a:pt x="0" y="327"/>
                      </a:moveTo>
                      <a:cubicBezTo>
                        <a:pt x="4" y="315"/>
                        <a:pt x="4" y="287"/>
                        <a:pt x="9" y="245"/>
                      </a:cubicBezTo>
                      <a:cubicBezTo>
                        <a:pt x="14" y="203"/>
                        <a:pt x="9" y="0"/>
                        <a:pt x="29" y="75"/>
                      </a:cubicBezTo>
                      <a:cubicBezTo>
                        <a:pt x="49" y="150"/>
                        <a:pt x="96" y="667"/>
                        <a:pt x="129" y="693"/>
                      </a:cubicBezTo>
                      <a:cubicBezTo>
                        <a:pt x="162" y="719"/>
                        <a:pt x="200" y="244"/>
                        <a:pt x="229" y="229"/>
                      </a:cubicBezTo>
                      <a:cubicBezTo>
                        <a:pt x="258" y="214"/>
                        <a:pt x="275" y="587"/>
                        <a:pt x="301" y="602"/>
                      </a:cubicBezTo>
                      <a:cubicBezTo>
                        <a:pt x="327" y="617"/>
                        <a:pt x="360" y="328"/>
                        <a:pt x="383" y="320"/>
                      </a:cubicBezTo>
                      <a:cubicBezTo>
                        <a:pt x="406" y="312"/>
                        <a:pt x="417" y="550"/>
                        <a:pt x="438" y="556"/>
                      </a:cubicBezTo>
                      <a:cubicBezTo>
                        <a:pt x="459" y="562"/>
                        <a:pt x="491" y="363"/>
                        <a:pt x="511" y="356"/>
                      </a:cubicBezTo>
                      <a:cubicBezTo>
                        <a:pt x="531" y="349"/>
                        <a:pt x="538" y="500"/>
                        <a:pt x="556" y="511"/>
                      </a:cubicBezTo>
                      <a:cubicBezTo>
                        <a:pt x="574" y="522"/>
                        <a:pt x="596" y="432"/>
                        <a:pt x="620" y="420"/>
                      </a:cubicBezTo>
                      <a:cubicBezTo>
                        <a:pt x="644" y="408"/>
                        <a:pt x="672" y="423"/>
                        <a:pt x="701" y="438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2" name=""/>
                <p:cNvSpPr/>
                <p:nvPr/>
              </p:nvSpPr>
              <p:spPr>
                <a:xfrm>
                  <a:off x="5804280" y="5364000"/>
                  <a:ext cx="1278720" cy="755640"/>
                </a:xfrm>
                <a:custGeom>
                  <a:avLst/>
                  <a:gdLst/>
                  <a:ahLst/>
                  <a:rect l="l" t="t" r="r" b="b"/>
                  <a:pathLst>
                    <a:path w="744" h="700">
                      <a:moveTo>
                        <a:pt x="0" y="612"/>
                      </a:moveTo>
                      <a:cubicBezTo>
                        <a:pt x="5" y="567"/>
                        <a:pt x="7" y="432"/>
                        <a:pt x="19" y="339"/>
                      </a:cubicBezTo>
                      <a:cubicBezTo>
                        <a:pt x="31" y="246"/>
                        <a:pt x="47" y="0"/>
                        <a:pt x="72" y="56"/>
                      </a:cubicBezTo>
                      <a:cubicBezTo>
                        <a:pt x="97" y="112"/>
                        <a:pt x="139" y="648"/>
                        <a:pt x="172" y="674"/>
                      </a:cubicBezTo>
                      <a:cubicBezTo>
                        <a:pt x="205" y="700"/>
                        <a:pt x="243" y="225"/>
                        <a:pt x="272" y="210"/>
                      </a:cubicBezTo>
                      <a:cubicBezTo>
                        <a:pt x="301" y="195"/>
                        <a:pt x="318" y="568"/>
                        <a:pt x="344" y="583"/>
                      </a:cubicBezTo>
                      <a:cubicBezTo>
                        <a:pt x="370" y="598"/>
                        <a:pt x="403" y="309"/>
                        <a:pt x="426" y="301"/>
                      </a:cubicBezTo>
                      <a:cubicBezTo>
                        <a:pt x="449" y="293"/>
                        <a:pt x="460" y="531"/>
                        <a:pt x="481" y="537"/>
                      </a:cubicBezTo>
                      <a:cubicBezTo>
                        <a:pt x="502" y="543"/>
                        <a:pt x="534" y="344"/>
                        <a:pt x="554" y="337"/>
                      </a:cubicBezTo>
                      <a:cubicBezTo>
                        <a:pt x="574" y="330"/>
                        <a:pt x="581" y="481"/>
                        <a:pt x="599" y="492"/>
                      </a:cubicBezTo>
                      <a:cubicBezTo>
                        <a:pt x="617" y="503"/>
                        <a:pt x="639" y="413"/>
                        <a:pt x="663" y="401"/>
                      </a:cubicBezTo>
                      <a:cubicBezTo>
                        <a:pt x="687" y="389"/>
                        <a:pt x="715" y="404"/>
                        <a:pt x="744" y="419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3" name=""/>
                <p:cNvSpPr/>
                <p:nvPr/>
              </p:nvSpPr>
              <p:spPr>
                <a:xfrm>
                  <a:off x="735480" y="5760000"/>
                  <a:ext cx="124560" cy="86400"/>
                </a:xfrm>
                <a:prstGeom prst="ellipse">
                  <a:avLst/>
                </a:prstGeom>
                <a:solidFill>
                  <a:srgbClr val="ff00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4" name=""/>
                <p:cNvSpPr/>
                <p:nvPr/>
              </p:nvSpPr>
              <p:spPr>
                <a:xfrm>
                  <a:off x="2402640" y="5628600"/>
                  <a:ext cx="122760" cy="88560"/>
                </a:xfrm>
                <a:prstGeom prst="ellipse">
                  <a:avLst/>
                </a:prstGeom>
                <a:solidFill>
                  <a:srgbClr val="ff00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5" name=""/>
                <p:cNvSpPr/>
                <p:nvPr/>
              </p:nvSpPr>
              <p:spPr>
                <a:xfrm>
                  <a:off x="3774960" y="5645160"/>
                  <a:ext cx="122760" cy="89280"/>
                </a:xfrm>
                <a:prstGeom prst="ellipse">
                  <a:avLst/>
                </a:prstGeom>
                <a:solidFill>
                  <a:srgbClr val="ff00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6" name=""/>
                <p:cNvSpPr/>
                <p:nvPr/>
              </p:nvSpPr>
              <p:spPr>
                <a:xfrm>
                  <a:off x="5751360" y="5952600"/>
                  <a:ext cx="122400" cy="88560"/>
                </a:xfrm>
                <a:prstGeom prst="ellipse">
                  <a:avLst/>
                </a:prstGeom>
                <a:solidFill>
                  <a:srgbClr val="ff00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57" name=""/>
            <p:cNvSpPr/>
            <p:nvPr/>
          </p:nvSpPr>
          <p:spPr>
            <a:xfrm>
              <a:off x="384120" y="6084720"/>
              <a:ext cx="7067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ongueur d'un train d'onde :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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1/ intervalle spectral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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8" name=""/>
          <p:cNvGrpSpPr/>
          <p:nvPr/>
        </p:nvGrpSpPr>
        <p:grpSpPr>
          <a:xfrm>
            <a:off x="-1219320" y="3067200"/>
            <a:ext cx="13047840" cy="1594800"/>
            <a:chOff x="-1219320" y="3067200"/>
            <a:chExt cx="13047840" cy="1594800"/>
          </a:xfrm>
        </p:grpSpPr>
        <p:sp>
          <p:nvSpPr>
            <p:cNvPr id="4759" name=""/>
            <p:cNvSpPr/>
            <p:nvPr/>
          </p:nvSpPr>
          <p:spPr>
            <a:xfrm>
              <a:off x="399240" y="3067200"/>
              <a:ext cx="8224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modèle retenu jusqu'ici   V(t) = A.exp (i.2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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.t+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prédi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s interférences partout, il n'est pas compatible avec l'obser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0" name=""/>
            <p:cNvGrpSpPr/>
            <p:nvPr/>
          </p:nvGrpSpPr>
          <p:grpSpPr>
            <a:xfrm>
              <a:off x="-1219320" y="3703680"/>
              <a:ext cx="13047840" cy="958320"/>
              <a:chOff x="-1219320" y="3703680"/>
              <a:chExt cx="13047840" cy="958320"/>
            </a:xfrm>
          </p:grpSpPr>
          <p:grpSp>
            <p:nvGrpSpPr>
              <p:cNvPr id="4761" name=""/>
              <p:cNvGrpSpPr/>
              <p:nvPr/>
            </p:nvGrpSpPr>
            <p:grpSpPr>
              <a:xfrm>
                <a:off x="-1219320" y="3827520"/>
                <a:ext cx="13047840" cy="507600"/>
                <a:chOff x="-1219320" y="3827520"/>
                <a:chExt cx="13047840" cy="507600"/>
              </a:xfrm>
            </p:grpSpPr>
            <p:sp>
              <p:nvSpPr>
                <p:cNvPr id="4762" name=""/>
                <p:cNvSpPr/>
                <p:nvPr/>
              </p:nvSpPr>
              <p:spPr>
                <a:xfrm>
                  <a:off x="3111480" y="3827520"/>
                  <a:ext cx="4361040" cy="489960"/>
                </a:xfrm>
                <a:custGeom>
                  <a:avLst/>
                  <a:gdLst/>
                  <a:ahLst/>
                  <a:rect l="l" t="t" r="r" b="b"/>
                  <a:pathLst>
                    <a:path w="1126" h="275">
                      <a:moveTo>
                        <a:pt x="0" y="140"/>
                      </a:moveTo>
                      <a:lnTo>
                        <a:pt x="8" y="156"/>
                      </a:lnTo>
                      <a:lnTo>
                        <a:pt x="20" y="185"/>
                      </a:lnTo>
                      <a:lnTo>
                        <a:pt x="33" y="209"/>
                      </a:lnTo>
                      <a:lnTo>
                        <a:pt x="45" y="226"/>
                      </a:lnTo>
                      <a:lnTo>
                        <a:pt x="57" y="242"/>
                      </a:lnTo>
                      <a:lnTo>
                        <a:pt x="69" y="255"/>
                      </a:lnTo>
                      <a:lnTo>
                        <a:pt x="82" y="263"/>
                      </a:lnTo>
                      <a:lnTo>
                        <a:pt x="94" y="267"/>
                      </a:lnTo>
                      <a:lnTo>
                        <a:pt x="106" y="263"/>
                      </a:lnTo>
                      <a:lnTo>
                        <a:pt x="118" y="259"/>
                      </a:lnTo>
                      <a:lnTo>
                        <a:pt x="126" y="250"/>
                      </a:lnTo>
                      <a:lnTo>
                        <a:pt x="135" y="242"/>
                      </a:lnTo>
                      <a:lnTo>
                        <a:pt x="147" y="222"/>
                      </a:lnTo>
                      <a:lnTo>
                        <a:pt x="155" y="205"/>
                      </a:lnTo>
                      <a:lnTo>
                        <a:pt x="167" y="177"/>
                      </a:lnTo>
                      <a:lnTo>
                        <a:pt x="175" y="148"/>
                      </a:lnTo>
                      <a:lnTo>
                        <a:pt x="180" y="131"/>
                      </a:lnTo>
                      <a:lnTo>
                        <a:pt x="184" y="115"/>
                      </a:lnTo>
                      <a:lnTo>
                        <a:pt x="196" y="82"/>
                      </a:lnTo>
                      <a:lnTo>
                        <a:pt x="204" y="57"/>
                      </a:lnTo>
                      <a:lnTo>
                        <a:pt x="212" y="41"/>
                      </a:lnTo>
                      <a:lnTo>
                        <a:pt x="224" y="21"/>
                      </a:lnTo>
                      <a:lnTo>
                        <a:pt x="233" y="8"/>
                      </a:lnTo>
                      <a:lnTo>
                        <a:pt x="241" y="4"/>
                      </a:lnTo>
                      <a:lnTo>
                        <a:pt x="249" y="0"/>
                      </a:lnTo>
                      <a:lnTo>
                        <a:pt x="257" y="0"/>
                      </a:lnTo>
                      <a:lnTo>
                        <a:pt x="269" y="4"/>
                      </a:lnTo>
                      <a:lnTo>
                        <a:pt x="281" y="12"/>
                      </a:lnTo>
                      <a:lnTo>
                        <a:pt x="286" y="21"/>
                      </a:lnTo>
                      <a:lnTo>
                        <a:pt x="294" y="37"/>
                      </a:lnTo>
                      <a:lnTo>
                        <a:pt x="306" y="62"/>
                      </a:lnTo>
                      <a:lnTo>
                        <a:pt x="314" y="86"/>
                      </a:lnTo>
                      <a:lnTo>
                        <a:pt x="322" y="115"/>
                      </a:lnTo>
                      <a:lnTo>
                        <a:pt x="326" y="127"/>
                      </a:lnTo>
                      <a:lnTo>
                        <a:pt x="330" y="140"/>
                      </a:lnTo>
                      <a:lnTo>
                        <a:pt x="339" y="168"/>
                      </a:lnTo>
                      <a:lnTo>
                        <a:pt x="347" y="193"/>
                      </a:lnTo>
                      <a:lnTo>
                        <a:pt x="355" y="213"/>
                      </a:lnTo>
                      <a:lnTo>
                        <a:pt x="367" y="234"/>
                      </a:lnTo>
                      <a:lnTo>
                        <a:pt x="375" y="246"/>
                      </a:lnTo>
                      <a:lnTo>
                        <a:pt x="379" y="250"/>
                      </a:lnTo>
                      <a:lnTo>
                        <a:pt x="387" y="255"/>
                      </a:lnTo>
                      <a:lnTo>
                        <a:pt x="400" y="255"/>
                      </a:lnTo>
                      <a:lnTo>
                        <a:pt x="412" y="250"/>
                      </a:lnTo>
                      <a:lnTo>
                        <a:pt x="416" y="246"/>
                      </a:lnTo>
                      <a:lnTo>
                        <a:pt x="424" y="234"/>
                      </a:lnTo>
                      <a:lnTo>
                        <a:pt x="436" y="213"/>
                      </a:lnTo>
                      <a:lnTo>
                        <a:pt x="445" y="197"/>
                      </a:lnTo>
                      <a:lnTo>
                        <a:pt x="453" y="172"/>
                      </a:lnTo>
                      <a:lnTo>
                        <a:pt x="461" y="144"/>
                      </a:lnTo>
                      <a:lnTo>
                        <a:pt x="465" y="131"/>
                      </a:lnTo>
                      <a:lnTo>
                        <a:pt x="469" y="119"/>
                      </a:lnTo>
                      <a:lnTo>
                        <a:pt x="477" y="90"/>
                      </a:lnTo>
                      <a:lnTo>
                        <a:pt x="485" y="66"/>
                      </a:lnTo>
                      <a:lnTo>
                        <a:pt x="494" y="49"/>
                      </a:lnTo>
                      <a:lnTo>
                        <a:pt x="506" y="29"/>
                      </a:lnTo>
                      <a:lnTo>
                        <a:pt x="514" y="16"/>
                      </a:lnTo>
                      <a:lnTo>
                        <a:pt x="522" y="8"/>
                      </a:lnTo>
                      <a:lnTo>
                        <a:pt x="526" y="8"/>
                      </a:lnTo>
                      <a:lnTo>
                        <a:pt x="538" y="8"/>
                      </a:lnTo>
                      <a:lnTo>
                        <a:pt x="547" y="8"/>
                      </a:lnTo>
                      <a:lnTo>
                        <a:pt x="555" y="16"/>
                      </a:lnTo>
                      <a:lnTo>
                        <a:pt x="563" y="29"/>
                      </a:lnTo>
                      <a:lnTo>
                        <a:pt x="575" y="49"/>
                      </a:lnTo>
                      <a:lnTo>
                        <a:pt x="583" y="66"/>
                      </a:lnTo>
                      <a:lnTo>
                        <a:pt x="591" y="90"/>
                      </a:lnTo>
                      <a:lnTo>
                        <a:pt x="600" y="119"/>
                      </a:lnTo>
                      <a:lnTo>
                        <a:pt x="604" y="131"/>
                      </a:lnTo>
                      <a:lnTo>
                        <a:pt x="608" y="144"/>
                      </a:lnTo>
                      <a:lnTo>
                        <a:pt x="616" y="172"/>
                      </a:lnTo>
                      <a:lnTo>
                        <a:pt x="624" y="197"/>
                      </a:lnTo>
                      <a:lnTo>
                        <a:pt x="632" y="218"/>
                      </a:lnTo>
                      <a:lnTo>
                        <a:pt x="640" y="234"/>
                      </a:lnTo>
                      <a:lnTo>
                        <a:pt x="653" y="246"/>
                      </a:lnTo>
                      <a:lnTo>
                        <a:pt x="657" y="255"/>
                      </a:lnTo>
                      <a:lnTo>
                        <a:pt x="665" y="259"/>
                      </a:lnTo>
                      <a:lnTo>
                        <a:pt x="673" y="259"/>
                      </a:lnTo>
                      <a:lnTo>
                        <a:pt x="681" y="259"/>
                      </a:lnTo>
                      <a:lnTo>
                        <a:pt x="689" y="250"/>
                      </a:lnTo>
                      <a:lnTo>
                        <a:pt x="702" y="238"/>
                      </a:lnTo>
                      <a:lnTo>
                        <a:pt x="710" y="222"/>
                      </a:lnTo>
                      <a:lnTo>
                        <a:pt x="718" y="205"/>
                      </a:lnTo>
                      <a:lnTo>
                        <a:pt x="726" y="181"/>
                      </a:lnTo>
                      <a:lnTo>
                        <a:pt x="734" y="160"/>
                      </a:lnTo>
                      <a:lnTo>
                        <a:pt x="738" y="144"/>
                      </a:lnTo>
                      <a:lnTo>
                        <a:pt x="742" y="131"/>
                      </a:lnTo>
                      <a:lnTo>
                        <a:pt x="750" y="107"/>
                      </a:lnTo>
                      <a:lnTo>
                        <a:pt x="759" y="82"/>
                      </a:lnTo>
                      <a:lnTo>
                        <a:pt x="767" y="66"/>
                      </a:lnTo>
                      <a:lnTo>
                        <a:pt x="779" y="49"/>
                      </a:lnTo>
                      <a:lnTo>
                        <a:pt x="787" y="37"/>
                      </a:lnTo>
                      <a:lnTo>
                        <a:pt x="791" y="33"/>
                      </a:lnTo>
                      <a:lnTo>
                        <a:pt x="799" y="29"/>
                      </a:lnTo>
                      <a:lnTo>
                        <a:pt x="812" y="29"/>
                      </a:lnTo>
                      <a:lnTo>
                        <a:pt x="820" y="33"/>
                      </a:lnTo>
                      <a:lnTo>
                        <a:pt x="828" y="41"/>
                      </a:lnTo>
                      <a:lnTo>
                        <a:pt x="836" y="49"/>
                      </a:lnTo>
                      <a:lnTo>
                        <a:pt x="848" y="70"/>
                      </a:lnTo>
                      <a:lnTo>
                        <a:pt x="856" y="90"/>
                      </a:lnTo>
                      <a:lnTo>
                        <a:pt x="865" y="111"/>
                      </a:lnTo>
                      <a:lnTo>
                        <a:pt x="873" y="140"/>
                      </a:lnTo>
                      <a:lnTo>
                        <a:pt x="877" y="152"/>
                      </a:lnTo>
                      <a:lnTo>
                        <a:pt x="881" y="164"/>
                      </a:lnTo>
                      <a:lnTo>
                        <a:pt x="889" y="193"/>
                      </a:lnTo>
                      <a:lnTo>
                        <a:pt x="897" y="213"/>
                      </a:lnTo>
                      <a:lnTo>
                        <a:pt x="905" y="234"/>
                      </a:lnTo>
                      <a:lnTo>
                        <a:pt x="914" y="250"/>
                      </a:lnTo>
                      <a:lnTo>
                        <a:pt x="922" y="259"/>
                      </a:lnTo>
                      <a:lnTo>
                        <a:pt x="934" y="271"/>
                      </a:lnTo>
                      <a:lnTo>
                        <a:pt x="942" y="275"/>
                      </a:lnTo>
                      <a:lnTo>
                        <a:pt x="946" y="275"/>
                      </a:lnTo>
                      <a:lnTo>
                        <a:pt x="958" y="271"/>
                      </a:lnTo>
                      <a:lnTo>
                        <a:pt x="963" y="267"/>
                      </a:lnTo>
                      <a:lnTo>
                        <a:pt x="971" y="255"/>
                      </a:lnTo>
                      <a:lnTo>
                        <a:pt x="979" y="238"/>
                      </a:lnTo>
                      <a:lnTo>
                        <a:pt x="987" y="222"/>
                      </a:lnTo>
                      <a:lnTo>
                        <a:pt x="991" y="201"/>
                      </a:lnTo>
                      <a:lnTo>
                        <a:pt x="999" y="177"/>
                      </a:lnTo>
                      <a:lnTo>
                        <a:pt x="1003" y="160"/>
                      </a:lnTo>
                      <a:lnTo>
                        <a:pt x="1007" y="144"/>
                      </a:lnTo>
                      <a:lnTo>
                        <a:pt x="1016" y="119"/>
                      </a:lnTo>
                      <a:lnTo>
                        <a:pt x="1020" y="99"/>
                      </a:lnTo>
                      <a:lnTo>
                        <a:pt x="1028" y="78"/>
                      </a:lnTo>
                      <a:lnTo>
                        <a:pt x="1036" y="66"/>
                      </a:lnTo>
                      <a:lnTo>
                        <a:pt x="1044" y="49"/>
                      </a:lnTo>
                      <a:lnTo>
                        <a:pt x="1052" y="41"/>
                      </a:lnTo>
                      <a:lnTo>
                        <a:pt x="1056" y="41"/>
                      </a:lnTo>
                      <a:lnTo>
                        <a:pt x="1069" y="37"/>
                      </a:lnTo>
                      <a:lnTo>
                        <a:pt x="1073" y="41"/>
                      </a:lnTo>
                      <a:lnTo>
                        <a:pt x="1085" y="49"/>
                      </a:lnTo>
                      <a:lnTo>
                        <a:pt x="1089" y="57"/>
                      </a:lnTo>
                      <a:lnTo>
                        <a:pt x="1097" y="70"/>
                      </a:lnTo>
                      <a:lnTo>
                        <a:pt x="1105" y="90"/>
                      </a:lnTo>
                      <a:lnTo>
                        <a:pt x="1113" y="111"/>
                      </a:lnTo>
                      <a:lnTo>
                        <a:pt x="1122" y="140"/>
                      </a:lnTo>
                      <a:lnTo>
                        <a:pt x="1126" y="152"/>
                      </a:lnTo>
                    </a:path>
                  </a:pathLst>
                </a:custGeom>
                <a:solidFill>
                  <a:srgbClr val="ffff00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3" name=""/>
                <p:cNvSpPr/>
                <p:nvPr/>
              </p:nvSpPr>
              <p:spPr>
                <a:xfrm>
                  <a:off x="7467480" y="3845160"/>
                  <a:ext cx="4361040" cy="489960"/>
                </a:xfrm>
                <a:custGeom>
                  <a:avLst/>
                  <a:gdLst/>
                  <a:ahLst/>
                  <a:rect l="l" t="t" r="r" b="b"/>
                  <a:pathLst>
                    <a:path w="1126" h="275">
                      <a:moveTo>
                        <a:pt x="0" y="140"/>
                      </a:moveTo>
                      <a:lnTo>
                        <a:pt x="8" y="156"/>
                      </a:lnTo>
                      <a:lnTo>
                        <a:pt x="20" y="185"/>
                      </a:lnTo>
                      <a:lnTo>
                        <a:pt x="33" y="209"/>
                      </a:lnTo>
                      <a:lnTo>
                        <a:pt x="45" y="226"/>
                      </a:lnTo>
                      <a:lnTo>
                        <a:pt x="57" y="242"/>
                      </a:lnTo>
                      <a:lnTo>
                        <a:pt x="69" y="255"/>
                      </a:lnTo>
                      <a:lnTo>
                        <a:pt x="82" y="263"/>
                      </a:lnTo>
                      <a:lnTo>
                        <a:pt x="94" y="267"/>
                      </a:lnTo>
                      <a:lnTo>
                        <a:pt x="106" y="263"/>
                      </a:lnTo>
                      <a:lnTo>
                        <a:pt x="118" y="259"/>
                      </a:lnTo>
                      <a:lnTo>
                        <a:pt x="126" y="250"/>
                      </a:lnTo>
                      <a:lnTo>
                        <a:pt x="135" y="242"/>
                      </a:lnTo>
                      <a:lnTo>
                        <a:pt x="147" y="222"/>
                      </a:lnTo>
                      <a:lnTo>
                        <a:pt x="155" y="205"/>
                      </a:lnTo>
                      <a:lnTo>
                        <a:pt x="167" y="177"/>
                      </a:lnTo>
                      <a:lnTo>
                        <a:pt x="175" y="148"/>
                      </a:lnTo>
                      <a:lnTo>
                        <a:pt x="180" y="131"/>
                      </a:lnTo>
                      <a:lnTo>
                        <a:pt x="184" y="115"/>
                      </a:lnTo>
                      <a:lnTo>
                        <a:pt x="196" y="82"/>
                      </a:lnTo>
                      <a:lnTo>
                        <a:pt x="204" y="57"/>
                      </a:lnTo>
                      <a:lnTo>
                        <a:pt x="212" y="41"/>
                      </a:lnTo>
                      <a:lnTo>
                        <a:pt x="224" y="21"/>
                      </a:lnTo>
                      <a:lnTo>
                        <a:pt x="233" y="8"/>
                      </a:lnTo>
                      <a:lnTo>
                        <a:pt x="241" y="4"/>
                      </a:lnTo>
                      <a:lnTo>
                        <a:pt x="249" y="0"/>
                      </a:lnTo>
                      <a:lnTo>
                        <a:pt x="257" y="0"/>
                      </a:lnTo>
                      <a:lnTo>
                        <a:pt x="269" y="4"/>
                      </a:lnTo>
                      <a:lnTo>
                        <a:pt x="281" y="12"/>
                      </a:lnTo>
                      <a:lnTo>
                        <a:pt x="286" y="21"/>
                      </a:lnTo>
                      <a:lnTo>
                        <a:pt x="294" y="37"/>
                      </a:lnTo>
                      <a:lnTo>
                        <a:pt x="306" y="62"/>
                      </a:lnTo>
                      <a:lnTo>
                        <a:pt x="314" y="86"/>
                      </a:lnTo>
                      <a:lnTo>
                        <a:pt x="322" y="115"/>
                      </a:lnTo>
                      <a:lnTo>
                        <a:pt x="326" y="127"/>
                      </a:lnTo>
                      <a:lnTo>
                        <a:pt x="330" y="140"/>
                      </a:lnTo>
                      <a:lnTo>
                        <a:pt x="339" y="168"/>
                      </a:lnTo>
                      <a:lnTo>
                        <a:pt x="347" y="193"/>
                      </a:lnTo>
                      <a:lnTo>
                        <a:pt x="355" y="213"/>
                      </a:lnTo>
                      <a:lnTo>
                        <a:pt x="367" y="234"/>
                      </a:lnTo>
                      <a:lnTo>
                        <a:pt x="375" y="246"/>
                      </a:lnTo>
                      <a:lnTo>
                        <a:pt x="379" y="250"/>
                      </a:lnTo>
                      <a:lnTo>
                        <a:pt x="387" y="255"/>
                      </a:lnTo>
                      <a:lnTo>
                        <a:pt x="400" y="255"/>
                      </a:lnTo>
                      <a:lnTo>
                        <a:pt x="412" y="250"/>
                      </a:lnTo>
                      <a:lnTo>
                        <a:pt x="416" y="246"/>
                      </a:lnTo>
                      <a:lnTo>
                        <a:pt x="424" y="234"/>
                      </a:lnTo>
                      <a:lnTo>
                        <a:pt x="436" y="213"/>
                      </a:lnTo>
                      <a:lnTo>
                        <a:pt x="445" y="197"/>
                      </a:lnTo>
                      <a:lnTo>
                        <a:pt x="453" y="172"/>
                      </a:lnTo>
                      <a:lnTo>
                        <a:pt x="461" y="144"/>
                      </a:lnTo>
                      <a:lnTo>
                        <a:pt x="465" y="131"/>
                      </a:lnTo>
                      <a:lnTo>
                        <a:pt x="469" y="119"/>
                      </a:lnTo>
                      <a:lnTo>
                        <a:pt x="477" y="90"/>
                      </a:lnTo>
                      <a:lnTo>
                        <a:pt x="485" y="66"/>
                      </a:lnTo>
                      <a:lnTo>
                        <a:pt x="494" y="49"/>
                      </a:lnTo>
                      <a:lnTo>
                        <a:pt x="506" y="29"/>
                      </a:lnTo>
                      <a:lnTo>
                        <a:pt x="514" y="16"/>
                      </a:lnTo>
                      <a:lnTo>
                        <a:pt x="522" y="8"/>
                      </a:lnTo>
                      <a:lnTo>
                        <a:pt x="526" y="8"/>
                      </a:lnTo>
                      <a:lnTo>
                        <a:pt x="538" y="8"/>
                      </a:lnTo>
                      <a:lnTo>
                        <a:pt x="547" y="8"/>
                      </a:lnTo>
                      <a:lnTo>
                        <a:pt x="555" y="16"/>
                      </a:lnTo>
                      <a:lnTo>
                        <a:pt x="563" y="29"/>
                      </a:lnTo>
                      <a:lnTo>
                        <a:pt x="575" y="49"/>
                      </a:lnTo>
                      <a:lnTo>
                        <a:pt x="583" y="66"/>
                      </a:lnTo>
                      <a:lnTo>
                        <a:pt x="591" y="90"/>
                      </a:lnTo>
                      <a:lnTo>
                        <a:pt x="600" y="119"/>
                      </a:lnTo>
                      <a:lnTo>
                        <a:pt x="604" y="131"/>
                      </a:lnTo>
                      <a:lnTo>
                        <a:pt x="608" y="144"/>
                      </a:lnTo>
                      <a:lnTo>
                        <a:pt x="616" y="172"/>
                      </a:lnTo>
                      <a:lnTo>
                        <a:pt x="624" y="197"/>
                      </a:lnTo>
                      <a:lnTo>
                        <a:pt x="632" y="218"/>
                      </a:lnTo>
                      <a:lnTo>
                        <a:pt x="640" y="234"/>
                      </a:lnTo>
                      <a:lnTo>
                        <a:pt x="653" y="246"/>
                      </a:lnTo>
                      <a:lnTo>
                        <a:pt x="657" y="255"/>
                      </a:lnTo>
                      <a:lnTo>
                        <a:pt x="665" y="259"/>
                      </a:lnTo>
                      <a:lnTo>
                        <a:pt x="673" y="259"/>
                      </a:lnTo>
                      <a:lnTo>
                        <a:pt x="681" y="259"/>
                      </a:lnTo>
                      <a:lnTo>
                        <a:pt x="689" y="250"/>
                      </a:lnTo>
                      <a:lnTo>
                        <a:pt x="702" y="238"/>
                      </a:lnTo>
                      <a:lnTo>
                        <a:pt x="710" y="222"/>
                      </a:lnTo>
                      <a:lnTo>
                        <a:pt x="718" y="205"/>
                      </a:lnTo>
                      <a:lnTo>
                        <a:pt x="726" y="181"/>
                      </a:lnTo>
                      <a:lnTo>
                        <a:pt x="734" y="160"/>
                      </a:lnTo>
                      <a:lnTo>
                        <a:pt x="738" y="144"/>
                      </a:lnTo>
                      <a:lnTo>
                        <a:pt x="742" y="131"/>
                      </a:lnTo>
                      <a:lnTo>
                        <a:pt x="750" y="107"/>
                      </a:lnTo>
                      <a:lnTo>
                        <a:pt x="759" y="82"/>
                      </a:lnTo>
                      <a:lnTo>
                        <a:pt x="767" y="66"/>
                      </a:lnTo>
                      <a:lnTo>
                        <a:pt x="779" y="49"/>
                      </a:lnTo>
                      <a:lnTo>
                        <a:pt x="787" y="37"/>
                      </a:lnTo>
                      <a:lnTo>
                        <a:pt x="791" y="33"/>
                      </a:lnTo>
                      <a:lnTo>
                        <a:pt x="799" y="29"/>
                      </a:lnTo>
                      <a:lnTo>
                        <a:pt x="812" y="29"/>
                      </a:lnTo>
                      <a:lnTo>
                        <a:pt x="820" y="33"/>
                      </a:lnTo>
                      <a:lnTo>
                        <a:pt x="828" y="41"/>
                      </a:lnTo>
                      <a:lnTo>
                        <a:pt x="836" y="49"/>
                      </a:lnTo>
                      <a:lnTo>
                        <a:pt x="848" y="70"/>
                      </a:lnTo>
                      <a:lnTo>
                        <a:pt x="856" y="90"/>
                      </a:lnTo>
                      <a:lnTo>
                        <a:pt x="865" y="111"/>
                      </a:lnTo>
                      <a:lnTo>
                        <a:pt x="873" y="140"/>
                      </a:lnTo>
                      <a:lnTo>
                        <a:pt x="877" y="152"/>
                      </a:lnTo>
                      <a:lnTo>
                        <a:pt x="881" y="164"/>
                      </a:lnTo>
                      <a:lnTo>
                        <a:pt x="889" y="193"/>
                      </a:lnTo>
                      <a:lnTo>
                        <a:pt x="897" y="213"/>
                      </a:lnTo>
                      <a:lnTo>
                        <a:pt x="905" y="234"/>
                      </a:lnTo>
                      <a:lnTo>
                        <a:pt x="914" y="250"/>
                      </a:lnTo>
                      <a:lnTo>
                        <a:pt x="922" y="259"/>
                      </a:lnTo>
                      <a:lnTo>
                        <a:pt x="934" y="271"/>
                      </a:lnTo>
                      <a:lnTo>
                        <a:pt x="942" y="275"/>
                      </a:lnTo>
                      <a:lnTo>
                        <a:pt x="946" y="275"/>
                      </a:lnTo>
                      <a:lnTo>
                        <a:pt x="958" y="271"/>
                      </a:lnTo>
                      <a:lnTo>
                        <a:pt x="963" y="267"/>
                      </a:lnTo>
                      <a:lnTo>
                        <a:pt x="971" y="255"/>
                      </a:lnTo>
                      <a:lnTo>
                        <a:pt x="979" y="238"/>
                      </a:lnTo>
                      <a:lnTo>
                        <a:pt x="987" y="222"/>
                      </a:lnTo>
                      <a:lnTo>
                        <a:pt x="991" y="201"/>
                      </a:lnTo>
                      <a:lnTo>
                        <a:pt x="999" y="177"/>
                      </a:lnTo>
                      <a:lnTo>
                        <a:pt x="1003" y="160"/>
                      </a:lnTo>
                      <a:lnTo>
                        <a:pt x="1007" y="144"/>
                      </a:lnTo>
                      <a:lnTo>
                        <a:pt x="1016" y="119"/>
                      </a:lnTo>
                      <a:lnTo>
                        <a:pt x="1020" y="99"/>
                      </a:lnTo>
                      <a:lnTo>
                        <a:pt x="1028" y="78"/>
                      </a:lnTo>
                      <a:lnTo>
                        <a:pt x="1036" y="66"/>
                      </a:lnTo>
                      <a:lnTo>
                        <a:pt x="1044" y="49"/>
                      </a:lnTo>
                      <a:lnTo>
                        <a:pt x="1052" y="41"/>
                      </a:lnTo>
                      <a:lnTo>
                        <a:pt x="1056" y="41"/>
                      </a:lnTo>
                      <a:lnTo>
                        <a:pt x="1069" y="37"/>
                      </a:lnTo>
                      <a:lnTo>
                        <a:pt x="1073" y="41"/>
                      </a:lnTo>
                      <a:lnTo>
                        <a:pt x="1085" y="49"/>
                      </a:lnTo>
                      <a:lnTo>
                        <a:pt x="1089" y="57"/>
                      </a:lnTo>
                      <a:lnTo>
                        <a:pt x="1097" y="70"/>
                      </a:lnTo>
                      <a:lnTo>
                        <a:pt x="1105" y="90"/>
                      </a:lnTo>
                      <a:lnTo>
                        <a:pt x="1113" y="111"/>
                      </a:lnTo>
                      <a:lnTo>
                        <a:pt x="1122" y="140"/>
                      </a:lnTo>
                      <a:lnTo>
                        <a:pt x="1126" y="152"/>
                      </a:lnTo>
                    </a:path>
                  </a:pathLst>
                </a:custGeom>
                <a:solidFill>
                  <a:srgbClr val="ffff00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4" name=""/>
                <p:cNvSpPr/>
                <p:nvPr/>
              </p:nvSpPr>
              <p:spPr>
                <a:xfrm>
                  <a:off x="-1219320" y="3827520"/>
                  <a:ext cx="4361040" cy="489960"/>
                </a:xfrm>
                <a:custGeom>
                  <a:avLst/>
                  <a:gdLst/>
                  <a:ahLst/>
                  <a:rect l="l" t="t" r="r" b="b"/>
                  <a:pathLst>
                    <a:path w="1126" h="275">
                      <a:moveTo>
                        <a:pt x="0" y="140"/>
                      </a:moveTo>
                      <a:lnTo>
                        <a:pt x="8" y="156"/>
                      </a:lnTo>
                      <a:lnTo>
                        <a:pt x="20" y="185"/>
                      </a:lnTo>
                      <a:lnTo>
                        <a:pt x="33" y="209"/>
                      </a:lnTo>
                      <a:lnTo>
                        <a:pt x="45" y="226"/>
                      </a:lnTo>
                      <a:lnTo>
                        <a:pt x="57" y="242"/>
                      </a:lnTo>
                      <a:lnTo>
                        <a:pt x="69" y="255"/>
                      </a:lnTo>
                      <a:lnTo>
                        <a:pt x="82" y="263"/>
                      </a:lnTo>
                      <a:lnTo>
                        <a:pt x="94" y="267"/>
                      </a:lnTo>
                      <a:lnTo>
                        <a:pt x="106" y="263"/>
                      </a:lnTo>
                      <a:lnTo>
                        <a:pt x="118" y="259"/>
                      </a:lnTo>
                      <a:lnTo>
                        <a:pt x="126" y="250"/>
                      </a:lnTo>
                      <a:lnTo>
                        <a:pt x="135" y="242"/>
                      </a:lnTo>
                      <a:lnTo>
                        <a:pt x="147" y="222"/>
                      </a:lnTo>
                      <a:lnTo>
                        <a:pt x="155" y="205"/>
                      </a:lnTo>
                      <a:lnTo>
                        <a:pt x="167" y="177"/>
                      </a:lnTo>
                      <a:lnTo>
                        <a:pt x="175" y="148"/>
                      </a:lnTo>
                      <a:lnTo>
                        <a:pt x="180" y="131"/>
                      </a:lnTo>
                      <a:lnTo>
                        <a:pt x="184" y="115"/>
                      </a:lnTo>
                      <a:lnTo>
                        <a:pt x="196" y="82"/>
                      </a:lnTo>
                      <a:lnTo>
                        <a:pt x="204" y="57"/>
                      </a:lnTo>
                      <a:lnTo>
                        <a:pt x="212" y="41"/>
                      </a:lnTo>
                      <a:lnTo>
                        <a:pt x="224" y="21"/>
                      </a:lnTo>
                      <a:lnTo>
                        <a:pt x="233" y="8"/>
                      </a:lnTo>
                      <a:lnTo>
                        <a:pt x="241" y="4"/>
                      </a:lnTo>
                      <a:lnTo>
                        <a:pt x="249" y="0"/>
                      </a:lnTo>
                      <a:lnTo>
                        <a:pt x="257" y="0"/>
                      </a:lnTo>
                      <a:lnTo>
                        <a:pt x="269" y="4"/>
                      </a:lnTo>
                      <a:lnTo>
                        <a:pt x="281" y="12"/>
                      </a:lnTo>
                      <a:lnTo>
                        <a:pt x="286" y="21"/>
                      </a:lnTo>
                      <a:lnTo>
                        <a:pt x="294" y="37"/>
                      </a:lnTo>
                      <a:lnTo>
                        <a:pt x="306" y="62"/>
                      </a:lnTo>
                      <a:lnTo>
                        <a:pt x="314" y="86"/>
                      </a:lnTo>
                      <a:lnTo>
                        <a:pt x="322" y="115"/>
                      </a:lnTo>
                      <a:lnTo>
                        <a:pt x="326" y="127"/>
                      </a:lnTo>
                      <a:lnTo>
                        <a:pt x="330" y="140"/>
                      </a:lnTo>
                      <a:lnTo>
                        <a:pt x="339" y="168"/>
                      </a:lnTo>
                      <a:lnTo>
                        <a:pt x="347" y="193"/>
                      </a:lnTo>
                      <a:lnTo>
                        <a:pt x="355" y="213"/>
                      </a:lnTo>
                      <a:lnTo>
                        <a:pt x="367" y="234"/>
                      </a:lnTo>
                      <a:lnTo>
                        <a:pt x="375" y="246"/>
                      </a:lnTo>
                      <a:lnTo>
                        <a:pt x="379" y="250"/>
                      </a:lnTo>
                      <a:lnTo>
                        <a:pt x="387" y="255"/>
                      </a:lnTo>
                      <a:lnTo>
                        <a:pt x="400" y="255"/>
                      </a:lnTo>
                      <a:lnTo>
                        <a:pt x="412" y="250"/>
                      </a:lnTo>
                      <a:lnTo>
                        <a:pt x="416" y="246"/>
                      </a:lnTo>
                      <a:lnTo>
                        <a:pt x="424" y="234"/>
                      </a:lnTo>
                      <a:lnTo>
                        <a:pt x="436" y="213"/>
                      </a:lnTo>
                      <a:lnTo>
                        <a:pt x="445" y="197"/>
                      </a:lnTo>
                      <a:lnTo>
                        <a:pt x="453" y="172"/>
                      </a:lnTo>
                      <a:lnTo>
                        <a:pt x="461" y="144"/>
                      </a:lnTo>
                      <a:lnTo>
                        <a:pt x="465" y="131"/>
                      </a:lnTo>
                      <a:lnTo>
                        <a:pt x="469" y="119"/>
                      </a:lnTo>
                      <a:lnTo>
                        <a:pt x="477" y="90"/>
                      </a:lnTo>
                      <a:lnTo>
                        <a:pt x="485" y="66"/>
                      </a:lnTo>
                      <a:lnTo>
                        <a:pt x="494" y="49"/>
                      </a:lnTo>
                      <a:lnTo>
                        <a:pt x="506" y="29"/>
                      </a:lnTo>
                      <a:lnTo>
                        <a:pt x="514" y="16"/>
                      </a:lnTo>
                      <a:lnTo>
                        <a:pt x="522" y="8"/>
                      </a:lnTo>
                      <a:lnTo>
                        <a:pt x="526" y="8"/>
                      </a:lnTo>
                      <a:lnTo>
                        <a:pt x="538" y="8"/>
                      </a:lnTo>
                      <a:lnTo>
                        <a:pt x="547" y="8"/>
                      </a:lnTo>
                      <a:lnTo>
                        <a:pt x="555" y="16"/>
                      </a:lnTo>
                      <a:lnTo>
                        <a:pt x="563" y="29"/>
                      </a:lnTo>
                      <a:lnTo>
                        <a:pt x="575" y="49"/>
                      </a:lnTo>
                      <a:lnTo>
                        <a:pt x="583" y="66"/>
                      </a:lnTo>
                      <a:lnTo>
                        <a:pt x="591" y="90"/>
                      </a:lnTo>
                      <a:lnTo>
                        <a:pt x="600" y="119"/>
                      </a:lnTo>
                      <a:lnTo>
                        <a:pt x="604" y="131"/>
                      </a:lnTo>
                      <a:lnTo>
                        <a:pt x="608" y="144"/>
                      </a:lnTo>
                      <a:lnTo>
                        <a:pt x="616" y="172"/>
                      </a:lnTo>
                      <a:lnTo>
                        <a:pt x="624" y="197"/>
                      </a:lnTo>
                      <a:lnTo>
                        <a:pt x="632" y="218"/>
                      </a:lnTo>
                      <a:lnTo>
                        <a:pt x="640" y="234"/>
                      </a:lnTo>
                      <a:lnTo>
                        <a:pt x="653" y="246"/>
                      </a:lnTo>
                      <a:lnTo>
                        <a:pt x="657" y="255"/>
                      </a:lnTo>
                      <a:lnTo>
                        <a:pt x="665" y="259"/>
                      </a:lnTo>
                      <a:lnTo>
                        <a:pt x="673" y="259"/>
                      </a:lnTo>
                      <a:lnTo>
                        <a:pt x="681" y="259"/>
                      </a:lnTo>
                      <a:lnTo>
                        <a:pt x="689" y="250"/>
                      </a:lnTo>
                      <a:lnTo>
                        <a:pt x="702" y="238"/>
                      </a:lnTo>
                      <a:lnTo>
                        <a:pt x="710" y="222"/>
                      </a:lnTo>
                      <a:lnTo>
                        <a:pt x="718" y="205"/>
                      </a:lnTo>
                      <a:lnTo>
                        <a:pt x="726" y="181"/>
                      </a:lnTo>
                      <a:lnTo>
                        <a:pt x="734" y="160"/>
                      </a:lnTo>
                      <a:lnTo>
                        <a:pt x="738" y="144"/>
                      </a:lnTo>
                      <a:lnTo>
                        <a:pt x="742" y="131"/>
                      </a:lnTo>
                      <a:lnTo>
                        <a:pt x="750" y="107"/>
                      </a:lnTo>
                      <a:lnTo>
                        <a:pt x="759" y="82"/>
                      </a:lnTo>
                      <a:lnTo>
                        <a:pt x="767" y="66"/>
                      </a:lnTo>
                      <a:lnTo>
                        <a:pt x="779" y="49"/>
                      </a:lnTo>
                      <a:lnTo>
                        <a:pt x="787" y="37"/>
                      </a:lnTo>
                      <a:lnTo>
                        <a:pt x="791" y="33"/>
                      </a:lnTo>
                      <a:lnTo>
                        <a:pt x="799" y="29"/>
                      </a:lnTo>
                      <a:lnTo>
                        <a:pt x="812" y="29"/>
                      </a:lnTo>
                      <a:lnTo>
                        <a:pt x="820" y="33"/>
                      </a:lnTo>
                      <a:lnTo>
                        <a:pt x="828" y="41"/>
                      </a:lnTo>
                      <a:lnTo>
                        <a:pt x="836" y="49"/>
                      </a:lnTo>
                      <a:lnTo>
                        <a:pt x="848" y="70"/>
                      </a:lnTo>
                      <a:lnTo>
                        <a:pt x="856" y="90"/>
                      </a:lnTo>
                      <a:lnTo>
                        <a:pt x="865" y="111"/>
                      </a:lnTo>
                      <a:lnTo>
                        <a:pt x="873" y="140"/>
                      </a:lnTo>
                      <a:lnTo>
                        <a:pt x="877" y="152"/>
                      </a:lnTo>
                      <a:lnTo>
                        <a:pt x="881" y="164"/>
                      </a:lnTo>
                      <a:lnTo>
                        <a:pt x="889" y="193"/>
                      </a:lnTo>
                      <a:lnTo>
                        <a:pt x="897" y="213"/>
                      </a:lnTo>
                      <a:lnTo>
                        <a:pt x="905" y="234"/>
                      </a:lnTo>
                      <a:lnTo>
                        <a:pt x="914" y="250"/>
                      </a:lnTo>
                      <a:lnTo>
                        <a:pt x="922" y="259"/>
                      </a:lnTo>
                      <a:lnTo>
                        <a:pt x="934" y="271"/>
                      </a:lnTo>
                      <a:lnTo>
                        <a:pt x="942" y="275"/>
                      </a:lnTo>
                      <a:lnTo>
                        <a:pt x="946" y="275"/>
                      </a:lnTo>
                      <a:lnTo>
                        <a:pt x="958" y="271"/>
                      </a:lnTo>
                      <a:lnTo>
                        <a:pt x="963" y="267"/>
                      </a:lnTo>
                      <a:lnTo>
                        <a:pt x="971" y="255"/>
                      </a:lnTo>
                      <a:lnTo>
                        <a:pt x="979" y="238"/>
                      </a:lnTo>
                      <a:lnTo>
                        <a:pt x="987" y="222"/>
                      </a:lnTo>
                      <a:lnTo>
                        <a:pt x="991" y="201"/>
                      </a:lnTo>
                      <a:lnTo>
                        <a:pt x="999" y="177"/>
                      </a:lnTo>
                      <a:lnTo>
                        <a:pt x="1003" y="160"/>
                      </a:lnTo>
                      <a:lnTo>
                        <a:pt x="1007" y="144"/>
                      </a:lnTo>
                      <a:lnTo>
                        <a:pt x="1016" y="119"/>
                      </a:lnTo>
                      <a:lnTo>
                        <a:pt x="1020" y="99"/>
                      </a:lnTo>
                      <a:lnTo>
                        <a:pt x="1028" y="78"/>
                      </a:lnTo>
                      <a:lnTo>
                        <a:pt x="1036" y="66"/>
                      </a:lnTo>
                      <a:lnTo>
                        <a:pt x="1044" y="49"/>
                      </a:lnTo>
                      <a:lnTo>
                        <a:pt x="1052" y="41"/>
                      </a:lnTo>
                      <a:lnTo>
                        <a:pt x="1056" y="41"/>
                      </a:lnTo>
                      <a:lnTo>
                        <a:pt x="1069" y="37"/>
                      </a:lnTo>
                      <a:lnTo>
                        <a:pt x="1073" y="41"/>
                      </a:lnTo>
                      <a:lnTo>
                        <a:pt x="1085" y="49"/>
                      </a:lnTo>
                      <a:lnTo>
                        <a:pt x="1089" y="57"/>
                      </a:lnTo>
                      <a:lnTo>
                        <a:pt x="1097" y="70"/>
                      </a:lnTo>
                      <a:lnTo>
                        <a:pt x="1105" y="90"/>
                      </a:lnTo>
                      <a:lnTo>
                        <a:pt x="1113" y="111"/>
                      </a:lnTo>
                      <a:lnTo>
                        <a:pt x="1122" y="140"/>
                      </a:lnTo>
                      <a:lnTo>
                        <a:pt x="1126" y="152"/>
                      </a:lnTo>
                    </a:path>
                  </a:pathLst>
                </a:custGeom>
                <a:solidFill>
                  <a:srgbClr val="ffff00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65" name=""/>
              <p:cNvSpPr/>
              <p:nvPr/>
            </p:nvSpPr>
            <p:spPr>
              <a:xfrm flipV="1">
                <a:off x="6915240" y="3717720"/>
                <a:ext cx="0" cy="9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-727200" y="4097160"/>
                <a:ext cx="9680760" cy="14400"/>
              </a:xfrm>
              <a:custGeom>
                <a:avLst/>
                <a:gdLst/>
                <a:ahLst/>
                <a:rect l="l" t="t" r="r" b="b"/>
                <a:pathLst>
                  <a:path w="6098" h="11">
                    <a:moveTo>
                      <a:pt x="0" y="0"/>
                    </a:moveTo>
                    <a:lnTo>
                      <a:pt x="6098" y="1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6362280" y="370692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V(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8708400" y="3703680"/>
                <a:ext cx="272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galaxy_ngc1232_pixel_1" descr=""/>
          <p:cNvPicPr/>
          <p:nvPr/>
        </p:nvPicPr>
        <p:blipFill>
          <a:blip r:embed="rId1"/>
          <a:stretch/>
        </p:blipFill>
        <p:spPr>
          <a:xfrm>
            <a:off x="851040" y="1224000"/>
            <a:ext cx="2658960" cy="2570040"/>
          </a:xfrm>
          <a:prstGeom prst="rect">
            <a:avLst/>
          </a:prstGeom>
          <a:ln w="38160">
            <a:solidFill>
              <a:srgbClr val="3399ff"/>
            </a:solidFill>
            <a:miter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372276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elf-speaking illu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galaxy_ngc1232_pix_3" descr=""/>
          <p:cNvPicPr/>
          <p:nvPr/>
        </p:nvPicPr>
        <p:blipFill>
          <a:blip r:embed="rId2"/>
          <a:stretch/>
        </p:blipFill>
        <p:spPr>
          <a:xfrm>
            <a:off x="3071880" y="2557440"/>
            <a:ext cx="2671560" cy="2581200"/>
          </a:xfrm>
          <a:prstGeom prst="rect">
            <a:avLst/>
          </a:prstGeom>
          <a:ln w="38160">
            <a:solidFill>
              <a:srgbClr val="3399ff"/>
            </a:solidFill>
            <a:miter/>
          </a:ln>
        </p:spPr>
      </p:pic>
      <p:pic>
        <p:nvPicPr>
          <p:cNvPr id="242" name="galaxy_ngc1232" descr=""/>
          <p:cNvPicPr/>
          <p:nvPr/>
        </p:nvPicPr>
        <p:blipFill>
          <a:blip r:embed="rId3"/>
          <a:stretch/>
        </p:blipFill>
        <p:spPr>
          <a:xfrm>
            <a:off x="5440320" y="3833640"/>
            <a:ext cx="2629080" cy="2541600"/>
          </a:xfrm>
          <a:prstGeom prst="rect">
            <a:avLst/>
          </a:prstGeom>
          <a:ln w="38160">
            <a:solidFill>
              <a:srgbClr val="33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title"/>
          </p:nvPr>
        </p:nvSpPr>
        <p:spPr>
          <a:xfrm>
            <a:off x="350640" y="708120"/>
            <a:ext cx="5010120" cy="466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cohérence _3 degré de cohé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0" name=""/>
          <p:cNvGrpSpPr/>
          <p:nvPr/>
        </p:nvGrpSpPr>
        <p:grpSpPr>
          <a:xfrm>
            <a:off x="422280" y="1333440"/>
            <a:ext cx="8062920" cy="1675440"/>
            <a:chOff x="422280" y="1333440"/>
            <a:chExt cx="8062920" cy="1675440"/>
          </a:xfrm>
        </p:grpSpPr>
        <p:grpSp>
          <p:nvGrpSpPr>
            <p:cNvPr id="4771" name=""/>
            <p:cNvGrpSpPr/>
            <p:nvPr/>
          </p:nvGrpSpPr>
          <p:grpSpPr>
            <a:xfrm>
              <a:off x="422280" y="1333440"/>
              <a:ext cx="6626160" cy="696960"/>
              <a:chOff x="422280" y="1333440"/>
              <a:chExt cx="6626160" cy="696960"/>
            </a:xfrm>
          </p:grpSpPr>
          <p:sp>
            <p:nvSpPr>
              <p:cNvPr id="4772" name=""/>
              <p:cNvSpPr/>
              <p:nvPr/>
            </p:nvSpPr>
            <p:spPr>
              <a:xfrm>
                <a:off x="2779560" y="1333440"/>
                <a:ext cx="1192320" cy="66852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4421160" y="1349280"/>
                <a:ext cx="2627280" cy="681120"/>
              </a:xfrm>
              <a:prstGeom prst="rect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774" name=""/>
                  <p:cNvSpPr txBox="1"/>
                  <p:nvPr/>
                </p:nvSpPr>
                <p:spPr>
                  <a:xfrm>
                    <a:off x="422280" y="1353960"/>
                    <a:ext cx="660384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ψ</m:t>
                        </m:r>
                        <m:sSub>
                          <m:e>
                            <m:r>
                              <m:t xml:space="preserve">∗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775" name=""/>
            <p:cNvSpPr/>
            <p:nvPr/>
          </p:nvSpPr>
          <p:spPr>
            <a:xfrm>
              <a:off x="498240" y="2193840"/>
              <a:ext cx="798696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quantité &lt; 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r>
                <a:rPr b="1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</a:t>
              </a:r>
              <a:r>
                <a:rPr b="1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*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&gt; peut servir à mesurer l'aptitude à interfér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mais elle dépend des intensité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6" name=""/>
          <p:cNvGrpSpPr/>
          <p:nvPr/>
        </p:nvGrpSpPr>
        <p:grpSpPr>
          <a:xfrm>
            <a:off x="7840800" y="676440"/>
            <a:ext cx="1000080" cy="812880"/>
            <a:chOff x="7840800" y="676440"/>
            <a:chExt cx="1000080" cy="812880"/>
          </a:xfrm>
        </p:grpSpPr>
        <p:sp>
          <p:nvSpPr>
            <p:cNvPr id="4777" name=""/>
            <p:cNvSpPr/>
            <p:nvPr/>
          </p:nvSpPr>
          <p:spPr>
            <a:xfrm>
              <a:off x="7840800" y="6764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8061840" y="9079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9" name=""/>
          <p:cNvGrpSpPr/>
          <p:nvPr/>
        </p:nvGrpSpPr>
        <p:grpSpPr>
          <a:xfrm>
            <a:off x="388440" y="3225960"/>
            <a:ext cx="7565760" cy="3260160"/>
            <a:chOff x="388440" y="3225960"/>
            <a:chExt cx="7565760" cy="3260160"/>
          </a:xfrm>
        </p:grpSpPr>
        <p:grpSp>
          <p:nvGrpSpPr>
            <p:cNvPr id="4780" name=""/>
            <p:cNvGrpSpPr/>
            <p:nvPr/>
          </p:nvGrpSpPr>
          <p:grpSpPr>
            <a:xfrm>
              <a:off x="520560" y="4106880"/>
              <a:ext cx="7164360" cy="1533600"/>
              <a:chOff x="520560" y="4106880"/>
              <a:chExt cx="7164360" cy="1533600"/>
            </a:xfrm>
          </p:grpSpPr>
          <p:sp>
            <p:nvSpPr>
              <p:cNvPr id="4781" name=""/>
              <p:cNvSpPr/>
              <p:nvPr/>
            </p:nvSpPr>
            <p:spPr>
              <a:xfrm>
                <a:off x="520560" y="4106880"/>
                <a:ext cx="7164360" cy="15336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82" name=""/>
              <p:cNvGrpSpPr/>
              <p:nvPr/>
            </p:nvGrpSpPr>
            <p:grpSpPr>
              <a:xfrm>
                <a:off x="814680" y="4416480"/>
                <a:ext cx="6635160" cy="1060560"/>
                <a:chOff x="814680" y="4416480"/>
                <a:chExt cx="6635160" cy="10605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783" name=""/>
                    <p:cNvSpPr txBox="1"/>
                    <p:nvPr/>
                  </p:nvSpPr>
                  <p:spPr>
                    <a:xfrm>
                      <a:off x="4770360" y="4475160"/>
                      <a:ext cx="2679480" cy="1001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∗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rad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784" name=""/>
                <p:cNvSpPr/>
                <p:nvPr/>
              </p:nvSpPr>
              <p:spPr>
                <a:xfrm>
                  <a:off x="814680" y="4416480"/>
                  <a:ext cx="4004280" cy="105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degré de cohérence (complexe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avec I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 = &lt; 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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k 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</a:t>
                  </a:r>
                  <a:r>
                    <a:rPr b="0" lang="fr-FR" sz="2000" spc="-1" strike="noStrike" baseline="30000">
                      <a:solidFill>
                        <a:srgbClr val="000000"/>
                      </a:solidFill>
                      <a:latin typeface="Comic Sans MS"/>
                    </a:rPr>
                    <a:t>2 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&gt;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85" name=""/>
            <p:cNvSpPr/>
            <p:nvPr/>
          </p:nvSpPr>
          <p:spPr>
            <a:xfrm>
              <a:off x="388440" y="5837400"/>
              <a:ext cx="7565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n gros, on peut voir</a:t>
              </a: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fr-FR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fr-FR" sz="3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</a:t>
              </a:r>
              <a:r>
                <a:rPr b="0" lang="fr-FR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omme une covariance normalis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549720" y="3225960"/>
              <a:ext cx="6483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préfère définir une aptitude comprise entre 0 et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(indépendance des intensités des cham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PlaceHolder 1"/>
          <p:cNvSpPr>
            <a:spLocks noGrp="1"/>
          </p:cNvSpPr>
          <p:nvPr>
            <p:ph type="title"/>
          </p:nvPr>
        </p:nvSpPr>
        <p:spPr>
          <a:xfrm>
            <a:off x="281160" y="549000"/>
            <a:ext cx="5822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ddition des champs  : deux situations typ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8" name=""/>
          <p:cNvSpPr/>
          <p:nvPr/>
        </p:nvSpPr>
        <p:spPr>
          <a:xfrm>
            <a:off x="437400" y="5253120"/>
            <a:ext cx="7908840" cy="1610280"/>
          </a:xfrm>
          <a:prstGeom prst="rect">
            <a:avLst/>
          </a:prstGeom>
          <a:solidFill>
            <a:srgbClr val="eb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ici le terme d'interférence n'est pas tué par la statis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outefois il ne peut exister que si les oscillations jumelles se rencont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lors on a interférence observable seulement si </a:t>
            </a: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 (r</a:t>
            </a:r>
            <a:r>
              <a:rPr b="0" lang="fr-FR" sz="1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 - r</a:t>
            </a:r>
            <a:r>
              <a:rPr b="0" lang="fr-FR" sz="1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) / 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fr-FR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&lt;   t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'est pour ça que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st appelé : temps de cohé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9" name=""/>
          <p:cNvGrpSpPr/>
          <p:nvPr/>
        </p:nvGrpSpPr>
        <p:grpSpPr>
          <a:xfrm>
            <a:off x="275760" y="3638520"/>
            <a:ext cx="7926480" cy="1836000"/>
            <a:chOff x="275760" y="3638520"/>
            <a:chExt cx="7926480" cy="1836000"/>
          </a:xfrm>
        </p:grpSpPr>
        <p:grpSp>
          <p:nvGrpSpPr>
            <p:cNvPr id="4790" name=""/>
            <p:cNvGrpSpPr/>
            <p:nvPr/>
          </p:nvGrpSpPr>
          <p:grpSpPr>
            <a:xfrm>
              <a:off x="275760" y="3638520"/>
              <a:ext cx="7926480" cy="1836000"/>
              <a:chOff x="275760" y="3638520"/>
              <a:chExt cx="7926480" cy="1836000"/>
            </a:xfrm>
          </p:grpSpPr>
          <p:sp>
            <p:nvSpPr>
              <p:cNvPr id="4791" name=""/>
              <p:cNvSpPr/>
              <p:nvPr/>
            </p:nvSpPr>
            <p:spPr>
              <a:xfrm>
                <a:off x="275760" y="3735360"/>
                <a:ext cx="4600080" cy="134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3333cc"/>
                    </a:solidFill>
                    <a:latin typeface="Comic Sans MS"/>
                  </a:rPr>
                  <a:t>addition cohéren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on a une </a:t>
                </a:r>
                <a:r>
                  <a:rPr b="0" lang="fr-FR" sz="1800" spc="-1" strike="noStrike">
                    <a:solidFill>
                      <a:srgbClr val="ff3300"/>
                    </a:solidFill>
                    <a:latin typeface="Comic Sans MS"/>
                  </a:rPr>
                  <a:t>machine  qui peut faire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3300"/>
                    </a:solidFill>
                    <a:latin typeface="Comic Sans MS"/>
                  </a:rPr>
                  <a:t>la somme des champs </a:t>
                </a:r>
                <a:r>
                  <a:rPr b="1" lang="fr-FR" sz="2400" spc="-1" strike="noStrike">
                    <a:solidFill>
                      <a:srgbClr val="ff3300"/>
                    </a:solidFill>
                    <a:latin typeface="Comic Sans MS"/>
                  </a:rPr>
                  <a:t>avant </a:t>
                </a:r>
                <a:r>
                  <a:rPr b="0" lang="fr-FR" sz="1800" spc="-1" strike="noStrike">
                    <a:solidFill>
                      <a:srgbClr val="ff3300"/>
                    </a:solidFill>
                    <a:latin typeface="Comic Sans MS"/>
                  </a:rPr>
                  <a:t>detec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2" name=""/>
              <p:cNvGrpSpPr/>
              <p:nvPr/>
            </p:nvGrpSpPr>
            <p:grpSpPr>
              <a:xfrm>
                <a:off x="4385160" y="3638520"/>
                <a:ext cx="3817080" cy="1836000"/>
                <a:chOff x="4385160" y="3638520"/>
                <a:chExt cx="3817080" cy="1836000"/>
              </a:xfrm>
            </p:grpSpPr>
            <p:grpSp>
              <p:nvGrpSpPr>
                <p:cNvPr id="4793" name=""/>
                <p:cNvGrpSpPr/>
                <p:nvPr/>
              </p:nvGrpSpPr>
              <p:grpSpPr>
                <a:xfrm>
                  <a:off x="7945200" y="4260600"/>
                  <a:ext cx="257040" cy="542880"/>
                  <a:chOff x="7945200" y="4260600"/>
                  <a:chExt cx="257040" cy="542880"/>
                </a:xfrm>
              </p:grpSpPr>
              <p:sp>
                <p:nvSpPr>
                  <p:cNvPr id="4794" name=""/>
                  <p:cNvSpPr/>
                  <p:nvPr/>
                </p:nvSpPr>
                <p:spPr>
                  <a:xfrm>
                    <a:off x="8011800" y="4269960"/>
                    <a:ext cx="190440" cy="533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5" name=""/>
                  <p:cNvSpPr/>
                  <p:nvPr/>
                </p:nvSpPr>
                <p:spPr>
                  <a:xfrm>
                    <a:off x="7945200" y="4260600"/>
                    <a:ext cx="190440" cy="5335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96" name=""/>
                <p:cNvSpPr/>
                <p:nvPr/>
              </p:nvSpPr>
              <p:spPr>
                <a:xfrm>
                  <a:off x="4728960" y="4086000"/>
                  <a:ext cx="2473560" cy="749160"/>
                </a:xfrm>
                <a:custGeom>
                  <a:avLst/>
                  <a:gdLst/>
                  <a:ahLst/>
                  <a:rect l="l" t="t" r="r" b="b"/>
                  <a:pathLst>
                    <a:path w="1558" h="472">
                      <a:moveTo>
                        <a:pt x="1558" y="0"/>
                      </a:moveTo>
                      <a:lnTo>
                        <a:pt x="0" y="285"/>
                      </a:lnTo>
                      <a:lnTo>
                        <a:pt x="1558" y="47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7" name=""/>
                <p:cNvSpPr/>
                <p:nvPr/>
              </p:nvSpPr>
              <p:spPr>
                <a:xfrm>
                  <a:off x="4385160" y="428112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8" name=""/>
                <p:cNvSpPr/>
                <p:nvPr/>
              </p:nvSpPr>
              <p:spPr>
                <a:xfrm>
                  <a:off x="6770880" y="3638520"/>
                  <a:ext cx="4186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P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9" name=""/>
                <p:cNvSpPr/>
                <p:nvPr/>
              </p:nvSpPr>
              <p:spPr>
                <a:xfrm>
                  <a:off x="6153120" y="4808160"/>
                  <a:ext cx="439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0" name=""/>
                <p:cNvSpPr/>
                <p:nvPr/>
              </p:nvSpPr>
              <p:spPr>
                <a:xfrm>
                  <a:off x="6175080" y="3806640"/>
                  <a:ext cx="439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1" name=""/>
                <p:cNvSpPr/>
                <p:nvPr/>
              </p:nvSpPr>
              <p:spPr>
                <a:xfrm>
                  <a:off x="6766200" y="5033880"/>
                  <a:ext cx="4186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P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2" name=""/>
                <p:cNvSpPr/>
                <p:nvPr/>
              </p:nvSpPr>
              <p:spPr>
                <a:xfrm>
                  <a:off x="7275240" y="3813120"/>
                  <a:ext cx="419400" cy="1385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3" name=""/>
                <p:cNvSpPr/>
                <p:nvPr/>
              </p:nvSpPr>
              <p:spPr>
                <a:xfrm>
                  <a:off x="7264800" y="4122360"/>
                  <a:ext cx="442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3600" spc="-1" strike="noStrike">
                      <a:solidFill>
                        <a:srgbClr val="000000"/>
                      </a:solidFill>
                      <a:latin typeface="Comic Sans MS"/>
                    </a:rPr>
                    <a:t>+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4" name=""/>
                <p:cNvSpPr/>
                <p:nvPr/>
              </p:nvSpPr>
              <p:spPr>
                <a:xfrm>
                  <a:off x="7230960" y="3998880"/>
                  <a:ext cx="101520" cy="11556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5" name=""/>
                <p:cNvSpPr/>
                <p:nvPr/>
              </p:nvSpPr>
              <p:spPr>
                <a:xfrm>
                  <a:off x="7226280" y="4779720"/>
                  <a:ext cx="101520" cy="115920"/>
                </a:xfrm>
                <a:prstGeom prst="ellipse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6" name=""/>
                <p:cNvSpPr/>
                <p:nvPr/>
              </p:nvSpPr>
              <p:spPr>
                <a:xfrm>
                  <a:off x="7707240" y="4503600"/>
                  <a:ext cx="36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7" name=""/>
                <p:cNvSpPr/>
                <p:nvPr/>
              </p:nvSpPr>
              <p:spPr>
                <a:xfrm>
                  <a:off x="5482440" y="4578120"/>
                  <a:ext cx="3697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r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8" name=""/>
                <p:cNvSpPr/>
                <p:nvPr/>
              </p:nvSpPr>
              <p:spPr>
                <a:xfrm>
                  <a:off x="5604480" y="3892320"/>
                  <a:ext cx="3697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r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09" name=""/>
            <p:cNvGrpSpPr/>
            <p:nvPr/>
          </p:nvGrpSpPr>
          <p:grpSpPr>
            <a:xfrm>
              <a:off x="4962240" y="4126680"/>
              <a:ext cx="1613880" cy="683640"/>
              <a:chOff x="4962240" y="4126680"/>
              <a:chExt cx="1613880" cy="683640"/>
            </a:xfrm>
          </p:grpSpPr>
          <p:grpSp>
            <p:nvGrpSpPr>
              <p:cNvPr id="4810" name=""/>
              <p:cNvGrpSpPr/>
              <p:nvPr/>
            </p:nvGrpSpPr>
            <p:grpSpPr>
              <a:xfrm>
                <a:off x="4962240" y="4126680"/>
                <a:ext cx="1600200" cy="425880"/>
                <a:chOff x="4962240" y="4126680"/>
                <a:chExt cx="1600200" cy="425880"/>
              </a:xfrm>
            </p:grpSpPr>
            <p:sp>
              <p:nvSpPr>
                <p:cNvPr id="4811" name=""/>
                <p:cNvSpPr/>
                <p:nvPr/>
              </p:nvSpPr>
              <p:spPr>
                <a:xfrm rot="20995200">
                  <a:off x="4983840" y="4379040"/>
                  <a:ext cx="333720" cy="145080"/>
                </a:xfrm>
                <a:custGeom>
                  <a:avLst/>
                  <a:gdLst/>
                  <a:ahLst/>
                  <a:rect l="l" t="t" r="r" b="b"/>
                  <a:pathLst>
                    <a:path w="763" h="688">
                      <a:moveTo>
                        <a:pt x="0" y="398"/>
                      </a:moveTo>
                      <a:cubicBezTo>
                        <a:pt x="29" y="199"/>
                        <a:pt x="59" y="0"/>
                        <a:pt x="91" y="44"/>
                      </a:cubicBezTo>
                      <a:cubicBezTo>
                        <a:pt x="123" y="88"/>
                        <a:pt x="158" y="636"/>
                        <a:pt x="191" y="662"/>
                      </a:cubicBezTo>
                      <a:cubicBezTo>
                        <a:pt x="224" y="688"/>
                        <a:pt x="262" y="213"/>
                        <a:pt x="291" y="198"/>
                      </a:cubicBezTo>
                      <a:cubicBezTo>
                        <a:pt x="320" y="183"/>
                        <a:pt x="337" y="556"/>
                        <a:pt x="363" y="571"/>
                      </a:cubicBezTo>
                      <a:cubicBezTo>
                        <a:pt x="389" y="586"/>
                        <a:pt x="422" y="297"/>
                        <a:pt x="445" y="289"/>
                      </a:cubicBezTo>
                      <a:cubicBezTo>
                        <a:pt x="468" y="281"/>
                        <a:pt x="479" y="519"/>
                        <a:pt x="500" y="525"/>
                      </a:cubicBezTo>
                      <a:cubicBezTo>
                        <a:pt x="521" y="531"/>
                        <a:pt x="553" y="332"/>
                        <a:pt x="573" y="325"/>
                      </a:cubicBezTo>
                      <a:cubicBezTo>
                        <a:pt x="593" y="318"/>
                        <a:pt x="600" y="469"/>
                        <a:pt x="618" y="480"/>
                      </a:cubicBezTo>
                      <a:cubicBezTo>
                        <a:pt x="636" y="491"/>
                        <a:pt x="658" y="401"/>
                        <a:pt x="682" y="389"/>
                      </a:cubicBezTo>
                      <a:cubicBezTo>
                        <a:pt x="706" y="377"/>
                        <a:pt x="734" y="392"/>
                        <a:pt x="763" y="40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2" name=""/>
                <p:cNvSpPr/>
                <p:nvPr/>
              </p:nvSpPr>
              <p:spPr>
                <a:xfrm rot="20995200">
                  <a:off x="5399640" y="4313520"/>
                  <a:ext cx="348120" cy="143280"/>
                </a:xfrm>
                <a:custGeom>
                  <a:avLst/>
                  <a:gdLst/>
                  <a:ahLst/>
                  <a:rect l="l" t="t" r="r" b="b"/>
                  <a:pathLst>
                    <a:path w="796" h="678">
                      <a:moveTo>
                        <a:pt x="0" y="208"/>
                      </a:moveTo>
                      <a:cubicBezTo>
                        <a:pt x="12" y="281"/>
                        <a:pt x="43" y="678"/>
                        <a:pt x="64" y="644"/>
                      </a:cubicBezTo>
                      <a:cubicBezTo>
                        <a:pt x="85" y="610"/>
                        <a:pt x="97" y="8"/>
                        <a:pt x="124" y="4"/>
                      </a:cubicBezTo>
                      <a:cubicBezTo>
                        <a:pt x="151" y="0"/>
                        <a:pt x="191" y="596"/>
                        <a:pt x="224" y="622"/>
                      </a:cubicBezTo>
                      <a:cubicBezTo>
                        <a:pt x="257" y="648"/>
                        <a:pt x="295" y="173"/>
                        <a:pt x="324" y="158"/>
                      </a:cubicBezTo>
                      <a:cubicBezTo>
                        <a:pt x="353" y="143"/>
                        <a:pt x="370" y="516"/>
                        <a:pt x="396" y="531"/>
                      </a:cubicBezTo>
                      <a:cubicBezTo>
                        <a:pt x="422" y="546"/>
                        <a:pt x="455" y="257"/>
                        <a:pt x="478" y="249"/>
                      </a:cubicBezTo>
                      <a:cubicBezTo>
                        <a:pt x="501" y="241"/>
                        <a:pt x="512" y="479"/>
                        <a:pt x="533" y="485"/>
                      </a:cubicBezTo>
                      <a:cubicBezTo>
                        <a:pt x="554" y="491"/>
                        <a:pt x="586" y="292"/>
                        <a:pt x="606" y="285"/>
                      </a:cubicBezTo>
                      <a:cubicBezTo>
                        <a:pt x="626" y="278"/>
                        <a:pt x="633" y="429"/>
                        <a:pt x="651" y="440"/>
                      </a:cubicBezTo>
                      <a:cubicBezTo>
                        <a:pt x="669" y="451"/>
                        <a:pt x="691" y="361"/>
                        <a:pt x="715" y="349"/>
                      </a:cubicBezTo>
                      <a:cubicBezTo>
                        <a:pt x="739" y="337"/>
                        <a:pt x="767" y="352"/>
                        <a:pt x="796" y="36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3" name=""/>
                <p:cNvSpPr/>
                <p:nvPr/>
              </p:nvSpPr>
              <p:spPr>
                <a:xfrm rot="20995200">
                  <a:off x="5735880" y="4241880"/>
                  <a:ext cx="306000" cy="151920"/>
                </a:xfrm>
                <a:custGeom>
                  <a:avLst/>
                  <a:gdLst/>
                  <a:ahLst/>
                  <a:rect l="l" t="t" r="r" b="b"/>
                  <a:pathLst>
                    <a:path w="701" h="719">
                      <a:moveTo>
                        <a:pt x="0" y="327"/>
                      </a:moveTo>
                      <a:cubicBezTo>
                        <a:pt x="4" y="315"/>
                        <a:pt x="4" y="287"/>
                        <a:pt x="9" y="245"/>
                      </a:cubicBezTo>
                      <a:cubicBezTo>
                        <a:pt x="14" y="203"/>
                        <a:pt x="9" y="0"/>
                        <a:pt x="29" y="75"/>
                      </a:cubicBezTo>
                      <a:cubicBezTo>
                        <a:pt x="49" y="150"/>
                        <a:pt x="96" y="667"/>
                        <a:pt x="129" y="693"/>
                      </a:cubicBezTo>
                      <a:cubicBezTo>
                        <a:pt x="162" y="719"/>
                        <a:pt x="200" y="244"/>
                        <a:pt x="229" y="229"/>
                      </a:cubicBezTo>
                      <a:cubicBezTo>
                        <a:pt x="258" y="214"/>
                        <a:pt x="275" y="587"/>
                        <a:pt x="301" y="602"/>
                      </a:cubicBezTo>
                      <a:cubicBezTo>
                        <a:pt x="327" y="617"/>
                        <a:pt x="360" y="328"/>
                        <a:pt x="383" y="320"/>
                      </a:cubicBezTo>
                      <a:cubicBezTo>
                        <a:pt x="406" y="312"/>
                        <a:pt x="417" y="550"/>
                        <a:pt x="438" y="556"/>
                      </a:cubicBezTo>
                      <a:cubicBezTo>
                        <a:pt x="459" y="562"/>
                        <a:pt x="491" y="363"/>
                        <a:pt x="511" y="356"/>
                      </a:cubicBezTo>
                      <a:cubicBezTo>
                        <a:pt x="531" y="349"/>
                        <a:pt x="538" y="500"/>
                        <a:pt x="556" y="511"/>
                      </a:cubicBezTo>
                      <a:cubicBezTo>
                        <a:pt x="574" y="522"/>
                        <a:pt x="596" y="432"/>
                        <a:pt x="620" y="420"/>
                      </a:cubicBezTo>
                      <a:cubicBezTo>
                        <a:pt x="644" y="408"/>
                        <a:pt x="672" y="423"/>
                        <a:pt x="701" y="43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4" name=""/>
                <p:cNvSpPr/>
                <p:nvPr/>
              </p:nvSpPr>
              <p:spPr>
                <a:xfrm rot="20995200">
                  <a:off x="6226560" y="4153680"/>
                  <a:ext cx="325080" cy="147960"/>
                </a:xfrm>
                <a:custGeom>
                  <a:avLst/>
                  <a:gdLst/>
                  <a:ahLst/>
                  <a:rect l="l" t="t" r="r" b="b"/>
                  <a:pathLst>
                    <a:path w="744" h="700">
                      <a:moveTo>
                        <a:pt x="0" y="612"/>
                      </a:moveTo>
                      <a:cubicBezTo>
                        <a:pt x="5" y="567"/>
                        <a:pt x="7" y="432"/>
                        <a:pt x="19" y="339"/>
                      </a:cubicBezTo>
                      <a:cubicBezTo>
                        <a:pt x="31" y="246"/>
                        <a:pt x="47" y="0"/>
                        <a:pt x="72" y="56"/>
                      </a:cubicBezTo>
                      <a:cubicBezTo>
                        <a:pt x="97" y="112"/>
                        <a:pt x="139" y="648"/>
                        <a:pt x="172" y="674"/>
                      </a:cubicBezTo>
                      <a:cubicBezTo>
                        <a:pt x="205" y="700"/>
                        <a:pt x="243" y="225"/>
                        <a:pt x="272" y="210"/>
                      </a:cubicBezTo>
                      <a:cubicBezTo>
                        <a:pt x="301" y="195"/>
                        <a:pt x="318" y="568"/>
                        <a:pt x="344" y="583"/>
                      </a:cubicBezTo>
                      <a:cubicBezTo>
                        <a:pt x="370" y="598"/>
                        <a:pt x="403" y="309"/>
                        <a:pt x="426" y="301"/>
                      </a:cubicBezTo>
                      <a:cubicBezTo>
                        <a:pt x="449" y="293"/>
                        <a:pt x="460" y="531"/>
                        <a:pt x="481" y="537"/>
                      </a:cubicBezTo>
                      <a:cubicBezTo>
                        <a:pt x="502" y="543"/>
                        <a:pt x="534" y="344"/>
                        <a:pt x="554" y="337"/>
                      </a:cubicBezTo>
                      <a:cubicBezTo>
                        <a:pt x="574" y="330"/>
                        <a:pt x="581" y="481"/>
                        <a:pt x="599" y="492"/>
                      </a:cubicBezTo>
                      <a:cubicBezTo>
                        <a:pt x="617" y="503"/>
                        <a:pt x="639" y="413"/>
                        <a:pt x="663" y="401"/>
                      </a:cubicBezTo>
                      <a:cubicBezTo>
                        <a:pt x="687" y="389"/>
                        <a:pt x="715" y="404"/>
                        <a:pt x="744" y="419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5" name=""/>
                <p:cNvSpPr/>
                <p:nvPr/>
              </p:nvSpPr>
              <p:spPr>
                <a:xfrm rot="20995200">
                  <a:off x="4963320" y="4482360"/>
                  <a:ext cx="31680" cy="1692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6" name=""/>
                <p:cNvSpPr/>
                <p:nvPr/>
              </p:nvSpPr>
              <p:spPr>
                <a:xfrm rot="20995200">
                  <a:off x="5375880" y="4383000"/>
                  <a:ext cx="30960" cy="1728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7" name=""/>
                <p:cNvSpPr/>
                <p:nvPr/>
              </p:nvSpPr>
              <p:spPr>
                <a:xfrm rot="20995200">
                  <a:off x="5719680" y="4325400"/>
                  <a:ext cx="30960" cy="1728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8" name=""/>
                <p:cNvSpPr/>
                <p:nvPr/>
              </p:nvSpPr>
              <p:spPr>
                <a:xfrm rot="20995200">
                  <a:off x="6224760" y="4296960"/>
                  <a:ext cx="30960" cy="1728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9" name=""/>
              <p:cNvGrpSpPr/>
              <p:nvPr/>
            </p:nvGrpSpPr>
            <p:grpSpPr>
              <a:xfrm>
                <a:off x="4962240" y="4497480"/>
                <a:ext cx="1613880" cy="312840"/>
                <a:chOff x="4962240" y="4497480"/>
                <a:chExt cx="1613880" cy="312840"/>
              </a:xfrm>
            </p:grpSpPr>
            <p:sp>
              <p:nvSpPr>
                <p:cNvPr id="4820" name=""/>
                <p:cNvSpPr/>
                <p:nvPr/>
              </p:nvSpPr>
              <p:spPr>
                <a:xfrm rot="369600">
                  <a:off x="4987080" y="4514760"/>
                  <a:ext cx="333720" cy="145080"/>
                </a:xfrm>
                <a:custGeom>
                  <a:avLst/>
                  <a:gdLst/>
                  <a:ahLst/>
                  <a:rect l="l" t="t" r="r" b="b"/>
                  <a:pathLst>
                    <a:path w="763" h="688">
                      <a:moveTo>
                        <a:pt x="0" y="398"/>
                      </a:moveTo>
                      <a:cubicBezTo>
                        <a:pt x="29" y="199"/>
                        <a:pt x="59" y="0"/>
                        <a:pt x="91" y="44"/>
                      </a:cubicBezTo>
                      <a:cubicBezTo>
                        <a:pt x="123" y="88"/>
                        <a:pt x="158" y="636"/>
                        <a:pt x="191" y="662"/>
                      </a:cubicBezTo>
                      <a:cubicBezTo>
                        <a:pt x="224" y="688"/>
                        <a:pt x="262" y="213"/>
                        <a:pt x="291" y="198"/>
                      </a:cubicBezTo>
                      <a:cubicBezTo>
                        <a:pt x="320" y="183"/>
                        <a:pt x="337" y="556"/>
                        <a:pt x="363" y="571"/>
                      </a:cubicBezTo>
                      <a:cubicBezTo>
                        <a:pt x="389" y="586"/>
                        <a:pt x="422" y="297"/>
                        <a:pt x="445" y="289"/>
                      </a:cubicBezTo>
                      <a:cubicBezTo>
                        <a:pt x="468" y="281"/>
                        <a:pt x="479" y="519"/>
                        <a:pt x="500" y="525"/>
                      </a:cubicBezTo>
                      <a:cubicBezTo>
                        <a:pt x="521" y="531"/>
                        <a:pt x="553" y="332"/>
                        <a:pt x="573" y="325"/>
                      </a:cubicBezTo>
                      <a:cubicBezTo>
                        <a:pt x="593" y="318"/>
                        <a:pt x="600" y="469"/>
                        <a:pt x="618" y="480"/>
                      </a:cubicBezTo>
                      <a:cubicBezTo>
                        <a:pt x="636" y="491"/>
                        <a:pt x="658" y="401"/>
                        <a:pt x="682" y="389"/>
                      </a:cubicBezTo>
                      <a:cubicBezTo>
                        <a:pt x="706" y="377"/>
                        <a:pt x="734" y="392"/>
                        <a:pt x="763" y="40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1" name=""/>
                <p:cNvSpPr/>
                <p:nvPr/>
              </p:nvSpPr>
              <p:spPr>
                <a:xfrm rot="369600">
                  <a:off x="5404680" y="4569840"/>
                  <a:ext cx="348120" cy="143280"/>
                </a:xfrm>
                <a:custGeom>
                  <a:avLst/>
                  <a:gdLst/>
                  <a:ahLst/>
                  <a:rect l="l" t="t" r="r" b="b"/>
                  <a:pathLst>
                    <a:path w="796" h="678">
                      <a:moveTo>
                        <a:pt x="0" y="208"/>
                      </a:moveTo>
                      <a:cubicBezTo>
                        <a:pt x="12" y="281"/>
                        <a:pt x="43" y="678"/>
                        <a:pt x="64" y="644"/>
                      </a:cubicBezTo>
                      <a:cubicBezTo>
                        <a:pt x="85" y="610"/>
                        <a:pt x="97" y="8"/>
                        <a:pt x="124" y="4"/>
                      </a:cubicBezTo>
                      <a:cubicBezTo>
                        <a:pt x="151" y="0"/>
                        <a:pt x="191" y="596"/>
                        <a:pt x="224" y="622"/>
                      </a:cubicBezTo>
                      <a:cubicBezTo>
                        <a:pt x="257" y="648"/>
                        <a:pt x="295" y="173"/>
                        <a:pt x="324" y="158"/>
                      </a:cubicBezTo>
                      <a:cubicBezTo>
                        <a:pt x="353" y="143"/>
                        <a:pt x="370" y="516"/>
                        <a:pt x="396" y="531"/>
                      </a:cubicBezTo>
                      <a:cubicBezTo>
                        <a:pt x="422" y="546"/>
                        <a:pt x="455" y="257"/>
                        <a:pt x="478" y="249"/>
                      </a:cubicBezTo>
                      <a:cubicBezTo>
                        <a:pt x="501" y="241"/>
                        <a:pt x="512" y="479"/>
                        <a:pt x="533" y="485"/>
                      </a:cubicBezTo>
                      <a:cubicBezTo>
                        <a:pt x="554" y="491"/>
                        <a:pt x="586" y="292"/>
                        <a:pt x="606" y="285"/>
                      </a:cubicBezTo>
                      <a:cubicBezTo>
                        <a:pt x="626" y="278"/>
                        <a:pt x="633" y="429"/>
                        <a:pt x="651" y="440"/>
                      </a:cubicBezTo>
                      <a:cubicBezTo>
                        <a:pt x="669" y="451"/>
                        <a:pt x="691" y="361"/>
                        <a:pt x="715" y="349"/>
                      </a:cubicBezTo>
                      <a:cubicBezTo>
                        <a:pt x="739" y="337"/>
                        <a:pt x="767" y="352"/>
                        <a:pt x="796" y="36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2" name=""/>
                <p:cNvSpPr/>
                <p:nvPr/>
              </p:nvSpPr>
              <p:spPr>
                <a:xfrm rot="369600">
                  <a:off x="5747400" y="4589280"/>
                  <a:ext cx="306000" cy="151920"/>
                </a:xfrm>
                <a:custGeom>
                  <a:avLst/>
                  <a:gdLst/>
                  <a:ahLst/>
                  <a:rect l="l" t="t" r="r" b="b"/>
                  <a:pathLst>
                    <a:path w="701" h="719">
                      <a:moveTo>
                        <a:pt x="0" y="327"/>
                      </a:moveTo>
                      <a:cubicBezTo>
                        <a:pt x="4" y="315"/>
                        <a:pt x="4" y="287"/>
                        <a:pt x="9" y="245"/>
                      </a:cubicBezTo>
                      <a:cubicBezTo>
                        <a:pt x="14" y="203"/>
                        <a:pt x="9" y="0"/>
                        <a:pt x="29" y="75"/>
                      </a:cubicBezTo>
                      <a:cubicBezTo>
                        <a:pt x="49" y="150"/>
                        <a:pt x="96" y="667"/>
                        <a:pt x="129" y="693"/>
                      </a:cubicBezTo>
                      <a:cubicBezTo>
                        <a:pt x="162" y="719"/>
                        <a:pt x="200" y="244"/>
                        <a:pt x="229" y="229"/>
                      </a:cubicBezTo>
                      <a:cubicBezTo>
                        <a:pt x="258" y="214"/>
                        <a:pt x="275" y="587"/>
                        <a:pt x="301" y="602"/>
                      </a:cubicBezTo>
                      <a:cubicBezTo>
                        <a:pt x="327" y="617"/>
                        <a:pt x="360" y="328"/>
                        <a:pt x="383" y="320"/>
                      </a:cubicBezTo>
                      <a:cubicBezTo>
                        <a:pt x="406" y="312"/>
                        <a:pt x="417" y="550"/>
                        <a:pt x="438" y="556"/>
                      </a:cubicBezTo>
                      <a:cubicBezTo>
                        <a:pt x="459" y="562"/>
                        <a:pt x="491" y="363"/>
                        <a:pt x="511" y="356"/>
                      </a:cubicBezTo>
                      <a:cubicBezTo>
                        <a:pt x="531" y="349"/>
                        <a:pt x="538" y="500"/>
                        <a:pt x="556" y="511"/>
                      </a:cubicBezTo>
                      <a:cubicBezTo>
                        <a:pt x="574" y="522"/>
                        <a:pt x="596" y="432"/>
                        <a:pt x="620" y="420"/>
                      </a:cubicBezTo>
                      <a:cubicBezTo>
                        <a:pt x="644" y="408"/>
                        <a:pt x="672" y="423"/>
                        <a:pt x="701" y="43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3" name=""/>
                <p:cNvSpPr/>
                <p:nvPr/>
              </p:nvSpPr>
              <p:spPr>
                <a:xfrm rot="369600">
                  <a:off x="6243840" y="4645080"/>
                  <a:ext cx="325080" cy="147960"/>
                </a:xfrm>
                <a:custGeom>
                  <a:avLst/>
                  <a:gdLst/>
                  <a:ahLst/>
                  <a:rect l="l" t="t" r="r" b="b"/>
                  <a:pathLst>
                    <a:path w="744" h="700">
                      <a:moveTo>
                        <a:pt x="0" y="612"/>
                      </a:moveTo>
                      <a:cubicBezTo>
                        <a:pt x="5" y="567"/>
                        <a:pt x="7" y="432"/>
                        <a:pt x="19" y="339"/>
                      </a:cubicBezTo>
                      <a:cubicBezTo>
                        <a:pt x="31" y="246"/>
                        <a:pt x="47" y="0"/>
                        <a:pt x="72" y="56"/>
                      </a:cubicBezTo>
                      <a:cubicBezTo>
                        <a:pt x="97" y="112"/>
                        <a:pt x="139" y="648"/>
                        <a:pt x="172" y="674"/>
                      </a:cubicBezTo>
                      <a:cubicBezTo>
                        <a:pt x="205" y="700"/>
                        <a:pt x="243" y="225"/>
                        <a:pt x="272" y="210"/>
                      </a:cubicBezTo>
                      <a:cubicBezTo>
                        <a:pt x="301" y="195"/>
                        <a:pt x="318" y="568"/>
                        <a:pt x="344" y="583"/>
                      </a:cubicBezTo>
                      <a:cubicBezTo>
                        <a:pt x="370" y="598"/>
                        <a:pt x="403" y="309"/>
                        <a:pt x="426" y="301"/>
                      </a:cubicBezTo>
                      <a:cubicBezTo>
                        <a:pt x="449" y="293"/>
                        <a:pt x="460" y="531"/>
                        <a:pt x="481" y="537"/>
                      </a:cubicBezTo>
                      <a:cubicBezTo>
                        <a:pt x="502" y="543"/>
                        <a:pt x="534" y="344"/>
                        <a:pt x="554" y="337"/>
                      </a:cubicBezTo>
                      <a:cubicBezTo>
                        <a:pt x="574" y="330"/>
                        <a:pt x="581" y="481"/>
                        <a:pt x="599" y="492"/>
                      </a:cubicBezTo>
                      <a:cubicBezTo>
                        <a:pt x="617" y="503"/>
                        <a:pt x="639" y="413"/>
                        <a:pt x="663" y="401"/>
                      </a:cubicBezTo>
                      <a:cubicBezTo>
                        <a:pt x="687" y="389"/>
                        <a:pt x="715" y="404"/>
                        <a:pt x="744" y="419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4" name=""/>
                <p:cNvSpPr/>
                <p:nvPr/>
              </p:nvSpPr>
              <p:spPr>
                <a:xfrm rot="369600">
                  <a:off x="4962960" y="4568760"/>
                  <a:ext cx="31680" cy="1692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5" name=""/>
                <p:cNvSpPr/>
                <p:nvPr/>
              </p:nvSpPr>
              <p:spPr>
                <a:xfrm rot="369600">
                  <a:off x="5386680" y="4588200"/>
                  <a:ext cx="30960" cy="1728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6" name=""/>
                <p:cNvSpPr/>
                <p:nvPr/>
              </p:nvSpPr>
              <p:spPr>
                <a:xfrm rot="369600">
                  <a:off x="5733000" y="4628880"/>
                  <a:ext cx="30960" cy="1728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7" name=""/>
                <p:cNvSpPr/>
                <p:nvPr/>
              </p:nvSpPr>
              <p:spPr>
                <a:xfrm rot="369600">
                  <a:off x="6225840" y="4743000"/>
                  <a:ext cx="30960" cy="17280"/>
                </a:xfrm>
                <a:prstGeom prst="ellipse">
                  <a:avLst/>
                </a:prstGeom>
                <a:solidFill>
                  <a:srgbClr val="ff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28" name=""/>
          <p:cNvGrpSpPr/>
          <p:nvPr/>
        </p:nvGrpSpPr>
        <p:grpSpPr>
          <a:xfrm>
            <a:off x="389520" y="1090440"/>
            <a:ext cx="8325000" cy="2437560"/>
            <a:chOff x="389520" y="1090440"/>
            <a:chExt cx="8325000" cy="2437560"/>
          </a:xfrm>
        </p:grpSpPr>
        <p:grpSp>
          <p:nvGrpSpPr>
            <p:cNvPr id="4829" name=""/>
            <p:cNvGrpSpPr/>
            <p:nvPr/>
          </p:nvGrpSpPr>
          <p:grpSpPr>
            <a:xfrm>
              <a:off x="389520" y="1090440"/>
              <a:ext cx="6134760" cy="1290600"/>
              <a:chOff x="389520" y="1090440"/>
              <a:chExt cx="6134760" cy="1290600"/>
            </a:xfrm>
          </p:grpSpPr>
          <p:grpSp>
            <p:nvGrpSpPr>
              <p:cNvPr id="4830" name=""/>
              <p:cNvGrpSpPr/>
              <p:nvPr/>
            </p:nvGrpSpPr>
            <p:grpSpPr>
              <a:xfrm>
                <a:off x="389520" y="1266840"/>
                <a:ext cx="3850560" cy="1114200"/>
                <a:chOff x="389520" y="1266840"/>
                <a:chExt cx="3850560" cy="1114200"/>
              </a:xfrm>
            </p:grpSpPr>
            <p:sp>
              <p:nvSpPr>
                <p:cNvPr id="4831" name=""/>
                <p:cNvSpPr/>
                <p:nvPr/>
              </p:nvSpPr>
              <p:spPr>
                <a:xfrm>
                  <a:off x="389520" y="1266840"/>
                  <a:ext cx="2675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3333cc"/>
                      </a:solidFill>
                      <a:latin typeface="Comic Sans MS"/>
                    </a:rPr>
                    <a:t>addition incohérent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2" name=""/>
                <p:cNvSpPr/>
                <p:nvPr/>
              </p:nvSpPr>
              <p:spPr>
                <a:xfrm>
                  <a:off x="400320" y="1738440"/>
                  <a:ext cx="38397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le terme d'interférence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Comic Sans MS"/>
                    </a:rPr>
                    <a:t>est tué par la moyenne statistiqu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3" name=""/>
              <p:cNvGrpSpPr/>
              <p:nvPr/>
            </p:nvGrpSpPr>
            <p:grpSpPr>
              <a:xfrm>
                <a:off x="3780720" y="1090440"/>
                <a:ext cx="2743560" cy="1083600"/>
                <a:chOff x="3780720" y="1090440"/>
                <a:chExt cx="2743560" cy="1083600"/>
              </a:xfrm>
            </p:grpSpPr>
            <p:grpSp>
              <p:nvGrpSpPr>
                <p:cNvPr id="4834" name=""/>
                <p:cNvGrpSpPr/>
                <p:nvPr/>
              </p:nvGrpSpPr>
              <p:grpSpPr>
                <a:xfrm>
                  <a:off x="6267240" y="1300320"/>
                  <a:ext cx="257040" cy="542880"/>
                  <a:chOff x="6267240" y="1300320"/>
                  <a:chExt cx="257040" cy="542880"/>
                </a:xfrm>
              </p:grpSpPr>
              <p:sp>
                <p:nvSpPr>
                  <p:cNvPr id="4835" name=""/>
                  <p:cNvSpPr/>
                  <p:nvPr/>
                </p:nvSpPr>
                <p:spPr>
                  <a:xfrm>
                    <a:off x="6333840" y="1309680"/>
                    <a:ext cx="190440" cy="533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6" name=""/>
                  <p:cNvSpPr/>
                  <p:nvPr/>
                </p:nvSpPr>
                <p:spPr>
                  <a:xfrm>
                    <a:off x="6267240" y="1300320"/>
                    <a:ext cx="190440" cy="5335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37" name=""/>
                <p:cNvSpPr/>
                <p:nvPr/>
              </p:nvSpPr>
              <p:spPr>
                <a:xfrm>
                  <a:off x="4133880" y="1335240"/>
                  <a:ext cx="2251080" cy="561960"/>
                </a:xfrm>
                <a:custGeom>
                  <a:avLst/>
                  <a:gdLst/>
                  <a:ahLst/>
                  <a:rect l="l" t="t" r="r" b="b"/>
                  <a:pathLst>
                    <a:path w="1418" h="354">
                      <a:moveTo>
                        <a:pt x="9" y="0"/>
                      </a:moveTo>
                      <a:lnTo>
                        <a:pt x="1418" y="154"/>
                      </a:lnTo>
                      <a:lnTo>
                        <a:pt x="0" y="35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8" name=""/>
                <p:cNvSpPr/>
                <p:nvPr/>
              </p:nvSpPr>
              <p:spPr>
                <a:xfrm>
                  <a:off x="3780720" y="1090440"/>
                  <a:ext cx="404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9" name=""/>
                <p:cNvSpPr/>
                <p:nvPr/>
              </p:nvSpPr>
              <p:spPr>
                <a:xfrm>
                  <a:off x="3793320" y="1733400"/>
                  <a:ext cx="404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S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0" name=""/>
                <p:cNvSpPr/>
                <p:nvPr/>
              </p:nvSpPr>
              <p:spPr>
                <a:xfrm>
                  <a:off x="5399280" y="1114560"/>
                  <a:ext cx="439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1" name=""/>
                <p:cNvSpPr/>
                <p:nvPr/>
              </p:nvSpPr>
              <p:spPr>
                <a:xfrm>
                  <a:off x="5492520" y="1655640"/>
                  <a:ext cx="439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42" name=""/>
                <p:cNvGrpSpPr/>
                <p:nvPr/>
              </p:nvGrpSpPr>
              <p:grpSpPr>
                <a:xfrm>
                  <a:off x="4172400" y="1239840"/>
                  <a:ext cx="1458000" cy="323640"/>
                  <a:chOff x="4172400" y="1239840"/>
                  <a:chExt cx="1458000" cy="323640"/>
                </a:xfrm>
              </p:grpSpPr>
              <p:sp>
                <p:nvSpPr>
                  <p:cNvPr id="4843" name=""/>
                  <p:cNvSpPr/>
                  <p:nvPr/>
                </p:nvSpPr>
                <p:spPr>
                  <a:xfrm rot="372600">
                    <a:off x="4195440" y="1255320"/>
                    <a:ext cx="3009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763" h="688">
                        <a:moveTo>
                          <a:pt x="0" y="398"/>
                        </a:moveTo>
                        <a:cubicBezTo>
                          <a:pt x="29" y="199"/>
                          <a:pt x="59" y="0"/>
                          <a:pt x="91" y="44"/>
                        </a:cubicBezTo>
                        <a:cubicBezTo>
                          <a:pt x="123" y="88"/>
                          <a:pt x="158" y="636"/>
                          <a:pt x="191" y="662"/>
                        </a:cubicBezTo>
                        <a:cubicBezTo>
                          <a:pt x="224" y="688"/>
                          <a:pt x="262" y="213"/>
                          <a:pt x="291" y="198"/>
                        </a:cubicBezTo>
                        <a:cubicBezTo>
                          <a:pt x="320" y="183"/>
                          <a:pt x="337" y="556"/>
                          <a:pt x="363" y="571"/>
                        </a:cubicBezTo>
                        <a:cubicBezTo>
                          <a:pt x="389" y="586"/>
                          <a:pt x="422" y="297"/>
                          <a:pt x="445" y="289"/>
                        </a:cubicBezTo>
                        <a:cubicBezTo>
                          <a:pt x="468" y="281"/>
                          <a:pt x="479" y="519"/>
                          <a:pt x="500" y="525"/>
                        </a:cubicBezTo>
                        <a:cubicBezTo>
                          <a:pt x="521" y="531"/>
                          <a:pt x="553" y="332"/>
                          <a:pt x="573" y="325"/>
                        </a:cubicBezTo>
                        <a:cubicBezTo>
                          <a:pt x="593" y="318"/>
                          <a:pt x="600" y="469"/>
                          <a:pt x="618" y="480"/>
                        </a:cubicBezTo>
                        <a:cubicBezTo>
                          <a:pt x="636" y="491"/>
                          <a:pt x="658" y="401"/>
                          <a:pt x="682" y="389"/>
                        </a:cubicBezTo>
                        <a:cubicBezTo>
                          <a:pt x="706" y="377"/>
                          <a:pt x="734" y="392"/>
                          <a:pt x="763" y="40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4" name=""/>
                  <p:cNvSpPr/>
                  <p:nvPr/>
                </p:nvSpPr>
                <p:spPr>
                  <a:xfrm rot="372600">
                    <a:off x="4571640" y="1307880"/>
                    <a:ext cx="31392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796" h="678">
                        <a:moveTo>
                          <a:pt x="0" y="208"/>
                        </a:moveTo>
                        <a:cubicBezTo>
                          <a:pt x="12" y="281"/>
                          <a:pt x="43" y="678"/>
                          <a:pt x="64" y="644"/>
                        </a:cubicBezTo>
                        <a:cubicBezTo>
                          <a:pt x="85" y="610"/>
                          <a:pt x="97" y="8"/>
                          <a:pt x="124" y="4"/>
                        </a:cubicBezTo>
                        <a:cubicBezTo>
                          <a:pt x="151" y="0"/>
                          <a:pt x="191" y="596"/>
                          <a:pt x="224" y="622"/>
                        </a:cubicBezTo>
                        <a:cubicBezTo>
                          <a:pt x="257" y="648"/>
                          <a:pt x="295" y="173"/>
                          <a:pt x="324" y="158"/>
                        </a:cubicBezTo>
                        <a:cubicBezTo>
                          <a:pt x="353" y="143"/>
                          <a:pt x="370" y="516"/>
                          <a:pt x="396" y="531"/>
                        </a:cubicBezTo>
                        <a:cubicBezTo>
                          <a:pt x="422" y="546"/>
                          <a:pt x="455" y="257"/>
                          <a:pt x="478" y="249"/>
                        </a:cubicBezTo>
                        <a:cubicBezTo>
                          <a:pt x="501" y="241"/>
                          <a:pt x="512" y="479"/>
                          <a:pt x="533" y="485"/>
                        </a:cubicBezTo>
                        <a:cubicBezTo>
                          <a:pt x="554" y="491"/>
                          <a:pt x="586" y="292"/>
                          <a:pt x="606" y="285"/>
                        </a:cubicBezTo>
                        <a:cubicBezTo>
                          <a:pt x="626" y="278"/>
                          <a:pt x="633" y="429"/>
                          <a:pt x="651" y="440"/>
                        </a:cubicBezTo>
                        <a:cubicBezTo>
                          <a:pt x="669" y="451"/>
                          <a:pt x="691" y="361"/>
                          <a:pt x="715" y="349"/>
                        </a:cubicBezTo>
                        <a:cubicBezTo>
                          <a:pt x="739" y="337"/>
                          <a:pt x="767" y="352"/>
                          <a:pt x="796" y="36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5" name=""/>
                  <p:cNvSpPr/>
                  <p:nvPr/>
                </p:nvSpPr>
                <p:spPr>
                  <a:xfrm rot="372600">
                    <a:off x="4881240" y="1321560"/>
                    <a:ext cx="27612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701" h="719">
                        <a:moveTo>
                          <a:pt x="0" y="327"/>
                        </a:moveTo>
                        <a:cubicBezTo>
                          <a:pt x="4" y="315"/>
                          <a:pt x="4" y="287"/>
                          <a:pt x="9" y="245"/>
                        </a:cubicBezTo>
                        <a:cubicBezTo>
                          <a:pt x="14" y="203"/>
                          <a:pt x="9" y="0"/>
                          <a:pt x="29" y="75"/>
                        </a:cubicBezTo>
                        <a:cubicBezTo>
                          <a:pt x="49" y="150"/>
                          <a:pt x="96" y="667"/>
                          <a:pt x="129" y="693"/>
                        </a:cubicBezTo>
                        <a:cubicBezTo>
                          <a:pt x="162" y="719"/>
                          <a:pt x="200" y="244"/>
                          <a:pt x="229" y="229"/>
                        </a:cubicBezTo>
                        <a:cubicBezTo>
                          <a:pt x="258" y="214"/>
                          <a:pt x="275" y="587"/>
                          <a:pt x="301" y="602"/>
                        </a:cubicBezTo>
                        <a:cubicBezTo>
                          <a:pt x="327" y="617"/>
                          <a:pt x="360" y="328"/>
                          <a:pt x="383" y="320"/>
                        </a:cubicBezTo>
                        <a:cubicBezTo>
                          <a:pt x="406" y="312"/>
                          <a:pt x="417" y="550"/>
                          <a:pt x="438" y="556"/>
                        </a:cubicBezTo>
                        <a:cubicBezTo>
                          <a:pt x="459" y="562"/>
                          <a:pt x="491" y="363"/>
                          <a:pt x="511" y="356"/>
                        </a:cubicBezTo>
                        <a:cubicBezTo>
                          <a:pt x="531" y="349"/>
                          <a:pt x="538" y="500"/>
                          <a:pt x="556" y="511"/>
                        </a:cubicBezTo>
                        <a:cubicBezTo>
                          <a:pt x="574" y="522"/>
                          <a:pt x="596" y="432"/>
                          <a:pt x="620" y="420"/>
                        </a:cubicBezTo>
                        <a:cubicBezTo>
                          <a:pt x="644" y="408"/>
                          <a:pt x="672" y="423"/>
                          <a:pt x="701" y="43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6" name=""/>
                  <p:cNvSpPr/>
                  <p:nvPr/>
                </p:nvSpPr>
                <p:spPr>
                  <a:xfrm rot="372600">
                    <a:off x="5328720" y="1372320"/>
                    <a:ext cx="29304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700">
                        <a:moveTo>
                          <a:pt x="0" y="612"/>
                        </a:moveTo>
                        <a:cubicBezTo>
                          <a:pt x="5" y="567"/>
                          <a:pt x="7" y="432"/>
                          <a:pt x="19" y="339"/>
                        </a:cubicBezTo>
                        <a:cubicBezTo>
                          <a:pt x="31" y="246"/>
                          <a:pt x="47" y="0"/>
                          <a:pt x="72" y="56"/>
                        </a:cubicBezTo>
                        <a:cubicBezTo>
                          <a:pt x="97" y="112"/>
                          <a:pt x="139" y="648"/>
                          <a:pt x="172" y="674"/>
                        </a:cubicBezTo>
                        <a:cubicBezTo>
                          <a:pt x="205" y="700"/>
                          <a:pt x="243" y="225"/>
                          <a:pt x="272" y="210"/>
                        </a:cubicBezTo>
                        <a:cubicBezTo>
                          <a:pt x="301" y="195"/>
                          <a:pt x="318" y="568"/>
                          <a:pt x="344" y="583"/>
                        </a:cubicBezTo>
                        <a:cubicBezTo>
                          <a:pt x="370" y="598"/>
                          <a:pt x="403" y="309"/>
                          <a:pt x="426" y="301"/>
                        </a:cubicBezTo>
                        <a:cubicBezTo>
                          <a:pt x="449" y="293"/>
                          <a:pt x="460" y="531"/>
                          <a:pt x="481" y="537"/>
                        </a:cubicBezTo>
                        <a:cubicBezTo>
                          <a:pt x="502" y="543"/>
                          <a:pt x="534" y="344"/>
                          <a:pt x="554" y="337"/>
                        </a:cubicBezTo>
                        <a:cubicBezTo>
                          <a:pt x="574" y="330"/>
                          <a:pt x="581" y="481"/>
                          <a:pt x="599" y="492"/>
                        </a:cubicBezTo>
                        <a:cubicBezTo>
                          <a:pt x="617" y="503"/>
                          <a:pt x="639" y="413"/>
                          <a:pt x="663" y="401"/>
                        </a:cubicBezTo>
                        <a:cubicBezTo>
                          <a:pt x="687" y="389"/>
                          <a:pt x="715" y="404"/>
                          <a:pt x="744" y="419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7" name=""/>
                  <p:cNvSpPr/>
                  <p:nvPr/>
                </p:nvSpPr>
                <p:spPr>
                  <a:xfrm rot="372600">
                    <a:off x="4173120" y="1324800"/>
                    <a:ext cx="28440" cy="20160"/>
                  </a:xfrm>
                  <a:prstGeom prst="ellipse">
                    <a:avLst/>
                  </a:prstGeom>
                  <a:solidFill>
                    <a:srgbClr val="ff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8" name=""/>
                  <p:cNvSpPr/>
                  <p:nvPr/>
                </p:nvSpPr>
                <p:spPr>
                  <a:xfrm rot="372600">
                    <a:off x="4555800" y="1335600"/>
                    <a:ext cx="28080" cy="20520"/>
                  </a:xfrm>
                  <a:prstGeom prst="ellipse">
                    <a:avLst/>
                  </a:prstGeom>
                  <a:solidFill>
                    <a:srgbClr val="ff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9" name=""/>
                  <p:cNvSpPr/>
                  <p:nvPr/>
                </p:nvSpPr>
                <p:spPr>
                  <a:xfrm rot="372600">
                    <a:off x="4868280" y="1373040"/>
                    <a:ext cx="27720" cy="20520"/>
                  </a:xfrm>
                  <a:prstGeom prst="ellipse">
                    <a:avLst/>
                  </a:prstGeom>
                  <a:solidFill>
                    <a:srgbClr val="ff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0" name=""/>
                  <p:cNvSpPr/>
                  <p:nvPr/>
                </p:nvSpPr>
                <p:spPr>
                  <a:xfrm rot="372600">
                    <a:off x="5310720" y="1493280"/>
                    <a:ext cx="28080" cy="20520"/>
                  </a:xfrm>
                  <a:prstGeom prst="ellipse">
                    <a:avLst/>
                  </a:prstGeom>
                  <a:solidFill>
                    <a:srgbClr val="ff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51" name=""/>
                <p:cNvGrpSpPr/>
                <p:nvPr/>
              </p:nvGrpSpPr>
              <p:grpSpPr>
                <a:xfrm>
                  <a:off x="4315320" y="1504080"/>
                  <a:ext cx="1884600" cy="438120"/>
                  <a:chOff x="4315320" y="1504080"/>
                  <a:chExt cx="1884600" cy="438120"/>
                </a:xfrm>
              </p:grpSpPr>
              <p:grpSp>
                <p:nvGrpSpPr>
                  <p:cNvPr id="4852" name=""/>
                  <p:cNvGrpSpPr/>
                  <p:nvPr/>
                </p:nvGrpSpPr>
                <p:grpSpPr>
                  <a:xfrm>
                    <a:off x="4315320" y="1703520"/>
                    <a:ext cx="362880" cy="238680"/>
                    <a:chOff x="4315320" y="1703520"/>
                    <a:chExt cx="362880" cy="238680"/>
                  </a:xfrm>
                </p:grpSpPr>
                <p:sp>
                  <p:nvSpPr>
                    <p:cNvPr id="4853" name=""/>
                    <p:cNvSpPr/>
                    <p:nvPr/>
                  </p:nvSpPr>
                  <p:spPr>
                    <a:xfrm rot="21145200">
                      <a:off x="4338000" y="1724040"/>
                      <a:ext cx="328680" cy="19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3" h="688">
                          <a:moveTo>
                            <a:pt x="0" y="398"/>
                          </a:moveTo>
                          <a:cubicBezTo>
                            <a:pt x="29" y="199"/>
                            <a:pt x="59" y="0"/>
                            <a:pt x="91" y="44"/>
                          </a:cubicBezTo>
                          <a:cubicBezTo>
                            <a:pt x="123" y="88"/>
                            <a:pt x="158" y="636"/>
                            <a:pt x="191" y="662"/>
                          </a:cubicBezTo>
                          <a:cubicBezTo>
                            <a:pt x="224" y="688"/>
                            <a:pt x="262" y="213"/>
                            <a:pt x="291" y="198"/>
                          </a:cubicBezTo>
                          <a:cubicBezTo>
                            <a:pt x="320" y="183"/>
                            <a:pt x="337" y="556"/>
                            <a:pt x="363" y="571"/>
                          </a:cubicBezTo>
                          <a:cubicBezTo>
                            <a:pt x="389" y="586"/>
                            <a:pt x="422" y="297"/>
                            <a:pt x="445" y="289"/>
                          </a:cubicBezTo>
                          <a:cubicBezTo>
                            <a:pt x="468" y="281"/>
                            <a:pt x="479" y="519"/>
                            <a:pt x="500" y="525"/>
                          </a:cubicBezTo>
                          <a:cubicBezTo>
                            <a:pt x="521" y="531"/>
                            <a:pt x="553" y="332"/>
                            <a:pt x="573" y="325"/>
                          </a:cubicBezTo>
                          <a:cubicBezTo>
                            <a:pt x="593" y="318"/>
                            <a:pt x="600" y="469"/>
                            <a:pt x="618" y="480"/>
                          </a:cubicBezTo>
                          <a:cubicBezTo>
                            <a:pt x="636" y="491"/>
                            <a:pt x="658" y="401"/>
                            <a:pt x="682" y="389"/>
                          </a:cubicBezTo>
                          <a:cubicBezTo>
                            <a:pt x="706" y="377"/>
                            <a:pt x="734" y="392"/>
                            <a:pt x="763" y="407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4" name=""/>
                    <p:cNvSpPr/>
                    <p:nvPr/>
                  </p:nvSpPr>
                  <p:spPr>
                    <a:xfrm rot="21145200">
                      <a:off x="4316400" y="1845720"/>
                      <a:ext cx="30960" cy="23040"/>
                    </a:xfrm>
                    <a:prstGeom prst="ellipse">
                      <a:avLst/>
                    </a:prstGeom>
                    <a:solidFill>
                      <a:srgbClr val="ff00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55" name=""/>
                  <p:cNvGrpSpPr/>
                  <p:nvPr/>
                </p:nvGrpSpPr>
                <p:grpSpPr>
                  <a:xfrm>
                    <a:off x="5819040" y="1504080"/>
                    <a:ext cx="380880" cy="237960"/>
                    <a:chOff x="5819040" y="1504080"/>
                    <a:chExt cx="380880" cy="237960"/>
                  </a:xfrm>
                </p:grpSpPr>
                <p:sp>
                  <p:nvSpPr>
                    <p:cNvPr id="4856" name=""/>
                    <p:cNvSpPr/>
                    <p:nvPr/>
                  </p:nvSpPr>
                  <p:spPr>
                    <a:xfrm rot="21145200">
                      <a:off x="5844960" y="1525680"/>
                      <a:ext cx="343440" cy="19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6" h="678">
                          <a:moveTo>
                            <a:pt x="0" y="208"/>
                          </a:moveTo>
                          <a:cubicBezTo>
                            <a:pt x="12" y="281"/>
                            <a:pt x="43" y="678"/>
                            <a:pt x="64" y="644"/>
                          </a:cubicBezTo>
                          <a:cubicBezTo>
                            <a:pt x="85" y="610"/>
                            <a:pt x="97" y="8"/>
                            <a:pt x="124" y="4"/>
                          </a:cubicBezTo>
                          <a:cubicBezTo>
                            <a:pt x="151" y="0"/>
                            <a:pt x="191" y="596"/>
                            <a:pt x="224" y="622"/>
                          </a:cubicBezTo>
                          <a:cubicBezTo>
                            <a:pt x="257" y="648"/>
                            <a:pt x="295" y="173"/>
                            <a:pt x="324" y="158"/>
                          </a:cubicBezTo>
                          <a:cubicBezTo>
                            <a:pt x="353" y="143"/>
                            <a:pt x="370" y="516"/>
                            <a:pt x="396" y="531"/>
                          </a:cubicBezTo>
                          <a:cubicBezTo>
                            <a:pt x="422" y="546"/>
                            <a:pt x="455" y="257"/>
                            <a:pt x="478" y="249"/>
                          </a:cubicBezTo>
                          <a:cubicBezTo>
                            <a:pt x="501" y="241"/>
                            <a:pt x="512" y="479"/>
                            <a:pt x="533" y="485"/>
                          </a:cubicBezTo>
                          <a:cubicBezTo>
                            <a:pt x="554" y="491"/>
                            <a:pt x="586" y="292"/>
                            <a:pt x="606" y="285"/>
                          </a:cubicBezTo>
                          <a:cubicBezTo>
                            <a:pt x="626" y="278"/>
                            <a:pt x="633" y="429"/>
                            <a:pt x="651" y="440"/>
                          </a:cubicBezTo>
                          <a:cubicBezTo>
                            <a:pt x="669" y="451"/>
                            <a:pt x="691" y="361"/>
                            <a:pt x="715" y="349"/>
                          </a:cubicBezTo>
                          <a:cubicBezTo>
                            <a:pt x="739" y="337"/>
                            <a:pt x="767" y="352"/>
                            <a:pt x="796" y="367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7" name=""/>
                    <p:cNvSpPr/>
                    <p:nvPr/>
                  </p:nvSpPr>
                  <p:spPr>
                    <a:xfrm rot="21145200">
                      <a:off x="5820120" y="1600560"/>
                      <a:ext cx="30600" cy="23760"/>
                    </a:xfrm>
                    <a:prstGeom prst="ellipse">
                      <a:avLst/>
                    </a:prstGeom>
                    <a:solidFill>
                      <a:srgbClr val="ff00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58" name=""/>
                  <p:cNvGrpSpPr/>
                  <p:nvPr/>
                </p:nvGrpSpPr>
                <p:grpSpPr>
                  <a:xfrm>
                    <a:off x="5510880" y="1539720"/>
                    <a:ext cx="331920" cy="244440"/>
                    <a:chOff x="5510880" y="1539720"/>
                    <a:chExt cx="331920" cy="244440"/>
                  </a:xfrm>
                </p:grpSpPr>
                <p:sp>
                  <p:nvSpPr>
                    <p:cNvPr id="4859" name=""/>
                    <p:cNvSpPr/>
                    <p:nvPr/>
                  </p:nvSpPr>
                  <p:spPr>
                    <a:xfrm rot="21145200">
                      <a:off x="5528880" y="1558800"/>
                      <a:ext cx="301680" cy="20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1" h="719">
                          <a:moveTo>
                            <a:pt x="0" y="327"/>
                          </a:moveTo>
                          <a:cubicBezTo>
                            <a:pt x="4" y="315"/>
                            <a:pt x="4" y="287"/>
                            <a:pt x="9" y="245"/>
                          </a:cubicBezTo>
                          <a:cubicBezTo>
                            <a:pt x="14" y="203"/>
                            <a:pt x="9" y="0"/>
                            <a:pt x="29" y="75"/>
                          </a:cubicBezTo>
                          <a:cubicBezTo>
                            <a:pt x="49" y="150"/>
                            <a:pt x="96" y="667"/>
                            <a:pt x="129" y="693"/>
                          </a:cubicBezTo>
                          <a:cubicBezTo>
                            <a:pt x="162" y="719"/>
                            <a:pt x="200" y="244"/>
                            <a:pt x="229" y="229"/>
                          </a:cubicBezTo>
                          <a:cubicBezTo>
                            <a:pt x="258" y="214"/>
                            <a:pt x="275" y="587"/>
                            <a:pt x="301" y="602"/>
                          </a:cubicBezTo>
                          <a:cubicBezTo>
                            <a:pt x="327" y="617"/>
                            <a:pt x="360" y="328"/>
                            <a:pt x="383" y="320"/>
                          </a:cubicBezTo>
                          <a:cubicBezTo>
                            <a:pt x="406" y="312"/>
                            <a:pt x="417" y="550"/>
                            <a:pt x="438" y="556"/>
                          </a:cubicBezTo>
                          <a:cubicBezTo>
                            <a:pt x="459" y="562"/>
                            <a:pt x="491" y="363"/>
                            <a:pt x="511" y="356"/>
                          </a:cubicBezTo>
                          <a:cubicBezTo>
                            <a:pt x="531" y="349"/>
                            <a:pt x="538" y="500"/>
                            <a:pt x="556" y="511"/>
                          </a:cubicBezTo>
                          <a:cubicBezTo>
                            <a:pt x="574" y="522"/>
                            <a:pt x="596" y="432"/>
                            <a:pt x="620" y="420"/>
                          </a:cubicBezTo>
                          <a:cubicBezTo>
                            <a:pt x="644" y="408"/>
                            <a:pt x="672" y="423"/>
                            <a:pt x="701" y="438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0" name=""/>
                    <p:cNvSpPr/>
                    <p:nvPr/>
                  </p:nvSpPr>
                  <p:spPr>
                    <a:xfrm rot="21145200">
                      <a:off x="5511960" y="1655640"/>
                      <a:ext cx="30600" cy="23400"/>
                    </a:xfrm>
                    <a:prstGeom prst="ellipse">
                      <a:avLst/>
                    </a:prstGeom>
                    <a:solidFill>
                      <a:srgbClr val="ff00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880" bIns="-298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61" name=""/>
                  <p:cNvGrpSpPr/>
                  <p:nvPr/>
                </p:nvGrpSpPr>
                <p:grpSpPr>
                  <a:xfrm>
                    <a:off x="4603680" y="1664280"/>
                    <a:ext cx="344160" cy="241560"/>
                    <a:chOff x="4603680" y="1664280"/>
                    <a:chExt cx="344160" cy="241560"/>
                  </a:xfrm>
                </p:grpSpPr>
                <p:sp>
                  <p:nvSpPr>
                    <p:cNvPr id="4862" name=""/>
                    <p:cNvSpPr/>
                    <p:nvPr/>
                  </p:nvSpPr>
                  <p:spPr>
                    <a:xfrm rot="21145200">
                      <a:off x="4615200" y="1684080"/>
                      <a:ext cx="320400" cy="20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4" h="700">
                          <a:moveTo>
                            <a:pt x="0" y="612"/>
                          </a:moveTo>
                          <a:cubicBezTo>
                            <a:pt x="5" y="567"/>
                            <a:pt x="7" y="432"/>
                            <a:pt x="19" y="339"/>
                          </a:cubicBezTo>
                          <a:cubicBezTo>
                            <a:pt x="31" y="246"/>
                            <a:pt x="47" y="0"/>
                            <a:pt x="72" y="56"/>
                          </a:cubicBezTo>
                          <a:cubicBezTo>
                            <a:pt x="97" y="112"/>
                            <a:pt x="139" y="648"/>
                            <a:pt x="172" y="674"/>
                          </a:cubicBezTo>
                          <a:cubicBezTo>
                            <a:pt x="205" y="700"/>
                            <a:pt x="243" y="225"/>
                            <a:pt x="272" y="210"/>
                          </a:cubicBezTo>
                          <a:cubicBezTo>
                            <a:pt x="301" y="195"/>
                            <a:pt x="318" y="568"/>
                            <a:pt x="344" y="583"/>
                          </a:cubicBezTo>
                          <a:cubicBezTo>
                            <a:pt x="370" y="598"/>
                            <a:pt x="403" y="309"/>
                            <a:pt x="426" y="301"/>
                          </a:cubicBezTo>
                          <a:cubicBezTo>
                            <a:pt x="449" y="293"/>
                            <a:pt x="460" y="531"/>
                            <a:pt x="481" y="537"/>
                          </a:cubicBezTo>
                          <a:cubicBezTo>
                            <a:pt x="502" y="543"/>
                            <a:pt x="534" y="344"/>
                            <a:pt x="554" y="337"/>
                          </a:cubicBezTo>
                          <a:cubicBezTo>
                            <a:pt x="574" y="330"/>
                            <a:pt x="581" y="481"/>
                            <a:pt x="599" y="492"/>
                          </a:cubicBezTo>
                          <a:cubicBezTo>
                            <a:pt x="617" y="503"/>
                            <a:pt x="639" y="413"/>
                            <a:pt x="663" y="401"/>
                          </a:cubicBezTo>
                          <a:cubicBezTo>
                            <a:pt x="687" y="389"/>
                            <a:pt x="715" y="404"/>
                            <a:pt x="744" y="419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3" name=""/>
                    <p:cNvSpPr/>
                    <p:nvPr/>
                  </p:nvSpPr>
                  <p:spPr>
                    <a:xfrm rot="21145200">
                      <a:off x="4612320" y="1861200"/>
                      <a:ext cx="30600" cy="23400"/>
                    </a:xfrm>
                    <a:prstGeom prst="ellipse">
                      <a:avLst/>
                    </a:prstGeom>
                    <a:solidFill>
                      <a:srgbClr val="ff00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880" bIns="-298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4864" name=""/>
            <p:cNvGrpSpPr/>
            <p:nvPr/>
          </p:nvGrpSpPr>
          <p:grpSpPr>
            <a:xfrm>
              <a:off x="447480" y="2246400"/>
              <a:ext cx="8267040" cy="1281600"/>
              <a:chOff x="447480" y="2246400"/>
              <a:chExt cx="8267040" cy="1281600"/>
            </a:xfrm>
          </p:grpSpPr>
          <p:sp>
            <p:nvSpPr>
              <p:cNvPr id="4865" name=""/>
              <p:cNvSpPr/>
              <p:nvPr/>
            </p:nvSpPr>
            <p:spPr>
              <a:xfrm>
                <a:off x="447480" y="2557440"/>
                <a:ext cx="4807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on en tire la relation (non-coherence) :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866" name=""/>
                  <p:cNvSpPr txBox="1"/>
                  <p:nvPr/>
                </p:nvSpPr>
                <p:spPr>
                  <a:xfrm>
                    <a:off x="560520" y="3040200"/>
                    <a:ext cx="4209840" cy="37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∗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&gt;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4867" name=""/>
              <p:cNvGrpSpPr/>
              <p:nvPr/>
            </p:nvGrpSpPr>
            <p:grpSpPr>
              <a:xfrm>
                <a:off x="5341320" y="2246400"/>
                <a:ext cx="3373200" cy="1281600"/>
                <a:chOff x="5341320" y="2246400"/>
                <a:chExt cx="3373200" cy="1281600"/>
              </a:xfrm>
            </p:grpSpPr>
            <p:grpSp>
              <p:nvGrpSpPr>
                <p:cNvPr id="4868" name=""/>
                <p:cNvGrpSpPr/>
                <p:nvPr/>
              </p:nvGrpSpPr>
              <p:grpSpPr>
                <a:xfrm>
                  <a:off x="5341320" y="2246400"/>
                  <a:ext cx="3373200" cy="1281600"/>
                  <a:chOff x="5341320" y="2246400"/>
                  <a:chExt cx="3373200" cy="1281600"/>
                </a:xfrm>
              </p:grpSpPr>
              <p:grpSp>
                <p:nvGrpSpPr>
                  <p:cNvPr id="4869" name=""/>
                  <p:cNvGrpSpPr/>
                  <p:nvPr/>
                </p:nvGrpSpPr>
                <p:grpSpPr>
                  <a:xfrm>
                    <a:off x="8440920" y="2601360"/>
                    <a:ext cx="273600" cy="545400"/>
                    <a:chOff x="8440920" y="2601360"/>
                    <a:chExt cx="273600" cy="545400"/>
                  </a:xfrm>
                </p:grpSpPr>
                <p:sp>
                  <p:nvSpPr>
                    <p:cNvPr id="4870" name=""/>
                    <p:cNvSpPr/>
                    <p:nvPr/>
                  </p:nvSpPr>
                  <p:spPr>
                    <a:xfrm>
                      <a:off x="8523360" y="2613240"/>
                      <a:ext cx="191160" cy="5335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1" name=""/>
                    <p:cNvSpPr/>
                    <p:nvPr/>
                  </p:nvSpPr>
                  <p:spPr>
                    <a:xfrm>
                      <a:off x="8440920" y="2601360"/>
                      <a:ext cx="191160" cy="53316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72" name=""/>
                  <p:cNvSpPr/>
                  <p:nvPr/>
                </p:nvSpPr>
                <p:spPr>
                  <a:xfrm>
                    <a:off x="5770440" y="2566080"/>
                    <a:ext cx="2794680" cy="73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8" h="354">
                        <a:moveTo>
                          <a:pt x="9" y="0"/>
                        </a:moveTo>
                        <a:lnTo>
                          <a:pt x="1418" y="154"/>
                        </a:lnTo>
                        <a:lnTo>
                          <a:pt x="0" y="354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3" name=""/>
                  <p:cNvSpPr/>
                  <p:nvPr/>
                </p:nvSpPr>
                <p:spPr>
                  <a:xfrm>
                    <a:off x="5341320" y="2246400"/>
                    <a:ext cx="40464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S</a:t>
                    </a:r>
                    <a:r>
                      <a:rPr b="1" lang="fr-FR" sz="20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4" name=""/>
                  <p:cNvSpPr/>
                  <p:nvPr/>
                </p:nvSpPr>
                <p:spPr>
                  <a:xfrm>
                    <a:off x="5341320" y="3087360"/>
                    <a:ext cx="40464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S</a:t>
                    </a:r>
                    <a:r>
                      <a:rPr b="1" lang="fr-FR" sz="20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5" name=""/>
                  <p:cNvSpPr/>
                  <p:nvPr/>
                </p:nvSpPr>
                <p:spPr>
                  <a:xfrm>
                    <a:off x="7354440" y="2277360"/>
                    <a:ext cx="43992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</a:t>
                    </a:r>
                    <a:r>
                      <a:rPr b="1" lang="fr-FR" sz="20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6" name=""/>
                  <p:cNvSpPr/>
                  <p:nvPr/>
                </p:nvSpPr>
                <p:spPr>
                  <a:xfrm>
                    <a:off x="7454880" y="2985840"/>
                    <a:ext cx="43992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</a:t>
                    </a:r>
                    <a:r>
                      <a:rPr b="1" lang="fr-FR" sz="20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7" name=""/>
                  <p:cNvSpPr/>
                  <p:nvPr/>
                </p:nvSpPr>
                <p:spPr>
                  <a:xfrm flipH="1">
                    <a:off x="5582880" y="2877840"/>
                    <a:ext cx="2954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8" name=""/>
                  <p:cNvSpPr/>
                  <p:nvPr/>
                </p:nvSpPr>
                <p:spPr>
                  <a:xfrm>
                    <a:off x="6150600" y="2593440"/>
                    <a:ext cx="98280" cy="28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37">
                        <a:moveTo>
                          <a:pt x="50" y="0"/>
                        </a:moveTo>
                        <a:cubicBezTo>
                          <a:pt x="42" y="12"/>
                          <a:pt x="8" y="50"/>
                          <a:pt x="4" y="73"/>
                        </a:cubicBezTo>
                        <a:cubicBezTo>
                          <a:pt x="0" y="96"/>
                          <a:pt x="19" y="124"/>
                          <a:pt x="23" y="13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9" name=""/>
                  <p:cNvSpPr/>
                  <p:nvPr/>
                </p:nvSpPr>
                <p:spPr>
                  <a:xfrm>
                    <a:off x="6300360" y="2877840"/>
                    <a:ext cx="74880" cy="3240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56">
                        <a:moveTo>
                          <a:pt x="29" y="0"/>
                        </a:moveTo>
                        <a:cubicBezTo>
                          <a:pt x="14" y="33"/>
                          <a:pt x="0" y="66"/>
                          <a:pt x="1" y="92"/>
                        </a:cubicBezTo>
                        <a:cubicBezTo>
                          <a:pt x="2" y="118"/>
                          <a:pt x="20" y="137"/>
                          <a:pt x="38" y="156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80" name=""/>
                <p:cNvSpPr/>
                <p:nvPr/>
              </p:nvSpPr>
              <p:spPr>
                <a:xfrm>
                  <a:off x="5815080" y="2532240"/>
                  <a:ext cx="34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1" name=""/>
                <p:cNvSpPr/>
                <p:nvPr/>
              </p:nvSpPr>
              <p:spPr>
                <a:xfrm>
                  <a:off x="5896080" y="291780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2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1457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une troisième situation : le mélange des deux premiè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3" name=""/>
          <p:cNvGrpSpPr/>
          <p:nvPr/>
        </p:nvGrpSpPr>
        <p:grpSpPr>
          <a:xfrm>
            <a:off x="432720" y="1565280"/>
            <a:ext cx="8428680" cy="1734120"/>
            <a:chOff x="432720" y="1565280"/>
            <a:chExt cx="8428680" cy="1734120"/>
          </a:xfrm>
        </p:grpSpPr>
        <p:sp>
          <p:nvSpPr>
            <p:cNvPr id="4884" name=""/>
            <p:cNvSpPr/>
            <p:nvPr/>
          </p:nvSpPr>
          <p:spPr>
            <a:xfrm>
              <a:off x="432720" y="1641600"/>
              <a:ext cx="412776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addition partiellement cohér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lusieurs sources S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,S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,…S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t la machine à addition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vant détectio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5" name=""/>
            <p:cNvGrpSpPr/>
            <p:nvPr/>
          </p:nvGrpSpPr>
          <p:grpSpPr>
            <a:xfrm>
              <a:off x="4786920" y="1565280"/>
              <a:ext cx="4074480" cy="1734120"/>
              <a:chOff x="4786920" y="1565280"/>
              <a:chExt cx="4074480" cy="1734120"/>
            </a:xfrm>
          </p:grpSpPr>
          <p:sp>
            <p:nvSpPr>
              <p:cNvPr id="4886" name=""/>
              <p:cNvSpPr/>
              <p:nvPr/>
            </p:nvSpPr>
            <p:spPr>
              <a:xfrm>
                <a:off x="7557120" y="15652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87" name=""/>
              <p:cNvGrpSpPr/>
              <p:nvPr/>
            </p:nvGrpSpPr>
            <p:grpSpPr>
              <a:xfrm>
                <a:off x="8604360" y="2239920"/>
                <a:ext cx="257040" cy="628560"/>
                <a:chOff x="8604360" y="2239920"/>
                <a:chExt cx="257040" cy="628560"/>
              </a:xfrm>
            </p:grpSpPr>
            <p:sp>
              <p:nvSpPr>
                <p:cNvPr id="4888" name=""/>
                <p:cNvSpPr/>
                <p:nvPr/>
              </p:nvSpPr>
              <p:spPr>
                <a:xfrm>
                  <a:off x="8670960" y="2249280"/>
                  <a:ext cx="190440" cy="619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9" name=""/>
                <p:cNvSpPr/>
                <p:nvPr/>
              </p:nvSpPr>
              <p:spPr>
                <a:xfrm>
                  <a:off x="8604360" y="2239920"/>
                  <a:ext cx="190440" cy="6192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0" name=""/>
              <p:cNvSpPr/>
              <p:nvPr/>
            </p:nvSpPr>
            <p:spPr>
              <a:xfrm>
                <a:off x="5388120" y="2108160"/>
                <a:ext cx="2473200" cy="749520"/>
              </a:xfrm>
              <a:custGeom>
                <a:avLst/>
                <a:gdLst/>
                <a:ahLst/>
                <a:rect l="l" t="t" r="r" b="b"/>
                <a:pathLst>
                  <a:path w="1558" h="472">
                    <a:moveTo>
                      <a:pt x="1558" y="0"/>
                    </a:moveTo>
                    <a:lnTo>
                      <a:pt x="0" y="285"/>
                    </a:lnTo>
                    <a:lnTo>
                      <a:pt x="1558" y="47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6816600" y="2585880"/>
                <a:ext cx="594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6826320" y="1770120"/>
                <a:ext cx="593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7561800" y="27892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7934400" y="1835280"/>
                <a:ext cx="419040" cy="138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7915320" y="208908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7889760" y="2021040"/>
                <a:ext cx="101880" cy="1155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7885080" y="2801880"/>
                <a:ext cx="101520" cy="1159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8366040" y="252576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6150240" y="2548080"/>
                <a:ext cx="459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6246720" y="1862280"/>
                <a:ext cx="486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fr-FR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4786920" y="2327400"/>
                <a:ext cx="352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5190120" y="2482920"/>
                <a:ext cx="352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5077440" y="2251080"/>
                <a:ext cx="352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5253120" y="2279520"/>
                <a:ext cx="115920" cy="10008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4976640" y="2289240"/>
                <a:ext cx="115920" cy="10008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5043600" y="2612880"/>
                <a:ext cx="115920" cy="10008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5033880" y="2432160"/>
                <a:ext cx="115920" cy="10008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4815000" y="2584440"/>
                <a:ext cx="115920" cy="10008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9" name=""/>
          <p:cNvSpPr/>
          <p:nvPr/>
        </p:nvSpPr>
        <p:spPr>
          <a:xfrm>
            <a:off x="437760" y="5938920"/>
            <a:ext cx="836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u final, le détecteur donnera  une somme de termes d'interfér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ont le résultat sera gouverné par la distribution des points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0" name=""/>
          <p:cNvGrpSpPr/>
          <p:nvPr/>
        </p:nvGrpSpPr>
        <p:grpSpPr>
          <a:xfrm>
            <a:off x="417600" y="3224160"/>
            <a:ext cx="8410320" cy="2820240"/>
            <a:chOff x="417600" y="3224160"/>
            <a:chExt cx="8410320" cy="2820240"/>
          </a:xfrm>
        </p:grpSpPr>
        <p:sp>
          <p:nvSpPr>
            <p:cNvPr id="4911" name=""/>
            <p:cNvSpPr/>
            <p:nvPr/>
          </p:nvSpPr>
          <p:spPr>
            <a:xfrm>
              <a:off x="417600" y="3224160"/>
              <a:ext cx="841032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phénoménologie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toutes les sources Sk vont donner un terme d'interférence durable (situation 2), indépendament les unes des autre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mais ce terme sera plus ou moins grand selon le décalage (r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k1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– r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k2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2" name=""/>
            <p:cNvGrpSpPr/>
            <p:nvPr/>
          </p:nvGrpSpPr>
          <p:grpSpPr>
            <a:xfrm>
              <a:off x="1697040" y="4603680"/>
              <a:ext cx="5267160" cy="1440720"/>
              <a:chOff x="1697040" y="4603680"/>
              <a:chExt cx="5267160" cy="1440720"/>
            </a:xfrm>
          </p:grpSpPr>
          <p:sp>
            <p:nvSpPr>
              <p:cNvPr id="4913" name=""/>
              <p:cNvSpPr/>
              <p:nvPr/>
            </p:nvSpPr>
            <p:spPr>
              <a:xfrm>
                <a:off x="1697040" y="4903920"/>
                <a:ext cx="611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1" lang="fr-FR" sz="1600" spc="-1" strike="noStrike" baseline="-25000">
                    <a:solidFill>
                      <a:srgbClr val="000000"/>
                    </a:solidFill>
                    <a:latin typeface="Comic Sans MS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2085840" y="4878360"/>
                <a:ext cx="168480" cy="14616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2085840" y="5065560"/>
                <a:ext cx="169920" cy="14616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2085840" y="5537160"/>
                <a:ext cx="169920" cy="14616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2085840" y="5273640"/>
                <a:ext cx="168480" cy="146160"/>
              </a:xfrm>
              <a:prstGeom prst="ellipse">
                <a:avLst/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5697720" y="4603680"/>
                <a:ext cx="418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19" name=""/>
              <p:cNvGrpSpPr/>
              <p:nvPr/>
            </p:nvGrpSpPr>
            <p:grpSpPr>
              <a:xfrm>
                <a:off x="6716880" y="5051520"/>
                <a:ext cx="247320" cy="624960"/>
                <a:chOff x="6716880" y="5051520"/>
                <a:chExt cx="247320" cy="624960"/>
              </a:xfrm>
            </p:grpSpPr>
            <p:sp>
              <p:nvSpPr>
                <p:cNvPr id="4920" name=""/>
                <p:cNvSpPr/>
                <p:nvPr/>
              </p:nvSpPr>
              <p:spPr>
                <a:xfrm>
                  <a:off x="6774480" y="5057640"/>
                  <a:ext cx="189720" cy="618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1" name=""/>
                <p:cNvSpPr/>
                <p:nvPr/>
              </p:nvSpPr>
              <p:spPr>
                <a:xfrm>
                  <a:off x="6716880" y="5051520"/>
                  <a:ext cx="190800" cy="6188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22" name=""/>
              <p:cNvSpPr/>
              <p:nvPr/>
            </p:nvSpPr>
            <p:spPr>
              <a:xfrm>
                <a:off x="5789880" y="5603760"/>
                <a:ext cx="418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6148440" y="4794120"/>
                <a:ext cx="363600" cy="109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6130800" y="4995720"/>
                <a:ext cx="470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6110280" y="4941720"/>
                <a:ext cx="87480" cy="9072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6105600" y="5560920"/>
                <a:ext cx="87120" cy="9216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6523200" y="5342040"/>
                <a:ext cx="31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2281320" y="4950000"/>
                <a:ext cx="3671640" cy="623880"/>
              </a:xfrm>
              <a:custGeom>
                <a:avLst/>
                <a:gdLst/>
                <a:ahLst/>
                <a:rect l="l" t="t" r="r" b="b"/>
                <a:pathLst>
                  <a:path w="2313" h="393">
                    <a:moveTo>
                      <a:pt x="2304" y="27"/>
                    </a:moveTo>
                    <a:lnTo>
                      <a:pt x="0" y="0"/>
                    </a:lnTo>
                    <a:lnTo>
                      <a:pt x="2313" y="39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2295360" y="5016600"/>
                <a:ext cx="3724560" cy="581040"/>
              </a:xfrm>
              <a:custGeom>
                <a:avLst/>
                <a:gdLst/>
                <a:ahLst/>
                <a:rect l="l" t="t" r="r" b="b"/>
                <a:pathLst>
                  <a:path w="2346" h="366">
                    <a:moveTo>
                      <a:pt x="2337" y="0"/>
                    </a:moveTo>
                    <a:lnTo>
                      <a:pt x="0" y="67"/>
                    </a:lnTo>
                    <a:lnTo>
                      <a:pt x="2346" y="366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2295360" y="5054760"/>
                <a:ext cx="3733920" cy="581040"/>
              </a:xfrm>
              <a:custGeom>
                <a:avLst/>
                <a:gdLst/>
                <a:ahLst/>
                <a:rect l="l" t="t" r="r" b="b"/>
                <a:pathLst>
                  <a:path w="2352" h="366">
                    <a:moveTo>
                      <a:pt x="2343" y="0"/>
                    </a:moveTo>
                    <a:lnTo>
                      <a:pt x="0" y="162"/>
                    </a:lnTo>
                    <a:lnTo>
                      <a:pt x="2352" y="3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2309760" y="5049720"/>
                <a:ext cx="3714840" cy="581040"/>
              </a:xfrm>
              <a:custGeom>
                <a:avLst/>
                <a:gdLst/>
                <a:ahLst/>
                <a:rect l="l" t="t" r="r" b="b"/>
                <a:pathLst>
                  <a:path w="2340" h="366">
                    <a:moveTo>
                      <a:pt x="2331" y="0"/>
                    </a:moveTo>
                    <a:lnTo>
                      <a:pt x="0" y="339"/>
                    </a:lnTo>
                    <a:lnTo>
                      <a:pt x="2340" y="36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247320" y="758520"/>
            <a:ext cx="7566120" cy="344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61560" rIns="61560" tIns="24480" bIns="2448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ensibilité du terme d'interférence aux différences de traj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>
            <a:off x="192240" y="1184400"/>
            <a:ext cx="76179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llustration d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"ce terme sera plus ou moins grand selon le décalage (r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k1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– r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omic Sans MS"/>
              </a:rPr>
              <a:t>k2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4" name=""/>
          <p:cNvGrpSpPr/>
          <p:nvPr/>
        </p:nvGrpSpPr>
        <p:grpSpPr>
          <a:xfrm>
            <a:off x="239400" y="1987560"/>
            <a:ext cx="8733240" cy="4295880"/>
            <a:chOff x="239400" y="1987560"/>
            <a:chExt cx="8733240" cy="4295880"/>
          </a:xfrm>
        </p:grpSpPr>
        <p:grpSp>
          <p:nvGrpSpPr>
            <p:cNvPr id="4935" name=""/>
            <p:cNvGrpSpPr/>
            <p:nvPr/>
          </p:nvGrpSpPr>
          <p:grpSpPr>
            <a:xfrm>
              <a:off x="4032360" y="2762280"/>
              <a:ext cx="2750760" cy="1090080"/>
              <a:chOff x="4032360" y="2762280"/>
              <a:chExt cx="2750760" cy="1090080"/>
            </a:xfrm>
          </p:grpSpPr>
          <p:sp>
            <p:nvSpPr>
              <p:cNvPr id="4936" name=""/>
              <p:cNvSpPr/>
              <p:nvPr/>
            </p:nvSpPr>
            <p:spPr>
              <a:xfrm>
                <a:off x="4032360" y="2762280"/>
                <a:ext cx="2750760" cy="10900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4416480" y="2945520"/>
                <a:ext cx="2462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4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4896000" y="3079080"/>
                <a:ext cx="2019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5221080" y="3204720"/>
                <a:ext cx="633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7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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5344560" y="3079080"/>
                <a:ext cx="4212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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5842800" y="3204720"/>
                <a:ext cx="633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7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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6027120" y="3079080"/>
                <a:ext cx="1468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3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6216120" y="2966760"/>
                <a:ext cx="24624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34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4" name=""/>
            <p:cNvGrpSpPr/>
            <p:nvPr/>
          </p:nvGrpSpPr>
          <p:grpSpPr>
            <a:xfrm>
              <a:off x="727200" y="4695840"/>
              <a:ext cx="2017800" cy="1587600"/>
              <a:chOff x="727200" y="4695840"/>
              <a:chExt cx="2017800" cy="1587600"/>
            </a:xfrm>
          </p:grpSpPr>
          <p:sp>
            <p:nvSpPr>
              <p:cNvPr id="4945" name=""/>
              <p:cNvSpPr/>
              <p:nvPr/>
            </p:nvSpPr>
            <p:spPr>
              <a:xfrm>
                <a:off x="727200" y="4708440"/>
                <a:ext cx="2017800" cy="1575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6" name=""/>
              <p:cNvGrpSpPr/>
              <p:nvPr/>
            </p:nvGrpSpPr>
            <p:grpSpPr>
              <a:xfrm>
                <a:off x="938160" y="5133960"/>
                <a:ext cx="1595520" cy="795600"/>
                <a:chOff x="938160" y="5133960"/>
                <a:chExt cx="1595520" cy="795600"/>
              </a:xfrm>
            </p:grpSpPr>
            <p:sp>
              <p:nvSpPr>
                <p:cNvPr id="4947" name=""/>
                <p:cNvSpPr/>
                <p:nvPr/>
              </p:nvSpPr>
              <p:spPr>
                <a:xfrm>
                  <a:off x="938160" y="5133960"/>
                  <a:ext cx="798480" cy="795600"/>
                </a:xfrm>
                <a:custGeom>
                  <a:avLst/>
                  <a:gdLst/>
                  <a:ahLst/>
                  <a:rect l="l" t="t" r="r" b="b"/>
                  <a:pathLst>
                    <a:path w="503" h="501">
                      <a:moveTo>
                        <a:pt x="0" y="284"/>
                      </a:moveTo>
                      <a:lnTo>
                        <a:pt x="0" y="268"/>
                      </a:lnTo>
                      <a:lnTo>
                        <a:pt x="6" y="238"/>
                      </a:lnTo>
                      <a:lnTo>
                        <a:pt x="11" y="208"/>
                      </a:lnTo>
                      <a:lnTo>
                        <a:pt x="17" y="177"/>
                      </a:lnTo>
                      <a:lnTo>
                        <a:pt x="23" y="147"/>
                      </a:lnTo>
                      <a:lnTo>
                        <a:pt x="29" y="127"/>
                      </a:lnTo>
                      <a:lnTo>
                        <a:pt x="29" y="107"/>
                      </a:lnTo>
                      <a:lnTo>
                        <a:pt x="35" y="86"/>
                      </a:lnTo>
                      <a:lnTo>
                        <a:pt x="40" y="71"/>
                      </a:lnTo>
                      <a:lnTo>
                        <a:pt x="46" y="51"/>
                      </a:lnTo>
                      <a:lnTo>
                        <a:pt x="52" y="36"/>
                      </a:lnTo>
                      <a:lnTo>
                        <a:pt x="52" y="31"/>
                      </a:lnTo>
                      <a:lnTo>
                        <a:pt x="58" y="20"/>
                      </a:lnTo>
                      <a:lnTo>
                        <a:pt x="63" y="5"/>
                      </a:lnTo>
                      <a:lnTo>
                        <a:pt x="69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81" y="0"/>
                      </a:lnTo>
                      <a:lnTo>
                        <a:pt x="81" y="0"/>
                      </a:lnTo>
                      <a:lnTo>
                        <a:pt x="87" y="0"/>
                      </a:lnTo>
                      <a:lnTo>
                        <a:pt x="92" y="15"/>
                      </a:lnTo>
                      <a:lnTo>
                        <a:pt x="98" y="20"/>
                      </a:lnTo>
                      <a:lnTo>
                        <a:pt x="98" y="26"/>
                      </a:lnTo>
                      <a:lnTo>
                        <a:pt x="104" y="46"/>
                      </a:lnTo>
                      <a:lnTo>
                        <a:pt x="110" y="61"/>
                      </a:lnTo>
                      <a:lnTo>
                        <a:pt x="110" y="71"/>
                      </a:lnTo>
                      <a:lnTo>
                        <a:pt x="115" y="91"/>
                      </a:lnTo>
                      <a:lnTo>
                        <a:pt x="115" y="107"/>
                      </a:lnTo>
                      <a:lnTo>
                        <a:pt x="121" y="137"/>
                      </a:lnTo>
                      <a:lnTo>
                        <a:pt x="127" y="162"/>
                      </a:lnTo>
                      <a:lnTo>
                        <a:pt x="127" y="182"/>
                      </a:lnTo>
                      <a:lnTo>
                        <a:pt x="133" y="213"/>
                      </a:lnTo>
                      <a:lnTo>
                        <a:pt x="133" y="228"/>
                      </a:lnTo>
                      <a:lnTo>
                        <a:pt x="133" y="243"/>
                      </a:lnTo>
                      <a:lnTo>
                        <a:pt x="139" y="274"/>
                      </a:lnTo>
                      <a:lnTo>
                        <a:pt x="144" y="299"/>
                      </a:lnTo>
                      <a:lnTo>
                        <a:pt x="144" y="319"/>
                      </a:lnTo>
                      <a:lnTo>
                        <a:pt x="150" y="349"/>
                      </a:lnTo>
                      <a:lnTo>
                        <a:pt x="150" y="365"/>
                      </a:lnTo>
                      <a:lnTo>
                        <a:pt x="156" y="385"/>
                      </a:lnTo>
                      <a:lnTo>
                        <a:pt x="162" y="410"/>
                      </a:lnTo>
                      <a:lnTo>
                        <a:pt x="162" y="420"/>
                      </a:lnTo>
                      <a:lnTo>
                        <a:pt x="167" y="436"/>
                      </a:lnTo>
                      <a:lnTo>
                        <a:pt x="173" y="456"/>
                      </a:lnTo>
                      <a:lnTo>
                        <a:pt x="173" y="461"/>
                      </a:lnTo>
                      <a:lnTo>
                        <a:pt x="179" y="476"/>
                      </a:lnTo>
                      <a:lnTo>
                        <a:pt x="185" y="486"/>
                      </a:lnTo>
                      <a:lnTo>
                        <a:pt x="185" y="486"/>
                      </a:lnTo>
                      <a:lnTo>
                        <a:pt x="191" y="496"/>
                      </a:lnTo>
                      <a:lnTo>
                        <a:pt x="196" y="501"/>
                      </a:lnTo>
                      <a:lnTo>
                        <a:pt x="202" y="501"/>
                      </a:lnTo>
                      <a:lnTo>
                        <a:pt x="196" y="501"/>
                      </a:lnTo>
                      <a:lnTo>
                        <a:pt x="202" y="501"/>
                      </a:lnTo>
                      <a:lnTo>
                        <a:pt x="208" y="496"/>
                      </a:lnTo>
                      <a:lnTo>
                        <a:pt x="214" y="486"/>
                      </a:lnTo>
                      <a:lnTo>
                        <a:pt x="219" y="481"/>
                      </a:lnTo>
                      <a:lnTo>
                        <a:pt x="219" y="476"/>
                      </a:lnTo>
                      <a:lnTo>
                        <a:pt x="225" y="461"/>
                      </a:lnTo>
                      <a:lnTo>
                        <a:pt x="231" y="451"/>
                      </a:lnTo>
                      <a:lnTo>
                        <a:pt x="231" y="441"/>
                      </a:lnTo>
                      <a:lnTo>
                        <a:pt x="237" y="420"/>
                      </a:lnTo>
                      <a:lnTo>
                        <a:pt x="243" y="405"/>
                      </a:lnTo>
                      <a:lnTo>
                        <a:pt x="243" y="390"/>
                      </a:lnTo>
                      <a:lnTo>
                        <a:pt x="248" y="365"/>
                      </a:lnTo>
                      <a:lnTo>
                        <a:pt x="254" y="344"/>
                      </a:lnTo>
                      <a:lnTo>
                        <a:pt x="254" y="334"/>
                      </a:lnTo>
                      <a:lnTo>
                        <a:pt x="254" y="324"/>
                      </a:lnTo>
                      <a:lnTo>
                        <a:pt x="260" y="304"/>
                      </a:lnTo>
                      <a:lnTo>
                        <a:pt x="266" y="279"/>
                      </a:lnTo>
                      <a:lnTo>
                        <a:pt x="271" y="258"/>
                      </a:lnTo>
                      <a:lnTo>
                        <a:pt x="271" y="243"/>
                      </a:lnTo>
                      <a:lnTo>
                        <a:pt x="277" y="228"/>
                      </a:lnTo>
                      <a:lnTo>
                        <a:pt x="283" y="203"/>
                      </a:lnTo>
                      <a:lnTo>
                        <a:pt x="289" y="193"/>
                      </a:lnTo>
                      <a:lnTo>
                        <a:pt x="289" y="182"/>
                      </a:lnTo>
                      <a:lnTo>
                        <a:pt x="295" y="167"/>
                      </a:lnTo>
                      <a:lnTo>
                        <a:pt x="300" y="157"/>
                      </a:lnTo>
                      <a:lnTo>
                        <a:pt x="300" y="152"/>
                      </a:lnTo>
                      <a:lnTo>
                        <a:pt x="306" y="142"/>
                      </a:lnTo>
                      <a:lnTo>
                        <a:pt x="312" y="132"/>
                      </a:lnTo>
                      <a:lnTo>
                        <a:pt x="312" y="132"/>
                      </a:lnTo>
                      <a:lnTo>
                        <a:pt x="318" y="127"/>
                      </a:lnTo>
                      <a:lnTo>
                        <a:pt x="318" y="122"/>
                      </a:lnTo>
                      <a:lnTo>
                        <a:pt x="323" y="122"/>
                      </a:lnTo>
                      <a:lnTo>
                        <a:pt x="329" y="122"/>
                      </a:lnTo>
                      <a:lnTo>
                        <a:pt x="335" y="122"/>
                      </a:lnTo>
                      <a:lnTo>
                        <a:pt x="335" y="122"/>
                      </a:lnTo>
                      <a:lnTo>
                        <a:pt x="341" y="127"/>
                      </a:lnTo>
                      <a:lnTo>
                        <a:pt x="347" y="137"/>
                      </a:lnTo>
                      <a:lnTo>
                        <a:pt x="352" y="142"/>
                      </a:lnTo>
                      <a:lnTo>
                        <a:pt x="352" y="147"/>
                      </a:lnTo>
                      <a:lnTo>
                        <a:pt x="358" y="157"/>
                      </a:lnTo>
                      <a:lnTo>
                        <a:pt x="364" y="167"/>
                      </a:lnTo>
                      <a:lnTo>
                        <a:pt x="364" y="177"/>
                      </a:lnTo>
                      <a:lnTo>
                        <a:pt x="370" y="193"/>
                      </a:lnTo>
                      <a:lnTo>
                        <a:pt x="370" y="203"/>
                      </a:lnTo>
                      <a:lnTo>
                        <a:pt x="375" y="218"/>
                      </a:lnTo>
                      <a:lnTo>
                        <a:pt x="381" y="243"/>
                      </a:lnTo>
                      <a:lnTo>
                        <a:pt x="381" y="248"/>
                      </a:lnTo>
                      <a:lnTo>
                        <a:pt x="387" y="268"/>
                      </a:lnTo>
                      <a:lnTo>
                        <a:pt x="393" y="299"/>
                      </a:lnTo>
                      <a:lnTo>
                        <a:pt x="399" y="324"/>
                      </a:lnTo>
                      <a:lnTo>
                        <a:pt x="404" y="344"/>
                      </a:lnTo>
                      <a:lnTo>
                        <a:pt x="416" y="370"/>
                      </a:lnTo>
                      <a:lnTo>
                        <a:pt x="422" y="385"/>
                      </a:lnTo>
                      <a:lnTo>
                        <a:pt x="427" y="390"/>
                      </a:lnTo>
                      <a:lnTo>
                        <a:pt x="439" y="400"/>
                      </a:lnTo>
                      <a:lnTo>
                        <a:pt x="439" y="400"/>
                      </a:lnTo>
                      <a:lnTo>
                        <a:pt x="451" y="400"/>
                      </a:lnTo>
                      <a:lnTo>
                        <a:pt x="462" y="390"/>
                      </a:lnTo>
                      <a:lnTo>
                        <a:pt x="468" y="380"/>
                      </a:lnTo>
                      <a:lnTo>
                        <a:pt x="474" y="370"/>
                      </a:lnTo>
                      <a:lnTo>
                        <a:pt x="485" y="344"/>
                      </a:lnTo>
                      <a:lnTo>
                        <a:pt x="491" y="319"/>
                      </a:lnTo>
                      <a:lnTo>
                        <a:pt x="497" y="299"/>
                      </a:lnTo>
                      <a:lnTo>
                        <a:pt x="503" y="279"/>
                      </a:lnTo>
                      <a:lnTo>
                        <a:pt x="0" y="28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8" name=""/>
                <p:cNvSpPr/>
                <p:nvPr/>
              </p:nvSpPr>
              <p:spPr>
                <a:xfrm>
                  <a:off x="938160" y="5133960"/>
                  <a:ext cx="798480" cy="795600"/>
                </a:xfrm>
                <a:custGeom>
                  <a:avLst/>
                  <a:gdLst/>
                  <a:ahLst/>
                  <a:rect l="l" t="t" r="r" b="b"/>
                  <a:pathLst>
                    <a:path w="503" h="501">
                      <a:moveTo>
                        <a:pt x="0" y="284"/>
                      </a:moveTo>
                      <a:lnTo>
                        <a:pt x="0" y="268"/>
                      </a:lnTo>
                      <a:lnTo>
                        <a:pt x="6" y="238"/>
                      </a:lnTo>
                      <a:lnTo>
                        <a:pt x="11" y="208"/>
                      </a:lnTo>
                      <a:lnTo>
                        <a:pt x="17" y="177"/>
                      </a:lnTo>
                      <a:lnTo>
                        <a:pt x="23" y="147"/>
                      </a:lnTo>
                      <a:lnTo>
                        <a:pt x="29" y="127"/>
                      </a:lnTo>
                      <a:lnTo>
                        <a:pt x="29" y="107"/>
                      </a:lnTo>
                      <a:lnTo>
                        <a:pt x="35" y="86"/>
                      </a:lnTo>
                      <a:lnTo>
                        <a:pt x="40" y="71"/>
                      </a:lnTo>
                      <a:lnTo>
                        <a:pt x="46" y="51"/>
                      </a:lnTo>
                      <a:lnTo>
                        <a:pt x="52" y="36"/>
                      </a:lnTo>
                      <a:lnTo>
                        <a:pt x="52" y="31"/>
                      </a:lnTo>
                      <a:lnTo>
                        <a:pt x="58" y="20"/>
                      </a:lnTo>
                      <a:lnTo>
                        <a:pt x="63" y="5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81" y="0"/>
                      </a:lnTo>
                      <a:lnTo>
                        <a:pt x="87" y="0"/>
                      </a:lnTo>
                      <a:lnTo>
                        <a:pt x="92" y="15"/>
                      </a:lnTo>
                      <a:lnTo>
                        <a:pt x="98" y="20"/>
                      </a:lnTo>
                      <a:lnTo>
                        <a:pt x="98" y="26"/>
                      </a:lnTo>
                      <a:lnTo>
                        <a:pt x="104" y="46"/>
                      </a:lnTo>
                      <a:lnTo>
                        <a:pt x="110" y="61"/>
                      </a:lnTo>
                      <a:lnTo>
                        <a:pt x="110" y="71"/>
                      </a:lnTo>
                      <a:lnTo>
                        <a:pt x="115" y="91"/>
                      </a:lnTo>
                      <a:lnTo>
                        <a:pt x="115" y="107"/>
                      </a:lnTo>
                      <a:lnTo>
                        <a:pt x="121" y="137"/>
                      </a:lnTo>
                      <a:lnTo>
                        <a:pt x="127" y="162"/>
                      </a:lnTo>
                      <a:lnTo>
                        <a:pt x="127" y="182"/>
                      </a:lnTo>
                      <a:lnTo>
                        <a:pt x="133" y="213"/>
                      </a:lnTo>
                      <a:lnTo>
                        <a:pt x="133" y="228"/>
                      </a:lnTo>
                      <a:lnTo>
                        <a:pt x="133" y="243"/>
                      </a:lnTo>
                      <a:lnTo>
                        <a:pt x="139" y="274"/>
                      </a:lnTo>
                      <a:lnTo>
                        <a:pt x="144" y="299"/>
                      </a:lnTo>
                      <a:lnTo>
                        <a:pt x="144" y="319"/>
                      </a:lnTo>
                      <a:lnTo>
                        <a:pt x="150" y="349"/>
                      </a:lnTo>
                      <a:lnTo>
                        <a:pt x="150" y="365"/>
                      </a:lnTo>
                      <a:lnTo>
                        <a:pt x="156" y="385"/>
                      </a:lnTo>
                      <a:lnTo>
                        <a:pt x="162" y="410"/>
                      </a:lnTo>
                      <a:lnTo>
                        <a:pt x="162" y="420"/>
                      </a:lnTo>
                      <a:lnTo>
                        <a:pt x="167" y="436"/>
                      </a:lnTo>
                      <a:lnTo>
                        <a:pt x="173" y="456"/>
                      </a:lnTo>
                      <a:lnTo>
                        <a:pt x="173" y="461"/>
                      </a:lnTo>
                      <a:lnTo>
                        <a:pt x="179" y="476"/>
                      </a:lnTo>
                      <a:lnTo>
                        <a:pt x="185" y="486"/>
                      </a:lnTo>
                      <a:lnTo>
                        <a:pt x="191" y="496"/>
                      </a:lnTo>
                      <a:lnTo>
                        <a:pt x="196" y="501"/>
                      </a:lnTo>
                      <a:lnTo>
                        <a:pt x="202" y="501"/>
                      </a:lnTo>
                      <a:lnTo>
                        <a:pt x="196" y="501"/>
                      </a:lnTo>
                      <a:lnTo>
                        <a:pt x="202" y="501"/>
                      </a:lnTo>
                      <a:lnTo>
                        <a:pt x="208" y="496"/>
                      </a:lnTo>
                      <a:lnTo>
                        <a:pt x="214" y="486"/>
                      </a:lnTo>
                      <a:lnTo>
                        <a:pt x="219" y="481"/>
                      </a:lnTo>
                      <a:lnTo>
                        <a:pt x="219" y="476"/>
                      </a:lnTo>
                      <a:lnTo>
                        <a:pt x="225" y="461"/>
                      </a:lnTo>
                      <a:lnTo>
                        <a:pt x="231" y="451"/>
                      </a:lnTo>
                      <a:lnTo>
                        <a:pt x="231" y="441"/>
                      </a:lnTo>
                      <a:lnTo>
                        <a:pt x="237" y="420"/>
                      </a:lnTo>
                      <a:lnTo>
                        <a:pt x="243" y="405"/>
                      </a:lnTo>
                      <a:lnTo>
                        <a:pt x="243" y="390"/>
                      </a:lnTo>
                      <a:lnTo>
                        <a:pt x="248" y="365"/>
                      </a:lnTo>
                      <a:lnTo>
                        <a:pt x="254" y="344"/>
                      </a:lnTo>
                      <a:lnTo>
                        <a:pt x="254" y="334"/>
                      </a:lnTo>
                      <a:lnTo>
                        <a:pt x="254" y="324"/>
                      </a:lnTo>
                      <a:lnTo>
                        <a:pt x="260" y="304"/>
                      </a:lnTo>
                      <a:lnTo>
                        <a:pt x="266" y="279"/>
                      </a:lnTo>
                      <a:lnTo>
                        <a:pt x="271" y="258"/>
                      </a:lnTo>
                      <a:lnTo>
                        <a:pt x="271" y="243"/>
                      </a:lnTo>
                      <a:lnTo>
                        <a:pt x="277" y="228"/>
                      </a:lnTo>
                      <a:lnTo>
                        <a:pt x="283" y="203"/>
                      </a:lnTo>
                      <a:lnTo>
                        <a:pt x="289" y="193"/>
                      </a:lnTo>
                      <a:lnTo>
                        <a:pt x="289" y="182"/>
                      </a:lnTo>
                      <a:lnTo>
                        <a:pt x="295" y="167"/>
                      </a:lnTo>
                      <a:lnTo>
                        <a:pt x="300" y="157"/>
                      </a:lnTo>
                      <a:lnTo>
                        <a:pt x="300" y="152"/>
                      </a:lnTo>
                      <a:lnTo>
                        <a:pt x="306" y="142"/>
                      </a:lnTo>
                      <a:lnTo>
                        <a:pt x="312" y="132"/>
                      </a:lnTo>
                      <a:lnTo>
                        <a:pt x="318" y="127"/>
                      </a:lnTo>
                      <a:lnTo>
                        <a:pt x="318" y="122"/>
                      </a:lnTo>
                      <a:lnTo>
                        <a:pt x="323" y="122"/>
                      </a:lnTo>
                      <a:lnTo>
                        <a:pt x="329" y="122"/>
                      </a:lnTo>
                      <a:lnTo>
                        <a:pt x="335" y="122"/>
                      </a:lnTo>
                      <a:lnTo>
                        <a:pt x="341" y="127"/>
                      </a:lnTo>
                      <a:lnTo>
                        <a:pt x="347" y="137"/>
                      </a:lnTo>
                      <a:lnTo>
                        <a:pt x="352" y="142"/>
                      </a:lnTo>
                      <a:lnTo>
                        <a:pt x="352" y="147"/>
                      </a:lnTo>
                      <a:lnTo>
                        <a:pt x="358" y="157"/>
                      </a:lnTo>
                      <a:lnTo>
                        <a:pt x="364" y="167"/>
                      </a:lnTo>
                      <a:lnTo>
                        <a:pt x="364" y="177"/>
                      </a:lnTo>
                      <a:lnTo>
                        <a:pt x="370" y="193"/>
                      </a:lnTo>
                      <a:lnTo>
                        <a:pt x="370" y="203"/>
                      </a:lnTo>
                      <a:lnTo>
                        <a:pt x="375" y="218"/>
                      </a:lnTo>
                      <a:lnTo>
                        <a:pt x="381" y="243"/>
                      </a:lnTo>
                      <a:lnTo>
                        <a:pt x="381" y="248"/>
                      </a:lnTo>
                      <a:lnTo>
                        <a:pt x="387" y="268"/>
                      </a:lnTo>
                      <a:lnTo>
                        <a:pt x="393" y="299"/>
                      </a:lnTo>
                      <a:lnTo>
                        <a:pt x="399" y="324"/>
                      </a:lnTo>
                      <a:lnTo>
                        <a:pt x="404" y="344"/>
                      </a:lnTo>
                      <a:lnTo>
                        <a:pt x="416" y="370"/>
                      </a:lnTo>
                      <a:lnTo>
                        <a:pt x="422" y="385"/>
                      </a:lnTo>
                      <a:lnTo>
                        <a:pt x="427" y="390"/>
                      </a:lnTo>
                      <a:lnTo>
                        <a:pt x="439" y="400"/>
                      </a:lnTo>
                      <a:lnTo>
                        <a:pt x="451" y="400"/>
                      </a:lnTo>
                      <a:lnTo>
                        <a:pt x="462" y="390"/>
                      </a:lnTo>
                      <a:lnTo>
                        <a:pt x="468" y="380"/>
                      </a:lnTo>
                      <a:lnTo>
                        <a:pt x="474" y="370"/>
                      </a:lnTo>
                      <a:lnTo>
                        <a:pt x="485" y="344"/>
                      </a:lnTo>
                      <a:lnTo>
                        <a:pt x="491" y="319"/>
                      </a:lnTo>
                      <a:lnTo>
                        <a:pt x="497" y="299"/>
                      </a:lnTo>
                      <a:lnTo>
                        <a:pt x="503" y="27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9" name=""/>
                <p:cNvSpPr/>
                <p:nvPr/>
              </p:nvSpPr>
              <p:spPr>
                <a:xfrm>
                  <a:off x="1727280" y="5415120"/>
                  <a:ext cx="806400" cy="298440"/>
                </a:xfrm>
                <a:custGeom>
                  <a:avLst/>
                  <a:gdLst/>
                  <a:ahLst/>
                  <a:rect l="l" t="t" r="r" b="b"/>
                  <a:pathLst>
                    <a:path w="508" h="188">
                      <a:moveTo>
                        <a:pt x="0" y="107"/>
                      </a:moveTo>
                      <a:lnTo>
                        <a:pt x="6" y="91"/>
                      </a:lnTo>
                      <a:lnTo>
                        <a:pt x="17" y="71"/>
                      </a:lnTo>
                      <a:lnTo>
                        <a:pt x="23" y="56"/>
                      </a:lnTo>
                      <a:lnTo>
                        <a:pt x="34" y="36"/>
                      </a:lnTo>
                      <a:lnTo>
                        <a:pt x="46" y="21"/>
                      </a:lnTo>
                      <a:lnTo>
                        <a:pt x="52" y="16"/>
                      </a:lnTo>
                      <a:lnTo>
                        <a:pt x="57" y="5"/>
                      </a:lnTo>
                      <a:lnTo>
                        <a:pt x="75" y="0"/>
                      </a:lnTo>
                      <a:lnTo>
                        <a:pt x="75" y="0"/>
                      </a:lnTo>
                      <a:lnTo>
                        <a:pt x="86" y="0"/>
                      </a:lnTo>
                      <a:lnTo>
                        <a:pt x="92" y="5"/>
                      </a:lnTo>
                      <a:lnTo>
                        <a:pt x="104" y="11"/>
                      </a:lnTo>
                      <a:lnTo>
                        <a:pt x="109" y="21"/>
                      </a:lnTo>
                      <a:lnTo>
                        <a:pt x="121" y="41"/>
                      </a:lnTo>
                      <a:lnTo>
                        <a:pt x="127" y="51"/>
                      </a:lnTo>
                      <a:lnTo>
                        <a:pt x="133" y="71"/>
                      </a:lnTo>
                      <a:lnTo>
                        <a:pt x="138" y="86"/>
                      </a:lnTo>
                      <a:lnTo>
                        <a:pt x="144" y="102"/>
                      </a:lnTo>
                      <a:lnTo>
                        <a:pt x="150" y="122"/>
                      </a:lnTo>
                      <a:lnTo>
                        <a:pt x="156" y="132"/>
                      </a:lnTo>
                      <a:lnTo>
                        <a:pt x="161" y="152"/>
                      </a:lnTo>
                      <a:lnTo>
                        <a:pt x="173" y="167"/>
                      </a:lnTo>
                      <a:lnTo>
                        <a:pt x="179" y="178"/>
                      </a:lnTo>
                      <a:lnTo>
                        <a:pt x="185" y="178"/>
                      </a:lnTo>
                      <a:lnTo>
                        <a:pt x="196" y="188"/>
                      </a:lnTo>
                      <a:lnTo>
                        <a:pt x="196" y="188"/>
                      </a:lnTo>
                      <a:lnTo>
                        <a:pt x="208" y="188"/>
                      </a:lnTo>
                      <a:lnTo>
                        <a:pt x="219" y="183"/>
                      </a:lnTo>
                      <a:lnTo>
                        <a:pt x="225" y="178"/>
                      </a:lnTo>
                      <a:lnTo>
                        <a:pt x="231" y="167"/>
                      </a:lnTo>
                      <a:lnTo>
                        <a:pt x="237" y="157"/>
                      </a:lnTo>
                      <a:lnTo>
                        <a:pt x="242" y="147"/>
                      </a:lnTo>
                      <a:lnTo>
                        <a:pt x="248" y="127"/>
                      </a:lnTo>
                      <a:lnTo>
                        <a:pt x="254" y="117"/>
                      </a:lnTo>
                      <a:lnTo>
                        <a:pt x="260" y="107"/>
                      </a:lnTo>
                      <a:lnTo>
                        <a:pt x="265" y="86"/>
                      </a:lnTo>
                      <a:lnTo>
                        <a:pt x="271" y="76"/>
                      </a:lnTo>
                      <a:lnTo>
                        <a:pt x="277" y="66"/>
                      </a:lnTo>
                      <a:lnTo>
                        <a:pt x="289" y="46"/>
                      </a:lnTo>
                      <a:lnTo>
                        <a:pt x="294" y="41"/>
                      </a:lnTo>
                      <a:lnTo>
                        <a:pt x="300" y="36"/>
                      </a:lnTo>
                      <a:lnTo>
                        <a:pt x="312" y="31"/>
                      </a:lnTo>
                      <a:lnTo>
                        <a:pt x="312" y="31"/>
                      </a:lnTo>
                      <a:lnTo>
                        <a:pt x="323" y="31"/>
                      </a:lnTo>
                      <a:lnTo>
                        <a:pt x="329" y="31"/>
                      </a:lnTo>
                      <a:lnTo>
                        <a:pt x="335" y="36"/>
                      </a:lnTo>
                      <a:lnTo>
                        <a:pt x="346" y="46"/>
                      </a:lnTo>
                      <a:lnTo>
                        <a:pt x="352" y="56"/>
                      </a:lnTo>
                      <a:lnTo>
                        <a:pt x="358" y="61"/>
                      </a:lnTo>
                      <a:lnTo>
                        <a:pt x="364" y="76"/>
                      </a:lnTo>
                      <a:lnTo>
                        <a:pt x="369" y="86"/>
                      </a:lnTo>
                      <a:lnTo>
                        <a:pt x="375" y="97"/>
                      </a:lnTo>
                      <a:lnTo>
                        <a:pt x="381" y="107"/>
                      </a:lnTo>
                      <a:lnTo>
                        <a:pt x="387" y="117"/>
                      </a:lnTo>
                      <a:lnTo>
                        <a:pt x="398" y="132"/>
                      </a:lnTo>
                      <a:lnTo>
                        <a:pt x="404" y="137"/>
                      </a:lnTo>
                      <a:lnTo>
                        <a:pt x="416" y="147"/>
                      </a:lnTo>
                      <a:lnTo>
                        <a:pt x="427" y="152"/>
                      </a:lnTo>
                      <a:lnTo>
                        <a:pt x="427" y="152"/>
                      </a:lnTo>
                      <a:lnTo>
                        <a:pt x="439" y="152"/>
                      </a:lnTo>
                      <a:lnTo>
                        <a:pt x="450" y="152"/>
                      </a:lnTo>
                      <a:lnTo>
                        <a:pt x="456" y="152"/>
                      </a:lnTo>
                      <a:lnTo>
                        <a:pt x="462" y="147"/>
                      </a:lnTo>
                      <a:lnTo>
                        <a:pt x="479" y="137"/>
                      </a:lnTo>
                      <a:lnTo>
                        <a:pt x="485" y="127"/>
                      </a:lnTo>
                      <a:lnTo>
                        <a:pt x="497" y="117"/>
                      </a:lnTo>
                      <a:lnTo>
                        <a:pt x="502" y="112"/>
                      </a:lnTo>
                      <a:lnTo>
                        <a:pt x="508" y="102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0" name=""/>
                <p:cNvSpPr/>
                <p:nvPr/>
              </p:nvSpPr>
              <p:spPr>
                <a:xfrm>
                  <a:off x="1727280" y="5415120"/>
                  <a:ext cx="806400" cy="298440"/>
                </a:xfrm>
                <a:custGeom>
                  <a:avLst/>
                  <a:gdLst/>
                  <a:ahLst/>
                  <a:rect l="l" t="t" r="r" b="b"/>
                  <a:pathLst>
                    <a:path w="508" h="188">
                      <a:moveTo>
                        <a:pt x="0" y="107"/>
                      </a:moveTo>
                      <a:lnTo>
                        <a:pt x="6" y="91"/>
                      </a:lnTo>
                      <a:lnTo>
                        <a:pt x="17" y="71"/>
                      </a:lnTo>
                      <a:lnTo>
                        <a:pt x="23" y="56"/>
                      </a:lnTo>
                      <a:lnTo>
                        <a:pt x="34" y="36"/>
                      </a:lnTo>
                      <a:lnTo>
                        <a:pt x="46" y="21"/>
                      </a:lnTo>
                      <a:lnTo>
                        <a:pt x="52" y="16"/>
                      </a:lnTo>
                      <a:lnTo>
                        <a:pt x="57" y="5"/>
                      </a:lnTo>
                      <a:lnTo>
                        <a:pt x="75" y="0"/>
                      </a:lnTo>
                      <a:lnTo>
                        <a:pt x="86" y="0"/>
                      </a:lnTo>
                      <a:lnTo>
                        <a:pt x="92" y="5"/>
                      </a:lnTo>
                      <a:lnTo>
                        <a:pt x="104" y="11"/>
                      </a:lnTo>
                      <a:lnTo>
                        <a:pt x="109" y="21"/>
                      </a:lnTo>
                      <a:lnTo>
                        <a:pt x="121" y="41"/>
                      </a:lnTo>
                      <a:lnTo>
                        <a:pt x="127" y="51"/>
                      </a:lnTo>
                      <a:lnTo>
                        <a:pt x="133" y="71"/>
                      </a:lnTo>
                      <a:lnTo>
                        <a:pt x="138" y="86"/>
                      </a:lnTo>
                      <a:lnTo>
                        <a:pt x="144" y="102"/>
                      </a:lnTo>
                      <a:lnTo>
                        <a:pt x="150" y="122"/>
                      </a:lnTo>
                      <a:lnTo>
                        <a:pt x="156" y="132"/>
                      </a:lnTo>
                      <a:lnTo>
                        <a:pt x="161" y="152"/>
                      </a:lnTo>
                      <a:lnTo>
                        <a:pt x="173" y="167"/>
                      </a:lnTo>
                      <a:lnTo>
                        <a:pt x="179" y="178"/>
                      </a:lnTo>
                      <a:lnTo>
                        <a:pt x="185" y="178"/>
                      </a:lnTo>
                      <a:lnTo>
                        <a:pt x="196" y="188"/>
                      </a:lnTo>
                      <a:lnTo>
                        <a:pt x="208" y="188"/>
                      </a:lnTo>
                      <a:lnTo>
                        <a:pt x="219" y="183"/>
                      </a:lnTo>
                      <a:lnTo>
                        <a:pt x="225" y="178"/>
                      </a:lnTo>
                      <a:lnTo>
                        <a:pt x="231" y="167"/>
                      </a:lnTo>
                      <a:lnTo>
                        <a:pt x="237" y="157"/>
                      </a:lnTo>
                      <a:lnTo>
                        <a:pt x="242" y="147"/>
                      </a:lnTo>
                      <a:lnTo>
                        <a:pt x="248" y="127"/>
                      </a:lnTo>
                      <a:lnTo>
                        <a:pt x="254" y="117"/>
                      </a:lnTo>
                      <a:lnTo>
                        <a:pt x="260" y="107"/>
                      </a:lnTo>
                      <a:lnTo>
                        <a:pt x="265" y="86"/>
                      </a:lnTo>
                      <a:lnTo>
                        <a:pt x="271" y="76"/>
                      </a:lnTo>
                      <a:lnTo>
                        <a:pt x="277" y="66"/>
                      </a:lnTo>
                      <a:lnTo>
                        <a:pt x="289" y="46"/>
                      </a:lnTo>
                      <a:lnTo>
                        <a:pt x="294" y="41"/>
                      </a:lnTo>
                      <a:lnTo>
                        <a:pt x="300" y="36"/>
                      </a:lnTo>
                      <a:lnTo>
                        <a:pt x="312" y="31"/>
                      </a:lnTo>
                      <a:lnTo>
                        <a:pt x="323" y="31"/>
                      </a:lnTo>
                      <a:lnTo>
                        <a:pt x="329" y="31"/>
                      </a:lnTo>
                      <a:lnTo>
                        <a:pt x="335" y="36"/>
                      </a:lnTo>
                      <a:lnTo>
                        <a:pt x="346" y="46"/>
                      </a:lnTo>
                      <a:lnTo>
                        <a:pt x="352" y="56"/>
                      </a:lnTo>
                      <a:lnTo>
                        <a:pt x="358" y="61"/>
                      </a:lnTo>
                      <a:lnTo>
                        <a:pt x="364" y="76"/>
                      </a:lnTo>
                      <a:lnTo>
                        <a:pt x="369" y="86"/>
                      </a:lnTo>
                      <a:lnTo>
                        <a:pt x="375" y="97"/>
                      </a:lnTo>
                      <a:lnTo>
                        <a:pt x="381" y="107"/>
                      </a:lnTo>
                      <a:lnTo>
                        <a:pt x="387" y="117"/>
                      </a:lnTo>
                      <a:lnTo>
                        <a:pt x="398" y="132"/>
                      </a:lnTo>
                      <a:lnTo>
                        <a:pt x="404" y="137"/>
                      </a:lnTo>
                      <a:lnTo>
                        <a:pt x="416" y="147"/>
                      </a:lnTo>
                      <a:lnTo>
                        <a:pt x="427" y="152"/>
                      </a:lnTo>
                      <a:lnTo>
                        <a:pt x="439" y="152"/>
                      </a:lnTo>
                      <a:lnTo>
                        <a:pt x="450" y="152"/>
                      </a:lnTo>
                      <a:lnTo>
                        <a:pt x="456" y="152"/>
                      </a:lnTo>
                      <a:lnTo>
                        <a:pt x="462" y="147"/>
                      </a:lnTo>
                      <a:lnTo>
                        <a:pt x="479" y="137"/>
                      </a:lnTo>
                      <a:lnTo>
                        <a:pt x="485" y="127"/>
                      </a:lnTo>
                      <a:lnTo>
                        <a:pt x="497" y="117"/>
                      </a:lnTo>
                      <a:lnTo>
                        <a:pt x="502" y="112"/>
                      </a:lnTo>
                      <a:lnTo>
                        <a:pt x="508" y="10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1" name=""/>
              <p:cNvGrpSpPr/>
              <p:nvPr/>
            </p:nvGrpSpPr>
            <p:grpSpPr>
              <a:xfrm>
                <a:off x="746280" y="4950000"/>
                <a:ext cx="1989000" cy="979560"/>
                <a:chOff x="746280" y="4950000"/>
                <a:chExt cx="1989000" cy="979560"/>
              </a:xfrm>
            </p:grpSpPr>
            <p:grpSp>
              <p:nvGrpSpPr>
                <p:cNvPr id="4952" name=""/>
                <p:cNvGrpSpPr/>
                <p:nvPr/>
              </p:nvGrpSpPr>
              <p:grpSpPr>
                <a:xfrm>
                  <a:off x="855720" y="4950000"/>
                  <a:ext cx="55440" cy="729720"/>
                  <a:chOff x="855720" y="4950000"/>
                  <a:chExt cx="55440" cy="729720"/>
                </a:xfrm>
              </p:grpSpPr>
              <p:sp>
                <p:nvSpPr>
                  <p:cNvPr id="4953" name=""/>
                  <p:cNvSpPr/>
                  <p:nvPr/>
                </p:nvSpPr>
                <p:spPr>
                  <a:xfrm>
                    <a:off x="855720" y="4950000"/>
                    <a:ext cx="5544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1">
                        <a:moveTo>
                          <a:pt x="17" y="0"/>
                        </a:moveTo>
                        <a:lnTo>
                          <a:pt x="35" y="61"/>
                        </a:lnTo>
                        <a:lnTo>
                          <a:pt x="17" y="61"/>
                        </a:lnTo>
                        <a:lnTo>
                          <a:pt x="0" y="61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4" name=""/>
                  <p:cNvSpPr/>
                  <p:nvPr/>
                </p:nvSpPr>
                <p:spPr>
                  <a:xfrm flipV="1">
                    <a:off x="882720" y="5046480"/>
                    <a:ext cx="1440" cy="633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55" name=""/>
                <p:cNvSpPr/>
                <p:nvPr/>
              </p:nvSpPr>
              <p:spPr>
                <a:xfrm>
                  <a:off x="984240" y="5094360"/>
                  <a:ext cx="1440000" cy="409680"/>
                </a:xfrm>
                <a:custGeom>
                  <a:avLst/>
                  <a:gdLst/>
                  <a:ahLst/>
                  <a:rect l="l" t="t" r="r" b="b"/>
                  <a:pathLst>
                    <a:path w="907" h="258">
                      <a:moveTo>
                        <a:pt x="0" y="0"/>
                      </a:moveTo>
                      <a:lnTo>
                        <a:pt x="34" y="20"/>
                      </a:lnTo>
                      <a:lnTo>
                        <a:pt x="92" y="56"/>
                      </a:lnTo>
                      <a:lnTo>
                        <a:pt x="150" y="86"/>
                      </a:lnTo>
                      <a:lnTo>
                        <a:pt x="196" y="111"/>
                      </a:lnTo>
                      <a:lnTo>
                        <a:pt x="248" y="137"/>
                      </a:lnTo>
                      <a:lnTo>
                        <a:pt x="283" y="152"/>
                      </a:lnTo>
                      <a:lnTo>
                        <a:pt x="323" y="167"/>
                      </a:lnTo>
                      <a:lnTo>
                        <a:pt x="358" y="177"/>
                      </a:lnTo>
                      <a:lnTo>
                        <a:pt x="375" y="182"/>
                      </a:lnTo>
                      <a:lnTo>
                        <a:pt x="381" y="182"/>
                      </a:lnTo>
                      <a:lnTo>
                        <a:pt x="404" y="187"/>
                      </a:lnTo>
                      <a:lnTo>
                        <a:pt x="422" y="192"/>
                      </a:lnTo>
                      <a:lnTo>
                        <a:pt x="439" y="192"/>
                      </a:lnTo>
                      <a:lnTo>
                        <a:pt x="462" y="197"/>
                      </a:lnTo>
                      <a:lnTo>
                        <a:pt x="491" y="202"/>
                      </a:lnTo>
                      <a:lnTo>
                        <a:pt x="525" y="207"/>
                      </a:lnTo>
                      <a:lnTo>
                        <a:pt x="554" y="213"/>
                      </a:lnTo>
                      <a:lnTo>
                        <a:pt x="589" y="218"/>
                      </a:lnTo>
                      <a:lnTo>
                        <a:pt x="624" y="223"/>
                      </a:lnTo>
                      <a:lnTo>
                        <a:pt x="664" y="228"/>
                      </a:lnTo>
                      <a:lnTo>
                        <a:pt x="699" y="233"/>
                      </a:lnTo>
                      <a:lnTo>
                        <a:pt x="745" y="238"/>
                      </a:lnTo>
                      <a:lnTo>
                        <a:pt x="785" y="243"/>
                      </a:lnTo>
                      <a:lnTo>
                        <a:pt x="832" y="248"/>
                      </a:lnTo>
                      <a:lnTo>
                        <a:pt x="878" y="253"/>
                      </a:lnTo>
                      <a:lnTo>
                        <a:pt x="907" y="25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56" name=""/>
                <p:cNvGrpSpPr/>
                <p:nvPr/>
              </p:nvGrpSpPr>
              <p:grpSpPr>
                <a:xfrm>
                  <a:off x="882720" y="5133960"/>
                  <a:ext cx="1595520" cy="795600"/>
                  <a:chOff x="882720" y="5133960"/>
                  <a:chExt cx="1595520" cy="795600"/>
                </a:xfrm>
              </p:grpSpPr>
              <p:sp>
                <p:nvSpPr>
                  <p:cNvPr id="4957" name=""/>
                  <p:cNvSpPr/>
                  <p:nvPr/>
                </p:nvSpPr>
                <p:spPr>
                  <a:xfrm>
                    <a:off x="882720" y="5133960"/>
                    <a:ext cx="808200" cy="795600"/>
                  </a:xfrm>
                  <a:custGeom>
                    <a:avLst/>
                    <a:gdLst/>
                    <a:ahLst/>
                    <a:rect l="l" t="t" r="r" b="b"/>
                    <a:pathLst>
                      <a:path w="509" h="501">
                        <a:moveTo>
                          <a:pt x="0" y="284"/>
                        </a:moveTo>
                        <a:lnTo>
                          <a:pt x="0" y="268"/>
                        </a:lnTo>
                        <a:lnTo>
                          <a:pt x="6" y="238"/>
                        </a:lnTo>
                        <a:lnTo>
                          <a:pt x="12" y="208"/>
                        </a:lnTo>
                        <a:lnTo>
                          <a:pt x="18" y="177"/>
                        </a:lnTo>
                        <a:lnTo>
                          <a:pt x="23" y="147"/>
                        </a:lnTo>
                        <a:lnTo>
                          <a:pt x="29" y="127"/>
                        </a:lnTo>
                        <a:lnTo>
                          <a:pt x="35" y="101"/>
                        </a:lnTo>
                        <a:lnTo>
                          <a:pt x="35" y="86"/>
                        </a:lnTo>
                        <a:lnTo>
                          <a:pt x="41" y="71"/>
                        </a:lnTo>
                        <a:lnTo>
                          <a:pt x="46" y="51"/>
                        </a:lnTo>
                        <a:lnTo>
                          <a:pt x="52" y="36"/>
                        </a:lnTo>
                        <a:lnTo>
                          <a:pt x="58" y="26"/>
                        </a:lnTo>
                        <a:lnTo>
                          <a:pt x="58" y="20"/>
                        </a:lnTo>
                        <a:lnTo>
                          <a:pt x="64" y="10"/>
                        </a:lnTo>
                        <a:lnTo>
                          <a:pt x="70" y="0"/>
                        </a:lnTo>
                        <a:lnTo>
                          <a:pt x="75" y="0"/>
                        </a:lnTo>
                        <a:lnTo>
                          <a:pt x="87" y="0"/>
                        </a:lnTo>
                        <a:lnTo>
                          <a:pt x="81" y="0"/>
                        </a:lnTo>
                        <a:lnTo>
                          <a:pt x="93" y="5"/>
                        </a:lnTo>
                        <a:lnTo>
                          <a:pt x="93" y="10"/>
                        </a:lnTo>
                        <a:lnTo>
                          <a:pt x="98" y="15"/>
                        </a:lnTo>
                        <a:lnTo>
                          <a:pt x="104" y="31"/>
                        </a:lnTo>
                        <a:lnTo>
                          <a:pt x="104" y="41"/>
                        </a:lnTo>
                        <a:lnTo>
                          <a:pt x="110" y="56"/>
                        </a:lnTo>
                        <a:lnTo>
                          <a:pt x="116" y="76"/>
                        </a:lnTo>
                        <a:lnTo>
                          <a:pt x="116" y="86"/>
                        </a:lnTo>
                        <a:lnTo>
                          <a:pt x="122" y="107"/>
                        </a:lnTo>
                        <a:lnTo>
                          <a:pt x="127" y="137"/>
                        </a:lnTo>
                        <a:lnTo>
                          <a:pt x="127" y="157"/>
                        </a:lnTo>
                        <a:lnTo>
                          <a:pt x="133" y="182"/>
                        </a:lnTo>
                        <a:lnTo>
                          <a:pt x="139" y="213"/>
                        </a:lnTo>
                        <a:lnTo>
                          <a:pt x="139" y="228"/>
                        </a:lnTo>
                        <a:lnTo>
                          <a:pt x="139" y="243"/>
                        </a:lnTo>
                        <a:lnTo>
                          <a:pt x="145" y="274"/>
                        </a:lnTo>
                        <a:lnTo>
                          <a:pt x="150" y="299"/>
                        </a:lnTo>
                        <a:lnTo>
                          <a:pt x="150" y="319"/>
                        </a:lnTo>
                        <a:lnTo>
                          <a:pt x="156" y="349"/>
                        </a:lnTo>
                        <a:lnTo>
                          <a:pt x="156" y="365"/>
                        </a:lnTo>
                        <a:lnTo>
                          <a:pt x="162" y="385"/>
                        </a:lnTo>
                        <a:lnTo>
                          <a:pt x="168" y="410"/>
                        </a:lnTo>
                        <a:lnTo>
                          <a:pt x="168" y="420"/>
                        </a:lnTo>
                        <a:lnTo>
                          <a:pt x="174" y="436"/>
                        </a:lnTo>
                        <a:lnTo>
                          <a:pt x="179" y="456"/>
                        </a:lnTo>
                        <a:lnTo>
                          <a:pt x="179" y="461"/>
                        </a:lnTo>
                        <a:lnTo>
                          <a:pt x="185" y="476"/>
                        </a:lnTo>
                        <a:lnTo>
                          <a:pt x="191" y="486"/>
                        </a:lnTo>
                        <a:lnTo>
                          <a:pt x="197" y="496"/>
                        </a:lnTo>
                        <a:lnTo>
                          <a:pt x="202" y="501"/>
                        </a:lnTo>
                        <a:lnTo>
                          <a:pt x="208" y="501"/>
                        </a:lnTo>
                        <a:lnTo>
                          <a:pt x="202" y="501"/>
                        </a:lnTo>
                        <a:lnTo>
                          <a:pt x="208" y="501"/>
                        </a:lnTo>
                        <a:lnTo>
                          <a:pt x="214" y="496"/>
                        </a:lnTo>
                        <a:lnTo>
                          <a:pt x="220" y="486"/>
                        </a:lnTo>
                        <a:lnTo>
                          <a:pt x="226" y="481"/>
                        </a:lnTo>
                        <a:lnTo>
                          <a:pt x="226" y="476"/>
                        </a:lnTo>
                        <a:lnTo>
                          <a:pt x="231" y="461"/>
                        </a:lnTo>
                        <a:lnTo>
                          <a:pt x="237" y="451"/>
                        </a:lnTo>
                        <a:lnTo>
                          <a:pt x="237" y="441"/>
                        </a:lnTo>
                        <a:lnTo>
                          <a:pt x="243" y="420"/>
                        </a:lnTo>
                        <a:lnTo>
                          <a:pt x="249" y="405"/>
                        </a:lnTo>
                        <a:lnTo>
                          <a:pt x="249" y="390"/>
                        </a:lnTo>
                        <a:lnTo>
                          <a:pt x="254" y="365"/>
                        </a:lnTo>
                        <a:lnTo>
                          <a:pt x="260" y="344"/>
                        </a:lnTo>
                        <a:lnTo>
                          <a:pt x="260" y="334"/>
                        </a:lnTo>
                        <a:lnTo>
                          <a:pt x="260" y="324"/>
                        </a:lnTo>
                        <a:lnTo>
                          <a:pt x="266" y="304"/>
                        </a:lnTo>
                        <a:lnTo>
                          <a:pt x="272" y="279"/>
                        </a:lnTo>
                        <a:lnTo>
                          <a:pt x="272" y="263"/>
                        </a:lnTo>
                        <a:lnTo>
                          <a:pt x="278" y="243"/>
                        </a:lnTo>
                        <a:lnTo>
                          <a:pt x="283" y="223"/>
                        </a:lnTo>
                        <a:lnTo>
                          <a:pt x="283" y="208"/>
                        </a:lnTo>
                        <a:lnTo>
                          <a:pt x="289" y="198"/>
                        </a:lnTo>
                        <a:lnTo>
                          <a:pt x="295" y="177"/>
                        </a:lnTo>
                        <a:lnTo>
                          <a:pt x="301" y="167"/>
                        </a:lnTo>
                        <a:lnTo>
                          <a:pt x="301" y="162"/>
                        </a:lnTo>
                        <a:lnTo>
                          <a:pt x="306" y="147"/>
                        </a:lnTo>
                        <a:lnTo>
                          <a:pt x="312" y="137"/>
                        </a:lnTo>
                        <a:lnTo>
                          <a:pt x="318" y="127"/>
                        </a:lnTo>
                        <a:lnTo>
                          <a:pt x="324" y="122"/>
                        </a:lnTo>
                        <a:lnTo>
                          <a:pt x="330" y="122"/>
                        </a:lnTo>
                        <a:lnTo>
                          <a:pt x="341" y="122"/>
                        </a:lnTo>
                        <a:lnTo>
                          <a:pt x="347" y="132"/>
                        </a:lnTo>
                        <a:lnTo>
                          <a:pt x="353" y="137"/>
                        </a:lnTo>
                        <a:lnTo>
                          <a:pt x="358" y="152"/>
                        </a:lnTo>
                        <a:lnTo>
                          <a:pt x="364" y="157"/>
                        </a:lnTo>
                        <a:lnTo>
                          <a:pt x="364" y="162"/>
                        </a:lnTo>
                        <a:lnTo>
                          <a:pt x="370" y="182"/>
                        </a:lnTo>
                        <a:lnTo>
                          <a:pt x="376" y="193"/>
                        </a:lnTo>
                        <a:lnTo>
                          <a:pt x="376" y="203"/>
                        </a:lnTo>
                        <a:lnTo>
                          <a:pt x="382" y="223"/>
                        </a:lnTo>
                        <a:lnTo>
                          <a:pt x="387" y="243"/>
                        </a:lnTo>
                        <a:lnTo>
                          <a:pt x="387" y="248"/>
                        </a:lnTo>
                        <a:lnTo>
                          <a:pt x="393" y="268"/>
                        </a:lnTo>
                        <a:lnTo>
                          <a:pt x="399" y="304"/>
                        </a:lnTo>
                        <a:lnTo>
                          <a:pt x="405" y="324"/>
                        </a:lnTo>
                        <a:lnTo>
                          <a:pt x="410" y="349"/>
                        </a:lnTo>
                        <a:lnTo>
                          <a:pt x="422" y="375"/>
                        </a:lnTo>
                        <a:lnTo>
                          <a:pt x="428" y="385"/>
                        </a:lnTo>
                        <a:lnTo>
                          <a:pt x="434" y="395"/>
                        </a:lnTo>
                        <a:lnTo>
                          <a:pt x="439" y="400"/>
                        </a:lnTo>
                        <a:lnTo>
                          <a:pt x="451" y="405"/>
                        </a:lnTo>
                        <a:lnTo>
                          <a:pt x="462" y="400"/>
                        </a:lnTo>
                        <a:lnTo>
                          <a:pt x="468" y="390"/>
                        </a:lnTo>
                        <a:lnTo>
                          <a:pt x="474" y="380"/>
                        </a:lnTo>
                        <a:lnTo>
                          <a:pt x="480" y="370"/>
                        </a:lnTo>
                        <a:lnTo>
                          <a:pt x="491" y="344"/>
                        </a:lnTo>
                        <a:lnTo>
                          <a:pt x="497" y="319"/>
                        </a:lnTo>
                        <a:lnTo>
                          <a:pt x="503" y="299"/>
                        </a:lnTo>
                        <a:lnTo>
                          <a:pt x="509" y="279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8" name=""/>
                  <p:cNvSpPr/>
                  <p:nvPr/>
                </p:nvSpPr>
                <p:spPr>
                  <a:xfrm>
                    <a:off x="1681200" y="5415120"/>
                    <a:ext cx="7970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502" h="188">
                        <a:moveTo>
                          <a:pt x="0" y="107"/>
                        </a:moveTo>
                        <a:lnTo>
                          <a:pt x="6" y="91"/>
                        </a:lnTo>
                        <a:lnTo>
                          <a:pt x="17" y="71"/>
                        </a:lnTo>
                        <a:lnTo>
                          <a:pt x="23" y="56"/>
                        </a:lnTo>
                        <a:lnTo>
                          <a:pt x="35" y="36"/>
                        </a:lnTo>
                        <a:lnTo>
                          <a:pt x="46" y="21"/>
                        </a:lnTo>
                        <a:lnTo>
                          <a:pt x="52" y="16"/>
                        </a:lnTo>
                        <a:lnTo>
                          <a:pt x="63" y="5"/>
                        </a:lnTo>
                        <a:lnTo>
                          <a:pt x="75" y="0"/>
                        </a:lnTo>
                        <a:lnTo>
                          <a:pt x="81" y="0"/>
                        </a:lnTo>
                        <a:lnTo>
                          <a:pt x="92" y="5"/>
                        </a:lnTo>
                        <a:lnTo>
                          <a:pt x="98" y="11"/>
                        </a:lnTo>
                        <a:lnTo>
                          <a:pt x="104" y="16"/>
                        </a:lnTo>
                        <a:lnTo>
                          <a:pt x="110" y="26"/>
                        </a:lnTo>
                        <a:lnTo>
                          <a:pt x="121" y="46"/>
                        </a:lnTo>
                        <a:lnTo>
                          <a:pt x="127" y="56"/>
                        </a:lnTo>
                        <a:lnTo>
                          <a:pt x="133" y="76"/>
                        </a:lnTo>
                        <a:lnTo>
                          <a:pt x="138" y="91"/>
                        </a:lnTo>
                        <a:lnTo>
                          <a:pt x="144" y="107"/>
                        </a:lnTo>
                        <a:lnTo>
                          <a:pt x="150" y="127"/>
                        </a:lnTo>
                        <a:lnTo>
                          <a:pt x="156" y="137"/>
                        </a:lnTo>
                        <a:lnTo>
                          <a:pt x="162" y="152"/>
                        </a:lnTo>
                        <a:lnTo>
                          <a:pt x="173" y="172"/>
                        </a:lnTo>
                        <a:lnTo>
                          <a:pt x="179" y="178"/>
                        </a:lnTo>
                        <a:lnTo>
                          <a:pt x="185" y="183"/>
                        </a:lnTo>
                        <a:lnTo>
                          <a:pt x="190" y="188"/>
                        </a:lnTo>
                        <a:lnTo>
                          <a:pt x="196" y="188"/>
                        </a:lnTo>
                        <a:lnTo>
                          <a:pt x="208" y="188"/>
                        </a:lnTo>
                        <a:lnTo>
                          <a:pt x="219" y="183"/>
                        </a:lnTo>
                        <a:lnTo>
                          <a:pt x="231" y="167"/>
                        </a:lnTo>
                        <a:lnTo>
                          <a:pt x="237" y="157"/>
                        </a:lnTo>
                        <a:lnTo>
                          <a:pt x="242" y="147"/>
                        </a:lnTo>
                        <a:lnTo>
                          <a:pt x="248" y="127"/>
                        </a:lnTo>
                        <a:lnTo>
                          <a:pt x="254" y="117"/>
                        </a:lnTo>
                        <a:lnTo>
                          <a:pt x="260" y="107"/>
                        </a:lnTo>
                        <a:lnTo>
                          <a:pt x="266" y="86"/>
                        </a:lnTo>
                        <a:lnTo>
                          <a:pt x="271" y="71"/>
                        </a:lnTo>
                        <a:lnTo>
                          <a:pt x="277" y="66"/>
                        </a:lnTo>
                        <a:lnTo>
                          <a:pt x="283" y="51"/>
                        </a:lnTo>
                        <a:lnTo>
                          <a:pt x="289" y="46"/>
                        </a:lnTo>
                        <a:lnTo>
                          <a:pt x="300" y="36"/>
                        </a:lnTo>
                        <a:lnTo>
                          <a:pt x="306" y="31"/>
                        </a:lnTo>
                        <a:lnTo>
                          <a:pt x="312" y="31"/>
                        </a:lnTo>
                        <a:lnTo>
                          <a:pt x="323" y="31"/>
                        </a:lnTo>
                        <a:lnTo>
                          <a:pt x="329" y="36"/>
                        </a:lnTo>
                        <a:lnTo>
                          <a:pt x="341" y="41"/>
                        </a:lnTo>
                        <a:lnTo>
                          <a:pt x="352" y="56"/>
                        </a:lnTo>
                        <a:lnTo>
                          <a:pt x="358" y="66"/>
                        </a:lnTo>
                        <a:lnTo>
                          <a:pt x="364" y="76"/>
                        </a:lnTo>
                        <a:lnTo>
                          <a:pt x="370" y="86"/>
                        </a:lnTo>
                        <a:lnTo>
                          <a:pt x="375" y="97"/>
                        </a:lnTo>
                        <a:lnTo>
                          <a:pt x="381" y="107"/>
                        </a:lnTo>
                        <a:lnTo>
                          <a:pt x="387" y="117"/>
                        </a:lnTo>
                        <a:lnTo>
                          <a:pt x="398" y="132"/>
                        </a:lnTo>
                        <a:lnTo>
                          <a:pt x="404" y="137"/>
                        </a:lnTo>
                        <a:lnTo>
                          <a:pt x="416" y="147"/>
                        </a:lnTo>
                        <a:lnTo>
                          <a:pt x="427" y="152"/>
                        </a:lnTo>
                        <a:lnTo>
                          <a:pt x="433" y="152"/>
                        </a:lnTo>
                        <a:lnTo>
                          <a:pt x="450" y="152"/>
                        </a:lnTo>
                        <a:lnTo>
                          <a:pt x="462" y="147"/>
                        </a:lnTo>
                        <a:lnTo>
                          <a:pt x="474" y="137"/>
                        </a:lnTo>
                        <a:lnTo>
                          <a:pt x="479" y="132"/>
                        </a:lnTo>
                        <a:lnTo>
                          <a:pt x="491" y="117"/>
                        </a:lnTo>
                        <a:lnTo>
                          <a:pt x="497" y="112"/>
                        </a:lnTo>
                        <a:lnTo>
                          <a:pt x="502" y="102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9" name=""/>
                <p:cNvGrpSpPr/>
                <p:nvPr/>
              </p:nvGrpSpPr>
              <p:grpSpPr>
                <a:xfrm>
                  <a:off x="746280" y="5551560"/>
                  <a:ext cx="1989000" cy="49320"/>
                  <a:chOff x="746280" y="5551560"/>
                  <a:chExt cx="1989000" cy="49320"/>
                </a:xfrm>
              </p:grpSpPr>
              <p:sp>
                <p:nvSpPr>
                  <p:cNvPr id="4960" name=""/>
                  <p:cNvSpPr/>
                  <p:nvPr/>
                </p:nvSpPr>
                <p:spPr>
                  <a:xfrm>
                    <a:off x="2616120" y="5551560"/>
                    <a:ext cx="1191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31">
                        <a:moveTo>
                          <a:pt x="75" y="16"/>
                        </a:moveTo>
                        <a:lnTo>
                          <a:pt x="6" y="31"/>
                        </a:lnTo>
                        <a:lnTo>
                          <a:pt x="6" y="16"/>
                        </a:lnTo>
                        <a:lnTo>
                          <a:pt x="0" y="0"/>
                        </a:lnTo>
                        <a:lnTo>
                          <a:pt x="75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1" name=""/>
                  <p:cNvSpPr/>
                  <p:nvPr/>
                </p:nvSpPr>
                <p:spPr>
                  <a:xfrm flipV="1">
                    <a:off x="746280" y="5578560"/>
                    <a:ext cx="1879560" cy="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62" name=""/>
              <p:cNvSpPr/>
              <p:nvPr/>
            </p:nvSpPr>
            <p:spPr>
              <a:xfrm>
                <a:off x="938160" y="4950000"/>
                <a:ext cx="1578240" cy="1206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947880" y="5648400"/>
                <a:ext cx="1439640" cy="417600"/>
              </a:xfrm>
              <a:custGeom>
                <a:avLst/>
                <a:gdLst/>
                <a:ahLst/>
                <a:rect l="l" t="t" r="r" b="b"/>
                <a:pathLst>
                  <a:path w="907" h="263">
                    <a:moveTo>
                      <a:pt x="0" y="263"/>
                    </a:moveTo>
                    <a:lnTo>
                      <a:pt x="34" y="243"/>
                    </a:lnTo>
                    <a:lnTo>
                      <a:pt x="92" y="208"/>
                    </a:lnTo>
                    <a:lnTo>
                      <a:pt x="150" y="177"/>
                    </a:lnTo>
                    <a:lnTo>
                      <a:pt x="196" y="152"/>
                    </a:lnTo>
                    <a:lnTo>
                      <a:pt x="248" y="127"/>
                    </a:lnTo>
                    <a:lnTo>
                      <a:pt x="283" y="112"/>
                    </a:lnTo>
                    <a:lnTo>
                      <a:pt x="323" y="96"/>
                    </a:lnTo>
                    <a:lnTo>
                      <a:pt x="358" y="86"/>
                    </a:lnTo>
                    <a:lnTo>
                      <a:pt x="375" y="81"/>
                    </a:lnTo>
                    <a:lnTo>
                      <a:pt x="381" y="81"/>
                    </a:lnTo>
                    <a:lnTo>
                      <a:pt x="404" y="76"/>
                    </a:lnTo>
                    <a:lnTo>
                      <a:pt x="421" y="71"/>
                    </a:lnTo>
                    <a:lnTo>
                      <a:pt x="439" y="71"/>
                    </a:lnTo>
                    <a:lnTo>
                      <a:pt x="462" y="66"/>
                    </a:lnTo>
                    <a:lnTo>
                      <a:pt x="491" y="61"/>
                    </a:lnTo>
                    <a:lnTo>
                      <a:pt x="520" y="56"/>
                    </a:lnTo>
                    <a:lnTo>
                      <a:pt x="554" y="51"/>
                    </a:lnTo>
                    <a:lnTo>
                      <a:pt x="583" y="46"/>
                    </a:lnTo>
                    <a:lnTo>
                      <a:pt x="618" y="41"/>
                    </a:lnTo>
                    <a:lnTo>
                      <a:pt x="658" y="36"/>
                    </a:lnTo>
                    <a:lnTo>
                      <a:pt x="693" y="31"/>
                    </a:lnTo>
                    <a:lnTo>
                      <a:pt x="739" y="25"/>
                    </a:lnTo>
                    <a:lnTo>
                      <a:pt x="785" y="15"/>
                    </a:lnTo>
                    <a:lnTo>
                      <a:pt x="837" y="10"/>
                    </a:lnTo>
                    <a:lnTo>
                      <a:pt x="878" y="5"/>
                    </a:lnTo>
                    <a:lnTo>
                      <a:pt x="9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882720" y="5335560"/>
                <a:ext cx="1247760" cy="297000"/>
              </a:xfrm>
              <a:custGeom>
                <a:avLst/>
                <a:gdLst/>
                <a:ahLst/>
                <a:rect l="l" t="t" r="r" b="b"/>
                <a:pathLst>
                  <a:path w="786" h="187">
                    <a:moveTo>
                      <a:pt x="0" y="162"/>
                    </a:moveTo>
                    <a:lnTo>
                      <a:pt x="0" y="167"/>
                    </a:lnTo>
                    <a:lnTo>
                      <a:pt x="6" y="172"/>
                    </a:lnTo>
                    <a:lnTo>
                      <a:pt x="12" y="182"/>
                    </a:lnTo>
                    <a:lnTo>
                      <a:pt x="12" y="182"/>
                    </a:lnTo>
                    <a:lnTo>
                      <a:pt x="12" y="187"/>
                    </a:lnTo>
                    <a:lnTo>
                      <a:pt x="18" y="187"/>
                    </a:lnTo>
                    <a:lnTo>
                      <a:pt x="23" y="187"/>
                    </a:lnTo>
                    <a:lnTo>
                      <a:pt x="23" y="182"/>
                    </a:lnTo>
                    <a:lnTo>
                      <a:pt x="23" y="182"/>
                    </a:lnTo>
                    <a:lnTo>
                      <a:pt x="23" y="182"/>
                    </a:lnTo>
                    <a:lnTo>
                      <a:pt x="29" y="167"/>
                    </a:lnTo>
                    <a:lnTo>
                      <a:pt x="29" y="162"/>
                    </a:lnTo>
                    <a:lnTo>
                      <a:pt x="35" y="147"/>
                    </a:lnTo>
                    <a:lnTo>
                      <a:pt x="35" y="131"/>
                    </a:lnTo>
                    <a:lnTo>
                      <a:pt x="41" y="116"/>
                    </a:lnTo>
                    <a:lnTo>
                      <a:pt x="46" y="91"/>
                    </a:lnTo>
                    <a:lnTo>
                      <a:pt x="52" y="66"/>
                    </a:lnTo>
                    <a:lnTo>
                      <a:pt x="58" y="50"/>
                    </a:lnTo>
                    <a:lnTo>
                      <a:pt x="58" y="45"/>
                    </a:lnTo>
                    <a:lnTo>
                      <a:pt x="64" y="30"/>
                    </a:lnTo>
                    <a:lnTo>
                      <a:pt x="70" y="20"/>
                    </a:lnTo>
                    <a:lnTo>
                      <a:pt x="70" y="1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98" y="5"/>
                    </a:lnTo>
                    <a:lnTo>
                      <a:pt x="98" y="5"/>
                    </a:lnTo>
                    <a:lnTo>
                      <a:pt x="104" y="15"/>
                    </a:lnTo>
                    <a:lnTo>
                      <a:pt x="104" y="20"/>
                    </a:lnTo>
                    <a:lnTo>
                      <a:pt x="110" y="30"/>
                    </a:lnTo>
                    <a:lnTo>
                      <a:pt x="116" y="45"/>
                    </a:lnTo>
                    <a:lnTo>
                      <a:pt x="116" y="50"/>
                    </a:lnTo>
                    <a:lnTo>
                      <a:pt x="122" y="66"/>
                    </a:lnTo>
                    <a:lnTo>
                      <a:pt x="127" y="91"/>
                    </a:lnTo>
                    <a:lnTo>
                      <a:pt x="133" y="111"/>
                    </a:lnTo>
                    <a:lnTo>
                      <a:pt x="139" y="131"/>
                    </a:lnTo>
                    <a:lnTo>
                      <a:pt x="145" y="147"/>
                    </a:lnTo>
                    <a:lnTo>
                      <a:pt x="145" y="157"/>
                    </a:lnTo>
                    <a:lnTo>
                      <a:pt x="150" y="167"/>
                    </a:lnTo>
                    <a:lnTo>
                      <a:pt x="156" y="177"/>
                    </a:lnTo>
                    <a:lnTo>
                      <a:pt x="156" y="177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182"/>
                    </a:lnTo>
                    <a:lnTo>
                      <a:pt x="168" y="177"/>
                    </a:lnTo>
                    <a:lnTo>
                      <a:pt x="168" y="172"/>
                    </a:lnTo>
                    <a:lnTo>
                      <a:pt x="168" y="172"/>
                    </a:lnTo>
                    <a:lnTo>
                      <a:pt x="168" y="167"/>
                    </a:lnTo>
                    <a:lnTo>
                      <a:pt x="174" y="157"/>
                    </a:lnTo>
                    <a:lnTo>
                      <a:pt x="174" y="152"/>
                    </a:lnTo>
                    <a:lnTo>
                      <a:pt x="179" y="141"/>
                    </a:lnTo>
                    <a:lnTo>
                      <a:pt x="185" y="126"/>
                    </a:lnTo>
                    <a:lnTo>
                      <a:pt x="191" y="111"/>
                    </a:lnTo>
                    <a:lnTo>
                      <a:pt x="197" y="96"/>
                    </a:lnTo>
                    <a:lnTo>
                      <a:pt x="197" y="91"/>
                    </a:lnTo>
                    <a:lnTo>
                      <a:pt x="197" y="86"/>
                    </a:lnTo>
                    <a:lnTo>
                      <a:pt x="202" y="76"/>
                    </a:lnTo>
                    <a:lnTo>
                      <a:pt x="208" y="66"/>
                    </a:lnTo>
                    <a:lnTo>
                      <a:pt x="214" y="61"/>
                    </a:lnTo>
                    <a:lnTo>
                      <a:pt x="220" y="61"/>
                    </a:lnTo>
                    <a:lnTo>
                      <a:pt x="231" y="66"/>
                    </a:lnTo>
                    <a:lnTo>
                      <a:pt x="231" y="71"/>
                    </a:lnTo>
                    <a:lnTo>
                      <a:pt x="237" y="81"/>
                    </a:lnTo>
                    <a:lnTo>
                      <a:pt x="243" y="91"/>
                    </a:lnTo>
                    <a:lnTo>
                      <a:pt x="249" y="101"/>
                    </a:lnTo>
                    <a:lnTo>
                      <a:pt x="249" y="111"/>
                    </a:lnTo>
                    <a:lnTo>
                      <a:pt x="254" y="126"/>
                    </a:lnTo>
                    <a:lnTo>
                      <a:pt x="260" y="141"/>
                    </a:lnTo>
                    <a:lnTo>
                      <a:pt x="266" y="152"/>
                    </a:lnTo>
                    <a:lnTo>
                      <a:pt x="266" y="157"/>
                    </a:lnTo>
                    <a:lnTo>
                      <a:pt x="272" y="167"/>
                    </a:lnTo>
                    <a:lnTo>
                      <a:pt x="272" y="172"/>
                    </a:lnTo>
                    <a:lnTo>
                      <a:pt x="272" y="172"/>
                    </a:lnTo>
                    <a:lnTo>
                      <a:pt x="272" y="177"/>
                    </a:lnTo>
                    <a:lnTo>
                      <a:pt x="278" y="187"/>
                    </a:lnTo>
                    <a:lnTo>
                      <a:pt x="278" y="182"/>
                    </a:lnTo>
                    <a:lnTo>
                      <a:pt x="283" y="182"/>
                    </a:lnTo>
                    <a:lnTo>
                      <a:pt x="289" y="177"/>
                    </a:lnTo>
                    <a:lnTo>
                      <a:pt x="289" y="177"/>
                    </a:lnTo>
                    <a:lnTo>
                      <a:pt x="295" y="162"/>
                    </a:lnTo>
                    <a:lnTo>
                      <a:pt x="301" y="147"/>
                    </a:lnTo>
                    <a:lnTo>
                      <a:pt x="312" y="126"/>
                    </a:lnTo>
                    <a:lnTo>
                      <a:pt x="318" y="111"/>
                    </a:lnTo>
                    <a:lnTo>
                      <a:pt x="318" y="106"/>
                    </a:lnTo>
                    <a:lnTo>
                      <a:pt x="324" y="96"/>
                    </a:lnTo>
                    <a:lnTo>
                      <a:pt x="330" y="91"/>
                    </a:lnTo>
                    <a:lnTo>
                      <a:pt x="335" y="86"/>
                    </a:lnTo>
                    <a:lnTo>
                      <a:pt x="341" y="86"/>
                    </a:lnTo>
                    <a:lnTo>
                      <a:pt x="347" y="86"/>
                    </a:lnTo>
                    <a:lnTo>
                      <a:pt x="353" y="91"/>
                    </a:lnTo>
                    <a:lnTo>
                      <a:pt x="358" y="96"/>
                    </a:lnTo>
                    <a:lnTo>
                      <a:pt x="364" y="106"/>
                    </a:lnTo>
                    <a:lnTo>
                      <a:pt x="370" y="116"/>
                    </a:lnTo>
                    <a:lnTo>
                      <a:pt x="382" y="136"/>
                    </a:lnTo>
                    <a:lnTo>
                      <a:pt x="393" y="157"/>
                    </a:lnTo>
                    <a:lnTo>
                      <a:pt x="399" y="172"/>
                    </a:lnTo>
                    <a:lnTo>
                      <a:pt x="399" y="172"/>
                    </a:lnTo>
                    <a:lnTo>
                      <a:pt x="405" y="177"/>
                    </a:lnTo>
                    <a:lnTo>
                      <a:pt x="405" y="177"/>
                    </a:lnTo>
                    <a:lnTo>
                      <a:pt x="410" y="177"/>
                    </a:lnTo>
                    <a:lnTo>
                      <a:pt x="410" y="172"/>
                    </a:lnTo>
                    <a:lnTo>
                      <a:pt x="410" y="167"/>
                    </a:lnTo>
                    <a:lnTo>
                      <a:pt x="410" y="167"/>
                    </a:lnTo>
                    <a:lnTo>
                      <a:pt x="416" y="152"/>
                    </a:lnTo>
                    <a:lnTo>
                      <a:pt x="422" y="141"/>
                    </a:lnTo>
                    <a:lnTo>
                      <a:pt x="428" y="131"/>
                    </a:lnTo>
                    <a:lnTo>
                      <a:pt x="434" y="121"/>
                    </a:lnTo>
                    <a:lnTo>
                      <a:pt x="439" y="116"/>
                    </a:lnTo>
                    <a:lnTo>
                      <a:pt x="445" y="111"/>
                    </a:lnTo>
                    <a:lnTo>
                      <a:pt x="451" y="106"/>
                    </a:lnTo>
                    <a:lnTo>
                      <a:pt x="457" y="106"/>
                    </a:lnTo>
                    <a:lnTo>
                      <a:pt x="457" y="106"/>
                    </a:lnTo>
                    <a:lnTo>
                      <a:pt x="468" y="111"/>
                    </a:lnTo>
                    <a:lnTo>
                      <a:pt x="474" y="116"/>
                    </a:lnTo>
                    <a:lnTo>
                      <a:pt x="480" y="126"/>
                    </a:lnTo>
                    <a:lnTo>
                      <a:pt x="480" y="126"/>
                    </a:lnTo>
                    <a:lnTo>
                      <a:pt x="486" y="136"/>
                    </a:lnTo>
                    <a:lnTo>
                      <a:pt x="497" y="152"/>
                    </a:lnTo>
                    <a:lnTo>
                      <a:pt x="503" y="162"/>
                    </a:lnTo>
                    <a:lnTo>
                      <a:pt x="509" y="167"/>
                    </a:lnTo>
                    <a:lnTo>
                      <a:pt x="509" y="167"/>
                    </a:lnTo>
                    <a:lnTo>
                      <a:pt x="509" y="167"/>
                    </a:lnTo>
                    <a:lnTo>
                      <a:pt x="514" y="167"/>
                    </a:lnTo>
                    <a:lnTo>
                      <a:pt x="526" y="167"/>
                    </a:lnTo>
                    <a:lnTo>
                      <a:pt x="526" y="167"/>
                    </a:lnTo>
                    <a:lnTo>
                      <a:pt x="532" y="162"/>
                    </a:lnTo>
                    <a:lnTo>
                      <a:pt x="532" y="162"/>
                    </a:lnTo>
                    <a:lnTo>
                      <a:pt x="543" y="152"/>
                    </a:lnTo>
                    <a:lnTo>
                      <a:pt x="549" y="147"/>
                    </a:lnTo>
                    <a:lnTo>
                      <a:pt x="561" y="131"/>
                    </a:lnTo>
                    <a:lnTo>
                      <a:pt x="566" y="126"/>
                    </a:lnTo>
                    <a:lnTo>
                      <a:pt x="572" y="121"/>
                    </a:lnTo>
                    <a:lnTo>
                      <a:pt x="589" y="116"/>
                    </a:lnTo>
                    <a:lnTo>
                      <a:pt x="601" y="116"/>
                    </a:lnTo>
                    <a:lnTo>
                      <a:pt x="613" y="121"/>
                    </a:lnTo>
                    <a:lnTo>
                      <a:pt x="618" y="126"/>
                    </a:lnTo>
                    <a:lnTo>
                      <a:pt x="624" y="131"/>
                    </a:lnTo>
                    <a:lnTo>
                      <a:pt x="641" y="141"/>
                    </a:lnTo>
                    <a:lnTo>
                      <a:pt x="641" y="147"/>
                    </a:lnTo>
                    <a:lnTo>
                      <a:pt x="653" y="157"/>
                    </a:lnTo>
                    <a:lnTo>
                      <a:pt x="653" y="157"/>
                    </a:lnTo>
                    <a:lnTo>
                      <a:pt x="659" y="162"/>
                    </a:lnTo>
                    <a:lnTo>
                      <a:pt x="659" y="162"/>
                    </a:lnTo>
                    <a:lnTo>
                      <a:pt x="665" y="162"/>
                    </a:lnTo>
                    <a:lnTo>
                      <a:pt x="665" y="162"/>
                    </a:lnTo>
                    <a:lnTo>
                      <a:pt x="670" y="157"/>
                    </a:lnTo>
                    <a:lnTo>
                      <a:pt x="676" y="152"/>
                    </a:lnTo>
                    <a:lnTo>
                      <a:pt x="688" y="136"/>
                    </a:lnTo>
                    <a:lnTo>
                      <a:pt x="693" y="131"/>
                    </a:lnTo>
                    <a:lnTo>
                      <a:pt x="699" y="126"/>
                    </a:lnTo>
                    <a:lnTo>
                      <a:pt x="711" y="126"/>
                    </a:lnTo>
                    <a:lnTo>
                      <a:pt x="722" y="126"/>
                    </a:lnTo>
                    <a:lnTo>
                      <a:pt x="734" y="126"/>
                    </a:lnTo>
                    <a:lnTo>
                      <a:pt x="740" y="131"/>
                    </a:lnTo>
                    <a:lnTo>
                      <a:pt x="745" y="136"/>
                    </a:lnTo>
                    <a:lnTo>
                      <a:pt x="757" y="141"/>
                    </a:lnTo>
                    <a:lnTo>
                      <a:pt x="763" y="147"/>
                    </a:lnTo>
                    <a:lnTo>
                      <a:pt x="769" y="152"/>
                    </a:lnTo>
                    <a:lnTo>
                      <a:pt x="769" y="152"/>
                    </a:lnTo>
                    <a:lnTo>
                      <a:pt x="769" y="157"/>
                    </a:lnTo>
                    <a:lnTo>
                      <a:pt x="769" y="157"/>
                    </a:lnTo>
                    <a:lnTo>
                      <a:pt x="774" y="157"/>
                    </a:lnTo>
                    <a:lnTo>
                      <a:pt x="780" y="157"/>
                    </a:lnTo>
                    <a:lnTo>
                      <a:pt x="786" y="152"/>
                    </a:lnTo>
                    <a:lnTo>
                      <a:pt x="0" y="162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882720" y="5335560"/>
                <a:ext cx="1247760" cy="297000"/>
              </a:xfrm>
              <a:custGeom>
                <a:avLst/>
                <a:gdLst/>
                <a:ahLst/>
                <a:rect l="l" t="t" r="r" b="b"/>
                <a:pathLst>
                  <a:path w="786" h="187">
                    <a:moveTo>
                      <a:pt x="0" y="162"/>
                    </a:moveTo>
                    <a:lnTo>
                      <a:pt x="0" y="167"/>
                    </a:lnTo>
                    <a:lnTo>
                      <a:pt x="6" y="172"/>
                    </a:lnTo>
                    <a:lnTo>
                      <a:pt x="12" y="182"/>
                    </a:lnTo>
                    <a:lnTo>
                      <a:pt x="12" y="187"/>
                    </a:lnTo>
                    <a:lnTo>
                      <a:pt x="18" y="187"/>
                    </a:lnTo>
                    <a:lnTo>
                      <a:pt x="23" y="187"/>
                    </a:lnTo>
                    <a:lnTo>
                      <a:pt x="23" y="182"/>
                    </a:lnTo>
                    <a:lnTo>
                      <a:pt x="29" y="167"/>
                    </a:lnTo>
                    <a:lnTo>
                      <a:pt x="29" y="162"/>
                    </a:lnTo>
                    <a:lnTo>
                      <a:pt x="35" y="147"/>
                    </a:lnTo>
                    <a:lnTo>
                      <a:pt x="35" y="131"/>
                    </a:lnTo>
                    <a:lnTo>
                      <a:pt x="41" y="116"/>
                    </a:lnTo>
                    <a:lnTo>
                      <a:pt x="46" y="91"/>
                    </a:lnTo>
                    <a:lnTo>
                      <a:pt x="52" y="66"/>
                    </a:lnTo>
                    <a:lnTo>
                      <a:pt x="58" y="50"/>
                    </a:lnTo>
                    <a:lnTo>
                      <a:pt x="58" y="45"/>
                    </a:lnTo>
                    <a:lnTo>
                      <a:pt x="64" y="30"/>
                    </a:lnTo>
                    <a:lnTo>
                      <a:pt x="70" y="20"/>
                    </a:lnTo>
                    <a:lnTo>
                      <a:pt x="70" y="15"/>
                    </a:lnTo>
                    <a:lnTo>
                      <a:pt x="75" y="5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98" y="5"/>
                    </a:lnTo>
                    <a:lnTo>
                      <a:pt x="104" y="15"/>
                    </a:lnTo>
                    <a:lnTo>
                      <a:pt x="104" y="20"/>
                    </a:lnTo>
                    <a:lnTo>
                      <a:pt x="110" y="30"/>
                    </a:lnTo>
                    <a:lnTo>
                      <a:pt x="116" y="45"/>
                    </a:lnTo>
                    <a:lnTo>
                      <a:pt x="116" y="50"/>
                    </a:lnTo>
                    <a:lnTo>
                      <a:pt x="122" y="66"/>
                    </a:lnTo>
                    <a:lnTo>
                      <a:pt x="127" y="91"/>
                    </a:lnTo>
                    <a:lnTo>
                      <a:pt x="133" y="111"/>
                    </a:lnTo>
                    <a:lnTo>
                      <a:pt x="139" y="131"/>
                    </a:lnTo>
                    <a:lnTo>
                      <a:pt x="145" y="147"/>
                    </a:lnTo>
                    <a:lnTo>
                      <a:pt x="145" y="157"/>
                    </a:lnTo>
                    <a:lnTo>
                      <a:pt x="150" y="167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182"/>
                    </a:lnTo>
                    <a:lnTo>
                      <a:pt x="168" y="177"/>
                    </a:lnTo>
                    <a:lnTo>
                      <a:pt x="168" y="172"/>
                    </a:lnTo>
                    <a:lnTo>
                      <a:pt x="168" y="167"/>
                    </a:lnTo>
                    <a:lnTo>
                      <a:pt x="174" y="157"/>
                    </a:lnTo>
                    <a:lnTo>
                      <a:pt x="174" y="152"/>
                    </a:lnTo>
                    <a:lnTo>
                      <a:pt x="179" y="141"/>
                    </a:lnTo>
                    <a:lnTo>
                      <a:pt x="185" y="126"/>
                    </a:lnTo>
                    <a:lnTo>
                      <a:pt x="191" y="111"/>
                    </a:lnTo>
                    <a:lnTo>
                      <a:pt x="197" y="96"/>
                    </a:lnTo>
                    <a:lnTo>
                      <a:pt x="197" y="91"/>
                    </a:lnTo>
                    <a:lnTo>
                      <a:pt x="197" y="86"/>
                    </a:lnTo>
                    <a:lnTo>
                      <a:pt x="202" y="76"/>
                    </a:lnTo>
                    <a:lnTo>
                      <a:pt x="208" y="66"/>
                    </a:lnTo>
                    <a:lnTo>
                      <a:pt x="214" y="61"/>
                    </a:lnTo>
                    <a:lnTo>
                      <a:pt x="220" y="61"/>
                    </a:lnTo>
                    <a:lnTo>
                      <a:pt x="231" y="66"/>
                    </a:lnTo>
                    <a:lnTo>
                      <a:pt x="231" y="71"/>
                    </a:lnTo>
                    <a:lnTo>
                      <a:pt x="237" y="81"/>
                    </a:lnTo>
                    <a:lnTo>
                      <a:pt x="243" y="91"/>
                    </a:lnTo>
                    <a:lnTo>
                      <a:pt x="249" y="101"/>
                    </a:lnTo>
                    <a:lnTo>
                      <a:pt x="249" y="111"/>
                    </a:lnTo>
                    <a:lnTo>
                      <a:pt x="254" y="126"/>
                    </a:lnTo>
                    <a:lnTo>
                      <a:pt x="260" y="141"/>
                    </a:lnTo>
                    <a:lnTo>
                      <a:pt x="266" y="152"/>
                    </a:lnTo>
                    <a:lnTo>
                      <a:pt x="266" y="157"/>
                    </a:lnTo>
                    <a:lnTo>
                      <a:pt x="272" y="167"/>
                    </a:lnTo>
                    <a:lnTo>
                      <a:pt x="272" y="172"/>
                    </a:lnTo>
                    <a:lnTo>
                      <a:pt x="272" y="177"/>
                    </a:lnTo>
                    <a:lnTo>
                      <a:pt x="278" y="187"/>
                    </a:lnTo>
                    <a:lnTo>
                      <a:pt x="278" y="182"/>
                    </a:lnTo>
                    <a:lnTo>
                      <a:pt x="283" y="182"/>
                    </a:lnTo>
                    <a:lnTo>
                      <a:pt x="289" y="177"/>
                    </a:lnTo>
                    <a:lnTo>
                      <a:pt x="295" y="162"/>
                    </a:lnTo>
                    <a:lnTo>
                      <a:pt x="301" y="147"/>
                    </a:lnTo>
                    <a:lnTo>
                      <a:pt x="312" y="126"/>
                    </a:lnTo>
                    <a:lnTo>
                      <a:pt x="318" y="111"/>
                    </a:lnTo>
                    <a:lnTo>
                      <a:pt x="318" y="106"/>
                    </a:lnTo>
                    <a:lnTo>
                      <a:pt x="324" y="96"/>
                    </a:lnTo>
                    <a:lnTo>
                      <a:pt x="330" y="91"/>
                    </a:lnTo>
                    <a:lnTo>
                      <a:pt x="335" y="86"/>
                    </a:lnTo>
                    <a:lnTo>
                      <a:pt x="341" y="86"/>
                    </a:lnTo>
                    <a:lnTo>
                      <a:pt x="347" y="86"/>
                    </a:lnTo>
                    <a:lnTo>
                      <a:pt x="353" y="91"/>
                    </a:lnTo>
                    <a:lnTo>
                      <a:pt x="358" y="96"/>
                    </a:lnTo>
                    <a:lnTo>
                      <a:pt x="364" y="106"/>
                    </a:lnTo>
                    <a:lnTo>
                      <a:pt x="370" y="116"/>
                    </a:lnTo>
                    <a:lnTo>
                      <a:pt x="382" y="136"/>
                    </a:lnTo>
                    <a:lnTo>
                      <a:pt x="393" y="157"/>
                    </a:lnTo>
                    <a:lnTo>
                      <a:pt x="399" y="172"/>
                    </a:lnTo>
                    <a:lnTo>
                      <a:pt x="405" y="177"/>
                    </a:lnTo>
                    <a:lnTo>
                      <a:pt x="410" y="177"/>
                    </a:lnTo>
                    <a:lnTo>
                      <a:pt x="410" y="172"/>
                    </a:lnTo>
                    <a:lnTo>
                      <a:pt x="410" y="167"/>
                    </a:lnTo>
                    <a:lnTo>
                      <a:pt x="416" y="152"/>
                    </a:lnTo>
                    <a:lnTo>
                      <a:pt x="422" y="141"/>
                    </a:lnTo>
                    <a:lnTo>
                      <a:pt x="428" y="131"/>
                    </a:lnTo>
                    <a:lnTo>
                      <a:pt x="434" y="121"/>
                    </a:lnTo>
                    <a:lnTo>
                      <a:pt x="439" y="116"/>
                    </a:lnTo>
                    <a:lnTo>
                      <a:pt x="445" y="111"/>
                    </a:lnTo>
                    <a:lnTo>
                      <a:pt x="451" y="106"/>
                    </a:lnTo>
                    <a:lnTo>
                      <a:pt x="457" y="106"/>
                    </a:lnTo>
                    <a:lnTo>
                      <a:pt x="468" y="111"/>
                    </a:lnTo>
                    <a:lnTo>
                      <a:pt x="474" y="116"/>
                    </a:lnTo>
                    <a:lnTo>
                      <a:pt x="480" y="126"/>
                    </a:lnTo>
                    <a:lnTo>
                      <a:pt x="486" y="136"/>
                    </a:lnTo>
                    <a:lnTo>
                      <a:pt x="497" y="152"/>
                    </a:lnTo>
                    <a:lnTo>
                      <a:pt x="503" y="162"/>
                    </a:lnTo>
                    <a:lnTo>
                      <a:pt x="509" y="167"/>
                    </a:lnTo>
                    <a:lnTo>
                      <a:pt x="514" y="167"/>
                    </a:lnTo>
                    <a:lnTo>
                      <a:pt x="526" y="167"/>
                    </a:lnTo>
                    <a:lnTo>
                      <a:pt x="532" y="162"/>
                    </a:lnTo>
                    <a:lnTo>
                      <a:pt x="543" y="152"/>
                    </a:lnTo>
                    <a:lnTo>
                      <a:pt x="549" y="147"/>
                    </a:lnTo>
                    <a:lnTo>
                      <a:pt x="561" y="131"/>
                    </a:lnTo>
                    <a:lnTo>
                      <a:pt x="566" y="126"/>
                    </a:lnTo>
                    <a:lnTo>
                      <a:pt x="572" y="121"/>
                    </a:lnTo>
                    <a:lnTo>
                      <a:pt x="589" y="116"/>
                    </a:lnTo>
                    <a:lnTo>
                      <a:pt x="601" y="116"/>
                    </a:lnTo>
                    <a:lnTo>
                      <a:pt x="613" y="121"/>
                    </a:lnTo>
                    <a:lnTo>
                      <a:pt x="618" y="126"/>
                    </a:lnTo>
                    <a:lnTo>
                      <a:pt x="624" y="131"/>
                    </a:lnTo>
                    <a:lnTo>
                      <a:pt x="641" y="141"/>
                    </a:lnTo>
                    <a:lnTo>
                      <a:pt x="641" y="147"/>
                    </a:lnTo>
                    <a:lnTo>
                      <a:pt x="653" y="157"/>
                    </a:lnTo>
                    <a:lnTo>
                      <a:pt x="659" y="162"/>
                    </a:lnTo>
                    <a:lnTo>
                      <a:pt x="665" y="162"/>
                    </a:lnTo>
                    <a:lnTo>
                      <a:pt x="670" y="157"/>
                    </a:lnTo>
                    <a:lnTo>
                      <a:pt x="676" y="152"/>
                    </a:lnTo>
                    <a:lnTo>
                      <a:pt x="688" y="136"/>
                    </a:lnTo>
                    <a:lnTo>
                      <a:pt x="693" y="131"/>
                    </a:lnTo>
                    <a:lnTo>
                      <a:pt x="699" y="126"/>
                    </a:lnTo>
                    <a:lnTo>
                      <a:pt x="711" y="126"/>
                    </a:lnTo>
                    <a:lnTo>
                      <a:pt x="722" y="126"/>
                    </a:lnTo>
                    <a:lnTo>
                      <a:pt x="734" y="126"/>
                    </a:lnTo>
                    <a:lnTo>
                      <a:pt x="740" y="131"/>
                    </a:lnTo>
                    <a:lnTo>
                      <a:pt x="745" y="136"/>
                    </a:lnTo>
                    <a:lnTo>
                      <a:pt x="757" y="141"/>
                    </a:lnTo>
                    <a:lnTo>
                      <a:pt x="763" y="147"/>
                    </a:lnTo>
                    <a:lnTo>
                      <a:pt x="769" y="152"/>
                    </a:lnTo>
                    <a:lnTo>
                      <a:pt x="769" y="157"/>
                    </a:lnTo>
                    <a:lnTo>
                      <a:pt x="774" y="157"/>
                    </a:lnTo>
                    <a:lnTo>
                      <a:pt x="780" y="157"/>
                    </a:lnTo>
                    <a:lnTo>
                      <a:pt x="786" y="152"/>
                    </a:lnTo>
                  </a:path>
                </a:pathLst>
              </a:custGeom>
              <a:solidFill>
                <a:srgbClr val="ffcc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66" name=""/>
              <p:cNvGrpSpPr/>
              <p:nvPr/>
            </p:nvGrpSpPr>
            <p:grpSpPr>
              <a:xfrm>
                <a:off x="1690560" y="4695840"/>
                <a:ext cx="200880" cy="238320"/>
                <a:chOff x="1690560" y="4695840"/>
                <a:chExt cx="200880" cy="238320"/>
              </a:xfrm>
            </p:grpSpPr>
            <p:sp>
              <p:nvSpPr>
                <p:cNvPr id="4967" name=""/>
                <p:cNvSpPr/>
                <p:nvPr/>
              </p:nvSpPr>
              <p:spPr>
                <a:xfrm>
                  <a:off x="1690560" y="4695840"/>
                  <a:ext cx="1166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5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8" name=""/>
                <p:cNvSpPr/>
                <p:nvPr/>
              </p:nvSpPr>
              <p:spPr>
                <a:xfrm>
                  <a:off x="1826640" y="4705560"/>
                  <a:ext cx="648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5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69" name=""/>
            <p:cNvGrpSpPr/>
            <p:nvPr/>
          </p:nvGrpSpPr>
          <p:grpSpPr>
            <a:xfrm>
              <a:off x="3503880" y="4678200"/>
              <a:ext cx="2104920" cy="1538280"/>
              <a:chOff x="3503880" y="4678200"/>
              <a:chExt cx="2104920" cy="1538280"/>
            </a:xfrm>
          </p:grpSpPr>
          <p:sp>
            <p:nvSpPr>
              <p:cNvPr id="4970" name=""/>
              <p:cNvSpPr/>
              <p:nvPr/>
            </p:nvSpPr>
            <p:spPr>
              <a:xfrm>
                <a:off x="3503880" y="4678200"/>
                <a:ext cx="2104920" cy="153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3786120" y="4952880"/>
                <a:ext cx="1703520" cy="106560"/>
              </a:xfrm>
              <a:custGeom>
                <a:avLst/>
                <a:gdLst/>
                <a:ahLst/>
                <a:rect l="l" t="t" r="r" b="b"/>
                <a:pathLst>
                  <a:path w="1073" h="67">
                    <a:moveTo>
                      <a:pt x="0" y="67"/>
                    </a:moveTo>
                    <a:lnTo>
                      <a:pt x="0" y="0"/>
                    </a:lnTo>
                    <a:lnTo>
                      <a:pt x="1073" y="0"/>
                    </a:lnTo>
                    <a:lnTo>
                      <a:pt x="1067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2" name=""/>
              <p:cNvGrpSpPr/>
              <p:nvPr/>
            </p:nvGrpSpPr>
            <p:grpSpPr>
              <a:xfrm>
                <a:off x="3640320" y="4913280"/>
                <a:ext cx="52200" cy="712440"/>
                <a:chOff x="3640320" y="4913280"/>
                <a:chExt cx="52200" cy="712440"/>
              </a:xfrm>
            </p:grpSpPr>
            <p:sp>
              <p:nvSpPr>
                <p:cNvPr id="4973" name=""/>
                <p:cNvSpPr/>
                <p:nvPr/>
              </p:nvSpPr>
              <p:spPr>
                <a:xfrm>
                  <a:off x="3640320" y="4913280"/>
                  <a:ext cx="52200" cy="96840"/>
                </a:xfrm>
                <a:custGeom>
                  <a:avLst/>
                  <a:gdLst/>
                  <a:ahLst/>
                  <a:rect l="l" t="t" r="r" b="b"/>
                  <a:pathLst>
                    <a:path w="33" h="61">
                      <a:moveTo>
                        <a:pt x="16" y="0"/>
                      </a:moveTo>
                      <a:lnTo>
                        <a:pt x="33" y="61"/>
                      </a:lnTo>
                      <a:lnTo>
                        <a:pt x="16" y="61"/>
                      </a:lnTo>
                      <a:lnTo>
                        <a:pt x="0" y="61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4" name=""/>
                <p:cNvSpPr/>
                <p:nvPr/>
              </p:nvSpPr>
              <p:spPr>
                <a:xfrm flipV="1">
                  <a:off x="3665520" y="5009760"/>
                  <a:ext cx="1800" cy="6159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75" name=""/>
              <p:cNvSpPr/>
              <p:nvPr/>
            </p:nvSpPr>
            <p:spPr>
              <a:xfrm>
                <a:off x="3768840" y="5051520"/>
                <a:ext cx="1506600" cy="404640"/>
              </a:xfrm>
              <a:custGeom>
                <a:avLst/>
                <a:gdLst/>
                <a:ahLst/>
                <a:rect l="l" t="t" r="r" b="b"/>
                <a:pathLst>
                  <a:path w="949" h="255">
                    <a:moveTo>
                      <a:pt x="0" y="0"/>
                    </a:moveTo>
                    <a:lnTo>
                      <a:pt x="38" y="20"/>
                    </a:lnTo>
                    <a:lnTo>
                      <a:pt x="92" y="51"/>
                    </a:lnTo>
                    <a:lnTo>
                      <a:pt x="151" y="81"/>
                    </a:lnTo>
                    <a:lnTo>
                      <a:pt x="210" y="112"/>
                    </a:lnTo>
                    <a:lnTo>
                      <a:pt x="259" y="132"/>
                    </a:lnTo>
                    <a:lnTo>
                      <a:pt x="307" y="153"/>
                    </a:lnTo>
                    <a:lnTo>
                      <a:pt x="340" y="163"/>
                    </a:lnTo>
                    <a:lnTo>
                      <a:pt x="377" y="173"/>
                    </a:lnTo>
                    <a:lnTo>
                      <a:pt x="394" y="178"/>
                    </a:lnTo>
                    <a:lnTo>
                      <a:pt x="399" y="178"/>
                    </a:lnTo>
                    <a:lnTo>
                      <a:pt x="421" y="183"/>
                    </a:lnTo>
                    <a:lnTo>
                      <a:pt x="442" y="188"/>
                    </a:lnTo>
                    <a:lnTo>
                      <a:pt x="458" y="188"/>
                    </a:lnTo>
                    <a:lnTo>
                      <a:pt x="485" y="193"/>
                    </a:lnTo>
                    <a:lnTo>
                      <a:pt x="512" y="199"/>
                    </a:lnTo>
                    <a:lnTo>
                      <a:pt x="550" y="204"/>
                    </a:lnTo>
                    <a:lnTo>
                      <a:pt x="582" y="209"/>
                    </a:lnTo>
                    <a:lnTo>
                      <a:pt x="615" y="214"/>
                    </a:lnTo>
                    <a:lnTo>
                      <a:pt x="652" y="219"/>
                    </a:lnTo>
                    <a:lnTo>
                      <a:pt x="690" y="224"/>
                    </a:lnTo>
                    <a:lnTo>
                      <a:pt x="733" y="229"/>
                    </a:lnTo>
                    <a:lnTo>
                      <a:pt x="776" y="234"/>
                    </a:lnTo>
                    <a:lnTo>
                      <a:pt x="825" y="239"/>
                    </a:lnTo>
                    <a:lnTo>
                      <a:pt x="868" y="244"/>
                    </a:lnTo>
                    <a:lnTo>
                      <a:pt x="922" y="250"/>
                    </a:lnTo>
                    <a:lnTo>
                      <a:pt x="949" y="255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3735360" y="5600880"/>
                <a:ext cx="1497240" cy="404640"/>
              </a:xfrm>
              <a:custGeom>
                <a:avLst/>
                <a:gdLst/>
                <a:ahLst/>
                <a:rect l="l" t="t" r="r" b="b"/>
                <a:pathLst>
                  <a:path w="943" h="255">
                    <a:moveTo>
                      <a:pt x="0" y="255"/>
                    </a:moveTo>
                    <a:lnTo>
                      <a:pt x="37" y="235"/>
                    </a:lnTo>
                    <a:lnTo>
                      <a:pt x="91" y="204"/>
                    </a:lnTo>
                    <a:lnTo>
                      <a:pt x="150" y="174"/>
                    </a:lnTo>
                    <a:lnTo>
                      <a:pt x="210" y="143"/>
                    </a:lnTo>
                    <a:lnTo>
                      <a:pt x="258" y="123"/>
                    </a:lnTo>
                    <a:lnTo>
                      <a:pt x="301" y="102"/>
                    </a:lnTo>
                    <a:lnTo>
                      <a:pt x="339" y="92"/>
                    </a:lnTo>
                    <a:lnTo>
                      <a:pt x="377" y="82"/>
                    </a:lnTo>
                    <a:lnTo>
                      <a:pt x="393" y="77"/>
                    </a:lnTo>
                    <a:lnTo>
                      <a:pt x="398" y="77"/>
                    </a:lnTo>
                    <a:lnTo>
                      <a:pt x="420" y="72"/>
                    </a:lnTo>
                    <a:lnTo>
                      <a:pt x="442" y="67"/>
                    </a:lnTo>
                    <a:lnTo>
                      <a:pt x="458" y="67"/>
                    </a:lnTo>
                    <a:lnTo>
                      <a:pt x="485" y="62"/>
                    </a:lnTo>
                    <a:lnTo>
                      <a:pt x="512" y="57"/>
                    </a:lnTo>
                    <a:lnTo>
                      <a:pt x="544" y="51"/>
                    </a:lnTo>
                    <a:lnTo>
                      <a:pt x="576" y="46"/>
                    </a:lnTo>
                    <a:lnTo>
                      <a:pt x="614" y="41"/>
                    </a:lnTo>
                    <a:lnTo>
                      <a:pt x="646" y="36"/>
                    </a:lnTo>
                    <a:lnTo>
                      <a:pt x="689" y="31"/>
                    </a:lnTo>
                    <a:lnTo>
                      <a:pt x="727" y="26"/>
                    </a:lnTo>
                    <a:lnTo>
                      <a:pt x="776" y="21"/>
                    </a:lnTo>
                    <a:lnTo>
                      <a:pt x="819" y="16"/>
                    </a:lnTo>
                    <a:lnTo>
                      <a:pt x="862" y="11"/>
                    </a:lnTo>
                    <a:lnTo>
                      <a:pt x="916" y="6"/>
                    </a:lnTo>
                    <a:lnTo>
                      <a:pt x="943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7" name=""/>
              <p:cNvGrpSpPr/>
              <p:nvPr/>
            </p:nvGrpSpPr>
            <p:grpSpPr>
              <a:xfrm>
                <a:off x="3786120" y="5091120"/>
                <a:ext cx="1668600" cy="777960"/>
                <a:chOff x="3786120" y="5091120"/>
                <a:chExt cx="1668600" cy="777960"/>
              </a:xfrm>
            </p:grpSpPr>
            <p:sp>
              <p:nvSpPr>
                <p:cNvPr id="4978" name=""/>
                <p:cNvSpPr/>
                <p:nvPr/>
              </p:nvSpPr>
              <p:spPr>
                <a:xfrm>
                  <a:off x="3786120" y="5091120"/>
                  <a:ext cx="838440" cy="777960"/>
                </a:xfrm>
                <a:custGeom>
                  <a:avLst/>
                  <a:gdLst/>
                  <a:ahLst/>
                  <a:rect l="l" t="t" r="r" b="b"/>
                  <a:pathLst>
                    <a:path w="528" h="490">
                      <a:moveTo>
                        <a:pt x="0" y="281"/>
                      </a:moveTo>
                      <a:lnTo>
                        <a:pt x="5" y="260"/>
                      </a:lnTo>
                      <a:lnTo>
                        <a:pt x="5" y="235"/>
                      </a:lnTo>
                      <a:lnTo>
                        <a:pt x="11" y="204"/>
                      </a:lnTo>
                      <a:lnTo>
                        <a:pt x="16" y="179"/>
                      </a:lnTo>
                      <a:lnTo>
                        <a:pt x="21" y="153"/>
                      </a:lnTo>
                      <a:lnTo>
                        <a:pt x="27" y="133"/>
                      </a:lnTo>
                      <a:lnTo>
                        <a:pt x="32" y="107"/>
                      </a:lnTo>
                      <a:lnTo>
                        <a:pt x="38" y="92"/>
                      </a:lnTo>
                      <a:lnTo>
                        <a:pt x="43" y="72"/>
                      </a:lnTo>
                      <a:lnTo>
                        <a:pt x="48" y="51"/>
                      </a:lnTo>
                      <a:lnTo>
                        <a:pt x="54" y="36"/>
                      </a:lnTo>
                      <a:lnTo>
                        <a:pt x="59" y="26"/>
                      </a:lnTo>
                      <a:lnTo>
                        <a:pt x="65" y="15"/>
                      </a:lnTo>
                      <a:lnTo>
                        <a:pt x="65" y="15"/>
                      </a:lnTo>
                      <a:lnTo>
                        <a:pt x="70" y="10"/>
                      </a:lnTo>
                      <a:lnTo>
                        <a:pt x="81" y="0"/>
                      </a:lnTo>
                      <a:lnTo>
                        <a:pt x="81" y="0"/>
                      </a:lnTo>
                      <a:lnTo>
                        <a:pt x="81" y="0"/>
                      </a:lnTo>
                      <a:lnTo>
                        <a:pt x="92" y="5"/>
                      </a:lnTo>
                      <a:lnTo>
                        <a:pt x="92" y="5"/>
                      </a:lnTo>
                      <a:lnTo>
                        <a:pt x="97" y="10"/>
                      </a:lnTo>
                      <a:lnTo>
                        <a:pt x="102" y="26"/>
                      </a:lnTo>
                      <a:lnTo>
                        <a:pt x="108" y="36"/>
                      </a:lnTo>
                      <a:lnTo>
                        <a:pt x="108" y="41"/>
                      </a:lnTo>
                      <a:lnTo>
                        <a:pt x="113" y="61"/>
                      </a:lnTo>
                      <a:lnTo>
                        <a:pt x="118" y="77"/>
                      </a:lnTo>
                      <a:lnTo>
                        <a:pt x="118" y="87"/>
                      </a:lnTo>
                      <a:lnTo>
                        <a:pt x="124" y="107"/>
                      </a:lnTo>
                      <a:lnTo>
                        <a:pt x="129" y="133"/>
                      </a:lnTo>
                      <a:lnTo>
                        <a:pt x="129" y="153"/>
                      </a:lnTo>
                      <a:lnTo>
                        <a:pt x="135" y="179"/>
                      </a:lnTo>
                      <a:lnTo>
                        <a:pt x="140" y="214"/>
                      </a:lnTo>
                      <a:lnTo>
                        <a:pt x="140" y="225"/>
                      </a:lnTo>
                      <a:lnTo>
                        <a:pt x="140" y="235"/>
                      </a:lnTo>
                      <a:lnTo>
                        <a:pt x="145" y="265"/>
                      </a:lnTo>
                      <a:lnTo>
                        <a:pt x="151" y="296"/>
                      </a:lnTo>
                      <a:lnTo>
                        <a:pt x="151" y="316"/>
                      </a:lnTo>
                      <a:lnTo>
                        <a:pt x="156" y="337"/>
                      </a:lnTo>
                      <a:lnTo>
                        <a:pt x="162" y="367"/>
                      </a:lnTo>
                      <a:lnTo>
                        <a:pt x="167" y="383"/>
                      </a:lnTo>
                      <a:lnTo>
                        <a:pt x="167" y="398"/>
                      </a:lnTo>
                      <a:lnTo>
                        <a:pt x="172" y="418"/>
                      </a:lnTo>
                      <a:lnTo>
                        <a:pt x="178" y="434"/>
                      </a:lnTo>
                      <a:lnTo>
                        <a:pt x="178" y="444"/>
                      </a:lnTo>
                      <a:lnTo>
                        <a:pt x="183" y="454"/>
                      </a:lnTo>
                      <a:lnTo>
                        <a:pt x="189" y="469"/>
                      </a:lnTo>
                      <a:lnTo>
                        <a:pt x="194" y="474"/>
                      </a:lnTo>
                      <a:lnTo>
                        <a:pt x="194" y="480"/>
                      </a:lnTo>
                      <a:lnTo>
                        <a:pt x="199" y="485"/>
                      </a:lnTo>
                      <a:lnTo>
                        <a:pt x="205" y="490"/>
                      </a:lnTo>
                      <a:lnTo>
                        <a:pt x="205" y="490"/>
                      </a:lnTo>
                      <a:lnTo>
                        <a:pt x="215" y="490"/>
                      </a:lnTo>
                      <a:lnTo>
                        <a:pt x="215" y="490"/>
                      </a:lnTo>
                      <a:lnTo>
                        <a:pt x="221" y="485"/>
                      </a:lnTo>
                      <a:lnTo>
                        <a:pt x="226" y="480"/>
                      </a:lnTo>
                      <a:lnTo>
                        <a:pt x="226" y="474"/>
                      </a:lnTo>
                      <a:lnTo>
                        <a:pt x="232" y="469"/>
                      </a:lnTo>
                      <a:lnTo>
                        <a:pt x="237" y="459"/>
                      </a:lnTo>
                      <a:lnTo>
                        <a:pt x="242" y="439"/>
                      </a:lnTo>
                      <a:lnTo>
                        <a:pt x="248" y="429"/>
                      </a:lnTo>
                      <a:lnTo>
                        <a:pt x="248" y="418"/>
                      </a:lnTo>
                      <a:lnTo>
                        <a:pt x="253" y="403"/>
                      </a:lnTo>
                      <a:lnTo>
                        <a:pt x="259" y="378"/>
                      </a:lnTo>
                      <a:lnTo>
                        <a:pt x="264" y="357"/>
                      </a:lnTo>
                      <a:lnTo>
                        <a:pt x="269" y="337"/>
                      </a:lnTo>
                      <a:lnTo>
                        <a:pt x="269" y="327"/>
                      </a:lnTo>
                      <a:lnTo>
                        <a:pt x="275" y="301"/>
                      </a:lnTo>
                      <a:lnTo>
                        <a:pt x="280" y="265"/>
                      </a:lnTo>
                      <a:lnTo>
                        <a:pt x="291" y="225"/>
                      </a:lnTo>
                      <a:lnTo>
                        <a:pt x="296" y="199"/>
                      </a:lnTo>
                      <a:lnTo>
                        <a:pt x="307" y="168"/>
                      </a:lnTo>
                      <a:lnTo>
                        <a:pt x="313" y="153"/>
                      </a:lnTo>
                      <a:lnTo>
                        <a:pt x="323" y="133"/>
                      </a:lnTo>
                      <a:lnTo>
                        <a:pt x="329" y="128"/>
                      </a:lnTo>
                      <a:lnTo>
                        <a:pt x="334" y="123"/>
                      </a:lnTo>
                      <a:lnTo>
                        <a:pt x="345" y="123"/>
                      </a:lnTo>
                      <a:lnTo>
                        <a:pt x="356" y="128"/>
                      </a:lnTo>
                      <a:lnTo>
                        <a:pt x="361" y="133"/>
                      </a:lnTo>
                      <a:lnTo>
                        <a:pt x="372" y="153"/>
                      </a:lnTo>
                      <a:lnTo>
                        <a:pt x="377" y="168"/>
                      </a:lnTo>
                      <a:lnTo>
                        <a:pt x="388" y="199"/>
                      </a:lnTo>
                      <a:lnTo>
                        <a:pt x="393" y="225"/>
                      </a:lnTo>
                      <a:lnTo>
                        <a:pt x="399" y="245"/>
                      </a:lnTo>
                      <a:lnTo>
                        <a:pt x="404" y="265"/>
                      </a:lnTo>
                      <a:lnTo>
                        <a:pt x="410" y="291"/>
                      </a:lnTo>
                      <a:lnTo>
                        <a:pt x="420" y="321"/>
                      </a:lnTo>
                      <a:lnTo>
                        <a:pt x="426" y="342"/>
                      </a:lnTo>
                      <a:lnTo>
                        <a:pt x="436" y="362"/>
                      </a:lnTo>
                      <a:lnTo>
                        <a:pt x="442" y="372"/>
                      </a:lnTo>
                      <a:lnTo>
                        <a:pt x="453" y="388"/>
                      </a:lnTo>
                      <a:lnTo>
                        <a:pt x="463" y="393"/>
                      </a:lnTo>
                      <a:lnTo>
                        <a:pt x="463" y="393"/>
                      </a:lnTo>
                      <a:lnTo>
                        <a:pt x="474" y="393"/>
                      </a:lnTo>
                      <a:lnTo>
                        <a:pt x="480" y="388"/>
                      </a:lnTo>
                      <a:lnTo>
                        <a:pt x="490" y="378"/>
                      </a:lnTo>
                      <a:lnTo>
                        <a:pt x="501" y="357"/>
                      </a:lnTo>
                      <a:lnTo>
                        <a:pt x="507" y="342"/>
                      </a:lnTo>
                      <a:lnTo>
                        <a:pt x="517" y="316"/>
                      </a:lnTo>
                      <a:lnTo>
                        <a:pt x="523" y="296"/>
                      </a:lnTo>
                      <a:lnTo>
                        <a:pt x="528" y="276"/>
                      </a:lnTo>
                      <a:lnTo>
                        <a:pt x="0" y="28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9" name=""/>
                <p:cNvSpPr/>
                <p:nvPr/>
              </p:nvSpPr>
              <p:spPr>
                <a:xfrm>
                  <a:off x="3786120" y="5091120"/>
                  <a:ext cx="838440" cy="777960"/>
                </a:xfrm>
                <a:custGeom>
                  <a:avLst/>
                  <a:gdLst/>
                  <a:ahLst/>
                  <a:rect l="l" t="t" r="r" b="b"/>
                  <a:pathLst>
                    <a:path w="528" h="490">
                      <a:moveTo>
                        <a:pt x="0" y="281"/>
                      </a:moveTo>
                      <a:lnTo>
                        <a:pt x="5" y="260"/>
                      </a:lnTo>
                      <a:lnTo>
                        <a:pt x="5" y="235"/>
                      </a:lnTo>
                      <a:lnTo>
                        <a:pt x="11" y="204"/>
                      </a:lnTo>
                      <a:lnTo>
                        <a:pt x="16" y="179"/>
                      </a:lnTo>
                      <a:lnTo>
                        <a:pt x="21" y="153"/>
                      </a:lnTo>
                      <a:lnTo>
                        <a:pt x="27" y="133"/>
                      </a:lnTo>
                      <a:lnTo>
                        <a:pt x="32" y="107"/>
                      </a:lnTo>
                      <a:lnTo>
                        <a:pt x="38" y="92"/>
                      </a:lnTo>
                      <a:lnTo>
                        <a:pt x="43" y="72"/>
                      </a:lnTo>
                      <a:lnTo>
                        <a:pt x="48" y="51"/>
                      </a:lnTo>
                      <a:lnTo>
                        <a:pt x="54" y="36"/>
                      </a:lnTo>
                      <a:lnTo>
                        <a:pt x="59" y="26"/>
                      </a:lnTo>
                      <a:lnTo>
                        <a:pt x="65" y="15"/>
                      </a:lnTo>
                      <a:lnTo>
                        <a:pt x="70" y="10"/>
                      </a:lnTo>
                      <a:lnTo>
                        <a:pt x="81" y="0"/>
                      </a:lnTo>
                      <a:lnTo>
                        <a:pt x="92" y="5"/>
                      </a:lnTo>
                      <a:lnTo>
                        <a:pt x="97" y="10"/>
                      </a:lnTo>
                      <a:lnTo>
                        <a:pt x="102" y="26"/>
                      </a:lnTo>
                      <a:lnTo>
                        <a:pt x="108" y="36"/>
                      </a:lnTo>
                      <a:lnTo>
                        <a:pt x="108" y="41"/>
                      </a:lnTo>
                      <a:lnTo>
                        <a:pt x="113" y="61"/>
                      </a:lnTo>
                      <a:lnTo>
                        <a:pt x="118" y="77"/>
                      </a:lnTo>
                      <a:lnTo>
                        <a:pt x="118" y="87"/>
                      </a:lnTo>
                      <a:lnTo>
                        <a:pt x="124" y="107"/>
                      </a:lnTo>
                      <a:lnTo>
                        <a:pt x="129" y="133"/>
                      </a:lnTo>
                      <a:lnTo>
                        <a:pt x="129" y="153"/>
                      </a:lnTo>
                      <a:lnTo>
                        <a:pt x="135" y="179"/>
                      </a:lnTo>
                      <a:lnTo>
                        <a:pt x="140" y="214"/>
                      </a:lnTo>
                      <a:lnTo>
                        <a:pt x="140" y="225"/>
                      </a:lnTo>
                      <a:lnTo>
                        <a:pt x="140" y="235"/>
                      </a:lnTo>
                      <a:lnTo>
                        <a:pt x="145" y="265"/>
                      </a:lnTo>
                      <a:lnTo>
                        <a:pt x="151" y="296"/>
                      </a:lnTo>
                      <a:lnTo>
                        <a:pt x="151" y="316"/>
                      </a:lnTo>
                      <a:lnTo>
                        <a:pt x="156" y="337"/>
                      </a:lnTo>
                      <a:lnTo>
                        <a:pt x="162" y="367"/>
                      </a:lnTo>
                      <a:lnTo>
                        <a:pt x="167" y="383"/>
                      </a:lnTo>
                      <a:lnTo>
                        <a:pt x="167" y="398"/>
                      </a:lnTo>
                      <a:lnTo>
                        <a:pt x="172" y="418"/>
                      </a:lnTo>
                      <a:lnTo>
                        <a:pt x="178" y="434"/>
                      </a:lnTo>
                      <a:lnTo>
                        <a:pt x="178" y="444"/>
                      </a:lnTo>
                      <a:lnTo>
                        <a:pt x="183" y="454"/>
                      </a:lnTo>
                      <a:lnTo>
                        <a:pt x="189" y="469"/>
                      </a:lnTo>
                      <a:lnTo>
                        <a:pt x="194" y="474"/>
                      </a:lnTo>
                      <a:lnTo>
                        <a:pt x="194" y="480"/>
                      </a:lnTo>
                      <a:lnTo>
                        <a:pt x="199" y="485"/>
                      </a:lnTo>
                      <a:lnTo>
                        <a:pt x="205" y="490"/>
                      </a:lnTo>
                      <a:lnTo>
                        <a:pt x="215" y="490"/>
                      </a:lnTo>
                      <a:lnTo>
                        <a:pt x="221" y="485"/>
                      </a:lnTo>
                      <a:lnTo>
                        <a:pt x="226" y="480"/>
                      </a:lnTo>
                      <a:lnTo>
                        <a:pt x="226" y="474"/>
                      </a:lnTo>
                      <a:lnTo>
                        <a:pt x="232" y="469"/>
                      </a:lnTo>
                      <a:lnTo>
                        <a:pt x="237" y="459"/>
                      </a:lnTo>
                      <a:lnTo>
                        <a:pt x="242" y="439"/>
                      </a:lnTo>
                      <a:lnTo>
                        <a:pt x="248" y="429"/>
                      </a:lnTo>
                      <a:lnTo>
                        <a:pt x="248" y="418"/>
                      </a:lnTo>
                      <a:lnTo>
                        <a:pt x="253" y="403"/>
                      </a:lnTo>
                      <a:lnTo>
                        <a:pt x="259" y="378"/>
                      </a:lnTo>
                      <a:lnTo>
                        <a:pt x="264" y="357"/>
                      </a:lnTo>
                      <a:lnTo>
                        <a:pt x="269" y="337"/>
                      </a:lnTo>
                      <a:lnTo>
                        <a:pt x="269" y="327"/>
                      </a:lnTo>
                      <a:lnTo>
                        <a:pt x="275" y="301"/>
                      </a:lnTo>
                      <a:lnTo>
                        <a:pt x="280" y="265"/>
                      </a:lnTo>
                      <a:lnTo>
                        <a:pt x="291" y="225"/>
                      </a:lnTo>
                      <a:lnTo>
                        <a:pt x="296" y="199"/>
                      </a:lnTo>
                      <a:lnTo>
                        <a:pt x="307" y="168"/>
                      </a:lnTo>
                      <a:lnTo>
                        <a:pt x="313" y="153"/>
                      </a:lnTo>
                      <a:lnTo>
                        <a:pt x="323" y="133"/>
                      </a:lnTo>
                      <a:lnTo>
                        <a:pt x="329" y="128"/>
                      </a:lnTo>
                      <a:lnTo>
                        <a:pt x="334" y="123"/>
                      </a:lnTo>
                      <a:lnTo>
                        <a:pt x="345" y="123"/>
                      </a:lnTo>
                      <a:lnTo>
                        <a:pt x="356" y="128"/>
                      </a:lnTo>
                      <a:lnTo>
                        <a:pt x="361" y="133"/>
                      </a:lnTo>
                      <a:lnTo>
                        <a:pt x="372" y="153"/>
                      </a:lnTo>
                      <a:lnTo>
                        <a:pt x="377" y="168"/>
                      </a:lnTo>
                      <a:lnTo>
                        <a:pt x="388" y="199"/>
                      </a:lnTo>
                      <a:lnTo>
                        <a:pt x="393" y="225"/>
                      </a:lnTo>
                      <a:lnTo>
                        <a:pt x="399" y="245"/>
                      </a:lnTo>
                      <a:lnTo>
                        <a:pt x="404" y="265"/>
                      </a:lnTo>
                      <a:lnTo>
                        <a:pt x="410" y="291"/>
                      </a:lnTo>
                      <a:lnTo>
                        <a:pt x="420" y="321"/>
                      </a:lnTo>
                      <a:lnTo>
                        <a:pt x="426" y="342"/>
                      </a:lnTo>
                      <a:lnTo>
                        <a:pt x="436" y="362"/>
                      </a:lnTo>
                      <a:lnTo>
                        <a:pt x="442" y="372"/>
                      </a:lnTo>
                      <a:lnTo>
                        <a:pt x="453" y="388"/>
                      </a:lnTo>
                      <a:lnTo>
                        <a:pt x="463" y="393"/>
                      </a:lnTo>
                      <a:lnTo>
                        <a:pt x="474" y="393"/>
                      </a:lnTo>
                      <a:lnTo>
                        <a:pt x="480" y="388"/>
                      </a:lnTo>
                      <a:lnTo>
                        <a:pt x="490" y="378"/>
                      </a:lnTo>
                      <a:lnTo>
                        <a:pt x="501" y="357"/>
                      </a:lnTo>
                      <a:lnTo>
                        <a:pt x="507" y="342"/>
                      </a:lnTo>
                      <a:lnTo>
                        <a:pt x="517" y="316"/>
                      </a:lnTo>
                      <a:lnTo>
                        <a:pt x="523" y="296"/>
                      </a:lnTo>
                      <a:lnTo>
                        <a:pt x="528" y="276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0" name=""/>
                <p:cNvSpPr/>
                <p:nvPr/>
              </p:nvSpPr>
              <p:spPr>
                <a:xfrm>
                  <a:off x="4616640" y="5367240"/>
                  <a:ext cx="838080" cy="298440"/>
                </a:xfrm>
                <a:custGeom>
                  <a:avLst/>
                  <a:gdLst/>
                  <a:ahLst/>
                  <a:rect l="l" t="t" r="r" b="b"/>
                  <a:pathLst>
                    <a:path w="528" h="188">
                      <a:moveTo>
                        <a:pt x="0" y="107"/>
                      </a:moveTo>
                      <a:lnTo>
                        <a:pt x="5" y="96"/>
                      </a:lnTo>
                      <a:lnTo>
                        <a:pt x="16" y="71"/>
                      </a:lnTo>
                      <a:lnTo>
                        <a:pt x="27" y="51"/>
                      </a:lnTo>
                      <a:lnTo>
                        <a:pt x="37" y="35"/>
                      </a:lnTo>
                      <a:lnTo>
                        <a:pt x="48" y="20"/>
                      </a:lnTo>
                      <a:lnTo>
                        <a:pt x="54" y="15"/>
                      </a:lnTo>
                      <a:lnTo>
                        <a:pt x="70" y="5"/>
                      </a:lnTo>
                      <a:lnTo>
                        <a:pt x="70" y="5"/>
                      </a:lnTo>
                      <a:lnTo>
                        <a:pt x="86" y="0"/>
                      </a:lnTo>
                      <a:lnTo>
                        <a:pt x="97" y="5"/>
                      </a:lnTo>
                      <a:lnTo>
                        <a:pt x="102" y="10"/>
                      </a:lnTo>
                      <a:lnTo>
                        <a:pt x="108" y="15"/>
                      </a:lnTo>
                      <a:lnTo>
                        <a:pt x="118" y="30"/>
                      </a:lnTo>
                      <a:lnTo>
                        <a:pt x="124" y="35"/>
                      </a:lnTo>
                      <a:lnTo>
                        <a:pt x="134" y="61"/>
                      </a:lnTo>
                      <a:lnTo>
                        <a:pt x="140" y="71"/>
                      </a:lnTo>
                      <a:lnTo>
                        <a:pt x="145" y="86"/>
                      </a:lnTo>
                      <a:lnTo>
                        <a:pt x="151" y="102"/>
                      </a:lnTo>
                      <a:lnTo>
                        <a:pt x="156" y="117"/>
                      </a:lnTo>
                      <a:lnTo>
                        <a:pt x="161" y="132"/>
                      </a:lnTo>
                      <a:lnTo>
                        <a:pt x="172" y="153"/>
                      </a:lnTo>
                      <a:lnTo>
                        <a:pt x="178" y="163"/>
                      </a:lnTo>
                      <a:lnTo>
                        <a:pt x="188" y="178"/>
                      </a:lnTo>
                      <a:lnTo>
                        <a:pt x="194" y="183"/>
                      </a:lnTo>
                      <a:lnTo>
                        <a:pt x="199" y="183"/>
                      </a:lnTo>
                      <a:lnTo>
                        <a:pt x="210" y="188"/>
                      </a:lnTo>
                      <a:lnTo>
                        <a:pt x="215" y="188"/>
                      </a:lnTo>
                      <a:lnTo>
                        <a:pt x="221" y="183"/>
                      </a:lnTo>
                      <a:lnTo>
                        <a:pt x="226" y="178"/>
                      </a:lnTo>
                      <a:lnTo>
                        <a:pt x="237" y="173"/>
                      </a:lnTo>
                      <a:lnTo>
                        <a:pt x="248" y="153"/>
                      </a:lnTo>
                      <a:lnTo>
                        <a:pt x="253" y="142"/>
                      </a:lnTo>
                      <a:lnTo>
                        <a:pt x="258" y="127"/>
                      </a:lnTo>
                      <a:lnTo>
                        <a:pt x="264" y="117"/>
                      </a:lnTo>
                      <a:lnTo>
                        <a:pt x="269" y="107"/>
                      </a:lnTo>
                      <a:lnTo>
                        <a:pt x="275" y="91"/>
                      </a:lnTo>
                      <a:lnTo>
                        <a:pt x="280" y="76"/>
                      </a:lnTo>
                      <a:lnTo>
                        <a:pt x="291" y="61"/>
                      </a:lnTo>
                      <a:lnTo>
                        <a:pt x="296" y="51"/>
                      </a:lnTo>
                      <a:lnTo>
                        <a:pt x="307" y="40"/>
                      </a:lnTo>
                      <a:lnTo>
                        <a:pt x="312" y="35"/>
                      </a:lnTo>
                      <a:lnTo>
                        <a:pt x="318" y="30"/>
                      </a:lnTo>
                      <a:lnTo>
                        <a:pt x="323" y="30"/>
                      </a:lnTo>
                      <a:lnTo>
                        <a:pt x="334" y="30"/>
                      </a:lnTo>
                      <a:lnTo>
                        <a:pt x="345" y="30"/>
                      </a:lnTo>
                      <a:lnTo>
                        <a:pt x="355" y="35"/>
                      </a:lnTo>
                      <a:lnTo>
                        <a:pt x="355" y="40"/>
                      </a:lnTo>
                      <a:lnTo>
                        <a:pt x="366" y="45"/>
                      </a:lnTo>
                      <a:lnTo>
                        <a:pt x="377" y="61"/>
                      </a:lnTo>
                      <a:lnTo>
                        <a:pt x="382" y="71"/>
                      </a:lnTo>
                      <a:lnTo>
                        <a:pt x="388" y="81"/>
                      </a:lnTo>
                      <a:lnTo>
                        <a:pt x="393" y="91"/>
                      </a:lnTo>
                      <a:lnTo>
                        <a:pt x="399" y="102"/>
                      </a:lnTo>
                      <a:lnTo>
                        <a:pt x="409" y="117"/>
                      </a:lnTo>
                      <a:lnTo>
                        <a:pt x="415" y="122"/>
                      </a:lnTo>
                      <a:lnTo>
                        <a:pt x="426" y="137"/>
                      </a:lnTo>
                      <a:lnTo>
                        <a:pt x="436" y="142"/>
                      </a:lnTo>
                      <a:lnTo>
                        <a:pt x="447" y="147"/>
                      </a:lnTo>
                      <a:lnTo>
                        <a:pt x="447" y="147"/>
                      </a:lnTo>
                      <a:lnTo>
                        <a:pt x="463" y="153"/>
                      </a:lnTo>
                      <a:lnTo>
                        <a:pt x="463" y="153"/>
                      </a:lnTo>
                      <a:lnTo>
                        <a:pt x="479" y="147"/>
                      </a:lnTo>
                      <a:lnTo>
                        <a:pt x="490" y="142"/>
                      </a:lnTo>
                      <a:lnTo>
                        <a:pt x="496" y="137"/>
                      </a:lnTo>
                      <a:lnTo>
                        <a:pt x="506" y="127"/>
                      </a:lnTo>
                      <a:lnTo>
                        <a:pt x="512" y="122"/>
                      </a:lnTo>
                      <a:lnTo>
                        <a:pt x="523" y="112"/>
                      </a:lnTo>
                      <a:lnTo>
                        <a:pt x="528" y="102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1" name=""/>
                <p:cNvSpPr/>
                <p:nvPr/>
              </p:nvSpPr>
              <p:spPr>
                <a:xfrm>
                  <a:off x="4616640" y="5367240"/>
                  <a:ext cx="838080" cy="298440"/>
                </a:xfrm>
                <a:custGeom>
                  <a:avLst/>
                  <a:gdLst/>
                  <a:ahLst/>
                  <a:rect l="l" t="t" r="r" b="b"/>
                  <a:pathLst>
                    <a:path w="528" h="188">
                      <a:moveTo>
                        <a:pt x="0" y="107"/>
                      </a:moveTo>
                      <a:lnTo>
                        <a:pt x="5" y="96"/>
                      </a:lnTo>
                      <a:lnTo>
                        <a:pt x="16" y="71"/>
                      </a:lnTo>
                      <a:lnTo>
                        <a:pt x="27" y="51"/>
                      </a:lnTo>
                      <a:lnTo>
                        <a:pt x="37" y="35"/>
                      </a:lnTo>
                      <a:lnTo>
                        <a:pt x="48" y="20"/>
                      </a:lnTo>
                      <a:lnTo>
                        <a:pt x="54" y="15"/>
                      </a:lnTo>
                      <a:lnTo>
                        <a:pt x="70" y="5"/>
                      </a:lnTo>
                      <a:lnTo>
                        <a:pt x="86" y="0"/>
                      </a:lnTo>
                      <a:lnTo>
                        <a:pt x="97" y="5"/>
                      </a:lnTo>
                      <a:lnTo>
                        <a:pt x="102" y="10"/>
                      </a:lnTo>
                      <a:lnTo>
                        <a:pt x="108" y="15"/>
                      </a:lnTo>
                      <a:lnTo>
                        <a:pt x="118" y="30"/>
                      </a:lnTo>
                      <a:lnTo>
                        <a:pt x="124" y="35"/>
                      </a:lnTo>
                      <a:lnTo>
                        <a:pt x="134" y="61"/>
                      </a:lnTo>
                      <a:lnTo>
                        <a:pt x="140" y="71"/>
                      </a:lnTo>
                      <a:lnTo>
                        <a:pt x="145" y="86"/>
                      </a:lnTo>
                      <a:lnTo>
                        <a:pt x="151" y="102"/>
                      </a:lnTo>
                      <a:lnTo>
                        <a:pt x="156" y="117"/>
                      </a:lnTo>
                      <a:lnTo>
                        <a:pt x="161" y="132"/>
                      </a:lnTo>
                      <a:lnTo>
                        <a:pt x="172" y="153"/>
                      </a:lnTo>
                      <a:lnTo>
                        <a:pt x="178" y="163"/>
                      </a:lnTo>
                      <a:lnTo>
                        <a:pt x="188" y="178"/>
                      </a:lnTo>
                      <a:lnTo>
                        <a:pt x="194" y="183"/>
                      </a:lnTo>
                      <a:lnTo>
                        <a:pt x="199" y="183"/>
                      </a:lnTo>
                      <a:lnTo>
                        <a:pt x="210" y="188"/>
                      </a:lnTo>
                      <a:lnTo>
                        <a:pt x="215" y="188"/>
                      </a:lnTo>
                      <a:lnTo>
                        <a:pt x="221" y="183"/>
                      </a:lnTo>
                      <a:lnTo>
                        <a:pt x="226" y="178"/>
                      </a:lnTo>
                      <a:lnTo>
                        <a:pt x="237" y="173"/>
                      </a:lnTo>
                      <a:lnTo>
                        <a:pt x="248" y="153"/>
                      </a:lnTo>
                      <a:lnTo>
                        <a:pt x="253" y="142"/>
                      </a:lnTo>
                      <a:lnTo>
                        <a:pt x="258" y="127"/>
                      </a:lnTo>
                      <a:lnTo>
                        <a:pt x="264" y="117"/>
                      </a:lnTo>
                      <a:lnTo>
                        <a:pt x="269" y="107"/>
                      </a:lnTo>
                      <a:lnTo>
                        <a:pt x="275" y="91"/>
                      </a:lnTo>
                      <a:lnTo>
                        <a:pt x="280" y="76"/>
                      </a:lnTo>
                      <a:lnTo>
                        <a:pt x="291" y="61"/>
                      </a:lnTo>
                      <a:lnTo>
                        <a:pt x="296" y="51"/>
                      </a:lnTo>
                      <a:lnTo>
                        <a:pt x="307" y="40"/>
                      </a:lnTo>
                      <a:lnTo>
                        <a:pt x="312" y="35"/>
                      </a:lnTo>
                      <a:lnTo>
                        <a:pt x="318" y="30"/>
                      </a:lnTo>
                      <a:lnTo>
                        <a:pt x="323" y="30"/>
                      </a:lnTo>
                      <a:lnTo>
                        <a:pt x="334" y="30"/>
                      </a:lnTo>
                      <a:lnTo>
                        <a:pt x="345" y="30"/>
                      </a:lnTo>
                      <a:lnTo>
                        <a:pt x="355" y="35"/>
                      </a:lnTo>
                      <a:lnTo>
                        <a:pt x="355" y="40"/>
                      </a:lnTo>
                      <a:lnTo>
                        <a:pt x="366" y="45"/>
                      </a:lnTo>
                      <a:lnTo>
                        <a:pt x="377" y="61"/>
                      </a:lnTo>
                      <a:lnTo>
                        <a:pt x="382" y="71"/>
                      </a:lnTo>
                      <a:lnTo>
                        <a:pt x="388" y="81"/>
                      </a:lnTo>
                      <a:lnTo>
                        <a:pt x="393" y="91"/>
                      </a:lnTo>
                      <a:lnTo>
                        <a:pt x="399" y="102"/>
                      </a:lnTo>
                      <a:lnTo>
                        <a:pt x="409" y="117"/>
                      </a:lnTo>
                      <a:lnTo>
                        <a:pt x="415" y="122"/>
                      </a:lnTo>
                      <a:lnTo>
                        <a:pt x="426" y="137"/>
                      </a:lnTo>
                      <a:lnTo>
                        <a:pt x="436" y="142"/>
                      </a:lnTo>
                      <a:lnTo>
                        <a:pt x="447" y="147"/>
                      </a:lnTo>
                      <a:lnTo>
                        <a:pt x="463" y="153"/>
                      </a:lnTo>
                      <a:lnTo>
                        <a:pt x="479" y="147"/>
                      </a:lnTo>
                      <a:lnTo>
                        <a:pt x="490" y="142"/>
                      </a:lnTo>
                      <a:lnTo>
                        <a:pt x="496" y="137"/>
                      </a:lnTo>
                      <a:lnTo>
                        <a:pt x="506" y="127"/>
                      </a:lnTo>
                      <a:lnTo>
                        <a:pt x="512" y="122"/>
                      </a:lnTo>
                      <a:lnTo>
                        <a:pt x="523" y="112"/>
                      </a:lnTo>
                      <a:lnTo>
                        <a:pt x="528" y="102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2" name=""/>
              <p:cNvGrpSpPr/>
              <p:nvPr/>
            </p:nvGrpSpPr>
            <p:grpSpPr>
              <a:xfrm>
                <a:off x="3665520" y="5091120"/>
                <a:ext cx="1670040" cy="777960"/>
                <a:chOff x="3665520" y="5091120"/>
                <a:chExt cx="1670040" cy="777960"/>
              </a:xfrm>
            </p:grpSpPr>
            <p:sp>
              <p:nvSpPr>
                <p:cNvPr id="4983" name=""/>
                <p:cNvSpPr/>
                <p:nvPr/>
              </p:nvSpPr>
              <p:spPr>
                <a:xfrm>
                  <a:off x="3665520" y="5091120"/>
                  <a:ext cx="839880" cy="777960"/>
                </a:xfrm>
                <a:custGeom>
                  <a:avLst/>
                  <a:gdLst/>
                  <a:ahLst/>
                  <a:rect l="l" t="t" r="r" b="b"/>
                  <a:pathLst>
                    <a:path w="529" h="490">
                      <a:moveTo>
                        <a:pt x="0" y="281"/>
                      </a:moveTo>
                      <a:lnTo>
                        <a:pt x="6" y="260"/>
                      </a:lnTo>
                      <a:lnTo>
                        <a:pt x="6" y="235"/>
                      </a:lnTo>
                      <a:lnTo>
                        <a:pt x="11" y="204"/>
                      </a:lnTo>
                      <a:lnTo>
                        <a:pt x="17" y="179"/>
                      </a:lnTo>
                      <a:lnTo>
                        <a:pt x="22" y="153"/>
                      </a:lnTo>
                      <a:lnTo>
                        <a:pt x="27" y="133"/>
                      </a:lnTo>
                      <a:lnTo>
                        <a:pt x="33" y="107"/>
                      </a:lnTo>
                      <a:lnTo>
                        <a:pt x="38" y="92"/>
                      </a:lnTo>
                      <a:lnTo>
                        <a:pt x="44" y="72"/>
                      </a:lnTo>
                      <a:lnTo>
                        <a:pt x="49" y="56"/>
                      </a:lnTo>
                      <a:lnTo>
                        <a:pt x="54" y="36"/>
                      </a:lnTo>
                      <a:lnTo>
                        <a:pt x="60" y="26"/>
                      </a:lnTo>
                      <a:lnTo>
                        <a:pt x="65" y="15"/>
                      </a:lnTo>
                      <a:lnTo>
                        <a:pt x="70" y="10"/>
                      </a:lnTo>
                      <a:lnTo>
                        <a:pt x="81" y="0"/>
                      </a:lnTo>
                      <a:lnTo>
                        <a:pt x="87" y="0"/>
                      </a:lnTo>
                      <a:lnTo>
                        <a:pt x="92" y="5"/>
                      </a:lnTo>
                      <a:lnTo>
                        <a:pt x="97" y="10"/>
                      </a:lnTo>
                      <a:lnTo>
                        <a:pt x="103" y="21"/>
                      </a:lnTo>
                      <a:lnTo>
                        <a:pt x="108" y="31"/>
                      </a:lnTo>
                      <a:lnTo>
                        <a:pt x="114" y="46"/>
                      </a:lnTo>
                      <a:lnTo>
                        <a:pt x="119" y="61"/>
                      </a:lnTo>
                      <a:lnTo>
                        <a:pt x="119" y="72"/>
                      </a:lnTo>
                      <a:lnTo>
                        <a:pt x="124" y="87"/>
                      </a:lnTo>
                      <a:lnTo>
                        <a:pt x="130" y="112"/>
                      </a:lnTo>
                      <a:lnTo>
                        <a:pt x="135" y="133"/>
                      </a:lnTo>
                      <a:lnTo>
                        <a:pt x="135" y="153"/>
                      </a:lnTo>
                      <a:lnTo>
                        <a:pt x="141" y="184"/>
                      </a:lnTo>
                      <a:lnTo>
                        <a:pt x="146" y="214"/>
                      </a:lnTo>
                      <a:lnTo>
                        <a:pt x="146" y="225"/>
                      </a:lnTo>
                      <a:lnTo>
                        <a:pt x="146" y="235"/>
                      </a:lnTo>
                      <a:lnTo>
                        <a:pt x="151" y="265"/>
                      </a:lnTo>
                      <a:lnTo>
                        <a:pt x="157" y="296"/>
                      </a:lnTo>
                      <a:lnTo>
                        <a:pt x="157" y="316"/>
                      </a:lnTo>
                      <a:lnTo>
                        <a:pt x="162" y="337"/>
                      </a:lnTo>
                      <a:lnTo>
                        <a:pt x="168" y="367"/>
                      </a:lnTo>
                      <a:lnTo>
                        <a:pt x="173" y="383"/>
                      </a:lnTo>
                      <a:lnTo>
                        <a:pt x="173" y="398"/>
                      </a:lnTo>
                      <a:lnTo>
                        <a:pt x="178" y="418"/>
                      </a:lnTo>
                      <a:lnTo>
                        <a:pt x="184" y="434"/>
                      </a:lnTo>
                      <a:lnTo>
                        <a:pt x="184" y="444"/>
                      </a:lnTo>
                      <a:lnTo>
                        <a:pt x="189" y="454"/>
                      </a:lnTo>
                      <a:lnTo>
                        <a:pt x="194" y="469"/>
                      </a:lnTo>
                      <a:lnTo>
                        <a:pt x="200" y="480"/>
                      </a:lnTo>
                      <a:lnTo>
                        <a:pt x="205" y="490"/>
                      </a:lnTo>
                      <a:lnTo>
                        <a:pt x="211" y="490"/>
                      </a:lnTo>
                      <a:lnTo>
                        <a:pt x="221" y="490"/>
                      </a:lnTo>
                      <a:lnTo>
                        <a:pt x="216" y="490"/>
                      </a:lnTo>
                      <a:lnTo>
                        <a:pt x="227" y="485"/>
                      </a:lnTo>
                      <a:lnTo>
                        <a:pt x="232" y="469"/>
                      </a:lnTo>
                      <a:lnTo>
                        <a:pt x="238" y="464"/>
                      </a:lnTo>
                      <a:lnTo>
                        <a:pt x="238" y="459"/>
                      </a:lnTo>
                      <a:lnTo>
                        <a:pt x="243" y="444"/>
                      </a:lnTo>
                      <a:lnTo>
                        <a:pt x="248" y="429"/>
                      </a:lnTo>
                      <a:lnTo>
                        <a:pt x="254" y="413"/>
                      </a:lnTo>
                      <a:lnTo>
                        <a:pt x="254" y="403"/>
                      </a:lnTo>
                      <a:lnTo>
                        <a:pt x="259" y="383"/>
                      </a:lnTo>
                      <a:lnTo>
                        <a:pt x="265" y="357"/>
                      </a:lnTo>
                      <a:lnTo>
                        <a:pt x="270" y="337"/>
                      </a:lnTo>
                      <a:lnTo>
                        <a:pt x="270" y="327"/>
                      </a:lnTo>
                      <a:lnTo>
                        <a:pt x="275" y="301"/>
                      </a:lnTo>
                      <a:lnTo>
                        <a:pt x="281" y="265"/>
                      </a:lnTo>
                      <a:lnTo>
                        <a:pt x="291" y="230"/>
                      </a:lnTo>
                      <a:lnTo>
                        <a:pt x="302" y="194"/>
                      </a:lnTo>
                      <a:lnTo>
                        <a:pt x="308" y="174"/>
                      </a:lnTo>
                      <a:lnTo>
                        <a:pt x="318" y="148"/>
                      </a:lnTo>
                      <a:lnTo>
                        <a:pt x="324" y="138"/>
                      </a:lnTo>
                      <a:lnTo>
                        <a:pt x="335" y="123"/>
                      </a:lnTo>
                      <a:lnTo>
                        <a:pt x="340" y="123"/>
                      </a:lnTo>
                      <a:lnTo>
                        <a:pt x="345" y="123"/>
                      </a:lnTo>
                      <a:lnTo>
                        <a:pt x="362" y="128"/>
                      </a:lnTo>
                      <a:lnTo>
                        <a:pt x="367" y="138"/>
                      </a:lnTo>
                      <a:lnTo>
                        <a:pt x="372" y="148"/>
                      </a:lnTo>
                      <a:lnTo>
                        <a:pt x="383" y="174"/>
                      </a:lnTo>
                      <a:lnTo>
                        <a:pt x="389" y="199"/>
                      </a:lnTo>
                      <a:lnTo>
                        <a:pt x="394" y="225"/>
                      </a:lnTo>
                      <a:lnTo>
                        <a:pt x="399" y="245"/>
                      </a:lnTo>
                      <a:lnTo>
                        <a:pt x="405" y="265"/>
                      </a:lnTo>
                      <a:lnTo>
                        <a:pt x="410" y="291"/>
                      </a:lnTo>
                      <a:lnTo>
                        <a:pt x="421" y="327"/>
                      </a:lnTo>
                      <a:lnTo>
                        <a:pt x="426" y="342"/>
                      </a:lnTo>
                      <a:lnTo>
                        <a:pt x="437" y="367"/>
                      </a:lnTo>
                      <a:lnTo>
                        <a:pt x="442" y="378"/>
                      </a:lnTo>
                      <a:lnTo>
                        <a:pt x="453" y="393"/>
                      </a:lnTo>
                      <a:lnTo>
                        <a:pt x="459" y="393"/>
                      </a:lnTo>
                      <a:lnTo>
                        <a:pt x="469" y="398"/>
                      </a:lnTo>
                      <a:lnTo>
                        <a:pt x="480" y="393"/>
                      </a:lnTo>
                      <a:lnTo>
                        <a:pt x="480" y="388"/>
                      </a:lnTo>
                      <a:lnTo>
                        <a:pt x="491" y="378"/>
                      </a:lnTo>
                      <a:lnTo>
                        <a:pt x="502" y="357"/>
                      </a:lnTo>
                      <a:lnTo>
                        <a:pt x="507" y="347"/>
                      </a:lnTo>
                      <a:lnTo>
                        <a:pt x="518" y="316"/>
                      </a:lnTo>
                      <a:lnTo>
                        <a:pt x="523" y="296"/>
                      </a:lnTo>
                      <a:lnTo>
                        <a:pt x="529" y="276"/>
                      </a:lnTo>
                    </a:path>
                  </a:pathLst>
                </a:custGeom>
                <a:noFill/>
                <a:ln w="176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4" name=""/>
                <p:cNvSpPr/>
                <p:nvPr/>
              </p:nvSpPr>
              <p:spPr>
                <a:xfrm>
                  <a:off x="4496040" y="5367240"/>
                  <a:ext cx="839520" cy="298440"/>
                </a:xfrm>
                <a:custGeom>
                  <a:avLst/>
                  <a:gdLst/>
                  <a:ahLst/>
                  <a:rect l="l" t="t" r="r" b="b"/>
                  <a:pathLst>
                    <a:path w="529" h="188">
                      <a:moveTo>
                        <a:pt x="0" y="107"/>
                      </a:moveTo>
                      <a:lnTo>
                        <a:pt x="6" y="96"/>
                      </a:lnTo>
                      <a:lnTo>
                        <a:pt x="16" y="71"/>
                      </a:lnTo>
                      <a:lnTo>
                        <a:pt x="27" y="51"/>
                      </a:lnTo>
                      <a:lnTo>
                        <a:pt x="38" y="35"/>
                      </a:lnTo>
                      <a:lnTo>
                        <a:pt x="49" y="20"/>
                      </a:lnTo>
                      <a:lnTo>
                        <a:pt x="54" y="15"/>
                      </a:lnTo>
                      <a:lnTo>
                        <a:pt x="70" y="5"/>
                      </a:lnTo>
                      <a:lnTo>
                        <a:pt x="87" y="0"/>
                      </a:lnTo>
                      <a:lnTo>
                        <a:pt x="97" y="5"/>
                      </a:lnTo>
                      <a:lnTo>
                        <a:pt x="103" y="10"/>
                      </a:lnTo>
                      <a:lnTo>
                        <a:pt x="108" y="15"/>
                      </a:lnTo>
                      <a:lnTo>
                        <a:pt x="119" y="30"/>
                      </a:lnTo>
                      <a:lnTo>
                        <a:pt x="124" y="35"/>
                      </a:lnTo>
                      <a:lnTo>
                        <a:pt x="135" y="61"/>
                      </a:lnTo>
                      <a:lnTo>
                        <a:pt x="140" y="71"/>
                      </a:lnTo>
                      <a:lnTo>
                        <a:pt x="146" y="86"/>
                      </a:lnTo>
                      <a:lnTo>
                        <a:pt x="151" y="102"/>
                      </a:lnTo>
                      <a:lnTo>
                        <a:pt x="157" y="117"/>
                      </a:lnTo>
                      <a:lnTo>
                        <a:pt x="162" y="132"/>
                      </a:lnTo>
                      <a:lnTo>
                        <a:pt x="173" y="153"/>
                      </a:lnTo>
                      <a:lnTo>
                        <a:pt x="178" y="163"/>
                      </a:lnTo>
                      <a:lnTo>
                        <a:pt x="189" y="178"/>
                      </a:lnTo>
                      <a:lnTo>
                        <a:pt x="194" y="183"/>
                      </a:lnTo>
                      <a:lnTo>
                        <a:pt x="200" y="183"/>
                      </a:lnTo>
                      <a:lnTo>
                        <a:pt x="210" y="188"/>
                      </a:lnTo>
                      <a:lnTo>
                        <a:pt x="216" y="188"/>
                      </a:lnTo>
                      <a:lnTo>
                        <a:pt x="221" y="183"/>
                      </a:lnTo>
                      <a:lnTo>
                        <a:pt x="227" y="178"/>
                      </a:lnTo>
                      <a:lnTo>
                        <a:pt x="237" y="173"/>
                      </a:lnTo>
                      <a:lnTo>
                        <a:pt x="248" y="153"/>
                      </a:lnTo>
                      <a:lnTo>
                        <a:pt x="254" y="142"/>
                      </a:lnTo>
                      <a:lnTo>
                        <a:pt x="259" y="127"/>
                      </a:lnTo>
                      <a:lnTo>
                        <a:pt x="264" y="117"/>
                      </a:lnTo>
                      <a:lnTo>
                        <a:pt x="270" y="107"/>
                      </a:lnTo>
                      <a:lnTo>
                        <a:pt x="275" y="91"/>
                      </a:lnTo>
                      <a:lnTo>
                        <a:pt x="281" y="76"/>
                      </a:lnTo>
                      <a:lnTo>
                        <a:pt x="291" y="61"/>
                      </a:lnTo>
                      <a:lnTo>
                        <a:pt x="297" y="56"/>
                      </a:lnTo>
                      <a:lnTo>
                        <a:pt x="308" y="40"/>
                      </a:lnTo>
                      <a:lnTo>
                        <a:pt x="318" y="35"/>
                      </a:lnTo>
                      <a:lnTo>
                        <a:pt x="329" y="30"/>
                      </a:lnTo>
                      <a:lnTo>
                        <a:pt x="334" y="30"/>
                      </a:lnTo>
                      <a:lnTo>
                        <a:pt x="345" y="35"/>
                      </a:lnTo>
                      <a:lnTo>
                        <a:pt x="356" y="40"/>
                      </a:lnTo>
                      <a:lnTo>
                        <a:pt x="356" y="45"/>
                      </a:lnTo>
                      <a:lnTo>
                        <a:pt x="367" y="51"/>
                      </a:lnTo>
                      <a:lnTo>
                        <a:pt x="378" y="66"/>
                      </a:lnTo>
                      <a:lnTo>
                        <a:pt x="383" y="76"/>
                      </a:lnTo>
                      <a:lnTo>
                        <a:pt x="388" y="86"/>
                      </a:lnTo>
                      <a:lnTo>
                        <a:pt x="394" y="96"/>
                      </a:lnTo>
                      <a:lnTo>
                        <a:pt x="399" y="107"/>
                      </a:lnTo>
                      <a:lnTo>
                        <a:pt x="410" y="122"/>
                      </a:lnTo>
                      <a:lnTo>
                        <a:pt x="415" y="127"/>
                      </a:lnTo>
                      <a:lnTo>
                        <a:pt x="426" y="137"/>
                      </a:lnTo>
                      <a:lnTo>
                        <a:pt x="431" y="142"/>
                      </a:lnTo>
                      <a:lnTo>
                        <a:pt x="442" y="147"/>
                      </a:lnTo>
                      <a:lnTo>
                        <a:pt x="453" y="153"/>
                      </a:lnTo>
                      <a:lnTo>
                        <a:pt x="464" y="153"/>
                      </a:lnTo>
                      <a:lnTo>
                        <a:pt x="480" y="147"/>
                      </a:lnTo>
                      <a:lnTo>
                        <a:pt x="491" y="142"/>
                      </a:lnTo>
                      <a:lnTo>
                        <a:pt x="496" y="137"/>
                      </a:lnTo>
                      <a:lnTo>
                        <a:pt x="502" y="132"/>
                      </a:lnTo>
                      <a:lnTo>
                        <a:pt x="512" y="122"/>
                      </a:lnTo>
                      <a:lnTo>
                        <a:pt x="523" y="112"/>
                      </a:lnTo>
                      <a:lnTo>
                        <a:pt x="529" y="102"/>
                      </a:lnTo>
                    </a:path>
                  </a:pathLst>
                </a:custGeom>
                <a:noFill/>
                <a:ln w="176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5" name=""/>
              <p:cNvGrpSpPr/>
              <p:nvPr/>
            </p:nvGrpSpPr>
            <p:grpSpPr>
              <a:xfrm>
                <a:off x="3521160" y="5504040"/>
                <a:ext cx="2079720" cy="48960"/>
                <a:chOff x="3521160" y="5504040"/>
                <a:chExt cx="2079720" cy="48960"/>
              </a:xfrm>
            </p:grpSpPr>
            <p:sp>
              <p:nvSpPr>
                <p:cNvPr id="4986" name=""/>
                <p:cNvSpPr/>
                <p:nvPr/>
              </p:nvSpPr>
              <p:spPr>
                <a:xfrm>
                  <a:off x="5489640" y="5504040"/>
                  <a:ext cx="111240" cy="48960"/>
                </a:xfrm>
                <a:custGeom>
                  <a:avLst/>
                  <a:gdLst/>
                  <a:ahLst/>
                  <a:rect l="l" t="t" r="r" b="b"/>
                  <a:pathLst>
                    <a:path w="70" h="31">
                      <a:moveTo>
                        <a:pt x="70" y="16"/>
                      </a:moveTo>
                      <a:lnTo>
                        <a:pt x="5" y="31"/>
                      </a:lnTo>
                      <a:lnTo>
                        <a:pt x="5" y="16"/>
                      </a:lnTo>
                      <a:lnTo>
                        <a:pt x="0" y="0"/>
                      </a:lnTo>
                      <a:lnTo>
                        <a:pt x="7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7" name=""/>
                <p:cNvSpPr/>
                <p:nvPr/>
              </p:nvSpPr>
              <p:spPr>
                <a:xfrm flipV="1">
                  <a:off x="3521160" y="5529240"/>
                  <a:ext cx="1976400" cy="7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88" name=""/>
              <p:cNvSpPr/>
              <p:nvPr/>
            </p:nvSpPr>
            <p:spPr>
              <a:xfrm>
                <a:off x="3786120" y="5318280"/>
                <a:ext cx="1643400" cy="428400"/>
              </a:xfrm>
              <a:custGeom>
                <a:avLst/>
                <a:gdLst/>
                <a:ahLst/>
                <a:rect l="l" t="t" r="r" b="b"/>
                <a:pathLst>
                  <a:path w="1035" h="270">
                    <a:moveTo>
                      <a:pt x="0" y="138"/>
                    </a:moveTo>
                    <a:lnTo>
                      <a:pt x="5" y="122"/>
                    </a:lnTo>
                    <a:lnTo>
                      <a:pt x="5" y="102"/>
                    </a:lnTo>
                    <a:lnTo>
                      <a:pt x="11" y="82"/>
                    </a:lnTo>
                    <a:lnTo>
                      <a:pt x="16" y="66"/>
                    </a:lnTo>
                    <a:lnTo>
                      <a:pt x="21" y="51"/>
                    </a:lnTo>
                    <a:lnTo>
                      <a:pt x="27" y="31"/>
                    </a:lnTo>
                    <a:lnTo>
                      <a:pt x="32" y="20"/>
                    </a:lnTo>
                    <a:lnTo>
                      <a:pt x="32" y="15"/>
                    </a:lnTo>
                    <a:lnTo>
                      <a:pt x="38" y="10"/>
                    </a:lnTo>
                    <a:lnTo>
                      <a:pt x="43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48" y="5"/>
                    </a:lnTo>
                    <a:lnTo>
                      <a:pt x="54" y="15"/>
                    </a:lnTo>
                    <a:lnTo>
                      <a:pt x="54" y="15"/>
                    </a:lnTo>
                    <a:lnTo>
                      <a:pt x="59" y="31"/>
                    </a:lnTo>
                    <a:lnTo>
                      <a:pt x="59" y="36"/>
                    </a:lnTo>
                    <a:lnTo>
                      <a:pt x="65" y="61"/>
                    </a:lnTo>
                    <a:lnTo>
                      <a:pt x="70" y="107"/>
                    </a:lnTo>
                    <a:lnTo>
                      <a:pt x="81" y="153"/>
                    </a:lnTo>
                    <a:lnTo>
                      <a:pt x="92" y="204"/>
                    </a:lnTo>
                    <a:lnTo>
                      <a:pt x="97" y="224"/>
                    </a:lnTo>
                    <a:lnTo>
                      <a:pt x="97" y="229"/>
                    </a:lnTo>
                    <a:lnTo>
                      <a:pt x="102" y="240"/>
                    </a:lnTo>
                    <a:lnTo>
                      <a:pt x="102" y="245"/>
                    </a:lnTo>
                    <a:lnTo>
                      <a:pt x="108" y="255"/>
                    </a:lnTo>
                    <a:lnTo>
                      <a:pt x="108" y="255"/>
                    </a:lnTo>
                    <a:lnTo>
                      <a:pt x="113" y="265"/>
                    </a:lnTo>
                    <a:lnTo>
                      <a:pt x="113" y="265"/>
                    </a:lnTo>
                    <a:lnTo>
                      <a:pt x="118" y="270"/>
                    </a:lnTo>
                    <a:lnTo>
                      <a:pt x="113" y="270"/>
                    </a:lnTo>
                    <a:lnTo>
                      <a:pt x="124" y="265"/>
                    </a:lnTo>
                    <a:lnTo>
                      <a:pt x="124" y="260"/>
                    </a:lnTo>
                    <a:lnTo>
                      <a:pt x="124" y="260"/>
                    </a:lnTo>
                    <a:lnTo>
                      <a:pt x="129" y="250"/>
                    </a:lnTo>
                    <a:lnTo>
                      <a:pt x="129" y="250"/>
                    </a:lnTo>
                    <a:lnTo>
                      <a:pt x="129" y="240"/>
                    </a:lnTo>
                    <a:lnTo>
                      <a:pt x="135" y="229"/>
                    </a:lnTo>
                    <a:lnTo>
                      <a:pt x="135" y="224"/>
                    </a:lnTo>
                    <a:lnTo>
                      <a:pt x="140" y="199"/>
                    </a:lnTo>
                    <a:lnTo>
                      <a:pt x="145" y="163"/>
                    </a:lnTo>
                    <a:lnTo>
                      <a:pt x="156" y="117"/>
                    </a:lnTo>
                    <a:lnTo>
                      <a:pt x="162" y="87"/>
                    </a:lnTo>
                    <a:lnTo>
                      <a:pt x="167" y="71"/>
                    </a:lnTo>
                    <a:lnTo>
                      <a:pt x="167" y="66"/>
                    </a:lnTo>
                    <a:lnTo>
                      <a:pt x="172" y="51"/>
                    </a:lnTo>
                    <a:lnTo>
                      <a:pt x="172" y="51"/>
                    </a:lnTo>
                    <a:lnTo>
                      <a:pt x="178" y="41"/>
                    </a:lnTo>
                    <a:lnTo>
                      <a:pt x="178" y="46"/>
                    </a:lnTo>
                    <a:lnTo>
                      <a:pt x="183" y="46"/>
                    </a:lnTo>
                    <a:lnTo>
                      <a:pt x="189" y="56"/>
                    </a:lnTo>
                    <a:lnTo>
                      <a:pt x="194" y="66"/>
                    </a:lnTo>
                    <a:lnTo>
                      <a:pt x="194" y="71"/>
                    </a:lnTo>
                    <a:lnTo>
                      <a:pt x="199" y="102"/>
                    </a:lnTo>
                    <a:lnTo>
                      <a:pt x="210" y="158"/>
                    </a:lnTo>
                    <a:lnTo>
                      <a:pt x="215" y="184"/>
                    </a:lnTo>
                    <a:lnTo>
                      <a:pt x="215" y="189"/>
                    </a:lnTo>
                    <a:lnTo>
                      <a:pt x="221" y="199"/>
                    </a:lnTo>
                    <a:lnTo>
                      <a:pt x="226" y="209"/>
                    </a:lnTo>
                    <a:lnTo>
                      <a:pt x="226" y="209"/>
                    </a:lnTo>
                    <a:lnTo>
                      <a:pt x="232" y="209"/>
                    </a:lnTo>
                    <a:lnTo>
                      <a:pt x="237" y="209"/>
                    </a:lnTo>
                    <a:lnTo>
                      <a:pt x="248" y="199"/>
                    </a:lnTo>
                    <a:lnTo>
                      <a:pt x="253" y="194"/>
                    </a:lnTo>
                    <a:lnTo>
                      <a:pt x="253" y="189"/>
                    </a:lnTo>
                    <a:lnTo>
                      <a:pt x="264" y="163"/>
                    </a:lnTo>
                    <a:lnTo>
                      <a:pt x="280" y="112"/>
                    </a:lnTo>
                    <a:lnTo>
                      <a:pt x="286" y="87"/>
                    </a:lnTo>
                    <a:lnTo>
                      <a:pt x="286" y="82"/>
                    </a:lnTo>
                    <a:lnTo>
                      <a:pt x="291" y="71"/>
                    </a:lnTo>
                    <a:lnTo>
                      <a:pt x="296" y="61"/>
                    </a:lnTo>
                    <a:lnTo>
                      <a:pt x="302" y="61"/>
                    </a:lnTo>
                    <a:lnTo>
                      <a:pt x="302" y="61"/>
                    </a:lnTo>
                    <a:lnTo>
                      <a:pt x="313" y="66"/>
                    </a:lnTo>
                    <a:lnTo>
                      <a:pt x="313" y="71"/>
                    </a:lnTo>
                    <a:lnTo>
                      <a:pt x="318" y="82"/>
                    </a:lnTo>
                    <a:lnTo>
                      <a:pt x="318" y="87"/>
                    </a:lnTo>
                    <a:lnTo>
                      <a:pt x="329" y="112"/>
                    </a:lnTo>
                    <a:lnTo>
                      <a:pt x="345" y="158"/>
                    </a:lnTo>
                    <a:lnTo>
                      <a:pt x="356" y="178"/>
                    </a:lnTo>
                    <a:lnTo>
                      <a:pt x="361" y="189"/>
                    </a:lnTo>
                    <a:lnTo>
                      <a:pt x="361" y="189"/>
                    </a:lnTo>
                    <a:lnTo>
                      <a:pt x="366" y="194"/>
                    </a:lnTo>
                    <a:lnTo>
                      <a:pt x="377" y="204"/>
                    </a:lnTo>
                    <a:lnTo>
                      <a:pt x="372" y="204"/>
                    </a:lnTo>
                    <a:lnTo>
                      <a:pt x="377" y="199"/>
                    </a:lnTo>
                    <a:lnTo>
                      <a:pt x="383" y="194"/>
                    </a:lnTo>
                    <a:lnTo>
                      <a:pt x="388" y="184"/>
                    </a:lnTo>
                    <a:lnTo>
                      <a:pt x="388" y="178"/>
                    </a:lnTo>
                    <a:lnTo>
                      <a:pt x="399" y="158"/>
                    </a:lnTo>
                    <a:lnTo>
                      <a:pt x="410" y="122"/>
                    </a:lnTo>
                    <a:lnTo>
                      <a:pt x="415" y="102"/>
                    </a:lnTo>
                    <a:lnTo>
                      <a:pt x="415" y="102"/>
                    </a:lnTo>
                    <a:lnTo>
                      <a:pt x="420" y="92"/>
                    </a:lnTo>
                    <a:lnTo>
                      <a:pt x="420" y="92"/>
                    </a:lnTo>
                    <a:lnTo>
                      <a:pt x="426" y="87"/>
                    </a:lnTo>
                    <a:lnTo>
                      <a:pt x="426" y="87"/>
                    </a:lnTo>
                    <a:lnTo>
                      <a:pt x="426" y="87"/>
                    </a:lnTo>
                    <a:lnTo>
                      <a:pt x="431" y="92"/>
                    </a:lnTo>
                    <a:lnTo>
                      <a:pt x="436" y="102"/>
                    </a:lnTo>
                    <a:lnTo>
                      <a:pt x="436" y="102"/>
                    </a:lnTo>
                    <a:lnTo>
                      <a:pt x="442" y="122"/>
                    </a:lnTo>
                    <a:lnTo>
                      <a:pt x="458" y="153"/>
                    </a:lnTo>
                    <a:lnTo>
                      <a:pt x="463" y="168"/>
                    </a:lnTo>
                    <a:lnTo>
                      <a:pt x="469" y="173"/>
                    </a:lnTo>
                    <a:lnTo>
                      <a:pt x="469" y="173"/>
                    </a:lnTo>
                    <a:lnTo>
                      <a:pt x="480" y="184"/>
                    </a:lnTo>
                    <a:lnTo>
                      <a:pt x="480" y="184"/>
                    </a:lnTo>
                    <a:lnTo>
                      <a:pt x="485" y="184"/>
                    </a:lnTo>
                    <a:lnTo>
                      <a:pt x="490" y="184"/>
                    </a:lnTo>
                    <a:lnTo>
                      <a:pt x="490" y="178"/>
                    </a:lnTo>
                    <a:lnTo>
                      <a:pt x="501" y="168"/>
                    </a:lnTo>
                    <a:lnTo>
                      <a:pt x="501" y="168"/>
                    </a:lnTo>
                    <a:lnTo>
                      <a:pt x="512" y="148"/>
                    </a:lnTo>
                    <a:lnTo>
                      <a:pt x="528" y="117"/>
                    </a:lnTo>
                    <a:lnTo>
                      <a:pt x="539" y="102"/>
                    </a:lnTo>
                    <a:lnTo>
                      <a:pt x="544" y="97"/>
                    </a:lnTo>
                    <a:lnTo>
                      <a:pt x="550" y="87"/>
                    </a:lnTo>
                    <a:lnTo>
                      <a:pt x="550" y="87"/>
                    </a:lnTo>
                    <a:lnTo>
                      <a:pt x="555" y="87"/>
                    </a:lnTo>
                    <a:lnTo>
                      <a:pt x="560" y="87"/>
                    </a:lnTo>
                    <a:lnTo>
                      <a:pt x="571" y="87"/>
                    </a:lnTo>
                    <a:lnTo>
                      <a:pt x="577" y="92"/>
                    </a:lnTo>
                    <a:lnTo>
                      <a:pt x="582" y="102"/>
                    </a:lnTo>
                    <a:lnTo>
                      <a:pt x="582" y="102"/>
                    </a:lnTo>
                    <a:lnTo>
                      <a:pt x="587" y="112"/>
                    </a:lnTo>
                    <a:lnTo>
                      <a:pt x="593" y="127"/>
                    </a:lnTo>
                    <a:lnTo>
                      <a:pt x="604" y="143"/>
                    </a:lnTo>
                    <a:lnTo>
                      <a:pt x="614" y="158"/>
                    </a:lnTo>
                    <a:lnTo>
                      <a:pt x="620" y="163"/>
                    </a:lnTo>
                    <a:lnTo>
                      <a:pt x="625" y="168"/>
                    </a:lnTo>
                    <a:lnTo>
                      <a:pt x="631" y="173"/>
                    </a:lnTo>
                    <a:lnTo>
                      <a:pt x="631" y="173"/>
                    </a:lnTo>
                    <a:lnTo>
                      <a:pt x="636" y="173"/>
                    </a:lnTo>
                    <a:lnTo>
                      <a:pt x="647" y="173"/>
                    </a:lnTo>
                    <a:lnTo>
                      <a:pt x="647" y="173"/>
                    </a:lnTo>
                    <a:lnTo>
                      <a:pt x="647" y="168"/>
                    </a:lnTo>
                    <a:lnTo>
                      <a:pt x="657" y="158"/>
                    </a:lnTo>
                    <a:lnTo>
                      <a:pt x="657" y="158"/>
                    </a:lnTo>
                    <a:lnTo>
                      <a:pt x="663" y="143"/>
                    </a:lnTo>
                    <a:lnTo>
                      <a:pt x="674" y="117"/>
                    </a:lnTo>
                    <a:lnTo>
                      <a:pt x="679" y="102"/>
                    </a:lnTo>
                    <a:lnTo>
                      <a:pt x="679" y="102"/>
                    </a:lnTo>
                    <a:lnTo>
                      <a:pt x="684" y="97"/>
                    </a:lnTo>
                    <a:lnTo>
                      <a:pt x="690" y="92"/>
                    </a:lnTo>
                    <a:lnTo>
                      <a:pt x="695" y="92"/>
                    </a:lnTo>
                    <a:lnTo>
                      <a:pt x="695" y="92"/>
                    </a:lnTo>
                    <a:lnTo>
                      <a:pt x="701" y="97"/>
                    </a:lnTo>
                    <a:lnTo>
                      <a:pt x="701" y="97"/>
                    </a:lnTo>
                    <a:lnTo>
                      <a:pt x="706" y="107"/>
                    </a:lnTo>
                    <a:lnTo>
                      <a:pt x="706" y="107"/>
                    </a:lnTo>
                    <a:lnTo>
                      <a:pt x="711" y="122"/>
                    </a:lnTo>
                    <a:lnTo>
                      <a:pt x="728" y="143"/>
                    </a:lnTo>
                    <a:lnTo>
                      <a:pt x="733" y="148"/>
                    </a:lnTo>
                    <a:lnTo>
                      <a:pt x="738" y="153"/>
                    </a:lnTo>
                    <a:lnTo>
                      <a:pt x="749" y="158"/>
                    </a:lnTo>
                    <a:lnTo>
                      <a:pt x="755" y="158"/>
                    </a:lnTo>
                    <a:lnTo>
                      <a:pt x="765" y="153"/>
                    </a:lnTo>
                    <a:lnTo>
                      <a:pt x="771" y="148"/>
                    </a:lnTo>
                    <a:lnTo>
                      <a:pt x="776" y="143"/>
                    </a:lnTo>
                    <a:lnTo>
                      <a:pt x="798" y="122"/>
                    </a:lnTo>
                    <a:lnTo>
                      <a:pt x="803" y="112"/>
                    </a:lnTo>
                    <a:lnTo>
                      <a:pt x="808" y="107"/>
                    </a:lnTo>
                    <a:lnTo>
                      <a:pt x="808" y="107"/>
                    </a:lnTo>
                    <a:lnTo>
                      <a:pt x="819" y="107"/>
                    </a:lnTo>
                    <a:lnTo>
                      <a:pt x="825" y="112"/>
                    </a:lnTo>
                    <a:lnTo>
                      <a:pt x="825" y="117"/>
                    </a:lnTo>
                    <a:lnTo>
                      <a:pt x="835" y="127"/>
                    </a:lnTo>
                    <a:lnTo>
                      <a:pt x="852" y="143"/>
                    </a:lnTo>
                    <a:lnTo>
                      <a:pt x="862" y="148"/>
                    </a:lnTo>
                    <a:lnTo>
                      <a:pt x="868" y="153"/>
                    </a:lnTo>
                    <a:lnTo>
                      <a:pt x="878" y="158"/>
                    </a:lnTo>
                    <a:lnTo>
                      <a:pt x="884" y="158"/>
                    </a:lnTo>
                    <a:lnTo>
                      <a:pt x="895" y="153"/>
                    </a:lnTo>
                    <a:lnTo>
                      <a:pt x="900" y="148"/>
                    </a:lnTo>
                    <a:lnTo>
                      <a:pt x="911" y="143"/>
                    </a:lnTo>
                    <a:lnTo>
                      <a:pt x="922" y="133"/>
                    </a:lnTo>
                    <a:lnTo>
                      <a:pt x="932" y="122"/>
                    </a:lnTo>
                    <a:lnTo>
                      <a:pt x="938" y="117"/>
                    </a:lnTo>
                    <a:lnTo>
                      <a:pt x="943" y="112"/>
                    </a:lnTo>
                    <a:lnTo>
                      <a:pt x="949" y="112"/>
                    </a:lnTo>
                    <a:lnTo>
                      <a:pt x="959" y="117"/>
                    </a:lnTo>
                    <a:lnTo>
                      <a:pt x="959" y="117"/>
                    </a:lnTo>
                    <a:lnTo>
                      <a:pt x="970" y="127"/>
                    </a:lnTo>
                    <a:lnTo>
                      <a:pt x="986" y="143"/>
                    </a:lnTo>
                    <a:lnTo>
                      <a:pt x="992" y="148"/>
                    </a:lnTo>
                    <a:lnTo>
                      <a:pt x="997" y="153"/>
                    </a:lnTo>
                    <a:lnTo>
                      <a:pt x="1002" y="153"/>
                    </a:lnTo>
                    <a:lnTo>
                      <a:pt x="1013" y="153"/>
                    </a:lnTo>
                    <a:lnTo>
                      <a:pt x="1029" y="143"/>
                    </a:lnTo>
                    <a:lnTo>
                      <a:pt x="1035" y="138"/>
                    </a:lnTo>
                    <a:lnTo>
                      <a:pt x="0" y="138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3786120" y="5318280"/>
                <a:ext cx="1643400" cy="428400"/>
              </a:xfrm>
              <a:custGeom>
                <a:avLst/>
                <a:gdLst/>
                <a:ahLst/>
                <a:rect l="l" t="t" r="r" b="b"/>
                <a:pathLst>
                  <a:path w="1035" h="270">
                    <a:moveTo>
                      <a:pt x="0" y="138"/>
                    </a:moveTo>
                    <a:lnTo>
                      <a:pt x="5" y="122"/>
                    </a:lnTo>
                    <a:lnTo>
                      <a:pt x="5" y="102"/>
                    </a:lnTo>
                    <a:lnTo>
                      <a:pt x="11" y="82"/>
                    </a:lnTo>
                    <a:lnTo>
                      <a:pt x="16" y="66"/>
                    </a:lnTo>
                    <a:lnTo>
                      <a:pt x="21" y="51"/>
                    </a:lnTo>
                    <a:lnTo>
                      <a:pt x="27" y="31"/>
                    </a:lnTo>
                    <a:lnTo>
                      <a:pt x="32" y="20"/>
                    </a:lnTo>
                    <a:lnTo>
                      <a:pt x="32" y="15"/>
                    </a:lnTo>
                    <a:lnTo>
                      <a:pt x="38" y="10"/>
                    </a:lnTo>
                    <a:lnTo>
                      <a:pt x="43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48" y="5"/>
                    </a:lnTo>
                    <a:lnTo>
                      <a:pt x="54" y="15"/>
                    </a:lnTo>
                    <a:lnTo>
                      <a:pt x="59" y="31"/>
                    </a:lnTo>
                    <a:lnTo>
                      <a:pt x="59" y="36"/>
                    </a:lnTo>
                    <a:lnTo>
                      <a:pt x="65" y="61"/>
                    </a:lnTo>
                    <a:lnTo>
                      <a:pt x="70" y="107"/>
                    </a:lnTo>
                    <a:lnTo>
                      <a:pt x="81" y="153"/>
                    </a:lnTo>
                    <a:lnTo>
                      <a:pt x="92" y="204"/>
                    </a:lnTo>
                    <a:lnTo>
                      <a:pt x="97" y="224"/>
                    </a:lnTo>
                    <a:lnTo>
                      <a:pt x="97" y="229"/>
                    </a:lnTo>
                    <a:lnTo>
                      <a:pt x="102" y="240"/>
                    </a:lnTo>
                    <a:lnTo>
                      <a:pt x="102" y="245"/>
                    </a:lnTo>
                    <a:lnTo>
                      <a:pt x="108" y="255"/>
                    </a:lnTo>
                    <a:lnTo>
                      <a:pt x="113" y="265"/>
                    </a:lnTo>
                    <a:lnTo>
                      <a:pt x="118" y="270"/>
                    </a:lnTo>
                    <a:lnTo>
                      <a:pt x="113" y="270"/>
                    </a:lnTo>
                    <a:lnTo>
                      <a:pt x="124" y="265"/>
                    </a:lnTo>
                    <a:lnTo>
                      <a:pt x="124" y="260"/>
                    </a:lnTo>
                    <a:lnTo>
                      <a:pt x="129" y="250"/>
                    </a:lnTo>
                    <a:lnTo>
                      <a:pt x="129" y="240"/>
                    </a:lnTo>
                    <a:lnTo>
                      <a:pt x="135" y="229"/>
                    </a:lnTo>
                    <a:lnTo>
                      <a:pt x="135" y="224"/>
                    </a:lnTo>
                    <a:lnTo>
                      <a:pt x="140" y="199"/>
                    </a:lnTo>
                    <a:lnTo>
                      <a:pt x="145" y="163"/>
                    </a:lnTo>
                    <a:lnTo>
                      <a:pt x="156" y="117"/>
                    </a:lnTo>
                    <a:lnTo>
                      <a:pt x="162" y="87"/>
                    </a:lnTo>
                    <a:lnTo>
                      <a:pt x="167" y="71"/>
                    </a:lnTo>
                    <a:lnTo>
                      <a:pt x="167" y="66"/>
                    </a:lnTo>
                    <a:lnTo>
                      <a:pt x="172" y="51"/>
                    </a:lnTo>
                    <a:lnTo>
                      <a:pt x="178" y="41"/>
                    </a:lnTo>
                    <a:lnTo>
                      <a:pt x="178" y="46"/>
                    </a:lnTo>
                    <a:lnTo>
                      <a:pt x="183" y="46"/>
                    </a:lnTo>
                    <a:lnTo>
                      <a:pt x="189" y="56"/>
                    </a:lnTo>
                    <a:lnTo>
                      <a:pt x="194" y="66"/>
                    </a:lnTo>
                    <a:lnTo>
                      <a:pt x="194" y="71"/>
                    </a:lnTo>
                    <a:lnTo>
                      <a:pt x="199" y="102"/>
                    </a:lnTo>
                    <a:lnTo>
                      <a:pt x="210" y="158"/>
                    </a:lnTo>
                    <a:lnTo>
                      <a:pt x="215" y="184"/>
                    </a:lnTo>
                    <a:lnTo>
                      <a:pt x="215" y="189"/>
                    </a:lnTo>
                    <a:lnTo>
                      <a:pt x="221" y="199"/>
                    </a:lnTo>
                    <a:lnTo>
                      <a:pt x="226" y="209"/>
                    </a:lnTo>
                    <a:lnTo>
                      <a:pt x="232" y="209"/>
                    </a:lnTo>
                    <a:lnTo>
                      <a:pt x="237" y="209"/>
                    </a:lnTo>
                    <a:lnTo>
                      <a:pt x="248" y="199"/>
                    </a:lnTo>
                    <a:lnTo>
                      <a:pt x="253" y="194"/>
                    </a:lnTo>
                    <a:lnTo>
                      <a:pt x="253" y="189"/>
                    </a:lnTo>
                    <a:lnTo>
                      <a:pt x="264" y="163"/>
                    </a:lnTo>
                    <a:lnTo>
                      <a:pt x="280" y="112"/>
                    </a:lnTo>
                    <a:lnTo>
                      <a:pt x="286" y="87"/>
                    </a:lnTo>
                    <a:lnTo>
                      <a:pt x="286" y="82"/>
                    </a:lnTo>
                    <a:lnTo>
                      <a:pt x="291" y="71"/>
                    </a:lnTo>
                    <a:lnTo>
                      <a:pt x="296" y="61"/>
                    </a:lnTo>
                    <a:lnTo>
                      <a:pt x="302" y="61"/>
                    </a:lnTo>
                    <a:lnTo>
                      <a:pt x="313" y="66"/>
                    </a:lnTo>
                    <a:lnTo>
                      <a:pt x="313" y="71"/>
                    </a:lnTo>
                    <a:lnTo>
                      <a:pt x="318" y="82"/>
                    </a:lnTo>
                    <a:lnTo>
                      <a:pt x="318" y="87"/>
                    </a:lnTo>
                    <a:lnTo>
                      <a:pt x="329" y="112"/>
                    </a:lnTo>
                    <a:lnTo>
                      <a:pt x="345" y="158"/>
                    </a:lnTo>
                    <a:lnTo>
                      <a:pt x="356" y="178"/>
                    </a:lnTo>
                    <a:lnTo>
                      <a:pt x="361" y="189"/>
                    </a:lnTo>
                    <a:lnTo>
                      <a:pt x="366" y="194"/>
                    </a:lnTo>
                    <a:lnTo>
                      <a:pt x="377" y="204"/>
                    </a:lnTo>
                    <a:lnTo>
                      <a:pt x="372" y="204"/>
                    </a:lnTo>
                    <a:lnTo>
                      <a:pt x="377" y="199"/>
                    </a:lnTo>
                    <a:lnTo>
                      <a:pt x="383" y="194"/>
                    </a:lnTo>
                    <a:lnTo>
                      <a:pt x="388" y="184"/>
                    </a:lnTo>
                    <a:lnTo>
                      <a:pt x="388" y="178"/>
                    </a:lnTo>
                    <a:lnTo>
                      <a:pt x="399" y="158"/>
                    </a:lnTo>
                    <a:lnTo>
                      <a:pt x="410" y="122"/>
                    </a:lnTo>
                    <a:lnTo>
                      <a:pt x="415" y="102"/>
                    </a:lnTo>
                    <a:lnTo>
                      <a:pt x="420" y="92"/>
                    </a:lnTo>
                    <a:lnTo>
                      <a:pt x="426" y="87"/>
                    </a:lnTo>
                    <a:lnTo>
                      <a:pt x="431" y="92"/>
                    </a:lnTo>
                    <a:lnTo>
                      <a:pt x="436" y="102"/>
                    </a:lnTo>
                    <a:lnTo>
                      <a:pt x="442" y="122"/>
                    </a:lnTo>
                    <a:lnTo>
                      <a:pt x="458" y="153"/>
                    </a:lnTo>
                    <a:lnTo>
                      <a:pt x="463" y="168"/>
                    </a:lnTo>
                    <a:lnTo>
                      <a:pt x="469" y="173"/>
                    </a:lnTo>
                    <a:lnTo>
                      <a:pt x="480" y="184"/>
                    </a:lnTo>
                    <a:lnTo>
                      <a:pt x="485" y="184"/>
                    </a:lnTo>
                    <a:lnTo>
                      <a:pt x="490" y="184"/>
                    </a:lnTo>
                    <a:lnTo>
                      <a:pt x="490" y="178"/>
                    </a:lnTo>
                    <a:lnTo>
                      <a:pt x="501" y="168"/>
                    </a:lnTo>
                    <a:lnTo>
                      <a:pt x="512" y="148"/>
                    </a:lnTo>
                    <a:lnTo>
                      <a:pt x="528" y="117"/>
                    </a:lnTo>
                    <a:lnTo>
                      <a:pt x="539" y="102"/>
                    </a:lnTo>
                    <a:lnTo>
                      <a:pt x="544" y="97"/>
                    </a:lnTo>
                    <a:lnTo>
                      <a:pt x="550" y="87"/>
                    </a:lnTo>
                    <a:lnTo>
                      <a:pt x="555" y="87"/>
                    </a:lnTo>
                    <a:lnTo>
                      <a:pt x="560" y="87"/>
                    </a:lnTo>
                    <a:lnTo>
                      <a:pt x="571" y="87"/>
                    </a:lnTo>
                    <a:lnTo>
                      <a:pt x="577" y="92"/>
                    </a:lnTo>
                    <a:lnTo>
                      <a:pt x="582" y="102"/>
                    </a:lnTo>
                    <a:lnTo>
                      <a:pt x="587" y="112"/>
                    </a:lnTo>
                    <a:lnTo>
                      <a:pt x="593" y="127"/>
                    </a:lnTo>
                    <a:lnTo>
                      <a:pt x="604" y="143"/>
                    </a:lnTo>
                    <a:lnTo>
                      <a:pt x="614" y="158"/>
                    </a:lnTo>
                    <a:lnTo>
                      <a:pt x="620" y="163"/>
                    </a:lnTo>
                    <a:lnTo>
                      <a:pt x="625" y="168"/>
                    </a:lnTo>
                    <a:lnTo>
                      <a:pt x="631" y="173"/>
                    </a:lnTo>
                    <a:lnTo>
                      <a:pt x="636" y="173"/>
                    </a:lnTo>
                    <a:lnTo>
                      <a:pt x="647" y="173"/>
                    </a:lnTo>
                    <a:lnTo>
                      <a:pt x="647" y="168"/>
                    </a:lnTo>
                    <a:lnTo>
                      <a:pt x="657" y="158"/>
                    </a:lnTo>
                    <a:lnTo>
                      <a:pt x="663" y="143"/>
                    </a:lnTo>
                    <a:lnTo>
                      <a:pt x="674" y="117"/>
                    </a:lnTo>
                    <a:lnTo>
                      <a:pt x="679" y="102"/>
                    </a:lnTo>
                    <a:lnTo>
                      <a:pt x="684" y="97"/>
                    </a:lnTo>
                    <a:lnTo>
                      <a:pt x="690" y="92"/>
                    </a:lnTo>
                    <a:lnTo>
                      <a:pt x="695" y="92"/>
                    </a:lnTo>
                    <a:lnTo>
                      <a:pt x="701" y="97"/>
                    </a:lnTo>
                    <a:lnTo>
                      <a:pt x="706" y="107"/>
                    </a:lnTo>
                    <a:lnTo>
                      <a:pt x="711" y="122"/>
                    </a:lnTo>
                    <a:lnTo>
                      <a:pt x="728" y="143"/>
                    </a:lnTo>
                    <a:lnTo>
                      <a:pt x="733" y="148"/>
                    </a:lnTo>
                    <a:lnTo>
                      <a:pt x="738" y="153"/>
                    </a:lnTo>
                    <a:lnTo>
                      <a:pt x="749" y="158"/>
                    </a:lnTo>
                    <a:lnTo>
                      <a:pt x="755" y="158"/>
                    </a:lnTo>
                    <a:lnTo>
                      <a:pt x="765" y="153"/>
                    </a:lnTo>
                    <a:lnTo>
                      <a:pt x="771" y="148"/>
                    </a:lnTo>
                    <a:lnTo>
                      <a:pt x="776" y="143"/>
                    </a:lnTo>
                    <a:lnTo>
                      <a:pt x="798" y="122"/>
                    </a:lnTo>
                    <a:lnTo>
                      <a:pt x="803" y="112"/>
                    </a:lnTo>
                    <a:lnTo>
                      <a:pt x="808" y="107"/>
                    </a:lnTo>
                    <a:lnTo>
                      <a:pt x="819" y="107"/>
                    </a:lnTo>
                    <a:lnTo>
                      <a:pt x="825" y="112"/>
                    </a:lnTo>
                    <a:lnTo>
                      <a:pt x="825" y="117"/>
                    </a:lnTo>
                    <a:lnTo>
                      <a:pt x="835" y="127"/>
                    </a:lnTo>
                    <a:lnTo>
                      <a:pt x="852" y="143"/>
                    </a:lnTo>
                    <a:lnTo>
                      <a:pt x="862" y="148"/>
                    </a:lnTo>
                    <a:lnTo>
                      <a:pt x="868" y="153"/>
                    </a:lnTo>
                    <a:lnTo>
                      <a:pt x="878" y="158"/>
                    </a:lnTo>
                    <a:lnTo>
                      <a:pt x="884" y="158"/>
                    </a:lnTo>
                    <a:lnTo>
                      <a:pt x="895" y="153"/>
                    </a:lnTo>
                    <a:lnTo>
                      <a:pt x="900" y="148"/>
                    </a:lnTo>
                    <a:lnTo>
                      <a:pt x="911" y="143"/>
                    </a:lnTo>
                    <a:lnTo>
                      <a:pt x="922" y="133"/>
                    </a:lnTo>
                    <a:lnTo>
                      <a:pt x="932" y="122"/>
                    </a:lnTo>
                    <a:lnTo>
                      <a:pt x="938" y="117"/>
                    </a:lnTo>
                    <a:lnTo>
                      <a:pt x="943" y="112"/>
                    </a:lnTo>
                    <a:lnTo>
                      <a:pt x="949" y="112"/>
                    </a:lnTo>
                    <a:lnTo>
                      <a:pt x="959" y="117"/>
                    </a:lnTo>
                    <a:lnTo>
                      <a:pt x="970" y="127"/>
                    </a:lnTo>
                    <a:lnTo>
                      <a:pt x="986" y="143"/>
                    </a:lnTo>
                    <a:lnTo>
                      <a:pt x="992" y="148"/>
                    </a:lnTo>
                    <a:lnTo>
                      <a:pt x="997" y="153"/>
                    </a:lnTo>
                    <a:lnTo>
                      <a:pt x="1002" y="153"/>
                    </a:lnTo>
                    <a:lnTo>
                      <a:pt x="1013" y="153"/>
                    </a:lnTo>
                    <a:lnTo>
                      <a:pt x="1029" y="143"/>
                    </a:lnTo>
                    <a:lnTo>
                      <a:pt x="1035" y="138"/>
                    </a:lnTo>
                  </a:path>
                </a:pathLst>
              </a:custGeom>
              <a:solidFill>
                <a:srgbClr val="ffcc6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0" name=""/>
            <p:cNvSpPr/>
            <p:nvPr/>
          </p:nvSpPr>
          <p:spPr>
            <a:xfrm flipH="1">
              <a:off x="2263680" y="3843360"/>
              <a:ext cx="2260440" cy="80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5702400" y="3873600"/>
              <a:ext cx="988920" cy="79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 flipH="1">
              <a:off x="4897080" y="3859200"/>
              <a:ext cx="319320" cy="81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6276960" y="4711680"/>
              <a:ext cx="2695680" cy="131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6516720" y="4911840"/>
              <a:ext cx="1976400" cy="51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7437600" y="5022720"/>
              <a:ext cx="1392120" cy="4208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6" name=""/>
            <p:cNvGrpSpPr/>
            <p:nvPr/>
          </p:nvGrpSpPr>
          <p:grpSpPr>
            <a:xfrm>
              <a:off x="6342120" y="4938840"/>
              <a:ext cx="38160" cy="608040"/>
              <a:chOff x="6342120" y="4938840"/>
              <a:chExt cx="38160" cy="608040"/>
            </a:xfrm>
          </p:grpSpPr>
          <p:sp>
            <p:nvSpPr>
              <p:cNvPr id="4997" name=""/>
              <p:cNvSpPr/>
              <p:nvPr/>
            </p:nvSpPr>
            <p:spPr>
              <a:xfrm>
                <a:off x="6342120" y="4938840"/>
                <a:ext cx="38160" cy="8388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2" y="0"/>
                    </a:moveTo>
                    <a:lnTo>
                      <a:pt x="24" y="53"/>
                    </a:lnTo>
                    <a:lnTo>
                      <a:pt x="12" y="53"/>
                    </a:lnTo>
                    <a:lnTo>
                      <a:pt x="0" y="5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 flipV="1">
                <a:off x="6361200" y="5022720"/>
                <a:ext cx="1440" cy="524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9" name=""/>
            <p:cNvSpPr/>
            <p:nvPr/>
          </p:nvSpPr>
          <p:spPr>
            <a:xfrm>
              <a:off x="6607440" y="5029200"/>
              <a:ext cx="1141200" cy="344520"/>
            </a:xfrm>
            <a:custGeom>
              <a:avLst/>
              <a:gdLst/>
              <a:ahLst/>
              <a:rect l="l" t="t" r="r" b="b"/>
              <a:pathLst>
                <a:path w="719" h="217">
                  <a:moveTo>
                    <a:pt x="0" y="0"/>
                  </a:moveTo>
                  <a:lnTo>
                    <a:pt x="29" y="17"/>
                  </a:lnTo>
                  <a:lnTo>
                    <a:pt x="70" y="43"/>
                  </a:lnTo>
                  <a:lnTo>
                    <a:pt x="114" y="69"/>
                  </a:lnTo>
                  <a:lnTo>
                    <a:pt x="159" y="95"/>
                  </a:lnTo>
                  <a:lnTo>
                    <a:pt x="196" y="113"/>
                  </a:lnTo>
                  <a:lnTo>
                    <a:pt x="233" y="130"/>
                  </a:lnTo>
                  <a:lnTo>
                    <a:pt x="257" y="139"/>
                  </a:lnTo>
                  <a:lnTo>
                    <a:pt x="286" y="148"/>
                  </a:lnTo>
                  <a:lnTo>
                    <a:pt x="298" y="152"/>
                  </a:lnTo>
                  <a:lnTo>
                    <a:pt x="302" y="152"/>
                  </a:lnTo>
                  <a:lnTo>
                    <a:pt x="319" y="156"/>
                  </a:lnTo>
                  <a:lnTo>
                    <a:pt x="335" y="161"/>
                  </a:lnTo>
                  <a:lnTo>
                    <a:pt x="347" y="161"/>
                  </a:lnTo>
                  <a:lnTo>
                    <a:pt x="368" y="165"/>
                  </a:lnTo>
                  <a:lnTo>
                    <a:pt x="388" y="169"/>
                  </a:lnTo>
                  <a:lnTo>
                    <a:pt x="417" y="174"/>
                  </a:lnTo>
                  <a:lnTo>
                    <a:pt x="441" y="178"/>
                  </a:lnTo>
                  <a:lnTo>
                    <a:pt x="465" y="182"/>
                  </a:lnTo>
                  <a:lnTo>
                    <a:pt x="494" y="187"/>
                  </a:lnTo>
                  <a:lnTo>
                    <a:pt x="523" y="191"/>
                  </a:lnTo>
                  <a:lnTo>
                    <a:pt x="555" y="195"/>
                  </a:lnTo>
                  <a:lnTo>
                    <a:pt x="588" y="200"/>
                  </a:lnTo>
                  <a:lnTo>
                    <a:pt x="625" y="204"/>
                  </a:lnTo>
                  <a:lnTo>
                    <a:pt x="657" y="208"/>
                  </a:lnTo>
                  <a:lnTo>
                    <a:pt x="698" y="213"/>
                  </a:lnTo>
                  <a:lnTo>
                    <a:pt x="719" y="2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0" name=""/>
            <p:cNvGrpSpPr/>
            <p:nvPr/>
          </p:nvGrpSpPr>
          <p:grpSpPr>
            <a:xfrm>
              <a:off x="7437600" y="5076720"/>
              <a:ext cx="1263600" cy="662040"/>
              <a:chOff x="7437600" y="5076720"/>
              <a:chExt cx="1263600" cy="662040"/>
            </a:xfrm>
          </p:grpSpPr>
          <p:sp>
            <p:nvSpPr>
              <p:cNvPr id="5001" name=""/>
              <p:cNvSpPr/>
              <p:nvPr/>
            </p:nvSpPr>
            <p:spPr>
              <a:xfrm>
                <a:off x="7437600" y="5076720"/>
                <a:ext cx="635040" cy="662040"/>
              </a:xfrm>
              <a:custGeom>
                <a:avLst/>
                <a:gdLst/>
                <a:ahLst/>
                <a:rect l="l" t="t" r="r" b="b"/>
                <a:pathLst>
                  <a:path w="400" h="417">
                    <a:moveTo>
                      <a:pt x="0" y="239"/>
                    </a:moveTo>
                    <a:lnTo>
                      <a:pt x="4" y="222"/>
                    </a:lnTo>
                    <a:lnTo>
                      <a:pt x="4" y="200"/>
                    </a:lnTo>
                    <a:lnTo>
                      <a:pt x="8" y="174"/>
                    </a:lnTo>
                    <a:lnTo>
                      <a:pt x="12" y="152"/>
                    </a:lnTo>
                    <a:lnTo>
                      <a:pt x="16" y="131"/>
                    </a:lnTo>
                    <a:lnTo>
                      <a:pt x="20" y="113"/>
                    </a:lnTo>
                    <a:lnTo>
                      <a:pt x="24" y="92"/>
                    </a:lnTo>
                    <a:lnTo>
                      <a:pt x="28" y="79"/>
                    </a:lnTo>
                    <a:lnTo>
                      <a:pt x="32" y="61"/>
                    </a:lnTo>
                    <a:lnTo>
                      <a:pt x="36" y="44"/>
                    </a:lnTo>
                    <a:lnTo>
                      <a:pt x="40" y="31"/>
                    </a:lnTo>
                    <a:lnTo>
                      <a:pt x="45" y="22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53" y="9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73" y="9"/>
                    </a:lnTo>
                    <a:lnTo>
                      <a:pt x="77" y="22"/>
                    </a:lnTo>
                    <a:lnTo>
                      <a:pt x="81" y="31"/>
                    </a:lnTo>
                    <a:lnTo>
                      <a:pt x="81" y="35"/>
                    </a:lnTo>
                    <a:lnTo>
                      <a:pt x="85" y="52"/>
                    </a:lnTo>
                    <a:lnTo>
                      <a:pt x="89" y="65"/>
                    </a:lnTo>
                    <a:lnTo>
                      <a:pt x="89" y="74"/>
                    </a:lnTo>
                    <a:lnTo>
                      <a:pt x="94" y="92"/>
                    </a:lnTo>
                    <a:lnTo>
                      <a:pt x="98" y="113"/>
                    </a:lnTo>
                    <a:lnTo>
                      <a:pt x="98" y="131"/>
                    </a:lnTo>
                    <a:lnTo>
                      <a:pt x="102" y="152"/>
                    </a:lnTo>
                    <a:lnTo>
                      <a:pt x="106" y="183"/>
                    </a:lnTo>
                    <a:lnTo>
                      <a:pt x="106" y="192"/>
                    </a:lnTo>
                    <a:lnTo>
                      <a:pt x="106" y="200"/>
                    </a:lnTo>
                    <a:lnTo>
                      <a:pt x="110" y="226"/>
                    </a:lnTo>
                    <a:lnTo>
                      <a:pt x="114" y="252"/>
                    </a:lnTo>
                    <a:lnTo>
                      <a:pt x="114" y="270"/>
                    </a:lnTo>
                    <a:lnTo>
                      <a:pt x="118" y="287"/>
                    </a:lnTo>
                    <a:lnTo>
                      <a:pt x="122" y="313"/>
                    </a:lnTo>
                    <a:lnTo>
                      <a:pt x="126" y="326"/>
                    </a:lnTo>
                    <a:lnTo>
                      <a:pt x="126" y="339"/>
                    </a:lnTo>
                    <a:lnTo>
                      <a:pt x="130" y="357"/>
                    </a:lnTo>
                    <a:lnTo>
                      <a:pt x="134" y="370"/>
                    </a:lnTo>
                    <a:lnTo>
                      <a:pt x="134" y="378"/>
                    </a:lnTo>
                    <a:lnTo>
                      <a:pt x="138" y="387"/>
                    </a:lnTo>
                    <a:lnTo>
                      <a:pt x="142" y="400"/>
                    </a:lnTo>
                    <a:lnTo>
                      <a:pt x="147" y="404"/>
                    </a:lnTo>
                    <a:lnTo>
                      <a:pt x="147" y="409"/>
                    </a:lnTo>
                    <a:lnTo>
                      <a:pt x="151" y="413"/>
                    </a:lnTo>
                    <a:lnTo>
                      <a:pt x="155" y="417"/>
                    </a:lnTo>
                    <a:lnTo>
                      <a:pt x="155" y="417"/>
                    </a:lnTo>
                    <a:lnTo>
                      <a:pt x="163" y="417"/>
                    </a:lnTo>
                    <a:lnTo>
                      <a:pt x="163" y="417"/>
                    </a:lnTo>
                    <a:lnTo>
                      <a:pt x="167" y="413"/>
                    </a:lnTo>
                    <a:lnTo>
                      <a:pt x="171" y="409"/>
                    </a:lnTo>
                    <a:lnTo>
                      <a:pt x="171" y="404"/>
                    </a:lnTo>
                    <a:lnTo>
                      <a:pt x="175" y="400"/>
                    </a:lnTo>
                    <a:lnTo>
                      <a:pt x="179" y="391"/>
                    </a:lnTo>
                    <a:lnTo>
                      <a:pt x="183" y="374"/>
                    </a:lnTo>
                    <a:lnTo>
                      <a:pt x="187" y="365"/>
                    </a:lnTo>
                    <a:lnTo>
                      <a:pt x="187" y="357"/>
                    </a:lnTo>
                    <a:lnTo>
                      <a:pt x="191" y="344"/>
                    </a:lnTo>
                    <a:lnTo>
                      <a:pt x="196" y="322"/>
                    </a:lnTo>
                    <a:lnTo>
                      <a:pt x="200" y="305"/>
                    </a:lnTo>
                    <a:lnTo>
                      <a:pt x="204" y="287"/>
                    </a:lnTo>
                    <a:lnTo>
                      <a:pt x="204" y="278"/>
                    </a:lnTo>
                    <a:lnTo>
                      <a:pt x="208" y="257"/>
                    </a:lnTo>
                    <a:lnTo>
                      <a:pt x="212" y="226"/>
                    </a:lnTo>
                    <a:lnTo>
                      <a:pt x="220" y="192"/>
                    </a:lnTo>
                    <a:lnTo>
                      <a:pt x="224" y="170"/>
                    </a:lnTo>
                    <a:lnTo>
                      <a:pt x="232" y="144"/>
                    </a:lnTo>
                    <a:lnTo>
                      <a:pt x="236" y="131"/>
                    </a:lnTo>
                    <a:lnTo>
                      <a:pt x="245" y="113"/>
                    </a:lnTo>
                    <a:lnTo>
                      <a:pt x="249" y="109"/>
                    </a:lnTo>
                    <a:lnTo>
                      <a:pt x="253" y="105"/>
                    </a:lnTo>
                    <a:lnTo>
                      <a:pt x="261" y="105"/>
                    </a:lnTo>
                    <a:lnTo>
                      <a:pt x="269" y="109"/>
                    </a:lnTo>
                    <a:lnTo>
                      <a:pt x="273" y="113"/>
                    </a:lnTo>
                    <a:lnTo>
                      <a:pt x="281" y="131"/>
                    </a:lnTo>
                    <a:lnTo>
                      <a:pt x="285" y="144"/>
                    </a:lnTo>
                    <a:lnTo>
                      <a:pt x="294" y="170"/>
                    </a:lnTo>
                    <a:lnTo>
                      <a:pt x="298" y="192"/>
                    </a:lnTo>
                    <a:lnTo>
                      <a:pt x="302" y="209"/>
                    </a:lnTo>
                    <a:lnTo>
                      <a:pt x="306" y="226"/>
                    </a:lnTo>
                    <a:lnTo>
                      <a:pt x="310" y="248"/>
                    </a:lnTo>
                    <a:lnTo>
                      <a:pt x="318" y="274"/>
                    </a:lnTo>
                    <a:lnTo>
                      <a:pt x="322" y="291"/>
                    </a:lnTo>
                    <a:lnTo>
                      <a:pt x="330" y="309"/>
                    </a:lnTo>
                    <a:lnTo>
                      <a:pt x="334" y="318"/>
                    </a:lnTo>
                    <a:lnTo>
                      <a:pt x="342" y="331"/>
                    </a:lnTo>
                    <a:lnTo>
                      <a:pt x="351" y="335"/>
                    </a:lnTo>
                    <a:lnTo>
                      <a:pt x="351" y="335"/>
                    </a:lnTo>
                    <a:lnTo>
                      <a:pt x="359" y="335"/>
                    </a:lnTo>
                    <a:lnTo>
                      <a:pt x="363" y="331"/>
                    </a:lnTo>
                    <a:lnTo>
                      <a:pt x="371" y="322"/>
                    </a:lnTo>
                    <a:lnTo>
                      <a:pt x="379" y="305"/>
                    </a:lnTo>
                    <a:lnTo>
                      <a:pt x="383" y="291"/>
                    </a:lnTo>
                    <a:lnTo>
                      <a:pt x="391" y="270"/>
                    </a:lnTo>
                    <a:lnTo>
                      <a:pt x="396" y="252"/>
                    </a:lnTo>
                    <a:lnTo>
                      <a:pt x="400" y="235"/>
                    </a:lnTo>
                    <a:lnTo>
                      <a:pt x="0" y="2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7437600" y="5076720"/>
                <a:ext cx="635040" cy="662040"/>
              </a:xfrm>
              <a:custGeom>
                <a:avLst/>
                <a:gdLst/>
                <a:ahLst/>
                <a:rect l="l" t="t" r="r" b="b"/>
                <a:pathLst>
                  <a:path w="400" h="417">
                    <a:moveTo>
                      <a:pt x="0" y="239"/>
                    </a:moveTo>
                    <a:lnTo>
                      <a:pt x="4" y="222"/>
                    </a:lnTo>
                    <a:lnTo>
                      <a:pt x="4" y="200"/>
                    </a:lnTo>
                    <a:lnTo>
                      <a:pt x="8" y="174"/>
                    </a:lnTo>
                    <a:lnTo>
                      <a:pt x="12" y="152"/>
                    </a:lnTo>
                    <a:lnTo>
                      <a:pt x="16" y="131"/>
                    </a:lnTo>
                    <a:lnTo>
                      <a:pt x="20" y="113"/>
                    </a:lnTo>
                    <a:lnTo>
                      <a:pt x="24" y="92"/>
                    </a:lnTo>
                    <a:lnTo>
                      <a:pt x="28" y="79"/>
                    </a:lnTo>
                    <a:lnTo>
                      <a:pt x="32" y="61"/>
                    </a:lnTo>
                    <a:lnTo>
                      <a:pt x="36" y="44"/>
                    </a:lnTo>
                    <a:lnTo>
                      <a:pt x="40" y="31"/>
                    </a:lnTo>
                    <a:lnTo>
                      <a:pt x="45" y="22"/>
                    </a:lnTo>
                    <a:lnTo>
                      <a:pt x="49" y="13"/>
                    </a:lnTo>
                    <a:lnTo>
                      <a:pt x="53" y="9"/>
                    </a:lnTo>
                    <a:lnTo>
                      <a:pt x="61" y="0"/>
                    </a:lnTo>
                    <a:lnTo>
                      <a:pt x="69" y="5"/>
                    </a:lnTo>
                    <a:lnTo>
                      <a:pt x="73" y="9"/>
                    </a:lnTo>
                    <a:lnTo>
                      <a:pt x="77" y="22"/>
                    </a:lnTo>
                    <a:lnTo>
                      <a:pt x="81" y="31"/>
                    </a:lnTo>
                    <a:lnTo>
                      <a:pt x="81" y="35"/>
                    </a:lnTo>
                    <a:lnTo>
                      <a:pt x="85" y="52"/>
                    </a:lnTo>
                    <a:lnTo>
                      <a:pt x="89" y="65"/>
                    </a:lnTo>
                    <a:lnTo>
                      <a:pt x="89" y="74"/>
                    </a:lnTo>
                    <a:lnTo>
                      <a:pt x="94" y="92"/>
                    </a:lnTo>
                    <a:lnTo>
                      <a:pt x="98" y="113"/>
                    </a:lnTo>
                    <a:lnTo>
                      <a:pt x="98" y="131"/>
                    </a:lnTo>
                    <a:lnTo>
                      <a:pt x="102" y="152"/>
                    </a:lnTo>
                    <a:lnTo>
                      <a:pt x="106" y="183"/>
                    </a:lnTo>
                    <a:lnTo>
                      <a:pt x="106" y="192"/>
                    </a:lnTo>
                    <a:lnTo>
                      <a:pt x="106" y="200"/>
                    </a:lnTo>
                    <a:lnTo>
                      <a:pt x="110" y="226"/>
                    </a:lnTo>
                    <a:lnTo>
                      <a:pt x="114" y="252"/>
                    </a:lnTo>
                    <a:lnTo>
                      <a:pt x="114" y="270"/>
                    </a:lnTo>
                    <a:lnTo>
                      <a:pt x="118" y="287"/>
                    </a:lnTo>
                    <a:lnTo>
                      <a:pt x="122" y="313"/>
                    </a:lnTo>
                    <a:lnTo>
                      <a:pt x="126" y="326"/>
                    </a:lnTo>
                    <a:lnTo>
                      <a:pt x="126" y="339"/>
                    </a:lnTo>
                    <a:lnTo>
                      <a:pt x="130" y="357"/>
                    </a:lnTo>
                    <a:lnTo>
                      <a:pt x="134" y="370"/>
                    </a:lnTo>
                    <a:lnTo>
                      <a:pt x="134" y="378"/>
                    </a:lnTo>
                    <a:lnTo>
                      <a:pt x="138" y="387"/>
                    </a:lnTo>
                    <a:lnTo>
                      <a:pt x="142" y="400"/>
                    </a:lnTo>
                    <a:lnTo>
                      <a:pt x="147" y="404"/>
                    </a:lnTo>
                    <a:lnTo>
                      <a:pt x="147" y="409"/>
                    </a:lnTo>
                    <a:lnTo>
                      <a:pt x="151" y="413"/>
                    </a:lnTo>
                    <a:lnTo>
                      <a:pt x="155" y="417"/>
                    </a:lnTo>
                    <a:lnTo>
                      <a:pt x="163" y="417"/>
                    </a:lnTo>
                    <a:lnTo>
                      <a:pt x="167" y="413"/>
                    </a:lnTo>
                    <a:lnTo>
                      <a:pt x="171" y="409"/>
                    </a:lnTo>
                    <a:lnTo>
                      <a:pt x="171" y="404"/>
                    </a:lnTo>
                    <a:lnTo>
                      <a:pt x="175" y="400"/>
                    </a:lnTo>
                    <a:lnTo>
                      <a:pt x="179" y="391"/>
                    </a:lnTo>
                    <a:lnTo>
                      <a:pt x="183" y="374"/>
                    </a:lnTo>
                    <a:lnTo>
                      <a:pt x="187" y="365"/>
                    </a:lnTo>
                    <a:lnTo>
                      <a:pt x="187" y="357"/>
                    </a:lnTo>
                    <a:lnTo>
                      <a:pt x="191" y="344"/>
                    </a:lnTo>
                    <a:lnTo>
                      <a:pt x="196" y="322"/>
                    </a:lnTo>
                    <a:lnTo>
                      <a:pt x="200" y="305"/>
                    </a:lnTo>
                    <a:lnTo>
                      <a:pt x="204" y="287"/>
                    </a:lnTo>
                    <a:lnTo>
                      <a:pt x="204" y="278"/>
                    </a:lnTo>
                    <a:lnTo>
                      <a:pt x="208" y="257"/>
                    </a:lnTo>
                    <a:lnTo>
                      <a:pt x="212" y="226"/>
                    </a:lnTo>
                    <a:lnTo>
                      <a:pt x="220" y="192"/>
                    </a:lnTo>
                    <a:lnTo>
                      <a:pt x="224" y="170"/>
                    </a:lnTo>
                    <a:lnTo>
                      <a:pt x="232" y="144"/>
                    </a:lnTo>
                    <a:lnTo>
                      <a:pt x="236" y="131"/>
                    </a:lnTo>
                    <a:lnTo>
                      <a:pt x="245" y="113"/>
                    </a:lnTo>
                    <a:lnTo>
                      <a:pt x="249" y="109"/>
                    </a:lnTo>
                    <a:lnTo>
                      <a:pt x="253" y="105"/>
                    </a:lnTo>
                    <a:lnTo>
                      <a:pt x="261" y="105"/>
                    </a:lnTo>
                    <a:lnTo>
                      <a:pt x="269" y="109"/>
                    </a:lnTo>
                    <a:lnTo>
                      <a:pt x="273" y="113"/>
                    </a:lnTo>
                    <a:lnTo>
                      <a:pt x="281" y="131"/>
                    </a:lnTo>
                    <a:lnTo>
                      <a:pt x="285" y="144"/>
                    </a:lnTo>
                    <a:lnTo>
                      <a:pt x="294" y="170"/>
                    </a:lnTo>
                    <a:lnTo>
                      <a:pt x="298" y="192"/>
                    </a:lnTo>
                    <a:lnTo>
                      <a:pt x="302" y="209"/>
                    </a:lnTo>
                    <a:lnTo>
                      <a:pt x="306" y="226"/>
                    </a:lnTo>
                    <a:lnTo>
                      <a:pt x="310" y="248"/>
                    </a:lnTo>
                    <a:lnTo>
                      <a:pt x="318" y="274"/>
                    </a:lnTo>
                    <a:lnTo>
                      <a:pt x="322" y="291"/>
                    </a:lnTo>
                    <a:lnTo>
                      <a:pt x="330" y="309"/>
                    </a:lnTo>
                    <a:lnTo>
                      <a:pt x="334" y="318"/>
                    </a:lnTo>
                    <a:lnTo>
                      <a:pt x="342" y="331"/>
                    </a:lnTo>
                    <a:lnTo>
                      <a:pt x="351" y="335"/>
                    </a:lnTo>
                    <a:lnTo>
                      <a:pt x="359" y="335"/>
                    </a:lnTo>
                    <a:lnTo>
                      <a:pt x="363" y="331"/>
                    </a:lnTo>
                    <a:lnTo>
                      <a:pt x="371" y="322"/>
                    </a:lnTo>
                    <a:lnTo>
                      <a:pt x="379" y="305"/>
                    </a:lnTo>
                    <a:lnTo>
                      <a:pt x="383" y="291"/>
                    </a:lnTo>
                    <a:lnTo>
                      <a:pt x="391" y="270"/>
                    </a:lnTo>
                    <a:lnTo>
                      <a:pt x="396" y="252"/>
                    </a:lnTo>
                    <a:lnTo>
                      <a:pt x="400" y="23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8066160" y="5311800"/>
                <a:ext cx="635040" cy="255600"/>
              </a:xfrm>
              <a:custGeom>
                <a:avLst/>
                <a:gdLst/>
                <a:ahLst/>
                <a:rect l="l" t="t" r="r" b="b"/>
                <a:pathLst>
                  <a:path w="400" h="161">
                    <a:moveTo>
                      <a:pt x="0" y="91"/>
                    </a:moveTo>
                    <a:lnTo>
                      <a:pt x="4" y="83"/>
                    </a:lnTo>
                    <a:lnTo>
                      <a:pt x="12" y="61"/>
                    </a:lnTo>
                    <a:lnTo>
                      <a:pt x="20" y="44"/>
                    </a:lnTo>
                    <a:lnTo>
                      <a:pt x="28" y="30"/>
                    </a:lnTo>
                    <a:lnTo>
                      <a:pt x="36" y="17"/>
                    </a:lnTo>
                    <a:lnTo>
                      <a:pt x="40" y="13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65" y="0"/>
                    </a:lnTo>
                    <a:lnTo>
                      <a:pt x="73" y="4"/>
                    </a:lnTo>
                    <a:lnTo>
                      <a:pt x="77" y="9"/>
                    </a:lnTo>
                    <a:lnTo>
                      <a:pt x="81" y="13"/>
                    </a:lnTo>
                    <a:lnTo>
                      <a:pt x="89" y="26"/>
                    </a:lnTo>
                    <a:lnTo>
                      <a:pt x="93" y="30"/>
                    </a:lnTo>
                    <a:lnTo>
                      <a:pt x="102" y="52"/>
                    </a:lnTo>
                    <a:lnTo>
                      <a:pt x="106" y="61"/>
                    </a:lnTo>
                    <a:lnTo>
                      <a:pt x="110" y="74"/>
                    </a:lnTo>
                    <a:lnTo>
                      <a:pt x="114" y="87"/>
                    </a:lnTo>
                    <a:lnTo>
                      <a:pt x="118" y="100"/>
                    </a:lnTo>
                    <a:lnTo>
                      <a:pt x="122" y="113"/>
                    </a:lnTo>
                    <a:lnTo>
                      <a:pt x="130" y="130"/>
                    </a:lnTo>
                    <a:lnTo>
                      <a:pt x="134" y="139"/>
                    </a:lnTo>
                    <a:lnTo>
                      <a:pt x="142" y="152"/>
                    </a:lnTo>
                    <a:lnTo>
                      <a:pt x="147" y="157"/>
                    </a:lnTo>
                    <a:lnTo>
                      <a:pt x="151" y="157"/>
                    </a:lnTo>
                    <a:lnTo>
                      <a:pt x="159" y="161"/>
                    </a:lnTo>
                    <a:lnTo>
                      <a:pt x="163" y="161"/>
                    </a:lnTo>
                    <a:lnTo>
                      <a:pt x="167" y="157"/>
                    </a:lnTo>
                    <a:lnTo>
                      <a:pt x="171" y="152"/>
                    </a:lnTo>
                    <a:lnTo>
                      <a:pt x="179" y="148"/>
                    </a:lnTo>
                    <a:lnTo>
                      <a:pt x="187" y="130"/>
                    </a:lnTo>
                    <a:lnTo>
                      <a:pt x="191" y="122"/>
                    </a:lnTo>
                    <a:lnTo>
                      <a:pt x="195" y="109"/>
                    </a:lnTo>
                    <a:lnTo>
                      <a:pt x="200" y="100"/>
                    </a:lnTo>
                    <a:lnTo>
                      <a:pt x="204" y="91"/>
                    </a:lnTo>
                    <a:lnTo>
                      <a:pt x="208" y="78"/>
                    </a:lnTo>
                    <a:lnTo>
                      <a:pt x="212" y="65"/>
                    </a:lnTo>
                    <a:lnTo>
                      <a:pt x="220" y="52"/>
                    </a:lnTo>
                    <a:lnTo>
                      <a:pt x="224" y="44"/>
                    </a:lnTo>
                    <a:lnTo>
                      <a:pt x="232" y="35"/>
                    </a:lnTo>
                    <a:lnTo>
                      <a:pt x="236" y="30"/>
                    </a:lnTo>
                    <a:lnTo>
                      <a:pt x="240" y="26"/>
                    </a:lnTo>
                    <a:lnTo>
                      <a:pt x="244" y="26"/>
                    </a:lnTo>
                    <a:lnTo>
                      <a:pt x="253" y="26"/>
                    </a:lnTo>
                    <a:lnTo>
                      <a:pt x="261" y="26"/>
                    </a:lnTo>
                    <a:lnTo>
                      <a:pt x="269" y="30"/>
                    </a:lnTo>
                    <a:lnTo>
                      <a:pt x="269" y="35"/>
                    </a:lnTo>
                    <a:lnTo>
                      <a:pt x="277" y="39"/>
                    </a:lnTo>
                    <a:lnTo>
                      <a:pt x="285" y="52"/>
                    </a:lnTo>
                    <a:lnTo>
                      <a:pt x="289" y="61"/>
                    </a:lnTo>
                    <a:lnTo>
                      <a:pt x="293" y="70"/>
                    </a:lnTo>
                    <a:lnTo>
                      <a:pt x="298" y="78"/>
                    </a:lnTo>
                    <a:lnTo>
                      <a:pt x="302" y="87"/>
                    </a:lnTo>
                    <a:lnTo>
                      <a:pt x="310" y="100"/>
                    </a:lnTo>
                    <a:lnTo>
                      <a:pt x="314" y="104"/>
                    </a:lnTo>
                    <a:lnTo>
                      <a:pt x="322" y="117"/>
                    </a:lnTo>
                    <a:lnTo>
                      <a:pt x="330" y="122"/>
                    </a:lnTo>
                    <a:lnTo>
                      <a:pt x="338" y="126"/>
                    </a:lnTo>
                    <a:lnTo>
                      <a:pt x="338" y="126"/>
                    </a:lnTo>
                    <a:lnTo>
                      <a:pt x="351" y="130"/>
                    </a:lnTo>
                    <a:lnTo>
                      <a:pt x="351" y="130"/>
                    </a:lnTo>
                    <a:lnTo>
                      <a:pt x="363" y="126"/>
                    </a:lnTo>
                    <a:lnTo>
                      <a:pt x="371" y="122"/>
                    </a:lnTo>
                    <a:lnTo>
                      <a:pt x="375" y="117"/>
                    </a:lnTo>
                    <a:lnTo>
                      <a:pt x="383" y="109"/>
                    </a:lnTo>
                    <a:lnTo>
                      <a:pt x="387" y="104"/>
                    </a:lnTo>
                    <a:lnTo>
                      <a:pt x="395" y="96"/>
                    </a:lnTo>
                    <a:lnTo>
                      <a:pt x="400" y="87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8066160" y="5311800"/>
                <a:ext cx="635040" cy="255600"/>
              </a:xfrm>
              <a:custGeom>
                <a:avLst/>
                <a:gdLst/>
                <a:ahLst/>
                <a:rect l="l" t="t" r="r" b="b"/>
                <a:pathLst>
                  <a:path w="400" h="161">
                    <a:moveTo>
                      <a:pt x="0" y="91"/>
                    </a:moveTo>
                    <a:lnTo>
                      <a:pt x="4" y="83"/>
                    </a:lnTo>
                    <a:lnTo>
                      <a:pt x="12" y="61"/>
                    </a:lnTo>
                    <a:lnTo>
                      <a:pt x="20" y="44"/>
                    </a:lnTo>
                    <a:lnTo>
                      <a:pt x="28" y="30"/>
                    </a:lnTo>
                    <a:lnTo>
                      <a:pt x="36" y="17"/>
                    </a:lnTo>
                    <a:lnTo>
                      <a:pt x="40" y="13"/>
                    </a:lnTo>
                    <a:lnTo>
                      <a:pt x="53" y="4"/>
                    </a:lnTo>
                    <a:lnTo>
                      <a:pt x="65" y="0"/>
                    </a:lnTo>
                    <a:lnTo>
                      <a:pt x="73" y="4"/>
                    </a:lnTo>
                    <a:lnTo>
                      <a:pt x="77" y="9"/>
                    </a:lnTo>
                    <a:lnTo>
                      <a:pt x="81" y="13"/>
                    </a:lnTo>
                    <a:lnTo>
                      <a:pt x="89" y="26"/>
                    </a:lnTo>
                    <a:lnTo>
                      <a:pt x="93" y="30"/>
                    </a:lnTo>
                    <a:lnTo>
                      <a:pt x="102" y="52"/>
                    </a:lnTo>
                    <a:lnTo>
                      <a:pt x="106" y="61"/>
                    </a:lnTo>
                    <a:lnTo>
                      <a:pt x="110" y="74"/>
                    </a:lnTo>
                    <a:lnTo>
                      <a:pt x="114" y="87"/>
                    </a:lnTo>
                    <a:lnTo>
                      <a:pt x="118" y="100"/>
                    </a:lnTo>
                    <a:lnTo>
                      <a:pt x="122" y="113"/>
                    </a:lnTo>
                    <a:lnTo>
                      <a:pt x="130" y="130"/>
                    </a:lnTo>
                    <a:lnTo>
                      <a:pt x="134" y="139"/>
                    </a:lnTo>
                    <a:lnTo>
                      <a:pt x="142" y="152"/>
                    </a:lnTo>
                    <a:lnTo>
                      <a:pt x="147" y="157"/>
                    </a:lnTo>
                    <a:lnTo>
                      <a:pt x="151" y="157"/>
                    </a:lnTo>
                    <a:lnTo>
                      <a:pt x="159" y="161"/>
                    </a:lnTo>
                    <a:lnTo>
                      <a:pt x="163" y="161"/>
                    </a:lnTo>
                    <a:lnTo>
                      <a:pt x="167" y="157"/>
                    </a:lnTo>
                    <a:lnTo>
                      <a:pt x="171" y="152"/>
                    </a:lnTo>
                    <a:lnTo>
                      <a:pt x="179" y="148"/>
                    </a:lnTo>
                    <a:lnTo>
                      <a:pt x="187" y="130"/>
                    </a:lnTo>
                    <a:lnTo>
                      <a:pt x="191" y="122"/>
                    </a:lnTo>
                    <a:lnTo>
                      <a:pt x="195" y="109"/>
                    </a:lnTo>
                    <a:lnTo>
                      <a:pt x="200" y="100"/>
                    </a:lnTo>
                    <a:lnTo>
                      <a:pt x="204" y="91"/>
                    </a:lnTo>
                    <a:lnTo>
                      <a:pt x="208" y="78"/>
                    </a:lnTo>
                    <a:lnTo>
                      <a:pt x="212" y="65"/>
                    </a:lnTo>
                    <a:lnTo>
                      <a:pt x="220" y="52"/>
                    </a:lnTo>
                    <a:lnTo>
                      <a:pt x="224" y="44"/>
                    </a:lnTo>
                    <a:lnTo>
                      <a:pt x="232" y="35"/>
                    </a:lnTo>
                    <a:lnTo>
                      <a:pt x="236" y="30"/>
                    </a:lnTo>
                    <a:lnTo>
                      <a:pt x="240" y="26"/>
                    </a:lnTo>
                    <a:lnTo>
                      <a:pt x="244" y="26"/>
                    </a:lnTo>
                    <a:lnTo>
                      <a:pt x="253" y="26"/>
                    </a:lnTo>
                    <a:lnTo>
                      <a:pt x="261" y="26"/>
                    </a:lnTo>
                    <a:lnTo>
                      <a:pt x="269" y="30"/>
                    </a:lnTo>
                    <a:lnTo>
                      <a:pt x="269" y="35"/>
                    </a:lnTo>
                    <a:lnTo>
                      <a:pt x="277" y="39"/>
                    </a:lnTo>
                    <a:lnTo>
                      <a:pt x="285" y="52"/>
                    </a:lnTo>
                    <a:lnTo>
                      <a:pt x="289" y="61"/>
                    </a:lnTo>
                    <a:lnTo>
                      <a:pt x="293" y="70"/>
                    </a:lnTo>
                    <a:lnTo>
                      <a:pt x="298" y="78"/>
                    </a:lnTo>
                    <a:lnTo>
                      <a:pt x="302" y="87"/>
                    </a:lnTo>
                    <a:lnTo>
                      <a:pt x="310" y="100"/>
                    </a:lnTo>
                    <a:lnTo>
                      <a:pt x="314" y="104"/>
                    </a:lnTo>
                    <a:lnTo>
                      <a:pt x="322" y="117"/>
                    </a:lnTo>
                    <a:lnTo>
                      <a:pt x="330" y="122"/>
                    </a:lnTo>
                    <a:lnTo>
                      <a:pt x="338" y="126"/>
                    </a:lnTo>
                    <a:lnTo>
                      <a:pt x="351" y="130"/>
                    </a:lnTo>
                    <a:lnTo>
                      <a:pt x="363" y="126"/>
                    </a:lnTo>
                    <a:lnTo>
                      <a:pt x="371" y="122"/>
                    </a:lnTo>
                    <a:lnTo>
                      <a:pt x="375" y="117"/>
                    </a:lnTo>
                    <a:lnTo>
                      <a:pt x="383" y="109"/>
                    </a:lnTo>
                    <a:lnTo>
                      <a:pt x="387" y="104"/>
                    </a:lnTo>
                    <a:lnTo>
                      <a:pt x="395" y="96"/>
                    </a:lnTo>
                    <a:lnTo>
                      <a:pt x="400" y="8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5" name=""/>
            <p:cNvGrpSpPr/>
            <p:nvPr/>
          </p:nvGrpSpPr>
          <p:grpSpPr>
            <a:xfrm>
              <a:off x="6529320" y="5064120"/>
              <a:ext cx="1263960" cy="662040"/>
              <a:chOff x="6529320" y="5064120"/>
              <a:chExt cx="1263960" cy="662040"/>
            </a:xfrm>
          </p:grpSpPr>
          <p:sp>
            <p:nvSpPr>
              <p:cNvPr id="5006" name=""/>
              <p:cNvSpPr/>
              <p:nvPr/>
            </p:nvSpPr>
            <p:spPr>
              <a:xfrm>
                <a:off x="6529320" y="5064120"/>
                <a:ext cx="635040" cy="662040"/>
              </a:xfrm>
              <a:custGeom>
                <a:avLst/>
                <a:gdLst/>
                <a:ahLst/>
                <a:rect l="l" t="t" r="r" b="b"/>
                <a:pathLst>
                  <a:path w="400" h="417">
                    <a:moveTo>
                      <a:pt x="0" y="239"/>
                    </a:moveTo>
                    <a:lnTo>
                      <a:pt x="4" y="221"/>
                    </a:lnTo>
                    <a:lnTo>
                      <a:pt x="4" y="200"/>
                    </a:lnTo>
                    <a:lnTo>
                      <a:pt x="8" y="173"/>
                    </a:lnTo>
                    <a:lnTo>
                      <a:pt x="12" y="152"/>
                    </a:lnTo>
                    <a:lnTo>
                      <a:pt x="17" y="130"/>
                    </a:lnTo>
                    <a:lnTo>
                      <a:pt x="21" y="113"/>
                    </a:lnTo>
                    <a:lnTo>
                      <a:pt x="25" y="91"/>
                    </a:lnTo>
                    <a:lnTo>
                      <a:pt x="29" y="78"/>
                    </a:lnTo>
                    <a:lnTo>
                      <a:pt x="33" y="60"/>
                    </a:lnTo>
                    <a:lnTo>
                      <a:pt x="37" y="47"/>
                    </a:lnTo>
                    <a:lnTo>
                      <a:pt x="41" y="30"/>
                    </a:lnTo>
                    <a:lnTo>
                      <a:pt x="45" y="21"/>
                    </a:lnTo>
                    <a:lnTo>
                      <a:pt x="49" y="13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78" y="17"/>
                    </a:lnTo>
                    <a:lnTo>
                      <a:pt x="82" y="26"/>
                    </a:lnTo>
                    <a:lnTo>
                      <a:pt x="86" y="39"/>
                    </a:lnTo>
                    <a:lnTo>
                      <a:pt x="90" y="52"/>
                    </a:lnTo>
                    <a:lnTo>
                      <a:pt x="90" y="60"/>
                    </a:lnTo>
                    <a:lnTo>
                      <a:pt x="94" y="73"/>
                    </a:lnTo>
                    <a:lnTo>
                      <a:pt x="98" y="95"/>
                    </a:lnTo>
                    <a:lnTo>
                      <a:pt x="102" y="113"/>
                    </a:lnTo>
                    <a:lnTo>
                      <a:pt x="102" y="130"/>
                    </a:lnTo>
                    <a:lnTo>
                      <a:pt x="106" y="156"/>
                    </a:lnTo>
                    <a:lnTo>
                      <a:pt x="110" y="182"/>
                    </a:lnTo>
                    <a:lnTo>
                      <a:pt x="110" y="191"/>
                    </a:lnTo>
                    <a:lnTo>
                      <a:pt x="110" y="200"/>
                    </a:lnTo>
                    <a:lnTo>
                      <a:pt x="114" y="226"/>
                    </a:lnTo>
                    <a:lnTo>
                      <a:pt x="119" y="252"/>
                    </a:lnTo>
                    <a:lnTo>
                      <a:pt x="119" y="269"/>
                    </a:lnTo>
                    <a:lnTo>
                      <a:pt x="123" y="286"/>
                    </a:lnTo>
                    <a:lnTo>
                      <a:pt x="127" y="313"/>
                    </a:lnTo>
                    <a:lnTo>
                      <a:pt x="131" y="326"/>
                    </a:lnTo>
                    <a:lnTo>
                      <a:pt x="131" y="339"/>
                    </a:lnTo>
                    <a:lnTo>
                      <a:pt x="135" y="356"/>
                    </a:lnTo>
                    <a:lnTo>
                      <a:pt x="139" y="369"/>
                    </a:lnTo>
                    <a:lnTo>
                      <a:pt x="139" y="378"/>
                    </a:lnTo>
                    <a:lnTo>
                      <a:pt x="143" y="386"/>
                    </a:lnTo>
                    <a:lnTo>
                      <a:pt x="147" y="399"/>
                    </a:lnTo>
                    <a:lnTo>
                      <a:pt x="147" y="399"/>
                    </a:lnTo>
                    <a:lnTo>
                      <a:pt x="151" y="408"/>
                    </a:lnTo>
                    <a:lnTo>
                      <a:pt x="155" y="417"/>
                    </a:lnTo>
                    <a:lnTo>
                      <a:pt x="159" y="417"/>
                    </a:lnTo>
                    <a:lnTo>
                      <a:pt x="159" y="417"/>
                    </a:lnTo>
                    <a:lnTo>
                      <a:pt x="168" y="417"/>
                    </a:lnTo>
                    <a:lnTo>
                      <a:pt x="163" y="417"/>
                    </a:lnTo>
                    <a:lnTo>
                      <a:pt x="172" y="412"/>
                    </a:lnTo>
                    <a:lnTo>
                      <a:pt x="172" y="412"/>
                    </a:lnTo>
                    <a:lnTo>
                      <a:pt x="176" y="399"/>
                    </a:lnTo>
                    <a:lnTo>
                      <a:pt x="180" y="395"/>
                    </a:lnTo>
                    <a:lnTo>
                      <a:pt x="180" y="391"/>
                    </a:lnTo>
                    <a:lnTo>
                      <a:pt x="184" y="378"/>
                    </a:lnTo>
                    <a:lnTo>
                      <a:pt x="188" y="365"/>
                    </a:lnTo>
                    <a:lnTo>
                      <a:pt x="192" y="352"/>
                    </a:lnTo>
                    <a:lnTo>
                      <a:pt x="192" y="343"/>
                    </a:lnTo>
                    <a:lnTo>
                      <a:pt x="196" y="326"/>
                    </a:lnTo>
                    <a:lnTo>
                      <a:pt x="200" y="304"/>
                    </a:lnTo>
                    <a:lnTo>
                      <a:pt x="204" y="286"/>
                    </a:lnTo>
                    <a:lnTo>
                      <a:pt x="204" y="278"/>
                    </a:lnTo>
                    <a:lnTo>
                      <a:pt x="208" y="256"/>
                    </a:lnTo>
                    <a:lnTo>
                      <a:pt x="212" y="226"/>
                    </a:lnTo>
                    <a:lnTo>
                      <a:pt x="221" y="195"/>
                    </a:lnTo>
                    <a:lnTo>
                      <a:pt x="229" y="165"/>
                    </a:lnTo>
                    <a:lnTo>
                      <a:pt x="233" y="147"/>
                    </a:lnTo>
                    <a:lnTo>
                      <a:pt x="241" y="126"/>
                    </a:lnTo>
                    <a:lnTo>
                      <a:pt x="245" y="117"/>
                    </a:lnTo>
                    <a:lnTo>
                      <a:pt x="253" y="104"/>
                    </a:lnTo>
                    <a:lnTo>
                      <a:pt x="257" y="104"/>
                    </a:lnTo>
                    <a:lnTo>
                      <a:pt x="261" y="104"/>
                    </a:lnTo>
                    <a:lnTo>
                      <a:pt x="274" y="108"/>
                    </a:lnTo>
                    <a:lnTo>
                      <a:pt x="278" y="117"/>
                    </a:lnTo>
                    <a:lnTo>
                      <a:pt x="282" y="126"/>
                    </a:lnTo>
                    <a:lnTo>
                      <a:pt x="290" y="147"/>
                    </a:lnTo>
                    <a:lnTo>
                      <a:pt x="294" y="169"/>
                    </a:lnTo>
                    <a:lnTo>
                      <a:pt x="298" y="191"/>
                    </a:lnTo>
                    <a:lnTo>
                      <a:pt x="302" y="208"/>
                    </a:lnTo>
                    <a:lnTo>
                      <a:pt x="306" y="226"/>
                    </a:lnTo>
                    <a:lnTo>
                      <a:pt x="310" y="247"/>
                    </a:lnTo>
                    <a:lnTo>
                      <a:pt x="319" y="278"/>
                    </a:lnTo>
                    <a:lnTo>
                      <a:pt x="323" y="291"/>
                    </a:lnTo>
                    <a:lnTo>
                      <a:pt x="331" y="313"/>
                    </a:lnTo>
                    <a:lnTo>
                      <a:pt x="335" y="321"/>
                    </a:lnTo>
                    <a:lnTo>
                      <a:pt x="343" y="334"/>
                    </a:lnTo>
                    <a:lnTo>
                      <a:pt x="347" y="334"/>
                    </a:lnTo>
                    <a:lnTo>
                      <a:pt x="355" y="339"/>
                    </a:lnTo>
                    <a:lnTo>
                      <a:pt x="363" y="334"/>
                    </a:lnTo>
                    <a:lnTo>
                      <a:pt x="363" y="330"/>
                    </a:lnTo>
                    <a:lnTo>
                      <a:pt x="372" y="321"/>
                    </a:lnTo>
                    <a:lnTo>
                      <a:pt x="380" y="304"/>
                    </a:lnTo>
                    <a:lnTo>
                      <a:pt x="384" y="295"/>
                    </a:lnTo>
                    <a:lnTo>
                      <a:pt x="392" y="269"/>
                    </a:lnTo>
                    <a:lnTo>
                      <a:pt x="396" y="252"/>
                    </a:lnTo>
                    <a:lnTo>
                      <a:pt x="400" y="234"/>
                    </a:lnTo>
                    <a:lnTo>
                      <a:pt x="0" y="2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6529320" y="5064120"/>
                <a:ext cx="635040" cy="662040"/>
              </a:xfrm>
              <a:custGeom>
                <a:avLst/>
                <a:gdLst/>
                <a:ahLst/>
                <a:rect l="l" t="t" r="r" b="b"/>
                <a:pathLst>
                  <a:path w="400" h="417">
                    <a:moveTo>
                      <a:pt x="0" y="239"/>
                    </a:moveTo>
                    <a:lnTo>
                      <a:pt x="4" y="221"/>
                    </a:lnTo>
                    <a:lnTo>
                      <a:pt x="4" y="200"/>
                    </a:lnTo>
                    <a:lnTo>
                      <a:pt x="8" y="173"/>
                    </a:lnTo>
                    <a:lnTo>
                      <a:pt x="12" y="152"/>
                    </a:lnTo>
                    <a:lnTo>
                      <a:pt x="17" y="130"/>
                    </a:lnTo>
                    <a:lnTo>
                      <a:pt x="21" y="113"/>
                    </a:lnTo>
                    <a:lnTo>
                      <a:pt x="25" y="91"/>
                    </a:lnTo>
                    <a:lnTo>
                      <a:pt x="29" y="78"/>
                    </a:lnTo>
                    <a:lnTo>
                      <a:pt x="33" y="60"/>
                    </a:lnTo>
                    <a:lnTo>
                      <a:pt x="37" y="47"/>
                    </a:lnTo>
                    <a:lnTo>
                      <a:pt x="41" y="30"/>
                    </a:lnTo>
                    <a:lnTo>
                      <a:pt x="45" y="21"/>
                    </a:lnTo>
                    <a:lnTo>
                      <a:pt x="49" y="13"/>
                    </a:lnTo>
                    <a:lnTo>
                      <a:pt x="53" y="8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70" y="4"/>
                    </a:lnTo>
                    <a:lnTo>
                      <a:pt x="74" y="8"/>
                    </a:lnTo>
                    <a:lnTo>
                      <a:pt x="78" y="17"/>
                    </a:lnTo>
                    <a:lnTo>
                      <a:pt x="82" y="26"/>
                    </a:lnTo>
                    <a:lnTo>
                      <a:pt x="86" y="39"/>
                    </a:lnTo>
                    <a:lnTo>
                      <a:pt x="90" y="52"/>
                    </a:lnTo>
                    <a:lnTo>
                      <a:pt x="90" y="60"/>
                    </a:lnTo>
                    <a:lnTo>
                      <a:pt x="94" y="73"/>
                    </a:lnTo>
                    <a:lnTo>
                      <a:pt x="98" y="95"/>
                    </a:lnTo>
                    <a:lnTo>
                      <a:pt x="102" y="113"/>
                    </a:lnTo>
                    <a:lnTo>
                      <a:pt x="102" y="130"/>
                    </a:lnTo>
                    <a:lnTo>
                      <a:pt x="106" y="156"/>
                    </a:lnTo>
                    <a:lnTo>
                      <a:pt x="110" y="182"/>
                    </a:lnTo>
                    <a:lnTo>
                      <a:pt x="110" y="191"/>
                    </a:lnTo>
                    <a:lnTo>
                      <a:pt x="110" y="200"/>
                    </a:lnTo>
                    <a:lnTo>
                      <a:pt x="114" y="226"/>
                    </a:lnTo>
                    <a:lnTo>
                      <a:pt x="119" y="252"/>
                    </a:lnTo>
                    <a:lnTo>
                      <a:pt x="119" y="269"/>
                    </a:lnTo>
                    <a:lnTo>
                      <a:pt x="123" y="286"/>
                    </a:lnTo>
                    <a:lnTo>
                      <a:pt x="127" y="313"/>
                    </a:lnTo>
                    <a:lnTo>
                      <a:pt x="131" y="326"/>
                    </a:lnTo>
                    <a:lnTo>
                      <a:pt x="131" y="339"/>
                    </a:lnTo>
                    <a:lnTo>
                      <a:pt x="135" y="356"/>
                    </a:lnTo>
                    <a:lnTo>
                      <a:pt x="139" y="369"/>
                    </a:lnTo>
                    <a:lnTo>
                      <a:pt x="139" y="378"/>
                    </a:lnTo>
                    <a:lnTo>
                      <a:pt x="143" y="386"/>
                    </a:lnTo>
                    <a:lnTo>
                      <a:pt x="147" y="399"/>
                    </a:lnTo>
                    <a:lnTo>
                      <a:pt x="151" y="408"/>
                    </a:lnTo>
                    <a:lnTo>
                      <a:pt x="155" y="417"/>
                    </a:lnTo>
                    <a:lnTo>
                      <a:pt x="159" y="417"/>
                    </a:lnTo>
                    <a:lnTo>
                      <a:pt x="168" y="417"/>
                    </a:lnTo>
                    <a:lnTo>
                      <a:pt x="163" y="417"/>
                    </a:lnTo>
                    <a:lnTo>
                      <a:pt x="172" y="412"/>
                    </a:lnTo>
                    <a:lnTo>
                      <a:pt x="176" y="399"/>
                    </a:lnTo>
                    <a:lnTo>
                      <a:pt x="180" y="395"/>
                    </a:lnTo>
                    <a:lnTo>
                      <a:pt x="180" y="391"/>
                    </a:lnTo>
                    <a:lnTo>
                      <a:pt x="184" y="378"/>
                    </a:lnTo>
                    <a:lnTo>
                      <a:pt x="188" y="365"/>
                    </a:lnTo>
                    <a:lnTo>
                      <a:pt x="192" y="352"/>
                    </a:lnTo>
                    <a:lnTo>
                      <a:pt x="192" y="343"/>
                    </a:lnTo>
                    <a:lnTo>
                      <a:pt x="196" y="326"/>
                    </a:lnTo>
                    <a:lnTo>
                      <a:pt x="200" y="304"/>
                    </a:lnTo>
                    <a:lnTo>
                      <a:pt x="204" y="286"/>
                    </a:lnTo>
                    <a:lnTo>
                      <a:pt x="204" y="278"/>
                    </a:lnTo>
                    <a:lnTo>
                      <a:pt x="208" y="256"/>
                    </a:lnTo>
                    <a:lnTo>
                      <a:pt x="212" y="226"/>
                    </a:lnTo>
                    <a:lnTo>
                      <a:pt x="221" y="195"/>
                    </a:lnTo>
                    <a:lnTo>
                      <a:pt x="229" y="165"/>
                    </a:lnTo>
                    <a:lnTo>
                      <a:pt x="233" y="147"/>
                    </a:lnTo>
                    <a:lnTo>
                      <a:pt x="241" y="126"/>
                    </a:lnTo>
                    <a:lnTo>
                      <a:pt x="245" y="117"/>
                    </a:lnTo>
                    <a:lnTo>
                      <a:pt x="253" y="104"/>
                    </a:lnTo>
                    <a:lnTo>
                      <a:pt x="257" y="104"/>
                    </a:lnTo>
                    <a:lnTo>
                      <a:pt x="261" y="104"/>
                    </a:lnTo>
                    <a:lnTo>
                      <a:pt x="274" y="108"/>
                    </a:lnTo>
                    <a:lnTo>
                      <a:pt x="278" y="117"/>
                    </a:lnTo>
                    <a:lnTo>
                      <a:pt x="282" y="126"/>
                    </a:lnTo>
                    <a:lnTo>
                      <a:pt x="290" y="147"/>
                    </a:lnTo>
                    <a:lnTo>
                      <a:pt x="294" y="169"/>
                    </a:lnTo>
                    <a:lnTo>
                      <a:pt x="298" y="191"/>
                    </a:lnTo>
                    <a:lnTo>
                      <a:pt x="302" y="208"/>
                    </a:lnTo>
                    <a:lnTo>
                      <a:pt x="306" y="226"/>
                    </a:lnTo>
                    <a:lnTo>
                      <a:pt x="310" y="247"/>
                    </a:lnTo>
                    <a:lnTo>
                      <a:pt x="319" y="278"/>
                    </a:lnTo>
                    <a:lnTo>
                      <a:pt x="323" y="291"/>
                    </a:lnTo>
                    <a:lnTo>
                      <a:pt x="331" y="313"/>
                    </a:lnTo>
                    <a:lnTo>
                      <a:pt x="335" y="321"/>
                    </a:lnTo>
                    <a:lnTo>
                      <a:pt x="343" y="334"/>
                    </a:lnTo>
                    <a:lnTo>
                      <a:pt x="347" y="334"/>
                    </a:lnTo>
                    <a:lnTo>
                      <a:pt x="355" y="339"/>
                    </a:lnTo>
                    <a:lnTo>
                      <a:pt x="363" y="334"/>
                    </a:lnTo>
                    <a:lnTo>
                      <a:pt x="363" y="330"/>
                    </a:lnTo>
                    <a:lnTo>
                      <a:pt x="372" y="321"/>
                    </a:lnTo>
                    <a:lnTo>
                      <a:pt x="380" y="304"/>
                    </a:lnTo>
                    <a:lnTo>
                      <a:pt x="384" y="295"/>
                    </a:lnTo>
                    <a:lnTo>
                      <a:pt x="392" y="269"/>
                    </a:lnTo>
                    <a:lnTo>
                      <a:pt x="396" y="252"/>
                    </a:lnTo>
                    <a:lnTo>
                      <a:pt x="400" y="2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7158240" y="5297400"/>
                <a:ext cx="635040" cy="255600"/>
              </a:xfrm>
              <a:custGeom>
                <a:avLst/>
                <a:gdLst/>
                <a:ahLst/>
                <a:rect l="l" t="t" r="r" b="b"/>
                <a:pathLst>
                  <a:path w="400" h="161">
                    <a:moveTo>
                      <a:pt x="0" y="92"/>
                    </a:moveTo>
                    <a:lnTo>
                      <a:pt x="4" y="83"/>
                    </a:lnTo>
                    <a:lnTo>
                      <a:pt x="12" y="61"/>
                    </a:lnTo>
                    <a:lnTo>
                      <a:pt x="21" y="44"/>
                    </a:lnTo>
                    <a:lnTo>
                      <a:pt x="29" y="31"/>
                    </a:lnTo>
                    <a:lnTo>
                      <a:pt x="37" y="18"/>
                    </a:lnTo>
                    <a:lnTo>
                      <a:pt x="41" y="13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65" y="0"/>
                    </a:lnTo>
                    <a:lnTo>
                      <a:pt x="74" y="5"/>
                    </a:lnTo>
                    <a:lnTo>
                      <a:pt x="78" y="9"/>
                    </a:lnTo>
                    <a:lnTo>
                      <a:pt x="82" y="13"/>
                    </a:lnTo>
                    <a:lnTo>
                      <a:pt x="90" y="26"/>
                    </a:lnTo>
                    <a:lnTo>
                      <a:pt x="94" y="31"/>
                    </a:lnTo>
                    <a:lnTo>
                      <a:pt x="102" y="53"/>
                    </a:lnTo>
                    <a:lnTo>
                      <a:pt x="106" y="61"/>
                    </a:lnTo>
                    <a:lnTo>
                      <a:pt x="110" y="74"/>
                    </a:lnTo>
                    <a:lnTo>
                      <a:pt x="114" y="87"/>
                    </a:lnTo>
                    <a:lnTo>
                      <a:pt x="118" y="100"/>
                    </a:lnTo>
                    <a:lnTo>
                      <a:pt x="123" y="113"/>
                    </a:lnTo>
                    <a:lnTo>
                      <a:pt x="131" y="131"/>
                    </a:lnTo>
                    <a:lnTo>
                      <a:pt x="135" y="139"/>
                    </a:lnTo>
                    <a:lnTo>
                      <a:pt x="143" y="152"/>
                    </a:lnTo>
                    <a:lnTo>
                      <a:pt x="147" y="157"/>
                    </a:lnTo>
                    <a:lnTo>
                      <a:pt x="151" y="157"/>
                    </a:lnTo>
                    <a:lnTo>
                      <a:pt x="159" y="161"/>
                    </a:lnTo>
                    <a:lnTo>
                      <a:pt x="163" y="161"/>
                    </a:lnTo>
                    <a:lnTo>
                      <a:pt x="167" y="157"/>
                    </a:lnTo>
                    <a:lnTo>
                      <a:pt x="172" y="152"/>
                    </a:lnTo>
                    <a:lnTo>
                      <a:pt x="180" y="148"/>
                    </a:lnTo>
                    <a:lnTo>
                      <a:pt x="188" y="131"/>
                    </a:lnTo>
                    <a:lnTo>
                      <a:pt x="192" y="122"/>
                    </a:lnTo>
                    <a:lnTo>
                      <a:pt x="196" y="109"/>
                    </a:lnTo>
                    <a:lnTo>
                      <a:pt x="200" y="100"/>
                    </a:lnTo>
                    <a:lnTo>
                      <a:pt x="204" y="92"/>
                    </a:lnTo>
                    <a:lnTo>
                      <a:pt x="208" y="79"/>
                    </a:lnTo>
                    <a:lnTo>
                      <a:pt x="212" y="66"/>
                    </a:lnTo>
                    <a:lnTo>
                      <a:pt x="221" y="53"/>
                    </a:lnTo>
                    <a:lnTo>
                      <a:pt x="225" y="48"/>
                    </a:lnTo>
                    <a:lnTo>
                      <a:pt x="233" y="35"/>
                    </a:lnTo>
                    <a:lnTo>
                      <a:pt x="241" y="31"/>
                    </a:lnTo>
                    <a:lnTo>
                      <a:pt x="241" y="31"/>
                    </a:lnTo>
                    <a:lnTo>
                      <a:pt x="249" y="26"/>
                    </a:lnTo>
                    <a:lnTo>
                      <a:pt x="253" y="26"/>
                    </a:lnTo>
                    <a:lnTo>
                      <a:pt x="261" y="31"/>
                    </a:lnTo>
                    <a:lnTo>
                      <a:pt x="270" y="35"/>
                    </a:lnTo>
                    <a:lnTo>
                      <a:pt x="270" y="39"/>
                    </a:lnTo>
                    <a:lnTo>
                      <a:pt x="278" y="44"/>
                    </a:lnTo>
                    <a:lnTo>
                      <a:pt x="286" y="57"/>
                    </a:lnTo>
                    <a:lnTo>
                      <a:pt x="290" y="66"/>
                    </a:lnTo>
                    <a:lnTo>
                      <a:pt x="294" y="74"/>
                    </a:lnTo>
                    <a:lnTo>
                      <a:pt x="298" y="83"/>
                    </a:lnTo>
                    <a:lnTo>
                      <a:pt x="302" y="92"/>
                    </a:lnTo>
                    <a:lnTo>
                      <a:pt x="310" y="105"/>
                    </a:lnTo>
                    <a:lnTo>
                      <a:pt x="314" y="109"/>
                    </a:lnTo>
                    <a:lnTo>
                      <a:pt x="323" y="118"/>
                    </a:lnTo>
                    <a:lnTo>
                      <a:pt x="327" y="122"/>
                    </a:lnTo>
                    <a:lnTo>
                      <a:pt x="335" y="126"/>
                    </a:lnTo>
                    <a:lnTo>
                      <a:pt x="343" y="131"/>
                    </a:lnTo>
                    <a:lnTo>
                      <a:pt x="351" y="131"/>
                    </a:lnTo>
                    <a:lnTo>
                      <a:pt x="351" y="131"/>
                    </a:lnTo>
                    <a:lnTo>
                      <a:pt x="363" y="126"/>
                    </a:lnTo>
                    <a:lnTo>
                      <a:pt x="372" y="122"/>
                    </a:lnTo>
                    <a:lnTo>
                      <a:pt x="376" y="118"/>
                    </a:lnTo>
                    <a:lnTo>
                      <a:pt x="380" y="113"/>
                    </a:lnTo>
                    <a:lnTo>
                      <a:pt x="388" y="105"/>
                    </a:lnTo>
                    <a:lnTo>
                      <a:pt x="396" y="96"/>
                    </a:lnTo>
                    <a:lnTo>
                      <a:pt x="400" y="8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7158240" y="5297400"/>
                <a:ext cx="635040" cy="255600"/>
              </a:xfrm>
              <a:custGeom>
                <a:avLst/>
                <a:gdLst/>
                <a:ahLst/>
                <a:rect l="l" t="t" r="r" b="b"/>
                <a:pathLst>
                  <a:path w="400" h="161">
                    <a:moveTo>
                      <a:pt x="0" y="92"/>
                    </a:moveTo>
                    <a:lnTo>
                      <a:pt x="4" y="83"/>
                    </a:lnTo>
                    <a:lnTo>
                      <a:pt x="12" y="61"/>
                    </a:lnTo>
                    <a:lnTo>
                      <a:pt x="21" y="44"/>
                    </a:lnTo>
                    <a:lnTo>
                      <a:pt x="29" y="31"/>
                    </a:lnTo>
                    <a:lnTo>
                      <a:pt x="37" y="18"/>
                    </a:lnTo>
                    <a:lnTo>
                      <a:pt x="41" y="13"/>
                    </a:lnTo>
                    <a:lnTo>
                      <a:pt x="53" y="5"/>
                    </a:lnTo>
                    <a:lnTo>
                      <a:pt x="65" y="0"/>
                    </a:lnTo>
                    <a:lnTo>
                      <a:pt x="74" y="5"/>
                    </a:lnTo>
                    <a:lnTo>
                      <a:pt x="78" y="9"/>
                    </a:lnTo>
                    <a:lnTo>
                      <a:pt x="82" y="13"/>
                    </a:lnTo>
                    <a:lnTo>
                      <a:pt x="90" y="26"/>
                    </a:lnTo>
                    <a:lnTo>
                      <a:pt x="94" y="31"/>
                    </a:lnTo>
                    <a:lnTo>
                      <a:pt x="102" y="53"/>
                    </a:lnTo>
                    <a:lnTo>
                      <a:pt x="106" y="61"/>
                    </a:lnTo>
                    <a:lnTo>
                      <a:pt x="110" y="74"/>
                    </a:lnTo>
                    <a:lnTo>
                      <a:pt x="114" y="87"/>
                    </a:lnTo>
                    <a:lnTo>
                      <a:pt x="118" y="100"/>
                    </a:lnTo>
                    <a:lnTo>
                      <a:pt x="123" y="113"/>
                    </a:lnTo>
                    <a:lnTo>
                      <a:pt x="131" y="131"/>
                    </a:lnTo>
                    <a:lnTo>
                      <a:pt x="135" y="139"/>
                    </a:lnTo>
                    <a:lnTo>
                      <a:pt x="143" y="152"/>
                    </a:lnTo>
                    <a:lnTo>
                      <a:pt x="147" y="157"/>
                    </a:lnTo>
                    <a:lnTo>
                      <a:pt x="151" y="157"/>
                    </a:lnTo>
                    <a:lnTo>
                      <a:pt x="159" y="161"/>
                    </a:lnTo>
                    <a:lnTo>
                      <a:pt x="163" y="161"/>
                    </a:lnTo>
                    <a:lnTo>
                      <a:pt x="167" y="157"/>
                    </a:lnTo>
                    <a:lnTo>
                      <a:pt x="172" y="152"/>
                    </a:lnTo>
                    <a:lnTo>
                      <a:pt x="180" y="148"/>
                    </a:lnTo>
                    <a:lnTo>
                      <a:pt x="188" y="131"/>
                    </a:lnTo>
                    <a:lnTo>
                      <a:pt x="192" y="122"/>
                    </a:lnTo>
                    <a:lnTo>
                      <a:pt x="196" y="109"/>
                    </a:lnTo>
                    <a:lnTo>
                      <a:pt x="200" y="100"/>
                    </a:lnTo>
                    <a:lnTo>
                      <a:pt x="204" y="92"/>
                    </a:lnTo>
                    <a:lnTo>
                      <a:pt x="208" y="79"/>
                    </a:lnTo>
                    <a:lnTo>
                      <a:pt x="212" y="66"/>
                    </a:lnTo>
                    <a:lnTo>
                      <a:pt x="221" y="53"/>
                    </a:lnTo>
                    <a:lnTo>
                      <a:pt x="225" y="48"/>
                    </a:lnTo>
                    <a:lnTo>
                      <a:pt x="233" y="35"/>
                    </a:lnTo>
                    <a:lnTo>
                      <a:pt x="241" y="31"/>
                    </a:lnTo>
                    <a:lnTo>
                      <a:pt x="249" y="26"/>
                    </a:lnTo>
                    <a:lnTo>
                      <a:pt x="253" y="26"/>
                    </a:lnTo>
                    <a:lnTo>
                      <a:pt x="261" y="31"/>
                    </a:lnTo>
                    <a:lnTo>
                      <a:pt x="270" y="35"/>
                    </a:lnTo>
                    <a:lnTo>
                      <a:pt x="270" y="39"/>
                    </a:lnTo>
                    <a:lnTo>
                      <a:pt x="278" y="44"/>
                    </a:lnTo>
                    <a:lnTo>
                      <a:pt x="286" y="57"/>
                    </a:lnTo>
                    <a:lnTo>
                      <a:pt x="290" y="66"/>
                    </a:lnTo>
                    <a:lnTo>
                      <a:pt x="294" y="74"/>
                    </a:lnTo>
                    <a:lnTo>
                      <a:pt x="298" y="83"/>
                    </a:lnTo>
                    <a:lnTo>
                      <a:pt x="302" y="92"/>
                    </a:lnTo>
                    <a:lnTo>
                      <a:pt x="310" y="105"/>
                    </a:lnTo>
                    <a:lnTo>
                      <a:pt x="314" y="109"/>
                    </a:lnTo>
                    <a:lnTo>
                      <a:pt x="323" y="118"/>
                    </a:lnTo>
                    <a:lnTo>
                      <a:pt x="327" y="122"/>
                    </a:lnTo>
                    <a:lnTo>
                      <a:pt x="335" y="126"/>
                    </a:lnTo>
                    <a:lnTo>
                      <a:pt x="343" y="131"/>
                    </a:lnTo>
                    <a:lnTo>
                      <a:pt x="351" y="131"/>
                    </a:lnTo>
                    <a:lnTo>
                      <a:pt x="363" y="126"/>
                    </a:lnTo>
                    <a:lnTo>
                      <a:pt x="372" y="122"/>
                    </a:lnTo>
                    <a:lnTo>
                      <a:pt x="376" y="118"/>
                    </a:lnTo>
                    <a:lnTo>
                      <a:pt x="380" y="113"/>
                    </a:lnTo>
                    <a:lnTo>
                      <a:pt x="388" y="105"/>
                    </a:lnTo>
                    <a:lnTo>
                      <a:pt x="396" y="96"/>
                    </a:lnTo>
                    <a:lnTo>
                      <a:pt x="400" y="8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0" name=""/>
            <p:cNvGrpSpPr/>
            <p:nvPr/>
          </p:nvGrpSpPr>
          <p:grpSpPr>
            <a:xfrm>
              <a:off x="6289920" y="5415120"/>
              <a:ext cx="2676240" cy="41040"/>
              <a:chOff x="6289920" y="5415120"/>
              <a:chExt cx="2676240" cy="41040"/>
            </a:xfrm>
          </p:grpSpPr>
          <p:sp>
            <p:nvSpPr>
              <p:cNvPr id="5011" name=""/>
              <p:cNvSpPr/>
              <p:nvPr/>
            </p:nvSpPr>
            <p:spPr>
              <a:xfrm>
                <a:off x="8882280" y="5415120"/>
                <a:ext cx="83880" cy="41040"/>
              </a:xfrm>
              <a:custGeom>
                <a:avLst/>
                <a:gdLst/>
                <a:ahLst/>
                <a:rect l="l" t="t" r="r" b="b"/>
                <a:pathLst>
                  <a:path w="53" h="26">
                    <a:moveTo>
                      <a:pt x="53" y="13"/>
                    </a:moveTo>
                    <a:lnTo>
                      <a:pt x="4" y="26"/>
                    </a:lnTo>
                    <a:lnTo>
                      <a:pt x="4" y="13"/>
                    </a:lnTo>
                    <a:lnTo>
                      <a:pt x="0" y="0"/>
                    </a:lnTo>
                    <a:lnTo>
                      <a:pt x="5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 flipV="1">
                <a:off x="6289920" y="5437080"/>
                <a:ext cx="259848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3" name=""/>
            <p:cNvSpPr/>
            <p:nvPr/>
          </p:nvSpPr>
          <p:spPr>
            <a:xfrm>
              <a:off x="7416720" y="4994280"/>
              <a:ext cx="1135080" cy="344520"/>
            </a:xfrm>
            <a:custGeom>
              <a:avLst/>
              <a:gdLst/>
              <a:ahLst/>
              <a:rect l="l" t="t" r="r" b="b"/>
              <a:pathLst>
                <a:path w="715" h="217">
                  <a:moveTo>
                    <a:pt x="0" y="0"/>
                  </a:moveTo>
                  <a:lnTo>
                    <a:pt x="29" y="18"/>
                  </a:lnTo>
                  <a:lnTo>
                    <a:pt x="70" y="44"/>
                  </a:lnTo>
                  <a:lnTo>
                    <a:pt x="115" y="70"/>
                  </a:lnTo>
                  <a:lnTo>
                    <a:pt x="160" y="96"/>
                  </a:lnTo>
                  <a:lnTo>
                    <a:pt x="196" y="113"/>
                  </a:lnTo>
                  <a:lnTo>
                    <a:pt x="229" y="131"/>
                  </a:lnTo>
                  <a:lnTo>
                    <a:pt x="258" y="139"/>
                  </a:lnTo>
                  <a:lnTo>
                    <a:pt x="286" y="148"/>
                  </a:lnTo>
                  <a:lnTo>
                    <a:pt x="298" y="152"/>
                  </a:lnTo>
                  <a:lnTo>
                    <a:pt x="302" y="152"/>
                  </a:lnTo>
                  <a:lnTo>
                    <a:pt x="319" y="157"/>
                  </a:lnTo>
                  <a:lnTo>
                    <a:pt x="335" y="161"/>
                  </a:lnTo>
                  <a:lnTo>
                    <a:pt x="347" y="161"/>
                  </a:lnTo>
                  <a:lnTo>
                    <a:pt x="368" y="165"/>
                  </a:lnTo>
                  <a:lnTo>
                    <a:pt x="388" y="170"/>
                  </a:lnTo>
                  <a:lnTo>
                    <a:pt x="413" y="174"/>
                  </a:lnTo>
                  <a:lnTo>
                    <a:pt x="437" y="178"/>
                  </a:lnTo>
                  <a:lnTo>
                    <a:pt x="466" y="183"/>
                  </a:lnTo>
                  <a:lnTo>
                    <a:pt x="490" y="187"/>
                  </a:lnTo>
                  <a:lnTo>
                    <a:pt x="523" y="191"/>
                  </a:lnTo>
                  <a:lnTo>
                    <a:pt x="551" y="196"/>
                  </a:lnTo>
                  <a:lnTo>
                    <a:pt x="588" y="200"/>
                  </a:lnTo>
                  <a:lnTo>
                    <a:pt x="621" y="204"/>
                  </a:lnTo>
                  <a:lnTo>
                    <a:pt x="653" y="209"/>
                  </a:lnTo>
                  <a:lnTo>
                    <a:pt x="694" y="213"/>
                  </a:lnTo>
                  <a:lnTo>
                    <a:pt x="715" y="2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4" name=""/>
            <p:cNvGrpSpPr/>
            <p:nvPr/>
          </p:nvGrpSpPr>
          <p:grpSpPr>
            <a:xfrm>
              <a:off x="239400" y="1987560"/>
              <a:ext cx="3124440" cy="1743120"/>
              <a:chOff x="239400" y="1987560"/>
              <a:chExt cx="3124440" cy="1743120"/>
            </a:xfrm>
          </p:grpSpPr>
          <p:sp>
            <p:nvSpPr>
              <p:cNvPr id="5015" name=""/>
              <p:cNvSpPr/>
              <p:nvPr/>
            </p:nvSpPr>
            <p:spPr>
              <a:xfrm>
                <a:off x="2351520" y="3365640"/>
                <a:ext cx="19584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1" lang="fr-FR" sz="16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3046680" y="1987560"/>
                <a:ext cx="317160" cy="2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1" lang="fr-FR" sz="16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17" name=""/>
              <p:cNvGrpSpPr/>
              <p:nvPr/>
            </p:nvGrpSpPr>
            <p:grpSpPr>
              <a:xfrm>
                <a:off x="263520" y="2138400"/>
                <a:ext cx="2911680" cy="1592280"/>
                <a:chOff x="263520" y="2138400"/>
                <a:chExt cx="2911680" cy="1592280"/>
              </a:xfrm>
            </p:grpSpPr>
            <p:sp>
              <p:nvSpPr>
                <p:cNvPr id="5018" name=""/>
                <p:cNvSpPr/>
                <p:nvPr/>
              </p:nvSpPr>
              <p:spPr>
                <a:xfrm>
                  <a:off x="2287800" y="3108240"/>
                  <a:ext cx="879480" cy="409680"/>
                </a:xfrm>
                <a:custGeom>
                  <a:avLst/>
                  <a:gdLst/>
                  <a:ahLst/>
                  <a:rect l="l" t="t" r="r" b="b"/>
                  <a:pathLst>
                    <a:path w="554" h="258">
                      <a:moveTo>
                        <a:pt x="554" y="140"/>
                      </a:moveTo>
                      <a:lnTo>
                        <a:pt x="554" y="129"/>
                      </a:lnTo>
                      <a:lnTo>
                        <a:pt x="548" y="95"/>
                      </a:lnTo>
                      <a:lnTo>
                        <a:pt x="542" y="67"/>
                      </a:lnTo>
                      <a:lnTo>
                        <a:pt x="536" y="45"/>
                      </a:lnTo>
                      <a:lnTo>
                        <a:pt x="530" y="28"/>
                      </a:lnTo>
                      <a:lnTo>
                        <a:pt x="525" y="17"/>
                      </a:lnTo>
                      <a:lnTo>
                        <a:pt x="519" y="6"/>
                      </a:lnTo>
                      <a:lnTo>
                        <a:pt x="519" y="6"/>
                      </a:lnTo>
                      <a:lnTo>
                        <a:pt x="501" y="0"/>
                      </a:lnTo>
                      <a:lnTo>
                        <a:pt x="495" y="6"/>
                      </a:lnTo>
                      <a:lnTo>
                        <a:pt x="490" y="11"/>
                      </a:lnTo>
                      <a:lnTo>
                        <a:pt x="484" y="17"/>
                      </a:lnTo>
                      <a:lnTo>
                        <a:pt x="472" y="39"/>
                      </a:lnTo>
                      <a:lnTo>
                        <a:pt x="460" y="56"/>
                      </a:lnTo>
                      <a:lnTo>
                        <a:pt x="455" y="73"/>
                      </a:lnTo>
                      <a:lnTo>
                        <a:pt x="443" y="101"/>
                      </a:lnTo>
                      <a:lnTo>
                        <a:pt x="437" y="118"/>
                      </a:lnTo>
                      <a:lnTo>
                        <a:pt x="431" y="135"/>
                      </a:lnTo>
                      <a:lnTo>
                        <a:pt x="420" y="163"/>
                      </a:lnTo>
                      <a:lnTo>
                        <a:pt x="414" y="179"/>
                      </a:lnTo>
                      <a:lnTo>
                        <a:pt x="402" y="207"/>
                      </a:lnTo>
                      <a:lnTo>
                        <a:pt x="396" y="219"/>
                      </a:lnTo>
                      <a:lnTo>
                        <a:pt x="385" y="236"/>
                      </a:lnTo>
                      <a:lnTo>
                        <a:pt x="379" y="247"/>
                      </a:lnTo>
                      <a:lnTo>
                        <a:pt x="373" y="252"/>
                      </a:lnTo>
                      <a:lnTo>
                        <a:pt x="367" y="258"/>
                      </a:lnTo>
                      <a:lnTo>
                        <a:pt x="361" y="258"/>
                      </a:lnTo>
                      <a:lnTo>
                        <a:pt x="356" y="252"/>
                      </a:lnTo>
                      <a:lnTo>
                        <a:pt x="356" y="247"/>
                      </a:lnTo>
                      <a:lnTo>
                        <a:pt x="356" y="241"/>
                      </a:lnTo>
                      <a:lnTo>
                        <a:pt x="350" y="224"/>
                      </a:lnTo>
                      <a:lnTo>
                        <a:pt x="350" y="207"/>
                      </a:lnTo>
                      <a:lnTo>
                        <a:pt x="350" y="191"/>
                      </a:lnTo>
                      <a:lnTo>
                        <a:pt x="350" y="179"/>
                      </a:lnTo>
                      <a:lnTo>
                        <a:pt x="350" y="168"/>
                      </a:lnTo>
                      <a:lnTo>
                        <a:pt x="350" y="151"/>
                      </a:lnTo>
                      <a:lnTo>
                        <a:pt x="350" y="135"/>
                      </a:lnTo>
                      <a:lnTo>
                        <a:pt x="344" y="112"/>
                      </a:lnTo>
                      <a:lnTo>
                        <a:pt x="344" y="101"/>
                      </a:lnTo>
                      <a:lnTo>
                        <a:pt x="344" y="90"/>
                      </a:lnTo>
                      <a:lnTo>
                        <a:pt x="338" y="79"/>
                      </a:lnTo>
                      <a:lnTo>
                        <a:pt x="338" y="73"/>
                      </a:lnTo>
                      <a:lnTo>
                        <a:pt x="332" y="67"/>
                      </a:lnTo>
                      <a:lnTo>
                        <a:pt x="332" y="67"/>
                      </a:lnTo>
                      <a:lnTo>
                        <a:pt x="326" y="62"/>
                      </a:lnTo>
                      <a:lnTo>
                        <a:pt x="321" y="67"/>
                      </a:lnTo>
                      <a:lnTo>
                        <a:pt x="321" y="67"/>
                      </a:lnTo>
                      <a:lnTo>
                        <a:pt x="315" y="79"/>
                      </a:lnTo>
                      <a:lnTo>
                        <a:pt x="309" y="90"/>
                      </a:lnTo>
                      <a:lnTo>
                        <a:pt x="303" y="95"/>
                      </a:lnTo>
                      <a:lnTo>
                        <a:pt x="303" y="101"/>
                      </a:lnTo>
                      <a:lnTo>
                        <a:pt x="303" y="107"/>
                      </a:lnTo>
                      <a:lnTo>
                        <a:pt x="297" y="118"/>
                      </a:lnTo>
                      <a:lnTo>
                        <a:pt x="292" y="123"/>
                      </a:lnTo>
                      <a:lnTo>
                        <a:pt x="286" y="135"/>
                      </a:lnTo>
                      <a:lnTo>
                        <a:pt x="280" y="146"/>
                      </a:lnTo>
                      <a:lnTo>
                        <a:pt x="274" y="151"/>
                      </a:lnTo>
                      <a:lnTo>
                        <a:pt x="274" y="151"/>
                      </a:lnTo>
                      <a:lnTo>
                        <a:pt x="268" y="157"/>
                      </a:lnTo>
                      <a:lnTo>
                        <a:pt x="262" y="157"/>
                      </a:lnTo>
                      <a:lnTo>
                        <a:pt x="262" y="157"/>
                      </a:lnTo>
                      <a:lnTo>
                        <a:pt x="257" y="151"/>
                      </a:lnTo>
                      <a:lnTo>
                        <a:pt x="257" y="146"/>
                      </a:lnTo>
                      <a:lnTo>
                        <a:pt x="257" y="151"/>
                      </a:lnTo>
                      <a:lnTo>
                        <a:pt x="251" y="135"/>
                      </a:lnTo>
                      <a:lnTo>
                        <a:pt x="251" y="129"/>
                      </a:lnTo>
                      <a:lnTo>
                        <a:pt x="251" y="118"/>
                      </a:lnTo>
                      <a:lnTo>
                        <a:pt x="251" y="118"/>
                      </a:lnTo>
                      <a:lnTo>
                        <a:pt x="251" y="112"/>
                      </a:lnTo>
                      <a:lnTo>
                        <a:pt x="245" y="90"/>
                      </a:lnTo>
                      <a:lnTo>
                        <a:pt x="239" y="79"/>
                      </a:lnTo>
                      <a:lnTo>
                        <a:pt x="239" y="79"/>
                      </a:lnTo>
                      <a:lnTo>
                        <a:pt x="227" y="67"/>
                      </a:lnTo>
                      <a:lnTo>
                        <a:pt x="222" y="73"/>
                      </a:lnTo>
                      <a:lnTo>
                        <a:pt x="222" y="73"/>
                      </a:lnTo>
                      <a:lnTo>
                        <a:pt x="210" y="79"/>
                      </a:lnTo>
                      <a:lnTo>
                        <a:pt x="204" y="90"/>
                      </a:lnTo>
                      <a:lnTo>
                        <a:pt x="198" y="101"/>
                      </a:lnTo>
                      <a:lnTo>
                        <a:pt x="192" y="112"/>
                      </a:lnTo>
                      <a:lnTo>
                        <a:pt x="187" y="112"/>
                      </a:lnTo>
                      <a:lnTo>
                        <a:pt x="181" y="118"/>
                      </a:lnTo>
                      <a:lnTo>
                        <a:pt x="169" y="123"/>
                      </a:lnTo>
                      <a:lnTo>
                        <a:pt x="163" y="118"/>
                      </a:lnTo>
                      <a:lnTo>
                        <a:pt x="158" y="112"/>
                      </a:lnTo>
                      <a:lnTo>
                        <a:pt x="158" y="107"/>
                      </a:lnTo>
                      <a:lnTo>
                        <a:pt x="152" y="101"/>
                      </a:lnTo>
                      <a:lnTo>
                        <a:pt x="152" y="95"/>
                      </a:lnTo>
                      <a:lnTo>
                        <a:pt x="146" y="90"/>
                      </a:lnTo>
                      <a:lnTo>
                        <a:pt x="140" y="79"/>
                      </a:lnTo>
                      <a:lnTo>
                        <a:pt x="134" y="73"/>
                      </a:lnTo>
                      <a:lnTo>
                        <a:pt x="128" y="67"/>
                      </a:lnTo>
                      <a:lnTo>
                        <a:pt x="123" y="67"/>
                      </a:lnTo>
                      <a:lnTo>
                        <a:pt x="123" y="67"/>
                      </a:lnTo>
                      <a:lnTo>
                        <a:pt x="111" y="73"/>
                      </a:lnTo>
                      <a:lnTo>
                        <a:pt x="111" y="73"/>
                      </a:lnTo>
                      <a:lnTo>
                        <a:pt x="111" y="73"/>
                      </a:lnTo>
                      <a:lnTo>
                        <a:pt x="99" y="79"/>
                      </a:lnTo>
                      <a:lnTo>
                        <a:pt x="88" y="79"/>
                      </a:lnTo>
                      <a:lnTo>
                        <a:pt x="76" y="79"/>
                      </a:lnTo>
                      <a:lnTo>
                        <a:pt x="64" y="79"/>
                      </a:lnTo>
                      <a:lnTo>
                        <a:pt x="53" y="79"/>
                      </a:lnTo>
                      <a:lnTo>
                        <a:pt x="35" y="79"/>
                      </a:lnTo>
                      <a:lnTo>
                        <a:pt x="6" y="73"/>
                      </a:lnTo>
                      <a:lnTo>
                        <a:pt x="0" y="73"/>
                      </a:lnTo>
                      <a:lnTo>
                        <a:pt x="554" y="14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9" name=""/>
                <p:cNvSpPr/>
                <p:nvPr/>
              </p:nvSpPr>
              <p:spPr>
                <a:xfrm>
                  <a:off x="2287800" y="3108240"/>
                  <a:ext cx="879480" cy="409680"/>
                </a:xfrm>
                <a:custGeom>
                  <a:avLst/>
                  <a:gdLst/>
                  <a:ahLst/>
                  <a:rect l="l" t="t" r="r" b="b"/>
                  <a:pathLst>
                    <a:path w="554" h="258">
                      <a:moveTo>
                        <a:pt x="554" y="140"/>
                      </a:moveTo>
                      <a:lnTo>
                        <a:pt x="554" y="129"/>
                      </a:lnTo>
                      <a:lnTo>
                        <a:pt x="548" y="95"/>
                      </a:lnTo>
                      <a:lnTo>
                        <a:pt x="542" y="67"/>
                      </a:lnTo>
                      <a:lnTo>
                        <a:pt x="536" y="45"/>
                      </a:lnTo>
                      <a:lnTo>
                        <a:pt x="530" y="28"/>
                      </a:lnTo>
                      <a:lnTo>
                        <a:pt x="525" y="17"/>
                      </a:lnTo>
                      <a:lnTo>
                        <a:pt x="519" y="6"/>
                      </a:lnTo>
                      <a:lnTo>
                        <a:pt x="501" y="0"/>
                      </a:lnTo>
                      <a:lnTo>
                        <a:pt x="495" y="6"/>
                      </a:lnTo>
                      <a:lnTo>
                        <a:pt x="490" y="11"/>
                      </a:lnTo>
                      <a:lnTo>
                        <a:pt x="484" y="17"/>
                      </a:lnTo>
                      <a:lnTo>
                        <a:pt x="472" y="39"/>
                      </a:lnTo>
                      <a:lnTo>
                        <a:pt x="460" y="56"/>
                      </a:lnTo>
                      <a:lnTo>
                        <a:pt x="455" y="73"/>
                      </a:lnTo>
                      <a:lnTo>
                        <a:pt x="443" y="101"/>
                      </a:lnTo>
                      <a:lnTo>
                        <a:pt x="437" y="118"/>
                      </a:lnTo>
                      <a:lnTo>
                        <a:pt x="431" y="135"/>
                      </a:lnTo>
                      <a:lnTo>
                        <a:pt x="420" y="163"/>
                      </a:lnTo>
                      <a:lnTo>
                        <a:pt x="414" y="179"/>
                      </a:lnTo>
                      <a:lnTo>
                        <a:pt x="402" y="207"/>
                      </a:lnTo>
                      <a:lnTo>
                        <a:pt x="396" y="219"/>
                      </a:lnTo>
                      <a:lnTo>
                        <a:pt x="385" y="236"/>
                      </a:lnTo>
                      <a:lnTo>
                        <a:pt x="379" y="247"/>
                      </a:lnTo>
                      <a:lnTo>
                        <a:pt x="373" y="252"/>
                      </a:lnTo>
                      <a:lnTo>
                        <a:pt x="367" y="258"/>
                      </a:lnTo>
                      <a:lnTo>
                        <a:pt x="361" y="258"/>
                      </a:lnTo>
                      <a:lnTo>
                        <a:pt x="356" y="252"/>
                      </a:lnTo>
                      <a:lnTo>
                        <a:pt x="356" y="247"/>
                      </a:lnTo>
                      <a:lnTo>
                        <a:pt x="356" y="241"/>
                      </a:lnTo>
                      <a:lnTo>
                        <a:pt x="350" y="224"/>
                      </a:lnTo>
                      <a:lnTo>
                        <a:pt x="350" y="207"/>
                      </a:lnTo>
                      <a:lnTo>
                        <a:pt x="350" y="191"/>
                      </a:lnTo>
                      <a:lnTo>
                        <a:pt x="350" y="179"/>
                      </a:lnTo>
                      <a:lnTo>
                        <a:pt x="350" y="168"/>
                      </a:lnTo>
                      <a:lnTo>
                        <a:pt x="350" y="151"/>
                      </a:lnTo>
                      <a:lnTo>
                        <a:pt x="350" y="135"/>
                      </a:lnTo>
                      <a:lnTo>
                        <a:pt x="344" y="112"/>
                      </a:lnTo>
                      <a:lnTo>
                        <a:pt x="344" y="101"/>
                      </a:lnTo>
                      <a:lnTo>
                        <a:pt x="344" y="90"/>
                      </a:lnTo>
                      <a:lnTo>
                        <a:pt x="338" y="79"/>
                      </a:lnTo>
                      <a:lnTo>
                        <a:pt x="338" y="73"/>
                      </a:lnTo>
                      <a:lnTo>
                        <a:pt x="332" y="67"/>
                      </a:lnTo>
                      <a:lnTo>
                        <a:pt x="326" y="62"/>
                      </a:lnTo>
                      <a:lnTo>
                        <a:pt x="321" y="67"/>
                      </a:lnTo>
                      <a:lnTo>
                        <a:pt x="315" y="79"/>
                      </a:lnTo>
                      <a:lnTo>
                        <a:pt x="309" y="90"/>
                      </a:lnTo>
                      <a:lnTo>
                        <a:pt x="303" y="95"/>
                      </a:lnTo>
                      <a:lnTo>
                        <a:pt x="303" y="101"/>
                      </a:lnTo>
                      <a:lnTo>
                        <a:pt x="303" y="107"/>
                      </a:lnTo>
                      <a:lnTo>
                        <a:pt x="297" y="118"/>
                      </a:lnTo>
                      <a:lnTo>
                        <a:pt x="292" y="123"/>
                      </a:lnTo>
                      <a:lnTo>
                        <a:pt x="286" y="135"/>
                      </a:lnTo>
                      <a:lnTo>
                        <a:pt x="280" y="146"/>
                      </a:lnTo>
                      <a:lnTo>
                        <a:pt x="274" y="151"/>
                      </a:lnTo>
                      <a:lnTo>
                        <a:pt x="268" y="157"/>
                      </a:lnTo>
                      <a:lnTo>
                        <a:pt x="262" y="157"/>
                      </a:lnTo>
                      <a:lnTo>
                        <a:pt x="257" y="151"/>
                      </a:lnTo>
                      <a:lnTo>
                        <a:pt x="257" y="146"/>
                      </a:lnTo>
                      <a:lnTo>
                        <a:pt x="257" y="151"/>
                      </a:lnTo>
                      <a:lnTo>
                        <a:pt x="251" y="135"/>
                      </a:lnTo>
                      <a:lnTo>
                        <a:pt x="251" y="129"/>
                      </a:lnTo>
                      <a:lnTo>
                        <a:pt x="251" y="118"/>
                      </a:lnTo>
                      <a:lnTo>
                        <a:pt x="251" y="112"/>
                      </a:lnTo>
                      <a:lnTo>
                        <a:pt x="245" y="90"/>
                      </a:lnTo>
                      <a:lnTo>
                        <a:pt x="239" y="79"/>
                      </a:lnTo>
                      <a:lnTo>
                        <a:pt x="227" y="67"/>
                      </a:lnTo>
                      <a:lnTo>
                        <a:pt x="222" y="73"/>
                      </a:lnTo>
                      <a:lnTo>
                        <a:pt x="210" y="79"/>
                      </a:lnTo>
                      <a:lnTo>
                        <a:pt x="204" y="90"/>
                      </a:lnTo>
                      <a:lnTo>
                        <a:pt x="198" y="101"/>
                      </a:lnTo>
                      <a:lnTo>
                        <a:pt x="192" y="112"/>
                      </a:lnTo>
                      <a:lnTo>
                        <a:pt x="187" y="112"/>
                      </a:lnTo>
                      <a:lnTo>
                        <a:pt x="181" y="118"/>
                      </a:lnTo>
                      <a:lnTo>
                        <a:pt x="169" y="123"/>
                      </a:lnTo>
                      <a:lnTo>
                        <a:pt x="163" y="118"/>
                      </a:lnTo>
                      <a:lnTo>
                        <a:pt x="158" y="112"/>
                      </a:lnTo>
                      <a:lnTo>
                        <a:pt x="158" y="107"/>
                      </a:lnTo>
                      <a:lnTo>
                        <a:pt x="152" y="101"/>
                      </a:lnTo>
                      <a:lnTo>
                        <a:pt x="152" y="95"/>
                      </a:lnTo>
                      <a:lnTo>
                        <a:pt x="146" y="90"/>
                      </a:lnTo>
                      <a:lnTo>
                        <a:pt x="140" y="79"/>
                      </a:lnTo>
                      <a:lnTo>
                        <a:pt x="134" y="73"/>
                      </a:lnTo>
                      <a:lnTo>
                        <a:pt x="128" y="67"/>
                      </a:lnTo>
                      <a:lnTo>
                        <a:pt x="123" y="67"/>
                      </a:lnTo>
                      <a:lnTo>
                        <a:pt x="111" y="73"/>
                      </a:lnTo>
                      <a:lnTo>
                        <a:pt x="99" y="79"/>
                      </a:lnTo>
                      <a:lnTo>
                        <a:pt x="88" y="79"/>
                      </a:lnTo>
                      <a:lnTo>
                        <a:pt x="76" y="79"/>
                      </a:lnTo>
                      <a:lnTo>
                        <a:pt x="64" y="79"/>
                      </a:lnTo>
                      <a:lnTo>
                        <a:pt x="53" y="79"/>
                      </a:lnTo>
                      <a:lnTo>
                        <a:pt x="35" y="79"/>
                      </a:lnTo>
                      <a:lnTo>
                        <a:pt x="6" y="73"/>
                      </a:lnTo>
                      <a:lnTo>
                        <a:pt x="0" y="73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20" name=""/>
                <p:cNvGrpSpPr/>
                <p:nvPr/>
              </p:nvGrpSpPr>
              <p:grpSpPr>
                <a:xfrm>
                  <a:off x="351000" y="3019320"/>
                  <a:ext cx="2381040" cy="276480"/>
                  <a:chOff x="351000" y="3019320"/>
                  <a:chExt cx="2381040" cy="276480"/>
                </a:xfrm>
              </p:grpSpPr>
              <p:sp>
                <p:nvSpPr>
                  <p:cNvPr id="5021" name=""/>
                  <p:cNvSpPr/>
                  <p:nvPr/>
                </p:nvSpPr>
                <p:spPr>
                  <a:xfrm>
                    <a:off x="2621160" y="3251160"/>
                    <a:ext cx="11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28">
                        <a:moveTo>
                          <a:pt x="70" y="22"/>
                        </a:moveTo>
                        <a:lnTo>
                          <a:pt x="0" y="28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  <a:lnTo>
                          <a:pt x="70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2" name=""/>
                  <p:cNvSpPr/>
                  <p:nvPr/>
                </p:nvSpPr>
                <p:spPr>
                  <a:xfrm>
                    <a:off x="351000" y="3019320"/>
                    <a:ext cx="2270160" cy="247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23" name=""/>
                <p:cNvGrpSpPr/>
                <p:nvPr/>
              </p:nvGrpSpPr>
              <p:grpSpPr>
                <a:xfrm>
                  <a:off x="352440" y="2379600"/>
                  <a:ext cx="2694240" cy="639720"/>
                  <a:chOff x="352440" y="2379600"/>
                  <a:chExt cx="2694240" cy="639720"/>
                </a:xfrm>
              </p:grpSpPr>
              <p:sp>
                <p:nvSpPr>
                  <p:cNvPr id="5024" name=""/>
                  <p:cNvSpPr/>
                  <p:nvPr/>
                </p:nvSpPr>
                <p:spPr>
                  <a:xfrm>
                    <a:off x="2935440" y="2379600"/>
                    <a:ext cx="1112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3">
                        <a:moveTo>
                          <a:pt x="70" y="0"/>
                        </a:moveTo>
                        <a:lnTo>
                          <a:pt x="6" y="33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lnTo>
                          <a:pt x="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5" name=""/>
                  <p:cNvSpPr/>
                  <p:nvPr/>
                </p:nvSpPr>
                <p:spPr>
                  <a:xfrm flipV="1">
                    <a:off x="352440" y="2408040"/>
                    <a:ext cx="2583000" cy="611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26" name=""/>
                <p:cNvSpPr/>
                <p:nvPr/>
              </p:nvSpPr>
              <p:spPr>
                <a:xfrm>
                  <a:off x="2935440" y="2138400"/>
                  <a:ext cx="239760" cy="1566720"/>
                </a:xfrm>
                <a:custGeom>
                  <a:avLst/>
                  <a:gdLst/>
                  <a:ahLst/>
                  <a:rect l="l" t="t" r="r" b="b"/>
                  <a:pathLst>
                    <a:path w="151" h="987">
                      <a:moveTo>
                        <a:pt x="0" y="0"/>
                      </a:moveTo>
                      <a:lnTo>
                        <a:pt x="12" y="28"/>
                      </a:lnTo>
                      <a:lnTo>
                        <a:pt x="41" y="85"/>
                      </a:lnTo>
                      <a:lnTo>
                        <a:pt x="58" y="129"/>
                      </a:lnTo>
                      <a:lnTo>
                        <a:pt x="82" y="185"/>
                      </a:lnTo>
                      <a:lnTo>
                        <a:pt x="93" y="219"/>
                      </a:lnTo>
                      <a:lnTo>
                        <a:pt x="111" y="264"/>
                      </a:lnTo>
                      <a:lnTo>
                        <a:pt x="117" y="297"/>
                      </a:lnTo>
                      <a:lnTo>
                        <a:pt x="128" y="337"/>
                      </a:lnTo>
                      <a:lnTo>
                        <a:pt x="128" y="348"/>
                      </a:lnTo>
                      <a:lnTo>
                        <a:pt x="134" y="376"/>
                      </a:lnTo>
                      <a:lnTo>
                        <a:pt x="146" y="437"/>
                      </a:lnTo>
                      <a:lnTo>
                        <a:pt x="151" y="494"/>
                      </a:lnTo>
                      <a:lnTo>
                        <a:pt x="151" y="544"/>
                      </a:lnTo>
                      <a:lnTo>
                        <a:pt x="151" y="566"/>
                      </a:lnTo>
                      <a:lnTo>
                        <a:pt x="151" y="589"/>
                      </a:lnTo>
                      <a:lnTo>
                        <a:pt x="151" y="639"/>
                      </a:lnTo>
                      <a:lnTo>
                        <a:pt x="146" y="690"/>
                      </a:lnTo>
                      <a:lnTo>
                        <a:pt x="140" y="746"/>
                      </a:lnTo>
                      <a:lnTo>
                        <a:pt x="134" y="779"/>
                      </a:lnTo>
                      <a:lnTo>
                        <a:pt x="134" y="807"/>
                      </a:lnTo>
                      <a:lnTo>
                        <a:pt x="122" y="863"/>
                      </a:lnTo>
                      <a:lnTo>
                        <a:pt x="111" y="914"/>
                      </a:lnTo>
                      <a:lnTo>
                        <a:pt x="99" y="959"/>
                      </a:lnTo>
                      <a:lnTo>
                        <a:pt x="87" y="987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7" name=""/>
                <p:cNvSpPr/>
                <p:nvPr/>
              </p:nvSpPr>
              <p:spPr>
                <a:xfrm>
                  <a:off x="2482920" y="2165400"/>
                  <a:ext cx="239760" cy="1565280"/>
                </a:xfrm>
                <a:custGeom>
                  <a:avLst/>
                  <a:gdLst/>
                  <a:ahLst/>
                  <a:rect l="l" t="t" r="r" b="b"/>
                  <a:pathLst>
                    <a:path w="151" h="986">
                      <a:moveTo>
                        <a:pt x="0" y="0"/>
                      </a:moveTo>
                      <a:lnTo>
                        <a:pt x="11" y="28"/>
                      </a:lnTo>
                      <a:lnTo>
                        <a:pt x="40" y="84"/>
                      </a:lnTo>
                      <a:lnTo>
                        <a:pt x="58" y="129"/>
                      </a:lnTo>
                      <a:lnTo>
                        <a:pt x="81" y="185"/>
                      </a:lnTo>
                      <a:lnTo>
                        <a:pt x="93" y="219"/>
                      </a:lnTo>
                      <a:lnTo>
                        <a:pt x="110" y="264"/>
                      </a:lnTo>
                      <a:lnTo>
                        <a:pt x="116" y="297"/>
                      </a:lnTo>
                      <a:lnTo>
                        <a:pt x="128" y="336"/>
                      </a:lnTo>
                      <a:lnTo>
                        <a:pt x="128" y="348"/>
                      </a:lnTo>
                      <a:lnTo>
                        <a:pt x="134" y="376"/>
                      </a:lnTo>
                      <a:lnTo>
                        <a:pt x="145" y="437"/>
                      </a:lnTo>
                      <a:lnTo>
                        <a:pt x="151" y="488"/>
                      </a:lnTo>
                      <a:lnTo>
                        <a:pt x="151" y="538"/>
                      </a:lnTo>
                      <a:lnTo>
                        <a:pt x="151" y="561"/>
                      </a:lnTo>
                      <a:lnTo>
                        <a:pt x="151" y="589"/>
                      </a:lnTo>
                      <a:lnTo>
                        <a:pt x="151" y="633"/>
                      </a:lnTo>
                      <a:lnTo>
                        <a:pt x="145" y="689"/>
                      </a:lnTo>
                      <a:lnTo>
                        <a:pt x="139" y="745"/>
                      </a:lnTo>
                      <a:lnTo>
                        <a:pt x="134" y="773"/>
                      </a:lnTo>
                      <a:lnTo>
                        <a:pt x="134" y="801"/>
                      </a:lnTo>
                      <a:lnTo>
                        <a:pt x="122" y="858"/>
                      </a:lnTo>
                      <a:lnTo>
                        <a:pt x="110" y="914"/>
                      </a:lnTo>
                      <a:lnTo>
                        <a:pt x="99" y="958"/>
                      </a:lnTo>
                      <a:lnTo>
                        <a:pt x="87" y="986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8" name=""/>
                <p:cNvSpPr/>
                <p:nvPr/>
              </p:nvSpPr>
              <p:spPr>
                <a:xfrm>
                  <a:off x="263520" y="2992320"/>
                  <a:ext cx="73080" cy="716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9" name=""/>
                <p:cNvSpPr/>
                <p:nvPr/>
              </p:nvSpPr>
              <p:spPr>
                <a:xfrm>
                  <a:off x="263520" y="2994120"/>
                  <a:ext cx="7308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0" name=""/>
                <p:cNvSpPr/>
                <p:nvPr/>
              </p:nvSpPr>
              <p:spPr>
                <a:xfrm>
                  <a:off x="3027600" y="2325600"/>
                  <a:ext cx="74520" cy="716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1" name=""/>
                <p:cNvSpPr/>
                <p:nvPr/>
              </p:nvSpPr>
              <p:spPr>
                <a:xfrm>
                  <a:off x="3027600" y="2327400"/>
                  <a:ext cx="7452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2" name=""/>
                <p:cNvSpPr/>
                <p:nvPr/>
              </p:nvSpPr>
              <p:spPr>
                <a:xfrm>
                  <a:off x="2703600" y="3259080"/>
                  <a:ext cx="74520" cy="716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3" name=""/>
                <p:cNvSpPr/>
                <p:nvPr/>
              </p:nvSpPr>
              <p:spPr>
                <a:xfrm>
                  <a:off x="2705040" y="3260880"/>
                  <a:ext cx="73080" cy="6984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4" name=""/>
                <p:cNvSpPr/>
                <p:nvPr/>
              </p:nvSpPr>
              <p:spPr>
                <a:xfrm>
                  <a:off x="2185920" y="2209680"/>
                  <a:ext cx="860760" cy="444600"/>
                </a:xfrm>
                <a:custGeom>
                  <a:avLst/>
                  <a:gdLst/>
                  <a:ahLst/>
                  <a:rect l="l" t="t" r="r" b="b"/>
                  <a:pathLst>
                    <a:path w="542" h="280">
                      <a:moveTo>
                        <a:pt x="542" y="112"/>
                      </a:moveTo>
                      <a:lnTo>
                        <a:pt x="536" y="101"/>
                      </a:lnTo>
                      <a:lnTo>
                        <a:pt x="519" y="68"/>
                      </a:lnTo>
                      <a:lnTo>
                        <a:pt x="507" y="51"/>
                      </a:lnTo>
                      <a:lnTo>
                        <a:pt x="495" y="34"/>
                      </a:lnTo>
                      <a:lnTo>
                        <a:pt x="484" y="23"/>
                      </a:lnTo>
                      <a:lnTo>
                        <a:pt x="472" y="11"/>
                      </a:lnTo>
                      <a:lnTo>
                        <a:pt x="460" y="0"/>
                      </a:lnTo>
                      <a:lnTo>
                        <a:pt x="455" y="0"/>
                      </a:lnTo>
                      <a:lnTo>
                        <a:pt x="443" y="0"/>
                      </a:lnTo>
                      <a:lnTo>
                        <a:pt x="437" y="6"/>
                      </a:lnTo>
                      <a:lnTo>
                        <a:pt x="431" y="17"/>
                      </a:lnTo>
                      <a:lnTo>
                        <a:pt x="431" y="23"/>
                      </a:lnTo>
                      <a:lnTo>
                        <a:pt x="425" y="45"/>
                      </a:lnTo>
                      <a:lnTo>
                        <a:pt x="425" y="56"/>
                      </a:lnTo>
                      <a:lnTo>
                        <a:pt x="425" y="84"/>
                      </a:lnTo>
                      <a:lnTo>
                        <a:pt x="425" y="118"/>
                      </a:lnTo>
                      <a:lnTo>
                        <a:pt x="425" y="129"/>
                      </a:lnTo>
                      <a:lnTo>
                        <a:pt x="425" y="140"/>
                      </a:lnTo>
                      <a:lnTo>
                        <a:pt x="425" y="168"/>
                      </a:lnTo>
                      <a:lnTo>
                        <a:pt x="425" y="196"/>
                      </a:lnTo>
                      <a:lnTo>
                        <a:pt x="425" y="224"/>
                      </a:lnTo>
                      <a:lnTo>
                        <a:pt x="425" y="241"/>
                      </a:lnTo>
                      <a:lnTo>
                        <a:pt x="425" y="252"/>
                      </a:lnTo>
                      <a:lnTo>
                        <a:pt x="420" y="269"/>
                      </a:lnTo>
                      <a:lnTo>
                        <a:pt x="420" y="269"/>
                      </a:lnTo>
                      <a:lnTo>
                        <a:pt x="414" y="280"/>
                      </a:lnTo>
                      <a:lnTo>
                        <a:pt x="414" y="280"/>
                      </a:lnTo>
                      <a:lnTo>
                        <a:pt x="408" y="280"/>
                      </a:lnTo>
                      <a:lnTo>
                        <a:pt x="396" y="275"/>
                      </a:lnTo>
                      <a:lnTo>
                        <a:pt x="396" y="269"/>
                      </a:lnTo>
                      <a:lnTo>
                        <a:pt x="385" y="252"/>
                      </a:lnTo>
                      <a:lnTo>
                        <a:pt x="379" y="241"/>
                      </a:lnTo>
                      <a:lnTo>
                        <a:pt x="373" y="224"/>
                      </a:lnTo>
                      <a:lnTo>
                        <a:pt x="367" y="213"/>
                      </a:lnTo>
                      <a:lnTo>
                        <a:pt x="361" y="202"/>
                      </a:lnTo>
                      <a:lnTo>
                        <a:pt x="356" y="185"/>
                      </a:lnTo>
                      <a:lnTo>
                        <a:pt x="350" y="168"/>
                      </a:lnTo>
                      <a:lnTo>
                        <a:pt x="338" y="152"/>
                      </a:lnTo>
                      <a:lnTo>
                        <a:pt x="332" y="140"/>
                      </a:lnTo>
                      <a:lnTo>
                        <a:pt x="326" y="129"/>
                      </a:lnTo>
                      <a:lnTo>
                        <a:pt x="321" y="118"/>
                      </a:lnTo>
                      <a:lnTo>
                        <a:pt x="315" y="112"/>
                      </a:lnTo>
                      <a:lnTo>
                        <a:pt x="309" y="112"/>
                      </a:lnTo>
                      <a:lnTo>
                        <a:pt x="309" y="112"/>
                      </a:lnTo>
                      <a:lnTo>
                        <a:pt x="303" y="112"/>
                      </a:lnTo>
                      <a:lnTo>
                        <a:pt x="297" y="118"/>
                      </a:lnTo>
                      <a:lnTo>
                        <a:pt x="297" y="118"/>
                      </a:lnTo>
                      <a:lnTo>
                        <a:pt x="297" y="124"/>
                      </a:lnTo>
                      <a:lnTo>
                        <a:pt x="291" y="140"/>
                      </a:lnTo>
                      <a:lnTo>
                        <a:pt x="291" y="152"/>
                      </a:lnTo>
                      <a:lnTo>
                        <a:pt x="291" y="157"/>
                      </a:lnTo>
                      <a:lnTo>
                        <a:pt x="291" y="163"/>
                      </a:lnTo>
                      <a:lnTo>
                        <a:pt x="291" y="174"/>
                      </a:lnTo>
                      <a:lnTo>
                        <a:pt x="291" y="185"/>
                      </a:lnTo>
                      <a:lnTo>
                        <a:pt x="286" y="202"/>
                      </a:lnTo>
                      <a:lnTo>
                        <a:pt x="286" y="208"/>
                      </a:lnTo>
                      <a:lnTo>
                        <a:pt x="286" y="208"/>
                      </a:lnTo>
                      <a:lnTo>
                        <a:pt x="280" y="219"/>
                      </a:lnTo>
                      <a:lnTo>
                        <a:pt x="280" y="219"/>
                      </a:lnTo>
                      <a:lnTo>
                        <a:pt x="274" y="224"/>
                      </a:lnTo>
                      <a:lnTo>
                        <a:pt x="280" y="224"/>
                      </a:lnTo>
                      <a:lnTo>
                        <a:pt x="268" y="224"/>
                      </a:lnTo>
                      <a:lnTo>
                        <a:pt x="268" y="224"/>
                      </a:lnTo>
                      <a:lnTo>
                        <a:pt x="262" y="219"/>
                      </a:lnTo>
                      <a:lnTo>
                        <a:pt x="262" y="219"/>
                      </a:lnTo>
                      <a:lnTo>
                        <a:pt x="256" y="208"/>
                      </a:lnTo>
                      <a:lnTo>
                        <a:pt x="251" y="196"/>
                      </a:lnTo>
                      <a:lnTo>
                        <a:pt x="251" y="196"/>
                      </a:lnTo>
                      <a:lnTo>
                        <a:pt x="245" y="185"/>
                      </a:lnTo>
                      <a:lnTo>
                        <a:pt x="239" y="174"/>
                      </a:lnTo>
                      <a:lnTo>
                        <a:pt x="227" y="163"/>
                      </a:lnTo>
                      <a:lnTo>
                        <a:pt x="216" y="157"/>
                      </a:lnTo>
                      <a:lnTo>
                        <a:pt x="216" y="157"/>
                      </a:lnTo>
                      <a:lnTo>
                        <a:pt x="210" y="157"/>
                      </a:lnTo>
                      <a:lnTo>
                        <a:pt x="204" y="163"/>
                      </a:lnTo>
                      <a:lnTo>
                        <a:pt x="198" y="180"/>
                      </a:lnTo>
                      <a:lnTo>
                        <a:pt x="198" y="185"/>
                      </a:lnTo>
                      <a:lnTo>
                        <a:pt x="198" y="191"/>
                      </a:lnTo>
                      <a:lnTo>
                        <a:pt x="192" y="208"/>
                      </a:lnTo>
                      <a:lnTo>
                        <a:pt x="187" y="219"/>
                      </a:lnTo>
                      <a:lnTo>
                        <a:pt x="187" y="219"/>
                      </a:lnTo>
                      <a:lnTo>
                        <a:pt x="181" y="224"/>
                      </a:lnTo>
                      <a:lnTo>
                        <a:pt x="175" y="224"/>
                      </a:lnTo>
                      <a:lnTo>
                        <a:pt x="169" y="224"/>
                      </a:lnTo>
                      <a:lnTo>
                        <a:pt x="163" y="219"/>
                      </a:lnTo>
                      <a:lnTo>
                        <a:pt x="157" y="213"/>
                      </a:lnTo>
                      <a:lnTo>
                        <a:pt x="152" y="208"/>
                      </a:lnTo>
                      <a:lnTo>
                        <a:pt x="146" y="202"/>
                      </a:lnTo>
                      <a:lnTo>
                        <a:pt x="140" y="196"/>
                      </a:lnTo>
                      <a:lnTo>
                        <a:pt x="134" y="191"/>
                      </a:lnTo>
                      <a:lnTo>
                        <a:pt x="128" y="191"/>
                      </a:lnTo>
                      <a:lnTo>
                        <a:pt x="123" y="191"/>
                      </a:lnTo>
                      <a:lnTo>
                        <a:pt x="111" y="191"/>
                      </a:lnTo>
                      <a:lnTo>
                        <a:pt x="105" y="196"/>
                      </a:lnTo>
                      <a:lnTo>
                        <a:pt x="105" y="196"/>
                      </a:lnTo>
                      <a:lnTo>
                        <a:pt x="105" y="196"/>
                      </a:lnTo>
                      <a:lnTo>
                        <a:pt x="99" y="202"/>
                      </a:lnTo>
                      <a:lnTo>
                        <a:pt x="88" y="208"/>
                      </a:lnTo>
                      <a:lnTo>
                        <a:pt x="82" y="213"/>
                      </a:lnTo>
                      <a:lnTo>
                        <a:pt x="64" y="219"/>
                      </a:lnTo>
                      <a:lnTo>
                        <a:pt x="53" y="224"/>
                      </a:lnTo>
                      <a:lnTo>
                        <a:pt x="29" y="230"/>
                      </a:lnTo>
                      <a:lnTo>
                        <a:pt x="6" y="236"/>
                      </a:lnTo>
                      <a:lnTo>
                        <a:pt x="0" y="236"/>
                      </a:lnTo>
                      <a:lnTo>
                        <a:pt x="542" y="112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5" name=""/>
                <p:cNvSpPr/>
                <p:nvPr/>
              </p:nvSpPr>
              <p:spPr>
                <a:xfrm>
                  <a:off x="2185920" y="2209680"/>
                  <a:ext cx="860760" cy="444600"/>
                </a:xfrm>
                <a:custGeom>
                  <a:avLst/>
                  <a:gdLst/>
                  <a:ahLst/>
                  <a:rect l="l" t="t" r="r" b="b"/>
                  <a:pathLst>
                    <a:path w="542" h="280">
                      <a:moveTo>
                        <a:pt x="542" y="112"/>
                      </a:moveTo>
                      <a:lnTo>
                        <a:pt x="536" y="101"/>
                      </a:lnTo>
                      <a:lnTo>
                        <a:pt x="519" y="68"/>
                      </a:lnTo>
                      <a:lnTo>
                        <a:pt x="507" y="51"/>
                      </a:lnTo>
                      <a:lnTo>
                        <a:pt x="495" y="34"/>
                      </a:lnTo>
                      <a:lnTo>
                        <a:pt x="484" y="23"/>
                      </a:lnTo>
                      <a:lnTo>
                        <a:pt x="472" y="11"/>
                      </a:lnTo>
                      <a:lnTo>
                        <a:pt x="460" y="0"/>
                      </a:lnTo>
                      <a:lnTo>
                        <a:pt x="455" y="0"/>
                      </a:lnTo>
                      <a:lnTo>
                        <a:pt x="443" y="0"/>
                      </a:lnTo>
                      <a:lnTo>
                        <a:pt x="437" y="6"/>
                      </a:lnTo>
                      <a:lnTo>
                        <a:pt x="431" y="17"/>
                      </a:lnTo>
                      <a:lnTo>
                        <a:pt x="431" y="23"/>
                      </a:lnTo>
                      <a:lnTo>
                        <a:pt x="425" y="45"/>
                      </a:lnTo>
                      <a:lnTo>
                        <a:pt x="425" y="56"/>
                      </a:lnTo>
                      <a:lnTo>
                        <a:pt x="425" y="84"/>
                      </a:lnTo>
                      <a:lnTo>
                        <a:pt x="425" y="118"/>
                      </a:lnTo>
                      <a:lnTo>
                        <a:pt x="425" y="129"/>
                      </a:lnTo>
                      <a:lnTo>
                        <a:pt x="425" y="140"/>
                      </a:lnTo>
                      <a:lnTo>
                        <a:pt x="425" y="168"/>
                      </a:lnTo>
                      <a:lnTo>
                        <a:pt x="425" y="196"/>
                      </a:lnTo>
                      <a:lnTo>
                        <a:pt x="425" y="224"/>
                      </a:lnTo>
                      <a:lnTo>
                        <a:pt x="425" y="241"/>
                      </a:lnTo>
                      <a:lnTo>
                        <a:pt x="425" y="252"/>
                      </a:lnTo>
                      <a:lnTo>
                        <a:pt x="420" y="269"/>
                      </a:lnTo>
                      <a:lnTo>
                        <a:pt x="414" y="280"/>
                      </a:lnTo>
                      <a:lnTo>
                        <a:pt x="408" y="280"/>
                      </a:lnTo>
                      <a:lnTo>
                        <a:pt x="396" y="275"/>
                      </a:lnTo>
                      <a:lnTo>
                        <a:pt x="396" y="269"/>
                      </a:lnTo>
                      <a:lnTo>
                        <a:pt x="385" y="252"/>
                      </a:lnTo>
                      <a:lnTo>
                        <a:pt x="379" y="241"/>
                      </a:lnTo>
                      <a:lnTo>
                        <a:pt x="373" y="224"/>
                      </a:lnTo>
                      <a:lnTo>
                        <a:pt x="367" y="213"/>
                      </a:lnTo>
                      <a:lnTo>
                        <a:pt x="361" y="202"/>
                      </a:lnTo>
                      <a:lnTo>
                        <a:pt x="356" y="185"/>
                      </a:lnTo>
                      <a:lnTo>
                        <a:pt x="350" y="168"/>
                      </a:lnTo>
                      <a:lnTo>
                        <a:pt x="338" y="152"/>
                      </a:lnTo>
                      <a:lnTo>
                        <a:pt x="332" y="140"/>
                      </a:lnTo>
                      <a:lnTo>
                        <a:pt x="326" y="129"/>
                      </a:lnTo>
                      <a:lnTo>
                        <a:pt x="321" y="118"/>
                      </a:lnTo>
                      <a:lnTo>
                        <a:pt x="315" y="112"/>
                      </a:lnTo>
                      <a:lnTo>
                        <a:pt x="309" y="112"/>
                      </a:lnTo>
                      <a:lnTo>
                        <a:pt x="303" y="112"/>
                      </a:lnTo>
                      <a:lnTo>
                        <a:pt x="297" y="118"/>
                      </a:lnTo>
                      <a:lnTo>
                        <a:pt x="297" y="124"/>
                      </a:lnTo>
                      <a:lnTo>
                        <a:pt x="291" y="140"/>
                      </a:lnTo>
                      <a:lnTo>
                        <a:pt x="291" y="152"/>
                      </a:lnTo>
                      <a:lnTo>
                        <a:pt x="291" y="157"/>
                      </a:lnTo>
                      <a:lnTo>
                        <a:pt x="291" y="163"/>
                      </a:lnTo>
                      <a:lnTo>
                        <a:pt x="291" y="174"/>
                      </a:lnTo>
                      <a:lnTo>
                        <a:pt x="291" y="185"/>
                      </a:lnTo>
                      <a:lnTo>
                        <a:pt x="286" y="202"/>
                      </a:lnTo>
                      <a:lnTo>
                        <a:pt x="286" y="208"/>
                      </a:lnTo>
                      <a:lnTo>
                        <a:pt x="280" y="219"/>
                      </a:lnTo>
                      <a:lnTo>
                        <a:pt x="274" y="224"/>
                      </a:lnTo>
                      <a:lnTo>
                        <a:pt x="280" y="224"/>
                      </a:lnTo>
                      <a:lnTo>
                        <a:pt x="268" y="224"/>
                      </a:lnTo>
                      <a:lnTo>
                        <a:pt x="262" y="219"/>
                      </a:lnTo>
                      <a:lnTo>
                        <a:pt x="256" y="208"/>
                      </a:lnTo>
                      <a:lnTo>
                        <a:pt x="251" y="196"/>
                      </a:lnTo>
                      <a:lnTo>
                        <a:pt x="245" y="185"/>
                      </a:lnTo>
                      <a:lnTo>
                        <a:pt x="239" y="174"/>
                      </a:lnTo>
                      <a:lnTo>
                        <a:pt x="227" y="163"/>
                      </a:lnTo>
                      <a:lnTo>
                        <a:pt x="216" y="157"/>
                      </a:lnTo>
                      <a:lnTo>
                        <a:pt x="210" y="157"/>
                      </a:lnTo>
                      <a:lnTo>
                        <a:pt x="204" y="163"/>
                      </a:lnTo>
                      <a:lnTo>
                        <a:pt x="198" y="180"/>
                      </a:lnTo>
                      <a:lnTo>
                        <a:pt x="198" y="185"/>
                      </a:lnTo>
                      <a:lnTo>
                        <a:pt x="198" y="191"/>
                      </a:lnTo>
                      <a:lnTo>
                        <a:pt x="192" y="208"/>
                      </a:lnTo>
                      <a:lnTo>
                        <a:pt x="187" y="219"/>
                      </a:lnTo>
                      <a:lnTo>
                        <a:pt x="181" y="224"/>
                      </a:lnTo>
                      <a:lnTo>
                        <a:pt x="175" y="224"/>
                      </a:lnTo>
                      <a:lnTo>
                        <a:pt x="169" y="224"/>
                      </a:lnTo>
                      <a:lnTo>
                        <a:pt x="163" y="219"/>
                      </a:lnTo>
                      <a:lnTo>
                        <a:pt x="157" y="213"/>
                      </a:lnTo>
                      <a:lnTo>
                        <a:pt x="152" y="208"/>
                      </a:lnTo>
                      <a:lnTo>
                        <a:pt x="146" y="202"/>
                      </a:lnTo>
                      <a:lnTo>
                        <a:pt x="140" y="196"/>
                      </a:lnTo>
                      <a:lnTo>
                        <a:pt x="134" y="191"/>
                      </a:lnTo>
                      <a:lnTo>
                        <a:pt x="128" y="191"/>
                      </a:lnTo>
                      <a:lnTo>
                        <a:pt x="123" y="191"/>
                      </a:lnTo>
                      <a:lnTo>
                        <a:pt x="111" y="191"/>
                      </a:lnTo>
                      <a:lnTo>
                        <a:pt x="105" y="196"/>
                      </a:lnTo>
                      <a:lnTo>
                        <a:pt x="99" y="202"/>
                      </a:lnTo>
                      <a:lnTo>
                        <a:pt x="88" y="208"/>
                      </a:lnTo>
                      <a:lnTo>
                        <a:pt x="82" y="213"/>
                      </a:lnTo>
                      <a:lnTo>
                        <a:pt x="64" y="219"/>
                      </a:lnTo>
                      <a:lnTo>
                        <a:pt x="53" y="224"/>
                      </a:lnTo>
                      <a:lnTo>
                        <a:pt x="29" y="230"/>
                      </a:lnTo>
                      <a:lnTo>
                        <a:pt x="6" y="236"/>
                      </a:lnTo>
                      <a:lnTo>
                        <a:pt x="0" y="236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36" name=""/>
              <p:cNvSpPr/>
              <p:nvPr/>
            </p:nvSpPr>
            <p:spPr>
              <a:xfrm>
                <a:off x="239400" y="2600280"/>
                <a:ext cx="3546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r>
                  <a:rPr b="0" lang="fr-FR" sz="1600" spc="-1" strike="noStrike" baseline="-25000">
                    <a:solidFill>
                      <a:srgbClr val="000000"/>
                    </a:solidFill>
                    <a:latin typeface="Comic Sans MS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3008520" y="2289240"/>
                <a:ext cx="158760" cy="11592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2651040" y="3182760"/>
                <a:ext cx="158760" cy="115920"/>
              </a:xfrm>
              <a:prstGeom prst="ellipse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9" name=""/>
            <p:cNvSpPr/>
            <p:nvPr/>
          </p:nvSpPr>
          <p:spPr>
            <a:xfrm>
              <a:off x="1222200" y="4172040"/>
              <a:ext cx="61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4040640" y="4172040"/>
              <a:ext cx="84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a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6723360" y="417204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quasi-n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2" name="PlaceHolder 1"/>
          <p:cNvSpPr>
            <a:spLocks noGrp="1"/>
          </p:cNvSpPr>
          <p:nvPr>
            <p:ph type="title"/>
          </p:nvPr>
        </p:nvSpPr>
        <p:spPr>
          <a:xfrm>
            <a:off x="161640" y="577440"/>
            <a:ext cx="85993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la 3eme situation : la distribution source et le signal obt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3" name=""/>
          <p:cNvGrpSpPr/>
          <p:nvPr/>
        </p:nvGrpSpPr>
        <p:grpSpPr>
          <a:xfrm>
            <a:off x="93600" y="1201680"/>
            <a:ext cx="8545320" cy="4312800"/>
            <a:chOff x="93600" y="1201680"/>
            <a:chExt cx="8545320" cy="4312800"/>
          </a:xfrm>
        </p:grpSpPr>
        <p:sp>
          <p:nvSpPr>
            <p:cNvPr id="5044" name=""/>
            <p:cNvSpPr/>
            <p:nvPr/>
          </p:nvSpPr>
          <p:spPr>
            <a:xfrm>
              <a:off x="93600" y="1201680"/>
              <a:ext cx="80596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considère une répartition continue de sources formant  O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champ issu de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est noté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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il est tel que &lt;lA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l</a:t>
              </a:r>
              <a:r>
                <a:rPr b="0" lang="fr-FR" sz="20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&gt; = O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e champ total arrivant sur P1 est noté 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La distance P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est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5" name=""/>
            <p:cNvGrpSpPr/>
            <p:nvPr/>
          </p:nvGrpSpPr>
          <p:grpSpPr>
            <a:xfrm>
              <a:off x="473040" y="2216160"/>
              <a:ext cx="8165880" cy="3298320"/>
              <a:chOff x="473040" y="2216160"/>
              <a:chExt cx="8165880" cy="3298320"/>
            </a:xfrm>
          </p:grpSpPr>
          <p:sp>
            <p:nvSpPr>
              <p:cNvPr id="5046" name=""/>
              <p:cNvSpPr/>
              <p:nvPr/>
            </p:nvSpPr>
            <p:spPr>
              <a:xfrm flipH="1">
                <a:off x="473040" y="3500640"/>
                <a:ext cx="753264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47" name=""/>
              <p:cNvGrpSpPr/>
              <p:nvPr/>
            </p:nvGrpSpPr>
            <p:grpSpPr>
              <a:xfrm>
                <a:off x="920880" y="2216160"/>
                <a:ext cx="7718040" cy="3298320"/>
                <a:chOff x="920880" y="2216160"/>
                <a:chExt cx="7718040" cy="3298320"/>
              </a:xfrm>
            </p:grpSpPr>
            <p:grpSp>
              <p:nvGrpSpPr>
                <p:cNvPr id="5048" name=""/>
                <p:cNvGrpSpPr/>
                <p:nvPr/>
              </p:nvGrpSpPr>
              <p:grpSpPr>
                <a:xfrm>
                  <a:off x="7334640" y="2216160"/>
                  <a:ext cx="1304280" cy="1734120"/>
                  <a:chOff x="7334640" y="2216160"/>
                  <a:chExt cx="1304280" cy="1734120"/>
                </a:xfrm>
              </p:grpSpPr>
              <p:sp>
                <p:nvSpPr>
                  <p:cNvPr id="5049" name=""/>
                  <p:cNvSpPr/>
                  <p:nvPr/>
                </p:nvSpPr>
                <p:spPr>
                  <a:xfrm>
                    <a:off x="7334640" y="2216160"/>
                    <a:ext cx="4384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r>
                      <a:rPr b="0" lang="fr-FR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50" name=""/>
                  <p:cNvGrpSpPr/>
                  <p:nvPr/>
                </p:nvGrpSpPr>
                <p:grpSpPr>
                  <a:xfrm>
                    <a:off x="8381880" y="2890800"/>
                    <a:ext cx="257040" cy="628560"/>
                    <a:chOff x="8381880" y="2890800"/>
                    <a:chExt cx="257040" cy="628560"/>
                  </a:xfrm>
                </p:grpSpPr>
                <p:sp>
                  <p:nvSpPr>
                    <p:cNvPr id="5051" name=""/>
                    <p:cNvSpPr/>
                    <p:nvPr/>
                  </p:nvSpPr>
                  <p:spPr>
                    <a:xfrm>
                      <a:off x="8448480" y="2900160"/>
                      <a:ext cx="190440" cy="6192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52" name=""/>
                    <p:cNvSpPr/>
                    <p:nvPr/>
                  </p:nvSpPr>
                  <p:spPr>
                    <a:xfrm>
                      <a:off x="8381880" y="2890800"/>
                      <a:ext cx="190440" cy="619200"/>
                    </a:xfrm>
                    <a:prstGeom prst="ellipse">
                      <a:avLst/>
                    </a:prstGeom>
                    <a:solidFill>
                      <a:srgbClr val="ffff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53" name=""/>
                  <p:cNvSpPr/>
                  <p:nvPr/>
                </p:nvSpPr>
                <p:spPr>
                  <a:xfrm>
                    <a:off x="7339320" y="3440160"/>
                    <a:ext cx="43848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r>
                      <a:rPr b="0" lang="fr-FR" sz="2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4" name=""/>
                  <p:cNvSpPr/>
                  <p:nvPr/>
                </p:nvSpPr>
                <p:spPr>
                  <a:xfrm>
                    <a:off x="7711920" y="2486160"/>
                    <a:ext cx="419040" cy="1386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5" name=""/>
                  <p:cNvSpPr/>
                  <p:nvPr/>
                </p:nvSpPr>
                <p:spPr>
                  <a:xfrm>
                    <a:off x="7692840" y="2739960"/>
                    <a:ext cx="470160" cy="703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4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6" name=""/>
                  <p:cNvSpPr/>
                  <p:nvPr/>
                </p:nvSpPr>
                <p:spPr>
                  <a:xfrm>
                    <a:off x="7667640" y="2671920"/>
                    <a:ext cx="101520" cy="115920"/>
                  </a:xfrm>
                  <a:prstGeom prst="ellipse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7" name=""/>
                  <p:cNvSpPr/>
                  <p:nvPr/>
                </p:nvSpPr>
                <p:spPr>
                  <a:xfrm>
                    <a:off x="7662600" y="3452760"/>
                    <a:ext cx="101880" cy="115920"/>
                  </a:xfrm>
                  <a:prstGeom prst="ellipse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8" name=""/>
                  <p:cNvSpPr/>
                  <p:nvPr/>
                </p:nvSpPr>
                <p:spPr>
                  <a:xfrm>
                    <a:off x="8143920" y="3176640"/>
                    <a:ext cx="360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59" name=""/>
                <p:cNvGrpSpPr/>
                <p:nvPr/>
              </p:nvGrpSpPr>
              <p:grpSpPr>
                <a:xfrm>
                  <a:off x="920880" y="2479680"/>
                  <a:ext cx="6827040" cy="3034800"/>
                  <a:chOff x="920880" y="2479680"/>
                  <a:chExt cx="6827040" cy="3034800"/>
                </a:xfrm>
              </p:grpSpPr>
              <p:sp>
                <p:nvSpPr>
                  <p:cNvPr id="5060" name=""/>
                  <p:cNvSpPr/>
                  <p:nvPr/>
                </p:nvSpPr>
                <p:spPr>
                  <a:xfrm>
                    <a:off x="1020600" y="2938680"/>
                    <a:ext cx="244440" cy="708120"/>
                  </a:xfrm>
                  <a:prstGeom prst="ellipse">
                    <a:avLst/>
                  </a:prstGeom>
                  <a:solidFill>
                    <a:srgbClr val="ff00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1" name=""/>
                  <p:cNvSpPr/>
                  <p:nvPr/>
                </p:nvSpPr>
                <p:spPr>
                  <a:xfrm flipH="1" flipV="1">
                    <a:off x="1181880" y="3038400"/>
                    <a:ext cx="6566040" cy="447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2" name=""/>
                  <p:cNvSpPr/>
                  <p:nvPr/>
                </p:nvSpPr>
                <p:spPr>
                  <a:xfrm flipH="1">
                    <a:off x="3518640" y="2727720"/>
                    <a:ext cx="691560" cy="2786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8852" y="3602"/>
                        </a:moveTo>
                        <a:arcTo wR="10800" hR="10800" stAng="-2507574" swAng="102181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8852" y="3602"/>
                        </a:moveTo>
                        <a:arcTo wR="10800" hR="10800" stAng="-2507574" swAng="1021812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3" name=""/>
                  <p:cNvSpPr/>
                  <p:nvPr/>
                </p:nvSpPr>
                <p:spPr>
                  <a:xfrm>
                    <a:off x="920880" y="2479680"/>
                    <a:ext cx="796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(</a:t>
                    </a: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4" name=""/>
                  <p:cNvSpPr/>
                  <p:nvPr/>
                </p:nvSpPr>
                <p:spPr>
                  <a:xfrm>
                    <a:off x="7353360" y="2832120"/>
                    <a:ext cx="383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5" name=""/>
                  <p:cNvSpPr/>
                  <p:nvPr/>
                </p:nvSpPr>
                <p:spPr>
                  <a:xfrm>
                    <a:off x="3054240" y="3086280"/>
                    <a:ext cx="372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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6" name=""/>
                  <p:cNvSpPr/>
                  <p:nvPr/>
                </p:nvSpPr>
                <p:spPr>
                  <a:xfrm>
                    <a:off x="4102560" y="2826000"/>
                    <a:ext cx="811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</a:t>
                    </a: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</a:t>
                    </a: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7" name=""/>
                  <p:cNvSpPr/>
                  <p:nvPr/>
                </p:nvSpPr>
                <p:spPr>
                  <a:xfrm>
                    <a:off x="5006520" y="3200400"/>
                    <a:ext cx="3319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136">
                        <a:moveTo>
                          <a:pt x="0" y="0"/>
                        </a:moveTo>
                        <a:lnTo>
                          <a:pt x="209" y="73"/>
                        </a:lnTo>
                        <a:lnTo>
                          <a:pt x="18" y="136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068" name=""/>
          <p:cNvGrpSpPr/>
          <p:nvPr/>
        </p:nvGrpSpPr>
        <p:grpSpPr>
          <a:xfrm>
            <a:off x="352440" y="4037040"/>
            <a:ext cx="8701200" cy="2647800"/>
            <a:chOff x="352440" y="4037040"/>
            <a:chExt cx="8701200" cy="2647800"/>
          </a:xfrm>
        </p:grpSpPr>
        <mc:AlternateContent>
          <mc:Choice xmlns:a14="http://schemas.microsoft.com/office/drawing/2010/main" Requires="a14">
            <p:sp>
              <p:nvSpPr>
                <p:cNvPr id="5069" name=""/>
                <p:cNvSpPr txBox="1"/>
                <p:nvPr/>
              </p:nvSpPr>
              <p:spPr>
                <a:xfrm>
                  <a:off x="4389480" y="5248440"/>
                  <a:ext cx="1890720" cy="55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gt;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070" name=""/>
            <p:cNvGrpSpPr/>
            <p:nvPr/>
          </p:nvGrpSpPr>
          <p:grpSpPr>
            <a:xfrm>
              <a:off x="352440" y="4037040"/>
              <a:ext cx="8701200" cy="2647800"/>
              <a:chOff x="352440" y="4037040"/>
              <a:chExt cx="8701200" cy="2647800"/>
            </a:xfrm>
          </p:grpSpPr>
          <mc:AlternateContent>
            <mc:Choice xmlns:a14="http://schemas.microsoft.com/office/drawing/2010/main" Requires="a14">
              <p:sp>
                <p:nvSpPr>
                  <p:cNvPr id="5071" name=""/>
                  <p:cNvSpPr txBox="1"/>
                  <p:nvPr/>
                </p:nvSpPr>
                <p:spPr>
                  <a:xfrm>
                    <a:off x="4836960" y="4597560"/>
                    <a:ext cx="4216680" cy="688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</m:e>
                        </m:nary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dα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072" name=""/>
              <p:cNvGrpSpPr/>
              <p:nvPr/>
            </p:nvGrpSpPr>
            <p:grpSpPr>
              <a:xfrm>
                <a:off x="352440" y="4037040"/>
                <a:ext cx="8486640" cy="2647800"/>
                <a:chOff x="352440" y="4037040"/>
                <a:chExt cx="8486640" cy="2647800"/>
              </a:xfrm>
            </p:grpSpPr>
            <p:sp>
              <p:nvSpPr>
                <p:cNvPr id="5073" name=""/>
                <p:cNvSpPr/>
                <p:nvPr/>
              </p:nvSpPr>
              <p:spPr>
                <a:xfrm>
                  <a:off x="352440" y="4037040"/>
                  <a:ext cx="8486640" cy="13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P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 voit arriver la somme des A(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), avec différents trajets r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1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et similaire pour P</a:t>
                  </a:r>
                  <a:r>
                    <a:rPr b="0" lang="fr-FR" sz="2000" spc="-1" strike="noStrike" baseline="-25000">
                      <a:solidFill>
                        <a:srgbClr val="000000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074" name=""/>
                    <p:cNvSpPr txBox="1"/>
                    <p:nvPr/>
                  </p:nvSpPr>
                  <p:spPr>
                    <a:xfrm>
                      <a:off x="450720" y="4637160"/>
                      <a:ext cx="4103640" cy="676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</m:e>
                          </m:nary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α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5075" name=""/>
                <p:cNvSpPr/>
                <p:nvPr/>
              </p:nvSpPr>
              <p:spPr>
                <a:xfrm>
                  <a:off x="496800" y="5388120"/>
                  <a:ext cx="50803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l'expression du signal détéct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Comic Sans MS"/>
                    </a:rPr>
                    <a:t>fera apparaitre des produits d'intégrales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5076" name=""/>
                    <p:cNvSpPr txBox="1"/>
                    <p:nvPr/>
                  </p:nvSpPr>
                  <p:spPr>
                    <a:xfrm>
                      <a:off x="3159000" y="6119640"/>
                      <a:ext cx="5180040" cy="5652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ruc</m:t>
                                  </m:r>
                                </m:e>
                              </m:nary>
                              <m:r>
                                <m:t xml:space="preserve"> 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t xml:space="preserve">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 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chin</m:t>
                                  </m:r>
                                </m:e>
                              </m:nary>
                            </m:e>
                          </m:d>
                          <m:sSup>
                            <m:e>
                              <m:r>
                                <m:t xml:space="preserve"> </m:t>
                              </m:r>
                            </m:e>
                            <m:sup>
                              <m:r>
                                <m:t xml:space="preserve"> 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∬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ruc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achin</m:t>
                              </m:r>
                              <m:r>
                                <m:t xml:space="preserve">∗</m:t>
                              </m:r>
                            </m:e>
                          </m:nary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grpSp>
        <p:nvGrpSpPr>
          <p:cNvPr id="5077" name=""/>
          <p:cNvGrpSpPr/>
          <p:nvPr/>
        </p:nvGrpSpPr>
        <p:grpSpPr>
          <a:xfrm>
            <a:off x="7926480" y="952560"/>
            <a:ext cx="1000080" cy="812880"/>
            <a:chOff x="7926480" y="952560"/>
            <a:chExt cx="1000080" cy="812880"/>
          </a:xfrm>
        </p:grpSpPr>
        <p:sp>
          <p:nvSpPr>
            <p:cNvPr id="5078" name=""/>
            <p:cNvSpPr/>
            <p:nvPr/>
          </p:nvSpPr>
          <p:spPr>
            <a:xfrm>
              <a:off x="7926480" y="95256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8147520" y="11840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0" name="PlaceHolder 1"/>
          <p:cNvSpPr>
            <a:spLocks noGrp="1"/>
          </p:cNvSpPr>
          <p:nvPr>
            <p:ph type="title"/>
          </p:nvPr>
        </p:nvSpPr>
        <p:spPr>
          <a:xfrm>
            <a:off x="352080" y="549360"/>
            <a:ext cx="1989000" cy="58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t alor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1" name=""/>
          <p:cNvGrpSpPr/>
          <p:nvPr/>
        </p:nvGrpSpPr>
        <p:grpSpPr>
          <a:xfrm>
            <a:off x="409320" y="1182600"/>
            <a:ext cx="8347320" cy="3215160"/>
            <a:chOff x="409320" y="1182600"/>
            <a:chExt cx="8347320" cy="3215160"/>
          </a:xfrm>
        </p:grpSpPr>
        <p:grpSp>
          <p:nvGrpSpPr>
            <p:cNvPr id="5082" name=""/>
            <p:cNvGrpSpPr/>
            <p:nvPr/>
          </p:nvGrpSpPr>
          <p:grpSpPr>
            <a:xfrm>
              <a:off x="409320" y="1182600"/>
              <a:ext cx="8347320" cy="2757240"/>
              <a:chOff x="409320" y="1182600"/>
              <a:chExt cx="8347320" cy="2757240"/>
            </a:xfrm>
          </p:grpSpPr>
          <p:sp>
            <p:nvSpPr>
              <p:cNvPr id="5083" name=""/>
              <p:cNvSpPr/>
              <p:nvPr/>
            </p:nvSpPr>
            <p:spPr>
              <a:xfrm>
                <a:off x="522720" y="1182600"/>
                <a:ext cx="7414200" cy="105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le pb revient à exprimer la différence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des  phases causées par la différence des trajets r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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 et r</a:t>
                </a:r>
                <a:r>
                  <a:rPr b="0" lang="fr-FR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(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et à gérer  les moyennes  &lt; truc.machin &gt;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409320" y="2379600"/>
                <a:ext cx="495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Comic Sans MS"/>
                  </a:rPr>
                  <a:t>pour les phases on a déjà vu la situ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085" name=""/>
                  <p:cNvSpPr txBox="1"/>
                  <p:nvPr/>
                </p:nvSpPr>
                <p:spPr>
                  <a:xfrm>
                    <a:off x="411120" y="2932200"/>
                    <a:ext cx="5008680" cy="66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e</m:t>
                        </m:r>
                        <m:r>
                          <m:rPr>
                            <m:lit/>
                            <m:nor/>
                          </m:rPr>
                          <m:t xml:space="preserve">min_</m:t>
                        </m:r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086" name=""/>
              <p:cNvGrpSpPr/>
              <p:nvPr/>
            </p:nvGrpSpPr>
            <p:grpSpPr>
              <a:xfrm>
                <a:off x="5759280" y="2190600"/>
                <a:ext cx="2997360" cy="1749240"/>
                <a:chOff x="5759280" y="2190600"/>
                <a:chExt cx="2997360" cy="1749240"/>
              </a:xfrm>
            </p:grpSpPr>
            <p:sp>
              <p:nvSpPr>
                <p:cNvPr id="5087" name=""/>
                <p:cNvSpPr/>
                <p:nvPr/>
              </p:nvSpPr>
              <p:spPr>
                <a:xfrm>
                  <a:off x="8246880" y="2527200"/>
                  <a:ext cx="125640" cy="671760"/>
                </a:xfrm>
                <a:custGeom>
                  <a:avLst/>
                  <a:gdLst/>
                  <a:ahLst/>
                  <a:rect l="l" t="t" r="r" b="b"/>
                  <a:pathLst>
                    <a:path w="64" h="649">
                      <a:moveTo>
                        <a:pt x="0" y="18"/>
                      </a:moveTo>
                      <a:lnTo>
                        <a:pt x="9" y="649"/>
                      </a:lnTo>
                      <a:lnTo>
                        <a:pt x="6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8" name=""/>
                <p:cNvSpPr/>
                <p:nvPr/>
              </p:nvSpPr>
              <p:spPr>
                <a:xfrm>
                  <a:off x="5759280" y="3214800"/>
                  <a:ext cx="2997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9" name=""/>
                <p:cNvSpPr/>
                <p:nvPr/>
              </p:nvSpPr>
              <p:spPr>
                <a:xfrm flipV="1">
                  <a:off x="8258040" y="2487240"/>
                  <a:ext cx="0" cy="1257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0" name=""/>
                <p:cNvSpPr/>
                <p:nvPr/>
              </p:nvSpPr>
              <p:spPr>
                <a:xfrm>
                  <a:off x="7923240" y="2190600"/>
                  <a:ext cx="356040" cy="520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1" name=""/>
                <p:cNvSpPr/>
                <p:nvPr/>
              </p:nvSpPr>
              <p:spPr>
                <a:xfrm>
                  <a:off x="5813280" y="2871720"/>
                  <a:ext cx="2843280" cy="40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2" name=""/>
                <p:cNvSpPr/>
                <p:nvPr/>
              </p:nvSpPr>
              <p:spPr>
                <a:xfrm>
                  <a:off x="5927760" y="2903400"/>
                  <a:ext cx="2332080" cy="311400"/>
                </a:xfrm>
                <a:custGeom>
                  <a:avLst/>
                  <a:gdLst/>
                  <a:ahLst/>
                  <a:rect l="l" t="t" r="r" b="b"/>
                  <a:pathLst>
                    <a:path w="2331" h="247">
                      <a:moveTo>
                        <a:pt x="55" y="0"/>
                      </a:moveTo>
                      <a:lnTo>
                        <a:pt x="2331" y="247"/>
                      </a:lnTo>
                      <a:lnTo>
                        <a:pt x="36" y="238"/>
                      </a:lnTo>
                      <a:lnTo>
                        <a:pt x="0" y="174"/>
                      </a:lnTo>
                      <a:lnTo>
                        <a:pt x="9" y="64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3" name=""/>
                <p:cNvSpPr/>
                <p:nvPr/>
              </p:nvSpPr>
              <p:spPr>
                <a:xfrm>
                  <a:off x="6023160" y="2852640"/>
                  <a:ext cx="34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4" name=""/>
                <p:cNvSpPr/>
                <p:nvPr/>
              </p:nvSpPr>
              <p:spPr>
                <a:xfrm>
                  <a:off x="8258040" y="2712960"/>
                  <a:ext cx="73080" cy="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5" name=""/>
                <p:cNvSpPr/>
                <p:nvPr/>
              </p:nvSpPr>
              <p:spPr>
                <a:xfrm flipV="1">
                  <a:off x="6745320" y="2369880"/>
                  <a:ext cx="185760" cy="140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6" name=""/>
                <p:cNvSpPr/>
                <p:nvPr/>
              </p:nvSpPr>
              <p:spPr>
                <a:xfrm flipV="1">
                  <a:off x="7435800" y="2455560"/>
                  <a:ext cx="187200" cy="139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7" name=""/>
                <p:cNvSpPr/>
                <p:nvPr/>
              </p:nvSpPr>
              <p:spPr>
                <a:xfrm flipV="1">
                  <a:off x="8164440" y="2541240"/>
                  <a:ext cx="187560" cy="139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98" name=""/>
            <p:cNvSpPr/>
            <p:nvPr/>
          </p:nvSpPr>
          <p:spPr>
            <a:xfrm>
              <a:off x="525240" y="3693960"/>
              <a:ext cx="703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pour les moyennes   auss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relation de non-cohérence : &lt;A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.A*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&gt; = O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. 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fr-FR" sz="2000" spc="-1" strike="noStrike">
                  <a:solidFill>
                    <a:srgbClr val="000000"/>
                  </a:solidFill>
                  <a:latin typeface="Comic Sans MS"/>
                </a:rPr>
                <a:t>( </a:t>
              </a:r>
              <a:r>
                <a:rPr b="1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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9" name=""/>
          <p:cNvGrpSpPr/>
          <p:nvPr/>
        </p:nvGrpSpPr>
        <p:grpSpPr>
          <a:xfrm>
            <a:off x="377280" y="4500720"/>
            <a:ext cx="7746120" cy="1014120"/>
            <a:chOff x="377280" y="4500720"/>
            <a:chExt cx="7746120" cy="1014120"/>
          </a:xfrm>
        </p:grpSpPr>
        <p:sp>
          <p:nvSpPr>
            <p:cNvPr id="5100" name=""/>
            <p:cNvSpPr/>
            <p:nvPr/>
          </p:nvSpPr>
          <p:spPr>
            <a:xfrm>
              <a:off x="377280" y="4500720"/>
              <a:ext cx="27410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et alors et alors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6110280" y="4935600"/>
              <a:ext cx="1335240" cy="5508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4165560" y="4950000"/>
              <a:ext cx="1611360" cy="5648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3" name=""/>
                <p:cNvSpPr txBox="1"/>
                <p:nvPr/>
              </p:nvSpPr>
              <p:spPr>
                <a:xfrm>
                  <a:off x="533520" y="4968720"/>
                  <a:ext cx="75898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∬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ruc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machin</m:t>
                          </m:r>
                          <m:r>
                            <m:t xml:space="preserve">∗</m:t>
                          </m:r>
                          <m:r>
                            <m:t xml:space="preserve"> </m:t>
                          </m:r>
                          <m:r>
                            <m:t xml:space="preserve">&gt;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&lt;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ψ</m:t>
                          </m:r>
                          <m:sSub>
                            <m:e>
                              <m:r>
                                <m:t xml:space="preserve">∗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∬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</m:e>
                          </m:nary>
                          <m:r>
                            <m:t xml:space="preserve">&lt;</m:t>
                          </m:r>
                          <m:r>
                            <m:t xml:space="preserve">A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∗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&gt;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β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α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β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04" name=""/>
          <p:cNvGrpSpPr/>
          <p:nvPr/>
        </p:nvGrpSpPr>
        <p:grpSpPr>
          <a:xfrm>
            <a:off x="553320" y="5500800"/>
            <a:ext cx="7876440" cy="1082520"/>
            <a:chOff x="553320" y="5500800"/>
            <a:chExt cx="7876440" cy="1082520"/>
          </a:xfrm>
        </p:grpSpPr>
        <p:sp>
          <p:nvSpPr>
            <p:cNvPr id="5105" name=""/>
            <p:cNvSpPr/>
            <p:nvPr/>
          </p:nvSpPr>
          <p:spPr>
            <a:xfrm>
              <a:off x="553320" y="5605560"/>
              <a:ext cx="348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e qui devient  (merci Dir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6" name=""/>
            <p:cNvGrpSpPr/>
            <p:nvPr/>
          </p:nvGrpSpPr>
          <p:grpSpPr>
            <a:xfrm>
              <a:off x="3703680" y="5500800"/>
              <a:ext cx="4726080" cy="1082520"/>
              <a:chOff x="3703680" y="5500800"/>
              <a:chExt cx="4726080" cy="1082520"/>
            </a:xfrm>
          </p:grpSpPr>
          <mc:AlternateContent>
            <mc:Choice xmlns:a14="http://schemas.microsoft.com/office/drawing/2010/main" Requires="a14">
              <p:sp>
                <p:nvSpPr>
                  <p:cNvPr id="5107" name=""/>
                  <p:cNvSpPr txBox="1"/>
                  <p:nvPr/>
                </p:nvSpPr>
                <p:spPr>
                  <a:xfrm>
                    <a:off x="3703680" y="5940360"/>
                    <a:ext cx="4726080" cy="64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 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ψ</m:t>
                        </m:r>
                        <m:sSub>
                          <m:e>
                            <m:r>
                              <m:t xml:space="preserve">∗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O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dα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108" name=""/>
              <p:cNvSpPr/>
              <p:nvPr/>
            </p:nvSpPr>
            <p:spPr>
              <a:xfrm>
                <a:off x="5689440" y="5500800"/>
                <a:ext cx="0" cy="5079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5283360" y="6053040"/>
                <a:ext cx="942840" cy="522360"/>
              </a:xfrm>
              <a:prstGeom prst="rect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0" name=""/>
          <p:cNvGrpSpPr/>
          <p:nvPr/>
        </p:nvGrpSpPr>
        <p:grpSpPr>
          <a:xfrm>
            <a:off x="7840800" y="676440"/>
            <a:ext cx="1000080" cy="812880"/>
            <a:chOff x="7840800" y="676440"/>
            <a:chExt cx="1000080" cy="812880"/>
          </a:xfrm>
        </p:grpSpPr>
        <p:sp>
          <p:nvSpPr>
            <p:cNvPr id="5111" name=""/>
            <p:cNvSpPr/>
            <p:nvPr/>
          </p:nvSpPr>
          <p:spPr>
            <a:xfrm>
              <a:off x="7840800" y="6764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8061840" y="9079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3" name="PlaceHolder 1"/>
          <p:cNvSpPr>
            <a:spLocks noGrp="1"/>
          </p:cNvSpPr>
          <p:nvPr>
            <p:ph type="title"/>
          </p:nvPr>
        </p:nvSpPr>
        <p:spPr>
          <a:xfrm>
            <a:off x="323640" y="534600"/>
            <a:ext cx="7900920" cy="833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et alors</a:t>
            </a: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 de alors 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de alors</a:t>
            </a: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 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4" name=""/>
          <p:cNvGrpSpPr/>
          <p:nvPr/>
        </p:nvGrpSpPr>
        <p:grpSpPr>
          <a:xfrm>
            <a:off x="479520" y="1589040"/>
            <a:ext cx="8356680" cy="1618560"/>
            <a:chOff x="479520" y="1589040"/>
            <a:chExt cx="8356680" cy="1618560"/>
          </a:xfrm>
        </p:grpSpPr>
        <p:sp>
          <p:nvSpPr>
            <p:cNvPr id="5115" name=""/>
            <p:cNvSpPr/>
            <p:nvPr/>
          </p:nvSpPr>
          <p:spPr>
            <a:xfrm>
              <a:off x="530280" y="1589040"/>
              <a:ext cx="83059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et alors si on regarde bien, ça s'écrit aussi autrem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c'est aussi  la TF de O(</a:t>
              </a:r>
              <a:r>
                <a:rPr b="0" lang="fr-FR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pour la valeur B/</a:t>
              </a:r>
              <a:r>
                <a:rPr b="0" lang="fr-FR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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  de la fréquence  u !!     BONG 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16" name=""/>
                <p:cNvSpPr txBox="1"/>
                <p:nvPr/>
              </p:nvSpPr>
              <p:spPr>
                <a:xfrm>
                  <a:off x="596880" y="1893600"/>
                  <a:ext cx="5064120" cy="68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ψ</m:t>
                      </m:r>
                      <m:sSub>
                        <m:e>
                          <m:r>
                            <m:t xml:space="preserve">∗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O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α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α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117" name=""/>
            <p:cNvSpPr/>
            <p:nvPr/>
          </p:nvSpPr>
          <p:spPr>
            <a:xfrm>
              <a:off x="479520" y="2062080"/>
              <a:ext cx="1552320" cy="4064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8" name=""/>
          <p:cNvGrpSpPr/>
          <p:nvPr/>
        </p:nvGrpSpPr>
        <p:grpSpPr>
          <a:xfrm>
            <a:off x="7105680" y="1900080"/>
            <a:ext cx="1639440" cy="2258640"/>
            <a:chOff x="7105680" y="1900080"/>
            <a:chExt cx="1639440" cy="2258640"/>
          </a:xfrm>
        </p:grpSpPr>
        <p:pic>
          <p:nvPicPr>
            <p:cNvPr id="5119" name="" descr=""/>
            <p:cNvPicPr/>
            <p:nvPr/>
          </p:nvPicPr>
          <p:blipFill>
            <a:blip r:embed="rId1"/>
            <a:stretch/>
          </p:blipFill>
          <p:spPr>
            <a:xfrm>
              <a:off x="7105680" y="1900080"/>
              <a:ext cx="1639440" cy="22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0" name=""/>
            <p:cNvSpPr/>
            <p:nvPr/>
          </p:nvSpPr>
          <p:spPr>
            <a:xfrm>
              <a:off x="7247520" y="1993320"/>
              <a:ext cx="1443240" cy="44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7365240" y="2058480"/>
              <a:ext cx="114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good grief 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2" name=""/>
          <p:cNvGrpSpPr/>
          <p:nvPr/>
        </p:nvGrpSpPr>
        <p:grpSpPr>
          <a:xfrm>
            <a:off x="526680" y="3429000"/>
            <a:ext cx="7176240" cy="1301040"/>
            <a:chOff x="526680" y="3429000"/>
            <a:chExt cx="7176240" cy="1301040"/>
          </a:xfrm>
        </p:grpSpPr>
        <p:sp>
          <p:nvSpPr>
            <p:cNvPr id="5123" name=""/>
            <p:cNvSpPr/>
            <p:nvPr/>
          </p:nvSpPr>
          <p:spPr>
            <a:xfrm>
              <a:off x="526680" y="3429000"/>
              <a:ext cx="144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de même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607680" y="4187880"/>
              <a:ext cx="709524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trouve (idem pour I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la TF de</a:t>
              </a:r>
              <a:r>
                <a:rPr b="0" lang="fr-FR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(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)  à l'origine 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fr-FR" sz="2400" spc="-1" strike="noStrike">
                  <a:solidFill>
                    <a:srgbClr val="3333cc"/>
                  </a:solidFill>
                  <a:latin typeface="Comic Sans MS"/>
                </a:rPr>
                <a:t>Ô (u=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5" name=""/>
                <p:cNvSpPr txBox="1"/>
                <p:nvPr/>
              </p:nvSpPr>
              <p:spPr>
                <a:xfrm>
                  <a:off x="1797120" y="3605040"/>
                  <a:ext cx="5200560" cy="53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ψ</m:t>
                      </m:r>
                      <m:sSub>
                        <m:e>
                          <m:r>
                            <m:t xml:space="preserve">∗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O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α</m:t>
                          </m:r>
                        </m:e>
                      </m:nary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26" name=""/>
          <p:cNvGrpSpPr/>
          <p:nvPr/>
        </p:nvGrpSpPr>
        <p:grpSpPr>
          <a:xfrm>
            <a:off x="585000" y="4734000"/>
            <a:ext cx="8010720" cy="2039040"/>
            <a:chOff x="585000" y="4734000"/>
            <a:chExt cx="8010720" cy="2039040"/>
          </a:xfrm>
        </p:grpSpPr>
        <p:sp>
          <p:nvSpPr>
            <p:cNvPr id="5127" name=""/>
            <p:cNvSpPr/>
            <p:nvPr/>
          </p:nvSpPr>
          <p:spPr>
            <a:xfrm>
              <a:off x="585000" y="6313320"/>
              <a:ext cx="76878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ça s'appelle aussi  : le </a:t>
              </a: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théorème de Van Cittert &amp; Zernik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695880" y="4851360"/>
              <a:ext cx="78998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alors pour le degré de cohér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on trouve                        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la TF de O à la frequence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B/</a:t>
              </a:r>
              <a:r>
                <a:rPr b="0" lang="fr-FR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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normée s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	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   </a:t>
              </a:r>
              <a:r>
                <a:rPr b="0" lang="fr-FR" sz="2000" spc="-1" strike="noStrike">
                  <a:solidFill>
                    <a:srgbClr val="3333cc"/>
                  </a:solidFill>
                  <a:latin typeface="Comic Sans MS"/>
                </a:rPr>
                <a:t>sa valeur à l'origine</a:t>
              </a: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9" name=""/>
                <p:cNvSpPr txBox="1"/>
                <p:nvPr/>
              </p:nvSpPr>
              <p:spPr>
                <a:xfrm>
                  <a:off x="4784760" y="4734000"/>
                  <a:ext cx="179388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ψ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∗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30" name=""/>
                <p:cNvSpPr txBox="1"/>
                <p:nvPr/>
              </p:nvSpPr>
              <p:spPr>
                <a:xfrm>
                  <a:off x="2063880" y="5202360"/>
                  <a:ext cx="130788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O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λ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)</m:t>
                          </m:r>
                        </m:num>
                        <m:den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O</m:t>
                              </m:r>
                            </m:e>
                          </m:acc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131" name=""/>
            <p:cNvSpPr/>
            <p:nvPr/>
          </p:nvSpPr>
          <p:spPr>
            <a:xfrm>
              <a:off x="1976400" y="5195880"/>
              <a:ext cx="1509840" cy="10303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2" name=""/>
          <p:cNvGrpSpPr/>
          <p:nvPr/>
        </p:nvGrpSpPr>
        <p:grpSpPr>
          <a:xfrm>
            <a:off x="7840800" y="676440"/>
            <a:ext cx="1000080" cy="812880"/>
            <a:chOff x="7840800" y="676440"/>
            <a:chExt cx="1000080" cy="812880"/>
          </a:xfrm>
        </p:grpSpPr>
        <p:sp>
          <p:nvSpPr>
            <p:cNvPr id="5133" name=""/>
            <p:cNvSpPr/>
            <p:nvPr/>
          </p:nvSpPr>
          <p:spPr>
            <a:xfrm>
              <a:off x="7840800" y="6764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8061840" y="9079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5" name="PlaceHolder 1"/>
          <p:cNvSpPr>
            <a:spLocks noGrp="1"/>
          </p:cNvSpPr>
          <p:nvPr>
            <p:ph type="title"/>
          </p:nvPr>
        </p:nvSpPr>
        <p:spPr>
          <a:xfrm>
            <a:off x="345600" y="590040"/>
            <a:ext cx="8541000" cy="466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special fous-furieux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:  théorème de Van Cittert &amp; Zernike (VCZ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6" name=""/>
          <p:cNvGrpSpPr/>
          <p:nvPr/>
        </p:nvGrpSpPr>
        <p:grpSpPr>
          <a:xfrm>
            <a:off x="345960" y="1197000"/>
            <a:ext cx="7435800" cy="1191600"/>
            <a:chOff x="345960" y="1197000"/>
            <a:chExt cx="7435800" cy="1191600"/>
          </a:xfrm>
        </p:grpSpPr>
        <mc:AlternateContent>
          <mc:Choice xmlns:a14="http://schemas.microsoft.com/office/drawing/2010/main" Requires="a14">
            <p:sp>
              <p:nvSpPr>
                <p:cNvPr id="5137" name=""/>
                <p:cNvSpPr txBox="1"/>
                <p:nvPr/>
              </p:nvSpPr>
              <p:spPr>
                <a:xfrm>
                  <a:off x="345960" y="1197000"/>
                  <a:ext cx="743580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ξ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∗</m:t>
                          </m:r>
                          <m:r>
                            <m:t xml:space="preserve">(</m:t>
                          </m:r>
                          <m:r>
                            <m:t xml:space="preserve">ξ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α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ξ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β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dα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β</m:t>
                          </m:r>
                          <m:r>
                            <m:t xml:space="preserve"> 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&gt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38" name=""/>
            <p:cNvSpPr/>
            <p:nvPr/>
          </p:nvSpPr>
          <p:spPr>
            <a:xfrm>
              <a:off x="476640" y="1928880"/>
              <a:ext cx="52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on fait le coup de la non-coh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9" name=""/>
          <p:cNvGrpSpPr/>
          <p:nvPr/>
        </p:nvGrpSpPr>
        <p:grpSpPr>
          <a:xfrm>
            <a:off x="412560" y="3159000"/>
            <a:ext cx="7390080" cy="676440"/>
            <a:chOff x="412560" y="3159000"/>
            <a:chExt cx="7390080" cy="676440"/>
          </a:xfrm>
        </p:grpSpPr>
        <p:grpSp>
          <p:nvGrpSpPr>
            <p:cNvPr id="5140" name=""/>
            <p:cNvGrpSpPr/>
            <p:nvPr/>
          </p:nvGrpSpPr>
          <p:grpSpPr>
            <a:xfrm>
              <a:off x="412560" y="3159000"/>
              <a:ext cx="7390080" cy="676440"/>
              <a:chOff x="412560" y="3159000"/>
              <a:chExt cx="7390080" cy="676440"/>
            </a:xfrm>
          </p:grpSpPr>
          <p:sp>
            <p:nvSpPr>
              <p:cNvPr id="5141" name=""/>
              <p:cNvSpPr/>
              <p:nvPr/>
            </p:nvSpPr>
            <p:spPr>
              <a:xfrm>
                <a:off x="412560" y="3268800"/>
                <a:ext cx="43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2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42" name=""/>
                  <p:cNvSpPr txBox="1"/>
                  <p:nvPr/>
                </p:nvSpPr>
                <p:spPr>
                  <a:xfrm>
                    <a:off x="1685880" y="3159000"/>
                    <a:ext cx="6116760" cy="676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O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 </m:t>
                            </m:r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λ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ξ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dα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dβ</m:t>
                            </m:r>
                            <m:r>
                              <m:t xml:space="preserve"> 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143" name=""/>
            <p:cNvSpPr/>
            <p:nvPr/>
          </p:nvSpPr>
          <p:spPr>
            <a:xfrm>
              <a:off x="1946160" y="3220920"/>
              <a:ext cx="1741680" cy="465120"/>
            </a:xfrm>
            <a:prstGeom prst="rect">
              <a:avLst/>
            </a:pr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4" name=""/>
          <p:cNvGrpSpPr/>
          <p:nvPr/>
        </p:nvGrpSpPr>
        <p:grpSpPr>
          <a:xfrm>
            <a:off x="390240" y="3889440"/>
            <a:ext cx="6539040" cy="684000"/>
            <a:chOff x="390240" y="3889440"/>
            <a:chExt cx="6539040" cy="684000"/>
          </a:xfrm>
        </p:grpSpPr>
        <p:sp>
          <p:nvSpPr>
            <p:cNvPr id="5145" name=""/>
            <p:cNvSpPr/>
            <p:nvPr/>
          </p:nvSpPr>
          <p:spPr>
            <a:xfrm>
              <a:off x="5065560" y="3889440"/>
              <a:ext cx="1857600" cy="536400"/>
            </a:xfrm>
            <a:prstGeom prst="rect">
              <a:avLst/>
            </a:prstGeom>
            <a:solidFill>
              <a:srgbClr val="ebeb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390240" y="400536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47" name=""/>
                <p:cNvSpPr txBox="1"/>
                <p:nvPr/>
              </p:nvSpPr>
              <p:spPr>
                <a:xfrm>
                  <a:off x="1444680" y="3895560"/>
                  <a:ext cx="5484600" cy="67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O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B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α</m:t>
                              </m:r>
                              <m:r>
                                <m:t xml:space="preserve"> 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dα</m:t>
                          </m:r>
                          <m:r>
                            <m:t xml:space="preserve"> </m:t>
                          </m:r>
                          <m:r>
                            <m:t xml:space="preserve">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  <m:r>
                                <m:t xml:space="preserve">δ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β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α</m:t>
                              </m:r>
                              <m:r>
                                <m:t xml:space="preserve"> 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dβ</m:t>
                              </m:r>
                            </m:e>
                          </m:nary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148" name=""/>
            <p:cNvSpPr/>
            <p:nvPr/>
          </p:nvSpPr>
          <p:spPr>
            <a:xfrm>
              <a:off x="1349280" y="3889440"/>
              <a:ext cx="3600720" cy="5950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9" name=""/>
          <p:cNvGrpSpPr/>
          <p:nvPr/>
        </p:nvGrpSpPr>
        <p:grpSpPr>
          <a:xfrm>
            <a:off x="491040" y="4627440"/>
            <a:ext cx="4642920" cy="768600"/>
            <a:chOff x="491040" y="4627440"/>
            <a:chExt cx="4642920" cy="768600"/>
          </a:xfrm>
        </p:grpSpPr>
        <p:sp>
          <p:nvSpPr>
            <p:cNvPr id="5150" name=""/>
            <p:cNvSpPr/>
            <p:nvPr/>
          </p:nvSpPr>
          <p:spPr>
            <a:xfrm>
              <a:off x="491040" y="4643280"/>
              <a:ext cx="108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ainsi 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51" name=""/>
                <p:cNvSpPr txBox="1"/>
                <p:nvPr/>
              </p:nvSpPr>
              <p:spPr>
                <a:xfrm>
                  <a:off x="1611360" y="4627440"/>
                  <a:ext cx="3522600" cy="76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ξ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 </m:t>
                      </m:r>
                      <m:r>
                        <m:t xml:space="preserve">ψ</m:t>
                      </m:r>
                      <m:r>
                        <m:t xml:space="preserve">∗</m:t>
                      </m:r>
                      <m:r>
                        <m:t xml:space="preserve">(</m:t>
                      </m:r>
                      <m:r>
                        <m:t xml:space="preserve">ξ</m:t>
                      </m:r>
                      <m:r>
                        <m:t xml:space="preserve"> </m:t>
                      </m:r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B</m:t>
                      </m:r>
                      <m:r>
                        <m:t xml:space="preserve"> </m:t>
                      </m:r>
                      <m:r>
                        <m:t xml:space="preserve">&gt;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O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52" name=""/>
          <p:cNvSpPr/>
          <p:nvPr/>
        </p:nvSpPr>
        <p:spPr>
          <a:xfrm>
            <a:off x="247680" y="537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3" name=""/>
          <p:cNvSpPr/>
          <p:nvPr/>
        </p:nvSpPr>
        <p:spPr>
          <a:xfrm>
            <a:off x="666720" y="385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4" name=""/>
          <p:cNvGrpSpPr/>
          <p:nvPr/>
        </p:nvGrpSpPr>
        <p:grpSpPr>
          <a:xfrm>
            <a:off x="495360" y="5378400"/>
            <a:ext cx="8097840" cy="1457280"/>
            <a:chOff x="495360" y="5378400"/>
            <a:chExt cx="8097840" cy="1457280"/>
          </a:xfrm>
        </p:grpSpPr>
        <p:sp>
          <p:nvSpPr>
            <p:cNvPr id="5155" name=""/>
            <p:cNvSpPr/>
            <p:nvPr/>
          </p:nvSpPr>
          <p:spPr>
            <a:xfrm>
              <a:off x="495360" y="6186600"/>
              <a:ext cx="17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finalement :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6" name=""/>
            <p:cNvGrpSpPr/>
            <p:nvPr/>
          </p:nvGrpSpPr>
          <p:grpSpPr>
            <a:xfrm>
              <a:off x="511920" y="5378400"/>
              <a:ext cx="8081280" cy="1457280"/>
              <a:chOff x="511920" y="5378400"/>
              <a:chExt cx="8081280" cy="1457280"/>
            </a:xfrm>
          </p:grpSpPr>
          <p:sp>
            <p:nvSpPr>
              <p:cNvPr id="5157" name=""/>
              <p:cNvSpPr/>
              <p:nvPr/>
            </p:nvSpPr>
            <p:spPr>
              <a:xfrm>
                <a:off x="511920" y="5543640"/>
                <a:ext cx="143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remarque :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58" name=""/>
                  <p:cNvSpPr txBox="1"/>
                  <p:nvPr/>
                </p:nvSpPr>
                <p:spPr>
                  <a:xfrm>
                    <a:off x="1973160" y="5532480"/>
                    <a:ext cx="2425680" cy="426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ψ</m:t>
                            </m:r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&gt;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159" name=""/>
              <p:cNvSpPr/>
              <p:nvPr/>
            </p:nvSpPr>
            <p:spPr>
              <a:xfrm>
                <a:off x="4698360" y="5541840"/>
                <a:ext cx="452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60" name=""/>
                  <p:cNvSpPr txBox="1"/>
                  <p:nvPr/>
                </p:nvSpPr>
                <p:spPr>
                  <a:xfrm>
                    <a:off x="5256360" y="5378400"/>
                    <a:ext cx="3336840" cy="798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γ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r>
                              <m:t xml:space="preserve"> </m:t>
                            </m:r>
                            <m:r>
                              <m:t xml:space="preserve">ψ</m:t>
                            </m:r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 </m:t>
                            </m:r>
                            <m:r>
                              <m:t xml:space="preserve">ψ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  <m:r>
                              <m:t xml:space="preserve">&gt;</m:t>
                            </m:r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I</m:t>
                                    </m:r>
                                  </m:e>
                                </m:rad>
                              </m:e>
                            </m:rad>
                            <m:r>
                              <m:t xml:space="preserve"> 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161" name=""/>
              <p:cNvSpPr/>
              <p:nvPr/>
            </p:nvSpPr>
            <p:spPr>
              <a:xfrm>
                <a:off x="5126760" y="6372360"/>
                <a:ext cx="21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omic Sans MS"/>
                  </a:rPr>
                  <a:t>c'est le th VC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162" name=""/>
                  <p:cNvSpPr txBox="1"/>
                  <p:nvPr/>
                </p:nvSpPr>
                <p:spPr>
                  <a:xfrm>
                    <a:off x="2160720" y="6006960"/>
                    <a:ext cx="2442960" cy="828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γ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O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 </m:t>
                                </m:r>
                              </m:num>
                              <m:den>
                                <m:r>
                                  <m:t xml:space="preserve"> </m:t>
                                </m:r>
                              </m:den>
                            </m:f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 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O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5163" name=""/>
          <p:cNvSpPr/>
          <p:nvPr/>
        </p:nvSpPr>
        <p:spPr>
          <a:xfrm>
            <a:off x="23385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4" name=""/>
          <p:cNvGrpSpPr/>
          <p:nvPr/>
        </p:nvGrpSpPr>
        <p:grpSpPr>
          <a:xfrm>
            <a:off x="438840" y="2496960"/>
            <a:ext cx="6768360" cy="657360"/>
            <a:chOff x="438840" y="2496960"/>
            <a:chExt cx="6768360" cy="657360"/>
          </a:xfrm>
        </p:grpSpPr>
        <p:sp>
          <p:nvSpPr>
            <p:cNvPr id="5165" name=""/>
            <p:cNvSpPr/>
            <p:nvPr/>
          </p:nvSpPr>
          <p:spPr>
            <a:xfrm>
              <a:off x="1569960" y="2496960"/>
              <a:ext cx="1712880" cy="609840"/>
            </a:xfrm>
            <a:prstGeom prst="rect">
              <a:avLst/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438840" y="254808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67" name=""/>
                <p:cNvSpPr txBox="1"/>
                <p:nvPr/>
              </p:nvSpPr>
              <p:spPr>
                <a:xfrm>
                  <a:off x="1192320" y="2513160"/>
                  <a:ext cx="6014880" cy="64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&lt;</m:t>
                          </m:r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∗</m:t>
                          </m:r>
                          <m:r>
                            <m:t xml:space="preserve">(</m:t>
                          </m:r>
                          <m:r>
                            <m:t xml:space="preserve">β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λ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 </m:t>
                              </m:r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α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ξ</m:t>
                              </m:r>
                              <m:r>
                                <m:t xml:space="preserve">+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β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dα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dβ</m:t>
                          </m:r>
                          <m:r>
                            <m:t xml:space="preserve"> </m:t>
                          </m:r>
                        </m:e>
                      </m:nary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68" name=""/>
          <p:cNvGrpSpPr/>
          <p:nvPr/>
        </p:nvGrpSpPr>
        <p:grpSpPr>
          <a:xfrm>
            <a:off x="7840800" y="676440"/>
            <a:ext cx="1000080" cy="812880"/>
            <a:chOff x="7840800" y="676440"/>
            <a:chExt cx="1000080" cy="812880"/>
          </a:xfrm>
        </p:grpSpPr>
        <p:sp>
          <p:nvSpPr>
            <p:cNvPr id="5169" name=""/>
            <p:cNvSpPr/>
            <p:nvPr/>
          </p:nvSpPr>
          <p:spPr>
            <a:xfrm>
              <a:off x="7840800" y="67644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8061840" y="90792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1" name=""/>
          <p:cNvGrpSpPr/>
          <p:nvPr/>
        </p:nvGrpSpPr>
        <p:grpSpPr>
          <a:xfrm>
            <a:off x="7993080" y="828720"/>
            <a:ext cx="1000080" cy="812880"/>
            <a:chOff x="7993080" y="828720"/>
            <a:chExt cx="1000080" cy="812880"/>
          </a:xfrm>
        </p:grpSpPr>
        <p:sp>
          <p:nvSpPr>
            <p:cNvPr id="5172" name=""/>
            <p:cNvSpPr/>
            <p:nvPr/>
          </p:nvSpPr>
          <p:spPr>
            <a:xfrm>
              <a:off x="7993080" y="82872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8214120" y="10602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4" name=""/>
          <p:cNvGrpSpPr/>
          <p:nvPr/>
        </p:nvGrpSpPr>
        <p:grpSpPr>
          <a:xfrm>
            <a:off x="8143920" y="981000"/>
            <a:ext cx="1000080" cy="813240"/>
            <a:chOff x="8143920" y="981000"/>
            <a:chExt cx="1000080" cy="813240"/>
          </a:xfrm>
        </p:grpSpPr>
        <p:sp>
          <p:nvSpPr>
            <p:cNvPr id="5175" name=""/>
            <p:cNvSpPr/>
            <p:nvPr/>
          </p:nvSpPr>
          <p:spPr>
            <a:xfrm>
              <a:off x="8143920" y="981000"/>
              <a:ext cx="1000080" cy="7826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8364960" y="12128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7" name=""/>
          <p:cNvGrpSpPr/>
          <p:nvPr/>
        </p:nvGrpSpPr>
        <p:grpSpPr>
          <a:xfrm>
            <a:off x="8315280" y="1219320"/>
            <a:ext cx="1000080" cy="812880"/>
            <a:chOff x="8315280" y="1219320"/>
            <a:chExt cx="1000080" cy="812880"/>
          </a:xfrm>
        </p:grpSpPr>
        <p:sp>
          <p:nvSpPr>
            <p:cNvPr id="5178" name=""/>
            <p:cNvSpPr/>
            <p:nvPr/>
          </p:nvSpPr>
          <p:spPr>
            <a:xfrm>
              <a:off x="8315280" y="1219320"/>
              <a:ext cx="1000080" cy="78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8536320" y="145080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352080" y="563400"/>
            <a:ext cx="3071880" cy="131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récapitul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>
            <a:off x="28800" y="1357200"/>
            <a:ext cx="9302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e même qu'on peut définir des fréquences temporelles pour un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peut définir des fréquences spatiales pour une distribution 2-d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appelle spectre spatial d'un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TF de la distribution angulaire d'intensité de cett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près normalisation de cette TF sur la valeur à l'ori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coordonnée conjuguée des angles est appelée fréquence spatio-ang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e théorème VCZ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nous dit que le dégré de cohér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ntre les champs prélevés en deux points distants d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st égal au spectre spatial de la source pris à la fréquence spatiale B/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c'est la clef pour aller chercher l'info dans l'espace des fré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este à trouver la machine qui fait le bou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>
            <a:off x="2461680" y="6084720"/>
            <a:ext cx="6095520" cy="703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out cela doit nous rendre heureux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n va voir pourquoi (mais vous l'avez déjà devin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3" name="constable6" descr=""/>
          <p:cNvPicPr/>
          <p:nvPr/>
        </p:nvPicPr>
        <p:blipFill>
          <a:blip r:embed="rId1"/>
          <a:stretch/>
        </p:blipFill>
        <p:spPr>
          <a:xfrm>
            <a:off x="-15840" y="-7920"/>
            <a:ext cx="9817200" cy="6894360"/>
          </a:xfrm>
          <a:prstGeom prst="rect">
            <a:avLst/>
          </a:prstGeom>
          <a:ln w="0">
            <a:noFill/>
          </a:ln>
        </p:spPr>
      </p:pic>
      <p:sp>
        <p:nvSpPr>
          <p:cNvPr id="5184" name="PlaceHolder 1"/>
          <p:cNvSpPr>
            <a:spLocks noGrp="1"/>
          </p:cNvSpPr>
          <p:nvPr>
            <p:ph type="title"/>
          </p:nvPr>
        </p:nvSpPr>
        <p:spPr>
          <a:xfrm>
            <a:off x="249120" y="199800"/>
            <a:ext cx="862992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soufflons un peu, et prenons l'air</a:t>
            </a:r>
            <a:br>
              <a:rPr sz="3200"/>
            </a:br>
            <a:r>
              <a:rPr b="0" lang="fr-FR" sz="2400" spc="-1" strike="noStrike">
                <a:solidFill>
                  <a:srgbClr val="3333cc"/>
                </a:solidFill>
                <a:latin typeface="Comic Sans MS"/>
              </a:rPr>
              <a:t>avant la suite qui est pire que tou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5T07:37:01Z</dcterms:created>
  <dc:creator>Yves Rabbia</dc:creator>
  <dc:description/>
  <dc:language>en-US</dc:language>
  <cp:lastModifiedBy>Yves Rabbia</cp:lastModifiedBy>
  <cp:lastPrinted>2002-06-10T09:45:58Z</cp:lastPrinted>
  <dcterms:modified xsi:type="dcterms:W3CDTF">2006-11-09T22:14:04Z</dcterms:modified>
  <cp:revision>363</cp:revision>
  <dc:subject/>
  <dc:title>titre diapo</dc:title>
</cp:coreProperties>
</file>